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crab2.wav" ContentType="audio/x-wav"/>
  <Override PartName="/ppt/media/image8.wmf" ContentType="image/x-wmf"/>
  <Override PartName="/ppt/media/fast%20bubbles.wav" ContentType="audio/x-wav"/>
  <Override PartName="/ppt/media/image7.wmf" ContentType="image/x-wmf"/>
  <Override PartName="/ppt/media/waves.wav" ContentType="audio/x-wav"/>
  <Override PartName="/ppt/media/image3.png" ContentType="image/png"/>
  <Override PartName="/ppt/media/image6.wmf" ContentType="image/x-wmf"/>
  <Override PartName="/ppt/media/boat.wav" ContentType="audio/x-wav"/>
  <Override PartName="/ppt/media/splash1.wav" ContentType="audio/x-wav"/>
  <Override PartName="/ppt/media/swim2.wav" ContentType="audio/x-wav"/>
  <Override PartName="/ppt/media/image10.wmf" ContentType="image/x-wmf"/>
  <Override PartName="/ppt/media/image5.wmf" ContentType="image/x-wmf"/>
  <Override PartName="/ppt/media/submarine.wav" ContentType="audio/x-wav"/>
  <Override PartName="/ppt/media/image4.wmf" ContentType="image/x-wmf"/>
  <Override PartName="/ppt/media/image9.wmf" ContentType="image/x-wmf"/>
  <Override PartName="/ppt/media/bubbles.wav" ContentType="audio/x-wav"/>
  <Override PartName="/ppt/media/image1.wmf" ContentType="image/x-wmf"/>
  <Override PartName="/ppt/media/pinball%20bubbles.wav" ContentType="audio/x-wav"/>
  <Override PartName="/ppt/media/image2.jpeg" ContentType="image/jpeg"/>
  <Override PartName="/ppt/media/drip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D94A-2E6C-4097-83F0-CF2E764B4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2 Glenna R. Shaw and FTC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47760" y="444312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97600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8024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91236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4776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98024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91236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066320" y="2057400"/>
            <a:ext cx="5791320" cy="847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7600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47760" y="444312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97600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8024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91236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4776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498024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91236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2057400"/>
            <a:ext cx="5791320" cy="847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7600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52480" y="4952880"/>
            <a:ext cx="1170000" cy="137016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444600" y="1295280"/>
            <a:ext cx="2274840" cy="1844640"/>
            <a:chOff x="444600" y="1295280"/>
            <a:chExt cx="2274840" cy="1844640"/>
          </a:xfrm>
        </p:grpSpPr>
        <p:sp>
          <p:nvSpPr>
            <p:cNvPr id="2" name=""/>
            <p:cNvSpPr/>
            <p:nvPr/>
          </p:nvSpPr>
          <p:spPr>
            <a:xfrm>
              <a:off x="1014480" y="1798560"/>
              <a:ext cx="234720" cy="76320"/>
            </a:xfrm>
            <a:custGeom>
              <a:avLst/>
              <a:gdLst/>
              <a:ahLst/>
              <a:rect l="l" t="t" r="r" b="b"/>
              <a:pathLst>
                <a:path w="475" h="155">
                  <a:moveTo>
                    <a:pt x="459" y="0"/>
                  </a:moveTo>
                  <a:lnTo>
                    <a:pt x="360" y="31"/>
                  </a:lnTo>
                  <a:lnTo>
                    <a:pt x="289" y="56"/>
                  </a:lnTo>
                  <a:lnTo>
                    <a:pt x="242" y="71"/>
                  </a:lnTo>
                  <a:lnTo>
                    <a:pt x="211" y="81"/>
                  </a:lnTo>
                  <a:lnTo>
                    <a:pt x="180" y="87"/>
                  </a:lnTo>
                  <a:lnTo>
                    <a:pt x="139" y="93"/>
                  </a:lnTo>
                  <a:lnTo>
                    <a:pt x="83" y="102"/>
                  </a:lnTo>
                  <a:lnTo>
                    <a:pt x="0" y="118"/>
                  </a:lnTo>
                  <a:lnTo>
                    <a:pt x="5" y="155"/>
                  </a:lnTo>
                  <a:lnTo>
                    <a:pt x="87" y="137"/>
                  </a:lnTo>
                  <a:lnTo>
                    <a:pt x="149" y="133"/>
                  </a:lnTo>
                  <a:lnTo>
                    <a:pt x="186" y="128"/>
                  </a:lnTo>
                  <a:lnTo>
                    <a:pt x="223" y="118"/>
                  </a:lnTo>
                  <a:lnTo>
                    <a:pt x="254" y="112"/>
                  </a:lnTo>
                  <a:lnTo>
                    <a:pt x="304" y="97"/>
                  </a:lnTo>
                  <a:lnTo>
                    <a:pt x="376" y="71"/>
                  </a:lnTo>
                  <a:lnTo>
                    <a:pt x="475" y="35"/>
                  </a:lnTo>
                  <a:lnTo>
                    <a:pt x="4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6120" y="2359080"/>
              <a:ext cx="1536840" cy="374400"/>
            </a:xfrm>
            <a:custGeom>
              <a:avLst/>
              <a:gdLst/>
              <a:ahLst/>
              <a:rect l="l" t="t" r="r" b="b"/>
              <a:pathLst>
                <a:path w="3109" h="758">
                  <a:moveTo>
                    <a:pt x="3094" y="0"/>
                  </a:moveTo>
                  <a:lnTo>
                    <a:pt x="2913" y="74"/>
                  </a:lnTo>
                  <a:lnTo>
                    <a:pt x="2733" y="134"/>
                  </a:lnTo>
                  <a:lnTo>
                    <a:pt x="2547" y="196"/>
                  </a:lnTo>
                  <a:lnTo>
                    <a:pt x="2362" y="258"/>
                  </a:lnTo>
                  <a:lnTo>
                    <a:pt x="2170" y="310"/>
                  </a:lnTo>
                  <a:lnTo>
                    <a:pt x="1980" y="367"/>
                  </a:lnTo>
                  <a:lnTo>
                    <a:pt x="1790" y="413"/>
                  </a:lnTo>
                  <a:lnTo>
                    <a:pt x="1589" y="454"/>
                  </a:lnTo>
                  <a:lnTo>
                    <a:pt x="1393" y="500"/>
                  </a:lnTo>
                  <a:lnTo>
                    <a:pt x="1191" y="541"/>
                  </a:lnTo>
                  <a:lnTo>
                    <a:pt x="995" y="572"/>
                  </a:lnTo>
                  <a:lnTo>
                    <a:pt x="799" y="609"/>
                  </a:lnTo>
                  <a:lnTo>
                    <a:pt x="398" y="671"/>
                  </a:lnTo>
                  <a:lnTo>
                    <a:pt x="0" y="718"/>
                  </a:lnTo>
                  <a:lnTo>
                    <a:pt x="12" y="758"/>
                  </a:lnTo>
                  <a:lnTo>
                    <a:pt x="404" y="706"/>
                  </a:lnTo>
                  <a:lnTo>
                    <a:pt x="805" y="650"/>
                  </a:lnTo>
                  <a:lnTo>
                    <a:pt x="1001" y="615"/>
                  </a:lnTo>
                  <a:lnTo>
                    <a:pt x="1203" y="578"/>
                  </a:lnTo>
                  <a:lnTo>
                    <a:pt x="1402" y="541"/>
                  </a:lnTo>
                  <a:lnTo>
                    <a:pt x="1598" y="500"/>
                  </a:lnTo>
                  <a:lnTo>
                    <a:pt x="1800" y="450"/>
                  </a:lnTo>
                  <a:lnTo>
                    <a:pt x="1990" y="407"/>
                  </a:lnTo>
                  <a:lnTo>
                    <a:pt x="2182" y="351"/>
                  </a:lnTo>
                  <a:lnTo>
                    <a:pt x="2378" y="299"/>
                  </a:lnTo>
                  <a:lnTo>
                    <a:pt x="2562" y="239"/>
                  </a:lnTo>
                  <a:lnTo>
                    <a:pt x="2748" y="177"/>
                  </a:lnTo>
                  <a:lnTo>
                    <a:pt x="2929" y="109"/>
                  </a:lnTo>
                  <a:lnTo>
                    <a:pt x="3109" y="37"/>
                  </a:lnTo>
                  <a:lnTo>
                    <a:pt x="30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4400" y="2327040"/>
              <a:ext cx="1285920" cy="236520"/>
            </a:xfrm>
            <a:custGeom>
              <a:avLst/>
              <a:gdLst/>
              <a:ahLst/>
              <a:rect l="l" t="t" r="r" b="b"/>
              <a:pathLst>
                <a:path w="2599" h="475">
                  <a:moveTo>
                    <a:pt x="2587" y="0"/>
                  </a:moveTo>
                  <a:lnTo>
                    <a:pt x="2279" y="83"/>
                  </a:lnTo>
                  <a:lnTo>
                    <a:pt x="1959" y="167"/>
                  </a:lnTo>
                  <a:lnTo>
                    <a:pt x="1623" y="239"/>
                  </a:lnTo>
                  <a:lnTo>
                    <a:pt x="1294" y="301"/>
                  </a:lnTo>
                  <a:lnTo>
                    <a:pt x="1134" y="332"/>
                  </a:lnTo>
                  <a:lnTo>
                    <a:pt x="964" y="357"/>
                  </a:lnTo>
                  <a:lnTo>
                    <a:pt x="799" y="372"/>
                  </a:lnTo>
                  <a:lnTo>
                    <a:pt x="634" y="392"/>
                  </a:lnTo>
                  <a:lnTo>
                    <a:pt x="473" y="407"/>
                  </a:lnTo>
                  <a:lnTo>
                    <a:pt x="308" y="423"/>
                  </a:lnTo>
                  <a:lnTo>
                    <a:pt x="155" y="429"/>
                  </a:lnTo>
                  <a:lnTo>
                    <a:pt x="0" y="434"/>
                  </a:lnTo>
                  <a:lnTo>
                    <a:pt x="0" y="475"/>
                  </a:lnTo>
                  <a:lnTo>
                    <a:pt x="155" y="475"/>
                  </a:lnTo>
                  <a:lnTo>
                    <a:pt x="314" y="465"/>
                  </a:lnTo>
                  <a:lnTo>
                    <a:pt x="473" y="454"/>
                  </a:lnTo>
                  <a:lnTo>
                    <a:pt x="634" y="438"/>
                  </a:lnTo>
                  <a:lnTo>
                    <a:pt x="805" y="419"/>
                  </a:lnTo>
                  <a:lnTo>
                    <a:pt x="970" y="392"/>
                  </a:lnTo>
                  <a:lnTo>
                    <a:pt x="1134" y="372"/>
                  </a:lnTo>
                  <a:lnTo>
                    <a:pt x="1303" y="345"/>
                  </a:lnTo>
                  <a:lnTo>
                    <a:pt x="1635" y="279"/>
                  </a:lnTo>
                  <a:lnTo>
                    <a:pt x="1968" y="208"/>
                  </a:lnTo>
                  <a:lnTo>
                    <a:pt x="2288" y="124"/>
                  </a:lnTo>
                  <a:lnTo>
                    <a:pt x="2599" y="37"/>
                  </a:lnTo>
                  <a:lnTo>
                    <a:pt x="2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46280" y="2278080"/>
              <a:ext cx="1033200" cy="126720"/>
            </a:xfrm>
            <a:custGeom>
              <a:avLst/>
              <a:gdLst/>
              <a:ahLst/>
              <a:rect l="l" t="t" r="r" b="b"/>
              <a:pathLst>
                <a:path w="2088" h="258">
                  <a:moveTo>
                    <a:pt x="2073" y="0"/>
                  </a:moveTo>
                  <a:lnTo>
                    <a:pt x="1830" y="62"/>
                  </a:lnTo>
                  <a:lnTo>
                    <a:pt x="1582" y="109"/>
                  </a:lnTo>
                  <a:lnTo>
                    <a:pt x="1454" y="134"/>
                  </a:lnTo>
                  <a:lnTo>
                    <a:pt x="1330" y="155"/>
                  </a:lnTo>
                  <a:lnTo>
                    <a:pt x="1202" y="177"/>
                  </a:lnTo>
                  <a:lnTo>
                    <a:pt x="1072" y="192"/>
                  </a:lnTo>
                  <a:lnTo>
                    <a:pt x="938" y="208"/>
                  </a:lnTo>
                  <a:lnTo>
                    <a:pt x="810" y="212"/>
                  </a:lnTo>
                  <a:lnTo>
                    <a:pt x="680" y="223"/>
                  </a:lnTo>
                  <a:lnTo>
                    <a:pt x="413" y="223"/>
                  </a:lnTo>
                  <a:lnTo>
                    <a:pt x="279" y="212"/>
                  </a:lnTo>
                  <a:lnTo>
                    <a:pt x="145" y="202"/>
                  </a:lnTo>
                  <a:lnTo>
                    <a:pt x="5" y="186"/>
                  </a:lnTo>
                  <a:lnTo>
                    <a:pt x="0" y="227"/>
                  </a:lnTo>
                  <a:lnTo>
                    <a:pt x="139" y="239"/>
                  </a:lnTo>
                  <a:lnTo>
                    <a:pt x="279" y="254"/>
                  </a:lnTo>
                  <a:lnTo>
                    <a:pt x="413" y="258"/>
                  </a:lnTo>
                  <a:lnTo>
                    <a:pt x="680" y="258"/>
                  </a:lnTo>
                  <a:lnTo>
                    <a:pt x="810" y="254"/>
                  </a:lnTo>
                  <a:lnTo>
                    <a:pt x="944" y="243"/>
                  </a:lnTo>
                  <a:lnTo>
                    <a:pt x="1078" y="227"/>
                  </a:lnTo>
                  <a:lnTo>
                    <a:pt x="1206" y="217"/>
                  </a:lnTo>
                  <a:lnTo>
                    <a:pt x="1336" y="202"/>
                  </a:lnTo>
                  <a:lnTo>
                    <a:pt x="1464" y="177"/>
                  </a:lnTo>
                  <a:lnTo>
                    <a:pt x="1588" y="155"/>
                  </a:lnTo>
                  <a:lnTo>
                    <a:pt x="1840" y="103"/>
                  </a:lnTo>
                  <a:lnTo>
                    <a:pt x="2088" y="43"/>
                  </a:lnTo>
                  <a:lnTo>
                    <a:pt x="20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2160360"/>
              <a:ext cx="696960" cy="109800"/>
            </a:xfrm>
            <a:custGeom>
              <a:avLst/>
              <a:gdLst/>
              <a:ahLst/>
              <a:rect l="l" t="t" r="r" b="b"/>
              <a:pathLst>
                <a:path w="1408" h="221">
                  <a:moveTo>
                    <a:pt x="1386" y="0"/>
                  </a:moveTo>
                  <a:lnTo>
                    <a:pt x="1309" y="31"/>
                  </a:lnTo>
                  <a:lnTo>
                    <a:pt x="1222" y="68"/>
                  </a:lnTo>
                  <a:lnTo>
                    <a:pt x="1144" y="93"/>
                  </a:lnTo>
                  <a:lnTo>
                    <a:pt x="1061" y="118"/>
                  </a:lnTo>
                  <a:lnTo>
                    <a:pt x="973" y="133"/>
                  </a:lnTo>
                  <a:lnTo>
                    <a:pt x="892" y="149"/>
                  </a:lnTo>
                  <a:lnTo>
                    <a:pt x="808" y="165"/>
                  </a:lnTo>
                  <a:lnTo>
                    <a:pt x="727" y="170"/>
                  </a:lnTo>
                  <a:lnTo>
                    <a:pt x="634" y="174"/>
                  </a:lnTo>
                  <a:lnTo>
                    <a:pt x="463" y="174"/>
                  </a:lnTo>
                  <a:lnTo>
                    <a:pt x="376" y="170"/>
                  </a:lnTo>
                  <a:lnTo>
                    <a:pt x="283" y="159"/>
                  </a:lnTo>
                  <a:lnTo>
                    <a:pt x="190" y="149"/>
                  </a:lnTo>
                  <a:lnTo>
                    <a:pt x="103" y="130"/>
                  </a:lnTo>
                  <a:lnTo>
                    <a:pt x="9" y="118"/>
                  </a:lnTo>
                  <a:lnTo>
                    <a:pt x="0" y="155"/>
                  </a:lnTo>
                  <a:lnTo>
                    <a:pt x="93" y="174"/>
                  </a:lnTo>
                  <a:lnTo>
                    <a:pt x="186" y="190"/>
                  </a:lnTo>
                  <a:lnTo>
                    <a:pt x="277" y="201"/>
                  </a:lnTo>
                  <a:lnTo>
                    <a:pt x="370" y="211"/>
                  </a:lnTo>
                  <a:lnTo>
                    <a:pt x="463" y="217"/>
                  </a:lnTo>
                  <a:lnTo>
                    <a:pt x="551" y="221"/>
                  </a:lnTo>
                  <a:lnTo>
                    <a:pt x="640" y="221"/>
                  </a:lnTo>
                  <a:lnTo>
                    <a:pt x="727" y="217"/>
                  </a:lnTo>
                  <a:lnTo>
                    <a:pt x="814" y="205"/>
                  </a:lnTo>
                  <a:lnTo>
                    <a:pt x="896" y="196"/>
                  </a:lnTo>
                  <a:lnTo>
                    <a:pt x="985" y="174"/>
                  </a:lnTo>
                  <a:lnTo>
                    <a:pt x="1072" y="155"/>
                  </a:lnTo>
                  <a:lnTo>
                    <a:pt x="1154" y="130"/>
                  </a:lnTo>
                  <a:lnTo>
                    <a:pt x="1237" y="108"/>
                  </a:lnTo>
                  <a:lnTo>
                    <a:pt x="1324" y="71"/>
                  </a:lnTo>
                  <a:lnTo>
                    <a:pt x="1408" y="37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63400" y="1815840"/>
              <a:ext cx="644760" cy="1127160"/>
            </a:xfrm>
            <a:custGeom>
              <a:avLst/>
              <a:gdLst/>
              <a:ahLst/>
              <a:rect l="l" t="t" r="r" b="b"/>
              <a:pathLst>
                <a:path w="1303" h="2282">
                  <a:moveTo>
                    <a:pt x="25" y="2282"/>
                  </a:moveTo>
                  <a:lnTo>
                    <a:pt x="140" y="2179"/>
                  </a:lnTo>
                  <a:lnTo>
                    <a:pt x="252" y="2067"/>
                  </a:lnTo>
                  <a:lnTo>
                    <a:pt x="355" y="1943"/>
                  </a:lnTo>
                  <a:lnTo>
                    <a:pt x="464" y="1815"/>
                  </a:lnTo>
                  <a:lnTo>
                    <a:pt x="566" y="1675"/>
                  </a:lnTo>
                  <a:lnTo>
                    <a:pt x="665" y="1531"/>
                  </a:lnTo>
                  <a:lnTo>
                    <a:pt x="753" y="1386"/>
                  </a:lnTo>
                  <a:lnTo>
                    <a:pt x="840" y="1237"/>
                  </a:lnTo>
                  <a:lnTo>
                    <a:pt x="927" y="1078"/>
                  </a:lnTo>
                  <a:lnTo>
                    <a:pt x="999" y="923"/>
                  </a:lnTo>
                  <a:lnTo>
                    <a:pt x="1067" y="767"/>
                  </a:lnTo>
                  <a:lnTo>
                    <a:pt x="1135" y="614"/>
                  </a:lnTo>
                  <a:lnTo>
                    <a:pt x="1185" y="453"/>
                  </a:lnTo>
                  <a:lnTo>
                    <a:pt x="1237" y="300"/>
                  </a:lnTo>
                  <a:lnTo>
                    <a:pt x="1278" y="155"/>
                  </a:lnTo>
                  <a:lnTo>
                    <a:pt x="1303" y="11"/>
                  </a:lnTo>
                  <a:lnTo>
                    <a:pt x="1263" y="0"/>
                  </a:lnTo>
                  <a:lnTo>
                    <a:pt x="1232" y="145"/>
                  </a:lnTo>
                  <a:lnTo>
                    <a:pt x="1197" y="294"/>
                  </a:lnTo>
                  <a:lnTo>
                    <a:pt x="1150" y="444"/>
                  </a:lnTo>
                  <a:lnTo>
                    <a:pt x="1092" y="599"/>
                  </a:lnTo>
                  <a:lnTo>
                    <a:pt x="1036" y="752"/>
                  </a:lnTo>
                  <a:lnTo>
                    <a:pt x="964" y="907"/>
                  </a:lnTo>
                  <a:lnTo>
                    <a:pt x="886" y="1062"/>
                  </a:lnTo>
                  <a:lnTo>
                    <a:pt x="809" y="1215"/>
                  </a:lnTo>
                  <a:lnTo>
                    <a:pt x="716" y="1367"/>
                  </a:lnTo>
                  <a:lnTo>
                    <a:pt x="628" y="1510"/>
                  </a:lnTo>
                  <a:lnTo>
                    <a:pt x="532" y="1650"/>
                  </a:lnTo>
                  <a:lnTo>
                    <a:pt x="433" y="1787"/>
                  </a:lnTo>
                  <a:lnTo>
                    <a:pt x="330" y="1917"/>
                  </a:lnTo>
                  <a:lnTo>
                    <a:pt x="215" y="2036"/>
                  </a:lnTo>
                  <a:lnTo>
                    <a:pt x="109" y="2148"/>
                  </a:lnTo>
                  <a:lnTo>
                    <a:pt x="0" y="2257"/>
                  </a:lnTo>
                  <a:lnTo>
                    <a:pt x="25" y="2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6120" y="1982520"/>
              <a:ext cx="569880" cy="917640"/>
            </a:xfrm>
            <a:custGeom>
              <a:avLst/>
              <a:gdLst/>
              <a:ahLst/>
              <a:rect l="l" t="t" r="r" b="b"/>
              <a:pathLst>
                <a:path w="1154" h="1860">
                  <a:moveTo>
                    <a:pt x="25" y="1860"/>
                  </a:moveTo>
                  <a:lnTo>
                    <a:pt x="140" y="1763"/>
                  </a:lnTo>
                  <a:lnTo>
                    <a:pt x="243" y="1660"/>
                  </a:lnTo>
                  <a:lnTo>
                    <a:pt x="340" y="1561"/>
                  </a:lnTo>
                  <a:lnTo>
                    <a:pt x="438" y="1452"/>
                  </a:lnTo>
                  <a:lnTo>
                    <a:pt x="532" y="1350"/>
                  </a:lnTo>
                  <a:lnTo>
                    <a:pt x="613" y="1241"/>
                  </a:lnTo>
                  <a:lnTo>
                    <a:pt x="691" y="1134"/>
                  </a:lnTo>
                  <a:lnTo>
                    <a:pt x="768" y="1020"/>
                  </a:lnTo>
                  <a:lnTo>
                    <a:pt x="836" y="908"/>
                  </a:lnTo>
                  <a:lnTo>
                    <a:pt x="896" y="789"/>
                  </a:lnTo>
                  <a:lnTo>
                    <a:pt x="954" y="671"/>
                  </a:lnTo>
                  <a:lnTo>
                    <a:pt x="1011" y="547"/>
                  </a:lnTo>
                  <a:lnTo>
                    <a:pt x="1051" y="417"/>
                  </a:lnTo>
                  <a:lnTo>
                    <a:pt x="1092" y="283"/>
                  </a:lnTo>
                  <a:lnTo>
                    <a:pt x="1123" y="145"/>
                  </a:lnTo>
                  <a:lnTo>
                    <a:pt x="1154" y="6"/>
                  </a:lnTo>
                  <a:lnTo>
                    <a:pt x="1113" y="0"/>
                  </a:lnTo>
                  <a:lnTo>
                    <a:pt x="1088" y="140"/>
                  </a:lnTo>
                  <a:lnTo>
                    <a:pt x="1051" y="273"/>
                  </a:lnTo>
                  <a:lnTo>
                    <a:pt x="1016" y="401"/>
                  </a:lnTo>
                  <a:lnTo>
                    <a:pt x="970" y="531"/>
                  </a:lnTo>
                  <a:lnTo>
                    <a:pt x="912" y="655"/>
                  </a:lnTo>
                  <a:lnTo>
                    <a:pt x="861" y="774"/>
                  </a:lnTo>
                  <a:lnTo>
                    <a:pt x="799" y="886"/>
                  </a:lnTo>
                  <a:lnTo>
                    <a:pt x="731" y="1001"/>
                  </a:lnTo>
                  <a:lnTo>
                    <a:pt x="656" y="1107"/>
                  </a:lnTo>
                  <a:lnTo>
                    <a:pt x="578" y="1216"/>
                  </a:lnTo>
                  <a:lnTo>
                    <a:pt x="495" y="1324"/>
                  </a:lnTo>
                  <a:lnTo>
                    <a:pt x="407" y="1427"/>
                  </a:lnTo>
                  <a:lnTo>
                    <a:pt x="309" y="1530"/>
                  </a:lnTo>
                  <a:lnTo>
                    <a:pt x="212" y="1629"/>
                  </a:lnTo>
                  <a:lnTo>
                    <a:pt x="109" y="1726"/>
                  </a:lnTo>
                  <a:lnTo>
                    <a:pt x="0" y="1825"/>
                  </a:lnTo>
                  <a:lnTo>
                    <a:pt x="25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95480" y="2104920"/>
              <a:ext cx="452160" cy="706320"/>
            </a:xfrm>
            <a:custGeom>
              <a:avLst/>
              <a:gdLst/>
              <a:ahLst/>
              <a:rect l="l" t="t" r="r" b="b"/>
              <a:pathLst>
                <a:path w="914" h="1431">
                  <a:moveTo>
                    <a:pt x="37" y="1431"/>
                  </a:moveTo>
                  <a:lnTo>
                    <a:pt x="121" y="1319"/>
                  </a:lnTo>
                  <a:lnTo>
                    <a:pt x="202" y="1220"/>
                  </a:lnTo>
                  <a:lnTo>
                    <a:pt x="280" y="1133"/>
                  </a:lnTo>
                  <a:lnTo>
                    <a:pt x="346" y="1055"/>
                  </a:lnTo>
                  <a:lnTo>
                    <a:pt x="481" y="912"/>
                  </a:lnTo>
                  <a:lnTo>
                    <a:pt x="594" y="772"/>
                  </a:lnTo>
                  <a:lnTo>
                    <a:pt x="650" y="706"/>
                  </a:lnTo>
                  <a:lnTo>
                    <a:pt x="703" y="628"/>
                  </a:lnTo>
                  <a:lnTo>
                    <a:pt x="743" y="551"/>
                  </a:lnTo>
                  <a:lnTo>
                    <a:pt x="784" y="468"/>
                  </a:lnTo>
                  <a:lnTo>
                    <a:pt x="821" y="371"/>
                  </a:lnTo>
                  <a:lnTo>
                    <a:pt x="852" y="262"/>
                  </a:lnTo>
                  <a:lnTo>
                    <a:pt x="883" y="144"/>
                  </a:lnTo>
                  <a:lnTo>
                    <a:pt x="914" y="4"/>
                  </a:lnTo>
                  <a:lnTo>
                    <a:pt x="867" y="0"/>
                  </a:lnTo>
                  <a:lnTo>
                    <a:pt x="842" y="134"/>
                  </a:lnTo>
                  <a:lnTo>
                    <a:pt x="811" y="252"/>
                  </a:lnTo>
                  <a:lnTo>
                    <a:pt x="780" y="355"/>
                  </a:lnTo>
                  <a:lnTo>
                    <a:pt x="743" y="452"/>
                  </a:lnTo>
                  <a:lnTo>
                    <a:pt x="703" y="535"/>
                  </a:lnTo>
                  <a:lnTo>
                    <a:pt x="662" y="607"/>
                  </a:lnTo>
                  <a:lnTo>
                    <a:pt x="615" y="679"/>
                  </a:lnTo>
                  <a:lnTo>
                    <a:pt x="569" y="747"/>
                  </a:lnTo>
                  <a:lnTo>
                    <a:pt x="450" y="881"/>
                  </a:lnTo>
                  <a:lnTo>
                    <a:pt x="320" y="1024"/>
                  </a:lnTo>
                  <a:lnTo>
                    <a:pt x="243" y="1107"/>
                  </a:lnTo>
                  <a:lnTo>
                    <a:pt x="171" y="1195"/>
                  </a:lnTo>
                  <a:lnTo>
                    <a:pt x="90" y="1294"/>
                  </a:lnTo>
                  <a:lnTo>
                    <a:pt x="0" y="1406"/>
                  </a:lnTo>
                  <a:lnTo>
                    <a:pt x="37" y="1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25520" y="2244600"/>
              <a:ext cx="426960" cy="490680"/>
            </a:xfrm>
            <a:custGeom>
              <a:avLst/>
              <a:gdLst/>
              <a:ahLst/>
              <a:rect l="l" t="t" r="r" b="b"/>
              <a:pathLst>
                <a:path w="865" h="995">
                  <a:moveTo>
                    <a:pt x="25" y="995"/>
                  </a:moveTo>
                  <a:lnTo>
                    <a:pt x="134" y="902"/>
                  </a:lnTo>
                  <a:lnTo>
                    <a:pt x="225" y="815"/>
                  </a:lnTo>
                  <a:lnTo>
                    <a:pt x="308" y="737"/>
                  </a:lnTo>
                  <a:lnTo>
                    <a:pt x="376" y="665"/>
                  </a:lnTo>
                  <a:lnTo>
                    <a:pt x="489" y="541"/>
                  </a:lnTo>
                  <a:lnTo>
                    <a:pt x="582" y="427"/>
                  </a:lnTo>
                  <a:lnTo>
                    <a:pt x="648" y="330"/>
                  </a:lnTo>
                  <a:lnTo>
                    <a:pt x="716" y="237"/>
                  </a:lnTo>
                  <a:lnTo>
                    <a:pt x="783" y="140"/>
                  </a:lnTo>
                  <a:lnTo>
                    <a:pt x="865" y="26"/>
                  </a:lnTo>
                  <a:lnTo>
                    <a:pt x="834" y="0"/>
                  </a:lnTo>
                  <a:lnTo>
                    <a:pt x="752" y="113"/>
                  </a:lnTo>
                  <a:lnTo>
                    <a:pt x="685" y="212"/>
                  </a:lnTo>
                  <a:lnTo>
                    <a:pt x="613" y="305"/>
                  </a:lnTo>
                  <a:lnTo>
                    <a:pt x="545" y="408"/>
                  </a:lnTo>
                  <a:lnTo>
                    <a:pt x="463" y="514"/>
                  </a:lnTo>
                  <a:lnTo>
                    <a:pt x="345" y="638"/>
                  </a:lnTo>
                  <a:lnTo>
                    <a:pt x="277" y="706"/>
                  </a:lnTo>
                  <a:lnTo>
                    <a:pt x="200" y="784"/>
                  </a:lnTo>
                  <a:lnTo>
                    <a:pt x="103" y="871"/>
                  </a:lnTo>
                  <a:lnTo>
                    <a:pt x="0" y="964"/>
                  </a:lnTo>
                  <a:lnTo>
                    <a:pt x="25" y="9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19280" y="2298600"/>
              <a:ext cx="307800" cy="322200"/>
            </a:xfrm>
            <a:custGeom>
              <a:avLst/>
              <a:gdLst/>
              <a:ahLst/>
              <a:rect l="l" t="t" r="r" b="b"/>
              <a:pathLst>
                <a:path w="625" h="653">
                  <a:moveTo>
                    <a:pt x="28" y="653"/>
                  </a:moveTo>
                  <a:lnTo>
                    <a:pt x="187" y="473"/>
                  </a:lnTo>
                  <a:lnTo>
                    <a:pt x="289" y="364"/>
                  </a:lnTo>
                  <a:lnTo>
                    <a:pt x="357" y="302"/>
                  </a:lnTo>
                  <a:lnTo>
                    <a:pt x="402" y="268"/>
                  </a:lnTo>
                  <a:lnTo>
                    <a:pt x="439" y="236"/>
                  </a:lnTo>
                  <a:lnTo>
                    <a:pt x="479" y="196"/>
                  </a:lnTo>
                  <a:lnTo>
                    <a:pt x="538" y="134"/>
                  </a:lnTo>
                  <a:lnTo>
                    <a:pt x="625" y="25"/>
                  </a:lnTo>
                  <a:lnTo>
                    <a:pt x="588" y="0"/>
                  </a:lnTo>
                  <a:lnTo>
                    <a:pt x="501" y="107"/>
                  </a:lnTo>
                  <a:lnTo>
                    <a:pt x="450" y="174"/>
                  </a:lnTo>
                  <a:lnTo>
                    <a:pt x="414" y="211"/>
                  </a:lnTo>
                  <a:lnTo>
                    <a:pt x="377" y="231"/>
                  </a:lnTo>
                  <a:lnTo>
                    <a:pt x="330" y="271"/>
                  </a:lnTo>
                  <a:lnTo>
                    <a:pt x="258" y="333"/>
                  </a:lnTo>
                  <a:lnTo>
                    <a:pt x="156" y="448"/>
                  </a:lnTo>
                  <a:lnTo>
                    <a:pt x="0" y="622"/>
                  </a:lnTo>
                  <a:lnTo>
                    <a:pt x="28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9800" y="2300040"/>
              <a:ext cx="1674720" cy="649440"/>
            </a:xfrm>
            <a:custGeom>
              <a:avLst/>
              <a:gdLst/>
              <a:ahLst/>
              <a:rect l="l" t="t" r="r" b="b"/>
              <a:pathLst>
                <a:path w="3390" h="1314">
                  <a:moveTo>
                    <a:pt x="25" y="1278"/>
                  </a:moveTo>
                  <a:lnTo>
                    <a:pt x="4" y="1252"/>
                  </a:lnTo>
                  <a:lnTo>
                    <a:pt x="0" y="1262"/>
                  </a:lnTo>
                  <a:lnTo>
                    <a:pt x="0" y="1278"/>
                  </a:lnTo>
                  <a:lnTo>
                    <a:pt x="4" y="1293"/>
                  </a:lnTo>
                  <a:lnTo>
                    <a:pt x="25" y="1303"/>
                  </a:lnTo>
                  <a:lnTo>
                    <a:pt x="50" y="1314"/>
                  </a:lnTo>
                  <a:lnTo>
                    <a:pt x="149" y="1314"/>
                  </a:lnTo>
                  <a:lnTo>
                    <a:pt x="287" y="1293"/>
                  </a:lnTo>
                  <a:lnTo>
                    <a:pt x="380" y="1278"/>
                  </a:lnTo>
                  <a:lnTo>
                    <a:pt x="582" y="1237"/>
                  </a:lnTo>
                  <a:lnTo>
                    <a:pt x="815" y="1175"/>
                  </a:lnTo>
                  <a:lnTo>
                    <a:pt x="1076" y="1103"/>
                  </a:lnTo>
                  <a:lnTo>
                    <a:pt x="1344" y="1020"/>
                  </a:lnTo>
                  <a:lnTo>
                    <a:pt x="1639" y="923"/>
                  </a:lnTo>
                  <a:lnTo>
                    <a:pt x="2077" y="762"/>
                  </a:lnTo>
                  <a:lnTo>
                    <a:pt x="2360" y="644"/>
                  </a:lnTo>
                  <a:lnTo>
                    <a:pt x="2500" y="578"/>
                  </a:lnTo>
                  <a:lnTo>
                    <a:pt x="2634" y="516"/>
                  </a:lnTo>
                  <a:lnTo>
                    <a:pt x="2762" y="448"/>
                  </a:lnTo>
                  <a:lnTo>
                    <a:pt x="3004" y="314"/>
                  </a:lnTo>
                  <a:lnTo>
                    <a:pt x="3113" y="248"/>
                  </a:lnTo>
                  <a:lnTo>
                    <a:pt x="3303" y="103"/>
                  </a:lnTo>
                  <a:lnTo>
                    <a:pt x="3390" y="37"/>
                  </a:lnTo>
                  <a:lnTo>
                    <a:pt x="3359" y="0"/>
                  </a:lnTo>
                  <a:lnTo>
                    <a:pt x="3283" y="72"/>
                  </a:lnTo>
                  <a:lnTo>
                    <a:pt x="3185" y="145"/>
                  </a:lnTo>
                  <a:lnTo>
                    <a:pt x="3088" y="211"/>
                  </a:lnTo>
                  <a:lnTo>
                    <a:pt x="2865" y="345"/>
                  </a:lnTo>
                  <a:lnTo>
                    <a:pt x="2612" y="479"/>
                  </a:lnTo>
                  <a:lnTo>
                    <a:pt x="2479" y="537"/>
                  </a:lnTo>
                  <a:lnTo>
                    <a:pt x="2339" y="603"/>
                  </a:lnTo>
                  <a:lnTo>
                    <a:pt x="2062" y="721"/>
                  </a:lnTo>
                  <a:lnTo>
                    <a:pt x="1623" y="886"/>
                  </a:lnTo>
                  <a:lnTo>
                    <a:pt x="1340" y="979"/>
                  </a:lnTo>
                  <a:lnTo>
                    <a:pt x="1061" y="1062"/>
                  </a:lnTo>
                  <a:lnTo>
                    <a:pt x="803" y="1138"/>
                  </a:lnTo>
                  <a:lnTo>
                    <a:pt x="572" y="1196"/>
                  </a:lnTo>
                  <a:lnTo>
                    <a:pt x="376" y="1237"/>
                  </a:lnTo>
                  <a:lnTo>
                    <a:pt x="287" y="1258"/>
                  </a:lnTo>
                  <a:lnTo>
                    <a:pt x="149" y="1272"/>
                  </a:lnTo>
                  <a:lnTo>
                    <a:pt x="91" y="1278"/>
                  </a:lnTo>
                  <a:lnTo>
                    <a:pt x="56" y="1278"/>
                  </a:lnTo>
                  <a:lnTo>
                    <a:pt x="35" y="1272"/>
                  </a:lnTo>
                  <a:lnTo>
                    <a:pt x="35" y="1262"/>
                  </a:lnTo>
                  <a:lnTo>
                    <a:pt x="35" y="1278"/>
                  </a:lnTo>
                  <a:lnTo>
                    <a:pt x="19" y="1243"/>
                  </a:lnTo>
                  <a:lnTo>
                    <a:pt x="35" y="1272"/>
                  </a:lnTo>
                  <a:lnTo>
                    <a:pt x="56" y="1237"/>
                  </a:lnTo>
                  <a:lnTo>
                    <a:pt x="19" y="1243"/>
                  </a:lnTo>
                  <a:lnTo>
                    <a:pt x="25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44600" y="1425600"/>
              <a:ext cx="690480" cy="1506240"/>
            </a:xfrm>
            <a:custGeom>
              <a:avLst/>
              <a:gdLst/>
              <a:ahLst/>
              <a:rect l="l" t="t" r="r" b="b"/>
              <a:pathLst>
                <a:path w="1396" h="3051">
                  <a:moveTo>
                    <a:pt x="1350" y="0"/>
                  </a:moveTo>
                  <a:lnTo>
                    <a:pt x="1330" y="140"/>
                  </a:lnTo>
                  <a:lnTo>
                    <a:pt x="1303" y="280"/>
                  </a:lnTo>
                  <a:lnTo>
                    <a:pt x="1274" y="413"/>
                  </a:lnTo>
                  <a:lnTo>
                    <a:pt x="1231" y="551"/>
                  </a:lnTo>
                  <a:lnTo>
                    <a:pt x="1185" y="691"/>
                  </a:lnTo>
                  <a:lnTo>
                    <a:pt x="1138" y="825"/>
                  </a:lnTo>
                  <a:lnTo>
                    <a:pt x="1082" y="964"/>
                  </a:lnTo>
                  <a:lnTo>
                    <a:pt x="1031" y="1094"/>
                  </a:lnTo>
                  <a:lnTo>
                    <a:pt x="969" y="1228"/>
                  </a:lnTo>
                  <a:lnTo>
                    <a:pt x="777" y="1608"/>
                  </a:lnTo>
                  <a:lnTo>
                    <a:pt x="644" y="1845"/>
                  </a:lnTo>
                  <a:lnTo>
                    <a:pt x="273" y="2463"/>
                  </a:lnTo>
                  <a:lnTo>
                    <a:pt x="87" y="2768"/>
                  </a:lnTo>
                  <a:lnTo>
                    <a:pt x="56" y="2824"/>
                  </a:lnTo>
                  <a:lnTo>
                    <a:pt x="31" y="2880"/>
                  </a:lnTo>
                  <a:lnTo>
                    <a:pt x="15" y="2927"/>
                  </a:lnTo>
                  <a:lnTo>
                    <a:pt x="0" y="2963"/>
                  </a:lnTo>
                  <a:lnTo>
                    <a:pt x="0" y="3000"/>
                  </a:lnTo>
                  <a:lnTo>
                    <a:pt x="9" y="3031"/>
                  </a:lnTo>
                  <a:lnTo>
                    <a:pt x="25" y="3045"/>
                  </a:lnTo>
                  <a:lnTo>
                    <a:pt x="56" y="3051"/>
                  </a:lnTo>
                  <a:lnTo>
                    <a:pt x="77" y="3051"/>
                  </a:lnTo>
                  <a:lnTo>
                    <a:pt x="71" y="3016"/>
                  </a:lnTo>
                  <a:lnTo>
                    <a:pt x="62" y="3016"/>
                  </a:lnTo>
                  <a:lnTo>
                    <a:pt x="52" y="3010"/>
                  </a:lnTo>
                  <a:lnTo>
                    <a:pt x="46" y="3010"/>
                  </a:lnTo>
                  <a:lnTo>
                    <a:pt x="40" y="2994"/>
                  </a:lnTo>
                  <a:lnTo>
                    <a:pt x="56" y="2938"/>
                  </a:lnTo>
                  <a:lnTo>
                    <a:pt x="71" y="2896"/>
                  </a:lnTo>
                  <a:lnTo>
                    <a:pt x="124" y="2789"/>
                  </a:lnTo>
                  <a:lnTo>
                    <a:pt x="680" y="1866"/>
                  </a:lnTo>
                  <a:lnTo>
                    <a:pt x="880" y="1499"/>
                  </a:lnTo>
                  <a:lnTo>
                    <a:pt x="942" y="1371"/>
                  </a:lnTo>
                  <a:lnTo>
                    <a:pt x="1066" y="1110"/>
                  </a:lnTo>
                  <a:lnTo>
                    <a:pt x="1175" y="840"/>
                  </a:lnTo>
                  <a:lnTo>
                    <a:pt x="1225" y="702"/>
                  </a:lnTo>
                  <a:lnTo>
                    <a:pt x="1274" y="563"/>
                  </a:lnTo>
                  <a:lnTo>
                    <a:pt x="1309" y="423"/>
                  </a:lnTo>
                  <a:lnTo>
                    <a:pt x="1346" y="284"/>
                  </a:lnTo>
                  <a:lnTo>
                    <a:pt x="1396" y="6"/>
                  </a:lnTo>
                  <a:lnTo>
                    <a:pt x="13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84200" y="1477800"/>
              <a:ext cx="292320" cy="504720"/>
            </a:xfrm>
            <a:custGeom>
              <a:avLst/>
              <a:gdLst/>
              <a:ahLst/>
              <a:rect l="l" t="t" r="r" b="b"/>
              <a:pathLst>
                <a:path w="592" h="1020">
                  <a:moveTo>
                    <a:pt x="572" y="10"/>
                  </a:moveTo>
                  <a:lnTo>
                    <a:pt x="557" y="0"/>
                  </a:lnTo>
                  <a:lnTo>
                    <a:pt x="0" y="1001"/>
                  </a:lnTo>
                  <a:lnTo>
                    <a:pt x="35" y="1020"/>
                  </a:lnTo>
                  <a:lnTo>
                    <a:pt x="592" y="21"/>
                  </a:lnTo>
                  <a:lnTo>
                    <a:pt x="5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73320" y="1430280"/>
              <a:ext cx="277560" cy="455400"/>
            </a:xfrm>
            <a:custGeom>
              <a:avLst/>
              <a:gdLst/>
              <a:ahLst/>
              <a:rect l="l" t="t" r="r" b="b"/>
              <a:pathLst>
                <a:path w="563" h="921">
                  <a:moveTo>
                    <a:pt x="541" y="10"/>
                  </a:moveTo>
                  <a:lnTo>
                    <a:pt x="526" y="0"/>
                  </a:lnTo>
                  <a:lnTo>
                    <a:pt x="0" y="902"/>
                  </a:lnTo>
                  <a:lnTo>
                    <a:pt x="35" y="921"/>
                  </a:lnTo>
                  <a:lnTo>
                    <a:pt x="563" y="19"/>
                  </a:lnTo>
                  <a:lnTo>
                    <a:pt x="5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55600" y="1320840"/>
              <a:ext cx="236520" cy="404640"/>
            </a:xfrm>
            <a:custGeom>
              <a:avLst/>
              <a:gdLst/>
              <a:ahLst/>
              <a:rect l="l" t="t" r="r" b="b"/>
              <a:pathLst>
                <a:path w="479" h="820">
                  <a:moveTo>
                    <a:pt x="457" y="6"/>
                  </a:moveTo>
                  <a:lnTo>
                    <a:pt x="448" y="0"/>
                  </a:lnTo>
                  <a:lnTo>
                    <a:pt x="0" y="799"/>
                  </a:lnTo>
                  <a:lnTo>
                    <a:pt x="40" y="820"/>
                  </a:lnTo>
                  <a:lnTo>
                    <a:pt x="479" y="16"/>
                  </a:lnTo>
                  <a:lnTo>
                    <a:pt x="45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82840" y="1574640"/>
              <a:ext cx="331560" cy="512640"/>
            </a:xfrm>
            <a:custGeom>
              <a:avLst/>
              <a:gdLst/>
              <a:ahLst/>
              <a:rect l="l" t="t" r="r" b="b"/>
              <a:pathLst>
                <a:path w="671" h="1035">
                  <a:moveTo>
                    <a:pt x="655" y="10"/>
                  </a:moveTo>
                  <a:lnTo>
                    <a:pt x="634" y="0"/>
                  </a:lnTo>
                  <a:lnTo>
                    <a:pt x="0" y="1010"/>
                  </a:lnTo>
                  <a:lnTo>
                    <a:pt x="37" y="1035"/>
                  </a:lnTo>
                  <a:lnTo>
                    <a:pt x="671" y="21"/>
                  </a:lnTo>
                  <a:lnTo>
                    <a:pt x="65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620720" y="1641240"/>
              <a:ext cx="309600" cy="540000"/>
            </a:xfrm>
            <a:custGeom>
              <a:avLst/>
              <a:gdLst/>
              <a:ahLst/>
              <a:rect l="l" t="t" r="r" b="b"/>
              <a:pathLst>
                <a:path w="625" h="1091">
                  <a:moveTo>
                    <a:pt x="609" y="9"/>
                  </a:moveTo>
                  <a:lnTo>
                    <a:pt x="594" y="0"/>
                  </a:lnTo>
                  <a:lnTo>
                    <a:pt x="0" y="1072"/>
                  </a:lnTo>
                  <a:lnTo>
                    <a:pt x="37" y="1091"/>
                  </a:lnTo>
                  <a:lnTo>
                    <a:pt x="625" y="21"/>
                  </a:lnTo>
                  <a:lnTo>
                    <a:pt x="60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797120" y="1811160"/>
              <a:ext cx="264960" cy="446040"/>
            </a:xfrm>
            <a:custGeom>
              <a:avLst/>
              <a:gdLst/>
              <a:ahLst/>
              <a:rect l="l" t="t" r="r" b="b"/>
              <a:pathLst>
                <a:path w="537" h="902">
                  <a:moveTo>
                    <a:pt x="522" y="10"/>
                  </a:moveTo>
                  <a:lnTo>
                    <a:pt x="501" y="0"/>
                  </a:lnTo>
                  <a:lnTo>
                    <a:pt x="0" y="880"/>
                  </a:lnTo>
                  <a:lnTo>
                    <a:pt x="37" y="902"/>
                  </a:lnTo>
                  <a:lnTo>
                    <a:pt x="537" y="21"/>
                  </a:lnTo>
                  <a:lnTo>
                    <a:pt x="5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965240" y="2016000"/>
              <a:ext cx="216000" cy="306360"/>
            </a:xfrm>
            <a:custGeom>
              <a:avLst/>
              <a:gdLst/>
              <a:ahLst/>
              <a:rect l="l" t="t" r="r" b="b"/>
              <a:pathLst>
                <a:path w="439" h="622">
                  <a:moveTo>
                    <a:pt x="417" y="10"/>
                  </a:moveTo>
                  <a:lnTo>
                    <a:pt x="402" y="0"/>
                  </a:lnTo>
                  <a:lnTo>
                    <a:pt x="0" y="603"/>
                  </a:lnTo>
                  <a:lnTo>
                    <a:pt x="32" y="622"/>
                  </a:lnTo>
                  <a:lnTo>
                    <a:pt x="439" y="19"/>
                  </a:lnTo>
                  <a:lnTo>
                    <a:pt x="4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53960" y="1369800"/>
              <a:ext cx="90720" cy="660600"/>
            </a:xfrm>
            <a:custGeom>
              <a:avLst/>
              <a:gdLst/>
              <a:ahLst/>
              <a:rect l="l" t="t" r="r" b="b"/>
              <a:pathLst>
                <a:path w="184" h="1336">
                  <a:moveTo>
                    <a:pt x="169" y="1336"/>
                  </a:moveTo>
                  <a:lnTo>
                    <a:pt x="184" y="133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44" y="1336"/>
                  </a:lnTo>
                  <a:lnTo>
                    <a:pt x="169" y="1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98440" y="1336680"/>
              <a:ext cx="104760" cy="610920"/>
            </a:xfrm>
            <a:custGeom>
              <a:avLst/>
              <a:gdLst/>
              <a:ahLst/>
              <a:rect l="l" t="t" r="r" b="b"/>
              <a:pathLst>
                <a:path w="211" h="1241">
                  <a:moveTo>
                    <a:pt x="190" y="1241"/>
                  </a:moveTo>
                  <a:lnTo>
                    <a:pt x="211" y="1237"/>
                  </a:lnTo>
                  <a:lnTo>
                    <a:pt x="35" y="0"/>
                  </a:lnTo>
                  <a:lnTo>
                    <a:pt x="0" y="6"/>
                  </a:lnTo>
                  <a:lnTo>
                    <a:pt x="169" y="1241"/>
                  </a:lnTo>
                  <a:lnTo>
                    <a:pt x="190" y="1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88960" y="1373040"/>
              <a:ext cx="82800" cy="774720"/>
            </a:xfrm>
            <a:custGeom>
              <a:avLst/>
              <a:gdLst/>
              <a:ahLst/>
              <a:rect l="l" t="t" r="r" b="b"/>
              <a:pathLst>
                <a:path w="168" h="1566">
                  <a:moveTo>
                    <a:pt x="149" y="1566"/>
                  </a:moveTo>
                  <a:lnTo>
                    <a:pt x="168" y="1566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33" y="1566"/>
                  </a:lnTo>
                  <a:lnTo>
                    <a:pt x="149" y="15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646280" y="1490400"/>
              <a:ext cx="69840" cy="738360"/>
            </a:xfrm>
            <a:custGeom>
              <a:avLst/>
              <a:gdLst/>
              <a:ahLst/>
              <a:rect l="l" t="t" r="r" b="b"/>
              <a:pathLst>
                <a:path w="139" h="1495">
                  <a:moveTo>
                    <a:pt x="120" y="1495"/>
                  </a:moveTo>
                  <a:lnTo>
                    <a:pt x="139" y="1489"/>
                  </a:lnTo>
                  <a:lnTo>
                    <a:pt x="42" y="0"/>
                  </a:lnTo>
                  <a:lnTo>
                    <a:pt x="0" y="0"/>
                  </a:lnTo>
                  <a:lnTo>
                    <a:pt x="99" y="1495"/>
                  </a:lnTo>
                  <a:lnTo>
                    <a:pt x="120" y="1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789200" y="1585800"/>
              <a:ext cx="33120" cy="704880"/>
            </a:xfrm>
            <a:custGeom>
              <a:avLst/>
              <a:gdLst/>
              <a:ahLst/>
              <a:rect l="l" t="t" r="r" b="b"/>
              <a:pathLst>
                <a:path w="68" h="1427">
                  <a:moveTo>
                    <a:pt x="42" y="1427"/>
                  </a:moveTo>
                  <a:lnTo>
                    <a:pt x="68" y="1427"/>
                  </a:lnTo>
                  <a:lnTo>
                    <a:pt x="42" y="0"/>
                  </a:lnTo>
                  <a:lnTo>
                    <a:pt x="0" y="0"/>
                  </a:lnTo>
                  <a:lnTo>
                    <a:pt x="21" y="1427"/>
                  </a:lnTo>
                  <a:lnTo>
                    <a:pt x="42" y="1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33640" y="1827000"/>
              <a:ext cx="57240" cy="495360"/>
            </a:xfrm>
            <a:custGeom>
              <a:avLst/>
              <a:gdLst/>
              <a:ahLst/>
              <a:rect l="l" t="t" r="r" b="b"/>
              <a:pathLst>
                <a:path w="115" h="1004">
                  <a:moveTo>
                    <a:pt x="93" y="1004"/>
                  </a:moveTo>
                  <a:lnTo>
                    <a:pt x="115" y="1004"/>
                  </a:lnTo>
                  <a:lnTo>
                    <a:pt x="47" y="0"/>
                  </a:lnTo>
                  <a:lnTo>
                    <a:pt x="0" y="0"/>
                  </a:lnTo>
                  <a:lnTo>
                    <a:pt x="74" y="1004"/>
                  </a:lnTo>
                  <a:lnTo>
                    <a:pt x="93" y="10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924200" y="1668240"/>
              <a:ext cx="47520" cy="654120"/>
            </a:xfrm>
            <a:custGeom>
              <a:avLst/>
              <a:gdLst/>
              <a:ahLst/>
              <a:rect l="l" t="t" r="r" b="b"/>
              <a:pathLst>
                <a:path w="99" h="1324">
                  <a:moveTo>
                    <a:pt x="78" y="1324"/>
                  </a:moveTo>
                  <a:lnTo>
                    <a:pt x="99" y="132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52" y="1324"/>
                  </a:lnTo>
                  <a:lnTo>
                    <a:pt x="78" y="1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97000" y="2203200"/>
              <a:ext cx="622440" cy="936720"/>
            </a:xfrm>
            <a:custGeom>
              <a:avLst/>
              <a:gdLst/>
              <a:ahLst/>
              <a:rect l="l" t="t" r="r" b="b"/>
              <a:pathLst>
                <a:path w="2515" h="1896">
                  <a:moveTo>
                    <a:pt x="2463" y="1828"/>
                  </a:moveTo>
                  <a:lnTo>
                    <a:pt x="2515" y="1763"/>
                  </a:lnTo>
                  <a:lnTo>
                    <a:pt x="97" y="0"/>
                  </a:lnTo>
                  <a:lnTo>
                    <a:pt x="0" y="134"/>
                  </a:lnTo>
                  <a:lnTo>
                    <a:pt x="2417" y="1896"/>
                  </a:lnTo>
                  <a:lnTo>
                    <a:pt x="2463" y="1828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870200" y="1596960"/>
              <a:ext cx="363240" cy="714240"/>
            </a:xfrm>
            <a:custGeom>
              <a:avLst/>
              <a:gdLst/>
              <a:ahLst/>
              <a:rect l="l" t="t" r="r" b="b"/>
              <a:pathLst>
                <a:path w="737" h="1443">
                  <a:moveTo>
                    <a:pt x="594" y="1443"/>
                  </a:moveTo>
                  <a:lnTo>
                    <a:pt x="625" y="1412"/>
                  </a:lnTo>
                  <a:lnTo>
                    <a:pt x="656" y="1381"/>
                  </a:lnTo>
                  <a:lnTo>
                    <a:pt x="672" y="1350"/>
                  </a:lnTo>
                  <a:lnTo>
                    <a:pt x="691" y="1313"/>
                  </a:lnTo>
                  <a:lnTo>
                    <a:pt x="708" y="1272"/>
                  </a:lnTo>
                  <a:lnTo>
                    <a:pt x="724" y="1238"/>
                  </a:lnTo>
                  <a:lnTo>
                    <a:pt x="734" y="1195"/>
                  </a:lnTo>
                  <a:lnTo>
                    <a:pt x="737" y="1148"/>
                  </a:lnTo>
                  <a:lnTo>
                    <a:pt x="737" y="1073"/>
                  </a:lnTo>
                  <a:lnTo>
                    <a:pt x="728" y="984"/>
                  </a:lnTo>
                  <a:lnTo>
                    <a:pt x="708" y="887"/>
                  </a:lnTo>
                  <a:lnTo>
                    <a:pt x="675" y="794"/>
                  </a:lnTo>
                  <a:lnTo>
                    <a:pt x="640" y="697"/>
                  </a:lnTo>
                  <a:lnTo>
                    <a:pt x="588" y="598"/>
                  </a:lnTo>
                  <a:lnTo>
                    <a:pt x="532" y="501"/>
                  </a:lnTo>
                  <a:lnTo>
                    <a:pt x="466" y="402"/>
                  </a:lnTo>
                  <a:lnTo>
                    <a:pt x="392" y="299"/>
                  </a:lnTo>
                  <a:lnTo>
                    <a:pt x="311" y="196"/>
                  </a:lnTo>
                  <a:lnTo>
                    <a:pt x="212" y="97"/>
                  </a:lnTo>
                  <a:lnTo>
                    <a:pt x="115" y="0"/>
                  </a:lnTo>
                  <a:lnTo>
                    <a:pt x="0" y="119"/>
                  </a:lnTo>
                  <a:lnTo>
                    <a:pt x="94" y="212"/>
                  </a:lnTo>
                  <a:lnTo>
                    <a:pt x="187" y="305"/>
                  </a:lnTo>
                  <a:lnTo>
                    <a:pt x="264" y="402"/>
                  </a:lnTo>
                  <a:lnTo>
                    <a:pt x="330" y="495"/>
                  </a:lnTo>
                  <a:lnTo>
                    <a:pt x="392" y="588"/>
                  </a:lnTo>
                  <a:lnTo>
                    <a:pt x="450" y="675"/>
                  </a:lnTo>
                  <a:lnTo>
                    <a:pt x="491" y="768"/>
                  </a:lnTo>
                  <a:lnTo>
                    <a:pt x="526" y="850"/>
                  </a:lnTo>
                  <a:lnTo>
                    <a:pt x="553" y="933"/>
                  </a:lnTo>
                  <a:lnTo>
                    <a:pt x="569" y="1005"/>
                  </a:lnTo>
                  <a:lnTo>
                    <a:pt x="573" y="1077"/>
                  </a:lnTo>
                  <a:lnTo>
                    <a:pt x="573" y="1145"/>
                  </a:lnTo>
                  <a:lnTo>
                    <a:pt x="569" y="1170"/>
                  </a:lnTo>
                  <a:lnTo>
                    <a:pt x="569" y="1195"/>
                  </a:lnTo>
                  <a:lnTo>
                    <a:pt x="557" y="1222"/>
                  </a:lnTo>
                  <a:lnTo>
                    <a:pt x="547" y="1241"/>
                  </a:lnTo>
                  <a:lnTo>
                    <a:pt x="538" y="1263"/>
                  </a:lnTo>
                  <a:lnTo>
                    <a:pt x="522" y="1278"/>
                  </a:lnTo>
                  <a:lnTo>
                    <a:pt x="507" y="1298"/>
                  </a:lnTo>
                  <a:lnTo>
                    <a:pt x="491" y="1313"/>
                  </a:lnTo>
                  <a:lnTo>
                    <a:pt x="594" y="1443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392120" y="2000160"/>
              <a:ext cx="771480" cy="361800"/>
            </a:xfrm>
            <a:custGeom>
              <a:avLst/>
              <a:gdLst/>
              <a:ahLst/>
              <a:rect l="l" t="t" r="r" b="b"/>
              <a:pathLst>
                <a:path w="1561" h="731">
                  <a:moveTo>
                    <a:pt x="0" y="118"/>
                  </a:moveTo>
                  <a:lnTo>
                    <a:pt x="103" y="211"/>
                  </a:lnTo>
                  <a:lnTo>
                    <a:pt x="211" y="298"/>
                  </a:lnTo>
                  <a:lnTo>
                    <a:pt x="320" y="380"/>
                  </a:lnTo>
                  <a:lnTo>
                    <a:pt x="426" y="448"/>
                  </a:lnTo>
                  <a:lnTo>
                    <a:pt x="535" y="514"/>
                  </a:lnTo>
                  <a:lnTo>
                    <a:pt x="644" y="572"/>
                  </a:lnTo>
                  <a:lnTo>
                    <a:pt x="752" y="622"/>
                  </a:lnTo>
                  <a:lnTo>
                    <a:pt x="855" y="663"/>
                  </a:lnTo>
                  <a:lnTo>
                    <a:pt x="958" y="690"/>
                  </a:lnTo>
                  <a:lnTo>
                    <a:pt x="1057" y="715"/>
                  </a:lnTo>
                  <a:lnTo>
                    <a:pt x="1154" y="725"/>
                  </a:lnTo>
                  <a:lnTo>
                    <a:pt x="1247" y="731"/>
                  </a:lnTo>
                  <a:lnTo>
                    <a:pt x="1293" y="731"/>
                  </a:lnTo>
                  <a:lnTo>
                    <a:pt x="1334" y="721"/>
                  </a:lnTo>
                  <a:lnTo>
                    <a:pt x="1375" y="715"/>
                  </a:lnTo>
                  <a:lnTo>
                    <a:pt x="1417" y="706"/>
                  </a:lnTo>
                  <a:lnTo>
                    <a:pt x="1458" y="690"/>
                  </a:lnTo>
                  <a:lnTo>
                    <a:pt x="1493" y="669"/>
                  </a:lnTo>
                  <a:lnTo>
                    <a:pt x="1524" y="653"/>
                  </a:lnTo>
                  <a:lnTo>
                    <a:pt x="1561" y="628"/>
                  </a:lnTo>
                  <a:lnTo>
                    <a:pt x="1458" y="498"/>
                  </a:lnTo>
                  <a:lnTo>
                    <a:pt x="1437" y="514"/>
                  </a:lnTo>
                  <a:lnTo>
                    <a:pt x="1417" y="529"/>
                  </a:lnTo>
                  <a:lnTo>
                    <a:pt x="1396" y="541"/>
                  </a:lnTo>
                  <a:lnTo>
                    <a:pt x="1371" y="551"/>
                  </a:lnTo>
                  <a:lnTo>
                    <a:pt x="1340" y="556"/>
                  </a:lnTo>
                  <a:lnTo>
                    <a:pt x="1309" y="560"/>
                  </a:lnTo>
                  <a:lnTo>
                    <a:pt x="1278" y="560"/>
                  </a:lnTo>
                  <a:lnTo>
                    <a:pt x="1247" y="566"/>
                  </a:lnTo>
                  <a:lnTo>
                    <a:pt x="1163" y="560"/>
                  </a:lnTo>
                  <a:lnTo>
                    <a:pt x="1088" y="551"/>
                  </a:lnTo>
                  <a:lnTo>
                    <a:pt x="999" y="535"/>
                  </a:lnTo>
                  <a:lnTo>
                    <a:pt x="911" y="504"/>
                  </a:lnTo>
                  <a:lnTo>
                    <a:pt x="808" y="469"/>
                  </a:lnTo>
                  <a:lnTo>
                    <a:pt x="715" y="426"/>
                  </a:lnTo>
                  <a:lnTo>
                    <a:pt x="613" y="370"/>
                  </a:lnTo>
                  <a:lnTo>
                    <a:pt x="514" y="308"/>
                  </a:lnTo>
                  <a:lnTo>
                    <a:pt x="411" y="242"/>
                  </a:lnTo>
                  <a:lnTo>
                    <a:pt x="308" y="169"/>
                  </a:lnTo>
                  <a:lnTo>
                    <a:pt x="211" y="87"/>
                  </a:lnTo>
                  <a:lnTo>
                    <a:pt x="106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84320" y="1346040"/>
              <a:ext cx="360360" cy="712800"/>
            </a:xfrm>
            <a:custGeom>
              <a:avLst/>
              <a:gdLst/>
              <a:ahLst/>
              <a:rect l="l" t="t" r="r" b="b"/>
              <a:pathLst>
                <a:path w="731" h="1443">
                  <a:moveTo>
                    <a:pt x="146" y="0"/>
                  </a:moveTo>
                  <a:lnTo>
                    <a:pt x="115" y="31"/>
                  </a:lnTo>
                  <a:lnTo>
                    <a:pt x="88" y="63"/>
                  </a:lnTo>
                  <a:lnTo>
                    <a:pt x="68" y="94"/>
                  </a:lnTo>
                  <a:lnTo>
                    <a:pt x="47" y="128"/>
                  </a:lnTo>
                  <a:lnTo>
                    <a:pt x="25" y="171"/>
                  </a:lnTo>
                  <a:lnTo>
                    <a:pt x="16" y="206"/>
                  </a:lnTo>
                  <a:lnTo>
                    <a:pt x="10" y="247"/>
                  </a:lnTo>
                  <a:lnTo>
                    <a:pt x="0" y="289"/>
                  </a:lnTo>
                  <a:lnTo>
                    <a:pt x="0" y="417"/>
                  </a:lnTo>
                  <a:lnTo>
                    <a:pt x="10" y="464"/>
                  </a:lnTo>
                  <a:lnTo>
                    <a:pt x="31" y="557"/>
                  </a:lnTo>
                  <a:lnTo>
                    <a:pt x="62" y="650"/>
                  </a:lnTo>
                  <a:lnTo>
                    <a:pt x="103" y="747"/>
                  </a:lnTo>
                  <a:lnTo>
                    <a:pt x="150" y="846"/>
                  </a:lnTo>
                  <a:lnTo>
                    <a:pt x="206" y="943"/>
                  </a:lnTo>
                  <a:lnTo>
                    <a:pt x="274" y="1046"/>
                  </a:lnTo>
                  <a:lnTo>
                    <a:pt x="351" y="1145"/>
                  </a:lnTo>
                  <a:lnTo>
                    <a:pt x="433" y="1247"/>
                  </a:lnTo>
                  <a:lnTo>
                    <a:pt x="522" y="1344"/>
                  </a:lnTo>
                  <a:lnTo>
                    <a:pt x="625" y="1443"/>
                  </a:lnTo>
                  <a:lnTo>
                    <a:pt x="731" y="1325"/>
                  </a:lnTo>
                  <a:lnTo>
                    <a:pt x="640" y="1232"/>
                  </a:lnTo>
                  <a:lnTo>
                    <a:pt x="557" y="1133"/>
                  </a:lnTo>
                  <a:lnTo>
                    <a:pt x="475" y="1046"/>
                  </a:lnTo>
                  <a:lnTo>
                    <a:pt x="408" y="949"/>
                  </a:lnTo>
                  <a:lnTo>
                    <a:pt x="351" y="856"/>
                  </a:lnTo>
                  <a:lnTo>
                    <a:pt x="295" y="768"/>
                  </a:lnTo>
                  <a:lnTo>
                    <a:pt x="248" y="681"/>
                  </a:lnTo>
                  <a:lnTo>
                    <a:pt x="217" y="592"/>
                  </a:lnTo>
                  <a:lnTo>
                    <a:pt x="190" y="510"/>
                  </a:lnTo>
                  <a:lnTo>
                    <a:pt x="171" y="439"/>
                  </a:lnTo>
                  <a:lnTo>
                    <a:pt x="165" y="402"/>
                  </a:lnTo>
                  <a:lnTo>
                    <a:pt x="165" y="305"/>
                  </a:lnTo>
                  <a:lnTo>
                    <a:pt x="171" y="278"/>
                  </a:lnTo>
                  <a:lnTo>
                    <a:pt x="175" y="247"/>
                  </a:lnTo>
                  <a:lnTo>
                    <a:pt x="186" y="222"/>
                  </a:lnTo>
                  <a:lnTo>
                    <a:pt x="190" y="200"/>
                  </a:lnTo>
                  <a:lnTo>
                    <a:pt x="206" y="185"/>
                  </a:lnTo>
                  <a:lnTo>
                    <a:pt x="217" y="165"/>
                  </a:lnTo>
                  <a:lnTo>
                    <a:pt x="237" y="144"/>
                  </a:lnTo>
                  <a:lnTo>
                    <a:pt x="248" y="12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155600" y="1295280"/>
              <a:ext cx="771480" cy="360360"/>
            </a:xfrm>
            <a:custGeom>
              <a:avLst/>
              <a:gdLst/>
              <a:ahLst/>
              <a:rect l="l" t="t" r="r" b="b"/>
              <a:pathLst>
                <a:path w="1561" h="731">
                  <a:moveTo>
                    <a:pt x="1561" y="612"/>
                  </a:moveTo>
                  <a:lnTo>
                    <a:pt x="1458" y="519"/>
                  </a:lnTo>
                  <a:lnTo>
                    <a:pt x="1353" y="438"/>
                  </a:lnTo>
                  <a:lnTo>
                    <a:pt x="1247" y="355"/>
                  </a:lnTo>
                  <a:lnTo>
                    <a:pt x="1138" y="283"/>
                  </a:lnTo>
                  <a:lnTo>
                    <a:pt x="1030" y="215"/>
                  </a:lnTo>
                  <a:lnTo>
                    <a:pt x="921" y="159"/>
                  </a:lnTo>
                  <a:lnTo>
                    <a:pt x="808" y="112"/>
                  </a:lnTo>
                  <a:lnTo>
                    <a:pt x="706" y="66"/>
                  </a:lnTo>
                  <a:lnTo>
                    <a:pt x="603" y="40"/>
                  </a:lnTo>
                  <a:lnTo>
                    <a:pt x="504" y="15"/>
                  </a:lnTo>
                  <a:lnTo>
                    <a:pt x="405" y="4"/>
                  </a:lnTo>
                  <a:lnTo>
                    <a:pt x="318" y="0"/>
                  </a:lnTo>
                  <a:lnTo>
                    <a:pt x="271" y="4"/>
                  </a:lnTo>
                  <a:lnTo>
                    <a:pt x="225" y="9"/>
                  </a:lnTo>
                  <a:lnTo>
                    <a:pt x="184" y="15"/>
                  </a:lnTo>
                  <a:lnTo>
                    <a:pt x="143" y="31"/>
                  </a:lnTo>
                  <a:lnTo>
                    <a:pt x="102" y="40"/>
                  </a:lnTo>
                  <a:lnTo>
                    <a:pt x="71" y="56"/>
                  </a:lnTo>
                  <a:lnTo>
                    <a:pt x="29" y="77"/>
                  </a:lnTo>
                  <a:lnTo>
                    <a:pt x="0" y="102"/>
                  </a:lnTo>
                  <a:lnTo>
                    <a:pt x="102" y="230"/>
                  </a:lnTo>
                  <a:lnTo>
                    <a:pt x="122" y="215"/>
                  </a:lnTo>
                  <a:lnTo>
                    <a:pt x="143" y="199"/>
                  </a:lnTo>
                  <a:lnTo>
                    <a:pt x="168" y="190"/>
                  </a:lnTo>
                  <a:lnTo>
                    <a:pt x="196" y="184"/>
                  </a:lnTo>
                  <a:lnTo>
                    <a:pt x="225" y="174"/>
                  </a:lnTo>
                  <a:lnTo>
                    <a:pt x="252" y="170"/>
                  </a:lnTo>
                  <a:lnTo>
                    <a:pt x="283" y="170"/>
                  </a:lnTo>
                  <a:lnTo>
                    <a:pt x="318" y="165"/>
                  </a:lnTo>
                  <a:lnTo>
                    <a:pt x="395" y="170"/>
                  </a:lnTo>
                  <a:lnTo>
                    <a:pt x="473" y="174"/>
                  </a:lnTo>
                  <a:lnTo>
                    <a:pt x="556" y="196"/>
                  </a:lnTo>
                  <a:lnTo>
                    <a:pt x="653" y="227"/>
                  </a:lnTo>
                  <a:lnTo>
                    <a:pt x="746" y="261"/>
                  </a:lnTo>
                  <a:lnTo>
                    <a:pt x="843" y="302"/>
                  </a:lnTo>
                  <a:lnTo>
                    <a:pt x="942" y="360"/>
                  </a:lnTo>
                  <a:lnTo>
                    <a:pt x="1045" y="422"/>
                  </a:lnTo>
                  <a:lnTo>
                    <a:pt x="1154" y="488"/>
                  </a:lnTo>
                  <a:lnTo>
                    <a:pt x="1251" y="560"/>
                  </a:lnTo>
                  <a:lnTo>
                    <a:pt x="1353" y="643"/>
                  </a:lnTo>
                  <a:lnTo>
                    <a:pt x="1446" y="731"/>
                  </a:lnTo>
                  <a:lnTo>
                    <a:pt x="1561" y="612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5840" y="2035080"/>
              <a:ext cx="454320" cy="71280"/>
            </a:xfrm>
            <a:custGeom>
              <a:avLst/>
              <a:gdLst/>
              <a:ahLst/>
              <a:rect l="l" t="t" r="r" b="b"/>
              <a:pathLst>
                <a:path w="917" h="143">
                  <a:moveTo>
                    <a:pt x="890" y="0"/>
                  </a:moveTo>
                  <a:lnTo>
                    <a:pt x="840" y="25"/>
                  </a:lnTo>
                  <a:lnTo>
                    <a:pt x="793" y="52"/>
                  </a:lnTo>
                  <a:lnTo>
                    <a:pt x="737" y="71"/>
                  </a:lnTo>
                  <a:lnTo>
                    <a:pt x="684" y="87"/>
                  </a:lnTo>
                  <a:lnTo>
                    <a:pt x="622" y="97"/>
                  </a:lnTo>
                  <a:lnTo>
                    <a:pt x="572" y="102"/>
                  </a:lnTo>
                  <a:lnTo>
                    <a:pt x="510" y="108"/>
                  </a:lnTo>
                  <a:lnTo>
                    <a:pt x="454" y="108"/>
                  </a:lnTo>
                  <a:lnTo>
                    <a:pt x="339" y="97"/>
                  </a:lnTo>
                  <a:lnTo>
                    <a:pt x="221" y="81"/>
                  </a:lnTo>
                  <a:lnTo>
                    <a:pt x="112" y="62"/>
                  </a:lnTo>
                  <a:lnTo>
                    <a:pt x="10" y="40"/>
                  </a:lnTo>
                  <a:lnTo>
                    <a:pt x="0" y="87"/>
                  </a:lnTo>
                  <a:lnTo>
                    <a:pt x="103" y="108"/>
                  </a:lnTo>
                  <a:lnTo>
                    <a:pt x="221" y="118"/>
                  </a:lnTo>
                  <a:lnTo>
                    <a:pt x="333" y="139"/>
                  </a:lnTo>
                  <a:lnTo>
                    <a:pt x="454" y="143"/>
                  </a:lnTo>
                  <a:lnTo>
                    <a:pt x="514" y="143"/>
                  </a:lnTo>
                  <a:lnTo>
                    <a:pt x="576" y="139"/>
                  </a:lnTo>
                  <a:lnTo>
                    <a:pt x="634" y="133"/>
                  </a:lnTo>
                  <a:lnTo>
                    <a:pt x="694" y="124"/>
                  </a:lnTo>
                  <a:lnTo>
                    <a:pt x="747" y="108"/>
                  </a:lnTo>
                  <a:lnTo>
                    <a:pt x="809" y="93"/>
                  </a:lnTo>
                  <a:lnTo>
                    <a:pt x="861" y="62"/>
                  </a:lnTo>
                  <a:lnTo>
                    <a:pt x="917" y="3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1600" y="2609640"/>
              <a:ext cx="1152360" cy="268200"/>
            </a:xfrm>
            <a:custGeom>
              <a:avLst/>
              <a:gdLst/>
              <a:ahLst/>
              <a:rect l="l" t="t" r="r" b="b"/>
              <a:pathLst>
                <a:path w="2331" h="541">
                  <a:moveTo>
                    <a:pt x="2325" y="21"/>
                  </a:moveTo>
                  <a:lnTo>
                    <a:pt x="2319" y="0"/>
                  </a:lnTo>
                  <a:lnTo>
                    <a:pt x="0" y="506"/>
                  </a:lnTo>
                  <a:lnTo>
                    <a:pt x="12" y="541"/>
                  </a:lnTo>
                  <a:lnTo>
                    <a:pt x="2331" y="43"/>
                  </a:lnTo>
                  <a:lnTo>
                    <a:pt x="23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2209680" y="-785880"/>
            <a:ext cx="6019920" cy="7426080"/>
            <a:chOff x="2209680" y="-785880"/>
            <a:chExt cx="6019920" cy="7426080"/>
          </a:xfrm>
        </p:grpSpPr>
        <p:grpSp>
          <p:nvGrpSpPr>
            <p:cNvPr id="36" name=""/>
            <p:cNvGrpSpPr/>
            <p:nvPr/>
          </p:nvGrpSpPr>
          <p:grpSpPr>
            <a:xfrm>
              <a:off x="2209680" y="-70920"/>
              <a:ext cx="6019920" cy="6711120"/>
              <a:chOff x="2209680" y="-70920"/>
              <a:chExt cx="6019920" cy="6711120"/>
            </a:xfrm>
          </p:grpSpPr>
          <p:sp>
            <p:nvSpPr>
              <p:cNvPr id="37" name=""/>
              <p:cNvSpPr/>
              <p:nvPr/>
            </p:nvSpPr>
            <p:spPr>
              <a:xfrm>
                <a:off x="2209680" y="0"/>
                <a:ext cx="5486400" cy="304920"/>
              </a:xfrm>
              <a:custGeom>
                <a:avLst/>
                <a:gdLst>
                  <a:gd name="textAreaLeft" fmla="*/ 648000 w 5486400"/>
                  <a:gd name="textAreaRight" fmla="*/ 4838400 w 5486400"/>
                  <a:gd name="textAreaTop" fmla="*/ 36000 h 304920"/>
                  <a:gd name="textAreaBottom" fmla="*/ 2689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56" y="21600"/>
                    </a:lnTo>
                    <a:lnTo>
                      <a:pt x="1444" y="2160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" name=""/>
              <p:cNvGrpSpPr/>
              <p:nvPr/>
            </p:nvGrpSpPr>
            <p:grpSpPr>
              <a:xfrm>
                <a:off x="6400800" y="5410080"/>
                <a:ext cx="1828800" cy="1230120"/>
                <a:chOff x="6400800" y="5410080"/>
                <a:chExt cx="1828800" cy="12301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6532560" y="589464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79" h="2331">
                      <a:moveTo>
                        <a:pt x="4336" y="245"/>
                      </a:moveTo>
                      <a:lnTo>
                        <a:pt x="4255" y="183"/>
                      </a:lnTo>
                      <a:lnTo>
                        <a:pt x="4173" y="167"/>
                      </a:lnTo>
                      <a:lnTo>
                        <a:pt x="4092" y="187"/>
                      </a:lnTo>
                      <a:lnTo>
                        <a:pt x="4005" y="245"/>
                      </a:lnTo>
                      <a:lnTo>
                        <a:pt x="3991" y="297"/>
                      </a:lnTo>
                      <a:lnTo>
                        <a:pt x="4009" y="311"/>
                      </a:lnTo>
                      <a:lnTo>
                        <a:pt x="4030" y="317"/>
                      </a:lnTo>
                      <a:lnTo>
                        <a:pt x="4131" y="392"/>
                      </a:lnTo>
                      <a:lnTo>
                        <a:pt x="4158" y="458"/>
                      </a:lnTo>
                      <a:lnTo>
                        <a:pt x="4243" y="448"/>
                      </a:lnTo>
                      <a:lnTo>
                        <a:pt x="4323" y="406"/>
                      </a:lnTo>
                      <a:lnTo>
                        <a:pt x="4365" y="336"/>
                      </a:lnTo>
                      <a:lnTo>
                        <a:pt x="4336" y="245"/>
                      </a:lnTo>
                      <a:close/>
                      <a:moveTo>
                        <a:pt x="4462" y="125"/>
                      </a:moveTo>
                      <a:lnTo>
                        <a:pt x="4567" y="245"/>
                      </a:lnTo>
                      <a:lnTo>
                        <a:pt x="4579" y="388"/>
                      </a:lnTo>
                      <a:lnTo>
                        <a:pt x="4538" y="472"/>
                      </a:lnTo>
                      <a:lnTo>
                        <a:pt x="4428" y="555"/>
                      </a:lnTo>
                      <a:lnTo>
                        <a:pt x="4317" y="600"/>
                      </a:lnTo>
                      <a:lnTo>
                        <a:pt x="4173" y="607"/>
                      </a:lnTo>
                      <a:lnTo>
                        <a:pt x="4158" y="607"/>
                      </a:lnTo>
                      <a:lnTo>
                        <a:pt x="4102" y="774"/>
                      </a:lnTo>
                      <a:lnTo>
                        <a:pt x="3987" y="891"/>
                      </a:lnTo>
                      <a:lnTo>
                        <a:pt x="3848" y="941"/>
                      </a:lnTo>
                      <a:lnTo>
                        <a:pt x="3743" y="947"/>
                      </a:lnTo>
                      <a:lnTo>
                        <a:pt x="3863" y="1162"/>
                      </a:lnTo>
                      <a:lnTo>
                        <a:pt x="3863" y="1176"/>
                      </a:lnTo>
                      <a:lnTo>
                        <a:pt x="3669" y="1267"/>
                      </a:lnTo>
                      <a:lnTo>
                        <a:pt x="3625" y="1259"/>
                      </a:lnTo>
                      <a:lnTo>
                        <a:pt x="3074" y="988"/>
                      </a:lnTo>
                      <a:lnTo>
                        <a:pt x="2655" y="1220"/>
                      </a:lnTo>
                      <a:lnTo>
                        <a:pt x="2170" y="1490"/>
                      </a:lnTo>
                      <a:lnTo>
                        <a:pt x="2157" y="1713"/>
                      </a:lnTo>
                      <a:lnTo>
                        <a:pt x="2125" y="1796"/>
                      </a:lnTo>
                      <a:lnTo>
                        <a:pt x="2025" y="1887"/>
                      </a:lnTo>
                      <a:lnTo>
                        <a:pt x="1910" y="1949"/>
                      </a:lnTo>
                      <a:lnTo>
                        <a:pt x="1648" y="1986"/>
                      </a:lnTo>
                      <a:lnTo>
                        <a:pt x="1532" y="1967"/>
                      </a:lnTo>
                      <a:lnTo>
                        <a:pt x="1416" y="1953"/>
                      </a:lnTo>
                      <a:lnTo>
                        <a:pt x="1445" y="1977"/>
                      </a:lnTo>
                      <a:lnTo>
                        <a:pt x="1681" y="2062"/>
                      </a:lnTo>
                      <a:lnTo>
                        <a:pt x="2046" y="2116"/>
                      </a:lnTo>
                      <a:lnTo>
                        <a:pt x="2292" y="2106"/>
                      </a:lnTo>
                      <a:lnTo>
                        <a:pt x="2467" y="2062"/>
                      </a:lnTo>
                      <a:lnTo>
                        <a:pt x="2484" y="2046"/>
                      </a:lnTo>
                      <a:lnTo>
                        <a:pt x="2414" y="2010"/>
                      </a:lnTo>
                      <a:lnTo>
                        <a:pt x="2277" y="1967"/>
                      </a:lnTo>
                      <a:lnTo>
                        <a:pt x="2261" y="1942"/>
                      </a:lnTo>
                      <a:lnTo>
                        <a:pt x="2292" y="1926"/>
                      </a:lnTo>
                      <a:lnTo>
                        <a:pt x="2473" y="1891"/>
                      </a:lnTo>
                      <a:lnTo>
                        <a:pt x="2874" y="1738"/>
                      </a:lnTo>
                      <a:lnTo>
                        <a:pt x="3070" y="1633"/>
                      </a:lnTo>
                      <a:lnTo>
                        <a:pt x="3089" y="1633"/>
                      </a:lnTo>
                      <a:lnTo>
                        <a:pt x="3070" y="1690"/>
                      </a:lnTo>
                      <a:lnTo>
                        <a:pt x="2839" y="2231"/>
                      </a:lnTo>
                      <a:lnTo>
                        <a:pt x="2797" y="2316"/>
                      </a:lnTo>
                      <a:lnTo>
                        <a:pt x="2777" y="2331"/>
                      </a:lnTo>
                      <a:lnTo>
                        <a:pt x="2647" y="2169"/>
                      </a:lnTo>
                      <a:lnTo>
                        <a:pt x="2647" y="2165"/>
                      </a:lnTo>
                      <a:lnTo>
                        <a:pt x="2587" y="2178"/>
                      </a:lnTo>
                      <a:lnTo>
                        <a:pt x="2430" y="2225"/>
                      </a:lnTo>
                      <a:lnTo>
                        <a:pt x="2083" y="2304"/>
                      </a:lnTo>
                      <a:lnTo>
                        <a:pt x="1864" y="2310"/>
                      </a:lnTo>
                      <a:lnTo>
                        <a:pt x="1319" y="2248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43" y="1982"/>
                      </a:lnTo>
                      <a:lnTo>
                        <a:pt x="725" y="1949"/>
                      </a:lnTo>
                      <a:lnTo>
                        <a:pt x="688" y="1926"/>
                      </a:lnTo>
                      <a:lnTo>
                        <a:pt x="481" y="1914"/>
                      </a:lnTo>
                      <a:lnTo>
                        <a:pt x="219" y="1986"/>
                      </a:lnTo>
                      <a:lnTo>
                        <a:pt x="114" y="2031"/>
                      </a:lnTo>
                      <a:lnTo>
                        <a:pt x="83" y="2046"/>
                      </a:lnTo>
                      <a:lnTo>
                        <a:pt x="78" y="2044"/>
                      </a:lnTo>
                      <a:lnTo>
                        <a:pt x="78" y="2033"/>
                      </a:lnTo>
                      <a:lnTo>
                        <a:pt x="97" y="2019"/>
                      </a:lnTo>
                      <a:lnTo>
                        <a:pt x="48" y="2015"/>
                      </a:lnTo>
                      <a:lnTo>
                        <a:pt x="72" y="1986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68" y="1967"/>
                      </a:lnTo>
                      <a:lnTo>
                        <a:pt x="78" y="1957"/>
                      </a:lnTo>
                      <a:lnTo>
                        <a:pt x="10" y="1963"/>
                      </a:lnTo>
                      <a:lnTo>
                        <a:pt x="6" y="1967"/>
                      </a:lnTo>
                      <a:lnTo>
                        <a:pt x="0" y="1957"/>
                      </a:lnTo>
                      <a:lnTo>
                        <a:pt x="10" y="1949"/>
                      </a:lnTo>
                      <a:lnTo>
                        <a:pt x="60" y="1942"/>
                      </a:lnTo>
                      <a:lnTo>
                        <a:pt x="78" y="1926"/>
                      </a:lnTo>
                      <a:lnTo>
                        <a:pt x="72" y="1911"/>
                      </a:lnTo>
                      <a:lnTo>
                        <a:pt x="35" y="1901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207" y="1891"/>
                      </a:lnTo>
                      <a:lnTo>
                        <a:pt x="384" y="1843"/>
                      </a:lnTo>
                      <a:lnTo>
                        <a:pt x="537" y="1804"/>
                      </a:lnTo>
                      <a:lnTo>
                        <a:pt x="659" y="1810"/>
                      </a:lnTo>
                      <a:lnTo>
                        <a:pt x="634" y="1633"/>
                      </a:lnTo>
                      <a:lnTo>
                        <a:pt x="712" y="1401"/>
                      </a:lnTo>
                      <a:lnTo>
                        <a:pt x="865" y="1168"/>
                      </a:lnTo>
                      <a:lnTo>
                        <a:pt x="1100" y="939"/>
                      </a:lnTo>
                      <a:lnTo>
                        <a:pt x="1319" y="780"/>
                      </a:lnTo>
                      <a:lnTo>
                        <a:pt x="1233" y="732"/>
                      </a:lnTo>
                      <a:lnTo>
                        <a:pt x="1090" y="685"/>
                      </a:lnTo>
                      <a:lnTo>
                        <a:pt x="1032" y="654"/>
                      </a:lnTo>
                      <a:lnTo>
                        <a:pt x="1039" y="623"/>
                      </a:lnTo>
                      <a:lnTo>
                        <a:pt x="1057" y="613"/>
                      </a:lnTo>
                      <a:lnTo>
                        <a:pt x="1276" y="613"/>
                      </a:lnTo>
                      <a:lnTo>
                        <a:pt x="1557" y="586"/>
                      </a:lnTo>
                      <a:lnTo>
                        <a:pt x="1722" y="582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668" y="863"/>
                      </a:lnTo>
                      <a:lnTo>
                        <a:pt x="1515" y="1032"/>
                      </a:lnTo>
                      <a:lnTo>
                        <a:pt x="1484" y="1081"/>
                      </a:lnTo>
                      <a:lnTo>
                        <a:pt x="1466" y="1092"/>
                      </a:lnTo>
                      <a:lnTo>
                        <a:pt x="1441" y="1071"/>
                      </a:lnTo>
                      <a:lnTo>
                        <a:pt x="1416" y="910"/>
                      </a:lnTo>
                      <a:lnTo>
                        <a:pt x="1412" y="904"/>
                      </a:lnTo>
                      <a:lnTo>
                        <a:pt x="1319" y="988"/>
                      </a:lnTo>
                      <a:lnTo>
                        <a:pt x="1191" y="1181"/>
                      </a:lnTo>
                      <a:lnTo>
                        <a:pt x="1109" y="1364"/>
                      </a:lnTo>
                      <a:lnTo>
                        <a:pt x="1080" y="1593"/>
                      </a:lnTo>
                      <a:lnTo>
                        <a:pt x="1109" y="1728"/>
                      </a:lnTo>
                      <a:lnTo>
                        <a:pt x="1162" y="1775"/>
                      </a:lnTo>
                      <a:lnTo>
                        <a:pt x="1245" y="1744"/>
                      </a:lnTo>
                      <a:lnTo>
                        <a:pt x="1416" y="1649"/>
                      </a:lnTo>
                      <a:lnTo>
                        <a:pt x="2017" y="1329"/>
                      </a:lnTo>
                      <a:lnTo>
                        <a:pt x="1984" y="1176"/>
                      </a:lnTo>
                      <a:lnTo>
                        <a:pt x="2007" y="1019"/>
                      </a:lnTo>
                      <a:lnTo>
                        <a:pt x="2083" y="900"/>
                      </a:lnTo>
                      <a:lnTo>
                        <a:pt x="2240" y="796"/>
                      </a:lnTo>
                      <a:lnTo>
                        <a:pt x="2387" y="751"/>
                      </a:lnTo>
                      <a:lnTo>
                        <a:pt x="2606" y="737"/>
                      </a:lnTo>
                      <a:lnTo>
                        <a:pt x="2820" y="772"/>
                      </a:lnTo>
                      <a:lnTo>
                        <a:pt x="2878" y="790"/>
                      </a:lnTo>
                      <a:lnTo>
                        <a:pt x="2862" y="710"/>
                      </a:lnTo>
                      <a:lnTo>
                        <a:pt x="2754" y="412"/>
                      </a:lnTo>
                      <a:lnTo>
                        <a:pt x="2812" y="357"/>
                      </a:lnTo>
                      <a:lnTo>
                        <a:pt x="2917" y="305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7"/>
                      </a:lnTo>
                      <a:lnTo>
                        <a:pt x="3689" y="429"/>
                      </a:lnTo>
                      <a:lnTo>
                        <a:pt x="3673" y="367"/>
                      </a:lnTo>
                      <a:lnTo>
                        <a:pt x="3698" y="330"/>
                      </a:lnTo>
                      <a:lnTo>
                        <a:pt x="3786" y="287"/>
                      </a:lnTo>
                      <a:lnTo>
                        <a:pt x="3786" y="204"/>
                      </a:lnTo>
                      <a:lnTo>
                        <a:pt x="3826" y="128"/>
                      </a:lnTo>
                      <a:lnTo>
                        <a:pt x="3939" y="45"/>
                      </a:lnTo>
                      <a:lnTo>
                        <a:pt x="4059" y="10"/>
                      </a:lnTo>
                      <a:lnTo>
                        <a:pt x="4144" y="0"/>
                      </a:lnTo>
                      <a:lnTo>
                        <a:pt x="4309" y="37"/>
                      </a:lnTo>
                      <a:lnTo>
                        <a:pt x="4462" y="125"/>
                      </a:lnTo>
                      <a:close/>
                      <a:moveTo>
                        <a:pt x="1941" y="1786"/>
                      </a:moveTo>
                      <a:lnTo>
                        <a:pt x="1992" y="1705"/>
                      </a:lnTo>
                      <a:lnTo>
                        <a:pt x="2003" y="1581"/>
                      </a:lnTo>
                      <a:lnTo>
                        <a:pt x="1520" y="1849"/>
                      </a:lnTo>
                      <a:lnTo>
                        <a:pt x="1546" y="1849"/>
                      </a:lnTo>
                      <a:lnTo>
                        <a:pt x="1598" y="1866"/>
                      </a:lnTo>
                      <a:lnTo>
                        <a:pt x="1685" y="1878"/>
                      </a:lnTo>
                      <a:lnTo>
                        <a:pt x="1825" y="1852"/>
                      </a:lnTo>
                      <a:lnTo>
                        <a:pt x="1941" y="1786"/>
                      </a:lnTo>
                      <a:close/>
                      <a:moveTo>
                        <a:pt x="2787" y="887"/>
                      </a:moveTo>
                      <a:lnTo>
                        <a:pt x="2771" y="877"/>
                      </a:lnTo>
                      <a:lnTo>
                        <a:pt x="2473" y="842"/>
                      </a:lnTo>
                      <a:lnTo>
                        <a:pt x="2362" y="865"/>
                      </a:lnTo>
                      <a:lnTo>
                        <a:pt x="2261" y="918"/>
                      </a:lnTo>
                      <a:lnTo>
                        <a:pt x="2193" y="982"/>
                      </a:lnTo>
                      <a:lnTo>
                        <a:pt x="2125" y="1108"/>
                      </a:lnTo>
                      <a:lnTo>
                        <a:pt x="2149" y="1251"/>
                      </a:lnTo>
                      <a:lnTo>
                        <a:pt x="2787" y="887"/>
                      </a:lnTo>
                      <a:close/>
                      <a:moveTo>
                        <a:pt x="3972" y="732"/>
                      </a:moveTo>
                      <a:lnTo>
                        <a:pt x="4036" y="594"/>
                      </a:lnTo>
                      <a:lnTo>
                        <a:pt x="3906" y="526"/>
                      </a:lnTo>
                      <a:lnTo>
                        <a:pt x="3632" y="681"/>
                      </a:lnTo>
                      <a:lnTo>
                        <a:pt x="3698" y="842"/>
                      </a:lnTo>
                      <a:lnTo>
                        <a:pt x="3795" y="846"/>
                      </a:lnTo>
                      <a:lnTo>
                        <a:pt x="3906" y="797"/>
                      </a:lnTo>
                      <a:lnTo>
                        <a:pt x="3972" y="732"/>
                      </a:lnTo>
                      <a:close/>
                    </a:path>
                  </a:pathLst>
                </a:custGeom>
                <a:solidFill>
                  <a:srgbClr val="7c54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809120" y="5947200"/>
                  <a:ext cx="121320" cy="94680"/>
                </a:xfrm>
                <a:custGeom>
                  <a:avLst/>
                  <a:gdLst/>
                  <a:ahLst/>
                  <a:rect l="l" t="t" r="r" b="b"/>
                  <a:pathLst>
                    <a:path w="378" h="293">
                      <a:moveTo>
                        <a:pt x="349" y="78"/>
                      </a:moveTo>
                      <a:lnTo>
                        <a:pt x="266" y="14"/>
                      </a:lnTo>
                      <a:lnTo>
                        <a:pt x="184" y="0"/>
                      </a:lnTo>
                      <a:lnTo>
                        <a:pt x="101" y="18"/>
                      </a:lnTo>
                      <a:lnTo>
                        <a:pt x="14" y="78"/>
                      </a:lnTo>
                      <a:lnTo>
                        <a:pt x="0" y="130"/>
                      </a:lnTo>
                      <a:lnTo>
                        <a:pt x="20" y="144"/>
                      </a:lnTo>
                      <a:lnTo>
                        <a:pt x="41" y="151"/>
                      </a:lnTo>
                      <a:lnTo>
                        <a:pt x="142" y="227"/>
                      </a:lnTo>
                      <a:lnTo>
                        <a:pt x="140" y="225"/>
                      </a:lnTo>
                      <a:lnTo>
                        <a:pt x="169" y="293"/>
                      </a:lnTo>
                      <a:lnTo>
                        <a:pt x="254" y="283"/>
                      </a:lnTo>
                      <a:lnTo>
                        <a:pt x="334" y="239"/>
                      </a:lnTo>
                      <a:lnTo>
                        <a:pt x="378" y="169"/>
                      </a:lnTo>
                      <a:lnTo>
                        <a:pt x="349" y="78"/>
                      </a:lnTo>
                      <a:lnTo>
                        <a:pt x="345" y="80"/>
                      </a:lnTo>
                      <a:lnTo>
                        <a:pt x="375" y="169"/>
                      </a:lnTo>
                      <a:lnTo>
                        <a:pt x="375" y="167"/>
                      </a:lnTo>
                      <a:lnTo>
                        <a:pt x="332" y="237"/>
                      </a:lnTo>
                      <a:lnTo>
                        <a:pt x="334" y="237"/>
                      </a:lnTo>
                      <a:lnTo>
                        <a:pt x="252" y="281"/>
                      </a:lnTo>
                      <a:lnTo>
                        <a:pt x="254" y="281"/>
                      </a:lnTo>
                      <a:lnTo>
                        <a:pt x="169" y="289"/>
                      </a:lnTo>
                      <a:lnTo>
                        <a:pt x="171" y="291"/>
                      </a:lnTo>
                      <a:lnTo>
                        <a:pt x="144" y="225"/>
                      </a:lnTo>
                      <a:lnTo>
                        <a:pt x="43" y="148"/>
                      </a:lnTo>
                      <a:lnTo>
                        <a:pt x="22" y="142"/>
                      </a:lnTo>
                      <a:lnTo>
                        <a:pt x="2" y="128"/>
                      </a:lnTo>
                      <a:lnTo>
                        <a:pt x="4" y="130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03" y="22"/>
                      </a:lnTo>
                      <a:lnTo>
                        <a:pt x="103" y="22"/>
                      </a:lnTo>
                      <a:lnTo>
                        <a:pt x="184" y="2"/>
                      </a:lnTo>
                      <a:lnTo>
                        <a:pt x="266" y="16"/>
                      </a:lnTo>
                      <a:lnTo>
                        <a:pt x="264" y="16"/>
                      </a:lnTo>
                      <a:lnTo>
                        <a:pt x="345" y="80"/>
                      </a:lnTo>
                      <a:lnTo>
                        <a:pt x="345" y="80"/>
                      </a:lnTo>
                      <a:lnTo>
                        <a:pt x="349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532560" y="589464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81" h="2331">
                      <a:moveTo>
                        <a:pt x="4460" y="126"/>
                      </a:moveTo>
                      <a:lnTo>
                        <a:pt x="4460" y="125"/>
                      </a:lnTo>
                      <a:lnTo>
                        <a:pt x="4565" y="247"/>
                      </a:lnTo>
                      <a:lnTo>
                        <a:pt x="4565" y="245"/>
                      </a:lnTo>
                      <a:lnTo>
                        <a:pt x="4577" y="388"/>
                      </a:lnTo>
                      <a:lnTo>
                        <a:pt x="4577" y="386"/>
                      </a:lnTo>
                      <a:lnTo>
                        <a:pt x="4536" y="472"/>
                      </a:lnTo>
                      <a:lnTo>
                        <a:pt x="4536" y="470"/>
                      </a:lnTo>
                      <a:lnTo>
                        <a:pt x="4428" y="553"/>
                      </a:lnTo>
                      <a:lnTo>
                        <a:pt x="4315" y="600"/>
                      </a:lnTo>
                      <a:lnTo>
                        <a:pt x="4317" y="600"/>
                      </a:lnTo>
                      <a:lnTo>
                        <a:pt x="4173" y="605"/>
                      </a:lnTo>
                      <a:lnTo>
                        <a:pt x="4158" y="605"/>
                      </a:lnTo>
                      <a:lnTo>
                        <a:pt x="4100" y="772"/>
                      </a:lnTo>
                      <a:lnTo>
                        <a:pt x="4100" y="772"/>
                      </a:lnTo>
                      <a:lnTo>
                        <a:pt x="3985" y="891"/>
                      </a:lnTo>
                      <a:lnTo>
                        <a:pt x="3985" y="889"/>
                      </a:lnTo>
                      <a:lnTo>
                        <a:pt x="3848" y="939"/>
                      </a:lnTo>
                      <a:lnTo>
                        <a:pt x="3848" y="939"/>
                      </a:lnTo>
                      <a:lnTo>
                        <a:pt x="3739" y="947"/>
                      </a:lnTo>
                      <a:lnTo>
                        <a:pt x="3861" y="1164"/>
                      </a:lnTo>
                      <a:lnTo>
                        <a:pt x="3861" y="1162"/>
                      </a:lnTo>
                      <a:lnTo>
                        <a:pt x="3861" y="1176"/>
                      </a:lnTo>
                      <a:lnTo>
                        <a:pt x="3861" y="1176"/>
                      </a:lnTo>
                      <a:lnTo>
                        <a:pt x="3669" y="1267"/>
                      </a:lnTo>
                      <a:lnTo>
                        <a:pt x="3669" y="1267"/>
                      </a:lnTo>
                      <a:lnTo>
                        <a:pt x="3625" y="1257"/>
                      </a:lnTo>
                      <a:lnTo>
                        <a:pt x="3627" y="1257"/>
                      </a:lnTo>
                      <a:lnTo>
                        <a:pt x="3074" y="986"/>
                      </a:lnTo>
                      <a:lnTo>
                        <a:pt x="2653" y="1218"/>
                      </a:lnTo>
                      <a:lnTo>
                        <a:pt x="2168" y="1488"/>
                      </a:lnTo>
                      <a:lnTo>
                        <a:pt x="2155" y="1713"/>
                      </a:lnTo>
                      <a:lnTo>
                        <a:pt x="2155" y="1713"/>
                      </a:lnTo>
                      <a:lnTo>
                        <a:pt x="2125" y="1794"/>
                      </a:lnTo>
                      <a:lnTo>
                        <a:pt x="2125" y="1794"/>
                      </a:lnTo>
                      <a:lnTo>
                        <a:pt x="2025" y="1887"/>
                      </a:lnTo>
                      <a:lnTo>
                        <a:pt x="2025" y="1885"/>
                      </a:lnTo>
                      <a:lnTo>
                        <a:pt x="1910" y="1947"/>
                      </a:lnTo>
                      <a:lnTo>
                        <a:pt x="1910" y="1947"/>
                      </a:lnTo>
                      <a:lnTo>
                        <a:pt x="1648" y="1984"/>
                      </a:lnTo>
                      <a:lnTo>
                        <a:pt x="1532" y="1965"/>
                      </a:lnTo>
                      <a:lnTo>
                        <a:pt x="1412" y="1951"/>
                      </a:lnTo>
                      <a:lnTo>
                        <a:pt x="1445" y="1977"/>
                      </a:lnTo>
                      <a:lnTo>
                        <a:pt x="1681" y="2064"/>
                      </a:lnTo>
                      <a:lnTo>
                        <a:pt x="2046" y="2116"/>
                      </a:lnTo>
                      <a:lnTo>
                        <a:pt x="2292" y="2108"/>
                      </a:lnTo>
                      <a:lnTo>
                        <a:pt x="2467" y="2064"/>
                      </a:lnTo>
                      <a:lnTo>
                        <a:pt x="2486" y="2046"/>
                      </a:lnTo>
                      <a:lnTo>
                        <a:pt x="2414" y="2010"/>
                      </a:lnTo>
                      <a:lnTo>
                        <a:pt x="2279" y="1965"/>
                      </a:lnTo>
                      <a:lnTo>
                        <a:pt x="2279" y="1967"/>
                      </a:lnTo>
                      <a:lnTo>
                        <a:pt x="2263" y="1942"/>
                      </a:lnTo>
                      <a:lnTo>
                        <a:pt x="2261" y="1944"/>
                      </a:lnTo>
                      <a:lnTo>
                        <a:pt x="2292" y="1928"/>
                      </a:lnTo>
                      <a:lnTo>
                        <a:pt x="2292" y="1928"/>
                      </a:lnTo>
                      <a:lnTo>
                        <a:pt x="2475" y="1893"/>
                      </a:lnTo>
                      <a:lnTo>
                        <a:pt x="2874" y="1740"/>
                      </a:lnTo>
                      <a:lnTo>
                        <a:pt x="3070" y="1635"/>
                      </a:lnTo>
                      <a:lnTo>
                        <a:pt x="3070" y="1635"/>
                      </a:lnTo>
                      <a:lnTo>
                        <a:pt x="3089" y="1635"/>
                      </a:lnTo>
                      <a:lnTo>
                        <a:pt x="3087" y="1633"/>
                      </a:lnTo>
                      <a:lnTo>
                        <a:pt x="3068" y="1690"/>
                      </a:lnTo>
                      <a:lnTo>
                        <a:pt x="2837" y="2229"/>
                      </a:lnTo>
                      <a:lnTo>
                        <a:pt x="2795" y="2316"/>
                      </a:lnTo>
                      <a:lnTo>
                        <a:pt x="2795" y="2316"/>
                      </a:lnTo>
                      <a:lnTo>
                        <a:pt x="2777" y="2329"/>
                      </a:lnTo>
                      <a:lnTo>
                        <a:pt x="2779" y="2329"/>
                      </a:lnTo>
                      <a:lnTo>
                        <a:pt x="2649" y="2167"/>
                      </a:lnTo>
                      <a:lnTo>
                        <a:pt x="2649" y="2169"/>
                      </a:lnTo>
                      <a:lnTo>
                        <a:pt x="2649" y="2163"/>
                      </a:lnTo>
                      <a:lnTo>
                        <a:pt x="2587" y="2176"/>
                      </a:lnTo>
                      <a:lnTo>
                        <a:pt x="2587" y="2176"/>
                      </a:lnTo>
                      <a:lnTo>
                        <a:pt x="2430" y="2223"/>
                      </a:lnTo>
                      <a:lnTo>
                        <a:pt x="2430" y="2223"/>
                      </a:lnTo>
                      <a:lnTo>
                        <a:pt x="2083" y="2304"/>
                      </a:lnTo>
                      <a:lnTo>
                        <a:pt x="1864" y="2308"/>
                      </a:lnTo>
                      <a:lnTo>
                        <a:pt x="1319" y="2246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52" y="2124"/>
                      </a:lnTo>
                      <a:lnTo>
                        <a:pt x="745" y="1982"/>
                      </a:lnTo>
                      <a:lnTo>
                        <a:pt x="725" y="1947"/>
                      </a:lnTo>
                      <a:lnTo>
                        <a:pt x="688" y="1924"/>
                      </a:lnTo>
                      <a:lnTo>
                        <a:pt x="481" y="1913"/>
                      </a:lnTo>
                      <a:lnTo>
                        <a:pt x="217" y="1984"/>
                      </a:lnTo>
                      <a:lnTo>
                        <a:pt x="114" y="2029"/>
                      </a:lnTo>
                      <a:lnTo>
                        <a:pt x="81" y="2046"/>
                      </a:lnTo>
                      <a:lnTo>
                        <a:pt x="83" y="2046"/>
                      </a:lnTo>
                      <a:lnTo>
                        <a:pt x="79" y="2042"/>
                      </a:lnTo>
                      <a:lnTo>
                        <a:pt x="79" y="2044"/>
                      </a:lnTo>
                      <a:lnTo>
                        <a:pt x="79" y="2033"/>
                      </a:lnTo>
                      <a:lnTo>
                        <a:pt x="79" y="2035"/>
                      </a:lnTo>
                      <a:lnTo>
                        <a:pt x="101" y="2019"/>
                      </a:lnTo>
                      <a:lnTo>
                        <a:pt x="48" y="2013"/>
                      </a:lnTo>
                      <a:lnTo>
                        <a:pt x="50" y="2015"/>
                      </a:lnTo>
                      <a:lnTo>
                        <a:pt x="74" y="1984"/>
                      </a:lnTo>
                      <a:lnTo>
                        <a:pt x="41" y="1984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41" y="1973"/>
                      </a:lnTo>
                      <a:lnTo>
                        <a:pt x="68" y="1969"/>
                      </a:lnTo>
                      <a:lnTo>
                        <a:pt x="83" y="1957"/>
                      </a:lnTo>
                      <a:lnTo>
                        <a:pt x="10" y="1961"/>
                      </a:lnTo>
                      <a:lnTo>
                        <a:pt x="4" y="1967"/>
                      </a:lnTo>
                      <a:lnTo>
                        <a:pt x="8" y="1967"/>
                      </a:lnTo>
                      <a:lnTo>
                        <a:pt x="2" y="1957"/>
                      </a:lnTo>
                      <a:lnTo>
                        <a:pt x="2" y="1959"/>
                      </a:lnTo>
                      <a:lnTo>
                        <a:pt x="12" y="1949"/>
                      </a:lnTo>
                      <a:lnTo>
                        <a:pt x="10" y="1949"/>
                      </a:lnTo>
                      <a:lnTo>
                        <a:pt x="60" y="1944"/>
                      </a:lnTo>
                      <a:lnTo>
                        <a:pt x="79" y="1926"/>
                      </a:lnTo>
                      <a:lnTo>
                        <a:pt x="72" y="1909"/>
                      </a:lnTo>
                      <a:lnTo>
                        <a:pt x="35" y="1899"/>
                      </a:lnTo>
                      <a:lnTo>
                        <a:pt x="35" y="1899"/>
                      </a:lnTo>
                      <a:lnTo>
                        <a:pt x="31" y="1895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31" y="1889"/>
                      </a:lnTo>
                      <a:lnTo>
                        <a:pt x="207" y="1893"/>
                      </a:lnTo>
                      <a:lnTo>
                        <a:pt x="386" y="1845"/>
                      </a:lnTo>
                      <a:lnTo>
                        <a:pt x="384" y="1845"/>
                      </a:lnTo>
                      <a:lnTo>
                        <a:pt x="537" y="1806"/>
                      </a:lnTo>
                      <a:lnTo>
                        <a:pt x="661" y="1810"/>
                      </a:lnTo>
                      <a:lnTo>
                        <a:pt x="636" y="1633"/>
                      </a:lnTo>
                      <a:lnTo>
                        <a:pt x="636" y="1633"/>
                      </a:lnTo>
                      <a:lnTo>
                        <a:pt x="714" y="1401"/>
                      </a:lnTo>
                      <a:lnTo>
                        <a:pt x="867" y="1168"/>
                      </a:lnTo>
                      <a:lnTo>
                        <a:pt x="865" y="1168"/>
                      </a:lnTo>
                      <a:lnTo>
                        <a:pt x="1101" y="939"/>
                      </a:lnTo>
                      <a:lnTo>
                        <a:pt x="1101" y="939"/>
                      </a:lnTo>
                      <a:lnTo>
                        <a:pt x="1323" y="780"/>
                      </a:lnTo>
                      <a:lnTo>
                        <a:pt x="1233" y="732"/>
                      </a:lnTo>
                      <a:lnTo>
                        <a:pt x="1092" y="683"/>
                      </a:lnTo>
                      <a:lnTo>
                        <a:pt x="1032" y="654"/>
                      </a:lnTo>
                      <a:lnTo>
                        <a:pt x="1034" y="654"/>
                      </a:lnTo>
                      <a:lnTo>
                        <a:pt x="1039" y="623"/>
                      </a:lnTo>
                      <a:lnTo>
                        <a:pt x="1039" y="625"/>
                      </a:lnTo>
                      <a:lnTo>
                        <a:pt x="1057" y="615"/>
                      </a:lnTo>
                      <a:lnTo>
                        <a:pt x="1057" y="615"/>
                      </a:lnTo>
                      <a:lnTo>
                        <a:pt x="1276" y="615"/>
                      </a:lnTo>
                      <a:lnTo>
                        <a:pt x="1557" y="588"/>
                      </a:lnTo>
                      <a:lnTo>
                        <a:pt x="1722" y="584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881" y="578"/>
                      </a:lnTo>
                      <a:lnTo>
                        <a:pt x="1666" y="861"/>
                      </a:lnTo>
                      <a:lnTo>
                        <a:pt x="1666" y="861"/>
                      </a:lnTo>
                      <a:lnTo>
                        <a:pt x="1513" y="1030"/>
                      </a:lnTo>
                      <a:lnTo>
                        <a:pt x="1482" y="1079"/>
                      </a:lnTo>
                      <a:lnTo>
                        <a:pt x="1484" y="1079"/>
                      </a:lnTo>
                      <a:lnTo>
                        <a:pt x="1464" y="1090"/>
                      </a:lnTo>
                      <a:lnTo>
                        <a:pt x="1466" y="1090"/>
                      </a:lnTo>
                      <a:lnTo>
                        <a:pt x="1441" y="1069"/>
                      </a:lnTo>
                      <a:lnTo>
                        <a:pt x="1443" y="1071"/>
                      </a:lnTo>
                      <a:lnTo>
                        <a:pt x="1418" y="910"/>
                      </a:lnTo>
                      <a:lnTo>
                        <a:pt x="1412" y="902"/>
                      </a:lnTo>
                      <a:lnTo>
                        <a:pt x="1319" y="986"/>
                      </a:lnTo>
                      <a:lnTo>
                        <a:pt x="1191" y="1180"/>
                      </a:lnTo>
                      <a:lnTo>
                        <a:pt x="1107" y="1364"/>
                      </a:lnTo>
                      <a:lnTo>
                        <a:pt x="1078" y="1593"/>
                      </a:lnTo>
                      <a:lnTo>
                        <a:pt x="1107" y="1730"/>
                      </a:lnTo>
                      <a:lnTo>
                        <a:pt x="1162" y="1777"/>
                      </a:lnTo>
                      <a:lnTo>
                        <a:pt x="1245" y="1744"/>
                      </a:lnTo>
                      <a:lnTo>
                        <a:pt x="1416" y="1651"/>
                      </a:lnTo>
                      <a:lnTo>
                        <a:pt x="2019" y="1331"/>
                      </a:lnTo>
                      <a:lnTo>
                        <a:pt x="1986" y="1176"/>
                      </a:lnTo>
                      <a:lnTo>
                        <a:pt x="2009" y="1019"/>
                      </a:lnTo>
                      <a:lnTo>
                        <a:pt x="2009" y="1019"/>
                      </a:lnTo>
                      <a:lnTo>
                        <a:pt x="2085" y="900"/>
                      </a:lnTo>
                      <a:lnTo>
                        <a:pt x="2085" y="902"/>
                      </a:lnTo>
                      <a:lnTo>
                        <a:pt x="2242" y="796"/>
                      </a:lnTo>
                      <a:lnTo>
                        <a:pt x="2387" y="753"/>
                      </a:lnTo>
                      <a:lnTo>
                        <a:pt x="2387" y="753"/>
                      </a:lnTo>
                      <a:lnTo>
                        <a:pt x="2606" y="739"/>
                      </a:lnTo>
                      <a:lnTo>
                        <a:pt x="2820" y="772"/>
                      </a:lnTo>
                      <a:lnTo>
                        <a:pt x="2818" y="772"/>
                      </a:lnTo>
                      <a:lnTo>
                        <a:pt x="2880" y="792"/>
                      </a:lnTo>
                      <a:lnTo>
                        <a:pt x="2864" y="710"/>
                      </a:lnTo>
                      <a:lnTo>
                        <a:pt x="2864" y="710"/>
                      </a:lnTo>
                      <a:lnTo>
                        <a:pt x="2754" y="412"/>
                      </a:lnTo>
                      <a:lnTo>
                        <a:pt x="2754" y="413"/>
                      </a:lnTo>
                      <a:lnTo>
                        <a:pt x="2812" y="359"/>
                      </a:lnTo>
                      <a:lnTo>
                        <a:pt x="2812" y="359"/>
                      </a:lnTo>
                      <a:lnTo>
                        <a:pt x="2919" y="307"/>
                      </a:lnTo>
                      <a:lnTo>
                        <a:pt x="2917" y="307"/>
                      </a:lnTo>
                      <a:lnTo>
                        <a:pt x="2971" y="297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9"/>
                      </a:lnTo>
                      <a:lnTo>
                        <a:pt x="3689" y="429"/>
                      </a:lnTo>
                      <a:lnTo>
                        <a:pt x="3675" y="367"/>
                      </a:lnTo>
                      <a:lnTo>
                        <a:pt x="3675" y="367"/>
                      </a:lnTo>
                      <a:lnTo>
                        <a:pt x="3700" y="332"/>
                      </a:lnTo>
                      <a:lnTo>
                        <a:pt x="3698" y="332"/>
                      </a:lnTo>
                      <a:lnTo>
                        <a:pt x="3788" y="287"/>
                      </a:lnTo>
                      <a:lnTo>
                        <a:pt x="3788" y="204"/>
                      </a:lnTo>
                      <a:lnTo>
                        <a:pt x="3788" y="206"/>
                      </a:lnTo>
                      <a:lnTo>
                        <a:pt x="3828" y="130"/>
                      </a:lnTo>
                      <a:lnTo>
                        <a:pt x="3828" y="130"/>
                      </a:lnTo>
                      <a:lnTo>
                        <a:pt x="3939" y="45"/>
                      </a:lnTo>
                      <a:lnTo>
                        <a:pt x="4061" y="12"/>
                      </a:lnTo>
                      <a:lnTo>
                        <a:pt x="4059" y="12"/>
                      </a:lnTo>
                      <a:lnTo>
                        <a:pt x="4144" y="2"/>
                      </a:lnTo>
                      <a:lnTo>
                        <a:pt x="4309" y="39"/>
                      </a:lnTo>
                      <a:lnTo>
                        <a:pt x="4309" y="39"/>
                      </a:lnTo>
                      <a:lnTo>
                        <a:pt x="4460" y="126"/>
                      </a:lnTo>
                      <a:lnTo>
                        <a:pt x="4462" y="123"/>
                      </a:lnTo>
                      <a:lnTo>
                        <a:pt x="4309" y="35"/>
                      </a:lnTo>
                      <a:lnTo>
                        <a:pt x="4144" y="0"/>
                      </a:lnTo>
                      <a:lnTo>
                        <a:pt x="4059" y="8"/>
                      </a:lnTo>
                      <a:lnTo>
                        <a:pt x="4059" y="8"/>
                      </a:lnTo>
                      <a:lnTo>
                        <a:pt x="3939" y="43"/>
                      </a:lnTo>
                      <a:lnTo>
                        <a:pt x="3824" y="128"/>
                      </a:lnTo>
                      <a:lnTo>
                        <a:pt x="3784" y="204"/>
                      </a:lnTo>
                      <a:lnTo>
                        <a:pt x="3784" y="287"/>
                      </a:lnTo>
                      <a:lnTo>
                        <a:pt x="3786" y="285"/>
                      </a:lnTo>
                      <a:lnTo>
                        <a:pt x="3698" y="330"/>
                      </a:lnTo>
                      <a:lnTo>
                        <a:pt x="3673" y="367"/>
                      </a:lnTo>
                      <a:lnTo>
                        <a:pt x="3687" y="429"/>
                      </a:lnTo>
                      <a:lnTo>
                        <a:pt x="3687" y="427"/>
                      </a:lnTo>
                      <a:lnTo>
                        <a:pt x="3479" y="545"/>
                      </a:lnTo>
                      <a:lnTo>
                        <a:pt x="3481" y="545"/>
                      </a:lnTo>
                      <a:lnTo>
                        <a:pt x="3338" y="489"/>
                      </a:lnTo>
                      <a:lnTo>
                        <a:pt x="2971" y="295"/>
                      </a:lnTo>
                      <a:lnTo>
                        <a:pt x="2917" y="303"/>
                      </a:lnTo>
                      <a:lnTo>
                        <a:pt x="2812" y="355"/>
                      </a:lnTo>
                      <a:lnTo>
                        <a:pt x="2752" y="412"/>
                      </a:lnTo>
                      <a:lnTo>
                        <a:pt x="2861" y="710"/>
                      </a:lnTo>
                      <a:lnTo>
                        <a:pt x="2861" y="710"/>
                      </a:lnTo>
                      <a:lnTo>
                        <a:pt x="2876" y="790"/>
                      </a:lnTo>
                      <a:lnTo>
                        <a:pt x="2878" y="788"/>
                      </a:lnTo>
                      <a:lnTo>
                        <a:pt x="2820" y="770"/>
                      </a:lnTo>
                      <a:lnTo>
                        <a:pt x="2820" y="770"/>
                      </a:lnTo>
                      <a:lnTo>
                        <a:pt x="2606" y="735"/>
                      </a:lnTo>
                      <a:lnTo>
                        <a:pt x="2387" y="749"/>
                      </a:lnTo>
                      <a:lnTo>
                        <a:pt x="2240" y="794"/>
                      </a:lnTo>
                      <a:lnTo>
                        <a:pt x="2083" y="898"/>
                      </a:lnTo>
                      <a:lnTo>
                        <a:pt x="2007" y="1017"/>
                      </a:lnTo>
                      <a:lnTo>
                        <a:pt x="1984" y="1176"/>
                      </a:lnTo>
                      <a:lnTo>
                        <a:pt x="2015" y="1329"/>
                      </a:lnTo>
                      <a:lnTo>
                        <a:pt x="2015" y="1327"/>
                      </a:lnTo>
                      <a:lnTo>
                        <a:pt x="1416" y="1647"/>
                      </a:lnTo>
                      <a:lnTo>
                        <a:pt x="1243" y="1742"/>
                      </a:lnTo>
                      <a:lnTo>
                        <a:pt x="1162" y="1773"/>
                      </a:lnTo>
                      <a:lnTo>
                        <a:pt x="1162" y="1773"/>
                      </a:lnTo>
                      <a:lnTo>
                        <a:pt x="1109" y="1728"/>
                      </a:lnTo>
                      <a:lnTo>
                        <a:pt x="1111" y="1728"/>
                      </a:lnTo>
                      <a:lnTo>
                        <a:pt x="1080" y="1593"/>
                      </a:lnTo>
                      <a:lnTo>
                        <a:pt x="1111" y="1364"/>
                      </a:lnTo>
                      <a:lnTo>
                        <a:pt x="1111" y="1364"/>
                      </a:lnTo>
                      <a:lnTo>
                        <a:pt x="1193" y="1181"/>
                      </a:lnTo>
                      <a:lnTo>
                        <a:pt x="1321" y="988"/>
                      </a:lnTo>
                      <a:lnTo>
                        <a:pt x="1321" y="988"/>
                      </a:lnTo>
                      <a:lnTo>
                        <a:pt x="1412" y="904"/>
                      </a:lnTo>
                      <a:lnTo>
                        <a:pt x="1410" y="904"/>
                      </a:lnTo>
                      <a:lnTo>
                        <a:pt x="1414" y="912"/>
                      </a:lnTo>
                      <a:lnTo>
                        <a:pt x="1414" y="910"/>
                      </a:lnTo>
                      <a:lnTo>
                        <a:pt x="1439" y="1071"/>
                      </a:lnTo>
                      <a:lnTo>
                        <a:pt x="1466" y="1094"/>
                      </a:lnTo>
                      <a:lnTo>
                        <a:pt x="1485" y="1081"/>
                      </a:lnTo>
                      <a:lnTo>
                        <a:pt x="1515" y="1032"/>
                      </a:lnTo>
                      <a:lnTo>
                        <a:pt x="1515" y="1032"/>
                      </a:lnTo>
                      <a:lnTo>
                        <a:pt x="1668" y="863"/>
                      </a:lnTo>
                      <a:lnTo>
                        <a:pt x="1668" y="863"/>
                      </a:lnTo>
                      <a:lnTo>
                        <a:pt x="1883" y="580"/>
                      </a:lnTo>
                      <a:lnTo>
                        <a:pt x="1869" y="567"/>
                      </a:lnTo>
                      <a:lnTo>
                        <a:pt x="1850" y="567"/>
                      </a:lnTo>
                      <a:lnTo>
                        <a:pt x="1722" y="580"/>
                      </a:lnTo>
                      <a:lnTo>
                        <a:pt x="1557" y="584"/>
                      </a:lnTo>
                      <a:lnTo>
                        <a:pt x="1276" y="611"/>
                      </a:lnTo>
                      <a:lnTo>
                        <a:pt x="1055" y="611"/>
                      </a:lnTo>
                      <a:lnTo>
                        <a:pt x="1037" y="623"/>
                      </a:lnTo>
                      <a:lnTo>
                        <a:pt x="1030" y="656"/>
                      </a:lnTo>
                      <a:lnTo>
                        <a:pt x="1090" y="687"/>
                      </a:lnTo>
                      <a:lnTo>
                        <a:pt x="1231" y="733"/>
                      </a:lnTo>
                      <a:lnTo>
                        <a:pt x="1319" y="782"/>
                      </a:lnTo>
                      <a:lnTo>
                        <a:pt x="1319" y="780"/>
                      </a:lnTo>
                      <a:lnTo>
                        <a:pt x="1100" y="937"/>
                      </a:lnTo>
                      <a:lnTo>
                        <a:pt x="1100" y="937"/>
                      </a:lnTo>
                      <a:lnTo>
                        <a:pt x="863" y="1166"/>
                      </a:lnTo>
                      <a:lnTo>
                        <a:pt x="710" y="1399"/>
                      </a:lnTo>
                      <a:lnTo>
                        <a:pt x="632" y="1633"/>
                      </a:lnTo>
                      <a:lnTo>
                        <a:pt x="657" y="1810"/>
                      </a:lnTo>
                      <a:lnTo>
                        <a:pt x="659" y="1808"/>
                      </a:lnTo>
                      <a:lnTo>
                        <a:pt x="537" y="1802"/>
                      </a:lnTo>
                      <a:lnTo>
                        <a:pt x="384" y="1843"/>
                      </a:lnTo>
                      <a:lnTo>
                        <a:pt x="384" y="1843"/>
                      </a:lnTo>
                      <a:lnTo>
                        <a:pt x="206" y="1889"/>
                      </a:lnTo>
                      <a:lnTo>
                        <a:pt x="207" y="1889"/>
                      </a:lnTo>
                      <a:lnTo>
                        <a:pt x="29" y="1887"/>
                      </a:lnTo>
                      <a:lnTo>
                        <a:pt x="29" y="1897"/>
                      </a:lnTo>
                      <a:lnTo>
                        <a:pt x="33" y="1903"/>
                      </a:lnTo>
                      <a:lnTo>
                        <a:pt x="72" y="1911"/>
                      </a:lnTo>
                      <a:lnTo>
                        <a:pt x="70" y="1911"/>
                      </a:lnTo>
                      <a:lnTo>
                        <a:pt x="78" y="1926"/>
                      </a:lnTo>
                      <a:lnTo>
                        <a:pt x="78" y="1924"/>
                      </a:lnTo>
                      <a:lnTo>
                        <a:pt x="60" y="1940"/>
                      </a:lnTo>
                      <a:lnTo>
                        <a:pt x="60" y="1940"/>
                      </a:lnTo>
                      <a:lnTo>
                        <a:pt x="10" y="1947"/>
                      </a:lnTo>
                      <a:lnTo>
                        <a:pt x="0" y="1957"/>
                      </a:lnTo>
                      <a:lnTo>
                        <a:pt x="6" y="1969"/>
                      </a:lnTo>
                      <a:lnTo>
                        <a:pt x="12" y="1963"/>
                      </a:lnTo>
                      <a:lnTo>
                        <a:pt x="10" y="1965"/>
                      </a:lnTo>
                      <a:lnTo>
                        <a:pt x="78" y="1959"/>
                      </a:lnTo>
                      <a:lnTo>
                        <a:pt x="78" y="1957"/>
                      </a:lnTo>
                      <a:lnTo>
                        <a:pt x="66" y="1965"/>
                      </a:lnTo>
                      <a:lnTo>
                        <a:pt x="68" y="1965"/>
                      </a:lnTo>
                      <a:lnTo>
                        <a:pt x="39" y="1971"/>
                      </a:lnTo>
                      <a:lnTo>
                        <a:pt x="39" y="1986"/>
                      </a:lnTo>
                      <a:lnTo>
                        <a:pt x="72" y="1986"/>
                      </a:lnTo>
                      <a:lnTo>
                        <a:pt x="70" y="1984"/>
                      </a:lnTo>
                      <a:lnTo>
                        <a:pt x="45" y="2017"/>
                      </a:lnTo>
                      <a:lnTo>
                        <a:pt x="97" y="2021"/>
                      </a:lnTo>
                      <a:lnTo>
                        <a:pt x="97" y="2017"/>
                      </a:lnTo>
                      <a:lnTo>
                        <a:pt x="78" y="2033"/>
                      </a:lnTo>
                      <a:lnTo>
                        <a:pt x="78" y="2046"/>
                      </a:lnTo>
                      <a:lnTo>
                        <a:pt x="83" y="2048"/>
                      </a:lnTo>
                      <a:lnTo>
                        <a:pt x="116" y="2033"/>
                      </a:lnTo>
                      <a:lnTo>
                        <a:pt x="219" y="1986"/>
                      </a:lnTo>
                      <a:lnTo>
                        <a:pt x="481" y="1916"/>
                      </a:lnTo>
                      <a:lnTo>
                        <a:pt x="481" y="1916"/>
                      </a:lnTo>
                      <a:lnTo>
                        <a:pt x="688" y="1928"/>
                      </a:lnTo>
                      <a:lnTo>
                        <a:pt x="688" y="1928"/>
                      </a:lnTo>
                      <a:lnTo>
                        <a:pt x="725" y="1949"/>
                      </a:lnTo>
                      <a:lnTo>
                        <a:pt x="723" y="1949"/>
                      </a:lnTo>
                      <a:lnTo>
                        <a:pt x="743" y="1984"/>
                      </a:lnTo>
                      <a:lnTo>
                        <a:pt x="743" y="1982"/>
                      </a:lnTo>
                      <a:lnTo>
                        <a:pt x="750" y="2126"/>
                      </a:lnTo>
                      <a:lnTo>
                        <a:pt x="908" y="2151"/>
                      </a:lnTo>
                      <a:lnTo>
                        <a:pt x="1319" y="2250"/>
                      </a:lnTo>
                      <a:lnTo>
                        <a:pt x="1864" y="2312"/>
                      </a:lnTo>
                      <a:lnTo>
                        <a:pt x="2083" y="2306"/>
                      </a:lnTo>
                      <a:lnTo>
                        <a:pt x="2430" y="2227"/>
                      </a:lnTo>
                      <a:lnTo>
                        <a:pt x="2432" y="2227"/>
                      </a:lnTo>
                      <a:lnTo>
                        <a:pt x="2589" y="2178"/>
                      </a:lnTo>
                      <a:lnTo>
                        <a:pt x="2587" y="2178"/>
                      </a:lnTo>
                      <a:lnTo>
                        <a:pt x="2647" y="2165"/>
                      </a:lnTo>
                      <a:lnTo>
                        <a:pt x="2645" y="2165"/>
                      </a:lnTo>
                      <a:lnTo>
                        <a:pt x="2645" y="2169"/>
                      </a:lnTo>
                      <a:lnTo>
                        <a:pt x="2777" y="2331"/>
                      </a:lnTo>
                      <a:lnTo>
                        <a:pt x="2798" y="2318"/>
                      </a:lnTo>
                      <a:lnTo>
                        <a:pt x="2841" y="2231"/>
                      </a:lnTo>
                      <a:lnTo>
                        <a:pt x="3072" y="1691"/>
                      </a:lnTo>
                      <a:lnTo>
                        <a:pt x="3089" y="1631"/>
                      </a:lnTo>
                      <a:lnTo>
                        <a:pt x="3070" y="1631"/>
                      </a:lnTo>
                      <a:lnTo>
                        <a:pt x="2872" y="1736"/>
                      </a:lnTo>
                      <a:lnTo>
                        <a:pt x="2473" y="1889"/>
                      </a:lnTo>
                      <a:lnTo>
                        <a:pt x="2473" y="1889"/>
                      </a:lnTo>
                      <a:lnTo>
                        <a:pt x="2290" y="1924"/>
                      </a:lnTo>
                      <a:lnTo>
                        <a:pt x="2259" y="1942"/>
                      </a:lnTo>
                      <a:lnTo>
                        <a:pt x="2277" y="1969"/>
                      </a:lnTo>
                      <a:lnTo>
                        <a:pt x="2413" y="2011"/>
                      </a:lnTo>
                      <a:lnTo>
                        <a:pt x="2484" y="2048"/>
                      </a:lnTo>
                      <a:lnTo>
                        <a:pt x="2484" y="2046"/>
                      </a:lnTo>
                      <a:lnTo>
                        <a:pt x="2465" y="2062"/>
                      </a:lnTo>
                      <a:lnTo>
                        <a:pt x="2467" y="2062"/>
                      </a:lnTo>
                      <a:lnTo>
                        <a:pt x="2292" y="2105"/>
                      </a:lnTo>
                      <a:lnTo>
                        <a:pt x="2046" y="2114"/>
                      </a:lnTo>
                      <a:lnTo>
                        <a:pt x="1681" y="2062"/>
                      </a:lnTo>
                      <a:lnTo>
                        <a:pt x="1681" y="2062"/>
                      </a:lnTo>
                      <a:lnTo>
                        <a:pt x="1445" y="1975"/>
                      </a:lnTo>
                      <a:lnTo>
                        <a:pt x="1416" y="1951"/>
                      </a:lnTo>
                      <a:lnTo>
                        <a:pt x="1416" y="1955"/>
                      </a:lnTo>
                      <a:lnTo>
                        <a:pt x="1532" y="1969"/>
                      </a:lnTo>
                      <a:lnTo>
                        <a:pt x="1648" y="1986"/>
                      </a:lnTo>
                      <a:lnTo>
                        <a:pt x="1912" y="1949"/>
                      </a:lnTo>
                      <a:lnTo>
                        <a:pt x="2027" y="1889"/>
                      </a:lnTo>
                      <a:lnTo>
                        <a:pt x="2127" y="1796"/>
                      </a:lnTo>
                      <a:lnTo>
                        <a:pt x="2158" y="1713"/>
                      </a:lnTo>
                      <a:lnTo>
                        <a:pt x="2172" y="1490"/>
                      </a:lnTo>
                      <a:lnTo>
                        <a:pt x="2170" y="1492"/>
                      </a:lnTo>
                      <a:lnTo>
                        <a:pt x="2655" y="1220"/>
                      </a:lnTo>
                      <a:lnTo>
                        <a:pt x="3076" y="988"/>
                      </a:lnTo>
                      <a:lnTo>
                        <a:pt x="3074" y="988"/>
                      </a:lnTo>
                      <a:lnTo>
                        <a:pt x="3625" y="1259"/>
                      </a:lnTo>
                      <a:lnTo>
                        <a:pt x="3669" y="1269"/>
                      </a:lnTo>
                      <a:lnTo>
                        <a:pt x="3865" y="1178"/>
                      </a:lnTo>
                      <a:lnTo>
                        <a:pt x="3865" y="1162"/>
                      </a:lnTo>
                      <a:lnTo>
                        <a:pt x="3743" y="947"/>
                      </a:lnTo>
                      <a:lnTo>
                        <a:pt x="3743" y="949"/>
                      </a:lnTo>
                      <a:lnTo>
                        <a:pt x="3848" y="943"/>
                      </a:lnTo>
                      <a:lnTo>
                        <a:pt x="3987" y="892"/>
                      </a:lnTo>
                      <a:lnTo>
                        <a:pt x="4102" y="774"/>
                      </a:lnTo>
                      <a:lnTo>
                        <a:pt x="4160" y="607"/>
                      </a:lnTo>
                      <a:lnTo>
                        <a:pt x="4158" y="609"/>
                      </a:lnTo>
                      <a:lnTo>
                        <a:pt x="4173" y="609"/>
                      </a:lnTo>
                      <a:lnTo>
                        <a:pt x="4317" y="602"/>
                      </a:lnTo>
                      <a:lnTo>
                        <a:pt x="4428" y="555"/>
                      </a:lnTo>
                      <a:lnTo>
                        <a:pt x="4538" y="474"/>
                      </a:lnTo>
                      <a:lnTo>
                        <a:pt x="4581" y="388"/>
                      </a:lnTo>
                      <a:lnTo>
                        <a:pt x="4569" y="245"/>
                      </a:lnTo>
                      <a:lnTo>
                        <a:pt x="4462" y="123"/>
                      </a:lnTo>
                      <a:lnTo>
                        <a:pt x="446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016760" y="6400080"/>
                  <a:ext cx="156960" cy="95760"/>
                </a:xfrm>
                <a:custGeom>
                  <a:avLst/>
                  <a:gdLst/>
                  <a:ahLst/>
                  <a:rect l="l" t="t" r="r" b="b"/>
                  <a:pathLst>
                    <a:path w="488" h="301">
                      <a:moveTo>
                        <a:pt x="426" y="207"/>
                      </a:moveTo>
                      <a:lnTo>
                        <a:pt x="477" y="126"/>
                      </a:lnTo>
                      <a:lnTo>
                        <a:pt x="488" y="0"/>
                      </a:lnTo>
                      <a:lnTo>
                        <a:pt x="0" y="271"/>
                      </a:lnTo>
                      <a:lnTo>
                        <a:pt x="31" y="271"/>
                      </a:lnTo>
                      <a:lnTo>
                        <a:pt x="31" y="271"/>
                      </a:lnTo>
                      <a:lnTo>
                        <a:pt x="83" y="289"/>
                      </a:lnTo>
                      <a:lnTo>
                        <a:pt x="170" y="301"/>
                      </a:lnTo>
                      <a:lnTo>
                        <a:pt x="310" y="275"/>
                      </a:lnTo>
                      <a:lnTo>
                        <a:pt x="426" y="207"/>
                      </a:lnTo>
                      <a:lnTo>
                        <a:pt x="426" y="206"/>
                      </a:lnTo>
                      <a:lnTo>
                        <a:pt x="308" y="271"/>
                      </a:lnTo>
                      <a:lnTo>
                        <a:pt x="310" y="271"/>
                      </a:lnTo>
                      <a:lnTo>
                        <a:pt x="170" y="297"/>
                      </a:lnTo>
                      <a:lnTo>
                        <a:pt x="83" y="285"/>
                      </a:lnTo>
                      <a:lnTo>
                        <a:pt x="85" y="285"/>
                      </a:lnTo>
                      <a:lnTo>
                        <a:pt x="31" y="268"/>
                      </a:lnTo>
                      <a:lnTo>
                        <a:pt x="5" y="268"/>
                      </a:lnTo>
                      <a:lnTo>
                        <a:pt x="7" y="271"/>
                      </a:lnTo>
                      <a:lnTo>
                        <a:pt x="488" y="4"/>
                      </a:lnTo>
                      <a:lnTo>
                        <a:pt x="486" y="2"/>
                      </a:lnTo>
                      <a:lnTo>
                        <a:pt x="475" y="126"/>
                      </a:lnTo>
                      <a:lnTo>
                        <a:pt x="475" y="124"/>
                      </a:lnTo>
                      <a:lnTo>
                        <a:pt x="424" y="206"/>
                      </a:lnTo>
                      <a:lnTo>
                        <a:pt x="426" y="206"/>
                      </a:lnTo>
                      <a:lnTo>
                        <a:pt x="426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7212240" y="6163200"/>
                  <a:ext cx="213120" cy="131760"/>
                </a:xfrm>
                <a:custGeom>
                  <a:avLst/>
                  <a:gdLst/>
                  <a:ahLst/>
                  <a:rect l="l" t="t" r="r" b="b"/>
                  <a:pathLst>
                    <a:path w="666" h="413">
                      <a:moveTo>
                        <a:pt x="666" y="47"/>
                      </a:moveTo>
                      <a:lnTo>
                        <a:pt x="646" y="35"/>
                      </a:lnTo>
                      <a:lnTo>
                        <a:pt x="348" y="0"/>
                      </a:lnTo>
                      <a:lnTo>
                        <a:pt x="235" y="23"/>
                      </a:lnTo>
                      <a:lnTo>
                        <a:pt x="136" y="76"/>
                      </a:lnTo>
                      <a:lnTo>
                        <a:pt x="66" y="142"/>
                      </a:lnTo>
                      <a:lnTo>
                        <a:pt x="0" y="268"/>
                      </a:lnTo>
                      <a:lnTo>
                        <a:pt x="24" y="413"/>
                      </a:lnTo>
                      <a:lnTo>
                        <a:pt x="666" y="47"/>
                      </a:lnTo>
                      <a:lnTo>
                        <a:pt x="662" y="45"/>
                      </a:lnTo>
                      <a:lnTo>
                        <a:pt x="24" y="409"/>
                      </a:lnTo>
                      <a:lnTo>
                        <a:pt x="26" y="411"/>
                      </a:lnTo>
                      <a:lnTo>
                        <a:pt x="2" y="268"/>
                      </a:lnTo>
                      <a:lnTo>
                        <a:pt x="2" y="268"/>
                      </a:lnTo>
                      <a:lnTo>
                        <a:pt x="70" y="144"/>
                      </a:lnTo>
                      <a:lnTo>
                        <a:pt x="68" y="144"/>
                      </a:lnTo>
                      <a:lnTo>
                        <a:pt x="136" y="80"/>
                      </a:lnTo>
                      <a:lnTo>
                        <a:pt x="136" y="80"/>
                      </a:lnTo>
                      <a:lnTo>
                        <a:pt x="237" y="27"/>
                      </a:lnTo>
                      <a:lnTo>
                        <a:pt x="237" y="27"/>
                      </a:lnTo>
                      <a:lnTo>
                        <a:pt x="348" y="4"/>
                      </a:lnTo>
                      <a:lnTo>
                        <a:pt x="646" y="39"/>
                      </a:lnTo>
                      <a:lnTo>
                        <a:pt x="644" y="39"/>
                      </a:lnTo>
                      <a:lnTo>
                        <a:pt x="662" y="47"/>
                      </a:lnTo>
                      <a:lnTo>
                        <a:pt x="662" y="45"/>
                      </a:lnTo>
                      <a:lnTo>
                        <a:pt x="66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7693920" y="6062400"/>
                  <a:ext cx="130320" cy="103320"/>
                </a:xfrm>
                <a:custGeom>
                  <a:avLst/>
                  <a:gdLst/>
                  <a:ahLst/>
                  <a:rect l="l" t="t" r="r" b="b"/>
                  <a:pathLst>
                    <a:path w="406" h="324">
                      <a:moveTo>
                        <a:pt x="344" y="209"/>
                      </a:moveTo>
                      <a:lnTo>
                        <a:pt x="406" y="68"/>
                      </a:lnTo>
                      <a:lnTo>
                        <a:pt x="276" y="0"/>
                      </a:lnTo>
                      <a:lnTo>
                        <a:pt x="0" y="155"/>
                      </a:lnTo>
                      <a:lnTo>
                        <a:pt x="68" y="320"/>
                      </a:lnTo>
                      <a:lnTo>
                        <a:pt x="165" y="324"/>
                      </a:lnTo>
                      <a:lnTo>
                        <a:pt x="278" y="275"/>
                      </a:lnTo>
                      <a:lnTo>
                        <a:pt x="344" y="209"/>
                      </a:lnTo>
                      <a:lnTo>
                        <a:pt x="342" y="208"/>
                      </a:lnTo>
                      <a:lnTo>
                        <a:pt x="276" y="273"/>
                      </a:lnTo>
                      <a:lnTo>
                        <a:pt x="276" y="273"/>
                      </a:lnTo>
                      <a:lnTo>
                        <a:pt x="163" y="322"/>
                      </a:lnTo>
                      <a:lnTo>
                        <a:pt x="165" y="322"/>
                      </a:lnTo>
                      <a:lnTo>
                        <a:pt x="68" y="316"/>
                      </a:lnTo>
                      <a:lnTo>
                        <a:pt x="70" y="318"/>
                      </a:lnTo>
                      <a:lnTo>
                        <a:pt x="4" y="155"/>
                      </a:lnTo>
                      <a:lnTo>
                        <a:pt x="2" y="157"/>
                      </a:lnTo>
                      <a:lnTo>
                        <a:pt x="278" y="2"/>
                      </a:lnTo>
                      <a:lnTo>
                        <a:pt x="276" y="2"/>
                      </a:lnTo>
                      <a:lnTo>
                        <a:pt x="404" y="72"/>
                      </a:lnTo>
                      <a:lnTo>
                        <a:pt x="404" y="68"/>
                      </a:lnTo>
                      <a:lnTo>
                        <a:pt x="342" y="208"/>
                      </a:lnTo>
                      <a:lnTo>
                        <a:pt x="342" y="208"/>
                      </a:lnTo>
                      <a:lnTo>
                        <a:pt x="344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400800" y="5410080"/>
                  <a:ext cx="1828800" cy="1194840"/>
                </a:xfrm>
                <a:custGeom>
                  <a:avLst/>
                  <a:gdLst/>
                  <a:ahLst/>
                  <a:rect l="l" t="t" r="r" b="b"/>
                  <a:pathLst>
                    <a:path w="5711" h="3727">
                      <a:moveTo>
                        <a:pt x="5405" y="391"/>
                      </a:moveTo>
                      <a:lnTo>
                        <a:pt x="5306" y="289"/>
                      </a:lnTo>
                      <a:lnTo>
                        <a:pt x="5207" y="269"/>
                      </a:lnTo>
                      <a:lnTo>
                        <a:pt x="5102" y="300"/>
                      </a:lnTo>
                      <a:lnTo>
                        <a:pt x="4996" y="391"/>
                      </a:lnTo>
                      <a:lnTo>
                        <a:pt x="4978" y="475"/>
                      </a:lnTo>
                      <a:lnTo>
                        <a:pt x="4999" y="496"/>
                      </a:lnTo>
                      <a:lnTo>
                        <a:pt x="5027" y="506"/>
                      </a:lnTo>
                      <a:lnTo>
                        <a:pt x="5153" y="626"/>
                      </a:lnTo>
                      <a:lnTo>
                        <a:pt x="5184" y="735"/>
                      </a:lnTo>
                      <a:lnTo>
                        <a:pt x="5292" y="719"/>
                      </a:lnTo>
                      <a:lnTo>
                        <a:pt x="5389" y="647"/>
                      </a:lnTo>
                      <a:lnTo>
                        <a:pt x="5445" y="533"/>
                      </a:lnTo>
                      <a:lnTo>
                        <a:pt x="5405" y="391"/>
                      </a:lnTo>
                      <a:close/>
                      <a:moveTo>
                        <a:pt x="5566" y="201"/>
                      </a:moveTo>
                      <a:lnTo>
                        <a:pt x="5696" y="391"/>
                      </a:lnTo>
                      <a:lnTo>
                        <a:pt x="5711" y="620"/>
                      </a:lnTo>
                      <a:lnTo>
                        <a:pt x="5657" y="758"/>
                      </a:lnTo>
                      <a:lnTo>
                        <a:pt x="5519" y="888"/>
                      </a:lnTo>
                      <a:lnTo>
                        <a:pt x="5381" y="963"/>
                      </a:lnTo>
                      <a:lnTo>
                        <a:pt x="5207" y="973"/>
                      </a:lnTo>
                      <a:lnTo>
                        <a:pt x="5184" y="973"/>
                      </a:lnTo>
                      <a:lnTo>
                        <a:pt x="5114" y="1243"/>
                      </a:lnTo>
                      <a:lnTo>
                        <a:pt x="4972" y="1427"/>
                      </a:lnTo>
                      <a:lnTo>
                        <a:pt x="4798" y="1508"/>
                      </a:lnTo>
                      <a:lnTo>
                        <a:pt x="4668" y="1518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573" y="2030"/>
                      </a:lnTo>
                      <a:lnTo>
                        <a:pt x="4522" y="2015"/>
                      </a:lnTo>
                      <a:lnTo>
                        <a:pt x="3836" y="1578"/>
                      </a:lnTo>
                      <a:lnTo>
                        <a:pt x="3312" y="1953"/>
                      </a:lnTo>
                      <a:lnTo>
                        <a:pt x="2703" y="2383"/>
                      </a:lnTo>
                      <a:lnTo>
                        <a:pt x="2690" y="2742"/>
                      </a:lnTo>
                      <a:lnTo>
                        <a:pt x="2649" y="2872"/>
                      </a:lnTo>
                      <a:lnTo>
                        <a:pt x="2527" y="3017"/>
                      </a:lnTo>
                      <a:lnTo>
                        <a:pt x="2385" y="3116"/>
                      </a:lnTo>
                      <a:lnTo>
                        <a:pt x="2055" y="3176"/>
                      </a:lnTo>
                      <a:lnTo>
                        <a:pt x="1912" y="3143"/>
                      </a:lnTo>
                      <a:lnTo>
                        <a:pt x="1765" y="3122"/>
                      </a:lnTo>
                      <a:lnTo>
                        <a:pt x="1801" y="3159"/>
                      </a:lnTo>
                      <a:lnTo>
                        <a:pt x="2094" y="3296"/>
                      </a:lnTo>
                      <a:lnTo>
                        <a:pt x="2552" y="3384"/>
                      </a:lnTo>
                      <a:lnTo>
                        <a:pt x="2856" y="3368"/>
                      </a:lnTo>
                      <a:lnTo>
                        <a:pt x="3072" y="3296"/>
                      </a:lnTo>
                      <a:lnTo>
                        <a:pt x="3095" y="3273"/>
                      </a:lnTo>
                      <a:lnTo>
                        <a:pt x="3008" y="3215"/>
                      </a:lnTo>
                      <a:lnTo>
                        <a:pt x="2841" y="3143"/>
                      </a:lnTo>
                      <a:lnTo>
                        <a:pt x="2818" y="3108"/>
                      </a:lnTo>
                      <a:lnTo>
                        <a:pt x="2856" y="3077"/>
                      </a:lnTo>
                      <a:lnTo>
                        <a:pt x="3083" y="3025"/>
                      </a:lnTo>
                      <a:lnTo>
                        <a:pt x="3584" y="2781"/>
                      </a:lnTo>
                      <a:lnTo>
                        <a:pt x="3828" y="2612"/>
                      </a:lnTo>
                      <a:lnTo>
                        <a:pt x="3851" y="2612"/>
                      </a:lnTo>
                      <a:lnTo>
                        <a:pt x="3828" y="2703"/>
                      </a:lnTo>
                      <a:lnTo>
                        <a:pt x="3541" y="3564"/>
                      </a:lnTo>
                      <a:lnTo>
                        <a:pt x="3487" y="3704"/>
                      </a:lnTo>
                      <a:lnTo>
                        <a:pt x="3463" y="3727"/>
                      </a:lnTo>
                      <a:lnTo>
                        <a:pt x="3301" y="3465"/>
                      </a:lnTo>
                      <a:lnTo>
                        <a:pt x="3301" y="3459"/>
                      </a:lnTo>
                      <a:lnTo>
                        <a:pt x="3225" y="3483"/>
                      </a:lnTo>
                      <a:lnTo>
                        <a:pt x="3029" y="3558"/>
                      </a:lnTo>
                      <a:lnTo>
                        <a:pt x="2597" y="3686"/>
                      </a:lnTo>
                      <a:lnTo>
                        <a:pt x="2323" y="3694"/>
                      </a:lnTo>
                      <a:lnTo>
                        <a:pt x="1644" y="3595"/>
                      </a:lnTo>
                      <a:lnTo>
                        <a:pt x="1132" y="3436"/>
                      </a:lnTo>
                      <a:lnTo>
                        <a:pt x="935" y="3399"/>
                      </a:lnTo>
                      <a:lnTo>
                        <a:pt x="927" y="3170"/>
                      </a:lnTo>
                      <a:lnTo>
                        <a:pt x="903" y="3116"/>
                      </a:lnTo>
                      <a:lnTo>
                        <a:pt x="861" y="3077"/>
                      </a:lnTo>
                      <a:lnTo>
                        <a:pt x="599" y="3062"/>
                      </a:lnTo>
                      <a:lnTo>
                        <a:pt x="273" y="3176"/>
                      </a:lnTo>
                      <a:lnTo>
                        <a:pt x="143" y="3246"/>
                      </a:lnTo>
                      <a:lnTo>
                        <a:pt x="103" y="3273"/>
                      </a:lnTo>
                      <a:lnTo>
                        <a:pt x="99" y="3269"/>
                      </a:lnTo>
                      <a:lnTo>
                        <a:pt x="99" y="3254"/>
                      </a:lnTo>
                      <a:lnTo>
                        <a:pt x="120" y="3231"/>
                      </a:lnTo>
                      <a:lnTo>
                        <a:pt x="60" y="3221"/>
                      </a:lnTo>
                      <a:lnTo>
                        <a:pt x="87" y="3176"/>
                      </a:lnTo>
                      <a:lnTo>
                        <a:pt x="50" y="3176"/>
                      </a:lnTo>
                      <a:lnTo>
                        <a:pt x="50" y="3155"/>
                      </a:lnTo>
                      <a:lnTo>
                        <a:pt x="83" y="3143"/>
                      </a:lnTo>
                      <a:lnTo>
                        <a:pt x="99" y="3132"/>
                      </a:lnTo>
                      <a:lnTo>
                        <a:pt x="11" y="3139"/>
                      </a:lnTo>
                      <a:lnTo>
                        <a:pt x="6" y="3143"/>
                      </a:lnTo>
                      <a:lnTo>
                        <a:pt x="0" y="3132"/>
                      </a:lnTo>
                      <a:lnTo>
                        <a:pt x="11" y="3116"/>
                      </a:lnTo>
                      <a:lnTo>
                        <a:pt x="75" y="3108"/>
                      </a:lnTo>
                      <a:lnTo>
                        <a:pt x="99" y="3077"/>
                      </a:lnTo>
                      <a:lnTo>
                        <a:pt x="87" y="3056"/>
                      </a:lnTo>
                      <a:lnTo>
                        <a:pt x="44" y="3040"/>
                      </a:lnTo>
                      <a:lnTo>
                        <a:pt x="37" y="3029"/>
                      </a:lnTo>
                      <a:lnTo>
                        <a:pt x="37" y="3017"/>
                      </a:lnTo>
                      <a:lnTo>
                        <a:pt x="258" y="3025"/>
                      </a:lnTo>
                      <a:lnTo>
                        <a:pt x="479" y="2947"/>
                      </a:lnTo>
                      <a:lnTo>
                        <a:pt x="671" y="2887"/>
                      </a:lnTo>
                      <a:lnTo>
                        <a:pt x="820" y="2895"/>
                      </a:lnTo>
                      <a:lnTo>
                        <a:pt x="789" y="2612"/>
                      </a:lnTo>
                      <a:lnTo>
                        <a:pt x="888" y="2240"/>
                      </a:lnTo>
                      <a:lnTo>
                        <a:pt x="1080" y="1867"/>
                      </a:lnTo>
                      <a:lnTo>
                        <a:pt x="1371" y="1503"/>
                      </a:lnTo>
                      <a:lnTo>
                        <a:pt x="1644" y="1250"/>
                      </a:lnTo>
                      <a:lnTo>
                        <a:pt x="1536" y="1175"/>
                      </a:lnTo>
                      <a:lnTo>
                        <a:pt x="1361" y="1099"/>
                      </a:lnTo>
                      <a:lnTo>
                        <a:pt x="1286" y="1053"/>
                      </a:lnTo>
                      <a:lnTo>
                        <a:pt x="1293" y="1002"/>
                      </a:lnTo>
                      <a:lnTo>
                        <a:pt x="1317" y="985"/>
                      </a:lnTo>
                      <a:lnTo>
                        <a:pt x="1588" y="985"/>
                      </a:lnTo>
                      <a:lnTo>
                        <a:pt x="1941" y="938"/>
                      </a:lnTo>
                      <a:lnTo>
                        <a:pt x="2145" y="931"/>
                      </a:lnTo>
                      <a:lnTo>
                        <a:pt x="2308" y="907"/>
                      </a:lnTo>
                      <a:lnTo>
                        <a:pt x="2329" y="907"/>
                      </a:lnTo>
                      <a:lnTo>
                        <a:pt x="2346" y="925"/>
                      </a:lnTo>
                      <a:lnTo>
                        <a:pt x="2079" y="1380"/>
                      </a:lnTo>
                      <a:lnTo>
                        <a:pt x="1889" y="1656"/>
                      </a:lnTo>
                      <a:lnTo>
                        <a:pt x="1850" y="1729"/>
                      </a:lnTo>
                      <a:lnTo>
                        <a:pt x="1827" y="1747"/>
                      </a:lnTo>
                      <a:lnTo>
                        <a:pt x="1798" y="1716"/>
                      </a:lnTo>
                      <a:lnTo>
                        <a:pt x="1765" y="1458"/>
                      </a:lnTo>
                      <a:lnTo>
                        <a:pt x="1759" y="1446"/>
                      </a:lnTo>
                      <a:lnTo>
                        <a:pt x="1644" y="1578"/>
                      </a:lnTo>
                      <a:lnTo>
                        <a:pt x="1483" y="1889"/>
                      </a:lnTo>
                      <a:lnTo>
                        <a:pt x="1384" y="2179"/>
                      </a:lnTo>
                      <a:lnTo>
                        <a:pt x="1344" y="2544"/>
                      </a:lnTo>
                      <a:lnTo>
                        <a:pt x="1384" y="2765"/>
                      </a:lnTo>
                      <a:lnTo>
                        <a:pt x="1448" y="2839"/>
                      </a:lnTo>
                      <a:lnTo>
                        <a:pt x="1551" y="2790"/>
                      </a:lnTo>
                      <a:lnTo>
                        <a:pt x="1765" y="2635"/>
                      </a:lnTo>
                      <a:lnTo>
                        <a:pt x="2511" y="2127"/>
                      </a:lnTo>
                      <a:lnTo>
                        <a:pt x="2476" y="1885"/>
                      </a:lnTo>
                      <a:lnTo>
                        <a:pt x="2503" y="1633"/>
                      </a:lnTo>
                      <a:lnTo>
                        <a:pt x="2597" y="1442"/>
                      </a:lnTo>
                      <a:lnTo>
                        <a:pt x="2792" y="1274"/>
                      </a:lnTo>
                      <a:lnTo>
                        <a:pt x="2977" y="1202"/>
                      </a:lnTo>
                      <a:lnTo>
                        <a:pt x="3248" y="1183"/>
                      </a:lnTo>
                      <a:lnTo>
                        <a:pt x="3514" y="1235"/>
                      </a:lnTo>
                      <a:lnTo>
                        <a:pt x="3591" y="1268"/>
                      </a:lnTo>
                      <a:lnTo>
                        <a:pt x="3568" y="1136"/>
                      </a:lnTo>
                      <a:lnTo>
                        <a:pt x="3432" y="659"/>
                      </a:lnTo>
                      <a:lnTo>
                        <a:pt x="3510" y="572"/>
                      </a:lnTo>
                      <a:lnTo>
                        <a:pt x="3638" y="490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0" y="876"/>
                      </a:lnTo>
                      <a:lnTo>
                        <a:pt x="4596" y="686"/>
                      </a:lnTo>
                      <a:lnTo>
                        <a:pt x="4581" y="587"/>
                      </a:lnTo>
                      <a:lnTo>
                        <a:pt x="4613" y="529"/>
                      </a:lnTo>
                      <a:lnTo>
                        <a:pt x="4720" y="457"/>
                      </a:lnTo>
                      <a:lnTo>
                        <a:pt x="4720" y="327"/>
                      </a:lnTo>
                      <a:lnTo>
                        <a:pt x="4771" y="205"/>
                      </a:lnTo>
                      <a:lnTo>
                        <a:pt x="4912" y="71"/>
                      </a:lnTo>
                      <a:lnTo>
                        <a:pt x="5063" y="17"/>
                      </a:lnTo>
                      <a:lnTo>
                        <a:pt x="5168" y="0"/>
                      </a:lnTo>
                      <a:lnTo>
                        <a:pt x="5374" y="60"/>
                      </a:lnTo>
                      <a:lnTo>
                        <a:pt x="5566" y="201"/>
                      </a:lnTo>
                      <a:close/>
                      <a:moveTo>
                        <a:pt x="2420" y="2856"/>
                      </a:moveTo>
                      <a:lnTo>
                        <a:pt x="2482" y="2724"/>
                      </a:lnTo>
                      <a:lnTo>
                        <a:pt x="2498" y="2528"/>
                      </a:lnTo>
                      <a:lnTo>
                        <a:pt x="1894" y="2953"/>
                      </a:lnTo>
                      <a:lnTo>
                        <a:pt x="1927" y="2953"/>
                      </a:lnTo>
                      <a:lnTo>
                        <a:pt x="1993" y="2986"/>
                      </a:lnTo>
                      <a:lnTo>
                        <a:pt x="2102" y="3002"/>
                      </a:lnTo>
                      <a:lnTo>
                        <a:pt x="2275" y="2963"/>
                      </a:lnTo>
                      <a:lnTo>
                        <a:pt x="2420" y="2856"/>
                      </a:lnTo>
                      <a:close/>
                      <a:moveTo>
                        <a:pt x="3477" y="1421"/>
                      </a:moveTo>
                      <a:lnTo>
                        <a:pt x="3454" y="1404"/>
                      </a:lnTo>
                      <a:lnTo>
                        <a:pt x="3083" y="1349"/>
                      </a:lnTo>
                      <a:lnTo>
                        <a:pt x="2944" y="1388"/>
                      </a:lnTo>
                      <a:lnTo>
                        <a:pt x="2818" y="1470"/>
                      </a:lnTo>
                      <a:lnTo>
                        <a:pt x="2732" y="1572"/>
                      </a:lnTo>
                      <a:lnTo>
                        <a:pt x="2649" y="1774"/>
                      </a:lnTo>
                      <a:lnTo>
                        <a:pt x="2680" y="2003"/>
                      </a:lnTo>
                      <a:lnTo>
                        <a:pt x="3477" y="1421"/>
                      </a:lnTo>
                      <a:close/>
                      <a:moveTo>
                        <a:pt x="4955" y="1175"/>
                      </a:moveTo>
                      <a:lnTo>
                        <a:pt x="5032" y="954"/>
                      </a:lnTo>
                      <a:lnTo>
                        <a:pt x="4873" y="839"/>
                      </a:lnTo>
                      <a:lnTo>
                        <a:pt x="4530" y="1088"/>
                      </a:lnTo>
                      <a:lnTo>
                        <a:pt x="4613" y="1349"/>
                      </a:lnTo>
                      <a:lnTo>
                        <a:pt x="4734" y="1355"/>
                      </a:lnTo>
                      <a:lnTo>
                        <a:pt x="4873" y="1280"/>
                      </a:lnTo>
                      <a:lnTo>
                        <a:pt x="4955" y="11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7994160" y="5495760"/>
                  <a:ext cx="149400" cy="150840"/>
                </a:xfrm>
                <a:custGeom>
                  <a:avLst/>
                  <a:gdLst/>
                  <a:ahLst/>
                  <a:rect l="l" t="t" r="r" b="b"/>
                  <a:pathLst>
                    <a:path w="469" h="470">
                      <a:moveTo>
                        <a:pt x="431" y="122"/>
                      </a:moveTo>
                      <a:lnTo>
                        <a:pt x="330" y="20"/>
                      </a:lnTo>
                      <a:lnTo>
                        <a:pt x="231" y="0"/>
                      </a:lnTo>
                      <a:lnTo>
                        <a:pt x="126" y="31"/>
                      </a:lnTo>
                      <a:lnTo>
                        <a:pt x="18" y="122"/>
                      </a:lnTo>
                      <a:lnTo>
                        <a:pt x="0" y="208"/>
                      </a:lnTo>
                      <a:lnTo>
                        <a:pt x="23" y="231"/>
                      </a:lnTo>
                      <a:lnTo>
                        <a:pt x="51" y="241"/>
                      </a:lnTo>
                      <a:lnTo>
                        <a:pt x="51" y="239"/>
                      </a:lnTo>
                      <a:lnTo>
                        <a:pt x="175" y="361"/>
                      </a:lnTo>
                      <a:lnTo>
                        <a:pt x="175" y="361"/>
                      </a:lnTo>
                      <a:lnTo>
                        <a:pt x="208" y="470"/>
                      </a:lnTo>
                      <a:lnTo>
                        <a:pt x="316" y="452"/>
                      </a:lnTo>
                      <a:lnTo>
                        <a:pt x="415" y="382"/>
                      </a:lnTo>
                      <a:lnTo>
                        <a:pt x="469" y="266"/>
                      </a:lnTo>
                      <a:lnTo>
                        <a:pt x="431" y="122"/>
                      </a:lnTo>
                      <a:lnTo>
                        <a:pt x="429" y="124"/>
                      </a:lnTo>
                      <a:lnTo>
                        <a:pt x="468" y="268"/>
                      </a:lnTo>
                      <a:lnTo>
                        <a:pt x="468" y="266"/>
                      </a:lnTo>
                      <a:lnTo>
                        <a:pt x="413" y="380"/>
                      </a:lnTo>
                      <a:lnTo>
                        <a:pt x="413" y="378"/>
                      </a:lnTo>
                      <a:lnTo>
                        <a:pt x="314" y="450"/>
                      </a:lnTo>
                      <a:lnTo>
                        <a:pt x="316" y="450"/>
                      </a:lnTo>
                      <a:lnTo>
                        <a:pt x="208" y="466"/>
                      </a:lnTo>
                      <a:lnTo>
                        <a:pt x="210" y="466"/>
                      </a:lnTo>
                      <a:lnTo>
                        <a:pt x="179" y="359"/>
                      </a:lnTo>
                      <a:lnTo>
                        <a:pt x="53" y="237"/>
                      </a:lnTo>
                      <a:lnTo>
                        <a:pt x="23" y="227"/>
                      </a:lnTo>
                      <a:lnTo>
                        <a:pt x="23" y="229"/>
                      </a:lnTo>
                      <a:lnTo>
                        <a:pt x="4" y="206"/>
                      </a:lnTo>
                      <a:lnTo>
                        <a:pt x="4" y="208"/>
                      </a:lnTo>
                      <a:lnTo>
                        <a:pt x="20" y="124"/>
                      </a:lnTo>
                      <a:lnTo>
                        <a:pt x="20" y="126"/>
                      </a:lnTo>
                      <a:lnTo>
                        <a:pt x="126" y="35"/>
                      </a:lnTo>
                      <a:lnTo>
                        <a:pt x="231" y="2"/>
                      </a:lnTo>
                      <a:lnTo>
                        <a:pt x="231" y="2"/>
                      </a:lnTo>
                      <a:lnTo>
                        <a:pt x="330" y="24"/>
                      </a:lnTo>
                      <a:lnTo>
                        <a:pt x="328" y="22"/>
                      </a:lnTo>
                      <a:lnTo>
                        <a:pt x="429" y="124"/>
                      </a:lnTo>
                      <a:lnTo>
                        <a:pt x="429" y="124"/>
                      </a:lnTo>
                      <a:lnTo>
                        <a:pt x="431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400800" y="5410080"/>
                  <a:ext cx="1828800" cy="1195920"/>
                </a:xfrm>
                <a:custGeom>
                  <a:avLst/>
                  <a:gdLst/>
                  <a:ahLst/>
                  <a:rect l="l" t="t" r="r" b="b"/>
                  <a:pathLst>
                    <a:path w="5715" h="3729">
                      <a:moveTo>
                        <a:pt x="5568" y="203"/>
                      </a:moveTo>
                      <a:lnTo>
                        <a:pt x="5566" y="201"/>
                      </a:lnTo>
                      <a:lnTo>
                        <a:pt x="5696" y="391"/>
                      </a:lnTo>
                      <a:lnTo>
                        <a:pt x="5696" y="391"/>
                      </a:lnTo>
                      <a:lnTo>
                        <a:pt x="5713" y="620"/>
                      </a:lnTo>
                      <a:lnTo>
                        <a:pt x="5713" y="618"/>
                      </a:lnTo>
                      <a:lnTo>
                        <a:pt x="5659" y="756"/>
                      </a:lnTo>
                      <a:lnTo>
                        <a:pt x="5659" y="756"/>
                      </a:lnTo>
                      <a:lnTo>
                        <a:pt x="5521" y="886"/>
                      </a:lnTo>
                      <a:lnTo>
                        <a:pt x="5521" y="886"/>
                      </a:lnTo>
                      <a:lnTo>
                        <a:pt x="5382" y="962"/>
                      </a:lnTo>
                      <a:lnTo>
                        <a:pt x="5383" y="962"/>
                      </a:lnTo>
                      <a:lnTo>
                        <a:pt x="5209" y="973"/>
                      </a:lnTo>
                      <a:lnTo>
                        <a:pt x="5186" y="973"/>
                      </a:lnTo>
                      <a:lnTo>
                        <a:pt x="5114" y="1241"/>
                      </a:lnTo>
                      <a:lnTo>
                        <a:pt x="4972" y="1427"/>
                      </a:lnTo>
                      <a:lnTo>
                        <a:pt x="4972" y="1425"/>
                      </a:lnTo>
                      <a:lnTo>
                        <a:pt x="4800" y="1508"/>
                      </a:lnTo>
                      <a:lnTo>
                        <a:pt x="4800" y="1508"/>
                      </a:lnTo>
                      <a:lnTo>
                        <a:pt x="4668" y="1516"/>
                      </a:lnTo>
                      <a:lnTo>
                        <a:pt x="4819" y="1861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819" y="1883"/>
                      </a:lnTo>
                      <a:lnTo>
                        <a:pt x="4575" y="2028"/>
                      </a:lnTo>
                      <a:lnTo>
                        <a:pt x="4577" y="2028"/>
                      </a:lnTo>
                      <a:lnTo>
                        <a:pt x="4524" y="2013"/>
                      </a:lnTo>
                      <a:lnTo>
                        <a:pt x="3838" y="1576"/>
                      </a:lnTo>
                      <a:lnTo>
                        <a:pt x="3314" y="1951"/>
                      </a:lnTo>
                      <a:lnTo>
                        <a:pt x="2705" y="2381"/>
                      </a:lnTo>
                      <a:lnTo>
                        <a:pt x="2690" y="2742"/>
                      </a:lnTo>
                      <a:lnTo>
                        <a:pt x="2690" y="2740"/>
                      </a:lnTo>
                      <a:lnTo>
                        <a:pt x="2651" y="2872"/>
                      </a:lnTo>
                      <a:lnTo>
                        <a:pt x="2527" y="3017"/>
                      </a:lnTo>
                      <a:lnTo>
                        <a:pt x="2527" y="3015"/>
                      </a:lnTo>
                      <a:lnTo>
                        <a:pt x="2385" y="3114"/>
                      </a:lnTo>
                      <a:lnTo>
                        <a:pt x="2387" y="3114"/>
                      </a:lnTo>
                      <a:lnTo>
                        <a:pt x="2057" y="3174"/>
                      </a:lnTo>
                      <a:lnTo>
                        <a:pt x="1914" y="3141"/>
                      </a:lnTo>
                      <a:lnTo>
                        <a:pt x="1765" y="3120"/>
                      </a:lnTo>
                      <a:lnTo>
                        <a:pt x="1803" y="3161"/>
                      </a:lnTo>
                      <a:lnTo>
                        <a:pt x="2096" y="3298"/>
                      </a:lnTo>
                      <a:lnTo>
                        <a:pt x="2554" y="3386"/>
                      </a:lnTo>
                      <a:lnTo>
                        <a:pt x="2858" y="3370"/>
                      </a:lnTo>
                      <a:lnTo>
                        <a:pt x="3076" y="3298"/>
                      </a:lnTo>
                      <a:lnTo>
                        <a:pt x="3099" y="3273"/>
                      </a:lnTo>
                      <a:lnTo>
                        <a:pt x="3012" y="3213"/>
                      </a:lnTo>
                      <a:lnTo>
                        <a:pt x="2845" y="3141"/>
                      </a:lnTo>
                      <a:lnTo>
                        <a:pt x="2845" y="3143"/>
                      </a:lnTo>
                      <a:lnTo>
                        <a:pt x="2822" y="3106"/>
                      </a:lnTo>
                      <a:lnTo>
                        <a:pt x="2822" y="3108"/>
                      </a:lnTo>
                      <a:lnTo>
                        <a:pt x="2858" y="3079"/>
                      </a:lnTo>
                      <a:lnTo>
                        <a:pt x="2858" y="3079"/>
                      </a:lnTo>
                      <a:lnTo>
                        <a:pt x="3087" y="3027"/>
                      </a:lnTo>
                      <a:lnTo>
                        <a:pt x="3588" y="2783"/>
                      </a:lnTo>
                      <a:lnTo>
                        <a:pt x="3832" y="2612"/>
                      </a:lnTo>
                      <a:lnTo>
                        <a:pt x="3830" y="2612"/>
                      </a:lnTo>
                      <a:lnTo>
                        <a:pt x="3853" y="2612"/>
                      </a:lnTo>
                      <a:lnTo>
                        <a:pt x="3851" y="2612"/>
                      </a:lnTo>
                      <a:lnTo>
                        <a:pt x="3830" y="2703"/>
                      </a:lnTo>
                      <a:lnTo>
                        <a:pt x="3830" y="2701"/>
                      </a:lnTo>
                      <a:lnTo>
                        <a:pt x="3541" y="3564"/>
                      </a:lnTo>
                      <a:lnTo>
                        <a:pt x="3487" y="3702"/>
                      </a:lnTo>
                      <a:lnTo>
                        <a:pt x="3487" y="3702"/>
                      </a:lnTo>
                      <a:lnTo>
                        <a:pt x="3464" y="3725"/>
                      </a:lnTo>
                      <a:lnTo>
                        <a:pt x="3467" y="3725"/>
                      </a:lnTo>
                      <a:lnTo>
                        <a:pt x="3304" y="3465"/>
                      </a:lnTo>
                      <a:lnTo>
                        <a:pt x="3304" y="3465"/>
                      </a:lnTo>
                      <a:lnTo>
                        <a:pt x="3304" y="3457"/>
                      </a:lnTo>
                      <a:lnTo>
                        <a:pt x="3227" y="3481"/>
                      </a:lnTo>
                      <a:lnTo>
                        <a:pt x="3031" y="3556"/>
                      </a:lnTo>
                      <a:lnTo>
                        <a:pt x="2599" y="3686"/>
                      </a:lnTo>
                      <a:lnTo>
                        <a:pt x="2599" y="3686"/>
                      </a:lnTo>
                      <a:lnTo>
                        <a:pt x="2325" y="3692"/>
                      </a:lnTo>
                      <a:lnTo>
                        <a:pt x="1646" y="3595"/>
                      </a:lnTo>
                      <a:lnTo>
                        <a:pt x="1646" y="3595"/>
                      </a:lnTo>
                      <a:lnTo>
                        <a:pt x="1134" y="3434"/>
                      </a:lnTo>
                      <a:lnTo>
                        <a:pt x="1134" y="3434"/>
                      </a:lnTo>
                      <a:lnTo>
                        <a:pt x="937" y="3397"/>
                      </a:lnTo>
                      <a:lnTo>
                        <a:pt x="938" y="3399"/>
                      </a:lnTo>
                      <a:lnTo>
                        <a:pt x="929" y="3170"/>
                      </a:lnTo>
                      <a:lnTo>
                        <a:pt x="907" y="3114"/>
                      </a:lnTo>
                      <a:lnTo>
                        <a:pt x="863" y="3075"/>
                      </a:lnTo>
                      <a:lnTo>
                        <a:pt x="601" y="3060"/>
                      </a:lnTo>
                      <a:lnTo>
                        <a:pt x="273" y="3174"/>
                      </a:lnTo>
                      <a:lnTo>
                        <a:pt x="143" y="3244"/>
                      </a:lnTo>
                      <a:lnTo>
                        <a:pt x="105" y="3273"/>
                      </a:lnTo>
                      <a:lnTo>
                        <a:pt x="106" y="3273"/>
                      </a:lnTo>
                      <a:lnTo>
                        <a:pt x="101" y="3269"/>
                      </a:lnTo>
                      <a:lnTo>
                        <a:pt x="103" y="3269"/>
                      </a:lnTo>
                      <a:lnTo>
                        <a:pt x="103" y="3254"/>
                      </a:lnTo>
                      <a:lnTo>
                        <a:pt x="101" y="3254"/>
                      </a:lnTo>
                      <a:lnTo>
                        <a:pt x="124" y="3229"/>
                      </a:lnTo>
                      <a:lnTo>
                        <a:pt x="62" y="3219"/>
                      </a:lnTo>
                      <a:lnTo>
                        <a:pt x="64" y="3223"/>
                      </a:lnTo>
                      <a:lnTo>
                        <a:pt x="91" y="3174"/>
                      </a:lnTo>
                      <a:lnTo>
                        <a:pt x="52" y="3174"/>
                      </a:lnTo>
                      <a:lnTo>
                        <a:pt x="54" y="3176"/>
                      </a:lnTo>
                      <a:lnTo>
                        <a:pt x="54" y="3155"/>
                      </a:lnTo>
                      <a:lnTo>
                        <a:pt x="54" y="3157"/>
                      </a:lnTo>
                      <a:lnTo>
                        <a:pt x="85" y="3145"/>
                      </a:lnTo>
                      <a:lnTo>
                        <a:pt x="106" y="3130"/>
                      </a:lnTo>
                      <a:lnTo>
                        <a:pt x="13" y="3137"/>
                      </a:lnTo>
                      <a:lnTo>
                        <a:pt x="6" y="3141"/>
                      </a:lnTo>
                      <a:lnTo>
                        <a:pt x="9" y="3143"/>
                      </a:lnTo>
                      <a:lnTo>
                        <a:pt x="2" y="3132"/>
                      </a:lnTo>
                      <a:lnTo>
                        <a:pt x="2" y="3134"/>
                      </a:lnTo>
                      <a:lnTo>
                        <a:pt x="15" y="3116"/>
                      </a:lnTo>
                      <a:lnTo>
                        <a:pt x="13" y="3118"/>
                      </a:lnTo>
                      <a:lnTo>
                        <a:pt x="79" y="3108"/>
                      </a:lnTo>
                      <a:lnTo>
                        <a:pt x="103" y="3077"/>
                      </a:lnTo>
                      <a:lnTo>
                        <a:pt x="91" y="3056"/>
                      </a:lnTo>
                      <a:lnTo>
                        <a:pt x="46" y="3039"/>
                      </a:lnTo>
                      <a:lnTo>
                        <a:pt x="48" y="3040"/>
                      </a:lnTo>
                      <a:lnTo>
                        <a:pt x="41" y="3029"/>
                      </a:lnTo>
                      <a:lnTo>
                        <a:pt x="41" y="3029"/>
                      </a:lnTo>
                      <a:lnTo>
                        <a:pt x="41" y="3017"/>
                      </a:lnTo>
                      <a:lnTo>
                        <a:pt x="39" y="3019"/>
                      </a:lnTo>
                      <a:lnTo>
                        <a:pt x="260" y="3027"/>
                      </a:lnTo>
                      <a:lnTo>
                        <a:pt x="481" y="2949"/>
                      </a:lnTo>
                      <a:lnTo>
                        <a:pt x="673" y="2889"/>
                      </a:lnTo>
                      <a:lnTo>
                        <a:pt x="673" y="2889"/>
                      </a:lnTo>
                      <a:lnTo>
                        <a:pt x="824" y="2897"/>
                      </a:lnTo>
                      <a:lnTo>
                        <a:pt x="793" y="2612"/>
                      </a:lnTo>
                      <a:lnTo>
                        <a:pt x="793" y="2612"/>
                      </a:lnTo>
                      <a:lnTo>
                        <a:pt x="892" y="2241"/>
                      </a:lnTo>
                      <a:lnTo>
                        <a:pt x="1084" y="1869"/>
                      </a:lnTo>
                      <a:lnTo>
                        <a:pt x="1373" y="1503"/>
                      </a:lnTo>
                      <a:lnTo>
                        <a:pt x="1373" y="1503"/>
                      </a:lnTo>
                      <a:lnTo>
                        <a:pt x="1648" y="1250"/>
                      </a:lnTo>
                      <a:lnTo>
                        <a:pt x="1540" y="1173"/>
                      </a:lnTo>
                      <a:lnTo>
                        <a:pt x="1363" y="1099"/>
                      </a:lnTo>
                      <a:lnTo>
                        <a:pt x="1288" y="1051"/>
                      </a:lnTo>
                      <a:lnTo>
                        <a:pt x="1289" y="1053"/>
                      </a:lnTo>
                      <a:lnTo>
                        <a:pt x="1297" y="1002"/>
                      </a:lnTo>
                      <a:lnTo>
                        <a:pt x="1297" y="1002"/>
                      </a:lnTo>
                      <a:lnTo>
                        <a:pt x="1321" y="987"/>
                      </a:lnTo>
                      <a:lnTo>
                        <a:pt x="1319" y="987"/>
                      </a:lnTo>
                      <a:lnTo>
                        <a:pt x="1590" y="987"/>
                      </a:lnTo>
                      <a:lnTo>
                        <a:pt x="1943" y="940"/>
                      </a:lnTo>
                      <a:lnTo>
                        <a:pt x="2147" y="932"/>
                      </a:lnTo>
                      <a:lnTo>
                        <a:pt x="2310" y="909"/>
                      </a:lnTo>
                      <a:lnTo>
                        <a:pt x="2331" y="909"/>
                      </a:lnTo>
                      <a:lnTo>
                        <a:pt x="2331" y="909"/>
                      </a:lnTo>
                      <a:lnTo>
                        <a:pt x="2346" y="925"/>
                      </a:lnTo>
                      <a:lnTo>
                        <a:pt x="2346" y="923"/>
                      </a:lnTo>
                      <a:lnTo>
                        <a:pt x="2079" y="1380"/>
                      </a:lnTo>
                      <a:lnTo>
                        <a:pt x="1889" y="1654"/>
                      </a:lnTo>
                      <a:lnTo>
                        <a:pt x="1850" y="1729"/>
                      </a:lnTo>
                      <a:lnTo>
                        <a:pt x="1852" y="1729"/>
                      </a:lnTo>
                      <a:lnTo>
                        <a:pt x="1829" y="1745"/>
                      </a:lnTo>
                      <a:lnTo>
                        <a:pt x="1831" y="1745"/>
                      </a:lnTo>
                      <a:lnTo>
                        <a:pt x="1800" y="1714"/>
                      </a:lnTo>
                      <a:lnTo>
                        <a:pt x="1801" y="1716"/>
                      </a:lnTo>
                      <a:lnTo>
                        <a:pt x="1768" y="1458"/>
                      </a:lnTo>
                      <a:lnTo>
                        <a:pt x="1761" y="1444"/>
                      </a:lnTo>
                      <a:lnTo>
                        <a:pt x="1644" y="1576"/>
                      </a:lnTo>
                      <a:lnTo>
                        <a:pt x="1483" y="1889"/>
                      </a:lnTo>
                      <a:lnTo>
                        <a:pt x="1385" y="2179"/>
                      </a:lnTo>
                      <a:lnTo>
                        <a:pt x="1346" y="2544"/>
                      </a:lnTo>
                      <a:lnTo>
                        <a:pt x="1385" y="2765"/>
                      </a:lnTo>
                      <a:lnTo>
                        <a:pt x="1450" y="2841"/>
                      </a:lnTo>
                      <a:lnTo>
                        <a:pt x="1555" y="2790"/>
                      </a:lnTo>
                      <a:lnTo>
                        <a:pt x="1768" y="2637"/>
                      </a:lnTo>
                      <a:lnTo>
                        <a:pt x="2515" y="2127"/>
                      </a:lnTo>
                      <a:lnTo>
                        <a:pt x="2480" y="1885"/>
                      </a:lnTo>
                      <a:lnTo>
                        <a:pt x="2507" y="1633"/>
                      </a:lnTo>
                      <a:lnTo>
                        <a:pt x="2507" y="1633"/>
                      </a:lnTo>
                      <a:lnTo>
                        <a:pt x="2600" y="1442"/>
                      </a:lnTo>
                      <a:lnTo>
                        <a:pt x="2599" y="1444"/>
                      </a:lnTo>
                      <a:lnTo>
                        <a:pt x="2796" y="1276"/>
                      </a:lnTo>
                      <a:lnTo>
                        <a:pt x="2979" y="1204"/>
                      </a:lnTo>
                      <a:lnTo>
                        <a:pt x="2979" y="1204"/>
                      </a:lnTo>
                      <a:lnTo>
                        <a:pt x="3250" y="1185"/>
                      </a:lnTo>
                      <a:lnTo>
                        <a:pt x="3516" y="1237"/>
                      </a:lnTo>
                      <a:lnTo>
                        <a:pt x="3516" y="1237"/>
                      </a:lnTo>
                      <a:lnTo>
                        <a:pt x="3595" y="1270"/>
                      </a:lnTo>
                      <a:lnTo>
                        <a:pt x="3572" y="1136"/>
                      </a:lnTo>
                      <a:lnTo>
                        <a:pt x="3572" y="1136"/>
                      </a:lnTo>
                      <a:lnTo>
                        <a:pt x="3434" y="659"/>
                      </a:lnTo>
                      <a:lnTo>
                        <a:pt x="3434" y="659"/>
                      </a:lnTo>
                      <a:lnTo>
                        <a:pt x="3512" y="574"/>
                      </a:lnTo>
                      <a:lnTo>
                        <a:pt x="3512" y="574"/>
                      </a:lnTo>
                      <a:lnTo>
                        <a:pt x="3642" y="490"/>
                      </a:lnTo>
                      <a:lnTo>
                        <a:pt x="3640" y="490"/>
                      </a:lnTo>
                      <a:lnTo>
                        <a:pt x="3708" y="475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2" y="878"/>
                      </a:lnTo>
                      <a:lnTo>
                        <a:pt x="4600" y="686"/>
                      </a:lnTo>
                      <a:lnTo>
                        <a:pt x="4584" y="587"/>
                      </a:lnTo>
                      <a:lnTo>
                        <a:pt x="4584" y="589"/>
                      </a:lnTo>
                      <a:lnTo>
                        <a:pt x="4615" y="529"/>
                      </a:lnTo>
                      <a:lnTo>
                        <a:pt x="4615" y="531"/>
                      </a:lnTo>
                      <a:lnTo>
                        <a:pt x="4724" y="459"/>
                      </a:lnTo>
                      <a:lnTo>
                        <a:pt x="4724" y="327"/>
                      </a:lnTo>
                      <a:lnTo>
                        <a:pt x="4724" y="327"/>
                      </a:lnTo>
                      <a:lnTo>
                        <a:pt x="4775" y="207"/>
                      </a:lnTo>
                      <a:lnTo>
                        <a:pt x="4773" y="207"/>
                      </a:lnTo>
                      <a:lnTo>
                        <a:pt x="4914" y="73"/>
                      </a:lnTo>
                      <a:lnTo>
                        <a:pt x="4914" y="73"/>
                      </a:lnTo>
                      <a:lnTo>
                        <a:pt x="5065" y="17"/>
                      </a:lnTo>
                      <a:lnTo>
                        <a:pt x="5065" y="17"/>
                      </a:lnTo>
                      <a:lnTo>
                        <a:pt x="5170" y="2"/>
                      </a:lnTo>
                      <a:lnTo>
                        <a:pt x="5170" y="2"/>
                      </a:lnTo>
                      <a:lnTo>
                        <a:pt x="5376" y="62"/>
                      </a:lnTo>
                      <a:lnTo>
                        <a:pt x="5568" y="203"/>
                      </a:lnTo>
                      <a:lnTo>
                        <a:pt x="5570" y="201"/>
                      </a:lnTo>
                      <a:lnTo>
                        <a:pt x="5378" y="58"/>
                      </a:lnTo>
                      <a:lnTo>
                        <a:pt x="5170" y="0"/>
                      </a:lnTo>
                      <a:lnTo>
                        <a:pt x="5065" y="15"/>
                      </a:lnTo>
                      <a:lnTo>
                        <a:pt x="4912" y="69"/>
                      </a:lnTo>
                      <a:lnTo>
                        <a:pt x="4771" y="205"/>
                      </a:lnTo>
                      <a:lnTo>
                        <a:pt x="4720" y="327"/>
                      </a:lnTo>
                      <a:lnTo>
                        <a:pt x="4720" y="457"/>
                      </a:lnTo>
                      <a:lnTo>
                        <a:pt x="4722" y="457"/>
                      </a:lnTo>
                      <a:lnTo>
                        <a:pt x="4614" y="527"/>
                      </a:lnTo>
                      <a:lnTo>
                        <a:pt x="4581" y="587"/>
                      </a:lnTo>
                      <a:lnTo>
                        <a:pt x="4598" y="686"/>
                      </a:lnTo>
                      <a:lnTo>
                        <a:pt x="4598" y="684"/>
                      </a:lnTo>
                      <a:lnTo>
                        <a:pt x="4342" y="874"/>
                      </a:lnTo>
                      <a:lnTo>
                        <a:pt x="4344" y="874"/>
                      </a:lnTo>
                      <a:lnTo>
                        <a:pt x="4166" y="783"/>
                      </a:lnTo>
                      <a:lnTo>
                        <a:pt x="3708" y="473"/>
                      </a:lnTo>
                      <a:lnTo>
                        <a:pt x="3640" y="488"/>
                      </a:lnTo>
                      <a:lnTo>
                        <a:pt x="3510" y="572"/>
                      </a:lnTo>
                      <a:lnTo>
                        <a:pt x="3432" y="659"/>
                      </a:lnTo>
                      <a:lnTo>
                        <a:pt x="3568" y="1138"/>
                      </a:lnTo>
                      <a:lnTo>
                        <a:pt x="3568" y="1136"/>
                      </a:lnTo>
                      <a:lnTo>
                        <a:pt x="3592" y="1268"/>
                      </a:lnTo>
                      <a:lnTo>
                        <a:pt x="3593" y="1266"/>
                      </a:lnTo>
                      <a:lnTo>
                        <a:pt x="3516" y="1233"/>
                      </a:lnTo>
                      <a:lnTo>
                        <a:pt x="3250" y="1181"/>
                      </a:lnTo>
                      <a:lnTo>
                        <a:pt x="2979" y="1202"/>
                      </a:lnTo>
                      <a:lnTo>
                        <a:pt x="2794" y="1272"/>
                      </a:lnTo>
                      <a:lnTo>
                        <a:pt x="2597" y="1442"/>
                      </a:lnTo>
                      <a:lnTo>
                        <a:pt x="2504" y="1631"/>
                      </a:lnTo>
                      <a:lnTo>
                        <a:pt x="2476" y="1885"/>
                      </a:lnTo>
                      <a:lnTo>
                        <a:pt x="2513" y="2127"/>
                      </a:lnTo>
                      <a:lnTo>
                        <a:pt x="2513" y="2125"/>
                      </a:lnTo>
                      <a:lnTo>
                        <a:pt x="1767" y="2635"/>
                      </a:lnTo>
                      <a:lnTo>
                        <a:pt x="1553" y="2788"/>
                      </a:lnTo>
                      <a:lnTo>
                        <a:pt x="1448" y="2839"/>
                      </a:lnTo>
                      <a:lnTo>
                        <a:pt x="1450" y="2839"/>
                      </a:lnTo>
                      <a:lnTo>
                        <a:pt x="1386" y="2763"/>
                      </a:lnTo>
                      <a:lnTo>
                        <a:pt x="1386" y="2765"/>
                      </a:lnTo>
                      <a:lnTo>
                        <a:pt x="1348" y="2544"/>
                      </a:lnTo>
                      <a:lnTo>
                        <a:pt x="1386" y="2179"/>
                      </a:lnTo>
                      <a:lnTo>
                        <a:pt x="1386" y="2179"/>
                      </a:lnTo>
                      <a:lnTo>
                        <a:pt x="1487" y="1889"/>
                      </a:lnTo>
                      <a:lnTo>
                        <a:pt x="1648" y="1578"/>
                      </a:lnTo>
                      <a:lnTo>
                        <a:pt x="1763" y="1448"/>
                      </a:lnTo>
                      <a:lnTo>
                        <a:pt x="1759" y="1448"/>
                      </a:lnTo>
                      <a:lnTo>
                        <a:pt x="1767" y="1460"/>
                      </a:lnTo>
                      <a:lnTo>
                        <a:pt x="1767" y="1458"/>
                      </a:lnTo>
                      <a:lnTo>
                        <a:pt x="1798" y="1716"/>
                      </a:lnTo>
                      <a:lnTo>
                        <a:pt x="1829" y="1749"/>
                      </a:lnTo>
                      <a:lnTo>
                        <a:pt x="1854" y="1731"/>
                      </a:lnTo>
                      <a:lnTo>
                        <a:pt x="1893" y="1656"/>
                      </a:lnTo>
                      <a:lnTo>
                        <a:pt x="2081" y="1382"/>
                      </a:lnTo>
                      <a:lnTo>
                        <a:pt x="2348" y="925"/>
                      </a:lnTo>
                      <a:lnTo>
                        <a:pt x="2333" y="907"/>
                      </a:lnTo>
                      <a:lnTo>
                        <a:pt x="2310" y="907"/>
                      </a:lnTo>
                      <a:lnTo>
                        <a:pt x="2147" y="929"/>
                      </a:lnTo>
                      <a:lnTo>
                        <a:pt x="1943" y="936"/>
                      </a:lnTo>
                      <a:lnTo>
                        <a:pt x="1590" y="985"/>
                      </a:lnTo>
                      <a:lnTo>
                        <a:pt x="1319" y="985"/>
                      </a:lnTo>
                      <a:lnTo>
                        <a:pt x="1295" y="1000"/>
                      </a:lnTo>
                      <a:lnTo>
                        <a:pt x="1286" y="1053"/>
                      </a:lnTo>
                      <a:lnTo>
                        <a:pt x="1361" y="1101"/>
                      </a:lnTo>
                      <a:lnTo>
                        <a:pt x="1538" y="1177"/>
                      </a:lnTo>
                      <a:lnTo>
                        <a:pt x="1646" y="1252"/>
                      </a:lnTo>
                      <a:lnTo>
                        <a:pt x="1646" y="1250"/>
                      </a:lnTo>
                      <a:lnTo>
                        <a:pt x="1371" y="1501"/>
                      </a:lnTo>
                      <a:lnTo>
                        <a:pt x="1371" y="1501"/>
                      </a:lnTo>
                      <a:lnTo>
                        <a:pt x="1080" y="1867"/>
                      </a:lnTo>
                      <a:lnTo>
                        <a:pt x="888" y="2240"/>
                      </a:lnTo>
                      <a:lnTo>
                        <a:pt x="789" y="2612"/>
                      </a:lnTo>
                      <a:lnTo>
                        <a:pt x="822" y="2895"/>
                      </a:lnTo>
                      <a:lnTo>
                        <a:pt x="822" y="2893"/>
                      </a:lnTo>
                      <a:lnTo>
                        <a:pt x="673" y="2885"/>
                      </a:lnTo>
                      <a:lnTo>
                        <a:pt x="479" y="2945"/>
                      </a:lnTo>
                      <a:lnTo>
                        <a:pt x="258" y="3023"/>
                      </a:lnTo>
                      <a:lnTo>
                        <a:pt x="260" y="3023"/>
                      </a:lnTo>
                      <a:lnTo>
                        <a:pt x="39" y="3017"/>
                      </a:lnTo>
                      <a:lnTo>
                        <a:pt x="39" y="3031"/>
                      </a:lnTo>
                      <a:lnTo>
                        <a:pt x="46" y="3042"/>
                      </a:lnTo>
                      <a:lnTo>
                        <a:pt x="89" y="3058"/>
                      </a:lnTo>
                      <a:lnTo>
                        <a:pt x="87" y="3058"/>
                      </a:lnTo>
                      <a:lnTo>
                        <a:pt x="99" y="3077"/>
                      </a:lnTo>
                      <a:lnTo>
                        <a:pt x="99" y="3077"/>
                      </a:lnTo>
                      <a:lnTo>
                        <a:pt x="75" y="3106"/>
                      </a:lnTo>
                      <a:lnTo>
                        <a:pt x="77" y="3106"/>
                      </a:lnTo>
                      <a:lnTo>
                        <a:pt x="13" y="3114"/>
                      </a:lnTo>
                      <a:lnTo>
                        <a:pt x="0" y="3132"/>
                      </a:lnTo>
                      <a:lnTo>
                        <a:pt x="8" y="3145"/>
                      </a:lnTo>
                      <a:lnTo>
                        <a:pt x="15" y="3141"/>
                      </a:lnTo>
                      <a:lnTo>
                        <a:pt x="13" y="3141"/>
                      </a:lnTo>
                      <a:lnTo>
                        <a:pt x="101" y="3134"/>
                      </a:lnTo>
                      <a:lnTo>
                        <a:pt x="101" y="3130"/>
                      </a:lnTo>
                      <a:lnTo>
                        <a:pt x="83" y="3141"/>
                      </a:lnTo>
                      <a:lnTo>
                        <a:pt x="52" y="3155"/>
                      </a:lnTo>
                      <a:lnTo>
                        <a:pt x="52" y="3176"/>
                      </a:lnTo>
                      <a:lnTo>
                        <a:pt x="89" y="3178"/>
                      </a:lnTo>
                      <a:lnTo>
                        <a:pt x="87" y="3174"/>
                      </a:lnTo>
                      <a:lnTo>
                        <a:pt x="60" y="3223"/>
                      </a:lnTo>
                      <a:lnTo>
                        <a:pt x="122" y="3232"/>
                      </a:lnTo>
                      <a:lnTo>
                        <a:pt x="120" y="3229"/>
                      </a:lnTo>
                      <a:lnTo>
                        <a:pt x="99" y="3252"/>
                      </a:lnTo>
                      <a:lnTo>
                        <a:pt x="99" y="3269"/>
                      </a:lnTo>
                      <a:lnTo>
                        <a:pt x="105" y="3275"/>
                      </a:lnTo>
                      <a:lnTo>
                        <a:pt x="145" y="3248"/>
                      </a:lnTo>
                      <a:lnTo>
                        <a:pt x="275" y="3178"/>
                      </a:lnTo>
                      <a:lnTo>
                        <a:pt x="603" y="3064"/>
                      </a:lnTo>
                      <a:lnTo>
                        <a:pt x="601" y="3064"/>
                      </a:lnTo>
                      <a:lnTo>
                        <a:pt x="863" y="3079"/>
                      </a:lnTo>
                      <a:lnTo>
                        <a:pt x="861" y="3079"/>
                      </a:lnTo>
                      <a:lnTo>
                        <a:pt x="905" y="3118"/>
                      </a:lnTo>
                      <a:lnTo>
                        <a:pt x="904" y="3116"/>
                      </a:lnTo>
                      <a:lnTo>
                        <a:pt x="927" y="3172"/>
                      </a:lnTo>
                      <a:lnTo>
                        <a:pt x="927" y="3170"/>
                      </a:lnTo>
                      <a:lnTo>
                        <a:pt x="937" y="3399"/>
                      </a:lnTo>
                      <a:lnTo>
                        <a:pt x="1134" y="3438"/>
                      </a:lnTo>
                      <a:lnTo>
                        <a:pt x="1132" y="3438"/>
                      </a:lnTo>
                      <a:lnTo>
                        <a:pt x="1646" y="3597"/>
                      </a:lnTo>
                      <a:lnTo>
                        <a:pt x="1646" y="3597"/>
                      </a:lnTo>
                      <a:lnTo>
                        <a:pt x="2325" y="3696"/>
                      </a:lnTo>
                      <a:lnTo>
                        <a:pt x="2599" y="3688"/>
                      </a:lnTo>
                      <a:lnTo>
                        <a:pt x="3031" y="3558"/>
                      </a:lnTo>
                      <a:lnTo>
                        <a:pt x="3229" y="3485"/>
                      </a:lnTo>
                      <a:lnTo>
                        <a:pt x="3304" y="3461"/>
                      </a:lnTo>
                      <a:lnTo>
                        <a:pt x="3301" y="3459"/>
                      </a:lnTo>
                      <a:lnTo>
                        <a:pt x="3301" y="3467"/>
                      </a:lnTo>
                      <a:lnTo>
                        <a:pt x="3465" y="3729"/>
                      </a:lnTo>
                      <a:lnTo>
                        <a:pt x="3489" y="3704"/>
                      </a:lnTo>
                      <a:lnTo>
                        <a:pt x="3545" y="3566"/>
                      </a:lnTo>
                      <a:lnTo>
                        <a:pt x="3832" y="2703"/>
                      </a:lnTo>
                      <a:lnTo>
                        <a:pt x="3832" y="2703"/>
                      </a:lnTo>
                      <a:lnTo>
                        <a:pt x="3855" y="2610"/>
                      </a:lnTo>
                      <a:lnTo>
                        <a:pt x="3830" y="2610"/>
                      </a:lnTo>
                      <a:lnTo>
                        <a:pt x="3586" y="2779"/>
                      </a:lnTo>
                      <a:lnTo>
                        <a:pt x="3085" y="3023"/>
                      </a:lnTo>
                      <a:lnTo>
                        <a:pt x="3085" y="3023"/>
                      </a:lnTo>
                      <a:lnTo>
                        <a:pt x="2856" y="3075"/>
                      </a:lnTo>
                      <a:lnTo>
                        <a:pt x="2820" y="3108"/>
                      </a:lnTo>
                      <a:lnTo>
                        <a:pt x="2843" y="3145"/>
                      </a:lnTo>
                      <a:lnTo>
                        <a:pt x="3010" y="3215"/>
                      </a:lnTo>
                      <a:lnTo>
                        <a:pt x="3097" y="3275"/>
                      </a:lnTo>
                      <a:lnTo>
                        <a:pt x="3097" y="3273"/>
                      </a:lnTo>
                      <a:lnTo>
                        <a:pt x="3074" y="3296"/>
                      </a:lnTo>
                      <a:lnTo>
                        <a:pt x="3074" y="3294"/>
                      </a:lnTo>
                      <a:lnTo>
                        <a:pt x="2856" y="3366"/>
                      </a:lnTo>
                      <a:lnTo>
                        <a:pt x="2858" y="3366"/>
                      </a:lnTo>
                      <a:lnTo>
                        <a:pt x="2554" y="3382"/>
                      </a:lnTo>
                      <a:lnTo>
                        <a:pt x="2096" y="3294"/>
                      </a:lnTo>
                      <a:lnTo>
                        <a:pt x="2096" y="3294"/>
                      </a:lnTo>
                      <a:lnTo>
                        <a:pt x="1805" y="3159"/>
                      </a:lnTo>
                      <a:lnTo>
                        <a:pt x="1805" y="3159"/>
                      </a:lnTo>
                      <a:lnTo>
                        <a:pt x="1768" y="3122"/>
                      </a:lnTo>
                      <a:lnTo>
                        <a:pt x="1767" y="3124"/>
                      </a:lnTo>
                      <a:lnTo>
                        <a:pt x="1914" y="3145"/>
                      </a:lnTo>
                      <a:lnTo>
                        <a:pt x="2057" y="3178"/>
                      </a:lnTo>
                      <a:lnTo>
                        <a:pt x="2387" y="3118"/>
                      </a:lnTo>
                      <a:lnTo>
                        <a:pt x="2529" y="3019"/>
                      </a:lnTo>
                      <a:lnTo>
                        <a:pt x="2653" y="2872"/>
                      </a:lnTo>
                      <a:lnTo>
                        <a:pt x="2692" y="2742"/>
                      </a:lnTo>
                      <a:lnTo>
                        <a:pt x="2707" y="2383"/>
                      </a:lnTo>
                      <a:lnTo>
                        <a:pt x="2707" y="2383"/>
                      </a:lnTo>
                      <a:lnTo>
                        <a:pt x="3316" y="1954"/>
                      </a:lnTo>
                      <a:lnTo>
                        <a:pt x="3838" y="1578"/>
                      </a:lnTo>
                      <a:lnTo>
                        <a:pt x="3836" y="1578"/>
                      </a:lnTo>
                      <a:lnTo>
                        <a:pt x="4522" y="2017"/>
                      </a:lnTo>
                      <a:lnTo>
                        <a:pt x="4575" y="2032"/>
                      </a:lnTo>
                      <a:lnTo>
                        <a:pt x="4823" y="1885"/>
                      </a:lnTo>
                      <a:lnTo>
                        <a:pt x="4823" y="1861"/>
                      </a:lnTo>
                      <a:lnTo>
                        <a:pt x="4672" y="1518"/>
                      </a:lnTo>
                      <a:lnTo>
                        <a:pt x="4670" y="1520"/>
                      </a:lnTo>
                      <a:lnTo>
                        <a:pt x="4802" y="1510"/>
                      </a:lnTo>
                      <a:lnTo>
                        <a:pt x="4974" y="1429"/>
                      </a:lnTo>
                      <a:lnTo>
                        <a:pt x="5118" y="1243"/>
                      </a:lnTo>
                      <a:lnTo>
                        <a:pt x="5188" y="975"/>
                      </a:lnTo>
                      <a:lnTo>
                        <a:pt x="5186" y="975"/>
                      </a:lnTo>
                      <a:lnTo>
                        <a:pt x="5209" y="975"/>
                      </a:lnTo>
                      <a:lnTo>
                        <a:pt x="5383" y="963"/>
                      </a:lnTo>
                      <a:lnTo>
                        <a:pt x="5523" y="888"/>
                      </a:lnTo>
                      <a:lnTo>
                        <a:pt x="5661" y="758"/>
                      </a:lnTo>
                      <a:lnTo>
                        <a:pt x="5715" y="620"/>
                      </a:lnTo>
                      <a:lnTo>
                        <a:pt x="5700" y="389"/>
                      </a:lnTo>
                      <a:lnTo>
                        <a:pt x="5570" y="201"/>
                      </a:lnTo>
                      <a:lnTo>
                        <a:pt x="5568" y="2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06680" y="6221160"/>
                  <a:ext cx="194040" cy="152280"/>
                </a:xfrm>
                <a:custGeom>
                  <a:avLst/>
                  <a:gdLst/>
                  <a:ahLst/>
                  <a:rect l="l" t="t" r="r" b="b"/>
                  <a:pathLst>
                    <a:path w="609" h="477">
                      <a:moveTo>
                        <a:pt x="531" y="329"/>
                      </a:moveTo>
                      <a:lnTo>
                        <a:pt x="593" y="199"/>
                      </a:lnTo>
                      <a:lnTo>
                        <a:pt x="609" y="0"/>
                      </a:lnTo>
                      <a:lnTo>
                        <a:pt x="0" y="428"/>
                      </a:lnTo>
                      <a:lnTo>
                        <a:pt x="36" y="428"/>
                      </a:lnTo>
                      <a:lnTo>
                        <a:pt x="35" y="428"/>
                      </a:lnTo>
                      <a:lnTo>
                        <a:pt x="102" y="461"/>
                      </a:lnTo>
                      <a:lnTo>
                        <a:pt x="211" y="477"/>
                      </a:lnTo>
                      <a:lnTo>
                        <a:pt x="384" y="438"/>
                      </a:lnTo>
                      <a:lnTo>
                        <a:pt x="531" y="329"/>
                      </a:lnTo>
                      <a:lnTo>
                        <a:pt x="529" y="327"/>
                      </a:lnTo>
                      <a:lnTo>
                        <a:pt x="384" y="434"/>
                      </a:lnTo>
                      <a:lnTo>
                        <a:pt x="384" y="434"/>
                      </a:lnTo>
                      <a:lnTo>
                        <a:pt x="211" y="473"/>
                      </a:lnTo>
                      <a:lnTo>
                        <a:pt x="102" y="457"/>
                      </a:lnTo>
                      <a:lnTo>
                        <a:pt x="104" y="457"/>
                      </a:lnTo>
                      <a:lnTo>
                        <a:pt x="36" y="426"/>
                      </a:lnTo>
                      <a:lnTo>
                        <a:pt x="3" y="426"/>
                      </a:lnTo>
                      <a:lnTo>
                        <a:pt x="5" y="428"/>
                      </a:lnTo>
                      <a:lnTo>
                        <a:pt x="609" y="3"/>
                      </a:lnTo>
                      <a:lnTo>
                        <a:pt x="607" y="1"/>
                      </a:lnTo>
                      <a:lnTo>
                        <a:pt x="591" y="197"/>
                      </a:lnTo>
                      <a:lnTo>
                        <a:pt x="591" y="197"/>
                      </a:lnTo>
                      <a:lnTo>
                        <a:pt x="529" y="327"/>
                      </a:lnTo>
                      <a:lnTo>
                        <a:pt x="529" y="327"/>
                      </a:lnTo>
                      <a:lnTo>
                        <a:pt x="531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248960" y="5842440"/>
                  <a:ext cx="265680" cy="210600"/>
                </a:xfrm>
                <a:custGeom>
                  <a:avLst/>
                  <a:gdLst/>
                  <a:ahLst/>
                  <a:rect l="l" t="t" r="r" b="b"/>
                  <a:pathLst>
                    <a:path w="830" h="658">
                      <a:moveTo>
                        <a:pt x="830" y="74"/>
                      </a:moveTo>
                      <a:lnTo>
                        <a:pt x="805" y="55"/>
                      </a:lnTo>
                      <a:lnTo>
                        <a:pt x="434" y="0"/>
                      </a:lnTo>
                      <a:lnTo>
                        <a:pt x="295" y="39"/>
                      </a:lnTo>
                      <a:lnTo>
                        <a:pt x="169" y="123"/>
                      </a:lnTo>
                      <a:lnTo>
                        <a:pt x="81" y="225"/>
                      </a:lnTo>
                      <a:lnTo>
                        <a:pt x="0" y="427"/>
                      </a:lnTo>
                      <a:lnTo>
                        <a:pt x="29" y="658"/>
                      </a:lnTo>
                      <a:lnTo>
                        <a:pt x="830" y="74"/>
                      </a:lnTo>
                      <a:lnTo>
                        <a:pt x="828" y="72"/>
                      </a:lnTo>
                      <a:lnTo>
                        <a:pt x="29" y="654"/>
                      </a:lnTo>
                      <a:lnTo>
                        <a:pt x="33" y="656"/>
                      </a:lnTo>
                      <a:lnTo>
                        <a:pt x="2" y="427"/>
                      </a:lnTo>
                      <a:lnTo>
                        <a:pt x="2" y="427"/>
                      </a:lnTo>
                      <a:lnTo>
                        <a:pt x="85" y="227"/>
                      </a:lnTo>
                      <a:lnTo>
                        <a:pt x="171" y="125"/>
                      </a:lnTo>
                      <a:lnTo>
                        <a:pt x="171" y="125"/>
                      </a:lnTo>
                      <a:lnTo>
                        <a:pt x="297" y="43"/>
                      </a:lnTo>
                      <a:lnTo>
                        <a:pt x="436" y="2"/>
                      </a:lnTo>
                      <a:lnTo>
                        <a:pt x="434" y="2"/>
                      </a:lnTo>
                      <a:lnTo>
                        <a:pt x="805" y="59"/>
                      </a:lnTo>
                      <a:lnTo>
                        <a:pt x="805" y="59"/>
                      </a:lnTo>
                      <a:lnTo>
                        <a:pt x="828" y="74"/>
                      </a:lnTo>
                      <a:lnTo>
                        <a:pt x="828" y="72"/>
                      </a:lnTo>
                      <a:lnTo>
                        <a:pt x="83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850880" y="5678640"/>
                  <a:ext cx="160920" cy="165960"/>
                </a:xfrm>
                <a:custGeom>
                  <a:avLst/>
                  <a:gdLst/>
                  <a:ahLst/>
                  <a:rect l="l" t="t" r="r" b="b"/>
                  <a:pathLst>
                    <a:path w="502" h="520">
                      <a:moveTo>
                        <a:pt x="427" y="340"/>
                      </a:moveTo>
                      <a:lnTo>
                        <a:pt x="502" y="117"/>
                      </a:lnTo>
                      <a:lnTo>
                        <a:pt x="343" y="0"/>
                      </a:lnTo>
                      <a:lnTo>
                        <a:pt x="0" y="251"/>
                      </a:lnTo>
                      <a:lnTo>
                        <a:pt x="82" y="512"/>
                      </a:lnTo>
                      <a:lnTo>
                        <a:pt x="204" y="520"/>
                      </a:lnTo>
                      <a:lnTo>
                        <a:pt x="343" y="445"/>
                      </a:lnTo>
                      <a:lnTo>
                        <a:pt x="427" y="340"/>
                      </a:lnTo>
                      <a:lnTo>
                        <a:pt x="425" y="338"/>
                      </a:lnTo>
                      <a:lnTo>
                        <a:pt x="341" y="443"/>
                      </a:lnTo>
                      <a:lnTo>
                        <a:pt x="343" y="443"/>
                      </a:lnTo>
                      <a:lnTo>
                        <a:pt x="202" y="516"/>
                      </a:lnTo>
                      <a:lnTo>
                        <a:pt x="204" y="516"/>
                      </a:lnTo>
                      <a:lnTo>
                        <a:pt x="83" y="510"/>
                      </a:lnTo>
                      <a:lnTo>
                        <a:pt x="83" y="510"/>
                      </a:lnTo>
                      <a:lnTo>
                        <a:pt x="2" y="251"/>
                      </a:lnTo>
                      <a:lnTo>
                        <a:pt x="2" y="253"/>
                      </a:lnTo>
                      <a:lnTo>
                        <a:pt x="343" y="4"/>
                      </a:lnTo>
                      <a:lnTo>
                        <a:pt x="343" y="4"/>
                      </a:lnTo>
                      <a:lnTo>
                        <a:pt x="500" y="119"/>
                      </a:lnTo>
                      <a:lnTo>
                        <a:pt x="500" y="117"/>
                      </a:lnTo>
                      <a:lnTo>
                        <a:pt x="425" y="338"/>
                      </a:lnTo>
                      <a:lnTo>
                        <a:pt x="427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6480" y="5424120"/>
                  <a:ext cx="290880" cy="287640"/>
                </a:xfrm>
                <a:custGeom>
                  <a:avLst/>
                  <a:gdLst/>
                  <a:ahLst/>
                  <a:rect l="l" t="t" r="r" b="b"/>
                  <a:pathLst>
                    <a:path w="909" h="898">
                      <a:moveTo>
                        <a:pt x="801" y="229"/>
                      </a:moveTo>
                      <a:lnTo>
                        <a:pt x="876" y="336"/>
                      </a:lnTo>
                      <a:lnTo>
                        <a:pt x="909" y="524"/>
                      </a:lnTo>
                      <a:lnTo>
                        <a:pt x="861" y="695"/>
                      </a:lnTo>
                      <a:lnTo>
                        <a:pt x="729" y="815"/>
                      </a:lnTo>
                      <a:lnTo>
                        <a:pt x="541" y="898"/>
                      </a:lnTo>
                      <a:lnTo>
                        <a:pt x="395" y="898"/>
                      </a:lnTo>
                      <a:lnTo>
                        <a:pt x="223" y="836"/>
                      </a:lnTo>
                      <a:lnTo>
                        <a:pt x="153" y="776"/>
                      </a:lnTo>
                      <a:lnTo>
                        <a:pt x="136" y="631"/>
                      </a:lnTo>
                      <a:lnTo>
                        <a:pt x="120" y="619"/>
                      </a:lnTo>
                      <a:lnTo>
                        <a:pt x="231" y="669"/>
                      </a:lnTo>
                      <a:lnTo>
                        <a:pt x="343" y="733"/>
                      </a:lnTo>
                      <a:lnTo>
                        <a:pt x="533" y="722"/>
                      </a:lnTo>
                      <a:lnTo>
                        <a:pt x="624" y="669"/>
                      </a:lnTo>
                      <a:lnTo>
                        <a:pt x="706" y="547"/>
                      </a:lnTo>
                      <a:lnTo>
                        <a:pt x="706" y="402"/>
                      </a:lnTo>
                      <a:lnTo>
                        <a:pt x="648" y="287"/>
                      </a:lnTo>
                      <a:lnTo>
                        <a:pt x="551" y="206"/>
                      </a:lnTo>
                      <a:lnTo>
                        <a:pt x="479" y="198"/>
                      </a:lnTo>
                      <a:lnTo>
                        <a:pt x="388" y="198"/>
                      </a:lnTo>
                      <a:lnTo>
                        <a:pt x="250" y="260"/>
                      </a:lnTo>
                      <a:lnTo>
                        <a:pt x="174" y="351"/>
                      </a:lnTo>
                      <a:lnTo>
                        <a:pt x="168" y="402"/>
                      </a:lnTo>
                      <a:lnTo>
                        <a:pt x="0" y="394"/>
                      </a:lnTo>
                      <a:lnTo>
                        <a:pt x="0" y="264"/>
                      </a:lnTo>
                      <a:lnTo>
                        <a:pt x="54" y="173"/>
                      </a:lnTo>
                      <a:lnTo>
                        <a:pt x="120" y="92"/>
                      </a:lnTo>
                      <a:lnTo>
                        <a:pt x="213" y="37"/>
                      </a:lnTo>
                      <a:lnTo>
                        <a:pt x="403" y="0"/>
                      </a:lnTo>
                      <a:lnTo>
                        <a:pt x="616" y="74"/>
                      </a:lnTo>
                      <a:lnTo>
                        <a:pt x="801" y="22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918920" y="5562360"/>
                  <a:ext cx="127440" cy="75240"/>
                </a:xfrm>
                <a:custGeom>
                  <a:avLst/>
                  <a:gdLst/>
                  <a:ahLst/>
                  <a:rect l="l" t="t" r="r" b="b"/>
                  <a:pathLst>
                    <a:path w="398" h="234">
                      <a:moveTo>
                        <a:pt x="326" y="120"/>
                      </a:moveTo>
                      <a:lnTo>
                        <a:pt x="398" y="234"/>
                      </a:lnTo>
                      <a:lnTo>
                        <a:pt x="350" y="203"/>
                      </a:lnTo>
                      <a:lnTo>
                        <a:pt x="284" y="203"/>
                      </a:lnTo>
                      <a:lnTo>
                        <a:pt x="272" y="196"/>
                      </a:lnTo>
                      <a:lnTo>
                        <a:pt x="311" y="168"/>
                      </a:lnTo>
                      <a:lnTo>
                        <a:pt x="326" y="184"/>
                      </a:lnTo>
                      <a:lnTo>
                        <a:pt x="334" y="184"/>
                      </a:lnTo>
                      <a:lnTo>
                        <a:pt x="344" y="172"/>
                      </a:lnTo>
                      <a:lnTo>
                        <a:pt x="344" y="151"/>
                      </a:lnTo>
                      <a:lnTo>
                        <a:pt x="311" y="130"/>
                      </a:lnTo>
                      <a:lnTo>
                        <a:pt x="253" y="157"/>
                      </a:lnTo>
                      <a:lnTo>
                        <a:pt x="235" y="172"/>
                      </a:lnTo>
                      <a:lnTo>
                        <a:pt x="196" y="145"/>
                      </a:lnTo>
                      <a:lnTo>
                        <a:pt x="272" y="89"/>
                      </a:lnTo>
                      <a:lnTo>
                        <a:pt x="245" y="70"/>
                      </a:lnTo>
                      <a:lnTo>
                        <a:pt x="154" y="130"/>
                      </a:lnTo>
                      <a:lnTo>
                        <a:pt x="138" y="130"/>
                      </a:lnTo>
                      <a:lnTo>
                        <a:pt x="138" y="89"/>
                      </a:lnTo>
                      <a:lnTo>
                        <a:pt x="181" y="58"/>
                      </a:lnTo>
                      <a:lnTo>
                        <a:pt x="181" y="42"/>
                      </a:lnTo>
                      <a:lnTo>
                        <a:pt x="130" y="54"/>
                      </a:lnTo>
                      <a:lnTo>
                        <a:pt x="99" y="81"/>
                      </a:lnTo>
                      <a:lnTo>
                        <a:pt x="99" y="112"/>
                      </a:lnTo>
                      <a:lnTo>
                        <a:pt x="66" y="106"/>
                      </a:lnTo>
                      <a:lnTo>
                        <a:pt x="66" y="70"/>
                      </a:lnTo>
                      <a:lnTo>
                        <a:pt x="115" y="31"/>
                      </a:lnTo>
                      <a:lnTo>
                        <a:pt x="115" y="21"/>
                      </a:lnTo>
                      <a:lnTo>
                        <a:pt x="99" y="6"/>
                      </a:lnTo>
                      <a:lnTo>
                        <a:pt x="28" y="81"/>
                      </a:lnTo>
                      <a:lnTo>
                        <a:pt x="0" y="112"/>
                      </a:lnTo>
                      <a:lnTo>
                        <a:pt x="22" y="21"/>
                      </a:lnTo>
                      <a:lnTo>
                        <a:pt x="55" y="0"/>
                      </a:lnTo>
                      <a:lnTo>
                        <a:pt x="220" y="42"/>
                      </a:lnTo>
                      <a:lnTo>
                        <a:pt x="326" y="12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7899840" y="5567040"/>
                  <a:ext cx="16200" cy="42120"/>
                </a:xfrm>
                <a:custGeom>
                  <a:avLst/>
                  <a:gdLst/>
                  <a:ahLst/>
                  <a:rect l="l" t="t" r="r" b="b"/>
                  <a:pathLst>
                    <a:path w="51" h="130">
                      <a:moveTo>
                        <a:pt x="27" y="115"/>
                      </a:moveTo>
                      <a:lnTo>
                        <a:pt x="0" y="130"/>
                      </a:lnTo>
                      <a:lnTo>
                        <a:pt x="0" y="43"/>
                      </a:lnTo>
                      <a:lnTo>
                        <a:pt x="37" y="6"/>
                      </a:lnTo>
                      <a:lnTo>
                        <a:pt x="51" y="0"/>
                      </a:lnTo>
                      <a:lnTo>
                        <a:pt x="22" y="66"/>
                      </a:lnTo>
                      <a:lnTo>
                        <a:pt x="27" y="11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58560" y="5573880"/>
                  <a:ext cx="367920" cy="447480"/>
                </a:xfrm>
                <a:custGeom>
                  <a:avLst/>
                  <a:gdLst/>
                  <a:ahLst/>
                  <a:rect l="l" t="t" r="r" b="b"/>
                  <a:pathLst>
                    <a:path w="1148" h="1392">
                      <a:moveTo>
                        <a:pt x="810" y="461"/>
                      </a:moveTo>
                      <a:lnTo>
                        <a:pt x="1148" y="1355"/>
                      </a:lnTo>
                      <a:lnTo>
                        <a:pt x="1078" y="1392"/>
                      </a:lnTo>
                      <a:lnTo>
                        <a:pt x="735" y="1181"/>
                      </a:lnTo>
                      <a:lnTo>
                        <a:pt x="267" y="822"/>
                      </a:lnTo>
                      <a:lnTo>
                        <a:pt x="0" y="36"/>
                      </a:lnTo>
                      <a:lnTo>
                        <a:pt x="81" y="0"/>
                      </a:lnTo>
                      <a:lnTo>
                        <a:pt x="581" y="343"/>
                      </a:lnTo>
                      <a:lnTo>
                        <a:pt x="810" y="4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878960" y="5585040"/>
                  <a:ext cx="11520" cy="33120"/>
                </a:xfrm>
                <a:custGeom>
                  <a:avLst/>
                  <a:gdLst/>
                  <a:ahLst/>
                  <a:rect l="l" t="t" r="r" b="b"/>
                  <a:pathLst>
                    <a:path w="33" h="102">
                      <a:moveTo>
                        <a:pt x="33" y="98"/>
                      </a:moveTo>
                      <a:lnTo>
                        <a:pt x="26" y="98"/>
                      </a:lnTo>
                      <a:lnTo>
                        <a:pt x="16" y="102"/>
                      </a:lnTo>
                      <a:lnTo>
                        <a:pt x="0" y="75"/>
                      </a:lnTo>
                      <a:lnTo>
                        <a:pt x="10" y="19"/>
                      </a:lnTo>
                      <a:lnTo>
                        <a:pt x="33" y="0"/>
                      </a:lnTo>
                      <a:lnTo>
                        <a:pt x="33" y="98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511040" y="5598000"/>
                  <a:ext cx="379440" cy="447840"/>
                </a:xfrm>
                <a:custGeom>
                  <a:avLst/>
                  <a:gdLst/>
                  <a:ahLst/>
                  <a:rect l="l" t="t" r="r" b="b"/>
                  <a:pathLst>
                    <a:path w="1183" h="1395">
                      <a:moveTo>
                        <a:pt x="1036" y="1259"/>
                      </a:moveTo>
                      <a:lnTo>
                        <a:pt x="1160" y="1317"/>
                      </a:lnTo>
                      <a:lnTo>
                        <a:pt x="1183" y="1340"/>
                      </a:lnTo>
                      <a:lnTo>
                        <a:pt x="1100" y="1395"/>
                      </a:lnTo>
                      <a:lnTo>
                        <a:pt x="801" y="1226"/>
                      </a:lnTo>
                      <a:lnTo>
                        <a:pt x="549" y="1061"/>
                      </a:lnTo>
                      <a:lnTo>
                        <a:pt x="442" y="997"/>
                      </a:lnTo>
                      <a:lnTo>
                        <a:pt x="415" y="970"/>
                      </a:lnTo>
                      <a:lnTo>
                        <a:pt x="415" y="871"/>
                      </a:lnTo>
                      <a:lnTo>
                        <a:pt x="338" y="768"/>
                      </a:lnTo>
                      <a:lnTo>
                        <a:pt x="252" y="702"/>
                      </a:lnTo>
                      <a:lnTo>
                        <a:pt x="175" y="693"/>
                      </a:lnTo>
                      <a:lnTo>
                        <a:pt x="0" y="84"/>
                      </a:lnTo>
                      <a:lnTo>
                        <a:pt x="41" y="33"/>
                      </a:lnTo>
                      <a:lnTo>
                        <a:pt x="60" y="18"/>
                      </a:lnTo>
                      <a:lnTo>
                        <a:pt x="109" y="0"/>
                      </a:lnTo>
                      <a:lnTo>
                        <a:pt x="377" y="778"/>
                      </a:lnTo>
                      <a:lnTo>
                        <a:pt x="1036" y="125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802640" y="5609520"/>
                  <a:ext cx="158400" cy="135360"/>
                </a:xfrm>
                <a:custGeom>
                  <a:avLst/>
                  <a:gdLst/>
                  <a:ahLst/>
                  <a:rect l="l" t="t" r="r" b="b"/>
                  <a:pathLst>
                    <a:path w="496" h="425">
                      <a:moveTo>
                        <a:pt x="496" y="89"/>
                      </a:moveTo>
                      <a:lnTo>
                        <a:pt x="487" y="173"/>
                      </a:lnTo>
                      <a:lnTo>
                        <a:pt x="138" y="425"/>
                      </a:lnTo>
                      <a:lnTo>
                        <a:pt x="99" y="328"/>
                      </a:lnTo>
                      <a:lnTo>
                        <a:pt x="8" y="279"/>
                      </a:lnTo>
                      <a:lnTo>
                        <a:pt x="0" y="272"/>
                      </a:lnTo>
                      <a:lnTo>
                        <a:pt x="242" y="89"/>
                      </a:lnTo>
                      <a:lnTo>
                        <a:pt x="374" y="6"/>
                      </a:lnTo>
                      <a:lnTo>
                        <a:pt x="409" y="0"/>
                      </a:lnTo>
                      <a:lnTo>
                        <a:pt x="448" y="12"/>
                      </a:lnTo>
                      <a:lnTo>
                        <a:pt x="496" y="8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828840" y="5715720"/>
                  <a:ext cx="293760" cy="71640"/>
                </a:xfrm>
                <a:custGeom>
                  <a:avLst/>
                  <a:gdLst/>
                  <a:ahLst/>
                  <a:rect l="l" t="t" r="r" b="b"/>
                  <a:pathLst>
                    <a:path w="919" h="221">
                      <a:moveTo>
                        <a:pt x="721" y="124"/>
                      </a:moveTo>
                      <a:lnTo>
                        <a:pt x="582" y="182"/>
                      </a:lnTo>
                      <a:lnTo>
                        <a:pt x="539" y="221"/>
                      </a:lnTo>
                      <a:lnTo>
                        <a:pt x="0" y="75"/>
                      </a:lnTo>
                      <a:lnTo>
                        <a:pt x="326" y="52"/>
                      </a:lnTo>
                      <a:lnTo>
                        <a:pt x="675" y="19"/>
                      </a:lnTo>
                      <a:lnTo>
                        <a:pt x="859" y="9"/>
                      </a:lnTo>
                      <a:lnTo>
                        <a:pt x="865" y="0"/>
                      </a:lnTo>
                      <a:lnTo>
                        <a:pt x="919" y="0"/>
                      </a:lnTo>
                      <a:lnTo>
                        <a:pt x="721" y="124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000640" y="5719320"/>
                  <a:ext cx="41040" cy="101160"/>
                </a:xfrm>
                <a:custGeom>
                  <a:avLst/>
                  <a:gdLst/>
                  <a:ahLst/>
                  <a:rect l="l" t="t" r="r" b="b"/>
                  <a:pathLst>
                    <a:path w="129" h="317">
                      <a:moveTo>
                        <a:pt x="129" y="125"/>
                      </a:moveTo>
                      <a:lnTo>
                        <a:pt x="81" y="268"/>
                      </a:lnTo>
                      <a:lnTo>
                        <a:pt x="42" y="317"/>
                      </a:lnTo>
                      <a:lnTo>
                        <a:pt x="0" y="239"/>
                      </a:lnTo>
                      <a:lnTo>
                        <a:pt x="13" y="189"/>
                      </a:lnTo>
                      <a:lnTo>
                        <a:pt x="58" y="220"/>
                      </a:lnTo>
                      <a:lnTo>
                        <a:pt x="67" y="229"/>
                      </a:lnTo>
                      <a:lnTo>
                        <a:pt x="81" y="229"/>
                      </a:lnTo>
                      <a:lnTo>
                        <a:pt x="91" y="220"/>
                      </a:lnTo>
                      <a:lnTo>
                        <a:pt x="36" y="142"/>
                      </a:lnTo>
                      <a:lnTo>
                        <a:pt x="42" y="121"/>
                      </a:lnTo>
                      <a:lnTo>
                        <a:pt x="50" y="115"/>
                      </a:lnTo>
                      <a:lnTo>
                        <a:pt x="73" y="115"/>
                      </a:lnTo>
                      <a:lnTo>
                        <a:pt x="97" y="142"/>
                      </a:lnTo>
                      <a:lnTo>
                        <a:pt x="112" y="142"/>
                      </a:lnTo>
                      <a:lnTo>
                        <a:pt x="129" y="125"/>
                      </a:lnTo>
                      <a:lnTo>
                        <a:pt x="67" y="66"/>
                      </a:lnTo>
                      <a:lnTo>
                        <a:pt x="97" y="76"/>
                      </a:lnTo>
                      <a:lnTo>
                        <a:pt x="112" y="90"/>
                      </a:lnTo>
                      <a:lnTo>
                        <a:pt x="129" y="76"/>
                      </a:lnTo>
                      <a:lnTo>
                        <a:pt x="73" y="6"/>
                      </a:lnTo>
                      <a:lnTo>
                        <a:pt x="73" y="0"/>
                      </a:lnTo>
                      <a:lnTo>
                        <a:pt x="129" y="6"/>
                      </a:lnTo>
                      <a:lnTo>
                        <a:pt x="129" y="12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995160" y="5732280"/>
                  <a:ext cx="127440" cy="203040"/>
                </a:xfrm>
                <a:custGeom>
                  <a:avLst/>
                  <a:gdLst/>
                  <a:ahLst/>
                  <a:rect l="l" t="t" r="r" b="b"/>
                  <a:pathLst>
                    <a:path w="395" h="636">
                      <a:moveTo>
                        <a:pt x="0" y="636"/>
                      </a:moveTo>
                      <a:lnTo>
                        <a:pt x="46" y="229"/>
                      </a:lnTo>
                      <a:lnTo>
                        <a:pt x="46" y="200"/>
                      </a:lnTo>
                      <a:lnTo>
                        <a:pt x="197" y="115"/>
                      </a:lnTo>
                      <a:lnTo>
                        <a:pt x="325" y="51"/>
                      </a:lnTo>
                      <a:lnTo>
                        <a:pt x="395" y="0"/>
                      </a:lnTo>
                      <a:lnTo>
                        <a:pt x="211" y="326"/>
                      </a:lnTo>
                      <a:lnTo>
                        <a:pt x="0" y="63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59800" y="5764320"/>
                  <a:ext cx="129960" cy="164520"/>
                </a:xfrm>
                <a:custGeom>
                  <a:avLst/>
                  <a:gdLst/>
                  <a:ahLst/>
                  <a:rect l="l" t="t" r="r" b="b"/>
                  <a:pathLst>
                    <a:path w="409" h="512">
                      <a:moveTo>
                        <a:pt x="403" y="429"/>
                      </a:moveTo>
                      <a:lnTo>
                        <a:pt x="386" y="489"/>
                      </a:lnTo>
                      <a:lnTo>
                        <a:pt x="386" y="512"/>
                      </a:lnTo>
                      <a:lnTo>
                        <a:pt x="367" y="306"/>
                      </a:lnTo>
                      <a:lnTo>
                        <a:pt x="396" y="283"/>
                      </a:lnTo>
                      <a:lnTo>
                        <a:pt x="396" y="192"/>
                      </a:lnTo>
                      <a:lnTo>
                        <a:pt x="343" y="114"/>
                      </a:lnTo>
                      <a:lnTo>
                        <a:pt x="295" y="87"/>
                      </a:lnTo>
                      <a:lnTo>
                        <a:pt x="256" y="97"/>
                      </a:lnTo>
                      <a:lnTo>
                        <a:pt x="0" y="0"/>
                      </a:lnTo>
                      <a:lnTo>
                        <a:pt x="409" y="114"/>
                      </a:lnTo>
                      <a:lnTo>
                        <a:pt x="403" y="42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392240" y="5801400"/>
                  <a:ext cx="163440" cy="48600"/>
                </a:xfrm>
                <a:custGeom>
                  <a:avLst/>
                  <a:gdLst/>
                  <a:ahLst/>
                  <a:rect l="l" t="t" r="r" b="b"/>
                  <a:pathLst>
                    <a:path w="512" h="154">
                      <a:moveTo>
                        <a:pt x="512" y="97"/>
                      </a:moveTo>
                      <a:lnTo>
                        <a:pt x="473" y="136"/>
                      </a:lnTo>
                      <a:lnTo>
                        <a:pt x="465" y="88"/>
                      </a:lnTo>
                      <a:lnTo>
                        <a:pt x="446" y="94"/>
                      </a:lnTo>
                      <a:lnTo>
                        <a:pt x="419" y="136"/>
                      </a:lnTo>
                      <a:lnTo>
                        <a:pt x="419" y="154"/>
                      </a:lnTo>
                      <a:lnTo>
                        <a:pt x="392" y="146"/>
                      </a:lnTo>
                      <a:lnTo>
                        <a:pt x="368" y="146"/>
                      </a:lnTo>
                      <a:lnTo>
                        <a:pt x="368" y="70"/>
                      </a:lnTo>
                      <a:lnTo>
                        <a:pt x="351" y="55"/>
                      </a:lnTo>
                      <a:lnTo>
                        <a:pt x="337" y="55"/>
                      </a:lnTo>
                      <a:lnTo>
                        <a:pt x="332" y="109"/>
                      </a:lnTo>
                      <a:lnTo>
                        <a:pt x="332" y="130"/>
                      </a:lnTo>
                      <a:lnTo>
                        <a:pt x="301" y="130"/>
                      </a:lnTo>
                      <a:lnTo>
                        <a:pt x="283" y="115"/>
                      </a:lnTo>
                      <a:lnTo>
                        <a:pt x="283" y="49"/>
                      </a:lnTo>
                      <a:lnTo>
                        <a:pt x="268" y="31"/>
                      </a:lnTo>
                      <a:lnTo>
                        <a:pt x="244" y="49"/>
                      </a:lnTo>
                      <a:lnTo>
                        <a:pt x="254" y="125"/>
                      </a:lnTo>
                      <a:lnTo>
                        <a:pt x="186" y="109"/>
                      </a:lnTo>
                      <a:lnTo>
                        <a:pt x="178" y="39"/>
                      </a:lnTo>
                      <a:lnTo>
                        <a:pt x="163" y="24"/>
                      </a:lnTo>
                      <a:lnTo>
                        <a:pt x="147" y="31"/>
                      </a:lnTo>
                      <a:lnTo>
                        <a:pt x="140" y="78"/>
                      </a:lnTo>
                      <a:lnTo>
                        <a:pt x="140" y="97"/>
                      </a:lnTo>
                      <a:lnTo>
                        <a:pt x="91" y="97"/>
                      </a:lnTo>
                      <a:lnTo>
                        <a:pt x="91" y="31"/>
                      </a:lnTo>
                      <a:lnTo>
                        <a:pt x="72" y="12"/>
                      </a:lnTo>
                      <a:lnTo>
                        <a:pt x="56" y="24"/>
                      </a:lnTo>
                      <a:lnTo>
                        <a:pt x="56" y="94"/>
                      </a:lnTo>
                      <a:lnTo>
                        <a:pt x="15" y="88"/>
                      </a:lnTo>
                      <a:lnTo>
                        <a:pt x="0" y="88"/>
                      </a:lnTo>
                      <a:lnTo>
                        <a:pt x="10" y="12"/>
                      </a:lnTo>
                      <a:lnTo>
                        <a:pt x="48" y="0"/>
                      </a:lnTo>
                      <a:lnTo>
                        <a:pt x="283" y="16"/>
                      </a:lnTo>
                      <a:lnTo>
                        <a:pt x="512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364160" y="580536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60" h="82">
                      <a:moveTo>
                        <a:pt x="48" y="82"/>
                      </a:moveTo>
                      <a:lnTo>
                        <a:pt x="21" y="82"/>
                      </a:lnTo>
                      <a:lnTo>
                        <a:pt x="0" y="19"/>
                      </a:lnTo>
                      <a:lnTo>
                        <a:pt x="60" y="0"/>
                      </a:lnTo>
                      <a:lnTo>
                        <a:pt x="48" y="58"/>
                      </a:lnTo>
                      <a:lnTo>
                        <a:pt x="48" y="82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931520" y="5806440"/>
                  <a:ext cx="79200" cy="74160"/>
                </a:xfrm>
                <a:custGeom>
                  <a:avLst/>
                  <a:gdLst/>
                  <a:ahLst/>
                  <a:rect l="l" t="t" r="r" b="b"/>
                  <a:pathLst>
                    <a:path w="245" h="235">
                      <a:moveTo>
                        <a:pt x="115" y="196"/>
                      </a:moveTo>
                      <a:lnTo>
                        <a:pt x="4" y="235"/>
                      </a:lnTo>
                      <a:lnTo>
                        <a:pt x="0" y="169"/>
                      </a:lnTo>
                      <a:lnTo>
                        <a:pt x="0" y="153"/>
                      </a:lnTo>
                      <a:lnTo>
                        <a:pt x="22" y="138"/>
                      </a:lnTo>
                      <a:lnTo>
                        <a:pt x="37" y="138"/>
                      </a:lnTo>
                      <a:lnTo>
                        <a:pt x="43" y="186"/>
                      </a:lnTo>
                      <a:lnTo>
                        <a:pt x="60" y="196"/>
                      </a:lnTo>
                      <a:lnTo>
                        <a:pt x="66" y="196"/>
                      </a:lnTo>
                      <a:lnTo>
                        <a:pt x="82" y="186"/>
                      </a:lnTo>
                      <a:lnTo>
                        <a:pt x="66" y="109"/>
                      </a:lnTo>
                      <a:lnTo>
                        <a:pt x="103" y="81"/>
                      </a:lnTo>
                      <a:lnTo>
                        <a:pt x="157" y="145"/>
                      </a:lnTo>
                      <a:lnTo>
                        <a:pt x="173" y="130"/>
                      </a:lnTo>
                      <a:lnTo>
                        <a:pt x="142" y="62"/>
                      </a:lnTo>
                      <a:lnTo>
                        <a:pt x="181" y="0"/>
                      </a:lnTo>
                      <a:lnTo>
                        <a:pt x="245" y="72"/>
                      </a:lnTo>
                      <a:lnTo>
                        <a:pt x="115" y="19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669000" y="5808960"/>
                  <a:ext cx="289800" cy="670320"/>
                </a:xfrm>
                <a:custGeom>
                  <a:avLst/>
                  <a:gdLst/>
                  <a:ahLst/>
                  <a:rect l="l" t="t" r="r" b="b"/>
                  <a:pathLst>
                    <a:path w="905" h="2092">
                      <a:moveTo>
                        <a:pt x="905" y="15"/>
                      </a:moveTo>
                      <a:lnTo>
                        <a:pt x="523" y="444"/>
                      </a:lnTo>
                      <a:lnTo>
                        <a:pt x="289" y="884"/>
                      </a:lnTo>
                      <a:lnTo>
                        <a:pt x="242" y="1156"/>
                      </a:lnTo>
                      <a:lnTo>
                        <a:pt x="242" y="1423"/>
                      </a:lnTo>
                      <a:lnTo>
                        <a:pt x="289" y="1621"/>
                      </a:lnTo>
                      <a:lnTo>
                        <a:pt x="372" y="1842"/>
                      </a:lnTo>
                      <a:lnTo>
                        <a:pt x="203" y="2063"/>
                      </a:lnTo>
                      <a:lnTo>
                        <a:pt x="159" y="2092"/>
                      </a:lnTo>
                      <a:lnTo>
                        <a:pt x="104" y="1858"/>
                      </a:lnTo>
                      <a:lnTo>
                        <a:pt x="23" y="1584"/>
                      </a:lnTo>
                      <a:lnTo>
                        <a:pt x="0" y="1472"/>
                      </a:lnTo>
                      <a:lnTo>
                        <a:pt x="5" y="1318"/>
                      </a:lnTo>
                      <a:lnTo>
                        <a:pt x="104" y="975"/>
                      </a:lnTo>
                      <a:lnTo>
                        <a:pt x="273" y="657"/>
                      </a:lnTo>
                      <a:lnTo>
                        <a:pt x="506" y="341"/>
                      </a:lnTo>
                      <a:lnTo>
                        <a:pt x="864" y="7"/>
                      </a:lnTo>
                      <a:lnTo>
                        <a:pt x="882" y="0"/>
                      </a:lnTo>
                      <a:lnTo>
                        <a:pt x="888" y="0"/>
                      </a:lnTo>
                      <a:lnTo>
                        <a:pt x="905" y="1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37520" y="5811840"/>
                  <a:ext cx="21600" cy="2520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68" y="66"/>
                      </a:moveTo>
                      <a:lnTo>
                        <a:pt x="37" y="84"/>
                      </a:lnTo>
                      <a:lnTo>
                        <a:pt x="10" y="57"/>
                      </a:lnTo>
                      <a:lnTo>
                        <a:pt x="0" y="8"/>
                      </a:lnTo>
                      <a:lnTo>
                        <a:pt x="31" y="0"/>
                      </a:lnTo>
                      <a:lnTo>
                        <a:pt x="60" y="3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263360" y="5817960"/>
                  <a:ext cx="68760" cy="58680"/>
                </a:xfrm>
                <a:custGeom>
                  <a:avLst/>
                  <a:gdLst/>
                  <a:ahLst/>
                  <a:rect l="l" t="t" r="r" b="b"/>
                  <a:pathLst>
                    <a:path w="212" h="184">
                      <a:moveTo>
                        <a:pt x="212" y="75"/>
                      </a:moveTo>
                      <a:lnTo>
                        <a:pt x="183" y="99"/>
                      </a:lnTo>
                      <a:lnTo>
                        <a:pt x="161" y="75"/>
                      </a:lnTo>
                      <a:lnTo>
                        <a:pt x="152" y="42"/>
                      </a:lnTo>
                      <a:lnTo>
                        <a:pt x="146" y="39"/>
                      </a:lnTo>
                      <a:lnTo>
                        <a:pt x="130" y="39"/>
                      </a:lnTo>
                      <a:lnTo>
                        <a:pt x="130" y="91"/>
                      </a:lnTo>
                      <a:lnTo>
                        <a:pt x="146" y="114"/>
                      </a:lnTo>
                      <a:lnTo>
                        <a:pt x="123" y="137"/>
                      </a:lnTo>
                      <a:lnTo>
                        <a:pt x="68" y="81"/>
                      </a:lnTo>
                      <a:lnTo>
                        <a:pt x="61" y="81"/>
                      </a:lnTo>
                      <a:lnTo>
                        <a:pt x="53" y="91"/>
                      </a:lnTo>
                      <a:lnTo>
                        <a:pt x="86" y="168"/>
                      </a:lnTo>
                      <a:lnTo>
                        <a:pt x="68" y="184"/>
                      </a:lnTo>
                      <a:lnTo>
                        <a:pt x="20" y="153"/>
                      </a:lnTo>
                      <a:lnTo>
                        <a:pt x="0" y="130"/>
                      </a:lnTo>
                      <a:lnTo>
                        <a:pt x="123" y="39"/>
                      </a:lnTo>
                      <a:lnTo>
                        <a:pt x="183" y="0"/>
                      </a:lnTo>
                      <a:lnTo>
                        <a:pt x="198" y="0"/>
                      </a:lnTo>
                      <a:lnTo>
                        <a:pt x="212" y="7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752160" y="5829480"/>
                  <a:ext cx="218160" cy="560160"/>
                </a:xfrm>
                <a:custGeom>
                  <a:avLst/>
                  <a:gdLst/>
                  <a:ahLst/>
                  <a:rect l="l" t="t" r="r" b="b"/>
                  <a:pathLst>
                    <a:path w="685" h="1749">
                      <a:moveTo>
                        <a:pt x="685" y="48"/>
                      </a:moveTo>
                      <a:lnTo>
                        <a:pt x="503" y="265"/>
                      </a:lnTo>
                      <a:lnTo>
                        <a:pt x="353" y="570"/>
                      </a:lnTo>
                      <a:lnTo>
                        <a:pt x="245" y="878"/>
                      </a:lnTo>
                      <a:lnTo>
                        <a:pt x="212" y="1229"/>
                      </a:lnTo>
                      <a:lnTo>
                        <a:pt x="229" y="1375"/>
                      </a:lnTo>
                      <a:lnTo>
                        <a:pt x="266" y="1505"/>
                      </a:lnTo>
                      <a:lnTo>
                        <a:pt x="336" y="1580"/>
                      </a:lnTo>
                      <a:lnTo>
                        <a:pt x="353" y="1679"/>
                      </a:lnTo>
                      <a:lnTo>
                        <a:pt x="134" y="1749"/>
                      </a:lnTo>
                      <a:lnTo>
                        <a:pt x="68" y="1572"/>
                      </a:lnTo>
                      <a:lnTo>
                        <a:pt x="0" y="1282"/>
                      </a:lnTo>
                      <a:lnTo>
                        <a:pt x="37" y="938"/>
                      </a:lnTo>
                      <a:lnTo>
                        <a:pt x="107" y="727"/>
                      </a:lnTo>
                      <a:lnTo>
                        <a:pt x="363" y="310"/>
                      </a:lnTo>
                      <a:lnTo>
                        <a:pt x="679" y="0"/>
                      </a:lnTo>
                      <a:lnTo>
                        <a:pt x="685" y="27"/>
                      </a:lnTo>
                      <a:lnTo>
                        <a:pt x="685" y="4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876000" y="5835960"/>
                  <a:ext cx="752400" cy="554760"/>
                </a:xfrm>
                <a:custGeom>
                  <a:avLst/>
                  <a:gdLst/>
                  <a:ahLst/>
                  <a:rect l="l" t="t" r="r" b="b"/>
                  <a:pathLst>
                    <a:path w="2353" h="1734">
                      <a:moveTo>
                        <a:pt x="2353" y="142"/>
                      </a:moveTo>
                      <a:lnTo>
                        <a:pt x="2353" y="206"/>
                      </a:lnTo>
                      <a:lnTo>
                        <a:pt x="891" y="1233"/>
                      </a:lnTo>
                      <a:lnTo>
                        <a:pt x="167" y="1734"/>
                      </a:lnTo>
                      <a:lnTo>
                        <a:pt x="86" y="1712"/>
                      </a:lnTo>
                      <a:lnTo>
                        <a:pt x="0" y="1602"/>
                      </a:lnTo>
                      <a:lnTo>
                        <a:pt x="0" y="1551"/>
                      </a:lnTo>
                      <a:lnTo>
                        <a:pt x="297" y="1348"/>
                      </a:lnTo>
                      <a:lnTo>
                        <a:pt x="726" y="1055"/>
                      </a:lnTo>
                      <a:lnTo>
                        <a:pt x="1424" y="572"/>
                      </a:lnTo>
                      <a:lnTo>
                        <a:pt x="2070" y="99"/>
                      </a:lnTo>
                      <a:lnTo>
                        <a:pt x="2215" y="0"/>
                      </a:lnTo>
                      <a:lnTo>
                        <a:pt x="2291" y="60"/>
                      </a:lnTo>
                      <a:lnTo>
                        <a:pt x="2353" y="14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883280" y="5856480"/>
                  <a:ext cx="43200" cy="30600"/>
                </a:xfrm>
                <a:custGeom>
                  <a:avLst/>
                  <a:gdLst/>
                  <a:ahLst/>
                  <a:rect l="l" t="t" r="r" b="b"/>
                  <a:pathLst>
                    <a:path w="136" h="93">
                      <a:moveTo>
                        <a:pt x="136" y="76"/>
                      </a:moveTo>
                      <a:lnTo>
                        <a:pt x="76" y="93"/>
                      </a:lnTo>
                      <a:lnTo>
                        <a:pt x="43" y="64"/>
                      </a:lnTo>
                      <a:lnTo>
                        <a:pt x="23" y="64"/>
                      </a:lnTo>
                      <a:lnTo>
                        <a:pt x="0" y="10"/>
                      </a:lnTo>
                      <a:lnTo>
                        <a:pt x="27" y="10"/>
                      </a:lnTo>
                      <a:lnTo>
                        <a:pt x="54" y="48"/>
                      </a:lnTo>
                      <a:lnTo>
                        <a:pt x="58" y="52"/>
                      </a:lnTo>
                      <a:lnTo>
                        <a:pt x="81" y="10"/>
                      </a:lnTo>
                      <a:lnTo>
                        <a:pt x="105" y="0"/>
                      </a:lnTo>
                      <a:lnTo>
                        <a:pt x="130" y="70"/>
                      </a:lnTo>
                      <a:lnTo>
                        <a:pt x="136" y="7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207200" y="5865480"/>
                  <a:ext cx="68760" cy="214920"/>
                </a:xfrm>
                <a:custGeom>
                  <a:avLst/>
                  <a:gdLst/>
                  <a:ahLst/>
                  <a:rect l="l" t="t" r="r" b="b"/>
                  <a:pathLst>
                    <a:path w="213" h="669">
                      <a:moveTo>
                        <a:pt x="196" y="97"/>
                      </a:moveTo>
                      <a:lnTo>
                        <a:pt x="171" y="97"/>
                      </a:lnTo>
                      <a:lnTo>
                        <a:pt x="161" y="74"/>
                      </a:lnTo>
                      <a:lnTo>
                        <a:pt x="147" y="58"/>
                      </a:lnTo>
                      <a:lnTo>
                        <a:pt x="130" y="58"/>
                      </a:lnTo>
                      <a:lnTo>
                        <a:pt x="114" y="74"/>
                      </a:lnTo>
                      <a:lnTo>
                        <a:pt x="161" y="151"/>
                      </a:lnTo>
                      <a:lnTo>
                        <a:pt x="114" y="140"/>
                      </a:lnTo>
                      <a:lnTo>
                        <a:pt x="83" y="120"/>
                      </a:lnTo>
                      <a:lnTo>
                        <a:pt x="62" y="136"/>
                      </a:lnTo>
                      <a:lnTo>
                        <a:pt x="130" y="196"/>
                      </a:lnTo>
                      <a:lnTo>
                        <a:pt x="114" y="227"/>
                      </a:lnTo>
                      <a:lnTo>
                        <a:pt x="83" y="212"/>
                      </a:lnTo>
                      <a:lnTo>
                        <a:pt x="62" y="212"/>
                      </a:lnTo>
                      <a:lnTo>
                        <a:pt x="47" y="227"/>
                      </a:lnTo>
                      <a:lnTo>
                        <a:pt x="83" y="254"/>
                      </a:lnTo>
                      <a:lnTo>
                        <a:pt x="93" y="250"/>
                      </a:lnTo>
                      <a:lnTo>
                        <a:pt x="114" y="272"/>
                      </a:lnTo>
                      <a:lnTo>
                        <a:pt x="107" y="287"/>
                      </a:lnTo>
                      <a:lnTo>
                        <a:pt x="93" y="303"/>
                      </a:lnTo>
                      <a:lnTo>
                        <a:pt x="39" y="287"/>
                      </a:lnTo>
                      <a:lnTo>
                        <a:pt x="23" y="303"/>
                      </a:lnTo>
                      <a:lnTo>
                        <a:pt x="33" y="326"/>
                      </a:lnTo>
                      <a:lnTo>
                        <a:pt x="83" y="349"/>
                      </a:lnTo>
                      <a:lnTo>
                        <a:pt x="8" y="369"/>
                      </a:lnTo>
                      <a:lnTo>
                        <a:pt x="8" y="386"/>
                      </a:lnTo>
                      <a:lnTo>
                        <a:pt x="33" y="402"/>
                      </a:lnTo>
                      <a:lnTo>
                        <a:pt x="56" y="392"/>
                      </a:lnTo>
                      <a:lnTo>
                        <a:pt x="78" y="392"/>
                      </a:lnTo>
                      <a:lnTo>
                        <a:pt x="83" y="417"/>
                      </a:lnTo>
                      <a:lnTo>
                        <a:pt x="83" y="440"/>
                      </a:lnTo>
                      <a:lnTo>
                        <a:pt x="39" y="446"/>
                      </a:lnTo>
                      <a:lnTo>
                        <a:pt x="15" y="446"/>
                      </a:lnTo>
                      <a:lnTo>
                        <a:pt x="8" y="456"/>
                      </a:lnTo>
                      <a:lnTo>
                        <a:pt x="8" y="468"/>
                      </a:lnTo>
                      <a:lnTo>
                        <a:pt x="33" y="483"/>
                      </a:lnTo>
                      <a:lnTo>
                        <a:pt x="83" y="479"/>
                      </a:lnTo>
                      <a:lnTo>
                        <a:pt x="93" y="499"/>
                      </a:lnTo>
                      <a:lnTo>
                        <a:pt x="93" y="522"/>
                      </a:lnTo>
                      <a:lnTo>
                        <a:pt x="33" y="545"/>
                      </a:lnTo>
                      <a:lnTo>
                        <a:pt x="23" y="555"/>
                      </a:lnTo>
                      <a:lnTo>
                        <a:pt x="23" y="570"/>
                      </a:lnTo>
                      <a:lnTo>
                        <a:pt x="83" y="570"/>
                      </a:lnTo>
                      <a:lnTo>
                        <a:pt x="99" y="555"/>
                      </a:lnTo>
                      <a:lnTo>
                        <a:pt x="114" y="594"/>
                      </a:lnTo>
                      <a:lnTo>
                        <a:pt x="114" y="621"/>
                      </a:lnTo>
                      <a:lnTo>
                        <a:pt x="39" y="669"/>
                      </a:lnTo>
                      <a:lnTo>
                        <a:pt x="0" y="417"/>
                      </a:lnTo>
                      <a:lnTo>
                        <a:pt x="39" y="173"/>
                      </a:lnTo>
                      <a:lnTo>
                        <a:pt x="122" y="25"/>
                      </a:lnTo>
                      <a:lnTo>
                        <a:pt x="153" y="0"/>
                      </a:lnTo>
                      <a:lnTo>
                        <a:pt x="213" y="74"/>
                      </a:lnTo>
                      <a:lnTo>
                        <a:pt x="196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22320" y="6055920"/>
                  <a:ext cx="19080" cy="864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60" y="15"/>
                      </a:moveTo>
                      <a:lnTo>
                        <a:pt x="15" y="27"/>
                      </a:lnTo>
                      <a:lnTo>
                        <a:pt x="0" y="27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6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219800" y="6195600"/>
                  <a:ext cx="34200" cy="35640"/>
                </a:xfrm>
                <a:custGeom>
                  <a:avLst/>
                  <a:gdLst/>
                  <a:ahLst/>
                  <a:rect l="l" t="t" r="r" b="b"/>
                  <a:pathLst>
                    <a:path w="108" h="114">
                      <a:moveTo>
                        <a:pt x="17" y="50"/>
                      </a:moveTo>
                      <a:lnTo>
                        <a:pt x="8" y="58"/>
                      </a:lnTo>
                      <a:lnTo>
                        <a:pt x="23" y="74"/>
                      </a:lnTo>
                      <a:lnTo>
                        <a:pt x="83" y="66"/>
                      </a:lnTo>
                      <a:lnTo>
                        <a:pt x="91" y="66"/>
                      </a:lnTo>
                      <a:lnTo>
                        <a:pt x="91" y="114"/>
                      </a:lnTo>
                      <a:lnTo>
                        <a:pt x="0" y="114"/>
                      </a:lnTo>
                      <a:lnTo>
                        <a:pt x="0" y="43"/>
                      </a:lnTo>
                      <a:lnTo>
                        <a:pt x="83" y="0"/>
                      </a:lnTo>
                      <a:lnTo>
                        <a:pt x="108" y="21"/>
                      </a:lnTo>
                      <a:lnTo>
                        <a:pt x="17" y="5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969600" y="6238800"/>
                  <a:ext cx="282240" cy="177480"/>
                </a:xfrm>
                <a:custGeom>
                  <a:avLst/>
                  <a:gdLst/>
                  <a:ahLst/>
                  <a:rect l="l" t="t" r="r" b="b"/>
                  <a:pathLst>
                    <a:path w="883" h="556">
                      <a:moveTo>
                        <a:pt x="883" y="44"/>
                      </a:moveTo>
                      <a:lnTo>
                        <a:pt x="784" y="52"/>
                      </a:lnTo>
                      <a:lnTo>
                        <a:pt x="792" y="68"/>
                      </a:lnTo>
                      <a:lnTo>
                        <a:pt x="867" y="93"/>
                      </a:lnTo>
                      <a:lnTo>
                        <a:pt x="875" y="83"/>
                      </a:lnTo>
                      <a:lnTo>
                        <a:pt x="875" y="120"/>
                      </a:lnTo>
                      <a:lnTo>
                        <a:pt x="784" y="132"/>
                      </a:lnTo>
                      <a:lnTo>
                        <a:pt x="778" y="136"/>
                      </a:lnTo>
                      <a:lnTo>
                        <a:pt x="778" y="141"/>
                      </a:lnTo>
                      <a:lnTo>
                        <a:pt x="792" y="159"/>
                      </a:lnTo>
                      <a:lnTo>
                        <a:pt x="867" y="159"/>
                      </a:lnTo>
                      <a:lnTo>
                        <a:pt x="823" y="296"/>
                      </a:lnTo>
                      <a:lnTo>
                        <a:pt x="737" y="265"/>
                      </a:lnTo>
                      <a:lnTo>
                        <a:pt x="724" y="281"/>
                      </a:lnTo>
                      <a:lnTo>
                        <a:pt x="778" y="320"/>
                      </a:lnTo>
                      <a:lnTo>
                        <a:pt x="801" y="320"/>
                      </a:lnTo>
                      <a:lnTo>
                        <a:pt x="778" y="347"/>
                      </a:lnTo>
                      <a:lnTo>
                        <a:pt x="753" y="370"/>
                      </a:lnTo>
                      <a:lnTo>
                        <a:pt x="702" y="331"/>
                      </a:lnTo>
                      <a:lnTo>
                        <a:pt x="687" y="331"/>
                      </a:lnTo>
                      <a:lnTo>
                        <a:pt x="677" y="343"/>
                      </a:lnTo>
                      <a:lnTo>
                        <a:pt x="724" y="395"/>
                      </a:lnTo>
                      <a:lnTo>
                        <a:pt x="724" y="411"/>
                      </a:lnTo>
                      <a:lnTo>
                        <a:pt x="693" y="426"/>
                      </a:lnTo>
                      <a:lnTo>
                        <a:pt x="631" y="388"/>
                      </a:lnTo>
                      <a:lnTo>
                        <a:pt x="615" y="388"/>
                      </a:lnTo>
                      <a:lnTo>
                        <a:pt x="611" y="395"/>
                      </a:lnTo>
                      <a:lnTo>
                        <a:pt x="664" y="457"/>
                      </a:lnTo>
                      <a:lnTo>
                        <a:pt x="611" y="485"/>
                      </a:lnTo>
                      <a:lnTo>
                        <a:pt x="572" y="419"/>
                      </a:lnTo>
                      <a:lnTo>
                        <a:pt x="563" y="411"/>
                      </a:lnTo>
                      <a:lnTo>
                        <a:pt x="555" y="411"/>
                      </a:lnTo>
                      <a:lnTo>
                        <a:pt x="539" y="426"/>
                      </a:lnTo>
                      <a:lnTo>
                        <a:pt x="572" y="502"/>
                      </a:lnTo>
                      <a:lnTo>
                        <a:pt x="524" y="518"/>
                      </a:lnTo>
                      <a:lnTo>
                        <a:pt x="479" y="457"/>
                      </a:lnTo>
                      <a:lnTo>
                        <a:pt x="464" y="473"/>
                      </a:lnTo>
                      <a:lnTo>
                        <a:pt x="479" y="533"/>
                      </a:lnTo>
                      <a:lnTo>
                        <a:pt x="442" y="533"/>
                      </a:lnTo>
                      <a:lnTo>
                        <a:pt x="419" y="494"/>
                      </a:lnTo>
                      <a:lnTo>
                        <a:pt x="409" y="485"/>
                      </a:lnTo>
                      <a:lnTo>
                        <a:pt x="396" y="494"/>
                      </a:lnTo>
                      <a:lnTo>
                        <a:pt x="402" y="539"/>
                      </a:lnTo>
                      <a:lnTo>
                        <a:pt x="349" y="549"/>
                      </a:lnTo>
                      <a:lnTo>
                        <a:pt x="344" y="479"/>
                      </a:lnTo>
                      <a:lnTo>
                        <a:pt x="328" y="461"/>
                      </a:lnTo>
                      <a:lnTo>
                        <a:pt x="311" y="479"/>
                      </a:lnTo>
                      <a:lnTo>
                        <a:pt x="320" y="549"/>
                      </a:lnTo>
                      <a:lnTo>
                        <a:pt x="287" y="556"/>
                      </a:lnTo>
                      <a:lnTo>
                        <a:pt x="268" y="556"/>
                      </a:lnTo>
                      <a:lnTo>
                        <a:pt x="250" y="479"/>
                      </a:lnTo>
                      <a:lnTo>
                        <a:pt x="245" y="473"/>
                      </a:lnTo>
                      <a:lnTo>
                        <a:pt x="229" y="485"/>
                      </a:lnTo>
                      <a:lnTo>
                        <a:pt x="235" y="549"/>
                      </a:lnTo>
                      <a:lnTo>
                        <a:pt x="173" y="533"/>
                      </a:lnTo>
                      <a:lnTo>
                        <a:pt x="167" y="473"/>
                      </a:lnTo>
                      <a:lnTo>
                        <a:pt x="153" y="457"/>
                      </a:lnTo>
                      <a:lnTo>
                        <a:pt x="138" y="461"/>
                      </a:lnTo>
                      <a:lnTo>
                        <a:pt x="142" y="533"/>
                      </a:lnTo>
                      <a:lnTo>
                        <a:pt x="76" y="518"/>
                      </a:lnTo>
                      <a:lnTo>
                        <a:pt x="66" y="461"/>
                      </a:lnTo>
                      <a:lnTo>
                        <a:pt x="66" y="446"/>
                      </a:lnTo>
                      <a:lnTo>
                        <a:pt x="60" y="442"/>
                      </a:lnTo>
                      <a:lnTo>
                        <a:pt x="43" y="442"/>
                      </a:lnTo>
                      <a:lnTo>
                        <a:pt x="39" y="510"/>
                      </a:lnTo>
                      <a:lnTo>
                        <a:pt x="16" y="502"/>
                      </a:lnTo>
                      <a:lnTo>
                        <a:pt x="0" y="461"/>
                      </a:lnTo>
                      <a:lnTo>
                        <a:pt x="53" y="411"/>
                      </a:lnTo>
                      <a:lnTo>
                        <a:pt x="367" y="461"/>
                      </a:lnTo>
                      <a:lnTo>
                        <a:pt x="534" y="419"/>
                      </a:lnTo>
                      <a:lnTo>
                        <a:pt x="677" y="312"/>
                      </a:lnTo>
                      <a:lnTo>
                        <a:pt x="745" y="182"/>
                      </a:lnTo>
                      <a:lnTo>
                        <a:pt x="768" y="0"/>
                      </a:lnTo>
                      <a:lnTo>
                        <a:pt x="883" y="17"/>
                      </a:lnTo>
                      <a:lnTo>
                        <a:pt x="883" y="44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335000" y="6283800"/>
                  <a:ext cx="261720" cy="156960"/>
                </a:xfrm>
                <a:custGeom>
                  <a:avLst/>
                  <a:gdLst/>
                  <a:ahLst/>
                  <a:rect l="l" t="t" r="r" b="b"/>
                  <a:pathLst>
                    <a:path w="820" h="491">
                      <a:moveTo>
                        <a:pt x="455" y="491"/>
                      </a:moveTo>
                      <a:lnTo>
                        <a:pt x="128" y="419"/>
                      </a:lnTo>
                      <a:lnTo>
                        <a:pt x="0" y="384"/>
                      </a:lnTo>
                      <a:lnTo>
                        <a:pt x="211" y="320"/>
                      </a:lnTo>
                      <a:lnTo>
                        <a:pt x="789" y="26"/>
                      </a:lnTo>
                      <a:lnTo>
                        <a:pt x="820" y="0"/>
                      </a:lnTo>
                      <a:lnTo>
                        <a:pt x="546" y="384"/>
                      </a:lnTo>
                      <a:lnTo>
                        <a:pt x="455" y="49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489800" y="6287400"/>
                  <a:ext cx="118800" cy="286560"/>
                </a:xfrm>
                <a:custGeom>
                  <a:avLst/>
                  <a:gdLst/>
                  <a:ahLst/>
                  <a:rect l="l" t="t" r="r" b="b"/>
                  <a:pathLst>
                    <a:path w="375" h="898">
                      <a:moveTo>
                        <a:pt x="70" y="898"/>
                      </a:moveTo>
                      <a:lnTo>
                        <a:pt x="28" y="588"/>
                      </a:lnTo>
                      <a:lnTo>
                        <a:pt x="0" y="524"/>
                      </a:lnTo>
                      <a:lnTo>
                        <a:pt x="33" y="448"/>
                      </a:lnTo>
                      <a:lnTo>
                        <a:pt x="268" y="145"/>
                      </a:lnTo>
                      <a:lnTo>
                        <a:pt x="375" y="0"/>
                      </a:lnTo>
                      <a:lnTo>
                        <a:pt x="115" y="791"/>
                      </a:lnTo>
                      <a:lnTo>
                        <a:pt x="70" y="89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217280" y="630180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60" y="31"/>
                      </a:moveTo>
                      <a:lnTo>
                        <a:pt x="14" y="31"/>
                      </a:lnTo>
                      <a:lnTo>
                        <a:pt x="0" y="0"/>
                      </a:lnTo>
                      <a:lnTo>
                        <a:pt x="66" y="21"/>
                      </a:lnTo>
                      <a:lnTo>
                        <a:pt x="6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39320" y="6348960"/>
                  <a:ext cx="238680" cy="84240"/>
                </a:xfrm>
                <a:custGeom>
                  <a:avLst/>
                  <a:gdLst/>
                  <a:ahLst/>
                  <a:rect l="l" t="t" r="r" b="b"/>
                  <a:pathLst>
                    <a:path w="747" h="266">
                      <a:moveTo>
                        <a:pt x="723" y="60"/>
                      </a:moveTo>
                      <a:lnTo>
                        <a:pt x="747" y="114"/>
                      </a:lnTo>
                      <a:lnTo>
                        <a:pt x="723" y="114"/>
                      </a:lnTo>
                      <a:lnTo>
                        <a:pt x="718" y="68"/>
                      </a:lnTo>
                      <a:lnTo>
                        <a:pt x="708" y="60"/>
                      </a:lnTo>
                      <a:lnTo>
                        <a:pt x="692" y="76"/>
                      </a:lnTo>
                      <a:lnTo>
                        <a:pt x="692" y="114"/>
                      </a:lnTo>
                      <a:lnTo>
                        <a:pt x="654" y="103"/>
                      </a:lnTo>
                      <a:lnTo>
                        <a:pt x="665" y="37"/>
                      </a:lnTo>
                      <a:lnTo>
                        <a:pt x="648" y="21"/>
                      </a:lnTo>
                      <a:lnTo>
                        <a:pt x="626" y="45"/>
                      </a:lnTo>
                      <a:lnTo>
                        <a:pt x="617" y="103"/>
                      </a:lnTo>
                      <a:lnTo>
                        <a:pt x="603" y="99"/>
                      </a:lnTo>
                      <a:lnTo>
                        <a:pt x="578" y="99"/>
                      </a:lnTo>
                      <a:lnTo>
                        <a:pt x="555" y="21"/>
                      </a:lnTo>
                      <a:lnTo>
                        <a:pt x="533" y="52"/>
                      </a:lnTo>
                      <a:lnTo>
                        <a:pt x="539" y="83"/>
                      </a:lnTo>
                      <a:lnTo>
                        <a:pt x="551" y="91"/>
                      </a:lnTo>
                      <a:lnTo>
                        <a:pt x="502" y="103"/>
                      </a:lnTo>
                      <a:lnTo>
                        <a:pt x="463" y="37"/>
                      </a:lnTo>
                      <a:lnTo>
                        <a:pt x="450" y="52"/>
                      </a:lnTo>
                      <a:lnTo>
                        <a:pt x="450" y="91"/>
                      </a:lnTo>
                      <a:lnTo>
                        <a:pt x="421" y="118"/>
                      </a:lnTo>
                      <a:lnTo>
                        <a:pt x="365" y="83"/>
                      </a:lnTo>
                      <a:lnTo>
                        <a:pt x="365" y="136"/>
                      </a:lnTo>
                      <a:lnTo>
                        <a:pt x="322" y="159"/>
                      </a:lnTo>
                      <a:lnTo>
                        <a:pt x="306" y="159"/>
                      </a:lnTo>
                      <a:lnTo>
                        <a:pt x="299" y="114"/>
                      </a:lnTo>
                      <a:lnTo>
                        <a:pt x="283" y="99"/>
                      </a:lnTo>
                      <a:lnTo>
                        <a:pt x="268" y="103"/>
                      </a:lnTo>
                      <a:lnTo>
                        <a:pt x="273" y="159"/>
                      </a:lnTo>
                      <a:lnTo>
                        <a:pt x="283" y="167"/>
                      </a:lnTo>
                      <a:lnTo>
                        <a:pt x="244" y="182"/>
                      </a:lnTo>
                      <a:lnTo>
                        <a:pt x="184" y="130"/>
                      </a:lnTo>
                      <a:lnTo>
                        <a:pt x="175" y="142"/>
                      </a:lnTo>
                      <a:lnTo>
                        <a:pt x="196" y="190"/>
                      </a:lnTo>
                      <a:lnTo>
                        <a:pt x="169" y="206"/>
                      </a:lnTo>
                      <a:lnTo>
                        <a:pt x="145" y="206"/>
                      </a:lnTo>
                      <a:lnTo>
                        <a:pt x="120" y="159"/>
                      </a:lnTo>
                      <a:lnTo>
                        <a:pt x="114" y="151"/>
                      </a:lnTo>
                      <a:lnTo>
                        <a:pt x="97" y="151"/>
                      </a:lnTo>
                      <a:lnTo>
                        <a:pt x="107" y="206"/>
                      </a:lnTo>
                      <a:lnTo>
                        <a:pt x="114" y="213"/>
                      </a:lnTo>
                      <a:lnTo>
                        <a:pt x="97" y="233"/>
                      </a:lnTo>
                      <a:lnTo>
                        <a:pt x="81" y="250"/>
                      </a:lnTo>
                      <a:lnTo>
                        <a:pt x="39" y="182"/>
                      </a:lnTo>
                      <a:lnTo>
                        <a:pt x="23" y="196"/>
                      </a:lnTo>
                      <a:lnTo>
                        <a:pt x="47" y="266"/>
                      </a:lnTo>
                      <a:lnTo>
                        <a:pt x="0" y="266"/>
                      </a:lnTo>
                      <a:lnTo>
                        <a:pt x="15" y="159"/>
                      </a:lnTo>
                      <a:lnTo>
                        <a:pt x="23" y="136"/>
                      </a:lnTo>
                      <a:lnTo>
                        <a:pt x="268" y="103"/>
                      </a:lnTo>
                      <a:lnTo>
                        <a:pt x="463" y="16"/>
                      </a:lnTo>
                      <a:lnTo>
                        <a:pt x="533" y="0"/>
                      </a:lnTo>
                      <a:lnTo>
                        <a:pt x="679" y="16"/>
                      </a:lnTo>
                      <a:lnTo>
                        <a:pt x="723" y="6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809760" y="6379560"/>
                  <a:ext cx="623160" cy="156960"/>
                </a:xfrm>
                <a:custGeom>
                  <a:avLst/>
                  <a:gdLst/>
                  <a:ahLst/>
                  <a:rect l="l" t="t" r="r" b="b"/>
                  <a:pathLst>
                    <a:path w="1947" h="489">
                      <a:moveTo>
                        <a:pt x="320" y="83"/>
                      </a:moveTo>
                      <a:lnTo>
                        <a:pt x="382" y="91"/>
                      </a:lnTo>
                      <a:lnTo>
                        <a:pt x="601" y="221"/>
                      </a:lnTo>
                      <a:lnTo>
                        <a:pt x="801" y="310"/>
                      </a:lnTo>
                      <a:lnTo>
                        <a:pt x="1208" y="386"/>
                      </a:lnTo>
                      <a:lnTo>
                        <a:pt x="1470" y="386"/>
                      </a:lnTo>
                      <a:lnTo>
                        <a:pt x="1730" y="335"/>
                      </a:lnTo>
                      <a:lnTo>
                        <a:pt x="1908" y="248"/>
                      </a:lnTo>
                      <a:lnTo>
                        <a:pt x="1947" y="260"/>
                      </a:lnTo>
                      <a:lnTo>
                        <a:pt x="1893" y="310"/>
                      </a:lnTo>
                      <a:lnTo>
                        <a:pt x="1730" y="386"/>
                      </a:lnTo>
                      <a:lnTo>
                        <a:pt x="1470" y="461"/>
                      </a:lnTo>
                      <a:lnTo>
                        <a:pt x="1111" y="489"/>
                      </a:lnTo>
                      <a:lnTo>
                        <a:pt x="807" y="425"/>
                      </a:lnTo>
                      <a:lnTo>
                        <a:pt x="539" y="347"/>
                      </a:lnTo>
                      <a:lnTo>
                        <a:pt x="448" y="304"/>
                      </a:lnTo>
                      <a:lnTo>
                        <a:pt x="205" y="211"/>
                      </a:lnTo>
                      <a:lnTo>
                        <a:pt x="0" y="60"/>
                      </a:lnTo>
                      <a:lnTo>
                        <a:pt x="153" y="0"/>
                      </a:lnTo>
                      <a:lnTo>
                        <a:pt x="213" y="4"/>
                      </a:lnTo>
                      <a:lnTo>
                        <a:pt x="320" y="8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400800" y="638604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21" y="24"/>
                      </a:move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21" y="12"/>
                      </a:lnTo>
                      <a:lnTo>
                        <a:pt x="2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56640" y="638964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21"/>
                      </a:moveTo>
                      <a:lnTo>
                        <a:pt x="8" y="0"/>
                      </a:lnTo>
                      <a:lnTo>
                        <a:pt x="24" y="29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729120" y="6406200"/>
                  <a:ext cx="726840" cy="174960"/>
                </a:xfrm>
                <a:custGeom>
                  <a:avLst/>
                  <a:gdLst/>
                  <a:ahLst/>
                  <a:rect l="l" t="t" r="r" b="b"/>
                  <a:pathLst>
                    <a:path w="2271" h="547">
                      <a:moveTo>
                        <a:pt x="772" y="291"/>
                      </a:moveTo>
                      <a:lnTo>
                        <a:pt x="791" y="313"/>
                      </a:lnTo>
                      <a:lnTo>
                        <a:pt x="1264" y="433"/>
                      </a:lnTo>
                      <a:lnTo>
                        <a:pt x="1600" y="433"/>
                      </a:lnTo>
                      <a:lnTo>
                        <a:pt x="1842" y="390"/>
                      </a:lnTo>
                      <a:lnTo>
                        <a:pt x="2145" y="264"/>
                      </a:lnTo>
                      <a:lnTo>
                        <a:pt x="2238" y="221"/>
                      </a:lnTo>
                      <a:lnTo>
                        <a:pt x="2255" y="227"/>
                      </a:lnTo>
                      <a:lnTo>
                        <a:pt x="2271" y="243"/>
                      </a:lnTo>
                      <a:lnTo>
                        <a:pt x="2259" y="295"/>
                      </a:lnTo>
                      <a:lnTo>
                        <a:pt x="2042" y="406"/>
                      </a:lnTo>
                      <a:lnTo>
                        <a:pt x="1586" y="541"/>
                      </a:lnTo>
                      <a:lnTo>
                        <a:pt x="1287" y="547"/>
                      </a:lnTo>
                      <a:lnTo>
                        <a:pt x="686" y="466"/>
                      </a:lnTo>
                      <a:lnTo>
                        <a:pt x="0" y="260"/>
                      </a:lnTo>
                      <a:lnTo>
                        <a:pt x="137" y="123"/>
                      </a:lnTo>
                      <a:lnTo>
                        <a:pt x="221" y="0"/>
                      </a:lnTo>
                      <a:lnTo>
                        <a:pt x="481" y="177"/>
                      </a:lnTo>
                      <a:lnTo>
                        <a:pt x="772" y="29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4080" y="6427080"/>
                  <a:ext cx="74160" cy="21600"/>
                </a:xfrm>
                <a:custGeom>
                  <a:avLst/>
                  <a:gdLst/>
                  <a:ahLst/>
                  <a:rect l="l" t="t" r="r" b="b"/>
                  <a:pathLst>
                    <a:path w="232" h="66">
                      <a:moveTo>
                        <a:pt x="151" y="66"/>
                      </a:moveTo>
                      <a:lnTo>
                        <a:pt x="0" y="0"/>
                      </a:lnTo>
                      <a:lnTo>
                        <a:pt x="232" y="51"/>
                      </a:lnTo>
                      <a:lnTo>
                        <a:pt x="151" y="6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437240" y="6446160"/>
                  <a:ext cx="57240" cy="114840"/>
                </a:xfrm>
                <a:custGeom>
                  <a:avLst/>
                  <a:gdLst/>
                  <a:ahLst/>
                  <a:rect l="l" t="t" r="r" b="b"/>
                  <a:pathLst>
                    <a:path w="180" h="358">
                      <a:moveTo>
                        <a:pt x="164" y="190"/>
                      </a:moveTo>
                      <a:lnTo>
                        <a:pt x="180" y="358"/>
                      </a:lnTo>
                      <a:lnTo>
                        <a:pt x="89" y="195"/>
                      </a:lnTo>
                      <a:lnTo>
                        <a:pt x="120" y="180"/>
                      </a:lnTo>
                      <a:lnTo>
                        <a:pt x="99" y="98"/>
                      </a:lnTo>
                      <a:lnTo>
                        <a:pt x="0" y="0"/>
                      </a:lnTo>
                      <a:lnTo>
                        <a:pt x="114" y="38"/>
                      </a:lnTo>
                      <a:lnTo>
                        <a:pt x="164" y="19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890040" y="5856480"/>
                  <a:ext cx="735840" cy="534600"/>
                </a:xfrm>
                <a:custGeom>
                  <a:avLst/>
                  <a:gdLst/>
                  <a:ahLst/>
                  <a:rect l="l" t="t" r="r" b="b"/>
                  <a:pathLst>
                    <a:path w="2302" h="1668">
                      <a:moveTo>
                        <a:pt x="2302" y="146"/>
                      </a:moveTo>
                      <a:lnTo>
                        <a:pt x="128" y="1668"/>
                      </a:lnTo>
                      <a:lnTo>
                        <a:pt x="35" y="1647"/>
                      </a:lnTo>
                      <a:lnTo>
                        <a:pt x="0" y="1612"/>
                      </a:lnTo>
                      <a:lnTo>
                        <a:pt x="2236" y="0"/>
                      </a:lnTo>
                      <a:lnTo>
                        <a:pt x="2302" y="72"/>
                      </a:lnTo>
                      <a:lnTo>
                        <a:pt x="2302" y="14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890040" y="6236280"/>
                  <a:ext cx="146880" cy="110880"/>
                </a:xfrm>
                <a:custGeom>
                  <a:avLst/>
                  <a:gdLst/>
                  <a:ahLst/>
                  <a:rect l="l" t="t" r="r" b="b"/>
                  <a:pathLst>
                    <a:path w="460" h="347">
                      <a:moveTo>
                        <a:pt x="0" y="297"/>
                      </a:moveTo>
                      <a:lnTo>
                        <a:pt x="337" y="70"/>
                      </a:lnTo>
                      <a:lnTo>
                        <a:pt x="429" y="0"/>
                      </a:lnTo>
                      <a:lnTo>
                        <a:pt x="460" y="0"/>
                      </a:lnTo>
                      <a:lnTo>
                        <a:pt x="19" y="347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1640" y="5738400"/>
                  <a:ext cx="72720" cy="17640"/>
                </a:xfrm>
                <a:custGeom>
                  <a:avLst/>
                  <a:gdLst/>
                  <a:ahLst/>
                  <a:rect l="l" t="t" r="r" b="b"/>
                  <a:pathLst>
                    <a:path w="227" h="56">
                      <a:moveTo>
                        <a:pt x="93" y="56"/>
                      </a:moveTo>
                      <a:lnTo>
                        <a:pt x="0" y="15"/>
                      </a:lnTo>
                      <a:lnTo>
                        <a:pt x="227" y="0"/>
                      </a:lnTo>
                      <a:lnTo>
                        <a:pt x="93" y="56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79640" y="6370560"/>
                  <a:ext cx="71280" cy="39600"/>
                </a:xfrm>
                <a:custGeom>
                  <a:avLst/>
                  <a:gdLst/>
                  <a:ahLst/>
                  <a:rect l="l" t="t" r="r" b="b"/>
                  <a:pathLst>
                    <a:path w="225" h="122">
                      <a:moveTo>
                        <a:pt x="87" y="122"/>
                      </a:moveTo>
                      <a:lnTo>
                        <a:pt x="0" y="103"/>
                      </a:lnTo>
                      <a:lnTo>
                        <a:pt x="225" y="0"/>
                      </a:lnTo>
                      <a:lnTo>
                        <a:pt x="87" y="12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825680" y="5623560"/>
                  <a:ext cx="135360" cy="125280"/>
                </a:xfrm>
                <a:custGeom>
                  <a:avLst/>
                  <a:gdLst/>
                  <a:ahLst/>
                  <a:rect l="l" t="t" r="r" b="b"/>
                  <a:pathLst>
                    <a:path w="424" h="394">
                      <a:moveTo>
                        <a:pt x="66" y="394"/>
                      </a:moveTo>
                      <a:lnTo>
                        <a:pt x="0" y="277"/>
                      </a:lnTo>
                      <a:lnTo>
                        <a:pt x="384" y="0"/>
                      </a:lnTo>
                      <a:lnTo>
                        <a:pt x="424" y="50"/>
                      </a:lnTo>
                      <a:lnTo>
                        <a:pt x="409" y="134"/>
                      </a:lnTo>
                      <a:lnTo>
                        <a:pt x="66" y="394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36920" y="54496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209" h="238">
                      <a:moveTo>
                        <a:pt x="0" y="227"/>
                      </a:moveTo>
                      <a:lnTo>
                        <a:pt x="25" y="153"/>
                      </a:lnTo>
                      <a:lnTo>
                        <a:pt x="87" y="52"/>
                      </a:lnTo>
                      <a:lnTo>
                        <a:pt x="161" y="0"/>
                      </a:lnTo>
                      <a:lnTo>
                        <a:pt x="209" y="0"/>
                      </a:lnTo>
                      <a:lnTo>
                        <a:pt x="139" y="77"/>
                      </a:lnTo>
                      <a:lnTo>
                        <a:pt x="87" y="143"/>
                      </a:lnTo>
                      <a:lnTo>
                        <a:pt x="66" y="238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076240" y="5610600"/>
                  <a:ext cx="91800" cy="66600"/>
                </a:xfrm>
                <a:custGeom>
                  <a:avLst/>
                  <a:gdLst/>
                  <a:ahLst/>
                  <a:rect l="l" t="t" r="r" b="b"/>
                  <a:pathLst>
                    <a:path w="289" h="212">
                      <a:moveTo>
                        <a:pt x="25" y="212"/>
                      </a:moveTo>
                      <a:lnTo>
                        <a:pt x="0" y="182"/>
                      </a:lnTo>
                      <a:lnTo>
                        <a:pt x="132" y="153"/>
                      </a:lnTo>
                      <a:lnTo>
                        <a:pt x="219" y="82"/>
                      </a:lnTo>
                      <a:lnTo>
                        <a:pt x="274" y="0"/>
                      </a:lnTo>
                      <a:lnTo>
                        <a:pt x="289" y="33"/>
                      </a:lnTo>
                      <a:lnTo>
                        <a:pt x="248" y="103"/>
                      </a:lnTo>
                      <a:lnTo>
                        <a:pt x="150" y="190"/>
                      </a:lnTo>
                      <a:lnTo>
                        <a:pt x="25" y="2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689520" y="6128640"/>
                  <a:ext cx="43200" cy="252000"/>
                </a:xfrm>
                <a:custGeom>
                  <a:avLst/>
                  <a:gdLst/>
                  <a:ahLst/>
                  <a:rect l="l" t="t" r="r" b="b"/>
                  <a:pathLst>
                    <a:path w="132" h="786">
                      <a:moveTo>
                        <a:pt x="132" y="704"/>
                      </a:moveTo>
                      <a:lnTo>
                        <a:pt x="72" y="786"/>
                      </a:lnTo>
                      <a:lnTo>
                        <a:pt x="12" y="541"/>
                      </a:lnTo>
                      <a:lnTo>
                        <a:pt x="0" y="348"/>
                      </a:lnTo>
                      <a:lnTo>
                        <a:pt x="30" y="144"/>
                      </a:lnTo>
                      <a:lnTo>
                        <a:pt x="92" y="0"/>
                      </a:lnTo>
                      <a:lnTo>
                        <a:pt x="92" y="103"/>
                      </a:lnTo>
                      <a:lnTo>
                        <a:pt x="72" y="297"/>
                      </a:lnTo>
                      <a:lnTo>
                        <a:pt x="72" y="429"/>
                      </a:lnTo>
                      <a:lnTo>
                        <a:pt x="92" y="571"/>
                      </a:lnTo>
                      <a:lnTo>
                        <a:pt x="132" y="70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610760" y="5634000"/>
                  <a:ext cx="260640" cy="334800"/>
                </a:xfrm>
                <a:custGeom>
                  <a:avLst/>
                  <a:gdLst/>
                  <a:ahLst/>
                  <a:rect l="l" t="t" r="r" b="b"/>
                  <a:pathLst>
                    <a:path w="810" h="1043">
                      <a:moveTo>
                        <a:pt x="0" y="0"/>
                      </a:moveTo>
                      <a:lnTo>
                        <a:pt x="143" y="397"/>
                      </a:lnTo>
                      <a:lnTo>
                        <a:pt x="197" y="593"/>
                      </a:lnTo>
                      <a:lnTo>
                        <a:pt x="486" y="830"/>
                      </a:lnTo>
                      <a:lnTo>
                        <a:pt x="810" y="1043"/>
                      </a:lnTo>
                      <a:lnTo>
                        <a:pt x="486" y="667"/>
                      </a:lnTo>
                      <a:lnTo>
                        <a:pt x="341" y="558"/>
                      </a:lnTo>
                      <a:lnTo>
                        <a:pt x="250" y="269"/>
                      </a:lnTo>
                      <a:lnTo>
                        <a:pt x="180" y="1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 rot="15850800">
                <a:off x="4952880" y="2741400"/>
                <a:ext cx="5791320" cy="152280"/>
              </a:xfrm>
              <a:custGeom>
                <a:avLst/>
                <a:gdLst>
                  <a:gd name="textAreaLeft" fmla="*/ 1158120 w 5791320"/>
                  <a:gd name="textAreaRight" fmla="*/ 4633200 w 5791320"/>
                  <a:gd name="textAreaTop" fmla="*/ 31320 h 152280"/>
                  <a:gd name="textAreaBottom" fmla="*/ 12096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229"/>
                    </a:moveTo>
                    <a:cubicBezTo>
                      <a:pt x="1440" y="-5667"/>
                      <a:pt x="7200" y="10125"/>
                      <a:pt x="8640" y="2229"/>
                    </a:cubicBezTo>
                    <a:cubicBezTo>
                      <a:pt x="10080" y="-5667"/>
                      <a:pt x="15840" y="10125"/>
                      <a:pt x="17280" y="2229"/>
                    </a:cubicBezTo>
                    <a:lnTo>
                      <a:pt x="21600" y="19371"/>
                    </a:lnTo>
                    <a:cubicBezTo>
                      <a:pt x="20160" y="27267"/>
                      <a:pt x="14400" y="11475"/>
                      <a:pt x="12960" y="19371"/>
                    </a:cubicBezTo>
                    <a:cubicBezTo>
                      <a:pt x="11520" y="27267"/>
                      <a:pt x="5760" y="11475"/>
                      <a:pt x="4320" y="19371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7467480" y="-785880"/>
              <a:ext cx="749520" cy="1569960"/>
              <a:chOff x="7467480" y="-785880"/>
              <a:chExt cx="749520" cy="1569960"/>
            </a:xfrm>
          </p:grpSpPr>
          <p:sp>
            <p:nvSpPr>
              <p:cNvPr id="96" name=""/>
              <p:cNvSpPr/>
              <p:nvPr/>
            </p:nvSpPr>
            <p:spPr>
              <a:xfrm>
                <a:off x="8013240" y="518400"/>
                <a:ext cx="88200" cy="127800"/>
              </a:xfrm>
              <a:custGeom>
                <a:avLst/>
                <a:gdLst/>
                <a:ahLst/>
                <a:rect l="l" t="t" r="r" b="b"/>
                <a:pathLst>
                  <a:path w="314" h="457">
                    <a:moveTo>
                      <a:pt x="235" y="0"/>
                    </a:moveTo>
                    <a:lnTo>
                      <a:pt x="0" y="9"/>
                    </a:lnTo>
                    <a:lnTo>
                      <a:pt x="64" y="457"/>
                    </a:lnTo>
                    <a:lnTo>
                      <a:pt x="314" y="43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7480" y="-785880"/>
                <a:ext cx="749520" cy="1569960"/>
              </a:xfrm>
              <a:custGeom>
                <a:avLst/>
                <a:gdLst/>
                <a:ahLst/>
                <a:rect l="l" t="t" r="r" b="b"/>
                <a:pathLst>
                  <a:path w="2680" h="5614">
                    <a:moveTo>
                      <a:pt x="136" y="1867"/>
                    </a:moveTo>
                    <a:lnTo>
                      <a:pt x="128" y="1865"/>
                    </a:lnTo>
                    <a:lnTo>
                      <a:pt x="114" y="1865"/>
                    </a:lnTo>
                    <a:lnTo>
                      <a:pt x="103" y="1865"/>
                    </a:lnTo>
                    <a:lnTo>
                      <a:pt x="93" y="1865"/>
                    </a:lnTo>
                    <a:lnTo>
                      <a:pt x="81" y="1865"/>
                    </a:lnTo>
                    <a:lnTo>
                      <a:pt x="70" y="1869"/>
                    </a:lnTo>
                    <a:lnTo>
                      <a:pt x="56" y="1871"/>
                    </a:lnTo>
                    <a:lnTo>
                      <a:pt x="45" y="1875"/>
                    </a:lnTo>
                    <a:lnTo>
                      <a:pt x="33" y="1881"/>
                    </a:lnTo>
                    <a:lnTo>
                      <a:pt x="25" y="1889"/>
                    </a:lnTo>
                    <a:lnTo>
                      <a:pt x="16" y="1897"/>
                    </a:lnTo>
                    <a:lnTo>
                      <a:pt x="10" y="1908"/>
                    </a:lnTo>
                    <a:lnTo>
                      <a:pt x="4" y="1920"/>
                    </a:lnTo>
                    <a:lnTo>
                      <a:pt x="4" y="1937"/>
                    </a:lnTo>
                    <a:lnTo>
                      <a:pt x="2" y="1957"/>
                    </a:lnTo>
                    <a:lnTo>
                      <a:pt x="0" y="1978"/>
                    </a:lnTo>
                    <a:lnTo>
                      <a:pt x="0" y="1988"/>
                    </a:lnTo>
                    <a:lnTo>
                      <a:pt x="0" y="1999"/>
                    </a:lnTo>
                    <a:lnTo>
                      <a:pt x="0" y="2011"/>
                    </a:lnTo>
                    <a:lnTo>
                      <a:pt x="0" y="2023"/>
                    </a:lnTo>
                    <a:lnTo>
                      <a:pt x="0" y="2042"/>
                    </a:lnTo>
                    <a:lnTo>
                      <a:pt x="4" y="2063"/>
                    </a:lnTo>
                    <a:lnTo>
                      <a:pt x="8" y="2083"/>
                    </a:lnTo>
                    <a:lnTo>
                      <a:pt x="14" y="2104"/>
                    </a:lnTo>
                    <a:lnTo>
                      <a:pt x="19" y="2121"/>
                    </a:lnTo>
                    <a:lnTo>
                      <a:pt x="27" y="2139"/>
                    </a:lnTo>
                    <a:lnTo>
                      <a:pt x="37" y="2152"/>
                    </a:lnTo>
                    <a:lnTo>
                      <a:pt x="50" y="2168"/>
                    </a:lnTo>
                    <a:lnTo>
                      <a:pt x="64" y="2180"/>
                    </a:lnTo>
                    <a:lnTo>
                      <a:pt x="81" y="2191"/>
                    </a:lnTo>
                    <a:lnTo>
                      <a:pt x="91" y="2195"/>
                    </a:lnTo>
                    <a:lnTo>
                      <a:pt x="101" y="2201"/>
                    </a:lnTo>
                    <a:lnTo>
                      <a:pt x="112" y="2205"/>
                    </a:lnTo>
                    <a:lnTo>
                      <a:pt x="124" y="2209"/>
                    </a:lnTo>
                    <a:lnTo>
                      <a:pt x="142" y="2211"/>
                    </a:lnTo>
                    <a:lnTo>
                      <a:pt x="159" y="2215"/>
                    </a:lnTo>
                    <a:lnTo>
                      <a:pt x="176" y="2216"/>
                    </a:lnTo>
                    <a:lnTo>
                      <a:pt x="196" y="2218"/>
                    </a:lnTo>
                    <a:lnTo>
                      <a:pt x="215" y="2218"/>
                    </a:lnTo>
                    <a:lnTo>
                      <a:pt x="235" y="2220"/>
                    </a:lnTo>
                    <a:lnTo>
                      <a:pt x="254" y="2220"/>
                    </a:lnTo>
                    <a:lnTo>
                      <a:pt x="275" y="2222"/>
                    </a:lnTo>
                    <a:lnTo>
                      <a:pt x="295" y="2220"/>
                    </a:lnTo>
                    <a:lnTo>
                      <a:pt x="314" y="2220"/>
                    </a:lnTo>
                    <a:lnTo>
                      <a:pt x="334" y="2220"/>
                    </a:lnTo>
                    <a:lnTo>
                      <a:pt x="355" y="2220"/>
                    </a:lnTo>
                    <a:lnTo>
                      <a:pt x="372" y="2220"/>
                    </a:lnTo>
                    <a:lnTo>
                      <a:pt x="394" y="2220"/>
                    </a:lnTo>
                    <a:lnTo>
                      <a:pt x="411" y="2220"/>
                    </a:lnTo>
                    <a:lnTo>
                      <a:pt x="432" y="2220"/>
                    </a:lnTo>
                    <a:lnTo>
                      <a:pt x="450" y="2220"/>
                    </a:lnTo>
                    <a:lnTo>
                      <a:pt x="467" y="2220"/>
                    </a:lnTo>
                    <a:lnTo>
                      <a:pt x="485" y="2220"/>
                    </a:lnTo>
                    <a:lnTo>
                      <a:pt x="502" y="2220"/>
                    </a:lnTo>
                    <a:lnTo>
                      <a:pt x="518" y="2220"/>
                    </a:lnTo>
                    <a:lnTo>
                      <a:pt x="533" y="2222"/>
                    </a:lnTo>
                    <a:lnTo>
                      <a:pt x="549" y="2224"/>
                    </a:lnTo>
                    <a:lnTo>
                      <a:pt x="564" y="2228"/>
                    </a:lnTo>
                    <a:lnTo>
                      <a:pt x="576" y="2230"/>
                    </a:lnTo>
                    <a:lnTo>
                      <a:pt x="590" y="2234"/>
                    </a:lnTo>
                    <a:lnTo>
                      <a:pt x="601" y="2240"/>
                    </a:lnTo>
                    <a:lnTo>
                      <a:pt x="613" y="2246"/>
                    </a:lnTo>
                    <a:lnTo>
                      <a:pt x="623" y="2251"/>
                    </a:lnTo>
                    <a:lnTo>
                      <a:pt x="632" y="2259"/>
                    </a:lnTo>
                    <a:lnTo>
                      <a:pt x="640" y="2267"/>
                    </a:lnTo>
                    <a:lnTo>
                      <a:pt x="650" y="2279"/>
                    </a:lnTo>
                    <a:lnTo>
                      <a:pt x="654" y="2294"/>
                    </a:lnTo>
                    <a:lnTo>
                      <a:pt x="648" y="2306"/>
                    </a:lnTo>
                    <a:lnTo>
                      <a:pt x="640" y="2310"/>
                    </a:lnTo>
                    <a:lnTo>
                      <a:pt x="630" y="2313"/>
                    </a:lnTo>
                    <a:lnTo>
                      <a:pt x="619" y="2315"/>
                    </a:lnTo>
                    <a:lnTo>
                      <a:pt x="607" y="2319"/>
                    </a:lnTo>
                    <a:lnTo>
                      <a:pt x="590" y="2319"/>
                    </a:lnTo>
                    <a:lnTo>
                      <a:pt x="572" y="2321"/>
                    </a:lnTo>
                    <a:lnTo>
                      <a:pt x="553" y="2321"/>
                    </a:lnTo>
                    <a:lnTo>
                      <a:pt x="533" y="2323"/>
                    </a:lnTo>
                    <a:lnTo>
                      <a:pt x="522" y="2323"/>
                    </a:lnTo>
                    <a:lnTo>
                      <a:pt x="510" y="2323"/>
                    </a:lnTo>
                    <a:lnTo>
                      <a:pt x="498" y="2323"/>
                    </a:lnTo>
                    <a:lnTo>
                      <a:pt x="489" y="2323"/>
                    </a:lnTo>
                    <a:lnTo>
                      <a:pt x="477" y="2323"/>
                    </a:lnTo>
                    <a:lnTo>
                      <a:pt x="465" y="2323"/>
                    </a:lnTo>
                    <a:lnTo>
                      <a:pt x="454" y="2323"/>
                    </a:lnTo>
                    <a:lnTo>
                      <a:pt x="444" y="2323"/>
                    </a:lnTo>
                    <a:lnTo>
                      <a:pt x="431" y="2321"/>
                    </a:lnTo>
                    <a:lnTo>
                      <a:pt x="417" y="2321"/>
                    </a:lnTo>
                    <a:lnTo>
                      <a:pt x="405" y="2321"/>
                    </a:lnTo>
                    <a:lnTo>
                      <a:pt x="394" y="2321"/>
                    </a:lnTo>
                    <a:lnTo>
                      <a:pt x="380" y="2321"/>
                    </a:lnTo>
                    <a:lnTo>
                      <a:pt x="367" y="2321"/>
                    </a:lnTo>
                    <a:lnTo>
                      <a:pt x="355" y="2321"/>
                    </a:lnTo>
                    <a:lnTo>
                      <a:pt x="343" y="2323"/>
                    </a:lnTo>
                    <a:lnTo>
                      <a:pt x="330" y="2323"/>
                    </a:lnTo>
                    <a:lnTo>
                      <a:pt x="318" y="2323"/>
                    </a:lnTo>
                    <a:lnTo>
                      <a:pt x="304" y="2323"/>
                    </a:lnTo>
                    <a:lnTo>
                      <a:pt x="293" y="2325"/>
                    </a:lnTo>
                    <a:lnTo>
                      <a:pt x="281" y="2325"/>
                    </a:lnTo>
                    <a:lnTo>
                      <a:pt x="270" y="2327"/>
                    </a:lnTo>
                    <a:lnTo>
                      <a:pt x="258" y="2329"/>
                    </a:lnTo>
                    <a:lnTo>
                      <a:pt x="246" y="2333"/>
                    </a:lnTo>
                    <a:lnTo>
                      <a:pt x="235" y="2333"/>
                    </a:lnTo>
                    <a:lnTo>
                      <a:pt x="223" y="2337"/>
                    </a:lnTo>
                    <a:lnTo>
                      <a:pt x="211" y="2339"/>
                    </a:lnTo>
                    <a:lnTo>
                      <a:pt x="202" y="2343"/>
                    </a:lnTo>
                    <a:lnTo>
                      <a:pt x="182" y="2348"/>
                    </a:lnTo>
                    <a:lnTo>
                      <a:pt x="165" y="2356"/>
                    </a:lnTo>
                    <a:lnTo>
                      <a:pt x="147" y="2364"/>
                    </a:lnTo>
                    <a:lnTo>
                      <a:pt x="132" y="2376"/>
                    </a:lnTo>
                    <a:lnTo>
                      <a:pt x="118" y="2387"/>
                    </a:lnTo>
                    <a:lnTo>
                      <a:pt x="109" y="2403"/>
                    </a:lnTo>
                    <a:lnTo>
                      <a:pt x="97" y="2414"/>
                    </a:lnTo>
                    <a:lnTo>
                      <a:pt x="87" y="2430"/>
                    </a:lnTo>
                    <a:lnTo>
                      <a:pt x="80" y="2441"/>
                    </a:lnTo>
                    <a:lnTo>
                      <a:pt x="74" y="2457"/>
                    </a:lnTo>
                    <a:lnTo>
                      <a:pt x="68" y="2469"/>
                    </a:lnTo>
                    <a:lnTo>
                      <a:pt x="62" y="2482"/>
                    </a:lnTo>
                    <a:lnTo>
                      <a:pt x="58" y="2496"/>
                    </a:lnTo>
                    <a:lnTo>
                      <a:pt x="56" y="2509"/>
                    </a:lnTo>
                    <a:lnTo>
                      <a:pt x="52" y="2521"/>
                    </a:lnTo>
                    <a:lnTo>
                      <a:pt x="50" y="2533"/>
                    </a:lnTo>
                    <a:lnTo>
                      <a:pt x="50" y="2544"/>
                    </a:lnTo>
                    <a:lnTo>
                      <a:pt x="50" y="2556"/>
                    </a:lnTo>
                    <a:lnTo>
                      <a:pt x="50" y="2566"/>
                    </a:lnTo>
                    <a:lnTo>
                      <a:pt x="50" y="2577"/>
                    </a:lnTo>
                    <a:lnTo>
                      <a:pt x="52" y="2589"/>
                    </a:lnTo>
                    <a:lnTo>
                      <a:pt x="56" y="2600"/>
                    </a:lnTo>
                    <a:lnTo>
                      <a:pt x="62" y="2616"/>
                    </a:lnTo>
                    <a:lnTo>
                      <a:pt x="72" y="2633"/>
                    </a:lnTo>
                    <a:lnTo>
                      <a:pt x="81" y="2645"/>
                    </a:lnTo>
                    <a:lnTo>
                      <a:pt x="93" y="2659"/>
                    </a:lnTo>
                    <a:lnTo>
                      <a:pt x="105" y="2666"/>
                    </a:lnTo>
                    <a:lnTo>
                      <a:pt x="120" y="2674"/>
                    </a:lnTo>
                    <a:lnTo>
                      <a:pt x="134" y="2676"/>
                    </a:lnTo>
                    <a:lnTo>
                      <a:pt x="151" y="2678"/>
                    </a:lnTo>
                    <a:lnTo>
                      <a:pt x="163" y="2672"/>
                    </a:lnTo>
                    <a:lnTo>
                      <a:pt x="173" y="2666"/>
                    </a:lnTo>
                    <a:lnTo>
                      <a:pt x="176" y="2657"/>
                    </a:lnTo>
                    <a:lnTo>
                      <a:pt x="182" y="2649"/>
                    </a:lnTo>
                    <a:lnTo>
                      <a:pt x="184" y="2635"/>
                    </a:lnTo>
                    <a:lnTo>
                      <a:pt x="186" y="2622"/>
                    </a:lnTo>
                    <a:lnTo>
                      <a:pt x="186" y="2608"/>
                    </a:lnTo>
                    <a:lnTo>
                      <a:pt x="190" y="2597"/>
                    </a:lnTo>
                    <a:lnTo>
                      <a:pt x="190" y="2581"/>
                    </a:lnTo>
                    <a:lnTo>
                      <a:pt x="196" y="2567"/>
                    </a:lnTo>
                    <a:lnTo>
                      <a:pt x="202" y="2556"/>
                    </a:lnTo>
                    <a:lnTo>
                      <a:pt x="213" y="2544"/>
                    </a:lnTo>
                    <a:lnTo>
                      <a:pt x="219" y="2538"/>
                    </a:lnTo>
                    <a:lnTo>
                      <a:pt x="227" y="2533"/>
                    </a:lnTo>
                    <a:lnTo>
                      <a:pt x="235" y="2529"/>
                    </a:lnTo>
                    <a:lnTo>
                      <a:pt x="246" y="2527"/>
                    </a:lnTo>
                    <a:lnTo>
                      <a:pt x="258" y="2523"/>
                    </a:lnTo>
                    <a:lnTo>
                      <a:pt x="271" y="2521"/>
                    </a:lnTo>
                    <a:lnTo>
                      <a:pt x="287" y="2521"/>
                    </a:lnTo>
                    <a:lnTo>
                      <a:pt x="304" y="2521"/>
                    </a:lnTo>
                    <a:lnTo>
                      <a:pt x="314" y="2523"/>
                    </a:lnTo>
                    <a:lnTo>
                      <a:pt x="326" y="2535"/>
                    </a:lnTo>
                    <a:lnTo>
                      <a:pt x="330" y="2540"/>
                    </a:lnTo>
                    <a:lnTo>
                      <a:pt x="334" y="2552"/>
                    </a:lnTo>
                    <a:lnTo>
                      <a:pt x="337" y="2562"/>
                    </a:lnTo>
                    <a:lnTo>
                      <a:pt x="341" y="2575"/>
                    </a:lnTo>
                    <a:lnTo>
                      <a:pt x="343" y="2587"/>
                    </a:lnTo>
                    <a:lnTo>
                      <a:pt x="347" y="2604"/>
                    </a:lnTo>
                    <a:lnTo>
                      <a:pt x="349" y="2622"/>
                    </a:lnTo>
                    <a:lnTo>
                      <a:pt x="353" y="2643"/>
                    </a:lnTo>
                    <a:lnTo>
                      <a:pt x="353" y="2651"/>
                    </a:lnTo>
                    <a:lnTo>
                      <a:pt x="355" y="2661"/>
                    </a:lnTo>
                    <a:lnTo>
                      <a:pt x="355" y="2672"/>
                    </a:lnTo>
                    <a:lnTo>
                      <a:pt x="357" y="2684"/>
                    </a:lnTo>
                    <a:lnTo>
                      <a:pt x="357" y="2695"/>
                    </a:lnTo>
                    <a:lnTo>
                      <a:pt x="359" y="2707"/>
                    </a:lnTo>
                    <a:lnTo>
                      <a:pt x="361" y="2721"/>
                    </a:lnTo>
                    <a:lnTo>
                      <a:pt x="363" y="2734"/>
                    </a:lnTo>
                    <a:lnTo>
                      <a:pt x="363" y="2746"/>
                    </a:lnTo>
                    <a:lnTo>
                      <a:pt x="363" y="2758"/>
                    </a:lnTo>
                    <a:lnTo>
                      <a:pt x="363" y="2771"/>
                    </a:lnTo>
                    <a:lnTo>
                      <a:pt x="365" y="2787"/>
                    </a:lnTo>
                    <a:lnTo>
                      <a:pt x="365" y="2800"/>
                    </a:lnTo>
                    <a:lnTo>
                      <a:pt x="365" y="2816"/>
                    </a:lnTo>
                    <a:lnTo>
                      <a:pt x="365" y="2829"/>
                    </a:lnTo>
                    <a:lnTo>
                      <a:pt x="367" y="2847"/>
                    </a:lnTo>
                    <a:lnTo>
                      <a:pt x="367" y="2860"/>
                    </a:lnTo>
                    <a:lnTo>
                      <a:pt x="367" y="2876"/>
                    </a:lnTo>
                    <a:lnTo>
                      <a:pt x="367" y="2893"/>
                    </a:lnTo>
                    <a:lnTo>
                      <a:pt x="368" y="2911"/>
                    </a:lnTo>
                    <a:lnTo>
                      <a:pt x="368" y="2926"/>
                    </a:lnTo>
                    <a:lnTo>
                      <a:pt x="370" y="2944"/>
                    </a:lnTo>
                    <a:lnTo>
                      <a:pt x="370" y="2961"/>
                    </a:lnTo>
                    <a:lnTo>
                      <a:pt x="372" y="2981"/>
                    </a:lnTo>
                    <a:lnTo>
                      <a:pt x="372" y="2998"/>
                    </a:lnTo>
                    <a:lnTo>
                      <a:pt x="372" y="3015"/>
                    </a:lnTo>
                    <a:lnTo>
                      <a:pt x="372" y="3035"/>
                    </a:lnTo>
                    <a:lnTo>
                      <a:pt x="374" y="3054"/>
                    </a:lnTo>
                    <a:lnTo>
                      <a:pt x="374" y="3072"/>
                    </a:lnTo>
                    <a:lnTo>
                      <a:pt x="376" y="3093"/>
                    </a:lnTo>
                    <a:lnTo>
                      <a:pt x="376" y="3112"/>
                    </a:lnTo>
                    <a:lnTo>
                      <a:pt x="378" y="3134"/>
                    </a:lnTo>
                    <a:lnTo>
                      <a:pt x="378" y="3153"/>
                    </a:lnTo>
                    <a:lnTo>
                      <a:pt x="378" y="3174"/>
                    </a:lnTo>
                    <a:lnTo>
                      <a:pt x="378" y="3194"/>
                    </a:lnTo>
                    <a:lnTo>
                      <a:pt x="380" y="3215"/>
                    </a:lnTo>
                    <a:lnTo>
                      <a:pt x="380" y="3237"/>
                    </a:lnTo>
                    <a:lnTo>
                      <a:pt x="382" y="3258"/>
                    </a:lnTo>
                    <a:lnTo>
                      <a:pt x="384" y="3281"/>
                    </a:lnTo>
                    <a:lnTo>
                      <a:pt x="386" y="3304"/>
                    </a:lnTo>
                    <a:lnTo>
                      <a:pt x="386" y="3324"/>
                    </a:lnTo>
                    <a:lnTo>
                      <a:pt x="386" y="3345"/>
                    </a:lnTo>
                    <a:lnTo>
                      <a:pt x="388" y="3365"/>
                    </a:lnTo>
                    <a:lnTo>
                      <a:pt x="390" y="3386"/>
                    </a:lnTo>
                    <a:lnTo>
                      <a:pt x="392" y="3403"/>
                    </a:lnTo>
                    <a:lnTo>
                      <a:pt x="396" y="3423"/>
                    </a:lnTo>
                    <a:lnTo>
                      <a:pt x="398" y="3440"/>
                    </a:lnTo>
                    <a:lnTo>
                      <a:pt x="401" y="3460"/>
                    </a:lnTo>
                    <a:lnTo>
                      <a:pt x="403" y="3475"/>
                    </a:lnTo>
                    <a:lnTo>
                      <a:pt x="407" y="3491"/>
                    </a:lnTo>
                    <a:lnTo>
                      <a:pt x="409" y="3506"/>
                    </a:lnTo>
                    <a:lnTo>
                      <a:pt x="413" y="3522"/>
                    </a:lnTo>
                    <a:lnTo>
                      <a:pt x="417" y="3535"/>
                    </a:lnTo>
                    <a:lnTo>
                      <a:pt x="421" y="3549"/>
                    </a:lnTo>
                    <a:lnTo>
                      <a:pt x="425" y="3562"/>
                    </a:lnTo>
                    <a:lnTo>
                      <a:pt x="431" y="3576"/>
                    </a:lnTo>
                    <a:lnTo>
                      <a:pt x="434" y="3586"/>
                    </a:lnTo>
                    <a:lnTo>
                      <a:pt x="438" y="3597"/>
                    </a:lnTo>
                    <a:lnTo>
                      <a:pt x="442" y="3609"/>
                    </a:lnTo>
                    <a:lnTo>
                      <a:pt x="448" y="3621"/>
                    </a:lnTo>
                    <a:lnTo>
                      <a:pt x="458" y="3638"/>
                    </a:lnTo>
                    <a:lnTo>
                      <a:pt x="469" y="3657"/>
                    </a:lnTo>
                    <a:lnTo>
                      <a:pt x="479" y="3673"/>
                    </a:lnTo>
                    <a:lnTo>
                      <a:pt x="491" y="3688"/>
                    </a:lnTo>
                    <a:lnTo>
                      <a:pt x="504" y="3700"/>
                    </a:lnTo>
                    <a:lnTo>
                      <a:pt x="518" y="3714"/>
                    </a:lnTo>
                    <a:lnTo>
                      <a:pt x="529" y="3721"/>
                    </a:lnTo>
                    <a:lnTo>
                      <a:pt x="543" y="3731"/>
                    </a:lnTo>
                    <a:lnTo>
                      <a:pt x="557" y="3737"/>
                    </a:lnTo>
                    <a:lnTo>
                      <a:pt x="570" y="3743"/>
                    </a:lnTo>
                    <a:lnTo>
                      <a:pt x="584" y="3747"/>
                    </a:lnTo>
                    <a:lnTo>
                      <a:pt x="599" y="3750"/>
                    </a:lnTo>
                    <a:lnTo>
                      <a:pt x="613" y="3754"/>
                    </a:lnTo>
                    <a:lnTo>
                      <a:pt x="628" y="3758"/>
                    </a:lnTo>
                    <a:lnTo>
                      <a:pt x="640" y="3758"/>
                    </a:lnTo>
                    <a:lnTo>
                      <a:pt x="655" y="3758"/>
                    </a:lnTo>
                    <a:lnTo>
                      <a:pt x="667" y="3758"/>
                    </a:lnTo>
                    <a:lnTo>
                      <a:pt x="683" y="3760"/>
                    </a:lnTo>
                    <a:lnTo>
                      <a:pt x="696" y="3758"/>
                    </a:lnTo>
                    <a:lnTo>
                      <a:pt x="710" y="3758"/>
                    </a:lnTo>
                    <a:lnTo>
                      <a:pt x="723" y="3756"/>
                    </a:lnTo>
                    <a:lnTo>
                      <a:pt x="739" y="3756"/>
                    </a:lnTo>
                    <a:lnTo>
                      <a:pt x="749" y="3754"/>
                    </a:lnTo>
                    <a:lnTo>
                      <a:pt x="760" y="3752"/>
                    </a:lnTo>
                    <a:lnTo>
                      <a:pt x="770" y="3750"/>
                    </a:lnTo>
                    <a:lnTo>
                      <a:pt x="782" y="3750"/>
                    </a:lnTo>
                    <a:lnTo>
                      <a:pt x="791" y="3750"/>
                    </a:lnTo>
                    <a:lnTo>
                      <a:pt x="803" y="3750"/>
                    </a:lnTo>
                    <a:lnTo>
                      <a:pt x="813" y="3750"/>
                    </a:lnTo>
                    <a:lnTo>
                      <a:pt x="824" y="3750"/>
                    </a:lnTo>
                    <a:lnTo>
                      <a:pt x="844" y="3750"/>
                    </a:lnTo>
                    <a:lnTo>
                      <a:pt x="863" y="3750"/>
                    </a:lnTo>
                    <a:lnTo>
                      <a:pt x="880" y="3752"/>
                    </a:lnTo>
                    <a:lnTo>
                      <a:pt x="898" y="3756"/>
                    </a:lnTo>
                    <a:lnTo>
                      <a:pt x="911" y="3758"/>
                    </a:lnTo>
                    <a:lnTo>
                      <a:pt x="925" y="3762"/>
                    </a:lnTo>
                    <a:lnTo>
                      <a:pt x="937" y="3768"/>
                    </a:lnTo>
                    <a:lnTo>
                      <a:pt x="948" y="3776"/>
                    </a:lnTo>
                    <a:lnTo>
                      <a:pt x="956" y="3781"/>
                    </a:lnTo>
                    <a:lnTo>
                      <a:pt x="962" y="3793"/>
                    </a:lnTo>
                    <a:lnTo>
                      <a:pt x="964" y="3803"/>
                    </a:lnTo>
                    <a:lnTo>
                      <a:pt x="966" y="3816"/>
                    </a:lnTo>
                    <a:lnTo>
                      <a:pt x="962" y="3830"/>
                    </a:lnTo>
                    <a:lnTo>
                      <a:pt x="962" y="3849"/>
                    </a:lnTo>
                    <a:lnTo>
                      <a:pt x="962" y="3861"/>
                    </a:lnTo>
                    <a:lnTo>
                      <a:pt x="962" y="3873"/>
                    </a:lnTo>
                    <a:lnTo>
                      <a:pt x="962" y="3884"/>
                    </a:lnTo>
                    <a:lnTo>
                      <a:pt x="964" y="3900"/>
                    </a:lnTo>
                    <a:lnTo>
                      <a:pt x="964" y="3913"/>
                    </a:lnTo>
                    <a:lnTo>
                      <a:pt x="964" y="3929"/>
                    </a:lnTo>
                    <a:lnTo>
                      <a:pt x="964" y="3944"/>
                    </a:lnTo>
                    <a:lnTo>
                      <a:pt x="966" y="3962"/>
                    </a:lnTo>
                    <a:lnTo>
                      <a:pt x="966" y="3979"/>
                    </a:lnTo>
                    <a:lnTo>
                      <a:pt x="968" y="3997"/>
                    </a:lnTo>
                    <a:lnTo>
                      <a:pt x="970" y="4016"/>
                    </a:lnTo>
                    <a:lnTo>
                      <a:pt x="974" y="4037"/>
                    </a:lnTo>
                    <a:lnTo>
                      <a:pt x="974" y="4055"/>
                    </a:lnTo>
                    <a:lnTo>
                      <a:pt x="975" y="4076"/>
                    </a:lnTo>
                    <a:lnTo>
                      <a:pt x="977" y="4096"/>
                    </a:lnTo>
                    <a:lnTo>
                      <a:pt x="979" y="4119"/>
                    </a:lnTo>
                    <a:lnTo>
                      <a:pt x="981" y="4140"/>
                    </a:lnTo>
                    <a:lnTo>
                      <a:pt x="985" y="4162"/>
                    </a:lnTo>
                    <a:lnTo>
                      <a:pt x="987" y="4185"/>
                    </a:lnTo>
                    <a:lnTo>
                      <a:pt x="991" y="4208"/>
                    </a:lnTo>
                    <a:lnTo>
                      <a:pt x="993" y="4231"/>
                    </a:lnTo>
                    <a:lnTo>
                      <a:pt x="997" y="4255"/>
                    </a:lnTo>
                    <a:lnTo>
                      <a:pt x="999" y="4278"/>
                    </a:lnTo>
                    <a:lnTo>
                      <a:pt x="1003" y="4301"/>
                    </a:lnTo>
                    <a:lnTo>
                      <a:pt x="1005" y="4324"/>
                    </a:lnTo>
                    <a:lnTo>
                      <a:pt x="1010" y="4350"/>
                    </a:lnTo>
                    <a:lnTo>
                      <a:pt x="1012" y="4373"/>
                    </a:lnTo>
                    <a:lnTo>
                      <a:pt x="1018" y="4398"/>
                    </a:lnTo>
                    <a:lnTo>
                      <a:pt x="1020" y="4421"/>
                    </a:lnTo>
                    <a:lnTo>
                      <a:pt x="1024" y="4445"/>
                    </a:lnTo>
                    <a:lnTo>
                      <a:pt x="1026" y="4468"/>
                    </a:lnTo>
                    <a:lnTo>
                      <a:pt x="1030" y="4491"/>
                    </a:lnTo>
                    <a:lnTo>
                      <a:pt x="1032" y="4514"/>
                    </a:lnTo>
                    <a:lnTo>
                      <a:pt x="1038" y="4538"/>
                    </a:lnTo>
                    <a:lnTo>
                      <a:pt x="1039" y="4561"/>
                    </a:lnTo>
                    <a:lnTo>
                      <a:pt x="1045" y="4584"/>
                    </a:lnTo>
                    <a:lnTo>
                      <a:pt x="1047" y="4606"/>
                    </a:lnTo>
                    <a:lnTo>
                      <a:pt x="1053" y="4629"/>
                    </a:lnTo>
                    <a:lnTo>
                      <a:pt x="1055" y="4650"/>
                    </a:lnTo>
                    <a:lnTo>
                      <a:pt x="1061" y="4672"/>
                    </a:lnTo>
                    <a:lnTo>
                      <a:pt x="1065" y="4691"/>
                    </a:lnTo>
                    <a:lnTo>
                      <a:pt x="1069" y="4712"/>
                    </a:lnTo>
                    <a:lnTo>
                      <a:pt x="1072" y="4734"/>
                    </a:lnTo>
                    <a:lnTo>
                      <a:pt x="1078" y="4755"/>
                    </a:lnTo>
                    <a:lnTo>
                      <a:pt x="1080" y="4772"/>
                    </a:lnTo>
                    <a:lnTo>
                      <a:pt x="1084" y="4792"/>
                    </a:lnTo>
                    <a:lnTo>
                      <a:pt x="1088" y="4809"/>
                    </a:lnTo>
                    <a:lnTo>
                      <a:pt x="1094" y="4827"/>
                    </a:lnTo>
                    <a:lnTo>
                      <a:pt x="1096" y="4842"/>
                    </a:lnTo>
                    <a:lnTo>
                      <a:pt x="1100" y="4858"/>
                    </a:lnTo>
                    <a:lnTo>
                      <a:pt x="1103" y="4873"/>
                    </a:lnTo>
                    <a:lnTo>
                      <a:pt x="1109" y="4889"/>
                    </a:lnTo>
                    <a:lnTo>
                      <a:pt x="1111" y="4900"/>
                    </a:lnTo>
                    <a:lnTo>
                      <a:pt x="1115" y="4912"/>
                    </a:lnTo>
                    <a:lnTo>
                      <a:pt x="1119" y="4924"/>
                    </a:lnTo>
                    <a:lnTo>
                      <a:pt x="1123" y="4935"/>
                    </a:lnTo>
                    <a:lnTo>
                      <a:pt x="1131" y="4953"/>
                    </a:lnTo>
                    <a:lnTo>
                      <a:pt x="1138" y="4968"/>
                    </a:lnTo>
                    <a:lnTo>
                      <a:pt x="1144" y="4978"/>
                    </a:lnTo>
                    <a:lnTo>
                      <a:pt x="1156" y="4993"/>
                    </a:lnTo>
                    <a:lnTo>
                      <a:pt x="1167" y="5009"/>
                    </a:lnTo>
                    <a:lnTo>
                      <a:pt x="1185" y="5028"/>
                    </a:lnTo>
                    <a:lnTo>
                      <a:pt x="1193" y="5036"/>
                    </a:lnTo>
                    <a:lnTo>
                      <a:pt x="1202" y="5046"/>
                    </a:lnTo>
                    <a:lnTo>
                      <a:pt x="1212" y="5057"/>
                    </a:lnTo>
                    <a:lnTo>
                      <a:pt x="1224" y="5069"/>
                    </a:lnTo>
                    <a:lnTo>
                      <a:pt x="1233" y="5079"/>
                    </a:lnTo>
                    <a:lnTo>
                      <a:pt x="1245" y="5090"/>
                    </a:lnTo>
                    <a:lnTo>
                      <a:pt x="1257" y="5102"/>
                    </a:lnTo>
                    <a:lnTo>
                      <a:pt x="1270" y="5116"/>
                    </a:lnTo>
                    <a:lnTo>
                      <a:pt x="1282" y="5127"/>
                    </a:lnTo>
                    <a:lnTo>
                      <a:pt x="1294" y="5139"/>
                    </a:lnTo>
                    <a:lnTo>
                      <a:pt x="1307" y="5153"/>
                    </a:lnTo>
                    <a:lnTo>
                      <a:pt x="1321" y="5166"/>
                    </a:lnTo>
                    <a:lnTo>
                      <a:pt x="1334" y="5178"/>
                    </a:lnTo>
                    <a:lnTo>
                      <a:pt x="1350" y="5191"/>
                    </a:lnTo>
                    <a:lnTo>
                      <a:pt x="1363" y="5205"/>
                    </a:lnTo>
                    <a:lnTo>
                      <a:pt x="1379" y="5220"/>
                    </a:lnTo>
                    <a:lnTo>
                      <a:pt x="1392" y="5232"/>
                    </a:lnTo>
                    <a:lnTo>
                      <a:pt x="1408" y="5246"/>
                    </a:lnTo>
                    <a:lnTo>
                      <a:pt x="1422" y="5259"/>
                    </a:lnTo>
                    <a:lnTo>
                      <a:pt x="1437" y="5275"/>
                    </a:lnTo>
                    <a:lnTo>
                      <a:pt x="1453" y="5286"/>
                    </a:lnTo>
                    <a:lnTo>
                      <a:pt x="1468" y="5302"/>
                    </a:lnTo>
                    <a:lnTo>
                      <a:pt x="1484" y="5315"/>
                    </a:lnTo>
                    <a:lnTo>
                      <a:pt x="1501" y="5331"/>
                    </a:lnTo>
                    <a:lnTo>
                      <a:pt x="1515" y="5343"/>
                    </a:lnTo>
                    <a:lnTo>
                      <a:pt x="1530" y="5356"/>
                    </a:lnTo>
                    <a:lnTo>
                      <a:pt x="1546" y="5370"/>
                    </a:lnTo>
                    <a:lnTo>
                      <a:pt x="1561" y="5383"/>
                    </a:lnTo>
                    <a:lnTo>
                      <a:pt x="1575" y="5395"/>
                    </a:lnTo>
                    <a:lnTo>
                      <a:pt x="1590" y="5408"/>
                    </a:lnTo>
                    <a:lnTo>
                      <a:pt x="1606" y="5422"/>
                    </a:lnTo>
                    <a:lnTo>
                      <a:pt x="1621" y="5436"/>
                    </a:lnTo>
                    <a:lnTo>
                      <a:pt x="1635" y="5447"/>
                    </a:lnTo>
                    <a:lnTo>
                      <a:pt x="1648" y="5459"/>
                    </a:lnTo>
                    <a:lnTo>
                      <a:pt x="1662" y="5471"/>
                    </a:lnTo>
                    <a:lnTo>
                      <a:pt x="1678" y="5482"/>
                    </a:lnTo>
                    <a:lnTo>
                      <a:pt x="1691" y="5492"/>
                    </a:lnTo>
                    <a:lnTo>
                      <a:pt x="1705" y="5504"/>
                    </a:lnTo>
                    <a:lnTo>
                      <a:pt x="1718" y="5513"/>
                    </a:lnTo>
                    <a:lnTo>
                      <a:pt x="1732" y="5525"/>
                    </a:lnTo>
                    <a:lnTo>
                      <a:pt x="1742" y="5533"/>
                    </a:lnTo>
                    <a:lnTo>
                      <a:pt x="1753" y="5540"/>
                    </a:lnTo>
                    <a:lnTo>
                      <a:pt x="1765" y="5548"/>
                    </a:lnTo>
                    <a:lnTo>
                      <a:pt x="1776" y="5558"/>
                    </a:lnTo>
                    <a:lnTo>
                      <a:pt x="1786" y="5566"/>
                    </a:lnTo>
                    <a:lnTo>
                      <a:pt x="1796" y="5573"/>
                    </a:lnTo>
                    <a:lnTo>
                      <a:pt x="1806" y="5579"/>
                    </a:lnTo>
                    <a:lnTo>
                      <a:pt x="1815" y="5587"/>
                    </a:lnTo>
                    <a:lnTo>
                      <a:pt x="1831" y="5597"/>
                    </a:lnTo>
                    <a:lnTo>
                      <a:pt x="1844" y="5604"/>
                    </a:lnTo>
                    <a:lnTo>
                      <a:pt x="1856" y="5610"/>
                    </a:lnTo>
                    <a:lnTo>
                      <a:pt x="1866" y="5614"/>
                    </a:lnTo>
                    <a:lnTo>
                      <a:pt x="1879" y="5614"/>
                    </a:lnTo>
                    <a:lnTo>
                      <a:pt x="1897" y="5614"/>
                    </a:lnTo>
                    <a:lnTo>
                      <a:pt x="1906" y="5614"/>
                    </a:lnTo>
                    <a:lnTo>
                      <a:pt x="1918" y="5614"/>
                    </a:lnTo>
                    <a:lnTo>
                      <a:pt x="1930" y="5614"/>
                    </a:lnTo>
                    <a:lnTo>
                      <a:pt x="1941" y="5614"/>
                    </a:lnTo>
                    <a:lnTo>
                      <a:pt x="1959" y="5612"/>
                    </a:lnTo>
                    <a:lnTo>
                      <a:pt x="1980" y="5610"/>
                    </a:lnTo>
                    <a:lnTo>
                      <a:pt x="1990" y="5608"/>
                    </a:lnTo>
                    <a:lnTo>
                      <a:pt x="1999" y="5608"/>
                    </a:lnTo>
                    <a:lnTo>
                      <a:pt x="2011" y="5606"/>
                    </a:lnTo>
                    <a:lnTo>
                      <a:pt x="2023" y="5606"/>
                    </a:lnTo>
                    <a:lnTo>
                      <a:pt x="2042" y="5602"/>
                    </a:lnTo>
                    <a:lnTo>
                      <a:pt x="2063" y="5599"/>
                    </a:lnTo>
                    <a:lnTo>
                      <a:pt x="2083" y="5595"/>
                    </a:lnTo>
                    <a:lnTo>
                      <a:pt x="2104" y="5591"/>
                    </a:lnTo>
                    <a:lnTo>
                      <a:pt x="2120" y="5583"/>
                    </a:lnTo>
                    <a:lnTo>
                      <a:pt x="2135" y="5577"/>
                    </a:lnTo>
                    <a:lnTo>
                      <a:pt x="2149" y="5568"/>
                    </a:lnTo>
                    <a:lnTo>
                      <a:pt x="2162" y="5560"/>
                    </a:lnTo>
                    <a:lnTo>
                      <a:pt x="2170" y="5548"/>
                    </a:lnTo>
                    <a:lnTo>
                      <a:pt x="2176" y="5538"/>
                    </a:lnTo>
                    <a:lnTo>
                      <a:pt x="2178" y="5527"/>
                    </a:lnTo>
                    <a:lnTo>
                      <a:pt x="2178" y="5515"/>
                    </a:lnTo>
                    <a:lnTo>
                      <a:pt x="2174" y="5504"/>
                    </a:lnTo>
                    <a:lnTo>
                      <a:pt x="2170" y="5492"/>
                    </a:lnTo>
                    <a:lnTo>
                      <a:pt x="2166" y="5480"/>
                    </a:lnTo>
                    <a:lnTo>
                      <a:pt x="2162" y="5469"/>
                    </a:lnTo>
                    <a:lnTo>
                      <a:pt x="2157" y="5453"/>
                    </a:lnTo>
                    <a:lnTo>
                      <a:pt x="2153" y="5438"/>
                    </a:lnTo>
                    <a:lnTo>
                      <a:pt x="2147" y="5422"/>
                    </a:lnTo>
                    <a:lnTo>
                      <a:pt x="2143" y="5407"/>
                    </a:lnTo>
                    <a:lnTo>
                      <a:pt x="2135" y="5387"/>
                    </a:lnTo>
                    <a:lnTo>
                      <a:pt x="2129" y="5370"/>
                    </a:lnTo>
                    <a:lnTo>
                      <a:pt x="2124" y="5352"/>
                    </a:lnTo>
                    <a:lnTo>
                      <a:pt x="2118" y="5335"/>
                    </a:lnTo>
                    <a:lnTo>
                      <a:pt x="2110" y="5313"/>
                    </a:lnTo>
                    <a:lnTo>
                      <a:pt x="2104" y="5296"/>
                    </a:lnTo>
                    <a:lnTo>
                      <a:pt x="2098" y="5275"/>
                    </a:lnTo>
                    <a:lnTo>
                      <a:pt x="2093" y="5257"/>
                    </a:lnTo>
                    <a:lnTo>
                      <a:pt x="2085" y="5236"/>
                    </a:lnTo>
                    <a:lnTo>
                      <a:pt x="2079" y="5216"/>
                    </a:lnTo>
                    <a:lnTo>
                      <a:pt x="2071" y="5195"/>
                    </a:lnTo>
                    <a:lnTo>
                      <a:pt x="2065" y="5178"/>
                    </a:lnTo>
                    <a:lnTo>
                      <a:pt x="2060" y="5158"/>
                    </a:lnTo>
                    <a:lnTo>
                      <a:pt x="2054" y="5139"/>
                    </a:lnTo>
                    <a:lnTo>
                      <a:pt x="2048" y="5121"/>
                    </a:lnTo>
                    <a:lnTo>
                      <a:pt x="2044" y="5104"/>
                    </a:lnTo>
                    <a:lnTo>
                      <a:pt x="2038" y="5087"/>
                    </a:lnTo>
                    <a:lnTo>
                      <a:pt x="2032" y="5069"/>
                    </a:lnTo>
                    <a:lnTo>
                      <a:pt x="2029" y="5052"/>
                    </a:lnTo>
                    <a:lnTo>
                      <a:pt x="2027" y="5038"/>
                    </a:lnTo>
                    <a:lnTo>
                      <a:pt x="2023" y="5023"/>
                    </a:lnTo>
                    <a:lnTo>
                      <a:pt x="2021" y="5011"/>
                    </a:lnTo>
                    <a:lnTo>
                      <a:pt x="2019" y="4999"/>
                    </a:lnTo>
                    <a:lnTo>
                      <a:pt x="2019" y="4990"/>
                    </a:lnTo>
                    <a:lnTo>
                      <a:pt x="2015" y="4976"/>
                    </a:lnTo>
                    <a:lnTo>
                      <a:pt x="2015" y="4962"/>
                    </a:lnTo>
                    <a:lnTo>
                      <a:pt x="2011" y="4947"/>
                    </a:lnTo>
                    <a:lnTo>
                      <a:pt x="2011" y="4931"/>
                    </a:lnTo>
                    <a:lnTo>
                      <a:pt x="2009" y="4912"/>
                    </a:lnTo>
                    <a:lnTo>
                      <a:pt x="2007" y="4895"/>
                    </a:lnTo>
                    <a:lnTo>
                      <a:pt x="2005" y="4875"/>
                    </a:lnTo>
                    <a:lnTo>
                      <a:pt x="2005" y="4856"/>
                    </a:lnTo>
                    <a:lnTo>
                      <a:pt x="2003" y="4844"/>
                    </a:lnTo>
                    <a:lnTo>
                      <a:pt x="2001" y="4833"/>
                    </a:lnTo>
                    <a:lnTo>
                      <a:pt x="1999" y="4821"/>
                    </a:lnTo>
                    <a:lnTo>
                      <a:pt x="1999" y="4809"/>
                    </a:lnTo>
                    <a:lnTo>
                      <a:pt x="1998" y="4798"/>
                    </a:lnTo>
                    <a:lnTo>
                      <a:pt x="1998" y="4786"/>
                    </a:lnTo>
                    <a:lnTo>
                      <a:pt x="1998" y="4774"/>
                    </a:lnTo>
                    <a:lnTo>
                      <a:pt x="1998" y="4765"/>
                    </a:lnTo>
                    <a:lnTo>
                      <a:pt x="1996" y="4753"/>
                    </a:lnTo>
                    <a:lnTo>
                      <a:pt x="1996" y="4741"/>
                    </a:lnTo>
                    <a:lnTo>
                      <a:pt x="1996" y="4730"/>
                    </a:lnTo>
                    <a:lnTo>
                      <a:pt x="1996" y="4718"/>
                    </a:lnTo>
                    <a:lnTo>
                      <a:pt x="1996" y="4706"/>
                    </a:lnTo>
                    <a:lnTo>
                      <a:pt x="1996" y="4695"/>
                    </a:lnTo>
                    <a:lnTo>
                      <a:pt x="1996" y="4683"/>
                    </a:lnTo>
                    <a:lnTo>
                      <a:pt x="1996" y="4672"/>
                    </a:lnTo>
                    <a:lnTo>
                      <a:pt x="1994" y="4658"/>
                    </a:lnTo>
                    <a:lnTo>
                      <a:pt x="1994" y="4646"/>
                    </a:lnTo>
                    <a:lnTo>
                      <a:pt x="1994" y="4635"/>
                    </a:lnTo>
                    <a:lnTo>
                      <a:pt x="1994" y="4623"/>
                    </a:lnTo>
                    <a:lnTo>
                      <a:pt x="1994" y="4611"/>
                    </a:lnTo>
                    <a:lnTo>
                      <a:pt x="1994" y="4600"/>
                    </a:lnTo>
                    <a:lnTo>
                      <a:pt x="1994" y="4588"/>
                    </a:lnTo>
                    <a:lnTo>
                      <a:pt x="1996" y="4578"/>
                    </a:lnTo>
                    <a:lnTo>
                      <a:pt x="1996" y="4567"/>
                    </a:lnTo>
                    <a:lnTo>
                      <a:pt x="1996" y="4555"/>
                    </a:lnTo>
                    <a:lnTo>
                      <a:pt x="1996" y="4546"/>
                    </a:lnTo>
                    <a:lnTo>
                      <a:pt x="1996" y="4536"/>
                    </a:lnTo>
                    <a:lnTo>
                      <a:pt x="1998" y="4518"/>
                    </a:lnTo>
                    <a:lnTo>
                      <a:pt x="2001" y="4501"/>
                    </a:lnTo>
                    <a:lnTo>
                      <a:pt x="2003" y="4482"/>
                    </a:lnTo>
                    <a:lnTo>
                      <a:pt x="2007" y="4466"/>
                    </a:lnTo>
                    <a:lnTo>
                      <a:pt x="2009" y="4452"/>
                    </a:lnTo>
                    <a:lnTo>
                      <a:pt x="2015" y="4441"/>
                    </a:lnTo>
                    <a:lnTo>
                      <a:pt x="2021" y="4429"/>
                    </a:lnTo>
                    <a:lnTo>
                      <a:pt x="2027" y="4421"/>
                    </a:lnTo>
                    <a:lnTo>
                      <a:pt x="2032" y="4414"/>
                    </a:lnTo>
                    <a:lnTo>
                      <a:pt x="2042" y="4412"/>
                    </a:lnTo>
                    <a:lnTo>
                      <a:pt x="2048" y="4406"/>
                    </a:lnTo>
                    <a:lnTo>
                      <a:pt x="2060" y="4402"/>
                    </a:lnTo>
                    <a:lnTo>
                      <a:pt x="2069" y="4398"/>
                    </a:lnTo>
                    <a:lnTo>
                      <a:pt x="2085" y="4394"/>
                    </a:lnTo>
                    <a:lnTo>
                      <a:pt x="2098" y="4390"/>
                    </a:lnTo>
                    <a:lnTo>
                      <a:pt x="2116" y="4387"/>
                    </a:lnTo>
                    <a:lnTo>
                      <a:pt x="2133" y="4383"/>
                    </a:lnTo>
                    <a:lnTo>
                      <a:pt x="2153" y="4379"/>
                    </a:lnTo>
                    <a:lnTo>
                      <a:pt x="2170" y="4373"/>
                    </a:lnTo>
                    <a:lnTo>
                      <a:pt x="2191" y="4369"/>
                    </a:lnTo>
                    <a:lnTo>
                      <a:pt x="2201" y="4365"/>
                    </a:lnTo>
                    <a:lnTo>
                      <a:pt x="2213" y="4363"/>
                    </a:lnTo>
                    <a:lnTo>
                      <a:pt x="2224" y="4359"/>
                    </a:lnTo>
                    <a:lnTo>
                      <a:pt x="2236" y="4359"/>
                    </a:lnTo>
                    <a:lnTo>
                      <a:pt x="2246" y="4355"/>
                    </a:lnTo>
                    <a:lnTo>
                      <a:pt x="2257" y="4354"/>
                    </a:lnTo>
                    <a:lnTo>
                      <a:pt x="2269" y="4350"/>
                    </a:lnTo>
                    <a:lnTo>
                      <a:pt x="2281" y="4350"/>
                    </a:lnTo>
                    <a:lnTo>
                      <a:pt x="2292" y="4346"/>
                    </a:lnTo>
                    <a:lnTo>
                      <a:pt x="2304" y="4344"/>
                    </a:lnTo>
                    <a:lnTo>
                      <a:pt x="2316" y="4340"/>
                    </a:lnTo>
                    <a:lnTo>
                      <a:pt x="2327" y="4340"/>
                    </a:lnTo>
                    <a:lnTo>
                      <a:pt x="2337" y="4336"/>
                    </a:lnTo>
                    <a:lnTo>
                      <a:pt x="2349" y="4334"/>
                    </a:lnTo>
                    <a:lnTo>
                      <a:pt x="2358" y="4330"/>
                    </a:lnTo>
                    <a:lnTo>
                      <a:pt x="2370" y="4328"/>
                    </a:lnTo>
                    <a:lnTo>
                      <a:pt x="2380" y="4324"/>
                    </a:lnTo>
                    <a:lnTo>
                      <a:pt x="2391" y="4323"/>
                    </a:lnTo>
                    <a:lnTo>
                      <a:pt x="2403" y="4319"/>
                    </a:lnTo>
                    <a:lnTo>
                      <a:pt x="2415" y="4317"/>
                    </a:lnTo>
                    <a:lnTo>
                      <a:pt x="2434" y="4311"/>
                    </a:lnTo>
                    <a:lnTo>
                      <a:pt x="2455" y="4305"/>
                    </a:lnTo>
                    <a:lnTo>
                      <a:pt x="2475" y="4299"/>
                    </a:lnTo>
                    <a:lnTo>
                      <a:pt x="2496" y="4295"/>
                    </a:lnTo>
                    <a:lnTo>
                      <a:pt x="2513" y="4290"/>
                    </a:lnTo>
                    <a:lnTo>
                      <a:pt x="2531" y="4284"/>
                    </a:lnTo>
                    <a:lnTo>
                      <a:pt x="2544" y="4278"/>
                    </a:lnTo>
                    <a:lnTo>
                      <a:pt x="2560" y="4272"/>
                    </a:lnTo>
                    <a:lnTo>
                      <a:pt x="2572" y="4266"/>
                    </a:lnTo>
                    <a:lnTo>
                      <a:pt x="2583" y="4260"/>
                    </a:lnTo>
                    <a:lnTo>
                      <a:pt x="2591" y="4255"/>
                    </a:lnTo>
                    <a:lnTo>
                      <a:pt x="2601" y="4251"/>
                    </a:lnTo>
                    <a:lnTo>
                      <a:pt x="2610" y="4239"/>
                    </a:lnTo>
                    <a:lnTo>
                      <a:pt x="2622" y="4227"/>
                    </a:lnTo>
                    <a:lnTo>
                      <a:pt x="2630" y="4216"/>
                    </a:lnTo>
                    <a:lnTo>
                      <a:pt x="2639" y="4208"/>
                    </a:lnTo>
                    <a:lnTo>
                      <a:pt x="2651" y="4191"/>
                    </a:lnTo>
                    <a:lnTo>
                      <a:pt x="2659" y="4177"/>
                    </a:lnTo>
                    <a:lnTo>
                      <a:pt x="2657" y="4165"/>
                    </a:lnTo>
                    <a:lnTo>
                      <a:pt x="2645" y="4158"/>
                    </a:lnTo>
                    <a:lnTo>
                      <a:pt x="2634" y="4154"/>
                    </a:lnTo>
                    <a:lnTo>
                      <a:pt x="2622" y="4152"/>
                    </a:lnTo>
                    <a:lnTo>
                      <a:pt x="2607" y="4152"/>
                    </a:lnTo>
                    <a:lnTo>
                      <a:pt x="2589" y="4152"/>
                    </a:lnTo>
                    <a:lnTo>
                      <a:pt x="2577" y="4150"/>
                    </a:lnTo>
                    <a:lnTo>
                      <a:pt x="2566" y="4148"/>
                    </a:lnTo>
                    <a:lnTo>
                      <a:pt x="2554" y="4146"/>
                    </a:lnTo>
                    <a:lnTo>
                      <a:pt x="2544" y="4146"/>
                    </a:lnTo>
                    <a:lnTo>
                      <a:pt x="2523" y="4142"/>
                    </a:lnTo>
                    <a:lnTo>
                      <a:pt x="2504" y="4140"/>
                    </a:lnTo>
                    <a:lnTo>
                      <a:pt x="2492" y="4136"/>
                    </a:lnTo>
                    <a:lnTo>
                      <a:pt x="2480" y="4134"/>
                    </a:lnTo>
                    <a:lnTo>
                      <a:pt x="2471" y="4132"/>
                    </a:lnTo>
                    <a:lnTo>
                      <a:pt x="2461" y="4131"/>
                    </a:lnTo>
                    <a:lnTo>
                      <a:pt x="2444" y="4127"/>
                    </a:lnTo>
                    <a:lnTo>
                      <a:pt x="2426" y="4123"/>
                    </a:lnTo>
                    <a:lnTo>
                      <a:pt x="2409" y="4117"/>
                    </a:lnTo>
                    <a:lnTo>
                      <a:pt x="2393" y="4111"/>
                    </a:lnTo>
                    <a:lnTo>
                      <a:pt x="2380" y="4107"/>
                    </a:lnTo>
                    <a:lnTo>
                      <a:pt x="2370" y="4103"/>
                    </a:lnTo>
                    <a:lnTo>
                      <a:pt x="2352" y="4098"/>
                    </a:lnTo>
                    <a:lnTo>
                      <a:pt x="2349" y="4098"/>
                    </a:lnTo>
                    <a:lnTo>
                      <a:pt x="2347" y="4094"/>
                    </a:lnTo>
                    <a:lnTo>
                      <a:pt x="2347" y="4086"/>
                    </a:lnTo>
                    <a:lnTo>
                      <a:pt x="2347" y="4072"/>
                    </a:lnTo>
                    <a:lnTo>
                      <a:pt x="2347" y="4057"/>
                    </a:lnTo>
                    <a:lnTo>
                      <a:pt x="2345" y="4045"/>
                    </a:lnTo>
                    <a:lnTo>
                      <a:pt x="2345" y="4035"/>
                    </a:lnTo>
                    <a:lnTo>
                      <a:pt x="2345" y="4024"/>
                    </a:lnTo>
                    <a:lnTo>
                      <a:pt x="2345" y="4012"/>
                    </a:lnTo>
                    <a:lnTo>
                      <a:pt x="2343" y="3999"/>
                    </a:lnTo>
                    <a:lnTo>
                      <a:pt x="2343" y="3987"/>
                    </a:lnTo>
                    <a:lnTo>
                      <a:pt x="2341" y="3975"/>
                    </a:lnTo>
                    <a:lnTo>
                      <a:pt x="2341" y="3964"/>
                    </a:lnTo>
                    <a:lnTo>
                      <a:pt x="2337" y="3950"/>
                    </a:lnTo>
                    <a:lnTo>
                      <a:pt x="2337" y="3937"/>
                    </a:lnTo>
                    <a:lnTo>
                      <a:pt x="2333" y="3923"/>
                    </a:lnTo>
                    <a:lnTo>
                      <a:pt x="2333" y="3911"/>
                    </a:lnTo>
                    <a:lnTo>
                      <a:pt x="2329" y="3898"/>
                    </a:lnTo>
                    <a:lnTo>
                      <a:pt x="2327" y="3886"/>
                    </a:lnTo>
                    <a:lnTo>
                      <a:pt x="2325" y="3875"/>
                    </a:lnTo>
                    <a:lnTo>
                      <a:pt x="2323" y="3863"/>
                    </a:lnTo>
                    <a:lnTo>
                      <a:pt x="2319" y="3851"/>
                    </a:lnTo>
                    <a:lnTo>
                      <a:pt x="2316" y="3840"/>
                    </a:lnTo>
                    <a:lnTo>
                      <a:pt x="2312" y="3828"/>
                    </a:lnTo>
                    <a:lnTo>
                      <a:pt x="2308" y="3820"/>
                    </a:lnTo>
                    <a:lnTo>
                      <a:pt x="2298" y="3805"/>
                    </a:lnTo>
                    <a:lnTo>
                      <a:pt x="2290" y="3795"/>
                    </a:lnTo>
                    <a:lnTo>
                      <a:pt x="2277" y="3783"/>
                    </a:lnTo>
                    <a:lnTo>
                      <a:pt x="2265" y="3774"/>
                    </a:lnTo>
                    <a:lnTo>
                      <a:pt x="2252" y="3764"/>
                    </a:lnTo>
                    <a:lnTo>
                      <a:pt x="2240" y="3754"/>
                    </a:lnTo>
                    <a:lnTo>
                      <a:pt x="2226" y="3743"/>
                    </a:lnTo>
                    <a:lnTo>
                      <a:pt x="2213" y="3731"/>
                    </a:lnTo>
                    <a:lnTo>
                      <a:pt x="2201" y="3721"/>
                    </a:lnTo>
                    <a:lnTo>
                      <a:pt x="2190" y="3714"/>
                    </a:lnTo>
                    <a:lnTo>
                      <a:pt x="2178" y="3702"/>
                    </a:lnTo>
                    <a:lnTo>
                      <a:pt x="2166" y="3694"/>
                    </a:lnTo>
                    <a:lnTo>
                      <a:pt x="2157" y="3688"/>
                    </a:lnTo>
                    <a:lnTo>
                      <a:pt x="2151" y="3683"/>
                    </a:lnTo>
                    <a:lnTo>
                      <a:pt x="2139" y="3673"/>
                    </a:lnTo>
                    <a:lnTo>
                      <a:pt x="2135" y="3671"/>
                    </a:lnTo>
                    <a:lnTo>
                      <a:pt x="2050" y="3260"/>
                    </a:lnTo>
                    <a:lnTo>
                      <a:pt x="2050" y="3256"/>
                    </a:lnTo>
                    <a:lnTo>
                      <a:pt x="2058" y="3250"/>
                    </a:lnTo>
                    <a:lnTo>
                      <a:pt x="2065" y="3238"/>
                    </a:lnTo>
                    <a:lnTo>
                      <a:pt x="2079" y="3227"/>
                    </a:lnTo>
                    <a:lnTo>
                      <a:pt x="2093" y="3209"/>
                    </a:lnTo>
                    <a:lnTo>
                      <a:pt x="2110" y="3190"/>
                    </a:lnTo>
                    <a:lnTo>
                      <a:pt x="2118" y="3178"/>
                    </a:lnTo>
                    <a:lnTo>
                      <a:pt x="2127" y="3167"/>
                    </a:lnTo>
                    <a:lnTo>
                      <a:pt x="2137" y="3153"/>
                    </a:lnTo>
                    <a:lnTo>
                      <a:pt x="2149" y="3142"/>
                    </a:lnTo>
                    <a:lnTo>
                      <a:pt x="2157" y="3126"/>
                    </a:lnTo>
                    <a:lnTo>
                      <a:pt x="2166" y="3110"/>
                    </a:lnTo>
                    <a:lnTo>
                      <a:pt x="2176" y="3095"/>
                    </a:lnTo>
                    <a:lnTo>
                      <a:pt x="2186" y="3079"/>
                    </a:lnTo>
                    <a:lnTo>
                      <a:pt x="2195" y="3062"/>
                    </a:lnTo>
                    <a:lnTo>
                      <a:pt x="2205" y="3045"/>
                    </a:lnTo>
                    <a:lnTo>
                      <a:pt x="2215" y="3027"/>
                    </a:lnTo>
                    <a:lnTo>
                      <a:pt x="2224" y="3010"/>
                    </a:lnTo>
                    <a:lnTo>
                      <a:pt x="2230" y="2988"/>
                    </a:lnTo>
                    <a:lnTo>
                      <a:pt x="2238" y="2969"/>
                    </a:lnTo>
                    <a:lnTo>
                      <a:pt x="2246" y="2950"/>
                    </a:lnTo>
                    <a:lnTo>
                      <a:pt x="2254" y="2930"/>
                    </a:lnTo>
                    <a:lnTo>
                      <a:pt x="2255" y="2918"/>
                    </a:lnTo>
                    <a:lnTo>
                      <a:pt x="2257" y="2909"/>
                    </a:lnTo>
                    <a:lnTo>
                      <a:pt x="2259" y="2897"/>
                    </a:lnTo>
                    <a:lnTo>
                      <a:pt x="2263" y="2887"/>
                    </a:lnTo>
                    <a:lnTo>
                      <a:pt x="2265" y="2876"/>
                    </a:lnTo>
                    <a:lnTo>
                      <a:pt x="2267" y="2866"/>
                    </a:lnTo>
                    <a:lnTo>
                      <a:pt x="2269" y="2855"/>
                    </a:lnTo>
                    <a:lnTo>
                      <a:pt x="2273" y="2845"/>
                    </a:lnTo>
                    <a:lnTo>
                      <a:pt x="2273" y="2831"/>
                    </a:lnTo>
                    <a:lnTo>
                      <a:pt x="2273" y="2820"/>
                    </a:lnTo>
                    <a:lnTo>
                      <a:pt x="2275" y="2806"/>
                    </a:lnTo>
                    <a:lnTo>
                      <a:pt x="2279" y="2794"/>
                    </a:lnTo>
                    <a:lnTo>
                      <a:pt x="2279" y="2781"/>
                    </a:lnTo>
                    <a:lnTo>
                      <a:pt x="2283" y="2767"/>
                    </a:lnTo>
                    <a:lnTo>
                      <a:pt x="2285" y="2754"/>
                    </a:lnTo>
                    <a:lnTo>
                      <a:pt x="2290" y="2740"/>
                    </a:lnTo>
                    <a:lnTo>
                      <a:pt x="2292" y="2725"/>
                    </a:lnTo>
                    <a:lnTo>
                      <a:pt x="2296" y="2711"/>
                    </a:lnTo>
                    <a:lnTo>
                      <a:pt x="2300" y="2695"/>
                    </a:lnTo>
                    <a:lnTo>
                      <a:pt x="2306" y="2682"/>
                    </a:lnTo>
                    <a:lnTo>
                      <a:pt x="2310" y="2666"/>
                    </a:lnTo>
                    <a:lnTo>
                      <a:pt x="2314" y="2651"/>
                    </a:lnTo>
                    <a:lnTo>
                      <a:pt x="2319" y="2635"/>
                    </a:lnTo>
                    <a:lnTo>
                      <a:pt x="2325" y="2622"/>
                    </a:lnTo>
                    <a:lnTo>
                      <a:pt x="2329" y="2604"/>
                    </a:lnTo>
                    <a:lnTo>
                      <a:pt x="2335" y="2589"/>
                    </a:lnTo>
                    <a:lnTo>
                      <a:pt x="2341" y="2571"/>
                    </a:lnTo>
                    <a:lnTo>
                      <a:pt x="2347" y="2556"/>
                    </a:lnTo>
                    <a:lnTo>
                      <a:pt x="2352" y="2538"/>
                    </a:lnTo>
                    <a:lnTo>
                      <a:pt x="2358" y="2523"/>
                    </a:lnTo>
                    <a:lnTo>
                      <a:pt x="2364" y="2505"/>
                    </a:lnTo>
                    <a:lnTo>
                      <a:pt x="2370" y="2490"/>
                    </a:lnTo>
                    <a:lnTo>
                      <a:pt x="2376" y="2472"/>
                    </a:lnTo>
                    <a:lnTo>
                      <a:pt x="2382" y="2455"/>
                    </a:lnTo>
                    <a:lnTo>
                      <a:pt x="2389" y="2438"/>
                    </a:lnTo>
                    <a:lnTo>
                      <a:pt x="2397" y="2422"/>
                    </a:lnTo>
                    <a:lnTo>
                      <a:pt x="2403" y="2405"/>
                    </a:lnTo>
                    <a:lnTo>
                      <a:pt x="2411" y="2389"/>
                    </a:lnTo>
                    <a:lnTo>
                      <a:pt x="2418" y="2374"/>
                    </a:lnTo>
                    <a:lnTo>
                      <a:pt x="2426" y="2358"/>
                    </a:lnTo>
                    <a:lnTo>
                      <a:pt x="2432" y="2341"/>
                    </a:lnTo>
                    <a:lnTo>
                      <a:pt x="2438" y="2323"/>
                    </a:lnTo>
                    <a:lnTo>
                      <a:pt x="2446" y="2306"/>
                    </a:lnTo>
                    <a:lnTo>
                      <a:pt x="2453" y="2290"/>
                    </a:lnTo>
                    <a:lnTo>
                      <a:pt x="2459" y="2273"/>
                    </a:lnTo>
                    <a:lnTo>
                      <a:pt x="2467" y="2257"/>
                    </a:lnTo>
                    <a:lnTo>
                      <a:pt x="2475" y="2242"/>
                    </a:lnTo>
                    <a:lnTo>
                      <a:pt x="2482" y="2228"/>
                    </a:lnTo>
                    <a:lnTo>
                      <a:pt x="2488" y="2211"/>
                    </a:lnTo>
                    <a:lnTo>
                      <a:pt x="2496" y="2195"/>
                    </a:lnTo>
                    <a:lnTo>
                      <a:pt x="2504" y="2180"/>
                    </a:lnTo>
                    <a:lnTo>
                      <a:pt x="2511" y="2166"/>
                    </a:lnTo>
                    <a:lnTo>
                      <a:pt x="2517" y="2151"/>
                    </a:lnTo>
                    <a:lnTo>
                      <a:pt x="2527" y="2137"/>
                    </a:lnTo>
                    <a:lnTo>
                      <a:pt x="2533" y="2123"/>
                    </a:lnTo>
                    <a:lnTo>
                      <a:pt x="2543" y="2112"/>
                    </a:lnTo>
                    <a:lnTo>
                      <a:pt x="2548" y="2098"/>
                    </a:lnTo>
                    <a:lnTo>
                      <a:pt x="2556" y="2085"/>
                    </a:lnTo>
                    <a:lnTo>
                      <a:pt x="2564" y="2073"/>
                    </a:lnTo>
                    <a:lnTo>
                      <a:pt x="2572" y="2061"/>
                    </a:lnTo>
                    <a:lnTo>
                      <a:pt x="2577" y="2048"/>
                    </a:lnTo>
                    <a:lnTo>
                      <a:pt x="2585" y="2036"/>
                    </a:lnTo>
                    <a:lnTo>
                      <a:pt x="2593" y="2026"/>
                    </a:lnTo>
                    <a:lnTo>
                      <a:pt x="2601" y="2017"/>
                    </a:lnTo>
                    <a:lnTo>
                      <a:pt x="2612" y="1995"/>
                    </a:lnTo>
                    <a:lnTo>
                      <a:pt x="2626" y="1978"/>
                    </a:lnTo>
                    <a:lnTo>
                      <a:pt x="2639" y="1961"/>
                    </a:lnTo>
                    <a:lnTo>
                      <a:pt x="2653" y="1949"/>
                    </a:lnTo>
                    <a:lnTo>
                      <a:pt x="2657" y="1939"/>
                    </a:lnTo>
                    <a:lnTo>
                      <a:pt x="2663" y="1929"/>
                    </a:lnTo>
                    <a:lnTo>
                      <a:pt x="2667" y="1918"/>
                    </a:lnTo>
                    <a:lnTo>
                      <a:pt x="2671" y="1906"/>
                    </a:lnTo>
                    <a:lnTo>
                      <a:pt x="2672" y="1891"/>
                    </a:lnTo>
                    <a:lnTo>
                      <a:pt x="2674" y="1875"/>
                    </a:lnTo>
                    <a:lnTo>
                      <a:pt x="2676" y="1858"/>
                    </a:lnTo>
                    <a:lnTo>
                      <a:pt x="2680" y="1840"/>
                    </a:lnTo>
                    <a:lnTo>
                      <a:pt x="2680" y="1817"/>
                    </a:lnTo>
                    <a:lnTo>
                      <a:pt x="2680" y="1796"/>
                    </a:lnTo>
                    <a:lnTo>
                      <a:pt x="2680" y="1772"/>
                    </a:lnTo>
                    <a:lnTo>
                      <a:pt x="2680" y="1749"/>
                    </a:lnTo>
                    <a:lnTo>
                      <a:pt x="2678" y="1722"/>
                    </a:lnTo>
                    <a:lnTo>
                      <a:pt x="2676" y="1695"/>
                    </a:lnTo>
                    <a:lnTo>
                      <a:pt x="2674" y="1668"/>
                    </a:lnTo>
                    <a:lnTo>
                      <a:pt x="2674" y="1641"/>
                    </a:lnTo>
                    <a:lnTo>
                      <a:pt x="2671" y="1610"/>
                    </a:lnTo>
                    <a:lnTo>
                      <a:pt x="2667" y="1578"/>
                    </a:lnTo>
                    <a:lnTo>
                      <a:pt x="2663" y="1546"/>
                    </a:lnTo>
                    <a:lnTo>
                      <a:pt x="2661" y="1514"/>
                    </a:lnTo>
                    <a:lnTo>
                      <a:pt x="2657" y="1482"/>
                    </a:lnTo>
                    <a:lnTo>
                      <a:pt x="2653" y="1449"/>
                    </a:lnTo>
                    <a:lnTo>
                      <a:pt x="2649" y="1414"/>
                    </a:lnTo>
                    <a:lnTo>
                      <a:pt x="2645" y="1381"/>
                    </a:lnTo>
                    <a:lnTo>
                      <a:pt x="2639" y="1344"/>
                    </a:lnTo>
                    <a:lnTo>
                      <a:pt x="2634" y="1309"/>
                    </a:lnTo>
                    <a:lnTo>
                      <a:pt x="2628" y="1272"/>
                    </a:lnTo>
                    <a:lnTo>
                      <a:pt x="2622" y="1237"/>
                    </a:lnTo>
                    <a:lnTo>
                      <a:pt x="2616" y="1200"/>
                    </a:lnTo>
                    <a:lnTo>
                      <a:pt x="2610" y="1163"/>
                    </a:lnTo>
                    <a:lnTo>
                      <a:pt x="2605" y="1127"/>
                    </a:lnTo>
                    <a:lnTo>
                      <a:pt x="2599" y="1092"/>
                    </a:lnTo>
                    <a:lnTo>
                      <a:pt x="2591" y="1053"/>
                    </a:lnTo>
                    <a:lnTo>
                      <a:pt x="2583" y="1016"/>
                    </a:lnTo>
                    <a:lnTo>
                      <a:pt x="2575" y="979"/>
                    </a:lnTo>
                    <a:lnTo>
                      <a:pt x="2570" y="944"/>
                    </a:lnTo>
                    <a:lnTo>
                      <a:pt x="2562" y="908"/>
                    </a:lnTo>
                    <a:lnTo>
                      <a:pt x="2554" y="873"/>
                    </a:lnTo>
                    <a:lnTo>
                      <a:pt x="2546" y="838"/>
                    </a:lnTo>
                    <a:lnTo>
                      <a:pt x="2541" y="803"/>
                    </a:lnTo>
                    <a:lnTo>
                      <a:pt x="2531" y="768"/>
                    </a:lnTo>
                    <a:lnTo>
                      <a:pt x="2525" y="733"/>
                    </a:lnTo>
                    <a:lnTo>
                      <a:pt x="2515" y="698"/>
                    </a:lnTo>
                    <a:lnTo>
                      <a:pt x="2510" y="667"/>
                    </a:lnTo>
                    <a:lnTo>
                      <a:pt x="2502" y="634"/>
                    </a:lnTo>
                    <a:lnTo>
                      <a:pt x="2494" y="603"/>
                    </a:lnTo>
                    <a:lnTo>
                      <a:pt x="2486" y="574"/>
                    </a:lnTo>
                    <a:lnTo>
                      <a:pt x="2480" y="547"/>
                    </a:lnTo>
                    <a:lnTo>
                      <a:pt x="2473" y="518"/>
                    </a:lnTo>
                    <a:lnTo>
                      <a:pt x="2465" y="489"/>
                    </a:lnTo>
                    <a:lnTo>
                      <a:pt x="2457" y="461"/>
                    </a:lnTo>
                    <a:lnTo>
                      <a:pt x="2451" y="438"/>
                    </a:lnTo>
                    <a:lnTo>
                      <a:pt x="2444" y="413"/>
                    </a:lnTo>
                    <a:lnTo>
                      <a:pt x="2436" y="392"/>
                    </a:lnTo>
                    <a:lnTo>
                      <a:pt x="2430" y="368"/>
                    </a:lnTo>
                    <a:lnTo>
                      <a:pt x="2424" y="351"/>
                    </a:lnTo>
                    <a:lnTo>
                      <a:pt x="2416" y="332"/>
                    </a:lnTo>
                    <a:lnTo>
                      <a:pt x="2411" y="316"/>
                    </a:lnTo>
                    <a:lnTo>
                      <a:pt x="2405" y="299"/>
                    </a:lnTo>
                    <a:lnTo>
                      <a:pt x="2399" y="287"/>
                    </a:lnTo>
                    <a:lnTo>
                      <a:pt x="2393" y="273"/>
                    </a:lnTo>
                    <a:lnTo>
                      <a:pt x="2389" y="264"/>
                    </a:lnTo>
                    <a:lnTo>
                      <a:pt x="2385" y="256"/>
                    </a:lnTo>
                    <a:lnTo>
                      <a:pt x="2382" y="252"/>
                    </a:lnTo>
                    <a:lnTo>
                      <a:pt x="2368" y="235"/>
                    </a:lnTo>
                    <a:lnTo>
                      <a:pt x="2356" y="221"/>
                    </a:lnTo>
                    <a:lnTo>
                      <a:pt x="2345" y="209"/>
                    </a:lnTo>
                    <a:lnTo>
                      <a:pt x="2333" y="198"/>
                    </a:lnTo>
                    <a:lnTo>
                      <a:pt x="2321" y="186"/>
                    </a:lnTo>
                    <a:lnTo>
                      <a:pt x="2310" y="178"/>
                    </a:lnTo>
                    <a:lnTo>
                      <a:pt x="2298" y="169"/>
                    </a:lnTo>
                    <a:lnTo>
                      <a:pt x="2287" y="163"/>
                    </a:lnTo>
                    <a:lnTo>
                      <a:pt x="2275" y="153"/>
                    </a:lnTo>
                    <a:lnTo>
                      <a:pt x="2263" y="147"/>
                    </a:lnTo>
                    <a:lnTo>
                      <a:pt x="2252" y="142"/>
                    </a:lnTo>
                    <a:lnTo>
                      <a:pt x="2240" y="136"/>
                    </a:lnTo>
                    <a:lnTo>
                      <a:pt x="2219" y="128"/>
                    </a:lnTo>
                    <a:lnTo>
                      <a:pt x="2201" y="122"/>
                    </a:lnTo>
                    <a:lnTo>
                      <a:pt x="2182" y="116"/>
                    </a:lnTo>
                    <a:lnTo>
                      <a:pt x="2166" y="112"/>
                    </a:lnTo>
                    <a:lnTo>
                      <a:pt x="2151" y="110"/>
                    </a:lnTo>
                    <a:lnTo>
                      <a:pt x="2139" y="110"/>
                    </a:lnTo>
                    <a:lnTo>
                      <a:pt x="2127" y="110"/>
                    </a:lnTo>
                    <a:lnTo>
                      <a:pt x="2122" y="110"/>
                    </a:lnTo>
                    <a:lnTo>
                      <a:pt x="2116" y="110"/>
                    </a:lnTo>
                    <a:lnTo>
                      <a:pt x="2116" y="112"/>
                    </a:lnTo>
                    <a:lnTo>
                      <a:pt x="2112" y="105"/>
                    </a:lnTo>
                    <a:lnTo>
                      <a:pt x="2104" y="91"/>
                    </a:lnTo>
                    <a:lnTo>
                      <a:pt x="2095" y="79"/>
                    </a:lnTo>
                    <a:lnTo>
                      <a:pt x="2085" y="70"/>
                    </a:lnTo>
                    <a:lnTo>
                      <a:pt x="2071" y="60"/>
                    </a:lnTo>
                    <a:lnTo>
                      <a:pt x="2056" y="50"/>
                    </a:lnTo>
                    <a:lnTo>
                      <a:pt x="2044" y="45"/>
                    </a:lnTo>
                    <a:lnTo>
                      <a:pt x="2032" y="39"/>
                    </a:lnTo>
                    <a:lnTo>
                      <a:pt x="2019" y="33"/>
                    </a:lnTo>
                    <a:lnTo>
                      <a:pt x="2007" y="27"/>
                    </a:lnTo>
                    <a:lnTo>
                      <a:pt x="1992" y="21"/>
                    </a:lnTo>
                    <a:lnTo>
                      <a:pt x="1978" y="17"/>
                    </a:lnTo>
                    <a:lnTo>
                      <a:pt x="1961" y="14"/>
                    </a:lnTo>
                    <a:lnTo>
                      <a:pt x="1943" y="12"/>
                    </a:lnTo>
                    <a:lnTo>
                      <a:pt x="1922" y="6"/>
                    </a:lnTo>
                    <a:lnTo>
                      <a:pt x="1903" y="4"/>
                    </a:lnTo>
                    <a:lnTo>
                      <a:pt x="1891" y="2"/>
                    </a:lnTo>
                    <a:lnTo>
                      <a:pt x="1879" y="0"/>
                    </a:lnTo>
                    <a:lnTo>
                      <a:pt x="1868" y="0"/>
                    </a:lnTo>
                    <a:lnTo>
                      <a:pt x="1856" y="0"/>
                    </a:lnTo>
                    <a:lnTo>
                      <a:pt x="1842" y="0"/>
                    </a:lnTo>
                    <a:lnTo>
                      <a:pt x="1829" y="0"/>
                    </a:lnTo>
                    <a:lnTo>
                      <a:pt x="1815" y="0"/>
                    </a:lnTo>
                    <a:lnTo>
                      <a:pt x="1804" y="0"/>
                    </a:lnTo>
                    <a:lnTo>
                      <a:pt x="1788" y="0"/>
                    </a:lnTo>
                    <a:lnTo>
                      <a:pt x="1775" y="0"/>
                    </a:lnTo>
                    <a:lnTo>
                      <a:pt x="1759" y="0"/>
                    </a:lnTo>
                    <a:lnTo>
                      <a:pt x="1745" y="2"/>
                    </a:lnTo>
                    <a:lnTo>
                      <a:pt x="1722" y="2"/>
                    </a:lnTo>
                    <a:lnTo>
                      <a:pt x="1701" y="2"/>
                    </a:lnTo>
                    <a:lnTo>
                      <a:pt x="1678" y="4"/>
                    </a:lnTo>
                    <a:lnTo>
                      <a:pt x="1656" y="6"/>
                    </a:lnTo>
                    <a:lnTo>
                      <a:pt x="1631" y="6"/>
                    </a:lnTo>
                    <a:lnTo>
                      <a:pt x="1608" y="8"/>
                    </a:lnTo>
                    <a:lnTo>
                      <a:pt x="1584" y="10"/>
                    </a:lnTo>
                    <a:lnTo>
                      <a:pt x="1561" y="14"/>
                    </a:lnTo>
                    <a:lnTo>
                      <a:pt x="1534" y="15"/>
                    </a:lnTo>
                    <a:lnTo>
                      <a:pt x="1511" y="19"/>
                    </a:lnTo>
                    <a:lnTo>
                      <a:pt x="1484" y="21"/>
                    </a:lnTo>
                    <a:lnTo>
                      <a:pt x="1460" y="25"/>
                    </a:lnTo>
                    <a:lnTo>
                      <a:pt x="1433" y="29"/>
                    </a:lnTo>
                    <a:lnTo>
                      <a:pt x="1408" y="33"/>
                    </a:lnTo>
                    <a:lnTo>
                      <a:pt x="1381" y="37"/>
                    </a:lnTo>
                    <a:lnTo>
                      <a:pt x="1356" y="43"/>
                    </a:lnTo>
                    <a:lnTo>
                      <a:pt x="1327" y="46"/>
                    </a:lnTo>
                    <a:lnTo>
                      <a:pt x="1299" y="50"/>
                    </a:lnTo>
                    <a:lnTo>
                      <a:pt x="1272" y="54"/>
                    </a:lnTo>
                    <a:lnTo>
                      <a:pt x="1245" y="60"/>
                    </a:lnTo>
                    <a:lnTo>
                      <a:pt x="1218" y="66"/>
                    </a:lnTo>
                    <a:lnTo>
                      <a:pt x="1191" y="72"/>
                    </a:lnTo>
                    <a:lnTo>
                      <a:pt x="1164" y="78"/>
                    </a:lnTo>
                    <a:lnTo>
                      <a:pt x="1136" y="85"/>
                    </a:lnTo>
                    <a:lnTo>
                      <a:pt x="1107" y="91"/>
                    </a:lnTo>
                    <a:lnTo>
                      <a:pt x="1080" y="97"/>
                    </a:lnTo>
                    <a:lnTo>
                      <a:pt x="1053" y="105"/>
                    </a:lnTo>
                    <a:lnTo>
                      <a:pt x="1026" y="112"/>
                    </a:lnTo>
                    <a:lnTo>
                      <a:pt x="997" y="120"/>
                    </a:lnTo>
                    <a:lnTo>
                      <a:pt x="970" y="130"/>
                    </a:lnTo>
                    <a:lnTo>
                      <a:pt x="943" y="138"/>
                    </a:lnTo>
                    <a:lnTo>
                      <a:pt x="917" y="147"/>
                    </a:lnTo>
                    <a:lnTo>
                      <a:pt x="888" y="155"/>
                    </a:lnTo>
                    <a:lnTo>
                      <a:pt x="861" y="165"/>
                    </a:lnTo>
                    <a:lnTo>
                      <a:pt x="834" y="173"/>
                    </a:lnTo>
                    <a:lnTo>
                      <a:pt x="807" y="184"/>
                    </a:lnTo>
                    <a:lnTo>
                      <a:pt x="778" y="192"/>
                    </a:lnTo>
                    <a:lnTo>
                      <a:pt x="752" y="204"/>
                    </a:lnTo>
                    <a:lnTo>
                      <a:pt x="725" y="215"/>
                    </a:lnTo>
                    <a:lnTo>
                      <a:pt x="702" y="227"/>
                    </a:lnTo>
                    <a:lnTo>
                      <a:pt x="675" y="237"/>
                    </a:lnTo>
                    <a:lnTo>
                      <a:pt x="650" y="248"/>
                    </a:lnTo>
                    <a:lnTo>
                      <a:pt x="623" y="260"/>
                    </a:lnTo>
                    <a:lnTo>
                      <a:pt x="599" y="273"/>
                    </a:lnTo>
                    <a:lnTo>
                      <a:pt x="574" y="285"/>
                    </a:lnTo>
                    <a:lnTo>
                      <a:pt x="551" y="299"/>
                    </a:lnTo>
                    <a:lnTo>
                      <a:pt x="527" y="312"/>
                    </a:lnTo>
                    <a:lnTo>
                      <a:pt x="504" y="328"/>
                    </a:lnTo>
                    <a:lnTo>
                      <a:pt x="479" y="339"/>
                    </a:lnTo>
                    <a:lnTo>
                      <a:pt x="456" y="355"/>
                    </a:lnTo>
                    <a:lnTo>
                      <a:pt x="432" y="368"/>
                    </a:lnTo>
                    <a:lnTo>
                      <a:pt x="411" y="386"/>
                    </a:lnTo>
                    <a:lnTo>
                      <a:pt x="388" y="399"/>
                    </a:lnTo>
                    <a:lnTo>
                      <a:pt x="368" y="417"/>
                    </a:lnTo>
                    <a:lnTo>
                      <a:pt x="347" y="434"/>
                    </a:lnTo>
                    <a:lnTo>
                      <a:pt x="330" y="452"/>
                    </a:lnTo>
                    <a:lnTo>
                      <a:pt x="310" y="467"/>
                    </a:lnTo>
                    <a:lnTo>
                      <a:pt x="291" y="485"/>
                    </a:lnTo>
                    <a:lnTo>
                      <a:pt x="273" y="502"/>
                    </a:lnTo>
                    <a:lnTo>
                      <a:pt x="256" y="522"/>
                    </a:lnTo>
                    <a:lnTo>
                      <a:pt x="239" y="539"/>
                    </a:lnTo>
                    <a:lnTo>
                      <a:pt x="223" y="558"/>
                    </a:lnTo>
                    <a:lnTo>
                      <a:pt x="208" y="578"/>
                    </a:lnTo>
                    <a:lnTo>
                      <a:pt x="196" y="599"/>
                    </a:lnTo>
                    <a:lnTo>
                      <a:pt x="184" y="611"/>
                    </a:lnTo>
                    <a:lnTo>
                      <a:pt x="176" y="626"/>
                    </a:lnTo>
                    <a:lnTo>
                      <a:pt x="167" y="642"/>
                    </a:lnTo>
                    <a:lnTo>
                      <a:pt x="159" y="659"/>
                    </a:lnTo>
                    <a:lnTo>
                      <a:pt x="151" y="677"/>
                    </a:lnTo>
                    <a:lnTo>
                      <a:pt x="144" y="694"/>
                    </a:lnTo>
                    <a:lnTo>
                      <a:pt x="138" y="714"/>
                    </a:lnTo>
                    <a:lnTo>
                      <a:pt x="132" y="735"/>
                    </a:lnTo>
                    <a:lnTo>
                      <a:pt x="126" y="754"/>
                    </a:lnTo>
                    <a:lnTo>
                      <a:pt x="120" y="776"/>
                    </a:lnTo>
                    <a:lnTo>
                      <a:pt x="114" y="797"/>
                    </a:lnTo>
                    <a:lnTo>
                      <a:pt x="112" y="820"/>
                    </a:lnTo>
                    <a:lnTo>
                      <a:pt x="107" y="844"/>
                    </a:lnTo>
                    <a:lnTo>
                      <a:pt x="105" y="867"/>
                    </a:lnTo>
                    <a:lnTo>
                      <a:pt x="101" y="892"/>
                    </a:lnTo>
                    <a:lnTo>
                      <a:pt x="99" y="917"/>
                    </a:lnTo>
                    <a:lnTo>
                      <a:pt x="95" y="940"/>
                    </a:lnTo>
                    <a:lnTo>
                      <a:pt x="93" y="966"/>
                    </a:lnTo>
                    <a:lnTo>
                      <a:pt x="89" y="991"/>
                    </a:lnTo>
                    <a:lnTo>
                      <a:pt x="87" y="1018"/>
                    </a:lnTo>
                    <a:lnTo>
                      <a:pt x="85" y="1043"/>
                    </a:lnTo>
                    <a:lnTo>
                      <a:pt x="83" y="1070"/>
                    </a:lnTo>
                    <a:lnTo>
                      <a:pt x="83" y="1098"/>
                    </a:lnTo>
                    <a:lnTo>
                      <a:pt x="83" y="1125"/>
                    </a:lnTo>
                    <a:lnTo>
                      <a:pt x="83" y="1150"/>
                    </a:lnTo>
                    <a:lnTo>
                      <a:pt x="83" y="1177"/>
                    </a:lnTo>
                    <a:lnTo>
                      <a:pt x="83" y="1204"/>
                    </a:lnTo>
                    <a:lnTo>
                      <a:pt x="83" y="1231"/>
                    </a:lnTo>
                    <a:lnTo>
                      <a:pt x="83" y="1259"/>
                    </a:lnTo>
                    <a:lnTo>
                      <a:pt x="83" y="1286"/>
                    </a:lnTo>
                    <a:lnTo>
                      <a:pt x="85" y="1313"/>
                    </a:lnTo>
                    <a:lnTo>
                      <a:pt x="87" y="1340"/>
                    </a:lnTo>
                    <a:lnTo>
                      <a:pt x="87" y="1365"/>
                    </a:lnTo>
                    <a:lnTo>
                      <a:pt x="87" y="1390"/>
                    </a:lnTo>
                    <a:lnTo>
                      <a:pt x="89" y="1416"/>
                    </a:lnTo>
                    <a:lnTo>
                      <a:pt x="91" y="1443"/>
                    </a:lnTo>
                    <a:lnTo>
                      <a:pt x="91" y="1466"/>
                    </a:lnTo>
                    <a:lnTo>
                      <a:pt x="93" y="1491"/>
                    </a:lnTo>
                    <a:lnTo>
                      <a:pt x="95" y="1514"/>
                    </a:lnTo>
                    <a:lnTo>
                      <a:pt x="99" y="1540"/>
                    </a:lnTo>
                    <a:lnTo>
                      <a:pt x="99" y="1561"/>
                    </a:lnTo>
                    <a:lnTo>
                      <a:pt x="101" y="1584"/>
                    </a:lnTo>
                    <a:lnTo>
                      <a:pt x="103" y="1606"/>
                    </a:lnTo>
                    <a:lnTo>
                      <a:pt x="105" y="1629"/>
                    </a:lnTo>
                    <a:lnTo>
                      <a:pt x="107" y="1648"/>
                    </a:lnTo>
                    <a:lnTo>
                      <a:pt x="109" y="1668"/>
                    </a:lnTo>
                    <a:lnTo>
                      <a:pt x="111" y="1687"/>
                    </a:lnTo>
                    <a:lnTo>
                      <a:pt x="114" y="1708"/>
                    </a:lnTo>
                    <a:lnTo>
                      <a:pt x="114" y="1724"/>
                    </a:lnTo>
                    <a:lnTo>
                      <a:pt x="116" y="1741"/>
                    </a:lnTo>
                    <a:lnTo>
                      <a:pt x="118" y="1757"/>
                    </a:lnTo>
                    <a:lnTo>
                      <a:pt x="120" y="1772"/>
                    </a:lnTo>
                    <a:lnTo>
                      <a:pt x="122" y="1786"/>
                    </a:lnTo>
                    <a:lnTo>
                      <a:pt x="124" y="1800"/>
                    </a:lnTo>
                    <a:lnTo>
                      <a:pt x="126" y="1811"/>
                    </a:lnTo>
                    <a:lnTo>
                      <a:pt x="128" y="1823"/>
                    </a:lnTo>
                    <a:lnTo>
                      <a:pt x="130" y="1840"/>
                    </a:lnTo>
                    <a:lnTo>
                      <a:pt x="132" y="1856"/>
                    </a:lnTo>
                    <a:lnTo>
                      <a:pt x="134" y="1864"/>
                    </a:lnTo>
                    <a:lnTo>
                      <a:pt x="136" y="18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63680" y="-184680"/>
                <a:ext cx="429120" cy="932040"/>
              </a:xfrm>
              <a:custGeom>
                <a:avLst/>
                <a:gdLst/>
                <a:ahLst/>
                <a:rect l="l" t="t" r="r" b="b"/>
                <a:pathLst>
                  <a:path w="1534" h="3333">
                    <a:moveTo>
                      <a:pt x="0" y="9"/>
                    </a:moveTo>
                    <a:lnTo>
                      <a:pt x="2" y="9"/>
                    </a:lnTo>
                    <a:lnTo>
                      <a:pt x="12" y="15"/>
                    </a:lnTo>
                    <a:lnTo>
                      <a:pt x="17" y="17"/>
                    </a:lnTo>
                    <a:lnTo>
                      <a:pt x="25" y="25"/>
                    </a:lnTo>
                    <a:lnTo>
                      <a:pt x="35" y="31"/>
                    </a:lnTo>
                    <a:lnTo>
                      <a:pt x="47" y="42"/>
                    </a:lnTo>
                    <a:lnTo>
                      <a:pt x="56" y="52"/>
                    </a:lnTo>
                    <a:lnTo>
                      <a:pt x="70" y="66"/>
                    </a:lnTo>
                    <a:lnTo>
                      <a:pt x="81" y="81"/>
                    </a:lnTo>
                    <a:lnTo>
                      <a:pt x="99" y="100"/>
                    </a:lnTo>
                    <a:lnTo>
                      <a:pt x="105" y="110"/>
                    </a:lnTo>
                    <a:lnTo>
                      <a:pt x="113" y="122"/>
                    </a:lnTo>
                    <a:lnTo>
                      <a:pt x="120" y="133"/>
                    </a:lnTo>
                    <a:lnTo>
                      <a:pt x="130" y="147"/>
                    </a:lnTo>
                    <a:lnTo>
                      <a:pt x="138" y="159"/>
                    </a:lnTo>
                    <a:lnTo>
                      <a:pt x="147" y="174"/>
                    </a:lnTo>
                    <a:lnTo>
                      <a:pt x="155" y="188"/>
                    </a:lnTo>
                    <a:lnTo>
                      <a:pt x="167" y="205"/>
                    </a:lnTo>
                    <a:lnTo>
                      <a:pt x="175" y="221"/>
                    </a:lnTo>
                    <a:lnTo>
                      <a:pt x="184" y="238"/>
                    </a:lnTo>
                    <a:lnTo>
                      <a:pt x="192" y="256"/>
                    </a:lnTo>
                    <a:lnTo>
                      <a:pt x="202" y="275"/>
                    </a:lnTo>
                    <a:lnTo>
                      <a:pt x="209" y="294"/>
                    </a:lnTo>
                    <a:lnTo>
                      <a:pt x="221" y="316"/>
                    </a:lnTo>
                    <a:lnTo>
                      <a:pt x="229" y="339"/>
                    </a:lnTo>
                    <a:lnTo>
                      <a:pt x="241" y="362"/>
                    </a:lnTo>
                    <a:lnTo>
                      <a:pt x="250" y="386"/>
                    </a:lnTo>
                    <a:lnTo>
                      <a:pt x="260" y="411"/>
                    </a:lnTo>
                    <a:lnTo>
                      <a:pt x="270" y="438"/>
                    </a:lnTo>
                    <a:lnTo>
                      <a:pt x="281" y="467"/>
                    </a:lnTo>
                    <a:lnTo>
                      <a:pt x="291" y="494"/>
                    </a:lnTo>
                    <a:lnTo>
                      <a:pt x="301" y="525"/>
                    </a:lnTo>
                    <a:lnTo>
                      <a:pt x="310" y="554"/>
                    </a:lnTo>
                    <a:lnTo>
                      <a:pt x="322" y="589"/>
                    </a:lnTo>
                    <a:lnTo>
                      <a:pt x="332" y="620"/>
                    </a:lnTo>
                    <a:lnTo>
                      <a:pt x="341" y="655"/>
                    </a:lnTo>
                    <a:lnTo>
                      <a:pt x="351" y="690"/>
                    </a:lnTo>
                    <a:lnTo>
                      <a:pt x="363" y="729"/>
                    </a:lnTo>
                    <a:lnTo>
                      <a:pt x="372" y="766"/>
                    </a:lnTo>
                    <a:lnTo>
                      <a:pt x="382" y="806"/>
                    </a:lnTo>
                    <a:lnTo>
                      <a:pt x="392" y="847"/>
                    </a:lnTo>
                    <a:lnTo>
                      <a:pt x="403" y="892"/>
                    </a:lnTo>
                    <a:lnTo>
                      <a:pt x="413" y="934"/>
                    </a:lnTo>
                    <a:lnTo>
                      <a:pt x="423" y="981"/>
                    </a:lnTo>
                    <a:lnTo>
                      <a:pt x="433" y="1027"/>
                    </a:lnTo>
                    <a:lnTo>
                      <a:pt x="442" y="1078"/>
                    </a:lnTo>
                    <a:lnTo>
                      <a:pt x="452" y="1126"/>
                    </a:lnTo>
                    <a:lnTo>
                      <a:pt x="462" y="1179"/>
                    </a:lnTo>
                    <a:lnTo>
                      <a:pt x="471" y="1231"/>
                    </a:lnTo>
                    <a:lnTo>
                      <a:pt x="483" y="1287"/>
                    </a:lnTo>
                    <a:lnTo>
                      <a:pt x="355" y="1446"/>
                    </a:lnTo>
                    <a:lnTo>
                      <a:pt x="520" y="2715"/>
                    </a:lnTo>
                    <a:lnTo>
                      <a:pt x="1222" y="3333"/>
                    </a:lnTo>
                    <a:lnTo>
                      <a:pt x="1352" y="3320"/>
                    </a:lnTo>
                    <a:lnTo>
                      <a:pt x="1127" y="2852"/>
                    </a:lnTo>
                    <a:lnTo>
                      <a:pt x="1125" y="2850"/>
                    </a:lnTo>
                    <a:lnTo>
                      <a:pt x="1123" y="2846"/>
                    </a:lnTo>
                    <a:lnTo>
                      <a:pt x="1119" y="2839"/>
                    </a:lnTo>
                    <a:lnTo>
                      <a:pt x="1117" y="2829"/>
                    </a:lnTo>
                    <a:lnTo>
                      <a:pt x="1111" y="2815"/>
                    </a:lnTo>
                    <a:lnTo>
                      <a:pt x="1107" y="2802"/>
                    </a:lnTo>
                    <a:lnTo>
                      <a:pt x="1104" y="2784"/>
                    </a:lnTo>
                    <a:lnTo>
                      <a:pt x="1104" y="2769"/>
                    </a:lnTo>
                    <a:lnTo>
                      <a:pt x="1102" y="2757"/>
                    </a:lnTo>
                    <a:lnTo>
                      <a:pt x="1100" y="2746"/>
                    </a:lnTo>
                    <a:lnTo>
                      <a:pt x="1100" y="2734"/>
                    </a:lnTo>
                    <a:lnTo>
                      <a:pt x="1100" y="2724"/>
                    </a:lnTo>
                    <a:lnTo>
                      <a:pt x="1100" y="2711"/>
                    </a:lnTo>
                    <a:lnTo>
                      <a:pt x="1102" y="2699"/>
                    </a:lnTo>
                    <a:lnTo>
                      <a:pt x="1104" y="2687"/>
                    </a:lnTo>
                    <a:lnTo>
                      <a:pt x="1107" y="2676"/>
                    </a:lnTo>
                    <a:lnTo>
                      <a:pt x="1109" y="2660"/>
                    </a:lnTo>
                    <a:lnTo>
                      <a:pt x="1113" y="2647"/>
                    </a:lnTo>
                    <a:lnTo>
                      <a:pt x="1117" y="2633"/>
                    </a:lnTo>
                    <a:lnTo>
                      <a:pt x="1123" y="2620"/>
                    </a:lnTo>
                    <a:lnTo>
                      <a:pt x="1129" y="2604"/>
                    </a:lnTo>
                    <a:lnTo>
                      <a:pt x="1135" y="2589"/>
                    </a:lnTo>
                    <a:lnTo>
                      <a:pt x="1142" y="2573"/>
                    </a:lnTo>
                    <a:lnTo>
                      <a:pt x="1154" y="2559"/>
                    </a:lnTo>
                    <a:lnTo>
                      <a:pt x="1179" y="2125"/>
                    </a:lnTo>
                    <a:lnTo>
                      <a:pt x="1534" y="2057"/>
                    </a:lnTo>
                    <a:lnTo>
                      <a:pt x="1532" y="2053"/>
                    </a:lnTo>
                    <a:lnTo>
                      <a:pt x="1532" y="2044"/>
                    </a:lnTo>
                    <a:lnTo>
                      <a:pt x="1530" y="2028"/>
                    </a:lnTo>
                    <a:lnTo>
                      <a:pt x="1528" y="2011"/>
                    </a:lnTo>
                    <a:lnTo>
                      <a:pt x="1524" y="1999"/>
                    </a:lnTo>
                    <a:lnTo>
                      <a:pt x="1522" y="1987"/>
                    </a:lnTo>
                    <a:lnTo>
                      <a:pt x="1519" y="1974"/>
                    </a:lnTo>
                    <a:lnTo>
                      <a:pt x="1517" y="1962"/>
                    </a:lnTo>
                    <a:lnTo>
                      <a:pt x="1513" y="1949"/>
                    </a:lnTo>
                    <a:lnTo>
                      <a:pt x="1509" y="1935"/>
                    </a:lnTo>
                    <a:lnTo>
                      <a:pt x="1505" y="1921"/>
                    </a:lnTo>
                    <a:lnTo>
                      <a:pt x="1501" y="1908"/>
                    </a:lnTo>
                    <a:lnTo>
                      <a:pt x="1493" y="1892"/>
                    </a:lnTo>
                    <a:lnTo>
                      <a:pt x="1488" y="1879"/>
                    </a:lnTo>
                    <a:lnTo>
                      <a:pt x="1480" y="1863"/>
                    </a:lnTo>
                    <a:lnTo>
                      <a:pt x="1474" y="1850"/>
                    </a:lnTo>
                    <a:lnTo>
                      <a:pt x="1464" y="1834"/>
                    </a:lnTo>
                    <a:lnTo>
                      <a:pt x="1457" y="1821"/>
                    </a:lnTo>
                    <a:lnTo>
                      <a:pt x="1447" y="1809"/>
                    </a:lnTo>
                    <a:lnTo>
                      <a:pt x="1439" y="1797"/>
                    </a:lnTo>
                    <a:lnTo>
                      <a:pt x="1425" y="1786"/>
                    </a:lnTo>
                    <a:lnTo>
                      <a:pt x="1414" y="1774"/>
                    </a:lnTo>
                    <a:lnTo>
                      <a:pt x="1400" y="1762"/>
                    </a:lnTo>
                    <a:lnTo>
                      <a:pt x="1389" y="1757"/>
                    </a:lnTo>
                    <a:lnTo>
                      <a:pt x="1373" y="1747"/>
                    </a:lnTo>
                    <a:lnTo>
                      <a:pt x="1358" y="1741"/>
                    </a:lnTo>
                    <a:lnTo>
                      <a:pt x="1342" y="1735"/>
                    </a:lnTo>
                    <a:lnTo>
                      <a:pt x="1327" y="1733"/>
                    </a:lnTo>
                    <a:lnTo>
                      <a:pt x="1199" y="1082"/>
                    </a:lnTo>
                    <a:lnTo>
                      <a:pt x="1197" y="1078"/>
                    </a:lnTo>
                    <a:lnTo>
                      <a:pt x="1197" y="1072"/>
                    </a:lnTo>
                    <a:lnTo>
                      <a:pt x="1195" y="1062"/>
                    </a:lnTo>
                    <a:lnTo>
                      <a:pt x="1193" y="1051"/>
                    </a:lnTo>
                    <a:lnTo>
                      <a:pt x="1189" y="1035"/>
                    </a:lnTo>
                    <a:lnTo>
                      <a:pt x="1187" y="1020"/>
                    </a:lnTo>
                    <a:lnTo>
                      <a:pt x="1185" y="1000"/>
                    </a:lnTo>
                    <a:lnTo>
                      <a:pt x="1183" y="983"/>
                    </a:lnTo>
                    <a:lnTo>
                      <a:pt x="1179" y="961"/>
                    </a:lnTo>
                    <a:lnTo>
                      <a:pt x="1177" y="944"/>
                    </a:lnTo>
                    <a:lnTo>
                      <a:pt x="1173" y="923"/>
                    </a:lnTo>
                    <a:lnTo>
                      <a:pt x="1171" y="905"/>
                    </a:lnTo>
                    <a:lnTo>
                      <a:pt x="1168" y="888"/>
                    </a:lnTo>
                    <a:lnTo>
                      <a:pt x="1166" y="872"/>
                    </a:lnTo>
                    <a:lnTo>
                      <a:pt x="1164" y="861"/>
                    </a:lnTo>
                    <a:lnTo>
                      <a:pt x="1164" y="853"/>
                    </a:lnTo>
                    <a:lnTo>
                      <a:pt x="1164" y="835"/>
                    </a:lnTo>
                    <a:lnTo>
                      <a:pt x="1169" y="820"/>
                    </a:lnTo>
                    <a:lnTo>
                      <a:pt x="1177" y="806"/>
                    </a:lnTo>
                    <a:lnTo>
                      <a:pt x="1189" y="801"/>
                    </a:lnTo>
                    <a:lnTo>
                      <a:pt x="1197" y="797"/>
                    </a:lnTo>
                    <a:lnTo>
                      <a:pt x="1204" y="804"/>
                    </a:lnTo>
                    <a:lnTo>
                      <a:pt x="1204" y="810"/>
                    </a:lnTo>
                    <a:lnTo>
                      <a:pt x="1206" y="824"/>
                    </a:lnTo>
                    <a:lnTo>
                      <a:pt x="1206" y="837"/>
                    </a:lnTo>
                    <a:lnTo>
                      <a:pt x="1204" y="857"/>
                    </a:lnTo>
                    <a:lnTo>
                      <a:pt x="1204" y="855"/>
                    </a:lnTo>
                    <a:lnTo>
                      <a:pt x="1208" y="849"/>
                    </a:lnTo>
                    <a:lnTo>
                      <a:pt x="1212" y="837"/>
                    </a:lnTo>
                    <a:lnTo>
                      <a:pt x="1218" y="824"/>
                    </a:lnTo>
                    <a:lnTo>
                      <a:pt x="1224" y="804"/>
                    </a:lnTo>
                    <a:lnTo>
                      <a:pt x="1233" y="785"/>
                    </a:lnTo>
                    <a:lnTo>
                      <a:pt x="1237" y="771"/>
                    </a:lnTo>
                    <a:lnTo>
                      <a:pt x="1241" y="760"/>
                    </a:lnTo>
                    <a:lnTo>
                      <a:pt x="1245" y="748"/>
                    </a:lnTo>
                    <a:lnTo>
                      <a:pt x="1251" y="737"/>
                    </a:lnTo>
                    <a:lnTo>
                      <a:pt x="1255" y="721"/>
                    </a:lnTo>
                    <a:lnTo>
                      <a:pt x="1259" y="706"/>
                    </a:lnTo>
                    <a:lnTo>
                      <a:pt x="1263" y="690"/>
                    </a:lnTo>
                    <a:lnTo>
                      <a:pt x="1266" y="676"/>
                    </a:lnTo>
                    <a:lnTo>
                      <a:pt x="1270" y="661"/>
                    </a:lnTo>
                    <a:lnTo>
                      <a:pt x="1274" y="645"/>
                    </a:lnTo>
                    <a:lnTo>
                      <a:pt x="1278" y="630"/>
                    </a:lnTo>
                    <a:lnTo>
                      <a:pt x="1282" y="616"/>
                    </a:lnTo>
                    <a:lnTo>
                      <a:pt x="1284" y="599"/>
                    </a:lnTo>
                    <a:lnTo>
                      <a:pt x="1286" y="583"/>
                    </a:lnTo>
                    <a:lnTo>
                      <a:pt x="1288" y="568"/>
                    </a:lnTo>
                    <a:lnTo>
                      <a:pt x="1292" y="552"/>
                    </a:lnTo>
                    <a:lnTo>
                      <a:pt x="1292" y="537"/>
                    </a:lnTo>
                    <a:lnTo>
                      <a:pt x="1294" y="523"/>
                    </a:lnTo>
                    <a:lnTo>
                      <a:pt x="1294" y="508"/>
                    </a:lnTo>
                    <a:lnTo>
                      <a:pt x="1296" y="494"/>
                    </a:lnTo>
                    <a:lnTo>
                      <a:pt x="1294" y="479"/>
                    </a:lnTo>
                    <a:lnTo>
                      <a:pt x="1294" y="465"/>
                    </a:lnTo>
                    <a:lnTo>
                      <a:pt x="1294" y="451"/>
                    </a:lnTo>
                    <a:lnTo>
                      <a:pt x="1294" y="440"/>
                    </a:lnTo>
                    <a:lnTo>
                      <a:pt x="1294" y="426"/>
                    </a:lnTo>
                    <a:lnTo>
                      <a:pt x="1294" y="413"/>
                    </a:lnTo>
                    <a:lnTo>
                      <a:pt x="1296" y="401"/>
                    </a:lnTo>
                    <a:lnTo>
                      <a:pt x="1297" y="389"/>
                    </a:lnTo>
                    <a:lnTo>
                      <a:pt x="1297" y="376"/>
                    </a:lnTo>
                    <a:lnTo>
                      <a:pt x="1299" y="364"/>
                    </a:lnTo>
                    <a:lnTo>
                      <a:pt x="1301" y="351"/>
                    </a:lnTo>
                    <a:lnTo>
                      <a:pt x="1303" y="339"/>
                    </a:lnTo>
                    <a:lnTo>
                      <a:pt x="1305" y="327"/>
                    </a:lnTo>
                    <a:lnTo>
                      <a:pt x="1309" y="316"/>
                    </a:lnTo>
                    <a:lnTo>
                      <a:pt x="1311" y="304"/>
                    </a:lnTo>
                    <a:lnTo>
                      <a:pt x="1315" y="294"/>
                    </a:lnTo>
                    <a:lnTo>
                      <a:pt x="1317" y="283"/>
                    </a:lnTo>
                    <a:lnTo>
                      <a:pt x="1321" y="271"/>
                    </a:lnTo>
                    <a:lnTo>
                      <a:pt x="1323" y="259"/>
                    </a:lnTo>
                    <a:lnTo>
                      <a:pt x="1327" y="250"/>
                    </a:lnTo>
                    <a:lnTo>
                      <a:pt x="1332" y="228"/>
                    </a:lnTo>
                    <a:lnTo>
                      <a:pt x="1340" y="209"/>
                    </a:lnTo>
                    <a:lnTo>
                      <a:pt x="1348" y="190"/>
                    </a:lnTo>
                    <a:lnTo>
                      <a:pt x="1356" y="172"/>
                    </a:lnTo>
                    <a:lnTo>
                      <a:pt x="1363" y="155"/>
                    </a:lnTo>
                    <a:lnTo>
                      <a:pt x="1373" y="139"/>
                    </a:lnTo>
                    <a:lnTo>
                      <a:pt x="1379" y="122"/>
                    </a:lnTo>
                    <a:lnTo>
                      <a:pt x="1387" y="106"/>
                    </a:lnTo>
                    <a:lnTo>
                      <a:pt x="1394" y="91"/>
                    </a:lnTo>
                    <a:lnTo>
                      <a:pt x="1402" y="79"/>
                    </a:lnTo>
                    <a:lnTo>
                      <a:pt x="1408" y="66"/>
                    </a:lnTo>
                    <a:lnTo>
                      <a:pt x="1416" y="54"/>
                    </a:lnTo>
                    <a:lnTo>
                      <a:pt x="1422" y="42"/>
                    </a:lnTo>
                    <a:lnTo>
                      <a:pt x="1429" y="35"/>
                    </a:lnTo>
                    <a:lnTo>
                      <a:pt x="1439" y="17"/>
                    </a:lnTo>
                    <a:lnTo>
                      <a:pt x="1449" y="7"/>
                    </a:lnTo>
                    <a:lnTo>
                      <a:pt x="1455" y="0"/>
                    </a:lnTo>
                    <a:lnTo>
                      <a:pt x="1458" y="0"/>
                    </a:lnTo>
                    <a:lnTo>
                      <a:pt x="1455" y="0"/>
                    </a:lnTo>
                    <a:lnTo>
                      <a:pt x="1445" y="0"/>
                    </a:lnTo>
                    <a:lnTo>
                      <a:pt x="1437" y="0"/>
                    </a:lnTo>
                    <a:lnTo>
                      <a:pt x="1429" y="0"/>
                    </a:lnTo>
                    <a:lnTo>
                      <a:pt x="1420" y="0"/>
                    </a:lnTo>
                    <a:lnTo>
                      <a:pt x="1410" y="0"/>
                    </a:lnTo>
                    <a:lnTo>
                      <a:pt x="1396" y="0"/>
                    </a:lnTo>
                    <a:lnTo>
                      <a:pt x="1385" y="0"/>
                    </a:lnTo>
                    <a:lnTo>
                      <a:pt x="1369" y="0"/>
                    </a:lnTo>
                    <a:lnTo>
                      <a:pt x="1356" y="2"/>
                    </a:lnTo>
                    <a:lnTo>
                      <a:pt x="1338" y="2"/>
                    </a:lnTo>
                    <a:lnTo>
                      <a:pt x="1321" y="3"/>
                    </a:lnTo>
                    <a:lnTo>
                      <a:pt x="1301" y="5"/>
                    </a:lnTo>
                    <a:lnTo>
                      <a:pt x="1284" y="7"/>
                    </a:lnTo>
                    <a:lnTo>
                      <a:pt x="1261" y="7"/>
                    </a:lnTo>
                    <a:lnTo>
                      <a:pt x="1239" y="7"/>
                    </a:lnTo>
                    <a:lnTo>
                      <a:pt x="1216" y="7"/>
                    </a:lnTo>
                    <a:lnTo>
                      <a:pt x="1195" y="9"/>
                    </a:lnTo>
                    <a:lnTo>
                      <a:pt x="1169" y="9"/>
                    </a:lnTo>
                    <a:lnTo>
                      <a:pt x="1146" y="11"/>
                    </a:lnTo>
                    <a:lnTo>
                      <a:pt x="1121" y="11"/>
                    </a:lnTo>
                    <a:lnTo>
                      <a:pt x="1096" y="13"/>
                    </a:lnTo>
                    <a:lnTo>
                      <a:pt x="1069" y="13"/>
                    </a:lnTo>
                    <a:lnTo>
                      <a:pt x="1041" y="13"/>
                    </a:lnTo>
                    <a:lnTo>
                      <a:pt x="1012" y="15"/>
                    </a:lnTo>
                    <a:lnTo>
                      <a:pt x="985" y="17"/>
                    </a:lnTo>
                    <a:lnTo>
                      <a:pt x="956" y="17"/>
                    </a:lnTo>
                    <a:lnTo>
                      <a:pt x="927" y="17"/>
                    </a:lnTo>
                    <a:lnTo>
                      <a:pt x="898" y="19"/>
                    </a:lnTo>
                    <a:lnTo>
                      <a:pt x="871" y="21"/>
                    </a:lnTo>
                    <a:lnTo>
                      <a:pt x="840" y="21"/>
                    </a:lnTo>
                    <a:lnTo>
                      <a:pt x="809" y="21"/>
                    </a:lnTo>
                    <a:lnTo>
                      <a:pt x="778" y="21"/>
                    </a:lnTo>
                    <a:lnTo>
                      <a:pt x="749" y="23"/>
                    </a:lnTo>
                    <a:lnTo>
                      <a:pt x="718" y="23"/>
                    </a:lnTo>
                    <a:lnTo>
                      <a:pt x="687" y="23"/>
                    </a:lnTo>
                    <a:lnTo>
                      <a:pt x="656" y="23"/>
                    </a:lnTo>
                    <a:lnTo>
                      <a:pt x="626" y="25"/>
                    </a:lnTo>
                    <a:lnTo>
                      <a:pt x="595" y="25"/>
                    </a:lnTo>
                    <a:lnTo>
                      <a:pt x="564" y="25"/>
                    </a:lnTo>
                    <a:lnTo>
                      <a:pt x="533" y="25"/>
                    </a:lnTo>
                    <a:lnTo>
                      <a:pt x="504" y="25"/>
                    </a:lnTo>
                    <a:lnTo>
                      <a:pt x="473" y="25"/>
                    </a:lnTo>
                    <a:lnTo>
                      <a:pt x="444" y="25"/>
                    </a:lnTo>
                    <a:lnTo>
                      <a:pt x="415" y="25"/>
                    </a:lnTo>
                    <a:lnTo>
                      <a:pt x="388" y="27"/>
                    </a:lnTo>
                    <a:lnTo>
                      <a:pt x="359" y="25"/>
                    </a:lnTo>
                    <a:lnTo>
                      <a:pt x="330" y="25"/>
                    </a:lnTo>
                    <a:lnTo>
                      <a:pt x="301" y="23"/>
                    </a:lnTo>
                    <a:lnTo>
                      <a:pt x="273" y="23"/>
                    </a:lnTo>
                    <a:lnTo>
                      <a:pt x="246" y="21"/>
                    </a:lnTo>
                    <a:lnTo>
                      <a:pt x="221" y="21"/>
                    </a:lnTo>
                    <a:lnTo>
                      <a:pt x="194" y="21"/>
                    </a:lnTo>
                    <a:lnTo>
                      <a:pt x="171" y="21"/>
                    </a:lnTo>
                    <a:lnTo>
                      <a:pt x="145" y="19"/>
                    </a:lnTo>
                    <a:lnTo>
                      <a:pt x="122" y="17"/>
                    </a:lnTo>
                    <a:lnTo>
                      <a:pt x="99" y="15"/>
                    </a:lnTo>
                    <a:lnTo>
                      <a:pt x="78" y="15"/>
                    </a:lnTo>
                    <a:lnTo>
                      <a:pt x="54" y="13"/>
                    </a:lnTo>
                    <a:lnTo>
                      <a:pt x="35" y="11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507800" y="-280800"/>
                <a:ext cx="576720" cy="80280"/>
              </a:xfrm>
              <a:custGeom>
                <a:avLst/>
                <a:gdLst/>
                <a:ahLst/>
                <a:rect l="l" t="t" r="r" b="b"/>
                <a:pathLst>
                  <a:path w="2063" h="287">
                    <a:moveTo>
                      <a:pt x="155" y="142"/>
                    </a:moveTo>
                    <a:lnTo>
                      <a:pt x="147" y="142"/>
                    </a:lnTo>
                    <a:lnTo>
                      <a:pt x="133" y="142"/>
                    </a:lnTo>
                    <a:lnTo>
                      <a:pt x="122" y="142"/>
                    </a:lnTo>
                    <a:lnTo>
                      <a:pt x="112" y="142"/>
                    </a:lnTo>
                    <a:lnTo>
                      <a:pt x="100" y="144"/>
                    </a:lnTo>
                    <a:lnTo>
                      <a:pt x="89" y="148"/>
                    </a:lnTo>
                    <a:lnTo>
                      <a:pt x="73" y="150"/>
                    </a:lnTo>
                    <a:lnTo>
                      <a:pt x="62" y="154"/>
                    </a:lnTo>
                    <a:lnTo>
                      <a:pt x="48" y="159"/>
                    </a:lnTo>
                    <a:lnTo>
                      <a:pt x="38" y="165"/>
                    </a:lnTo>
                    <a:lnTo>
                      <a:pt x="27" y="171"/>
                    </a:lnTo>
                    <a:lnTo>
                      <a:pt x="17" y="179"/>
                    </a:lnTo>
                    <a:lnTo>
                      <a:pt x="11" y="188"/>
                    </a:lnTo>
                    <a:lnTo>
                      <a:pt x="7" y="200"/>
                    </a:lnTo>
                    <a:lnTo>
                      <a:pt x="0" y="220"/>
                    </a:lnTo>
                    <a:lnTo>
                      <a:pt x="0" y="237"/>
                    </a:lnTo>
                    <a:lnTo>
                      <a:pt x="0" y="243"/>
                    </a:lnTo>
                    <a:lnTo>
                      <a:pt x="7" y="251"/>
                    </a:lnTo>
                    <a:lnTo>
                      <a:pt x="13" y="256"/>
                    </a:lnTo>
                    <a:lnTo>
                      <a:pt x="27" y="264"/>
                    </a:lnTo>
                    <a:lnTo>
                      <a:pt x="38" y="268"/>
                    </a:lnTo>
                    <a:lnTo>
                      <a:pt x="56" y="272"/>
                    </a:lnTo>
                    <a:lnTo>
                      <a:pt x="65" y="272"/>
                    </a:lnTo>
                    <a:lnTo>
                      <a:pt x="77" y="276"/>
                    </a:lnTo>
                    <a:lnTo>
                      <a:pt x="89" y="276"/>
                    </a:lnTo>
                    <a:lnTo>
                      <a:pt x="104" y="280"/>
                    </a:lnTo>
                    <a:lnTo>
                      <a:pt x="116" y="280"/>
                    </a:lnTo>
                    <a:lnTo>
                      <a:pt x="133" y="282"/>
                    </a:lnTo>
                    <a:lnTo>
                      <a:pt x="149" y="282"/>
                    </a:lnTo>
                    <a:lnTo>
                      <a:pt x="168" y="284"/>
                    </a:lnTo>
                    <a:lnTo>
                      <a:pt x="186" y="284"/>
                    </a:lnTo>
                    <a:lnTo>
                      <a:pt x="207" y="285"/>
                    </a:lnTo>
                    <a:lnTo>
                      <a:pt x="217" y="285"/>
                    </a:lnTo>
                    <a:lnTo>
                      <a:pt x="228" y="285"/>
                    </a:lnTo>
                    <a:lnTo>
                      <a:pt x="240" y="285"/>
                    </a:lnTo>
                    <a:lnTo>
                      <a:pt x="254" y="287"/>
                    </a:lnTo>
                    <a:lnTo>
                      <a:pt x="265" y="285"/>
                    </a:lnTo>
                    <a:lnTo>
                      <a:pt x="279" y="285"/>
                    </a:lnTo>
                    <a:lnTo>
                      <a:pt x="292" y="285"/>
                    </a:lnTo>
                    <a:lnTo>
                      <a:pt x="310" y="285"/>
                    </a:lnTo>
                    <a:lnTo>
                      <a:pt x="325" y="285"/>
                    </a:lnTo>
                    <a:lnTo>
                      <a:pt x="345" y="285"/>
                    </a:lnTo>
                    <a:lnTo>
                      <a:pt x="362" y="285"/>
                    </a:lnTo>
                    <a:lnTo>
                      <a:pt x="385" y="285"/>
                    </a:lnTo>
                    <a:lnTo>
                      <a:pt x="405" y="285"/>
                    </a:lnTo>
                    <a:lnTo>
                      <a:pt x="428" y="285"/>
                    </a:lnTo>
                    <a:lnTo>
                      <a:pt x="451" y="285"/>
                    </a:lnTo>
                    <a:lnTo>
                      <a:pt x="477" y="285"/>
                    </a:lnTo>
                    <a:lnTo>
                      <a:pt x="500" y="285"/>
                    </a:lnTo>
                    <a:lnTo>
                      <a:pt x="527" y="285"/>
                    </a:lnTo>
                    <a:lnTo>
                      <a:pt x="554" y="285"/>
                    </a:lnTo>
                    <a:lnTo>
                      <a:pt x="583" y="285"/>
                    </a:lnTo>
                    <a:lnTo>
                      <a:pt x="610" y="284"/>
                    </a:lnTo>
                    <a:lnTo>
                      <a:pt x="639" y="284"/>
                    </a:lnTo>
                    <a:lnTo>
                      <a:pt x="669" y="282"/>
                    </a:lnTo>
                    <a:lnTo>
                      <a:pt x="698" y="282"/>
                    </a:lnTo>
                    <a:lnTo>
                      <a:pt x="727" y="280"/>
                    </a:lnTo>
                    <a:lnTo>
                      <a:pt x="760" y="280"/>
                    </a:lnTo>
                    <a:lnTo>
                      <a:pt x="791" y="280"/>
                    </a:lnTo>
                    <a:lnTo>
                      <a:pt x="824" y="280"/>
                    </a:lnTo>
                    <a:lnTo>
                      <a:pt x="855" y="278"/>
                    </a:lnTo>
                    <a:lnTo>
                      <a:pt x="888" y="278"/>
                    </a:lnTo>
                    <a:lnTo>
                      <a:pt x="921" y="276"/>
                    </a:lnTo>
                    <a:lnTo>
                      <a:pt x="956" y="276"/>
                    </a:lnTo>
                    <a:lnTo>
                      <a:pt x="989" y="274"/>
                    </a:lnTo>
                    <a:lnTo>
                      <a:pt x="1023" y="274"/>
                    </a:lnTo>
                    <a:lnTo>
                      <a:pt x="1058" y="274"/>
                    </a:lnTo>
                    <a:lnTo>
                      <a:pt x="1093" y="274"/>
                    </a:lnTo>
                    <a:lnTo>
                      <a:pt x="1126" y="270"/>
                    </a:lnTo>
                    <a:lnTo>
                      <a:pt x="1161" y="270"/>
                    </a:lnTo>
                    <a:lnTo>
                      <a:pt x="1196" y="266"/>
                    </a:lnTo>
                    <a:lnTo>
                      <a:pt x="1231" y="266"/>
                    </a:lnTo>
                    <a:lnTo>
                      <a:pt x="1264" y="262"/>
                    </a:lnTo>
                    <a:lnTo>
                      <a:pt x="1299" y="262"/>
                    </a:lnTo>
                    <a:lnTo>
                      <a:pt x="1334" y="258"/>
                    </a:lnTo>
                    <a:lnTo>
                      <a:pt x="1369" y="258"/>
                    </a:lnTo>
                    <a:lnTo>
                      <a:pt x="1402" y="254"/>
                    </a:lnTo>
                    <a:lnTo>
                      <a:pt x="1437" y="252"/>
                    </a:lnTo>
                    <a:lnTo>
                      <a:pt x="1470" y="249"/>
                    </a:lnTo>
                    <a:lnTo>
                      <a:pt x="1504" y="247"/>
                    </a:lnTo>
                    <a:lnTo>
                      <a:pt x="1537" y="243"/>
                    </a:lnTo>
                    <a:lnTo>
                      <a:pt x="1570" y="241"/>
                    </a:lnTo>
                    <a:lnTo>
                      <a:pt x="1603" y="237"/>
                    </a:lnTo>
                    <a:lnTo>
                      <a:pt x="1636" y="235"/>
                    </a:lnTo>
                    <a:lnTo>
                      <a:pt x="1667" y="229"/>
                    </a:lnTo>
                    <a:lnTo>
                      <a:pt x="1698" y="227"/>
                    </a:lnTo>
                    <a:lnTo>
                      <a:pt x="1727" y="221"/>
                    </a:lnTo>
                    <a:lnTo>
                      <a:pt x="1759" y="220"/>
                    </a:lnTo>
                    <a:lnTo>
                      <a:pt x="1788" y="214"/>
                    </a:lnTo>
                    <a:lnTo>
                      <a:pt x="1817" y="212"/>
                    </a:lnTo>
                    <a:lnTo>
                      <a:pt x="1844" y="206"/>
                    </a:lnTo>
                    <a:lnTo>
                      <a:pt x="1873" y="204"/>
                    </a:lnTo>
                    <a:lnTo>
                      <a:pt x="1898" y="198"/>
                    </a:lnTo>
                    <a:lnTo>
                      <a:pt x="1923" y="194"/>
                    </a:lnTo>
                    <a:lnTo>
                      <a:pt x="1949" y="188"/>
                    </a:lnTo>
                    <a:lnTo>
                      <a:pt x="1974" y="185"/>
                    </a:lnTo>
                    <a:lnTo>
                      <a:pt x="1995" y="179"/>
                    </a:lnTo>
                    <a:lnTo>
                      <a:pt x="2018" y="173"/>
                    </a:lnTo>
                    <a:lnTo>
                      <a:pt x="2040" y="167"/>
                    </a:lnTo>
                    <a:lnTo>
                      <a:pt x="2063" y="163"/>
                    </a:lnTo>
                    <a:lnTo>
                      <a:pt x="2016" y="0"/>
                    </a:lnTo>
                    <a:lnTo>
                      <a:pt x="2011" y="0"/>
                    </a:lnTo>
                    <a:lnTo>
                      <a:pt x="2001" y="0"/>
                    </a:lnTo>
                    <a:lnTo>
                      <a:pt x="1991" y="0"/>
                    </a:lnTo>
                    <a:lnTo>
                      <a:pt x="1983" y="0"/>
                    </a:lnTo>
                    <a:lnTo>
                      <a:pt x="1972" y="2"/>
                    </a:lnTo>
                    <a:lnTo>
                      <a:pt x="1960" y="4"/>
                    </a:lnTo>
                    <a:lnTo>
                      <a:pt x="1945" y="4"/>
                    </a:lnTo>
                    <a:lnTo>
                      <a:pt x="1929" y="4"/>
                    </a:lnTo>
                    <a:lnTo>
                      <a:pt x="1912" y="6"/>
                    </a:lnTo>
                    <a:lnTo>
                      <a:pt x="1894" y="8"/>
                    </a:lnTo>
                    <a:lnTo>
                      <a:pt x="1873" y="10"/>
                    </a:lnTo>
                    <a:lnTo>
                      <a:pt x="1854" y="12"/>
                    </a:lnTo>
                    <a:lnTo>
                      <a:pt x="1832" y="14"/>
                    </a:lnTo>
                    <a:lnTo>
                      <a:pt x="1811" y="18"/>
                    </a:lnTo>
                    <a:lnTo>
                      <a:pt x="1784" y="18"/>
                    </a:lnTo>
                    <a:lnTo>
                      <a:pt x="1759" y="22"/>
                    </a:lnTo>
                    <a:lnTo>
                      <a:pt x="1731" y="22"/>
                    </a:lnTo>
                    <a:lnTo>
                      <a:pt x="1706" y="26"/>
                    </a:lnTo>
                    <a:lnTo>
                      <a:pt x="1677" y="28"/>
                    </a:lnTo>
                    <a:lnTo>
                      <a:pt x="1648" y="31"/>
                    </a:lnTo>
                    <a:lnTo>
                      <a:pt x="1617" y="33"/>
                    </a:lnTo>
                    <a:lnTo>
                      <a:pt x="1588" y="37"/>
                    </a:lnTo>
                    <a:lnTo>
                      <a:pt x="1555" y="39"/>
                    </a:lnTo>
                    <a:lnTo>
                      <a:pt x="1522" y="43"/>
                    </a:lnTo>
                    <a:lnTo>
                      <a:pt x="1487" y="45"/>
                    </a:lnTo>
                    <a:lnTo>
                      <a:pt x="1454" y="49"/>
                    </a:lnTo>
                    <a:lnTo>
                      <a:pt x="1419" y="51"/>
                    </a:lnTo>
                    <a:lnTo>
                      <a:pt x="1384" y="55"/>
                    </a:lnTo>
                    <a:lnTo>
                      <a:pt x="1349" y="57"/>
                    </a:lnTo>
                    <a:lnTo>
                      <a:pt x="1314" y="62"/>
                    </a:lnTo>
                    <a:lnTo>
                      <a:pt x="1276" y="64"/>
                    </a:lnTo>
                    <a:lnTo>
                      <a:pt x="1239" y="68"/>
                    </a:lnTo>
                    <a:lnTo>
                      <a:pt x="1202" y="70"/>
                    </a:lnTo>
                    <a:lnTo>
                      <a:pt x="1165" y="74"/>
                    </a:lnTo>
                    <a:lnTo>
                      <a:pt x="1126" y="76"/>
                    </a:lnTo>
                    <a:lnTo>
                      <a:pt x="1087" y="80"/>
                    </a:lnTo>
                    <a:lnTo>
                      <a:pt x="1049" y="82"/>
                    </a:lnTo>
                    <a:lnTo>
                      <a:pt x="1012" y="86"/>
                    </a:lnTo>
                    <a:lnTo>
                      <a:pt x="971" y="88"/>
                    </a:lnTo>
                    <a:lnTo>
                      <a:pt x="932" y="92"/>
                    </a:lnTo>
                    <a:lnTo>
                      <a:pt x="894" y="93"/>
                    </a:lnTo>
                    <a:lnTo>
                      <a:pt x="857" y="97"/>
                    </a:lnTo>
                    <a:lnTo>
                      <a:pt x="816" y="99"/>
                    </a:lnTo>
                    <a:lnTo>
                      <a:pt x="779" y="103"/>
                    </a:lnTo>
                    <a:lnTo>
                      <a:pt x="740" y="105"/>
                    </a:lnTo>
                    <a:lnTo>
                      <a:pt x="703" y="109"/>
                    </a:lnTo>
                    <a:lnTo>
                      <a:pt x="663" y="109"/>
                    </a:lnTo>
                    <a:lnTo>
                      <a:pt x="626" y="113"/>
                    </a:lnTo>
                    <a:lnTo>
                      <a:pt x="587" y="115"/>
                    </a:lnTo>
                    <a:lnTo>
                      <a:pt x="552" y="119"/>
                    </a:lnTo>
                    <a:lnTo>
                      <a:pt x="513" y="119"/>
                    </a:lnTo>
                    <a:lnTo>
                      <a:pt x="479" y="123"/>
                    </a:lnTo>
                    <a:lnTo>
                      <a:pt x="444" y="124"/>
                    </a:lnTo>
                    <a:lnTo>
                      <a:pt x="409" y="128"/>
                    </a:lnTo>
                    <a:lnTo>
                      <a:pt x="374" y="128"/>
                    </a:lnTo>
                    <a:lnTo>
                      <a:pt x="339" y="130"/>
                    </a:lnTo>
                    <a:lnTo>
                      <a:pt x="306" y="132"/>
                    </a:lnTo>
                    <a:lnTo>
                      <a:pt x="275" y="134"/>
                    </a:lnTo>
                    <a:lnTo>
                      <a:pt x="242" y="136"/>
                    </a:lnTo>
                    <a:lnTo>
                      <a:pt x="211" y="138"/>
                    </a:lnTo>
                    <a:lnTo>
                      <a:pt x="182" y="140"/>
                    </a:lnTo>
                    <a:lnTo>
                      <a:pt x="155" y="1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42360" y="-760680"/>
                <a:ext cx="504720" cy="479160"/>
              </a:xfrm>
              <a:custGeom>
                <a:avLst/>
                <a:gdLst/>
                <a:ahLst/>
                <a:rect l="l" t="t" r="r" b="b"/>
                <a:pathLst>
                  <a:path w="1803" h="1714">
                    <a:moveTo>
                      <a:pt x="1803" y="157"/>
                    </a:moveTo>
                    <a:lnTo>
                      <a:pt x="1801" y="153"/>
                    </a:lnTo>
                    <a:lnTo>
                      <a:pt x="1799" y="148"/>
                    </a:lnTo>
                    <a:lnTo>
                      <a:pt x="1794" y="138"/>
                    </a:lnTo>
                    <a:lnTo>
                      <a:pt x="1790" y="128"/>
                    </a:lnTo>
                    <a:lnTo>
                      <a:pt x="1782" y="115"/>
                    </a:lnTo>
                    <a:lnTo>
                      <a:pt x="1772" y="101"/>
                    </a:lnTo>
                    <a:lnTo>
                      <a:pt x="1761" y="85"/>
                    </a:lnTo>
                    <a:lnTo>
                      <a:pt x="1749" y="72"/>
                    </a:lnTo>
                    <a:lnTo>
                      <a:pt x="1730" y="54"/>
                    </a:lnTo>
                    <a:lnTo>
                      <a:pt x="1712" y="41"/>
                    </a:lnTo>
                    <a:lnTo>
                      <a:pt x="1699" y="33"/>
                    </a:lnTo>
                    <a:lnTo>
                      <a:pt x="1687" y="27"/>
                    </a:lnTo>
                    <a:lnTo>
                      <a:pt x="1675" y="21"/>
                    </a:lnTo>
                    <a:lnTo>
                      <a:pt x="1664" y="18"/>
                    </a:lnTo>
                    <a:lnTo>
                      <a:pt x="1648" y="12"/>
                    </a:lnTo>
                    <a:lnTo>
                      <a:pt x="1633" y="8"/>
                    </a:lnTo>
                    <a:lnTo>
                      <a:pt x="1617" y="4"/>
                    </a:lnTo>
                    <a:lnTo>
                      <a:pt x="1602" y="2"/>
                    </a:lnTo>
                    <a:lnTo>
                      <a:pt x="1582" y="0"/>
                    </a:lnTo>
                    <a:lnTo>
                      <a:pt x="1565" y="0"/>
                    </a:lnTo>
                    <a:lnTo>
                      <a:pt x="1545" y="0"/>
                    </a:lnTo>
                    <a:lnTo>
                      <a:pt x="1528" y="4"/>
                    </a:lnTo>
                    <a:lnTo>
                      <a:pt x="1514" y="4"/>
                    </a:lnTo>
                    <a:lnTo>
                      <a:pt x="1503" y="4"/>
                    </a:lnTo>
                    <a:lnTo>
                      <a:pt x="1489" y="6"/>
                    </a:lnTo>
                    <a:lnTo>
                      <a:pt x="1477" y="8"/>
                    </a:lnTo>
                    <a:lnTo>
                      <a:pt x="1462" y="8"/>
                    </a:lnTo>
                    <a:lnTo>
                      <a:pt x="1448" y="12"/>
                    </a:lnTo>
                    <a:lnTo>
                      <a:pt x="1433" y="14"/>
                    </a:lnTo>
                    <a:lnTo>
                      <a:pt x="1417" y="18"/>
                    </a:lnTo>
                    <a:lnTo>
                      <a:pt x="1398" y="18"/>
                    </a:lnTo>
                    <a:lnTo>
                      <a:pt x="1380" y="21"/>
                    </a:lnTo>
                    <a:lnTo>
                      <a:pt x="1361" y="23"/>
                    </a:lnTo>
                    <a:lnTo>
                      <a:pt x="1344" y="27"/>
                    </a:lnTo>
                    <a:lnTo>
                      <a:pt x="1322" y="31"/>
                    </a:lnTo>
                    <a:lnTo>
                      <a:pt x="1303" y="35"/>
                    </a:lnTo>
                    <a:lnTo>
                      <a:pt x="1283" y="39"/>
                    </a:lnTo>
                    <a:lnTo>
                      <a:pt x="1264" y="45"/>
                    </a:lnTo>
                    <a:lnTo>
                      <a:pt x="1241" y="49"/>
                    </a:lnTo>
                    <a:lnTo>
                      <a:pt x="1218" y="53"/>
                    </a:lnTo>
                    <a:lnTo>
                      <a:pt x="1194" y="56"/>
                    </a:lnTo>
                    <a:lnTo>
                      <a:pt x="1173" y="62"/>
                    </a:lnTo>
                    <a:lnTo>
                      <a:pt x="1148" y="68"/>
                    </a:lnTo>
                    <a:lnTo>
                      <a:pt x="1124" y="74"/>
                    </a:lnTo>
                    <a:lnTo>
                      <a:pt x="1101" y="80"/>
                    </a:lnTo>
                    <a:lnTo>
                      <a:pt x="1078" y="87"/>
                    </a:lnTo>
                    <a:lnTo>
                      <a:pt x="1051" y="93"/>
                    </a:lnTo>
                    <a:lnTo>
                      <a:pt x="1027" y="99"/>
                    </a:lnTo>
                    <a:lnTo>
                      <a:pt x="1000" y="107"/>
                    </a:lnTo>
                    <a:lnTo>
                      <a:pt x="977" y="115"/>
                    </a:lnTo>
                    <a:lnTo>
                      <a:pt x="950" y="120"/>
                    </a:lnTo>
                    <a:lnTo>
                      <a:pt x="925" y="130"/>
                    </a:lnTo>
                    <a:lnTo>
                      <a:pt x="899" y="138"/>
                    </a:lnTo>
                    <a:lnTo>
                      <a:pt x="874" y="149"/>
                    </a:lnTo>
                    <a:lnTo>
                      <a:pt x="845" y="157"/>
                    </a:lnTo>
                    <a:lnTo>
                      <a:pt x="820" y="167"/>
                    </a:lnTo>
                    <a:lnTo>
                      <a:pt x="791" y="175"/>
                    </a:lnTo>
                    <a:lnTo>
                      <a:pt x="766" y="186"/>
                    </a:lnTo>
                    <a:lnTo>
                      <a:pt x="739" y="196"/>
                    </a:lnTo>
                    <a:lnTo>
                      <a:pt x="713" y="208"/>
                    </a:lnTo>
                    <a:lnTo>
                      <a:pt x="686" y="219"/>
                    </a:lnTo>
                    <a:lnTo>
                      <a:pt x="661" y="231"/>
                    </a:lnTo>
                    <a:lnTo>
                      <a:pt x="632" y="243"/>
                    </a:lnTo>
                    <a:lnTo>
                      <a:pt x="607" y="254"/>
                    </a:lnTo>
                    <a:lnTo>
                      <a:pt x="579" y="266"/>
                    </a:lnTo>
                    <a:lnTo>
                      <a:pt x="554" y="279"/>
                    </a:lnTo>
                    <a:lnTo>
                      <a:pt x="529" y="291"/>
                    </a:lnTo>
                    <a:lnTo>
                      <a:pt x="504" y="307"/>
                    </a:lnTo>
                    <a:lnTo>
                      <a:pt x="479" y="320"/>
                    </a:lnTo>
                    <a:lnTo>
                      <a:pt x="455" y="338"/>
                    </a:lnTo>
                    <a:lnTo>
                      <a:pt x="428" y="351"/>
                    </a:lnTo>
                    <a:lnTo>
                      <a:pt x="403" y="367"/>
                    </a:lnTo>
                    <a:lnTo>
                      <a:pt x="380" y="382"/>
                    </a:lnTo>
                    <a:lnTo>
                      <a:pt x="356" y="400"/>
                    </a:lnTo>
                    <a:lnTo>
                      <a:pt x="331" y="415"/>
                    </a:lnTo>
                    <a:lnTo>
                      <a:pt x="308" y="433"/>
                    </a:lnTo>
                    <a:lnTo>
                      <a:pt x="287" y="450"/>
                    </a:lnTo>
                    <a:lnTo>
                      <a:pt x="265" y="469"/>
                    </a:lnTo>
                    <a:lnTo>
                      <a:pt x="242" y="487"/>
                    </a:lnTo>
                    <a:lnTo>
                      <a:pt x="221" y="504"/>
                    </a:lnTo>
                    <a:lnTo>
                      <a:pt x="199" y="524"/>
                    </a:lnTo>
                    <a:lnTo>
                      <a:pt x="182" y="545"/>
                    </a:lnTo>
                    <a:lnTo>
                      <a:pt x="163" y="564"/>
                    </a:lnTo>
                    <a:lnTo>
                      <a:pt x="143" y="586"/>
                    </a:lnTo>
                    <a:lnTo>
                      <a:pt x="126" y="609"/>
                    </a:lnTo>
                    <a:lnTo>
                      <a:pt x="110" y="632"/>
                    </a:lnTo>
                    <a:lnTo>
                      <a:pt x="106" y="632"/>
                    </a:lnTo>
                    <a:lnTo>
                      <a:pt x="102" y="636"/>
                    </a:lnTo>
                    <a:lnTo>
                      <a:pt x="95" y="642"/>
                    </a:lnTo>
                    <a:lnTo>
                      <a:pt x="89" y="654"/>
                    </a:lnTo>
                    <a:lnTo>
                      <a:pt x="77" y="665"/>
                    </a:lnTo>
                    <a:lnTo>
                      <a:pt x="67" y="683"/>
                    </a:lnTo>
                    <a:lnTo>
                      <a:pt x="62" y="692"/>
                    </a:lnTo>
                    <a:lnTo>
                      <a:pt x="58" y="704"/>
                    </a:lnTo>
                    <a:lnTo>
                      <a:pt x="52" y="716"/>
                    </a:lnTo>
                    <a:lnTo>
                      <a:pt x="48" y="729"/>
                    </a:lnTo>
                    <a:lnTo>
                      <a:pt x="42" y="741"/>
                    </a:lnTo>
                    <a:lnTo>
                      <a:pt x="36" y="755"/>
                    </a:lnTo>
                    <a:lnTo>
                      <a:pt x="31" y="770"/>
                    </a:lnTo>
                    <a:lnTo>
                      <a:pt x="25" y="787"/>
                    </a:lnTo>
                    <a:lnTo>
                      <a:pt x="19" y="803"/>
                    </a:lnTo>
                    <a:lnTo>
                      <a:pt x="15" y="822"/>
                    </a:lnTo>
                    <a:lnTo>
                      <a:pt x="13" y="832"/>
                    </a:lnTo>
                    <a:lnTo>
                      <a:pt x="11" y="842"/>
                    </a:lnTo>
                    <a:lnTo>
                      <a:pt x="9" y="853"/>
                    </a:lnTo>
                    <a:lnTo>
                      <a:pt x="9" y="865"/>
                    </a:lnTo>
                    <a:lnTo>
                      <a:pt x="7" y="875"/>
                    </a:lnTo>
                    <a:lnTo>
                      <a:pt x="5" y="886"/>
                    </a:lnTo>
                    <a:lnTo>
                      <a:pt x="3" y="898"/>
                    </a:lnTo>
                    <a:lnTo>
                      <a:pt x="3" y="910"/>
                    </a:lnTo>
                    <a:lnTo>
                      <a:pt x="2" y="921"/>
                    </a:lnTo>
                    <a:lnTo>
                      <a:pt x="0" y="933"/>
                    </a:lnTo>
                    <a:lnTo>
                      <a:pt x="0" y="946"/>
                    </a:lnTo>
                    <a:lnTo>
                      <a:pt x="0" y="960"/>
                    </a:lnTo>
                    <a:lnTo>
                      <a:pt x="0" y="972"/>
                    </a:lnTo>
                    <a:lnTo>
                      <a:pt x="0" y="985"/>
                    </a:lnTo>
                    <a:lnTo>
                      <a:pt x="0" y="999"/>
                    </a:lnTo>
                    <a:lnTo>
                      <a:pt x="0" y="1014"/>
                    </a:lnTo>
                    <a:lnTo>
                      <a:pt x="0" y="1028"/>
                    </a:lnTo>
                    <a:lnTo>
                      <a:pt x="0" y="1043"/>
                    </a:lnTo>
                    <a:lnTo>
                      <a:pt x="2" y="1059"/>
                    </a:lnTo>
                    <a:lnTo>
                      <a:pt x="3" y="1076"/>
                    </a:lnTo>
                    <a:lnTo>
                      <a:pt x="3" y="1090"/>
                    </a:lnTo>
                    <a:lnTo>
                      <a:pt x="3" y="1106"/>
                    </a:lnTo>
                    <a:lnTo>
                      <a:pt x="3" y="1121"/>
                    </a:lnTo>
                    <a:lnTo>
                      <a:pt x="5" y="1137"/>
                    </a:lnTo>
                    <a:lnTo>
                      <a:pt x="5" y="1150"/>
                    </a:lnTo>
                    <a:lnTo>
                      <a:pt x="7" y="1168"/>
                    </a:lnTo>
                    <a:lnTo>
                      <a:pt x="9" y="1181"/>
                    </a:lnTo>
                    <a:lnTo>
                      <a:pt x="11" y="1199"/>
                    </a:lnTo>
                    <a:lnTo>
                      <a:pt x="11" y="1212"/>
                    </a:lnTo>
                    <a:lnTo>
                      <a:pt x="11" y="1228"/>
                    </a:lnTo>
                    <a:lnTo>
                      <a:pt x="13" y="1241"/>
                    </a:lnTo>
                    <a:lnTo>
                      <a:pt x="15" y="1257"/>
                    </a:lnTo>
                    <a:lnTo>
                      <a:pt x="15" y="1270"/>
                    </a:lnTo>
                    <a:lnTo>
                      <a:pt x="17" y="1286"/>
                    </a:lnTo>
                    <a:lnTo>
                      <a:pt x="19" y="1299"/>
                    </a:lnTo>
                    <a:lnTo>
                      <a:pt x="21" y="1315"/>
                    </a:lnTo>
                    <a:lnTo>
                      <a:pt x="21" y="1327"/>
                    </a:lnTo>
                    <a:lnTo>
                      <a:pt x="23" y="1342"/>
                    </a:lnTo>
                    <a:lnTo>
                      <a:pt x="25" y="1354"/>
                    </a:lnTo>
                    <a:lnTo>
                      <a:pt x="27" y="1369"/>
                    </a:lnTo>
                    <a:lnTo>
                      <a:pt x="27" y="1381"/>
                    </a:lnTo>
                    <a:lnTo>
                      <a:pt x="29" y="1396"/>
                    </a:lnTo>
                    <a:lnTo>
                      <a:pt x="31" y="1408"/>
                    </a:lnTo>
                    <a:lnTo>
                      <a:pt x="33" y="1424"/>
                    </a:lnTo>
                    <a:lnTo>
                      <a:pt x="33" y="1435"/>
                    </a:lnTo>
                    <a:lnTo>
                      <a:pt x="35" y="1447"/>
                    </a:lnTo>
                    <a:lnTo>
                      <a:pt x="36" y="1458"/>
                    </a:lnTo>
                    <a:lnTo>
                      <a:pt x="38" y="1472"/>
                    </a:lnTo>
                    <a:lnTo>
                      <a:pt x="38" y="1484"/>
                    </a:lnTo>
                    <a:lnTo>
                      <a:pt x="40" y="1495"/>
                    </a:lnTo>
                    <a:lnTo>
                      <a:pt x="42" y="1507"/>
                    </a:lnTo>
                    <a:lnTo>
                      <a:pt x="44" y="1521"/>
                    </a:lnTo>
                    <a:lnTo>
                      <a:pt x="46" y="1540"/>
                    </a:lnTo>
                    <a:lnTo>
                      <a:pt x="48" y="1561"/>
                    </a:lnTo>
                    <a:lnTo>
                      <a:pt x="50" y="1579"/>
                    </a:lnTo>
                    <a:lnTo>
                      <a:pt x="54" y="1598"/>
                    </a:lnTo>
                    <a:lnTo>
                      <a:pt x="56" y="1614"/>
                    </a:lnTo>
                    <a:lnTo>
                      <a:pt x="58" y="1631"/>
                    </a:lnTo>
                    <a:lnTo>
                      <a:pt x="60" y="1645"/>
                    </a:lnTo>
                    <a:lnTo>
                      <a:pt x="64" y="1660"/>
                    </a:lnTo>
                    <a:lnTo>
                      <a:pt x="64" y="1670"/>
                    </a:lnTo>
                    <a:lnTo>
                      <a:pt x="66" y="1681"/>
                    </a:lnTo>
                    <a:lnTo>
                      <a:pt x="66" y="1691"/>
                    </a:lnTo>
                    <a:lnTo>
                      <a:pt x="67" y="1699"/>
                    </a:lnTo>
                    <a:lnTo>
                      <a:pt x="69" y="1709"/>
                    </a:lnTo>
                    <a:lnTo>
                      <a:pt x="71" y="1714"/>
                    </a:lnTo>
                    <a:lnTo>
                      <a:pt x="73" y="1714"/>
                    </a:lnTo>
                    <a:lnTo>
                      <a:pt x="85" y="1714"/>
                    </a:lnTo>
                    <a:lnTo>
                      <a:pt x="91" y="1714"/>
                    </a:lnTo>
                    <a:lnTo>
                      <a:pt x="100" y="1714"/>
                    </a:lnTo>
                    <a:lnTo>
                      <a:pt x="110" y="1714"/>
                    </a:lnTo>
                    <a:lnTo>
                      <a:pt x="124" y="1714"/>
                    </a:lnTo>
                    <a:lnTo>
                      <a:pt x="135" y="1714"/>
                    </a:lnTo>
                    <a:lnTo>
                      <a:pt x="151" y="1714"/>
                    </a:lnTo>
                    <a:lnTo>
                      <a:pt x="168" y="1714"/>
                    </a:lnTo>
                    <a:lnTo>
                      <a:pt x="186" y="1714"/>
                    </a:lnTo>
                    <a:lnTo>
                      <a:pt x="203" y="1714"/>
                    </a:lnTo>
                    <a:lnTo>
                      <a:pt x="225" y="1714"/>
                    </a:lnTo>
                    <a:lnTo>
                      <a:pt x="248" y="1714"/>
                    </a:lnTo>
                    <a:lnTo>
                      <a:pt x="271" y="1714"/>
                    </a:lnTo>
                    <a:lnTo>
                      <a:pt x="294" y="1712"/>
                    </a:lnTo>
                    <a:lnTo>
                      <a:pt x="318" y="1712"/>
                    </a:lnTo>
                    <a:lnTo>
                      <a:pt x="343" y="1712"/>
                    </a:lnTo>
                    <a:lnTo>
                      <a:pt x="372" y="1712"/>
                    </a:lnTo>
                    <a:lnTo>
                      <a:pt x="397" y="1711"/>
                    </a:lnTo>
                    <a:lnTo>
                      <a:pt x="426" y="1711"/>
                    </a:lnTo>
                    <a:lnTo>
                      <a:pt x="455" y="1711"/>
                    </a:lnTo>
                    <a:lnTo>
                      <a:pt x="486" y="1711"/>
                    </a:lnTo>
                    <a:lnTo>
                      <a:pt x="515" y="1709"/>
                    </a:lnTo>
                    <a:lnTo>
                      <a:pt x="548" y="1709"/>
                    </a:lnTo>
                    <a:lnTo>
                      <a:pt x="579" y="1709"/>
                    </a:lnTo>
                    <a:lnTo>
                      <a:pt x="612" y="1709"/>
                    </a:lnTo>
                    <a:lnTo>
                      <a:pt x="645" y="1709"/>
                    </a:lnTo>
                    <a:lnTo>
                      <a:pt x="680" y="1709"/>
                    </a:lnTo>
                    <a:lnTo>
                      <a:pt x="715" y="1709"/>
                    </a:lnTo>
                    <a:lnTo>
                      <a:pt x="750" y="1709"/>
                    </a:lnTo>
                    <a:lnTo>
                      <a:pt x="783" y="1707"/>
                    </a:lnTo>
                    <a:lnTo>
                      <a:pt x="818" y="1705"/>
                    </a:lnTo>
                    <a:lnTo>
                      <a:pt x="853" y="1703"/>
                    </a:lnTo>
                    <a:lnTo>
                      <a:pt x="890" y="1703"/>
                    </a:lnTo>
                    <a:lnTo>
                      <a:pt x="925" y="1701"/>
                    </a:lnTo>
                    <a:lnTo>
                      <a:pt x="960" y="1701"/>
                    </a:lnTo>
                    <a:lnTo>
                      <a:pt x="996" y="1699"/>
                    </a:lnTo>
                    <a:lnTo>
                      <a:pt x="1033" y="1699"/>
                    </a:lnTo>
                    <a:lnTo>
                      <a:pt x="1068" y="1697"/>
                    </a:lnTo>
                    <a:lnTo>
                      <a:pt x="1103" y="1695"/>
                    </a:lnTo>
                    <a:lnTo>
                      <a:pt x="1138" y="1693"/>
                    </a:lnTo>
                    <a:lnTo>
                      <a:pt x="1175" y="1693"/>
                    </a:lnTo>
                    <a:lnTo>
                      <a:pt x="1210" y="1691"/>
                    </a:lnTo>
                    <a:lnTo>
                      <a:pt x="1245" y="1689"/>
                    </a:lnTo>
                    <a:lnTo>
                      <a:pt x="1280" y="1687"/>
                    </a:lnTo>
                    <a:lnTo>
                      <a:pt x="1315" y="1687"/>
                    </a:lnTo>
                    <a:lnTo>
                      <a:pt x="1346" y="1683"/>
                    </a:lnTo>
                    <a:lnTo>
                      <a:pt x="1379" y="1681"/>
                    </a:lnTo>
                    <a:lnTo>
                      <a:pt x="1411" y="1680"/>
                    </a:lnTo>
                    <a:lnTo>
                      <a:pt x="1444" y="1678"/>
                    </a:lnTo>
                    <a:lnTo>
                      <a:pt x="1475" y="1674"/>
                    </a:lnTo>
                    <a:lnTo>
                      <a:pt x="1507" y="1672"/>
                    </a:lnTo>
                    <a:lnTo>
                      <a:pt x="1538" y="1670"/>
                    </a:lnTo>
                    <a:lnTo>
                      <a:pt x="1569" y="1668"/>
                    </a:lnTo>
                    <a:lnTo>
                      <a:pt x="1596" y="1664"/>
                    </a:lnTo>
                    <a:lnTo>
                      <a:pt x="1625" y="1662"/>
                    </a:lnTo>
                    <a:lnTo>
                      <a:pt x="1650" y="1658"/>
                    </a:lnTo>
                    <a:lnTo>
                      <a:pt x="1677" y="1656"/>
                    </a:lnTo>
                    <a:lnTo>
                      <a:pt x="1702" y="1652"/>
                    </a:lnTo>
                    <a:lnTo>
                      <a:pt x="1728" y="1650"/>
                    </a:lnTo>
                    <a:lnTo>
                      <a:pt x="1751" y="1647"/>
                    </a:lnTo>
                    <a:lnTo>
                      <a:pt x="1774" y="1645"/>
                    </a:lnTo>
                    <a:lnTo>
                      <a:pt x="1803" y="15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873920" y="-734400"/>
                <a:ext cx="224640" cy="73080"/>
              </a:xfrm>
              <a:custGeom>
                <a:avLst/>
                <a:gdLst/>
                <a:ahLst/>
                <a:rect l="l" t="t" r="r" b="b"/>
                <a:pathLst>
                  <a:path w="802" h="264">
                    <a:moveTo>
                      <a:pt x="802" y="250"/>
                    </a:moveTo>
                    <a:lnTo>
                      <a:pt x="800" y="247"/>
                    </a:lnTo>
                    <a:lnTo>
                      <a:pt x="799" y="239"/>
                    </a:lnTo>
                    <a:lnTo>
                      <a:pt x="793" y="227"/>
                    </a:lnTo>
                    <a:lnTo>
                      <a:pt x="789" y="212"/>
                    </a:lnTo>
                    <a:lnTo>
                      <a:pt x="781" y="192"/>
                    </a:lnTo>
                    <a:lnTo>
                      <a:pt x="773" y="173"/>
                    </a:lnTo>
                    <a:lnTo>
                      <a:pt x="768" y="161"/>
                    </a:lnTo>
                    <a:lnTo>
                      <a:pt x="762" y="151"/>
                    </a:lnTo>
                    <a:lnTo>
                      <a:pt x="756" y="140"/>
                    </a:lnTo>
                    <a:lnTo>
                      <a:pt x="752" y="130"/>
                    </a:lnTo>
                    <a:lnTo>
                      <a:pt x="744" y="119"/>
                    </a:lnTo>
                    <a:lnTo>
                      <a:pt x="736" y="107"/>
                    </a:lnTo>
                    <a:lnTo>
                      <a:pt x="729" y="95"/>
                    </a:lnTo>
                    <a:lnTo>
                      <a:pt x="721" y="84"/>
                    </a:lnTo>
                    <a:lnTo>
                      <a:pt x="702" y="62"/>
                    </a:lnTo>
                    <a:lnTo>
                      <a:pt x="682" y="45"/>
                    </a:lnTo>
                    <a:lnTo>
                      <a:pt x="669" y="35"/>
                    </a:lnTo>
                    <a:lnTo>
                      <a:pt x="657" y="27"/>
                    </a:lnTo>
                    <a:lnTo>
                      <a:pt x="645" y="22"/>
                    </a:lnTo>
                    <a:lnTo>
                      <a:pt x="634" y="16"/>
                    </a:lnTo>
                    <a:lnTo>
                      <a:pt x="618" y="10"/>
                    </a:lnTo>
                    <a:lnTo>
                      <a:pt x="605" y="6"/>
                    </a:lnTo>
                    <a:lnTo>
                      <a:pt x="591" y="4"/>
                    </a:lnTo>
                    <a:lnTo>
                      <a:pt x="577" y="4"/>
                    </a:lnTo>
                    <a:lnTo>
                      <a:pt x="560" y="2"/>
                    </a:lnTo>
                    <a:lnTo>
                      <a:pt x="543" y="0"/>
                    </a:lnTo>
                    <a:lnTo>
                      <a:pt x="525" y="0"/>
                    </a:lnTo>
                    <a:lnTo>
                      <a:pt x="508" y="0"/>
                    </a:lnTo>
                    <a:lnTo>
                      <a:pt x="486" y="0"/>
                    </a:lnTo>
                    <a:lnTo>
                      <a:pt x="467" y="0"/>
                    </a:lnTo>
                    <a:lnTo>
                      <a:pt x="446" y="0"/>
                    </a:lnTo>
                    <a:lnTo>
                      <a:pt x="426" y="0"/>
                    </a:lnTo>
                    <a:lnTo>
                      <a:pt x="415" y="0"/>
                    </a:lnTo>
                    <a:lnTo>
                      <a:pt x="403" y="0"/>
                    </a:lnTo>
                    <a:lnTo>
                      <a:pt x="391" y="0"/>
                    </a:lnTo>
                    <a:lnTo>
                      <a:pt x="382" y="0"/>
                    </a:lnTo>
                    <a:lnTo>
                      <a:pt x="370" y="0"/>
                    </a:lnTo>
                    <a:lnTo>
                      <a:pt x="358" y="2"/>
                    </a:lnTo>
                    <a:lnTo>
                      <a:pt x="347" y="2"/>
                    </a:lnTo>
                    <a:lnTo>
                      <a:pt x="337" y="4"/>
                    </a:lnTo>
                    <a:lnTo>
                      <a:pt x="325" y="4"/>
                    </a:lnTo>
                    <a:lnTo>
                      <a:pt x="314" y="4"/>
                    </a:lnTo>
                    <a:lnTo>
                      <a:pt x="302" y="4"/>
                    </a:lnTo>
                    <a:lnTo>
                      <a:pt x="292" y="6"/>
                    </a:lnTo>
                    <a:lnTo>
                      <a:pt x="281" y="6"/>
                    </a:lnTo>
                    <a:lnTo>
                      <a:pt x="271" y="8"/>
                    </a:lnTo>
                    <a:lnTo>
                      <a:pt x="259" y="10"/>
                    </a:lnTo>
                    <a:lnTo>
                      <a:pt x="250" y="12"/>
                    </a:lnTo>
                    <a:lnTo>
                      <a:pt x="238" y="12"/>
                    </a:lnTo>
                    <a:lnTo>
                      <a:pt x="226" y="12"/>
                    </a:lnTo>
                    <a:lnTo>
                      <a:pt x="215" y="12"/>
                    </a:lnTo>
                    <a:lnTo>
                      <a:pt x="205" y="14"/>
                    </a:lnTo>
                    <a:lnTo>
                      <a:pt x="184" y="16"/>
                    </a:lnTo>
                    <a:lnTo>
                      <a:pt x="164" y="20"/>
                    </a:lnTo>
                    <a:lnTo>
                      <a:pt x="145" y="22"/>
                    </a:lnTo>
                    <a:lnTo>
                      <a:pt x="126" y="25"/>
                    </a:lnTo>
                    <a:lnTo>
                      <a:pt x="108" y="27"/>
                    </a:lnTo>
                    <a:lnTo>
                      <a:pt x="93" y="33"/>
                    </a:lnTo>
                    <a:lnTo>
                      <a:pt x="75" y="37"/>
                    </a:lnTo>
                    <a:lnTo>
                      <a:pt x="62" y="41"/>
                    </a:lnTo>
                    <a:lnTo>
                      <a:pt x="48" y="45"/>
                    </a:lnTo>
                    <a:lnTo>
                      <a:pt x="38" y="51"/>
                    </a:lnTo>
                    <a:lnTo>
                      <a:pt x="27" y="56"/>
                    </a:lnTo>
                    <a:lnTo>
                      <a:pt x="19" y="62"/>
                    </a:lnTo>
                    <a:lnTo>
                      <a:pt x="11" y="68"/>
                    </a:lnTo>
                    <a:lnTo>
                      <a:pt x="7" y="74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7" y="99"/>
                    </a:lnTo>
                    <a:lnTo>
                      <a:pt x="23" y="107"/>
                    </a:lnTo>
                    <a:lnTo>
                      <a:pt x="29" y="109"/>
                    </a:lnTo>
                    <a:lnTo>
                      <a:pt x="38" y="111"/>
                    </a:lnTo>
                    <a:lnTo>
                      <a:pt x="50" y="113"/>
                    </a:lnTo>
                    <a:lnTo>
                      <a:pt x="62" y="117"/>
                    </a:lnTo>
                    <a:lnTo>
                      <a:pt x="73" y="117"/>
                    </a:lnTo>
                    <a:lnTo>
                      <a:pt x="87" y="120"/>
                    </a:lnTo>
                    <a:lnTo>
                      <a:pt x="100" y="120"/>
                    </a:lnTo>
                    <a:lnTo>
                      <a:pt x="116" y="124"/>
                    </a:lnTo>
                    <a:lnTo>
                      <a:pt x="128" y="124"/>
                    </a:lnTo>
                    <a:lnTo>
                      <a:pt x="143" y="126"/>
                    </a:lnTo>
                    <a:lnTo>
                      <a:pt x="157" y="126"/>
                    </a:lnTo>
                    <a:lnTo>
                      <a:pt x="174" y="128"/>
                    </a:lnTo>
                    <a:lnTo>
                      <a:pt x="188" y="128"/>
                    </a:lnTo>
                    <a:lnTo>
                      <a:pt x="203" y="130"/>
                    </a:lnTo>
                    <a:lnTo>
                      <a:pt x="219" y="130"/>
                    </a:lnTo>
                    <a:lnTo>
                      <a:pt x="234" y="132"/>
                    </a:lnTo>
                    <a:lnTo>
                      <a:pt x="248" y="132"/>
                    </a:lnTo>
                    <a:lnTo>
                      <a:pt x="261" y="132"/>
                    </a:lnTo>
                    <a:lnTo>
                      <a:pt x="275" y="132"/>
                    </a:lnTo>
                    <a:lnTo>
                      <a:pt x="290" y="134"/>
                    </a:lnTo>
                    <a:lnTo>
                      <a:pt x="302" y="134"/>
                    </a:lnTo>
                    <a:lnTo>
                      <a:pt x="314" y="134"/>
                    </a:lnTo>
                    <a:lnTo>
                      <a:pt x="325" y="134"/>
                    </a:lnTo>
                    <a:lnTo>
                      <a:pt x="337" y="136"/>
                    </a:lnTo>
                    <a:lnTo>
                      <a:pt x="345" y="136"/>
                    </a:lnTo>
                    <a:lnTo>
                      <a:pt x="354" y="136"/>
                    </a:lnTo>
                    <a:lnTo>
                      <a:pt x="366" y="138"/>
                    </a:lnTo>
                    <a:lnTo>
                      <a:pt x="380" y="144"/>
                    </a:lnTo>
                    <a:lnTo>
                      <a:pt x="391" y="146"/>
                    </a:lnTo>
                    <a:lnTo>
                      <a:pt x="405" y="151"/>
                    </a:lnTo>
                    <a:lnTo>
                      <a:pt x="418" y="157"/>
                    </a:lnTo>
                    <a:lnTo>
                      <a:pt x="436" y="163"/>
                    </a:lnTo>
                    <a:lnTo>
                      <a:pt x="451" y="169"/>
                    </a:lnTo>
                    <a:lnTo>
                      <a:pt x="467" y="175"/>
                    </a:lnTo>
                    <a:lnTo>
                      <a:pt x="484" y="183"/>
                    </a:lnTo>
                    <a:lnTo>
                      <a:pt x="502" y="190"/>
                    </a:lnTo>
                    <a:lnTo>
                      <a:pt x="519" y="196"/>
                    </a:lnTo>
                    <a:lnTo>
                      <a:pt x="537" y="204"/>
                    </a:lnTo>
                    <a:lnTo>
                      <a:pt x="554" y="212"/>
                    </a:lnTo>
                    <a:lnTo>
                      <a:pt x="572" y="219"/>
                    </a:lnTo>
                    <a:lnTo>
                      <a:pt x="587" y="225"/>
                    </a:lnTo>
                    <a:lnTo>
                      <a:pt x="605" y="231"/>
                    </a:lnTo>
                    <a:lnTo>
                      <a:pt x="622" y="237"/>
                    </a:lnTo>
                    <a:lnTo>
                      <a:pt x="640" y="243"/>
                    </a:lnTo>
                    <a:lnTo>
                      <a:pt x="655" y="247"/>
                    </a:lnTo>
                    <a:lnTo>
                      <a:pt x="671" y="252"/>
                    </a:lnTo>
                    <a:lnTo>
                      <a:pt x="686" y="256"/>
                    </a:lnTo>
                    <a:lnTo>
                      <a:pt x="704" y="260"/>
                    </a:lnTo>
                    <a:lnTo>
                      <a:pt x="717" y="260"/>
                    </a:lnTo>
                    <a:lnTo>
                      <a:pt x="731" y="262"/>
                    </a:lnTo>
                    <a:lnTo>
                      <a:pt x="744" y="262"/>
                    </a:lnTo>
                    <a:lnTo>
                      <a:pt x="758" y="264"/>
                    </a:lnTo>
                    <a:lnTo>
                      <a:pt x="769" y="260"/>
                    </a:lnTo>
                    <a:lnTo>
                      <a:pt x="781" y="258"/>
                    </a:lnTo>
                    <a:lnTo>
                      <a:pt x="791" y="254"/>
                    </a:lnTo>
                    <a:lnTo>
                      <a:pt x="802" y="250"/>
                    </a:lnTo>
                    <a:close/>
                  </a:path>
                </a:pathLst>
              </a:custGeom>
              <a:solidFill>
                <a:srgbClr val="a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983360" y="-698400"/>
                <a:ext cx="193320" cy="470520"/>
              </a:xfrm>
              <a:custGeom>
                <a:avLst/>
                <a:gdLst/>
                <a:ahLst/>
                <a:rect l="l" t="t" r="r" b="b"/>
                <a:pathLst>
                  <a:path w="693" h="1685">
                    <a:moveTo>
                      <a:pt x="313" y="12"/>
                    </a:moveTo>
                    <a:lnTo>
                      <a:pt x="307" y="10"/>
                    </a:lnTo>
                    <a:lnTo>
                      <a:pt x="297" y="8"/>
                    </a:lnTo>
                    <a:lnTo>
                      <a:pt x="287" y="6"/>
                    </a:lnTo>
                    <a:lnTo>
                      <a:pt x="280" y="6"/>
                    </a:lnTo>
                    <a:lnTo>
                      <a:pt x="268" y="4"/>
                    </a:lnTo>
                    <a:lnTo>
                      <a:pt x="258" y="4"/>
                    </a:lnTo>
                    <a:lnTo>
                      <a:pt x="245" y="2"/>
                    </a:lnTo>
                    <a:lnTo>
                      <a:pt x="231" y="2"/>
                    </a:lnTo>
                    <a:lnTo>
                      <a:pt x="218" y="0"/>
                    </a:lnTo>
                    <a:lnTo>
                      <a:pt x="204" y="0"/>
                    </a:lnTo>
                    <a:lnTo>
                      <a:pt x="188" y="0"/>
                    </a:lnTo>
                    <a:lnTo>
                      <a:pt x="173" y="0"/>
                    </a:lnTo>
                    <a:lnTo>
                      <a:pt x="157" y="2"/>
                    </a:lnTo>
                    <a:lnTo>
                      <a:pt x="144" y="4"/>
                    </a:lnTo>
                    <a:lnTo>
                      <a:pt x="126" y="4"/>
                    </a:lnTo>
                    <a:lnTo>
                      <a:pt x="113" y="6"/>
                    </a:lnTo>
                    <a:lnTo>
                      <a:pt x="97" y="8"/>
                    </a:lnTo>
                    <a:lnTo>
                      <a:pt x="84" y="14"/>
                    </a:lnTo>
                    <a:lnTo>
                      <a:pt x="68" y="18"/>
                    </a:lnTo>
                    <a:lnTo>
                      <a:pt x="57" y="23"/>
                    </a:lnTo>
                    <a:lnTo>
                      <a:pt x="45" y="29"/>
                    </a:lnTo>
                    <a:lnTo>
                      <a:pt x="35" y="39"/>
                    </a:lnTo>
                    <a:lnTo>
                      <a:pt x="24" y="45"/>
                    </a:lnTo>
                    <a:lnTo>
                      <a:pt x="18" y="56"/>
                    </a:lnTo>
                    <a:lnTo>
                      <a:pt x="10" y="66"/>
                    </a:lnTo>
                    <a:lnTo>
                      <a:pt x="6" y="80"/>
                    </a:lnTo>
                    <a:lnTo>
                      <a:pt x="0" y="91"/>
                    </a:lnTo>
                    <a:lnTo>
                      <a:pt x="0" y="107"/>
                    </a:lnTo>
                    <a:lnTo>
                      <a:pt x="0" y="122"/>
                    </a:lnTo>
                    <a:lnTo>
                      <a:pt x="4" y="142"/>
                    </a:lnTo>
                    <a:lnTo>
                      <a:pt x="4" y="150"/>
                    </a:lnTo>
                    <a:lnTo>
                      <a:pt x="6" y="161"/>
                    </a:lnTo>
                    <a:lnTo>
                      <a:pt x="8" y="171"/>
                    </a:lnTo>
                    <a:lnTo>
                      <a:pt x="10" y="186"/>
                    </a:lnTo>
                    <a:lnTo>
                      <a:pt x="12" y="198"/>
                    </a:lnTo>
                    <a:lnTo>
                      <a:pt x="16" y="215"/>
                    </a:lnTo>
                    <a:lnTo>
                      <a:pt x="18" y="231"/>
                    </a:lnTo>
                    <a:lnTo>
                      <a:pt x="24" y="250"/>
                    </a:lnTo>
                    <a:lnTo>
                      <a:pt x="26" y="268"/>
                    </a:lnTo>
                    <a:lnTo>
                      <a:pt x="29" y="287"/>
                    </a:lnTo>
                    <a:lnTo>
                      <a:pt x="33" y="307"/>
                    </a:lnTo>
                    <a:lnTo>
                      <a:pt x="39" y="330"/>
                    </a:lnTo>
                    <a:lnTo>
                      <a:pt x="43" y="351"/>
                    </a:lnTo>
                    <a:lnTo>
                      <a:pt x="47" y="374"/>
                    </a:lnTo>
                    <a:lnTo>
                      <a:pt x="53" y="398"/>
                    </a:lnTo>
                    <a:lnTo>
                      <a:pt x="59" y="423"/>
                    </a:lnTo>
                    <a:lnTo>
                      <a:pt x="62" y="446"/>
                    </a:lnTo>
                    <a:lnTo>
                      <a:pt x="68" y="471"/>
                    </a:lnTo>
                    <a:lnTo>
                      <a:pt x="72" y="497"/>
                    </a:lnTo>
                    <a:lnTo>
                      <a:pt x="78" y="526"/>
                    </a:lnTo>
                    <a:lnTo>
                      <a:pt x="84" y="551"/>
                    </a:lnTo>
                    <a:lnTo>
                      <a:pt x="90" y="578"/>
                    </a:lnTo>
                    <a:lnTo>
                      <a:pt x="95" y="607"/>
                    </a:lnTo>
                    <a:lnTo>
                      <a:pt x="101" y="636"/>
                    </a:lnTo>
                    <a:lnTo>
                      <a:pt x="107" y="665"/>
                    </a:lnTo>
                    <a:lnTo>
                      <a:pt x="113" y="694"/>
                    </a:lnTo>
                    <a:lnTo>
                      <a:pt x="119" y="724"/>
                    </a:lnTo>
                    <a:lnTo>
                      <a:pt x="124" y="753"/>
                    </a:lnTo>
                    <a:lnTo>
                      <a:pt x="130" y="782"/>
                    </a:lnTo>
                    <a:lnTo>
                      <a:pt x="136" y="813"/>
                    </a:lnTo>
                    <a:lnTo>
                      <a:pt x="142" y="842"/>
                    </a:lnTo>
                    <a:lnTo>
                      <a:pt x="148" y="873"/>
                    </a:lnTo>
                    <a:lnTo>
                      <a:pt x="152" y="902"/>
                    </a:lnTo>
                    <a:lnTo>
                      <a:pt x="157" y="931"/>
                    </a:lnTo>
                    <a:lnTo>
                      <a:pt x="161" y="960"/>
                    </a:lnTo>
                    <a:lnTo>
                      <a:pt x="167" y="989"/>
                    </a:lnTo>
                    <a:lnTo>
                      <a:pt x="171" y="1016"/>
                    </a:lnTo>
                    <a:lnTo>
                      <a:pt x="177" y="1045"/>
                    </a:lnTo>
                    <a:lnTo>
                      <a:pt x="183" y="1075"/>
                    </a:lnTo>
                    <a:lnTo>
                      <a:pt x="188" y="1104"/>
                    </a:lnTo>
                    <a:lnTo>
                      <a:pt x="192" y="1131"/>
                    </a:lnTo>
                    <a:lnTo>
                      <a:pt x="196" y="1158"/>
                    </a:lnTo>
                    <a:lnTo>
                      <a:pt x="200" y="1185"/>
                    </a:lnTo>
                    <a:lnTo>
                      <a:pt x="204" y="1212"/>
                    </a:lnTo>
                    <a:lnTo>
                      <a:pt x="208" y="1237"/>
                    </a:lnTo>
                    <a:lnTo>
                      <a:pt x="212" y="1265"/>
                    </a:lnTo>
                    <a:lnTo>
                      <a:pt x="216" y="1290"/>
                    </a:lnTo>
                    <a:lnTo>
                      <a:pt x="221" y="1317"/>
                    </a:lnTo>
                    <a:lnTo>
                      <a:pt x="223" y="1338"/>
                    </a:lnTo>
                    <a:lnTo>
                      <a:pt x="227" y="1362"/>
                    </a:lnTo>
                    <a:lnTo>
                      <a:pt x="229" y="1383"/>
                    </a:lnTo>
                    <a:lnTo>
                      <a:pt x="233" y="1406"/>
                    </a:lnTo>
                    <a:lnTo>
                      <a:pt x="233" y="1426"/>
                    </a:lnTo>
                    <a:lnTo>
                      <a:pt x="237" y="1445"/>
                    </a:lnTo>
                    <a:lnTo>
                      <a:pt x="237" y="1464"/>
                    </a:lnTo>
                    <a:lnTo>
                      <a:pt x="241" y="1484"/>
                    </a:lnTo>
                    <a:lnTo>
                      <a:pt x="241" y="1499"/>
                    </a:lnTo>
                    <a:lnTo>
                      <a:pt x="243" y="1515"/>
                    </a:lnTo>
                    <a:lnTo>
                      <a:pt x="243" y="1528"/>
                    </a:lnTo>
                    <a:lnTo>
                      <a:pt x="245" y="1544"/>
                    </a:lnTo>
                    <a:lnTo>
                      <a:pt x="243" y="1555"/>
                    </a:lnTo>
                    <a:lnTo>
                      <a:pt x="243" y="1569"/>
                    </a:lnTo>
                    <a:lnTo>
                      <a:pt x="243" y="1579"/>
                    </a:lnTo>
                    <a:lnTo>
                      <a:pt x="243" y="1588"/>
                    </a:lnTo>
                    <a:lnTo>
                      <a:pt x="239" y="1600"/>
                    </a:lnTo>
                    <a:lnTo>
                      <a:pt x="239" y="1612"/>
                    </a:lnTo>
                    <a:lnTo>
                      <a:pt x="239" y="1621"/>
                    </a:lnTo>
                    <a:lnTo>
                      <a:pt x="241" y="1631"/>
                    </a:lnTo>
                    <a:lnTo>
                      <a:pt x="247" y="1647"/>
                    </a:lnTo>
                    <a:lnTo>
                      <a:pt x="260" y="1660"/>
                    </a:lnTo>
                    <a:lnTo>
                      <a:pt x="272" y="1670"/>
                    </a:lnTo>
                    <a:lnTo>
                      <a:pt x="289" y="1678"/>
                    </a:lnTo>
                    <a:lnTo>
                      <a:pt x="299" y="1680"/>
                    </a:lnTo>
                    <a:lnTo>
                      <a:pt x="309" y="1682"/>
                    </a:lnTo>
                    <a:lnTo>
                      <a:pt x="320" y="1683"/>
                    </a:lnTo>
                    <a:lnTo>
                      <a:pt x="332" y="1685"/>
                    </a:lnTo>
                    <a:lnTo>
                      <a:pt x="342" y="1683"/>
                    </a:lnTo>
                    <a:lnTo>
                      <a:pt x="353" y="1683"/>
                    </a:lnTo>
                    <a:lnTo>
                      <a:pt x="365" y="1683"/>
                    </a:lnTo>
                    <a:lnTo>
                      <a:pt x="377" y="1683"/>
                    </a:lnTo>
                    <a:lnTo>
                      <a:pt x="388" y="1682"/>
                    </a:lnTo>
                    <a:lnTo>
                      <a:pt x="400" y="1682"/>
                    </a:lnTo>
                    <a:lnTo>
                      <a:pt x="411" y="1682"/>
                    </a:lnTo>
                    <a:lnTo>
                      <a:pt x="423" y="1682"/>
                    </a:lnTo>
                    <a:lnTo>
                      <a:pt x="433" y="1680"/>
                    </a:lnTo>
                    <a:lnTo>
                      <a:pt x="444" y="1678"/>
                    </a:lnTo>
                    <a:lnTo>
                      <a:pt x="454" y="1676"/>
                    </a:lnTo>
                    <a:lnTo>
                      <a:pt x="466" y="1676"/>
                    </a:lnTo>
                    <a:lnTo>
                      <a:pt x="475" y="1674"/>
                    </a:lnTo>
                    <a:lnTo>
                      <a:pt x="485" y="1672"/>
                    </a:lnTo>
                    <a:lnTo>
                      <a:pt x="495" y="1672"/>
                    </a:lnTo>
                    <a:lnTo>
                      <a:pt x="505" y="1672"/>
                    </a:lnTo>
                    <a:lnTo>
                      <a:pt x="518" y="1668"/>
                    </a:lnTo>
                    <a:lnTo>
                      <a:pt x="536" y="1664"/>
                    </a:lnTo>
                    <a:lnTo>
                      <a:pt x="555" y="1660"/>
                    </a:lnTo>
                    <a:lnTo>
                      <a:pt x="574" y="1656"/>
                    </a:lnTo>
                    <a:lnTo>
                      <a:pt x="592" y="1649"/>
                    </a:lnTo>
                    <a:lnTo>
                      <a:pt x="611" y="1641"/>
                    </a:lnTo>
                    <a:lnTo>
                      <a:pt x="629" y="1629"/>
                    </a:lnTo>
                    <a:lnTo>
                      <a:pt x="646" y="1618"/>
                    </a:lnTo>
                    <a:lnTo>
                      <a:pt x="652" y="1608"/>
                    </a:lnTo>
                    <a:lnTo>
                      <a:pt x="658" y="1600"/>
                    </a:lnTo>
                    <a:lnTo>
                      <a:pt x="664" y="1590"/>
                    </a:lnTo>
                    <a:lnTo>
                      <a:pt x="671" y="1581"/>
                    </a:lnTo>
                    <a:lnTo>
                      <a:pt x="675" y="1569"/>
                    </a:lnTo>
                    <a:lnTo>
                      <a:pt x="681" y="1557"/>
                    </a:lnTo>
                    <a:lnTo>
                      <a:pt x="685" y="1544"/>
                    </a:lnTo>
                    <a:lnTo>
                      <a:pt x="689" y="1532"/>
                    </a:lnTo>
                    <a:lnTo>
                      <a:pt x="691" y="1517"/>
                    </a:lnTo>
                    <a:lnTo>
                      <a:pt x="693" y="1501"/>
                    </a:lnTo>
                    <a:lnTo>
                      <a:pt x="693" y="1484"/>
                    </a:lnTo>
                    <a:lnTo>
                      <a:pt x="693" y="1468"/>
                    </a:lnTo>
                    <a:lnTo>
                      <a:pt x="691" y="1447"/>
                    </a:lnTo>
                    <a:lnTo>
                      <a:pt x="689" y="1427"/>
                    </a:lnTo>
                    <a:lnTo>
                      <a:pt x="685" y="1406"/>
                    </a:lnTo>
                    <a:lnTo>
                      <a:pt x="683" y="1387"/>
                    </a:lnTo>
                    <a:lnTo>
                      <a:pt x="679" y="1373"/>
                    </a:lnTo>
                    <a:lnTo>
                      <a:pt x="677" y="1362"/>
                    </a:lnTo>
                    <a:lnTo>
                      <a:pt x="673" y="1348"/>
                    </a:lnTo>
                    <a:lnTo>
                      <a:pt x="671" y="1334"/>
                    </a:lnTo>
                    <a:lnTo>
                      <a:pt x="667" y="1319"/>
                    </a:lnTo>
                    <a:lnTo>
                      <a:pt x="666" y="1305"/>
                    </a:lnTo>
                    <a:lnTo>
                      <a:pt x="662" y="1290"/>
                    </a:lnTo>
                    <a:lnTo>
                      <a:pt x="660" y="1276"/>
                    </a:lnTo>
                    <a:lnTo>
                      <a:pt x="656" y="1259"/>
                    </a:lnTo>
                    <a:lnTo>
                      <a:pt x="654" y="1243"/>
                    </a:lnTo>
                    <a:lnTo>
                      <a:pt x="650" y="1228"/>
                    </a:lnTo>
                    <a:lnTo>
                      <a:pt x="648" y="1212"/>
                    </a:lnTo>
                    <a:lnTo>
                      <a:pt x="644" y="1195"/>
                    </a:lnTo>
                    <a:lnTo>
                      <a:pt x="642" y="1177"/>
                    </a:lnTo>
                    <a:lnTo>
                      <a:pt x="638" y="1160"/>
                    </a:lnTo>
                    <a:lnTo>
                      <a:pt x="636" y="1142"/>
                    </a:lnTo>
                    <a:lnTo>
                      <a:pt x="633" y="1123"/>
                    </a:lnTo>
                    <a:lnTo>
                      <a:pt x="629" y="1104"/>
                    </a:lnTo>
                    <a:lnTo>
                      <a:pt x="625" y="1084"/>
                    </a:lnTo>
                    <a:lnTo>
                      <a:pt x="623" y="1067"/>
                    </a:lnTo>
                    <a:lnTo>
                      <a:pt x="619" y="1045"/>
                    </a:lnTo>
                    <a:lnTo>
                      <a:pt x="615" y="1026"/>
                    </a:lnTo>
                    <a:lnTo>
                      <a:pt x="611" y="1007"/>
                    </a:lnTo>
                    <a:lnTo>
                      <a:pt x="609" y="987"/>
                    </a:lnTo>
                    <a:lnTo>
                      <a:pt x="605" y="966"/>
                    </a:lnTo>
                    <a:lnTo>
                      <a:pt x="602" y="945"/>
                    </a:lnTo>
                    <a:lnTo>
                      <a:pt x="598" y="923"/>
                    </a:lnTo>
                    <a:lnTo>
                      <a:pt x="596" y="904"/>
                    </a:lnTo>
                    <a:lnTo>
                      <a:pt x="592" y="883"/>
                    </a:lnTo>
                    <a:lnTo>
                      <a:pt x="588" y="861"/>
                    </a:lnTo>
                    <a:lnTo>
                      <a:pt x="584" y="840"/>
                    </a:lnTo>
                    <a:lnTo>
                      <a:pt x="582" y="821"/>
                    </a:lnTo>
                    <a:lnTo>
                      <a:pt x="576" y="797"/>
                    </a:lnTo>
                    <a:lnTo>
                      <a:pt x="572" y="776"/>
                    </a:lnTo>
                    <a:lnTo>
                      <a:pt x="569" y="755"/>
                    </a:lnTo>
                    <a:lnTo>
                      <a:pt x="565" y="733"/>
                    </a:lnTo>
                    <a:lnTo>
                      <a:pt x="559" y="710"/>
                    </a:lnTo>
                    <a:lnTo>
                      <a:pt x="555" y="689"/>
                    </a:lnTo>
                    <a:lnTo>
                      <a:pt x="551" y="667"/>
                    </a:lnTo>
                    <a:lnTo>
                      <a:pt x="547" y="646"/>
                    </a:lnTo>
                    <a:lnTo>
                      <a:pt x="541" y="623"/>
                    </a:lnTo>
                    <a:lnTo>
                      <a:pt x="538" y="601"/>
                    </a:lnTo>
                    <a:lnTo>
                      <a:pt x="532" y="580"/>
                    </a:lnTo>
                    <a:lnTo>
                      <a:pt x="528" y="559"/>
                    </a:lnTo>
                    <a:lnTo>
                      <a:pt x="522" y="537"/>
                    </a:lnTo>
                    <a:lnTo>
                      <a:pt x="518" y="516"/>
                    </a:lnTo>
                    <a:lnTo>
                      <a:pt x="514" y="495"/>
                    </a:lnTo>
                    <a:lnTo>
                      <a:pt x="510" y="475"/>
                    </a:lnTo>
                    <a:lnTo>
                      <a:pt x="505" y="452"/>
                    </a:lnTo>
                    <a:lnTo>
                      <a:pt x="499" y="433"/>
                    </a:lnTo>
                    <a:lnTo>
                      <a:pt x="493" y="411"/>
                    </a:lnTo>
                    <a:lnTo>
                      <a:pt x="489" y="392"/>
                    </a:lnTo>
                    <a:lnTo>
                      <a:pt x="483" y="371"/>
                    </a:lnTo>
                    <a:lnTo>
                      <a:pt x="479" y="351"/>
                    </a:lnTo>
                    <a:lnTo>
                      <a:pt x="474" y="330"/>
                    </a:lnTo>
                    <a:lnTo>
                      <a:pt x="470" y="312"/>
                    </a:lnTo>
                    <a:lnTo>
                      <a:pt x="464" y="291"/>
                    </a:lnTo>
                    <a:lnTo>
                      <a:pt x="458" y="272"/>
                    </a:lnTo>
                    <a:lnTo>
                      <a:pt x="452" y="254"/>
                    </a:lnTo>
                    <a:lnTo>
                      <a:pt x="448" y="237"/>
                    </a:lnTo>
                    <a:lnTo>
                      <a:pt x="443" y="217"/>
                    </a:lnTo>
                    <a:lnTo>
                      <a:pt x="437" y="200"/>
                    </a:lnTo>
                    <a:lnTo>
                      <a:pt x="431" y="183"/>
                    </a:lnTo>
                    <a:lnTo>
                      <a:pt x="427" y="167"/>
                    </a:lnTo>
                    <a:lnTo>
                      <a:pt x="421" y="155"/>
                    </a:lnTo>
                    <a:lnTo>
                      <a:pt x="417" y="144"/>
                    </a:lnTo>
                    <a:lnTo>
                      <a:pt x="411" y="132"/>
                    </a:lnTo>
                    <a:lnTo>
                      <a:pt x="408" y="124"/>
                    </a:lnTo>
                    <a:lnTo>
                      <a:pt x="398" y="105"/>
                    </a:lnTo>
                    <a:lnTo>
                      <a:pt x="390" y="91"/>
                    </a:lnTo>
                    <a:lnTo>
                      <a:pt x="379" y="74"/>
                    </a:lnTo>
                    <a:lnTo>
                      <a:pt x="371" y="62"/>
                    </a:lnTo>
                    <a:lnTo>
                      <a:pt x="361" y="51"/>
                    </a:lnTo>
                    <a:lnTo>
                      <a:pt x="353" y="43"/>
                    </a:lnTo>
                    <a:lnTo>
                      <a:pt x="336" y="27"/>
                    </a:lnTo>
                    <a:lnTo>
                      <a:pt x="324" y="18"/>
                    </a:lnTo>
                    <a:lnTo>
                      <a:pt x="315" y="12"/>
                    </a:lnTo>
                    <a:lnTo>
                      <a:pt x="313" y="12"/>
                    </a:lnTo>
                    <a:close/>
                  </a:path>
                </a:pathLst>
              </a:custGeom>
              <a:solidFill>
                <a:srgbClr val="a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40200" y="-760680"/>
                <a:ext cx="531000" cy="528840"/>
              </a:xfrm>
              <a:custGeom>
                <a:avLst/>
                <a:gdLst/>
                <a:ahLst/>
                <a:rect l="l" t="t" r="r" b="b"/>
                <a:pathLst>
                  <a:path w="1899" h="1893">
                    <a:moveTo>
                      <a:pt x="4" y="869"/>
                    </a:moveTo>
                    <a:lnTo>
                      <a:pt x="6" y="865"/>
                    </a:lnTo>
                    <a:lnTo>
                      <a:pt x="13" y="861"/>
                    </a:lnTo>
                    <a:lnTo>
                      <a:pt x="19" y="855"/>
                    </a:lnTo>
                    <a:lnTo>
                      <a:pt x="27" y="851"/>
                    </a:lnTo>
                    <a:lnTo>
                      <a:pt x="35" y="846"/>
                    </a:lnTo>
                    <a:lnTo>
                      <a:pt x="46" y="842"/>
                    </a:lnTo>
                    <a:lnTo>
                      <a:pt x="56" y="834"/>
                    </a:lnTo>
                    <a:lnTo>
                      <a:pt x="68" y="826"/>
                    </a:lnTo>
                    <a:lnTo>
                      <a:pt x="79" y="819"/>
                    </a:lnTo>
                    <a:lnTo>
                      <a:pt x="97" y="811"/>
                    </a:lnTo>
                    <a:lnTo>
                      <a:pt x="110" y="801"/>
                    </a:lnTo>
                    <a:lnTo>
                      <a:pt x="128" y="791"/>
                    </a:lnTo>
                    <a:lnTo>
                      <a:pt x="145" y="782"/>
                    </a:lnTo>
                    <a:lnTo>
                      <a:pt x="165" y="772"/>
                    </a:lnTo>
                    <a:lnTo>
                      <a:pt x="182" y="760"/>
                    </a:lnTo>
                    <a:lnTo>
                      <a:pt x="202" y="749"/>
                    </a:lnTo>
                    <a:lnTo>
                      <a:pt x="221" y="737"/>
                    </a:lnTo>
                    <a:lnTo>
                      <a:pt x="244" y="725"/>
                    </a:lnTo>
                    <a:lnTo>
                      <a:pt x="266" y="712"/>
                    </a:lnTo>
                    <a:lnTo>
                      <a:pt x="289" y="700"/>
                    </a:lnTo>
                    <a:lnTo>
                      <a:pt x="314" y="687"/>
                    </a:lnTo>
                    <a:lnTo>
                      <a:pt x="339" y="675"/>
                    </a:lnTo>
                    <a:lnTo>
                      <a:pt x="363" y="659"/>
                    </a:lnTo>
                    <a:lnTo>
                      <a:pt x="390" y="646"/>
                    </a:lnTo>
                    <a:lnTo>
                      <a:pt x="415" y="632"/>
                    </a:lnTo>
                    <a:lnTo>
                      <a:pt x="442" y="619"/>
                    </a:lnTo>
                    <a:lnTo>
                      <a:pt x="469" y="603"/>
                    </a:lnTo>
                    <a:lnTo>
                      <a:pt x="498" y="592"/>
                    </a:lnTo>
                    <a:lnTo>
                      <a:pt x="527" y="576"/>
                    </a:lnTo>
                    <a:lnTo>
                      <a:pt x="556" y="564"/>
                    </a:lnTo>
                    <a:lnTo>
                      <a:pt x="584" y="549"/>
                    </a:lnTo>
                    <a:lnTo>
                      <a:pt x="613" y="535"/>
                    </a:lnTo>
                    <a:lnTo>
                      <a:pt x="642" y="520"/>
                    </a:lnTo>
                    <a:lnTo>
                      <a:pt x="673" y="506"/>
                    </a:lnTo>
                    <a:lnTo>
                      <a:pt x="702" y="493"/>
                    </a:lnTo>
                    <a:lnTo>
                      <a:pt x="733" y="479"/>
                    </a:lnTo>
                    <a:lnTo>
                      <a:pt x="764" y="466"/>
                    </a:lnTo>
                    <a:lnTo>
                      <a:pt x="795" y="454"/>
                    </a:lnTo>
                    <a:lnTo>
                      <a:pt x="824" y="440"/>
                    </a:lnTo>
                    <a:lnTo>
                      <a:pt x="855" y="427"/>
                    </a:lnTo>
                    <a:lnTo>
                      <a:pt x="886" y="415"/>
                    </a:lnTo>
                    <a:lnTo>
                      <a:pt x="917" y="404"/>
                    </a:lnTo>
                    <a:lnTo>
                      <a:pt x="946" y="390"/>
                    </a:lnTo>
                    <a:lnTo>
                      <a:pt x="979" y="378"/>
                    </a:lnTo>
                    <a:lnTo>
                      <a:pt x="1008" y="369"/>
                    </a:lnTo>
                    <a:lnTo>
                      <a:pt x="1041" y="359"/>
                    </a:lnTo>
                    <a:lnTo>
                      <a:pt x="1070" y="347"/>
                    </a:lnTo>
                    <a:lnTo>
                      <a:pt x="1099" y="338"/>
                    </a:lnTo>
                    <a:lnTo>
                      <a:pt x="1129" y="328"/>
                    </a:lnTo>
                    <a:lnTo>
                      <a:pt x="1160" y="320"/>
                    </a:lnTo>
                    <a:lnTo>
                      <a:pt x="1189" y="312"/>
                    </a:lnTo>
                    <a:lnTo>
                      <a:pt x="1218" y="305"/>
                    </a:lnTo>
                    <a:lnTo>
                      <a:pt x="1247" y="299"/>
                    </a:lnTo>
                    <a:lnTo>
                      <a:pt x="1276" y="293"/>
                    </a:lnTo>
                    <a:lnTo>
                      <a:pt x="1301" y="287"/>
                    </a:lnTo>
                    <a:lnTo>
                      <a:pt x="1328" y="281"/>
                    </a:lnTo>
                    <a:lnTo>
                      <a:pt x="1355" y="277"/>
                    </a:lnTo>
                    <a:lnTo>
                      <a:pt x="1383" y="277"/>
                    </a:lnTo>
                    <a:lnTo>
                      <a:pt x="1408" y="274"/>
                    </a:lnTo>
                    <a:lnTo>
                      <a:pt x="1433" y="274"/>
                    </a:lnTo>
                    <a:lnTo>
                      <a:pt x="1456" y="274"/>
                    </a:lnTo>
                    <a:lnTo>
                      <a:pt x="1482" y="276"/>
                    </a:lnTo>
                    <a:lnTo>
                      <a:pt x="1482" y="277"/>
                    </a:lnTo>
                    <a:lnTo>
                      <a:pt x="1483" y="285"/>
                    </a:lnTo>
                    <a:lnTo>
                      <a:pt x="1487" y="297"/>
                    </a:lnTo>
                    <a:lnTo>
                      <a:pt x="1493" y="314"/>
                    </a:lnTo>
                    <a:lnTo>
                      <a:pt x="1495" y="322"/>
                    </a:lnTo>
                    <a:lnTo>
                      <a:pt x="1499" y="334"/>
                    </a:lnTo>
                    <a:lnTo>
                      <a:pt x="1501" y="345"/>
                    </a:lnTo>
                    <a:lnTo>
                      <a:pt x="1507" y="359"/>
                    </a:lnTo>
                    <a:lnTo>
                      <a:pt x="1511" y="372"/>
                    </a:lnTo>
                    <a:lnTo>
                      <a:pt x="1516" y="388"/>
                    </a:lnTo>
                    <a:lnTo>
                      <a:pt x="1522" y="405"/>
                    </a:lnTo>
                    <a:lnTo>
                      <a:pt x="1528" y="423"/>
                    </a:lnTo>
                    <a:lnTo>
                      <a:pt x="1532" y="440"/>
                    </a:lnTo>
                    <a:lnTo>
                      <a:pt x="1538" y="458"/>
                    </a:lnTo>
                    <a:lnTo>
                      <a:pt x="1544" y="477"/>
                    </a:lnTo>
                    <a:lnTo>
                      <a:pt x="1549" y="499"/>
                    </a:lnTo>
                    <a:lnTo>
                      <a:pt x="1555" y="518"/>
                    </a:lnTo>
                    <a:lnTo>
                      <a:pt x="1561" y="541"/>
                    </a:lnTo>
                    <a:lnTo>
                      <a:pt x="1567" y="564"/>
                    </a:lnTo>
                    <a:lnTo>
                      <a:pt x="1575" y="588"/>
                    </a:lnTo>
                    <a:lnTo>
                      <a:pt x="1580" y="611"/>
                    </a:lnTo>
                    <a:lnTo>
                      <a:pt x="1586" y="636"/>
                    </a:lnTo>
                    <a:lnTo>
                      <a:pt x="1594" y="661"/>
                    </a:lnTo>
                    <a:lnTo>
                      <a:pt x="1602" y="689"/>
                    </a:lnTo>
                    <a:lnTo>
                      <a:pt x="1608" y="714"/>
                    </a:lnTo>
                    <a:lnTo>
                      <a:pt x="1615" y="743"/>
                    </a:lnTo>
                    <a:lnTo>
                      <a:pt x="1623" y="772"/>
                    </a:lnTo>
                    <a:lnTo>
                      <a:pt x="1631" y="801"/>
                    </a:lnTo>
                    <a:lnTo>
                      <a:pt x="1637" y="828"/>
                    </a:lnTo>
                    <a:lnTo>
                      <a:pt x="1643" y="857"/>
                    </a:lnTo>
                    <a:lnTo>
                      <a:pt x="1648" y="888"/>
                    </a:lnTo>
                    <a:lnTo>
                      <a:pt x="1656" y="919"/>
                    </a:lnTo>
                    <a:lnTo>
                      <a:pt x="1662" y="948"/>
                    </a:lnTo>
                    <a:lnTo>
                      <a:pt x="1670" y="981"/>
                    </a:lnTo>
                    <a:lnTo>
                      <a:pt x="1675" y="1012"/>
                    </a:lnTo>
                    <a:lnTo>
                      <a:pt x="1683" y="1045"/>
                    </a:lnTo>
                    <a:lnTo>
                      <a:pt x="1689" y="1076"/>
                    </a:lnTo>
                    <a:lnTo>
                      <a:pt x="1695" y="1109"/>
                    </a:lnTo>
                    <a:lnTo>
                      <a:pt x="1701" y="1140"/>
                    </a:lnTo>
                    <a:lnTo>
                      <a:pt x="1708" y="1175"/>
                    </a:lnTo>
                    <a:lnTo>
                      <a:pt x="1714" y="1208"/>
                    </a:lnTo>
                    <a:lnTo>
                      <a:pt x="1720" y="1241"/>
                    </a:lnTo>
                    <a:lnTo>
                      <a:pt x="1726" y="1276"/>
                    </a:lnTo>
                    <a:lnTo>
                      <a:pt x="1732" y="1311"/>
                    </a:lnTo>
                    <a:lnTo>
                      <a:pt x="1736" y="1344"/>
                    </a:lnTo>
                    <a:lnTo>
                      <a:pt x="1739" y="1379"/>
                    </a:lnTo>
                    <a:lnTo>
                      <a:pt x="1743" y="1412"/>
                    </a:lnTo>
                    <a:lnTo>
                      <a:pt x="1749" y="1447"/>
                    </a:lnTo>
                    <a:lnTo>
                      <a:pt x="1753" y="1480"/>
                    </a:lnTo>
                    <a:lnTo>
                      <a:pt x="1757" y="1515"/>
                    </a:lnTo>
                    <a:lnTo>
                      <a:pt x="1761" y="1550"/>
                    </a:lnTo>
                    <a:lnTo>
                      <a:pt x="1765" y="1585"/>
                    </a:lnTo>
                    <a:lnTo>
                      <a:pt x="1767" y="1617"/>
                    </a:lnTo>
                    <a:lnTo>
                      <a:pt x="1769" y="1652"/>
                    </a:lnTo>
                    <a:lnTo>
                      <a:pt x="1771" y="1685"/>
                    </a:lnTo>
                    <a:lnTo>
                      <a:pt x="1772" y="1720"/>
                    </a:lnTo>
                    <a:lnTo>
                      <a:pt x="1772" y="1753"/>
                    </a:lnTo>
                    <a:lnTo>
                      <a:pt x="1774" y="1788"/>
                    </a:lnTo>
                    <a:lnTo>
                      <a:pt x="1774" y="1821"/>
                    </a:lnTo>
                    <a:lnTo>
                      <a:pt x="1776" y="1856"/>
                    </a:lnTo>
                    <a:lnTo>
                      <a:pt x="1780" y="1860"/>
                    </a:lnTo>
                    <a:lnTo>
                      <a:pt x="1790" y="1870"/>
                    </a:lnTo>
                    <a:lnTo>
                      <a:pt x="1805" y="1879"/>
                    </a:lnTo>
                    <a:lnTo>
                      <a:pt x="1823" y="1891"/>
                    </a:lnTo>
                    <a:lnTo>
                      <a:pt x="1838" y="1893"/>
                    </a:lnTo>
                    <a:lnTo>
                      <a:pt x="1856" y="1887"/>
                    </a:lnTo>
                    <a:lnTo>
                      <a:pt x="1860" y="1879"/>
                    </a:lnTo>
                    <a:lnTo>
                      <a:pt x="1866" y="1868"/>
                    </a:lnTo>
                    <a:lnTo>
                      <a:pt x="1867" y="1860"/>
                    </a:lnTo>
                    <a:lnTo>
                      <a:pt x="1869" y="1852"/>
                    </a:lnTo>
                    <a:lnTo>
                      <a:pt x="1869" y="1842"/>
                    </a:lnTo>
                    <a:lnTo>
                      <a:pt x="1871" y="1833"/>
                    </a:lnTo>
                    <a:lnTo>
                      <a:pt x="1869" y="1815"/>
                    </a:lnTo>
                    <a:lnTo>
                      <a:pt x="1869" y="1798"/>
                    </a:lnTo>
                    <a:lnTo>
                      <a:pt x="1867" y="1786"/>
                    </a:lnTo>
                    <a:lnTo>
                      <a:pt x="1867" y="1776"/>
                    </a:lnTo>
                    <a:lnTo>
                      <a:pt x="1867" y="1765"/>
                    </a:lnTo>
                    <a:lnTo>
                      <a:pt x="1867" y="1753"/>
                    </a:lnTo>
                    <a:lnTo>
                      <a:pt x="1866" y="1738"/>
                    </a:lnTo>
                    <a:lnTo>
                      <a:pt x="1864" y="1724"/>
                    </a:lnTo>
                    <a:lnTo>
                      <a:pt x="1862" y="1709"/>
                    </a:lnTo>
                    <a:lnTo>
                      <a:pt x="1862" y="1695"/>
                    </a:lnTo>
                    <a:lnTo>
                      <a:pt x="1860" y="1678"/>
                    </a:lnTo>
                    <a:lnTo>
                      <a:pt x="1860" y="1660"/>
                    </a:lnTo>
                    <a:lnTo>
                      <a:pt x="1858" y="1643"/>
                    </a:lnTo>
                    <a:lnTo>
                      <a:pt x="1858" y="1625"/>
                    </a:lnTo>
                    <a:lnTo>
                      <a:pt x="1854" y="1604"/>
                    </a:lnTo>
                    <a:lnTo>
                      <a:pt x="1854" y="1585"/>
                    </a:lnTo>
                    <a:lnTo>
                      <a:pt x="1850" y="1563"/>
                    </a:lnTo>
                    <a:lnTo>
                      <a:pt x="1850" y="1544"/>
                    </a:lnTo>
                    <a:lnTo>
                      <a:pt x="1846" y="1521"/>
                    </a:lnTo>
                    <a:lnTo>
                      <a:pt x="1846" y="1499"/>
                    </a:lnTo>
                    <a:lnTo>
                      <a:pt x="1842" y="1476"/>
                    </a:lnTo>
                    <a:lnTo>
                      <a:pt x="1842" y="1455"/>
                    </a:lnTo>
                    <a:lnTo>
                      <a:pt x="1838" y="1429"/>
                    </a:lnTo>
                    <a:lnTo>
                      <a:pt x="1836" y="1406"/>
                    </a:lnTo>
                    <a:lnTo>
                      <a:pt x="1835" y="1383"/>
                    </a:lnTo>
                    <a:lnTo>
                      <a:pt x="1833" y="1360"/>
                    </a:lnTo>
                    <a:lnTo>
                      <a:pt x="1829" y="1334"/>
                    </a:lnTo>
                    <a:lnTo>
                      <a:pt x="1827" y="1309"/>
                    </a:lnTo>
                    <a:lnTo>
                      <a:pt x="1825" y="1284"/>
                    </a:lnTo>
                    <a:lnTo>
                      <a:pt x="1823" y="1261"/>
                    </a:lnTo>
                    <a:lnTo>
                      <a:pt x="1817" y="1234"/>
                    </a:lnTo>
                    <a:lnTo>
                      <a:pt x="1815" y="1206"/>
                    </a:lnTo>
                    <a:lnTo>
                      <a:pt x="1809" y="1179"/>
                    </a:lnTo>
                    <a:lnTo>
                      <a:pt x="1807" y="1154"/>
                    </a:lnTo>
                    <a:lnTo>
                      <a:pt x="1803" y="1127"/>
                    </a:lnTo>
                    <a:lnTo>
                      <a:pt x="1800" y="1100"/>
                    </a:lnTo>
                    <a:lnTo>
                      <a:pt x="1796" y="1073"/>
                    </a:lnTo>
                    <a:lnTo>
                      <a:pt x="1794" y="1047"/>
                    </a:lnTo>
                    <a:lnTo>
                      <a:pt x="1788" y="1018"/>
                    </a:lnTo>
                    <a:lnTo>
                      <a:pt x="1784" y="991"/>
                    </a:lnTo>
                    <a:lnTo>
                      <a:pt x="1780" y="964"/>
                    </a:lnTo>
                    <a:lnTo>
                      <a:pt x="1776" y="939"/>
                    </a:lnTo>
                    <a:lnTo>
                      <a:pt x="1771" y="910"/>
                    </a:lnTo>
                    <a:lnTo>
                      <a:pt x="1767" y="884"/>
                    </a:lnTo>
                    <a:lnTo>
                      <a:pt x="1763" y="857"/>
                    </a:lnTo>
                    <a:lnTo>
                      <a:pt x="1759" y="832"/>
                    </a:lnTo>
                    <a:lnTo>
                      <a:pt x="1753" y="803"/>
                    </a:lnTo>
                    <a:lnTo>
                      <a:pt x="1747" y="778"/>
                    </a:lnTo>
                    <a:lnTo>
                      <a:pt x="1741" y="751"/>
                    </a:lnTo>
                    <a:lnTo>
                      <a:pt x="1738" y="725"/>
                    </a:lnTo>
                    <a:lnTo>
                      <a:pt x="1732" y="698"/>
                    </a:lnTo>
                    <a:lnTo>
                      <a:pt x="1726" y="673"/>
                    </a:lnTo>
                    <a:lnTo>
                      <a:pt x="1720" y="648"/>
                    </a:lnTo>
                    <a:lnTo>
                      <a:pt x="1716" y="625"/>
                    </a:lnTo>
                    <a:lnTo>
                      <a:pt x="1708" y="599"/>
                    </a:lnTo>
                    <a:lnTo>
                      <a:pt x="1703" y="574"/>
                    </a:lnTo>
                    <a:lnTo>
                      <a:pt x="1697" y="551"/>
                    </a:lnTo>
                    <a:lnTo>
                      <a:pt x="1691" y="528"/>
                    </a:lnTo>
                    <a:lnTo>
                      <a:pt x="1685" y="504"/>
                    </a:lnTo>
                    <a:lnTo>
                      <a:pt x="1679" y="481"/>
                    </a:lnTo>
                    <a:lnTo>
                      <a:pt x="1674" y="458"/>
                    </a:lnTo>
                    <a:lnTo>
                      <a:pt x="1668" y="438"/>
                    </a:lnTo>
                    <a:lnTo>
                      <a:pt x="1664" y="433"/>
                    </a:lnTo>
                    <a:lnTo>
                      <a:pt x="1662" y="417"/>
                    </a:lnTo>
                    <a:lnTo>
                      <a:pt x="1658" y="405"/>
                    </a:lnTo>
                    <a:lnTo>
                      <a:pt x="1656" y="396"/>
                    </a:lnTo>
                    <a:lnTo>
                      <a:pt x="1656" y="384"/>
                    </a:lnTo>
                    <a:lnTo>
                      <a:pt x="1656" y="372"/>
                    </a:lnTo>
                    <a:lnTo>
                      <a:pt x="1656" y="359"/>
                    </a:lnTo>
                    <a:lnTo>
                      <a:pt x="1658" y="345"/>
                    </a:lnTo>
                    <a:lnTo>
                      <a:pt x="1662" y="334"/>
                    </a:lnTo>
                    <a:lnTo>
                      <a:pt x="1670" y="324"/>
                    </a:lnTo>
                    <a:lnTo>
                      <a:pt x="1677" y="312"/>
                    </a:lnTo>
                    <a:lnTo>
                      <a:pt x="1689" y="303"/>
                    </a:lnTo>
                    <a:lnTo>
                      <a:pt x="1703" y="297"/>
                    </a:lnTo>
                    <a:lnTo>
                      <a:pt x="1722" y="293"/>
                    </a:lnTo>
                    <a:lnTo>
                      <a:pt x="1734" y="289"/>
                    </a:lnTo>
                    <a:lnTo>
                      <a:pt x="1745" y="287"/>
                    </a:lnTo>
                    <a:lnTo>
                      <a:pt x="1757" y="283"/>
                    </a:lnTo>
                    <a:lnTo>
                      <a:pt x="1771" y="281"/>
                    </a:lnTo>
                    <a:lnTo>
                      <a:pt x="1780" y="277"/>
                    </a:lnTo>
                    <a:lnTo>
                      <a:pt x="1792" y="276"/>
                    </a:lnTo>
                    <a:lnTo>
                      <a:pt x="1803" y="272"/>
                    </a:lnTo>
                    <a:lnTo>
                      <a:pt x="1815" y="270"/>
                    </a:lnTo>
                    <a:lnTo>
                      <a:pt x="1833" y="264"/>
                    </a:lnTo>
                    <a:lnTo>
                      <a:pt x="1852" y="260"/>
                    </a:lnTo>
                    <a:lnTo>
                      <a:pt x="1867" y="254"/>
                    </a:lnTo>
                    <a:lnTo>
                      <a:pt x="1881" y="250"/>
                    </a:lnTo>
                    <a:lnTo>
                      <a:pt x="1895" y="239"/>
                    </a:lnTo>
                    <a:lnTo>
                      <a:pt x="1899" y="229"/>
                    </a:lnTo>
                    <a:lnTo>
                      <a:pt x="1893" y="223"/>
                    </a:lnTo>
                    <a:lnTo>
                      <a:pt x="1883" y="219"/>
                    </a:lnTo>
                    <a:lnTo>
                      <a:pt x="1869" y="213"/>
                    </a:lnTo>
                    <a:lnTo>
                      <a:pt x="1852" y="210"/>
                    </a:lnTo>
                    <a:lnTo>
                      <a:pt x="1840" y="206"/>
                    </a:lnTo>
                    <a:lnTo>
                      <a:pt x="1829" y="202"/>
                    </a:lnTo>
                    <a:lnTo>
                      <a:pt x="1819" y="198"/>
                    </a:lnTo>
                    <a:lnTo>
                      <a:pt x="1811" y="196"/>
                    </a:lnTo>
                    <a:lnTo>
                      <a:pt x="1794" y="190"/>
                    </a:lnTo>
                    <a:lnTo>
                      <a:pt x="1778" y="184"/>
                    </a:lnTo>
                    <a:lnTo>
                      <a:pt x="1761" y="179"/>
                    </a:lnTo>
                    <a:lnTo>
                      <a:pt x="1745" y="173"/>
                    </a:lnTo>
                    <a:lnTo>
                      <a:pt x="1726" y="169"/>
                    </a:lnTo>
                    <a:lnTo>
                      <a:pt x="1708" y="167"/>
                    </a:lnTo>
                    <a:lnTo>
                      <a:pt x="1695" y="165"/>
                    </a:lnTo>
                    <a:lnTo>
                      <a:pt x="1683" y="163"/>
                    </a:lnTo>
                    <a:lnTo>
                      <a:pt x="1670" y="161"/>
                    </a:lnTo>
                    <a:lnTo>
                      <a:pt x="1658" y="161"/>
                    </a:lnTo>
                    <a:lnTo>
                      <a:pt x="1643" y="161"/>
                    </a:lnTo>
                    <a:lnTo>
                      <a:pt x="1627" y="161"/>
                    </a:lnTo>
                    <a:lnTo>
                      <a:pt x="1610" y="161"/>
                    </a:lnTo>
                    <a:lnTo>
                      <a:pt x="1594" y="163"/>
                    </a:lnTo>
                    <a:lnTo>
                      <a:pt x="1573" y="163"/>
                    </a:lnTo>
                    <a:lnTo>
                      <a:pt x="1553" y="165"/>
                    </a:lnTo>
                    <a:lnTo>
                      <a:pt x="1542" y="165"/>
                    </a:lnTo>
                    <a:lnTo>
                      <a:pt x="1530" y="167"/>
                    </a:lnTo>
                    <a:lnTo>
                      <a:pt x="1518" y="169"/>
                    </a:lnTo>
                    <a:lnTo>
                      <a:pt x="1509" y="171"/>
                    </a:lnTo>
                    <a:lnTo>
                      <a:pt x="1495" y="171"/>
                    </a:lnTo>
                    <a:lnTo>
                      <a:pt x="1483" y="173"/>
                    </a:lnTo>
                    <a:lnTo>
                      <a:pt x="1470" y="175"/>
                    </a:lnTo>
                    <a:lnTo>
                      <a:pt x="1458" y="177"/>
                    </a:lnTo>
                    <a:lnTo>
                      <a:pt x="1443" y="177"/>
                    </a:lnTo>
                    <a:lnTo>
                      <a:pt x="1429" y="180"/>
                    </a:lnTo>
                    <a:lnTo>
                      <a:pt x="1416" y="182"/>
                    </a:lnTo>
                    <a:lnTo>
                      <a:pt x="1402" y="186"/>
                    </a:lnTo>
                    <a:lnTo>
                      <a:pt x="1385" y="186"/>
                    </a:lnTo>
                    <a:lnTo>
                      <a:pt x="1367" y="190"/>
                    </a:lnTo>
                    <a:lnTo>
                      <a:pt x="1350" y="192"/>
                    </a:lnTo>
                    <a:lnTo>
                      <a:pt x="1334" y="198"/>
                    </a:lnTo>
                    <a:lnTo>
                      <a:pt x="1315" y="200"/>
                    </a:lnTo>
                    <a:lnTo>
                      <a:pt x="1297" y="204"/>
                    </a:lnTo>
                    <a:lnTo>
                      <a:pt x="1280" y="210"/>
                    </a:lnTo>
                    <a:lnTo>
                      <a:pt x="1262" y="215"/>
                    </a:lnTo>
                    <a:lnTo>
                      <a:pt x="1241" y="221"/>
                    </a:lnTo>
                    <a:lnTo>
                      <a:pt x="1222" y="227"/>
                    </a:lnTo>
                    <a:lnTo>
                      <a:pt x="1202" y="233"/>
                    </a:lnTo>
                    <a:lnTo>
                      <a:pt x="1183" y="239"/>
                    </a:lnTo>
                    <a:lnTo>
                      <a:pt x="1162" y="244"/>
                    </a:lnTo>
                    <a:lnTo>
                      <a:pt x="1142" y="252"/>
                    </a:lnTo>
                    <a:lnTo>
                      <a:pt x="1121" y="260"/>
                    </a:lnTo>
                    <a:lnTo>
                      <a:pt x="1101" y="268"/>
                    </a:lnTo>
                    <a:lnTo>
                      <a:pt x="1078" y="274"/>
                    </a:lnTo>
                    <a:lnTo>
                      <a:pt x="1059" y="281"/>
                    </a:lnTo>
                    <a:lnTo>
                      <a:pt x="1035" y="289"/>
                    </a:lnTo>
                    <a:lnTo>
                      <a:pt x="1016" y="297"/>
                    </a:lnTo>
                    <a:lnTo>
                      <a:pt x="993" y="305"/>
                    </a:lnTo>
                    <a:lnTo>
                      <a:pt x="973" y="312"/>
                    </a:lnTo>
                    <a:lnTo>
                      <a:pt x="950" y="320"/>
                    </a:lnTo>
                    <a:lnTo>
                      <a:pt x="931" y="330"/>
                    </a:lnTo>
                    <a:lnTo>
                      <a:pt x="907" y="338"/>
                    </a:lnTo>
                    <a:lnTo>
                      <a:pt x="886" y="347"/>
                    </a:lnTo>
                    <a:lnTo>
                      <a:pt x="865" y="355"/>
                    </a:lnTo>
                    <a:lnTo>
                      <a:pt x="845" y="365"/>
                    </a:lnTo>
                    <a:lnTo>
                      <a:pt x="822" y="372"/>
                    </a:lnTo>
                    <a:lnTo>
                      <a:pt x="803" y="382"/>
                    </a:lnTo>
                    <a:lnTo>
                      <a:pt x="781" y="390"/>
                    </a:lnTo>
                    <a:lnTo>
                      <a:pt x="762" y="400"/>
                    </a:lnTo>
                    <a:lnTo>
                      <a:pt x="739" y="405"/>
                    </a:lnTo>
                    <a:lnTo>
                      <a:pt x="719" y="415"/>
                    </a:lnTo>
                    <a:lnTo>
                      <a:pt x="698" y="421"/>
                    </a:lnTo>
                    <a:lnTo>
                      <a:pt x="679" y="431"/>
                    </a:lnTo>
                    <a:lnTo>
                      <a:pt x="657" y="438"/>
                    </a:lnTo>
                    <a:lnTo>
                      <a:pt x="638" y="446"/>
                    </a:lnTo>
                    <a:lnTo>
                      <a:pt x="619" y="454"/>
                    </a:lnTo>
                    <a:lnTo>
                      <a:pt x="601" y="464"/>
                    </a:lnTo>
                    <a:lnTo>
                      <a:pt x="582" y="469"/>
                    </a:lnTo>
                    <a:lnTo>
                      <a:pt x="562" y="479"/>
                    </a:lnTo>
                    <a:lnTo>
                      <a:pt x="545" y="485"/>
                    </a:lnTo>
                    <a:lnTo>
                      <a:pt x="529" y="495"/>
                    </a:lnTo>
                    <a:lnTo>
                      <a:pt x="512" y="500"/>
                    </a:lnTo>
                    <a:lnTo>
                      <a:pt x="494" y="508"/>
                    </a:lnTo>
                    <a:lnTo>
                      <a:pt x="479" y="516"/>
                    </a:lnTo>
                    <a:lnTo>
                      <a:pt x="465" y="524"/>
                    </a:lnTo>
                    <a:lnTo>
                      <a:pt x="448" y="528"/>
                    </a:lnTo>
                    <a:lnTo>
                      <a:pt x="434" y="533"/>
                    </a:lnTo>
                    <a:lnTo>
                      <a:pt x="419" y="539"/>
                    </a:lnTo>
                    <a:lnTo>
                      <a:pt x="407" y="545"/>
                    </a:lnTo>
                    <a:lnTo>
                      <a:pt x="395" y="549"/>
                    </a:lnTo>
                    <a:lnTo>
                      <a:pt x="384" y="555"/>
                    </a:lnTo>
                    <a:lnTo>
                      <a:pt x="372" y="559"/>
                    </a:lnTo>
                    <a:lnTo>
                      <a:pt x="363" y="564"/>
                    </a:lnTo>
                    <a:lnTo>
                      <a:pt x="343" y="570"/>
                    </a:lnTo>
                    <a:lnTo>
                      <a:pt x="330" y="576"/>
                    </a:lnTo>
                    <a:lnTo>
                      <a:pt x="316" y="580"/>
                    </a:lnTo>
                    <a:lnTo>
                      <a:pt x="308" y="584"/>
                    </a:lnTo>
                    <a:lnTo>
                      <a:pt x="295" y="580"/>
                    </a:lnTo>
                    <a:lnTo>
                      <a:pt x="293" y="574"/>
                    </a:lnTo>
                    <a:lnTo>
                      <a:pt x="297" y="561"/>
                    </a:lnTo>
                    <a:lnTo>
                      <a:pt x="308" y="545"/>
                    </a:lnTo>
                    <a:lnTo>
                      <a:pt x="314" y="533"/>
                    </a:lnTo>
                    <a:lnTo>
                      <a:pt x="324" y="524"/>
                    </a:lnTo>
                    <a:lnTo>
                      <a:pt x="333" y="512"/>
                    </a:lnTo>
                    <a:lnTo>
                      <a:pt x="347" y="502"/>
                    </a:lnTo>
                    <a:lnTo>
                      <a:pt x="359" y="489"/>
                    </a:lnTo>
                    <a:lnTo>
                      <a:pt x="374" y="475"/>
                    </a:lnTo>
                    <a:lnTo>
                      <a:pt x="392" y="462"/>
                    </a:lnTo>
                    <a:lnTo>
                      <a:pt x="409" y="448"/>
                    </a:lnTo>
                    <a:lnTo>
                      <a:pt x="427" y="433"/>
                    </a:lnTo>
                    <a:lnTo>
                      <a:pt x="444" y="417"/>
                    </a:lnTo>
                    <a:lnTo>
                      <a:pt x="463" y="402"/>
                    </a:lnTo>
                    <a:lnTo>
                      <a:pt x="485" y="388"/>
                    </a:lnTo>
                    <a:lnTo>
                      <a:pt x="494" y="378"/>
                    </a:lnTo>
                    <a:lnTo>
                      <a:pt x="506" y="372"/>
                    </a:lnTo>
                    <a:lnTo>
                      <a:pt x="516" y="363"/>
                    </a:lnTo>
                    <a:lnTo>
                      <a:pt x="527" y="357"/>
                    </a:lnTo>
                    <a:lnTo>
                      <a:pt x="539" y="349"/>
                    </a:lnTo>
                    <a:lnTo>
                      <a:pt x="551" y="341"/>
                    </a:lnTo>
                    <a:lnTo>
                      <a:pt x="562" y="334"/>
                    </a:lnTo>
                    <a:lnTo>
                      <a:pt x="576" y="328"/>
                    </a:lnTo>
                    <a:lnTo>
                      <a:pt x="587" y="320"/>
                    </a:lnTo>
                    <a:lnTo>
                      <a:pt x="599" y="312"/>
                    </a:lnTo>
                    <a:lnTo>
                      <a:pt x="611" y="305"/>
                    </a:lnTo>
                    <a:lnTo>
                      <a:pt x="622" y="299"/>
                    </a:lnTo>
                    <a:lnTo>
                      <a:pt x="634" y="291"/>
                    </a:lnTo>
                    <a:lnTo>
                      <a:pt x="648" y="283"/>
                    </a:lnTo>
                    <a:lnTo>
                      <a:pt x="659" y="277"/>
                    </a:lnTo>
                    <a:lnTo>
                      <a:pt x="673" y="272"/>
                    </a:lnTo>
                    <a:lnTo>
                      <a:pt x="684" y="264"/>
                    </a:lnTo>
                    <a:lnTo>
                      <a:pt x="696" y="258"/>
                    </a:lnTo>
                    <a:lnTo>
                      <a:pt x="710" y="252"/>
                    </a:lnTo>
                    <a:lnTo>
                      <a:pt x="723" y="246"/>
                    </a:lnTo>
                    <a:lnTo>
                      <a:pt x="735" y="241"/>
                    </a:lnTo>
                    <a:lnTo>
                      <a:pt x="748" y="235"/>
                    </a:lnTo>
                    <a:lnTo>
                      <a:pt x="762" y="229"/>
                    </a:lnTo>
                    <a:lnTo>
                      <a:pt x="776" y="225"/>
                    </a:lnTo>
                    <a:lnTo>
                      <a:pt x="787" y="219"/>
                    </a:lnTo>
                    <a:lnTo>
                      <a:pt x="799" y="213"/>
                    </a:lnTo>
                    <a:lnTo>
                      <a:pt x="811" y="208"/>
                    </a:lnTo>
                    <a:lnTo>
                      <a:pt x="824" y="202"/>
                    </a:lnTo>
                    <a:lnTo>
                      <a:pt x="836" y="196"/>
                    </a:lnTo>
                    <a:lnTo>
                      <a:pt x="847" y="192"/>
                    </a:lnTo>
                    <a:lnTo>
                      <a:pt x="859" y="188"/>
                    </a:lnTo>
                    <a:lnTo>
                      <a:pt x="873" y="184"/>
                    </a:lnTo>
                    <a:lnTo>
                      <a:pt x="884" y="179"/>
                    </a:lnTo>
                    <a:lnTo>
                      <a:pt x="896" y="175"/>
                    </a:lnTo>
                    <a:lnTo>
                      <a:pt x="907" y="171"/>
                    </a:lnTo>
                    <a:lnTo>
                      <a:pt x="921" y="167"/>
                    </a:lnTo>
                    <a:lnTo>
                      <a:pt x="933" y="163"/>
                    </a:lnTo>
                    <a:lnTo>
                      <a:pt x="946" y="161"/>
                    </a:lnTo>
                    <a:lnTo>
                      <a:pt x="958" y="157"/>
                    </a:lnTo>
                    <a:lnTo>
                      <a:pt x="971" y="155"/>
                    </a:lnTo>
                    <a:lnTo>
                      <a:pt x="981" y="149"/>
                    </a:lnTo>
                    <a:lnTo>
                      <a:pt x="993" y="148"/>
                    </a:lnTo>
                    <a:lnTo>
                      <a:pt x="1004" y="142"/>
                    </a:lnTo>
                    <a:lnTo>
                      <a:pt x="1016" y="140"/>
                    </a:lnTo>
                    <a:lnTo>
                      <a:pt x="1028" y="136"/>
                    </a:lnTo>
                    <a:lnTo>
                      <a:pt x="1039" y="134"/>
                    </a:lnTo>
                    <a:lnTo>
                      <a:pt x="1051" y="130"/>
                    </a:lnTo>
                    <a:lnTo>
                      <a:pt x="1063" y="130"/>
                    </a:lnTo>
                    <a:lnTo>
                      <a:pt x="1074" y="126"/>
                    </a:lnTo>
                    <a:lnTo>
                      <a:pt x="1086" y="124"/>
                    </a:lnTo>
                    <a:lnTo>
                      <a:pt x="1098" y="120"/>
                    </a:lnTo>
                    <a:lnTo>
                      <a:pt x="1109" y="118"/>
                    </a:lnTo>
                    <a:lnTo>
                      <a:pt x="1121" y="115"/>
                    </a:lnTo>
                    <a:lnTo>
                      <a:pt x="1132" y="115"/>
                    </a:lnTo>
                    <a:lnTo>
                      <a:pt x="1144" y="111"/>
                    </a:lnTo>
                    <a:lnTo>
                      <a:pt x="1156" y="111"/>
                    </a:lnTo>
                    <a:lnTo>
                      <a:pt x="1175" y="105"/>
                    </a:lnTo>
                    <a:lnTo>
                      <a:pt x="1196" y="101"/>
                    </a:lnTo>
                    <a:lnTo>
                      <a:pt x="1206" y="97"/>
                    </a:lnTo>
                    <a:lnTo>
                      <a:pt x="1218" y="97"/>
                    </a:lnTo>
                    <a:lnTo>
                      <a:pt x="1227" y="93"/>
                    </a:lnTo>
                    <a:lnTo>
                      <a:pt x="1239" y="93"/>
                    </a:lnTo>
                    <a:lnTo>
                      <a:pt x="1259" y="89"/>
                    </a:lnTo>
                    <a:lnTo>
                      <a:pt x="1278" y="87"/>
                    </a:lnTo>
                    <a:lnTo>
                      <a:pt x="1297" y="84"/>
                    </a:lnTo>
                    <a:lnTo>
                      <a:pt x="1319" y="84"/>
                    </a:lnTo>
                    <a:lnTo>
                      <a:pt x="1336" y="80"/>
                    </a:lnTo>
                    <a:lnTo>
                      <a:pt x="1355" y="78"/>
                    </a:lnTo>
                    <a:lnTo>
                      <a:pt x="1373" y="74"/>
                    </a:lnTo>
                    <a:lnTo>
                      <a:pt x="1392" y="74"/>
                    </a:lnTo>
                    <a:lnTo>
                      <a:pt x="1408" y="72"/>
                    </a:lnTo>
                    <a:lnTo>
                      <a:pt x="1425" y="70"/>
                    </a:lnTo>
                    <a:lnTo>
                      <a:pt x="1443" y="68"/>
                    </a:lnTo>
                    <a:lnTo>
                      <a:pt x="1460" y="68"/>
                    </a:lnTo>
                    <a:lnTo>
                      <a:pt x="1474" y="64"/>
                    </a:lnTo>
                    <a:lnTo>
                      <a:pt x="1487" y="62"/>
                    </a:lnTo>
                    <a:lnTo>
                      <a:pt x="1501" y="60"/>
                    </a:lnTo>
                    <a:lnTo>
                      <a:pt x="1516" y="58"/>
                    </a:lnTo>
                    <a:lnTo>
                      <a:pt x="1530" y="54"/>
                    </a:lnTo>
                    <a:lnTo>
                      <a:pt x="1544" y="53"/>
                    </a:lnTo>
                    <a:lnTo>
                      <a:pt x="1555" y="51"/>
                    </a:lnTo>
                    <a:lnTo>
                      <a:pt x="1569" y="49"/>
                    </a:lnTo>
                    <a:lnTo>
                      <a:pt x="1579" y="45"/>
                    </a:lnTo>
                    <a:lnTo>
                      <a:pt x="1590" y="43"/>
                    </a:lnTo>
                    <a:lnTo>
                      <a:pt x="1600" y="39"/>
                    </a:lnTo>
                    <a:lnTo>
                      <a:pt x="1610" y="37"/>
                    </a:lnTo>
                    <a:lnTo>
                      <a:pt x="1625" y="31"/>
                    </a:lnTo>
                    <a:lnTo>
                      <a:pt x="1639" y="25"/>
                    </a:lnTo>
                    <a:lnTo>
                      <a:pt x="1650" y="14"/>
                    </a:lnTo>
                    <a:lnTo>
                      <a:pt x="1644" y="6"/>
                    </a:lnTo>
                    <a:lnTo>
                      <a:pt x="1633" y="2"/>
                    </a:lnTo>
                    <a:lnTo>
                      <a:pt x="1615" y="0"/>
                    </a:lnTo>
                    <a:lnTo>
                      <a:pt x="1604" y="0"/>
                    </a:lnTo>
                    <a:lnTo>
                      <a:pt x="1592" y="0"/>
                    </a:lnTo>
                    <a:lnTo>
                      <a:pt x="1579" y="0"/>
                    </a:lnTo>
                    <a:lnTo>
                      <a:pt x="1565" y="2"/>
                    </a:lnTo>
                    <a:lnTo>
                      <a:pt x="1553" y="2"/>
                    </a:lnTo>
                    <a:lnTo>
                      <a:pt x="1544" y="2"/>
                    </a:lnTo>
                    <a:lnTo>
                      <a:pt x="1532" y="2"/>
                    </a:lnTo>
                    <a:lnTo>
                      <a:pt x="1520" y="2"/>
                    </a:lnTo>
                    <a:lnTo>
                      <a:pt x="1507" y="2"/>
                    </a:lnTo>
                    <a:lnTo>
                      <a:pt x="1495" y="4"/>
                    </a:lnTo>
                    <a:lnTo>
                      <a:pt x="1482" y="6"/>
                    </a:lnTo>
                    <a:lnTo>
                      <a:pt x="1468" y="8"/>
                    </a:lnTo>
                    <a:lnTo>
                      <a:pt x="1452" y="8"/>
                    </a:lnTo>
                    <a:lnTo>
                      <a:pt x="1437" y="10"/>
                    </a:lnTo>
                    <a:lnTo>
                      <a:pt x="1421" y="12"/>
                    </a:lnTo>
                    <a:lnTo>
                      <a:pt x="1406" y="14"/>
                    </a:lnTo>
                    <a:lnTo>
                      <a:pt x="1388" y="14"/>
                    </a:lnTo>
                    <a:lnTo>
                      <a:pt x="1371" y="18"/>
                    </a:lnTo>
                    <a:lnTo>
                      <a:pt x="1354" y="20"/>
                    </a:lnTo>
                    <a:lnTo>
                      <a:pt x="1338" y="23"/>
                    </a:lnTo>
                    <a:lnTo>
                      <a:pt x="1319" y="23"/>
                    </a:lnTo>
                    <a:lnTo>
                      <a:pt x="1299" y="27"/>
                    </a:lnTo>
                    <a:lnTo>
                      <a:pt x="1280" y="29"/>
                    </a:lnTo>
                    <a:lnTo>
                      <a:pt x="1260" y="33"/>
                    </a:lnTo>
                    <a:lnTo>
                      <a:pt x="1239" y="35"/>
                    </a:lnTo>
                    <a:lnTo>
                      <a:pt x="1220" y="41"/>
                    </a:lnTo>
                    <a:lnTo>
                      <a:pt x="1200" y="43"/>
                    </a:lnTo>
                    <a:lnTo>
                      <a:pt x="1181" y="49"/>
                    </a:lnTo>
                    <a:lnTo>
                      <a:pt x="1158" y="53"/>
                    </a:lnTo>
                    <a:lnTo>
                      <a:pt x="1136" y="56"/>
                    </a:lnTo>
                    <a:lnTo>
                      <a:pt x="1115" y="60"/>
                    </a:lnTo>
                    <a:lnTo>
                      <a:pt x="1094" y="66"/>
                    </a:lnTo>
                    <a:lnTo>
                      <a:pt x="1070" y="70"/>
                    </a:lnTo>
                    <a:lnTo>
                      <a:pt x="1049" y="76"/>
                    </a:lnTo>
                    <a:lnTo>
                      <a:pt x="1028" y="82"/>
                    </a:lnTo>
                    <a:lnTo>
                      <a:pt x="1006" y="87"/>
                    </a:lnTo>
                    <a:lnTo>
                      <a:pt x="983" y="91"/>
                    </a:lnTo>
                    <a:lnTo>
                      <a:pt x="960" y="97"/>
                    </a:lnTo>
                    <a:lnTo>
                      <a:pt x="937" y="103"/>
                    </a:lnTo>
                    <a:lnTo>
                      <a:pt x="913" y="109"/>
                    </a:lnTo>
                    <a:lnTo>
                      <a:pt x="890" y="115"/>
                    </a:lnTo>
                    <a:lnTo>
                      <a:pt x="867" y="122"/>
                    </a:lnTo>
                    <a:lnTo>
                      <a:pt x="843" y="128"/>
                    </a:lnTo>
                    <a:lnTo>
                      <a:pt x="822" y="136"/>
                    </a:lnTo>
                    <a:lnTo>
                      <a:pt x="799" y="142"/>
                    </a:lnTo>
                    <a:lnTo>
                      <a:pt x="776" y="149"/>
                    </a:lnTo>
                    <a:lnTo>
                      <a:pt x="752" y="157"/>
                    </a:lnTo>
                    <a:lnTo>
                      <a:pt x="729" y="167"/>
                    </a:lnTo>
                    <a:lnTo>
                      <a:pt x="706" y="175"/>
                    </a:lnTo>
                    <a:lnTo>
                      <a:pt x="684" y="184"/>
                    </a:lnTo>
                    <a:lnTo>
                      <a:pt x="661" y="192"/>
                    </a:lnTo>
                    <a:lnTo>
                      <a:pt x="640" y="204"/>
                    </a:lnTo>
                    <a:lnTo>
                      <a:pt x="617" y="212"/>
                    </a:lnTo>
                    <a:lnTo>
                      <a:pt x="593" y="221"/>
                    </a:lnTo>
                    <a:lnTo>
                      <a:pt x="572" y="229"/>
                    </a:lnTo>
                    <a:lnTo>
                      <a:pt x="551" y="241"/>
                    </a:lnTo>
                    <a:lnTo>
                      <a:pt x="527" y="250"/>
                    </a:lnTo>
                    <a:lnTo>
                      <a:pt x="508" y="262"/>
                    </a:lnTo>
                    <a:lnTo>
                      <a:pt x="487" y="274"/>
                    </a:lnTo>
                    <a:lnTo>
                      <a:pt x="467" y="285"/>
                    </a:lnTo>
                    <a:lnTo>
                      <a:pt x="446" y="295"/>
                    </a:lnTo>
                    <a:lnTo>
                      <a:pt x="427" y="307"/>
                    </a:lnTo>
                    <a:lnTo>
                      <a:pt x="405" y="318"/>
                    </a:lnTo>
                    <a:lnTo>
                      <a:pt x="388" y="332"/>
                    </a:lnTo>
                    <a:lnTo>
                      <a:pt x="368" y="343"/>
                    </a:lnTo>
                    <a:lnTo>
                      <a:pt x="351" y="357"/>
                    </a:lnTo>
                    <a:lnTo>
                      <a:pt x="333" y="371"/>
                    </a:lnTo>
                    <a:lnTo>
                      <a:pt x="316" y="386"/>
                    </a:lnTo>
                    <a:lnTo>
                      <a:pt x="297" y="398"/>
                    </a:lnTo>
                    <a:lnTo>
                      <a:pt x="279" y="411"/>
                    </a:lnTo>
                    <a:lnTo>
                      <a:pt x="264" y="423"/>
                    </a:lnTo>
                    <a:lnTo>
                      <a:pt x="248" y="436"/>
                    </a:lnTo>
                    <a:lnTo>
                      <a:pt x="233" y="448"/>
                    </a:lnTo>
                    <a:lnTo>
                      <a:pt x="219" y="462"/>
                    </a:lnTo>
                    <a:lnTo>
                      <a:pt x="205" y="475"/>
                    </a:lnTo>
                    <a:lnTo>
                      <a:pt x="194" y="489"/>
                    </a:lnTo>
                    <a:lnTo>
                      <a:pt x="180" y="500"/>
                    </a:lnTo>
                    <a:lnTo>
                      <a:pt x="169" y="512"/>
                    </a:lnTo>
                    <a:lnTo>
                      <a:pt x="157" y="524"/>
                    </a:lnTo>
                    <a:lnTo>
                      <a:pt x="145" y="535"/>
                    </a:lnTo>
                    <a:lnTo>
                      <a:pt x="134" y="547"/>
                    </a:lnTo>
                    <a:lnTo>
                      <a:pt x="126" y="559"/>
                    </a:lnTo>
                    <a:lnTo>
                      <a:pt x="116" y="570"/>
                    </a:lnTo>
                    <a:lnTo>
                      <a:pt x="108" y="584"/>
                    </a:lnTo>
                    <a:lnTo>
                      <a:pt x="91" y="603"/>
                    </a:lnTo>
                    <a:lnTo>
                      <a:pt x="75" y="625"/>
                    </a:lnTo>
                    <a:lnTo>
                      <a:pt x="62" y="644"/>
                    </a:lnTo>
                    <a:lnTo>
                      <a:pt x="52" y="665"/>
                    </a:lnTo>
                    <a:lnTo>
                      <a:pt x="41" y="683"/>
                    </a:lnTo>
                    <a:lnTo>
                      <a:pt x="33" y="702"/>
                    </a:lnTo>
                    <a:lnTo>
                      <a:pt x="25" y="720"/>
                    </a:lnTo>
                    <a:lnTo>
                      <a:pt x="19" y="737"/>
                    </a:lnTo>
                    <a:lnTo>
                      <a:pt x="13" y="751"/>
                    </a:lnTo>
                    <a:lnTo>
                      <a:pt x="8" y="764"/>
                    </a:lnTo>
                    <a:lnTo>
                      <a:pt x="4" y="778"/>
                    </a:lnTo>
                    <a:lnTo>
                      <a:pt x="4" y="791"/>
                    </a:lnTo>
                    <a:lnTo>
                      <a:pt x="0" y="801"/>
                    </a:lnTo>
                    <a:lnTo>
                      <a:pt x="0" y="813"/>
                    </a:lnTo>
                    <a:lnTo>
                      <a:pt x="0" y="822"/>
                    </a:lnTo>
                    <a:lnTo>
                      <a:pt x="0" y="834"/>
                    </a:lnTo>
                    <a:lnTo>
                      <a:pt x="0" y="848"/>
                    </a:lnTo>
                    <a:lnTo>
                      <a:pt x="2" y="859"/>
                    </a:lnTo>
                    <a:lnTo>
                      <a:pt x="2" y="865"/>
                    </a:lnTo>
                    <a:lnTo>
                      <a:pt x="4" y="869"/>
                    </a:lnTo>
                    <a:close/>
                  </a:path>
                </a:pathLst>
              </a:custGeom>
              <a:solidFill>
                <a:srgbClr val="f1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1440" y="-487800"/>
                <a:ext cx="440640" cy="104400"/>
              </a:xfrm>
              <a:custGeom>
                <a:avLst/>
                <a:gdLst/>
                <a:ahLst/>
                <a:rect l="l" t="t" r="r" b="b"/>
                <a:pathLst>
                  <a:path w="1577" h="374">
                    <a:moveTo>
                      <a:pt x="0" y="304"/>
                    </a:moveTo>
                    <a:lnTo>
                      <a:pt x="1550" y="0"/>
                    </a:lnTo>
                    <a:lnTo>
                      <a:pt x="1577" y="108"/>
                    </a:lnTo>
                    <a:lnTo>
                      <a:pt x="6" y="374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68640" y="-437400"/>
                <a:ext cx="432720" cy="84240"/>
              </a:xfrm>
              <a:custGeom>
                <a:avLst/>
                <a:gdLst/>
                <a:ahLst/>
                <a:rect l="l" t="t" r="r" b="b"/>
                <a:pathLst>
                  <a:path w="1547" h="302">
                    <a:moveTo>
                      <a:pt x="0" y="248"/>
                    </a:moveTo>
                    <a:lnTo>
                      <a:pt x="1528" y="0"/>
                    </a:lnTo>
                    <a:lnTo>
                      <a:pt x="1547" y="54"/>
                    </a:lnTo>
                    <a:lnTo>
                      <a:pt x="5" y="302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49960" y="-453240"/>
                <a:ext cx="99360" cy="21600"/>
              </a:xfrm>
              <a:custGeom>
                <a:avLst/>
                <a:gdLst/>
                <a:ahLst/>
                <a:rect l="l" t="t" r="r" b="b"/>
                <a:pathLst>
                  <a:path w="355" h="77">
                    <a:moveTo>
                      <a:pt x="0" y="23"/>
                    </a:moveTo>
                    <a:lnTo>
                      <a:pt x="349" y="0"/>
                    </a:lnTo>
                    <a:lnTo>
                      <a:pt x="355" y="54"/>
                    </a:lnTo>
                    <a:lnTo>
                      <a:pt x="21" y="7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41320" y="-496080"/>
                <a:ext cx="101160" cy="29880"/>
              </a:xfrm>
              <a:custGeom>
                <a:avLst/>
                <a:gdLst/>
                <a:ahLst/>
                <a:rect l="l" t="t" r="r" b="b"/>
                <a:pathLst>
                  <a:path w="363" h="107">
                    <a:moveTo>
                      <a:pt x="0" y="12"/>
                    </a:moveTo>
                    <a:lnTo>
                      <a:pt x="363" y="0"/>
                    </a:lnTo>
                    <a:lnTo>
                      <a:pt x="357" y="72"/>
                    </a:lnTo>
                    <a:lnTo>
                      <a:pt x="25" y="10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737480" y="-187920"/>
                <a:ext cx="347760" cy="163080"/>
              </a:xfrm>
              <a:custGeom>
                <a:avLst/>
                <a:gdLst/>
                <a:ahLst/>
                <a:rect l="l" t="t" r="r" b="b"/>
                <a:pathLst>
                  <a:path w="1245" h="584">
                    <a:moveTo>
                      <a:pt x="0" y="19"/>
                    </a:moveTo>
                    <a:lnTo>
                      <a:pt x="4" y="23"/>
                    </a:lnTo>
                    <a:lnTo>
                      <a:pt x="17" y="41"/>
                    </a:lnTo>
                    <a:lnTo>
                      <a:pt x="27" y="50"/>
                    </a:lnTo>
                    <a:lnTo>
                      <a:pt x="39" y="64"/>
                    </a:lnTo>
                    <a:lnTo>
                      <a:pt x="54" y="79"/>
                    </a:lnTo>
                    <a:lnTo>
                      <a:pt x="72" y="99"/>
                    </a:lnTo>
                    <a:lnTo>
                      <a:pt x="79" y="107"/>
                    </a:lnTo>
                    <a:lnTo>
                      <a:pt x="89" y="116"/>
                    </a:lnTo>
                    <a:lnTo>
                      <a:pt x="99" y="126"/>
                    </a:lnTo>
                    <a:lnTo>
                      <a:pt x="110" y="138"/>
                    </a:lnTo>
                    <a:lnTo>
                      <a:pt x="120" y="149"/>
                    </a:lnTo>
                    <a:lnTo>
                      <a:pt x="132" y="161"/>
                    </a:lnTo>
                    <a:lnTo>
                      <a:pt x="145" y="173"/>
                    </a:lnTo>
                    <a:lnTo>
                      <a:pt x="159" y="184"/>
                    </a:lnTo>
                    <a:lnTo>
                      <a:pt x="170" y="196"/>
                    </a:lnTo>
                    <a:lnTo>
                      <a:pt x="184" y="207"/>
                    </a:lnTo>
                    <a:lnTo>
                      <a:pt x="198" y="219"/>
                    </a:lnTo>
                    <a:lnTo>
                      <a:pt x="215" y="231"/>
                    </a:lnTo>
                    <a:lnTo>
                      <a:pt x="229" y="242"/>
                    </a:lnTo>
                    <a:lnTo>
                      <a:pt x="244" y="256"/>
                    </a:lnTo>
                    <a:lnTo>
                      <a:pt x="262" y="270"/>
                    </a:lnTo>
                    <a:lnTo>
                      <a:pt x="279" y="283"/>
                    </a:lnTo>
                    <a:lnTo>
                      <a:pt x="295" y="295"/>
                    </a:lnTo>
                    <a:lnTo>
                      <a:pt x="312" y="306"/>
                    </a:lnTo>
                    <a:lnTo>
                      <a:pt x="329" y="318"/>
                    </a:lnTo>
                    <a:lnTo>
                      <a:pt x="349" y="332"/>
                    </a:lnTo>
                    <a:lnTo>
                      <a:pt x="366" y="343"/>
                    </a:lnTo>
                    <a:lnTo>
                      <a:pt x="386" y="357"/>
                    </a:lnTo>
                    <a:lnTo>
                      <a:pt x="405" y="368"/>
                    </a:lnTo>
                    <a:lnTo>
                      <a:pt x="426" y="382"/>
                    </a:lnTo>
                    <a:lnTo>
                      <a:pt x="446" y="394"/>
                    </a:lnTo>
                    <a:lnTo>
                      <a:pt x="467" y="405"/>
                    </a:lnTo>
                    <a:lnTo>
                      <a:pt x="487" y="417"/>
                    </a:lnTo>
                    <a:lnTo>
                      <a:pt x="510" y="429"/>
                    </a:lnTo>
                    <a:lnTo>
                      <a:pt x="531" y="440"/>
                    </a:lnTo>
                    <a:lnTo>
                      <a:pt x="554" y="452"/>
                    </a:lnTo>
                    <a:lnTo>
                      <a:pt x="578" y="463"/>
                    </a:lnTo>
                    <a:lnTo>
                      <a:pt x="603" y="475"/>
                    </a:lnTo>
                    <a:lnTo>
                      <a:pt x="626" y="483"/>
                    </a:lnTo>
                    <a:lnTo>
                      <a:pt x="649" y="493"/>
                    </a:lnTo>
                    <a:lnTo>
                      <a:pt x="673" y="502"/>
                    </a:lnTo>
                    <a:lnTo>
                      <a:pt x="698" y="512"/>
                    </a:lnTo>
                    <a:lnTo>
                      <a:pt x="721" y="520"/>
                    </a:lnTo>
                    <a:lnTo>
                      <a:pt x="748" y="527"/>
                    </a:lnTo>
                    <a:lnTo>
                      <a:pt x="774" y="535"/>
                    </a:lnTo>
                    <a:lnTo>
                      <a:pt x="803" y="545"/>
                    </a:lnTo>
                    <a:lnTo>
                      <a:pt x="828" y="551"/>
                    </a:lnTo>
                    <a:lnTo>
                      <a:pt x="855" y="557"/>
                    </a:lnTo>
                    <a:lnTo>
                      <a:pt x="882" y="562"/>
                    </a:lnTo>
                    <a:lnTo>
                      <a:pt x="911" y="568"/>
                    </a:lnTo>
                    <a:lnTo>
                      <a:pt x="938" y="572"/>
                    </a:lnTo>
                    <a:lnTo>
                      <a:pt x="968" y="576"/>
                    </a:lnTo>
                    <a:lnTo>
                      <a:pt x="997" y="580"/>
                    </a:lnTo>
                    <a:lnTo>
                      <a:pt x="1026" y="584"/>
                    </a:lnTo>
                    <a:lnTo>
                      <a:pt x="1026" y="578"/>
                    </a:lnTo>
                    <a:lnTo>
                      <a:pt x="1026" y="562"/>
                    </a:lnTo>
                    <a:lnTo>
                      <a:pt x="1026" y="549"/>
                    </a:lnTo>
                    <a:lnTo>
                      <a:pt x="1026" y="537"/>
                    </a:lnTo>
                    <a:lnTo>
                      <a:pt x="1028" y="522"/>
                    </a:lnTo>
                    <a:lnTo>
                      <a:pt x="1030" y="506"/>
                    </a:lnTo>
                    <a:lnTo>
                      <a:pt x="1030" y="487"/>
                    </a:lnTo>
                    <a:lnTo>
                      <a:pt x="1033" y="467"/>
                    </a:lnTo>
                    <a:lnTo>
                      <a:pt x="1033" y="456"/>
                    </a:lnTo>
                    <a:lnTo>
                      <a:pt x="1035" y="446"/>
                    </a:lnTo>
                    <a:lnTo>
                      <a:pt x="1037" y="434"/>
                    </a:lnTo>
                    <a:lnTo>
                      <a:pt x="1039" y="425"/>
                    </a:lnTo>
                    <a:lnTo>
                      <a:pt x="1039" y="411"/>
                    </a:lnTo>
                    <a:lnTo>
                      <a:pt x="1043" y="399"/>
                    </a:lnTo>
                    <a:lnTo>
                      <a:pt x="1043" y="388"/>
                    </a:lnTo>
                    <a:lnTo>
                      <a:pt x="1047" y="376"/>
                    </a:lnTo>
                    <a:lnTo>
                      <a:pt x="1049" y="365"/>
                    </a:lnTo>
                    <a:lnTo>
                      <a:pt x="1053" y="353"/>
                    </a:lnTo>
                    <a:lnTo>
                      <a:pt x="1055" y="341"/>
                    </a:lnTo>
                    <a:lnTo>
                      <a:pt x="1059" y="330"/>
                    </a:lnTo>
                    <a:lnTo>
                      <a:pt x="1061" y="316"/>
                    </a:lnTo>
                    <a:lnTo>
                      <a:pt x="1065" y="303"/>
                    </a:lnTo>
                    <a:lnTo>
                      <a:pt x="1066" y="291"/>
                    </a:lnTo>
                    <a:lnTo>
                      <a:pt x="1070" y="279"/>
                    </a:lnTo>
                    <a:lnTo>
                      <a:pt x="1072" y="266"/>
                    </a:lnTo>
                    <a:lnTo>
                      <a:pt x="1076" y="252"/>
                    </a:lnTo>
                    <a:lnTo>
                      <a:pt x="1080" y="240"/>
                    </a:lnTo>
                    <a:lnTo>
                      <a:pt x="1086" y="229"/>
                    </a:lnTo>
                    <a:lnTo>
                      <a:pt x="1090" y="215"/>
                    </a:lnTo>
                    <a:lnTo>
                      <a:pt x="1094" y="204"/>
                    </a:lnTo>
                    <a:lnTo>
                      <a:pt x="1097" y="190"/>
                    </a:lnTo>
                    <a:lnTo>
                      <a:pt x="1103" y="178"/>
                    </a:lnTo>
                    <a:lnTo>
                      <a:pt x="1107" y="167"/>
                    </a:lnTo>
                    <a:lnTo>
                      <a:pt x="1113" y="155"/>
                    </a:lnTo>
                    <a:lnTo>
                      <a:pt x="1119" y="143"/>
                    </a:lnTo>
                    <a:lnTo>
                      <a:pt x="1125" y="134"/>
                    </a:lnTo>
                    <a:lnTo>
                      <a:pt x="1130" y="122"/>
                    </a:lnTo>
                    <a:lnTo>
                      <a:pt x="1136" y="111"/>
                    </a:lnTo>
                    <a:lnTo>
                      <a:pt x="1142" y="101"/>
                    </a:lnTo>
                    <a:lnTo>
                      <a:pt x="1148" y="91"/>
                    </a:lnTo>
                    <a:lnTo>
                      <a:pt x="1161" y="72"/>
                    </a:lnTo>
                    <a:lnTo>
                      <a:pt x="1177" y="54"/>
                    </a:lnTo>
                    <a:lnTo>
                      <a:pt x="1191" y="37"/>
                    </a:lnTo>
                    <a:lnTo>
                      <a:pt x="1208" y="21"/>
                    </a:lnTo>
                    <a:lnTo>
                      <a:pt x="1225" y="10"/>
                    </a:lnTo>
                    <a:lnTo>
                      <a:pt x="1245" y="0"/>
                    </a:lnTo>
                    <a:lnTo>
                      <a:pt x="1241" y="0"/>
                    </a:lnTo>
                    <a:lnTo>
                      <a:pt x="1235" y="0"/>
                    </a:lnTo>
                    <a:lnTo>
                      <a:pt x="1222" y="2"/>
                    </a:lnTo>
                    <a:lnTo>
                      <a:pt x="1208" y="4"/>
                    </a:lnTo>
                    <a:lnTo>
                      <a:pt x="1198" y="4"/>
                    </a:lnTo>
                    <a:lnTo>
                      <a:pt x="1189" y="6"/>
                    </a:lnTo>
                    <a:lnTo>
                      <a:pt x="1177" y="8"/>
                    </a:lnTo>
                    <a:lnTo>
                      <a:pt x="1167" y="10"/>
                    </a:lnTo>
                    <a:lnTo>
                      <a:pt x="1154" y="10"/>
                    </a:lnTo>
                    <a:lnTo>
                      <a:pt x="1140" y="12"/>
                    </a:lnTo>
                    <a:lnTo>
                      <a:pt x="1127" y="14"/>
                    </a:lnTo>
                    <a:lnTo>
                      <a:pt x="1113" y="17"/>
                    </a:lnTo>
                    <a:lnTo>
                      <a:pt x="1096" y="17"/>
                    </a:lnTo>
                    <a:lnTo>
                      <a:pt x="1078" y="19"/>
                    </a:lnTo>
                    <a:lnTo>
                      <a:pt x="1061" y="21"/>
                    </a:lnTo>
                    <a:lnTo>
                      <a:pt x="1043" y="23"/>
                    </a:lnTo>
                    <a:lnTo>
                      <a:pt x="1024" y="25"/>
                    </a:lnTo>
                    <a:lnTo>
                      <a:pt x="1006" y="27"/>
                    </a:lnTo>
                    <a:lnTo>
                      <a:pt x="987" y="29"/>
                    </a:lnTo>
                    <a:lnTo>
                      <a:pt x="968" y="33"/>
                    </a:lnTo>
                    <a:lnTo>
                      <a:pt x="946" y="33"/>
                    </a:lnTo>
                    <a:lnTo>
                      <a:pt x="925" y="35"/>
                    </a:lnTo>
                    <a:lnTo>
                      <a:pt x="902" y="37"/>
                    </a:lnTo>
                    <a:lnTo>
                      <a:pt x="880" y="39"/>
                    </a:lnTo>
                    <a:lnTo>
                      <a:pt x="857" y="41"/>
                    </a:lnTo>
                    <a:lnTo>
                      <a:pt x="834" y="43"/>
                    </a:lnTo>
                    <a:lnTo>
                      <a:pt x="810" y="45"/>
                    </a:lnTo>
                    <a:lnTo>
                      <a:pt x="789" y="48"/>
                    </a:lnTo>
                    <a:lnTo>
                      <a:pt x="764" y="48"/>
                    </a:lnTo>
                    <a:lnTo>
                      <a:pt x="739" y="50"/>
                    </a:lnTo>
                    <a:lnTo>
                      <a:pt x="713" y="50"/>
                    </a:lnTo>
                    <a:lnTo>
                      <a:pt x="690" y="52"/>
                    </a:lnTo>
                    <a:lnTo>
                      <a:pt x="663" y="52"/>
                    </a:lnTo>
                    <a:lnTo>
                      <a:pt x="638" y="54"/>
                    </a:lnTo>
                    <a:lnTo>
                      <a:pt x="613" y="56"/>
                    </a:lnTo>
                    <a:lnTo>
                      <a:pt x="587" y="58"/>
                    </a:lnTo>
                    <a:lnTo>
                      <a:pt x="560" y="58"/>
                    </a:lnTo>
                    <a:lnTo>
                      <a:pt x="535" y="58"/>
                    </a:lnTo>
                    <a:lnTo>
                      <a:pt x="508" y="58"/>
                    </a:lnTo>
                    <a:lnTo>
                      <a:pt x="485" y="60"/>
                    </a:lnTo>
                    <a:lnTo>
                      <a:pt x="457" y="60"/>
                    </a:lnTo>
                    <a:lnTo>
                      <a:pt x="432" y="60"/>
                    </a:lnTo>
                    <a:lnTo>
                      <a:pt x="405" y="60"/>
                    </a:lnTo>
                    <a:lnTo>
                      <a:pt x="382" y="60"/>
                    </a:lnTo>
                    <a:lnTo>
                      <a:pt x="355" y="58"/>
                    </a:lnTo>
                    <a:lnTo>
                      <a:pt x="329" y="56"/>
                    </a:lnTo>
                    <a:lnTo>
                      <a:pt x="302" y="54"/>
                    </a:lnTo>
                    <a:lnTo>
                      <a:pt x="277" y="54"/>
                    </a:lnTo>
                    <a:lnTo>
                      <a:pt x="252" y="52"/>
                    </a:lnTo>
                    <a:lnTo>
                      <a:pt x="227" y="50"/>
                    </a:lnTo>
                    <a:lnTo>
                      <a:pt x="203" y="48"/>
                    </a:lnTo>
                    <a:lnTo>
                      <a:pt x="180" y="47"/>
                    </a:lnTo>
                    <a:lnTo>
                      <a:pt x="155" y="43"/>
                    </a:lnTo>
                    <a:lnTo>
                      <a:pt x="132" y="41"/>
                    </a:lnTo>
                    <a:lnTo>
                      <a:pt x="108" y="37"/>
                    </a:lnTo>
                    <a:lnTo>
                      <a:pt x="85" y="35"/>
                    </a:lnTo>
                    <a:lnTo>
                      <a:pt x="62" y="29"/>
                    </a:lnTo>
                    <a:lnTo>
                      <a:pt x="41" y="27"/>
                    </a:lnTo>
                    <a:lnTo>
                      <a:pt x="19" y="2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77880" y="2160"/>
                <a:ext cx="141480" cy="175320"/>
              </a:xfrm>
              <a:custGeom>
                <a:avLst/>
                <a:gdLst/>
                <a:ahLst/>
                <a:rect l="l" t="t" r="r" b="b"/>
                <a:pathLst>
                  <a:path w="506" h="628">
                    <a:moveTo>
                      <a:pt x="341" y="17"/>
                    </a:moveTo>
                    <a:lnTo>
                      <a:pt x="339" y="21"/>
                    </a:lnTo>
                    <a:lnTo>
                      <a:pt x="336" y="33"/>
                    </a:lnTo>
                    <a:lnTo>
                      <a:pt x="332" y="40"/>
                    </a:lnTo>
                    <a:lnTo>
                      <a:pt x="330" y="52"/>
                    </a:lnTo>
                    <a:lnTo>
                      <a:pt x="328" y="64"/>
                    </a:lnTo>
                    <a:lnTo>
                      <a:pt x="326" y="81"/>
                    </a:lnTo>
                    <a:lnTo>
                      <a:pt x="320" y="95"/>
                    </a:lnTo>
                    <a:lnTo>
                      <a:pt x="314" y="114"/>
                    </a:lnTo>
                    <a:lnTo>
                      <a:pt x="308" y="131"/>
                    </a:lnTo>
                    <a:lnTo>
                      <a:pt x="303" y="153"/>
                    </a:lnTo>
                    <a:lnTo>
                      <a:pt x="295" y="172"/>
                    </a:lnTo>
                    <a:lnTo>
                      <a:pt x="287" y="194"/>
                    </a:lnTo>
                    <a:lnTo>
                      <a:pt x="283" y="205"/>
                    </a:lnTo>
                    <a:lnTo>
                      <a:pt x="279" y="217"/>
                    </a:lnTo>
                    <a:lnTo>
                      <a:pt x="275" y="228"/>
                    </a:lnTo>
                    <a:lnTo>
                      <a:pt x="272" y="242"/>
                    </a:lnTo>
                    <a:lnTo>
                      <a:pt x="266" y="254"/>
                    </a:lnTo>
                    <a:lnTo>
                      <a:pt x="260" y="265"/>
                    </a:lnTo>
                    <a:lnTo>
                      <a:pt x="254" y="277"/>
                    </a:lnTo>
                    <a:lnTo>
                      <a:pt x="248" y="289"/>
                    </a:lnTo>
                    <a:lnTo>
                      <a:pt x="243" y="300"/>
                    </a:lnTo>
                    <a:lnTo>
                      <a:pt x="237" y="314"/>
                    </a:lnTo>
                    <a:lnTo>
                      <a:pt x="231" y="325"/>
                    </a:lnTo>
                    <a:lnTo>
                      <a:pt x="225" y="339"/>
                    </a:lnTo>
                    <a:lnTo>
                      <a:pt x="217" y="351"/>
                    </a:lnTo>
                    <a:lnTo>
                      <a:pt x="210" y="362"/>
                    </a:lnTo>
                    <a:lnTo>
                      <a:pt x="202" y="376"/>
                    </a:lnTo>
                    <a:lnTo>
                      <a:pt x="196" y="389"/>
                    </a:lnTo>
                    <a:lnTo>
                      <a:pt x="188" y="401"/>
                    </a:lnTo>
                    <a:lnTo>
                      <a:pt x="180" y="415"/>
                    </a:lnTo>
                    <a:lnTo>
                      <a:pt x="173" y="428"/>
                    </a:lnTo>
                    <a:lnTo>
                      <a:pt x="167" y="442"/>
                    </a:lnTo>
                    <a:lnTo>
                      <a:pt x="157" y="453"/>
                    </a:lnTo>
                    <a:lnTo>
                      <a:pt x="147" y="465"/>
                    </a:lnTo>
                    <a:lnTo>
                      <a:pt x="138" y="477"/>
                    </a:lnTo>
                    <a:lnTo>
                      <a:pt x="130" y="490"/>
                    </a:lnTo>
                    <a:lnTo>
                      <a:pt x="118" y="502"/>
                    </a:lnTo>
                    <a:lnTo>
                      <a:pt x="111" y="513"/>
                    </a:lnTo>
                    <a:lnTo>
                      <a:pt x="99" y="525"/>
                    </a:lnTo>
                    <a:lnTo>
                      <a:pt x="91" y="539"/>
                    </a:lnTo>
                    <a:lnTo>
                      <a:pt x="80" y="548"/>
                    </a:lnTo>
                    <a:lnTo>
                      <a:pt x="68" y="560"/>
                    </a:lnTo>
                    <a:lnTo>
                      <a:pt x="56" y="572"/>
                    </a:lnTo>
                    <a:lnTo>
                      <a:pt x="47" y="583"/>
                    </a:lnTo>
                    <a:lnTo>
                      <a:pt x="35" y="593"/>
                    </a:lnTo>
                    <a:lnTo>
                      <a:pt x="23" y="605"/>
                    </a:lnTo>
                    <a:lnTo>
                      <a:pt x="12" y="616"/>
                    </a:lnTo>
                    <a:lnTo>
                      <a:pt x="0" y="628"/>
                    </a:lnTo>
                    <a:lnTo>
                      <a:pt x="4" y="624"/>
                    </a:lnTo>
                    <a:lnTo>
                      <a:pt x="19" y="614"/>
                    </a:lnTo>
                    <a:lnTo>
                      <a:pt x="29" y="607"/>
                    </a:lnTo>
                    <a:lnTo>
                      <a:pt x="43" y="599"/>
                    </a:lnTo>
                    <a:lnTo>
                      <a:pt x="56" y="589"/>
                    </a:lnTo>
                    <a:lnTo>
                      <a:pt x="74" y="579"/>
                    </a:lnTo>
                    <a:lnTo>
                      <a:pt x="89" y="566"/>
                    </a:lnTo>
                    <a:lnTo>
                      <a:pt x="109" y="554"/>
                    </a:lnTo>
                    <a:lnTo>
                      <a:pt x="128" y="539"/>
                    </a:lnTo>
                    <a:lnTo>
                      <a:pt x="149" y="523"/>
                    </a:lnTo>
                    <a:lnTo>
                      <a:pt x="159" y="513"/>
                    </a:lnTo>
                    <a:lnTo>
                      <a:pt x="171" y="506"/>
                    </a:lnTo>
                    <a:lnTo>
                      <a:pt x="182" y="496"/>
                    </a:lnTo>
                    <a:lnTo>
                      <a:pt x="194" y="488"/>
                    </a:lnTo>
                    <a:lnTo>
                      <a:pt x="206" y="479"/>
                    </a:lnTo>
                    <a:lnTo>
                      <a:pt x="217" y="469"/>
                    </a:lnTo>
                    <a:lnTo>
                      <a:pt x="229" y="459"/>
                    </a:lnTo>
                    <a:lnTo>
                      <a:pt x="241" y="451"/>
                    </a:lnTo>
                    <a:lnTo>
                      <a:pt x="250" y="440"/>
                    </a:lnTo>
                    <a:lnTo>
                      <a:pt x="262" y="428"/>
                    </a:lnTo>
                    <a:lnTo>
                      <a:pt x="274" y="417"/>
                    </a:lnTo>
                    <a:lnTo>
                      <a:pt x="285" y="405"/>
                    </a:lnTo>
                    <a:lnTo>
                      <a:pt x="297" y="393"/>
                    </a:lnTo>
                    <a:lnTo>
                      <a:pt x="308" y="382"/>
                    </a:lnTo>
                    <a:lnTo>
                      <a:pt x="320" y="370"/>
                    </a:lnTo>
                    <a:lnTo>
                      <a:pt x="332" y="358"/>
                    </a:lnTo>
                    <a:lnTo>
                      <a:pt x="341" y="345"/>
                    </a:lnTo>
                    <a:lnTo>
                      <a:pt x="351" y="331"/>
                    </a:lnTo>
                    <a:lnTo>
                      <a:pt x="361" y="318"/>
                    </a:lnTo>
                    <a:lnTo>
                      <a:pt x="372" y="306"/>
                    </a:lnTo>
                    <a:lnTo>
                      <a:pt x="382" y="292"/>
                    </a:lnTo>
                    <a:lnTo>
                      <a:pt x="392" y="279"/>
                    </a:lnTo>
                    <a:lnTo>
                      <a:pt x="402" y="265"/>
                    </a:lnTo>
                    <a:lnTo>
                      <a:pt x="413" y="252"/>
                    </a:lnTo>
                    <a:lnTo>
                      <a:pt x="421" y="236"/>
                    </a:lnTo>
                    <a:lnTo>
                      <a:pt x="429" y="221"/>
                    </a:lnTo>
                    <a:lnTo>
                      <a:pt x="436" y="205"/>
                    </a:lnTo>
                    <a:lnTo>
                      <a:pt x="446" y="192"/>
                    </a:lnTo>
                    <a:lnTo>
                      <a:pt x="452" y="176"/>
                    </a:lnTo>
                    <a:lnTo>
                      <a:pt x="460" y="161"/>
                    </a:lnTo>
                    <a:lnTo>
                      <a:pt x="466" y="145"/>
                    </a:lnTo>
                    <a:lnTo>
                      <a:pt x="473" y="131"/>
                    </a:lnTo>
                    <a:lnTo>
                      <a:pt x="477" y="114"/>
                    </a:lnTo>
                    <a:lnTo>
                      <a:pt x="483" y="98"/>
                    </a:lnTo>
                    <a:lnTo>
                      <a:pt x="489" y="81"/>
                    </a:lnTo>
                    <a:lnTo>
                      <a:pt x="495" y="66"/>
                    </a:lnTo>
                    <a:lnTo>
                      <a:pt x="497" y="48"/>
                    </a:lnTo>
                    <a:lnTo>
                      <a:pt x="500" y="33"/>
                    </a:lnTo>
                    <a:lnTo>
                      <a:pt x="502" y="15"/>
                    </a:lnTo>
                    <a:lnTo>
                      <a:pt x="506" y="0"/>
                    </a:lnTo>
                    <a:lnTo>
                      <a:pt x="502" y="0"/>
                    </a:lnTo>
                    <a:lnTo>
                      <a:pt x="493" y="3"/>
                    </a:lnTo>
                    <a:lnTo>
                      <a:pt x="477" y="7"/>
                    </a:lnTo>
                    <a:lnTo>
                      <a:pt x="460" y="13"/>
                    </a:lnTo>
                    <a:lnTo>
                      <a:pt x="446" y="15"/>
                    </a:lnTo>
                    <a:lnTo>
                      <a:pt x="435" y="17"/>
                    </a:lnTo>
                    <a:lnTo>
                      <a:pt x="421" y="19"/>
                    </a:lnTo>
                    <a:lnTo>
                      <a:pt x="407" y="21"/>
                    </a:lnTo>
                    <a:lnTo>
                      <a:pt x="390" y="19"/>
                    </a:lnTo>
                    <a:lnTo>
                      <a:pt x="374" y="19"/>
                    </a:lnTo>
                    <a:lnTo>
                      <a:pt x="357" y="17"/>
                    </a:lnTo>
                    <a:lnTo>
                      <a:pt x="341" y="17"/>
                    </a:lnTo>
                    <a:close/>
                  </a:path>
                </a:pathLst>
              </a:custGeom>
              <a:solidFill>
                <a:srgbClr val="6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00840" y="354240"/>
                <a:ext cx="275040" cy="62640"/>
              </a:xfrm>
              <a:custGeom>
                <a:avLst/>
                <a:gdLst/>
                <a:ahLst/>
                <a:rect l="l" t="t" r="r" b="b"/>
                <a:pathLst>
                  <a:path w="983" h="225">
                    <a:moveTo>
                      <a:pt x="958" y="0"/>
                    </a:moveTo>
                    <a:lnTo>
                      <a:pt x="954" y="0"/>
                    </a:lnTo>
                    <a:lnTo>
                      <a:pt x="948" y="0"/>
                    </a:lnTo>
                    <a:lnTo>
                      <a:pt x="934" y="0"/>
                    </a:lnTo>
                    <a:lnTo>
                      <a:pt x="921" y="2"/>
                    </a:lnTo>
                    <a:lnTo>
                      <a:pt x="911" y="2"/>
                    </a:lnTo>
                    <a:lnTo>
                      <a:pt x="902" y="2"/>
                    </a:lnTo>
                    <a:lnTo>
                      <a:pt x="890" y="4"/>
                    </a:lnTo>
                    <a:lnTo>
                      <a:pt x="880" y="6"/>
                    </a:lnTo>
                    <a:lnTo>
                      <a:pt x="867" y="6"/>
                    </a:lnTo>
                    <a:lnTo>
                      <a:pt x="855" y="8"/>
                    </a:lnTo>
                    <a:lnTo>
                      <a:pt x="841" y="10"/>
                    </a:lnTo>
                    <a:lnTo>
                      <a:pt x="828" y="12"/>
                    </a:lnTo>
                    <a:lnTo>
                      <a:pt x="810" y="12"/>
                    </a:lnTo>
                    <a:lnTo>
                      <a:pt x="795" y="14"/>
                    </a:lnTo>
                    <a:lnTo>
                      <a:pt x="777" y="16"/>
                    </a:lnTo>
                    <a:lnTo>
                      <a:pt x="762" y="18"/>
                    </a:lnTo>
                    <a:lnTo>
                      <a:pt x="744" y="18"/>
                    </a:lnTo>
                    <a:lnTo>
                      <a:pt x="727" y="20"/>
                    </a:lnTo>
                    <a:lnTo>
                      <a:pt x="710" y="22"/>
                    </a:lnTo>
                    <a:lnTo>
                      <a:pt x="692" y="25"/>
                    </a:lnTo>
                    <a:lnTo>
                      <a:pt x="671" y="25"/>
                    </a:lnTo>
                    <a:lnTo>
                      <a:pt x="651" y="29"/>
                    </a:lnTo>
                    <a:lnTo>
                      <a:pt x="632" y="29"/>
                    </a:lnTo>
                    <a:lnTo>
                      <a:pt x="613" y="33"/>
                    </a:lnTo>
                    <a:lnTo>
                      <a:pt x="591" y="35"/>
                    </a:lnTo>
                    <a:lnTo>
                      <a:pt x="572" y="37"/>
                    </a:lnTo>
                    <a:lnTo>
                      <a:pt x="552" y="39"/>
                    </a:lnTo>
                    <a:lnTo>
                      <a:pt x="533" y="43"/>
                    </a:lnTo>
                    <a:lnTo>
                      <a:pt x="510" y="43"/>
                    </a:lnTo>
                    <a:lnTo>
                      <a:pt x="490" y="45"/>
                    </a:lnTo>
                    <a:lnTo>
                      <a:pt x="467" y="47"/>
                    </a:lnTo>
                    <a:lnTo>
                      <a:pt x="448" y="49"/>
                    </a:lnTo>
                    <a:lnTo>
                      <a:pt x="426" y="51"/>
                    </a:lnTo>
                    <a:lnTo>
                      <a:pt x="407" y="53"/>
                    </a:lnTo>
                    <a:lnTo>
                      <a:pt x="386" y="55"/>
                    </a:lnTo>
                    <a:lnTo>
                      <a:pt x="366" y="58"/>
                    </a:lnTo>
                    <a:lnTo>
                      <a:pt x="343" y="58"/>
                    </a:lnTo>
                    <a:lnTo>
                      <a:pt x="324" y="60"/>
                    </a:lnTo>
                    <a:lnTo>
                      <a:pt x="302" y="62"/>
                    </a:lnTo>
                    <a:lnTo>
                      <a:pt x="285" y="64"/>
                    </a:lnTo>
                    <a:lnTo>
                      <a:pt x="263" y="66"/>
                    </a:lnTo>
                    <a:lnTo>
                      <a:pt x="246" y="68"/>
                    </a:lnTo>
                    <a:lnTo>
                      <a:pt x="229" y="70"/>
                    </a:lnTo>
                    <a:lnTo>
                      <a:pt x="211" y="74"/>
                    </a:lnTo>
                    <a:lnTo>
                      <a:pt x="192" y="74"/>
                    </a:lnTo>
                    <a:lnTo>
                      <a:pt x="174" y="76"/>
                    </a:lnTo>
                    <a:lnTo>
                      <a:pt x="157" y="76"/>
                    </a:lnTo>
                    <a:lnTo>
                      <a:pt x="141" y="78"/>
                    </a:lnTo>
                    <a:lnTo>
                      <a:pt x="124" y="78"/>
                    </a:lnTo>
                    <a:lnTo>
                      <a:pt x="108" y="80"/>
                    </a:lnTo>
                    <a:lnTo>
                      <a:pt x="93" y="82"/>
                    </a:lnTo>
                    <a:lnTo>
                      <a:pt x="81" y="84"/>
                    </a:lnTo>
                    <a:lnTo>
                      <a:pt x="68" y="84"/>
                    </a:lnTo>
                    <a:lnTo>
                      <a:pt x="54" y="86"/>
                    </a:lnTo>
                    <a:lnTo>
                      <a:pt x="42" y="86"/>
                    </a:lnTo>
                    <a:lnTo>
                      <a:pt x="33" y="87"/>
                    </a:lnTo>
                    <a:lnTo>
                      <a:pt x="13" y="89"/>
                    </a:lnTo>
                    <a:lnTo>
                      <a:pt x="0" y="93"/>
                    </a:lnTo>
                    <a:lnTo>
                      <a:pt x="2" y="95"/>
                    </a:lnTo>
                    <a:lnTo>
                      <a:pt x="9" y="103"/>
                    </a:lnTo>
                    <a:lnTo>
                      <a:pt x="19" y="113"/>
                    </a:lnTo>
                    <a:lnTo>
                      <a:pt x="31" y="130"/>
                    </a:lnTo>
                    <a:lnTo>
                      <a:pt x="33" y="138"/>
                    </a:lnTo>
                    <a:lnTo>
                      <a:pt x="37" y="148"/>
                    </a:lnTo>
                    <a:lnTo>
                      <a:pt x="37" y="159"/>
                    </a:lnTo>
                    <a:lnTo>
                      <a:pt x="38" y="171"/>
                    </a:lnTo>
                    <a:lnTo>
                      <a:pt x="35" y="183"/>
                    </a:lnTo>
                    <a:lnTo>
                      <a:pt x="31" y="196"/>
                    </a:lnTo>
                    <a:lnTo>
                      <a:pt x="23" y="210"/>
                    </a:lnTo>
                    <a:lnTo>
                      <a:pt x="15" y="225"/>
                    </a:lnTo>
                    <a:lnTo>
                      <a:pt x="983" y="109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6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36120" y="592920"/>
                <a:ext cx="148680" cy="41040"/>
              </a:xfrm>
              <a:custGeom>
                <a:avLst/>
                <a:gdLst/>
                <a:ahLst/>
                <a:rect l="l" t="t" r="r" b="b"/>
                <a:pathLst>
                  <a:path w="531" h="148">
                    <a:moveTo>
                      <a:pt x="0" y="26"/>
                    </a:moveTo>
                    <a:lnTo>
                      <a:pt x="492" y="0"/>
                    </a:lnTo>
                    <a:lnTo>
                      <a:pt x="531" y="113"/>
                    </a:lnTo>
                    <a:lnTo>
                      <a:pt x="151" y="1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92720" y="416160"/>
                <a:ext cx="203400" cy="330840"/>
              </a:xfrm>
              <a:custGeom>
                <a:avLst/>
                <a:gdLst/>
                <a:ahLst/>
                <a:rect l="l" t="t" r="r" b="b"/>
                <a:pathLst>
                  <a:path w="730" h="1183">
                    <a:moveTo>
                      <a:pt x="192" y="470"/>
                    </a:moveTo>
                    <a:lnTo>
                      <a:pt x="192" y="464"/>
                    </a:lnTo>
                    <a:lnTo>
                      <a:pt x="194" y="448"/>
                    </a:lnTo>
                    <a:lnTo>
                      <a:pt x="194" y="437"/>
                    </a:lnTo>
                    <a:lnTo>
                      <a:pt x="198" y="427"/>
                    </a:lnTo>
                    <a:lnTo>
                      <a:pt x="204" y="415"/>
                    </a:lnTo>
                    <a:lnTo>
                      <a:pt x="210" y="406"/>
                    </a:lnTo>
                    <a:lnTo>
                      <a:pt x="214" y="390"/>
                    </a:lnTo>
                    <a:lnTo>
                      <a:pt x="221" y="378"/>
                    </a:lnTo>
                    <a:lnTo>
                      <a:pt x="229" y="365"/>
                    </a:lnTo>
                    <a:lnTo>
                      <a:pt x="241" y="353"/>
                    </a:lnTo>
                    <a:lnTo>
                      <a:pt x="250" y="340"/>
                    </a:lnTo>
                    <a:lnTo>
                      <a:pt x="264" y="330"/>
                    </a:lnTo>
                    <a:lnTo>
                      <a:pt x="280" y="318"/>
                    </a:lnTo>
                    <a:lnTo>
                      <a:pt x="297" y="312"/>
                    </a:lnTo>
                    <a:lnTo>
                      <a:pt x="295" y="309"/>
                    </a:lnTo>
                    <a:lnTo>
                      <a:pt x="293" y="299"/>
                    </a:lnTo>
                    <a:lnTo>
                      <a:pt x="291" y="281"/>
                    </a:lnTo>
                    <a:lnTo>
                      <a:pt x="289" y="264"/>
                    </a:lnTo>
                    <a:lnTo>
                      <a:pt x="285" y="250"/>
                    </a:lnTo>
                    <a:lnTo>
                      <a:pt x="283" y="239"/>
                    </a:lnTo>
                    <a:lnTo>
                      <a:pt x="282" y="225"/>
                    </a:lnTo>
                    <a:lnTo>
                      <a:pt x="282" y="214"/>
                    </a:lnTo>
                    <a:lnTo>
                      <a:pt x="280" y="198"/>
                    </a:lnTo>
                    <a:lnTo>
                      <a:pt x="278" y="184"/>
                    </a:lnTo>
                    <a:lnTo>
                      <a:pt x="276" y="171"/>
                    </a:lnTo>
                    <a:lnTo>
                      <a:pt x="276" y="157"/>
                    </a:lnTo>
                    <a:lnTo>
                      <a:pt x="274" y="142"/>
                    </a:lnTo>
                    <a:lnTo>
                      <a:pt x="272" y="128"/>
                    </a:lnTo>
                    <a:lnTo>
                      <a:pt x="270" y="113"/>
                    </a:lnTo>
                    <a:lnTo>
                      <a:pt x="270" y="99"/>
                    </a:lnTo>
                    <a:lnTo>
                      <a:pt x="270" y="86"/>
                    </a:lnTo>
                    <a:lnTo>
                      <a:pt x="270" y="72"/>
                    </a:lnTo>
                    <a:lnTo>
                      <a:pt x="270" y="60"/>
                    </a:lnTo>
                    <a:lnTo>
                      <a:pt x="270" y="51"/>
                    </a:lnTo>
                    <a:lnTo>
                      <a:pt x="270" y="39"/>
                    </a:lnTo>
                    <a:lnTo>
                      <a:pt x="270" y="29"/>
                    </a:lnTo>
                    <a:lnTo>
                      <a:pt x="272" y="20"/>
                    </a:lnTo>
                    <a:lnTo>
                      <a:pt x="274" y="14"/>
                    </a:lnTo>
                    <a:lnTo>
                      <a:pt x="278" y="4"/>
                    </a:lnTo>
                    <a:lnTo>
                      <a:pt x="285" y="2"/>
                    </a:lnTo>
                    <a:lnTo>
                      <a:pt x="293" y="0"/>
                    </a:lnTo>
                    <a:lnTo>
                      <a:pt x="309" y="2"/>
                    </a:lnTo>
                    <a:lnTo>
                      <a:pt x="316" y="2"/>
                    </a:lnTo>
                    <a:lnTo>
                      <a:pt x="328" y="4"/>
                    </a:lnTo>
                    <a:lnTo>
                      <a:pt x="340" y="6"/>
                    </a:lnTo>
                    <a:lnTo>
                      <a:pt x="353" y="10"/>
                    </a:lnTo>
                    <a:lnTo>
                      <a:pt x="365" y="10"/>
                    </a:lnTo>
                    <a:lnTo>
                      <a:pt x="380" y="14"/>
                    </a:lnTo>
                    <a:lnTo>
                      <a:pt x="394" y="18"/>
                    </a:lnTo>
                    <a:lnTo>
                      <a:pt x="410" y="24"/>
                    </a:lnTo>
                    <a:lnTo>
                      <a:pt x="425" y="29"/>
                    </a:lnTo>
                    <a:lnTo>
                      <a:pt x="441" y="35"/>
                    </a:lnTo>
                    <a:lnTo>
                      <a:pt x="456" y="43"/>
                    </a:lnTo>
                    <a:lnTo>
                      <a:pt x="474" y="53"/>
                    </a:lnTo>
                    <a:lnTo>
                      <a:pt x="487" y="60"/>
                    </a:lnTo>
                    <a:lnTo>
                      <a:pt x="503" y="70"/>
                    </a:lnTo>
                    <a:lnTo>
                      <a:pt x="518" y="82"/>
                    </a:lnTo>
                    <a:lnTo>
                      <a:pt x="534" y="93"/>
                    </a:lnTo>
                    <a:lnTo>
                      <a:pt x="547" y="105"/>
                    </a:lnTo>
                    <a:lnTo>
                      <a:pt x="563" y="120"/>
                    </a:lnTo>
                    <a:lnTo>
                      <a:pt x="576" y="136"/>
                    </a:lnTo>
                    <a:lnTo>
                      <a:pt x="590" y="153"/>
                    </a:lnTo>
                    <a:lnTo>
                      <a:pt x="602" y="169"/>
                    </a:lnTo>
                    <a:lnTo>
                      <a:pt x="613" y="188"/>
                    </a:lnTo>
                    <a:lnTo>
                      <a:pt x="617" y="196"/>
                    </a:lnTo>
                    <a:lnTo>
                      <a:pt x="623" y="206"/>
                    </a:lnTo>
                    <a:lnTo>
                      <a:pt x="627" y="217"/>
                    </a:lnTo>
                    <a:lnTo>
                      <a:pt x="633" y="229"/>
                    </a:lnTo>
                    <a:lnTo>
                      <a:pt x="634" y="241"/>
                    </a:lnTo>
                    <a:lnTo>
                      <a:pt x="638" y="252"/>
                    </a:lnTo>
                    <a:lnTo>
                      <a:pt x="642" y="264"/>
                    </a:lnTo>
                    <a:lnTo>
                      <a:pt x="646" y="276"/>
                    </a:lnTo>
                    <a:lnTo>
                      <a:pt x="648" y="287"/>
                    </a:lnTo>
                    <a:lnTo>
                      <a:pt x="650" y="301"/>
                    </a:lnTo>
                    <a:lnTo>
                      <a:pt x="652" y="314"/>
                    </a:lnTo>
                    <a:lnTo>
                      <a:pt x="656" y="330"/>
                    </a:lnTo>
                    <a:lnTo>
                      <a:pt x="567" y="423"/>
                    </a:lnTo>
                    <a:lnTo>
                      <a:pt x="570" y="427"/>
                    </a:lnTo>
                    <a:lnTo>
                      <a:pt x="574" y="433"/>
                    </a:lnTo>
                    <a:lnTo>
                      <a:pt x="580" y="444"/>
                    </a:lnTo>
                    <a:lnTo>
                      <a:pt x="586" y="454"/>
                    </a:lnTo>
                    <a:lnTo>
                      <a:pt x="596" y="470"/>
                    </a:lnTo>
                    <a:lnTo>
                      <a:pt x="600" y="477"/>
                    </a:lnTo>
                    <a:lnTo>
                      <a:pt x="603" y="487"/>
                    </a:lnTo>
                    <a:lnTo>
                      <a:pt x="607" y="497"/>
                    </a:lnTo>
                    <a:lnTo>
                      <a:pt x="613" y="508"/>
                    </a:lnTo>
                    <a:lnTo>
                      <a:pt x="615" y="518"/>
                    </a:lnTo>
                    <a:lnTo>
                      <a:pt x="619" y="528"/>
                    </a:lnTo>
                    <a:lnTo>
                      <a:pt x="623" y="539"/>
                    </a:lnTo>
                    <a:lnTo>
                      <a:pt x="627" y="553"/>
                    </a:lnTo>
                    <a:lnTo>
                      <a:pt x="629" y="565"/>
                    </a:lnTo>
                    <a:lnTo>
                      <a:pt x="633" y="578"/>
                    </a:lnTo>
                    <a:lnTo>
                      <a:pt x="634" y="592"/>
                    </a:lnTo>
                    <a:lnTo>
                      <a:pt x="638" y="607"/>
                    </a:lnTo>
                    <a:lnTo>
                      <a:pt x="638" y="621"/>
                    </a:lnTo>
                    <a:lnTo>
                      <a:pt x="638" y="636"/>
                    </a:lnTo>
                    <a:lnTo>
                      <a:pt x="638" y="652"/>
                    </a:lnTo>
                    <a:lnTo>
                      <a:pt x="640" y="669"/>
                    </a:lnTo>
                    <a:lnTo>
                      <a:pt x="638" y="685"/>
                    </a:lnTo>
                    <a:lnTo>
                      <a:pt x="638" y="702"/>
                    </a:lnTo>
                    <a:lnTo>
                      <a:pt x="636" y="722"/>
                    </a:lnTo>
                    <a:lnTo>
                      <a:pt x="634" y="741"/>
                    </a:lnTo>
                    <a:lnTo>
                      <a:pt x="631" y="755"/>
                    </a:lnTo>
                    <a:lnTo>
                      <a:pt x="629" y="768"/>
                    </a:lnTo>
                    <a:lnTo>
                      <a:pt x="625" y="778"/>
                    </a:lnTo>
                    <a:lnTo>
                      <a:pt x="625" y="790"/>
                    </a:lnTo>
                    <a:lnTo>
                      <a:pt x="623" y="807"/>
                    </a:lnTo>
                    <a:lnTo>
                      <a:pt x="625" y="821"/>
                    </a:lnTo>
                    <a:lnTo>
                      <a:pt x="625" y="828"/>
                    </a:lnTo>
                    <a:lnTo>
                      <a:pt x="631" y="836"/>
                    </a:lnTo>
                    <a:lnTo>
                      <a:pt x="634" y="838"/>
                    </a:lnTo>
                    <a:lnTo>
                      <a:pt x="642" y="840"/>
                    </a:lnTo>
                    <a:lnTo>
                      <a:pt x="654" y="836"/>
                    </a:lnTo>
                    <a:lnTo>
                      <a:pt x="671" y="834"/>
                    </a:lnTo>
                    <a:lnTo>
                      <a:pt x="689" y="836"/>
                    </a:lnTo>
                    <a:lnTo>
                      <a:pt x="710" y="848"/>
                    </a:lnTo>
                    <a:lnTo>
                      <a:pt x="716" y="857"/>
                    </a:lnTo>
                    <a:lnTo>
                      <a:pt x="724" y="873"/>
                    </a:lnTo>
                    <a:lnTo>
                      <a:pt x="726" y="881"/>
                    </a:lnTo>
                    <a:lnTo>
                      <a:pt x="728" y="890"/>
                    </a:lnTo>
                    <a:lnTo>
                      <a:pt x="728" y="902"/>
                    </a:lnTo>
                    <a:lnTo>
                      <a:pt x="730" y="916"/>
                    </a:lnTo>
                    <a:lnTo>
                      <a:pt x="728" y="927"/>
                    </a:lnTo>
                    <a:lnTo>
                      <a:pt x="728" y="939"/>
                    </a:lnTo>
                    <a:lnTo>
                      <a:pt x="726" y="952"/>
                    </a:lnTo>
                    <a:lnTo>
                      <a:pt x="724" y="966"/>
                    </a:lnTo>
                    <a:lnTo>
                      <a:pt x="720" y="980"/>
                    </a:lnTo>
                    <a:lnTo>
                      <a:pt x="716" y="995"/>
                    </a:lnTo>
                    <a:lnTo>
                      <a:pt x="712" y="1009"/>
                    </a:lnTo>
                    <a:lnTo>
                      <a:pt x="708" y="1024"/>
                    </a:lnTo>
                    <a:lnTo>
                      <a:pt x="700" y="1036"/>
                    </a:lnTo>
                    <a:lnTo>
                      <a:pt x="695" y="1051"/>
                    </a:lnTo>
                    <a:lnTo>
                      <a:pt x="687" y="1063"/>
                    </a:lnTo>
                    <a:lnTo>
                      <a:pt x="681" y="1078"/>
                    </a:lnTo>
                    <a:lnTo>
                      <a:pt x="671" y="1090"/>
                    </a:lnTo>
                    <a:lnTo>
                      <a:pt x="662" y="1102"/>
                    </a:lnTo>
                    <a:lnTo>
                      <a:pt x="652" y="1113"/>
                    </a:lnTo>
                    <a:lnTo>
                      <a:pt x="642" y="1127"/>
                    </a:lnTo>
                    <a:lnTo>
                      <a:pt x="629" y="1137"/>
                    </a:lnTo>
                    <a:lnTo>
                      <a:pt x="617" y="1146"/>
                    </a:lnTo>
                    <a:lnTo>
                      <a:pt x="603" y="1154"/>
                    </a:lnTo>
                    <a:lnTo>
                      <a:pt x="590" y="1164"/>
                    </a:lnTo>
                    <a:lnTo>
                      <a:pt x="574" y="1170"/>
                    </a:lnTo>
                    <a:lnTo>
                      <a:pt x="559" y="1175"/>
                    </a:lnTo>
                    <a:lnTo>
                      <a:pt x="541" y="1179"/>
                    </a:lnTo>
                    <a:lnTo>
                      <a:pt x="526" y="1183"/>
                    </a:lnTo>
                    <a:lnTo>
                      <a:pt x="508" y="1183"/>
                    </a:lnTo>
                    <a:lnTo>
                      <a:pt x="497" y="1183"/>
                    </a:lnTo>
                    <a:lnTo>
                      <a:pt x="485" y="1183"/>
                    </a:lnTo>
                    <a:lnTo>
                      <a:pt x="475" y="1183"/>
                    </a:lnTo>
                    <a:lnTo>
                      <a:pt x="458" y="1179"/>
                    </a:lnTo>
                    <a:lnTo>
                      <a:pt x="448" y="1175"/>
                    </a:lnTo>
                    <a:lnTo>
                      <a:pt x="441" y="1166"/>
                    </a:lnTo>
                    <a:lnTo>
                      <a:pt x="435" y="1156"/>
                    </a:lnTo>
                    <a:lnTo>
                      <a:pt x="433" y="1144"/>
                    </a:lnTo>
                    <a:lnTo>
                      <a:pt x="435" y="1131"/>
                    </a:lnTo>
                    <a:lnTo>
                      <a:pt x="435" y="1111"/>
                    </a:lnTo>
                    <a:lnTo>
                      <a:pt x="437" y="1094"/>
                    </a:lnTo>
                    <a:lnTo>
                      <a:pt x="437" y="1082"/>
                    </a:lnTo>
                    <a:lnTo>
                      <a:pt x="437" y="1071"/>
                    </a:lnTo>
                    <a:lnTo>
                      <a:pt x="437" y="1059"/>
                    </a:lnTo>
                    <a:lnTo>
                      <a:pt x="439" y="1049"/>
                    </a:lnTo>
                    <a:lnTo>
                      <a:pt x="437" y="1036"/>
                    </a:lnTo>
                    <a:lnTo>
                      <a:pt x="437" y="1022"/>
                    </a:lnTo>
                    <a:lnTo>
                      <a:pt x="437" y="1007"/>
                    </a:lnTo>
                    <a:lnTo>
                      <a:pt x="437" y="993"/>
                    </a:lnTo>
                    <a:lnTo>
                      <a:pt x="435" y="978"/>
                    </a:lnTo>
                    <a:lnTo>
                      <a:pt x="433" y="962"/>
                    </a:lnTo>
                    <a:lnTo>
                      <a:pt x="431" y="947"/>
                    </a:lnTo>
                    <a:lnTo>
                      <a:pt x="429" y="931"/>
                    </a:lnTo>
                    <a:lnTo>
                      <a:pt x="425" y="929"/>
                    </a:lnTo>
                    <a:lnTo>
                      <a:pt x="415" y="929"/>
                    </a:lnTo>
                    <a:lnTo>
                      <a:pt x="400" y="927"/>
                    </a:lnTo>
                    <a:lnTo>
                      <a:pt x="382" y="923"/>
                    </a:lnTo>
                    <a:lnTo>
                      <a:pt x="371" y="917"/>
                    </a:lnTo>
                    <a:lnTo>
                      <a:pt x="359" y="912"/>
                    </a:lnTo>
                    <a:lnTo>
                      <a:pt x="347" y="904"/>
                    </a:lnTo>
                    <a:lnTo>
                      <a:pt x="336" y="898"/>
                    </a:lnTo>
                    <a:lnTo>
                      <a:pt x="324" y="886"/>
                    </a:lnTo>
                    <a:lnTo>
                      <a:pt x="313" y="875"/>
                    </a:lnTo>
                    <a:lnTo>
                      <a:pt x="301" y="861"/>
                    </a:lnTo>
                    <a:lnTo>
                      <a:pt x="289" y="848"/>
                    </a:lnTo>
                    <a:lnTo>
                      <a:pt x="287" y="844"/>
                    </a:lnTo>
                    <a:lnTo>
                      <a:pt x="283" y="840"/>
                    </a:lnTo>
                    <a:lnTo>
                      <a:pt x="276" y="836"/>
                    </a:lnTo>
                    <a:lnTo>
                      <a:pt x="270" y="838"/>
                    </a:lnTo>
                    <a:lnTo>
                      <a:pt x="264" y="842"/>
                    </a:lnTo>
                    <a:lnTo>
                      <a:pt x="260" y="850"/>
                    </a:lnTo>
                    <a:lnTo>
                      <a:pt x="256" y="859"/>
                    </a:lnTo>
                    <a:lnTo>
                      <a:pt x="254" y="877"/>
                    </a:lnTo>
                    <a:lnTo>
                      <a:pt x="250" y="885"/>
                    </a:lnTo>
                    <a:lnTo>
                      <a:pt x="249" y="896"/>
                    </a:lnTo>
                    <a:lnTo>
                      <a:pt x="247" y="906"/>
                    </a:lnTo>
                    <a:lnTo>
                      <a:pt x="245" y="921"/>
                    </a:lnTo>
                    <a:lnTo>
                      <a:pt x="243" y="933"/>
                    </a:lnTo>
                    <a:lnTo>
                      <a:pt x="241" y="950"/>
                    </a:lnTo>
                    <a:lnTo>
                      <a:pt x="239" y="968"/>
                    </a:lnTo>
                    <a:lnTo>
                      <a:pt x="239" y="989"/>
                    </a:lnTo>
                    <a:lnTo>
                      <a:pt x="233" y="995"/>
                    </a:lnTo>
                    <a:lnTo>
                      <a:pt x="225" y="997"/>
                    </a:lnTo>
                    <a:lnTo>
                      <a:pt x="210" y="995"/>
                    </a:lnTo>
                    <a:lnTo>
                      <a:pt x="194" y="989"/>
                    </a:lnTo>
                    <a:lnTo>
                      <a:pt x="183" y="983"/>
                    </a:lnTo>
                    <a:lnTo>
                      <a:pt x="173" y="978"/>
                    </a:lnTo>
                    <a:lnTo>
                      <a:pt x="161" y="968"/>
                    </a:lnTo>
                    <a:lnTo>
                      <a:pt x="152" y="960"/>
                    </a:lnTo>
                    <a:lnTo>
                      <a:pt x="140" y="949"/>
                    </a:lnTo>
                    <a:lnTo>
                      <a:pt x="128" y="939"/>
                    </a:lnTo>
                    <a:lnTo>
                      <a:pt x="117" y="925"/>
                    </a:lnTo>
                    <a:lnTo>
                      <a:pt x="107" y="914"/>
                    </a:lnTo>
                    <a:lnTo>
                      <a:pt x="95" y="896"/>
                    </a:lnTo>
                    <a:lnTo>
                      <a:pt x="84" y="879"/>
                    </a:lnTo>
                    <a:lnTo>
                      <a:pt x="72" y="859"/>
                    </a:lnTo>
                    <a:lnTo>
                      <a:pt x="62" y="842"/>
                    </a:lnTo>
                    <a:lnTo>
                      <a:pt x="57" y="830"/>
                    </a:lnTo>
                    <a:lnTo>
                      <a:pt x="51" y="819"/>
                    </a:lnTo>
                    <a:lnTo>
                      <a:pt x="47" y="807"/>
                    </a:lnTo>
                    <a:lnTo>
                      <a:pt x="43" y="797"/>
                    </a:lnTo>
                    <a:lnTo>
                      <a:pt x="37" y="786"/>
                    </a:lnTo>
                    <a:lnTo>
                      <a:pt x="33" y="774"/>
                    </a:lnTo>
                    <a:lnTo>
                      <a:pt x="29" y="762"/>
                    </a:lnTo>
                    <a:lnTo>
                      <a:pt x="27" y="751"/>
                    </a:lnTo>
                    <a:lnTo>
                      <a:pt x="22" y="735"/>
                    </a:lnTo>
                    <a:lnTo>
                      <a:pt x="18" y="722"/>
                    </a:lnTo>
                    <a:lnTo>
                      <a:pt x="14" y="708"/>
                    </a:lnTo>
                    <a:lnTo>
                      <a:pt x="12" y="694"/>
                    </a:lnTo>
                    <a:lnTo>
                      <a:pt x="8" y="679"/>
                    </a:lnTo>
                    <a:lnTo>
                      <a:pt x="6" y="663"/>
                    </a:lnTo>
                    <a:lnTo>
                      <a:pt x="4" y="648"/>
                    </a:lnTo>
                    <a:lnTo>
                      <a:pt x="4" y="634"/>
                    </a:lnTo>
                    <a:lnTo>
                      <a:pt x="2" y="617"/>
                    </a:lnTo>
                    <a:lnTo>
                      <a:pt x="0" y="599"/>
                    </a:lnTo>
                    <a:lnTo>
                      <a:pt x="0" y="582"/>
                    </a:lnTo>
                    <a:lnTo>
                      <a:pt x="0" y="566"/>
                    </a:lnTo>
                    <a:lnTo>
                      <a:pt x="0" y="547"/>
                    </a:lnTo>
                    <a:lnTo>
                      <a:pt x="0" y="530"/>
                    </a:lnTo>
                    <a:lnTo>
                      <a:pt x="2" y="512"/>
                    </a:lnTo>
                    <a:lnTo>
                      <a:pt x="6" y="495"/>
                    </a:lnTo>
                    <a:lnTo>
                      <a:pt x="6" y="483"/>
                    </a:lnTo>
                    <a:lnTo>
                      <a:pt x="6" y="471"/>
                    </a:lnTo>
                    <a:lnTo>
                      <a:pt x="8" y="462"/>
                    </a:lnTo>
                    <a:lnTo>
                      <a:pt x="10" y="454"/>
                    </a:lnTo>
                    <a:lnTo>
                      <a:pt x="12" y="437"/>
                    </a:lnTo>
                    <a:lnTo>
                      <a:pt x="18" y="425"/>
                    </a:lnTo>
                    <a:lnTo>
                      <a:pt x="22" y="411"/>
                    </a:lnTo>
                    <a:lnTo>
                      <a:pt x="27" y="402"/>
                    </a:lnTo>
                    <a:lnTo>
                      <a:pt x="35" y="394"/>
                    </a:lnTo>
                    <a:lnTo>
                      <a:pt x="43" y="390"/>
                    </a:lnTo>
                    <a:lnTo>
                      <a:pt x="55" y="382"/>
                    </a:lnTo>
                    <a:lnTo>
                      <a:pt x="72" y="382"/>
                    </a:lnTo>
                    <a:lnTo>
                      <a:pt x="88" y="384"/>
                    </a:lnTo>
                    <a:lnTo>
                      <a:pt x="105" y="394"/>
                    </a:lnTo>
                    <a:lnTo>
                      <a:pt x="121" y="402"/>
                    </a:lnTo>
                    <a:lnTo>
                      <a:pt x="136" y="413"/>
                    </a:lnTo>
                    <a:lnTo>
                      <a:pt x="150" y="427"/>
                    </a:lnTo>
                    <a:lnTo>
                      <a:pt x="165" y="440"/>
                    </a:lnTo>
                    <a:lnTo>
                      <a:pt x="175" y="450"/>
                    </a:lnTo>
                    <a:lnTo>
                      <a:pt x="185" y="460"/>
                    </a:lnTo>
                    <a:lnTo>
                      <a:pt x="188" y="466"/>
                    </a:lnTo>
                    <a:lnTo>
                      <a:pt x="192" y="4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09720" y="552600"/>
                <a:ext cx="32400" cy="80280"/>
              </a:xfrm>
              <a:custGeom>
                <a:avLst/>
                <a:gdLst/>
                <a:ahLst/>
                <a:rect l="l" t="t" r="r" b="b"/>
                <a:pathLst>
                  <a:path w="117" h="287">
                    <a:moveTo>
                      <a:pt x="117" y="138"/>
                    </a:moveTo>
                    <a:lnTo>
                      <a:pt x="117" y="151"/>
                    </a:lnTo>
                    <a:lnTo>
                      <a:pt x="117" y="165"/>
                    </a:lnTo>
                    <a:lnTo>
                      <a:pt x="117" y="178"/>
                    </a:lnTo>
                    <a:lnTo>
                      <a:pt x="117" y="192"/>
                    </a:lnTo>
                    <a:lnTo>
                      <a:pt x="115" y="204"/>
                    </a:lnTo>
                    <a:lnTo>
                      <a:pt x="113" y="217"/>
                    </a:lnTo>
                    <a:lnTo>
                      <a:pt x="111" y="229"/>
                    </a:lnTo>
                    <a:lnTo>
                      <a:pt x="111" y="240"/>
                    </a:lnTo>
                    <a:lnTo>
                      <a:pt x="103" y="258"/>
                    </a:lnTo>
                    <a:lnTo>
                      <a:pt x="95" y="271"/>
                    </a:lnTo>
                    <a:lnTo>
                      <a:pt x="86" y="281"/>
                    </a:lnTo>
                    <a:lnTo>
                      <a:pt x="76" y="287"/>
                    </a:lnTo>
                    <a:lnTo>
                      <a:pt x="62" y="283"/>
                    </a:lnTo>
                    <a:lnTo>
                      <a:pt x="51" y="277"/>
                    </a:lnTo>
                    <a:lnTo>
                      <a:pt x="39" y="264"/>
                    </a:lnTo>
                    <a:lnTo>
                      <a:pt x="31" y="248"/>
                    </a:lnTo>
                    <a:lnTo>
                      <a:pt x="25" y="237"/>
                    </a:lnTo>
                    <a:lnTo>
                      <a:pt x="20" y="225"/>
                    </a:lnTo>
                    <a:lnTo>
                      <a:pt x="16" y="213"/>
                    </a:lnTo>
                    <a:lnTo>
                      <a:pt x="14" y="204"/>
                    </a:lnTo>
                    <a:lnTo>
                      <a:pt x="8" y="190"/>
                    </a:lnTo>
                    <a:lnTo>
                      <a:pt x="6" y="176"/>
                    </a:lnTo>
                    <a:lnTo>
                      <a:pt x="4" y="163"/>
                    </a:lnTo>
                    <a:lnTo>
                      <a:pt x="4" y="149"/>
                    </a:lnTo>
                    <a:lnTo>
                      <a:pt x="0" y="132"/>
                    </a:lnTo>
                    <a:lnTo>
                      <a:pt x="0" y="118"/>
                    </a:lnTo>
                    <a:lnTo>
                      <a:pt x="0" y="103"/>
                    </a:lnTo>
                    <a:lnTo>
                      <a:pt x="0" y="91"/>
                    </a:lnTo>
                    <a:lnTo>
                      <a:pt x="0" y="77"/>
                    </a:lnTo>
                    <a:lnTo>
                      <a:pt x="2" y="66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4" y="25"/>
                    </a:lnTo>
                    <a:lnTo>
                      <a:pt x="23" y="12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8"/>
                    </a:lnTo>
                    <a:lnTo>
                      <a:pt x="76" y="19"/>
                    </a:lnTo>
                    <a:lnTo>
                      <a:pt x="87" y="37"/>
                    </a:lnTo>
                    <a:lnTo>
                      <a:pt x="91" y="45"/>
                    </a:lnTo>
                    <a:lnTo>
                      <a:pt x="95" y="56"/>
                    </a:lnTo>
                    <a:lnTo>
                      <a:pt x="99" y="68"/>
                    </a:lnTo>
                    <a:lnTo>
                      <a:pt x="105" y="81"/>
                    </a:lnTo>
                    <a:lnTo>
                      <a:pt x="107" y="93"/>
                    </a:lnTo>
                    <a:lnTo>
                      <a:pt x="111" y="107"/>
                    </a:lnTo>
                    <a:lnTo>
                      <a:pt x="113" y="120"/>
                    </a:lnTo>
                    <a:lnTo>
                      <a:pt x="117" y="138"/>
                    </a:lnTo>
                    <a:close/>
                  </a:path>
                </a:pathLst>
              </a:custGeom>
              <a:solidFill>
                <a:srgbClr val="a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11120" y="-43560"/>
                <a:ext cx="143640" cy="270000"/>
              </a:xfrm>
              <a:custGeom>
                <a:avLst/>
                <a:gdLst/>
                <a:ahLst/>
                <a:rect l="l" t="t" r="r" b="b"/>
                <a:pathLst>
                  <a:path w="514" h="966">
                    <a:moveTo>
                      <a:pt x="0" y="0"/>
                    </a:moveTo>
                    <a:lnTo>
                      <a:pt x="0" y="2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2" y="39"/>
                    </a:lnTo>
                    <a:lnTo>
                      <a:pt x="2" y="46"/>
                    </a:lnTo>
                    <a:lnTo>
                      <a:pt x="2" y="56"/>
                    </a:lnTo>
                    <a:lnTo>
                      <a:pt x="4" y="68"/>
                    </a:lnTo>
                    <a:lnTo>
                      <a:pt x="6" y="81"/>
                    </a:lnTo>
                    <a:lnTo>
                      <a:pt x="6" y="93"/>
                    </a:lnTo>
                    <a:lnTo>
                      <a:pt x="8" y="108"/>
                    </a:lnTo>
                    <a:lnTo>
                      <a:pt x="10" y="124"/>
                    </a:lnTo>
                    <a:lnTo>
                      <a:pt x="12" y="141"/>
                    </a:lnTo>
                    <a:lnTo>
                      <a:pt x="12" y="157"/>
                    </a:lnTo>
                    <a:lnTo>
                      <a:pt x="13" y="172"/>
                    </a:lnTo>
                    <a:lnTo>
                      <a:pt x="15" y="190"/>
                    </a:lnTo>
                    <a:lnTo>
                      <a:pt x="17" y="209"/>
                    </a:lnTo>
                    <a:lnTo>
                      <a:pt x="17" y="227"/>
                    </a:lnTo>
                    <a:lnTo>
                      <a:pt x="19" y="246"/>
                    </a:lnTo>
                    <a:lnTo>
                      <a:pt x="21" y="265"/>
                    </a:lnTo>
                    <a:lnTo>
                      <a:pt x="25" y="287"/>
                    </a:lnTo>
                    <a:lnTo>
                      <a:pt x="25" y="306"/>
                    </a:lnTo>
                    <a:lnTo>
                      <a:pt x="29" y="328"/>
                    </a:lnTo>
                    <a:lnTo>
                      <a:pt x="29" y="347"/>
                    </a:lnTo>
                    <a:lnTo>
                      <a:pt x="33" y="370"/>
                    </a:lnTo>
                    <a:lnTo>
                      <a:pt x="35" y="392"/>
                    </a:lnTo>
                    <a:lnTo>
                      <a:pt x="37" y="413"/>
                    </a:lnTo>
                    <a:lnTo>
                      <a:pt x="39" y="434"/>
                    </a:lnTo>
                    <a:lnTo>
                      <a:pt x="43" y="457"/>
                    </a:lnTo>
                    <a:lnTo>
                      <a:pt x="43" y="477"/>
                    </a:lnTo>
                    <a:lnTo>
                      <a:pt x="46" y="498"/>
                    </a:lnTo>
                    <a:lnTo>
                      <a:pt x="46" y="520"/>
                    </a:lnTo>
                    <a:lnTo>
                      <a:pt x="50" y="543"/>
                    </a:lnTo>
                    <a:lnTo>
                      <a:pt x="50" y="562"/>
                    </a:lnTo>
                    <a:lnTo>
                      <a:pt x="54" y="584"/>
                    </a:lnTo>
                    <a:lnTo>
                      <a:pt x="54" y="605"/>
                    </a:lnTo>
                    <a:lnTo>
                      <a:pt x="58" y="628"/>
                    </a:lnTo>
                    <a:lnTo>
                      <a:pt x="58" y="648"/>
                    </a:lnTo>
                    <a:lnTo>
                      <a:pt x="62" y="667"/>
                    </a:lnTo>
                    <a:lnTo>
                      <a:pt x="62" y="686"/>
                    </a:lnTo>
                    <a:lnTo>
                      <a:pt x="66" y="708"/>
                    </a:lnTo>
                    <a:lnTo>
                      <a:pt x="68" y="725"/>
                    </a:lnTo>
                    <a:lnTo>
                      <a:pt x="70" y="744"/>
                    </a:lnTo>
                    <a:lnTo>
                      <a:pt x="72" y="762"/>
                    </a:lnTo>
                    <a:lnTo>
                      <a:pt x="76" y="781"/>
                    </a:lnTo>
                    <a:lnTo>
                      <a:pt x="76" y="797"/>
                    </a:lnTo>
                    <a:lnTo>
                      <a:pt x="77" y="814"/>
                    </a:lnTo>
                    <a:lnTo>
                      <a:pt x="79" y="830"/>
                    </a:lnTo>
                    <a:lnTo>
                      <a:pt x="83" y="845"/>
                    </a:lnTo>
                    <a:lnTo>
                      <a:pt x="83" y="859"/>
                    </a:lnTo>
                    <a:lnTo>
                      <a:pt x="85" y="872"/>
                    </a:lnTo>
                    <a:lnTo>
                      <a:pt x="87" y="884"/>
                    </a:lnTo>
                    <a:lnTo>
                      <a:pt x="91" y="898"/>
                    </a:lnTo>
                    <a:lnTo>
                      <a:pt x="91" y="907"/>
                    </a:lnTo>
                    <a:lnTo>
                      <a:pt x="93" y="917"/>
                    </a:lnTo>
                    <a:lnTo>
                      <a:pt x="95" y="925"/>
                    </a:lnTo>
                    <a:lnTo>
                      <a:pt x="97" y="935"/>
                    </a:lnTo>
                    <a:lnTo>
                      <a:pt x="99" y="946"/>
                    </a:lnTo>
                    <a:lnTo>
                      <a:pt x="103" y="956"/>
                    </a:lnTo>
                    <a:lnTo>
                      <a:pt x="109" y="962"/>
                    </a:lnTo>
                    <a:lnTo>
                      <a:pt x="124" y="966"/>
                    </a:lnTo>
                    <a:lnTo>
                      <a:pt x="134" y="966"/>
                    </a:lnTo>
                    <a:lnTo>
                      <a:pt x="145" y="966"/>
                    </a:lnTo>
                    <a:lnTo>
                      <a:pt x="159" y="964"/>
                    </a:lnTo>
                    <a:lnTo>
                      <a:pt x="174" y="964"/>
                    </a:lnTo>
                    <a:lnTo>
                      <a:pt x="188" y="960"/>
                    </a:lnTo>
                    <a:lnTo>
                      <a:pt x="204" y="958"/>
                    </a:lnTo>
                    <a:lnTo>
                      <a:pt x="221" y="954"/>
                    </a:lnTo>
                    <a:lnTo>
                      <a:pt x="238" y="950"/>
                    </a:lnTo>
                    <a:lnTo>
                      <a:pt x="256" y="944"/>
                    </a:lnTo>
                    <a:lnTo>
                      <a:pt x="275" y="940"/>
                    </a:lnTo>
                    <a:lnTo>
                      <a:pt x="295" y="936"/>
                    </a:lnTo>
                    <a:lnTo>
                      <a:pt x="314" y="933"/>
                    </a:lnTo>
                    <a:lnTo>
                      <a:pt x="332" y="927"/>
                    </a:lnTo>
                    <a:lnTo>
                      <a:pt x="349" y="921"/>
                    </a:lnTo>
                    <a:lnTo>
                      <a:pt x="366" y="915"/>
                    </a:lnTo>
                    <a:lnTo>
                      <a:pt x="386" y="911"/>
                    </a:lnTo>
                    <a:lnTo>
                      <a:pt x="401" y="905"/>
                    </a:lnTo>
                    <a:lnTo>
                      <a:pt x="419" y="900"/>
                    </a:lnTo>
                    <a:lnTo>
                      <a:pt x="434" y="894"/>
                    </a:lnTo>
                    <a:lnTo>
                      <a:pt x="452" y="890"/>
                    </a:lnTo>
                    <a:lnTo>
                      <a:pt x="463" y="884"/>
                    </a:lnTo>
                    <a:lnTo>
                      <a:pt x="475" y="880"/>
                    </a:lnTo>
                    <a:lnTo>
                      <a:pt x="485" y="876"/>
                    </a:lnTo>
                    <a:lnTo>
                      <a:pt x="496" y="874"/>
                    </a:lnTo>
                    <a:lnTo>
                      <a:pt x="508" y="871"/>
                    </a:lnTo>
                    <a:lnTo>
                      <a:pt x="514" y="871"/>
                    </a:lnTo>
                    <a:lnTo>
                      <a:pt x="512" y="867"/>
                    </a:lnTo>
                    <a:lnTo>
                      <a:pt x="512" y="863"/>
                    </a:lnTo>
                    <a:lnTo>
                      <a:pt x="508" y="853"/>
                    </a:lnTo>
                    <a:lnTo>
                      <a:pt x="506" y="843"/>
                    </a:lnTo>
                    <a:lnTo>
                      <a:pt x="502" y="828"/>
                    </a:lnTo>
                    <a:lnTo>
                      <a:pt x="498" y="810"/>
                    </a:lnTo>
                    <a:lnTo>
                      <a:pt x="494" y="801"/>
                    </a:lnTo>
                    <a:lnTo>
                      <a:pt x="493" y="791"/>
                    </a:lnTo>
                    <a:lnTo>
                      <a:pt x="491" y="779"/>
                    </a:lnTo>
                    <a:lnTo>
                      <a:pt x="489" y="770"/>
                    </a:lnTo>
                    <a:lnTo>
                      <a:pt x="485" y="756"/>
                    </a:lnTo>
                    <a:lnTo>
                      <a:pt x="481" y="744"/>
                    </a:lnTo>
                    <a:lnTo>
                      <a:pt x="477" y="731"/>
                    </a:lnTo>
                    <a:lnTo>
                      <a:pt x="473" y="717"/>
                    </a:lnTo>
                    <a:lnTo>
                      <a:pt x="467" y="702"/>
                    </a:lnTo>
                    <a:lnTo>
                      <a:pt x="463" y="688"/>
                    </a:lnTo>
                    <a:lnTo>
                      <a:pt x="460" y="675"/>
                    </a:lnTo>
                    <a:lnTo>
                      <a:pt x="456" y="661"/>
                    </a:lnTo>
                    <a:lnTo>
                      <a:pt x="450" y="644"/>
                    </a:lnTo>
                    <a:lnTo>
                      <a:pt x="444" y="628"/>
                    </a:lnTo>
                    <a:lnTo>
                      <a:pt x="438" y="613"/>
                    </a:lnTo>
                    <a:lnTo>
                      <a:pt x="432" y="597"/>
                    </a:lnTo>
                    <a:lnTo>
                      <a:pt x="425" y="580"/>
                    </a:lnTo>
                    <a:lnTo>
                      <a:pt x="419" y="562"/>
                    </a:lnTo>
                    <a:lnTo>
                      <a:pt x="413" y="545"/>
                    </a:lnTo>
                    <a:lnTo>
                      <a:pt x="407" y="529"/>
                    </a:lnTo>
                    <a:lnTo>
                      <a:pt x="397" y="510"/>
                    </a:lnTo>
                    <a:lnTo>
                      <a:pt x="390" y="492"/>
                    </a:lnTo>
                    <a:lnTo>
                      <a:pt x="382" y="475"/>
                    </a:lnTo>
                    <a:lnTo>
                      <a:pt x="374" y="457"/>
                    </a:lnTo>
                    <a:lnTo>
                      <a:pt x="365" y="438"/>
                    </a:lnTo>
                    <a:lnTo>
                      <a:pt x="355" y="421"/>
                    </a:lnTo>
                    <a:lnTo>
                      <a:pt x="345" y="401"/>
                    </a:lnTo>
                    <a:lnTo>
                      <a:pt x="337" y="384"/>
                    </a:lnTo>
                    <a:lnTo>
                      <a:pt x="326" y="364"/>
                    </a:lnTo>
                    <a:lnTo>
                      <a:pt x="316" y="347"/>
                    </a:lnTo>
                    <a:lnTo>
                      <a:pt x="306" y="328"/>
                    </a:lnTo>
                    <a:lnTo>
                      <a:pt x="297" y="310"/>
                    </a:lnTo>
                    <a:lnTo>
                      <a:pt x="285" y="293"/>
                    </a:lnTo>
                    <a:lnTo>
                      <a:pt x="273" y="275"/>
                    </a:lnTo>
                    <a:lnTo>
                      <a:pt x="262" y="258"/>
                    </a:lnTo>
                    <a:lnTo>
                      <a:pt x="250" y="240"/>
                    </a:lnTo>
                    <a:lnTo>
                      <a:pt x="235" y="223"/>
                    </a:lnTo>
                    <a:lnTo>
                      <a:pt x="223" y="205"/>
                    </a:lnTo>
                    <a:lnTo>
                      <a:pt x="207" y="188"/>
                    </a:lnTo>
                    <a:lnTo>
                      <a:pt x="196" y="170"/>
                    </a:lnTo>
                    <a:lnTo>
                      <a:pt x="180" y="153"/>
                    </a:lnTo>
                    <a:lnTo>
                      <a:pt x="165" y="138"/>
                    </a:lnTo>
                    <a:lnTo>
                      <a:pt x="149" y="122"/>
                    </a:lnTo>
                    <a:lnTo>
                      <a:pt x="136" y="108"/>
                    </a:lnTo>
                    <a:lnTo>
                      <a:pt x="118" y="91"/>
                    </a:lnTo>
                    <a:lnTo>
                      <a:pt x="103" y="77"/>
                    </a:lnTo>
                    <a:lnTo>
                      <a:pt x="85" y="62"/>
                    </a:lnTo>
                    <a:lnTo>
                      <a:pt x="70" y="50"/>
                    </a:lnTo>
                    <a:lnTo>
                      <a:pt x="52" y="35"/>
                    </a:lnTo>
                    <a:lnTo>
                      <a:pt x="35" y="23"/>
                    </a:lnTo>
                    <a:lnTo>
                      <a:pt x="1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52440" y="-266400"/>
                <a:ext cx="383760" cy="31320"/>
              </a:xfrm>
              <a:custGeom>
                <a:avLst/>
                <a:gdLst/>
                <a:ahLst/>
                <a:rect l="l" t="t" r="r" b="b"/>
                <a:pathLst>
                  <a:path w="1372" h="110">
                    <a:moveTo>
                      <a:pt x="61" y="54"/>
                    </a:moveTo>
                    <a:lnTo>
                      <a:pt x="53" y="54"/>
                    </a:lnTo>
                    <a:lnTo>
                      <a:pt x="41" y="60"/>
                    </a:lnTo>
                    <a:lnTo>
                      <a:pt x="24" y="66"/>
                    </a:lnTo>
                    <a:lnTo>
                      <a:pt x="10" y="75"/>
                    </a:lnTo>
                    <a:lnTo>
                      <a:pt x="0" y="85"/>
                    </a:lnTo>
                    <a:lnTo>
                      <a:pt x="4" y="95"/>
                    </a:lnTo>
                    <a:lnTo>
                      <a:pt x="10" y="99"/>
                    </a:lnTo>
                    <a:lnTo>
                      <a:pt x="24" y="103"/>
                    </a:lnTo>
                    <a:lnTo>
                      <a:pt x="30" y="103"/>
                    </a:lnTo>
                    <a:lnTo>
                      <a:pt x="41" y="106"/>
                    </a:lnTo>
                    <a:lnTo>
                      <a:pt x="51" y="106"/>
                    </a:lnTo>
                    <a:lnTo>
                      <a:pt x="66" y="110"/>
                    </a:lnTo>
                    <a:lnTo>
                      <a:pt x="72" y="108"/>
                    </a:lnTo>
                    <a:lnTo>
                      <a:pt x="80" y="108"/>
                    </a:lnTo>
                    <a:lnTo>
                      <a:pt x="90" y="108"/>
                    </a:lnTo>
                    <a:lnTo>
                      <a:pt x="101" y="108"/>
                    </a:lnTo>
                    <a:lnTo>
                      <a:pt x="111" y="108"/>
                    </a:lnTo>
                    <a:lnTo>
                      <a:pt x="125" y="108"/>
                    </a:lnTo>
                    <a:lnTo>
                      <a:pt x="136" y="108"/>
                    </a:lnTo>
                    <a:lnTo>
                      <a:pt x="154" y="108"/>
                    </a:lnTo>
                    <a:lnTo>
                      <a:pt x="167" y="106"/>
                    </a:lnTo>
                    <a:lnTo>
                      <a:pt x="183" y="106"/>
                    </a:lnTo>
                    <a:lnTo>
                      <a:pt x="200" y="104"/>
                    </a:lnTo>
                    <a:lnTo>
                      <a:pt x="220" y="104"/>
                    </a:lnTo>
                    <a:lnTo>
                      <a:pt x="237" y="103"/>
                    </a:lnTo>
                    <a:lnTo>
                      <a:pt x="256" y="103"/>
                    </a:lnTo>
                    <a:lnTo>
                      <a:pt x="276" y="103"/>
                    </a:lnTo>
                    <a:lnTo>
                      <a:pt x="299" y="103"/>
                    </a:lnTo>
                    <a:lnTo>
                      <a:pt x="319" y="99"/>
                    </a:lnTo>
                    <a:lnTo>
                      <a:pt x="342" y="99"/>
                    </a:lnTo>
                    <a:lnTo>
                      <a:pt x="365" y="95"/>
                    </a:lnTo>
                    <a:lnTo>
                      <a:pt x="388" y="95"/>
                    </a:lnTo>
                    <a:lnTo>
                      <a:pt x="412" y="91"/>
                    </a:lnTo>
                    <a:lnTo>
                      <a:pt x="435" y="91"/>
                    </a:lnTo>
                    <a:lnTo>
                      <a:pt x="460" y="87"/>
                    </a:lnTo>
                    <a:lnTo>
                      <a:pt x="485" y="87"/>
                    </a:lnTo>
                    <a:lnTo>
                      <a:pt x="509" y="83"/>
                    </a:lnTo>
                    <a:lnTo>
                      <a:pt x="536" y="83"/>
                    </a:lnTo>
                    <a:lnTo>
                      <a:pt x="561" y="79"/>
                    </a:lnTo>
                    <a:lnTo>
                      <a:pt x="588" y="79"/>
                    </a:lnTo>
                    <a:lnTo>
                      <a:pt x="613" y="75"/>
                    </a:lnTo>
                    <a:lnTo>
                      <a:pt x="640" y="75"/>
                    </a:lnTo>
                    <a:lnTo>
                      <a:pt x="666" y="71"/>
                    </a:lnTo>
                    <a:lnTo>
                      <a:pt x="695" y="71"/>
                    </a:lnTo>
                    <a:lnTo>
                      <a:pt x="720" y="68"/>
                    </a:lnTo>
                    <a:lnTo>
                      <a:pt x="747" y="66"/>
                    </a:lnTo>
                    <a:lnTo>
                      <a:pt x="772" y="62"/>
                    </a:lnTo>
                    <a:lnTo>
                      <a:pt x="799" y="62"/>
                    </a:lnTo>
                    <a:lnTo>
                      <a:pt x="825" y="58"/>
                    </a:lnTo>
                    <a:lnTo>
                      <a:pt x="852" y="56"/>
                    </a:lnTo>
                    <a:lnTo>
                      <a:pt x="877" y="52"/>
                    </a:lnTo>
                    <a:lnTo>
                      <a:pt x="904" y="52"/>
                    </a:lnTo>
                    <a:lnTo>
                      <a:pt x="929" y="48"/>
                    </a:lnTo>
                    <a:lnTo>
                      <a:pt x="955" y="46"/>
                    </a:lnTo>
                    <a:lnTo>
                      <a:pt x="980" y="42"/>
                    </a:lnTo>
                    <a:lnTo>
                      <a:pt x="1005" y="42"/>
                    </a:lnTo>
                    <a:lnTo>
                      <a:pt x="1028" y="39"/>
                    </a:lnTo>
                    <a:lnTo>
                      <a:pt x="1052" y="37"/>
                    </a:lnTo>
                    <a:lnTo>
                      <a:pt x="1075" y="33"/>
                    </a:lnTo>
                    <a:lnTo>
                      <a:pt x="1100" y="33"/>
                    </a:lnTo>
                    <a:lnTo>
                      <a:pt x="1121" y="29"/>
                    </a:lnTo>
                    <a:lnTo>
                      <a:pt x="1143" y="27"/>
                    </a:lnTo>
                    <a:lnTo>
                      <a:pt x="1164" y="23"/>
                    </a:lnTo>
                    <a:lnTo>
                      <a:pt x="1185" y="21"/>
                    </a:lnTo>
                    <a:lnTo>
                      <a:pt x="1205" y="17"/>
                    </a:lnTo>
                    <a:lnTo>
                      <a:pt x="1224" y="17"/>
                    </a:lnTo>
                    <a:lnTo>
                      <a:pt x="1242" y="13"/>
                    </a:lnTo>
                    <a:lnTo>
                      <a:pt x="1261" y="13"/>
                    </a:lnTo>
                    <a:lnTo>
                      <a:pt x="1277" y="9"/>
                    </a:lnTo>
                    <a:lnTo>
                      <a:pt x="1292" y="7"/>
                    </a:lnTo>
                    <a:lnTo>
                      <a:pt x="1308" y="6"/>
                    </a:lnTo>
                    <a:lnTo>
                      <a:pt x="1323" y="6"/>
                    </a:lnTo>
                    <a:lnTo>
                      <a:pt x="1335" y="4"/>
                    </a:lnTo>
                    <a:lnTo>
                      <a:pt x="1348" y="2"/>
                    </a:lnTo>
                    <a:lnTo>
                      <a:pt x="1360" y="0"/>
                    </a:lnTo>
                    <a:lnTo>
                      <a:pt x="1372" y="0"/>
                    </a:lnTo>
                    <a:lnTo>
                      <a:pt x="61" y="54"/>
                    </a:lnTo>
                    <a:close/>
                  </a:path>
                </a:pathLst>
              </a:custGeom>
              <a:solidFill>
                <a:srgbClr val="f1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058240" y="507960"/>
                <a:ext cx="50040" cy="150120"/>
              </a:xfrm>
              <a:custGeom>
                <a:avLst/>
                <a:gdLst/>
                <a:ahLst/>
                <a:rect l="l" t="t" r="r" b="b"/>
                <a:pathLst>
                  <a:path w="180" h="537">
                    <a:moveTo>
                      <a:pt x="178" y="0"/>
                    </a:moveTo>
                    <a:lnTo>
                      <a:pt x="175" y="0"/>
                    </a:lnTo>
                    <a:lnTo>
                      <a:pt x="171" y="0"/>
                    </a:lnTo>
                    <a:lnTo>
                      <a:pt x="163" y="0"/>
                    </a:lnTo>
                    <a:lnTo>
                      <a:pt x="153" y="4"/>
                    </a:lnTo>
                    <a:lnTo>
                      <a:pt x="140" y="4"/>
                    </a:lnTo>
                    <a:lnTo>
                      <a:pt x="128" y="10"/>
                    </a:lnTo>
                    <a:lnTo>
                      <a:pt x="114" y="15"/>
                    </a:lnTo>
                    <a:lnTo>
                      <a:pt x="101" y="25"/>
                    </a:lnTo>
                    <a:lnTo>
                      <a:pt x="83" y="33"/>
                    </a:lnTo>
                    <a:lnTo>
                      <a:pt x="68" y="47"/>
                    </a:lnTo>
                    <a:lnTo>
                      <a:pt x="52" y="60"/>
                    </a:lnTo>
                    <a:lnTo>
                      <a:pt x="41" y="79"/>
                    </a:lnTo>
                    <a:lnTo>
                      <a:pt x="35" y="87"/>
                    </a:lnTo>
                    <a:lnTo>
                      <a:pt x="29" y="99"/>
                    </a:lnTo>
                    <a:lnTo>
                      <a:pt x="23" y="111"/>
                    </a:lnTo>
                    <a:lnTo>
                      <a:pt x="19" y="122"/>
                    </a:lnTo>
                    <a:lnTo>
                      <a:pt x="14" y="134"/>
                    </a:lnTo>
                    <a:lnTo>
                      <a:pt x="10" y="149"/>
                    </a:lnTo>
                    <a:lnTo>
                      <a:pt x="6" y="165"/>
                    </a:lnTo>
                    <a:lnTo>
                      <a:pt x="6" y="182"/>
                    </a:lnTo>
                    <a:lnTo>
                      <a:pt x="2" y="198"/>
                    </a:lnTo>
                    <a:lnTo>
                      <a:pt x="0" y="213"/>
                    </a:lnTo>
                    <a:lnTo>
                      <a:pt x="0" y="229"/>
                    </a:lnTo>
                    <a:lnTo>
                      <a:pt x="0" y="244"/>
                    </a:lnTo>
                    <a:lnTo>
                      <a:pt x="0" y="260"/>
                    </a:lnTo>
                    <a:lnTo>
                      <a:pt x="2" y="275"/>
                    </a:lnTo>
                    <a:lnTo>
                      <a:pt x="4" y="291"/>
                    </a:lnTo>
                    <a:lnTo>
                      <a:pt x="8" y="308"/>
                    </a:lnTo>
                    <a:lnTo>
                      <a:pt x="8" y="322"/>
                    </a:lnTo>
                    <a:lnTo>
                      <a:pt x="12" y="335"/>
                    </a:lnTo>
                    <a:lnTo>
                      <a:pt x="15" y="349"/>
                    </a:lnTo>
                    <a:lnTo>
                      <a:pt x="21" y="365"/>
                    </a:lnTo>
                    <a:lnTo>
                      <a:pt x="25" y="378"/>
                    </a:lnTo>
                    <a:lnTo>
                      <a:pt x="31" y="392"/>
                    </a:lnTo>
                    <a:lnTo>
                      <a:pt x="37" y="405"/>
                    </a:lnTo>
                    <a:lnTo>
                      <a:pt x="43" y="419"/>
                    </a:lnTo>
                    <a:lnTo>
                      <a:pt x="48" y="429"/>
                    </a:lnTo>
                    <a:lnTo>
                      <a:pt x="54" y="440"/>
                    </a:lnTo>
                    <a:lnTo>
                      <a:pt x="60" y="450"/>
                    </a:lnTo>
                    <a:lnTo>
                      <a:pt x="68" y="462"/>
                    </a:lnTo>
                    <a:lnTo>
                      <a:pt x="81" y="479"/>
                    </a:lnTo>
                    <a:lnTo>
                      <a:pt x="99" y="498"/>
                    </a:lnTo>
                    <a:lnTo>
                      <a:pt x="114" y="512"/>
                    </a:lnTo>
                    <a:lnTo>
                      <a:pt x="132" y="524"/>
                    </a:lnTo>
                    <a:lnTo>
                      <a:pt x="151" y="531"/>
                    </a:lnTo>
                    <a:lnTo>
                      <a:pt x="171" y="537"/>
                    </a:lnTo>
                    <a:lnTo>
                      <a:pt x="167" y="531"/>
                    </a:lnTo>
                    <a:lnTo>
                      <a:pt x="159" y="522"/>
                    </a:lnTo>
                    <a:lnTo>
                      <a:pt x="153" y="514"/>
                    </a:lnTo>
                    <a:lnTo>
                      <a:pt x="147" y="504"/>
                    </a:lnTo>
                    <a:lnTo>
                      <a:pt x="142" y="491"/>
                    </a:lnTo>
                    <a:lnTo>
                      <a:pt x="136" y="479"/>
                    </a:lnTo>
                    <a:lnTo>
                      <a:pt x="128" y="462"/>
                    </a:lnTo>
                    <a:lnTo>
                      <a:pt x="120" y="444"/>
                    </a:lnTo>
                    <a:lnTo>
                      <a:pt x="116" y="432"/>
                    </a:lnTo>
                    <a:lnTo>
                      <a:pt x="114" y="423"/>
                    </a:lnTo>
                    <a:lnTo>
                      <a:pt x="111" y="411"/>
                    </a:lnTo>
                    <a:lnTo>
                      <a:pt x="109" y="401"/>
                    </a:lnTo>
                    <a:lnTo>
                      <a:pt x="105" y="388"/>
                    </a:lnTo>
                    <a:lnTo>
                      <a:pt x="103" y="376"/>
                    </a:lnTo>
                    <a:lnTo>
                      <a:pt x="99" y="363"/>
                    </a:lnTo>
                    <a:lnTo>
                      <a:pt x="99" y="349"/>
                    </a:lnTo>
                    <a:lnTo>
                      <a:pt x="97" y="334"/>
                    </a:lnTo>
                    <a:lnTo>
                      <a:pt x="95" y="318"/>
                    </a:lnTo>
                    <a:lnTo>
                      <a:pt x="95" y="302"/>
                    </a:lnTo>
                    <a:lnTo>
                      <a:pt x="95" y="287"/>
                    </a:lnTo>
                    <a:lnTo>
                      <a:pt x="93" y="271"/>
                    </a:lnTo>
                    <a:lnTo>
                      <a:pt x="93" y="256"/>
                    </a:lnTo>
                    <a:lnTo>
                      <a:pt x="93" y="240"/>
                    </a:lnTo>
                    <a:lnTo>
                      <a:pt x="97" y="227"/>
                    </a:lnTo>
                    <a:lnTo>
                      <a:pt x="97" y="211"/>
                    </a:lnTo>
                    <a:lnTo>
                      <a:pt x="101" y="198"/>
                    </a:lnTo>
                    <a:lnTo>
                      <a:pt x="105" y="184"/>
                    </a:lnTo>
                    <a:lnTo>
                      <a:pt x="111" y="173"/>
                    </a:lnTo>
                    <a:lnTo>
                      <a:pt x="116" y="159"/>
                    </a:lnTo>
                    <a:lnTo>
                      <a:pt x="122" y="145"/>
                    </a:lnTo>
                    <a:lnTo>
                      <a:pt x="128" y="134"/>
                    </a:lnTo>
                    <a:lnTo>
                      <a:pt x="138" y="122"/>
                    </a:lnTo>
                    <a:lnTo>
                      <a:pt x="145" y="111"/>
                    </a:lnTo>
                    <a:lnTo>
                      <a:pt x="155" y="99"/>
                    </a:lnTo>
                    <a:lnTo>
                      <a:pt x="167" y="89"/>
                    </a:lnTo>
                    <a:lnTo>
                      <a:pt x="180" y="81"/>
                    </a:lnTo>
                    <a:lnTo>
                      <a:pt x="178" y="78"/>
                    </a:lnTo>
                    <a:lnTo>
                      <a:pt x="178" y="70"/>
                    </a:lnTo>
                    <a:lnTo>
                      <a:pt x="178" y="58"/>
                    </a:lnTo>
                    <a:lnTo>
                      <a:pt x="178" y="47"/>
                    </a:lnTo>
                    <a:lnTo>
                      <a:pt x="178" y="31"/>
                    </a:lnTo>
                    <a:lnTo>
                      <a:pt x="178" y="17"/>
                    </a:lnTo>
                    <a:lnTo>
                      <a:pt x="178" y="6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83440" y="426600"/>
                <a:ext cx="73800" cy="71640"/>
              </a:xfrm>
              <a:custGeom>
                <a:avLst/>
                <a:gdLst/>
                <a:ahLst/>
                <a:rect l="l" t="t" r="r" b="b"/>
                <a:pathLst>
                  <a:path w="266" h="256">
                    <a:moveTo>
                      <a:pt x="20" y="244"/>
                    </a:moveTo>
                    <a:lnTo>
                      <a:pt x="18" y="241"/>
                    </a:lnTo>
                    <a:lnTo>
                      <a:pt x="18" y="235"/>
                    </a:lnTo>
                    <a:lnTo>
                      <a:pt x="16" y="223"/>
                    </a:lnTo>
                    <a:lnTo>
                      <a:pt x="14" y="210"/>
                    </a:lnTo>
                    <a:lnTo>
                      <a:pt x="10" y="190"/>
                    </a:lnTo>
                    <a:lnTo>
                      <a:pt x="10" y="173"/>
                    </a:lnTo>
                    <a:lnTo>
                      <a:pt x="6" y="151"/>
                    </a:lnTo>
                    <a:lnTo>
                      <a:pt x="6" y="132"/>
                    </a:lnTo>
                    <a:lnTo>
                      <a:pt x="4" y="120"/>
                    </a:lnTo>
                    <a:lnTo>
                      <a:pt x="4" y="109"/>
                    </a:lnTo>
                    <a:lnTo>
                      <a:pt x="2" y="97"/>
                    </a:lnTo>
                    <a:lnTo>
                      <a:pt x="2" y="87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0" y="33"/>
                    </a:lnTo>
                    <a:lnTo>
                      <a:pt x="0" y="19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5" y="6"/>
                    </a:lnTo>
                    <a:lnTo>
                      <a:pt x="60" y="10"/>
                    </a:lnTo>
                    <a:lnTo>
                      <a:pt x="80" y="19"/>
                    </a:lnTo>
                    <a:lnTo>
                      <a:pt x="89" y="23"/>
                    </a:lnTo>
                    <a:lnTo>
                      <a:pt x="99" y="29"/>
                    </a:lnTo>
                    <a:lnTo>
                      <a:pt x="111" y="35"/>
                    </a:lnTo>
                    <a:lnTo>
                      <a:pt x="122" y="43"/>
                    </a:lnTo>
                    <a:lnTo>
                      <a:pt x="132" y="49"/>
                    </a:lnTo>
                    <a:lnTo>
                      <a:pt x="144" y="54"/>
                    </a:lnTo>
                    <a:lnTo>
                      <a:pt x="153" y="62"/>
                    </a:lnTo>
                    <a:lnTo>
                      <a:pt x="165" y="72"/>
                    </a:lnTo>
                    <a:lnTo>
                      <a:pt x="184" y="89"/>
                    </a:lnTo>
                    <a:lnTo>
                      <a:pt x="206" y="111"/>
                    </a:lnTo>
                    <a:lnTo>
                      <a:pt x="214" y="120"/>
                    </a:lnTo>
                    <a:lnTo>
                      <a:pt x="223" y="132"/>
                    </a:lnTo>
                    <a:lnTo>
                      <a:pt x="231" y="144"/>
                    </a:lnTo>
                    <a:lnTo>
                      <a:pt x="241" y="157"/>
                    </a:lnTo>
                    <a:lnTo>
                      <a:pt x="246" y="169"/>
                    </a:lnTo>
                    <a:lnTo>
                      <a:pt x="254" y="184"/>
                    </a:lnTo>
                    <a:lnTo>
                      <a:pt x="260" y="198"/>
                    </a:lnTo>
                    <a:lnTo>
                      <a:pt x="266" y="215"/>
                    </a:lnTo>
                    <a:lnTo>
                      <a:pt x="262" y="211"/>
                    </a:lnTo>
                    <a:lnTo>
                      <a:pt x="258" y="208"/>
                    </a:lnTo>
                    <a:lnTo>
                      <a:pt x="250" y="198"/>
                    </a:lnTo>
                    <a:lnTo>
                      <a:pt x="241" y="188"/>
                    </a:lnTo>
                    <a:lnTo>
                      <a:pt x="227" y="175"/>
                    </a:lnTo>
                    <a:lnTo>
                      <a:pt x="214" y="161"/>
                    </a:lnTo>
                    <a:lnTo>
                      <a:pt x="198" y="146"/>
                    </a:lnTo>
                    <a:lnTo>
                      <a:pt x="182" y="132"/>
                    </a:lnTo>
                    <a:lnTo>
                      <a:pt x="165" y="116"/>
                    </a:lnTo>
                    <a:lnTo>
                      <a:pt x="150" y="103"/>
                    </a:lnTo>
                    <a:lnTo>
                      <a:pt x="132" y="89"/>
                    </a:lnTo>
                    <a:lnTo>
                      <a:pt x="117" y="78"/>
                    </a:lnTo>
                    <a:lnTo>
                      <a:pt x="101" y="66"/>
                    </a:lnTo>
                    <a:lnTo>
                      <a:pt x="89" y="62"/>
                    </a:lnTo>
                    <a:lnTo>
                      <a:pt x="78" y="58"/>
                    </a:lnTo>
                    <a:lnTo>
                      <a:pt x="70" y="60"/>
                    </a:lnTo>
                    <a:lnTo>
                      <a:pt x="60" y="62"/>
                    </a:lnTo>
                    <a:lnTo>
                      <a:pt x="56" y="68"/>
                    </a:lnTo>
                    <a:lnTo>
                      <a:pt x="53" y="78"/>
                    </a:lnTo>
                    <a:lnTo>
                      <a:pt x="53" y="89"/>
                    </a:lnTo>
                    <a:lnTo>
                      <a:pt x="51" y="101"/>
                    </a:lnTo>
                    <a:lnTo>
                      <a:pt x="53" y="114"/>
                    </a:lnTo>
                    <a:lnTo>
                      <a:pt x="54" y="128"/>
                    </a:lnTo>
                    <a:lnTo>
                      <a:pt x="58" y="146"/>
                    </a:lnTo>
                    <a:lnTo>
                      <a:pt x="60" y="159"/>
                    </a:lnTo>
                    <a:lnTo>
                      <a:pt x="62" y="175"/>
                    </a:lnTo>
                    <a:lnTo>
                      <a:pt x="64" y="188"/>
                    </a:lnTo>
                    <a:lnTo>
                      <a:pt x="68" y="204"/>
                    </a:lnTo>
                    <a:lnTo>
                      <a:pt x="68" y="215"/>
                    </a:lnTo>
                    <a:lnTo>
                      <a:pt x="70" y="227"/>
                    </a:lnTo>
                    <a:lnTo>
                      <a:pt x="68" y="237"/>
                    </a:lnTo>
                    <a:lnTo>
                      <a:pt x="68" y="244"/>
                    </a:lnTo>
                    <a:lnTo>
                      <a:pt x="58" y="252"/>
                    </a:lnTo>
                    <a:lnTo>
                      <a:pt x="53" y="256"/>
                    </a:lnTo>
                    <a:lnTo>
                      <a:pt x="43" y="256"/>
                    </a:lnTo>
                    <a:lnTo>
                      <a:pt x="37" y="256"/>
                    </a:lnTo>
                    <a:lnTo>
                      <a:pt x="23" y="248"/>
                    </a:lnTo>
                    <a:lnTo>
                      <a:pt x="20" y="2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003520" y="538200"/>
                <a:ext cx="44640" cy="136800"/>
              </a:xfrm>
              <a:custGeom>
                <a:avLst/>
                <a:gdLst/>
                <a:ahLst/>
                <a:rect l="l" t="t" r="r" b="b"/>
                <a:pathLst>
                  <a:path w="159" h="488">
                    <a:moveTo>
                      <a:pt x="151" y="87"/>
                    </a:moveTo>
                    <a:lnTo>
                      <a:pt x="146" y="79"/>
                    </a:lnTo>
                    <a:lnTo>
                      <a:pt x="134" y="66"/>
                    </a:lnTo>
                    <a:lnTo>
                      <a:pt x="124" y="56"/>
                    </a:lnTo>
                    <a:lnTo>
                      <a:pt x="116" y="46"/>
                    </a:lnTo>
                    <a:lnTo>
                      <a:pt x="107" y="36"/>
                    </a:lnTo>
                    <a:lnTo>
                      <a:pt x="97" y="29"/>
                    </a:lnTo>
                    <a:lnTo>
                      <a:pt x="85" y="17"/>
                    </a:lnTo>
                    <a:lnTo>
                      <a:pt x="74" y="11"/>
                    </a:lnTo>
                    <a:lnTo>
                      <a:pt x="62" y="3"/>
                    </a:lnTo>
                    <a:lnTo>
                      <a:pt x="54" y="2"/>
                    </a:lnTo>
                    <a:lnTo>
                      <a:pt x="43" y="0"/>
                    </a:lnTo>
                    <a:lnTo>
                      <a:pt x="37" y="2"/>
                    </a:lnTo>
                    <a:lnTo>
                      <a:pt x="29" y="7"/>
                    </a:lnTo>
                    <a:lnTo>
                      <a:pt x="25" y="19"/>
                    </a:lnTo>
                    <a:lnTo>
                      <a:pt x="19" y="31"/>
                    </a:lnTo>
                    <a:lnTo>
                      <a:pt x="14" y="50"/>
                    </a:lnTo>
                    <a:lnTo>
                      <a:pt x="10" y="60"/>
                    </a:lnTo>
                    <a:lnTo>
                      <a:pt x="8" y="71"/>
                    </a:lnTo>
                    <a:lnTo>
                      <a:pt x="6" y="83"/>
                    </a:lnTo>
                    <a:lnTo>
                      <a:pt x="6" y="97"/>
                    </a:lnTo>
                    <a:lnTo>
                      <a:pt x="2" y="108"/>
                    </a:lnTo>
                    <a:lnTo>
                      <a:pt x="0" y="124"/>
                    </a:lnTo>
                    <a:lnTo>
                      <a:pt x="0" y="137"/>
                    </a:lnTo>
                    <a:lnTo>
                      <a:pt x="0" y="153"/>
                    </a:lnTo>
                    <a:lnTo>
                      <a:pt x="0" y="168"/>
                    </a:lnTo>
                    <a:lnTo>
                      <a:pt x="0" y="186"/>
                    </a:lnTo>
                    <a:lnTo>
                      <a:pt x="2" y="203"/>
                    </a:lnTo>
                    <a:lnTo>
                      <a:pt x="6" y="221"/>
                    </a:lnTo>
                    <a:lnTo>
                      <a:pt x="6" y="236"/>
                    </a:lnTo>
                    <a:lnTo>
                      <a:pt x="10" y="254"/>
                    </a:lnTo>
                    <a:lnTo>
                      <a:pt x="12" y="271"/>
                    </a:lnTo>
                    <a:lnTo>
                      <a:pt x="18" y="289"/>
                    </a:lnTo>
                    <a:lnTo>
                      <a:pt x="21" y="306"/>
                    </a:lnTo>
                    <a:lnTo>
                      <a:pt x="27" y="323"/>
                    </a:lnTo>
                    <a:lnTo>
                      <a:pt x="33" y="341"/>
                    </a:lnTo>
                    <a:lnTo>
                      <a:pt x="43" y="360"/>
                    </a:lnTo>
                    <a:lnTo>
                      <a:pt x="51" y="376"/>
                    </a:lnTo>
                    <a:lnTo>
                      <a:pt x="60" y="393"/>
                    </a:lnTo>
                    <a:lnTo>
                      <a:pt x="72" y="409"/>
                    </a:lnTo>
                    <a:lnTo>
                      <a:pt x="83" y="426"/>
                    </a:lnTo>
                    <a:lnTo>
                      <a:pt x="95" y="442"/>
                    </a:lnTo>
                    <a:lnTo>
                      <a:pt x="111" y="457"/>
                    </a:lnTo>
                    <a:lnTo>
                      <a:pt x="126" y="473"/>
                    </a:lnTo>
                    <a:lnTo>
                      <a:pt x="144" y="488"/>
                    </a:lnTo>
                    <a:lnTo>
                      <a:pt x="140" y="484"/>
                    </a:lnTo>
                    <a:lnTo>
                      <a:pt x="136" y="479"/>
                    </a:lnTo>
                    <a:lnTo>
                      <a:pt x="128" y="469"/>
                    </a:lnTo>
                    <a:lnTo>
                      <a:pt x="122" y="459"/>
                    </a:lnTo>
                    <a:lnTo>
                      <a:pt x="113" y="442"/>
                    </a:lnTo>
                    <a:lnTo>
                      <a:pt x="103" y="424"/>
                    </a:lnTo>
                    <a:lnTo>
                      <a:pt x="97" y="413"/>
                    </a:lnTo>
                    <a:lnTo>
                      <a:pt x="93" y="403"/>
                    </a:lnTo>
                    <a:lnTo>
                      <a:pt x="87" y="391"/>
                    </a:lnTo>
                    <a:lnTo>
                      <a:pt x="83" y="382"/>
                    </a:lnTo>
                    <a:lnTo>
                      <a:pt x="78" y="368"/>
                    </a:lnTo>
                    <a:lnTo>
                      <a:pt x="72" y="354"/>
                    </a:lnTo>
                    <a:lnTo>
                      <a:pt x="66" y="341"/>
                    </a:lnTo>
                    <a:lnTo>
                      <a:pt x="62" y="327"/>
                    </a:lnTo>
                    <a:lnTo>
                      <a:pt x="56" y="312"/>
                    </a:lnTo>
                    <a:lnTo>
                      <a:pt x="54" y="296"/>
                    </a:lnTo>
                    <a:lnTo>
                      <a:pt x="51" y="281"/>
                    </a:lnTo>
                    <a:lnTo>
                      <a:pt x="49" y="265"/>
                    </a:lnTo>
                    <a:lnTo>
                      <a:pt x="45" y="248"/>
                    </a:lnTo>
                    <a:lnTo>
                      <a:pt x="43" y="230"/>
                    </a:lnTo>
                    <a:lnTo>
                      <a:pt x="43" y="213"/>
                    </a:lnTo>
                    <a:lnTo>
                      <a:pt x="45" y="197"/>
                    </a:lnTo>
                    <a:lnTo>
                      <a:pt x="45" y="178"/>
                    </a:lnTo>
                    <a:lnTo>
                      <a:pt x="45" y="161"/>
                    </a:lnTo>
                    <a:lnTo>
                      <a:pt x="47" y="143"/>
                    </a:lnTo>
                    <a:lnTo>
                      <a:pt x="52" y="126"/>
                    </a:lnTo>
                    <a:lnTo>
                      <a:pt x="52" y="114"/>
                    </a:lnTo>
                    <a:lnTo>
                      <a:pt x="56" y="104"/>
                    </a:lnTo>
                    <a:lnTo>
                      <a:pt x="56" y="97"/>
                    </a:lnTo>
                    <a:lnTo>
                      <a:pt x="60" y="91"/>
                    </a:lnTo>
                    <a:lnTo>
                      <a:pt x="64" y="83"/>
                    </a:lnTo>
                    <a:lnTo>
                      <a:pt x="70" y="81"/>
                    </a:lnTo>
                    <a:lnTo>
                      <a:pt x="82" y="85"/>
                    </a:lnTo>
                    <a:lnTo>
                      <a:pt x="93" y="100"/>
                    </a:lnTo>
                    <a:lnTo>
                      <a:pt x="99" y="108"/>
                    </a:lnTo>
                    <a:lnTo>
                      <a:pt x="105" y="120"/>
                    </a:lnTo>
                    <a:lnTo>
                      <a:pt x="111" y="131"/>
                    </a:lnTo>
                    <a:lnTo>
                      <a:pt x="116" y="143"/>
                    </a:lnTo>
                    <a:lnTo>
                      <a:pt x="122" y="153"/>
                    </a:lnTo>
                    <a:lnTo>
                      <a:pt x="130" y="162"/>
                    </a:lnTo>
                    <a:lnTo>
                      <a:pt x="136" y="168"/>
                    </a:lnTo>
                    <a:lnTo>
                      <a:pt x="144" y="174"/>
                    </a:lnTo>
                    <a:lnTo>
                      <a:pt x="151" y="170"/>
                    </a:lnTo>
                    <a:lnTo>
                      <a:pt x="157" y="162"/>
                    </a:lnTo>
                    <a:lnTo>
                      <a:pt x="157" y="147"/>
                    </a:lnTo>
                    <a:lnTo>
                      <a:pt x="159" y="133"/>
                    </a:lnTo>
                    <a:lnTo>
                      <a:pt x="155" y="116"/>
                    </a:lnTo>
                    <a:lnTo>
                      <a:pt x="153" y="100"/>
                    </a:lnTo>
                    <a:lnTo>
                      <a:pt x="151" y="91"/>
                    </a:lnTo>
                    <a:lnTo>
                      <a:pt x="151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125920" y="673920"/>
                <a:ext cx="57960" cy="62640"/>
              </a:xfrm>
              <a:custGeom>
                <a:avLst/>
                <a:gdLst/>
                <a:ahLst/>
                <a:rect l="l" t="t" r="r" b="b"/>
                <a:pathLst>
                  <a:path w="208" h="225">
                    <a:moveTo>
                      <a:pt x="0" y="0"/>
                    </a:moveTo>
                    <a:lnTo>
                      <a:pt x="0" y="4"/>
                    </a:lnTo>
                    <a:lnTo>
                      <a:pt x="6" y="18"/>
                    </a:lnTo>
                    <a:lnTo>
                      <a:pt x="6" y="26"/>
                    </a:lnTo>
                    <a:lnTo>
                      <a:pt x="10" y="37"/>
                    </a:lnTo>
                    <a:lnTo>
                      <a:pt x="14" y="51"/>
                    </a:lnTo>
                    <a:lnTo>
                      <a:pt x="18" y="64"/>
                    </a:lnTo>
                    <a:lnTo>
                      <a:pt x="18" y="76"/>
                    </a:lnTo>
                    <a:lnTo>
                      <a:pt x="20" y="92"/>
                    </a:lnTo>
                    <a:lnTo>
                      <a:pt x="22" y="105"/>
                    </a:lnTo>
                    <a:lnTo>
                      <a:pt x="24" y="121"/>
                    </a:lnTo>
                    <a:lnTo>
                      <a:pt x="22" y="134"/>
                    </a:lnTo>
                    <a:lnTo>
                      <a:pt x="22" y="148"/>
                    </a:lnTo>
                    <a:lnTo>
                      <a:pt x="20" y="159"/>
                    </a:lnTo>
                    <a:lnTo>
                      <a:pt x="18" y="171"/>
                    </a:lnTo>
                    <a:lnTo>
                      <a:pt x="10" y="187"/>
                    </a:lnTo>
                    <a:lnTo>
                      <a:pt x="6" y="200"/>
                    </a:lnTo>
                    <a:lnTo>
                      <a:pt x="4" y="212"/>
                    </a:lnTo>
                    <a:lnTo>
                      <a:pt x="6" y="220"/>
                    </a:lnTo>
                    <a:lnTo>
                      <a:pt x="10" y="223"/>
                    </a:lnTo>
                    <a:lnTo>
                      <a:pt x="20" y="225"/>
                    </a:lnTo>
                    <a:lnTo>
                      <a:pt x="31" y="223"/>
                    </a:lnTo>
                    <a:lnTo>
                      <a:pt x="49" y="221"/>
                    </a:lnTo>
                    <a:lnTo>
                      <a:pt x="55" y="216"/>
                    </a:lnTo>
                    <a:lnTo>
                      <a:pt x="66" y="212"/>
                    </a:lnTo>
                    <a:lnTo>
                      <a:pt x="78" y="206"/>
                    </a:lnTo>
                    <a:lnTo>
                      <a:pt x="90" y="200"/>
                    </a:lnTo>
                    <a:lnTo>
                      <a:pt x="101" y="192"/>
                    </a:lnTo>
                    <a:lnTo>
                      <a:pt x="113" y="185"/>
                    </a:lnTo>
                    <a:lnTo>
                      <a:pt x="126" y="175"/>
                    </a:lnTo>
                    <a:lnTo>
                      <a:pt x="140" y="167"/>
                    </a:lnTo>
                    <a:lnTo>
                      <a:pt x="152" y="156"/>
                    </a:lnTo>
                    <a:lnTo>
                      <a:pt x="163" y="144"/>
                    </a:lnTo>
                    <a:lnTo>
                      <a:pt x="173" y="132"/>
                    </a:lnTo>
                    <a:lnTo>
                      <a:pt x="185" y="123"/>
                    </a:lnTo>
                    <a:lnTo>
                      <a:pt x="190" y="109"/>
                    </a:lnTo>
                    <a:lnTo>
                      <a:pt x="198" y="97"/>
                    </a:lnTo>
                    <a:lnTo>
                      <a:pt x="204" y="84"/>
                    </a:lnTo>
                    <a:lnTo>
                      <a:pt x="208" y="72"/>
                    </a:lnTo>
                    <a:lnTo>
                      <a:pt x="202" y="76"/>
                    </a:lnTo>
                    <a:lnTo>
                      <a:pt x="189" y="88"/>
                    </a:lnTo>
                    <a:lnTo>
                      <a:pt x="179" y="93"/>
                    </a:lnTo>
                    <a:lnTo>
                      <a:pt x="169" y="103"/>
                    </a:lnTo>
                    <a:lnTo>
                      <a:pt x="157" y="113"/>
                    </a:lnTo>
                    <a:lnTo>
                      <a:pt x="148" y="124"/>
                    </a:lnTo>
                    <a:lnTo>
                      <a:pt x="136" y="132"/>
                    </a:lnTo>
                    <a:lnTo>
                      <a:pt x="125" y="142"/>
                    </a:lnTo>
                    <a:lnTo>
                      <a:pt x="113" y="150"/>
                    </a:lnTo>
                    <a:lnTo>
                      <a:pt x="103" y="159"/>
                    </a:lnTo>
                    <a:lnTo>
                      <a:pt x="84" y="169"/>
                    </a:lnTo>
                    <a:lnTo>
                      <a:pt x="72" y="173"/>
                    </a:lnTo>
                    <a:lnTo>
                      <a:pt x="62" y="163"/>
                    </a:lnTo>
                    <a:lnTo>
                      <a:pt x="61" y="148"/>
                    </a:lnTo>
                    <a:lnTo>
                      <a:pt x="59" y="136"/>
                    </a:lnTo>
                    <a:lnTo>
                      <a:pt x="59" y="126"/>
                    </a:lnTo>
                    <a:lnTo>
                      <a:pt x="57" y="113"/>
                    </a:lnTo>
                    <a:lnTo>
                      <a:pt x="57" y="101"/>
                    </a:lnTo>
                    <a:lnTo>
                      <a:pt x="53" y="86"/>
                    </a:lnTo>
                    <a:lnTo>
                      <a:pt x="51" y="74"/>
                    </a:lnTo>
                    <a:lnTo>
                      <a:pt x="45" y="59"/>
                    </a:lnTo>
                    <a:lnTo>
                      <a:pt x="41" y="47"/>
                    </a:lnTo>
                    <a:lnTo>
                      <a:pt x="33" y="33"/>
                    </a:lnTo>
                    <a:lnTo>
                      <a:pt x="24" y="20"/>
                    </a:lnTo>
                    <a:lnTo>
                      <a:pt x="1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15240" y="539280"/>
                <a:ext cx="165960" cy="43560"/>
              </a:xfrm>
              <a:custGeom>
                <a:avLst/>
                <a:gdLst/>
                <a:ahLst/>
                <a:rect l="l" t="t" r="r" b="b"/>
                <a:pathLst>
                  <a:path w="596" h="156">
                    <a:moveTo>
                      <a:pt x="596" y="0"/>
                    </a:moveTo>
                    <a:lnTo>
                      <a:pt x="594" y="2"/>
                    </a:lnTo>
                    <a:lnTo>
                      <a:pt x="590" y="12"/>
                    </a:lnTo>
                    <a:lnTo>
                      <a:pt x="584" y="26"/>
                    </a:lnTo>
                    <a:lnTo>
                      <a:pt x="580" y="45"/>
                    </a:lnTo>
                    <a:lnTo>
                      <a:pt x="576" y="55"/>
                    </a:lnTo>
                    <a:lnTo>
                      <a:pt x="574" y="66"/>
                    </a:lnTo>
                    <a:lnTo>
                      <a:pt x="570" y="78"/>
                    </a:lnTo>
                    <a:lnTo>
                      <a:pt x="568" y="90"/>
                    </a:lnTo>
                    <a:lnTo>
                      <a:pt x="566" y="101"/>
                    </a:lnTo>
                    <a:lnTo>
                      <a:pt x="564" y="113"/>
                    </a:lnTo>
                    <a:lnTo>
                      <a:pt x="564" y="125"/>
                    </a:lnTo>
                    <a:lnTo>
                      <a:pt x="564" y="138"/>
                    </a:lnTo>
                    <a:lnTo>
                      <a:pt x="557" y="138"/>
                    </a:lnTo>
                    <a:lnTo>
                      <a:pt x="541" y="138"/>
                    </a:lnTo>
                    <a:lnTo>
                      <a:pt x="528" y="138"/>
                    </a:lnTo>
                    <a:lnTo>
                      <a:pt x="514" y="138"/>
                    </a:lnTo>
                    <a:lnTo>
                      <a:pt x="497" y="138"/>
                    </a:lnTo>
                    <a:lnTo>
                      <a:pt x="481" y="140"/>
                    </a:lnTo>
                    <a:lnTo>
                      <a:pt x="460" y="140"/>
                    </a:lnTo>
                    <a:lnTo>
                      <a:pt x="440" y="142"/>
                    </a:lnTo>
                    <a:lnTo>
                      <a:pt x="429" y="142"/>
                    </a:lnTo>
                    <a:lnTo>
                      <a:pt x="417" y="142"/>
                    </a:lnTo>
                    <a:lnTo>
                      <a:pt x="405" y="142"/>
                    </a:lnTo>
                    <a:lnTo>
                      <a:pt x="394" y="144"/>
                    </a:lnTo>
                    <a:lnTo>
                      <a:pt x="380" y="144"/>
                    </a:lnTo>
                    <a:lnTo>
                      <a:pt x="369" y="144"/>
                    </a:lnTo>
                    <a:lnTo>
                      <a:pt x="357" y="144"/>
                    </a:lnTo>
                    <a:lnTo>
                      <a:pt x="345" y="146"/>
                    </a:lnTo>
                    <a:lnTo>
                      <a:pt x="332" y="146"/>
                    </a:lnTo>
                    <a:lnTo>
                      <a:pt x="320" y="148"/>
                    </a:lnTo>
                    <a:lnTo>
                      <a:pt x="308" y="148"/>
                    </a:lnTo>
                    <a:lnTo>
                      <a:pt x="297" y="150"/>
                    </a:lnTo>
                    <a:lnTo>
                      <a:pt x="283" y="150"/>
                    </a:lnTo>
                    <a:lnTo>
                      <a:pt x="270" y="150"/>
                    </a:lnTo>
                    <a:lnTo>
                      <a:pt x="256" y="150"/>
                    </a:lnTo>
                    <a:lnTo>
                      <a:pt x="244" y="150"/>
                    </a:lnTo>
                    <a:lnTo>
                      <a:pt x="231" y="150"/>
                    </a:lnTo>
                    <a:lnTo>
                      <a:pt x="219" y="150"/>
                    </a:lnTo>
                    <a:lnTo>
                      <a:pt x="208" y="150"/>
                    </a:lnTo>
                    <a:lnTo>
                      <a:pt x="196" y="152"/>
                    </a:lnTo>
                    <a:lnTo>
                      <a:pt x="184" y="152"/>
                    </a:lnTo>
                    <a:lnTo>
                      <a:pt x="173" y="152"/>
                    </a:lnTo>
                    <a:lnTo>
                      <a:pt x="161" y="152"/>
                    </a:lnTo>
                    <a:lnTo>
                      <a:pt x="149" y="154"/>
                    </a:lnTo>
                    <a:lnTo>
                      <a:pt x="138" y="154"/>
                    </a:lnTo>
                    <a:lnTo>
                      <a:pt x="126" y="154"/>
                    </a:lnTo>
                    <a:lnTo>
                      <a:pt x="116" y="154"/>
                    </a:lnTo>
                    <a:lnTo>
                      <a:pt x="109" y="156"/>
                    </a:lnTo>
                    <a:lnTo>
                      <a:pt x="87" y="156"/>
                    </a:lnTo>
                    <a:lnTo>
                      <a:pt x="72" y="156"/>
                    </a:lnTo>
                    <a:lnTo>
                      <a:pt x="54" y="156"/>
                    </a:lnTo>
                    <a:lnTo>
                      <a:pt x="43" y="156"/>
                    </a:lnTo>
                    <a:lnTo>
                      <a:pt x="31" y="156"/>
                    </a:lnTo>
                    <a:lnTo>
                      <a:pt x="21" y="156"/>
                    </a:lnTo>
                    <a:lnTo>
                      <a:pt x="16" y="156"/>
                    </a:lnTo>
                    <a:lnTo>
                      <a:pt x="14" y="156"/>
                    </a:lnTo>
                    <a:lnTo>
                      <a:pt x="4" y="148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6" y="115"/>
                    </a:lnTo>
                    <a:lnTo>
                      <a:pt x="8" y="107"/>
                    </a:lnTo>
                    <a:lnTo>
                      <a:pt x="16" y="99"/>
                    </a:lnTo>
                    <a:lnTo>
                      <a:pt x="23" y="94"/>
                    </a:lnTo>
                    <a:lnTo>
                      <a:pt x="35" y="88"/>
                    </a:lnTo>
                    <a:lnTo>
                      <a:pt x="45" y="82"/>
                    </a:lnTo>
                    <a:lnTo>
                      <a:pt x="60" y="76"/>
                    </a:lnTo>
                    <a:lnTo>
                      <a:pt x="68" y="72"/>
                    </a:lnTo>
                    <a:lnTo>
                      <a:pt x="78" y="70"/>
                    </a:lnTo>
                    <a:lnTo>
                      <a:pt x="87" y="68"/>
                    </a:lnTo>
                    <a:lnTo>
                      <a:pt x="99" y="68"/>
                    </a:lnTo>
                    <a:lnTo>
                      <a:pt x="109" y="64"/>
                    </a:lnTo>
                    <a:lnTo>
                      <a:pt x="122" y="63"/>
                    </a:lnTo>
                    <a:lnTo>
                      <a:pt x="134" y="59"/>
                    </a:lnTo>
                    <a:lnTo>
                      <a:pt x="151" y="57"/>
                    </a:lnTo>
                    <a:lnTo>
                      <a:pt x="167" y="53"/>
                    </a:lnTo>
                    <a:lnTo>
                      <a:pt x="184" y="51"/>
                    </a:lnTo>
                    <a:lnTo>
                      <a:pt x="202" y="49"/>
                    </a:lnTo>
                    <a:lnTo>
                      <a:pt x="223" y="47"/>
                    </a:lnTo>
                    <a:lnTo>
                      <a:pt x="241" y="43"/>
                    </a:lnTo>
                    <a:lnTo>
                      <a:pt x="262" y="41"/>
                    </a:lnTo>
                    <a:lnTo>
                      <a:pt x="272" y="39"/>
                    </a:lnTo>
                    <a:lnTo>
                      <a:pt x="281" y="37"/>
                    </a:lnTo>
                    <a:lnTo>
                      <a:pt x="293" y="35"/>
                    </a:lnTo>
                    <a:lnTo>
                      <a:pt x="305" y="35"/>
                    </a:lnTo>
                    <a:lnTo>
                      <a:pt x="324" y="31"/>
                    </a:lnTo>
                    <a:lnTo>
                      <a:pt x="345" y="30"/>
                    </a:lnTo>
                    <a:lnTo>
                      <a:pt x="355" y="28"/>
                    </a:lnTo>
                    <a:lnTo>
                      <a:pt x="367" y="26"/>
                    </a:lnTo>
                    <a:lnTo>
                      <a:pt x="376" y="26"/>
                    </a:lnTo>
                    <a:lnTo>
                      <a:pt x="388" y="26"/>
                    </a:lnTo>
                    <a:lnTo>
                      <a:pt x="407" y="22"/>
                    </a:lnTo>
                    <a:lnTo>
                      <a:pt x="427" y="20"/>
                    </a:lnTo>
                    <a:lnTo>
                      <a:pt x="446" y="16"/>
                    </a:lnTo>
                    <a:lnTo>
                      <a:pt x="466" y="14"/>
                    </a:lnTo>
                    <a:lnTo>
                      <a:pt x="483" y="10"/>
                    </a:lnTo>
                    <a:lnTo>
                      <a:pt x="500" y="8"/>
                    </a:lnTo>
                    <a:lnTo>
                      <a:pt x="516" y="6"/>
                    </a:lnTo>
                    <a:lnTo>
                      <a:pt x="532" y="6"/>
                    </a:lnTo>
                    <a:lnTo>
                      <a:pt x="543" y="4"/>
                    </a:lnTo>
                    <a:lnTo>
                      <a:pt x="557" y="2"/>
                    </a:lnTo>
                    <a:lnTo>
                      <a:pt x="566" y="0"/>
                    </a:lnTo>
                    <a:lnTo>
                      <a:pt x="578" y="0"/>
                    </a:lnTo>
                    <a:lnTo>
                      <a:pt x="590" y="0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ea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96880" y="324360"/>
                <a:ext cx="267840" cy="36360"/>
              </a:xfrm>
              <a:custGeom>
                <a:avLst/>
                <a:gdLst/>
                <a:ahLst/>
                <a:rect l="l" t="t" r="r" b="b"/>
                <a:pathLst>
                  <a:path w="958" h="129">
                    <a:moveTo>
                      <a:pt x="958" y="54"/>
                    </a:moveTo>
                    <a:lnTo>
                      <a:pt x="954" y="46"/>
                    </a:lnTo>
                    <a:lnTo>
                      <a:pt x="945" y="31"/>
                    </a:lnTo>
                    <a:lnTo>
                      <a:pt x="931" y="13"/>
                    </a:lnTo>
                    <a:lnTo>
                      <a:pt x="918" y="1"/>
                    </a:lnTo>
                    <a:lnTo>
                      <a:pt x="912" y="0"/>
                    </a:lnTo>
                    <a:lnTo>
                      <a:pt x="902" y="0"/>
                    </a:lnTo>
                    <a:lnTo>
                      <a:pt x="888" y="0"/>
                    </a:lnTo>
                    <a:lnTo>
                      <a:pt x="871" y="0"/>
                    </a:lnTo>
                    <a:lnTo>
                      <a:pt x="859" y="0"/>
                    </a:lnTo>
                    <a:lnTo>
                      <a:pt x="848" y="0"/>
                    </a:lnTo>
                    <a:lnTo>
                      <a:pt x="836" y="1"/>
                    </a:lnTo>
                    <a:lnTo>
                      <a:pt x="824" y="3"/>
                    </a:lnTo>
                    <a:lnTo>
                      <a:pt x="809" y="3"/>
                    </a:lnTo>
                    <a:lnTo>
                      <a:pt x="795" y="5"/>
                    </a:lnTo>
                    <a:lnTo>
                      <a:pt x="780" y="7"/>
                    </a:lnTo>
                    <a:lnTo>
                      <a:pt x="766" y="9"/>
                    </a:lnTo>
                    <a:lnTo>
                      <a:pt x="749" y="9"/>
                    </a:lnTo>
                    <a:lnTo>
                      <a:pt x="731" y="11"/>
                    </a:lnTo>
                    <a:lnTo>
                      <a:pt x="714" y="13"/>
                    </a:lnTo>
                    <a:lnTo>
                      <a:pt x="696" y="15"/>
                    </a:lnTo>
                    <a:lnTo>
                      <a:pt x="677" y="15"/>
                    </a:lnTo>
                    <a:lnTo>
                      <a:pt x="658" y="17"/>
                    </a:lnTo>
                    <a:lnTo>
                      <a:pt x="638" y="19"/>
                    </a:lnTo>
                    <a:lnTo>
                      <a:pt x="621" y="21"/>
                    </a:lnTo>
                    <a:lnTo>
                      <a:pt x="599" y="21"/>
                    </a:lnTo>
                    <a:lnTo>
                      <a:pt x="580" y="25"/>
                    </a:lnTo>
                    <a:lnTo>
                      <a:pt x="559" y="25"/>
                    </a:lnTo>
                    <a:lnTo>
                      <a:pt x="539" y="29"/>
                    </a:lnTo>
                    <a:lnTo>
                      <a:pt x="518" y="31"/>
                    </a:lnTo>
                    <a:lnTo>
                      <a:pt x="499" y="32"/>
                    </a:lnTo>
                    <a:lnTo>
                      <a:pt x="477" y="34"/>
                    </a:lnTo>
                    <a:lnTo>
                      <a:pt x="458" y="38"/>
                    </a:lnTo>
                    <a:lnTo>
                      <a:pt x="435" y="38"/>
                    </a:lnTo>
                    <a:lnTo>
                      <a:pt x="415" y="42"/>
                    </a:lnTo>
                    <a:lnTo>
                      <a:pt x="392" y="42"/>
                    </a:lnTo>
                    <a:lnTo>
                      <a:pt x="373" y="46"/>
                    </a:lnTo>
                    <a:lnTo>
                      <a:pt x="351" y="46"/>
                    </a:lnTo>
                    <a:lnTo>
                      <a:pt x="332" y="50"/>
                    </a:lnTo>
                    <a:lnTo>
                      <a:pt x="310" y="50"/>
                    </a:lnTo>
                    <a:lnTo>
                      <a:pt x="293" y="54"/>
                    </a:lnTo>
                    <a:lnTo>
                      <a:pt x="272" y="54"/>
                    </a:lnTo>
                    <a:lnTo>
                      <a:pt x="252" y="58"/>
                    </a:lnTo>
                    <a:lnTo>
                      <a:pt x="235" y="58"/>
                    </a:lnTo>
                    <a:lnTo>
                      <a:pt x="217" y="62"/>
                    </a:lnTo>
                    <a:lnTo>
                      <a:pt x="198" y="62"/>
                    </a:lnTo>
                    <a:lnTo>
                      <a:pt x="181" y="65"/>
                    </a:lnTo>
                    <a:lnTo>
                      <a:pt x="165" y="65"/>
                    </a:lnTo>
                    <a:lnTo>
                      <a:pt x="150" y="69"/>
                    </a:lnTo>
                    <a:lnTo>
                      <a:pt x="132" y="69"/>
                    </a:lnTo>
                    <a:lnTo>
                      <a:pt x="117" y="71"/>
                    </a:lnTo>
                    <a:lnTo>
                      <a:pt x="101" y="71"/>
                    </a:lnTo>
                    <a:lnTo>
                      <a:pt x="89" y="73"/>
                    </a:lnTo>
                    <a:lnTo>
                      <a:pt x="76" y="73"/>
                    </a:lnTo>
                    <a:lnTo>
                      <a:pt x="64" y="75"/>
                    </a:lnTo>
                    <a:lnTo>
                      <a:pt x="53" y="77"/>
                    </a:lnTo>
                    <a:lnTo>
                      <a:pt x="45" y="79"/>
                    </a:lnTo>
                    <a:lnTo>
                      <a:pt x="27" y="81"/>
                    </a:lnTo>
                    <a:lnTo>
                      <a:pt x="16" y="83"/>
                    </a:lnTo>
                    <a:lnTo>
                      <a:pt x="6" y="83"/>
                    </a:lnTo>
                    <a:lnTo>
                      <a:pt x="4" y="85"/>
                    </a:lnTo>
                    <a:lnTo>
                      <a:pt x="0" y="89"/>
                    </a:lnTo>
                    <a:lnTo>
                      <a:pt x="14" y="102"/>
                    </a:lnTo>
                    <a:lnTo>
                      <a:pt x="22" y="108"/>
                    </a:lnTo>
                    <a:lnTo>
                      <a:pt x="31" y="116"/>
                    </a:lnTo>
                    <a:lnTo>
                      <a:pt x="41" y="122"/>
                    </a:lnTo>
                    <a:lnTo>
                      <a:pt x="51" y="129"/>
                    </a:lnTo>
                    <a:lnTo>
                      <a:pt x="53" y="127"/>
                    </a:lnTo>
                    <a:lnTo>
                      <a:pt x="62" y="127"/>
                    </a:lnTo>
                    <a:lnTo>
                      <a:pt x="74" y="127"/>
                    </a:lnTo>
                    <a:lnTo>
                      <a:pt x="93" y="127"/>
                    </a:lnTo>
                    <a:lnTo>
                      <a:pt x="103" y="126"/>
                    </a:lnTo>
                    <a:lnTo>
                      <a:pt x="115" y="126"/>
                    </a:lnTo>
                    <a:lnTo>
                      <a:pt x="126" y="124"/>
                    </a:lnTo>
                    <a:lnTo>
                      <a:pt x="140" y="124"/>
                    </a:lnTo>
                    <a:lnTo>
                      <a:pt x="151" y="122"/>
                    </a:lnTo>
                    <a:lnTo>
                      <a:pt x="167" y="122"/>
                    </a:lnTo>
                    <a:lnTo>
                      <a:pt x="182" y="120"/>
                    </a:lnTo>
                    <a:lnTo>
                      <a:pt x="200" y="120"/>
                    </a:lnTo>
                    <a:lnTo>
                      <a:pt x="215" y="118"/>
                    </a:lnTo>
                    <a:lnTo>
                      <a:pt x="231" y="116"/>
                    </a:lnTo>
                    <a:lnTo>
                      <a:pt x="248" y="114"/>
                    </a:lnTo>
                    <a:lnTo>
                      <a:pt x="268" y="114"/>
                    </a:lnTo>
                    <a:lnTo>
                      <a:pt x="285" y="112"/>
                    </a:lnTo>
                    <a:lnTo>
                      <a:pt x="303" y="110"/>
                    </a:lnTo>
                    <a:lnTo>
                      <a:pt x="322" y="108"/>
                    </a:lnTo>
                    <a:lnTo>
                      <a:pt x="343" y="108"/>
                    </a:lnTo>
                    <a:lnTo>
                      <a:pt x="363" y="104"/>
                    </a:lnTo>
                    <a:lnTo>
                      <a:pt x="384" y="104"/>
                    </a:lnTo>
                    <a:lnTo>
                      <a:pt x="404" y="100"/>
                    </a:lnTo>
                    <a:lnTo>
                      <a:pt x="425" y="100"/>
                    </a:lnTo>
                    <a:lnTo>
                      <a:pt x="444" y="98"/>
                    </a:lnTo>
                    <a:lnTo>
                      <a:pt x="468" y="96"/>
                    </a:lnTo>
                    <a:lnTo>
                      <a:pt x="487" y="95"/>
                    </a:lnTo>
                    <a:lnTo>
                      <a:pt x="510" y="95"/>
                    </a:lnTo>
                    <a:lnTo>
                      <a:pt x="530" y="91"/>
                    </a:lnTo>
                    <a:lnTo>
                      <a:pt x="551" y="89"/>
                    </a:lnTo>
                    <a:lnTo>
                      <a:pt x="570" y="87"/>
                    </a:lnTo>
                    <a:lnTo>
                      <a:pt x="592" y="85"/>
                    </a:lnTo>
                    <a:lnTo>
                      <a:pt x="611" y="81"/>
                    </a:lnTo>
                    <a:lnTo>
                      <a:pt x="632" y="81"/>
                    </a:lnTo>
                    <a:lnTo>
                      <a:pt x="652" y="77"/>
                    </a:lnTo>
                    <a:lnTo>
                      <a:pt x="673" y="77"/>
                    </a:lnTo>
                    <a:lnTo>
                      <a:pt x="691" y="75"/>
                    </a:lnTo>
                    <a:lnTo>
                      <a:pt x="710" y="73"/>
                    </a:lnTo>
                    <a:lnTo>
                      <a:pt x="729" y="71"/>
                    </a:lnTo>
                    <a:lnTo>
                      <a:pt x="749" y="71"/>
                    </a:lnTo>
                    <a:lnTo>
                      <a:pt x="766" y="69"/>
                    </a:lnTo>
                    <a:lnTo>
                      <a:pt x="784" y="67"/>
                    </a:lnTo>
                    <a:lnTo>
                      <a:pt x="801" y="65"/>
                    </a:lnTo>
                    <a:lnTo>
                      <a:pt x="819" y="65"/>
                    </a:lnTo>
                    <a:lnTo>
                      <a:pt x="832" y="63"/>
                    </a:lnTo>
                    <a:lnTo>
                      <a:pt x="846" y="62"/>
                    </a:lnTo>
                    <a:lnTo>
                      <a:pt x="859" y="60"/>
                    </a:lnTo>
                    <a:lnTo>
                      <a:pt x="875" y="60"/>
                    </a:lnTo>
                    <a:lnTo>
                      <a:pt x="885" y="58"/>
                    </a:lnTo>
                    <a:lnTo>
                      <a:pt x="896" y="56"/>
                    </a:lnTo>
                    <a:lnTo>
                      <a:pt x="908" y="56"/>
                    </a:lnTo>
                    <a:lnTo>
                      <a:pt x="919" y="56"/>
                    </a:lnTo>
                    <a:lnTo>
                      <a:pt x="935" y="54"/>
                    </a:lnTo>
                    <a:lnTo>
                      <a:pt x="947" y="54"/>
                    </a:lnTo>
                    <a:lnTo>
                      <a:pt x="954" y="54"/>
                    </a:lnTo>
                    <a:lnTo>
                      <a:pt x="958" y="54"/>
                    </a:lnTo>
                    <a:close/>
                  </a:path>
                </a:pathLst>
              </a:custGeom>
              <a:solidFill>
                <a:srgbClr val="e3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78720" y="-99720"/>
                <a:ext cx="68040" cy="322920"/>
              </a:xfrm>
              <a:custGeom>
                <a:avLst/>
                <a:gdLst/>
                <a:ahLst/>
                <a:rect l="l" t="t" r="r" b="b"/>
                <a:pathLst>
                  <a:path w="244" h="1156">
                    <a:moveTo>
                      <a:pt x="0" y="6"/>
                    </a:moveTo>
                    <a:lnTo>
                      <a:pt x="0" y="8"/>
                    </a:lnTo>
                    <a:lnTo>
                      <a:pt x="1" y="16"/>
                    </a:lnTo>
                    <a:lnTo>
                      <a:pt x="5" y="29"/>
                    </a:lnTo>
                    <a:lnTo>
                      <a:pt x="11" y="49"/>
                    </a:lnTo>
                    <a:lnTo>
                      <a:pt x="13" y="58"/>
                    </a:lnTo>
                    <a:lnTo>
                      <a:pt x="17" y="70"/>
                    </a:lnTo>
                    <a:lnTo>
                      <a:pt x="19" y="83"/>
                    </a:lnTo>
                    <a:lnTo>
                      <a:pt x="23" y="99"/>
                    </a:lnTo>
                    <a:lnTo>
                      <a:pt x="25" y="114"/>
                    </a:lnTo>
                    <a:lnTo>
                      <a:pt x="31" y="130"/>
                    </a:lnTo>
                    <a:lnTo>
                      <a:pt x="33" y="147"/>
                    </a:lnTo>
                    <a:lnTo>
                      <a:pt x="38" y="167"/>
                    </a:lnTo>
                    <a:lnTo>
                      <a:pt x="40" y="184"/>
                    </a:lnTo>
                    <a:lnTo>
                      <a:pt x="44" y="204"/>
                    </a:lnTo>
                    <a:lnTo>
                      <a:pt x="48" y="223"/>
                    </a:lnTo>
                    <a:lnTo>
                      <a:pt x="54" y="244"/>
                    </a:lnTo>
                    <a:lnTo>
                      <a:pt x="56" y="264"/>
                    </a:lnTo>
                    <a:lnTo>
                      <a:pt x="60" y="285"/>
                    </a:lnTo>
                    <a:lnTo>
                      <a:pt x="62" y="297"/>
                    </a:lnTo>
                    <a:lnTo>
                      <a:pt x="64" y="308"/>
                    </a:lnTo>
                    <a:lnTo>
                      <a:pt x="65" y="320"/>
                    </a:lnTo>
                    <a:lnTo>
                      <a:pt x="69" y="332"/>
                    </a:lnTo>
                    <a:lnTo>
                      <a:pt x="69" y="341"/>
                    </a:lnTo>
                    <a:lnTo>
                      <a:pt x="71" y="353"/>
                    </a:lnTo>
                    <a:lnTo>
                      <a:pt x="71" y="365"/>
                    </a:lnTo>
                    <a:lnTo>
                      <a:pt x="73" y="376"/>
                    </a:lnTo>
                    <a:lnTo>
                      <a:pt x="73" y="388"/>
                    </a:lnTo>
                    <a:lnTo>
                      <a:pt x="75" y="400"/>
                    </a:lnTo>
                    <a:lnTo>
                      <a:pt x="77" y="411"/>
                    </a:lnTo>
                    <a:lnTo>
                      <a:pt x="79" y="423"/>
                    </a:lnTo>
                    <a:lnTo>
                      <a:pt x="79" y="434"/>
                    </a:lnTo>
                    <a:lnTo>
                      <a:pt x="81" y="446"/>
                    </a:lnTo>
                    <a:lnTo>
                      <a:pt x="81" y="458"/>
                    </a:lnTo>
                    <a:lnTo>
                      <a:pt x="83" y="471"/>
                    </a:lnTo>
                    <a:lnTo>
                      <a:pt x="83" y="483"/>
                    </a:lnTo>
                    <a:lnTo>
                      <a:pt x="85" y="495"/>
                    </a:lnTo>
                    <a:lnTo>
                      <a:pt x="87" y="506"/>
                    </a:lnTo>
                    <a:lnTo>
                      <a:pt x="89" y="520"/>
                    </a:lnTo>
                    <a:lnTo>
                      <a:pt x="89" y="531"/>
                    </a:lnTo>
                    <a:lnTo>
                      <a:pt x="89" y="543"/>
                    </a:lnTo>
                    <a:lnTo>
                      <a:pt x="89" y="555"/>
                    </a:lnTo>
                    <a:lnTo>
                      <a:pt x="89" y="566"/>
                    </a:lnTo>
                    <a:lnTo>
                      <a:pt x="89" y="578"/>
                    </a:lnTo>
                    <a:lnTo>
                      <a:pt x="89" y="592"/>
                    </a:lnTo>
                    <a:lnTo>
                      <a:pt x="89" y="603"/>
                    </a:lnTo>
                    <a:lnTo>
                      <a:pt x="91" y="617"/>
                    </a:lnTo>
                    <a:lnTo>
                      <a:pt x="91" y="628"/>
                    </a:lnTo>
                    <a:lnTo>
                      <a:pt x="91" y="642"/>
                    </a:lnTo>
                    <a:lnTo>
                      <a:pt x="91" y="656"/>
                    </a:lnTo>
                    <a:lnTo>
                      <a:pt x="93" y="669"/>
                    </a:lnTo>
                    <a:lnTo>
                      <a:pt x="93" y="681"/>
                    </a:lnTo>
                    <a:lnTo>
                      <a:pt x="95" y="694"/>
                    </a:lnTo>
                    <a:lnTo>
                      <a:pt x="97" y="708"/>
                    </a:lnTo>
                    <a:lnTo>
                      <a:pt x="98" y="721"/>
                    </a:lnTo>
                    <a:lnTo>
                      <a:pt x="98" y="733"/>
                    </a:lnTo>
                    <a:lnTo>
                      <a:pt x="98" y="747"/>
                    </a:lnTo>
                    <a:lnTo>
                      <a:pt x="100" y="760"/>
                    </a:lnTo>
                    <a:lnTo>
                      <a:pt x="102" y="774"/>
                    </a:lnTo>
                    <a:lnTo>
                      <a:pt x="102" y="785"/>
                    </a:lnTo>
                    <a:lnTo>
                      <a:pt x="104" y="799"/>
                    </a:lnTo>
                    <a:lnTo>
                      <a:pt x="106" y="813"/>
                    </a:lnTo>
                    <a:lnTo>
                      <a:pt x="108" y="826"/>
                    </a:lnTo>
                    <a:lnTo>
                      <a:pt x="108" y="838"/>
                    </a:lnTo>
                    <a:lnTo>
                      <a:pt x="110" y="851"/>
                    </a:lnTo>
                    <a:lnTo>
                      <a:pt x="112" y="863"/>
                    </a:lnTo>
                    <a:lnTo>
                      <a:pt x="114" y="877"/>
                    </a:lnTo>
                    <a:lnTo>
                      <a:pt x="114" y="888"/>
                    </a:lnTo>
                    <a:lnTo>
                      <a:pt x="116" y="900"/>
                    </a:lnTo>
                    <a:lnTo>
                      <a:pt x="118" y="912"/>
                    </a:lnTo>
                    <a:lnTo>
                      <a:pt x="122" y="925"/>
                    </a:lnTo>
                    <a:lnTo>
                      <a:pt x="122" y="935"/>
                    </a:lnTo>
                    <a:lnTo>
                      <a:pt x="124" y="946"/>
                    </a:lnTo>
                    <a:lnTo>
                      <a:pt x="126" y="958"/>
                    </a:lnTo>
                    <a:lnTo>
                      <a:pt x="128" y="970"/>
                    </a:lnTo>
                    <a:lnTo>
                      <a:pt x="129" y="979"/>
                    </a:lnTo>
                    <a:lnTo>
                      <a:pt x="131" y="991"/>
                    </a:lnTo>
                    <a:lnTo>
                      <a:pt x="133" y="1001"/>
                    </a:lnTo>
                    <a:lnTo>
                      <a:pt x="137" y="1012"/>
                    </a:lnTo>
                    <a:lnTo>
                      <a:pt x="141" y="1030"/>
                    </a:lnTo>
                    <a:lnTo>
                      <a:pt x="147" y="1049"/>
                    </a:lnTo>
                    <a:lnTo>
                      <a:pt x="153" y="1067"/>
                    </a:lnTo>
                    <a:lnTo>
                      <a:pt x="159" y="1084"/>
                    </a:lnTo>
                    <a:lnTo>
                      <a:pt x="164" y="1098"/>
                    </a:lnTo>
                    <a:lnTo>
                      <a:pt x="170" y="1111"/>
                    </a:lnTo>
                    <a:lnTo>
                      <a:pt x="178" y="1121"/>
                    </a:lnTo>
                    <a:lnTo>
                      <a:pt x="186" y="1133"/>
                    </a:lnTo>
                    <a:lnTo>
                      <a:pt x="201" y="1148"/>
                    </a:lnTo>
                    <a:lnTo>
                      <a:pt x="219" y="1156"/>
                    </a:lnTo>
                    <a:lnTo>
                      <a:pt x="225" y="1154"/>
                    </a:lnTo>
                    <a:lnTo>
                      <a:pt x="230" y="1146"/>
                    </a:lnTo>
                    <a:lnTo>
                      <a:pt x="234" y="1135"/>
                    </a:lnTo>
                    <a:lnTo>
                      <a:pt x="240" y="1121"/>
                    </a:lnTo>
                    <a:lnTo>
                      <a:pt x="240" y="1109"/>
                    </a:lnTo>
                    <a:lnTo>
                      <a:pt x="242" y="1098"/>
                    </a:lnTo>
                    <a:lnTo>
                      <a:pt x="242" y="1086"/>
                    </a:lnTo>
                    <a:lnTo>
                      <a:pt x="244" y="1074"/>
                    </a:lnTo>
                    <a:lnTo>
                      <a:pt x="244" y="1061"/>
                    </a:lnTo>
                    <a:lnTo>
                      <a:pt x="244" y="1047"/>
                    </a:lnTo>
                    <a:lnTo>
                      <a:pt x="244" y="1032"/>
                    </a:lnTo>
                    <a:lnTo>
                      <a:pt x="244" y="1018"/>
                    </a:lnTo>
                    <a:lnTo>
                      <a:pt x="242" y="1001"/>
                    </a:lnTo>
                    <a:lnTo>
                      <a:pt x="240" y="983"/>
                    </a:lnTo>
                    <a:lnTo>
                      <a:pt x="238" y="966"/>
                    </a:lnTo>
                    <a:lnTo>
                      <a:pt x="238" y="948"/>
                    </a:lnTo>
                    <a:lnTo>
                      <a:pt x="234" y="927"/>
                    </a:lnTo>
                    <a:lnTo>
                      <a:pt x="234" y="908"/>
                    </a:lnTo>
                    <a:lnTo>
                      <a:pt x="230" y="888"/>
                    </a:lnTo>
                    <a:lnTo>
                      <a:pt x="230" y="869"/>
                    </a:lnTo>
                    <a:lnTo>
                      <a:pt x="226" y="848"/>
                    </a:lnTo>
                    <a:lnTo>
                      <a:pt x="225" y="826"/>
                    </a:lnTo>
                    <a:lnTo>
                      <a:pt x="221" y="805"/>
                    </a:lnTo>
                    <a:lnTo>
                      <a:pt x="219" y="784"/>
                    </a:lnTo>
                    <a:lnTo>
                      <a:pt x="215" y="760"/>
                    </a:lnTo>
                    <a:lnTo>
                      <a:pt x="213" y="739"/>
                    </a:lnTo>
                    <a:lnTo>
                      <a:pt x="211" y="716"/>
                    </a:lnTo>
                    <a:lnTo>
                      <a:pt x="209" y="694"/>
                    </a:lnTo>
                    <a:lnTo>
                      <a:pt x="203" y="671"/>
                    </a:lnTo>
                    <a:lnTo>
                      <a:pt x="199" y="648"/>
                    </a:lnTo>
                    <a:lnTo>
                      <a:pt x="195" y="625"/>
                    </a:lnTo>
                    <a:lnTo>
                      <a:pt x="193" y="601"/>
                    </a:lnTo>
                    <a:lnTo>
                      <a:pt x="188" y="578"/>
                    </a:lnTo>
                    <a:lnTo>
                      <a:pt x="184" y="555"/>
                    </a:lnTo>
                    <a:lnTo>
                      <a:pt x="180" y="531"/>
                    </a:lnTo>
                    <a:lnTo>
                      <a:pt x="178" y="510"/>
                    </a:lnTo>
                    <a:lnTo>
                      <a:pt x="172" y="487"/>
                    </a:lnTo>
                    <a:lnTo>
                      <a:pt x="168" y="464"/>
                    </a:lnTo>
                    <a:lnTo>
                      <a:pt x="164" y="442"/>
                    </a:lnTo>
                    <a:lnTo>
                      <a:pt x="162" y="421"/>
                    </a:lnTo>
                    <a:lnTo>
                      <a:pt x="157" y="398"/>
                    </a:lnTo>
                    <a:lnTo>
                      <a:pt x="153" y="378"/>
                    </a:lnTo>
                    <a:lnTo>
                      <a:pt x="149" y="357"/>
                    </a:lnTo>
                    <a:lnTo>
                      <a:pt x="147" y="339"/>
                    </a:lnTo>
                    <a:lnTo>
                      <a:pt x="141" y="318"/>
                    </a:lnTo>
                    <a:lnTo>
                      <a:pt x="137" y="299"/>
                    </a:lnTo>
                    <a:lnTo>
                      <a:pt x="133" y="281"/>
                    </a:lnTo>
                    <a:lnTo>
                      <a:pt x="129" y="264"/>
                    </a:lnTo>
                    <a:lnTo>
                      <a:pt x="126" y="246"/>
                    </a:lnTo>
                    <a:lnTo>
                      <a:pt x="122" y="229"/>
                    </a:lnTo>
                    <a:lnTo>
                      <a:pt x="118" y="213"/>
                    </a:lnTo>
                    <a:lnTo>
                      <a:pt x="116" y="200"/>
                    </a:lnTo>
                    <a:lnTo>
                      <a:pt x="112" y="184"/>
                    </a:lnTo>
                    <a:lnTo>
                      <a:pt x="110" y="171"/>
                    </a:lnTo>
                    <a:lnTo>
                      <a:pt x="106" y="159"/>
                    </a:lnTo>
                    <a:lnTo>
                      <a:pt x="104" y="147"/>
                    </a:lnTo>
                    <a:lnTo>
                      <a:pt x="100" y="136"/>
                    </a:lnTo>
                    <a:lnTo>
                      <a:pt x="98" y="126"/>
                    </a:lnTo>
                    <a:lnTo>
                      <a:pt x="95" y="118"/>
                    </a:lnTo>
                    <a:lnTo>
                      <a:pt x="95" y="113"/>
                    </a:lnTo>
                    <a:lnTo>
                      <a:pt x="89" y="97"/>
                    </a:lnTo>
                    <a:lnTo>
                      <a:pt x="83" y="85"/>
                    </a:lnTo>
                    <a:lnTo>
                      <a:pt x="79" y="74"/>
                    </a:lnTo>
                    <a:lnTo>
                      <a:pt x="75" y="64"/>
                    </a:lnTo>
                    <a:lnTo>
                      <a:pt x="65" y="47"/>
                    </a:lnTo>
                    <a:lnTo>
                      <a:pt x="58" y="33"/>
                    </a:lnTo>
                    <a:lnTo>
                      <a:pt x="48" y="19"/>
                    </a:lnTo>
                    <a:lnTo>
                      <a:pt x="40" y="12"/>
                    </a:lnTo>
                    <a:lnTo>
                      <a:pt x="34" y="6"/>
                    </a:lnTo>
                    <a:lnTo>
                      <a:pt x="29" y="4"/>
                    </a:lnTo>
                    <a:lnTo>
                      <a:pt x="1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0" y="4573440"/>
            <a:ext cx="2590920" cy="227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924680" y="609480"/>
            <a:ext cx="990720" cy="6199200"/>
            <a:chOff x="7924680" y="609480"/>
            <a:chExt cx="990720" cy="6199200"/>
          </a:xfrm>
        </p:grpSpPr>
        <p:sp>
          <p:nvSpPr>
            <p:cNvPr id="126" name="">
              <a:hlinkClick r:id="" action="ppaction://hlinkshowjump?jump=nextslide"/>
            </p:cNvPr>
            <p:cNvSpPr/>
            <p:nvPr/>
          </p:nvSpPr>
          <p:spPr>
            <a:xfrm>
              <a:off x="845820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792468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58200" y="5562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77320" y="487692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58200" y="434340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58200" y="3124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53280" y="2438280"/>
              <a:ext cx="484200" cy="484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05920" y="1600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8200" y="609480"/>
              <a:ext cx="365040" cy="3654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380880"/>
            <a:ext cx="1563840" cy="892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400" y="0"/>
            <a:ext cx="1371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98440" y="1447920"/>
            <a:ext cx="968040" cy="1489680"/>
            <a:chOff x="298440" y="1447920"/>
            <a:chExt cx="968040" cy="1489680"/>
          </a:xfrm>
        </p:grpSpPr>
        <p:grpSp>
          <p:nvGrpSpPr>
            <p:cNvPr id="138" name=""/>
            <p:cNvGrpSpPr/>
            <p:nvPr/>
          </p:nvGrpSpPr>
          <p:grpSpPr>
            <a:xfrm>
              <a:off x="298440" y="1447920"/>
              <a:ext cx="968040" cy="337320"/>
              <a:chOff x="298440" y="1447920"/>
              <a:chExt cx="968040" cy="337320"/>
            </a:xfrm>
          </p:grpSpPr>
          <p:sp>
            <p:nvSpPr>
              <p:cNvPr id="139" name=""/>
              <p:cNvSpPr/>
              <p:nvPr/>
            </p:nvSpPr>
            <p:spPr>
              <a:xfrm>
                <a:off x="298440" y="144792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el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98440" y="1832040"/>
              <a:ext cx="968040" cy="337320"/>
              <a:chOff x="298440" y="1832040"/>
              <a:chExt cx="968040" cy="337320"/>
            </a:xfrm>
          </p:grpSpPr>
          <p:sp>
            <p:nvSpPr>
              <p:cNvPr id="141" name=""/>
              <p:cNvSpPr/>
              <p:nvPr/>
            </p:nvSpPr>
            <p:spPr>
              <a:xfrm>
                <a:off x="298440" y="183204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98440" y="2216160"/>
              <a:ext cx="968040" cy="337320"/>
              <a:chOff x="298440" y="2216160"/>
              <a:chExt cx="968040" cy="337320"/>
            </a:xfrm>
          </p:grpSpPr>
          <p:sp>
            <p:nvSpPr>
              <p:cNvPr id="143" name=""/>
              <p:cNvSpPr/>
              <p:nvPr/>
            </p:nvSpPr>
            <p:spPr>
              <a:xfrm>
                <a:off x="298440" y="221616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98440" y="2600280"/>
              <a:ext cx="968040" cy="337320"/>
              <a:chOff x="298440" y="2600280"/>
              <a:chExt cx="968040" cy="337320"/>
            </a:xfrm>
          </p:grpSpPr>
          <p:sp>
            <p:nvSpPr>
              <p:cNvPr id="145" name=""/>
              <p:cNvSpPr/>
              <p:nvPr/>
            </p:nvSpPr>
            <p:spPr>
              <a:xfrm>
                <a:off x="298440" y="260028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al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1600200" y="380880"/>
            <a:ext cx="1563840" cy="892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5600" y="0"/>
            <a:ext cx="1371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898640" y="1447920"/>
            <a:ext cx="968040" cy="1489680"/>
            <a:chOff x="1898640" y="1447920"/>
            <a:chExt cx="968040" cy="1489680"/>
          </a:xfrm>
        </p:grpSpPr>
        <p:grpSp>
          <p:nvGrpSpPr>
            <p:cNvPr id="149" name=""/>
            <p:cNvGrpSpPr/>
            <p:nvPr/>
          </p:nvGrpSpPr>
          <p:grpSpPr>
            <a:xfrm>
              <a:off x="1898640" y="1447920"/>
              <a:ext cx="968040" cy="337320"/>
              <a:chOff x="1898640" y="1447920"/>
              <a:chExt cx="968040" cy="337320"/>
            </a:xfrm>
          </p:grpSpPr>
          <p:sp>
            <p:nvSpPr>
              <p:cNvPr id="150" name=""/>
              <p:cNvSpPr/>
              <p:nvPr/>
            </p:nvSpPr>
            <p:spPr>
              <a:xfrm>
                <a:off x="1898640" y="144792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el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898640" y="1832040"/>
              <a:ext cx="968040" cy="337320"/>
              <a:chOff x="1898640" y="1832040"/>
              <a:chExt cx="968040" cy="337320"/>
            </a:xfrm>
          </p:grpSpPr>
          <p:sp>
            <p:nvSpPr>
              <p:cNvPr id="152" name=""/>
              <p:cNvSpPr/>
              <p:nvPr/>
            </p:nvSpPr>
            <p:spPr>
              <a:xfrm>
                <a:off x="1898640" y="183204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898640" y="2216160"/>
              <a:ext cx="968040" cy="337320"/>
              <a:chOff x="1898640" y="2216160"/>
              <a:chExt cx="968040" cy="337320"/>
            </a:xfrm>
          </p:grpSpPr>
          <p:sp>
            <p:nvSpPr>
              <p:cNvPr id="154" name=""/>
              <p:cNvSpPr/>
              <p:nvPr/>
            </p:nvSpPr>
            <p:spPr>
              <a:xfrm>
                <a:off x="1898640" y="221616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898640" y="2600280"/>
              <a:ext cx="968040" cy="337320"/>
              <a:chOff x="1898640" y="2600280"/>
              <a:chExt cx="968040" cy="337320"/>
            </a:xfrm>
          </p:grpSpPr>
          <p:sp>
            <p:nvSpPr>
              <p:cNvPr id="156" name=""/>
              <p:cNvSpPr/>
              <p:nvPr/>
            </p:nvSpPr>
            <p:spPr>
              <a:xfrm>
                <a:off x="1898640" y="260028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al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630360" y="1143000"/>
            <a:ext cx="190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fety 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0" y="5823000"/>
            <a:ext cx="1407960" cy="103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320" y="228600"/>
            <a:ext cx="5045040" cy="659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7" name=""/>
          <p:cNvGrpSpPr/>
          <p:nvPr/>
        </p:nvGrpSpPr>
        <p:grpSpPr>
          <a:xfrm>
            <a:off x="4419720" y="533520"/>
            <a:ext cx="4645080" cy="1909800"/>
            <a:chOff x="4419720" y="533520"/>
            <a:chExt cx="4645080" cy="1909800"/>
          </a:xfrm>
        </p:grpSpPr>
        <p:sp>
          <p:nvSpPr>
            <p:cNvPr id="198" name=""/>
            <p:cNvSpPr/>
            <p:nvPr/>
          </p:nvSpPr>
          <p:spPr>
            <a:xfrm>
              <a:off x="5538960" y="185292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1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b8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2680" y="1340280"/>
              <a:ext cx="1595160" cy="1103040"/>
            </a:xfrm>
            <a:custGeom>
              <a:avLst/>
              <a:gdLst/>
              <a:ahLst/>
              <a:rect l="l" t="t" r="r" b="b"/>
              <a:pathLst>
                <a:path w="2011" h="1391">
                  <a:moveTo>
                    <a:pt x="731" y="1389"/>
                  </a:moveTo>
                  <a:lnTo>
                    <a:pt x="667" y="1377"/>
                  </a:lnTo>
                  <a:lnTo>
                    <a:pt x="605" y="1367"/>
                  </a:lnTo>
                  <a:lnTo>
                    <a:pt x="543" y="1354"/>
                  </a:lnTo>
                  <a:lnTo>
                    <a:pt x="481" y="1338"/>
                  </a:lnTo>
                  <a:lnTo>
                    <a:pt x="419" y="1315"/>
                  </a:lnTo>
                  <a:lnTo>
                    <a:pt x="357" y="1286"/>
                  </a:lnTo>
                  <a:lnTo>
                    <a:pt x="295" y="1249"/>
                  </a:lnTo>
                  <a:lnTo>
                    <a:pt x="233" y="1206"/>
                  </a:lnTo>
                  <a:lnTo>
                    <a:pt x="204" y="1175"/>
                  </a:lnTo>
                  <a:lnTo>
                    <a:pt x="177" y="1144"/>
                  </a:lnTo>
                  <a:lnTo>
                    <a:pt x="149" y="1111"/>
                  </a:lnTo>
                  <a:lnTo>
                    <a:pt x="122" y="1082"/>
                  </a:lnTo>
                  <a:lnTo>
                    <a:pt x="93" y="1049"/>
                  </a:lnTo>
                  <a:lnTo>
                    <a:pt x="64" y="1020"/>
                  </a:lnTo>
                  <a:lnTo>
                    <a:pt x="31" y="993"/>
                  </a:lnTo>
                  <a:lnTo>
                    <a:pt x="0" y="972"/>
                  </a:lnTo>
                  <a:lnTo>
                    <a:pt x="4" y="968"/>
                  </a:lnTo>
                  <a:lnTo>
                    <a:pt x="124" y="950"/>
                  </a:lnTo>
                  <a:lnTo>
                    <a:pt x="144" y="941"/>
                  </a:lnTo>
                  <a:lnTo>
                    <a:pt x="194" y="921"/>
                  </a:lnTo>
                  <a:lnTo>
                    <a:pt x="204" y="919"/>
                  </a:lnTo>
                  <a:lnTo>
                    <a:pt x="233" y="906"/>
                  </a:lnTo>
                  <a:lnTo>
                    <a:pt x="266" y="888"/>
                  </a:lnTo>
                  <a:lnTo>
                    <a:pt x="299" y="865"/>
                  </a:lnTo>
                  <a:lnTo>
                    <a:pt x="334" y="838"/>
                  </a:lnTo>
                  <a:lnTo>
                    <a:pt x="363" y="807"/>
                  </a:lnTo>
                  <a:lnTo>
                    <a:pt x="390" y="776"/>
                  </a:lnTo>
                  <a:lnTo>
                    <a:pt x="411" y="743"/>
                  </a:lnTo>
                  <a:lnTo>
                    <a:pt x="427" y="712"/>
                  </a:lnTo>
                  <a:lnTo>
                    <a:pt x="435" y="667"/>
                  </a:lnTo>
                  <a:lnTo>
                    <a:pt x="431" y="640"/>
                  </a:lnTo>
                  <a:lnTo>
                    <a:pt x="421" y="615"/>
                  </a:lnTo>
                  <a:lnTo>
                    <a:pt x="409" y="601"/>
                  </a:lnTo>
                  <a:lnTo>
                    <a:pt x="559" y="564"/>
                  </a:lnTo>
                  <a:lnTo>
                    <a:pt x="691" y="539"/>
                  </a:lnTo>
                  <a:lnTo>
                    <a:pt x="700" y="541"/>
                  </a:lnTo>
                  <a:lnTo>
                    <a:pt x="733" y="535"/>
                  </a:lnTo>
                  <a:lnTo>
                    <a:pt x="914" y="528"/>
                  </a:lnTo>
                  <a:lnTo>
                    <a:pt x="943" y="524"/>
                  </a:lnTo>
                  <a:lnTo>
                    <a:pt x="981" y="524"/>
                  </a:lnTo>
                  <a:lnTo>
                    <a:pt x="983" y="528"/>
                  </a:lnTo>
                  <a:lnTo>
                    <a:pt x="1024" y="520"/>
                  </a:lnTo>
                  <a:lnTo>
                    <a:pt x="1034" y="520"/>
                  </a:lnTo>
                  <a:lnTo>
                    <a:pt x="1119" y="518"/>
                  </a:lnTo>
                  <a:lnTo>
                    <a:pt x="1129" y="518"/>
                  </a:lnTo>
                  <a:lnTo>
                    <a:pt x="1152" y="514"/>
                  </a:lnTo>
                  <a:lnTo>
                    <a:pt x="1179" y="512"/>
                  </a:lnTo>
                  <a:lnTo>
                    <a:pt x="1203" y="508"/>
                  </a:lnTo>
                  <a:lnTo>
                    <a:pt x="1230" y="506"/>
                  </a:lnTo>
                  <a:lnTo>
                    <a:pt x="1255" y="501"/>
                  </a:lnTo>
                  <a:lnTo>
                    <a:pt x="1282" y="495"/>
                  </a:lnTo>
                  <a:lnTo>
                    <a:pt x="1307" y="489"/>
                  </a:lnTo>
                  <a:lnTo>
                    <a:pt x="1334" y="485"/>
                  </a:lnTo>
                  <a:lnTo>
                    <a:pt x="1350" y="479"/>
                  </a:lnTo>
                  <a:lnTo>
                    <a:pt x="1367" y="473"/>
                  </a:lnTo>
                  <a:lnTo>
                    <a:pt x="1385" y="468"/>
                  </a:lnTo>
                  <a:lnTo>
                    <a:pt x="1402" y="462"/>
                  </a:lnTo>
                  <a:lnTo>
                    <a:pt x="1420" y="454"/>
                  </a:lnTo>
                  <a:lnTo>
                    <a:pt x="1437" y="446"/>
                  </a:lnTo>
                  <a:lnTo>
                    <a:pt x="1455" y="437"/>
                  </a:lnTo>
                  <a:lnTo>
                    <a:pt x="1472" y="429"/>
                  </a:lnTo>
                  <a:lnTo>
                    <a:pt x="1486" y="419"/>
                  </a:lnTo>
                  <a:lnTo>
                    <a:pt x="1552" y="355"/>
                  </a:lnTo>
                  <a:lnTo>
                    <a:pt x="1567" y="326"/>
                  </a:lnTo>
                  <a:lnTo>
                    <a:pt x="1581" y="297"/>
                  </a:lnTo>
                  <a:lnTo>
                    <a:pt x="1592" y="266"/>
                  </a:lnTo>
                  <a:lnTo>
                    <a:pt x="1604" y="235"/>
                  </a:lnTo>
                  <a:lnTo>
                    <a:pt x="1610" y="202"/>
                  </a:lnTo>
                  <a:lnTo>
                    <a:pt x="1616" y="173"/>
                  </a:lnTo>
                  <a:lnTo>
                    <a:pt x="1618" y="142"/>
                  </a:lnTo>
                  <a:lnTo>
                    <a:pt x="1619" y="113"/>
                  </a:lnTo>
                  <a:lnTo>
                    <a:pt x="1616" y="101"/>
                  </a:lnTo>
                  <a:lnTo>
                    <a:pt x="1614" y="89"/>
                  </a:lnTo>
                  <a:lnTo>
                    <a:pt x="1610" y="78"/>
                  </a:lnTo>
                  <a:lnTo>
                    <a:pt x="1608" y="68"/>
                  </a:lnTo>
                  <a:lnTo>
                    <a:pt x="1602" y="56"/>
                  </a:lnTo>
                  <a:lnTo>
                    <a:pt x="1598" y="45"/>
                  </a:lnTo>
                  <a:lnTo>
                    <a:pt x="1594" y="33"/>
                  </a:lnTo>
                  <a:lnTo>
                    <a:pt x="1590" y="23"/>
                  </a:lnTo>
                  <a:lnTo>
                    <a:pt x="1606" y="20"/>
                  </a:lnTo>
                  <a:lnTo>
                    <a:pt x="1610" y="18"/>
                  </a:lnTo>
                  <a:lnTo>
                    <a:pt x="1614" y="14"/>
                  </a:lnTo>
                  <a:lnTo>
                    <a:pt x="1619" y="0"/>
                  </a:lnTo>
                  <a:lnTo>
                    <a:pt x="1649" y="22"/>
                  </a:lnTo>
                  <a:lnTo>
                    <a:pt x="1672" y="23"/>
                  </a:lnTo>
                  <a:lnTo>
                    <a:pt x="1685" y="18"/>
                  </a:lnTo>
                  <a:lnTo>
                    <a:pt x="1687" y="25"/>
                  </a:lnTo>
                  <a:lnTo>
                    <a:pt x="1703" y="39"/>
                  </a:lnTo>
                  <a:lnTo>
                    <a:pt x="1724" y="41"/>
                  </a:lnTo>
                  <a:lnTo>
                    <a:pt x="1751" y="18"/>
                  </a:lnTo>
                  <a:lnTo>
                    <a:pt x="1757" y="60"/>
                  </a:lnTo>
                  <a:lnTo>
                    <a:pt x="1759" y="62"/>
                  </a:lnTo>
                  <a:lnTo>
                    <a:pt x="1777" y="82"/>
                  </a:lnTo>
                  <a:lnTo>
                    <a:pt x="1804" y="82"/>
                  </a:lnTo>
                  <a:lnTo>
                    <a:pt x="1829" y="68"/>
                  </a:lnTo>
                  <a:lnTo>
                    <a:pt x="1833" y="82"/>
                  </a:lnTo>
                  <a:lnTo>
                    <a:pt x="1839" y="89"/>
                  </a:lnTo>
                  <a:lnTo>
                    <a:pt x="1868" y="103"/>
                  </a:lnTo>
                  <a:lnTo>
                    <a:pt x="1877" y="101"/>
                  </a:lnTo>
                  <a:lnTo>
                    <a:pt x="1897" y="87"/>
                  </a:lnTo>
                  <a:lnTo>
                    <a:pt x="1903" y="82"/>
                  </a:lnTo>
                  <a:lnTo>
                    <a:pt x="1916" y="72"/>
                  </a:lnTo>
                  <a:lnTo>
                    <a:pt x="1918" y="89"/>
                  </a:lnTo>
                  <a:lnTo>
                    <a:pt x="1932" y="105"/>
                  </a:lnTo>
                  <a:lnTo>
                    <a:pt x="1955" y="107"/>
                  </a:lnTo>
                  <a:lnTo>
                    <a:pt x="1967" y="103"/>
                  </a:lnTo>
                  <a:lnTo>
                    <a:pt x="1971" y="124"/>
                  </a:lnTo>
                  <a:lnTo>
                    <a:pt x="1984" y="140"/>
                  </a:lnTo>
                  <a:lnTo>
                    <a:pt x="2011" y="144"/>
                  </a:lnTo>
                  <a:lnTo>
                    <a:pt x="1978" y="200"/>
                  </a:lnTo>
                  <a:lnTo>
                    <a:pt x="1953" y="258"/>
                  </a:lnTo>
                  <a:lnTo>
                    <a:pt x="1930" y="314"/>
                  </a:lnTo>
                  <a:lnTo>
                    <a:pt x="1910" y="373"/>
                  </a:lnTo>
                  <a:lnTo>
                    <a:pt x="1887" y="429"/>
                  </a:lnTo>
                  <a:lnTo>
                    <a:pt x="1866" y="485"/>
                  </a:lnTo>
                  <a:lnTo>
                    <a:pt x="1843" y="543"/>
                  </a:lnTo>
                  <a:lnTo>
                    <a:pt x="1817" y="601"/>
                  </a:lnTo>
                  <a:lnTo>
                    <a:pt x="1811" y="605"/>
                  </a:lnTo>
                  <a:lnTo>
                    <a:pt x="1794" y="642"/>
                  </a:lnTo>
                  <a:lnTo>
                    <a:pt x="1777" y="679"/>
                  </a:lnTo>
                  <a:lnTo>
                    <a:pt x="1757" y="716"/>
                  </a:lnTo>
                  <a:lnTo>
                    <a:pt x="1738" y="755"/>
                  </a:lnTo>
                  <a:lnTo>
                    <a:pt x="1715" y="791"/>
                  </a:lnTo>
                  <a:lnTo>
                    <a:pt x="1693" y="830"/>
                  </a:lnTo>
                  <a:lnTo>
                    <a:pt x="1670" y="867"/>
                  </a:lnTo>
                  <a:lnTo>
                    <a:pt x="1647" y="906"/>
                  </a:lnTo>
                  <a:lnTo>
                    <a:pt x="1633" y="919"/>
                  </a:lnTo>
                  <a:lnTo>
                    <a:pt x="1621" y="935"/>
                  </a:lnTo>
                  <a:lnTo>
                    <a:pt x="1610" y="950"/>
                  </a:lnTo>
                  <a:lnTo>
                    <a:pt x="1598" y="966"/>
                  </a:lnTo>
                  <a:lnTo>
                    <a:pt x="1585" y="979"/>
                  </a:lnTo>
                  <a:lnTo>
                    <a:pt x="1573" y="993"/>
                  </a:lnTo>
                  <a:lnTo>
                    <a:pt x="1559" y="1007"/>
                  </a:lnTo>
                  <a:lnTo>
                    <a:pt x="1548" y="1020"/>
                  </a:lnTo>
                  <a:lnTo>
                    <a:pt x="1513" y="1059"/>
                  </a:lnTo>
                  <a:lnTo>
                    <a:pt x="1493" y="1076"/>
                  </a:lnTo>
                  <a:lnTo>
                    <a:pt x="1474" y="1096"/>
                  </a:lnTo>
                  <a:lnTo>
                    <a:pt x="1455" y="1113"/>
                  </a:lnTo>
                  <a:lnTo>
                    <a:pt x="1435" y="1131"/>
                  </a:lnTo>
                  <a:lnTo>
                    <a:pt x="1416" y="1146"/>
                  </a:lnTo>
                  <a:lnTo>
                    <a:pt x="1396" y="1162"/>
                  </a:lnTo>
                  <a:lnTo>
                    <a:pt x="1377" y="1177"/>
                  </a:lnTo>
                  <a:lnTo>
                    <a:pt x="1360" y="1193"/>
                  </a:lnTo>
                  <a:lnTo>
                    <a:pt x="1331" y="1214"/>
                  </a:lnTo>
                  <a:lnTo>
                    <a:pt x="1309" y="1228"/>
                  </a:lnTo>
                  <a:lnTo>
                    <a:pt x="1282" y="1243"/>
                  </a:lnTo>
                  <a:lnTo>
                    <a:pt x="1272" y="1251"/>
                  </a:lnTo>
                  <a:lnTo>
                    <a:pt x="1247" y="1263"/>
                  </a:lnTo>
                  <a:lnTo>
                    <a:pt x="1224" y="1274"/>
                  </a:lnTo>
                  <a:lnTo>
                    <a:pt x="1201" y="1286"/>
                  </a:lnTo>
                  <a:lnTo>
                    <a:pt x="1177" y="1298"/>
                  </a:lnTo>
                  <a:lnTo>
                    <a:pt x="1154" y="1307"/>
                  </a:lnTo>
                  <a:lnTo>
                    <a:pt x="1131" y="1319"/>
                  </a:lnTo>
                  <a:lnTo>
                    <a:pt x="1108" y="1327"/>
                  </a:lnTo>
                  <a:lnTo>
                    <a:pt x="1086" y="1336"/>
                  </a:lnTo>
                  <a:lnTo>
                    <a:pt x="999" y="1358"/>
                  </a:lnTo>
                  <a:lnTo>
                    <a:pt x="966" y="1362"/>
                  </a:lnTo>
                  <a:lnTo>
                    <a:pt x="933" y="1367"/>
                  </a:lnTo>
                  <a:lnTo>
                    <a:pt x="900" y="1373"/>
                  </a:lnTo>
                  <a:lnTo>
                    <a:pt x="867" y="1379"/>
                  </a:lnTo>
                  <a:lnTo>
                    <a:pt x="834" y="1383"/>
                  </a:lnTo>
                  <a:lnTo>
                    <a:pt x="801" y="1387"/>
                  </a:lnTo>
                  <a:lnTo>
                    <a:pt x="768" y="1389"/>
                  </a:lnTo>
                  <a:lnTo>
                    <a:pt x="737" y="1391"/>
                  </a:lnTo>
                  <a:lnTo>
                    <a:pt x="731" y="13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36240" y="2198880"/>
              <a:ext cx="176040" cy="11916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31" y="150"/>
                  </a:moveTo>
                  <a:lnTo>
                    <a:pt x="0" y="144"/>
                  </a:lnTo>
                  <a:lnTo>
                    <a:pt x="0" y="138"/>
                  </a:lnTo>
                  <a:lnTo>
                    <a:pt x="78" y="136"/>
                  </a:lnTo>
                  <a:lnTo>
                    <a:pt x="89" y="132"/>
                  </a:lnTo>
                  <a:lnTo>
                    <a:pt x="93" y="128"/>
                  </a:lnTo>
                  <a:lnTo>
                    <a:pt x="97" y="128"/>
                  </a:lnTo>
                  <a:lnTo>
                    <a:pt x="101" y="124"/>
                  </a:lnTo>
                  <a:lnTo>
                    <a:pt x="101" y="120"/>
                  </a:lnTo>
                  <a:lnTo>
                    <a:pt x="99" y="117"/>
                  </a:lnTo>
                  <a:lnTo>
                    <a:pt x="89" y="109"/>
                  </a:lnTo>
                  <a:lnTo>
                    <a:pt x="35" y="109"/>
                  </a:lnTo>
                  <a:lnTo>
                    <a:pt x="29" y="103"/>
                  </a:lnTo>
                  <a:lnTo>
                    <a:pt x="31" y="97"/>
                  </a:lnTo>
                  <a:lnTo>
                    <a:pt x="35" y="89"/>
                  </a:lnTo>
                  <a:lnTo>
                    <a:pt x="72" y="88"/>
                  </a:lnTo>
                  <a:lnTo>
                    <a:pt x="89" y="80"/>
                  </a:lnTo>
                  <a:lnTo>
                    <a:pt x="93" y="78"/>
                  </a:lnTo>
                  <a:lnTo>
                    <a:pt x="95" y="74"/>
                  </a:lnTo>
                  <a:lnTo>
                    <a:pt x="93" y="70"/>
                  </a:lnTo>
                  <a:lnTo>
                    <a:pt x="85" y="64"/>
                  </a:lnTo>
                  <a:lnTo>
                    <a:pt x="29" y="64"/>
                  </a:lnTo>
                  <a:lnTo>
                    <a:pt x="27" y="55"/>
                  </a:lnTo>
                  <a:lnTo>
                    <a:pt x="31" y="47"/>
                  </a:lnTo>
                  <a:lnTo>
                    <a:pt x="50" y="45"/>
                  </a:lnTo>
                  <a:lnTo>
                    <a:pt x="76" y="35"/>
                  </a:lnTo>
                  <a:lnTo>
                    <a:pt x="76" y="25"/>
                  </a:lnTo>
                  <a:lnTo>
                    <a:pt x="68" y="20"/>
                  </a:lnTo>
                  <a:lnTo>
                    <a:pt x="45" y="20"/>
                  </a:lnTo>
                  <a:lnTo>
                    <a:pt x="31" y="18"/>
                  </a:lnTo>
                  <a:lnTo>
                    <a:pt x="39" y="10"/>
                  </a:lnTo>
                  <a:lnTo>
                    <a:pt x="45" y="4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78" y="6"/>
                  </a:lnTo>
                  <a:lnTo>
                    <a:pt x="91" y="14"/>
                  </a:lnTo>
                  <a:lnTo>
                    <a:pt x="134" y="4"/>
                  </a:lnTo>
                  <a:lnTo>
                    <a:pt x="153" y="18"/>
                  </a:lnTo>
                  <a:lnTo>
                    <a:pt x="210" y="12"/>
                  </a:lnTo>
                  <a:lnTo>
                    <a:pt x="223" y="24"/>
                  </a:lnTo>
                  <a:lnTo>
                    <a:pt x="223" y="35"/>
                  </a:lnTo>
                  <a:lnTo>
                    <a:pt x="217" y="49"/>
                  </a:lnTo>
                  <a:lnTo>
                    <a:pt x="175" y="68"/>
                  </a:lnTo>
                  <a:lnTo>
                    <a:pt x="173" y="88"/>
                  </a:lnTo>
                  <a:lnTo>
                    <a:pt x="161" y="101"/>
                  </a:lnTo>
                  <a:lnTo>
                    <a:pt x="147" y="109"/>
                  </a:lnTo>
                  <a:lnTo>
                    <a:pt x="132" y="113"/>
                  </a:lnTo>
                  <a:lnTo>
                    <a:pt x="118" y="117"/>
                  </a:lnTo>
                  <a:lnTo>
                    <a:pt x="105" y="138"/>
                  </a:lnTo>
                  <a:lnTo>
                    <a:pt x="87" y="144"/>
                  </a:lnTo>
                  <a:lnTo>
                    <a:pt x="70" y="146"/>
                  </a:lnTo>
                  <a:lnTo>
                    <a:pt x="52" y="148"/>
                  </a:lnTo>
                  <a:lnTo>
                    <a:pt x="35" y="150"/>
                  </a:lnTo>
                  <a:lnTo>
                    <a:pt x="31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7400" y="2210040"/>
              <a:ext cx="169920" cy="101520"/>
            </a:xfrm>
            <a:custGeom>
              <a:avLst/>
              <a:gdLst/>
              <a:ahLst/>
              <a:rect l="l" t="t" r="r" b="b"/>
              <a:pathLst>
                <a:path w="213" h="128">
                  <a:moveTo>
                    <a:pt x="83" y="128"/>
                  </a:moveTo>
                  <a:lnTo>
                    <a:pt x="0" y="103"/>
                  </a:lnTo>
                  <a:lnTo>
                    <a:pt x="2" y="97"/>
                  </a:lnTo>
                  <a:lnTo>
                    <a:pt x="11" y="97"/>
                  </a:lnTo>
                  <a:lnTo>
                    <a:pt x="23" y="101"/>
                  </a:lnTo>
                  <a:lnTo>
                    <a:pt x="33" y="103"/>
                  </a:lnTo>
                  <a:lnTo>
                    <a:pt x="44" y="106"/>
                  </a:lnTo>
                  <a:lnTo>
                    <a:pt x="54" y="108"/>
                  </a:lnTo>
                  <a:lnTo>
                    <a:pt x="66" y="110"/>
                  </a:lnTo>
                  <a:lnTo>
                    <a:pt x="77" y="112"/>
                  </a:lnTo>
                  <a:lnTo>
                    <a:pt x="89" y="114"/>
                  </a:lnTo>
                  <a:lnTo>
                    <a:pt x="85" y="108"/>
                  </a:lnTo>
                  <a:lnTo>
                    <a:pt x="85" y="103"/>
                  </a:lnTo>
                  <a:lnTo>
                    <a:pt x="50" y="83"/>
                  </a:lnTo>
                  <a:lnTo>
                    <a:pt x="52" y="72"/>
                  </a:lnTo>
                  <a:lnTo>
                    <a:pt x="89" y="75"/>
                  </a:lnTo>
                  <a:lnTo>
                    <a:pt x="101" y="75"/>
                  </a:lnTo>
                  <a:lnTo>
                    <a:pt x="107" y="72"/>
                  </a:lnTo>
                  <a:lnTo>
                    <a:pt x="97" y="60"/>
                  </a:lnTo>
                  <a:lnTo>
                    <a:pt x="87" y="54"/>
                  </a:lnTo>
                  <a:lnTo>
                    <a:pt x="75" y="48"/>
                  </a:lnTo>
                  <a:lnTo>
                    <a:pt x="68" y="46"/>
                  </a:lnTo>
                  <a:lnTo>
                    <a:pt x="70" y="37"/>
                  </a:lnTo>
                  <a:lnTo>
                    <a:pt x="75" y="35"/>
                  </a:lnTo>
                  <a:lnTo>
                    <a:pt x="103" y="42"/>
                  </a:lnTo>
                  <a:lnTo>
                    <a:pt x="110" y="41"/>
                  </a:lnTo>
                  <a:lnTo>
                    <a:pt x="116" y="41"/>
                  </a:lnTo>
                  <a:lnTo>
                    <a:pt x="118" y="29"/>
                  </a:lnTo>
                  <a:lnTo>
                    <a:pt x="105" y="19"/>
                  </a:lnTo>
                  <a:lnTo>
                    <a:pt x="75" y="11"/>
                  </a:lnTo>
                  <a:lnTo>
                    <a:pt x="79" y="2"/>
                  </a:lnTo>
                  <a:lnTo>
                    <a:pt x="89" y="0"/>
                  </a:lnTo>
                  <a:lnTo>
                    <a:pt x="101" y="2"/>
                  </a:lnTo>
                  <a:lnTo>
                    <a:pt x="112" y="6"/>
                  </a:lnTo>
                  <a:lnTo>
                    <a:pt x="124" y="13"/>
                  </a:lnTo>
                  <a:lnTo>
                    <a:pt x="132" y="21"/>
                  </a:lnTo>
                  <a:lnTo>
                    <a:pt x="134" y="41"/>
                  </a:lnTo>
                  <a:lnTo>
                    <a:pt x="147" y="41"/>
                  </a:lnTo>
                  <a:lnTo>
                    <a:pt x="169" y="54"/>
                  </a:lnTo>
                  <a:lnTo>
                    <a:pt x="172" y="62"/>
                  </a:lnTo>
                  <a:lnTo>
                    <a:pt x="178" y="62"/>
                  </a:lnTo>
                  <a:lnTo>
                    <a:pt x="209" y="72"/>
                  </a:lnTo>
                  <a:lnTo>
                    <a:pt x="211" y="75"/>
                  </a:lnTo>
                  <a:lnTo>
                    <a:pt x="213" y="91"/>
                  </a:lnTo>
                  <a:lnTo>
                    <a:pt x="207" y="101"/>
                  </a:lnTo>
                  <a:lnTo>
                    <a:pt x="159" y="103"/>
                  </a:lnTo>
                  <a:lnTo>
                    <a:pt x="155" y="114"/>
                  </a:lnTo>
                  <a:lnTo>
                    <a:pt x="145" y="118"/>
                  </a:lnTo>
                  <a:lnTo>
                    <a:pt x="107" y="118"/>
                  </a:lnTo>
                  <a:lnTo>
                    <a:pt x="97" y="128"/>
                  </a:lnTo>
                  <a:lnTo>
                    <a:pt x="8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77240" y="2275200"/>
              <a:ext cx="47520" cy="2052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27" y="25"/>
                  </a:moveTo>
                  <a:lnTo>
                    <a:pt x="20" y="25"/>
                  </a:lnTo>
                  <a:lnTo>
                    <a:pt x="0" y="10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60" y="14"/>
                  </a:lnTo>
                  <a:lnTo>
                    <a:pt x="56" y="27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9800" y="2268720"/>
              <a:ext cx="36360" cy="1584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16" y="19"/>
                  </a:moveTo>
                  <a:lnTo>
                    <a:pt x="0" y="13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45" y="11"/>
                  </a:lnTo>
                  <a:lnTo>
                    <a:pt x="35" y="21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06080" y="2249640"/>
              <a:ext cx="58680" cy="3348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20" y="43"/>
                  </a:moveTo>
                  <a:lnTo>
                    <a:pt x="0" y="31"/>
                  </a:lnTo>
                  <a:lnTo>
                    <a:pt x="4" y="25"/>
                  </a:lnTo>
                  <a:lnTo>
                    <a:pt x="20" y="10"/>
                  </a:lnTo>
                  <a:lnTo>
                    <a:pt x="24" y="0"/>
                  </a:lnTo>
                  <a:lnTo>
                    <a:pt x="74" y="8"/>
                  </a:lnTo>
                  <a:lnTo>
                    <a:pt x="74" y="22"/>
                  </a:lnTo>
                  <a:lnTo>
                    <a:pt x="64" y="33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98120" y="2251440"/>
              <a:ext cx="34920" cy="1584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3" y="20"/>
                  </a:moveTo>
                  <a:lnTo>
                    <a:pt x="14" y="16"/>
                  </a:lnTo>
                  <a:lnTo>
                    <a:pt x="2" y="10"/>
                  </a:lnTo>
                  <a:lnTo>
                    <a:pt x="0" y="0"/>
                  </a:lnTo>
                  <a:lnTo>
                    <a:pt x="45" y="16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53600" y="2221200"/>
              <a:ext cx="47520" cy="2232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8" y="29"/>
                  </a:moveTo>
                  <a:lnTo>
                    <a:pt x="0" y="24"/>
                  </a:lnTo>
                  <a:lnTo>
                    <a:pt x="6" y="4"/>
                  </a:lnTo>
                  <a:lnTo>
                    <a:pt x="55" y="0"/>
                  </a:lnTo>
                  <a:lnTo>
                    <a:pt x="61" y="4"/>
                  </a:lnTo>
                  <a:lnTo>
                    <a:pt x="55" y="16"/>
                  </a:lnTo>
                  <a:lnTo>
                    <a:pt x="47" y="22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01040" y="2217960"/>
              <a:ext cx="47880" cy="2376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16" y="31"/>
                  </a:moveTo>
                  <a:lnTo>
                    <a:pt x="0" y="25"/>
                  </a:lnTo>
                  <a:lnTo>
                    <a:pt x="8" y="13"/>
                  </a:lnTo>
                  <a:lnTo>
                    <a:pt x="14" y="1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57" y="21"/>
                  </a:lnTo>
                  <a:lnTo>
                    <a:pt x="51" y="23"/>
                  </a:lnTo>
                  <a:lnTo>
                    <a:pt x="28" y="2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4040" y="1595880"/>
              <a:ext cx="702000" cy="501480"/>
            </a:xfrm>
            <a:custGeom>
              <a:avLst/>
              <a:gdLst/>
              <a:ahLst/>
              <a:rect l="l" t="t" r="r" b="b"/>
              <a:pathLst>
                <a:path w="884" h="632">
                  <a:moveTo>
                    <a:pt x="457" y="630"/>
                  </a:moveTo>
                  <a:lnTo>
                    <a:pt x="442" y="628"/>
                  </a:lnTo>
                  <a:lnTo>
                    <a:pt x="426" y="626"/>
                  </a:lnTo>
                  <a:lnTo>
                    <a:pt x="411" y="621"/>
                  </a:lnTo>
                  <a:lnTo>
                    <a:pt x="397" y="613"/>
                  </a:lnTo>
                  <a:lnTo>
                    <a:pt x="403" y="605"/>
                  </a:lnTo>
                  <a:lnTo>
                    <a:pt x="484" y="582"/>
                  </a:lnTo>
                  <a:lnTo>
                    <a:pt x="494" y="578"/>
                  </a:lnTo>
                  <a:lnTo>
                    <a:pt x="496" y="574"/>
                  </a:lnTo>
                  <a:lnTo>
                    <a:pt x="500" y="570"/>
                  </a:lnTo>
                  <a:lnTo>
                    <a:pt x="500" y="568"/>
                  </a:lnTo>
                  <a:lnTo>
                    <a:pt x="448" y="578"/>
                  </a:lnTo>
                  <a:lnTo>
                    <a:pt x="386" y="593"/>
                  </a:lnTo>
                  <a:lnTo>
                    <a:pt x="374" y="592"/>
                  </a:lnTo>
                  <a:lnTo>
                    <a:pt x="362" y="592"/>
                  </a:lnTo>
                  <a:lnTo>
                    <a:pt x="351" y="588"/>
                  </a:lnTo>
                  <a:lnTo>
                    <a:pt x="339" y="586"/>
                  </a:lnTo>
                  <a:lnTo>
                    <a:pt x="327" y="580"/>
                  </a:lnTo>
                  <a:lnTo>
                    <a:pt x="316" y="574"/>
                  </a:lnTo>
                  <a:lnTo>
                    <a:pt x="304" y="566"/>
                  </a:lnTo>
                  <a:lnTo>
                    <a:pt x="294" y="561"/>
                  </a:lnTo>
                  <a:lnTo>
                    <a:pt x="343" y="533"/>
                  </a:lnTo>
                  <a:lnTo>
                    <a:pt x="349" y="529"/>
                  </a:lnTo>
                  <a:lnTo>
                    <a:pt x="349" y="526"/>
                  </a:lnTo>
                  <a:lnTo>
                    <a:pt x="341" y="526"/>
                  </a:lnTo>
                  <a:lnTo>
                    <a:pt x="320" y="531"/>
                  </a:lnTo>
                  <a:lnTo>
                    <a:pt x="302" y="535"/>
                  </a:lnTo>
                  <a:lnTo>
                    <a:pt x="285" y="543"/>
                  </a:lnTo>
                  <a:lnTo>
                    <a:pt x="269" y="549"/>
                  </a:lnTo>
                  <a:lnTo>
                    <a:pt x="254" y="557"/>
                  </a:lnTo>
                  <a:lnTo>
                    <a:pt x="236" y="559"/>
                  </a:lnTo>
                  <a:lnTo>
                    <a:pt x="221" y="561"/>
                  </a:lnTo>
                  <a:lnTo>
                    <a:pt x="205" y="555"/>
                  </a:lnTo>
                  <a:lnTo>
                    <a:pt x="190" y="547"/>
                  </a:lnTo>
                  <a:lnTo>
                    <a:pt x="168" y="528"/>
                  </a:lnTo>
                  <a:lnTo>
                    <a:pt x="184" y="514"/>
                  </a:lnTo>
                  <a:lnTo>
                    <a:pt x="205" y="498"/>
                  </a:lnTo>
                  <a:lnTo>
                    <a:pt x="225" y="479"/>
                  </a:lnTo>
                  <a:lnTo>
                    <a:pt x="225" y="477"/>
                  </a:lnTo>
                  <a:lnTo>
                    <a:pt x="207" y="483"/>
                  </a:lnTo>
                  <a:lnTo>
                    <a:pt x="197" y="491"/>
                  </a:lnTo>
                  <a:lnTo>
                    <a:pt x="137" y="524"/>
                  </a:lnTo>
                  <a:lnTo>
                    <a:pt x="126" y="526"/>
                  </a:lnTo>
                  <a:lnTo>
                    <a:pt x="114" y="528"/>
                  </a:lnTo>
                  <a:lnTo>
                    <a:pt x="102" y="529"/>
                  </a:lnTo>
                  <a:lnTo>
                    <a:pt x="93" y="531"/>
                  </a:lnTo>
                  <a:lnTo>
                    <a:pt x="81" y="529"/>
                  </a:lnTo>
                  <a:lnTo>
                    <a:pt x="71" y="529"/>
                  </a:lnTo>
                  <a:lnTo>
                    <a:pt x="60" y="524"/>
                  </a:lnTo>
                  <a:lnTo>
                    <a:pt x="50" y="520"/>
                  </a:lnTo>
                  <a:lnTo>
                    <a:pt x="7" y="493"/>
                  </a:lnTo>
                  <a:lnTo>
                    <a:pt x="0" y="485"/>
                  </a:lnTo>
                  <a:lnTo>
                    <a:pt x="48" y="462"/>
                  </a:lnTo>
                  <a:lnTo>
                    <a:pt x="110" y="409"/>
                  </a:lnTo>
                  <a:lnTo>
                    <a:pt x="137" y="380"/>
                  </a:lnTo>
                  <a:lnTo>
                    <a:pt x="161" y="349"/>
                  </a:lnTo>
                  <a:lnTo>
                    <a:pt x="180" y="320"/>
                  </a:lnTo>
                  <a:lnTo>
                    <a:pt x="194" y="289"/>
                  </a:lnTo>
                  <a:lnTo>
                    <a:pt x="205" y="260"/>
                  </a:lnTo>
                  <a:lnTo>
                    <a:pt x="209" y="229"/>
                  </a:lnTo>
                  <a:lnTo>
                    <a:pt x="211" y="200"/>
                  </a:lnTo>
                  <a:lnTo>
                    <a:pt x="209" y="169"/>
                  </a:lnTo>
                  <a:lnTo>
                    <a:pt x="205" y="140"/>
                  </a:lnTo>
                  <a:lnTo>
                    <a:pt x="197" y="120"/>
                  </a:lnTo>
                  <a:lnTo>
                    <a:pt x="215" y="132"/>
                  </a:lnTo>
                  <a:lnTo>
                    <a:pt x="236" y="142"/>
                  </a:lnTo>
                  <a:lnTo>
                    <a:pt x="254" y="147"/>
                  </a:lnTo>
                  <a:lnTo>
                    <a:pt x="275" y="153"/>
                  </a:lnTo>
                  <a:lnTo>
                    <a:pt x="292" y="153"/>
                  </a:lnTo>
                  <a:lnTo>
                    <a:pt x="314" y="155"/>
                  </a:lnTo>
                  <a:lnTo>
                    <a:pt x="331" y="155"/>
                  </a:lnTo>
                  <a:lnTo>
                    <a:pt x="353" y="157"/>
                  </a:lnTo>
                  <a:lnTo>
                    <a:pt x="465" y="134"/>
                  </a:lnTo>
                  <a:lnTo>
                    <a:pt x="473" y="132"/>
                  </a:lnTo>
                  <a:lnTo>
                    <a:pt x="562" y="89"/>
                  </a:lnTo>
                  <a:lnTo>
                    <a:pt x="572" y="82"/>
                  </a:lnTo>
                  <a:lnTo>
                    <a:pt x="576" y="80"/>
                  </a:lnTo>
                  <a:lnTo>
                    <a:pt x="587" y="72"/>
                  </a:lnTo>
                  <a:lnTo>
                    <a:pt x="607" y="56"/>
                  </a:lnTo>
                  <a:lnTo>
                    <a:pt x="628" y="39"/>
                  </a:lnTo>
                  <a:lnTo>
                    <a:pt x="638" y="29"/>
                  </a:lnTo>
                  <a:lnTo>
                    <a:pt x="649" y="19"/>
                  </a:lnTo>
                  <a:lnTo>
                    <a:pt x="659" y="10"/>
                  </a:lnTo>
                  <a:lnTo>
                    <a:pt x="669" y="0"/>
                  </a:lnTo>
                  <a:lnTo>
                    <a:pt x="694" y="19"/>
                  </a:lnTo>
                  <a:lnTo>
                    <a:pt x="700" y="31"/>
                  </a:lnTo>
                  <a:lnTo>
                    <a:pt x="702" y="43"/>
                  </a:lnTo>
                  <a:lnTo>
                    <a:pt x="702" y="54"/>
                  </a:lnTo>
                  <a:lnTo>
                    <a:pt x="700" y="68"/>
                  </a:lnTo>
                  <a:lnTo>
                    <a:pt x="694" y="82"/>
                  </a:lnTo>
                  <a:lnTo>
                    <a:pt x="659" y="126"/>
                  </a:lnTo>
                  <a:lnTo>
                    <a:pt x="671" y="124"/>
                  </a:lnTo>
                  <a:lnTo>
                    <a:pt x="673" y="124"/>
                  </a:lnTo>
                  <a:lnTo>
                    <a:pt x="700" y="93"/>
                  </a:lnTo>
                  <a:lnTo>
                    <a:pt x="723" y="115"/>
                  </a:lnTo>
                  <a:lnTo>
                    <a:pt x="729" y="128"/>
                  </a:lnTo>
                  <a:lnTo>
                    <a:pt x="739" y="144"/>
                  </a:lnTo>
                  <a:lnTo>
                    <a:pt x="742" y="155"/>
                  </a:lnTo>
                  <a:lnTo>
                    <a:pt x="748" y="173"/>
                  </a:lnTo>
                  <a:lnTo>
                    <a:pt x="744" y="184"/>
                  </a:lnTo>
                  <a:lnTo>
                    <a:pt x="740" y="198"/>
                  </a:lnTo>
                  <a:lnTo>
                    <a:pt x="733" y="210"/>
                  </a:lnTo>
                  <a:lnTo>
                    <a:pt x="727" y="223"/>
                  </a:lnTo>
                  <a:lnTo>
                    <a:pt x="717" y="235"/>
                  </a:lnTo>
                  <a:lnTo>
                    <a:pt x="707" y="248"/>
                  </a:lnTo>
                  <a:lnTo>
                    <a:pt x="698" y="260"/>
                  </a:lnTo>
                  <a:lnTo>
                    <a:pt x="688" y="274"/>
                  </a:lnTo>
                  <a:lnTo>
                    <a:pt x="684" y="283"/>
                  </a:lnTo>
                  <a:lnTo>
                    <a:pt x="688" y="285"/>
                  </a:lnTo>
                  <a:lnTo>
                    <a:pt x="702" y="270"/>
                  </a:lnTo>
                  <a:lnTo>
                    <a:pt x="715" y="254"/>
                  </a:lnTo>
                  <a:lnTo>
                    <a:pt x="729" y="239"/>
                  </a:lnTo>
                  <a:lnTo>
                    <a:pt x="742" y="225"/>
                  </a:lnTo>
                  <a:lnTo>
                    <a:pt x="752" y="225"/>
                  </a:lnTo>
                  <a:lnTo>
                    <a:pt x="764" y="229"/>
                  </a:lnTo>
                  <a:lnTo>
                    <a:pt x="775" y="235"/>
                  </a:lnTo>
                  <a:lnTo>
                    <a:pt x="789" y="241"/>
                  </a:lnTo>
                  <a:lnTo>
                    <a:pt x="799" y="246"/>
                  </a:lnTo>
                  <a:lnTo>
                    <a:pt x="810" y="254"/>
                  </a:lnTo>
                  <a:lnTo>
                    <a:pt x="818" y="264"/>
                  </a:lnTo>
                  <a:lnTo>
                    <a:pt x="826" y="277"/>
                  </a:lnTo>
                  <a:lnTo>
                    <a:pt x="824" y="287"/>
                  </a:lnTo>
                  <a:lnTo>
                    <a:pt x="822" y="299"/>
                  </a:lnTo>
                  <a:lnTo>
                    <a:pt x="818" y="308"/>
                  </a:lnTo>
                  <a:lnTo>
                    <a:pt x="814" y="320"/>
                  </a:lnTo>
                  <a:lnTo>
                    <a:pt x="806" y="330"/>
                  </a:lnTo>
                  <a:lnTo>
                    <a:pt x="801" y="341"/>
                  </a:lnTo>
                  <a:lnTo>
                    <a:pt x="793" y="353"/>
                  </a:lnTo>
                  <a:lnTo>
                    <a:pt x="785" y="365"/>
                  </a:lnTo>
                  <a:lnTo>
                    <a:pt x="783" y="372"/>
                  </a:lnTo>
                  <a:lnTo>
                    <a:pt x="787" y="372"/>
                  </a:lnTo>
                  <a:lnTo>
                    <a:pt x="797" y="361"/>
                  </a:lnTo>
                  <a:lnTo>
                    <a:pt x="806" y="351"/>
                  </a:lnTo>
                  <a:lnTo>
                    <a:pt x="814" y="339"/>
                  </a:lnTo>
                  <a:lnTo>
                    <a:pt x="824" y="330"/>
                  </a:lnTo>
                  <a:lnTo>
                    <a:pt x="830" y="316"/>
                  </a:lnTo>
                  <a:lnTo>
                    <a:pt x="835" y="305"/>
                  </a:lnTo>
                  <a:lnTo>
                    <a:pt x="839" y="293"/>
                  </a:lnTo>
                  <a:lnTo>
                    <a:pt x="843" y="283"/>
                  </a:lnTo>
                  <a:lnTo>
                    <a:pt x="861" y="291"/>
                  </a:lnTo>
                  <a:lnTo>
                    <a:pt x="872" y="306"/>
                  </a:lnTo>
                  <a:lnTo>
                    <a:pt x="880" y="322"/>
                  </a:lnTo>
                  <a:lnTo>
                    <a:pt x="884" y="339"/>
                  </a:lnTo>
                  <a:lnTo>
                    <a:pt x="876" y="392"/>
                  </a:lnTo>
                  <a:lnTo>
                    <a:pt x="867" y="413"/>
                  </a:lnTo>
                  <a:lnTo>
                    <a:pt x="835" y="454"/>
                  </a:lnTo>
                  <a:lnTo>
                    <a:pt x="803" y="491"/>
                  </a:lnTo>
                  <a:lnTo>
                    <a:pt x="766" y="520"/>
                  </a:lnTo>
                  <a:lnTo>
                    <a:pt x="729" y="549"/>
                  </a:lnTo>
                  <a:lnTo>
                    <a:pt x="688" y="570"/>
                  </a:lnTo>
                  <a:lnTo>
                    <a:pt x="649" y="590"/>
                  </a:lnTo>
                  <a:lnTo>
                    <a:pt x="611" y="603"/>
                  </a:lnTo>
                  <a:lnTo>
                    <a:pt x="576" y="617"/>
                  </a:lnTo>
                  <a:lnTo>
                    <a:pt x="558" y="619"/>
                  </a:lnTo>
                  <a:lnTo>
                    <a:pt x="545" y="621"/>
                  </a:lnTo>
                  <a:lnTo>
                    <a:pt x="529" y="623"/>
                  </a:lnTo>
                  <a:lnTo>
                    <a:pt x="515" y="626"/>
                  </a:lnTo>
                  <a:lnTo>
                    <a:pt x="500" y="626"/>
                  </a:lnTo>
                  <a:lnTo>
                    <a:pt x="486" y="628"/>
                  </a:lnTo>
                  <a:lnTo>
                    <a:pt x="473" y="630"/>
                  </a:lnTo>
                  <a:lnTo>
                    <a:pt x="459" y="632"/>
                  </a:lnTo>
                  <a:lnTo>
                    <a:pt x="457" y="6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69520" y="1959120"/>
              <a:ext cx="101520" cy="58680"/>
            </a:xfrm>
            <a:custGeom>
              <a:avLst/>
              <a:gdLst/>
              <a:ahLst/>
              <a:rect l="l" t="t" r="r" b="b"/>
              <a:pathLst>
                <a:path w="128" h="73">
                  <a:moveTo>
                    <a:pt x="111" y="71"/>
                  </a:moveTo>
                  <a:lnTo>
                    <a:pt x="97" y="66"/>
                  </a:lnTo>
                  <a:lnTo>
                    <a:pt x="84" y="64"/>
                  </a:lnTo>
                  <a:lnTo>
                    <a:pt x="70" y="60"/>
                  </a:lnTo>
                  <a:lnTo>
                    <a:pt x="58" y="60"/>
                  </a:lnTo>
                  <a:lnTo>
                    <a:pt x="45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6" y="64"/>
                  </a:lnTo>
                  <a:lnTo>
                    <a:pt x="0" y="60"/>
                  </a:lnTo>
                  <a:lnTo>
                    <a:pt x="4" y="50"/>
                  </a:lnTo>
                  <a:lnTo>
                    <a:pt x="26" y="44"/>
                  </a:lnTo>
                  <a:lnTo>
                    <a:pt x="33" y="37"/>
                  </a:lnTo>
                  <a:lnTo>
                    <a:pt x="26" y="29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14" y="9"/>
                  </a:lnTo>
                  <a:lnTo>
                    <a:pt x="53" y="19"/>
                  </a:lnTo>
                  <a:lnTo>
                    <a:pt x="72" y="9"/>
                  </a:lnTo>
                  <a:lnTo>
                    <a:pt x="84" y="8"/>
                  </a:lnTo>
                  <a:lnTo>
                    <a:pt x="107" y="0"/>
                  </a:lnTo>
                  <a:lnTo>
                    <a:pt x="121" y="6"/>
                  </a:lnTo>
                  <a:lnTo>
                    <a:pt x="109" y="15"/>
                  </a:lnTo>
                  <a:lnTo>
                    <a:pt x="103" y="19"/>
                  </a:lnTo>
                  <a:lnTo>
                    <a:pt x="105" y="44"/>
                  </a:lnTo>
                  <a:lnTo>
                    <a:pt x="128" y="66"/>
                  </a:lnTo>
                  <a:lnTo>
                    <a:pt x="122" y="73"/>
                  </a:lnTo>
                  <a:lnTo>
                    <a:pt x="11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9720" y="652680"/>
              <a:ext cx="3067200" cy="1354320"/>
            </a:xfrm>
            <a:custGeom>
              <a:avLst/>
              <a:gdLst/>
              <a:ahLst/>
              <a:rect l="l" t="t" r="r" b="b"/>
              <a:pathLst>
                <a:path w="3865" h="1707">
                  <a:moveTo>
                    <a:pt x="2292" y="1705"/>
                  </a:moveTo>
                  <a:lnTo>
                    <a:pt x="2265" y="1701"/>
                  </a:lnTo>
                  <a:lnTo>
                    <a:pt x="2238" y="1697"/>
                  </a:lnTo>
                  <a:lnTo>
                    <a:pt x="2211" y="1691"/>
                  </a:lnTo>
                  <a:lnTo>
                    <a:pt x="2183" y="1684"/>
                  </a:lnTo>
                  <a:lnTo>
                    <a:pt x="2154" y="1670"/>
                  </a:lnTo>
                  <a:lnTo>
                    <a:pt x="2129" y="1655"/>
                  </a:lnTo>
                  <a:lnTo>
                    <a:pt x="2102" y="1635"/>
                  </a:lnTo>
                  <a:lnTo>
                    <a:pt x="2079" y="1612"/>
                  </a:lnTo>
                  <a:lnTo>
                    <a:pt x="2065" y="1600"/>
                  </a:lnTo>
                  <a:lnTo>
                    <a:pt x="2048" y="1579"/>
                  </a:lnTo>
                  <a:lnTo>
                    <a:pt x="2040" y="1565"/>
                  </a:lnTo>
                  <a:lnTo>
                    <a:pt x="2038" y="1561"/>
                  </a:lnTo>
                  <a:lnTo>
                    <a:pt x="2024" y="1544"/>
                  </a:lnTo>
                  <a:lnTo>
                    <a:pt x="1995" y="1478"/>
                  </a:lnTo>
                  <a:lnTo>
                    <a:pt x="1991" y="1466"/>
                  </a:lnTo>
                  <a:lnTo>
                    <a:pt x="1988" y="1455"/>
                  </a:lnTo>
                  <a:lnTo>
                    <a:pt x="1984" y="1443"/>
                  </a:lnTo>
                  <a:lnTo>
                    <a:pt x="1984" y="1431"/>
                  </a:lnTo>
                  <a:lnTo>
                    <a:pt x="1982" y="1420"/>
                  </a:lnTo>
                  <a:lnTo>
                    <a:pt x="1980" y="1408"/>
                  </a:lnTo>
                  <a:lnTo>
                    <a:pt x="1980" y="1397"/>
                  </a:lnTo>
                  <a:lnTo>
                    <a:pt x="1984" y="1387"/>
                  </a:lnTo>
                  <a:lnTo>
                    <a:pt x="1980" y="1383"/>
                  </a:lnTo>
                  <a:lnTo>
                    <a:pt x="1974" y="1395"/>
                  </a:lnTo>
                  <a:lnTo>
                    <a:pt x="1974" y="1410"/>
                  </a:lnTo>
                  <a:lnTo>
                    <a:pt x="1974" y="1424"/>
                  </a:lnTo>
                  <a:lnTo>
                    <a:pt x="1976" y="1439"/>
                  </a:lnTo>
                  <a:lnTo>
                    <a:pt x="1976" y="1453"/>
                  </a:lnTo>
                  <a:lnTo>
                    <a:pt x="1980" y="1468"/>
                  </a:lnTo>
                  <a:lnTo>
                    <a:pt x="1986" y="1484"/>
                  </a:lnTo>
                  <a:lnTo>
                    <a:pt x="1991" y="1499"/>
                  </a:lnTo>
                  <a:lnTo>
                    <a:pt x="2023" y="1559"/>
                  </a:lnTo>
                  <a:lnTo>
                    <a:pt x="2057" y="1608"/>
                  </a:lnTo>
                  <a:lnTo>
                    <a:pt x="2083" y="1639"/>
                  </a:lnTo>
                  <a:lnTo>
                    <a:pt x="1896" y="1561"/>
                  </a:lnTo>
                  <a:lnTo>
                    <a:pt x="1873" y="1550"/>
                  </a:lnTo>
                  <a:lnTo>
                    <a:pt x="1850" y="1538"/>
                  </a:lnTo>
                  <a:lnTo>
                    <a:pt x="1827" y="1527"/>
                  </a:lnTo>
                  <a:lnTo>
                    <a:pt x="1805" y="1519"/>
                  </a:lnTo>
                  <a:lnTo>
                    <a:pt x="1782" y="1511"/>
                  </a:lnTo>
                  <a:lnTo>
                    <a:pt x="1759" y="1503"/>
                  </a:lnTo>
                  <a:lnTo>
                    <a:pt x="1735" y="1497"/>
                  </a:lnTo>
                  <a:lnTo>
                    <a:pt x="1714" y="1495"/>
                  </a:lnTo>
                  <a:lnTo>
                    <a:pt x="1732" y="1484"/>
                  </a:lnTo>
                  <a:lnTo>
                    <a:pt x="1749" y="1472"/>
                  </a:lnTo>
                  <a:lnTo>
                    <a:pt x="1767" y="1457"/>
                  </a:lnTo>
                  <a:lnTo>
                    <a:pt x="1786" y="1441"/>
                  </a:lnTo>
                  <a:lnTo>
                    <a:pt x="1798" y="1441"/>
                  </a:lnTo>
                  <a:lnTo>
                    <a:pt x="1809" y="1441"/>
                  </a:lnTo>
                  <a:lnTo>
                    <a:pt x="1821" y="1441"/>
                  </a:lnTo>
                  <a:lnTo>
                    <a:pt x="1832" y="1445"/>
                  </a:lnTo>
                  <a:lnTo>
                    <a:pt x="1844" y="1445"/>
                  </a:lnTo>
                  <a:lnTo>
                    <a:pt x="1856" y="1451"/>
                  </a:lnTo>
                  <a:lnTo>
                    <a:pt x="1867" y="1455"/>
                  </a:lnTo>
                  <a:lnTo>
                    <a:pt x="1879" y="1463"/>
                  </a:lnTo>
                  <a:lnTo>
                    <a:pt x="1887" y="1463"/>
                  </a:lnTo>
                  <a:lnTo>
                    <a:pt x="1887" y="1455"/>
                  </a:lnTo>
                  <a:lnTo>
                    <a:pt x="1871" y="1443"/>
                  </a:lnTo>
                  <a:lnTo>
                    <a:pt x="1819" y="1428"/>
                  </a:lnTo>
                  <a:lnTo>
                    <a:pt x="1829" y="1418"/>
                  </a:lnTo>
                  <a:lnTo>
                    <a:pt x="1831" y="1416"/>
                  </a:lnTo>
                  <a:lnTo>
                    <a:pt x="1831" y="1412"/>
                  </a:lnTo>
                  <a:lnTo>
                    <a:pt x="1831" y="1408"/>
                  </a:lnTo>
                  <a:lnTo>
                    <a:pt x="1817" y="1406"/>
                  </a:lnTo>
                  <a:lnTo>
                    <a:pt x="1786" y="1424"/>
                  </a:lnTo>
                  <a:lnTo>
                    <a:pt x="1776" y="1426"/>
                  </a:lnTo>
                  <a:lnTo>
                    <a:pt x="1770" y="1430"/>
                  </a:lnTo>
                  <a:lnTo>
                    <a:pt x="1654" y="1449"/>
                  </a:lnTo>
                  <a:lnTo>
                    <a:pt x="1650" y="1451"/>
                  </a:lnTo>
                  <a:lnTo>
                    <a:pt x="1648" y="1457"/>
                  </a:lnTo>
                  <a:lnTo>
                    <a:pt x="1749" y="1455"/>
                  </a:lnTo>
                  <a:lnTo>
                    <a:pt x="1735" y="1461"/>
                  </a:lnTo>
                  <a:lnTo>
                    <a:pt x="1722" y="1468"/>
                  </a:lnTo>
                  <a:lnTo>
                    <a:pt x="1708" y="1474"/>
                  </a:lnTo>
                  <a:lnTo>
                    <a:pt x="1697" y="1480"/>
                  </a:lnTo>
                  <a:lnTo>
                    <a:pt x="1683" y="1484"/>
                  </a:lnTo>
                  <a:lnTo>
                    <a:pt x="1670" y="1488"/>
                  </a:lnTo>
                  <a:lnTo>
                    <a:pt x="1656" y="1494"/>
                  </a:lnTo>
                  <a:lnTo>
                    <a:pt x="1644" y="1499"/>
                  </a:lnTo>
                  <a:lnTo>
                    <a:pt x="1623" y="1501"/>
                  </a:lnTo>
                  <a:lnTo>
                    <a:pt x="1604" y="1505"/>
                  </a:lnTo>
                  <a:lnTo>
                    <a:pt x="1584" y="1507"/>
                  </a:lnTo>
                  <a:lnTo>
                    <a:pt x="1565" y="1509"/>
                  </a:lnTo>
                  <a:lnTo>
                    <a:pt x="1545" y="1509"/>
                  </a:lnTo>
                  <a:lnTo>
                    <a:pt x="1526" y="1509"/>
                  </a:lnTo>
                  <a:lnTo>
                    <a:pt x="1507" y="1509"/>
                  </a:lnTo>
                  <a:lnTo>
                    <a:pt x="1489" y="1509"/>
                  </a:lnTo>
                  <a:lnTo>
                    <a:pt x="1375" y="1492"/>
                  </a:lnTo>
                  <a:lnTo>
                    <a:pt x="1371" y="1495"/>
                  </a:lnTo>
                  <a:lnTo>
                    <a:pt x="1371" y="1501"/>
                  </a:lnTo>
                  <a:lnTo>
                    <a:pt x="1384" y="1511"/>
                  </a:lnTo>
                  <a:lnTo>
                    <a:pt x="1367" y="1513"/>
                  </a:lnTo>
                  <a:lnTo>
                    <a:pt x="1352" y="1515"/>
                  </a:lnTo>
                  <a:lnTo>
                    <a:pt x="1336" y="1515"/>
                  </a:lnTo>
                  <a:lnTo>
                    <a:pt x="1322" y="1515"/>
                  </a:lnTo>
                  <a:lnTo>
                    <a:pt x="1305" y="1511"/>
                  </a:lnTo>
                  <a:lnTo>
                    <a:pt x="1291" y="1509"/>
                  </a:lnTo>
                  <a:lnTo>
                    <a:pt x="1274" y="1505"/>
                  </a:lnTo>
                  <a:lnTo>
                    <a:pt x="1260" y="1503"/>
                  </a:lnTo>
                  <a:lnTo>
                    <a:pt x="1245" y="1495"/>
                  </a:lnTo>
                  <a:lnTo>
                    <a:pt x="1227" y="1488"/>
                  </a:lnTo>
                  <a:lnTo>
                    <a:pt x="1262" y="1480"/>
                  </a:lnTo>
                  <a:lnTo>
                    <a:pt x="1262" y="1474"/>
                  </a:lnTo>
                  <a:lnTo>
                    <a:pt x="1134" y="1461"/>
                  </a:lnTo>
                  <a:lnTo>
                    <a:pt x="1084" y="1441"/>
                  </a:lnTo>
                  <a:lnTo>
                    <a:pt x="1035" y="1420"/>
                  </a:lnTo>
                  <a:lnTo>
                    <a:pt x="989" y="1393"/>
                  </a:lnTo>
                  <a:lnTo>
                    <a:pt x="942" y="1368"/>
                  </a:lnTo>
                  <a:lnTo>
                    <a:pt x="894" y="1338"/>
                  </a:lnTo>
                  <a:lnTo>
                    <a:pt x="847" y="1311"/>
                  </a:lnTo>
                  <a:lnTo>
                    <a:pt x="799" y="1282"/>
                  </a:lnTo>
                  <a:lnTo>
                    <a:pt x="752" y="1257"/>
                  </a:lnTo>
                  <a:lnTo>
                    <a:pt x="741" y="1245"/>
                  </a:lnTo>
                  <a:lnTo>
                    <a:pt x="752" y="1241"/>
                  </a:lnTo>
                  <a:lnTo>
                    <a:pt x="760" y="1234"/>
                  </a:lnTo>
                  <a:lnTo>
                    <a:pt x="756" y="1230"/>
                  </a:lnTo>
                  <a:lnTo>
                    <a:pt x="744" y="1232"/>
                  </a:lnTo>
                  <a:lnTo>
                    <a:pt x="733" y="1236"/>
                  </a:lnTo>
                  <a:lnTo>
                    <a:pt x="723" y="1238"/>
                  </a:lnTo>
                  <a:lnTo>
                    <a:pt x="713" y="1238"/>
                  </a:lnTo>
                  <a:lnTo>
                    <a:pt x="684" y="1241"/>
                  </a:lnTo>
                  <a:lnTo>
                    <a:pt x="692" y="1226"/>
                  </a:lnTo>
                  <a:lnTo>
                    <a:pt x="692" y="1220"/>
                  </a:lnTo>
                  <a:lnTo>
                    <a:pt x="690" y="1216"/>
                  </a:lnTo>
                  <a:lnTo>
                    <a:pt x="684" y="1214"/>
                  </a:lnTo>
                  <a:lnTo>
                    <a:pt x="646" y="1261"/>
                  </a:lnTo>
                  <a:lnTo>
                    <a:pt x="636" y="1267"/>
                  </a:lnTo>
                  <a:lnTo>
                    <a:pt x="622" y="1274"/>
                  </a:lnTo>
                  <a:lnTo>
                    <a:pt x="613" y="1276"/>
                  </a:lnTo>
                  <a:lnTo>
                    <a:pt x="589" y="1280"/>
                  </a:lnTo>
                  <a:lnTo>
                    <a:pt x="570" y="1286"/>
                  </a:lnTo>
                  <a:lnTo>
                    <a:pt x="549" y="1290"/>
                  </a:lnTo>
                  <a:lnTo>
                    <a:pt x="531" y="1296"/>
                  </a:lnTo>
                  <a:lnTo>
                    <a:pt x="510" y="1298"/>
                  </a:lnTo>
                  <a:lnTo>
                    <a:pt x="490" y="1302"/>
                  </a:lnTo>
                  <a:lnTo>
                    <a:pt x="469" y="1304"/>
                  </a:lnTo>
                  <a:lnTo>
                    <a:pt x="450" y="1309"/>
                  </a:lnTo>
                  <a:lnTo>
                    <a:pt x="409" y="1315"/>
                  </a:lnTo>
                  <a:lnTo>
                    <a:pt x="393" y="1317"/>
                  </a:lnTo>
                  <a:lnTo>
                    <a:pt x="382" y="1321"/>
                  </a:lnTo>
                  <a:lnTo>
                    <a:pt x="366" y="1325"/>
                  </a:lnTo>
                  <a:lnTo>
                    <a:pt x="355" y="1329"/>
                  </a:lnTo>
                  <a:lnTo>
                    <a:pt x="341" y="1331"/>
                  </a:lnTo>
                  <a:lnTo>
                    <a:pt x="328" y="1333"/>
                  </a:lnTo>
                  <a:lnTo>
                    <a:pt x="314" y="1335"/>
                  </a:lnTo>
                  <a:lnTo>
                    <a:pt x="302" y="1336"/>
                  </a:lnTo>
                  <a:lnTo>
                    <a:pt x="285" y="1336"/>
                  </a:lnTo>
                  <a:lnTo>
                    <a:pt x="265" y="1336"/>
                  </a:lnTo>
                  <a:lnTo>
                    <a:pt x="246" y="1338"/>
                  </a:lnTo>
                  <a:lnTo>
                    <a:pt x="227" y="1333"/>
                  </a:lnTo>
                  <a:lnTo>
                    <a:pt x="209" y="1325"/>
                  </a:lnTo>
                  <a:lnTo>
                    <a:pt x="209" y="1309"/>
                  </a:lnTo>
                  <a:lnTo>
                    <a:pt x="248" y="1294"/>
                  </a:lnTo>
                  <a:lnTo>
                    <a:pt x="269" y="1290"/>
                  </a:lnTo>
                  <a:lnTo>
                    <a:pt x="393" y="1259"/>
                  </a:lnTo>
                  <a:lnTo>
                    <a:pt x="448" y="1226"/>
                  </a:lnTo>
                  <a:lnTo>
                    <a:pt x="465" y="1232"/>
                  </a:lnTo>
                  <a:lnTo>
                    <a:pt x="459" y="1224"/>
                  </a:lnTo>
                  <a:lnTo>
                    <a:pt x="456" y="1222"/>
                  </a:lnTo>
                  <a:lnTo>
                    <a:pt x="456" y="1214"/>
                  </a:lnTo>
                  <a:lnTo>
                    <a:pt x="465" y="1205"/>
                  </a:lnTo>
                  <a:lnTo>
                    <a:pt x="457" y="1197"/>
                  </a:lnTo>
                  <a:lnTo>
                    <a:pt x="450" y="1197"/>
                  </a:lnTo>
                  <a:lnTo>
                    <a:pt x="409" y="1207"/>
                  </a:lnTo>
                  <a:lnTo>
                    <a:pt x="397" y="1208"/>
                  </a:lnTo>
                  <a:lnTo>
                    <a:pt x="341" y="1208"/>
                  </a:lnTo>
                  <a:lnTo>
                    <a:pt x="308" y="1205"/>
                  </a:lnTo>
                  <a:lnTo>
                    <a:pt x="277" y="1201"/>
                  </a:lnTo>
                  <a:lnTo>
                    <a:pt x="244" y="1197"/>
                  </a:lnTo>
                  <a:lnTo>
                    <a:pt x="213" y="1193"/>
                  </a:lnTo>
                  <a:lnTo>
                    <a:pt x="180" y="1185"/>
                  </a:lnTo>
                  <a:lnTo>
                    <a:pt x="149" y="1179"/>
                  </a:lnTo>
                  <a:lnTo>
                    <a:pt x="118" y="1172"/>
                  </a:lnTo>
                  <a:lnTo>
                    <a:pt x="87" y="1164"/>
                  </a:lnTo>
                  <a:lnTo>
                    <a:pt x="75" y="1160"/>
                  </a:lnTo>
                  <a:lnTo>
                    <a:pt x="64" y="1156"/>
                  </a:lnTo>
                  <a:lnTo>
                    <a:pt x="54" y="1150"/>
                  </a:lnTo>
                  <a:lnTo>
                    <a:pt x="44" y="1146"/>
                  </a:lnTo>
                  <a:lnTo>
                    <a:pt x="25" y="1133"/>
                  </a:lnTo>
                  <a:lnTo>
                    <a:pt x="6" y="1115"/>
                  </a:lnTo>
                  <a:lnTo>
                    <a:pt x="2" y="1112"/>
                  </a:lnTo>
                  <a:lnTo>
                    <a:pt x="0" y="1106"/>
                  </a:lnTo>
                  <a:lnTo>
                    <a:pt x="2" y="1092"/>
                  </a:lnTo>
                  <a:lnTo>
                    <a:pt x="33" y="1090"/>
                  </a:lnTo>
                  <a:lnTo>
                    <a:pt x="66" y="1094"/>
                  </a:lnTo>
                  <a:lnTo>
                    <a:pt x="99" y="1100"/>
                  </a:lnTo>
                  <a:lnTo>
                    <a:pt x="132" y="1108"/>
                  </a:lnTo>
                  <a:lnTo>
                    <a:pt x="163" y="1113"/>
                  </a:lnTo>
                  <a:lnTo>
                    <a:pt x="196" y="1119"/>
                  </a:lnTo>
                  <a:lnTo>
                    <a:pt x="227" y="1123"/>
                  </a:lnTo>
                  <a:lnTo>
                    <a:pt x="262" y="1127"/>
                  </a:lnTo>
                  <a:lnTo>
                    <a:pt x="409" y="1115"/>
                  </a:lnTo>
                  <a:lnTo>
                    <a:pt x="423" y="1113"/>
                  </a:lnTo>
                  <a:lnTo>
                    <a:pt x="436" y="1106"/>
                  </a:lnTo>
                  <a:lnTo>
                    <a:pt x="436" y="1117"/>
                  </a:lnTo>
                  <a:lnTo>
                    <a:pt x="444" y="1131"/>
                  </a:lnTo>
                  <a:lnTo>
                    <a:pt x="454" y="1139"/>
                  </a:lnTo>
                  <a:lnTo>
                    <a:pt x="454" y="1125"/>
                  </a:lnTo>
                  <a:lnTo>
                    <a:pt x="450" y="1119"/>
                  </a:lnTo>
                  <a:lnTo>
                    <a:pt x="446" y="1115"/>
                  </a:lnTo>
                  <a:lnTo>
                    <a:pt x="452" y="1106"/>
                  </a:lnTo>
                  <a:lnTo>
                    <a:pt x="483" y="1137"/>
                  </a:lnTo>
                  <a:lnTo>
                    <a:pt x="485" y="1125"/>
                  </a:lnTo>
                  <a:lnTo>
                    <a:pt x="463" y="1102"/>
                  </a:lnTo>
                  <a:lnTo>
                    <a:pt x="461" y="1090"/>
                  </a:lnTo>
                  <a:lnTo>
                    <a:pt x="463" y="1077"/>
                  </a:lnTo>
                  <a:lnTo>
                    <a:pt x="461" y="1063"/>
                  </a:lnTo>
                  <a:lnTo>
                    <a:pt x="392" y="1046"/>
                  </a:lnTo>
                  <a:lnTo>
                    <a:pt x="392" y="1040"/>
                  </a:lnTo>
                  <a:lnTo>
                    <a:pt x="273" y="966"/>
                  </a:lnTo>
                  <a:lnTo>
                    <a:pt x="250" y="953"/>
                  </a:lnTo>
                  <a:lnTo>
                    <a:pt x="229" y="937"/>
                  </a:lnTo>
                  <a:lnTo>
                    <a:pt x="207" y="920"/>
                  </a:lnTo>
                  <a:lnTo>
                    <a:pt x="190" y="904"/>
                  </a:lnTo>
                  <a:lnTo>
                    <a:pt x="168" y="883"/>
                  </a:lnTo>
                  <a:lnTo>
                    <a:pt x="149" y="863"/>
                  </a:lnTo>
                  <a:lnTo>
                    <a:pt x="130" y="844"/>
                  </a:lnTo>
                  <a:lnTo>
                    <a:pt x="112" y="825"/>
                  </a:lnTo>
                  <a:lnTo>
                    <a:pt x="103" y="792"/>
                  </a:lnTo>
                  <a:lnTo>
                    <a:pt x="103" y="786"/>
                  </a:lnTo>
                  <a:lnTo>
                    <a:pt x="110" y="770"/>
                  </a:lnTo>
                  <a:lnTo>
                    <a:pt x="124" y="774"/>
                  </a:lnTo>
                  <a:lnTo>
                    <a:pt x="139" y="782"/>
                  </a:lnTo>
                  <a:lnTo>
                    <a:pt x="153" y="792"/>
                  </a:lnTo>
                  <a:lnTo>
                    <a:pt x="168" y="807"/>
                  </a:lnTo>
                  <a:lnTo>
                    <a:pt x="186" y="821"/>
                  </a:lnTo>
                  <a:lnTo>
                    <a:pt x="203" y="836"/>
                  </a:lnTo>
                  <a:lnTo>
                    <a:pt x="221" y="852"/>
                  </a:lnTo>
                  <a:lnTo>
                    <a:pt x="238" y="867"/>
                  </a:lnTo>
                  <a:lnTo>
                    <a:pt x="256" y="879"/>
                  </a:lnTo>
                  <a:lnTo>
                    <a:pt x="273" y="892"/>
                  </a:lnTo>
                  <a:lnTo>
                    <a:pt x="291" y="904"/>
                  </a:lnTo>
                  <a:lnTo>
                    <a:pt x="310" y="916"/>
                  </a:lnTo>
                  <a:lnTo>
                    <a:pt x="444" y="982"/>
                  </a:lnTo>
                  <a:lnTo>
                    <a:pt x="461" y="985"/>
                  </a:lnTo>
                  <a:lnTo>
                    <a:pt x="481" y="991"/>
                  </a:lnTo>
                  <a:lnTo>
                    <a:pt x="498" y="995"/>
                  </a:lnTo>
                  <a:lnTo>
                    <a:pt x="518" y="1001"/>
                  </a:lnTo>
                  <a:lnTo>
                    <a:pt x="535" y="1003"/>
                  </a:lnTo>
                  <a:lnTo>
                    <a:pt x="554" y="1007"/>
                  </a:lnTo>
                  <a:lnTo>
                    <a:pt x="574" y="1009"/>
                  </a:lnTo>
                  <a:lnTo>
                    <a:pt x="593" y="1011"/>
                  </a:lnTo>
                  <a:lnTo>
                    <a:pt x="607" y="1011"/>
                  </a:lnTo>
                  <a:lnTo>
                    <a:pt x="634" y="1011"/>
                  </a:lnTo>
                  <a:lnTo>
                    <a:pt x="684" y="985"/>
                  </a:lnTo>
                  <a:lnTo>
                    <a:pt x="694" y="978"/>
                  </a:lnTo>
                  <a:lnTo>
                    <a:pt x="700" y="976"/>
                  </a:lnTo>
                  <a:lnTo>
                    <a:pt x="712" y="966"/>
                  </a:lnTo>
                  <a:lnTo>
                    <a:pt x="717" y="964"/>
                  </a:lnTo>
                  <a:lnTo>
                    <a:pt x="723" y="958"/>
                  </a:lnTo>
                  <a:lnTo>
                    <a:pt x="743" y="941"/>
                  </a:lnTo>
                  <a:lnTo>
                    <a:pt x="764" y="925"/>
                  </a:lnTo>
                  <a:lnTo>
                    <a:pt x="774" y="918"/>
                  </a:lnTo>
                  <a:lnTo>
                    <a:pt x="785" y="912"/>
                  </a:lnTo>
                  <a:lnTo>
                    <a:pt x="797" y="906"/>
                  </a:lnTo>
                  <a:lnTo>
                    <a:pt x="808" y="904"/>
                  </a:lnTo>
                  <a:lnTo>
                    <a:pt x="828" y="896"/>
                  </a:lnTo>
                  <a:lnTo>
                    <a:pt x="847" y="896"/>
                  </a:lnTo>
                  <a:lnTo>
                    <a:pt x="867" y="900"/>
                  </a:lnTo>
                  <a:lnTo>
                    <a:pt x="888" y="912"/>
                  </a:lnTo>
                  <a:lnTo>
                    <a:pt x="907" y="929"/>
                  </a:lnTo>
                  <a:lnTo>
                    <a:pt x="907" y="943"/>
                  </a:lnTo>
                  <a:lnTo>
                    <a:pt x="888" y="964"/>
                  </a:lnTo>
                  <a:lnTo>
                    <a:pt x="878" y="966"/>
                  </a:lnTo>
                  <a:lnTo>
                    <a:pt x="855" y="974"/>
                  </a:lnTo>
                  <a:lnTo>
                    <a:pt x="836" y="978"/>
                  </a:lnTo>
                  <a:lnTo>
                    <a:pt x="816" y="985"/>
                  </a:lnTo>
                  <a:lnTo>
                    <a:pt x="797" y="995"/>
                  </a:lnTo>
                  <a:lnTo>
                    <a:pt x="779" y="1009"/>
                  </a:lnTo>
                  <a:lnTo>
                    <a:pt x="760" y="1022"/>
                  </a:lnTo>
                  <a:lnTo>
                    <a:pt x="746" y="1040"/>
                  </a:lnTo>
                  <a:lnTo>
                    <a:pt x="735" y="1057"/>
                  </a:lnTo>
                  <a:lnTo>
                    <a:pt x="731" y="1079"/>
                  </a:lnTo>
                  <a:lnTo>
                    <a:pt x="729" y="1088"/>
                  </a:lnTo>
                  <a:lnTo>
                    <a:pt x="729" y="1100"/>
                  </a:lnTo>
                  <a:lnTo>
                    <a:pt x="729" y="1110"/>
                  </a:lnTo>
                  <a:lnTo>
                    <a:pt x="729" y="1121"/>
                  </a:lnTo>
                  <a:lnTo>
                    <a:pt x="725" y="1131"/>
                  </a:lnTo>
                  <a:lnTo>
                    <a:pt x="721" y="1143"/>
                  </a:lnTo>
                  <a:lnTo>
                    <a:pt x="715" y="1154"/>
                  </a:lnTo>
                  <a:lnTo>
                    <a:pt x="708" y="1166"/>
                  </a:lnTo>
                  <a:lnTo>
                    <a:pt x="694" y="1174"/>
                  </a:lnTo>
                  <a:lnTo>
                    <a:pt x="680" y="1176"/>
                  </a:lnTo>
                  <a:lnTo>
                    <a:pt x="679" y="1185"/>
                  </a:lnTo>
                  <a:lnTo>
                    <a:pt x="706" y="1183"/>
                  </a:lnTo>
                  <a:lnTo>
                    <a:pt x="710" y="1181"/>
                  </a:lnTo>
                  <a:lnTo>
                    <a:pt x="737" y="1150"/>
                  </a:lnTo>
                  <a:lnTo>
                    <a:pt x="744" y="1108"/>
                  </a:lnTo>
                  <a:lnTo>
                    <a:pt x="789" y="1117"/>
                  </a:lnTo>
                  <a:lnTo>
                    <a:pt x="836" y="1129"/>
                  </a:lnTo>
                  <a:lnTo>
                    <a:pt x="882" y="1141"/>
                  </a:lnTo>
                  <a:lnTo>
                    <a:pt x="929" y="1152"/>
                  </a:lnTo>
                  <a:lnTo>
                    <a:pt x="973" y="1162"/>
                  </a:lnTo>
                  <a:lnTo>
                    <a:pt x="1020" y="1174"/>
                  </a:lnTo>
                  <a:lnTo>
                    <a:pt x="1066" y="1181"/>
                  </a:lnTo>
                  <a:lnTo>
                    <a:pt x="1113" y="1191"/>
                  </a:lnTo>
                  <a:lnTo>
                    <a:pt x="1165" y="1193"/>
                  </a:lnTo>
                  <a:lnTo>
                    <a:pt x="1160" y="1201"/>
                  </a:lnTo>
                  <a:lnTo>
                    <a:pt x="1148" y="1205"/>
                  </a:lnTo>
                  <a:lnTo>
                    <a:pt x="1134" y="1212"/>
                  </a:lnTo>
                  <a:lnTo>
                    <a:pt x="1123" y="1214"/>
                  </a:lnTo>
                  <a:lnTo>
                    <a:pt x="1119" y="1216"/>
                  </a:lnTo>
                  <a:lnTo>
                    <a:pt x="1115" y="1218"/>
                  </a:lnTo>
                  <a:lnTo>
                    <a:pt x="1115" y="1226"/>
                  </a:lnTo>
                  <a:lnTo>
                    <a:pt x="1181" y="1208"/>
                  </a:lnTo>
                  <a:lnTo>
                    <a:pt x="1346" y="1119"/>
                  </a:lnTo>
                  <a:lnTo>
                    <a:pt x="1355" y="1115"/>
                  </a:lnTo>
                  <a:lnTo>
                    <a:pt x="1367" y="1112"/>
                  </a:lnTo>
                  <a:lnTo>
                    <a:pt x="1377" y="1108"/>
                  </a:lnTo>
                  <a:lnTo>
                    <a:pt x="1419" y="1094"/>
                  </a:lnTo>
                  <a:lnTo>
                    <a:pt x="1437" y="1086"/>
                  </a:lnTo>
                  <a:lnTo>
                    <a:pt x="1456" y="1081"/>
                  </a:lnTo>
                  <a:lnTo>
                    <a:pt x="1476" y="1077"/>
                  </a:lnTo>
                  <a:lnTo>
                    <a:pt x="1495" y="1075"/>
                  </a:lnTo>
                  <a:lnTo>
                    <a:pt x="1514" y="1069"/>
                  </a:lnTo>
                  <a:lnTo>
                    <a:pt x="1534" y="1067"/>
                  </a:lnTo>
                  <a:lnTo>
                    <a:pt x="1553" y="1067"/>
                  </a:lnTo>
                  <a:lnTo>
                    <a:pt x="1573" y="1067"/>
                  </a:lnTo>
                  <a:lnTo>
                    <a:pt x="1689" y="1077"/>
                  </a:lnTo>
                  <a:lnTo>
                    <a:pt x="1703" y="1081"/>
                  </a:lnTo>
                  <a:lnTo>
                    <a:pt x="1718" y="1086"/>
                  </a:lnTo>
                  <a:lnTo>
                    <a:pt x="1732" y="1092"/>
                  </a:lnTo>
                  <a:lnTo>
                    <a:pt x="1747" y="1100"/>
                  </a:lnTo>
                  <a:lnTo>
                    <a:pt x="1761" y="1104"/>
                  </a:lnTo>
                  <a:lnTo>
                    <a:pt x="1778" y="1110"/>
                  </a:lnTo>
                  <a:lnTo>
                    <a:pt x="1792" y="1112"/>
                  </a:lnTo>
                  <a:lnTo>
                    <a:pt x="1809" y="1113"/>
                  </a:lnTo>
                  <a:lnTo>
                    <a:pt x="1811" y="1115"/>
                  </a:lnTo>
                  <a:lnTo>
                    <a:pt x="1836" y="1115"/>
                  </a:lnTo>
                  <a:lnTo>
                    <a:pt x="1834" y="1106"/>
                  </a:lnTo>
                  <a:lnTo>
                    <a:pt x="1743" y="1084"/>
                  </a:lnTo>
                  <a:lnTo>
                    <a:pt x="1778" y="1038"/>
                  </a:lnTo>
                  <a:lnTo>
                    <a:pt x="1813" y="1011"/>
                  </a:lnTo>
                  <a:lnTo>
                    <a:pt x="1856" y="991"/>
                  </a:lnTo>
                  <a:lnTo>
                    <a:pt x="1871" y="987"/>
                  </a:lnTo>
                  <a:lnTo>
                    <a:pt x="1893" y="989"/>
                  </a:lnTo>
                  <a:lnTo>
                    <a:pt x="1896" y="985"/>
                  </a:lnTo>
                  <a:lnTo>
                    <a:pt x="1879" y="974"/>
                  </a:lnTo>
                  <a:lnTo>
                    <a:pt x="1856" y="974"/>
                  </a:lnTo>
                  <a:lnTo>
                    <a:pt x="1848" y="949"/>
                  </a:lnTo>
                  <a:lnTo>
                    <a:pt x="1846" y="925"/>
                  </a:lnTo>
                  <a:lnTo>
                    <a:pt x="1844" y="900"/>
                  </a:lnTo>
                  <a:lnTo>
                    <a:pt x="1848" y="877"/>
                  </a:lnTo>
                  <a:lnTo>
                    <a:pt x="1852" y="852"/>
                  </a:lnTo>
                  <a:lnTo>
                    <a:pt x="1860" y="828"/>
                  </a:lnTo>
                  <a:lnTo>
                    <a:pt x="1865" y="805"/>
                  </a:lnTo>
                  <a:lnTo>
                    <a:pt x="1877" y="782"/>
                  </a:lnTo>
                  <a:lnTo>
                    <a:pt x="1945" y="890"/>
                  </a:lnTo>
                  <a:lnTo>
                    <a:pt x="1947" y="896"/>
                  </a:lnTo>
                  <a:lnTo>
                    <a:pt x="1955" y="904"/>
                  </a:lnTo>
                  <a:lnTo>
                    <a:pt x="1964" y="916"/>
                  </a:lnTo>
                  <a:lnTo>
                    <a:pt x="1976" y="927"/>
                  </a:lnTo>
                  <a:lnTo>
                    <a:pt x="1988" y="937"/>
                  </a:lnTo>
                  <a:lnTo>
                    <a:pt x="2001" y="947"/>
                  </a:lnTo>
                  <a:lnTo>
                    <a:pt x="2013" y="953"/>
                  </a:lnTo>
                  <a:lnTo>
                    <a:pt x="2026" y="960"/>
                  </a:lnTo>
                  <a:lnTo>
                    <a:pt x="2040" y="964"/>
                  </a:lnTo>
                  <a:lnTo>
                    <a:pt x="2054" y="966"/>
                  </a:lnTo>
                  <a:lnTo>
                    <a:pt x="2077" y="991"/>
                  </a:lnTo>
                  <a:lnTo>
                    <a:pt x="2100" y="1011"/>
                  </a:lnTo>
                  <a:lnTo>
                    <a:pt x="2125" y="1022"/>
                  </a:lnTo>
                  <a:lnTo>
                    <a:pt x="2151" y="1034"/>
                  </a:lnTo>
                  <a:lnTo>
                    <a:pt x="2174" y="1038"/>
                  </a:lnTo>
                  <a:lnTo>
                    <a:pt x="2199" y="1042"/>
                  </a:lnTo>
                  <a:lnTo>
                    <a:pt x="2224" y="1044"/>
                  </a:lnTo>
                  <a:lnTo>
                    <a:pt x="2249" y="1046"/>
                  </a:lnTo>
                  <a:lnTo>
                    <a:pt x="2277" y="1042"/>
                  </a:lnTo>
                  <a:lnTo>
                    <a:pt x="2306" y="1034"/>
                  </a:lnTo>
                  <a:lnTo>
                    <a:pt x="2420" y="982"/>
                  </a:lnTo>
                  <a:lnTo>
                    <a:pt x="2430" y="974"/>
                  </a:lnTo>
                  <a:lnTo>
                    <a:pt x="2453" y="954"/>
                  </a:lnTo>
                  <a:lnTo>
                    <a:pt x="2480" y="935"/>
                  </a:lnTo>
                  <a:lnTo>
                    <a:pt x="2507" y="912"/>
                  </a:lnTo>
                  <a:lnTo>
                    <a:pt x="2535" y="890"/>
                  </a:lnTo>
                  <a:lnTo>
                    <a:pt x="2558" y="863"/>
                  </a:lnTo>
                  <a:lnTo>
                    <a:pt x="2583" y="838"/>
                  </a:lnTo>
                  <a:lnTo>
                    <a:pt x="2602" y="811"/>
                  </a:lnTo>
                  <a:lnTo>
                    <a:pt x="2620" y="786"/>
                  </a:lnTo>
                  <a:lnTo>
                    <a:pt x="2622" y="768"/>
                  </a:lnTo>
                  <a:lnTo>
                    <a:pt x="2626" y="753"/>
                  </a:lnTo>
                  <a:lnTo>
                    <a:pt x="2626" y="737"/>
                  </a:lnTo>
                  <a:lnTo>
                    <a:pt x="2626" y="724"/>
                  </a:lnTo>
                  <a:lnTo>
                    <a:pt x="2622" y="706"/>
                  </a:lnTo>
                  <a:lnTo>
                    <a:pt x="2620" y="693"/>
                  </a:lnTo>
                  <a:lnTo>
                    <a:pt x="2616" y="677"/>
                  </a:lnTo>
                  <a:lnTo>
                    <a:pt x="2612" y="664"/>
                  </a:lnTo>
                  <a:lnTo>
                    <a:pt x="2608" y="658"/>
                  </a:lnTo>
                  <a:lnTo>
                    <a:pt x="2610" y="636"/>
                  </a:lnTo>
                  <a:lnTo>
                    <a:pt x="2612" y="617"/>
                  </a:lnTo>
                  <a:lnTo>
                    <a:pt x="2612" y="596"/>
                  </a:lnTo>
                  <a:lnTo>
                    <a:pt x="2612" y="578"/>
                  </a:lnTo>
                  <a:lnTo>
                    <a:pt x="2610" y="557"/>
                  </a:lnTo>
                  <a:lnTo>
                    <a:pt x="2608" y="538"/>
                  </a:lnTo>
                  <a:lnTo>
                    <a:pt x="2606" y="516"/>
                  </a:lnTo>
                  <a:lnTo>
                    <a:pt x="2604" y="499"/>
                  </a:lnTo>
                  <a:lnTo>
                    <a:pt x="2600" y="487"/>
                  </a:lnTo>
                  <a:lnTo>
                    <a:pt x="2569" y="441"/>
                  </a:lnTo>
                  <a:lnTo>
                    <a:pt x="2548" y="417"/>
                  </a:lnTo>
                  <a:lnTo>
                    <a:pt x="2567" y="417"/>
                  </a:lnTo>
                  <a:lnTo>
                    <a:pt x="2587" y="419"/>
                  </a:lnTo>
                  <a:lnTo>
                    <a:pt x="2606" y="421"/>
                  </a:lnTo>
                  <a:lnTo>
                    <a:pt x="2626" y="427"/>
                  </a:lnTo>
                  <a:lnTo>
                    <a:pt x="2645" y="431"/>
                  </a:lnTo>
                  <a:lnTo>
                    <a:pt x="2664" y="437"/>
                  </a:lnTo>
                  <a:lnTo>
                    <a:pt x="2684" y="444"/>
                  </a:lnTo>
                  <a:lnTo>
                    <a:pt x="2705" y="458"/>
                  </a:lnTo>
                  <a:lnTo>
                    <a:pt x="2690" y="468"/>
                  </a:lnTo>
                  <a:lnTo>
                    <a:pt x="2674" y="479"/>
                  </a:lnTo>
                  <a:lnTo>
                    <a:pt x="2670" y="483"/>
                  </a:lnTo>
                  <a:lnTo>
                    <a:pt x="2670" y="489"/>
                  </a:lnTo>
                  <a:lnTo>
                    <a:pt x="2711" y="472"/>
                  </a:lnTo>
                  <a:lnTo>
                    <a:pt x="2723" y="470"/>
                  </a:lnTo>
                  <a:lnTo>
                    <a:pt x="2744" y="462"/>
                  </a:lnTo>
                  <a:lnTo>
                    <a:pt x="2767" y="458"/>
                  </a:lnTo>
                  <a:lnTo>
                    <a:pt x="2789" y="452"/>
                  </a:lnTo>
                  <a:lnTo>
                    <a:pt x="2812" y="452"/>
                  </a:lnTo>
                  <a:lnTo>
                    <a:pt x="2833" y="452"/>
                  </a:lnTo>
                  <a:lnTo>
                    <a:pt x="2856" y="454"/>
                  </a:lnTo>
                  <a:lnTo>
                    <a:pt x="2880" y="458"/>
                  </a:lnTo>
                  <a:lnTo>
                    <a:pt x="2903" y="466"/>
                  </a:lnTo>
                  <a:lnTo>
                    <a:pt x="2911" y="464"/>
                  </a:lnTo>
                  <a:lnTo>
                    <a:pt x="2911" y="462"/>
                  </a:lnTo>
                  <a:lnTo>
                    <a:pt x="2909" y="454"/>
                  </a:lnTo>
                  <a:lnTo>
                    <a:pt x="2891" y="444"/>
                  </a:lnTo>
                  <a:lnTo>
                    <a:pt x="2868" y="441"/>
                  </a:lnTo>
                  <a:lnTo>
                    <a:pt x="2874" y="435"/>
                  </a:lnTo>
                  <a:lnTo>
                    <a:pt x="2930" y="423"/>
                  </a:lnTo>
                  <a:lnTo>
                    <a:pt x="2948" y="423"/>
                  </a:lnTo>
                  <a:lnTo>
                    <a:pt x="2965" y="427"/>
                  </a:lnTo>
                  <a:lnTo>
                    <a:pt x="2983" y="429"/>
                  </a:lnTo>
                  <a:lnTo>
                    <a:pt x="3002" y="435"/>
                  </a:lnTo>
                  <a:lnTo>
                    <a:pt x="3019" y="441"/>
                  </a:lnTo>
                  <a:lnTo>
                    <a:pt x="3037" y="446"/>
                  </a:lnTo>
                  <a:lnTo>
                    <a:pt x="3054" y="454"/>
                  </a:lnTo>
                  <a:lnTo>
                    <a:pt x="3074" y="466"/>
                  </a:lnTo>
                  <a:lnTo>
                    <a:pt x="3043" y="477"/>
                  </a:lnTo>
                  <a:lnTo>
                    <a:pt x="3008" y="491"/>
                  </a:lnTo>
                  <a:lnTo>
                    <a:pt x="3000" y="501"/>
                  </a:lnTo>
                  <a:lnTo>
                    <a:pt x="3002" y="505"/>
                  </a:lnTo>
                  <a:lnTo>
                    <a:pt x="3021" y="499"/>
                  </a:lnTo>
                  <a:lnTo>
                    <a:pt x="3041" y="493"/>
                  </a:lnTo>
                  <a:lnTo>
                    <a:pt x="3060" y="489"/>
                  </a:lnTo>
                  <a:lnTo>
                    <a:pt x="3081" y="487"/>
                  </a:lnTo>
                  <a:lnTo>
                    <a:pt x="3099" y="483"/>
                  </a:lnTo>
                  <a:lnTo>
                    <a:pt x="3120" y="481"/>
                  </a:lnTo>
                  <a:lnTo>
                    <a:pt x="3140" y="481"/>
                  </a:lnTo>
                  <a:lnTo>
                    <a:pt x="3161" y="483"/>
                  </a:lnTo>
                  <a:lnTo>
                    <a:pt x="3173" y="483"/>
                  </a:lnTo>
                  <a:lnTo>
                    <a:pt x="3207" y="483"/>
                  </a:lnTo>
                  <a:lnTo>
                    <a:pt x="3242" y="487"/>
                  </a:lnTo>
                  <a:lnTo>
                    <a:pt x="3277" y="493"/>
                  </a:lnTo>
                  <a:lnTo>
                    <a:pt x="3314" y="501"/>
                  </a:lnTo>
                  <a:lnTo>
                    <a:pt x="3349" y="508"/>
                  </a:lnTo>
                  <a:lnTo>
                    <a:pt x="3386" y="520"/>
                  </a:lnTo>
                  <a:lnTo>
                    <a:pt x="3421" y="536"/>
                  </a:lnTo>
                  <a:lnTo>
                    <a:pt x="3458" y="555"/>
                  </a:lnTo>
                  <a:lnTo>
                    <a:pt x="3452" y="596"/>
                  </a:lnTo>
                  <a:lnTo>
                    <a:pt x="3462" y="594"/>
                  </a:lnTo>
                  <a:lnTo>
                    <a:pt x="3469" y="578"/>
                  </a:lnTo>
                  <a:lnTo>
                    <a:pt x="3477" y="633"/>
                  </a:lnTo>
                  <a:lnTo>
                    <a:pt x="3487" y="634"/>
                  </a:lnTo>
                  <a:lnTo>
                    <a:pt x="3489" y="609"/>
                  </a:lnTo>
                  <a:lnTo>
                    <a:pt x="3487" y="586"/>
                  </a:lnTo>
                  <a:lnTo>
                    <a:pt x="3487" y="565"/>
                  </a:lnTo>
                  <a:lnTo>
                    <a:pt x="3489" y="543"/>
                  </a:lnTo>
                  <a:lnTo>
                    <a:pt x="3495" y="522"/>
                  </a:lnTo>
                  <a:lnTo>
                    <a:pt x="3496" y="499"/>
                  </a:lnTo>
                  <a:lnTo>
                    <a:pt x="3502" y="479"/>
                  </a:lnTo>
                  <a:lnTo>
                    <a:pt x="3506" y="456"/>
                  </a:lnTo>
                  <a:lnTo>
                    <a:pt x="3512" y="437"/>
                  </a:lnTo>
                  <a:lnTo>
                    <a:pt x="3512" y="419"/>
                  </a:lnTo>
                  <a:lnTo>
                    <a:pt x="3512" y="404"/>
                  </a:lnTo>
                  <a:lnTo>
                    <a:pt x="3512" y="388"/>
                  </a:lnTo>
                  <a:lnTo>
                    <a:pt x="3512" y="373"/>
                  </a:lnTo>
                  <a:lnTo>
                    <a:pt x="3510" y="357"/>
                  </a:lnTo>
                  <a:lnTo>
                    <a:pt x="3508" y="342"/>
                  </a:lnTo>
                  <a:lnTo>
                    <a:pt x="3506" y="326"/>
                  </a:lnTo>
                  <a:lnTo>
                    <a:pt x="3506" y="313"/>
                  </a:lnTo>
                  <a:lnTo>
                    <a:pt x="3502" y="301"/>
                  </a:lnTo>
                  <a:lnTo>
                    <a:pt x="3498" y="289"/>
                  </a:lnTo>
                  <a:lnTo>
                    <a:pt x="3514" y="278"/>
                  </a:lnTo>
                  <a:lnTo>
                    <a:pt x="3543" y="239"/>
                  </a:lnTo>
                  <a:lnTo>
                    <a:pt x="3549" y="212"/>
                  </a:lnTo>
                  <a:lnTo>
                    <a:pt x="3547" y="200"/>
                  </a:lnTo>
                  <a:lnTo>
                    <a:pt x="3543" y="196"/>
                  </a:lnTo>
                  <a:lnTo>
                    <a:pt x="3539" y="208"/>
                  </a:lnTo>
                  <a:lnTo>
                    <a:pt x="3533" y="221"/>
                  </a:lnTo>
                  <a:lnTo>
                    <a:pt x="3526" y="235"/>
                  </a:lnTo>
                  <a:lnTo>
                    <a:pt x="3518" y="251"/>
                  </a:lnTo>
                  <a:lnTo>
                    <a:pt x="3506" y="262"/>
                  </a:lnTo>
                  <a:lnTo>
                    <a:pt x="3495" y="274"/>
                  </a:lnTo>
                  <a:lnTo>
                    <a:pt x="3481" y="282"/>
                  </a:lnTo>
                  <a:lnTo>
                    <a:pt x="3467" y="287"/>
                  </a:lnTo>
                  <a:lnTo>
                    <a:pt x="3454" y="289"/>
                  </a:lnTo>
                  <a:lnTo>
                    <a:pt x="3442" y="291"/>
                  </a:lnTo>
                  <a:lnTo>
                    <a:pt x="3431" y="291"/>
                  </a:lnTo>
                  <a:lnTo>
                    <a:pt x="3421" y="291"/>
                  </a:lnTo>
                  <a:lnTo>
                    <a:pt x="3409" y="287"/>
                  </a:lnTo>
                  <a:lnTo>
                    <a:pt x="3398" y="284"/>
                  </a:lnTo>
                  <a:lnTo>
                    <a:pt x="3386" y="278"/>
                  </a:lnTo>
                  <a:lnTo>
                    <a:pt x="3376" y="272"/>
                  </a:lnTo>
                  <a:lnTo>
                    <a:pt x="3359" y="256"/>
                  </a:lnTo>
                  <a:lnTo>
                    <a:pt x="3343" y="243"/>
                  </a:lnTo>
                  <a:lnTo>
                    <a:pt x="3330" y="227"/>
                  </a:lnTo>
                  <a:lnTo>
                    <a:pt x="3318" y="214"/>
                  </a:lnTo>
                  <a:lnTo>
                    <a:pt x="3287" y="148"/>
                  </a:lnTo>
                  <a:lnTo>
                    <a:pt x="3285" y="138"/>
                  </a:lnTo>
                  <a:lnTo>
                    <a:pt x="3279" y="123"/>
                  </a:lnTo>
                  <a:lnTo>
                    <a:pt x="3275" y="109"/>
                  </a:lnTo>
                  <a:lnTo>
                    <a:pt x="3270" y="95"/>
                  </a:lnTo>
                  <a:lnTo>
                    <a:pt x="3270" y="84"/>
                  </a:lnTo>
                  <a:lnTo>
                    <a:pt x="3268" y="70"/>
                  </a:lnTo>
                  <a:lnTo>
                    <a:pt x="3270" y="57"/>
                  </a:lnTo>
                  <a:lnTo>
                    <a:pt x="3275" y="43"/>
                  </a:lnTo>
                  <a:lnTo>
                    <a:pt x="3283" y="31"/>
                  </a:lnTo>
                  <a:lnTo>
                    <a:pt x="3308" y="20"/>
                  </a:lnTo>
                  <a:lnTo>
                    <a:pt x="3335" y="14"/>
                  </a:lnTo>
                  <a:lnTo>
                    <a:pt x="3361" y="12"/>
                  </a:lnTo>
                  <a:lnTo>
                    <a:pt x="3388" y="12"/>
                  </a:lnTo>
                  <a:lnTo>
                    <a:pt x="3413" y="12"/>
                  </a:lnTo>
                  <a:lnTo>
                    <a:pt x="3440" y="12"/>
                  </a:lnTo>
                  <a:lnTo>
                    <a:pt x="3465" y="8"/>
                  </a:lnTo>
                  <a:lnTo>
                    <a:pt x="3495" y="0"/>
                  </a:lnTo>
                  <a:lnTo>
                    <a:pt x="3512" y="10"/>
                  </a:lnTo>
                  <a:lnTo>
                    <a:pt x="3512" y="14"/>
                  </a:lnTo>
                  <a:lnTo>
                    <a:pt x="3514" y="24"/>
                  </a:lnTo>
                  <a:lnTo>
                    <a:pt x="3522" y="41"/>
                  </a:lnTo>
                  <a:lnTo>
                    <a:pt x="3514" y="60"/>
                  </a:lnTo>
                  <a:lnTo>
                    <a:pt x="3500" y="80"/>
                  </a:lnTo>
                  <a:lnTo>
                    <a:pt x="3481" y="95"/>
                  </a:lnTo>
                  <a:lnTo>
                    <a:pt x="3463" y="109"/>
                  </a:lnTo>
                  <a:lnTo>
                    <a:pt x="3456" y="113"/>
                  </a:lnTo>
                  <a:lnTo>
                    <a:pt x="3444" y="115"/>
                  </a:lnTo>
                  <a:lnTo>
                    <a:pt x="3434" y="117"/>
                  </a:lnTo>
                  <a:lnTo>
                    <a:pt x="3423" y="119"/>
                  </a:lnTo>
                  <a:lnTo>
                    <a:pt x="3413" y="121"/>
                  </a:lnTo>
                  <a:lnTo>
                    <a:pt x="3392" y="119"/>
                  </a:lnTo>
                  <a:lnTo>
                    <a:pt x="3372" y="119"/>
                  </a:lnTo>
                  <a:lnTo>
                    <a:pt x="3351" y="109"/>
                  </a:lnTo>
                  <a:lnTo>
                    <a:pt x="3345" y="109"/>
                  </a:lnTo>
                  <a:lnTo>
                    <a:pt x="3347" y="117"/>
                  </a:lnTo>
                  <a:lnTo>
                    <a:pt x="3386" y="134"/>
                  </a:lnTo>
                  <a:lnTo>
                    <a:pt x="3378" y="146"/>
                  </a:lnTo>
                  <a:lnTo>
                    <a:pt x="3370" y="152"/>
                  </a:lnTo>
                  <a:lnTo>
                    <a:pt x="3372" y="157"/>
                  </a:lnTo>
                  <a:lnTo>
                    <a:pt x="3386" y="156"/>
                  </a:lnTo>
                  <a:lnTo>
                    <a:pt x="3394" y="148"/>
                  </a:lnTo>
                  <a:lnTo>
                    <a:pt x="3401" y="136"/>
                  </a:lnTo>
                  <a:lnTo>
                    <a:pt x="3469" y="124"/>
                  </a:lnTo>
                  <a:lnTo>
                    <a:pt x="3481" y="117"/>
                  </a:lnTo>
                  <a:lnTo>
                    <a:pt x="3485" y="113"/>
                  </a:lnTo>
                  <a:lnTo>
                    <a:pt x="3524" y="111"/>
                  </a:lnTo>
                  <a:lnTo>
                    <a:pt x="3531" y="109"/>
                  </a:lnTo>
                  <a:lnTo>
                    <a:pt x="3553" y="88"/>
                  </a:lnTo>
                  <a:lnTo>
                    <a:pt x="3557" y="86"/>
                  </a:lnTo>
                  <a:lnTo>
                    <a:pt x="3570" y="93"/>
                  </a:lnTo>
                  <a:lnTo>
                    <a:pt x="3586" y="99"/>
                  </a:lnTo>
                  <a:lnTo>
                    <a:pt x="3601" y="99"/>
                  </a:lnTo>
                  <a:lnTo>
                    <a:pt x="3617" y="97"/>
                  </a:lnTo>
                  <a:lnTo>
                    <a:pt x="3632" y="101"/>
                  </a:lnTo>
                  <a:lnTo>
                    <a:pt x="3638" y="115"/>
                  </a:lnTo>
                  <a:lnTo>
                    <a:pt x="3644" y="128"/>
                  </a:lnTo>
                  <a:lnTo>
                    <a:pt x="3646" y="142"/>
                  </a:lnTo>
                  <a:lnTo>
                    <a:pt x="3644" y="157"/>
                  </a:lnTo>
                  <a:lnTo>
                    <a:pt x="3628" y="187"/>
                  </a:lnTo>
                  <a:lnTo>
                    <a:pt x="3624" y="190"/>
                  </a:lnTo>
                  <a:lnTo>
                    <a:pt x="3613" y="194"/>
                  </a:lnTo>
                  <a:lnTo>
                    <a:pt x="3601" y="196"/>
                  </a:lnTo>
                  <a:lnTo>
                    <a:pt x="3590" y="194"/>
                  </a:lnTo>
                  <a:lnTo>
                    <a:pt x="3580" y="190"/>
                  </a:lnTo>
                  <a:lnTo>
                    <a:pt x="3568" y="190"/>
                  </a:lnTo>
                  <a:lnTo>
                    <a:pt x="3564" y="198"/>
                  </a:lnTo>
                  <a:lnTo>
                    <a:pt x="3566" y="202"/>
                  </a:lnTo>
                  <a:lnTo>
                    <a:pt x="3578" y="206"/>
                  </a:lnTo>
                  <a:lnTo>
                    <a:pt x="3591" y="210"/>
                  </a:lnTo>
                  <a:lnTo>
                    <a:pt x="3605" y="210"/>
                  </a:lnTo>
                  <a:lnTo>
                    <a:pt x="3619" y="212"/>
                  </a:lnTo>
                  <a:lnTo>
                    <a:pt x="3630" y="237"/>
                  </a:lnTo>
                  <a:lnTo>
                    <a:pt x="3644" y="264"/>
                  </a:lnTo>
                  <a:lnTo>
                    <a:pt x="3655" y="291"/>
                  </a:lnTo>
                  <a:lnTo>
                    <a:pt x="3671" y="318"/>
                  </a:lnTo>
                  <a:lnTo>
                    <a:pt x="3683" y="344"/>
                  </a:lnTo>
                  <a:lnTo>
                    <a:pt x="3698" y="371"/>
                  </a:lnTo>
                  <a:lnTo>
                    <a:pt x="3716" y="396"/>
                  </a:lnTo>
                  <a:lnTo>
                    <a:pt x="3733" y="425"/>
                  </a:lnTo>
                  <a:lnTo>
                    <a:pt x="3760" y="475"/>
                  </a:lnTo>
                  <a:lnTo>
                    <a:pt x="3789" y="526"/>
                  </a:lnTo>
                  <a:lnTo>
                    <a:pt x="3816" y="576"/>
                  </a:lnTo>
                  <a:lnTo>
                    <a:pt x="3840" y="629"/>
                  </a:lnTo>
                  <a:lnTo>
                    <a:pt x="3855" y="679"/>
                  </a:lnTo>
                  <a:lnTo>
                    <a:pt x="3865" y="731"/>
                  </a:lnTo>
                  <a:lnTo>
                    <a:pt x="3863" y="782"/>
                  </a:lnTo>
                  <a:lnTo>
                    <a:pt x="3851" y="834"/>
                  </a:lnTo>
                  <a:lnTo>
                    <a:pt x="3838" y="852"/>
                  </a:lnTo>
                  <a:lnTo>
                    <a:pt x="3822" y="871"/>
                  </a:lnTo>
                  <a:lnTo>
                    <a:pt x="3801" y="887"/>
                  </a:lnTo>
                  <a:lnTo>
                    <a:pt x="3782" y="900"/>
                  </a:lnTo>
                  <a:lnTo>
                    <a:pt x="3772" y="910"/>
                  </a:lnTo>
                  <a:lnTo>
                    <a:pt x="3756" y="916"/>
                  </a:lnTo>
                  <a:lnTo>
                    <a:pt x="3747" y="923"/>
                  </a:lnTo>
                  <a:lnTo>
                    <a:pt x="3735" y="925"/>
                  </a:lnTo>
                  <a:lnTo>
                    <a:pt x="3731" y="929"/>
                  </a:lnTo>
                  <a:lnTo>
                    <a:pt x="3721" y="929"/>
                  </a:lnTo>
                  <a:lnTo>
                    <a:pt x="3617" y="953"/>
                  </a:lnTo>
                  <a:lnTo>
                    <a:pt x="3572" y="958"/>
                  </a:lnTo>
                  <a:lnTo>
                    <a:pt x="3529" y="964"/>
                  </a:lnTo>
                  <a:lnTo>
                    <a:pt x="3487" y="968"/>
                  </a:lnTo>
                  <a:lnTo>
                    <a:pt x="3444" y="970"/>
                  </a:lnTo>
                  <a:lnTo>
                    <a:pt x="3399" y="968"/>
                  </a:lnTo>
                  <a:lnTo>
                    <a:pt x="3357" y="964"/>
                  </a:lnTo>
                  <a:lnTo>
                    <a:pt x="3314" y="958"/>
                  </a:lnTo>
                  <a:lnTo>
                    <a:pt x="3271" y="951"/>
                  </a:lnTo>
                  <a:lnTo>
                    <a:pt x="3246" y="945"/>
                  </a:lnTo>
                  <a:lnTo>
                    <a:pt x="3242" y="953"/>
                  </a:lnTo>
                  <a:lnTo>
                    <a:pt x="3254" y="960"/>
                  </a:lnTo>
                  <a:lnTo>
                    <a:pt x="3271" y="964"/>
                  </a:lnTo>
                  <a:lnTo>
                    <a:pt x="3289" y="968"/>
                  </a:lnTo>
                  <a:lnTo>
                    <a:pt x="3306" y="972"/>
                  </a:lnTo>
                  <a:lnTo>
                    <a:pt x="3326" y="976"/>
                  </a:lnTo>
                  <a:lnTo>
                    <a:pt x="3343" y="978"/>
                  </a:lnTo>
                  <a:lnTo>
                    <a:pt x="3361" y="982"/>
                  </a:lnTo>
                  <a:lnTo>
                    <a:pt x="3378" y="984"/>
                  </a:lnTo>
                  <a:lnTo>
                    <a:pt x="3398" y="987"/>
                  </a:lnTo>
                  <a:lnTo>
                    <a:pt x="3382" y="1017"/>
                  </a:lnTo>
                  <a:lnTo>
                    <a:pt x="3353" y="1051"/>
                  </a:lnTo>
                  <a:lnTo>
                    <a:pt x="3330" y="1090"/>
                  </a:lnTo>
                  <a:lnTo>
                    <a:pt x="3310" y="1127"/>
                  </a:lnTo>
                  <a:lnTo>
                    <a:pt x="3297" y="1168"/>
                  </a:lnTo>
                  <a:lnTo>
                    <a:pt x="3283" y="1205"/>
                  </a:lnTo>
                  <a:lnTo>
                    <a:pt x="3273" y="1243"/>
                  </a:lnTo>
                  <a:lnTo>
                    <a:pt x="3262" y="1282"/>
                  </a:lnTo>
                  <a:lnTo>
                    <a:pt x="3254" y="1321"/>
                  </a:lnTo>
                  <a:lnTo>
                    <a:pt x="3219" y="1276"/>
                  </a:lnTo>
                  <a:lnTo>
                    <a:pt x="3209" y="1271"/>
                  </a:lnTo>
                  <a:lnTo>
                    <a:pt x="3219" y="1238"/>
                  </a:lnTo>
                  <a:lnTo>
                    <a:pt x="3207" y="1201"/>
                  </a:lnTo>
                  <a:lnTo>
                    <a:pt x="3184" y="1174"/>
                  </a:lnTo>
                  <a:lnTo>
                    <a:pt x="3194" y="1154"/>
                  </a:lnTo>
                  <a:lnTo>
                    <a:pt x="3204" y="1137"/>
                  </a:lnTo>
                  <a:lnTo>
                    <a:pt x="3209" y="1119"/>
                  </a:lnTo>
                  <a:lnTo>
                    <a:pt x="3217" y="1102"/>
                  </a:lnTo>
                  <a:lnTo>
                    <a:pt x="3219" y="1084"/>
                  </a:lnTo>
                  <a:lnTo>
                    <a:pt x="3223" y="1067"/>
                  </a:lnTo>
                  <a:lnTo>
                    <a:pt x="3225" y="1049"/>
                  </a:lnTo>
                  <a:lnTo>
                    <a:pt x="3227" y="1032"/>
                  </a:lnTo>
                  <a:lnTo>
                    <a:pt x="3207" y="887"/>
                  </a:lnTo>
                  <a:lnTo>
                    <a:pt x="3196" y="858"/>
                  </a:lnTo>
                  <a:lnTo>
                    <a:pt x="3188" y="848"/>
                  </a:lnTo>
                  <a:lnTo>
                    <a:pt x="3180" y="842"/>
                  </a:lnTo>
                  <a:lnTo>
                    <a:pt x="3180" y="848"/>
                  </a:lnTo>
                  <a:lnTo>
                    <a:pt x="3188" y="867"/>
                  </a:lnTo>
                  <a:lnTo>
                    <a:pt x="3194" y="902"/>
                  </a:lnTo>
                  <a:lnTo>
                    <a:pt x="3202" y="939"/>
                  </a:lnTo>
                  <a:lnTo>
                    <a:pt x="3206" y="974"/>
                  </a:lnTo>
                  <a:lnTo>
                    <a:pt x="3211" y="1011"/>
                  </a:lnTo>
                  <a:lnTo>
                    <a:pt x="3209" y="1046"/>
                  </a:lnTo>
                  <a:lnTo>
                    <a:pt x="3204" y="1082"/>
                  </a:lnTo>
                  <a:lnTo>
                    <a:pt x="3190" y="1119"/>
                  </a:lnTo>
                  <a:lnTo>
                    <a:pt x="3173" y="1158"/>
                  </a:lnTo>
                  <a:lnTo>
                    <a:pt x="3132" y="1210"/>
                  </a:lnTo>
                  <a:lnTo>
                    <a:pt x="3112" y="1224"/>
                  </a:lnTo>
                  <a:lnTo>
                    <a:pt x="3111" y="1222"/>
                  </a:lnTo>
                  <a:lnTo>
                    <a:pt x="3093" y="1234"/>
                  </a:lnTo>
                  <a:lnTo>
                    <a:pt x="3076" y="1247"/>
                  </a:lnTo>
                  <a:lnTo>
                    <a:pt x="3058" y="1257"/>
                  </a:lnTo>
                  <a:lnTo>
                    <a:pt x="3041" y="1269"/>
                  </a:lnTo>
                  <a:lnTo>
                    <a:pt x="3023" y="1276"/>
                  </a:lnTo>
                  <a:lnTo>
                    <a:pt x="3006" y="1286"/>
                  </a:lnTo>
                  <a:lnTo>
                    <a:pt x="2988" y="1294"/>
                  </a:lnTo>
                  <a:lnTo>
                    <a:pt x="2971" y="1304"/>
                  </a:lnTo>
                  <a:lnTo>
                    <a:pt x="2924" y="1319"/>
                  </a:lnTo>
                  <a:lnTo>
                    <a:pt x="2907" y="1321"/>
                  </a:lnTo>
                  <a:lnTo>
                    <a:pt x="2891" y="1323"/>
                  </a:lnTo>
                  <a:lnTo>
                    <a:pt x="2876" y="1325"/>
                  </a:lnTo>
                  <a:lnTo>
                    <a:pt x="2860" y="1329"/>
                  </a:lnTo>
                  <a:lnTo>
                    <a:pt x="2845" y="1329"/>
                  </a:lnTo>
                  <a:lnTo>
                    <a:pt x="2829" y="1331"/>
                  </a:lnTo>
                  <a:lnTo>
                    <a:pt x="2814" y="1331"/>
                  </a:lnTo>
                  <a:lnTo>
                    <a:pt x="2800" y="1333"/>
                  </a:lnTo>
                  <a:lnTo>
                    <a:pt x="2717" y="1309"/>
                  </a:lnTo>
                  <a:lnTo>
                    <a:pt x="2674" y="1267"/>
                  </a:lnTo>
                  <a:lnTo>
                    <a:pt x="2661" y="1251"/>
                  </a:lnTo>
                  <a:lnTo>
                    <a:pt x="2653" y="1236"/>
                  </a:lnTo>
                  <a:lnTo>
                    <a:pt x="2643" y="1230"/>
                  </a:lnTo>
                  <a:lnTo>
                    <a:pt x="2600" y="1174"/>
                  </a:lnTo>
                  <a:lnTo>
                    <a:pt x="2595" y="1160"/>
                  </a:lnTo>
                  <a:lnTo>
                    <a:pt x="2591" y="1148"/>
                  </a:lnTo>
                  <a:lnTo>
                    <a:pt x="2587" y="1137"/>
                  </a:lnTo>
                  <a:lnTo>
                    <a:pt x="2585" y="1125"/>
                  </a:lnTo>
                  <a:lnTo>
                    <a:pt x="2583" y="1113"/>
                  </a:lnTo>
                  <a:lnTo>
                    <a:pt x="2581" y="1102"/>
                  </a:lnTo>
                  <a:lnTo>
                    <a:pt x="2579" y="1090"/>
                  </a:lnTo>
                  <a:lnTo>
                    <a:pt x="2579" y="1079"/>
                  </a:lnTo>
                  <a:lnTo>
                    <a:pt x="2571" y="1075"/>
                  </a:lnTo>
                  <a:lnTo>
                    <a:pt x="2581" y="1150"/>
                  </a:lnTo>
                  <a:lnTo>
                    <a:pt x="2542" y="1125"/>
                  </a:lnTo>
                  <a:lnTo>
                    <a:pt x="2492" y="1112"/>
                  </a:lnTo>
                  <a:lnTo>
                    <a:pt x="2490" y="1121"/>
                  </a:lnTo>
                  <a:lnTo>
                    <a:pt x="2511" y="1125"/>
                  </a:lnTo>
                  <a:lnTo>
                    <a:pt x="2535" y="1135"/>
                  </a:lnTo>
                  <a:lnTo>
                    <a:pt x="2556" y="1148"/>
                  </a:lnTo>
                  <a:lnTo>
                    <a:pt x="2579" y="1168"/>
                  </a:lnTo>
                  <a:lnTo>
                    <a:pt x="2599" y="1185"/>
                  </a:lnTo>
                  <a:lnTo>
                    <a:pt x="2620" y="1208"/>
                  </a:lnTo>
                  <a:lnTo>
                    <a:pt x="2637" y="1232"/>
                  </a:lnTo>
                  <a:lnTo>
                    <a:pt x="2657" y="1255"/>
                  </a:lnTo>
                  <a:lnTo>
                    <a:pt x="2680" y="1300"/>
                  </a:lnTo>
                  <a:lnTo>
                    <a:pt x="2682" y="1309"/>
                  </a:lnTo>
                  <a:lnTo>
                    <a:pt x="2688" y="1338"/>
                  </a:lnTo>
                  <a:lnTo>
                    <a:pt x="2694" y="1368"/>
                  </a:lnTo>
                  <a:lnTo>
                    <a:pt x="2694" y="1397"/>
                  </a:lnTo>
                  <a:lnTo>
                    <a:pt x="2694" y="1428"/>
                  </a:lnTo>
                  <a:lnTo>
                    <a:pt x="2684" y="1457"/>
                  </a:lnTo>
                  <a:lnTo>
                    <a:pt x="2674" y="1486"/>
                  </a:lnTo>
                  <a:lnTo>
                    <a:pt x="2657" y="1517"/>
                  </a:lnTo>
                  <a:lnTo>
                    <a:pt x="2639" y="1548"/>
                  </a:lnTo>
                  <a:lnTo>
                    <a:pt x="2599" y="1587"/>
                  </a:lnTo>
                  <a:lnTo>
                    <a:pt x="2560" y="1620"/>
                  </a:lnTo>
                  <a:lnTo>
                    <a:pt x="2517" y="1647"/>
                  </a:lnTo>
                  <a:lnTo>
                    <a:pt x="2476" y="1668"/>
                  </a:lnTo>
                  <a:lnTo>
                    <a:pt x="2434" y="1684"/>
                  </a:lnTo>
                  <a:lnTo>
                    <a:pt x="2391" y="1695"/>
                  </a:lnTo>
                  <a:lnTo>
                    <a:pt x="2350" y="1701"/>
                  </a:lnTo>
                  <a:lnTo>
                    <a:pt x="2310" y="1707"/>
                  </a:lnTo>
                  <a:lnTo>
                    <a:pt x="2292" y="170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77400" y="1894320"/>
              <a:ext cx="158760" cy="109440"/>
            </a:xfrm>
            <a:custGeom>
              <a:avLst/>
              <a:gdLst/>
              <a:ahLst/>
              <a:rect l="l" t="t" r="r" b="b"/>
              <a:pathLst>
                <a:path w="202" h="138">
                  <a:moveTo>
                    <a:pt x="66" y="138"/>
                  </a:moveTo>
                  <a:lnTo>
                    <a:pt x="10" y="136"/>
                  </a:lnTo>
                  <a:lnTo>
                    <a:pt x="0" y="130"/>
                  </a:lnTo>
                  <a:lnTo>
                    <a:pt x="55" y="122"/>
                  </a:lnTo>
                  <a:lnTo>
                    <a:pt x="105" y="119"/>
                  </a:lnTo>
                  <a:lnTo>
                    <a:pt x="88" y="103"/>
                  </a:lnTo>
                  <a:lnTo>
                    <a:pt x="45" y="93"/>
                  </a:lnTo>
                  <a:lnTo>
                    <a:pt x="53" y="88"/>
                  </a:lnTo>
                  <a:lnTo>
                    <a:pt x="60" y="88"/>
                  </a:lnTo>
                  <a:lnTo>
                    <a:pt x="86" y="78"/>
                  </a:lnTo>
                  <a:lnTo>
                    <a:pt x="91" y="66"/>
                  </a:lnTo>
                  <a:lnTo>
                    <a:pt x="72" y="62"/>
                  </a:lnTo>
                  <a:lnTo>
                    <a:pt x="33" y="66"/>
                  </a:lnTo>
                  <a:lnTo>
                    <a:pt x="29" y="58"/>
                  </a:lnTo>
                  <a:lnTo>
                    <a:pt x="64" y="39"/>
                  </a:lnTo>
                  <a:lnTo>
                    <a:pt x="68" y="39"/>
                  </a:lnTo>
                  <a:lnTo>
                    <a:pt x="76" y="31"/>
                  </a:lnTo>
                  <a:lnTo>
                    <a:pt x="76" y="26"/>
                  </a:lnTo>
                  <a:lnTo>
                    <a:pt x="41" y="26"/>
                  </a:lnTo>
                  <a:lnTo>
                    <a:pt x="24" y="29"/>
                  </a:lnTo>
                  <a:lnTo>
                    <a:pt x="29" y="16"/>
                  </a:lnTo>
                  <a:lnTo>
                    <a:pt x="41" y="12"/>
                  </a:lnTo>
                  <a:lnTo>
                    <a:pt x="51" y="6"/>
                  </a:lnTo>
                  <a:lnTo>
                    <a:pt x="62" y="4"/>
                  </a:lnTo>
                  <a:lnTo>
                    <a:pt x="74" y="4"/>
                  </a:lnTo>
                  <a:lnTo>
                    <a:pt x="88" y="12"/>
                  </a:lnTo>
                  <a:lnTo>
                    <a:pt x="99" y="6"/>
                  </a:lnTo>
                  <a:lnTo>
                    <a:pt x="111" y="4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53" y="14"/>
                  </a:lnTo>
                  <a:lnTo>
                    <a:pt x="163" y="12"/>
                  </a:lnTo>
                  <a:lnTo>
                    <a:pt x="181" y="10"/>
                  </a:lnTo>
                  <a:lnTo>
                    <a:pt x="200" y="20"/>
                  </a:lnTo>
                  <a:lnTo>
                    <a:pt x="202" y="37"/>
                  </a:lnTo>
                  <a:lnTo>
                    <a:pt x="177" y="62"/>
                  </a:lnTo>
                  <a:lnTo>
                    <a:pt x="169" y="74"/>
                  </a:lnTo>
                  <a:lnTo>
                    <a:pt x="159" y="84"/>
                  </a:lnTo>
                  <a:lnTo>
                    <a:pt x="150" y="91"/>
                  </a:lnTo>
                  <a:lnTo>
                    <a:pt x="138" y="97"/>
                  </a:lnTo>
                  <a:lnTo>
                    <a:pt x="128" y="103"/>
                  </a:lnTo>
                  <a:lnTo>
                    <a:pt x="120" y="105"/>
                  </a:lnTo>
                  <a:lnTo>
                    <a:pt x="120" y="111"/>
                  </a:lnTo>
                  <a:lnTo>
                    <a:pt x="122" y="119"/>
                  </a:lnTo>
                  <a:lnTo>
                    <a:pt x="115" y="132"/>
                  </a:lnTo>
                  <a:lnTo>
                    <a:pt x="109" y="134"/>
                  </a:lnTo>
                  <a:lnTo>
                    <a:pt x="6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05880" y="1976760"/>
              <a:ext cx="36360" cy="2232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3" y="27"/>
                  </a:moveTo>
                  <a:lnTo>
                    <a:pt x="0" y="21"/>
                  </a:lnTo>
                  <a:lnTo>
                    <a:pt x="4" y="12"/>
                  </a:lnTo>
                  <a:lnTo>
                    <a:pt x="44" y="0"/>
                  </a:lnTo>
                  <a:lnTo>
                    <a:pt x="46" y="29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22000" y="1840320"/>
              <a:ext cx="144360" cy="131760"/>
            </a:xfrm>
            <a:custGeom>
              <a:avLst/>
              <a:gdLst/>
              <a:ahLst/>
              <a:rect l="l" t="t" r="r" b="b"/>
              <a:pathLst>
                <a:path w="182" h="165">
                  <a:moveTo>
                    <a:pt x="37" y="165"/>
                  </a:moveTo>
                  <a:lnTo>
                    <a:pt x="37" y="158"/>
                  </a:lnTo>
                  <a:lnTo>
                    <a:pt x="52" y="152"/>
                  </a:lnTo>
                  <a:lnTo>
                    <a:pt x="68" y="146"/>
                  </a:lnTo>
                  <a:lnTo>
                    <a:pt x="81" y="136"/>
                  </a:lnTo>
                  <a:lnTo>
                    <a:pt x="99" y="125"/>
                  </a:lnTo>
                  <a:lnTo>
                    <a:pt x="101" y="115"/>
                  </a:lnTo>
                  <a:lnTo>
                    <a:pt x="87" y="109"/>
                  </a:lnTo>
                  <a:lnTo>
                    <a:pt x="60" y="119"/>
                  </a:lnTo>
                  <a:lnTo>
                    <a:pt x="50" y="123"/>
                  </a:lnTo>
                  <a:lnTo>
                    <a:pt x="37" y="123"/>
                  </a:lnTo>
                  <a:lnTo>
                    <a:pt x="42" y="105"/>
                  </a:lnTo>
                  <a:lnTo>
                    <a:pt x="81" y="90"/>
                  </a:lnTo>
                  <a:lnTo>
                    <a:pt x="85" y="74"/>
                  </a:lnTo>
                  <a:lnTo>
                    <a:pt x="83" y="70"/>
                  </a:lnTo>
                  <a:lnTo>
                    <a:pt x="39" y="80"/>
                  </a:lnTo>
                  <a:lnTo>
                    <a:pt x="35" y="82"/>
                  </a:lnTo>
                  <a:lnTo>
                    <a:pt x="23" y="78"/>
                  </a:lnTo>
                  <a:lnTo>
                    <a:pt x="31" y="64"/>
                  </a:lnTo>
                  <a:lnTo>
                    <a:pt x="39" y="62"/>
                  </a:lnTo>
                  <a:lnTo>
                    <a:pt x="58" y="39"/>
                  </a:lnTo>
                  <a:lnTo>
                    <a:pt x="48" y="28"/>
                  </a:lnTo>
                  <a:lnTo>
                    <a:pt x="29" y="35"/>
                  </a:lnTo>
                  <a:lnTo>
                    <a:pt x="21" y="39"/>
                  </a:lnTo>
                  <a:lnTo>
                    <a:pt x="9" y="47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4" y="33"/>
                  </a:lnTo>
                  <a:lnTo>
                    <a:pt x="15" y="22"/>
                  </a:lnTo>
                  <a:lnTo>
                    <a:pt x="29" y="16"/>
                  </a:lnTo>
                  <a:lnTo>
                    <a:pt x="42" y="12"/>
                  </a:lnTo>
                  <a:lnTo>
                    <a:pt x="56" y="14"/>
                  </a:lnTo>
                  <a:lnTo>
                    <a:pt x="64" y="18"/>
                  </a:lnTo>
                  <a:lnTo>
                    <a:pt x="101" y="2"/>
                  </a:lnTo>
                  <a:lnTo>
                    <a:pt x="112" y="0"/>
                  </a:lnTo>
                  <a:lnTo>
                    <a:pt x="134" y="8"/>
                  </a:lnTo>
                  <a:lnTo>
                    <a:pt x="143" y="2"/>
                  </a:lnTo>
                  <a:lnTo>
                    <a:pt x="165" y="0"/>
                  </a:lnTo>
                  <a:lnTo>
                    <a:pt x="180" y="12"/>
                  </a:lnTo>
                  <a:lnTo>
                    <a:pt x="182" y="16"/>
                  </a:lnTo>
                  <a:lnTo>
                    <a:pt x="161" y="57"/>
                  </a:lnTo>
                  <a:lnTo>
                    <a:pt x="155" y="62"/>
                  </a:lnTo>
                  <a:lnTo>
                    <a:pt x="155" y="70"/>
                  </a:lnTo>
                  <a:lnTo>
                    <a:pt x="118" y="113"/>
                  </a:lnTo>
                  <a:lnTo>
                    <a:pt x="114" y="121"/>
                  </a:lnTo>
                  <a:lnTo>
                    <a:pt x="103" y="132"/>
                  </a:lnTo>
                  <a:lnTo>
                    <a:pt x="91" y="144"/>
                  </a:lnTo>
                  <a:lnTo>
                    <a:pt x="79" y="152"/>
                  </a:lnTo>
                  <a:lnTo>
                    <a:pt x="68" y="158"/>
                  </a:lnTo>
                  <a:lnTo>
                    <a:pt x="37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8680" y="1941840"/>
              <a:ext cx="52560" cy="270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16" y="33"/>
                  </a:moveTo>
                  <a:lnTo>
                    <a:pt x="0" y="30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57" y="0"/>
                  </a:lnTo>
                  <a:lnTo>
                    <a:pt x="66" y="6"/>
                  </a:lnTo>
                  <a:lnTo>
                    <a:pt x="66" y="14"/>
                  </a:lnTo>
                  <a:lnTo>
                    <a:pt x="57" y="2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58280" y="1895760"/>
              <a:ext cx="100080" cy="6192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2" y="78"/>
                  </a:moveTo>
                  <a:lnTo>
                    <a:pt x="0" y="76"/>
                  </a:lnTo>
                  <a:lnTo>
                    <a:pt x="9" y="66"/>
                  </a:lnTo>
                  <a:lnTo>
                    <a:pt x="25" y="51"/>
                  </a:lnTo>
                  <a:lnTo>
                    <a:pt x="23" y="35"/>
                  </a:lnTo>
                  <a:lnTo>
                    <a:pt x="7" y="16"/>
                  </a:lnTo>
                  <a:lnTo>
                    <a:pt x="5" y="8"/>
                  </a:lnTo>
                  <a:lnTo>
                    <a:pt x="17" y="8"/>
                  </a:lnTo>
                  <a:lnTo>
                    <a:pt x="35" y="12"/>
                  </a:lnTo>
                  <a:lnTo>
                    <a:pt x="54" y="14"/>
                  </a:lnTo>
                  <a:lnTo>
                    <a:pt x="71" y="10"/>
                  </a:lnTo>
                  <a:lnTo>
                    <a:pt x="91" y="8"/>
                  </a:lnTo>
                  <a:lnTo>
                    <a:pt x="116" y="0"/>
                  </a:lnTo>
                  <a:lnTo>
                    <a:pt x="126" y="8"/>
                  </a:lnTo>
                  <a:lnTo>
                    <a:pt x="118" y="14"/>
                  </a:lnTo>
                  <a:lnTo>
                    <a:pt x="114" y="16"/>
                  </a:lnTo>
                  <a:lnTo>
                    <a:pt x="104" y="24"/>
                  </a:lnTo>
                  <a:lnTo>
                    <a:pt x="102" y="37"/>
                  </a:lnTo>
                  <a:lnTo>
                    <a:pt x="104" y="41"/>
                  </a:lnTo>
                  <a:lnTo>
                    <a:pt x="118" y="55"/>
                  </a:lnTo>
                  <a:lnTo>
                    <a:pt x="112" y="64"/>
                  </a:lnTo>
                  <a:lnTo>
                    <a:pt x="104" y="74"/>
                  </a:lnTo>
                  <a:lnTo>
                    <a:pt x="38" y="62"/>
                  </a:lnTo>
                  <a:lnTo>
                    <a:pt x="17" y="78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8520" y="1914840"/>
              <a:ext cx="42840" cy="237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47" y="29"/>
                  </a:moveTo>
                  <a:lnTo>
                    <a:pt x="2" y="23"/>
                  </a:lnTo>
                  <a:lnTo>
                    <a:pt x="0" y="5"/>
                  </a:lnTo>
                  <a:lnTo>
                    <a:pt x="53" y="0"/>
                  </a:lnTo>
                  <a:lnTo>
                    <a:pt x="51" y="15"/>
                  </a:lnTo>
                  <a:lnTo>
                    <a:pt x="55" y="31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45440" y="1908360"/>
              <a:ext cx="41400" cy="270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13" y="35"/>
                  </a:moveTo>
                  <a:lnTo>
                    <a:pt x="0" y="27"/>
                  </a:lnTo>
                  <a:lnTo>
                    <a:pt x="5" y="8"/>
                  </a:lnTo>
                  <a:lnTo>
                    <a:pt x="44" y="0"/>
                  </a:lnTo>
                  <a:lnTo>
                    <a:pt x="52" y="6"/>
                  </a:lnTo>
                  <a:lnTo>
                    <a:pt x="52" y="11"/>
                  </a:lnTo>
                  <a:lnTo>
                    <a:pt x="42" y="27"/>
                  </a:lnTo>
                  <a:lnTo>
                    <a:pt x="34" y="27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93320" y="1913040"/>
              <a:ext cx="3312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15" y="29"/>
                  </a:moveTo>
                  <a:lnTo>
                    <a:pt x="0" y="17"/>
                  </a:lnTo>
                  <a:lnTo>
                    <a:pt x="5" y="2"/>
                  </a:lnTo>
                  <a:lnTo>
                    <a:pt x="29" y="0"/>
                  </a:lnTo>
                  <a:lnTo>
                    <a:pt x="40" y="7"/>
                  </a:lnTo>
                  <a:lnTo>
                    <a:pt x="38" y="13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94720" y="1887840"/>
              <a:ext cx="39960" cy="334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5" y="40"/>
                  </a:moveTo>
                  <a:lnTo>
                    <a:pt x="0" y="33"/>
                  </a:lnTo>
                  <a:lnTo>
                    <a:pt x="10" y="5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3"/>
                  </a:lnTo>
                  <a:lnTo>
                    <a:pt x="48" y="11"/>
                  </a:lnTo>
                  <a:lnTo>
                    <a:pt x="31" y="38"/>
                  </a:lnTo>
                  <a:lnTo>
                    <a:pt x="15" y="4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58200" y="1792440"/>
              <a:ext cx="90360" cy="101880"/>
            </a:xfrm>
            <a:custGeom>
              <a:avLst/>
              <a:gdLst/>
              <a:ahLst/>
              <a:rect l="l" t="t" r="r" b="b"/>
              <a:pathLst>
                <a:path w="114" h="128">
                  <a:moveTo>
                    <a:pt x="9" y="126"/>
                  </a:moveTo>
                  <a:lnTo>
                    <a:pt x="9" y="124"/>
                  </a:lnTo>
                  <a:lnTo>
                    <a:pt x="9" y="122"/>
                  </a:lnTo>
                  <a:lnTo>
                    <a:pt x="33" y="84"/>
                  </a:lnTo>
                  <a:lnTo>
                    <a:pt x="33" y="60"/>
                  </a:lnTo>
                  <a:lnTo>
                    <a:pt x="0" y="10"/>
                  </a:lnTo>
                  <a:lnTo>
                    <a:pt x="5" y="4"/>
                  </a:lnTo>
                  <a:lnTo>
                    <a:pt x="17" y="6"/>
                  </a:lnTo>
                  <a:lnTo>
                    <a:pt x="29" y="14"/>
                  </a:lnTo>
                  <a:lnTo>
                    <a:pt x="42" y="22"/>
                  </a:lnTo>
                  <a:lnTo>
                    <a:pt x="91" y="14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99" y="29"/>
                  </a:lnTo>
                  <a:lnTo>
                    <a:pt x="93" y="31"/>
                  </a:lnTo>
                  <a:lnTo>
                    <a:pt x="87" y="41"/>
                  </a:lnTo>
                  <a:lnTo>
                    <a:pt x="102" y="91"/>
                  </a:lnTo>
                  <a:lnTo>
                    <a:pt x="114" y="111"/>
                  </a:lnTo>
                  <a:lnTo>
                    <a:pt x="104" y="122"/>
                  </a:lnTo>
                  <a:lnTo>
                    <a:pt x="44" y="101"/>
                  </a:lnTo>
                  <a:lnTo>
                    <a:pt x="17" y="128"/>
                  </a:lnTo>
                  <a:lnTo>
                    <a:pt x="9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91360" y="1857600"/>
              <a:ext cx="3204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0" y="42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6"/>
                  </a:lnTo>
                  <a:lnTo>
                    <a:pt x="8" y="4"/>
                  </a:lnTo>
                  <a:lnTo>
                    <a:pt x="27" y="0"/>
                  </a:lnTo>
                  <a:lnTo>
                    <a:pt x="39" y="6"/>
                  </a:lnTo>
                  <a:lnTo>
                    <a:pt x="41" y="21"/>
                  </a:lnTo>
                  <a:lnTo>
                    <a:pt x="25" y="42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75640" y="1851120"/>
              <a:ext cx="46080" cy="3348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25" y="43"/>
                  </a:moveTo>
                  <a:lnTo>
                    <a:pt x="0" y="39"/>
                  </a:lnTo>
                  <a:lnTo>
                    <a:pt x="3" y="19"/>
                  </a:lnTo>
                  <a:lnTo>
                    <a:pt x="44" y="0"/>
                  </a:lnTo>
                  <a:lnTo>
                    <a:pt x="58" y="4"/>
                  </a:lnTo>
                  <a:lnTo>
                    <a:pt x="58" y="12"/>
                  </a:lnTo>
                  <a:lnTo>
                    <a:pt x="44" y="35"/>
                  </a:lnTo>
                  <a:lnTo>
                    <a:pt x="35" y="39"/>
                  </a:lnTo>
                  <a:lnTo>
                    <a:pt x="25" y="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23520" y="185292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21" y="37"/>
                  </a:moveTo>
                  <a:lnTo>
                    <a:pt x="13" y="33"/>
                  </a:lnTo>
                  <a:lnTo>
                    <a:pt x="0" y="31"/>
                  </a:lnTo>
                  <a:lnTo>
                    <a:pt x="11" y="6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6"/>
                  </a:lnTo>
                  <a:lnTo>
                    <a:pt x="40" y="15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97840" y="1870200"/>
              <a:ext cx="14400" cy="111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4"/>
                  </a:moveTo>
                  <a:lnTo>
                    <a:pt x="0" y="2"/>
                  </a:lnTo>
                  <a:lnTo>
                    <a:pt x="17" y="0"/>
                  </a:lnTo>
                  <a:lnTo>
                    <a:pt x="11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91680" y="1822680"/>
              <a:ext cx="34920" cy="4752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41" y="58"/>
                  </a:moveTo>
                  <a:lnTo>
                    <a:pt x="6" y="51"/>
                  </a:lnTo>
                  <a:lnTo>
                    <a:pt x="0" y="2"/>
                  </a:lnTo>
                  <a:lnTo>
                    <a:pt x="12" y="4"/>
                  </a:lnTo>
                  <a:lnTo>
                    <a:pt x="31" y="0"/>
                  </a:lnTo>
                  <a:lnTo>
                    <a:pt x="35" y="37"/>
                  </a:lnTo>
                  <a:lnTo>
                    <a:pt x="45" y="60"/>
                  </a:lnTo>
                  <a:lnTo>
                    <a:pt x="41" y="5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66160" y="1073520"/>
              <a:ext cx="1440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5" y="2"/>
                  </a:lnTo>
                  <a:lnTo>
                    <a:pt x="15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b5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02480" y="1624320"/>
              <a:ext cx="160560" cy="96840"/>
            </a:xfrm>
            <a:custGeom>
              <a:avLst/>
              <a:gdLst/>
              <a:ahLst/>
              <a:rect l="l" t="t" r="r" b="b"/>
              <a:pathLst>
                <a:path w="202" h="120">
                  <a:moveTo>
                    <a:pt x="161" y="120"/>
                  </a:moveTo>
                  <a:lnTo>
                    <a:pt x="144" y="114"/>
                  </a:lnTo>
                  <a:lnTo>
                    <a:pt x="150" y="110"/>
                  </a:lnTo>
                  <a:lnTo>
                    <a:pt x="183" y="110"/>
                  </a:lnTo>
                  <a:lnTo>
                    <a:pt x="183" y="87"/>
                  </a:lnTo>
                  <a:lnTo>
                    <a:pt x="165" y="68"/>
                  </a:lnTo>
                  <a:lnTo>
                    <a:pt x="150" y="54"/>
                  </a:lnTo>
                  <a:lnTo>
                    <a:pt x="132" y="41"/>
                  </a:lnTo>
                  <a:lnTo>
                    <a:pt x="117" y="33"/>
                  </a:lnTo>
                  <a:lnTo>
                    <a:pt x="99" y="25"/>
                  </a:lnTo>
                  <a:lnTo>
                    <a:pt x="82" y="21"/>
                  </a:lnTo>
                  <a:lnTo>
                    <a:pt x="64" y="17"/>
                  </a:lnTo>
                  <a:lnTo>
                    <a:pt x="49" y="15"/>
                  </a:lnTo>
                  <a:lnTo>
                    <a:pt x="10" y="21"/>
                  </a:lnTo>
                  <a:lnTo>
                    <a:pt x="0" y="15"/>
                  </a:lnTo>
                  <a:lnTo>
                    <a:pt x="16" y="6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78" y="4"/>
                  </a:lnTo>
                  <a:lnTo>
                    <a:pt x="93" y="6"/>
                  </a:lnTo>
                  <a:lnTo>
                    <a:pt x="109" y="14"/>
                  </a:lnTo>
                  <a:lnTo>
                    <a:pt x="124" y="19"/>
                  </a:lnTo>
                  <a:lnTo>
                    <a:pt x="142" y="29"/>
                  </a:lnTo>
                  <a:lnTo>
                    <a:pt x="173" y="48"/>
                  </a:lnTo>
                  <a:lnTo>
                    <a:pt x="194" y="81"/>
                  </a:lnTo>
                  <a:lnTo>
                    <a:pt x="202" y="103"/>
                  </a:lnTo>
                  <a:lnTo>
                    <a:pt x="194" y="116"/>
                  </a:lnTo>
                  <a:lnTo>
                    <a:pt x="161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1480" y="1646640"/>
              <a:ext cx="12600" cy="349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0" y="43"/>
                  </a:moveTo>
                  <a:lnTo>
                    <a:pt x="0" y="41"/>
                  </a:lnTo>
                  <a:lnTo>
                    <a:pt x="8" y="0"/>
                  </a:lnTo>
                  <a:lnTo>
                    <a:pt x="15" y="4"/>
                  </a:lnTo>
                  <a:lnTo>
                    <a:pt x="4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80160" y="1594080"/>
              <a:ext cx="28800" cy="111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11" y="14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5" y="2"/>
                  </a:lnTo>
                  <a:lnTo>
                    <a:pt x="36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07600" y="1481400"/>
              <a:ext cx="37800" cy="316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9" y="38"/>
                  </a:moveTo>
                  <a:lnTo>
                    <a:pt x="0" y="33"/>
                  </a:lnTo>
                  <a:lnTo>
                    <a:pt x="0" y="19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8" y="9"/>
                  </a:lnTo>
                  <a:lnTo>
                    <a:pt x="48" y="19"/>
                  </a:lnTo>
                  <a:lnTo>
                    <a:pt x="35" y="3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18400" y="1492560"/>
              <a:ext cx="14400" cy="792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10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0" y="2"/>
                  </a:lnTo>
                  <a:lnTo>
                    <a:pt x="1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0560" y="632160"/>
              <a:ext cx="750960" cy="839880"/>
            </a:xfrm>
            <a:custGeom>
              <a:avLst/>
              <a:gdLst/>
              <a:ahLst/>
              <a:rect l="l" t="t" r="r" b="b"/>
              <a:pathLst>
                <a:path w="946" h="1057">
                  <a:moveTo>
                    <a:pt x="545" y="1055"/>
                  </a:moveTo>
                  <a:lnTo>
                    <a:pt x="525" y="1053"/>
                  </a:lnTo>
                  <a:lnTo>
                    <a:pt x="506" y="1049"/>
                  </a:lnTo>
                  <a:lnTo>
                    <a:pt x="487" y="1043"/>
                  </a:lnTo>
                  <a:lnTo>
                    <a:pt x="469" y="1038"/>
                  </a:lnTo>
                  <a:lnTo>
                    <a:pt x="450" y="1026"/>
                  </a:lnTo>
                  <a:lnTo>
                    <a:pt x="432" y="1012"/>
                  </a:lnTo>
                  <a:lnTo>
                    <a:pt x="415" y="995"/>
                  </a:lnTo>
                  <a:lnTo>
                    <a:pt x="401" y="978"/>
                  </a:lnTo>
                  <a:lnTo>
                    <a:pt x="357" y="892"/>
                  </a:lnTo>
                  <a:lnTo>
                    <a:pt x="335" y="873"/>
                  </a:lnTo>
                  <a:lnTo>
                    <a:pt x="384" y="976"/>
                  </a:lnTo>
                  <a:lnTo>
                    <a:pt x="368" y="970"/>
                  </a:lnTo>
                  <a:lnTo>
                    <a:pt x="357" y="964"/>
                  </a:lnTo>
                  <a:lnTo>
                    <a:pt x="341" y="956"/>
                  </a:lnTo>
                  <a:lnTo>
                    <a:pt x="329" y="948"/>
                  </a:lnTo>
                  <a:lnTo>
                    <a:pt x="316" y="935"/>
                  </a:lnTo>
                  <a:lnTo>
                    <a:pt x="304" y="923"/>
                  </a:lnTo>
                  <a:lnTo>
                    <a:pt x="293" y="910"/>
                  </a:lnTo>
                  <a:lnTo>
                    <a:pt x="285" y="898"/>
                  </a:lnTo>
                  <a:lnTo>
                    <a:pt x="258" y="851"/>
                  </a:lnTo>
                  <a:lnTo>
                    <a:pt x="256" y="842"/>
                  </a:lnTo>
                  <a:lnTo>
                    <a:pt x="248" y="832"/>
                  </a:lnTo>
                  <a:lnTo>
                    <a:pt x="240" y="815"/>
                  </a:lnTo>
                  <a:lnTo>
                    <a:pt x="238" y="805"/>
                  </a:lnTo>
                  <a:lnTo>
                    <a:pt x="231" y="791"/>
                  </a:lnTo>
                  <a:lnTo>
                    <a:pt x="229" y="782"/>
                  </a:lnTo>
                  <a:lnTo>
                    <a:pt x="217" y="760"/>
                  </a:lnTo>
                  <a:lnTo>
                    <a:pt x="180" y="683"/>
                  </a:lnTo>
                  <a:lnTo>
                    <a:pt x="250" y="735"/>
                  </a:lnTo>
                  <a:lnTo>
                    <a:pt x="256" y="735"/>
                  </a:lnTo>
                  <a:lnTo>
                    <a:pt x="256" y="723"/>
                  </a:lnTo>
                  <a:lnTo>
                    <a:pt x="236" y="704"/>
                  </a:lnTo>
                  <a:lnTo>
                    <a:pt x="215" y="687"/>
                  </a:lnTo>
                  <a:lnTo>
                    <a:pt x="194" y="671"/>
                  </a:lnTo>
                  <a:lnTo>
                    <a:pt x="172" y="658"/>
                  </a:lnTo>
                  <a:lnTo>
                    <a:pt x="151" y="640"/>
                  </a:lnTo>
                  <a:lnTo>
                    <a:pt x="134" y="623"/>
                  </a:lnTo>
                  <a:lnTo>
                    <a:pt x="120" y="601"/>
                  </a:lnTo>
                  <a:lnTo>
                    <a:pt x="112" y="580"/>
                  </a:lnTo>
                  <a:lnTo>
                    <a:pt x="103" y="561"/>
                  </a:lnTo>
                  <a:lnTo>
                    <a:pt x="101" y="543"/>
                  </a:lnTo>
                  <a:lnTo>
                    <a:pt x="101" y="524"/>
                  </a:lnTo>
                  <a:lnTo>
                    <a:pt x="104" y="506"/>
                  </a:lnTo>
                  <a:lnTo>
                    <a:pt x="108" y="489"/>
                  </a:lnTo>
                  <a:lnTo>
                    <a:pt x="112" y="471"/>
                  </a:lnTo>
                  <a:lnTo>
                    <a:pt x="114" y="454"/>
                  </a:lnTo>
                  <a:lnTo>
                    <a:pt x="116" y="436"/>
                  </a:lnTo>
                  <a:lnTo>
                    <a:pt x="112" y="435"/>
                  </a:lnTo>
                  <a:lnTo>
                    <a:pt x="93" y="518"/>
                  </a:lnTo>
                  <a:lnTo>
                    <a:pt x="81" y="518"/>
                  </a:lnTo>
                  <a:lnTo>
                    <a:pt x="70" y="518"/>
                  </a:lnTo>
                  <a:lnTo>
                    <a:pt x="60" y="512"/>
                  </a:lnTo>
                  <a:lnTo>
                    <a:pt x="50" y="508"/>
                  </a:lnTo>
                  <a:lnTo>
                    <a:pt x="35" y="489"/>
                  </a:lnTo>
                  <a:lnTo>
                    <a:pt x="25" y="475"/>
                  </a:lnTo>
                  <a:lnTo>
                    <a:pt x="19" y="464"/>
                  </a:lnTo>
                  <a:lnTo>
                    <a:pt x="13" y="452"/>
                  </a:lnTo>
                  <a:lnTo>
                    <a:pt x="9" y="440"/>
                  </a:lnTo>
                  <a:lnTo>
                    <a:pt x="4" y="429"/>
                  </a:lnTo>
                  <a:lnTo>
                    <a:pt x="2" y="417"/>
                  </a:lnTo>
                  <a:lnTo>
                    <a:pt x="0" y="405"/>
                  </a:lnTo>
                  <a:lnTo>
                    <a:pt x="0" y="396"/>
                  </a:lnTo>
                  <a:lnTo>
                    <a:pt x="9" y="347"/>
                  </a:lnTo>
                  <a:lnTo>
                    <a:pt x="37" y="343"/>
                  </a:lnTo>
                  <a:lnTo>
                    <a:pt x="50" y="349"/>
                  </a:lnTo>
                  <a:lnTo>
                    <a:pt x="58" y="349"/>
                  </a:lnTo>
                  <a:lnTo>
                    <a:pt x="60" y="341"/>
                  </a:lnTo>
                  <a:lnTo>
                    <a:pt x="54" y="330"/>
                  </a:lnTo>
                  <a:lnTo>
                    <a:pt x="62" y="316"/>
                  </a:lnTo>
                  <a:lnTo>
                    <a:pt x="62" y="310"/>
                  </a:lnTo>
                  <a:lnTo>
                    <a:pt x="75" y="291"/>
                  </a:lnTo>
                  <a:lnTo>
                    <a:pt x="75" y="260"/>
                  </a:lnTo>
                  <a:lnTo>
                    <a:pt x="71" y="246"/>
                  </a:lnTo>
                  <a:lnTo>
                    <a:pt x="81" y="229"/>
                  </a:lnTo>
                  <a:lnTo>
                    <a:pt x="75" y="188"/>
                  </a:lnTo>
                  <a:lnTo>
                    <a:pt x="81" y="175"/>
                  </a:lnTo>
                  <a:lnTo>
                    <a:pt x="85" y="163"/>
                  </a:lnTo>
                  <a:lnTo>
                    <a:pt x="85" y="151"/>
                  </a:lnTo>
                  <a:lnTo>
                    <a:pt x="85" y="142"/>
                  </a:lnTo>
                  <a:lnTo>
                    <a:pt x="97" y="122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08" y="76"/>
                  </a:lnTo>
                  <a:lnTo>
                    <a:pt x="112" y="93"/>
                  </a:lnTo>
                  <a:lnTo>
                    <a:pt x="114" y="97"/>
                  </a:lnTo>
                  <a:lnTo>
                    <a:pt x="120" y="103"/>
                  </a:lnTo>
                  <a:lnTo>
                    <a:pt x="130" y="103"/>
                  </a:lnTo>
                  <a:lnTo>
                    <a:pt x="145" y="138"/>
                  </a:lnTo>
                  <a:lnTo>
                    <a:pt x="155" y="148"/>
                  </a:lnTo>
                  <a:lnTo>
                    <a:pt x="172" y="148"/>
                  </a:lnTo>
                  <a:lnTo>
                    <a:pt x="178" y="167"/>
                  </a:lnTo>
                  <a:lnTo>
                    <a:pt x="180" y="175"/>
                  </a:lnTo>
                  <a:lnTo>
                    <a:pt x="192" y="186"/>
                  </a:lnTo>
                  <a:lnTo>
                    <a:pt x="201" y="194"/>
                  </a:lnTo>
                  <a:lnTo>
                    <a:pt x="211" y="190"/>
                  </a:lnTo>
                  <a:lnTo>
                    <a:pt x="215" y="186"/>
                  </a:lnTo>
                  <a:lnTo>
                    <a:pt x="219" y="159"/>
                  </a:lnTo>
                  <a:lnTo>
                    <a:pt x="211" y="149"/>
                  </a:lnTo>
                  <a:lnTo>
                    <a:pt x="215" y="134"/>
                  </a:lnTo>
                  <a:lnTo>
                    <a:pt x="217" y="122"/>
                  </a:lnTo>
                  <a:lnTo>
                    <a:pt x="217" y="111"/>
                  </a:lnTo>
                  <a:lnTo>
                    <a:pt x="213" y="99"/>
                  </a:lnTo>
                  <a:lnTo>
                    <a:pt x="215" y="80"/>
                  </a:lnTo>
                  <a:lnTo>
                    <a:pt x="211" y="58"/>
                  </a:lnTo>
                  <a:lnTo>
                    <a:pt x="231" y="58"/>
                  </a:lnTo>
                  <a:lnTo>
                    <a:pt x="234" y="56"/>
                  </a:lnTo>
                  <a:lnTo>
                    <a:pt x="250" y="43"/>
                  </a:lnTo>
                  <a:lnTo>
                    <a:pt x="262" y="53"/>
                  </a:lnTo>
                  <a:lnTo>
                    <a:pt x="271" y="62"/>
                  </a:lnTo>
                  <a:lnTo>
                    <a:pt x="283" y="64"/>
                  </a:lnTo>
                  <a:lnTo>
                    <a:pt x="289" y="62"/>
                  </a:lnTo>
                  <a:lnTo>
                    <a:pt x="304" y="54"/>
                  </a:lnTo>
                  <a:lnTo>
                    <a:pt x="306" y="60"/>
                  </a:lnTo>
                  <a:lnTo>
                    <a:pt x="326" y="84"/>
                  </a:lnTo>
                  <a:lnTo>
                    <a:pt x="341" y="85"/>
                  </a:lnTo>
                  <a:lnTo>
                    <a:pt x="345" y="84"/>
                  </a:lnTo>
                  <a:lnTo>
                    <a:pt x="349" y="82"/>
                  </a:lnTo>
                  <a:lnTo>
                    <a:pt x="355" y="76"/>
                  </a:lnTo>
                  <a:lnTo>
                    <a:pt x="378" y="95"/>
                  </a:lnTo>
                  <a:lnTo>
                    <a:pt x="393" y="91"/>
                  </a:lnTo>
                  <a:lnTo>
                    <a:pt x="421" y="118"/>
                  </a:lnTo>
                  <a:lnTo>
                    <a:pt x="428" y="118"/>
                  </a:lnTo>
                  <a:lnTo>
                    <a:pt x="432" y="117"/>
                  </a:lnTo>
                  <a:lnTo>
                    <a:pt x="452" y="95"/>
                  </a:lnTo>
                  <a:lnTo>
                    <a:pt x="450" y="84"/>
                  </a:lnTo>
                  <a:lnTo>
                    <a:pt x="450" y="72"/>
                  </a:lnTo>
                  <a:lnTo>
                    <a:pt x="452" y="60"/>
                  </a:lnTo>
                  <a:lnTo>
                    <a:pt x="455" y="51"/>
                  </a:lnTo>
                  <a:lnTo>
                    <a:pt x="459" y="39"/>
                  </a:lnTo>
                  <a:lnTo>
                    <a:pt x="465" y="29"/>
                  </a:lnTo>
                  <a:lnTo>
                    <a:pt x="471" y="18"/>
                  </a:lnTo>
                  <a:lnTo>
                    <a:pt x="479" y="8"/>
                  </a:lnTo>
                  <a:lnTo>
                    <a:pt x="496" y="0"/>
                  </a:lnTo>
                  <a:lnTo>
                    <a:pt x="516" y="2"/>
                  </a:lnTo>
                  <a:lnTo>
                    <a:pt x="535" y="6"/>
                  </a:lnTo>
                  <a:lnTo>
                    <a:pt x="554" y="18"/>
                  </a:lnTo>
                  <a:lnTo>
                    <a:pt x="580" y="37"/>
                  </a:lnTo>
                  <a:lnTo>
                    <a:pt x="603" y="70"/>
                  </a:lnTo>
                  <a:lnTo>
                    <a:pt x="609" y="82"/>
                  </a:lnTo>
                  <a:lnTo>
                    <a:pt x="615" y="95"/>
                  </a:lnTo>
                  <a:lnTo>
                    <a:pt x="618" y="109"/>
                  </a:lnTo>
                  <a:lnTo>
                    <a:pt x="624" y="124"/>
                  </a:lnTo>
                  <a:lnTo>
                    <a:pt x="624" y="136"/>
                  </a:lnTo>
                  <a:lnTo>
                    <a:pt x="626" y="149"/>
                  </a:lnTo>
                  <a:lnTo>
                    <a:pt x="624" y="163"/>
                  </a:lnTo>
                  <a:lnTo>
                    <a:pt x="624" y="179"/>
                  </a:lnTo>
                  <a:lnTo>
                    <a:pt x="613" y="196"/>
                  </a:lnTo>
                  <a:lnTo>
                    <a:pt x="514" y="175"/>
                  </a:lnTo>
                  <a:lnTo>
                    <a:pt x="512" y="181"/>
                  </a:lnTo>
                  <a:lnTo>
                    <a:pt x="531" y="190"/>
                  </a:lnTo>
                  <a:lnTo>
                    <a:pt x="551" y="198"/>
                  </a:lnTo>
                  <a:lnTo>
                    <a:pt x="570" y="202"/>
                  </a:lnTo>
                  <a:lnTo>
                    <a:pt x="591" y="208"/>
                  </a:lnTo>
                  <a:lnTo>
                    <a:pt x="611" y="212"/>
                  </a:lnTo>
                  <a:lnTo>
                    <a:pt x="632" y="217"/>
                  </a:lnTo>
                  <a:lnTo>
                    <a:pt x="651" y="229"/>
                  </a:lnTo>
                  <a:lnTo>
                    <a:pt x="675" y="246"/>
                  </a:lnTo>
                  <a:lnTo>
                    <a:pt x="688" y="262"/>
                  </a:lnTo>
                  <a:lnTo>
                    <a:pt x="700" y="279"/>
                  </a:lnTo>
                  <a:lnTo>
                    <a:pt x="706" y="297"/>
                  </a:lnTo>
                  <a:lnTo>
                    <a:pt x="713" y="314"/>
                  </a:lnTo>
                  <a:lnTo>
                    <a:pt x="731" y="372"/>
                  </a:lnTo>
                  <a:lnTo>
                    <a:pt x="748" y="413"/>
                  </a:lnTo>
                  <a:lnTo>
                    <a:pt x="758" y="413"/>
                  </a:lnTo>
                  <a:lnTo>
                    <a:pt x="756" y="402"/>
                  </a:lnTo>
                  <a:lnTo>
                    <a:pt x="744" y="376"/>
                  </a:lnTo>
                  <a:lnTo>
                    <a:pt x="744" y="369"/>
                  </a:lnTo>
                  <a:lnTo>
                    <a:pt x="739" y="347"/>
                  </a:lnTo>
                  <a:lnTo>
                    <a:pt x="775" y="378"/>
                  </a:lnTo>
                  <a:lnTo>
                    <a:pt x="812" y="402"/>
                  </a:lnTo>
                  <a:lnTo>
                    <a:pt x="847" y="431"/>
                  </a:lnTo>
                  <a:lnTo>
                    <a:pt x="876" y="462"/>
                  </a:lnTo>
                  <a:lnTo>
                    <a:pt x="903" y="497"/>
                  </a:lnTo>
                  <a:lnTo>
                    <a:pt x="921" y="530"/>
                  </a:lnTo>
                  <a:lnTo>
                    <a:pt x="935" y="566"/>
                  </a:lnTo>
                  <a:lnTo>
                    <a:pt x="938" y="601"/>
                  </a:lnTo>
                  <a:lnTo>
                    <a:pt x="938" y="638"/>
                  </a:lnTo>
                  <a:lnTo>
                    <a:pt x="936" y="658"/>
                  </a:lnTo>
                  <a:lnTo>
                    <a:pt x="931" y="650"/>
                  </a:lnTo>
                  <a:lnTo>
                    <a:pt x="921" y="646"/>
                  </a:lnTo>
                  <a:lnTo>
                    <a:pt x="917" y="632"/>
                  </a:lnTo>
                  <a:lnTo>
                    <a:pt x="909" y="623"/>
                  </a:lnTo>
                  <a:lnTo>
                    <a:pt x="894" y="611"/>
                  </a:lnTo>
                  <a:lnTo>
                    <a:pt x="892" y="605"/>
                  </a:lnTo>
                  <a:lnTo>
                    <a:pt x="839" y="545"/>
                  </a:lnTo>
                  <a:lnTo>
                    <a:pt x="822" y="530"/>
                  </a:lnTo>
                  <a:lnTo>
                    <a:pt x="808" y="508"/>
                  </a:lnTo>
                  <a:lnTo>
                    <a:pt x="801" y="493"/>
                  </a:lnTo>
                  <a:lnTo>
                    <a:pt x="797" y="487"/>
                  </a:lnTo>
                  <a:lnTo>
                    <a:pt x="789" y="487"/>
                  </a:lnTo>
                  <a:lnTo>
                    <a:pt x="793" y="495"/>
                  </a:lnTo>
                  <a:lnTo>
                    <a:pt x="801" y="504"/>
                  </a:lnTo>
                  <a:lnTo>
                    <a:pt x="805" y="516"/>
                  </a:lnTo>
                  <a:lnTo>
                    <a:pt x="826" y="537"/>
                  </a:lnTo>
                  <a:lnTo>
                    <a:pt x="878" y="603"/>
                  </a:lnTo>
                  <a:lnTo>
                    <a:pt x="903" y="638"/>
                  </a:lnTo>
                  <a:lnTo>
                    <a:pt x="940" y="700"/>
                  </a:lnTo>
                  <a:lnTo>
                    <a:pt x="942" y="718"/>
                  </a:lnTo>
                  <a:lnTo>
                    <a:pt x="946" y="735"/>
                  </a:lnTo>
                  <a:lnTo>
                    <a:pt x="946" y="753"/>
                  </a:lnTo>
                  <a:lnTo>
                    <a:pt x="946" y="772"/>
                  </a:lnTo>
                  <a:lnTo>
                    <a:pt x="942" y="789"/>
                  </a:lnTo>
                  <a:lnTo>
                    <a:pt x="936" y="807"/>
                  </a:lnTo>
                  <a:lnTo>
                    <a:pt x="929" y="824"/>
                  </a:lnTo>
                  <a:lnTo>
                    <a:pt x="917" y="844"/>
                  </a:lnTo>
                  <a:lnTo>
                    <a:pt x="886" y="883"/>
                  </a:lnTo>
                  <a:lnTo>
                    <a:pt x="826" y="937"/>
                  </a:lnTo>
                  <a:lnTo>
                    <a:pt x="772" y="979"/>
                  </a:lnTo>
                  <a:lnTo>
                    <a:pt x="743" y="993"/>
                  </a:lnTo>
                  <a:lnTo>
                    <a:pt x="717" y="1009"/>
                  </a:lnTo>
                  <a:lnTo>
                    <a:pt x="688" y="1020"/>
                  </a:lnTo>
                  <a:lnTo>
                    <a:pt x="663" y="1034"/>
                  </a:lnTo>
                  <a:lnTo>
                    <a:pt x="634" y="1042"/>
                  </a:lnTo>
                  <a:lnTo>
                    <a:pt x="609" y="1049"/>
                  </a:lnTo>
                  <a:lnTo>
                    <a:pt x="580" y="1053"/>
                  </a:lnTo>
                  <a:lnTo>
                    <a:pt x="554" y="1057"/>
                  </a:lnTo>
                  <a:lnTo>
                    <a:pt x="545" y="105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36240" y="605160"/>
              <a:ext cx="1528560" cy="836640"/>
            </a:xfrm>
            <a:custGeom>
              <a:avLst/>
              <a:gdLst/>
              <a:ahLst/>
              <a:rect l="l" t="t" r="r" b="b"/>
              <a:pathLst>
                <a:path w="1926" h="1055">
                  <a:moveTo>
                    <a:pt x="1047" y="1055"/>
                  </a:moveTo>
                  <a:lnTo>
                    <a:pt x="1028" y="1053"/>
                  </a:lnTo>
                  <a:lnTo>
                    <a:pt x="1018" y="1047"/>
                  </a:lnTo>
                  <a:lnTo>
                    <a:pt x="1014" y="1030"/>
                  </a:lnTo>
                  <a:lnTo>
                    <a:pt x="1024" y="989"/>
                  </a:lnTo>
                  <a:lnTo>
                    <a:pt x="1018" y="989"/>
                  </a:lnTo>
                  <a:lnTo>
                    <a:pt x="993" y="1016"/>
                  </a:lnTo>
                  <a:lnTo>
                    <a:pt x="983" y="1020"/>
                  </a:lnTo>
                  <a:lnTo>
                    <a:pt x="970" y="1014"/>
                  </a:lnTo>
                  <a:lnTo>
                    <a:pt x="966" y="1011"/>
                  </a:lnTo>
                  <a:lnTo>
                    <a:pt x="964" y="995"/>
                  </a:lnTo>
                  <a:lnTo>
                    <a:pt x="966" y="978"/>
                  </a:lnTo>
                  <a:lnTo>
                    <a:pt x="974" y="962"/>
                  </a:lnTo>
                  <a:lnTo>
                    <a:pt x="975" y="949"/>
                  </a:lnTo>
                  <a:lnTo>
                    <a:pt x="968" y="949"/>
                  </a:lnTo>
                  <a:lnTo>
                    <a:pt x="935" y="997"/>
                  </a:lnTo>
                  <a:lnTo>
                    <a:pt x="917" y="1011"/>
                  </a:lnTo>
                  <a:lnTo>
                    <a:pt x="896" y="1014"/>
                  </a:lnTo>
                  <a:lnTo>
                    <a:pt x="884" y="1009"/>
                  </a:lnTo>
                  <a:lnTo>
                    <a:pt x="879" y="995"/>
                  </a:lnTo>
                  <a:lnTo>
                    <a:pt x="879" y="962"/>
                  </a:lnTo>
                  <a:lnTo>
                    <a:pt x="871" y="960"/>
                  </a:lnTo>
                  <a:lnTo>
                    <a:pt x="846" y="989"/>
                  </a:lnTo>
                  <a:lnTo>
                    <a:pt x="816" y="995"/>
                  </a:lnTo>
                  <a:lnTo>
                    <a:pt x="807" y="987"/>
                  </a:lnTo>
                  <a:lnTo>
                    <a:pt x="805" y="978"/>
                  </a:lnTo>
                  <a:lnTo>
                    <a:pt x="797" y="894"/>
                  </a:lnTo>
                  <a:lnTo>
                    <a:pt x="793" y="896"/>
                  </a:lnTo>
                  <a:lnTo>
                    <a:pt x="760" y="950"/>
                  </a:lnTo>
                  <a:lnTo>
                    <a:pt x="743" y="952"/>
                  </a:lnTo>
                  <a:lnTo>
                    <a:pt x="731" y="939"/>
                  </a:lnTo>
                  <a:lnTo>
                    <a:pt x="723" y="914"/>
                  </a:lnTo>
                  <a:lnTo>
                    <a:pt x="716" y="906"/>
                  </a:lnTo>
                  <a:lnTo>
                    <a:pt x="702" y="939"/>
                  </a:lnTo>
                  <a:lnTo>
                    <a:pt x="692" y="939"/>
                  </a:lnTo>
                  <a:lnTo>
                    <a:pt x="669" y="919"/>
                  </a:lnTo>
                  <a:lnTo>
                    <a:pt x="634" y="857"/>
                  </a:lnTo>
                  <a:lnTo>
                    <a:pt x="630" y="857"/>
                  </a:lnTo>
                  <a:lnTo>
                    <a:pt x="638" y="927"/>
                  </a:lnTo>
                  <a:lnTo>
                    <a:pt x="634" y="933"/>
                  </a:lnTo>
                  <a:lnTo>
                    <a:pt x="613" y="923"/>
                  </a:lnTo>
                  <a:lnTo>
                    <a:pt x="591" y="886"/>
                  </a:lnTo>
                  <a:lnTo>
                    <a:pt x="566" y="855"/>
                  </a:lnTo>
                  <a:lnTo>
                    <a:pt x="539" y="832"/>
                  </a:lnTo>
                  <a:lnTo>
                    <a:pt x="510" y="811"/>
                  </a:lnTo>
                  <a:lnTo>
                    <a:pt x="481" y="795"/>
                  </a:lnTo>
                  <a:lnTo>
                    <a:pt x="450" y="778"/>
                  </a:lnTo>
                  <a:lnTo>
                    <a:pt x="419" y="766"/>
                  </a:lnTo>
                  <a:lnTo>
                    <a:pt x="390" y="755"/>
                  </a:lnTo>
                  <a:lnTo>
                    <a:pt x="361" y="745"/>
                  </a:lnTo>
                  <a:lnTo>
                    <a:pt x="324" y="726"/>
                  </a:lnTo>
                  <a:lnTo>
                    <a:pt x="287" y="710"/>
                  </a:lnTo>
                  <a:lnTo>
                    <a:pt x="250" y="693"/>
                  </a:lnTo>
                  <a:lnTo>
                    <a:pt x="215" y="677"/>
                  </a:lnTo>
                  <a:lnTo>
                    <a:pt x="180" y="658"/>
                  </a:lnTo>
                  <a:lnTo>
                    <a:pt x="147" y="636"/>
                  </a:lnTo>
                  <a:lnTo>
                    <a:pt x="116" y="609"/>
                  </a:lnTo>
                  <a:lnTo>
                    <a:pt x="91" y="580"/>
                  </a:lnTo>
                  <a:lnTo>
                    <a:pt x="66" y="543"/>
                  </a:lnTo>
                  <a:lnTo>
                    <a:pt x="56" y="532"/>
                  </a:lnTo>
                  <a:lnTo>
                    <a:pt x="37" y="489"/>
                  </a:lnTo>
                  <a:lnTo>
                    <a:pt x="33" y="481"/>
                  </a:lnTo>
                  <a:lnTo>
                    <a:pt x="29" y="470"/>
                  </a:lnTo>
                  <a:lnTo>
                    <a:pt x="25" y="452"/>
                  </a:lnTo>
                  <a:lnTo>
                    <a:pt x="23" y="448"/>
                  </a:lnTo>
                  <a:lnTo>
                    <a:pt x="16" y="423"/>
                  </a:lnTo>
                  <a:lnTo>
                    <a:pt x="8" y="392"/>
                  </a:lnTo>
                  <a:lnTo>
                    <a:pt x="2" y="361"/>
                  </a:lnTo>
                  <a:lnTo>
                    <a:pt x="0" y="330"/>
                  </a:lnTo>
                  <a:lnTo>
                    <a:pt x="0" y="299"/>
                  </a:lnTo>
                  <a:lnTo>
                    <a:pt x="0" y="268"/>
                  </a:lnTo>
                  <a:lnTo>
                    <a:pt x="4" y="237"/>
                  </a:lnTo>
                  <a:lnTo>
                    <a:pt x="8" y="206"/>
                  </a:lnTo>
                  <a:lnTo>
                    <a:pt x="16" y="177"/>
                  </a:lnTo>
                  <a:lnTo>
                    <a:pt x="37" y="124"/>
                  </a:lnTo>
                  <a:lnTo>
                    <a:pt x="97" y="0"/>
                  </a:lnTo>
                  <a:lnTo>
                    <a:pt x="95" y="14"/>
                  </a:lnTo>
                  <a:lnTo>
                    <a:pt x="95" y="29"/>
                  </a:lnTo>
                  <a:lnTo>
                    <a:pt x="95" y="43"/>
                  </a:lnTo>
                  <a:lnTo>
                    <a:pt x="97" y="58"/>
                  </a:lnTo>
                  <a:lnTo>
                    <a:pt x="99" y="72"/>
                  </a:lnTo>
                  <a:lnTo>
                    <a:pt x="103" y="88"/>
                  </a:lnTo>
                  <a:lnTo>
                    <a:pt x="105" y="101"/>
                  </a:lnTo>
                  <a:lnTo>
                    <a:pt x="111" y="119"/>
                  </a:lnTo>
                  <a:lnTo>
                    <a:pt x="120" y="136"/>
                  </a:lnTo>
                  <a:lnTo>
                    <a:pt x="153" y="165"/>
                  </a:lnTo>
                  <a:lnTo>
                    <a:pt x="227" y="165"/>
                  </a:lnTo>
                  <a:lnTo>
                    <a:pt x="237" y="165"/>
                  </a:lnTo>
                  <a:lnTo>
                    <a:pt x="254" y="163"/>
                  </a:lnTo>
                  <a:lnTo>
                    <a:pt x="272" y="163"/>
                  </a:lnTo>
                  <a:lnTo>
                    <a:pt x="291" y="163"/>
                  </a:lnTo>
                  <a:lnTo>
                    <a:pt x="310" y="167"/>
                  </a:lnTo>
                  <a:lnTo>
                    <a:pt x="328" y="171"/>
                  </a:lnTo>
                  <a:lnTo>
                    <a:pt x="347" y="181"/>
                  </a:lnTo>
                  <a:lnTo>
                    <a:pt x="367" y="194"/>
                  </a:lnTo>
                  <a:lnTo>
                    <a:pt x="386" y="214"/>
                  </a:lnTo>
                  <a:lnTo>
                    <a:pt x="398" y="225"/>
                  </a:lnTo>
                  <a:lnTo>
                    <a:pt x="411" y="241"/>
                  </a:lnTo>
                  <a:lnTo>
                    <a:pt x="423" y="254"/>
                  </a:lnTo>
                  <a:lnTo>
                    <a:pt x="434" y="272"/>
                  </a:lnTo>
                  <a:lnTo>
                    <a:pt x="444" y="285"/>
                  </a:lnTo>
                  <a:lnTo>
                    <a:pt x="454" y="301"/>
                  </a:lnTo>
                  <a:lnTo>
                    <a:pt x="465" y="316"/>
                  </a:lnTo>
                  <a:lnTo>
                    <a:pt x="479" y="334"/>
                  </a:lnTo>
                  <a:lnTo>
                    <a:pt x="491" y="344"/>
                  </a:lnTo>
                  <a:lnTo>
                    <a:pt x="506" y="365"/>
                  </a:lnTo>
                  <a:lnTo>
                    <a:pt x="557" y="390"/>
                  </a:lnTo>
                  <a:lnTo>
                    <a:pt x="609" y="402"/>
                  </a:lnTo>
                  <a:lnTo>
                    <a:pt x="663" y="406"/>
                  </a:lnTo>
                  <a:lnTo>
                    <a:pt x="719" y="411"/>
                  </a:lnTo>
                  <a:lnTo>
                    <a:pt x="774" y="419"/>
                  </a:lnTo>
                  <a:lnTo>
                    <a:pt x="828" y="437"/>
                  </a:lnTo>
                  <a:lnTo>
                    <a:pt x="880" y="468"/>
                  </a:lnTo>
                  <a:lnTo>
                    <a:pt x="933" y="524"/>
                  </a:lnTo>
                  <a:lnTo>
                    <a:pt x="989" y="545"/>
                  </a:lnTo>
                  <a:lnTo>
                    <a:pt x="1047" y="559"/>
                  </a:lnTo>
                  <a:lnTo>
                    <a:pt x="1103" y="568"/>
                  </a:lnTo>
                  <a:lnTo>
                    <a:pt x="1162" y="578"/>
                  </a:lnTo>
                  <a:lnTo>
                    <a:pt x="1218" y="588"/>
                  </a:lnTo>
                  <a:lnTo>
                    <a:pt x="1274" y="609"/>
                  </a:lnTo>
                  <a:lnTo>
                    <a:pt x="1330" y="642"/>
                  </a:lnTo>
                  <a:lnTo>
                    <a:pt x="1389" y="696"/>
                  </a:lnTo>
                  <a:lnTo>
                    <a:pt x="1422" y="708"/>
                  </a:lnTo>
                  <a:lnTo>
                    <a:pt x="1456" y="714"/>
                  </a:lnTo>
                  <a:lnTo>
                    <a:pt x="1489" y="714"/>
                  </a:lnTo>
                  <a:lnTo>
                    <a:pt x="1524" y="710"/>
                  </a:lnTo>
                  <a:lnTo>
                    <a:pt x="1557" y="704"/>
                  </a:lnTo>
                  <a:lnTo>
                    <a:pt x="1590" y="698"/>
                  </a:lnTo>
                  <a:lnTo>
                    <a:pt x="1623" y="694"/>
                  </a:lnTo>
                  <a:lnTo>
                    <a:pt x="1658" y="696"/>
                  </a:lnTo>
                  <a:lnTo>
                    <a:pt x="1720" y="706"/>
                  </a:lnTo>
                  <a:lnTo>
                    <a:pt x="1718" y="706"/>
                  </a:lnTo>
                  <a:lnTo>
                    <a:pt x="1742" y="712"/>
                  </a:lnTo>
                  <a:lnTo>
                    <a:pt x="1765" y="718"/>
                  </a:lnTo>
                  <a:lnTo>
                    <a:pt x="1788" y="724"/>
                  </a:lnTo>
                  <a:lnTo>
                    <a:pt x="1813" y="729"/>
                  </a:lnTo>
                  <a:lnTo>
                    <a:pt x="1837" y="733"/>
                  </a:lnTo>
                  <a:lnTo>
                    <a:pt x="1860" y="735"/>
                  </a:lnTo>
                  <a:lnTo>
                    <a:pt x="1883" y="735"/>
                  </a:lnTo>
                  <a:lnTo>
                    <a:pt x="1908" y="733"/>
                  </a:lnTo>
                  <a:lnTo>
                    <a:pt x="1914" y="729"/>
                  </a:lnTo>
                  <a:lnTo>
                    <a:pt x="1926" y="727"/>
                  </a:lnTo>
                  <a:lnTo>
                    <a:pt x="1926" y="741"/>
                  </a:lnTo>
                  <a:lnTo>
                    <a:pt x="1922" y="766"/>
                  </a:lnTo>
                  <a:lnTo>
                    <a:pt x="1920" y="795"/>
                  </a:lnTo>
                  <a:lnTo>
                    <a:pt x="1914" y="821"/>
                  </a:lnTo>
                  <a:lnTo>
                    <a:pt x="1910" y="850"/>
                  </a:lnTo>
                  <a:lnTo>
                    <a:pt x="1903" y="875"/>
                  </a:lnTo>
                  <a:lnTo>
                    <a:pt x="1891" y="904"/>
                  </a:lnTo>
                  <a:lnTo>
                    <a:pt x="1875" y="929"/>
                  </a:lnTo>
                  <a:lnTo>
                    <a:pt x="1858" y="958"/>
                  </a:lnTo>
                  <a:lnTo>
                    <a:pt x="1829" y="987"/>
                  </a:lnTo>
                  <a:lnTo>
                    <a:pt x="1821" y="999"/>
                  </a:lnTo>
                  <a:lnTo>
                    <a:pt x="1790" y="1016"/>
                  </a:lnTo>
                  <a:lnTo>
                    <a:pt x="1759" y="1030"/>
                  </a:lnTo>
                  <a:lnTo>
                    <a:pt x="1728" y="1042"/>
                  </a:lnTo>
                  <a:lnTo>
                    <a:pt x="1699" y="1049"/>
                  </a:lnTo>
                  <a:lnTo>
                    <a:pt x="1668" y="1051"/>
                  </a:lnTo>
                  <a:lnTo>
                    <a:pt x="1639" y="1051"/>
                  </a:lnTo>
                  <a:lnTo>
                    <a:pt x="1608" y="1047"/>
                  </a:lnTo>
                  <a:lnTo>
                    <a:pt x="1579" y="1044"/>
                  </a:lnTo>
                  <a:lnTo>
                    <a:pt x="1538" y="1028"/>
                  </a:lnTo>
                  <a:lnTo>
                    <a:pt x="1497" y="1013"/>
                  </a:lnTo>
                  <a:lnTo>
                    <a:pt x="1458" y="997"/>
                  </a:lnTo>
                  <a:lnTo>
                    <a:pt x="1420" y="983"/>
                  </a:lnTo>
                  <a:lnTo>
                    <a:pt x="1379" y="970"/>
                  </a:lnTo>
                  <a:lnTo>
                    <a:pt x="1340" y="960"/>
                  </a:lnTo>
                  <a:lnTo>
                    <a:pt x="1301" y="950"/>
                  </a:lnTo>
                  <a:lnTo>
                    <a:pt x="1263" y="949"/>
                  </a:lnTo>
                  <a:lnTo>
                    <a:pt x="1245" y="949"/>
                  </a:lnTo>
                  <a:lnTo>
                    <a:pt x="1228" y="950"/>
                  </a:lnTo>
                  <a:lnTo>
                    <a:pt x="1210" y="954"/>
                  </a:lnTo>
                  <a:lnTo>
                    <a:pt x="1193" y="960"/>
                  </a:lnTo>
                  <a:lnTo>
                    <a:pt x="1175" y="966"/>
                  </a:lnTo>
                  <a:lnTo>
                    <a:pt x="1158" y="976"/>
                  </a:lnTo>
                  <a:lnTo>
                    <a:pt x="1140" y="985"/>
                  </a:lnTo>
                  <a:lnTo>
                    <a:pt x="1123" y="999"/>
                  </a:lnTo>
                  <a:lnTo>
                    <a:pt x="1107" y="1007"/>
                  </a:lnTo>
                  <a:lnTo>
                    <a:pt x="1092" y="1020"/>
                  </a:lnTo>
                  <a:lnTo>
                    <a:pt x="1078" y="1034"/>
                  </a:lnTo>
                  <a:lnTo>
                    <a:pt x="1067" y="1049"/>
                  </a:lnTo>
                  <a:lnTo>
                    <a:pt x="1061" y="1053"/>
                  </a:lnTo>
                  <a:lnTo>
                    <a:pt x="1047" y="1055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46920" y="1248120"/>
              <a:ext cx="119160" cy="11592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58" y="145"/>
                  </a:moveTo>
                  <a:lnTo>
                    <a:pt x="17" y="124"/>
                  </a:lnTo>
                  <a:lnTo>
                    <a:pt x="9" y="116"/>
                  </a:lnTo>
                  <a:lnTo>
                    <a:pt x="4" y="105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0" y="60"/>
                  </a:lnTo>
                  <a:lnTo>
                    <a:pt x="2" y="46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38" y="6"/>
                  </a:lnTo>
                  <a:lnTo>
                    <a:pt x="15" y="44"/>
                  </a:lnTo>
                  <a:lnTo>
                    <a:pt x="9" y="62"/>
                  </a:lnTo>
                  <a:lnTo>
                    <a:pt x="13" y="91"/>
                  </a:lnTo>
                  <a:lnTo>
                    <a:pt x="17" y="103"/>
                  </a:lnTo>
                  <a:lnTo>
                    <a:pt x="27" y="116"/>
                  </a:lnTo>
                  <a:lnTo>
                    <a:pt x="37" y="122"/>
                  </a:lnTo>
                  <a:lnTo>
                    <a:pt x="77" y="130"/>
                  </a:lnTo>
                  <a:lnTo>
                    <a:pt x="102" y="116"/>
                  </a:lnTo>
                  <a:lnTo>
                    <a:pt x="133" y="91"/>
                  </a:lnTo>
                  <a:lnTo>
                    <a:pt x="137" y="89"/>
                  </a:lnTo>
                  <a:lnTo>
                    <a:pt x="151" y="83"/>
                  </a:lnTo>
                  <a:lnTo>
                    <a:pt x="139" y="108"/>
                  </a:lnTo>
                  <a:lnTo>
                    <a:pt x="128" y="116"/>
                  </a:lnTo>
                  <a:lnTo>
                    <a:pt x="89" y="143"/>
                  </a:lnTo>
                  <a:lnTo>
                    <a:pt x="5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20200" y="1311480"/>
              <a:ext cx="346320" cy="34920"/>
            </a:xfrm>
            <a:custGeom>
              <a:avLst/>
              <a:gdLst/>
              <a:ahLst/>
              <a:rect l="l" t="t" r="r" b="b"/>
              <a:pathLst>
                <a:path w="437" h="45">
                  <a:moveTo>
                    <a:pt x="237" y="43"/>
                  </a:moveTo>
                  <a:lnTo>
                    <a:pt x="208" y="41"/>
                  </a:lnTo>
                  <a:lnTo>
                    <a:pt x="181" y="39"/>
                  </a:lnTo>
                  <a:lnTo>
                    <a:pt x="152" y="33"/>
                  </a:lnTo>
                  <a:lnTo>
                    <a:pt x="124" y="28"/>
                  </a:lnTo>
                  <a:lnTo>
                    <a:pt x="95" y="22"/>
                  </a:lnTo>
                  <a:lnTo>
                    <a:pt x="68" y="16"/>
                  </a:lnTo>
                  <a:lnTo>
                    <a:pt x="39" y="14"/>
                  </a:lnTo>
                  <a:lnTo>
                    <a:pt x="12" y="16"/>
                  </a:lnTo>
                  <a:lnTo>
                    <a:pt x="0" y="16"/>
                  </a:lnTo>
                  <a:lnTo>
                    <a:pt x="8" y="6"/>
                  </a:lnTo>
                  <a:lnTo>
                    <a:pt x="57" y="4"/>
                  </a:lnTo>
                  <a:lnTo>
                    <a:pt x="107" y="10"/>
                  </a:lnTo>
                  <a:lnTo>
                    <a:pt x="155" y="16"/>
                  </a:lnTo>
                  <a:lnTo>
                    <a:pt x="206" y="24"/>
                  </a:lnTo>
                  <a:lnTo>
                    <a:pt x="254" y="28"/>
                  </a:lnTo>
                  <a:lnTo>
                    <a:pt x="305" y="28"/>
                  </a:lnTo>
                  <a:lnTo>
                    <a:pt x="355" y="22"/>
                  </a:lnTo>
                  <a:lnTo>
                    <a:pt x="406" y="12"/>
                  </a:lnTo>
                  <a:lnTo>
                    <a:pt x="417" y="8"/>
                  </a:lnTo>
                  <a:lnTo>
                    <a:pt x="437" y="0"/>
                  </a:lnTo>
                  <a:lnTo>
                    <a:pt x="425" y="16"/>
                  </a:lnTo>
                  <a:lnTo>
                    <a:pt x="413" y="24"/>
                  </a:lnTo>
                  <a:lnTo>
                    <a:pt x="404" y="26"/>
                  </a:lnTo>
                  <a:lnTo>
                    <a:pt x="382" y="29"/>
                  </a:lnTo>
                  <a:lnTo>
                    <a:pt x="363" y="35"/>
                  </a:lnTo>
                  <a:lnTo>
                    <a:pt x="342" y="37"/>
                  </a:lnTo>
                  <a:lnTo>
                    <a:pt x="322" y="41"/>
                  </a:lnTo>
                  <a:lnTo>
                    <a:pt x="301" y="41"/>
                  </a:lnTo>
                  <a:lnTo>
                    <a:pt x="282" y="43"/>
                  </a:lnTo>
                  <a:lnTo>
                    <a:pt x="260" y="43"/>
                  </a:lnTo>
                  <a:lnTo>
                    <a:pt x="241" y="45"/>
                  </a:lnTo>
                  <a:lnTo>
                    <a:pt x="23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77280" y="1054440"/>
              <a:ext cx="131760" cy="276120"/>
            </a:xfrm>
            <a:custGeom>
              <a:avLst/>
              <a:gdLst/>
              <a:ahLst/>
              <a:rect l="l" t="t" r="r" b="b"/>
              <a:pathLst>
                <a:path w="165" h="349">
                  <a:moveTo>
                    <a:pt x="117" y="349"/>
                  </a:moveTo>
                  <a:lnTo>
                    <a:pt x="95" y="335"/>
                  </a:lnTo>
                  <a:lnTo>
                    <a:pt x="95" y="331"/>
                  </a:lnTo>
                  <a:lnTo>
                    <a:pt x="89" y="318"/>
                  </a:lnTo>
                  <a:lnTo>
                    <a:pt x="89" y="306"/>
                  </a:lnTo>
                  <a:lnTo>
                    <a:pt x="93" y="294"/>
                  </a:lnTo>
                  <a:lnTo>
                    <a:pt x="99" y="283"/>
                  </a:lnTo>
                  <a:lnTo>
                    <a:pt x="78" y="279"/>
                  </a:lnTo>
                  <a:lnTo>
                    <a:pt x="64" y="265"/>
                  </a:lnTo>
                  <a:lnTo>
                    <a:pt x="58" y="236"/>
                  </a:lnTo>
                  <a:lnTo>
                    <a:pt x="72" y="221"/>
                  </a:lnTo>
                  <a:lnTo>
                    <a:pt x="60" y="215"/>
                  </a:lnTo>
                  <a:lnTo>
                    <a:pt x="47" y="215"/>
                  </a:lnTo>
                  <a:lnTo>
                    <a:pt x="33" y="205"/>
                  </a:lnTo>
                  <a:lnTo>
                    <a:pt x="31" y="172"/>
                  </a:lnTo>
                  <a:lnTo>
                    <a:pt x="41" y="159"/>
                  </a:lnTo>
                  <a:lnTo>
                    <a:pt x="41" y="153"/>
                  </a:lnTo>
                  <a:lnTo>
                    <a:pt x="8" y="139"/>
                  </a:lnTo>
                  <a:lnTo>
                    <a:pt x="4" y="131"/>
                  </a:lnTo>
                  <a:lnTo>
                    <a:pt x="2" y="118"/>
                  </a:lnTo>
                  <a:lnTo>
                    <a:pt x="4" y="106"/>
                  </a:lnTo>
                  <a:lnTo>
                    <a:pt x="8" y="93"/>
                  </a:lnTo>
                  <a:lnTo>
                    <a:pt x="16" y="81"/>
                  </a:lnTo>
                  <a:lnTo>
                    <a:pt x="22" y="71"/>
                  </a:lnTo>
                  <a:lnTo>
                    <a:pt x="14" y="69"/>
                  </a:lnTo>
                  <a:lnTo>
                    <a:pt x="4" y="50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6" y="17"/>
                  </a:lnTo>
                  <a:lnTo>
                    <a:pt x="16" y="7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47" y="21"/>
                  </a:lnTo>
                  <a:lnTo>
                    <a:pt x="47" y="31"/>
                  </a:lnTo>
                  <a:lnTo>
                    <a:pt x="51" y="40"/>
                  </a:lnTo>
                  <a:lnTo>
                    <a:pt x="53" y="50"/>
                  </a:lnTo>
                  <a:lnTo>
                    <a:pt x="58" y="60"/>
                  </a:lnTo>
                  <a:lnTo>
                    <a:pt x="62" y="71"/>
                  </a:lnTo>
                  <a:lnTo>
                    <a:pt x="72" y="83"/>
                  </a:lnTo>
                  <a:lnTo>
                    <a:pt x="109" y="129"/>
                  </a:lnTo>
                  <a:lnTo>
                    <a:pt x="150" y="209"/>
                  </a:lnTo>
                  <a:lnTo>
                    <a:pt x="152" y="221"/>
                  </a:lnTo>
                  <a:lnTo>
                    <a:pt x="163" y="248"/>
                  </a:lnTo>
                  <a:lnTo>
                    <a:pt x="165" y="250"/>
                  </a:lnTo>
                  <a:lnTo>
                    <a:pt x="157" y="261"/>
                  </a:lnTo>
                  <a:lnTo>
                    <a:pt x="152" y="273"/>
                  </a:lnTo>
                  <a:lnTo>
                    <a:pt x="148" y="285"/>
                  </a:lnTo>
                  <a:lnTo>
                    <a:pt x="144" y="298"/>
                  </a:lnTo>
                  <a:lnTo>
                    <a:pt x="138" y="310"/>
                  </a:lnTo>
                  <a:lnTo>
                    <a:pt x="136" y="323"/>
                  </a:lnTo>
                  <a:lnTo>
                    <a:pt x="132" y="335"/>
                  </a:lnTo>
                  <a:lnTo>
                    <a:pt x="130" y="349"/>
                  </a:lnTo>
                  <a:lnTo>
                    <a:pt x="117" y="34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94840" y="1246320"/>
              <a:ext cx="352440" cy="85680"/>
            </a:xfrm>
            <a:custGeom>
              <a:avLst/>
              <a:gdLst/>
              <a:ahLst/>
              <a:rect l="l" t="t" r="r" b="b"/>
              <a:pathLst>
                <a:path w="444" h="109">
                  <a:moveTo>
                    <a:pt x="0" y="107"/>
                  </a:moveTo>
                  <a:lnTo>
                    <a:pt x="12" y="87"/>
                  </a:lnTo>
                  <a:lnTo>
                    <a:pt x="27" y="72"/>
                  </a:lnTo>
                  <a:lnTo>
                    <a:pt x="43" y="56"/>
                  </a:lnTo>
                  <a:lnTo>
                    <a:pt x="60" y="45"/>
                  </a:lnTo>
                  <a:lnTo>
                    <a:pt x="78" y="33"/>
                  </a:lnTo>
                  <a:lnTo>
                    <a:pt x="97" y="23"/>
                  </a:lnTo>
                  <a:lnTo>
                    <a:pt x="115" y="15"/>
                  </a:lnTo>
                  <a:lnTo>
                    <a:pt x="134" y="10"/>
                  </a:lnTo>
                  <a:lnTo>
                    <a:pt x="171" y="2"/>
                  </a:lnTo>
                  <a:lnTo>
                    <a:pt x="210" y="0"/>
                  </a:lnTo>
                  <a:lnTo>
                    <a:pt x="248" y="0"/>
                  </a:lnTo>
                  <a:lnTo>
                    <a:pt x="287" y="4"/>
                  </a:lnTo>
                  <a:lnTo>
                    <a:pt x="324" y="8"/>
                  </a:lnTo>
                  <a:lnTo>
                    <a:pt x="363" y="13"/>
                  </a:lnTo>
                  <a:lnTo>
                    <a:pt x="402" y="21"/>
                  </a:lnTo>
                  <a:lnTo>
                    <a:pt x="440" y="31"/>
                  </a:lnTo>
                  <a:lnTo>
                    <a:pt x="444" y="41"/>
                  </a:lnTo>
                  <a:lnTo>
                    <a:pt x="404" y="35"/>
                  </a:lnTo>
                  <a:lnTo>
                    <a:pt x="365" y="29"/>
                  </a:lnTo>
                  <a:lnTo>
                    <a:pt x="326" y="23"/>
                  </a:lnTo>
                  <a:lnTo>
                    <a:pt x="289" y="21"/>
                  </a:lnTo>
                  <a:lnTo>
                    <a:pt x="248" y="15"/>
                  </a:lnTo>
                  <a:lnTo>
                    <a:pt x="210" y="15"/>
                  </a:lnTo>
                  <a:lnTo>
                    <a:pt x="171" y="17"/>
                  </a:lnTo>
                  <a:lnTo>
                    <a:pt x="134" y="25"/>
                  </a:lnTo>
                  <a:lnTo>
                    <a:pt x="70" y="56"/>
                  </a:lnTo>
                  <a:lnTo>
                    <a:pt x="8" y="109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04480" y="1151280"/>
              <a:ext cx="191880" cy="168120"/>
            </a:xfrm>
            <a:custGeom>
              <a:avLst/>
              <a:gdLst/>
              <a:ahLst/>
              <a:rect l="l" t="t" r="r" b="b"/>
              <a:pathLst>
                <a:path w="240" h="211">
                  <a:moveTo>
                    <a:pt x="0" y="211"/>
                  </a:moveTo>
                  <a:lnTo>
                    <a:pt x="6" y="184"/>
                  </a:lnTo>
                  <a:lnTo>
                    <a:pt x="19" y="157"/>
                  </a:lnTo>
                  <a:lnTo>
                    <a:pt x="35" y="128"/>
                  </a:lnTo>
                  <a:lnTo>
                    <a:pt x="56" y="102"/>
                  </a:lnTo>
                  <a:lnTo>
                    <a:pt x="77" y="75"/>
                  </a:lnTo>
                  <a:lnTo>
                    <a:pt x="103" y="54"/>
                  </a:lnTo>
                  <a:lnTo>
                    <a:pt x="128" y="35"/>
                  </a:lnTo>
                  <a:lnTo>
                    <a:pt x="157" y="21"/>
                  </a:lnTo>
                  <a:lnTo>
                    <a:pt x="229" y="0"/>
                  </a:lnTo>
                  <a:lnTo>
                    <a:pt x="240" y="2"/>
                  </a:lnTo>
                  <a:lnTo>
                    <a:pt x="234" y="9"/>
                  </a:lnTo>
                  <a:lnTo>
                    <a:pt x="213" y="17"/>
                  </a:lnTo>
                  <a:lnTo>
                    <a:pt x="143" y="42"/>
                  </a:lnTo>
                  <a:lnTo>
                    <a:pt x="135" y="50"/>
                  </a:lnTo>
                  <a:lnTo>
                    <a:pt x="114" y="64"/>
                  </a:lnTo>
                  <a:lnTo>
                    <a:pt x="106" y="75"/>
                  </a:lnTo>
                  <a:lnTo>
                    <a:pt x="87" y="91"/>
                  </a:lnTo>
                  <a:lnTo>
                    <a:pt x="71" y="106"/>
                  </a:lnTo>
                  <a:lnTo>
                    <a:pt x="58" y="122"/>
                  </a:lnTo>
                  <a:lnTo>
                    <a:pt x="46" y="139"/>
                  </a:lnTo>
                  <a:lnTo>
                    <a:pt x="35" y="157"/>
                  </a:lnTo>
                  <a:lnTo>
                    <a:pt x="25" y="174"/>
                  </a:lnTo>
                  <a:lnTo>
                    <a:pt x="15" y="192"/>
                  </a:lnTo>
                  <a:lnTo>
                    <a:pt x="9" y="209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7720" y="1257480"/>
              <a:ext cx="22320" cy="3024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1" y="37"/>
                  </a:moveTo>
                  <a:lnTo>
                    <a:pt x="9" y="18"/>
                  </a:lnTo>
                  <a:lnTo>
                    <a:pt x="0" y="4"/>
                  </a:lnTo>
                  <a:lnTo>
                    <a:pt x="6" y="0"/>
                  </a:lnTo>
                  <a:lnTo>
                    <a:pt x="27" y="39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39320" y="1116360"/>
              <a:ext cx="44640" cy="163440"/>
            </a:xfrm>
            <a:custGeom>
              <a:avLst/>
              <a:gdLst/>
              <a:ahLst/>
              <a:rect l="l" t="t" r="r" b="b"/>
              <a:pathLst>
                <a:path w="57" h="208">
                  <a:moveTo>
                    <a:pt x="0" y="208"/>
                  </a:moveTo>
                  <a:lnTo>
                    <a:pt x="0" y="180"/>
                  </a:lnTo>
                  <a:lnTo>
                    <a:pt x="4" y="155"/>
                  </a:lnTo>
                  <a:lnTo>
                    <a:pt x="8" y="128"/>
                  </a:lnTo>
                  <a:lnTo>
                    <a:pt x="16" y="103"/>
                  </a:lnTo>
                  <a:lnTo>
                    <a:pt x="22" y="76"/>
                  </a:lnTo>
                  <a:lnTo>
                    <a:pt x="31" y="50"/>
                  </a:lnTo>
                  <a:lnTo>
                    <a:pt x="41" y="25"/>
                  </a:lnTo>
                  <a:lnTo>
                    <a:pt x="57" y="0"/>
                  </a:lnTo>
                  <a:lnTo>
                    <a:pt x="55" y="29"/>
                  </a:lnTo>
                  <a:lnTo>
                    <a:pt x="43" y="50"/>
                  </a:lnTo>
                  <a:lnTo>
                    <a:pt x="37" y="72"/>
                  </a:lnTo>
                  <a:lnTo>
                    <a:pt x="31" y="95"/>
                  </a:lnTo>
                  <a:lnTo>
                    <a:pt x="27" y="118"/>
                  </a:lnTo>
                  <a:lnTo>
                    <a:pt x="22" y="140"/>
                  </a:lnTo>
                  <a:lnTo>
                    <a:pt x="16" y="163"/>
                  </a:lnTo>
                  <a:lnTo>
                    <a:pt x="10" y="184"/>
                  </a:lnTo>
                  <a:lnTo>
                    <a:pt x="4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53240" y="837000"/>
              <a:ext cx="470160" cy="436320"/>
            </a:xfrm>
            <a:custGeom>
              <a:avLst/>
              <a:gdLst/>
              <a:ahLst/>
              <a:rect l="l" t="t" r="r" b="b"/>
              <a:pathLst>
                <a:path w="594" h="551">
                  <a:moveTo>
                    <a:pt x="313" y="549"/>
                  </a:moveTo>
                  <a:lnTo>
                    <a:pt x="311" y="547"/>
                  </a:lnTo>
                  <a:lnTo>
                    <a:pt x="311" y="541"/>
                  </a:lnTo>
                  <a:lnTo>
                    <a:pt x="342" y="524"/>
                  </a:lnTo>
                  <a:lnTo>
                    <a:pt x="332" y="497"/>
                  </a:lnTo>
                  <a:lnTo>
                    <a:pt x="326" y="477"/>
                  </a:lnTo>
                  <a:lnTo>
                    <a:pt x="320" y="458"/>
                  </a:lnTo>
                  <a:lnTo>
                    <a:pt x="316" y="438"/>
                  </a:lnTo>
                  <a:lnTo>
                    <a:pt x="320" y="421"/>
                  </a:lnTo>
                  <a:lnTo>
                    <a:pt x="311" y="419"/>
                  </a:lnTo>
                  <a:lnTo>
                    <a:pt x="293" y="413"/>
                  </a:lnTo>
                  <a:lnTo>
                    <a:pt x="278" y="409"/>
                  </a:lnTo>
                  <a:lnTo>
                    <a:pt x="262" y="400"/>
                  </a:lnTo>
                  <a:lnTo>
                    <a:pt x="247" y="390"/>
                  </a:lnTo>
                  <a:lnTo>
                    <a:pt x="231" y="378"/>
                  </a:lnTo>
                  <a:lnTo>
                    <a:pt x="216" y="369"/>
                  </a:lnTo>
                  <a:lnTo>
                    <a:pt x="200" y="359"/>
                  </a:lnTo>
                  <a:lnTo>
                    <a:pt x="186" y="355"/>
                  </a:lnTo>
                  <a:lnTo>
                    <a:pt x="175" y="359"/>
                  </a:lnTo>
                  <a:lnTo>
                    <a:pt x="163" y="363"/>
                  </a:lnTo>
                  <a:lnTo>
                    <a:pt x="152" y="363"/>
                  </a:lnTo>
                  <a:lnTo>
                    <a:pt x="142" y="365"/>
                  </a:lnTo>
                  <a:lnTo>
                    <a:pt x="130" y="361"/>
                  </a:lnTo>
                  <a:lnTo>
                    <a:pt x="119" y="359"/>
                  </a:lnTo>
                  <a:lnTo>
                    <a:pt x="109" y="353"/>
                  </a:lnTo>
                  <a:lnTo>
                    <a:pt x="99" y="349"/>
                  </a:lnTo>
                  <a:lnTo>
                    <a:pt x="76" y="326"/>
                  </a:lnTo>
                  <a:lnTo>
                    <a:pt x="70" y="326"/>
                  </a:lnTo>
                  <a:lnTo>
                    <a:pt x="51" y="339"/>
                  </a:lnTo>
                  <a:lnTo>
                    <a:pt x="35" y="345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39" y="332"/>
                  </a:lnTo>
                  <a:lnTo>
                    <a:pt x="76" y="301"/>
                  </a:lnTo>
                  <a:lnTo>
                    <a:pt x="88" y="295"/>
                  </a:lnTo>
                  <a:lnTo>
                    <a:pt x="103" y="295"/>
                  </a:lnTo>
                  <a:lnTo>
                    <a:pt x="113" y="299"/>
                  </a:lnTo>
                  <a:lnTo>
                    <a:pt x="109" y="308"/>
                  </a:lnTo>
                  <a:lnTo>
                    <a:pt x="86" y="314"/>
                  </a:lnTo>
                  <a:lnTo>
                    <a:pt x="91" y="322"/>
                  </a:lnTo>
                  <a:lnTo>
                    <a:pt x="101" y="328"/>
                  </a:lnTo>
                  <a:lnTo>
                    <a:pt x="113" y="336"/>
                  </a:lnTo>
                  <a:lnTo>
                    <a:pt x="122" y="341"/>
                  </a:lnTo>
                  <a:lnTo>
                    <a:pt x="134" y="347"/>
                  </a:lnTo>
                  <a:lnTo>
                    <a:pt x="146" y="347"/>
                  </a:lnTo>
                  <a:lnTo>
                    <a:pt x="157" y="349"/>
                  </a:lnTo>
                  <a:lnTo>
                    <a:pt x="169" y="345"/>
                  </a:lnTo>
                  <a:lnTo>
                    <a:pt x="181" y="339"/>
                  </a:lnTo>
                  <a:lnTo>
                    <a:pt x="249" y="272"/>
                  </a:lnTo>
                  <a:lnTo>
                    <a:pt x="280" y="258"/>
                  </a:lnTo>
                  <a:lnTo>
                    <a:pt x="297" y="254"/>
                  </a:lnTo>
                  <a:lnTo>
                    <a:pt x="347" y="229"/>
                  </a:lnTo>
                  <a:lnTo>
                    <a:pt x="363" y="211"/>
                  </a:lnTo>
                  <a:lnTo>
                    <a:pt x="378" y="194"/>
                  </a:lnTo>
                  <a:lnTo>
                    <a:pt x="390" y="177"/>
                  </a:lnTo>
                  <a:lnTo>
                    <a:pt x="404" y="159"/>
                  </a:lnTo>
                  <a:lnTo>
                    <a:pt x="410" y="140"/>
                  </a:lnTo>
                  <a:lnTo>
                    <a:pt x="417" y="122"/>
                  </a:lnTo>
                  <a:lnTo>
                    <a:pt x="419" y="105"/>
                  </a:lnTo>
                  <a:lnTo>
                    <a:pt x="421" y="87"/>
                  </a:lnTo>
                  <a:lnTo>
                    <a:pt x="419" y="76"/>
                  </a:lnTo>
                  <a:lnTo>
                    <a:pt x="417" y="72"/>
                  </a:lnTo>
                  <a:lnTo>
                    <a:pt x="382" y="80"/>
                  </a:lnTo>
                  <a:lnTo>
                    <a:pt x="378" y="82"/>
                  </a:lnTo>
                  <a:lnTo>
                    <a:pt x="365" y="105"/>
                  </a:lnTo>
                  <a:lnTo>
                    <a:pt x="359" y="97"/>
                  </a:lnTo>
                  <a:lnTo>
                    <a:pt x="365" y="76"/>
                  </a:lnTo>
                  <a:lnTo>
                    <a:pt x="392" y="58"/>
                  </a:lnTo>
                  <a:lnTo>
                    <a:pt x="421" y="49"/>
                  </a:lnTo>
                  <a:lnTo>
                    <a:pt x="442" y="31"/>
                  </a:lnTo>
                  <a:lnTo>
                    <a:pt x="444" y="6"/>
                  </a:lnTo>
                  <a:lnTo>
                    <a:pt x="448" y="0"/>
                  </a:lnTo>
                  <a:lnTo>
                    <a:pt x="458" y="6"/>
                  </a:lnTo>
                  <a:lnTo>
                    <a:pt x="458" y="25"/>
                  </a:lnTo>
                  <a:lnTo>
                    <a:pt x="448" y="47"/>
                  </a:lnTo>
                  <a:lnTo>
                    <a:pt x="433" y="62"/>
                  </a:lnTo>
                  <a:lnTo>
                    <a:pt x="429" y="64"/>
                  </a:lnTo>
                  <a:lnTo>
                    <a:pt x="468" y="105"/>
                  </a:lnTo>
                  <a:lnTo>
                    <a:pt x="475" y="111"/>
                  </a:lnTo>
                  <a:lnTo>
                    <a:pt x="483" y="120"/>
                  </a:lnTo>
                  <a:lnTo>
                    <a:pt x="487" y="128"/>
                  </a:lnTo>
                  <a:lnTo>
                    <a:pt x="506" y="155"/>
                  </a:lnTo>
                  <a:lnTo>
                    <a:pt x="514" y="163"/>
                  </a:lnTo>
                  <a:lnTo>
                    <a:pt x="534" y="196"/>
                  </a:lnTo>
                  <a:lnTo>
                    <a:pt x="545" y="208"/>
                  </a:lnTo>
                  <a:lnTo>
                    <a:pt x="547" y="211"/>
                  </a:lnTo>
                  <a:lnTo>
                    <a:pt x="563" y="235"/>
                  </a:lnTo>
                  <a:lnTo>
                    <a:pt x="569" y="252"/>
                  </a:lnTo>
                  <a:lnTo>
                    <a:pt x="578" y="272"/>
                  </a:lnTo>
                  <a:lnTo>
                    <a:pt x="584" y="289"/>
                  </a:lnTo>
                  <a:lnTo>
                    <a:pt x="590" y="308"/>
                  </a:lnTo>
                  <a:lnTo>
                    <a:pt x="592" y="324"/>
                  </a:lnTo>
                  <a:lnTo>
                    <a:pt x="594" y="339"/>
                  </a:lnTo>
                  <a:lnTo>
                    <a:pt x="592" y="355"/>
                  </a:lnTo>
                  <a:lnTo>
                    <a:pt x="592" y="372"/>
                  </a:lnTo>
                  <a:lnTo>
                    <a:pt x="584" y="386"/>
                  </a:lnTo>
                  <a:lnTo>
                    <a:pt x="578" y="401"/>
                  </a:lnTo>
                  <a:lnTo>
                    <a:pt x="570" y="419"/>
                  </a:lnTo>
                  <a:lnTo>
                    <a:pt x="561" y="436"/>
                  </a:lnTo>
                  <a:lnTo>
                    <a:pt x="503" y="489"/>
                  </a:lnTo>
                  <a:lnTo>
                    <a:pt x="464" y="508"/>
                  </a:lnTo>
                  <a:lnTo>
                    <a:pt x="456" y="510"/>
                  </a:lnTo>
                  <a:lnTo>
                    <a:pt x="433" y="522"/>
                  </a:lnTo>
                  <a:lnTo>
                    <a:pt x="363" y="537"/>
                  </a:lnTo>
                  <a:lnTo>
                    <a:pt x="338" y="545"/>
                  </a:lnTo>
                  <a:lnTo>
                    <a:pt x="328" y="547"/>
                  </a:lnTo>
                  <a:lnTo>
                    <a:pt x="316" y="551"/>
                  </a:lnTo>
                  <a:lnTo>
                    <a:pt x="313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50600" y="1238400"/>
              <a:ext cx="81000" cy="270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10" y="33"/>
                  </a:moveTo>
                  <a:lnTo>
                    <a:pt x="0" y="31"/>
                  </a:lnTo>
                  <a:lnTo>
                    <a:pt x="89" y="0"/>
                  </a:lnTo>
                  <a:lnTo>
                    <a:pt x="103" y="0"/>
                  </a:lnTo>
                  <a:lnTo>
                    <a:pt x="91" y="14"/>
                  </a:lnTo>
                  <a:lnTo>
                    <a:pt x="60" y="27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2000" y="914760"/>
              <a:ext cx="300240" cy="338040"/>
            </a:xfrm>
            <a:custGeom>
              <a:avLst/>
              <a:gdLst/>
              <a:ahLst/>
              <a:rect l="l" t="t" r="r" b="b"/>
              <a:pathLst>
                <a:path w="378" h="427">
                  <a:moveTo>
                    <a:pt x="153" y="425"/>
                  </a:moveTo>
                  <a:lnTo>
                    <a:pt x="151" y="423"/>
                  </a:lnTo>
                  <a:lnTo>
                    <a:pt x="147" y="411"/>
                  </a:lnTo>
                  <a:lnTo>
                    <a:pt x="144" y="407"/>
                  </a:lnTo>
                  <a:lnTo>
                    <a:pt x="138" y="372"/>
                  </a:lnTo>
                  <a:lnTo>
                    <a:pt x="132" y="330"/>
                  </a:lnTo>
                  <a:lnTo>
                    <a:pt x="142" y="312"/>
                  </a:lnTo>
                  <a:lnTo>
                    <a:pt x="155" y="306"/>
                  </a:lnTo>
                  <a:lnTo>
                    <a:pt x="128" y="306"/>
                  </a:lnTo>
                  <a:lnTo>
                    <a:pt x="91" y="303"/>
                  </a:lnTo>
                  <a:lnTo>
                    <a:pt x="72" y="293"/>
                  </a:lnTo>
                  <a:lnTo>
                    <a:pt x="52" y="277"/>
                  </a:lnTo>
                  <a:lnTo>
                    <a:pt x="35" y="268"/>
                  </a:lnTo>
                  <a:lnTo>
                    <a:pt x="18" y="256"/>
                  </a:lnTo>
                  <a:lnTo>
                    <a:pt x="0" y="248"/>
                  </a:lnTo>
                  <a:lnTo>
                    <a:pt x="31" y="213"/>
                  </a:lnTo>
                  <a:lnTo>
                    <a:pt x="68" y="186"/>
                  </a:lnTo>
                  <a:lnTo>
                    <a:pt x="107" y="163"/>
                  </a:lnTo>
                  <a:lnTo>
                    <a:pt x="146" y="142"/>
                  </a:lnTo>
                  <a:lnTo>
                    <a:pt x="178" y="116"/>
                  </a:lnTo>
                  <a:lnTo>
                    <a:pt x="208" y="91"/>
                  </a:lnTo>
                  <a:lnTo>
                    <a:pt x="229" y="54"/>
                  </a:lnTo>
                  <a:lnTo>
                    <a:pt x="239" y="12"/>
                  </a:lnTo>
                  <a:lnTo>
                    <a:pt x="241" y="0"/>
                  </a:lnTo>
                  <a:lnTo>
                    <a:pt x="305" y="78"/>
                  </a:lnTo>
                  <a:lnTo>
                    <a:pt x="312" y="89"/>
                  </a:lnTo>
                  <a:lnTo>
                    <a:pt x="322" y="105"/>
                  </a:lnTo>
                  <a:lnTo>
                    <a:pt x="330" y="116"/>
                  </a:lnTo>
                  <a:lnTo>
                    <a:pt x="339" y="132"/>
                  </a:lnTo>
                  <a:lnTo>
                    <a:pt x="347" y="145"/>
                  </a:lnTo>
                  <a:lnTo>
                    <a:pt x="355" y="161"/>
                  </a:lnTo>
                  <a:lnTo>
                    <a:pt x="361" y="175"/>
                  </a:lnTo>
                  <a:lnTo>
                    <a:pt x="367" y="190"/>
                  </a:lnTo>
                  <a:lnTo>
                    <a:pt x="378" y="250"/>
                  </a:lnTo>
                  <a:lnTo>
                    <a:pt x="376" y="264"/>
                  </a:lnTo>
                  <a:lnTo>
                    <a:pt x="372" y="279"/>
                  </a:lnTo>
                  <a:lnTo>
                    <a:pt x="365" y="295"/>
                  </a:lnTo>
                  <a:lnTo>
                    <a:pt x="359" y="310"/>
                  </a:lnTo>
                  <a:lnTo>
                    <a:pt x="347" y="324"/>
                  </a:lnTo>
                  <a:lnTo>
                    <a:pt x="336" y="339"/>
                  </a:lnTo>
                  <a:lnTo>
                    <a:pt x="322" y="353"/>
                  </a:lnTo>
                  <a:lnTo>
                    <a:pt x="308" y="368"/>
                  </a:lnTo>
                  <a:lnTo>
                    <a:pt x="293" y="380"/>
                  </a:lnTo>
                  <a:lnTo>
                    <a:pt x="275" y="390"/>
                  </a:lnTo>
                  <a:lnTo>
                    <a:pt x="258" y="398"/>
                  </a:lnTo>
                  <a:lnTo>
                    <a:pt x="241" y="403"/>
                  </a:lnTo>
                  <a:lnTo>
                    <a:pt x="225" y="409"/>
                  </a:lnTo>
                  <a:lnTo>
                    <a:pt x="208" y="411"/>
                  </a:lnTo>
                  <a:lnTo>
                    <a:pt x="190" y="417"/>
                  </a:lnTo>
                  <a:lnTo>
                    <a:pt x="173" y="421"/>
                  </a:lnTo>
                  <a:lnTo>
                    <a:pt x="157" y="427"/>
                  </a:lnTo>
                  <a:lnTo>
                    <a:pt x="153" y="4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02560" y="1202040"/>
              <a:ext cx="87480" cy="47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110" y="60"/>
                  </a:moveTo>
                  <a:lnTo>
                    <a:pt x="93" y="50"/>
                  </a:lnTo>
                  <a:lnTo>
                    <a:pt x="74" y="33"/>
                  </a:lnTo>
                  <a:lnTo>
                    <a:pt x="54" y="25"/>
                  </a:lnTo>
                  <a:lnTo>
                    <a:pt x="37" y="17"/>
                  </a:lnTo>
                  <a:lnTo>
                    <a:pt x="17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2"/>
                  </a:lnTo>
                  <a:lnTo>
                    <a:pt x="109" y="50"/>
                  </a:lnTo>
                  <a:lnTo>
                    <a:pt x="11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06120" y="987840"/>
              <a:ext cx="75960" cy="199800"/>
            </a:xfrm>
            <a:custGeom>
              <a:avLst/>
              <a:gdLst/>
              <a:ahLst/>
              <a:rect l="l" t="t" r="r" b="b"/>
              <a:pathLst>
                <a:path w="95" h="252">
                  <a:moveTo>
                    <a:pt x="89" y="252"/>
                  </a:moveTo>
                  <a:lnTo>
                    <a:pt x="75" y="221"/>
                  </a:lnTo>
                  <a:lnTo>
                    <a:pt x="65" y="192"/>
                  </a:lnTo>
                  <a:lnTo>
                    <a:pt x="54" y="163"/>
                  </a:lnTo>
                  <a:lnTo>
                    <a:pt x="46" y="134"/>
                  </a:lnTo>
                  <a:lnTo>
                    <a:pt x="36" y="103"/>
                  </a:lnTo>
                  <a:lnTo>
                    <a:pt x="27" y="74"/>
                  </a:lnTo>
                  <a:lnTo>
                    <a:pt x="13" y="43"/>
                  </a:lnTo>
                  <a:lnTo>
                    <a:pt x="1" y="14"/>
                  </a:lnTo>
                  <a:lnTo>
                    <a:pt x="0" y="2"/>
                  </a:lnTo>
                  <a:lnTo>
                    <a:pt x="3" y="0"/>
                  </a:lnTo>
                  <a:lnTo>
                    <a:pt x="13" y="4"/>
                  </a:lnTo>
                  <a:lnTo>
                    <a:pt x="56" y="105"/>
                  </a:lnTo>
                  <a:lnTo>
                    <a:pt x="87" y="213"/>
                  </a:lnTo>
                  <a:lnTo>
                    <a:pt x="89" y="223"/>
                  </a:lnTo>
                  <a:lnTo>
                    <a:pt x="95" y="252"/>
                  </a:lnTo>
                  <a:lnTo>
                    <a:pt x="89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88520" y="955800"/>
              <a:ext cx="255600" cy="225720"/>
            </a:xfrm>
            <a:custGeom>
              <a:avLst/>
              <a:gdLst/>
              <a:ahLst/>
              <a:rect l="l" t="t" r="r" b="b"/>
              <a:pathLst>
                <a:path w="324" h="285">
                  <a:moveTo>
                    <a:pt x="322" y="285"/>
                  </a:moveTo>
                  <a:lnTo>
                    <a:pt x="283" y="247"/>
                  </a:lnTo>
                  <a:lnTo>
                    <a:pt x="246" y="214"/>
                  </a:lnTo>
                  <a:lnTo>
                    <a:pt x="208" y="185"/>
                  </a:lnTo>
                  <a:lnTo>
                    <a:pt x="171" y="159"/>
                  </a:lnTo>
                  <a:lnTo>
                    <a:pt x="132" y="130"/>
                  </a:lnTo>
                  <a:lnTo>
                    <a:pt x="95" y="103"/>
                  </a:lnTo>
                  <a:lnTo>
                    <a:pt x="58" y="72"/>
                  </a:lnTo>
                  <a:lnTo>
                    <a:pt x="21" y="39"/>
                  </a:lnTo>
                  <a:lnTo>
                    <a:pt x="12" y="29"/>
                  </a:lnTo>
                  <a:lnTo>
                    <a:pt x="6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1" y="37"/>
                  </a:lnTo>
                  <a:lnTo>
                    <a:pt x="82" y="72"/>
                  </a:lnTo>
                  <a:lnTo>
                    <a:pt x="122" y="103"/>
                  </a:lnTo>
                  <a:lnTo>
                    <a:pt x="165" y="134"/>
                  </a:lnTo>
                  <a:lnTo>
                    <a:pt x="204" y="163"/>
                  </a:lnTo>
                  <a:lnTo>
                    <a:pt x="244" y="194"/>
                  </a:lnTo>
                  <a:lnTo>
                    <a:pt x="283" y="229"/>
                  </a:lnTo>
                  <a:lnTo>
                    <a:pt x="324" y="272"/>
                  </a:lnTo>
                  <a:lnTo>
                    <a:pt x="322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23520" y="865440"/>
              <a:ext cx="237960" cy="291960"/>
            </a:xfrm>
            <a:custGeom>
              <a:avLst/>
              <a:gdLst/>
              <a:ahLst/>
              <a:rect l="l" t="t" r="r" b="b"/>
              <a:pathLst>
                <a:path w="300" h="366">
                  <a:moveTo>
                    <a:pt x="294" y="364"/>
                  </a:moveTo>
                  <a:lnTo>
                    <a:pt x="234" y="262"/>
                  </a:lnTo>
                  <a:lnTo>
                    <a:pt x="219" y="23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94" y="180"/>
                  </a:lnTo>
                  <a:lnTo>
                    <a:pt x="234" y="235"/>
                  </a:lnTo>
                  <a:lnTo>
                    <a:pt x="246" y="250"/>
                  </a:lnTo>
                  <a:lnTo>
                    <a:pt x="289" y="330"/>
                  </a:lnTo>
                  <a:lnTo>
                    <a:pt x="293" y="339"/>
                  </a:lnTo>
                  <a:lnTo>
                    <a:pt x="298" y="351"/>
                  </a:lnTo>
                  <a:lnTo>
                    <a:pt x="300" y="366"/>
                  </a:lnTo>
                  <a:lnTo>
                    <a:pt x="29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89840" y="1073520"/>
              <a:ext cx="85680" cy="6012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73"/>
                  </a:moveTo>
                  <a:lnTo>
                    <a:pt x="0" y="68"/>
                  </a:lnTo>
                  <a:lnTo>
                    <a:pt x="8" y="66"/>
                  </a:lnTo>
                  <a:lnTo>
                    <a:pt x="19" y="58"/>
                  </a:lnTo>
                  <a:lnTo>
                    <a:pt x="39" y="44"/>
                  </a:lnTo>
                  <a:lnTo>
                    <a:pt x="58" y="31"/>
                  </a:lnTo>
                  <a:lnTo>
                    <a:pt x="97" y="0"/>
                  </a:lnTo>
                  <a:lnTo>
                    <a:pt x="109" y="2"/>
                  </a:lnTo>
                  <a:lnTo>
                    <a:pt x="97" y="25"/>
                  </a:lnTo>
                  <a:lnTo>
                    <a:pt x="76" y="40"/>
                  </a:lnTo>
                  <a:lnTo>
                    <a:pt x="56" y="50"/>
                  </a:lnTo>
                  <a:lnTo>
                    <a:pt x="39" y="62"/>
                  </a:lnTo>
                  <a:lnTo>
                    <a:pt x="21" y="70"/>
                  </a:lnTo>
                  <a:lnTo>
                    <a:pt x="4" y="7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12040" y="1044720"/>
              <a:ext cx="20880" cy="2088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" y="23"/>
                  </a:moveTo>
                  <a:lnTo>
                    <a:pt x="0" y="21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10" y="25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5640" y="970200"/>
              <a:ext cx="88920" cy="5256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24" y="66"/>
                  </a:moveTo>
                  <a:lnTo>
                    <a:pt x="12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22" y="50"/>
                  </a:lnTo>
                  <a:lnTo>
                    <a:pt x="59" y="42"/>
                  </a:lnTo>
                  <a:lnTo>
                    <a:pt x="68" y="37"/>
                  </a:lnTo>
                  <a:lnTo>
                    <a:pt x="76" y="27"/>
                  </a:lnTo>
                  <a:lnTo>
                    <a:pt x="86" y="17"/>
                  </a:lnTo>
                  <a:lnTo>
                    <a:pt x="94" y="8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09" y="21"/>
                  </a:lnTo>
                  <a:lnTo>
                    <a:pt x="99" y="33"/>
                  </a:lnTo>
                  <a:lnTo>
                    <a:pt x="90" y="42"/>
                  </a:lnTo>
                  <a:lnTo>
                    <a:pt x="80" y="48"/>
                  </a:lnTo>
                  <a:lnTo>
                    <a:pt x="70" y="56"/>
                  </a:lnTo>
                  <a:lnTo>
                    <a:pt x="59" y="58"/>
                  </a:lnTo>
                  <a:lnTo>
                    <a:pt x="47" y="62"/>
                  </a:lnTo>
                  <a:lnTo>
                    <a:pt x="37" y="64"/>
                  </a:lnTo>
                  <a:lnTo>
                    <a:pt x="28" y="66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56400" y="952920"/>
              <a:ext cx="60480" cy="58680"/>
            </a:xfrm>
            <a:custGeom>
              <a:avLst/>
              <a:gdLst/>
              <a:ahLst/>
              <a:rect l="l" t="t" r="r" b="b"/>
              <a:pathLst>
                <a:path w="78" h="73">
                  <a:moveTo>
                    <a:pt x="35" y="73"/>
                  </a:moveTo>
                  <a:lnTo>
                    <a:pt x="35" y="71"/>
                  </a:lnTo>
                  <a:lnTo>
                    <a:pt x="35" y="50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4" y="15"/>
                  </a:lnTo>
                  <a:lnTo>
                    <a:pt x="78" y="31"/>
                  </a:lnTo>
                  <a:lnTo>
                    <a:pt x="78" y="44"/>
                  </a:lnTo>
                  <a:lnTo>
                    <a:pt x="60" y="46"/>
                  </a:lnTo>
                  <a:lnTo>
                    <a:pt x="56" y="56"/>
                  </a:lnTo>
                  <a:lnTo>
                    <a:pt x="49" y="56"/>
                  </a:lnTo>
                  <a:lnTo>
                    <a:pt x="45" y="65"/>
                  </a:lnTo>
                  <a:lnTo>
                    <a:pt x="3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18320" y="762120"/>
              <a:ext cx="136800" cy="228600"/>
            </a:xfrm>
            <a:custGeom>
              <a:avLst/>
              <a:gdLst/>
              <a:ahLst/>
              <a:rect l="l" t="t" r="r" b="b"/>
              <a:pathLst>
                <a:path w="170" h="289">
                  <a:moveTo>
                    <a:pt x="110" y="289"/>
                  </a:moveTo>
                  <a:lnTo>
                    <a:pt x="73" y="285"/>
                  </a:lnTo>
                  <a:lnTo>
                    <a:pt x="69" y="273"/>
                  </a:lnTo>
                  <a:lnTo>
                    <a:pt x="81" y="272"/>
                  </a:lnTo>
                  <a:lnTo>
                    <a:pt x="64" y="248"/>
                  </a:lnTo>
                  <a:lnTo>
                    <a:pt x="25" y="149"/>
                  </a:lnTo>
                  <a:lnTo>
                    <a:pt x="13" y="103"/>
                  </a:lnTo>
                  <a:lnTo>
                    <a:pt x="11" y="114"/>
                  </a:lnTo>
                  <a:lnTo>
                    <a:pt x="13" y="132"/>
                  </a:lnTo>
                  <a:lnTo>
                    <a:pt x="4" y="142"/>
                  </a:lnTo>
                  <a:lnTo>
                    <a:pt x="0" y="89"/>
                  </a:lnTo>
                  <a:lnTo>
                    <a:pt x="35" y="37"/>
                  </a:lnTo>
                  <a:lnTo>
                    <a:pt x="35" y="27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64" y="2"/>
                  </a:lnTo>
                  <a:lnTo>
                    <a:pt x="64" y="14"/>
                  </a:lnTo>
                  <a:lnTo>
                    <a:pt x="56" y="16"/>
                  </a:lnTo>
                  <a:lnTo>
                    <a:pt x="54" y="18"/>
                  </a:lnTo>
                  <a:lnTo>
                    <a:pt x="60" y="23"/>
                  </a:lnTo>
                  <a:lnTo>
                    <a:pt x="106" y="74"/>
                  </a:lnTo>
                  <a:lnTo>
                    <a:pt x="108" y="78"/>
                  </a:lnTo>
                  <a:lnTo>
                    <a:pt x="139" y="116"/>
                  </a:lnTo>
                  <a:lnTo>
                    <a:pt x="157" y="146"/>
                  </a:lnTo>
                  <a:lnTo>
                    <a:pt x="163" y="161"/>
                  </a:lnTo>
                  <a:lnTo>
                    <a:pt x="166" y="178"/>
                  </a:lnTo>
                  <a:lnTo>
                    <a:pt x="168" y="194"/>
                  </a:lnTo>
                  <a:lnTo>
                    <a:pt x="170" y="211"/>
                  </a:lnTo>
                  <a:lnTo>
                    <a:pt x="168" y="227"/>
                  </a:lnTo>
                  <a:lnTo>
                    <a:pt x="168" y="244"/>
                  </a:lnTo>
                  <a:lnTo>
                    <a:pt x="161" y="262"/>
                  </a:lnTo>
                  <a:lnTo>
                    <a:pt x="149" y="279"/>
                  </a:lnTo>
                  <a:lnTo>
                    <a:pt x="137" y="287"/>
                  </a:lnTo>
                  <a:lnTo>
                    <a:pt x="110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0160" y="965520"/>
              <a:ext cx="22320" cy="172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0" y="21"/>
                  </a:moveTo>
                  <a:lnTo>
                    <a:pt x="4" y="21"/>
                  </a:lnTo>
                  <a:lnTo>
                    <a:pt x="0" y="0"/>
                  </a:lnTo>
                  <a:lnTo>
                    <a:pt x="27" y="14"/>
                  </a:lnTo>
                  <a:lnTo>
                    <a:pt x="23" y="1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77000" y="914760"/>
              <a:ext cx="65160" cy="633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81"/>
                  </a:moveTo>
                  <a:lnTo>
                    <a:pt x="27" y="81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20" y="0"/>
                  </a:lnTo>
                  <a:lnTo>
                    <a:pt x="47" y="21"/>
                  </a:lnTo>
                  <a:lnTo>
                    <a:pt x="82" y="25"/>
                  </a:lnTo>
                  <a:lnTo>
                    <a:pt x="82" y="52"/>
                  </a:lnTo>
                  <a:lnTo>
                    <a:pt x="64" y="80"/>
                  </a:lnTo>
                  <a:lnTo>
                    <a:pt x="57" y="81"/>
                  </a:lnTo>
                  <a:lnTo>
                    <a:pt x="4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42400" y="754200"/>
              <a:ext cx="258480" cy="220680"/>
            </a:xfrm>
            <a:custGeom>
              <a:avLst/>
              <a:gdLst/>
              <a:ahLst/>
              <a:rect l="l" t="t" r="r" b="b"/>
              <a:pathLst>
                <a:path w="326" h="280">
                  <a:moveTo>
                    <a:pt x="299" y="280"/>
                  </a:moveTo>
                  <a:lnTo>
                    <a:pt x="264" y="274"/>
                  </a:lnTo>
                  <a:lnTo>
                    <a:pt x="240" y="274"/>
                  </a:lnTo>
                  <a:lnTo>
                    <a:pt x="167" y="229"/>
                  </a:lnTo>
                  <a:lnTo>
                    <a:pt x="155" y="219"/>
                  </a:lnTo>
                  <a:lnTo>
                    <a:pt x="109" y="167"/>
                  </a:lnTo>
                  <a:lnTo>
                    <a:pt x="74" y="101"/>
                  </a:lnTo>
                  <a:lnTo>
                    <a:pt x="56" y="80"/>
                  </a:lnTo>
                  <a:lnTo>
                    <a:pt x="39" y="64"/>
                  </a:lnTo>
                  <a:lnTo>
                    <a:pt x="17" y="53"/>
                  </a:lnTo>
                  <a:lnTo>
                    <a:pt x="0" y="47"/>
                  </a:lnTo>
                  <a:lnTo>
                    <a:pt x="6" y="28"/>
                  </a:lnTo>
                  <a:lnTo>
                    <a:pt x="6" y="14"/>
                  </a:lnTo>
                  <a:lnTo>
                    <a:pt x="17" y="12"/>
                  </a:lnTo>
                  <a:lnTo>
                    <a:pt x="60" y="0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8" y="22"/>
                  </a:lnTo>
                  <a:lnTo>
                    <a:pt x="83" y="26"/>
                  </a:lnTo>
                  <a:lnTo>
                    <a:pt x="99" y="20"/>
                  </a:lnTo>
                  <a:lnTo>
                    <a:pt x="114" y="22"/>
                  </a:lnTo>
                  <a:lnTo>
                    <a:pt x="132" y="28"/>
                  </a:lnTo>
                  <a:lnTo>
                    <a:pt x="149" y="41"/>
                  </a:lnTo>
                  <a:lnTo>
                    <a:pt x="159" y="55"/>
                  </a:lnTo>
                  <a:lnTo>
                    <a:pt x="161" y="68"/>
                  </a:lnTo>
                  <a:lnTo>
                    <a:pt x="173" y="70"/>
                  </a:lnTo>
                  <a:lnTo>
                    <a:pt x="178" y="66"/>
                  </a:lnTo>
                  <a:lnTo>
                    <a:pt x="190" y="62"/>
                  </a:lnTo>
                  <a:lnTo>
                    <a:pt x="206" y="66"/>
                  </a:lnTo>
                  <a:lnTo>
                    <a:pt x="219" y="72"/>
                  </a:lnTo>
                  <a:lnTo>
                    <a:pt x="235" y="84"/>
                  </a:lnTo>
                  <a:lnTo>
                    <a:pt x="240" y="93"/>
                  </a:lnTo>
                  <a:lnTo>
                    <a:pt x="242" y="130"/>
                  </a:lnTo>
                  <a:lnTo>
                    <a:pt x="281" y="150"/>
                  </a:lnTo>
                  <a:lnTo>
                    <a:pt x="285" y="163"/>
                  </a:lnTo>
                  <a:lnTo>
                    <a:pt x="277" y="202"/>
                  </a:lnTo>
                  <a:lnTo>
                    <a:pt x="285" y="204"/>
                  </a:lnTo>
                  <a:lnTo>
                    <a:pt x="301" y="206"/>
                  </a:lnTo>
                  <a:lnTo>
                    <a:pt x="324" y="231"/>
                  </a:lnTo>
                  <a:lnTo>
                    <a:pt x="326" y="235"/>
                  </a:lnTo>
                  <a:lnTo>
                    <a:pt x="306" y="280"/>
                  </a:lnTo>
                  <a:lnTo>
                    <a:pt x="299" y="28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10400" y="939960"/>
              <a:ext cx="11160" cy="176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6" y="19"/>
                  </a:moveTo>
                  <a:lnTo>
                    <a:pt x="6" y="1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4" y="21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35960" y="787680"/>
              <a:ext cx="83880" cy="144360"/>
            </a:xfrm>
            <a:custGeom>
              <a:avLst/>
              <a:gdLst/>
              <a:ahLst/>
              <a:rect l="l" t="t" r="r" b="b"/>
              <a:pathLst>
                <a:path w="107" h="182">
                  <a:moveTo>
                    <a:pt x="43" y="182"/>
                  </a:moveTo>
                  <a:lnTo>
                    <a:pt x="21" y="132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39" y="12"/>
                  </a:lnTo>
                  <a:lnTo>
                    <a:pt x="56" y="29"/>
                  </a:lnTo>
                  <a:lnTo>
                    <a:pt x="72" y="47"/>
                  </a:lnTo>
                  <a:lnTo>
                    <a:pt x="87" y="68"/>
                  </a:lnTo>
                  <a:lnTo>
                    <a:pt x="107" y="99"/>
                  </a:lnTo>
                  <a:lnTo>
                    <a:pt x="99" y="99"/>
                  </a:lnTo>
                  <a:lnTo>
                    <a:pt x="79" y="118"/>
                  </a:lnTo>
                  <a:lnTo>
                    <a:pt x="66" y="140"/>
                  </a:lnTo>
                  <a:lnTo>
                    <a:pt x="60" y="149"/>
                  </a:lnTo>
                  <a:lnTo>
                    <a:pt x="54" y="159"/>
                  </a:lnTo>
                  <a:lnTo>
                    <a:pt x="50" y="171"/>
                  </a:lnTo>
                  <a:lnTo>
                    <a:pt x="47" y="182"/>
                  </a:lnTo>
                  <a:lnTo>
                    <a:pt x="43" y="1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29560" y="724320"/>
              <a:ext cx="192240" cy="199800"/>
            </a:xfrm>
            <a:custGeom>
              <a:avLst/>
              <a:gdLst/>
              <a:ahLst/>
              <a:rect l="l" t="t" r="r" b="b"/>
              <a:pathLst>
                <a:path w="243" h="252">
                  <a:moveTo>
                    <a:pt x="128" y="252"/>
                  </a:moveTo>
                  <a:lnTo>
                    <a:pt x="117" y="248"/>
                  </a:lnTo>
                  <a:lnTo>
                    <a:pt x="105" y="242"/>
                  </a:lnTo>
                  <a:lnTo>
                    <a:pt x="93" y="232"/>
                  </a:lnTo>
                  <a:lnTo>
                    <a:pt x="84" y="223"/>
                  </a:lnTo>
                  <a:lnTo>
                    <a:pt x="76" y="207"/>
                  </a:lnTo>
                  <a:lnTo>
                    <a:pt x="68" y="197"/>
                  </a:lnTo>
                  <a:lnTo>
                    <a:pt x="49" y="149"/>
                  </a:lnTo>
                  <a:lnTo>
                    <a:pt x="47" y="139"/>
                  </a:lnTo>
                  <a:lnTo>
                    <a:pt x="41" y="122"/>
                  </a:lnTo>
                  <a:lnTo>
                    <a:pt x="37" y="108"/>
                  </a:lnTo>
                  <a:lnTo>
                    <a:pt x="33" y="91"/>
                  </a:lnTo>
                  <a:lnTo>
                    <a:pt x="31" y="77"/>
                  </a:lnTo>
                  <a:lnTo>
                    <a:pt x="27" y="62"/>
                  </a:lnTo>
                  <a:lnTo>
                    <a:pt x="27" y="46"/>
                  </a:lnTo>
                  <a:lnTo>
                    <a:pt x="25" y="31"/>
                  </a:lnTo>
                  <a:lnTo>
                    <a:pt x="29" y="17"/>
                  </a:lnTo>
                  <a:lnTo>
                    <a:pt x="18" y="17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60" y="7"/>
                  </a:lnTo>
                  <a:lnTo>
                    <a:pt x="72" y="5"/>
                  </a:lnTo>
                  <a:lnTo>
                    <a:pt x="86" y="5"/>
                  </a:lnTo>
                  <a:lnTo>
                    <a:pt x="99" y="3"/>
                  </a:lnTo>
                  <a:lnTo>
                    <a:pt x="113" y="3"/>
                  </a:lnTo>
                  <a:lnTo>
                    <a:pt x="126" y="3"/>
                  </a:lnTo>
                  <a:lnTo>
                    <a:pt x="140" y="5"/>
                  </a:lnTo>
                  <a:lnTo>
                    <a:pt x="153" y="9"/>
                  </a:lnTo>
                  <a:lnTo>
                    <a:pt x="167" y="19"/>
                  </a:lnTo>
                  <a:lnTo>
                    <a:pt x="173" y="34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65" y="62"/>
                  </a:lnTo>
                  <a:lnTo>
                    <a:pt x="175" y="77"/>
                  </a:lnTo>
                  <a:lnTo>
                    <a:pt x="177" y="87"/>
                  </a:lnTo>
                  <a:lnTo>
                    <a:pt x="181" y="98"/>
                  </a:lnTo>
                  <a:lnTo>
                    <a:pt x="186" y="110"/>
                  </a:lnTo>
                  <a:lnTo>
                    <a:pt x="192" y="122"/>
                  </a:lnTo>
                  <a:lnTo>
                    <a:pt x="198" y="135"/>
                  </a:lnTo>
                  <a:lnTo>
                    <a:pt x="200" y="147"/>
                  </a:lnTo>
                  <a:lnTo>
                    <a:pt x="204" y="159"/>
                  </a:lnTo>
                  <a:lnTo>
                    <a:pt x="206" y="170"/>
                  </a:lnTo>
                  <a:lnTo>
                    <a:pt x="208" y="184"/>
                  </a:lnTo>
                  <a:lnTo>
                    <a:pt x="233" y="162"/>
                  </a:lnTo>
                  <a:lnTo>
                    <a:pt x="239" y="162"/>
                  </a:lnTo>
                  <a:lnTo>
                    <a:pt x="243" y="166"/>
                  </a:lnTo>
                  <a:lnTo>
                    <a:pt x="196" y="224"/>
                  </a:lnTo>
                  <a:lnTo>
                    <a:pt x="175" y="240"/>
                  </a:lnTo>
                  <a:lnTo>
                    <a:pt x="152" y="252"/>
                  </a:lnTo>
                  <a:lnTo>
                    <a:pt x="128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77080" y="830520"/>
              <a:ext cx="108000" cy="84240"/>
            </a:xfrm>
            <a:custGeom>
              <a:avLst/>
              <a:gdLst/>
              <a:ahLst/>
              <a:rect l="l" t="t" r="r" b="b"/>
              <a:pathLst>
                <a:path w="136" h="105">
                  <a:moveTo>
                    <a:pt x="74" y="105"/>
                  </a:moveTo>
                  <a:lnTo>
                    <a:pt x="62" y="99"/>
                  </a:lnTo>
                  <a:lnTo>
                    <a:pt x="53" y="95"/>
                  </a:lnTo>
                  <a:lnTo>
                    <a:pt x="41" y="88"/>
                  </a:lnTo>
                  <a:lnTo>
                    <a:pt x="33" y="80"/>
                  </a:lnTo>
                  <a:lnTo>
                    <a:pt x="0" y="4"/>
                  </a:lnTo>
                  <a:lnTo>
                    <a:pt x="24" y="0"/>
                  </a:lnTo>
                  <a:lnTo>
                    <a:pt x="37" y="2"/>
                  </a:lnTo>
                  <a:lnTo>
                    <a:pt x="45" y="24"/>
                  </a:lnTo>
                  <a:lnTo>
                    <a:pt x="61" y="39"/>
                  </a:lnTo>
                  <a:lnTo>
                    <a:pt x="78" y="49"/>
                  </a:lnTo>
                  <a:lnTo>
                    <a:pt x="95" y="53"/>
                  </a:lnTo>
                  <a:lnTo>
                    <a:pt x="115" y="57"/>
                  </a:lnTo>
                  <a:lnTo>
                    <a:pt x="125" y="53"/>
                  </a:lnTo>
                  <a:lnTo>
                    <a:pt x="128" y="51"/>
                  </a:lnTo>
                  <a:lnTo>
                    <a:pt x="136" y="55"/>
                  </a:lnTo>
                  <a:lnTo>
                    <a:pt x="136" y="70"/>
                  </a:lnTo>
                  <a:lnTo>
                    <a:pt x="107" y="95"/>
                  </a:lnTo>
                  <a:lnTo>
                    <a:pt x="7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16960" y="87480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3" y="38"/>
                  </a:moveTo>
                  <a:lnTo>
                    <a:pt x="11" y="3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5" y="25"/>
                  </a:lnTo>
                  <a:lnTo>
                    <a:pt x="29" y="40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02400" y="533520"/>
              <a:ext cx="417600" cy="366840"/>
            </a:xfrm>
            <a:custGeom>
              <a:avLst/>
              <a:gdLst/>
              <a:ahLst/>
              <a:rect l="l" t="t" r="r" b="b"/>
              <a:pathLst>
                <a:path w="528" h="462">
                  <a:moveTo>
                    <a:pt x="41" y="462"/>
                  </a:moveTo>
                  <a:lnTo>
                    <a:pt x="45" y="454"/>
                  </a:lnTo>
                  <a:lnTo>
                    <a:pt x="41" y="444"/>
                  </a:lnTo>
                  <a:lnTo>
                    <a:pt x="35" y="444"/>
                  </a:lnTo>
                  <a:lnTo>
                    <a:pt x="22" y="434"/>
                  </a:lnTo>
                  <a:lnTo>
                    <a:pt x="20" y="431"/>
                  </a:lnTo>
                  <a:lnTo>
                    <a:pt x="18" y="413"/>
                  </a:lnTo>
                  <a:lnTo>
                    <a:pt x="37" y="384"/>
                  </a:lnTo>
                  <a:lnTo>
                    <a:pt x="12" y="370"/>
                  </a:lnTo>
                  <a:lnTo>
                    <a:pt x="16" y="326"/>
                  </a:lnTo>
                  <a:lnTo>
                    <a:pt x="20" y="326"/>
                  </a:lnTo>
                  <a:lnTo>
                    <a:pt x="22" y="320"/>
                  </a:lnTo>
                  <a:lnTo>
                    <a:pt x="6" y="310"/>
                  </a:lnTo>
                  <a:lnTo>
                    <a:pt x="2" y="301"/>
                  </a:lnTo>
                  <a:lnTo>
                    <a:pt x="0" y="285"/>
                  </a:lnTo>
                  <a:lnTo>
                    <a:pt x="20" y="258"/>
                  </a:lnTo>
                  <a:lnTo>
                    <a:pt x="24" y="258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4" y="237"/>
                  </a:lnTo>
                  <a:lnTo>
                    <a:pt x="2" y="233"/>
                  </a:lnTo>
                  <a:lnTo>
                    <a:pt x="0" y="231"/>
                  </a:lnTo>
                  <a:lnTo>
                    <a:pt x="0" y="215"/>
                  </a:lnTo>
                  <a:lnTo>
                    <a:pt x="4" y="204"/>
                  </a:lnTo>
                  <a:lnTo>
                    <a:pt x="10" y="190"/>
                  </a:lnTo>
                  <a:lnTo>
                    <a:pt x="24" y="177"/>
                  </a:lnTo>
                  <a:lnTo>
                    <a:pt x="6" y="142"/>
                  </a:lnTo>
                  <a:lnTo>
                    <a:pt x="18" y="114"/>
                  </a:lnTo>
                  <a:lnTo>
                    <a:pt x="62" y="97"/>
                  </a:lnTo>
                  <a:lnTo>
                    <a:pt x="68" y="93"/>
                  </a:lnTo>
                  <a:lnTo>
                    <a:pt x="68" y="82"/>
                  </a:lnTo>
                  <a:lnTo>
                    <a:pt x="82" y="62"/>
                  </a:lnTo>
                  <a:lnTo>
                    <a:pt x="91" y="54"/>
                  </a:lnTo>
                  <a:lnTo>
                    <a:pt x="109" y="52"/>
                  </a:lnTo>
                  <a:lnTo>
                    <a:pt x="130" y="70"/>
                  </a:lnTo>
                  <a:lnTo>
                    <a:pt x="136" y="70"/>
                  </a:lnTo>
                  <a:lnTo>
                    <a:pt x="146" y="23"/>
                  </a:lnTo>
                  <a:lnTo>
                    <a:pt x="155" y="18"/>
                  </a:lnTo>
                  <a:lnTo>
                    <a:pt x="167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4" y="19"/>
                  </a:lnTo>
                  <a:lnTo>
                    <a:pt x="217" y="29"/>
                  </a:lnTo>
                  <a:lnTo>
                    <a:pt x="227" y="37"/>
                  </a:lnTo>
                  <a:lnTo>
                    <a:pt x="247" y="8"/>
                  </a:lnTo>
                  <a:lnTo>
                    <a:pt x="258" y="2"/>
                  </a:lnTo>
                  <a:lnTo>
                    <a:pt x="283" y="0"/>
                  </a:lnTo>
                  <a:lnTo>
                    <a:pt x="324" y="29"/>
                  </a:lnTo>
                  <a:lnTo>
                    <a:pt x="332" y="33"/>
                  </a:lnTo>
                  <a:lnTo>
                    <a:pt x="338" y="19"/>
                  </a:lnTo>
                  <a:lnTo>
                    <a:pt x="369" y="18"/>
                  </a:lnTo>
                  <a:lnTo>
                    <a:pt x="392" y="35"/>
                  </a:lnTo>
                  <a:lnTo>
                    <a:pt x="406" y="70"/>
                  </a:lnTo>
                  <a:lnTo>
                    <a:pt x="419" y="56"/>
                  </a:lnTo>
                  <a:lnTo>
                    <a:pt x="437" y="52"/>
                  </a:lnTo>
                  <a:lnTo>
                    <a:pt x="466" y="64"/>
                  </a:lnTo>
                  <a:lnTo>
                    <a:pt x="477" y="89"/>
                  </a:lnTo>
                  <a:lnTo>
                    <a:pt x="487" y="85"/>
                  </a:lnTo>
                  <a:lnTo>
                    <a:pt x="503" y="87"/>
                  </a:lnTo>
                  <a:lnTo>
                    <a:pt x="524" y="107"/>
                  </a:lnTo>
                  <a:lnTo>
                    <a:pt x="528" y="111"/>
                  </a:lnTo>
                  <a:lnTo>
                    <a:pt x="524" y="120"/>
                  </a:lnTo>
                  <a:lnTo>
                    <a:pt x="512" y="132"/>
                  </a:lnTo>
                  <a:lnTo>
                    <a:pt x="504" y="146"/>
                  </a:lnTo>
                  <a:lnTo>
                    <a:pt x="497" y="157"/>
                  </a:lnTo>
                  <a:lnTo>
                    <a:pt x="493" y="173"/>
                  </a:lnTo>
                  <a:lnTo>
                    <a:pt x="483" y="178"/>
                  </a:lnTo>
                  <a:lnTo>
                    <a:pt x="487" y="206"/>
                  </a:lnTo>
                  <a:lnTo>
                    <a:pt x="489" y="213"/>
                  </a:lnTo>
                  <a:lnTo>
                    <a:pt x="477" y="229"/>
                  </a:lnTo>
                  <a:lnTo>
                    <a:pt x="454" y="209"/>
                  </a:lnTo>
                  <a:lnTo>
                    <a:pt x="450" y="186"/>
                  </a:lnTo>
                  <a:lnTo>
                    <a:pt x="444" y="180"/>
                  </a:lnTo>
                  <a:lnTo>
                    <a:pt x="439" y="184"/>
                  </a:lnTo>
                  <a:lnTo>
                    <a:pt x="439" y="200"/>
                  </a:lnTo>
                  <a:lnTo>
                    <a:pt x="425" y="204"/>
                  </a:lnTo>
                  <a:lnTo>
                    <a:pt x="419" y="194"/>
                  </a:lnTo>
                  <a:lnTo>
                    <a:pt x="413" y="178"/>
                  </a:lnTo>
                  <a:lnTo>
                    <a:pt x="388" y="196"/>
                  </a:lnTo>
                  <a:lnTo>
                    <a:pt x="367" y="180"/>
                  </a:lnTo>
                  <a:lnTo>
                    <a:pt x="365" y="171"/>
                  </a:lnTo>
                  <a:lnTo>
                    <a:pt x="369" y="159"/>
                  </a:lnTo>
                  <a:lnTo>
                    <a:pt x="369" y="153"/>
                  </a:lnTo>
                  <a:lnTo>
                    <a:pt x="357" y="153"/>
                  </a:lnTo>
                  <a:lnTo>
                    <a:pt x="340" y="171"/>
                  </a:lnTo>
                  <a:lnTo>
                    <a:pt x="328" y="173"/>
                  </a:lnTo>
                  <a:lnTo>
                    <a:pt x="311" y="157"/>
                  </a:lnTo>
                  <a:lnTo>
                    <a:pt x="307" y="138"/>
                  </a:lnTo>
                  <a:lnTo>
                    <a:pt x="299" y="128"/>
                  </a:lnTo>
                  <a:lnTo>
                    <a:pt x="293" y="149"/>
                  </a:lnTo>
                  <a:lnTo>
                    <a:pt x="283" y="165"/>
                  </a:lnTo>
                  <a:lnTo>
                    <a:pt x="280" y="167"/>
                  </a:lnTo>
                  <a:lnTo>
                    <a:pt x="262" y="169"/>
                  </a:lnTo>
                  <a:lnTo>
                    <a:pt x="235" y="159"/>
                  </a:lnTo>
                  <a:lnTo>
                    <a:pt x="248" y="198"/>
                  </a:lnTo>
                  <a:lnTo>
                    <a:pt x="247" y="209"/>
                  </a:lnTo>
                  <a:lnTo>
                    <a:pt x="241" y="209"/>
                  </a:lnTo>
                  <a:lnTo>
                    <a:pt x="237" y="219"/>
                  </a:lnTo>
                  <a:lnTo>
                    <a:pt x="245" y="225"/>
                  </a:lnTo>
                  <a:lnTo>
                    <a:pt x="252" y="237"/>
                  </a:lnTo>
                  <a:lnTo>
                    <a:pt x="256" y="246"/>
                  </a:lnTo>
                  <a:lnTo>
                    <a:pt x="254" y="258"/>
                  </a:lnTo>
                  <a:lnTo>
                    <a:pt x="247" y="260"/>
                  </a:lnTo>
                  <a:lnTo>
                    <a:pt x="254" y="303"/>
                  </a:lnTo>
                  <a:lnTo>
                    <a:pt x="237" y="283"/>
                  </a:lnTo>
                  <a:lnTo>
                    <a:pt x="233" y="262"/>
                  </a:lnTo>
                  <a:lnTo>
                    <a:pt x="227" y="254"/>
                  </a:lnTo>
                  <a:lnTo>
                    <a:pt x="212" y="258"/>
                  </a:lnTo>
                  <a:lnTo>
                    <a:pt x="202" y="248"/>
                  </a:lnTo>
                  <a:lnTo>
                    <a:pt x="196" y="229"/>
                  </a:lnTo>
                  <a:lnTo>
                    <a:pt x="200" y="211"/>
                  </a:lnTo>
                  <a:lnTo>
                    <a:pt x="198" y="206"/>
                  </a:lnTo>
                  <a:lnTo>
                    <a:pt x="190" y="206"/>
                  </a:lnTo>
                  <a:lnTo>
                    <a:pt x="181" y="213"/>
                  </a:lnTo>
                  <a:lnTo>
                    <a:pt x="171" y="209"/>
                  </a:lnTo>
                  <a:lnTo>
                    <a:pt x="169" y="198"/>
                  </a:lnTo>
                  <a:lnTo>
                    <a:pt x="167" y="171"/>
                  </a:lnTo>
                  <a:lnTo>
                    <a:pt x="152" y="188"/>
                  </a:lnTo>
                  <a:lnTo>
                    <a:pt x="136" y="192"/>
                  </a:lnTo>
                  <a:lnTo>
                    <a:pt x="122" y="198"/>
                  </a:lnTo>
                  <a:lnTo>
                    <a:pt x="122" y="206"/>
                  </a:lnTo>
                  <a:lnTo>
                    <a:pt x="136" y="225"/>
                  </a:lnTo>
                  <a:lnTo>
                    <a:pt x="136" y="237"/>
                  </a:lnTo>
                  <a:lnTo>
                    <a:pt x="126" y="250"/>
                  </a:lnTo>
                  <a:lnTo>
                    <a:pt x="122" y="254"/>
                  </a:lnTo>
                  <a:lnTo>
                    <a:pt x="113" y="254"/>
                  </a:lnTo>
                  <a:lnTo>
                    <a:pt x="113" y="266"/>
                  </a:lnTo>
                  <a:lnTo>
                    <a:pt x="122" y="272"/>
                  </a:lnTo>
                  <a:lnTo>
                    <a:pt x="124" y="287"/>
                  </a:lnTo>
                  <a:lnTo>
                    <a:pt x="111" y="308"/>
                  </a:lnTo>
                  <a:lnTo>
                    <a:pt x="103" y="314"/>
                  </a:lnTo>
                  <a:lnTo>
                    <a:pt x="117" y="328"/>
                  </a:lnTo>
                  <a:lnTo>
                    <a:pt x="117" y="353"/>
                  </a:lnTo>
                  <a:lnTo>
                    <a:pt x="103" y="361"/>
                  </a:lnTo>
                  <a:lnTo>
                    <a:pt x="99" y="363"/>
                  </a:lnTo>
                  <a:lnTo>
                    <a:pt x="99" y="370"/>
                  </a:lnTo>
                  <a:lnTo>
                    <a:pt x="109" y="378"/>
                  </a:lnTo>
                  <a:lnTo>
                    <a:pt x="111" y="388"/>
                  </a:lnTo>
                  <a:lnTo>
                    <a:pt x="115" y="401"/>
                  </a:lnTo>
                  <a:lnTo>
                    <a:pt x="115" y="407"/>
                  </a:lnTo>
                  <a:lnTo>
                    <a:pt x="109" y="419"/>
                  </a:lnTo>
                  <a:lnTo>
                    <a:pt x="97" y="423"/>
                  </a:lnTo>
                  <a:lnTo>
                    <a:pt x="84" y="431"/>
                  </a:lnTo>
                  <a:lnTo>
                    <a:pt x="84" y="438"/>
                  </a:lnTo>
                  <a:lnTo>
                    <a:pt x="86" y="436"/>
                  </a:lnTo>
                  <a:lnTo>
                    <a:pt x="91" y="434"/>
                  </a:lnTo>
                  <a:lnTo>
                    <a:pt x="99" y="438"/>
                  </a:lnTo>
                  <a:lnTo>
                    <a:pt x="97" y="456"/>
                  </a:lnTo>
                  <a:lnTo>
                    <a:pt x="55" y="462"/>
                  </a:lnTo>
                  <a:lnTo>
                    <a:pt x="41" y="46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42240" y="827280"/>
              <a:ext cx="39600" cy="2700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31" y="33"/>
                  </a:moveTo>
                  <a:lnTo>
                    <a:pt x="4" y="18"/>
                  </a:lnTo>
                  <a:lnTo>
                    <a:pt x="0" y="6"/>
                  </a:lnTo>
                  <a:lnTo>
                    <a:pt x="4" y="0"/>
                  </a:lnTo>
                  <a:lnTo>
                    <a:pt x="21" y="0"/>
                  </a:lnTo>
                  <a:lnTo>
                    <a:pt x="37" y="8"/>
                  </a:lnTo>
                  <a:lnTo>
                    <a:pt x="44" y="8"/>
                  </a:lnTo>
                  <a:lnTo>
                    <a:pt x="50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02840" y="756000"/>
              <a:ext cx="17280" cy="8568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16" y="10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2" y="78"/>
                  </a:lnTo>
                  <a:lnTo>
                    <a:pt x="22" y="109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59800" y="741600"/>
              <a:ext cx="108000" cy="8100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18" y="103"/>
                  </a:moveTo>
                  <a:lnTo>
                    <a:pt x="14" y="89"/>
                  </a:lnTo>
                  <a:lnTo>
                    <a:pt x="10" y="75"/>
                  </a:lnTo>
                  <a:lnTo>
                    <a:pt x="6" y="62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20" y="2"/>
                  </a:lnTo>
                  <a:lnTo>
                    <a:pt x="37" y="2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2" y="10"/>
                  </a:lnTo>
                  <a:lnTo>
                    <a:pt x="93" y="21"/>
                  </a:lnTo>
                  <a:lnTo>
                    <a:pt x="101" y="33"/>
                  </a:lnTo>
                  <a:lnTo>
                    <a:pt x="111" y="44"/>
                  </a:lnTo>
                  <a:lnTo>
                    <a:pt x="116" y="54"/>
                  </a:lnTo>
                  <a:lnTo>
                    <a:pt x="124" y="66"/>
                  </a:lnTo>
                  <a:lnTo>
                    <a:pt x="130" y="77"/>
                  </a:lnTo>
                  <a:lnTo>
                    <a:pt x="138" y="89"/>
                  </a:lnTo>
                  <a:lnTo>
                    <a:pt x="97" y="89"/>
                  </a:lnTo>
                  <a:lnTo>
                    <a:pt x="18" y="1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77160" y="598680"/>
              <a:ext cx="163800" cy="176400"/>
            </a:xfrm>
            <a:custGeom>
              <a:avLst/>
              <a:gdLst/>
              <a:ahLst/>
              <a:rect l="l" t="t" r="r" b="b"/>
              <a:pathLst>
                <a:path w="208" h="223">
                  <a:moveTo>
                    <a:pt x="49" y="221"/>
                  </a:moveTo>
                  <a:lnTo>
                    <a:pt x="18" y="176"/>
                  </a:lnTo>
                  <a:lnTo>
                    <a:pt x="16" y="164"/>
                  </a:lnTo>
                  <a:lnTo>
                    <a:pt x="10" y="153"/>
                  </a:lnTo>
                  <a:lnTo>
                    <a:pt x="4" y="135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2" y="69"/>
                  </a:lnTo>
                  <a:lnTo>
                    <a:pt x="8" y="54"/>
                  </a:lnTo>
                  <a:lnTo>
                    <a:pt x="16" y="38"/>
                  </a:lnTo>
                  <a:lnTo>
                    <a:pt x="27" y="23"/>
                  </a:lnTo>
                  <a:lnTo>
                    <a:pt x="54" y="5"/>
                  </a:lnTo>
                  <a:lnTo>
                    <a:pt x="74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20" y="0"/>
                  </a:lnTo>
                  <a:lnTo>
                    <a:pt x="132" y="1"/>
                  </a:lnTo>
                  <a:lnTo>
                    <a:pt x="147" y="7"/>
                  </a:lnTo>
                  <a:lnTo>
                    <a:pt x="159" y="13"/>
                  </a:lnTo>
                  <a:lnTo>
                    <a:pt x="173" y="21"/>
                  </a:lnTo>
                  <a:lnTo>
                    <a:pt x="184" y="32"/>
                  </a:lnTo>
                  <a:lnTo>
                    <a:pt x="198" y="46"/>
                  </a:lnTo>
                  <a:lnTo>
                    <a:pt x="208" y="67"/>
                  </a:lnTo>
                  <a:lnTo>
                    <a:pt x="177" y="67"/>
                  </a:lnTo>
                  <a:lnTo>
                    <a:pt x="163" y="65"/>
                  </a:lnTo>
                  <a:lnTo>
                    <a:pt x="151" y="65"/>
                  </a:lnTo>
                  <a:lnTo>
                    <a:pt x="140" y="64"/>
                  </a:lnTo>
                  <a:lnTo>
                    <a:pt x="128" y="64"/>
                  </a:lnTo>
                  <a:lnTo>
                    <a:pt x="116" y="64"/>
                  </a:lnTo>
                  <a:lnTo>
                    <a:pt x="105" y="64"/>
                  </a:lnTo>
                  <a:lnTo>
                    <a:pt x="93" y="64"/>
                  </a:lnTo>
                  <a:lnTo>
                    <a:pt x="82" y="67"/>
                  </a:lnTo>
                  <a:lnTo>
                    <a:pt x="62" y="77"/>
                  </a:lnTo>
                  <a:lnTo>
                    <a:pt x="54" y="67"/>
                  </a:lnTo>
                  <a:lnTo>
                    <a:pt x="50" y="58"/>
                  </a:lnTo>
                  <a:lnTo>
                    <a:pt x="45" y="75"/>
                  </a:lnTo>
                  <a:lnTo>
                    <a:pt x="49" y="83"/>
                  </a:lnTo>
                  <a:lnTo>
                    <a:pt x="50" y="87"/>
                  </a:lnTo>
                  <a:lnTo>
                    <a:pt x="41" y="98"/>
                  </a:lnTo>
                  <a:lnTo>
                    <a:pt x="39" y="112"/>
                  </a:lnTo>
                  <a:lnTo>
                    <a:pt x="37" y="124"/>
                  </a:lnTo>
                  <a:lnTo>
                    <a:pt x="35" y="137"/>
                  </a:lnTo>
                  <a:lnTo>
                    <a:pt x="52" y="223"/>
                  </a:lnTo>
                  <a:lnTo>
                    <a:pt x="49" y="22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23400" y="751320"/>
              <a:ext cx="6480" cy="219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2" y="30"/>
                  </a:moveTo>
                  <a:lnTo>
                    <a:pt x="2" y="22"/>
                  </a:lnTo>
                  <a:lnTo>
                    <a:pt x="0" y="0"/>
                  </a:lnTo>
                  <a:lnTo>
                    <a:pt x="6" y="4"/>
                  </a:lnTo>
                  <a:lnTo>
                    <a:pt x="8" y="26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23240" y="749520"/>
              <a:ext cx="172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9" y="1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1" y="21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42320" y="665280"/>
              <a:ext cx="46080" cy="8748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17" y="108"/>
                  </a:moveTo>
                  <a:lnTo>
                    <a:pt x="6" y="83"/>
                  </a:lnTo>
                  <a:lnTo>
                    <a:pt x="0" y="66"/>
                  </a:lnTo>
                  <a:lnTo>
                    <a:pt x="0" y="48"/>
                  </a:lnTo>
                  <a:lnTo>
                    <a:pt x="2" y="31"/>
                  </a:lnTo>
                  <a:lnTo>
                    <a:pt x="12" y="13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15" y="29"/>
                  </a:lnTo>
                  <a:lnTo>
                    <a:pt x="15" y="37"/>
                  </a:lnTo>
                  <a:lnTo>
                    <a:pt x="39" y="56"/>
                  </a:lnTo>
                  <a:lnTo>
                    <a:pt x="58" y="56"/>
                  </a:lnTo>
                  <a:lnTo>
                    <a:pt x="58" y="66"/>
                  </a:lnTo>
                  <a:lnTo>
                    <a:pt x="27" y="87"/>
                  </a:lnTo>
                  <a:lnTo>
                    <a:pt x="27" y="105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96320" y="567000"/>
              <a:ext cx="141480" cy="165240"/>
            </a:xfrm>
            <a:custGeom>
              <a:avLst/>
              <a:gdLst/>
              <a:ahLst/>
              <a:rect l="l" t="t" r="r" b="b"/>
              <a:pathLst>
                <a:path w="179" h="207">
                  <a:moveTo>
                    <a:pt x="132" y="205"/>
                  </a:moveTo>
                  <a:lnTo>
                    <a:pt x="140" y="194"/>
                  </a:lnTo>
                  <a:lnTo>
                    <a:pt x="148" y="182"/>
                  </a:lnTo>
                  <a:lnTo>
                    <a:pt x="154" y="170"/>
                  </a:lnTo>
                  <a:lnTo>
                    <a:pt x="159" y="161"/>
                  </a:lnTo>
                  <a:lnTo>
                    <a:pt x="159" y="149"/>
                  </a:lnTo>
                  <a:lnTo>
                    <a:pt x="159" y="137"/>
                  </a:lnTo>
                  <a:lnTo>
                    <a:pt x="157" y="126"/>
                  </a:lnTo>
                  <a:lnTo>
                    <a:pt x="154" y="114"/>
                  </a:lnTo>
                  <a:lnTo>
                    <a:pt x="132" y="89"/>
                  </a:lnTo>
                  <a:lnTo>
                    <a:pt x="70" y="99"/>
                  </a:lnTo>
                  <a:lnTo>
                    <a:pt x="68" y="91"/>
                  </a:lnTo>
                  <a:lnTo>
                    <a:pt x="62" y="83"/>
                  </a:lnTo>
                  <a:lnTo>
                    <a:pt x="22" y="42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18" y="11"/>
                  </a:lnTo>
                  <a:lnTo>
                    <a:pt x="35" y="4"/>
                  </a:lnTo>
                  <a:lnTo>
                    <a:pt x="53" y="0"/>
                  </a:lnTo>
                  <a:lnTo>
                    <a:pt x="74" y="2"/>
                  </a:lnTo>
                  <a:lnTo>
                    <a:pt x="93" y="6"/>
                  </a:lnTo>
                  <a:lnTo>
                    <a:pt x="115" y="17"/>
                  </a:lnTo>
                  <a:lnTo>
                    <a:pt x="140" y="46"/>
                  </a:lnTo>
                  <a:lnTo>
                    <a:pt x="148" y="60"/>
                  </a:lnTo>
                  <a:lnTo>
                    <a:pt x="155" y="75"/>
                  </a:lnTo>
                  <a:lnTo>
                    <a:pt x="161" y="91"/>
                  </a:lnTo>
                  <a:lnTo>
                    <a:pt x="169" y="106"/>
                  </a:lnTo>
                  <a:lnTo>
                    <a:pt x="173" y="122"/>
                  </a:lnTo>
                  <a:lnTo>
                    <a:pt x="177" y="137"/>
                  </a:lnTo>
                  <a:lnTo>
                    <a:pt x="177" y="153"/>
                  </a:lnTo>
                  <a:lnTo>
                    <a:pt x="179" y="170"/>
                  </a:lnTo>
                  <a:lnTo>
                    <a:pt x="169" y="182"/>
                  </a:lnTo>
                  <a:lnTo>
                    <a:pt x="159" y="194"/>
                  </a:lnTo>
                  <a:lnTo>
                    <a:pt x="146" y="201"/>
                  </a:lnTo>
                  <a:lnTo>
                    <a:pt x="136" y="207"/>
                  </a:lnTo>
                  <a:lnTo>
                    <a:pt x="132" y="20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53480" y="705240"/>
              <a:ext cx="12600" cy="21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2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01080" y="560520"/>
              <a:ext cx="122400" cy="158760"/>
            </a:xfrm>
            <a:custGeom>
              <a:avLst/>
              <a:gdLst/>
              <a:ahLst/>
              <a:rect l="l" t="t" r="r" b="b"/>
              <a:pathLst>
                <a:path w="153" h="200">
                  <a:moveTo>
                    <a:pt x="87" y="200"/>
                  </a:moveTo>
                  <a:lnTo>
                    <a:pt x="60" y="188"/>
                  </a:lnTo>
                  <a:lnTo>
                    <a:pt x="62" y="171"/>
                  </a:lnTo>
                  <a:lnTo>
                    <a:pt x="62" y="155"/>
                  </a:lnTo>
                  <a:lnTo>
                    <a:pt x="58" y="138"/>
                  </a:lnTo>
                  <a:lnTo>
                    <a:pt x="56" y="122"/>
                  </a:lnTo>
                  <a:lnTo>
                    <a:pt x="51" y="109"/>
                  </a:lnTo>
                  <a:lnTo>
                    <a:pt x="47" y="95"/>
                  </a:lnTo>
                  <a:lnTo>
                    <a:pt x="41" y="81"/>
                  </a:lnTo>
                  <a:lnTo>
                    <a:pt x="35" y="70"/>
                  </a:lnTo>
                  <a:lnTo>
                    <a:pt x="25" y="56"/>
                  </a:lnTo>
                  <a:lnTo>
                    <a:pt x="18" y="43"/>
                  </a:lnTo>
                  <a:lnTo>
                    <a:pt x="8" y="29"/>
                  </a:lnTo>
                  <a:lnTo>
                    <a:pt x="0" y="17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5" y="2"/>
                  </a:lnTo>
                  <a:lnTo>
                    <a:pt x="74" y="12"/>
                  </a:lnTo>
                  <a:lnTo>
                    <a:pt x="95" y="27"/>
                  </a:lnTo>
                  <a:lnTo>
                    <a:pt x="111" y="43"/>
                  </a:lnTo>
                  <a:lnTo>
                    <a:pt x="126" y="64"/>
                  </a:lnTo>
                  <a:lnTo>
                    <a:pt x="134" y="79"/>
                  </a:lnTo>
                  <a:lnTo>
                    <a:pt x="144" y="97"/>
                  </a:lnTo>
                  <a:lnTo>
                    <a:pt x="148" y="112"/>
                  </a:lnTo>
                  <a:lnTo>
                    <a:pt x="151" y="130"/>
                  </a:lnTo>
                  <a:lnTo>
                    <a:pt x="153" y="142"/>
                  </a:lnTo>
                  <a:lnTo>
                    <a:pt x="150" y="153"/>
                  </a:lnTo>
                  <a:lnTo>
                    <a:pt x="146" y="167"/>
                  </a:lnTo>
                  <a:lnTo>
                    <a:pt x="138" y="180"/>
                  </a:lnTo>
                  <a:lnTo>
                    <a:pt x="126" y="194"/>
                  </a:lnTo>
                  <a:lnTo>
                    <a:pt x="87" y="2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18200" y="4800600"/>
            <a:ext cx="3025800" cy="1860480"/>
            <a:chOff x="6118200" y="4800600"/>
            <a:chExt cx="3025800" cy="1860480"/>
          </a:xfrm>
        </p:grpSpPr>
        <p:sp>
          <p:nvSpPr>
            <p:cNvPr id="273" name=""/>
            <p:cNvSpPr/>
            <p:nvPr/>
          </p:nvSpPr>
          <p:spPr>
            <a:xfrm>
              <a:off x="6535800" y="5435640"/>
              <a:ext cx="985680" cy="1154160"/>
            </a:xfrm>
            <a:custGeom>
              <a:avLst/>
              <a:gdLst/>
              <a:ahLst/>
              <a:rect l="l" t="t" r="r" b="b"/>
              <a:pathLst>
                <a:path w="1242" h="1455">
                  <a:moveTo>
                    <a:pt x="9" y="0"/>
                  </a:moveTo>
                  <a:lnTo>
                    <a:pt x="0" y="846"/>
                  </a:lnTo>
                  <a:lnTo>
                    <a:pt x="1238" y="1455"/>
                  </a:lnTo>
                  <a:lnTo>
                    <a:pt x="1242" y="5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9b9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19960" y="5418000"/>
              <a:ext cx="82440" cy="711360"/>
            </a:xfrm>
            <a:custGeom>
              <a:avLst/>
              <a:gdLst/>
              <a:ahLst/>
              <a:rect l="l" t="t" r="r" b="b"/>
              <a:pathLst>
                <a:path w="104" h="896">
                  <a:moveTo>
                    <a:pt x="98" y="16"/>
                  </a:moveTo>
                  <a:lnTo>
                    <a:pt x="104" y="896"/>
                  </a:lnTo>
                  <a:lnTo>
                    <a:pt x="0" y="812"/>
                  </a:lnTo>
                  <a:lnTo>
                    <a:pt x="0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7760" y="5702400"/>
              <a:ext cx="951120" cy="757080"/>
            </a:xfrm>
            <a:custGeom>
              <a:avLst/>
              <a:gdLst/>
              <a:ahLst/>
              <a:rect l="l" t="t" r="r" b="b"/>
              <a:pathLst>
                <a:path w="1198" h="954">
                  <a:moveTo>
                    <a:pt x="818" y="0"/>
                  </a:moveTo>
                  <a:lnTo>
                    <a:pt x="908" y="115"/>
                  </a:lnTo>
                  <a:lnTo>
                    <a:pt x="932" y="232"/>
                  </a:lnTo>
                  <a:lnTo>
                    <a:pt x="895" y="344"/>
                  </a:lnTo>
                  <a:lnTo>
                    <a:pt x="803" y="440"/>
                  </a:lnTo>
                  <a:lnTo>
                    <a:pt x="659" y="510"/>
                  </a:lnTo>
                  <a:lnTo>
                    <a:pt x="475" y="546"/>
                  </a:lnTo>
                  <a:lnTo>
                    <a:pt x="252" y="537"/>
                  </a:lnTo>
                  <a:lnTo>
                    <a:pt x="0" y="478"/>
                  </a:lnTo>
                  <a:lnTo>
                    <a:pt x="1136" y="954"/>
                  </a:lnTo>
                  <a:lnTo>
                    <a:pt x="1198" y="132"/>
                  </a:lnTo>
                  <a:lnTo>
                    <a:pt x="1158" y="119"/>
                  </a:lnTo>
                  <a:lnTo>
                    <a:pt x="1111" y="103"/>
                  </a:lnTo>
                  <a:lnTo>
                    <a:pt x="1060" y="84"/>
                  </a:lnTo>
                  <a:lnTo>
                    <a:pt x="1007" y="65"/>
                  </a:lnTo>
                  <a:lnTo>
                    <a:pt x="951" y="44"/>
                  </a:lnTo>
                  <a:lnTo>
                    <a:pt x="900" y="26"/>
                  </a:lnTo>
                  <a:lnTo>
                    <a:pt x="854" y="10"/>
                  </a:lnTo>
                  <a:lnTo>
                    <a:pt x="818" y="0"/>
                  </a:lnTo>
                  <a:close/>
                </a:path>
              </a:pathLst>
            </a:custGeom>
            <a:solidFill>
              <a:srgbClr val="876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62720" y="5199120"/>
              <a:ext cx="2176560" cy="561960"/>
            </a:xfrm>
            <a:custGeom>
              <a:avLst/>
              <a:gdLst/>
              <a:ahLst/>
              <a:rect l="l" t="t" r="r" b="b"/>
              <a:pathLst>
                <a:path w="2742" h="707">
                  <a:moveTo>
                    <a:pt x="1381" y="707"/>
                  </a:moveTo>
                  <a:lnTo>
                    <a:pt x="1475" y="685"/>
                  </a:lnTo>
                  <a:lnTo>
                    <a:pt x="1570" y="663"/>
                  </a:lnTo>
                  <a:lnTo>
                    <a:pt x="1661" y="642"/>
                  </a:lnTo>
                  <a:lnTo>
                    <a:pt x="1754" y="620"/>
                  </a:lnTo>
                  <a:lnTo>
                    <a:pt x="1844" y="598"/>
                  </a:lnTo>
                  <a:lnTo>
                    <a:pt x="1934" y="578"/>
                  </a:lnTo>
                  <a:lnTo>
                    <a:pt x="2023" y="557"/>
                  </a:lnTo>
                  <a:lnTo>
                    <a:pt x="2112" y="539"/>
                  </a:lnTo>
                  <a:lnTo>
                    <a:pt x="2192" y="518"/>
                  </a:lnTo>
                  <a:lnTo>
                    <a:pt x="2273" y="499"/>
                  </a:lnTo>
                  <a:lnTo>
                    <a:pt x="2353" y="480"/>
                  </a:lnTo>
                  <a:lnTo>
                    <a:pt x="2433" y="463"/>
                  </a:lnTo>
                  <a:lnTo>
                    <a:pt x="2510" y="446"/>
                  </a:lnTo>
                  <a:lnTo>
                    <a:pt x="2588" y="428"/>
                  </a:lnTo>
                  <a:lnTo>
                    <a:pt x="2665" y="411"/>
                  </a:lnTo>
                  <a:lnTo>
                    <a:pt x="2742" y="393"/>
                  </a:lnTo>
                  <a:lnTo>
                    <a:pt x="2574" y="355"/>
                  </a:lnTo>
                  <a:lnTo>
                    <a:pt x="2414" y="322"/>
                  </a:lnTo>
                  <a:lnTo>
                    <a:pt x="2260" y="287"/>
                  </a:lnTo>
                  <a:lnTo>
                    <a:pt x="2116" y="257"/>
                  </a:lnTo>
                  <a:lnTo>
                    <a:pt x="1975" y="226"/>
                  </a:lnTo>
                  <a:lnTo>
                    <a:pt x="1844" y="199"/>
                  </a:lnTo>
                  <a:lnTo>
                    <a:pt x="1718" y="171"/>
                  </a:lnTo>
                  <a:lnTo>
                    <a:pt x="1600" y="146"/>
                  </a:lnTo>
                  <a:lnTo>
                    <a:pt x="1503" y="125"/>
                  </a:lnTo>
                  <a:lnTo>
                    <a:pt x="1410" y="104"/>
                  </a:lnTo>
                  <a:lnTo>
                    <a:pt x="1320" y="84"/>
                  </a:lnTo>
                  <a:lnTo>
                    <a:pt x="1234" y="66"/>
                  </a:lnTo>
                  <a:lnTo>
                    <a:pt x="1150" y="49"/>
                  </a:lnTo>
                  <a:lnTo>
                    <a:pt x="1071" y="32"/>
                  </a:lnTo>
                  <a:lnTo>
                    <a:pt x="994" y="14"/>
                  </a:lnTo>
                  <a:lnTo>
                    <a:pt x="922" y="0"/>
                  </a:lnTo>
                  <a:lnTo>
                    <a:pt x="866" y="7"/>
                  </a:lnTo>
                  <a:lnTo>
                    <a:pt x="813" y="16"/>
                  </a:lnTo>
                  <a:lnTo>
                    <a:pt x="757" y="24"/>
                  </a:lnTo>
                  <a:lnTo>
                    <a:pt x="704" y="33"/>
                  </a:lnTo>
                  <a:lnTo>
                    <a:pt x="647" y="42"/>
                  </a:lnTo>
                  <a:lnTo>
                    <a:pt x="592" y="50"/>
                  </a:lnTo>
                  <a:lnTo>
                    <a:pt x="535" y="59"/>
                  </a:lnTo>
                  <a:lnTo>
                    <a:pt x="480" y="68"/>
                  </a:lnTo>
                  <a:lnTo>
                    <a:pt x="420" y="77"/>
                  </a:lnTo>
                  <a:lnTo>
                    <a:pt x="362" y="85"/>
                  </a:lnTo>
                  <a:lnTo>
                    <a:pt x="303" y="94"/>
                  </a:lnTo>
                  <a:lnTo>
                    <a:pt x="243" y="103"/>
                  </a:lnTo>
                  <a:lnTo>
                    <a:pt x="182" y="111"/>
                  </a:lnTo>
                  <a:lnTo>
                    <a:pt x="121" y="122"/>
                  </a:lnTo>
                  <a:lnTo>
                    <a:pt x="60" y="130"/>
                  </a:lnTo>
                  <a:lnTo>
                    <a:pt x="0" y="140"/>
                  </a:lnTo>
                  <a:lnTo>
                    <a:pt x="53" y="162"/>
                  </a:lnTo>
                  <a:lnTo>
                    <a:pt x="109" y="184"/>
                  </a:lnTo>
                  <a:lnTo>
                    <a:pt x="166" y="207"/>
                  </a:lnTo>
                  <a:lnTo>
                    <a:pt x="227" y="233"/>
                  </a:lnTo>
                  <a:lnTo>
                    <a:pt x="290" y="260"/>
                  </a:lnTo>
                  <a:lnTo>
                    <a:pt x="355" y="286"/>
                  </a:lnTo>
                  <a:lnTo>
                    <a:pt x="423" y="313"/>
                  </a:lnTo>
                  <a:lnTo>
                    <a:pt x="496" y="344"/>
                  </a:lnTo>
                  <a:lnTo>
                    <a:pt x="586" y="380"/>
                  </a:lnTo>
                  <a:lnTo>
                    <a:pt x="682" y="419"/>
                  </a:lnTo>
                  <a:lnTo>
                    <a:pt x="782" y="460"/>
                  </a:lnTo>
                  <a:lnTo>
                    <a:pt x="890" y="505"/>
                  </a:lnTo>
                  <a:lnTo>
                    <a:pt x="1002" y="552"/>
                  </a:lnTo>
                  <a:lnTo>
                    <a:pt x="1122" y="601"/>
                  </a:lnTo>
                  <a:lnTo>
                    <a:pt x="1247" y="652"/>
                  </a:lnTo>
                  <a:lnTo>
                    <a:pt x="1381" y="707"/>
                  </a:lnTo>
                  <a:close/>
                </a:path>
              </a:pathLst>
            </a:custGeom>
            <a:solidFill>
              <a:srgbClr val="fff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07080" y="5629320"/>
              <a:ext cx="1059120" cy="976320"/>
            </a:xfrm>
            <a:custGeom>
              <a:avLst/>
              <a:gdLst/>
              <a:ahLst/>
              <a:rect l="l" t="t" r="r" b="b"/>
              <a:pathLst>
                <a:path w="1334" h="1229">
                  <a:moveTo>
                    <a:pt x="17" y="307"/>
                  </a:moveTo>
                  <a:lnTo>
                    <a:pt x="1334" y="0"/>
                  </a:lnTo>
                  <a:lnTo>
                    <a:pt x="1334" y="842"/>
                  </a:lnTo>
                  <a:lnTo>
                    <a:pt x="0" y="1229"/>
                  </a:lnTo>
                  <a:lnTo>
                    <a:pt x="17" y="307"/>
                  </a:lnTo>
                  <a:close/>
                </a:path>
              </a:pathLst>
            </a:custGeom>
            <a:solidFill>
              <a:srgbClr val="4c19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59560" y="4960800"/>
              <a:ext cx="1558800" cy="774720"/>
            </a:xfrm>
            <a:custGeom>
              <a:avLst/>
              <a:gdLst/>
              <a:ahLst/>
              <a:rect l="l" t="t" r="r" b="b"/>
              <a:pathLst>
                <a:path w="1965" h="976">
                  <a:moveTo>
                    <a:pt x="1965" y="132"/>
                  </a:moveTo>
                  <a:lnTo>
                    <a:pt x="1789" y="113"/>
                  </a:lnTo>
                  <a:lnTo>
                    <a:pt x="1613" y="96"/>
                  </a:lnTo>
                  <a:lnTo>
                    <a:pt x="1434" y="80"/>
                  </a:lnTo>
                  <a:lnTo>
                    <a:pt x="1257" y="65"/>
                  </a:lnTo>
                  <a:lnTo>
                    <a:pt x="1078" y="49"/>
                  </a:lnTo>
                  <a:lnTo>
                    <a:pt x="901" y="35"/>
                  </a:lnTo>
                  <a:lnTo>
                    <a:pt x="724" y="17"/>
                  </a:lnTo>
                  <a:lnTo>
                    <a:pt x="551" y="0"/>
                  </a:lnTo>
                  <a:lnTo>
                    <a:pt x="385" y="32"/>
                  </a:lnTo>
                  <a:lnTo>
                    <a:pt x="263" y="74"/>
                  </a:lnTo>
                  <a:lnTo>
                    <a:pt x="176" y="123"/>
                  </a:lnTo>
                  <a:lnTo>
                    <a:pt x="115" y="180"/>
                  </a:lnTo>
                  <a:lnTo>
                    <a:pt x="73" y="240"/>
                  </a:lnTo>
                  <a:lnTo>
                    <a:pt x="45" y="303"/>
                  </a:lnTo>
                  <a:lnTo>
                    <a:pt x="22" y="370"/>
                  </a:lnTo>
                  <a:lnTo>
                    <a:pt x="0" y="440"/>
                  </a:lnTo>
                  <a:lnTo>
                    <a:pt x="1190" y="976"/>
                  </a:lnTo>
                  <a:lnTo>
                    <a:pt x="1212" y="856"/>
                  </a:lnTo>
                  <a:lnTo>
                    <a:pt x="1231" y="736"/>
                  </a:lnTo>
                  <a:lnTo>
                    <a:pt x="1255" y="617"/>
                  </a:lnTo>
                  <a:lnTo>
                    <a:pt x="1303" y="504"/>
                  </a:lnTo>
                  <a:lnTo>
                    <a:pt x="1383" y="394"/>
                  </a:lnTo>
                  <a:lnTo>
                    <a:pt x="1513" y="295"/>
                  </a:lnTo>
                  <a:lnTo>
                    <a:pt x="1702" y="205"/>
                  </a:lnTo>
                  <a:lnTo>
                    <a:pt x="1965" y="132"/>
                  </a:lnTo>
                  <a:close/>
                </a:path>
              </a:pathLst>
            </a:custGeom>
            <a:solidFill>
              <a:srgbClr val="9e8f7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91240" y="5057640"/>
              <a:ext cx="1024200" cy="676440"/>
            </a:xfrm>
            <a:custGeom>
              <a:avLst/>
              <a:gdLst/>
              <a:ahLst/>
              <a:rect l="l" t="t" r="r" b="b"/>
              <a:pathLst>
                <a:path w="1290" h="851">
                  <a:moveTo>
                    <a:pt x="0" y="851"/>
                  </a:moveTo>
                  <a:lnTo>
                    <a:pt x="47" y="534"/>
                  </a:lnTo>
                  <a:lnTo>
                    <a:pt x="172" y="285"/>
                  </a:lnTo>
                  <a:lnTo>
                    <a:pt x="350" y="106"/>
                  </a:lnTo>
                  <a:lnTo>
                    <a:pt x="562" y="10"/>
                  </a:lnTo>
                  <a:lnTo>
                    <a:pt x="783" y="0"/>
                  </a:lnTo>
                  <a:lnTo>
                    <a:pt x="993" y="86"/>
                  </a:lnTo>
                  <a:lnTo>
                    <a:pt x="1168" y="273"/>
                  </a:lnTo>
                  <a:lnTo>
                    <a:pt x="1290" y="569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704a2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64240" y="5018040"/>
              <a:ext cx="1506600" cy="716040"/>
            </a:xfrm>
            <a:custGeom>
              <a:avLst/>
              <a:gdLst/>
              <a:ahLst/>
              <a:rect l="l" t="t" r="r" b="b"/>
              <a:pathLst>
                <a:path w="1898" h="902">
                  <a:moveTo>
                    <a:pt x="1898" y="41"/>
                  </a:moveTo>
                  <a:lnTo>
                    <a:pt x="1105" y="0"/>
                  </a:lnTo>
                  <a:lnTo>
                    <a:pt x="1237" y="29"/>
                  </a:lnTo>
                  <a:lnTo>
                    <a:pt x="1234" y="83"/>
                  </a:lnTo>
                  <a:lnTo>
                    <a:pt x="1125" y="145"/>
                  </a:lnTo>
                  <a:lnTo>
                    <a:pt x="942" y="211"/>
                  </a:lnTo>
                  <a:lnTo>
                    <a:pt x="712" y="262"/>
                  </a:lnTo>
                  <a:lnTo>
                    <a:pt x="471" y="291"/>
                  </a:lnTo>
                  <a:lnTo>
                    <a:pt x="244" y="283"/>
                  </a:lnTo>
                  <a:lnTo>
                    <a:pt x="67" y="232"/>
                  </a:lnTo>
                  <a:lnTo>
                    <a:pt x="54" y="231"/>
                  </a:lnTo>
                  <a:lnTo>
                    <a:pt x="45" y="246"/>
                  </a:lnTo>
                  <a:lnTo>
                    <a:pt x="38" y="266"/>
                  </a:lnTo>
                  <a:lnTo>
                    <a:pt x="34" y="293"/>
                  </a:lnTo>
                  <a:lnTo>
                    <a:pt x="26" y="321"/>
                  </a:lnTo>
                  <a:lnTo>
                    <a:pt x="21" y="346"/>
                  </a:lnTo>
                  <a:lnTo>
                    <a:pt x="12" y="362"/>
                  </a:lnTo>
                  <a:lnTo>
                    <a:pt x="0" y="369"/>
                  </a:lnTo>
                  <a:lnTo>
                    <a:pt x="1182" y="902"/>
                  </a:lnTo>
                  <a:lnTo>
                    <a:pt x="1180" y="789"/>
                  </a:lnTo>
                  <a:lnTo>
                    <a:pt x="1185" y="664"/>
                  </a:lnTo>
                  <a:lnTo>
                    <a:pt x="1202" y="532"/>
                  </a:lnTo>
                  <a:lnTo>
                    <a:pt x="1246" y="402"/>
                  </a:lnTo>
                  <a:lnTo>
                    <a:pt x="1324" y="279"/>
                  </a:lnTo>
                  <a:lnTo>
                    <a:pt x="1452" y="174"/>
                  </a:lnTo>
                  <a:lnTo>
                    <a:pt x="1639" y="92"/>
                  </a:lnTo>
                  <a:lnTo>
                    <a:pt x="1898" y="41"/>
                  </a:lnTo>
                  <a:close/>
                </a:path>
              </a:pathLst>
            </a:custGeom>
            <a:solidFill>
              <a:srgbClr val="876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12120" y="5834160"/>
              <a:ext cx="85680" cy="769680"/>
            </a:xfrm>
            <a:custGeom>
              <a:avLst/>
              <a:gdLst/>
              <a:ahLst/>
              <a:rect l="l" t="t" r="r" b="b"/>
              <a:pathLst>
                <a:path w="109" h="970">
                  <a:moveTo>
                    <a:pt x="3" y="970"/>
                  </a:moveTo>
                  <a:lnTo>
                    <a:pt x="106" y="926"/>
                  </a:lnTo>
                  <a:lnTo>
                    <a:pt x="108" y="923"/>
                  </a:lnTo>
                  <a:lnTo>
                    <a:pt x="109" y="921"/>
                  </a:lnTo>
                  <a:lnTo>
                    <a:pt x="109" y="4"/>
                  </a:lnTo>
                  <a:lnTo>
                    <a:pt x="108" y="0"/>
                  </a:lnTo>
                  <a:lnTo>
                    <a:pt x="106" y="1"/>
                  </a:lnTo>
                  <a:lnTo>
                    <a:pt x="3" y="43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967"/>
                  </a:lnTo>
                  <a:lnTo>
                    <a:pt x="0" y="970"/>
                  </a:lnTo>
                  <a:lnTo>
                    <a:pt x="3" y="970"/>
                  </a:lnTo>
                  <a:close/>
                </a:path>
              </a:pathLst>
            </a:custGeom>
            <a:solidFill>
              <a:srgbClr val="ffff1f"/>
            </a:solidFill>
            <a:ln w="1440">
              <a:solidFill>
                <a:srgbClr val="0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01040" y="5527800"/>
              <a:ext cx="65160" cy="771480"/>
            </a:xfrm>
            <a:custGeom>
              <a:avLst/>
              <a:gdLst/>
              <a:ahLst/>
              <a:rect l="l" t="t" r="r" b="b"/>
              <a:pathLst>
                <a:path w="81" h="970">
                  <a:moveTo>
                    <a:pt x="3" y="970"/>
                  </a:moveTo>
                  <a:lnTo>
                    <a:pt x="78" y="926"/>
                  </a:lnTo>
                  <a:lnTo>
                    <a:pt x="80" y="922"/>
                  </a:lnTo>
                  <a:lnTo>
                    <a:pt x="81" y="919"/>
                  </a:lnTo>
                  <a:lnTo>
                    <a:pt x="81" y="4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3" y="43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966"/>
                  </a:lnTo>
                  <a:lnTo>
                    <a:pt x="0" y="969"/>
                  </a:lnTo>
                  <a:lnTo>
                    <a:pt x="3" y="970"/>
                  </a:lnTo>
                  <a:close/>
                </a:path>
              </a:pathLst>
            </a:custGeom>
            <a:solidFill>
              <a:srgbClr val="ffff1f"/>
            </a:solidFill>
            <a:ln w="1440">
              <a:solidFill>
                <a:srgbClr val="0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89880" y="5622840"/>
              <a:ext cx="923760" cy="312840"/>
            </a:xfrm>
            <a:custGeom>
              <a:avLst/>
              <a:gdLst/>
              <a:ahLst/>
              <a:rect l="l" t="t" r="r" b="b"/>
              <a:pathLst>
                <a:path w="1164" h="395">
                  <a:moveTo>
                    <a:pt x="16" y="395"/>
                  </a:moveTo>
                  <a:lnTo>
                    <a:pt x="1148" y="110"/>
                  </a:lnTo>
                  <a:lnTo>
                    <a:pt x="1164" y="0"/>
                  </a:lnTo>
                  <a:lnTo>
                    <a:pt x="0" y="252"/>
                  </a:lnTo>
                  <a:lnTo>
                    <a:pt x="16" y="395"/>
                  </a:lnTo>
                  <a:close/>
                </a:path>
              </a:pathLst>
            </a:custGeom>
            <a:solidFill>
              <a:srgbClr val="ffff1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2400" y="5784840"/>
              <a:ext cx="177840" cy="220680"/>
            </a:xfrm>
            <a:custGeom>
              <a:avLst/>
              <a:gdLst/>
              <a:ahLst/>
              <a:rect l="l" t="t" r="r" b="b"/>
              <a:pathLst>
                <a:path w="225" h="277">
                  <a:moveTo>
                    <a:pt x="7" y="24"/>
                  </a:moveTo>
                  <a:lnTo>
                    <a:pt x="0" y="277"/>
                  </a:lnTo>
                  <a:lnTo>
                    <a:pt x="120" y="277"/>
                  </a:lnTo>
                  <a:lnTo>
                    <a:pt x="122" y="255"/>
                  </a:lnTo>
                  <a:lnTo>
                    <a:pt x="126" y="236"/>
                  </a:lnTo>
                  <a:lnTo>
                    <a:pt x="133" y="217"/>
                  </a:lnTo>
                  <a:lnTo>
                    <a:pt x="146" y="201"/>
                  </a:lnTo>
                  <a:lnTo>
                    <a:pt x="159" y="187"/>
                  </a:lnTo>
                  <a:lnTo>
                    <a:pt x="178" y="175"/>
                  </a:lnTo>
                  <a:lnTo>
                    <a:pt x="199" y="168"/>
                  </a:lnTo>
                  <a:lnTo>
                    <a:pt x="225" y="167"/>
                  </a:lnTo>
                  <a:lnTo>
                    <a:pt x="219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64600" y="5591160"/>
              <a:ext cx="198360" cy="181080"/>
            </a:xfrm>
            <a:custGeom>
              <a:avLst/>
              <a:gdLst/>
              <a:ahLst/>
              <a:rect l="l" t="t" r="r" b="b"/>
              <a:pathLst>
                <a:path w="251" h="230">
                  <a:moveTo>
                    <a:pt x="251" y="215"/>
                  </a:moveTo>
                  <a:lnTo>
                    <a:pt x="166" y="230"/>
                  </a:lnTo>
                  <a:lnTo>
                    <a:pt x="39" y="167"/>
                  </a:lnTo>
                  <a:lnTo>
                    <a:pt x="0" y="48"/>
                  </a:lnTo>
                  <a:lnTo>
                    <a:pt x="228" y="0"/>
                  </a:lnTo>
                  <a:lnTo>
                    <a:pt x="251" y="215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32640" y="6213600"/>
              <a:ext cx="1030320" cy="388800"/>
            </a:xfrm>
            <a:custGeom>
              <a:avLst/>
              <a:gdLst/>
              <a:ahLst/>
              <a:rect l="l" t="t" r="r" b="b"/>
              <a:pathLst>
                <a:path w="1297" h="491">
                  <a:moveTo>
                    <a:pt x="7" y="491"/>
                  </a:moveTo>
                  <a:lnTo>
                    <a:pt x="1297" y="110"/>
                  </a:lnTo>
                  <a:lnTo>
                    <a:pt x="1290" y="0"/>
                  </a:lnTo>
                  <a:lnTo>
                    <a:pt x="0" y="357"/>
                  </a:lnTo>
                  <a:lnTo>
                    <a:pt x="7" y="491"/>
                  </a:lnTo>
                  <a:close/>
                </a:path>
              </a:pathLst>
            </a:custGeom>
            <a:solidFill>
              <a:srgbClr val="ffff1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13560" y="6154560"/>
              <a:ext cx="152640" cy="189000"/>
            </a:xfrm>
            <a:custGeom>
              <a:avLst/>
              <a:gdLst/>
              <a:ahLst/>
              <a:rect l="l" t="t" r="r" b="b"/>
              <a:pathLst>
                <a:path w="193" h="239">
                  <a:moveTo>
                    <a:pt x="193" y="183"/>
                  </a:moveTo>
                  <a:lnTo>
                    <a:pt x="191" y="0"/>
                  </a:lnTo>
                  <a:lnTo>
                    <a:pt x="109" y="18"/>
                  </a:lnTo>
                  <a:lnTo>
                    <a:pt x="107" y="41"/>
                  </a:lnTo>
                  <a:lnTo>
                    <a:pt x="106" y="60"/>
                  </a:lnTo>
                  <a:lnTo>
                    <a:pt x="100" y="76"/>
                  </a:lnTo>
                  <a:lnTo>
                    <a:pt x="91" y="90"/>
                  </a:lnTo>
                  <a:lnTo>
                    <a:pt x="75" y="99"/>
                  </a:lnTo>
                  <a:lnTo>
                    <a:pt x="56" y="109"/>
                  </a:lnTo>
                  <a:lnTo>
                    <a:pt x="30" y="115"/>
                  </a:lnTo>
                  <a:lnTo>
                    <a:pt x="0" y="122"/>
                  </a:lnTo>
                  <a:lnTo>
                    <a:pt x="5" y="239"/>
                  </a:lnTo>
                  <a:lnTo>
                    <a:pt x="193" y="183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54960" y="6275520"/>
              <a:ext cx="21960" cy="378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14" y="0"/>
                  </a:moveTo>
                  <a:lnTo>
                    <a:pt x="18" y="1"/>
                  </a:lnTo>
                  <a:lnTo>
                    <a:pt x="22" y="7"/>
                  </a:lnTo>
                  <a:lnTo>
                    <a:pt x="25" y="14"/>
                  </a:lnTo>
                  <a:lnTo>
                    <a:pt x="28" y="25"/>
                  </a:lnTo>
                  <a:lnTo>
                    <a:pt x="25" y="32"/>
                  </a:lnTo>
                  <a:lnTo>
                    <a:pt x="22" y="41"/>
                  </a:lnTo>
                  <a:lnTo>
                    <a:pt x="18" y="45"/>
                  </a:lnTo>
                  <a:lnTo>
                    <a:pt x="14" y="48"/>
                  </a:lnTo>
                  <a:lnTo>
                    <a:pt x="8" y="45"/>
                  </a:lnTo>
                  <a:lnTo>
                    <a:pt x="3" y="41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3" y="7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54960" y="6186600"/>
              <a:ext cx="21960" cy="378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14" y="0"/>
                  </a:moveTo>
                  <a:lnTo>
                    <a:pt x="18" y="2"/>
                  </a:lnTo>
                  <a:lnTo>
                    <a:pt x="22" y="7"/>
                  </a:lnTo>
                  <a:lnTo>
                    <a:pt x="25" y="15"/>
                  </a:lnTo>
                  <a:lnTo>
                    <a:pt x="28" y="23"/>
                  </a:lnTo>
                  <a:lnTo>
                    <a:pt x="25" y="32"/>
                  </a:lnTo>
                  <a:lnTo>
                    <a:pt x="22" y="41"/>
                  </a:lnTo>
                  <a:lnTo>
                    <a:pt x="18" y="45"/>
                  </a:lnTo>
                  <a:lnTo>
                    <a:pt x="14" y="48"/>
                  </a:lnTo>
                  <a:lnTo>
                    <a:pt x="8" y="45"/>
                  </a:lnTo>
                  <a:lnTo>
                    <a:pt x="3" y="41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3" y="7"/>
                  </a:lnTo>
                  <a:lnTo>
                    <a:pt x="8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54960" y="6110280"/>
              <a:ext cx="21960" cy="3636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14" y="0"/>
                  </a:moveTo>
                  <a:lnTo>
                    <a:pt x="18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8" y="23"/>
                  </a:lnTo>
                  <a:lnTo>
                    <a:pt x="25" y="31"/>
                  </a:lnTo>
                  <a:lnTo>
                    <a:pt x="22" y="39"/>
                  </a:lnTo>
                  <a:lnTo>
                    <a:pt x="18" y="44"/>
                  </a:lnTo>
                  <a:lnTo>
                    <a:pt x="14" y="47"/>
                  </a:lnTo>
                  <a:lnTo>
                    <a:pt x="8" y="44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3" y="6"/>
                  </a:lnTo>
                  <a:lnTo>
                    <a:pt x="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54960" y="6030720"/>
              <a:ext cx="21960" cy="36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4" y="0"/>
                  </a:moveTo>
                  <a:lnTo>
                    <a:pt x="18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8" y="23"/>
                  </a:lnTo>
                  <a:lnTo>
                    <a:pt x="25" y="30"/>
                  </a:lnTo>
                  <a:lnTo>
                    <a:pt x="22" y="39"/>
                  </a:lnTo>
                  <a:lnTo>
                    <a:pt x="18" y="44"/>
                  </a:lnTo>
                  <a:lnTo>
                    <a:pt x="14" y="46"/>
                  </a:lnTo>
                  <a:lnTo>
                    <a:pt x="8" y="44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3" y="6"/>
                  </a:lnTo>
                  <a:lnTo>
                    <a:pt x="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15440" y="6051600"/>
              <a:ext cx="21960" cy="381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3" y="0"/>
                  </a:moveTo>
                  <a:lnTo>
                    <a:pt x="17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7" y="23"/>
                  </a:lnTo>
                  <a:lnTo>
                    <a:pt x="25" y="31"/>
                  </a:lnTo>
                  <a:lnTo>
                    <a:pt x="22" y="39"/>
                  </a:lnTo>
                  <a:lnTo>
                    <a:pt x="17" y="45"/>
                  </a:lnTo>
                  <a:lnTo>
                    <a:pt x="13" y="48"/>
                  </a:lnTo>
                  <a:lnTo>
                    <a:pt x="7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3" y="6"/>
                  </a:lnTo>
                  <a:lnTo>
                    <a:pt x="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15440" y="5962680"/>
              <a:ext cx="21960" cy="381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3" y="0"/>
                  </a:moveTo>
                  <a:lnTo>
                    <a:pt x="17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2" y="39"/>
                  </a:lnTo>
                  <a:lnTo>
                    <a:pt x="17" y="45"/>
                  </a:lnTo>
                  <a:lnTo>
                    <a:pt x="13" y="48"/>
                  </a:lnTo>
                  <a:lnTo>
                    <a:pt x="7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6"/>
                  </a:lnTo>
                  <a:lnTo>
                    <a:pt x="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515440" y="5884920"/>
              <a:ext cx="21960" cy="381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3" y="0"/>
                  </a:moveTo>
                  <a:lnTo>
                    <a:pt x="17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7" y="25"/>
                  </a:lnTo>
                  <a:lnTo>
                    <a:pt x="25" y="32"/>
                  </a:lnTo>
                  <a:lnTo>
                    <a:pt x="22" y="41"/>
                  </a:lnTo>
                  <a:lnTo>
                    <a:pt x="17" y="45"/>
                  </a:lnTo>
                  <a:lnTo>
                    <a:pt x="13" y="48"/>
                  </a:lnTo>
                  <a:lnTo>
                    <a:pt x="7" y="45"/>
                  </a:lnTo>
                  <a:lnTo>
                    <a:pt x="3" y="41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3" y="6"/>
                  </a:lnTo>
                  <a:lnTo>
                    <a:pt x="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15440" y="5805360"/>
              <a:ext cx="21960" cy="381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3" y="0"/>
                  </a:moveTo>
                  <a:lnTo>
                    <a:pt x="17" y="1"/>
                  </a:lnTo>
                  <a:lnTo>
                    <a:pt x="22" y="7"/>
                  </a:lnTo>
                  <a:lnTo>
                    <a:pt x="25" y="14"/>
                  </a:lnTo>
                  <a:lnTo>
                    <a:pt x="27" y="23"/>
                  </a:lnTo>
                  <a:lnTo>
                    <a:pt x="25" y="32"/>
                  </a:lnTo>
                  <a:lnTo>
                    <a:pt x="22" y="40"/>
                  </a:lnTo>
                  <a:lnTo>
                    <a:pt x="17" y="45"/>
                  </a:lnTo>
                  <a:lnTo>
                    <a:pt x="13" y="48"/>
                  </a:lnTo>
                  <a:lnTo>
                    <a:pt x="7" y="45"/>
                  </a:lnTo>
                  <a:lnTo>
                    <a:pt x="3" y="40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3" y="7"/>
                  </a:lnTo>
                  <a:lnTo>
                    <a:pt x="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62840" y="6399360"/>
              <a:ext cx="3636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47" y="10"/>
                  </a:moveTo>
                  <a:lnTo>
                    <a:pt x="45" y="14"/>
                  </a:lnTo>
                  <a:lnTo>
                    <a:pt x="41" y="19"/>
                  </a:lnTo>
                  <a:lnTo>
                    <a:pt x="34" y="23"/>
                  </a:lnTo>
                  <a:lnTo>
                    <a:pt x="27" y="27"/>
                  </a:lnTo>
                  <a:lnTo>
                    <a:pt x="16" y="27"/>
                  </a:lnTo>
                  <a:lnTo>
                    <a:pt x="9" y="27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1" y="4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3" y="4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48520" y="6378480"/>
              <a:ext cx="36720" cy="2376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10"/>
                  </a:moveTo>
                  <a:lnTo>
                    <a:pt x="45" y="14"/>
                  </a:lnTo>
                  <a:lnTo>
                    <a:pt x="43" y="20"/>
                  </a:lnTo>
                  <a:lnTo>
                    <a:pt x="35" y="24"/>
                  </a:lnTo>
                  <a:lnTo>
                    <a:pt x="28" y="29"/>
                  </a:lnTo>
                  <a:lnTo>
                    <a:pt x="18" y="29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1" y="4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3" y="4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23040" y="6361200"/>
              <a:ext cx="38160" cy="2376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9"/>
                  </a:moveTo>
                  <a:lnTo>
                    <a:pt x="45" y="13"/>
                  </a:lnTo>
                  <a:lnTo>
                    <a:pt x="41" y="19"/>
                  </a:lnTo>
                  <a:lnTo>
                    <a:pt x="33" y="23"/>
                  </a:lnTo>
                  <a:lnTo>
                    <a:pt x="26" y="29"/>
                  </a:lnTo>
                  <a:lnTo>
                    <a:pt x="16" y="29"/>
                  </a:lnTo>
                  <a:lnTo>
                    <a:pt x="9" y="28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9"/>
                  </a:lnTo>
                  <a:lnTo>
                    <a:pt x="10" y="4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00800" y="6343560"/>
              <a:ext cx="36720" cy="2232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8"/>
                  </a:moveTo>
                  <a:lnTo>
                    <a:pt x="45" y="14"/>
                  </a:lnTo>
                  <a:lnTo>
                    <a:pt x="41" y="20"/>
                  </a:lnTo>
                  <a:lnTo>
                    <a:pt x="34" y="24"/>
                  </a:lnTo>
                  <a:lnTo>
                    <a:pt x="26" y="29"/>
                  </a:lnTo>
                  <a:lnTo>
                    <a:pt x="18" y="29"/>
                  </a:lnTo>
                  <a:lnTo>
                    <a:pt x="9" y="27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0" y="4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91560" y="5823000"/>
              <a:ext cx="3780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6" y="9"/>
                  </a:moveTo>
                  <a:lnTo>
                    <a:pt x="45" y="15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6" y="30"/>
                  </a:lnTo>
                  <a:lnTo>
                    <a:pt x="16" y="30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4" y="9"/>
                  </a:lnTo>
                  <a:lnTo>
                    <a:pt x="10" y="5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8" y="2"/>
                  </a:lnTo>
                  <a:lnTo>
                    <a:pt x="42" y="5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78680" y="5802120"/>
              <a:ext cx="36720" cy="2412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11"/>
                  </a:moveTo>
                  <a:lnTo>
                    <a:pt x="46" y="15"/>
                  </a:lnTo>
                  <a:lnTo>
                    <a:pt x="42" y="21"/>
                  </a:lnTo>
                  <a:lnTo>
                    <a:pt x="35" y="25"/>
                  </a:lnTo>
                  <a:lnTo>
                    <a:pt x="27" y="29"/>
                  </a:lnTo>
                  <a:lnTo>
                    <a:pt x="17" y="29"/>
                  </a:lnTo>
                  <a:lnTo>
                    <a:pt x="10" y="28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8" y="2"/>
                  </a:lnTo>
                  <a:lnTo>
                    <a:pt x="42" y="5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53200" y="5784840"/>
              <a:ext cx="36720" cy="2376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10"/>
                  </a:moveTo>
                  <a:lnTo>
                    <a:pt x="45" y="14"/>
                  </a:lnTo>
                  <a:lnTo>
                    <a:pt x="41" y="20"/>
                  </a:lnTo>
                  <a:lnTo>
                    <a:pt x="35" y="24"/>
                  </a:lnTo>
                  <a:lnTo>
                    <a:pt x="28" y="29"/>
                  </a:lnTo>
                  <a:lnTo>
                    <a:pt x="18" y="29"/>
                  </a:lnTo>
                  <a:lnTo>
                    <a:pt x="9" y="27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0" y="4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2" y="4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30960" y="5767200"/>
              <a:ext cx="38160" cy="2232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48" y="10"/>
                  </a:moveTo>
                  <a:lnTo>
                    <a:pt x="46" y="15"/>
                  </a:lnTo>
                  <a:lnTo>
                    <a:pt x="42" y="21"/>
                  </a:lnTo>
                  <a:lnTo>
                    <a:pt x="34" y="25"/>
                  </a:lnTo>
                  <a:lnTo>
                    <a:pt x="27" y="29"/>
                  </a:lnTo>
                  <a:lnTo>
                    <a:pt x="17" y="29"/>
                  </a:lnTo>
                  <a:lnTo>
                    <a:pt x="8" y="28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4" y="9"/>
                  </a:lnTo>
                  <a:lnTo>
                    <a:pt x="11" y="5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3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5400" y="5327640"/>
              <a:ext cx="136440" cy="603360"/>
            </a:xfrm>
            <a:custGeom>
              <a:avLst/>
              <a:gdLst/>
              <a:ahLst/>
              <a:rect l="l" t="t" r="r" b="b"/>
              <a:pathLst>
                <a:path w="173" h="760">
                  <a:moveTo>
                    <a:pt x="37" y="189"/>
                  </a:moveTo>
                  <a:lnTo>
                    <a:pt x="32" y="206"/>
                  </a:lnTo>
                  <a:lnTo>
                    <a:pt x="31" y="225"/>
                  </a:lnTo>
                  <a:lnTo>
                    <a:pt x="27" y="242"/>
                  </a:lnTo>
                  <a:lnTo>
                    <a:pt x="25" y="261"/>
                  </a:lnTo>
                  <a:lnTo>
                    <a:pt x="22" y="279"/>
                  </a:lnTo>
                  <a:lnTo>
                    <a:pt x="19" y="298"/>
                  </a:lnTo>
                  <a:lnTo>
                    <a:pt x="16" y="317"/>
                  </a:lnTo>
                  <a:lnTo>
                    <a:pt x="15" y="335"/>
                  </a:lnTo>
                  <a:lnTo>
                    <a:pt x="0" y="629"/>
                  </a:lnTo>
                  <a:lnTo>
                    <a:pt x="13" y="710"/>
                  </a:lnTo>
                  <a:lnTo>
                    <a:pt x="31" y="752"/>
                  </a:lnTo>
                  <a:lnTo>
                    <a:pt x="48" y="760"/>
                  </a:lnTo>
                  <a:lnTo>
                    <a:pt x="69" y="747"/>
                  </a:lnTo>
                  <a:lnTo>
                    <a:pt x="89" y="719"/>
                  </a:lnTo>
                  <a:lnTo>
                    <a:pt x="111" y="690"/>
                  </a:lnTo>
                  <a:lnTo>
                    <a:pt x="134" y="667"/>
                  </a:lnTo>
                  <a:lnTo>
                    <a:pt x="159" y="661"/>
                  </a:lnTo>
                  <a:lnTo>
                    <a:pt x="154" y="620"/>
                  </a:lnTo>
                  <a:lnTo>
                    <a:pt x="150" y="584"/>
                  </a:lnTo>
                  <a:lnTo>
                    <a:pt x="143" y="550"/>
                  </a:lnTo>
                  <a:lnTo>
                    <a:pt x="137" y="520"/>
                  </a:lnTo>
                  <a:lnTo>
                    <a:pt x="128" y="486"/>
                  </a:lnTo>
                  <a:lnTo>
                    <a:pt x="124" y="453"/>
                  </a:lnTo>
                  <a:lnTo>
                    <a:pt x="120" y="417"/>
                  </a:lnTo>
                  <a:lnTo>
                    <a:pt x="121" y="376"/>
                  </a:lnTo>
                  <a:lnTo>
                    <a:pt x="134" y="229"/>
                  </a:lnTo>
                  <a:lnTo>
                    <a:pt x="173" y="231"/>
                  </a:lnTo>
                  <a:lnTo>
                    <a:pt x="169" y="122"/>
                  </a:lnTo>
                  <a:lnTo>
                    <a:pt x="154" y="51"/>
                  </a:lnTo>
                  <a:lnTo>
                    <a:pt x="133" y="10"/>
                  </a:lnTo>
                  <a:lnTo>
                    <a:pt x="106" y="0"/>
                  </a:lnTo>
                  <a:lnTo>
                    <a:pt x="79" y="14"/>
                  </a:lnTo>
                  <a:lnTo>
                    <a:pt x="56" y="54"/>
                  </a:lnTo>
                  <a:lnTo>
                    <a:pt x="40" y="112"/>
                  </a:lnTo>
                  <a:lnTo>
                    <a:pt x="37" y="189"/>
                  </a:lnTo>
                  <a:close/>
                </a:path>
              </a:pathLst>
            </a:custGeom>
            <a:solidFill>
              <a:srgbClr val="ffb83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58000" y="5632560"/>
              <a:ext cx="58680" cy="17136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17" y="0"/>
                  </a:moveTo>
                  <a:lnTo>
                    <a:pt x="0" y="173"/>
                  </a:lnTo>
                  <a:lnTo>
                    <a:pt x="73" y="217"/>
                  </a:lnTo>
                  <a:lnTo>
                    <a:pt x="6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e8f7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6200" y="5864040"/>
              <a:ext cx="104760" cy="250920"/>
            </a:xfrm>
            <a:custGeom>
              <a:avLst/>
              <a:gdLst/>
              <a:ahLst/>
              <a:rect l="l" t="t" r="r" b="b"/>
              <a:pathLst>
                <a:path w="132" h="315">
                  <a:moveTo>
                    <a:pt x="68" y="24"/>
                  </a:moveTo>
                  <a:lnTo>
                    <a:pt x="132" y="0"/>
                  </a:lnTo>
                  <a:lnTo>
                    <a:pt x="132" y="26"/>
                  </a:lnTo>
                  <a:lnTo>
                    <a:pt x="132" y="55"/>
                  </a:lnTo>
                  <a:lnTo>
                    <a:pt x="132" y="83"/>
                  </a:lnTo>
                  <a:lnTo>
                    <a:pt x="132" y="112"/>
                  </a:lnTo>
                  <a:lnTo>
                    <a:pt x="131" y="139"/>
                  </a:lnTo>
                  <a:lnTo>
                    <a:pt x="131" y="168"/>
                  </a:lnTo>
                  <a:lnTo>
                    <a:pt x="129" y="199"/>
                  </a:lnTo>
                  <a:lnTo>
                    <a:pt x="129" y="229"/>
                  </a:lnTo>
                  <a:lnTo>
                    <a:pt x="121" y="248"/>
                  </a:lnTo>
                  <a:lnTo>
                    <a:pt x="112" y="267"/>
                  </a:lnTo>
                  <a:lnTo>
                    <a:pt x="100" y="283"/>
                  </a:lnTo>
                  <a:lnTo>
                    <a:pt x="90" y="299"/>
                  </a:lnTo>
                  <a:lnTo>
                    <a:pt x="73" y="308"/>
                  </a:lnTo>
                  <a:lnTo>
                    <a:pt x="54" y="315"/>
                  </a:lnTo>
                  <a:lnTo>
                    <a:pt x="29" y="315"/>
                  </a:lnTo>
                  <a:lnTo>
                    <a:pt x="0" y="312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b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80240" y="5788080"/>
              <a:ext cx="179280" cy="101520"/>
            </a:xfrm>
            <a:custGeom>
              <a:avLst/>
              <a:gdLst/>
              <a:ahLst/>
              <a:rect l="l" t="t" r="r" b="b"/>
              <a:pathLst>
                <a:path w="227" h="128">
                  <a:moveTo>
                    <a:pt x="13" y="35"/>
                  </a:moveTo>
                  <a:lnTo>
                    <a:pt x="96" y="87"/>
                  </a:lnTo>
                  <a:lnTo>
                    <a:pt x="169" y="125"/>
                  </a:lnTo>
                  <a:lnTo>
                    <a:pt x="180" y="126"/>
                  </a:lnTo>
                  <a:lnTo>
                    <a:pt x="192" y="128"/>
                  </a:lnTo>
                  <a:lnTo>
                    <a:pt x="203" y="126"/>
                  </a:lnTo>
                  <a:lnTo>
                    <a:pt x="214" y="125"/>
                  </a:lnTo>
                  <a:lnTo>
                    <a:pt x="221" y="119"/>
                  </a:lnTo>
                  <a:lnTo>
                    <a:pt x="225" y="112"/>
                  </a:lnTo>
                  <a:lnTo>
                    <a:pt x="227" y="103"/>
                  </a:lnTo>
                  <a:lnTo>
                    <a:pt x="225" y="94"/>
                  </a:lnTo>
                  <a:lnTo>
                    <a:pt x="68" y="9"/>
                  </a:lnTo>
                  <a:lnTo>
                    <a:pt x="60" y="4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1"/>
                  </a:lnTo>
                  <a:lnTo>
                    <a:pt x="0" y="6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ffff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99320" y="5732280"/>
              <a:ext cx="38160" cy="7956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35" y="99"/>
                  </a:moveTo>
                  <a:lnTo>
                    <a:pt x="33" y="87"/>
                  </a:lnTo>
                  <a:lnTo>
                    <a:pt x="33" y="77"/>
                  </a:lnTo>
                  <a:lnTo>
                    <a:pt x="32" y="67"/>
                  </a:lnTo>
                  <a:lnTo>
                    <a:pt x="32" y="56"/>
                  </a:lnTo>
                  <a:lnTo>
                    <a:pt x="32" y="45"/>
                  </a:lnTo>
                  <a:lnTo>
                    <a:pt x="35" y="36"/>
                  </a:lnTo>
                  <a:lnTo>
                    <a:pt x="38" y="24"/>
                  </a:lnTo>
                  <a:lnTo>
                    <a:pt x="46" y="16"/>
                  </a:lnTo>
                  <a:lnTo>
                    <a:pt x="33" y="0"/>
                  </a:lnTo>
                  <a:lnTo>
                    <a:pt x="27" y="8"/>
                  </a:lnTo>
                  <a:lnTo>
                    <a:pt x="22" y="19"/>
                  </a:lnTo>
                  <a:lnTo>
                    <a:pt x="16" y="29"/>
                  </a:lnTo>
                  <a:lnTo>
                    <a:pt x="11" y="39"/>
                  </a:lnTo>
                  <a:lnTo>
                    <a:pt x="6" y="48"/>
                  </a:lnTo>
                  <a:lnTo>
                    <a:pt x="3" y="59"/>
                  </a:lnTo>
                  <a:lnTo>
                    <a:pt x="0" y="71"/>
                  </a:lnTo>
                  <a:lnTo>
                    <a:pt x="0" y="85"/>
                  </a:lnTo>
                  <a:lnTo>
                    <a:pt x="10" y="88"/>
                  </a:lnTo>
                  <a:lnTo>
                    <a:pt x="20" y="96"/>
                  </a:lnTo>
                  <a:lnTo>
                    <a:pt x="27" y="100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b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78440" y="5643360"/>
              <a:ext cx="131760" cy="141480"/>
            </a:xfrm>
            <a:custGeom>
              <a:avLst/>
              <a:gdLst/>
              <a:ahLst/>
              <a:rect l="l" t="t" r="r" b="b"/>
              <a:pathLst>
                <a:path w="167" h="177">
                  <a:moveTo>
                    <a:pt x="159" y="11"/>
                  </a:moveTo>
                  <a:lnTo>
                    <a:pt x="144" y="7"/>
                  </a:lnTo>
                  <a:lnTo>
                    <a:pt x="131" y="4"/>
                  </a:lnTo>
                  <a:lnTo>
                    <a:pt x="116" y="1"/>
                  </a:lnTo>
                  <a:lnTo>
                    <a:pt x="103" y="1"/>
                  </a:lnTo>
                  <a:lnTo>
                    <a:pt x="89" y="0"/>
                  </a:lnTo>
                  <a:lnTo>
                    <a:pt x="76" y="1"/>
                  </a:lnTo>
                  <a:lnTo>
                    <a:pt x="61" y="4"/>
                  </a:lnTo>
                  <a:lnTo>
                    <a:pt x="47" y="10"/>
                  </a:lnTo>
                  <a:lnTo>
                    <a:pt x="31" y="17"/>
                  </a:lnTo>
                  <a:lnTo>
                    <a:pt x="19" y="30"/>
                  </a:lnTo>
                  <a:lnTo>
                    <a:pt x="9" y="45"/>
                  </a:lnTo>
                  <a:lnTo>
                    <a:pt x="4" y="64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7" y="128"/>
                  </a:lnTo>
                  <a:lnTo>
                    <a:pt x="19" y="152"/>
                  </a:lnTo>
                  <a:lnTo>
                    <a:pt x="31" y="160"/>
                  </a:lnTo>
                  <a:lnTo>
                    <a:pt x="45" y="167"/>
                  </a:lnTo>
                  <a:lnTo>
                    <a:pt x="61" y="171"/>
                  </a:lnTo>
                  <a:lnTo>
                    <a:pt x="79" y="176"/>
                  </a:lnTo>
                  <a:lnTo>
                    <a:pt x="96" y="176"/>
                  </a:lnTo>
                  <a:lnTo>
                    <a:pt x="118" y="177"/>
                  </a:lnTo>
                  <a:lnTo>
                    <a:pt x="140" y="176"/>
                  </a:lnTo>
                  <a:lnTo>
                    <a:pt x="166" y="176"/>
                  </a:lnTo>
                  <a:lnTo>
                    <a:pt x="164" y="167"/>
                  </a:lnTo>
                  <a:lnTo>
                    <a:pt x="163" y="158"/>
                  </a:lnTo>
                  <a:lnTo>
                    <a:pt x="161" y="148"/>
                  </a:lnTo>
                  <a:lnTo>
                    <a:pt x="161" y="141"/>
                  </a:lnTo>
                  <a:lnTo>
                    <a:pt x="144" y="141"/>
                  </a:lnTo>
                  <a:lnTo>
                    <a:pt x="128" y="141"/>
                  </a:lnTo>
                  <a:lnTo>
                    <a:pt x="112" y="141"/>
                  </a:lnTo>
                  <a:lnTo>
                    <a:pt x="99" y="142"/>
                  </a:lnTo>
                  <a:lnTo>
                    <a:pt x="86" y="139"/>
                  </a:lnTo>
                  <a:lnTo>
                    <a:pt x="73" y="138"/>
                  </a:lnTo>
                  <a:lnTo>
                    <a:pt x="61" y="132"/>
                  </a:lnTo>
                  <a:lnTo>
                    <a:pt x="50" y="128"/>
                  </a:lnTo>
                  <a:lnTo>
                    <a:pt x="44" y="116"/>
                  </a:lnTo>
                  <a:lnTo>
                    <a:pt x="41" y="106"/>
                  </a:lnTo>
                  <a:lnTo>
                    <a:pt x="41" y="94"/>
                  </a:lnTo>
                  <a:lnTo>
                    <a:pt x="42" y="83"/>
                  </a:lnTo>
                  <a:lnTo>
                    <a:pt x="44" y="70"/>
                  </a:lnTo>
                  <a:lnTo>
                    <a:pt x="50" y="59"/>
                  </a:lnTo>
                  <a:lnTo>
                    <a:pt x="57" y="48"/>
                  </a:lnTo>
                  <a:lnTo>
                    <a:pt x="67" y="41"/>
                  </a:lnTo>
                  <a:lnTo>
                    <a:pt x="77" y="35"/>
                  </a:lnTo>
                  <a:lnTo>
                    <a:pt x="89" y="32"/>
                  </a:lnTo>
                  <a:lnTo>
                    <a:pt x="100" y="29"/>
                  </a:lnTo>
                  <a:lnTo>
                    <a:pt x="112" y="30"/>
                  </a:lnTo>
                  <a:lnTo>
                    <a:pt x="122" y="30"/>
                  </a:lnTo>
                  <a:lnTo>
                    <a:pt x="135" y="35"/>
                  </a:lnTo>
                  <a:lnTo>
                    <a:pt x="145" y="41"/>
                  </a:lnTo>
                  <a:lnTo>
                    <a:pt x="159" y="49"/>
                  </a:lnTo>
                  <a:lnTo>
                    <a:pt x="164" y="41"/>
                  </a:lnTo>
                  <a:lnTo>
                    <a:pt x="167" y="30"/>
                  </a:lnTo>
                  <a:lnTo>
                    <a:pt x="164" y="20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87615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8400" y="5726160"/>
              <a:ext cx="91800" cy="12996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0" y="26"/>
                  </a:moveTo>
                  <a:lnTo>
                    <a:pt x="16" y="33"/>
                  </a:lnTo>
                  <a:lnTo>
                    <a:pt x="23" y="29"/>
                  </a:lnTo>
                  <a:lnTo>
                    <a:pt x="31" y="31"/>
                  </a:lnTo>
                  <a:lnTo>
                    <a:pt x="36" y="31"/>
                  </a:lnTo>
                  <a:lnTo>
                    <a:pt x="45" y="36"/>
                  </a:lnTo>
                  <a:lnTo>
                    <a:pt x="48" y="47"/>
                  </a:lnTo>
                  <a:lnTo>
                    <a:pt x="52" y="60"/>
                  </a:lnTo>
                  <a:lnTo>
                    <a:pt x="57" y="71"/>
                  </a:lnTo>
                  <a:lnTo>
                    <a:pt x="61" y="84"/>
                  </a:lnTo>
                  <a:lnTo>
                    <a:pt x="61" y="97"/>
                  </a:lnTo>
                  <a:lnTo>
                    <a:pt x="62" y="115"/>
                  </a:lnTo>
                  <a:lnTo>
                    <a:pt x="61" y="132"/>
                  </a:lnTo>
                  <a:lnTo>
                    <a:pt x="60" y="154"/>
                  </a:lnTo>
                  <a:lnTo>
                    <a:pt x="67" y="155"/>
                  </a:lnTo>
                  <a:lnTo>
                    <a:pt x="76" y="158"/>
                  </a:lnTo>
                  <a:lnTo>
                    <a:pt x="84" y="161"/>
                  </a:lnTo>
                  <a:lnTo>
                    <a:pt x="96" y="164"/>
                  </a:lnTo>
                  <a:lnTo>
                    <a:pt x="103" y="164"/>
                  </a:lnTo>
                  <a:lnTo>
                    <a:pt x="112" y="164"/>
                  </a:lnTo>
                  <a:lnTo>
                    <a:pt x="115" y="160"/>
                  </a:lnTo>
                  <a:lnTo>
                    <a:pt x="116" y="154"/>
                  </a:lnTo>
                  <a:lnTo>
                    <a:pt x="112" y="134"/>
                  </a:lnTo>
                  <a:lnTo>
                    <a:pt x="109" y="116"/>
                  </a:lnTo>
                  <a:lnTo>
                    <a:pt x="105" y="99"/>
                  </a:lnTo>
                  <a:lnTo>
                    <a:pt x="102" y="86"/>
                  </a:lnTo>
                  <a:lnTo>
                    <a:pt x="97" y="70"/>
                  </a:lnTo>
                  <a:lnTo>
                    <a:pt x="93" y="57"/>
                  </a:lnTo>
                  <a:lnTo>
                    <a:pt x="87" y="44"/>
                  </a:lnTo>
                  <a:lnTo>
                    <a:pt x="80" y="31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5" y="4"/>
                  </a:lnTo>
                  <a:lnTo>
                    <a:pt x="33" y="1"/>
                  </a:lnTo>
                  <a:lnTo>
                    <a:pt x="20" y="0"/>
                  </a:lnTo>
                  <a:lnTo>
                    <a:pt x="12" y="4"/>
                  </a:lnTo>
                  <a:lnTo>
                    <a:pt x="3" y="1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81680" y="5797440"/>
              <a:ext cx="136440" cy="316080"/>
            </a:xfrm>
            <a:custGeom>
              <a:avLst/>
              <a:gdLst/>
              <a:ahLst/>
              <a:rect l="l" t="t" r="r" b="b"/>
              <a:pathLst>
                <a:path w="173" h="396">
                  <a:moveTo>
                    <a:pt x="0" y="0"/>
                  </a:moveTo>
                  <a:lnTo>
                    <a:pt x="16" y="238"/>
                  </a:lnTo>
                  <a:lnTo>
                    <a:pt x="25" y="302"/>
                  </a:lnTo>
                  <a:lnTo>
                    <a:pt x="44" y="350"/>
                  </a:lnTo>
                  <a:lnTo>
                    <a:pt x="67" y="382"/>
                  </a:lnTo>
                  <a:lnTo>
                    <a:pt x="95" y="396"/>
                  </a:lnTo>
                  <a:lnTo>
                    <a:pt x="121" y="390"/>
                  </a:lnTo>
                  <a:lnTo>
                    <a:pt x="144" y="366"/>
                  </a:lnTo>
                  <a:lnTo>
                    <a:pt x="163" y="319"/>
                  </a:lnTo>
                  <a:lnTo>
                    <a:pt x="173" y="252"/>
                  </a:lnTo>
                  <a:lnTo>
                    <a:pt x="169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05440" y="5649840"/>
              <a:ext cx="63720" cy="31680"/>
            </a:xfrm>
            <a:custGeom>
              <a:avLst/>
              <a:gdLst/>
              <a:ahLst/>
              <a:rect l="l" t="t" r="r" b="b"/>
              <a:pathLst>
                <a:path w="80" h="41">
                  <a:moveTo>
                    <a:pt x="80" y="6"/>
                  </a:moveTo>
                  <a:lnTo>
                    <a:pt x="65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2" y="6"/>
                  </a:lnTo>
                  <a:lnTo>
                    <a:pt x="12" y="12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1" y="32"/>
                  </a:lnTo>
                  <a:lnTo>
                    <a:pt x="9" y="41"/>
                  </a:lnTo>
                  <a:lnTo>
                    <a:pt x="13" y="28"/>
                  </a:lnTo>
                  <a:lnTo>
                    <a:pt x="23" y="18"/>
                  </a:lnTo>
                  <a:lnTo>
                    <a:pt x="31" y="13"/>
                  </a:lnTo>
                  <a:lnTo>
                    <a:pt x="42" y="9"/>
                  </a:lnTo>
                  <a:lnTo>
                    <a:pt x="58" y="6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0360" y="5891040"/>
              <a:ext cx="12960" cy="49320"/>
            </a:xfrm>
            <a:custGeom>
              <a:avLst/>
              <a:gdLst/>
              <a:ahLst/>
              <a:rect l="l" t="t" r="r" b="b"/>
              <a:pathLst>
                <a:path w="16" h="61">
                  <a:moveTo>
                    <a:pt x="8" y="0"/>
                  </a:moveTo>
                  <a:lnTo>
                    <a:pt x="10" y="2"/>
                  </a:lnTo>
                  <a:lnTo>
                    <a:pt x="13" y="9"/>
                  </a:lnTo>
                  <a:lnTo>
                    <a:pt x="14" y="18"/>
                  </a:lnTo>
                  <a:lnTo>
                    <a:pt x="16" y="31"/>
                  </a:lnTo>
                  <a:lnTo>
                    <a:pt x="14" y="41"/>
                  </a:lnTo>
                  <a:lnTo>
                    <a:pt x="13" y="51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4" y="58"/>
                  </a:lnTo>
                  <a:lnTo>
                    <a:pt x="1" y="5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1" y="9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37480" y="5937120"/>
              <a:ext cx="17280" cy="5400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8" y="0"/>
                  </a:moveTo>
                  <a:lnTo>
                    <a:pt x="0" y="60"/>
                  </a:lnTo>
                  <a:lnTo>
                    <a:pt x="21" y="6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16720" y="5288040"/>
              <a:ext cx="1014480" cy="449280"/>
            </a:xfrm>
            <a:custGeom>
              <a:avLst/>
              <a:gdLst/>
              <a:ahLst/>
              <a:rect l="l" t="t" r="r" b="b"/>
              <a:pathLst>
                <a:path w="1279" h="566">
                  <a:moveTo>
                    <a:pt x="61" y="6"/>
                  </a:moveTo>
                  <a:lnTo>
                    <a:pt x="1279" y="486"/>
                  </a:lnTo>
                  <a:lnTo>
                    <a:pt x="1266" y="566"/>
                  </a:lnTo>
                  <a:lnTo>
                    <a:pt x="0" y="66"/>
                  </a:lnTo>
                  <a:lnTo>
                    <a:pt x="3" y="38"/>
                  </a:lnTo>
                  <a:lnTo>
                    <a:pt x="10" y="19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24720" y="5454720"/>
              <a:ext cx="990720" cy="282600"/>
            </a:xfrm>
            <a:custGeom>
              <a:avLst/>
              <a:gdLst/>
              <a:ahLst/>
              <a:rect l="l" t="t" r="r" b="b"/>
              <a:pathLst>
                <a:path w="1250" h="356">
                  <a:moveTo>
                    <a:pt x="0" y="356"/>
                  </a:moveTo>
                  <a:lnTo>
                    <a:pt x="1250" y="71"/>
                  </a:lnTo>
                  <a:lnTo>
                    <a:pt x="1238" y="0"/>
                  </a:lnTo>
                  <a:lnTo>
                    <a:pt x="0" y="267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02320" y="5033880"/>
              <a:ext cx="663840" cy="633600"/>
            </a:xfrm>
            <a:custGeom>
              <a:avLst/>
              <a:gdLst/>
              <a:ahLst/>
              <a:rect l="l" t="t" r="r" b="b"/>
              <a:pathLst>
                <a:path w="837" h="799">
                  <a:moveTo>
                    <a:pt x="0" y="743"/>
                  </a:moveTo>
                  <a:lnTo>
                    <a:pt x="18" y="635"/>
                  </a:lnTo>
                  <a:lnTo>
                    <a:pt x="45" y="529"/>
                  </a:lnTo>
                  <a:lnTo>
                    <a:pt x="83" y="425"/>
                  </a:lnTo>
                  <a:lnTo>
                    <a:pt x="135" y="324"/>
                  </a:lnTo>
                  <a:lnTo>
                    <a:pt x="202" y="228"/>
                  </a:lnTo>
                  <a:lnTo>
                    <a:pt x="286" y="143"/>
                  </a:lnTo>
                  <a:lnTo>
                    <a:pt x="390" y="64"/>
                  </a:lnTo>
                  <a:lnTo>
                    <a:pt x="518" y="0"/>
                  </a:lnTo>
                  <a:lnTo>
                    <a:pt x="544" y="2"/>
                  </a:lnTo>
                  <a:lnTo>
                    <a:pt x="581" y="5"/>
                  </a:lnTo>
                  <a:lnTo>
                    <a:pt x="627" y="8"/>
                  </a:lnTo>
                  <a:lnTo>
                    <a:pt x="676" y="12"/>
                  </a:lnTo>
                  <a:lnTo>
                    <a:pt x="724" y="15"/>
                  </a:lnTo>
                  <a:lnTo>
                    <a:pt x="769" y="18"/>
                  </a:lnTo>
                  <a:lnTo>
                    <a:pt x="808" y="21"/>
                  </a:lnTo>
                  <a:lnTo>
                    <a:pt x="837" y="25"/>
                  </a:lnTo>
                  <a:lnTo>
                    <a:pt x="715" y="37"/>
                  </a:lnTo>
                  <a:lnTo>
                    <a:pt x="596" y="82"/>
                  </a:lnTo>
                  <a:lnTo>
                    <a:pt x="481" y="154"/>
                  </a:lnTo>
                  <a:lnTo>
                    <a:pt x="377" y="253"/>
                  </a:lnTo>
                  <a:lnTo>
                    <a:pt x="285" y="369"/>
                  </a:lnTo>
                  <a:lnTo>
                    <a:pt x="212" y="503"/>
                  </a:lnTo>
                  <a:lnTo>
                    <a:pt x="163" y="647"/>
                  </a:lnTo>
                  <a:lnTo>
                    <a:pt x="140" y="799"/>
                  </a:lnTo>
                  <a:lnTo>
                    <a:pt x="122" y="791"/>
                  </a:lnTo>
                  <a:lnTo>
                    <a:pt x="106" y="783"/>
                  </a:lnTo>
                  <a:lnTo>
                    <a:pt x="87" y="776"/>
                  </a:lnTo>
                  <a:lnTo>
                    <a:pt x="70" y="770"/>
                  </a:lnTo>
                  <a:lnTo>
                    <a:pt x="51" y="763"/>
                  </a:lnTo>
                  <a:lnTo>
                    <a:pt x="32" y="756"/>
                  </a:lnTo>
                  <a:lnTo>
                    <a:pt x="15" y="749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ffb83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1160" y="6006960"/>
              <a:ext cx="1009800" cy="592200"/>
            </a:xfrm>
            <a:custGeom>
              <a:avLst/>
              <a:gdLst/>
              <a:ahLst/>
              <a:rect l="l" t="t" r="r" b="b"/>
              <a:pathLst>
                <a:path w="1273" h="747">
                  <a:moveTo>
                    <a:pt x="0" y="107"/>
                  </a:moveTo>
                  <a:lnTo>
                    <a:pt x="1273" y="747"/>
                  </a:lnTo>
                  <a:lnTo>
                    <a:pt x="1257" y="599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f7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65960" y="5315040"/>
              <a:ext cx="1096920" cy="569880"/>
            </a:xfrm>
            <a:custGeom>
              <a:avLst/>
              <a:gdLst/>
              <a:ahLst/>
              <a:rect l="l" t="t" r="r" b="b"/>
              <a:pathLst>
                <a:path w="1382" h="717">
                  <a:moveTo>
                    <a:pt x="0" y="0"/>
                  </a:moveTo>
                  <a:lnTo>
                    <a:pt x="3" y="151"/>
                  </a:lnTo>
                  <a:lnTo>
                    <a:pt x="1382" y="717"/>
                  </a:lnTo>
                  <a:lnTo>
                    <a:pt x="138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e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05640" y="6381720"/>
              <a:ext cx="204840" cy="227160"/>
            </a:xfrm>
            <a:custGeom>
              <a:avLst/>
              <a:gdLst/>
              <a:ahLst/>
              <a:rect l="l" t="t" r="r" b="b"/>
              <a:pathLst>
                <a:path w="257" h="286">
                  <a:moveTo>
                    <a:pt x="1" y="14"/>
                  </a:moveTo>
                  <a:lnTo>
                    <a:pt x="121" y="0"/>
                  </a:lnTo>
                  <a:lnTo>
                    <a:pt x="118" y="34"/>
                  </a:lnTo>
                  <a:lnTo>
                    <a:pt x="122" y="62"/>
                  </a:lnTo>
                  <a:lnTo>
                    <a:pt x="129" y="81"/>
                  </a:lnTo>
                  <a:lnTo>
                    <a:pt x="144" y="94"/>
                  </a:lnTo>
                  <a:lnTo>
                    <a:pt x="161" y="98"/>
                  </a:lnTo>
                  <a:lnTo>
                    <a:pt x="187" y="98"/>
                  </a:lnTo>
                  <a:lnTo>
                    <a:pt x="218" y="93"/>
                  </a:lnTo>
                  <a:lnTo>
                    <a:pt x="257" y="84"/>
                  </a:lnTo>
                  <a:lnTo>
                    <a:pt x="256" y="218"/>
                  </a:lnTo>
                  <a:lnTo>
                    <a:pt x="1" y="286"/>
                  </a:lnTo>
                  <a:lnTo>
                    <a:pt x="0" y="251"/>
                  </a:lnTo>
                  <a:lnTo>
                    <a:pt x="0" y="216"/>
                  </a:lnTo>
                  <a:lnTo>
                    <a:pt x="0" y="183"/>
                  </a:lnTo>
                  <a:lnTo>
                    <a:pt x="1" y="149"/>
                  </a:lnTo>
                  <a:lnTo>
                    <a:pt x="1" y="114"/>
                  </a:lnTo>
                  <a:lnTo>
                    <a:pt x="1" y="81"/>
                  </a:lnTo>
                  <a:lnTo>
                    <a:pt x="1" y="48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26240" y="5014800"/>
              <a:ext cx="476280" cy="135000"/>
            </a:xfrm>
            <a:custGeom>
              <a:avLst/>
              <a:gdLst/>
              <a:ahLst/>
              <a:rect l="l" t="t" r="r" b="b"/>
              <a:pathLst>
                <a:path w="600" h="170">
                  <a:moveTo>
                    <a:pt x="434" y="3"/>
                  </a:moveTo>
                  <a:lnTo>
                    <a:pt x="386" y="5"/>
                  </a:lnTo>
                  <a:lnTo>
                    <a:pt x="346" y="3"/>
                  </a:lnTo>
                  <a:lnTo>
                    <a:pt x="308" y="0"/>
                  </a:lnTo>
                  <a:lnTo>
                    <a:pt x="270" y="0"/>
                  </a:lnTo>
                  <a:lnTo>
                    <a:pt x="228" y="3"/>
                  </a:lnTo>
                  <a:lnTo>
                    <a:pt x="180" y="13"/>
                  </a:lnTo>
                  <a:lnTo>
                    <a:pt x="122" y="34"/>
                  </a:lnTo>
                  <a:lnTo>
                    <a:pt x="54" y="67"/>
                  </a:lnTo>
                  <a:lnTo>
                    <a:pt x="14" y="96"/>
                  </a:lnTo>
                  <a:lnTo>
                    <a:pt x="0" y="124"/>
                  </a:lnTo>
                  <a:lnTo>
                    <a:pt x="10" y="145"/>
                  </a:lnTo>
                  <a:lnTo>
                    <a:pt x="52" y="163"/>
                  </a:lnTo>
                  <a:lnTo>
                    <a:pt x="122" y="170"/>
                  </a:lnTo>
                  <a:lnTo>
                    <a:pt x="226" y="170"/>
                  </a:lnTo>
                  <a:lnTo>
                    <a:pt x="366" y="158"/>
                  </a:lnTo>
                  <a:lnTo>
                    <a:pt x="543" y="137"/>
                  </a:lnTo>
                  <a:lnTo>
                    <a:pt x="582" y="112"/>
                  </a:lnTo>
                  <a:lnTo>
                    <a:pt x="600" y="89"/>
                  </a:lnTo>
                  <a:lnTo>
                    <a:pt x="596" y="66"/>
                  </a:lnTo>
                  <a:lnTo>
                    <a:pt x="578" y="45"/>
                  </a:lnTo>
                  <a:lnTo>
                    <a:pt x="546" y="28"/>
                  </a:lnTo>
                  <a:lnTo>
                    <a:pt x="510" y="15"/>
                  </a:lnTo>
                  <a:lnTo>
                    <a:pt x="469" y="6"/>
                  </a:lnTo>
                  <a:lnTo>
                    <a:pt x="434" y="3"/>
                  </a:lnTo>
                  <a:close/>
                </a:path>
              </a:pathLst>
            </a:custGeom>
            <a:solidFill>
              <a:srgbClr val="b2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81600" y="5408640"/>
              <a:ext cx="876600" cy="469800"/>
            </a:xfrm>
            <a:custGeom>
              <a:avLst/>
              <a:gdLst/>
              <a:ahLst/>
              <a:rect l="l" t="t" r="r" b="b"/>
              <a:pathLst>
                <a:path w="1104" h="591">
                  <a:moveTo>
                    <a:pt x="0" y="0"/>
                  </a:moveTo>
                  <a:lnTo>
                    <a:pt x="72" y="36"/>
                  </a:lnTo>
                  <a:lnTo>
                    <a:pt x="145" y="73"/>
                  </a:lnTo>
                  <a:lnTo>
                    <a:pt x="216" y="106"/>
                  </a:lnTo>
                  <a:lnTo>
                    <a:pt x="287" y="141"/>
                  </a:lnTo>
                  <a:lnTo>
                    <a:pt x="357" y="177"/>
                  </a:lnTo>
                  <a:lnTo>
                    <a:pt x="430" y="218"/>
                  </a:lnTo>
                  <a:lnTo>
                    <a:pt x="504" y="264"/>
                  </a:lnTo>
                  <a:lnTo>
                    <a:pt x="582" y="321"/>
                  </a:lnTo>
                  <a:lnTo>
                    <a:pt x="594" y="336"/>
                  </a:lnTo>
                  <a:lnTo>
                    <a:pt x="594" y="346"/>
                  </a:lnTo>
                  <a:lnTo>
                    <a:pt x="585" y="349"/>
                  </a:lnTo>
                  <a:lnTo>
                    <a:pt x="571" y="350"/>
                  </a:lnTo>
                  <a:lnTo>
                    <a:pt x="550" y="347"/>
                  </a:lnTo>
                  <a:lnTo>
                    <a:pt x="531" y="344"/>
                  </a:lnTo>
                  <a:lnTo>
                    <a:pt x="514" y="341"/>
                  </a:lnTo>
                  <a:lnTo>
                    <a:pt x="502" y="344"/>
                  </a:lnTo>
                  <a:lnTo>
                    <a:pt x="1104" y="591"/>
                  </a:lnTo>
                  <a:lnTo>
                    <a:pt x="1095" y="4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61080" y="5513400"/>
              <a:ext cx="1084320" cy="371520"/>
            </a:xfrm>
            <a:custGeom>
              <a:avLst/>
              <a:gdLst/>
              <a:ahLst/>
              <a:rect l="l" t="t" r="r" b="b"/>
              <a:pathLst>
                <a:path w="1366" h="469">
                  <a:moveTo>
                    <a:pt x="1" y="469"/>
                  </a:moveTo>
                  <a:lnTo>
                    <a:pt x="0" y="309"/>
                  </a:lnTo>
                  <a:lnTo>
                    <a:pt x="1360" y="0"/>
                  </a:lnTo>
                  <a:lnTo>
                    <a:pt x="1366" y="148"/>
                  </a:lnTo>
                  <a:lnTo>
                    <a:pt x="1306" y="161"/>
                  </a:lnTo>
                  <a:lnTo>
                    <a:pt x="1152" y="197"/>
                  </a:lnTo>
                  <a:lnTo>
                    <a:pt x="933" y="248"/>
                  </a:lnTo>
                  <a:lnTo>
                    <a:pt x="683" y="309"/>
                  </a:lnTo>
                  <a:lnTo>
                    <a:pt x="431" y="367"/>
                  </a:lnTo>
                  <a:lnTo>
                    <a:pt x="213" y="420"/>
                  </a:lnTo>
                  <a:lnTo>
                    <a:pt x="59" y="454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ffff9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81720" y="5349960"/>
              <a:ext cx="127080" cy="715680"/>
            </a:xfrm>
            <a:custGeom>
              <a:avLst/>
              <a:gdLst/>
              <a:ahLst/>
              <a:rect l="l" t="t" r="r" b="b"/>
              <a:pathLst>
                <a:path w="162" h="903">
                  <a:moveTo>
                    <a:pt x="37" y="903"/>
                  </a:moveTo>
                  <a:lnTo>
                    <a:pt x="95" y="782"/>
                  </a:lnTo>
                  <a:lnTo>
                    <a:pt x="114" y="656"/>
                  </a:lnTo>
                  <a:lnTo>
                    <a:pt x="102" y="526"/>
                  </a:lnTo>
                  <a:lnTo>
                    <a:pt x="74" y="401"/>
                  </a:lnTo>
                  <a:lnTo>
                    <a:pt x="38" y="281"/>
                  </a:lnTo>
                  <a:lnTo>
                    <a:pt x="10" y="172"/>
                  </a:lnTo>
                  <a:lnTo>
                    <a:pt x="0" y="76"/>
                  </a:lnTo>
                  <a:lnTo>
                    <a:pt x="21" y="0"/>
                  </a:lnTo>
                  <a:lnTo>
                    <a:pt x="16" y="60"/>
                  </a:lnTo>
                  <a:lnTo>
                    <a:pt x="37" y="152"/>
                  </a:lnTo>
                  <a:lnTo>
                    <a:pt x="70" y="263"/>
                  </a:lnTo>
                  <a:lnTo>
                    <a:pt x="108" y="390"/>
                  </a:lnTo>
                  <a:lnTo>
                    <a:pt x="141" y="518"/>
                  </a:lnTo>
                  <a:lnTo>
                    <a:pt x="162" y="638"/>
                  </a:lnTo>
                  <a:lnTo>
                    <a:pt x="160" y="743"/>
                  </a:lnTo>
                  <a:lnTo>
                    <a:pt x="130" y="823"/>
                  </a:lnTo>
                  <a:lnTo>
                    <a:pt x="115" y="847"/>
                  </a:lnTo>
                  <a:lnTo>
                    <a:pt x="102" y="865"/>
                  </a:lnTo>
                  <a:lnTo>
                    <a:pt x="90" y="875"/>
                  </a:lnTo>
                  <a:lnTo>
                    <a:pt x="80" y="882"/>
                  </a:lnTo>
                  <a:lnTo>
                    <a:pt x="69" y="885"/>
                  </a:lnTo>
                  <a:lnTo>
                    <a:pt x="58" y="889"/>
                  </a:lnTo>
                  <a:lnTo>
                    <a:pt x="47" y="894"/>
                  </a:lnTo>
                  <a:lnTo>
                    <a:pt x="37" y="903"/>
                  </a:lnTo>
                  <a:close/>
                </a:path>
              </a:pathLst>
            </a:custGeom>
            <a:solidFill>
              <a:srgbClr val="00e5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31040" y="5546520"/>
              <a:ext cx="149040" cy="511200"/>
            </a:xfrm>
            <a:custGeom>
              <a:avLst/>
              <a:gdLst/>
              <a:ahLst/>
              <a:rect l="l" t="t" r="r" b="b"/>
              <a:pathLst>
                <a:path w="187" h="643">
                  <a:moveTo>
                    <a:pt x="0" y="643"/>
                  </a:moveTo>
                  <a:lnTo>
                    <a:pt x="88" y="575"/>
                  </a:lnTo>
                  <a:lnTo>
                    <a:pt x="135" y="500"/>
                  </a:lnTo>
                  <a:lnTo>
                    <a:pt x="148" y="415"/>
                  </a:lnTo>
                  <a:lnTo>
                    <a:pt x="142" y="328"/>
                  </a:lnTo>
                  <a:lnTo>
                    <a:pt x="123" y="238"/>
                  </a:lnTo>
                  <a:lnTo>
                    <a:pt x="107" y="152"/>
                  </a:lnTo>
                  <a:lnTo>
                    <a:pt x="104" y="71"/>
                  </a:lnTo>
                  <a:lnTo>
                    <a:pt x="128" y="0"/>
                  </a:lnTo>
                  <a:lnTo>
                    <a:pt x="119" y="49"/>
                  </a:lnTo>
                  <a:lnTo>
                    <a:pt x="128" y="113"/>
                  </a:lnTo>
                  <a:lnTo>
                    <a:pt x="145" y="189"/>
                  </a:lnTo>
                  <a:lnTo>
                    <a:pt x="167" y="272"/>
                  </a:lnTo>
                  <a:lnTo>
                    <a:pt x="181" y="354"/>
                  </a:lnTo>
                  <a:lnTo>
                    <a:pt x="187" y="439"/>
                  </a:lnTo>
                  <a:lnTo>
                    <a:pt x="174" y="517"/>
                  </a:lnTo>
                  <a:lnTo>
                    <a:pt x="139" y="587"/>
                  </a:lnTo>
                  <a:lnTo>
                    <a:pt x="122" y="610"/>
                  </a:lnTo>
                  <a:lnTo>
                    <a:pt x="104" y="626"/>
                  </a:lnTo>
                  <a:lnTo>
                    <a:pt x="86" y="632"/>
                  </a:lnTo>
                  <a:lnTo>
                    <a:pt x="67" y="635"/>
                  </a:lnTo>
                  <a:lnTo>
                    <a:pt x="46" y="633"/>
                  </a:lnTo>
                  <a:lnTo>
                    <a:pt x="29" y="633"/>
                  </a:lnTo>
                  <a:lnTo>
                    <a:pt x="11" y="635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00e5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43560" y="5630760"/>
              <a:ext cx="57240" cy="439920"/>
            </a:xfrm>
            <a:custGeom>
              <a:avLst/>
              <a:gdLst/>
              <a:ahLst/>
              <a:rect l="l" t="t" r="r" b="b"/>
              <a:pathLst>
                <a:path w="71" h="553">
                  <a:moveTo>
                    <a:pt x="22" y="553"/>
                  </a:moveTo>
                  <a:lnTo>
                    <a:pt x="43" y="417"/>
                  </a:lnTo>
                  <a:lnTo>
                    <a:pt x="51" y="319"/>
                  </a:lnTo>
                  <a:lnTo>
                    <a:pt x="43" y="248"/>
                  </a:lnTo>
                  <a:lnTo>
                    <a:pt x="32" y="199"/>
                  </a:lnTo>
                  <a:lnTo>
                    <a:pt x="16" y="157"/>
                  </a:lnTo>
                  <a:lnTo>
                    <a:pt x="4" y="116"/>
                  </a:lnTo>
                  <a:lnTo>
                    <a:pt x="0" y="67"/>
                  </a:lnTo>
                  <a:lnTo>
                    <a:pt x="9" y="0"/>
                  </a:lnTo>
                  <a:lnTo>
                    <a:pt x="6" y="39"/>
                  </a:lnTo>
                  <a:lnTo>
                    <a:pt x="14" y="78"/>
                  </a:lnTo>
                  <a:lnTo>
                    <a:pt x="29" y="116"/>
                  </a:lnTo>
                  <a:lnTo>
                    <a:pt x="46" y="158"/>
                  </a:lnTo>
                  <a:lnTo>
                    <a:pt x="59" y="205"/>
                  </a:lnTo>
                  <a:lnTo>
                    <a:pt x="70" y="260"/>
                  </a:lnTo>
                  <a:lnTo>
                    <a:pt x="71" y="328"/>
                  </a:lnTo>
                  <a:lnTo>
                    <a:pt x="59" y="411"/>
                  </a:lnTo>
                  <a:lnTo>
                    <a:pt x="54" y="439"/>
                  </a:lnTo>
                  <a:lnTo>
                    <a:pt x="48" y="462"/>
                  </a:lnTo>
                  <a:lnTo>
                    <a:pt x="43" y="481"/>
                  </a:lnTo>
                  <a:lnTo>
                    <a:pt x="39" y="497"/>
                  </a:lnTo>
                  <a:lnTo>
                    <a:pt x="35" y="510"/>
                  </a:lnTo>
                  <a:lnTo>
                    <a:pt x="30" y="523"/>
                  </a:lnTo>
                  <a:lnTo>
                    <a:pt x="26" y="536"/>
                  </a:lnTo>
                  <a:lnTo>
                    <a:pt x="22" y="553"/>
                  </a:lnTo>
                  <a:close/>
                </a:path>
              </a:pathLst>
            </a:custGeom>
            <a:solidFill>
              <a:srgbClr val="00e5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29440" y="5497560"/>
              <a:ext cx="156960" cy="569880"/>
            </a:xfrm>
            <a:custGeom>
              <a:avLst/>
              <a:gdLst/>
              <a:ahLst/>
              <a:rect l="l" t="t" r="r" b="b"/>
              <a:pathLst>
                <a:path w="198" h="718">
                  <a:moveTo>
                    <a:pt x="198" y="718"/>
                  </a:moveTo>
                  <a:lnTo>
                    <a:pt x="102" y="605"/>
                  </a:lnTo>
                  <a:lnTo>
                    <a:pt x="57" y="500"/>
                  </a:lnTo>
                  <a:lnTo>
                    <a:pt x="44" y="401"/>
                  </a:lnTo>
                  <a:lnTo>
                    <a:pt x="56" y="310"/>
                  </a:lnTo>
                  <a:lnTo>
                    <a:pt x="72" y="223"/>
                  </a:lnTo>
                  <a:lnTo>
                    <a:pt x="85" y="143"/>
                  </a:lnTo>
                  <a:lnTo>
                    <a:pt x="78" y="69"/>
                  </a:lnTo>
                  <a:lnTo>
                    <a:pt x="38" y="0"/>
                  </a:lnTo>
                  <a:lnTo>
                    <a:pt x="54" y="53"/>
                  </a:lnTo>
                  <a:lnTo>
                    <a:pt x="51" y="124"/>
                  </a:lnTo>
                  <a:lnTo>
                    <a:pt x="35" y="207"/>
                  </a:lnTo>
                  <a:lnTo>
                    <a:pt x="16" y="298"/>
                  </a:lnTo>
                  <a:lnTo>
                    <a:pt x="0" y="391"/>
                  </a:lnTo>
                  <a:lnTo>
                    <a:pt x="2" y="483"/>
                  </a:lnTo>
                  <a:lnTo>
                    <a:pt x="24" y="567"/>
                  </a:lnTo>
                  <a:lnTo>
                    <a:pt x="79" y="638"/>
                  </a:lnTo>
                  <a:lnTo>
                    <a:pt x="99" y="663"/>
                  </a:lnTo>
                  <a:lnTo>
                    <a:pt x="118" y="680"/>
                  </a:lnTo>
                  <a:lnTo>
                    <a:pt x="133" y="690"/>
                  </a:lnTo>
                  <a:lnTo>
                    <a:pt x="147" y="698"/>
                  </a:lnTo>
                  <a:lnTo>
                    <a:pt x="159" y="701"/>
                  </a:lnTo>
                  <a:lnTo>
                    <a:pt x="170" y="705"/>
                  </a:lnTo>
                  <a:lnTo>
                    <a:pt x="184" y="709"/>
                  </a:lnTo>
                  <a:lnTo>
                    <a:pt x="198" y="718"/>
                  </a:lnTo>
                  <a:close/>
                </a:path>
              </a:pathLst>
            </a:custGeom>
            <a:solidFill>
              <a:srgbClr val="00e5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540640" y="4800600"/>
              <a:ext cx="177840" cy="1552680"/>
            </a:xfrm>
            <a:custGeom>
              <a:avLst/>
              <a:gdLst/>
              <a:ahLst/>
              <a:rect l="l" t="t" r="r" b="b"/>
              <a:pathLst>
                <a:path w="226" h="1957">
                  <a:moveTo>
                    <a:pt x="0" y="1957"/>
                  </a:moveTo>
                  <a:lnTo>
                    <a:pt x="105" y="1695"/>
                  </a:lnTo>
                  <a:lnTo>
                    <a:pt x="157" y="1422"/>
                  </a:lnTo>
                  <a:lnTo>
                    <a:pt x="170" y="1145"/>
                  </a:lnTo>
                  <a:lnTo>
                    <a:pt x="163" y="872"/>
                  </a:lnTo>
                  <a:lnTo>
                    <a:pt x="144" y="612"/>
                  </a:lnTo>
                  <a:lnTo>
                    <a:pt x="133" y="373"/>
                  </a:lnTo>
                  <a:lnTo>
                    <a:pt x="141" y="166"/>
                  </a:lnTo>
                  <a:lnTo>
                    <a:pt x="185" y="0"/>
                  </a:lnTo>
                  <a:lnTo>
                    <a:pt x="166" y="131"/>
                  </a:lnTo>
                  <a:lnTo>
                    <a:pt x="172" y="330"/>
                  </a:lnTo>
                  <a:lnTo>
                    <a:pt x="189" y="574"/>
                  </a:lnTo>
                  <a:lnTo>
                    <a:pt x="211" y="845"/>
                  </a:lnTo>
                  <a:lnTo>
                    <a:pt x="226" y="1121"/>
                  </a:lnTo>
                  <a:lnTo>
                    <a:pt x="226" y="1384"/>
                  </a:lnTo>
                  <a:lnTo>
                    <a:pt x="199" y="1611"/>
                  </a:lnTo>
                  <a:lnTo>
                    <a:pt x="140" y="1782"/>
                  </a:lnTo>
                  <a:lnTo>
                    <a:pt x="115" y="1836"/>
                  </a:lnTo>
                  <a:lnTo>
                    <a:pt x="96" y="1874"/>
                  </a:lnTo>
                  <a:lnTo>
                    <a:pt x="77" y="1897"/>
                  </a:lnTo>
                  <a:lnTo>
                    <a:pt x="61" y="1913"/>
                  </a:lnTo>
                  <a:lnTo>
                    <a:pt x="45" y="1920"/>
                  </a:lnTo>
                  <a:lnTo>
                    <a:pt x="31" y="1929"/>
                  </a:lnTo>
                  <a:lnTo>
                    <a:pt x="16" y="1939"/>
                  </a:lnTo>
                  <a:lnTo>
                    <a:pt x="0" y="1957"/>
                  </a:lnTo>
                  <a:close/>
                </a:path>
              </a:pathLst>
            </a:custGeom>
            <a:solidFill>
              <a:srgbClr val="00cc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569440" y="5227560"/>
              <a:ext cx="250560" cy="1108080"/>
            </a:xfrm>
            <a:custGeom>
              <a:avLst/>
              <a:gdLst/>
              <a:ahLst/>
              <a:rect l="l" t="t" r="r" b="b"/>
              <a:pathLst>
                <a:path w="315" h="1394">
                  <a:moveTo>
                    <a:pt x="0" y="1394"/>
                  </a:moveTo>
                  <a:lnTo>
                    <a:pt x="132" y="1249"/>
                  </a:lnTo>
                  <a:lnTo>
                    <a:pt x="210" y="1084"/>
                  </a:lnTo>
                  <a:lnTo>
                    <a:pt x="247" y="902"/>
                  </a:lnTo>
                  <a:lnTo>
                    <a:pt x="257" y="712"/>
                  </a:lnTo>
                  <a:lnTo>
                    <a:pt x="254" y="519"/>
                  </a:lnTo>
                  <a:lnTo>
                    <a:pt x="254" y="331"/>
                  </a:lnTo>
                  <a:lnTo>
                    <a:pt x="269" y="155"/>
                  </a:lnTo>
                  <a:lnTo>
                    <a:pt x="315" y="0"/>
                  </a:lnTo>
                  <a:lnTo>
                    <a:pt x="293" y="109"/>
                  </a:lnTo>
                  <a:lnTo>
                    <a:pt x="289" y="250"/>
                  </a:lnTo>
                  <a:lnTo>
                    <a:pt x="295" y="412"/>
                  </a:lnTo>
                  <a:lnTo>
                    <a:pt x="303" y="591"/>
                  </a:lnTo>
                  <a:lnTo>
                    <a:pt x="303" y="773"/>
                  </a:lnTo>
                  <a:lnTo>
                    <a:pt x="292" y="954"/>
                  </a:lnTo>
                  <a:lnTo>
                    <a:pt x="258" y="1123"/>
                  </a:lnTo>
                  <a:lnTo>
                    <a:pt x="196" y="1272"/>
                  </a:lnTo>
                  <a:lnTo>
                    <a:pt x="168" y="1325"/>
                  </a:lnTo>
                  <a:lnTo>
                    <a:pt x="142" y="1357"/>
                  </a:lnTo>
                  <a:lnTo>
                    <a:pt x="116" y="1371"/>
                  </a:lnTo>
                  <a:lnTo>
                    <a:pt x="90" y="1377"/>
                  </a:lnTo>
                  <a:lnTo>
                    <a:pt x="64" y="1376"/>
                  </a:lnTo>
                  <a:lnTo>
                    <a:pt x="40" y="1374"/>
                  </a:lnTo>
                  <a:lnTo>
                    <a:pt x="17" y="1379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00cc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75480" y="5410080"/>
              <a:ext cx="103320" cy="951120"/>
            </a:xfrm>
            <a:custGeom>
              <a:avLst/>
              <a:gdLst/>
              <a:ahLst/>
              <a:rect l="l" t="t" r="r" b="b"/>
              <a:pathLst>
                <a:path w="131" h="1199">
                  <a:moveTo>
                    <a:pt x="0" y="1199"/>
                  </a:moveTo>
                  <a:lnTo>
                    <a:pt x="61" y="907"/>
                  </a:lnTo>
                  <a:lnTo>
                    <a:pt x="92" y="696"/>
                  </a:lnTo>
                  <a:lnTo>
                    <a:pt x="99" y="544"/>
                  </a:lnTo>
                  <a:lnTo>
                    <a:pt x="94" y="433"/>
                  </a:lnTo>
                  <a:lnTo>
                    <a:pt x="83" y="342"/>
                  </a:lnTo>
                  <a:lnTo>
                    <a:pt x="77" y="253"/>
                  </a:lnTo>
                  <a:lnTo>
                    <a:pt x="81" y="146"/>
                  </a:lnTo>
                  <a:lnTo>
                    <a:pt x="108" y="0"/>
                  </a:lnTo>
                  <a:lnTo>
                    <a:pt x="96" y="88"/>
                  </a:lnTo>
                  <a:lnTo>
                    <a:pt x="99" y="172"/>
                  </a:lnTo>
                  <a:lnTo>
                    <a:pt x="109" y="253"/>
                  </a:lnTo>
                  <a:lnTo>
                    <a:pt x="122" y="345"/>
                  </a:lnTo>
                  <a:lnTo>
                    <a:pt x="131" y="445"/>
                  </a:lnTo>
                  <a:lnTo>
                    <a:pt x="131" y="567"/>
                  </a:lnTo>
                  <a:lnTo>
                    <a:pt x="115" y="712"/>
                  </a:lnTo>
                  <a:lnTo>
                    <a:pt x="81" y="891"/>
                  </a:lnTo>
                  <a:lnTo>
                    <a:pt x="67" y="953"/>
                  </a:lnTo>
                  <a:lnTo>
                    <a:pt x="55" y="1003"/>
                  </a:lnTo>
                  <a:lnTo>
                    <a:pt x="45" y="1043"/>
                  </a:lnTo>
                  <a:lnTo>
                    <a:pt x="36" y="1077"/>
                  </a:lnTo>
                  <a:lnTo>
                    <a:pt x="26" y="1104"/>
                  </a:lnTo>
                  <a:lnTo>
                    <a:pt x="17" y="1134"/>
                  </a:lnTo>
                  <a:lnTo>
                    <a:pt x="9" y="1163"/>
                  </a:lnTo>
                  <a:lnTo>
                    <a:pt x="0" y="1199"/>
                  </a:lnTo>
                  <a:close/>
                </a:path>
              </a:pathLst>
            </a:custGeom>
            <a:solidFill>
              <a:srgbClr val="00cc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46960" y="5122800"/>
              <a:ext cx="162000" cy="1233360"/>
            </a:xfrm>
            <a:custGeom>
              <a:avLst/>
              <a:gdLst/>
              <a:ahLst/>
              <a:rect l="l" t="t" r="r" b="b"/>
              <a:pathLst>
                <a:path w="205" h="1555">
                  <a:moveTo>
                    <a:pt x="205" y="1555"/>
                  </a:moveTo>
                  <a:lnTo>
                    <a:pt x="105" y="1311"/>
                  </a:lnTo>
                  <a:lnTo>
                    <a:pt x="67" y="1083"/>
                  </a:lnTo>
                  <a:lnTo>
                    <a:pt x="74" y="869"/>
                  </a:lnTo>
                  <a:lnTo>
                    <a:pt x="109" y="670"/>
                  </a:lnTo>
                  <a:lnTo>
                    <a:pt x="150" y="484"/>
                  </a:lnTo>
                  <a:lnTo>
                    <a:pt x="185" y="311"/>
                  </a:lnTo>
                  <a:lnTo>
                    <a:pt x="192" y="148"/>
                  </a:lnTo>
                  <a:lnTo>
                    <a:pt x="157" y="0"/>
                  </a:lnTo>
                  <a:lnTo>
                    <a:pt x="167" y="114"/>
                  </a:lnTo>
                  <a:lnTo>
                    <a:pt x="147" y="268"/>
                  </a:lnTo>
                  <a:lnTo>
                    <a:pt x="106" y="448"/>
                  </a:lnTo>
                  <a:lnTo>
                    <a:pt x="61" y="645"/>
                  </a:lnTo>
                  <a:lnTo>
                    <a:pt x="21" y="847"/>
                  </a:lnTo>
                  <a:lnTo>
                    <a:pt x="0" y="1045"/>
                  </a:lnTo>
                  <a:lnTo>
                    <a:pt x="10" y="1225"/>
                  </a:lnTo>
                  <a:lnTo>
                    <a:pt x="66" y="1380"/>
                  </a:lnTo>
                  <a:lnTo>
                    <a:pt x="87" y="1434"/>
                  </a:lnTo>
                  <a:lnTo>
                    <a:pt x="108" y="1472"/>
                  </a:lnTo>
                  <a:lnTo>
                    <a:pt x="125" y="1495"/>
                  </a:lnTo>
                  <a:lnTo>
                    <a:pt x="143" y="1511"/>
                  </a:lnTo>
                  <a:lnTo>
                    <a:pt x="157" y="1518"/>
                  </a:lnTo>
                  <a:lnTo>
                    <a:pt x="172" y="1527"/>
                  </a:lnTo>
                  <a:lnTo>
                    <a:pt x="188" y="1537"/>
                  </a:lnTo>
                  <a:lnTo>
                    <a:pt x="205" y="1555"/>
                  </a:lnTo>
                  <a:close/>
                </a:path>
              </a:pathLst>
            </a:custGeom>
            <a:solidFill>
              <a:srgbClr val="00cc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4000" y="5923080"/>
              <a:ext cx="136800" cy="274320"/>
            </a:xfrm>
            <a:custGeom>
              <a:avLst/>
              <a:gdLst/>
              <a:ahLst/>
              <a:rect l="l" t="t" r="r" b="b"/>
              <a:pathLst>
                <a:path w="171" h="346">
                  <a:moveTo>
                    <a:pt x="0" y="344"/>
                  </a:moveTo>
                  <a:lnTo>
                    <a:pt x="79" y="311"/>
                  </a:lnTo>
                  <a:lnTo>
                    <a:pt x="110" y="267"/>
                  </a:lnTo>
                  <a:lnTo>
                    <a:pt x="104" y="216"/>
                  </a:lnTo>
                  <a:lnTo>
                    <a:pt x="78" y="163"/>
                  </a:lnTo>
                  <a:lnTo>
                    <a:pt x="43" y="109"/>
                  </a:lnTo>
                  <a:lnTo>
                    <a:pt x="16" y="62"/>
                  </a:lnTo>
                  <a:lnTo>
                    <a:pt x="8" y="23"/>
                  </a:lnTo>
                  <a:lnTo>
                    <a:pt x="39" y="0"/>
                  </a:lnTo>
                  <a:lnTo>
                    <a:pt x="30" y="22"/>
                  </a:lnTo>
                  <a:lnTo>
                    <a:pt x="49" y="61"/>
                  </a:lnTo>
                  <a:lnTo>
                    <a:pt x="81" y="109"/>
                  </a:lnTo>
                  <a:lnTo>
                    <a:pt x="122" y="165"/>
                  </a:lnTo>
                  <a:lnTo>
                    <a:pt x="154" y="221"/>
                  </a:lnTo>
                  <a:lnTo>
                    <a:pt x="171" y="272"/>
                  </a:lnTo>
                  <a:lnTo>
                    <a:pt x="162" y="311"/>
                  </a:lnTo>
                  <a:lnTo>
                    <a:pt x="119" y="334"/>
                  </a:lnTo>
                  <a:lnTo>
                    <a:pt x="100" y="340"/>
                  </a:lnTo>
                  <a:lnTo>
                    <a:pt x="84" y="344"/>
                  </a:lnTo>
                  <a:lnTo>
                    <a:pt x="68" y="344"/>
                  </a:lnTo>
                  <a:lnTo>
                    <a:pt x="55" y="346"/>
                  </a:lnTo>
                  <a:lnTo>
                    <a:pt x="40" y="344"/>
                  </a:lnTo>
                  <a:lnTo>
                    <a:pt x="27" y="344"/>
                  </a:lnTo>
                  <a:lnTo>
                    <a:pt x="13" y="343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b2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9560" y="6026040"/>
              <a:ext cx="195120" cy="184320"/>
            </a:xfrm>
            <a:custGeom>
              <a:avLst/>
              <a:gdLst/>
              <a:ahLst/>
              <a:rect l="l" t="t" r="r" b="b"/>
              <a:pathLst>
                <a:path w="245" h="233">
                  <a:moveTo>
                    <a:pt x="0" y="217"/>
                  </a:moveTo>
                  <a:lnTo>
                    <a:pt x="114" y="209"/>
                  </a:lnTo>
                  <a:lnTo>
                    <a:pt x="177" y="190"/>
                  </a:lnTo>
                  <a:lnTo>
                    <a:pt x="199" y="161"/>
                  </a:lnTo>
                  <a:lnTo>
                    <a:pt x="196" y="128"/>
                  </a:lnTo>
                  <a:lnTo>
                    <a:pt x="180" y="90"/>
                  </a:lnTo>
                  <a:lnTo>
                    <a:pt x="167" y="54"/>
                  </a:lnTo>
                  <a:lnTo>
                    <a:pt x="168" y="22"/>
                  </a:lnTo>
                  <a:lnTo>
                    <a:pt x="201" y="0"/>
                  </a:lnTo>
                  <a:lnTo>
                    <a:pt x="188" y="16"/>
                  </a:lnTo>
                  <a:lnTo>
                    <a:pt x="194" y="44"/>
                  </a:lnTo>
                  <a:lnTo>
                    <a:pt x="210" y="76"/>
                  </a:lnTo>
                  <a:lnTo>
                    <a:pt x="231" y="112"/>
                  </a:lnTo>
                  <a:lnTo>
                    <a:pt x="244" y="147"/>
                  </a:lnTo>
                  <a:lnTo>
                    <a:pt x="245" y="179"/>
                  </a:lnTo>
                  <a:lnTo>
                    <a:pt x="225" y="206"/>
                  </a:lnTo>
                  <a:lnTo>
                    <a:pt x="177" y="225"/>
                  </a:lnTo>
                  <a:lnTo>
                    <a:pt x="155" y="231"/>
                  </a:lnTo>
                  <a:lnTo>
                    <a:pt x="132" y="233"/>
                  </a:lnTo>
                  <a:lnTo>
                    <a:pt x="107" y="231"/>
                  </a:lnTo>
                  <a:lnTo>
                    <a:pt x="84" y="228"/>
                  </a:lnTo>
                  <a:lnTo>
                    <a:pt x="58" y="222"/>
                  </a:lnTo>
                  <a:lnTo>
                    <a:pt x="36" y="220"/>
                  </a:lnTo>
                  <a:lnTo>
                    <a:pt x="15" y="215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b2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73880" y="6019920"/>
              <a:ext cx="63360" cy="169560"/>
            </a:xfrm>
            <a:custGeom>
              <a:avLst/>
              <a:gdLst/>
              <a:ahLst/>
              <a:rect l="l" t="t" r="r" b="b"/>
              <a:pathLst>
                <a:path w="78" h="214">
                  <a:moveTo>
                    <a:pt x="0" y="214"/>
                  </a:moveTo>
                  <a:lnTo>
                    <a:pt x="36" y="166"/>
                  </a:lnTo>
                  <a:lnTo>
                    <a:pt x="51" y="131"/>
                  </a:lnTo>
                  <a:lnTo>
                    <a:pt x="48" y="102"/>
                  </a:lnTo>
                  <a:lnTo>
                    <a:pt x="36" y="82"/>
                  </a:lnTo>
                  <a:lnTo>
                    <a:pt x="19" y="61"/>
                  </a:lnTo>
                  <a:lnTo>
                    <a:pt x="7" y="44"/>
                  </a:lnTo>
                  <a:lnTo>
                    <a:pt x="3" y="24"/>
                  </a:lnTo>
                  <a:lnTo>
                    <a:pt x="17" y="0"/>
                  </a:lnTo>
                  <a:lnTo>
                    <a:pt x="13" y="15"/>
                  </a:lnTo>
                  <a:lnTo>
                    <a:pt x="22" y="32"/>
                  </a:lnTo>
                  <a:lnTo>
                    <a:pt x="36" y="48"/>
                  </a:lnTo>
                  <a:lnTo>
                    <a:pt x="55" y="69"/>
                  </a:lnTo>
                  <a:lnTo>
                    <a:pt x="70" y="89"/>
                  </a:lnTo>
                  <a:lnTo>
                    <a:pt x="78" y="114"/>
                  </a:lnTo>
                  <a:lnTo>
                    <a:pt x="76" y="138"/>
                  </a:lnTo>
                  <a:lnTo>
                    <a:pt x="55" y="168"/>
                  </a:lnTo>
                  <a:lnTo>
                    <a:pt x="46" y="176"/>
                  </a:lnTo>
                  <a:lnTo>
                    <a:pt x="38" y="183"/>
                  </a:lnTo>
                  <a:lnTo>
                    <a:pt x="31" y="189"/>
                  </a:lnTo>
                  <a:lnTo>
                    <a:pt x="25" y="195"/>
                  </a:lnTo>
                  <a:lnTo>
                    <a:pt x="12" y="202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b2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23040" y="5950080"/>
              <a:ext cx="180720" cy="242640"/>
            </a:xfrm>
            <a:custGeom>
              <a:avLst/>
              <a:gdLst/>
              <a:ahLst/>
              <a:rect l="l" t="t" r="r" b="b"/>
              <a:pathLst>
                <a:path w="228" h="305">
                  <a:moveTo>
                    <a:pt x="228" y="305"/>
                  </a:moveTo>
                  <a:lnTo>
                    <a:pt x="116" y="243"/>
                  </a:lnTo>
                  <a:lnTo>
                    <a:pt x="66" y="194"/>
                  </a:lnTo>
                  <a:lnTo>
                    <a:pt x="58" y="153"/>
                  </a:lnTo>
                  <a:lnTo>
                    <a:pt x="77" y="121"/>
                  </a:lnTo>
                  <a:lnTo>
                    <a:pt x="104" y="92"/>
                  </a:lnTo>
                  <a:lnTo>
                    <a:pt x="123" y="64"/>
                  </a:lnTo>
                  <a:lnTo>
                    <a:pt x="119" y="34"/>
                  </a:lnTo>
                  <a:lnTo>
                    <a:pt x="75" y="0"/>
                  </a:lnTo>
                  <a:lnTo>
                    <a:pt x="93" y="24"/>
                  </a:lnTo>
                  <a:lnTo>
                    <a:pt x="85" y="50"/>
                  </a:lnTo>
                  <a:lnTo>
                    <a:pt x="59" y="77"/>
                  </a:lnTo>
                  <a:lnTo>
                    <a:pt x="30" y="108"/>
                  </a:lnTo>
                  <a:lnTo>
                    <a:pt x="5" y="138"/>
                  </a:lnTo>
                  <a:lnTo>
                    <a:pt x="0" y="173"/>
                  </a:lnTo>
                  <a:lnTo>
                    <a:pt x="21" y="209"/>
                  </a:lnTo>
                  <a:lnTo>
                    <a:pt x="84" y="249"/>
                  </a:lnTo>
                  <a:lnTo>
                    <a:pt x="109" y="262"/>
                  </a:lnTo>
                  <a:lnTo>
                    <a:pt x="130" y="273"/>
                  </a:lnTo>
                  <a:lnTo>
                    <a:pt x="148" y="281"/>
                  </a:lnTo>
                  <a:lnTo>
                    <a:pt x="165" y="286"/>
                  </a:lnTo>
                  <a:lnTo>
                    <a:pt x="180" y="289"/>
                  </a:lnTo>
                  <a:lnTo>
                    <a:pt x="194" y="294"/>
                  </a:lnTo>
                  <a:lnTo>
                    <a:pt x="209" y="298"/>
                  </a:lnTo>
                  <a:lnTo>
                    <a:pt x="228" y="305"/>
                  </a:lnTo>
                  <a:close/>
                </a:path>
              </a:pathLst>
            </a:custGeom>
            <a:solidFill>
              <a:srgbClr val="00b2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410680" y="5226120"/>
              <a:ext cx="142560" cy="1234800"/>
            </a:xfrm>
            <a:custGeom>
              <a:avLst/>
              <a:gdLst/>
              <a:ahLst/>
              <a:rect l="l" t="t" r="r" b="b"/>
              <a:pathLst>
                <a:path w="178" h="1556">
                  <a:moveTo>
                    <a:pt x="0" y="1556"/>
                  </a:moveTo>
                  <a:lnTo>
                    <a:pt x="81" y="1348"/>
                  </a:lnTo>
                  <a:lnTo>
                    <a:pt x="125" y="1130"/>
                  </a:lnTo>
                  <a:lnTo>
                    <a:pt x="135" y="909"/>
                  </a:lnTo>
                  <a:lnTo>
                    <a:pt x="129" y="693"/>
                  </a:lnTo>
                  <a:lnTo>
                    <a:pt x="114" y="485"/>
                  </a:lnTo>
                  <a:lnTo>
                    <a:pt x="104" y="296"/>
                  </a:lnTo>
                  <a:lnTo>
                    <a:pt x="112" y="131"/>
                  </a:lnTo>
                  <a:lnTo>
                    <a:pt x="146" y="0"/>
                  </a:lnTo>
                  <a:lnTo>
                    <a:pt x="130" y="103"/>
                  </a:lnTo>
                  <a:lnTo>
                    <a:pt x="135" y="261"/>
                  </a:lnTo>
                  <a:lnTo>
                    <a:pt x="148" y="456"/>
                  </a:lnTo>
                  <a:lnTo>
                    <a:pt x="167" y="673"/>
                  </a:lnTo>
                  <a:lnTo>
                    <a:pt x="178" y="892"/>
                  </a:lnTo>
                  <a:lnTo>
                    <a:pt x="177" y="1100"/>
                  </a:lnTo>
                  <a:lnTo>
                    <a:pt x="157" y="1280"/>
                  </a:lnTo>
                  <a:lnTo>
                    <a:pt x="110" y="1416"/>
                  </a:lnTo>
                  <a:lnTo>
                    <a:pt x="91" y="1460"/>
                  </a:lnTo>
                  <a:lnTo>
                    <a:pt x="75" y="1490"/>
                  </a:lnTo>
                  <a:lnTo>
                    <a:pt x="61" y="1509"/>
                  </a:lnTo>
                  <a:lnTo>
                    <a:pt x="48" y="1521"/>
                  </a:lnTo>
                  <a:lnTo>
                    <a:pt x="35" y="1527"/>
                  </a:lnTo>
                  <a:lnTo>
                    <a:pt x="23" y="1534"/>
                  </a:lnTo>
                  <a:lnTo>
                    <a:pt x="11" y="1541"/>
                  </a:lnTo>
                  <a:lnTo>
                    <a:pt x="0" y="1556"/>
                  </a:lnTo>
                  <a:close/>
                </a:path>
              </a:pathLst>
            </a:custGeom>
            <a:solidFill>
              <a:srgbClr val="007f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34440" y="5565600"/>
              <a:ext cx="198360" cy="879480"/>
            </a:xfrm>
            <a:custGeom>
              <a:avLst/>
              <a:gdLst/>
              <a:ahLst/>
              <a:rect l="l" t="t" r="r" b="b"/>
              <a:pathLst>
                <a:path w="250" h="1108">
                  <a:moveTo>
                    <a:pt x="0" y="1108"/>
                  </a:moveTo>
                  <a:lnTo>
                    <a:pt x="104" y="993"/>
                  </a:lnTo>
                  <a:lnTo>
                    <a:pt x="167" y="861"/>
                  </a:lnTo>
                  <a:lnTo>
                    <a:pt x="196" y="716"/>
                  </a:lnTo>
                  <a:lnTo>
                    <a:pt x="205" y="565"/>
                  </a:lnTo>
                  <a:lnTo>
                    <a:pt x="202" y="411"/>
                  </a:lnTo>
                  <a:lnTo>
                    <a:pt x="200" y="262"/>
                  </a:lnTo>
                  <a:lnTo>
                    <a:pt x="212" y="122"/>
                  </a:lnTo>
                  <a:lnTo>
                    <a:pt x="250" y="0"/>
                  </a:lnTo>
                  <a:lnTo>
                    <a:pt x="232" y="85"/>
                  </a:lnTo>
                  <a:lnTo>
                    <a:pt x="229" y="199"/>
                  </a:lnTo>
                  <a:lnTo>
                    <a:pt x="234" y="328"/>
                  </a:lnTo>
                  <a:lnTo>
                    <a:pt x="241" y="470"/>
                  </a:lnTo>
                  <a:lnTo>
                    <a:pt x="241" y="614"/>
                  </a:lnTo>
                  <a:lnTo>
                    <a:pt x="232" y="758"/>
                  </a:lnTo>
                  <a:lnTo>
                    <a:pt x="205" y="892"/>
                  </a:lnTo>
                  <a:lnTo>
                    <a:pt x="155" y="1011"/>
                  </a:lnTo>
                  <a:lnTo>
                    <a:pt x="133" y="1053"/>
                  </a:lnTo>
                  <a:lnTo>
                    <a:pt x="113" y="1077"/>
                  </a:lnTo>
                  <a:lnTo>
                    <a:pt x="91" y="1089"/>
                  </a:lnTo>
                  <a:lnTo>
                    <a:pt x="71" y="1093"/>
                  </a:lnTo>
                  <a:lnTo>
                    <a:pt x="49" y="1092"/>
                  </a:lnTo>
                  <a:lnTo>
                    <a:pt x="30" y="1092"/>
                  </a:lnTo>
                  <a:lnTo>
                    <a:pt x="13" y="1095"/>
                  </a:lnTo>
                  <a:lnTo>
                    <a:pt x="0" y="1108"/>
                  </a:lnTo>
                  <a:close/>
                </a:path>
              </a:pathLst>
            </a:custGeom>
            <a:solidFill>
              <a:srgbClr val="007f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59560" y="5710320"/>
              <a:ext cx="82800" cy="757080"/>
            </a:xfrm>
            <a:custGeom>
              <a:avLst/>
              <a:gdLst/>
              <a:ahLst/>
              <a:rect l="l" t="t" r="r" b="b"/>
              <a:pathLst>
                <a:path w="105" h="953">
                  <a:moveTo>
                    <a:pt x="0" y="953"/>
                  </a:moveTo>
                  <a:lnTo>
                    <a:pt x="48" y="719"/>
                  </a:lnTo>
                  <a:lnTo>
                    <a:pt x="73" y="552"/>
                  </a:lnTo>
                  <a:lnTo>
                    <a:pt x="79" y="432"/>
                  </a:lnTo>
                  <a:lnTo>
                    <a:pt x="76" y="344"/>
                  </a:lnTo>
                  <a:lnTo>
                    <a:pt x="66" y="272"/>
                  </a:lnTo>
                  <a:lnTo>
                    <a:pt x="61" y="202"/>
                  </a:lnTo>
                  <a:lnTo>
                    <a:pt x="64" y="116"/>
                  </a:lnTo>
                  <a:lnTo>
                    <a:pt x="86" y="0"/>
                  </a:lnTo>
                  <a:lnTo>
                    <a:pt x="77" y="70"/>
                  </a:lnTo>
                  <a:lnTo>
                    <a:pt x="79" y="135"/>
                  </a:lnTo>
                  <a:lnTo>
                    <a:pt x="87" y="201"/>
                  </a:lnTo>
                  <a:lnTo>
                    <a:pt x="98" y="273"/>
                  </a:lnTo>
                  <a:lnTo>
                    <a:pt x="103" y="355"/>
                  </a:lnTo>
                  <a:lnTo>
                    <a:pt x="105" y="450"/>
                  </a:lnTo>
                  <a:lnTo>
                    <a:pt x="92" y="565"/>
                  </a:lnTo>
                  <a:lnTo>
                    <a:pt x="66" y="708"/>
                  </a:lnTo>
                  <a:lnTo>
                    <a:pt x="53" y="757"/>
                  </a:lnTo>
                  <a:lnTo>
                    <a:pt x="44" y="798"/>
                  </a:lnTo>
                  <a:lnTo>
                    <a:pt x="35" y="828"/>
                  </a:lnTo>
                  <a:lnTo>
                    <a:pt x="28" y="856"/>
                  </a:lnTo>
                  <a:lnTo>
                    <a:pt x="21" y="878"/>
                  </a:lnTo>
                  <a:lnTo>
                    <a:pt x="13" y="901"/>
                  </a:lnTo>
                  <a:lnTo>
                    <a:pt x="6" y="924"/>
                  </a:lnTo>
                  <a:lnTo>
                    <a:pt x="0" y="953"/>
                  </a:lnTo>
                  <a:close/>
                </a:path>
              </a:pathLst>
            </a:custGeom>
            <a:solidFill>
              <a:srgbClr val="007f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54800" y="5481720"/>
              <a:ext cx="130320" cy="981000"/>
            </a:xfrm>
            <a:custGeom>
              <a:avLst/>
              <a:gdLst/>
              <a:ahLst/>
              <a:rect l="l" t="t" r="r" b="b"/>
              <a:pathLst>
                <a:path w="165" h="1235">
                  <a:moveTo>
                    <a:pt x="165" y="1235"/>
                  </a:moveTo>
                  <a:lnTo>
                    <a:pt x="85" y="1041"/>
                  </a:lnTo>
                  <a:lnTo>
                    <a:pt x="56" y="860"/>
                  </a:lnTo>
                  <a:lnTo>
                    <a:pt x="62" y="689"/>
                  </a:lnTo>
                  <a:lnTo>
                    <a:pt x="89" y="532"/>
                  </a:lnTo>
                  <a:lnTo>
                    <a:pt x="123" y="384"/>
                  </a:lnTo>
                  <a:lnTo>
                    <a:pt x="149" y="246"/>
                  </a:lnTo>
                  <a:lnTo>
                    <a:pt x="155" y="118"/>
                  </a:lnTo>
                  <a:lnTo>
                    <a:pt x="127" y="0"/>
                  </a:lnTo>
                  <a:lnTo>
                    <a:pt x="134" y="91"/>
                  </a:lnTo>
                  <a:lnTo>
                    <a:pt x="118" y="211"/>
                  </a:lnTo>
                  <a:lnTo>
                    <a:pt x="86" y="355"/>
                  </a:lnTo>
                  <a:lnTo>
                    <a:pt x="50" y="512"/>
                  </a:lnTo>
                  <a:lnTo>
                    <a:pt x="16" y="673"/>
                  </a:lnTo>
                  <a:lnTo>
                    <a:pt x="0" y="830"/>
                  </a:lnTo>
                  <a:lnTo>
                    <a:pt x="8" y="974"/>
                  </a:lnTo>
                  <a:lnTo>
                    <a:pt x="53" y="1097"/>
                  </a:lnTo>
                  <a:lnTo>
                    <a:pt x="70" y="1139"/>
                  </a:lnTo>
                  <a:lnTo>
                    <a:pt x="86" y="1170"/>
                  </a:lnTo>
                  <a:lnTo>
                    <a:pt x="99" y="1189"/>
                  </a:lnTo>
                  <a:lnTo>
                    <a:pt x="114" y="1200"/>
                  </a:lnTo>
                  <a:lnTo>
                    <a:pt x="125" y="1206"/>
                  </a:lnTo>
                  <a:lnTo>
                    <a:pt x="139" y="1214"/>
                  </a:lnTo>
                  <a:lnTo>
                    <a:pt x="150" y="1221"/>
                  </a:lnTo>
                  <a:lnTo>
                    <a:pt x="165" y="1235"/>
                  </a:lnTo>
                  <a:close/>
                </a:path>
              </a:pathLst>
            </a:custGeom>
            <a:solidFill>
              <a:srgbClr val="007f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28080" y="6180120"/>
              <a:ext cx="1015920" cy="480960"/>
            </a:xfrm>
            <a:custGeom>
              <a:avLst/>
              <a:gdLst/>
              <a:ahLst/>
              <a:rect l="l" t="t" r="r" b="b"/>
              <a:pathLst>
                <a:path w="1280" h="606">
                  <a:moveTo>
                    <a:pt x="0" y="500"/>
                  </a:moveTo>
                  <a:lnTo>
                    <a:pt x="174" y="119"/>
                  </a:lnTo>
                  <a:lnTo>
                    <a:pt x="222" y="86"/>
                  </a:lnTo>
                  <a:lnTo>
                    <a:pt x="286" y="54"/>
                  </a:lnTo>
                  <a:lnTo>
                    <a:pt x="363" y="26"/>
                  </a:lnTo>
                  <a:lnTo>
                    <a:pt x="449" y="7"/>
                  </a:lnTo>
                  <a:lnTo>
                    <a:pt x="537" y="0"/>
                  </a:lnTo>
                  <a:lnTo>
                    <a:pt x="626" y="11"/>
                  </a:lnTo>
                  <a:lnTo>
                    <a:pt x="710" y="45"/>
                  </a:lnTo>
                  <a:lnTo>
                    <a:pt x="789" y="104"/>
                  </a:lnTo>
                  <a:lnTo>
                    <a:pt x="825" y="155"/>
                  </a:lnTo>
                  <a:lnTo>
                    <a:pt x="871" y="199"/>
                  </a:lnTo>
                  <a:lnTo>
                    <a:pt x="927" y="235"/>
                  </a:lnTo>
                  <a:lnTo>
                    <a:pt x="989" y="269"/>
                  </a:lnTo>
                  <a:lnTo>
                    <a:pt x="1053" y="296"/>
                  </a:lnTo>
                  <a:lnTo>
                    <a:pt x="1119" y="325"/>
                  </a:lnTo>
                  <a:lnTo>
                    <a:pt x="1182" y="354"/>
                  </a:lnTo>
                  <a:lnTo>
                    <a:pt x="1242" y="389"/>
                  </a:lnTo>
                  <a:lnTo>
                    <a:pt x="1280" y="476"/>
                  </a:lnTo>
                  <a:lnTo>
                    <a:pt x="1209" y="542"/>
                  </a:lnTo>
                  <a:lnTo>
                    <a:pt x="1055" y="584"/>
                  </a:lnTo>
                  <a:lnTo>
                    <a:pt x="845" y="606"/>
                  </a:lnTo>
                  <a:lnTo>
                    <a:pt x="606" y="604"/>
                  </a:lnTo>
                  <a:lnTo>
                    <a:pt x="367" y="587"/>
                  </a:lnTo>
                  <a:lnTo>
                    <a:pt x="155" y="55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94332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58040" y="6350040"/>
              <a:ext cx="841320" cy="277920"/>
            </a:xfrm>
            <a:custGeom>
              <a:avLst/>
              <a:gdLst/>
              <a:ahLst/>
              <a:rect l="l" t="t" r="r" b="b"/>
              <a:pathLst>
                <a:path w="1061" h="349">
                  <a:moveTo>
                    <a:pt x="672" y="0"/>
                  </a:moveTo>
                  <a:lnTo>
                    <a:pt x="701" y="29"/>
                  </a:lnTo>
                  <a:lnTo>
                    <a:pt x="737" y="57"/>
                  </a:lnTo>
                  <a:lnTo>
                    <a:pt x="779" y="79"/>
                  </a:lnTo>
                  <a:lnTo>
                    <a:pt x="826" y="101"/>
                  </a:lnTo>
                  <a:lnTo>
                    <a:pt x="874" y="120"/>
                  </a:lnTo>
                  <a:lnTo>
                    <a:pt x="927" y="138"/>
                  </a:lnTo>
                  <a:lnTo>
                    <a:pt x="980" y="156"/>
                  </a:lnTo>
                  <a:lnTo>
                    <a:pt x="1035" y="178"/>
                  </a:lnTo>
                  <a:lnTo>
                    <a:pt x="1048" y="191"/>
                  </a:lnTo>
                  <a:lnTo>
                    <a:pt x="1058" y="211"/>
                  </a:lnTo>
                  <a:lnTo>
                    <a:pt x="1061" y="236"/>
                  </a:lnTo>
                  <a:lnTo>
                    <a:pt x="1055" y="263"/>
                  </a:lnTo>
                  <a:lnTo>
                    <a:pt x="1036" y="288"/>
                  </a:lnTo>
                  <a:lnTo>
                    <a:pt x="1006" y="311"/>
                  </a:lnTo>
                  <a:lnTo>
                    <a:pt x="958" y="329"/>
                  </a:lnTo>
                  <a:lnTo>
                    <a:pt x="894" y="339"/>
                  </a:lnTo>
                  <a:lnTo>
                    <a:pt x="778" y="346"/>
                  </a:lnTo>
                  <a:lnTo>
                    <a:pt x="653" y="349"/>
                  </a:lnTo>
                  <a:lnTo>
                    <a:pt x="521" y="346"/>
                  </a:lnTo>
                  <a:lnTo>
                    <a:pt x="391" y="339"/>
                  </a:lnTo>
                  <a:lnTo>
                    <a:pt x="268" y="326"/>
                  </a:lnTo>
                  <a:lnTo>
                    <a:pt x="159" y="311"/>
                  </a:lnTo>
                  <a:lnTo>
                    <a:pt x="72" y="294"/>
                  </a:lnTo>
                  <a:lnTo>
                    <a:pt x="11" y="273"/>
                  </a:lnTo>
                  <a:lnTo>
                    <a:pt x="0" y="249"/>
                  </a:lnTo>
                  <a:lnTo>
                    <a:pt x="61" y="230"/>
                  </a:lnTo>
                  <a:lnTo>
                    <a:pt x="172" y="211"/>
                  </a:lnTo>
                  <a:lnTo>
                    <a:pt x="308" y="191"/>
                  </a:lnTo>
                  <a:lnTo>
                    <a:pt x="448" y="162"/>
                  </a:lnTo>
                  <a:lnTo>
                    <a:pt x="571" y="124"/>
                  </a:lnTo>
                  <a:lnTo>
                    <a:pt x="651" y="70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18200" y="6053040"/>
              <a:ext cx="657360" cy="263520"/>
            </a:xfrm>
            <a:custGeom>
              <a:avLst/>
              <a:gdLst/>
              <a:ahLst/>
              <a:rect l="l" t="t" r="r" b="b"/>
              <a:pathLst>
                <a:path w="828" h="332">
                  <a:moveTo>
                    <a:pt x="0" y="267"/>
                  </a:moveTo>
                  <a:lnTo>
                    <a:pt x="35" y="249"/>
                  </a:lnTo>
                  <a:lnTo>
                    <a:pt x="71" y="220"/>
                  </a:lnTo>
                  <a:lnTo>
                    <a:pt x="110" y="184"/>
                  </a:lnTo>
                  <a:lnTo>
                    <a:pt x="153" y="146"/>
                  </a:lnTo>
                  <a:lnTo>
                    <a:pt x="195" y="110"/>
                  </a:lnTo>
                  <a:lnTo>
                    <a:pt x="241" y="82"/>
                  </a:lnTo>
                  <a:lnTo>
                    <a:pt x="291" y="68"/>
                  </a:lnTo>
                  <a:lnTo>
                    <a:pt x="346" y="71"/>
                  </a:lnTo>
                  <a:lnTo>
                    <a:pt x="353" y="45"/>
                  </a:lnTo>
                  <a:lnTo>
                    <a:pt x="363" y="26"/>
                  </a:lnTo>
                  <a:lnTo>
                    <a:pt x="378" y="13"/>
                  </a:lnTo>
                  <a:lnTo>
                    <a:pt x="398" y="4"/>
                  </a:lnTo>
                  <a:lnTo>
                    <a:pt x="420" y="0"/>
                  </a:lnTo>
                  <a:lnTo>
                    <a:pt x="449" y="0"/>
                  </a:lnTo>
                  <a:lnTo>
                    <a:pt x="484" y="5"/>
                  </a:lnTo>
                  <a:lnTo>
                    <a:pt x="526" y="17"/>
                  </a:lnTo>
                  <a:lnTo>
                    <a:pt x="587" y="16"/>
                  </a:lnTo>
                  <a:lnTo>
                    <a:pt x="629" y="30"/>
                  </a:lnTo>
                  <a:lnTo>
                    <a:pt x="655" y="55"/>
                  </a:lnTo>
                  <a:lnTo>
                    <a:pt x="676" y="88"/>
                  </a:lnTo>
                  <a:lnTo>
                    <a:pt x="695" y="126"/>
                  </a:lnTo>
                  <a:lnTo>
                    <a:pt x="722" y="170"/>
                  </a:lnTo>
                  <a:lnTo>
                    <a:pt x="764" y="215"/>
                  </a:lnTo>
                  <a:lnTo>
                    <a:pt x="828" y="260"/>
                  </a:lnTo>
                  <a:lnTo>
                    <a:pt x="780" y="308"/>
                  </a:lnTo>
                  <a:lnTo>
                    <a:pt x="706" y="329"/>
                  </a:lnTo>
                  <a:lnTo>
                    <a:pt x="607" y="332"/>
                  </a:lnTo>
                  <a:lnTo>
                    <a:pt x="494" y="322"/>
                  </a:lnTo>
                  <a:lnTo>
                    <a:pt x="369" y="303"/>
                  </a:lnTo>
                  <a:lnTo>
                    <a:pt x="241" y="284"/>
                  </a:lnTo>
                  <a:lnTo>
                    <a:pt x="116" y="270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94332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43560" y="6070680"/>
              <a:ext cx="277920" cy="91800"/>
            </a:xfrm>
            <a:custGeom>
              <a:avLst/>
              <a:gdLst/>
              <a:ahLst/>
              <a:rect l="l" t="t" r="r" b="b"/>
              <a:pathLst>
                <a:path w="350" h="115">
                  <a:moveTo>
                    <a:pt x="350" y="56"/>
                  </a:moveTo>
                  <a:lnTo>
                    <a:pt x="344" y="70"/>
                  </a:lnTo>
                  <a:lnTo>
                    <a:pt x="308" y="86"/>
                  </a:lnTo>
                  <a:lnTo>
                    <a:pt x="248" y="97"/>
                  </a:lnTo>
                  <a:lnTo>
                    <a:pt x="181" y="109"/>
                  </a:lnTo>
                  <a:lnTo>
                    <a:pt x="110" y="113"/>
                  </a:lnTo>
                  <a:lnTo>
                    <a:pt x="51" y="115"/>
                  </a:lnTo>
                  <a:lnTo>
                    <a:pt x="10" y="106"/>
                  </a:lnTo>
                  <a:lnTo>
                    <a:pt x="0" y="90"/>
                  </a:lnTo>
                  <a:lnTo>
                    <a:pt x="48" y="65"/>
                  </a:lnTo>
                  <a:lnTo>
                    <a:pt x="80" y="46"/>
                  </a:lnTo>
                  <a:lnTo>
                    <a:pt x="99" y="30"/>
                  </a:lnTo>
                  <a:lnTo>
                    <a:pt x="109" y="20"/>
                  </a:lnTo>
                  <a:lnTo>
                    <a:pt x="112" y="11"/>
                  </a:lnTo>
                  <a:lnTo>
                    <a:pt x="115" y="9"/>
                  </a:lnTo>
                  <a:lnTo>
                    <a:pt x="117" y="7"/>
                  </a:lnTo>
                  <a:lnTo>
                    <a:pt x="128" y="10"/>
                  </a:lnTo>
                  <a:lnTo>
                    <a:pt x="138" y="3"/>
                  </a:lnTo>
                  <a:lnTo>
                    <a:pt x="163" y="0"/>
                  </a:lnTo>
                  <a:lnTo>
                    <a:pt x="195" y="1"/>
                  </a:lnTo>
                  <a:lnTo>
                    <a:pt x="232" y="9"/>
                  </a:lnTo>
                  <a:lnTo>
                    <a:pt x="269" y="16"/>
                  </a:lnTo>
                  <a:lnTo>
                    <a:pt x="303" y="27"/>
                  </a:lnTo>
                  <a:lnTo>
                    <a:pt x="331" y="39"/>
                  </a:lnTo>
                  <a:lnTo>
                    <a:pt x="350" y="56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91320" y="6334200"/>
              <a:ext cx="220680" cy="90360"/>
            </a:xfrm>
            <a:custGeom>
              <a:avLst/>
              <a:gdLst/>
              <a:ahLst/>
              <a:rect l="l" t="t" r="r" b="b"/>
              <a:pathLst>
                <a:path w="278" h="113">
                  <a:moveTo>
                    <a:pt x="0" y="92"/>
                  </a:moveTo>
                  <a:lnTo>
                    <a:pt x="12" y="84"/>
                  </a:lnTo>
                  <a:lnTo>
                    <a:pt x="23" y="76"/>
                  </a:lnTo>
                  <a:lnTo>
                    <a:pt x="36" y="63"/>
                  </a:lnTo>
                  <a:lnTo>
                    <a:pt x="51" y="51"/>
                  </a:lnTo>
                  <a:lnTo>
                    <a:pt x="64" y="38"/>
                  </a:lnTo>
                  <a:lnTo>
                    <a:pt x="80" y="29"/>
                  </a:lnTo>
                  <a:lnTo>
                    <a:pt x="96" y="25"/>
                  </a:lnTo>
                  <a:lnTo>
                    <a:pt x="115" y="26"/>
                  </a:lnTo>
                  <a:lnTo>
                    <a:pt x="116" y="16"/>
                  </a:lnTo>
                  <a:lnTo>
                    <a:pt x="121" y="10"/>
                  </a:lnTo>
                  <a:lnTo>
                    <a:pt x="125" y="4"/>
                  </a:lnTo>
                  <a:lnTo>
                    <a:pt x="132" y="3"/>
                  </a:lnTo>
                  <a:lnTo>
                    <a:pt x="140" y="0"/>
                  </a:lnTo>
                  <a:lnTo>
                    <a:pt x="150" y="1"/>
                  </a:lnTo>
                  <a:lnTo>
                    <a:pt x="161" y="3"/>
                  </a:lnTo>
                  <a:lnTo>
                    <a:pt x="176" y="7"/>
                  </a:lnTo>
                  <a:lnTo>
                    <a:pt x="195" y="7"/>
                  </a:lnTo>
                  <a:lnTo>
                    <a:pt x="209" y="12"/>
                  </a:lnTo>
                  <a:lnTo>
                    <a:pt x="220" y="19"/>
                  </a:lnTo>
                  <a:lnTo>
                    <a:pt x="227" y="31"/>
                  </a:lnTo>
                  <a:lnTo>
                    <a:pt x="231" y="44"/>
                  </a:lnTo>
                  <a:lnTo>
                    <a:pt x="241" y="58"/>
                  </a:lnTo>
                  <a:lnTo>
                    <a:pt x="254" y="74"/>
                  </a:lnTo>
                  <a:lnTo>
                    <a:pt x="278" y="90"/>
                  </a:lnTo>
                  <a:lnTo>
                    <a:pt x="262" y="105"/>
                  </a:lnTo>
                  <a:lnTo>
                    <a:pt x="237" y="112"/>
                  </a:lnTo>
                  <a:lnTo>
                    <a:pt x="204" y="113"/>
                  </a:lnTo>
                  <a:lnTo>
                    <a:pt x="166" y="110"/>
                  </a:lnTo>
                  <a:lnTo>
                    <a:pt x="122" y="103"/>
                  </a:lnTo>
                  <a:lnTo>
                    <a:pt x="80" y="97"/>
                  </a:lnTo>
                  <a:lnTo>
                    <a:pt x="38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94332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65840" y="6340320"/>
              <a:ext cx="93600" cy="32040"/>
            </a:xfrm>
            <a:custGeom>
              <a:avLst/>
              <a:gdLst/>
              <a:ahLst/>
              <a:rect l="l" t="t" r="r" b="b"/>
              <a:pathLst>
                <a:path w="117" h="39">
                  <a:moveTo>
                    <a:pt x="117" y="20"/>
                  </a:moveTo>
                  <a:lnTo>
                    <a:pt x="114" y="24"/>
                  </a:lnTo>
                  <a:lnTo>
                    <a:pt x="103" y="29"/>
                  </a:lnTo>
                  <a:lnTo>
                    <a:pt x="82" y="33"/>
                  </a:lnTo>
                  <a:lnTo>
                    <a:pt x="61" y="38"/>
                  </a:lnTo>
                  <a:lnTo>
                    <a:pt x="36" y="39"/>
                  </a:lnTo>
                  <a:lnTo>
                    <a:pt x="17" y="39"/>
                  </a:lnTo>
                  <a:lnTo>
                    <a:pt x="3" y="36"/>
                  </a:lnTo>
                  <a:lnTo>
                    <a:pt x="0" y="32"/>
                  </a:lnTo>
                  <a:lnTo>
                    <a:pt x="14" y="23"/>
                  </a:lnTo>
                  <a:lnTo>
                    <a:pt x="26" y="16"/>
                  </a:lnTo>
                  <a:lnTo>
                    <a:pt x="32" y="10"/>
                  </a:lnTo>
                  <a:lnTo>
                    <a:pt x="36" y="7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8" y="3"/>
                  </a:lnTo>
                  <a:lnTo>
                    <a:pt x="90" y="6"/>
                  </a:lnTo>
                  <a:lnTo>
                    <a:pt x="101" y="10"/>
                  </a:lnTo>
                  <a:lnTo>
                    <a:pt x="110" y="14"/>
                  </a:lnTo>
                  <a:lnTo>
                    <a:pt x="117" y="2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57840" y="6456240"/>
              <a:ext cx="122400" cy="49320"/>
            </a:xfrm>
            <a:custGeom>
              <a:avLst/>
              <a:gdLst/>
              <a:ahLst/>
              <a:rect l="l" t="t" r="r" b="b"/>
              <a:pathLst>
                <a:path w="154" h="63">
                  <a:moveTo>
                    <a:pt x="0" y="51"/>
                  </a:moveTo>
                  <a:lnTo>
                    <a:pt x="13" y="41"/>
                  </a:lnTo>
                  <a:lnTo>
                    <a:pt x="29" y="28"/>
                  </a:lnTo>
                  <a:lnTo>
                    <a:pt x="36" y="20"/>
                  </a:lnTo>
                  <a:lnTo>
                    <a:pt x="45" y="16"/>
                  </a:lnTo>
                  <a:lnTo>
                    <a:pt x="54" y="13"/>
                  </a:lnTo>
                  <a:lnTo>
                    <a:pt x="65" y="15"/>
                  </a:lnTo>
                  <a:lnTo>
                    <a:pt x="68" y="6"/>
                  </a:lnTo>
                  <a:lnTo>
                    <a:pt x="74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9" y="4"/>
                  </a:lnTo>
                  <a:lnTo>
                    <a:pt x="109" y="3"/>
                  </a:lnTo>
                  <a:lnTo>
                    <a:pt x="118" y="6"/>
                  </a:lnTo>
                  <a:lnTo>
                    <a:pt x="122" y="10"/>
                  </a:lnTo>
                  <a:lnTo>
                    <a:pt x="126" y="17"/>
                  </a:lnTo>
                  <a:lnTo>
                    <a:pt x="129" y="25"/>
                  </a:lnTo>
                  <a:lnTo>
                    <a:pt x="134" y="33"/>
                  </a:lnTo>
                  <a:lnTo>
                    <a:pt x="141" y="42"/>
                  </a:lnTo>
                  <a:lnTo>
                    <a:pt x="154" y="51"/>
                  </a:lnTo>
                  <a:lnTo>
                    <a:pt x="144" y="58"/>
                  </a:lnTo>
                  <a:lnTo>
                    <a:pt x="131" y="63"/>
                  </a:lnTo>
                  <a:lnTo>
                    <a:pt x="112" y="63"/>
                  </a:lnTo>
                  <a:lnTo>
                    <a:pt x="92" y="61"/>
                  </a:lnTo>
                  <a:lnTo>
                    <a:pt x="68" y="57"/>
                  </a:lnTo>
                  <a:lnTo>
                    <a:pt x="45" y="54"/>
                  </a:lnTo>
                  <a:lnTo>
                    <a:pt x="20" y="49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4332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0680" y="6460920"/>
              <a:ext cx="52560" cy="16200"/>
            </a:xfrm>
            <a:custGeom>
              <a:avLst/>
              <a:gdLst/>
              <a:ahLst/>
              <a:rect l="l" t="t" r="r" b="b"/>
              <a:pathLst>
                <a:path w="65" h="20">
                  <a:moveTo>
                    <a:pt x="65" y="10"/>
                  </a:moveTo>
                  <a:lnTo>
                    <a:pt x="62" y="11"/>
                  </a:lnTo>
                  <a:lnTo>
                    <a:pt x="56" y="14"/>
                  </a:lnTo>
                  <a:lnTo>
                    <a:pt x="45" y="17"/>
                  </a:lnTo>
                  <a:lnTo>
                    <a:pt x="33" y="20"/>
                  </a:lnTo>
                  <a:lnTo>
                    <a:pt x="20" y="20"/>
                  </a:lnTo>
                  <a:lnTo>
                    <a:pt x="9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9" y="11"/>
                  </a:lnTo>
                  <a:lnTo>
                    <a:pt x="14" y="9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280360" y="6205680"/>
              <a:ext cx="344520" cy="209520"/>
            </a:xfrm>
            <a:custGeom>
              <a:avLst/>
              <a:gdLst/>
              <a:ahLst/>
              <a:rect l="l" t="t" r="r" b="b"/>
              <a:pathLst>
                <a:path w="436" h="263">
                  <a:moveTo>
                    <a:pt x="430" y="4"/>
                  </a:moveTo>
                  <a:lnTo>
                    <a:pt x="388" y="0"/>
                  </a:lnTo>
                  <a:lnTo>
                    <a:pt x="346" y="1"/>
                  </a:lnTo>
                  <a:lnTo>
                    <a:pt x="304" y="4"/>
                  </a:lnTo>
                  <a:lnTo>
                    <a:pt x="263" y="11"/>
                  </a:lnTo>
                  <a:lnTo>
                    <a:pt x="221" y="20"/>
                  </a:lnTo>
                  <a:lnTo>
                    <a:pt x="180" y="33"/>
                  </a:lnTo>
                  <a:lnTo>
                    <a:pt x="138" y="48"/>
                  </a:lnTo>
                  <a:lnTo>
                    <a:pt x="99" y="68"/>
                  </a:lnTo>
                  <a:lnTo>
                    <a:pt x="97" y="91"/>
                  </a:lnTo>
                  <a:lnTo>
                    <a:pt x="84" y="120"/>
                  </a:lnTo>
                  <a:lnTo>
                    <a:pt x="61" y="151"/>
                  </a:lnTo>
                  <a:lnTo>
                    <a:pt x="36" y="183"/>
                  </a:lnTo>
                  <a:lnTo>
                    <a:pt x="13" y="210"/>
                  </a:lnTo>
                  <a:lnTo>
                    <a:pt x="0" y="234"/>
                  </a:lnTo>
                  <a:lnTo>
                    <a:pt x="3" y="248"/>
                  </a:lnTo>
                  <a:lnTo>
                    <a:pt x="28" y="253"/>
                  </a:lnTo>
                  <a:lnTo>
                    <a:pt x="36" y="263"/>
                  </a:lnTo>
                  <a:lnTo>
                    <a:pt x="84" y="251"/>
                  </a:lnTo>
                  <a:lnTo>
                    <a:pt x="158" y="221"/>
                  </a:lnTo>
                  <a:lnTo>
                    <a:pt x="246" y="180"/>
                  </a:lnTo>
                  <a:lnTo>
                    <a:pt x="328" y="131"/>
                  </a:lnTo>
                  <a:lnTo>
                    <a:pt x="398" y="83"/>
                  </a:lnTo>
                  <a:lnTo>
                    <a:pt x="436" y="38"/>
                  </a:lnTo>
                  <a:lnTo>
                    <a:pt x="430" y="4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9720" y="5813280"/>
              <a:ext cx="114480" cy="797040"/>
            </a:xfrm>
            <a:custGeom>
              <a:avLst/>
              <a:gdLst/>
              <a:ahLst/>
              <a:rect l="l" t="t" r="r" b="b"/>
              <a:pathLst>
                <a:path w="144" h="1004">
                  <a:moveTo>
                    <a:pt x="144" y="61"/>
                  </a:moveTo>
                  <a:lnTo>
                    <a:pt x="142" y="1004"/>
                  </a:lnTo>
                  <a:lnTo>
                    <a:pt x="0" y="917"/>
                  </a:lnTo>
                  <a:lnTo>
                    <a:pt x="0" y="0"/>
                  </a:lnTo>
                  <a:lnTo>
                    <a:pt x="144" y="61"/>
                  </a:lnTo>
                  <a:close/>
                </a:path>
              </a:pathLst>
            </a:custGeom>
            <a:solidFill>
              <a:srgbClr val="f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00960" y="5856120"/>
              <a:ext cx="36360" cy="758880"/>
            </a:xfrm>
            <a:custGeom>
              <a:avLst/>
              <a:gdLst/>
              <a:ahLst/>
              <a:rect l="l" t="t" r="r" b="b"/>
              <a:pathLst>
                <a:path w="45" h="956">
                  <a:moveTo>
                    <a:pt x="0" y="0"/>
                  </a:moveTo>
                  <a:lnTo>
                    <a:pt x="0" y="952"/>
                  </a:lnTo>
                  <a:lnTo>
                    <a:pt x="45" y="956"/>
                  </a:lnTo>
                  <a:lnTo>
                    <a:pt x="4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e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73840" y="5749920"/>
              <a:ext cx="27000" cy="77760"/>
            </a:xfrm>
            <a:custGeom>
              <a:avLst/>
              <a:gdLst/>
              <a:ahLst/>
              <a:rect l="l" t="t" r="r" b="b"/>
              <a:pathLst>
                <a:path w="33" h="98">
                  <a:moveTo>
                    <a:pt x="0" y="0"/>
                  </a:moveTo>
                  <a:lnTo>
                    <a:pt x="1" y="10"/>
                  </a:lnTo>
                  <a:lnTo>
                    <a:pt x="4" y="21"/>
                  </a:lnTo>
                  <a:lnTo>
                    <a:pt x="6" y="31"/>
                  </a:lnTo>
                  <a:lnTo>
                    <a:pt x="7" y="43"/>
                  </a:lnTo>
                  <a:lnTo>
                    <a:pt x="8" y="53"/>
                  </a:lnTo>
                  <a:lnTo>
                    <a:pt x="10" y="65"/>
                  </a:lnTo>
                  <a:lnTo>
                    <a:pt x="11" y="78"/>
                  </a:lnTo>
                  <a:lnTo>
                    <a:pt x="14" y="92"/>
                  </a:lnTo>
                  <a:lnTo>
                    <a:pt x="16" y="98"/>
                  </a:lnTo>
                  <a:lnTo>
                    <a:pt x="23" y="98"/>
                  </a:lnTo>
                  <a:lnTo>
                    <a:pt x="30" y="92"/>
                  </a:lnTo>
                  <a:lnTo>
                    <a:pt x="33" y="87"/>
                  </a:lnTo>
                  <a:lnTo>
                    <a:pt x="29" y="68"/>
                  </a:lnTo>
                  <a:lnTo>
                    <a:pt x="24" y="55"/>
                  </a:lnTo>
                  <a:lnTo>
                    <a:pt x="22" y="40"/>
                  </a:lnTo>
                  <a:lnTo>
                    <a:pt x="19" y="31"/>
                  </a:lnTo>
                  <a:lnTo>
                    <a:pt x="14" y="21"/>
                  </a:lnTo>
                  <a:lnTo>
                    <a:pt x="11" y="13"/>
                  </a:lnTo>
                  <a:lnTo>
                    <a:pt x="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04000" y="5910120"/>
              <a:ext cx="90360" cy="177840"/>
            </a:xfrm>
            <a:custGeom>
              <a:avLst/>
              <a:gdLst/>
              <a:ahLst/>
              <a:rect l="l" t="t" r="r" b="b"/>
              <a:pathLst>
                <a:path w="115" h="224">
                  <a:moveTo>
                    <a:pt x="6" y="0"/>
                  </a:moveTo>
                  <a:lnTo>
                    <a:pt x="7" y="15"/>
                  </a:lnTo>
                  <a:lnTo>
                    <a:pt x="12" y="43"/>
                  </a:lnTo>
                  <a:lnTo>
                    <a:pt x="16" y="76"/>
                  </a:lnTo>
                  <a:lnTo>
                    <a:pt x="25" y="112"/>
                  </a:lnTo>
                  <a:lnTo>
                    <a:pt x="36" y="144"/>
                  </a:lnTo>
                  <a:lnTo>
                    <a:pt x="54" y="168"/>
                  </a:lnTo>
                  <a:lnTo>
                    <a:pt x="80" y="178"/>
                  </a:lnTo>
                  <a:lnTo>
                    <a:pt x="115" y="170"/>
                  </a:lnTo>
                  <a:lnTo>
                    <a:pt x="112" y="182"/>
                  </a:lnTo>
                  <a:lnTo>
                    <a:pt x="109" y="194"/>
                  </a:lnTo>
                  <a:lnTo>
                    <a:pt x="103" y="202"/>
                  </a:lnTo>
                  <a:lnTo>
                    <a:pt x="96" y="213"/>
                  </a:lnTo>
                  <a:lnTo>
                    <a:pt x="86" y="217"/>
                  </a:lnTo>
                  <a:lnTo>
                    <a:pt x="77" y="221"/>
                  </a:lnTo>
                  <a:lnTo>
                    <a:pt x="67" y="223"/>
                  </a:lnTo>
                  <a:lnTo>
                    <a:pt x="58" y="224"/>
                  </a:lnTo>
                  <a:lnTo>
                    <a:pt x="39" y="211"/>
                  </a:lnTo>
                  <a:lnTo>
                    <a:pt x="26" y="191"/>
                  </a:lnTo>
                  <a:lnTo>
                    <a:pt x="16" y="160"/>
                  </a:lnTo>
                  <a:lnTo>
                    <a:pt x="9" y="127"/>
                  </a:lnTo>
                  <a:lnTo>
                    <a:pt x="3" y="89"/>
                  </a:lnTo>
                  <a:lnTo>
                    <a:pt x="0" y="54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64480" y="5940360"/>
              <a:ext cx="95040" cy="17784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67" y="0"/>
                  </a:moveTo>
                  <a:lnTo>
                    <a:pt x="67" y="11"/>
                  </a:lnTo>
                  <a:lnTo>
                    <a:pt x="70" y="29"/>
                  </a:lnTo>
                  <a:lnTo>
                    <a:pt x="71" y="49"/>
                  </a:lnTo>
                  <a:lnTo>
                    <a:pt x="77" y="69"/>
                  </a:lnTo>
                  <a:lnTo>
                    <a:pt x="83" y="85"/>
                  </a:lnTo>
                  <a:lnTo>
                    <a:pt x="92" y="98"/>
                  </a:lnTo>
                  <a:lnTo>
                    <a:pt x="103" y="103"/>
                  </a:lnTo>
                  <a:lnTo>
                    <a:pt x="121" y="98"/>
                  </a:lnTo>
                  <a:lnTo>
                    <a:pt x="121" y="116"/>
                  </a:lnTo>
                  <a:lnTo>
                    <a:pt x="116" y="139"/>
                  </a:lnTo>
                  <a:lnTo>
                    <a:pt x="108" y="162"/>
                  </a:lnTo>
                  <a:lnTo>
                    <a:pt x="96" y="186"/>
                  </a:lnTo>
                  <a:lnTo>
                    <a:pt x="79" y="205"/>
                  </a:lnTo>
                  <a:lnTo>
                    <a:pt x="58" y="218"/>
                  </a:lnTo>
                  <a:lnTo>
                    <a:pt x="36" y="223"/>
                  </a:lnTo>
                  <a:lnTo>
                    <a:pt x="12" y="219"/>
                  </a:lnTo>
                  <a:lnTo>
                    <a:pt x="4" y="218"/>
                  </a:lnTo>
                  <a:lnTo>
                    <a:pt x="0" y="219"/>
                  </a:lnTo>
                  <a:lnTo>
                    <a:pt x="22" y="202"/>
                  </a:lnTo>
                  <a:lnTo>
                    <a:pt x="39" y="177"/>
                  </a:lnTo>
                  <a:lnTo>
                    <a:pt x="52" y="145"/>
                  </a:lnTo>
                  <a:lnTo>
                    <a:pt x="61" y="113"/>
                  </a:lnTo>
                  <a:lnTo>
                    <a:pt x="66" y="78"/>
                  </a:lnTo>
                  <a:lnTo>
                    <a:pt x="68" y="46"/>
                  </a:lnTo>
                  <a:lnTo>
                    <a:pt x="67" y="19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76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aves.wav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underwater%20pop.wav" TargetMode="External"/><Relationship Id="rId5" Type="http://schemas.openxmlformats.org/officeDocument/2006/relationships/image" Target="../media/image9.wmf"/><Relationship Id="rId6" Type="http://schemas.openxmlformats.org/officeDocument/2006/relationships/audio" Target="../media/submarine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audio" Target="../media/drip.wav"/><Relationship Id="rId11" Type="http://schemas.openxmlformats.org/officeDocument/2006/relationships/audio" Target="../media/drip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underwater%20pop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underwater%20pop.wav" TargetMode="External"/><Relationship Id="rId5" Type="http://schemas.openxmlformats.org/officeDocument/2006/relationships/image" Target="../media/image10.wmf"/><Relationship Id="rId6" Type="http://schemas.openxmlformats.org/officeDocument/2006/relationships/audio" Target="../media/swim2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audio" Target="../media/drip.wav"/><Relationship Id="rId11" Type="http://schemas.openxmlformats.org/officeDocument/2006/relationships/audio" Target="../media/drip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underwater%20pop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audio" Target="../media/swim2.wav"/><Relationship Id="rId6" Type="http://schemas.openxmlformats.org/officeDocument/2006/relationships/audio" Target="../media/splash1.wav"/><Relationship Id="rId7" Type="http://schemas.openxmlformats.org/officeDocument/2006/relationships/audio" Target="../media/pinball%20bubbles.wav"/><Relationship Id="rId8" Type="http://schemas.openxmlformats.org/officeDocument/2006/relationships/audio" Target="../media/boat.wav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fast%20bubbles.wav"/><Relationship Id="rId3" Type="http://schemas.openxmlformats.org/officeDocument/2006/relationships/audio" Target="../media/pinball%20bubbl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underwater%20pop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image" Target="../media/image8.wmf"/><Relationship Id="rId6" Type="http://schemas.openxmlformats.org/officeDocument/2006/relationships/audio" Target="../media/crab2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audio" Target="../media/drip.wav"/><Relationship Id="rId11" Type="http://schemas.openxmlformats.org/officeDocument/2006/relationships/audio" Target="../media/drip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underwater%20pop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underwater%20pop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bubbles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audio" Target="../media/drip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nderwater%20pop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underwater%20pop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fast%20bubbles.wav"/><Relationship Id="rId3" Type="http://schemas.openxmlformats.org/officeDocument/2006/relationships/audio" Target="../media/pinball%20bubbl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underwater%20pop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Sunken Millions Simple Machines</a:t>
            </a: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rs. Pric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de 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wipe dir="d"/>
    <p:sndAc>
      <p:stSnd>
        <p:snd r:embed="rId1" name="wav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4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xample of a compound mach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Light bul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C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Door kn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nextslide"/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Wheel ba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-3263760" y="2286000"/>
            <a:ext cx="3263760" cy="315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bmar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6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2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8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4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6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_____________ has few or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ng par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" action="ppaction://hlinkshowjump?jump=nextslide"/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pl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G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L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8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ght Bulb is an example of what kind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machin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W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None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nextslide"/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Sc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2819520" y="4218120"/>
            <a:ext cx="1865160" cy="2639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wim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1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7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3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10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two kinds of pulle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abl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Mo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" action="ppaction://hlinkshowjump?jump=nextslide"/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Movable and f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Fixed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Mov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None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8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4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6583320" y="4510080"/>
            <a:ext cx="2545920" cy="2241360"/>
            <a:chOff x="6583320" y="4510080"/>
            <a:chExt cx="2545920" cy="2241360"/>
          </a:xfrm>
        </p:grpSpPr>
        <p:grpSp>
          <p:nvGrpSpPr>
            <p:cNvPr id="528" name=""/>
            <p:cNvGrpSpPr/>
            <p:nvPr/>
          </p:nvGrpSpPr>
          <p:grpSpPr>
            <a:xfrm>
              <a:off x="6583320" y="4510080"/>
              <a:ext cx="2545920" cy="2238120"/>
              <a:chOff x="6583320" y="4510080"/>
              <a:chExt cx="2545920" cy="223812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6819480" y="6343560"/>
                <a:ext cx="819000" cy="404640"/>
              </a:xfrm>
              <a:custGeom>
                <a:avLst/>
                <a:gdLst/>
                <a:ahLst/>
                <a:rect l="l" t="t" r="r" b="b"/>
                <a:pathLst>
                  <a:path w="1034" h="508">
                    <a:moveTo>
                      <a:pt x="265" y="118"/>
                    </a:moveTo>
                    <a:lnTo>
                      <a:pt x="246" y="132"/>
                    </a:lnTo>
                    <a:lnTo>
                      <a:pt x="232" y="148"/>
                    </a:lnTo>
                    <a:lnTo>
                      <a:pt x="219" y="164"/>
                    </a:lnTo>
                    <a:lnTo>
                      <a:pt x="209" y="182"/>
                    </a:lnTo>
                    <a:lnTo>
                      <a:pt x="198" y="199"/>
                    </a:lnTo>
                    <a:lnTo>
                      <a:pt x="189" y="218"/>
                    </a:lnTo>
                    <a:lnTo>
                      <a:pt x="178" y="236"/>
                    </a:lnTo>
                    <a:lnTo>
                      <a:pt x="165" y="257"/>
                    </a:lnTo>
                    <a:lnTo>
                      <a:pt x="185" y="266"/>
                    </a:lnTo>
                    <a:lnTo>
                      <a:pt x="199" y="275"/>
                    </a:lnTo>
                    <a:lnTo>
                      <a:pt x="207" y="279"/>
                    </a:lnTo>
                    <a:lnTo>
                      <a:pt x="214" y="281"/>
                    </a:lnTo>
                    <a:lnTo>
                      <a:pt x="220" y="279"/>
                    </a:lnTo>
                    <a:lnTo>
                      <a:pt x="229" y="275"/>
                    </a:lnTo>
                    <a:lnTo>
                      <a:pt x="243" y="266"/>
                    </a:lnTo>
                    <a:lnTo>
                      <a:pt x="265" y="257"/>
                    </a:lnTo>
                    <a:lnTo>
                      <a:pt x="265" y="332"/>
                    </a:lnTo>
                    <a:lnTo>
                      <a:pt x="239" y="344"/>
                    </a:lnTo>
                    <a:lnTo>
                      <a:pt x="217" y="355"/>
                    </a:lnTo>
                    <a:lnTo>
                      <a:pt x="194" y="366"/>
                    </a:lnTo>
                    <a:lnTo>
                      <a:pt x="174" y="376"/>
                    </a:lnTo>
                    <a:lnTo>
                      <a:pt x="151" y="383"/>
                    </a:lnTo>
                    <a:lnTo>
                      <a:pt x="128" y="390"/>
                    </a:lnTo>
                    <a:lnTo>
                      <a:pt x="103" y="393"/>
                    </a:lnTo>
                    <a:lnTo>
                      <a:pt x="77" y="395"/>
                    </a:lnTo>
                    <a:lnTo>
                      <a:pt x="61" y="395"/>
                    </a:lnTo>
                    <a:lnTo>
                      <a:pt x="46" y="398"/>
                    </a:lnTo>
                    <a:lnTo>
                      <a:pt x="33" y="404"/>
                    </a:lnTo>
                    <a:lnTo>
                      <a:pt x="22" y="411"/>
                    </a:lnTo>
                    <a:lnTo>
                      <a:pt x="12" y="420"/>
                    </a:lnTo>
                    <a:lnTo>
                      <a:pt x="6" y="431"/>
                    </a:lnTo>
                    <a:lnTo>
                      <a:pt x="1" y="444"/>
                    </a:lnTo>
                    <a:lnTo>
                      <a:pt x="0" y="458"/>
                    </a:lnTo>
                    <a:lnTo>
                      <a:pt x="0" y="476"/>
                    </a:lnTo>
                    <a:lnTo>
                      <a:pt x="4" y="490"/>
                    </a:lnTo>
                    <a:lnTo>
                      <a:pt x="9" y="498"/>
                    </a:lnTo>
                    <a:lnTo>
                      <a:pt x="18" y="505"/>
                    </a:lnTo>
                    <a:lnTo>
                      <a:pt x="27" y="507"/>
                    </a:lnTo>
                    <a:lnTo>
                      <a:pt x="41" y="508"/>
                    </a:lnTo>
                    <a:lnTo>
                      <a:pt x="57" y="508"/>
                    </a:lnTo>
                    <a:lnTo>
                      <a:pt x="77" y="508"/>
                    </a:lnTo>
                    <a:lnTo>
                      <a:pt x="98" y="506"/>
                    </a:lnTo>
                    <a:lnTo>
                      <a:pt x="113" y="500"/>
                    </a:lnTo>
                    <a:lnTo>
                      <a:pt x="122" y="492"/>
                    </a:lnTo>
                    <a:lnTo>
                      <a:pt x="127" y="482"/>
                    </a:lnTo>
                    <a:lnTo>
                      <a:pt x="129" y="469"/>
                    </a:lnTo>
                    <a:lnTo>
                      <a:pt x="134" y="458"/>
                    </a:lnTo>
                    <a:lnTo>
                      <a:pt x="140" y="445"/>
                    </a:lnTo>
                    <a:lnTo>
                      <a:pt x="152" y="433"/>
                    </a:lnTo>
                    <a:lnTo>
                      <a:pt x="170" y="418"/>
                    </a:lnTo>
                    <a:lnTo>
                      <a:pt x="203" y="401"/>
                    </a:lnTo>
                    <a:lnTo>
                      <a:pt x="241" y="379"/>
                    </a:lnTo>
                    <a:lnTo>
                      <a:pt x="286" y="359"/>
                    </a:lnTo>
                    <a:lnTo>
                      <a:pt x="332" y="338"/>
                    </a:lnTo>
                    <a:lnTo>
                      <a:pt x="376" y="322"/>
                    </a:lnTo>
                    <a:lnTo>
                      <a:pt x="412" y="310"/>
                    </a:lnTo>
                    <a:lnTo>
                      <a:pt x="441" y="307"/>
                    </a:lnTo>
                    <a:lnTo>
                      <a:pt x="470" y="308"/>
                    </a:lnTo>
                    <a:lnTo>
                      <a:pt x="486" y="314"/>
                    </a:lnTo>
                    <a:lnTo>
                      <a:pt x="492" y="322"/>
                    </a:lnTo>
                    <a:lnTo>
                      <a:pt x="491" y="333"/>
                    </a:lnTo>
                    <a:lnTo>
                      <a:pt x="485" y="345"/>
                    </a:lnTo>
                    <a:lnTo>
                      <a:pt x="481" y="358"/>
                    </a:lnTo>
                    <a:lnTo>
                      <a:pt x="481" y="369"/>
                    </a:lnTo>
                    <a:lnTo>
                      <a:pt x="492" y="382"/>
                    </a:lnTo>
                    <a:lnTo>
                      <a:pt x="514" y="397"/>
                    </a:lnTo>
                    <a:lnTo>
                      <a:pt x="539" y="409"/>
                    </a:lnTo>
                    <a:lnTo>
                      <a:pt x="563" y="418"/>
                    </a:lnTo>
                    <a:lnTo>
                      <a:pt x="588" y="425"/>
                    </a:lnTo>
                    <a:lnTo>
                      <a:pt x="611" y="429"/>
                    </a:lnTo>
                    <a:lnTo>
                      <a:pt x="635" y="431"/>
                    </a:lnTo>
                    <a:lnTo>
                      <a:pt x="657" y="432"/>
                    </a:lnTo>
                    <a:lnTo>
                      <a:pt x="681" y="433"/>
                    </a:lnTo>
                    <a:lnTo>
                      <a:pt x="681" y="434"/>
                    </a:lnTo>
                    <a:lnTo>
                      <a:pt x="684" y="440"/>
                    </a:lnTo>
                    <a:lnTo>
                      <a:pt x="689" y="448"/>
                    </a:lnTo>
                    <a:lnTo>
                      <a:pt x="696" y="458"/>
                    </a:lnTo>
                    <a:lnTo>
                      <a:pt x="705" y="466"/>
                    </a:lnTo>
                    <a:lnTo>
                      <a:pt x="716" y="475"/>
                    </a:lnTo>
                    <a:lnTo>
                      <a:pt x="727" y="480"/>
                    </a:lnTo>
                    <a:lnTo>
                      <a:pt x="744" y="483"/>
                    </a:lnTo>
                    <a:lnTo>
                      <a:pt x="767" y="481"/>
                    </a:lnTo>
                    <a:lnTo>
                      <a:pt x="782" y="477"/>
                    </a:lnTo>
                    <a:lnTo>
                      <a:pt x="791" y="470"/>
                    </a:lnTo>
                    <a:lnTo>
                      <a:pt x="797" y="464"/>
                    </a:lnTo>
                    <a:lnTo>
                      <a:pt x="802" y="456"/>
                    </a:lnTo>
                    <a:lnTo>
                      <a:pt x="809" y="451"/>
                    </a:lnTo>
                    <a:lnTo>
                      <a:pt x="822" y="447"/>
                    </a:lnTo>
                    <a:lnTo>
                      <a:pt x="845" y="446"/>
                    </a:lnTo>
                    <a:lnTo>
                      <a:pt x="858" y="447"/>
                    </a:lnTo>
                    <a:lnTo>
                      <a:pt x="873" y="453"/>
                    </a:lnTo>
                    <a:lnTo>
                      <a:pt x="887" y="461"/>
                    </a:lnTo>
                    <a:lnTo>
                      <a:pt x="904" y="470"/>
                    </a:lnTo>
                    <a:lnTo>
                      <a:pt x="922" y="479"/>
                    </a:lnTo>
                    <a:lnTo>
                      <a:pt x="944" y="488"/>
                    </a:lnTo>
                    <a:lnTo>
                      <a:pt x="967" y="493"/>
                    </a:lnTo>
                    <a:lnTo>
                      <a:pt x="996" y="496"/>
                    </a:lnTo>
                    <a:lnTo>
                      <a:pt x="1004" y="494"/>
                    </a:lnTo>
                    <a:lnTo>
                      <a:pt x="1011" y="491"/>
                    </a:lnTo>
                    <a:lnTo>
                      <a:pt x="1017" y="484"/>
                    </a:lnTo>
                    <a:lnTo>
                      <a:pt x="1023" y="479"/>
                    </a:lnTo>
                    <a:lnTo>
                      <a:pt x="1026" y="470"/>
                    </a:lnTo>
                    <a:lnTo>
                      <a:pt x="1031" y="463"/>
                    </a:lnTo>
                    <a:lnTo>
                      <a:pt x="1033" y="454"/>
                    </a:lnTo>
                    <a:lnTo>
                      <a:pt x="1034" y="446"/>
                    </a:lnTo>
                    <a:lnTo>
                      <a:pt x="1031" y="419"/>
                    </a:lnTo>
                    <a:lnTo>
                      <a:pt x="1024" y="403"/>
                    </a:lnTo>
                    <a:lnTo>
                      <a:pt x="1015" y="395"/>
                    </a:lnTo>
                    <a:lnTo>
                      <a:pt x="1003" y="394"/>
                    </a:lnTo>
                    <a:lnTo>
                      <a:pt x="989" y="395"/>
                    </a:lnTo>
                    <a:lnTo>
                      <a:pt x="974" y="401"/>
                    </a:lnTo>
                    <a:lnTo>
                      <a:pt x="959" y="405"/>
                    </a:lnTo>
                    <a:lnTo>
                      <a:pt x="946" y="407"/>
                    </a:lnTo>
                    <a:lnTo>
                      <a:pt x="926" y="405"/>
                    </a:lnTo>
                    <a:lnTo>
                      <a:pt x="910" y="399"/>
                    </a:lnTo>
                    <a:lnTo>
                      <a:pt x="894" y="392"/>
                    </a:lnTo>
                    <a:lnTo>
                      <a:pt x="880" y="383"/>
                    </a:lnTo>
                    <a:lnTo>
                      <a:pt x="866" y="373"/>
                    </a:lnTo>
                    <a:lnTo>
                      <a:pt x="854" y="363"/>
                    </a:lnTo>
                    <a:lnTo>
                      <a:pt x="841" y="353"/>
                    </a:lnTo>
                    <a:lnTo>
                      <a:pt x="832" y="345"/>
                    </a:lnTo>
                    <a:lnTo>
                      <a:pt x="841" y="332"/>
                    </a:lnTo>
                    <a:lnTo>
                      <a:pt x="851" y="321"/>
                    </a:lnTo>
                    <a:lnTo>
                      <a:pt x="859" y="309"/>
                    </a:lnTo>
                    <a:lnTo>
                      <a:pt x="866" y="298"/>
                    </a:lnTo>
                    <a:lnTo>
                      <a:pt x="873" y="286"/>
                    </a:lnTo>
                    <a:lnTo>
                      <a:pt x="879" y="274"/>
                    </a:lnTo>
                    <a:lnTo>
                      <a:pt x="887" y="259"/>
                    </a:lnTo>
                    <a:lnTo>
                      <a:pt x="895" y="244"/>
                    </a:lnTo>
                    <a:lnTo>
                      <a:pt x="877" y="232"/>
                    </a:lnTo>
                    <a:lnTo>
                      <a:pt x="863" y="218"/>
                    </a:lnTo>
                    <a:lnTo>
                      <a:pt x="848" y="202"/>
                    </a:lnTo>
                    <a:lnTo>
                      <a:pt x="834" y="186"/>
                    </a:lnTo>
                    <a:lnTo>
                      <a:pt x="817" y="168"/>
                    </a:lnTo>
                    <a:lnTo>
                      <a:pt x="796" y="153"/>
                    </a:lnTo>
                    <a:lnTo>
                      <a:pt x="773" y="141"/>
                    </a:lnTo>
                    <a:lnTo>
                      <a:pt x="744" y="131"/>
                    </a:lnTo>
                    <a:lnTo>
                      <a:pt x="763" y="116"/>
                    </a:lnTo>
                    <a:lnTo>
                      <a:pt x="783" y="103"/>
                    </a:lnTo>
                    <a:lnTo>
                      <a:pt x="804" y="91"/>
                    </a:lnTo>
                    <a:lnTo>
                      <a:pt x="825" y="80"/>
                    </a:lnTo>
                    <a:lnTo>
                      <a:pt x="845" y="69"/>
                    </a:lnTo>
                    <a:lnTo>
                      <a:pt x="866" y="57"/>
                    </a:lnTo>
                    <a:lnTo>
                      <a:pt x="887" y="43"/>
                    </a:lnTo>
                    <a:lnTo>
                      <a:pt x="908" y="30"/>
                    </a:lnTo>
                    <a:lnTo>
                      <a:pt x="863" y="15"/>
                    </a:lnTo>
                    <a:lnTo>
                      <a:pt x="819" y="5"/>
                    </a:lnTo>
                    <a:lnTo>
                      <a:pt x="774" y="1"/>
                    </a:lnTo>
                    <a:lnTo>
                      <a:pt x="730" y="0"/>
                    </a:lnTo>
                    <a:lnTo>
                      <a:pt x="683" y="0"/>
                    </a:lnTo>
                    <a:lnTo>
                      <a:pt x="637" y="2"/>
                    </a:lnTo>
                    <a:lnTo>
                      <a:pt x="590" y="3"/>
                    </a:lnTo>
                    <a:lnTo>
                      <a:pt x="542" y="5"/>
                    </a:lnTo>
                    <a:lnTo>
                      <a:pt x="514" y="16"/>
                    </a:lnTo>
                    <a:lnTo>
                      <a:pt x="489" y="26"/>
                    </a:lnTo>
                    <a:lnTo>
                      <a:pt x="463" y="31"/>
                    </a:lnTo>
                    <a:lnTo>
                      <a:pt x="438" y="37"/>
                    </a:lnTo>
                    <a:lnTo>
                      <a:pt x="412" y="42"/>
                    </a:lnTo>
                    <a:lnTo>
                      <a:pt x="389" y="49"/>
                    </a:lnTo>
                    <a:lnTo>
                      <a:pt x="365" y="57"/>
                    </a:lnTo>
                    <a:lnTo>
                      <a:pt x="341" y="67"/>
                    </a:lnTo>
                    <a:lnTo>
                      <a:pt x="265" y="118"/>
                    </a:lnTo>
                    <a:close/>
                  </a:path>
                </a:pathLst>
              </a:custGeom>
              <a:solidFill>
                <a:srgbClr val="ffffb3"/>
              </a:solidFill>
              <a:ln w="1440">
                <a:solidFill>
                  <a:srgbClr val="e6ff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6582960" y="5284800"/>
                <a:ext cx="2153880" cy="804600"/>
              </a:xfrm>
              <a:custGeom>
                <a:avLst/>
                <a:gdLst/>
                <a:ahLst/>
                <a:rect l="l" t="t" r="r" b="b"/>
                <a:pathLst>
                  <a:path w="2715" h="1014">
                    <a:moveTo>
                      <a:pt x="0" y="432"/>
                    </a:moveTo>
                    <a:lnTo>
                      <a:pt x="1860" y="0"/>
                    </a:lnTo>
                    <a:lnTo>
                      <a:pt x="2715" y="382"/>
                    </a:lnTo>
                    <a:lnTo>
                      <a:pt x="985" y="1014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e6cc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7954560" y="5627520"/>
                <a:ext cx="782280" cy="1074600"/>
              </a:xfrm>
              <a:custGeom>
                <a:avLst/>
                <a:gdLst/>
                <a:ahLst/>
                <a:rect l="l" t="t" r="r" b="b"/>
                <a:pathLst>
                  <a:path w="985" h="1355">
                    <a:moveTo>
                      <a:pt x="0" y="0"/>
                    </a:moveTo>
                    <a:lnTo>
                      <a:pt x="91" y="813"/>
                    </a:lnTo>
                    <a:lnTo>
                      <a:pt x="946" y="1355"/>
                    </a:lnTo>
                    <a:lnTo>
                      <a:pt x="985" y="5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6583320" y="5586120"/>
                <a:ext cx="1403280" cy="1116000"/>
              </a:xfrm>
              <a:custGeom>
                <a:avLst/>
                <a:gdLst/>
                <a:ahLst/>
                <a:rect l="l" t="t" r="r" b="b"/>
                <a:pathLst>
                  <a:path w="1769" h="1405">
                    <a:moveTo>
                      <a:pt x="39" y="632"/>
                    </a:moveTo>
                    <a:lnTo>
                      <a:pt x="1769" y="0"/>
                    </a:lnTo>
                    <a:lnTo>
                      <a:pt x="1628" y="652"/>
                    </a:lnTo>
                    <a:lnTo>
                      <a:pt x="0" y="1405"/>
                    </a:lnTo>
                    <a:lnTo>
                      <a:pt x="39" y="632"/>
                    </a:lnTo>
                    <a:close/>
                  </a:path>
                </a:pathLst>
              </a:custGeom>
              <a:solidFill>
                <a:srgbClr val="e6cc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292880" y="4646520"/>
                <a:ext cx="1596960" cy="923760"/>
              </a:xfrm>
              <a:custGeom>
                <a:avLst/>
                <a:gdLst/>
                <a:ahLst/>
                <a:rect l="l" t="t" r="r" b="b"/>
                <a:pathLst>
                  <a:path w="2011" h="1165">
                    <a:moveTo>
                      <a:pt x="2011" y="763"/>
                    </a:moveTo>
                    <a:lnTo>
                      <a:pt x="1840" y="0"/>
                    </a:lnTo>
                    <a:lnTo>
                      <a:pt x="0" y="181"/>
                    </a:lnTo>
                    <a:lnTo>
                      <a:pt x="182" y="1165"/>
                    </a:lnTo>
                    <a:lnTo>
                      <a:pt x="2011" y="763"/>
                    </a:lnTo>
                    <a:close/>
                  </a:path>
                </a:pathLst>
              </a:custGeom>
              <a:solidFill>
                <a:srgbClr val="cc99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8745120" y="4789440"/>
                <a:ext cx="271080" cy="788760"/>
              </a:xfrm>
              <a:custGeom>
                <a:avLst/>
                <a:gdLst/>
                <a:ahLst/>
                <a:rect l="l" t="t" r="r" b="b"/>
                <a:pathLst>
                  <a:path w="342" h="995">
                    <a:moveTo>
                      <a:pt x="160" y="0"/>
                    </a:moveTo>
                    <a:lnTo>
                      <a:pt x="0" y="71"/>
                    </a:lnTo>
                    <a:lnTo>
                      <a:pt x="160" y="995"/>
                    </a:lnTo>
                    <a:lnTo>
                      <a:pt x="342" y="984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e6cc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8903880" y="4932360"/>
                <a:ext cx="225360" cy="574560"/>
              </a:xfrm>
              <a:custGeom>
                <a:avLst/>
                <a:gdLst/>
                <a:ahLst/>
                <a:rect l="l" t="t" r="r" b="b"/>
                <a:pathLst>
                  <a:path w="283" h="724">
                    <a:moveTo>
                      <a:pt x="151" y="0"/>
                    </a:moveTo>
                    <a:lnTo>
                      <a:pt x="134" y="48"/>
                    </a:lnTo>
                    <a:lnTo>
                      <a:pt x="108" y="82"/>
                    </a:lnTo>
                    <a:lnTo>
                      <a:pt x="79" y="109"/>
                    </a:lnTo>
                    <a:lnTo>
                      <a:pt x="50" y="136"/>
                    </a:lnTo>
                    <a:lnTo>
                      <a:pt x="23" y="168"/>
                    </a:lnTo>
                    <a:lnTo>
                      <a:pt x="6" y="212"/>
                    </a:lnTo>
                    <a:lnTo>
                      <a:pt x="0" y="274"/>
                    </a:lnTo>
                    <a:lnTo>
                      <a:pt x="10" y="362"/>
                    </a:lnTo>
                    <a:lnTo>
                      <a:pt x="33" y="446"/>
                    </a:lnTo>
                    <a:lnTo>
                      <a:pt x="65" y="504"/>
                    </a:lnTo>
                    <a:lnTo>
                      <a:pt x="102" y="542"/>
                    </a:lnTo>
                    <a:lnTo>
                      <a:pt x="143" y="569"/>
                    </a:lnTo>
                    <a:lnTo>
                      <a:pt x="183" y="591"/>
                    </a:lnTo>
                    <a:lnTo>
                      <a:pt x="221" y="619"/>
                    </a:lnTo>
                    <a:lnTo>
                      <a:pt x="255" y="660"/>
                    </a:lnTo>
                    <a:lnTo>
                      <a:pt x="283" y="724"/>
                    </a:lnTo>
                    <a:lnTo>
                      <a:pt x="271" y="633"/>
                    </a:lnTo>
                    <a:lnTo>
                      <a:pt x="252" y="525"/>
                    </a:lnTo>
                    <a:lnTo>
                      <a:pt x="231" y="405"/>
                    </a:lnTo>
                    <a:lnTo>
                      <a:pt x="208" y="286"/>
                    </a:lnTo>
                    <a:lnTo>
                      <a:pt x="186" y="176"/>
                    </a:lnTo>
                    <a:lnTo>
                      <a:pt x="169" y="84"/>
                    </a:lnTo>
                    <a:lnTo>
                      <a:pt x="156" y="23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cc99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499520" y="5979960"/>
                <a:ext cx="347040" cy="587520"/>
              </a:xfrm>
              <a:custGeom>
                <a:avLst/>
                <a:gdLst/>
                <a:ahLst/>
                <a:rect l="l" t="t" r="r" b="b"/>
                <a:pathLst>
                  <a:path w="438" h="739">
                    <a:moveTo>
                      <a:pt x="419" y="555"/>
                    </a:moveTo>
                    <a:lnTo>
                      <a:pt x="0" y="739"/>
                    </a:lnTo>
                    <a:lnTo>
                      <a:pt x="24" y="147"/>
                    </a:lnTo>
                    <a:lnTo>
                      <a:pt x="438" y="0"/>
                    </a:lnTo>
                    <a:lnTo>
                      <a:pt x="419" y="555"/>
                    </a:lnTo>
                    <a:close/>
                  </a:path>
                </a:pathLst>
              </a:custGeom>
              <a:solidFill>
                <a:srgbClr val="cc994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7102080" y="5825880"/>
                <a:ext cx="317160" cy="552600"/>
              </a:xfrm>
              <a:custGeom>
                <a:avLst/>
                <a:gdLst/>
                <a:ahLst/>
                <a:rect l="l" t="t" r="r" b="b"/>
                <a:pathLst>
                  <a:path w="401" h="697">
                    <a:moveTo>
                      <a:pt x="38" y="132"/>
                    </a:moveTo>
                    <a:lnTo>
                      <a:pt x="401" y="0"/>
                    </a:lnTo>
                    <a:lnTo>
                      <a:pt x="359" y="530"/>
                    </a:lnTo>
                    <a:lnTo>
                      <a:pt x="0" y="697"/>
                    </a:lnTo>
                    <a:lnTo>
                      <a:pt x="38" y="132"/>
                    </a:lnTo>
                    <a:close/>
                  </a:path>
                </a:pathLst>
              </a:custGeom>
              <a:solidFill>
                <a:srgbClr val="cc994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7505640" y="5984640"/>
                <a:ext cx="326880" cy="441360"/>
              </a:xfrm>
              <a:custGeom>
                <a:avLst/>
                <a:gdLst/>
                <a:ahLst/>
                <a:rect l="l" t="t" r="r" b="b"/>
                <a:pathLst>
                  <a:path w="413" h="557">
                    <a:moveTo>
                      <a:pt x="0" y="148"/>
                    </a:moveTo>
                    <a:lnTo>
                      <a:pt x="413" y="0"/>
                    </a:lnTo>
                    <a:lnTo>
                      <a:pt x="395" y="55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102080" y="5825880"/>
                <a:ext cx="286920" cy="420840"/>
              </a:xfrm>
              <a:custGeom>
                <a:avLst/>
                <a:gdLst/>
                <a:ahLst/>
                <a:rect l="l" t="t" r="r" b="b"/>
                <a:pathLst>
                  <a:path w="363" h="530">
                    <a:moveTo>
                      <a:pt x="0" y="132"/>
                    </a:moveTo>
                    <a:lnTo>
                      <a:pt x="363" y="0"/>
                    </a:lnTo>
                    <a:lnTo>
                      <a:pt x="321" y="53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7135920" y="5929200"/>
                <a:ext cx="283680" cy="449280"/>
              </a:xfrm>
              <a:custGeom>
                <a:avLst/>
                <a:gdLst/>
                <a:ahLst/>
                <a:rect l="l" t="t" r="r" b="b"/>
                <a:pathLst>
                  <a:path w="359" h="565">
                    <a:moveTo>
                      <a:pt x="359" y="398"/>
                    </a:moveTo>
                    <a:lnTo>
                      <a:pt x="0" y="565"/>
                    </a:lnTo>
                    <a:lnTo>
                      <a:pt x="3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6720120" y="5695920"/>
                <a:ext cx="277200" cy="398160"/>
              </a:xfrm>
              <a:custGeom>
                <a:avLst/>
                <a:gdLst/>
                <a:ahLst/>
                <a:rect l="l" t="t" r="r" b="b"/>
                <a:pathLst>
                  <a:path w="350" h="503">
                    <a:moveTo>
                      <a:pt x="0" y="115"/>
                    </a:moveTo>
                    <a:lnTo>
                      <a:pt x="350" y="0"/>
                    </a:lnTo>
                    <a:lnTo>
                      <a:pt x="289" y="50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6767640" y="5786280"/>
                <a:ext cx="267840" cy="414360"/>
              </a:xfrm>
              <a:custGeom>
                <a:avLst/>
                <a:gdLst/>
                <a:ahLst/>
                <a:rect l="l" t="t" r="r" b="b"/>
                <a:pathLst>
                  <a:path w="336" h="521">
                    <a:moveTo>
                      <a:pt x="336" y="388"/>
                    </a:moveTo>
                    <a:lnTo>
                      <a:pt x="0" y="521"/>
                    </a:lnTo>
                    <a:lnTo>
                      <a:pt x="4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8077320" y="5779800"/>
                <a:ext cx="547200" cy="443160"/>
              </a:xfrm>
              <a:custGeom>
                <a:avLst/>
                <a:gdLst/>
                <a:ahLst/>
                <a:rect l="l" t="t" r="r" b="b"/>
                <a:pathLst>
                  <a:path w="690" h="558">
                    <a:moveTo>
                      <a:pt x="690" y="409"/>
                    </a:moveTo>
                    <a:lnTo>
                      <a:pt x="0" y="0"/>
                    </a:lnTo>
                    <a:lnTo>
                      <a:pt x="62" y="5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8077320" y="5846760"/>
                <a:ext cx="514080" cy="685800"/>
              </a:xfrm>
              <a:custGeom>
                <a:avLst/>
                <a:gdLst/>
                <a:ahLst/>
                <a:rect l="l" t="t" r="r" b="b"/>
                <a:pathLst>
                  <a:path w="648" h="864">
                    <a:moveTo>
                      <a:pt x="20" y="473"/>
                    </a:moveTo>
                    <a:lnTo>
                      <a:pt x="22" y="485"/>
                    </a:lnTo>
                    <a:lnTo>
                      <a:pt x="620" y="864"/>
                    </a:lnTo>
                    <a:lnTo>
                      <a:pt x="648" y="324"/>
                    </a:lnTo>
                    <a:lnTo>
                      <a:pt x="0" y="0"/>
                    </a:lnTo>
                    <a:lnTo>
                      <a:pt x="20" y="473"/>
                    </a:lnTo>
                    <a:close/>
                  </a:path>
                </a:pathLst>
              </a:custGeom>
              <a:solidFill>
                <a:srgbClr val="80333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6688080" y="5321160"/>
                <a:ext cx="1938240" cy="723960"/>
              </a:xfrm>
              <a:custGeom>
                <a:avLst/>
                <a:gdLst/>
                <a:ahLst/>
                <a:rect l="l" t="t" r="r" b="b"/>
                <a:pathLst>
                  <a:path w="2443" h="913">
                    <a:moveTo>
                      <a:pt x="0" y="388"/>
                    </a:moveTo>
                    <a:lnTo>
                      <a:pt x="1674" y="0"/>
                    </a:lnTo>
                    <a:lnTo>
                      <a:pt x="2443" y="343"/>
                    </a:lnTo>
                    <a:lnTo>
                      <a:pt x="886" y="913"/>
                    </a:lnTo>
                    <a:lnTo>
                      <a:pt x="0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80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389720" y="4689360"/>
                <a:ext cx="1420560" cy="822240"/>
              </a:xfrm>
              <a:custGeom>
                <a:avLst/>
                <a:gdLst/>
                <a:ahLst/>
                <a:rect l="l" t="t" r="r" b="b"/>
                <a:pathLst>
                  <a:path w="1789" h="1037">
                    <a:moveTo>
                      <a:pt x="1789" y="680"/>
                    </a:moveTo>
                    <a:lnTo>
                      <a:pt x="1637" y="0"/>
                    </a:lnTo>
                    <a:lnTo>
                      <a:pt x="0" y="161"/>
                    </a:lnTo>
                    <a:lnTo>
                      <a:pt x="161" y="1037"/>
                    </a:lnTo>
                    <a:lnTo>
                      <a:pt x="1789" y="680"/>
                    </a:lnTo>
                    <a:close/>
                  </a:path>
                </a:pathLst>
              </a:custGeom>
              <a:solidFill>
                <a:srgbClr val="80333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389720" y="4689360"/>
                <a:ext cx="326880" cy="557280"/>
              </a:xfrm>
              <a:custGeom>
                <a:avLst/>
                <a:gdLst/>
                <a:ahLst/>
                <a:rect l="l" t="t" r="r" b="b"/>
                <a:pathLst>
                  <a:path w="410" h="703">
                    <a:moveTo>
                      <a:pt x="150" y="6"/>
                    </a:moveTo>
                    <a:lnTo>
                      <a:pt x="133" y="54"/>
                    </a:lnTo>
                    <a:lnTo>
                      <a:pt x="107" y="88"/>
                    </a:lnTo>
                    <a:lnTo>
                      <a:pt x="78" y="115"/>
                    </a:lnTo>
                    <a:lnTo>
                      <a:pt x="49" y="142"/>
                    </a:lnTo>
                    <a:lnTo>
                      <a:pt x="23" y="173"/>
                    </a:lnTo>
                    <a:lnTo>
                      <a:pt x="6" y="218"/>
                    </a:lnTo>
                    <a:lnTo>
                      <a:pt x="0" y="280"/>
                    </a:lnTo>
                    <a:lnTo>
                      <a:pt x="10" y="369"/>
                    </a:lnTo>
                    <a:lnTo>
                      <a:pt x="33" y="451"/>
                    </a:lnTo>
                    <a:lnTo>
                      <a:pt x="64" y="506"/>
                    </a:lnTo>
                    <a:lnTo>
                      <a:pt x="101" y="539"/>
                    </a:lnTo>
                    <a:lnTo>
                      <a:pt x="142" y="561"/>
                    </a:lnTo>
                    <a:lnTo>
                      <a:pt x="181" y="578"/>
                    </a:lnTo>
                    <a:lnTo>
                      <a:pt x="221" y="603"/>
                    </a:lnTo>
                    <a:lnTo>
                      <a:pt x="254" y="640"/>
                    </a:lnTo>
                    <a:lnTo>
                      <a:pt x="282" y="703"/>
                    </a:lnTo>
                    <a:lnTo>
                      <a:pt x="410" y="680"/>
                    </a:lnTo>
                    <a:lnTo>
                      <a:pt x="396" y="614"/>
                    </a:lnTo>
                    <a:lnTo>
                      <a:pt x="378" y="529"/>
                    </a:lnTo>
                    <a:lnTo>
                      <a:pt x="356" y="430"/>
                    </a:lnTo>
                    <a:lnTo>
                      <a:pt x="332" y="327"/>
                    </a:lnTo>
                    <a:lnTo>
                      <a:pt x="307" y="224"/>
                    </a:lnTo>
                    <a:lnTo>
                      <a:pt x="287" y="130"/>
                    </a:lnTo>
                    <a:lnTo>
                      <a:pt x="268" y="53"/>
                    </a:lnTo>
                    <a:lnTo>
                      <a:pt x="258" y="0"/>
                    </a:lnTo>
                    <a:lnTo>
                      <a:pt x="150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8925120" y="5018040"/>
                <a:ext cx="153360" cy="396720"/>
              </a:xfrm>
              <a:custGeom>
                <a:avLst/>
                <a:gdLst/>
                <a:ahLst/>
                <a:rect l="l" t="t" r="r" b="b"/>
                <a:pathLst>
                  <a:path w="195" h="498">
                    <a:moveTo>
                      <a:pt x="104" y="0"/>
                    </a:moveTo>
                    <a:lnTo>
                      <a:pt x="93" y="32"/>
                    </a:lnTo>
                    <a:lnTo>
                      <a:pt x="75" y="56"/>
                    </a:lnTo>
                    <a:lnTo>
                      <a:pt x="55" y="74"/>
                    </a:lnTo>
                    <a:lnTo>
                      <a:pt x="35" y="93"/>
                    </a:lnTo>
                    <a:lnTo>
                      <a:pt x="16" y="115"/>
                    </a:lnTo>
                    <a:lnTo>
                      <a:pt x="4" y="145"/>
                    </a:lnTo>
                    <a:lnTo>
                      <a:pt x="0" y="188"/>
                    </a:lnTo>
                    <a:lnTo>
                      <a:pt x="8" y="249"/>
                    </a:lnTo>
                    <a:lnTo>
                      <a:pt x="23" y="307"/>
                    </a:lnTo>
                    <a:lnTo>
                      <a:pt x="45" y="347"/>
                    </a:lnTo>
                    <a:lnTo>
                      <a:pt x="70" y="372"/>
                    </a:lnTo>
                    <a:lnTo>
                      <a:pt x="98" y="391"/>
                    </a:lnTo>
                    <a:lnTo>
                      <a:pt x="125" y="407"/>
                    </a:lnTo>
                    <a:lnTo>
                      <a:pt x="153" y="426"/>
                    </a:lnTo>
                    <a:lnTo>
                      <a:pt x="175" y="454"/>
                    </a:lnTo>
                    <a:lnTo>
                      <a:pt x="195" y="498"/>
                    </a:lnTo>
                    <a:lnTo>
                      <a:pt x="186" y="436"/>
                    </a:lnTo>
                    <a:lnTo>
                      <a:pt x="174" y="361"/>
                    </a:lnTo>
                    <a:lnTo>
                      <a:pt x="159" y="278"/>
                    </a:lnTo>
                    <a:lnTo>
                      <a:pt x="144" y="197"/>
                    </a:lnTo>
                    <a:lnTo>
                      <a:pt x="128" y="120"/>
                    </a:lnTo>
                    <a:lnTo>
                      <a:pt x="116" y="58"/>
                    </a:lnTo>
                    <a:lnTo>
                      <a:pt x="107" y="15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99320" y="4959360"/>
                <a:ext cx="1049040" cy="149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99320" y="4898880"/>
                <a:ext cx="1049040" cy="15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699320" y="4836960"/>
                <a:ext cx="1049040" cy="13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629840" y="4770360"/>
                <a:ext cx="1160280" cy="1490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78720" y="4719600"/>
                <a:ext cx="1220400" cy="160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78720" y="5089320"/>
                <a:ext cx="1141200" cy="189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30120" y="5178240"/>
                <a:ext cx="1169640" cy="231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8130960" y="4510080"/>
                <a:ext cx="358200" cy="199800"/>
              </a:xfrm>
              <a:custGeom>
                <a:avLst/>
                <a:gdLst/>
                <a:ahLst/>
                <a:rect l="l" t="t" r="r" b="b"/>
                <a:pathLst>
                  <a:path w="453" h="252">
                    <a:moveTo>
                      <a:pt x="453" y="239"/>
                    </a:moveTo>
                    <a:lnTo>
                      <a:pt x="265" y="51"/>
                    </a:lnTo>
                    <a:lnTo>
                      <a:pt x="113" y="0"/>
                    </a:lnTo>
                    <a:lnTo>
                      <a:pt x="0" y="12"/>
                    </a:lnTo>
                    <a:lnTo>
                      <a:pt x="113" y="89"/>
                    </a:lnTo>
                    <a:lnTo>
                      <a:pt x="252" y="252"/>
                    </a:lnTo>
                    <a:lnTo>
                      <a:pt x="453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cc99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8329680" y="4539960"/>
                <a:ext cx="60120" cy="30240"/>
              </a:xfrm>
              <a:prstGeom prst="line">
                <a:avLst/>
              </a:prstGeom>
              <a:ln w="7920">
                <a:solidFill>
                  <a:srgbClr val="ffff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8920080" y="487512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1" y="7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4"/>
                    </a:lnTo>
                    <a:lnTo>
                      <a:pt x="41" y="41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1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8903880" y="499104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2"/>
                    </a:lnTo>
                    <a:lnTo>
                      <a:pt x="25" y="0"/>
                    </a:lnTo>
                    <a:lnTo>
                      <a:pt x="34" y="2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8880120" y="50911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26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51" y="26"/>
                    </a:lnTo>
                    <a:lnTo>
                      <a:pt x="47" y="35"/>
                    </a:lnTo>
                    <a:lnTo>
                      <a:pt x="42" y="43"/>
                    </a:lnTo>
                    <a:lnTo>
                      <a:pt x="33" y="49"/>
                    </a:lnTo>
                    <a:lnTo>
                      <a:pt x="25" y="51"/>
                    </a:lnTo>
                    <a:lnTo>
                      <a:pt x="14" y="49"/>
                    </a:lnTo>
                    <a:lnTo>
                      <a:pt x="7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8864280" y="518940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50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8842320" y="530676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5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3" y="6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3" y="42"/>
                    </a:lnTo>
                    <a:lnTo>
                      <a:pt x="34" y="47"/>
                    </a:lnTo>
                    <a:lnTo>
                      <a:pt x="25" y="51"/>
                    </a:lnTo>
                    <a:lnTo>
                      <a:pt x="15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8832600" y="5394240"/>
                <a:ext cx="37800" cy="4104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6"/>
                    </a:moveTo>
                    <a:lnTo>
                      <a:pt x="1" y="15"/>
                    </a:lnTo>
                    <a:lnTo>
                      <a:pt x="6" y="7"/>
                    </a:lnTo>
                    <a:lnTo>
                      <a:pt x="13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1" y="7"/>
                    </a:lnTo>
                    <a:lnTo>
                      <a:pt x="47" y="15"/>
                    </a:lnTo>
                    <a:lnTo>
                      <a:pt x="49" y="26"/>
                    </a:lnTo>
                    <a:lnTo>
                      <a:pt x="47" y="34"/>
                    </a:lnTo>
                    <a:lnTo>
                      <a:pt x="41" y="43"/>
                    </a:lnTo>
                    <a:lnTo>
                      <a:pt x="33" y="48"/>
                    </a:lnTo>
                    <a:lnTo>
                      <a:pt x="24" y="50"/>
                    </a:lnTo>
                    <a:lnTo>
                      <a:pt x="13" y="48"/>
                    </a:lnTo>
                    <a:lnTo>
                      <a:pt x="6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8815320" y="548784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6"/>
                    </a:moveTo>
                    <a:lnTo>
                      <a:pt x="1" y="15"/>
                    </a:lnTo>
                    <a:lnTo>
                      <a:pt x="7" y="7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7"/>
                    </a:lnTo>
                    <a:lnTo>
                      <a:pt x="48" y="15"/>
                    </a:lnTo>
                    <a:lnTo>
                      <a:pt x="50" y="26"/>
                    </a:lnTo>
                    <a:lnTo>
                      <a:pt x="48" y="34"/>
                    </a:lnTo>
                    <a:lnTo>
                      <a:pt x="43" y="43"/>
                    </a:lnTo>
                    <a:lnTo>
                      <a:pt x="34" y="48"/>
                    </a:lnTo>
                    <a:lnTo>
                      <a:pt x="26" y="50"/>
                    </a:lnTo>
                    <a:lnTo>
                      <a:pt x="15" y="48"/>
                    </a:lnTo>
                    <a:lnTo>
                      <a:pt x="7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9020160" y="499716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8" y="24"/>
                    </a:lnTo>
                    <a:lnTo>
                      <a:pt x="46" y="32"/>
                    </a:lnTo>
                    <a:lnTo>
                      <a:pt x="41" y="41"/>
                    </a:lnTo>
                    <a:lnTo>
                      <a:pt x="33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6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9064440" y="5052960"/>
                <a:ext cx="39240" cy="381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3"/>
                    </a:lnTo>
                    <a:lnTo>
                      <a:pt x="41" y="41"/>
                    </a:lnTo>
                    <a:lnTo>
                      <a:pt x="33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6" y="41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9081720" y="513540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7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3"/>
                    </a:lnTo>
                    <a:lnTo>
                      <a:pt x="40" y="42"/>
                    </a:lnTo>
                    <a:lnTo>
                      <a:pt x="33" y="47"/>
                    </a:lnTo>
                    <a:lnTo>
                      <a:pt x="24" y="50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9070560" y="525132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2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2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9020160" y="5329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8665920" y="570528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9" y="24"/>
                    </a:lnTo>
                    <a:lnTo>
                      <a:pt x="46" y="32"/>
                    </a:lnTo>
                    <a:lnTo>
                      <a:pt x="41" y="41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8665920" y="580536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8643600" y="588780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8632440" y="596556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4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8626320" y="607032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8626320" y="61531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5"/>
                    </a:lnTo>
                    <a:lnTo>
                      <a:pt x="6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8615160" y="6215040"/>
                <a:ext cx="39240" cy="378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3" y="48"/>
                    </a:lnTo>
                    <a:lnTo>
                      <a:pt x="24" y="50"/>
                    </a:lnTo>
                    <a:lnTo>
                      <a:pt x="15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8554680" y="62751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23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40" y="6"/>
                    </a:lnTo>
                    <a:lnTo>
                      <a:pt x="45" y="14"/>
                    </a:lnTo>
                    <a:lnTo>
                      <a:pt x="47" y="23"/>
                    </a:lnTo>
                    <a:lnTo>
                      <a:pt x="45" y="32"/>
                    </a:lnTo>
                    <a:lnTo>
                      <a:pt x="40" y="40"/>
                    </a:lnTo>
                    <a:lnTo>
                      <a:pt x="32" y="45"/>
                    </a:lnTo>
                    <a:lnTo>
                      <a:pt x="24" y="47"/>
                    </a:lnTo>
                    <a:lnTo>
                      <a:pt x="14" y="45"/>
                    </a:lnTo>
                    <a:lnTo>
                      <a:pt x="7" y="40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466120" y="634176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3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6" y="32"/>
                    </a:lnTo>
                    <a:lnTo>
                      <a:pt x="41" y="40"/>
                    </a:lnTo>
                    <a:lnTo>
                      <a:pt x="32" y="46"/>
                    </a:lnTo>
                    <a:lnTo>
                      <a:pt x="24" y="48"/>
                    </a:lnTo>
                    <a:lnTo>
                      <a:pt x="14" y="46"/>
                    </a:lnTo>
                    <a:lnTo>
                      <a:pt x="6" y="40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8383320" y="63864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8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8267400" y="6453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2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1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2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8189640" y="65023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5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5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2" y="41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8094600" y="655128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8027640" y="65959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3" y="6"/>
                    </a:lnTo>
                    <a:lnTo>
                      <a:pt x="48" y="14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3" y="42"/>
                    </a:lnTo>
                    <a:lnTo>
                      <a:pt x="34" y="47"/>
                    </a:lnTo>
                    <a:lnTo>
                      <a:pt x="25" y="50"/>
                    </a:lnTo>
                    <a:lnTo>
                      <a:pt x="15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8022960" y="6497640"/>
                <a:ext cx="39240" cy="378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5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8018280" y="639108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2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2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8011800" y="62928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8007120" y="620388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2" y="14"/>
                    </a:lnTo>
                    <a:lnTo>
                      <a:pt x="8" y="7"/>
                    </a:lnTo>
                    <a:lnTo>
                      <a:pt x="16" y="2"/>
                    </a:lnTo>
                    <a:lnTo>
                      <a:pt x="25" y="0"/>
                    </a:lnTo>
                    <a:lnTo>
                      <a:pt x="34" y="2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6" y="48"/>
                    </a:lnTo>
                    <a:lnTo>
                      <a:pt x="8" y="42"/>
                    </a:lnTo>
                    <a:lnTo>
                      <a:pt x="2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8000640" y="6121080"/>
                <a:ext cx="39240" cy="381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24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7"/>
                    </a:lnTo>
                    <a:lnTo>
                      <a:pt x="46" y="14"/>
                    </a:lnTo>
                    <a:lnTo>
                      <a:pt x="48" y="24"/>
                    </a:lnTo>
                    <a:lnTo>
                      <a:pt x="46" y="32"/>
                    </a:lnTo>
                    <a:lnTo>
                      <a:pt x="41" y="41"/>
                    </a:lnTo>
                    <a:lnTo>
                      <a:pt x="33" y="46"/>
                    </a:lnTo>
                    <a:lnTo>
                      <a:pt x="25" y="49"/>
                    </a:lnTo>
                    <a:lnTo>
                      <a:pt x="14" y="46"/>
                    </a:lnTo>
                    <a:lnTo>
                      <a:pt x="6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8056800" y="603720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8" y="24"/>
                    </a:lnTo>
                    <a:lnTo>
                      <a:pt x="46" y="32"/>
                    </a:lnTo>
                    <a:lnTo>
                      <a:pt x="41" y="40"/>
                    </a:lnTo>
                    <a:lnTo>
                      <a:pt x="33" y="45"/>
                    </a:lnTo>
                    <a:lnTo>
                      <a:pt x="25" y="47"/>
                    </a:lnTo>
                    <a:lnTo>
                      <a:pt x="14" y="45"/>
                    </a:lnTo>
                    <a:lnTo>
                      <a:pt x="7" y="40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8167320" y="59544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2" y="41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294400" y="588168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6"/>
                    </a:moveTo>
                    <a:lnTo>
                      <a:pt x="1" y="15"/>
                    </a:lnTo>
                    <a:lnTo>
                      <a:pt x="6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2" y="43"/>
                    </a:lnTo>
                    <a:lnTo>
                      <a:pt x="33" y="49"/>
                    </a:lnTo>
                    <a:lnTo>
                      <a:pt x="25" y="51"/>
                    </a:lnTo>
                    <a:lnTo>
                      <a:pt x="14" y="49"/>
                    </a:lnTo>
                    <a:lnTo>
                      <a:pt x="6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8410320" y="5827680"/>
                <a:ext cx="39240" cy="378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4"/>
                    </a:lnTo>
                    <a:lnTo>
                      <a:pt x="47" y="33"/>
                    </a:lnTo>
                    <a:lnTo>
                      <a:pt x="42" y="41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5" y="47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8510400" y="576072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4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5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8577000" y="573228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26"/>
                    </a:moveTo>
                    <a:lnTo>
                      <a:pt x="1" y="15"/>
                    </a:lnTo>
                    <a:lnTo>
                      <a:pt x="8" y="8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8"/>
                    </a:lnTo>
                    <a:lnTo>
                      <a:pt x="48" y="15"/>
                    </a:lnTo>
                    <a:lnTo>
                      <a:pt x="51" y="26"/>
                    </a:lnTo>
                    <a:lnTo>
                      <a:pt x="48" y="35"/>
                    </a:lnTo>
                    <a:lnTo>
                      <a:pt x="43" y="43"/>
                    </a:lnTo>
                    <a:lnTo>
                      <a:pt x="34" y="49"/>
                    </a:lnTo>
                    <a:lnTo>
                      <a:pt x="26" y="51"/>
                    </a:lnTo>
                    <a:lnTo>
                      <a:pt x="15" y="49"/>
                    </a:lnTo>
                    <a:lnTo>
                      <a:pt x="8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873560" y="612108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7"/>
                    </a:lnTo>
                    <a:lnTo>
                      <a:pt x="45" y="14"/>
                    </a:lnTo>
                    <a:lnTo>
                      <a:pt x="48" y="24"/>
                    </a:lnTo>
                    <a:lnTo>
                      <a:pt x="45" y="32"/>
                    </a:lnTo>
                    <a:lnTo>
                      <a:pt x="40" y="41"/>
                    </a:lnTo>
                    <a:lnTo>
                      <a:pt x="33" y="46"/>
                    </a:lnTo>
                    <a:lnTo>
                      <a:pt x="24" y="49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7873560" y="622584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1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7878600" y="6330960"/>
                <a:ext cx="39240" cy="378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6"/>
                    </a:lnTo>
                    <a:lnTo>
                      <a:pt x="48" y="14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3" y="41"/>
                    </a:lnTo>
                    <a:lnTo>
                      <a:pt x="34" y="47"/>
                    </a:lnTo>
                    <a:lnTo>
                      <a:pt x="26" y="49"/>
                    </a:lnTo>
                    <a:lnTo>
                      <a:pt x="15" y="47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884720" y="643068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8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7895880" y="649764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1" y="41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900920" y="658008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3" y="48"/>
                    </a:lnTo>
                    <a:lnTo>
                      <a:pt x="24" y="50"/>
                    </a:lnTo>
                    <a:lnTo>
                      <a:pt x="15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791120" y="65736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3" y="0"/>
                    </a:lnTo>
                    <a:lnTo>
                      <a:pt x="32" y="1"/>
                    </a:lnTo>
                    <a:lnTo>
                      <a:pt x="39" y="6"/>
                    </a:lnTo>
                    <a:lnTo>
                      <a:pt x="45" y="14"/>
                    </a:lnTo>
                    <a:lnTo>
                      <a:pt x="47" y="24"/>
                    </a:lnTo>
                    <a:lnTo>
                      <a:pt x="45" y="32"/>
                    </a:lnTo>
                    <a:lnTo>
                      <a:pt x="39" y="40"/>
                    </a:lnTo>
                    <a:lnTo>
                      <a:pt x="32" y="45"/>
                    </a:lnTo>
                    <a:lnTo>
                      <a:pt x="23" y="47"/>
                    </a:lnTo>
                    <a:lnTo>
                      <a:pt x="14" y="45"/>
                    </a:lnTo>
                    <a:lnTo>
                      <a:pt x="6" y="40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7669440" y="651348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1" y="6"/>
                    </a:lnTo>
                    <a:lnTo>
                      <a:pt x="47" y="14"/>
                    </a:lnTo>
                    <a:lnTo>
                      <a:pt x="49" y="24"/>
                    </a:lnTo>
                    <a:lnTo>
                      <a:pt x="47" y="33"/>
                    </a:lnTo>
                    <a:lnTo>
                      <a:pt x="41" y="40"/>
                    </a:lnTo>
                    <a:lnTo>
                      <a:pt x="33" y="46"/>
                    </a:lnTo>
                    <a:lnTo>
                      <a:pt x="24" y="48"/>
                    </a:lnTo>
                    <a:lnTo>
                      <a:pt x="14" y="46"/>
                    </a:lnTo>
                    <a:lnTo>
                      <a:pt x="7" y="40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7596000" y="647352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26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49" y="26"/>
                    </a:lnTo>
                    <a:lnTo>
                      <a:pt x="47" y="34"/>
                    </a:lnTo>
                    <a:lnTo>
                      <a:pt x="42" y="43"/>
                    </a:lnTo>
                    <a:lnTo>
                      <a:pt x="33" y="48"/>
                    </a:lnTo>
                    <a:lnTo>
                      <a:pt x="24" y="51"/>
                    </a:lnTo>
                    <a:lnTo>
                      <a:pt x="15" y="48"/>
                    </a:lnTo>
                    <a:lnTo>
                      <a:pt x="7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7524720" y="64357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4"/>
                    </a:moveTo>
                    <a:lnTo>
                      <a:pt x="1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6"/>
                    </a:lnTo>
                    <a:lnTo>
                      <a:pt x="48" y="14"/>
                    </a:lnTo>
                    <a:lnTo>
                      <a:pt x="51" y="24"/>
                    </a:lnTo>
                    <a:lnTo>
                      <a:pt x="48" y="33"/>
                    </a:lnTo>
                    <a:lnTo>
                      <a:pt x="43" y="42"/>
                    </a:lnTo>
                    <a:lnTo>
                      <a:pt x="34" y="47"/>
                    </a:lnTo>
                    <a:lnTo>
                      <a:pt x="26" y="50"/>
                    </a:lnTo>
                    <a:lnTo>
                      <a:pt x="15" y="47"/>
                    </a:lnTo>
                    <a:lnTo>
                      <a:pt x="8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7464240" y="641340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6"/>
                    </a:moveTo>
                    <a:lnTo>
                      <a:pt x="1" y="15"/>
                    </a:lnTo>
                    <a:lnTo>
                      <a:pt x="8" y="7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5" y="1"/>
                    </a:lnTo>
                    <a:lnTo>
                      <a:pt x="43" y="7"/>
                    </a:lnTo>
                    <a:lnTo>
                      <a:pt x="49" y="15"/>
                    </a:lnTo>
                    <a:lnTo>
                      <a:pt x="51" y="26"/>
                    </a:lnTo>
                    <a:lnTo>
                      <a:pt x="49" y="34"/>
                    </a:lnTo>
                    <a:lnTo>
                      <a:pt x="43" y="43"/>
                    </a:lnTo>
                    <a:lnTo>
                      <a:pt x="35" y="48"/>
                    </a:lnTo>
                    <a:lnTo>
                      <a:pt x="26" y="50"/>
                    </a:lnTo>
                    <a:lnTo>
                      <a:pt x="15" y="48"/>
                    </a:lnTo>
                    <a:lnTo>
                      <a:pt x="8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7446600" y="633096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4"/>
                    </a:lnTo>
                    <a:lnTo>
                      <a:pt x="47" y="33"/>
                    </a:lnTo>
                    <a:lnTo>
                      <a:pt x="42" y="41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6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441920" y="624204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24"/>
                    </a:moveTo>
                    <a:lnTo>
                      <a:pt x="2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6"/>
                    </a:lnTo>
                    <a:lnTo>
                      <a:pt x="46" y="14"/>
                    </a:lnTo>
                    <a:lnTo>
                      <a:pt x="48" y="24"/>
                    </a:lnTo>
                    <a:lnTo>
                      <a:pt x="46" y="32"/>
                    </a:lnTo>
                    <a:lnTo>
                      <a:pt x="40" y="40"/>
                    </a:lnTo>
                    <a:lnTo>
                      <a:pt x="33" y="45"/>
                    </a:lnTo>
                    <a:lnTo>
                      <a:pt x="24" y="47"/>
                    </a:lnTo>
                    <a:lnTo>
                      <a:pt x="14" y="45"/>
                    </a:lnTo>
                    <a:lnTo>
                      <a:pt x="7" y="40"/>
                    </a:lnTo>
                    <a:lnTo>
                      <a:pt x="2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441920" y="615312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8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448760" y="606240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22"/>
                    </a:moveTo>
                    <a:lnTo>
                      <a:pt x="1" y="12"/>
                    </a:lnTo>
                    <a:lnTo>
                      <a:pt x="5" y="5"/>
                    </a:lnTo>
                    <a:lnTo>
                      <a:pt x="12" y="1"/>
                    </a:lnTo>
                    <a:lnTo>
                      <a:pt x="22" y="0"/>
                    </a:lnTo>
                    <a:lnTo>
                      <a:pt x="30" y="1"/>
                    </a:lnTo>
                    <a:lnTo>
                      <a:pt x="38" y="5"/>
                    </a:lnTo>
                    <a:lnTo>
                      <a:pt x="42" y="12"/>
                    </a:lnTo>
                    <a:lnTo>
                      <a:pt x="44" y="22"/>
                    </a:lnTo>
                    <a:lnTo>
                      <a:pt x="42" y="30"/>
                    </a:lnTo>
                    <a:lnTo>
                      <a:pt x="38" y="38"/>
                    </a:lnTo>
                    <a:lnTo>
                      <a:pt x="30" y="42"/>
                    </a:lnTo>
                    <a:lnTo>
                      <a:pt x="22" y="44"/>
                    </a:lnTo>
                    <a:lnTo>
                      <a:pt x="12" y="42"/>
                    </a:lnTo>
                    <a:lnTo>
                      <a:pt x="5" y="38"/>
                    </a:lnTo>
                    <a:lnTo>
                      <a:pt x="1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437600" y="597852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0" y="22"/>
                    </a:moveTo>
                    <a:lnTo>
                      <a:pt x="1" y="13"/>
                    </a:lnTo>
                    <a:lnTo>
                      <a:pt x="7" y="6"/>
                    </a:lnTo>
                    <a:lnTo>
                      <a:pt x="13" y="1"/>
                    </a:lnTo>
                    <a:lnTo>
                      <a:pt x="23" y="0"/>
                    </a:lnTo>
                    <a:lnTo>
                      <a:pt x="30" y="1"/>
                    </a:lnTo>
                    <a:lnTo>
                      <a:pt x="38" y="6"/>
                    </a:lnTo>
                    <a:lnTo>
                      <a:pt x="42" y="13"/>
                    </a:lnTo>
                    <a:lnTo>
                      <a:pt x="44" y="22"/>
                    </a:lnTo>
                    <a:lnTo>
                      <a:pt x="42" y="30"/>
                    </a:lnTo>
                    <a:lnTo>
                      <a:pt x="38" y="37"/>
                    </a:lnTo>
                    <a:lnTo>
                      <a:pt x="30" y="43"/>
                    </a:lnTo>
                    <a:lnTo>
                      <a:pt x="23" y="45"/>
                    </a:lnTo>
                    <a:lnTo>
                      <a:pt x="13" y="43"/>
                    </a:lnTo>
                    <a:lnTo>
                      <a:pt x="7" y="37"/>
                    </a:lnTo>
                    <a:lnTo>
                      <a:pt x="1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7441920" y="591480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8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7529400" y="594360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4"/>
                    </a:moveTo>
                    <a:lnTo>
                      <a:pt x="1" y="15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5"/>
                    </a:lnTo>
                    <a:lnTo>
                      <a:pt x="49" y="24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7624440" y="59767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24"/>
                    </a:moveTo>
                    <a:lnTo>
                      <a:pt x="1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1" y="24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5" y="47"/>
                    </a:lnTo>
                    <a:lnTo>
                      <a:pt x="8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7713360" y="601488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1" y="15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7313400" y="5860800"/>
                <a:ext cx="39240" cy="381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32" y="2"/>
                    </a:lnTo>
                    <a:lnTo>
                      <a:pt x="41" y="7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4"/>
                    </a:lnTo>
                    <a:lnTo>
                      <a:pt x="41" y="42"/>
                    </a:lnTo>
                    <a:lnTo>
                      <a:pt x="32" y="48"/>
                    </a:lnTo>
                    <a:lnTo>
                      <a:pt x="23" y="50"/>
                    </a:lnTo>
                    <a:lnTo>
                      <a:pt x="14" y="48"/>
                    </a:lnTo>
                    <a:lnTo>
                      <a:pt x="6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7214760" y="583236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2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2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7108560" y="579888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51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7030800" y="57769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26"/>
                    </a:moveTo>
                    <a:lnTo>
                      <a:pt x="1" y="15"/>
                    </a:lnTo>
                    <a:lnTo>
                      <a:pt x="6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49" y="26"/>
                    </a:lnTo>
                    <a:lnTo>
                      <a:pt x="47" y="35"/>
                    </a:lnTo>
                    <a:lnTo>
                      <a:pt x="42" y="43"/>
                    </a:lnTo>
                    <a:lnTo>
                      <a:pt x="33" y="49"/>
                    </a:lnTo>
                    <a:lnTo>
                      <a:pt x="24" y="51"/>
                    </a:lnTo>
                    <a:lnTo>
                      <a:pt x="14" y="49"/>
                    </a:lnTo>
                    <a:lnTo>
                      <a:pt x="6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7041960" y="58705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3" y="48"/>
                    </a:lnTo>
                    <a:lnTo>
                      <a:pt x="24" y="51"/>
                    </a:lnTo>
                    <a:lnTo>
                      <a:pt x="14" y="48"/>
                    </a:lnTo>
                    <a:lnTo>
                      <a:pt x="6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7037280" y="596412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5"/>
                    </a:moveTo>
                    <a:lnTo>
                      <a:pt x="1" y="15"/>
                    </a:lnTo>
                    <a:lnTo>
                      <a:pt x="8" y="7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5" y="1"/>
                    </a:lnTo>
                    <a:lnTo>
                      <a:pt x="43" y="7"/>
                    </a:lnTo>
                    <a:lnTo>
                      <a:pt x="49" y="15"/>
                    </a:lnTo>
                    <a:lnTo>
                      <a:pt x="51" y="25"/>
                    </a:lnTo>
                    <a:lnTo>
                      <a:pt x="49" y="34"/>
                    </a:lnTo>
                    <a:lnTo>
                      <a:pt x="43" y="43"/>
                    </a:lnTo>
                    <a:lnTo>
                      <a:pt x="35" y="48"/>
                    </a:lnTo>
                    <a:lnTo>
                      <a:pt x="26" y="50"/>
                    </a:lnTo>
                    <a:lnTo>
                      <a:pt x="15" y="48"/>
                    </a:lnTo>
                    <a:lnTo>
                      <a:pt x="8" y="43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48440" y="60418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26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51" y="26"/>
                    </a:lnTo>
                    <a:lnTo>
                      <a:pt x="47" y="35"/>
                    </a:lnTo>
                    <a:lnTo>
                      <a:pt x="42" y="43"/>
                    </a:lnTo>
                    <a:lnTo>
                      <a:pt x="33" y="49"/>
                    </a:lnTo>
                    <a:lnTo>
                      <a:pt x="25" y="51"/>
                    </a:lnTo>
                    <a:lnTo>
                      <a:pt x="14" y="49"/>
                    </a:lnTo>
                    <a:lnTo>
                      <a:pt x="7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053120" y="6141960"/>
                <a:ext cx="40680" cy="396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6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3" y="8"/>
                    </a:lnTo>
                    <a:lnTo>
                      <a:pt x="48" y="15"/>
                    </a:lnTo>
                    <a:lnTo>
                      <a:pt x="50" y="26"/>
                    </a:lnTo>
                    <a:lnTo>
                      <a:pt x="48" y="34"/>
                    </a:lnTo>
                    <a:lnTo>
                      <a:pt x="43" y="43"/>
                    </a:lnTo>
                    <a:lnTo>
                      <a:pt x="34" y="48"/>
                    </a:lnTo>
                    <a:lnTo>
                      <a:pt x="25" y="51"/>
                    </a:lnTo>
                    <a:lnTo>
                      <a:pt x="15" y="48"/>
                    </a:lnTo>
                    <a:lnTo>
                      <a:pt x="7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053120" y="62197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7115040" y="625284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4"/>
                    </a:moveTo>
                    <a:lnTo>
                      <a:pt x="1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5" y="1"/>
                    </a:lnTo>
                    <a:lnTo>
                      <a:pt x="43" y="6"/>
                    </a:lnTo>
                    <a:lnTo>
                      <a:pt x="49" y="14"/>
                    </a:lnTo>
                    <a:lnTo>
                      <a:pt x="51" y="24"/>
                    </a:lnTo>
                    <a:lnTo>
                      <a:pt x="49" y="33"/>
                    </a:lnTo>
                    <a:lnTo>
                      <a:pt x="43" y="42"/>
                    </a:lnTo>
                    <a:lnTo>
                      <a:pt x="35" y="47"/>
                    </a:lnTo>
                    <a:lnTo>
                      <a:pt x="26" y="50"/>
                    </a:lnTo>
                    <a:lnTo>
                      <a:pt x="15" y="47"/>
                    </a:lnTo>
                    <a:lnTo>
                      <a:pt x="8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7214760" y="62928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2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2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275240" y="633096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4"/>
                    </a:moveTo>
                    <a:lnTo>
                      <a:pt x="1" y="15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7"/>
                    </a:lnTo>
                    <a:lnTo>
                      <a:pt x="46" y="15"/>
                    </a:lnTo>
                    <a:lnTo>
                      <a:pt x="49" y="24"/>
                    </a:lnTo>
                    <a:lnTo>
                      <a:pt x="46" y="33"/>
                    </a:lnTo>
                    <a:lnTo>
                      <a:pt x="41" y="41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58040" y="636408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32" y="2"/>
                    </a:lnTo>
                    <a:lnTo>
                      <a:pt x="41" y="7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4"/>
                    </a:lnTo>
                    <a:lnTo>
                      <a:pt x="41" y="42"/>
                    </a:lnTo>
                    <a:lnTo>
                      <a:pt x="32" y="48"/>
                    </a:lnTo>
                    <a:lnTo>
                      <a:pt x="23" y="50"/>
                    </a:lnTo>
                    <a:lnTo>
                      <a:pt x="14" y="48"/>
                    </a:lnTo>
                    <a:lnTo>
                      <a:pt x="6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970680" y="619272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3"/>
                    </a:moveTo>
                    <a:lnTo>
                      <a:pt x="1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3"/>
                    </a:lnTo>
                    <a:lnTo>
                      <a:pt x="47" y="32"/>
                    </a:lnTo>
                    <a:lnTo>
                      <a:pt x="42" y="40"/>
                    </a:lnTo>
                    <a:lnTo>
                      <a:pt x="33" y="46"/>
                    </a:lnTo>
                    <a:lnTo>
                      <a:pt x="25" y="48"/>
                    </a:lnTo>
                    <a:lnTo>
                      <a:pt x="15" y="46"/>
                    </a:lnTo>
                    <a:lnTo>
                      <a:pt x="8" y="40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6887880" y="61545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4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7"/>
                    </a:lnTo>
                    <a:lnTo>
                      <a:pt x="47" y="14"/>
                    </a:lnTo>
                    <a:lnTo>
                      <a:pt x="49" y="24"/>
                    </a:lnTo>
                    <a:lnTo>
                      <a:pt x="47" y="32"/>
                    </a:lnTo>
                    <a:lnTo>
                      <a:pt x="41" y="41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6792840" y="611316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5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5"/>
                    </a:lnTo>
                    <a:lnTo>
                      <a:pt x="50" y="25"/>
                    </a:lnTo>
                    <a:lnTo>
                      <a:pt x="47" y="34"/>
                    </a:lnTo>
                    <a:lnTo>
                      <a:pt x="42" y="43"/>
                    </a:lnTo>
                    <a:lnTo>
                      <a:pt x="33" y="48"/>
                    </a:lnTo>
                    <a:lnTo>
                      <a:pt x="24" y="50"/>
                    </a:lnTo>
                    <a:lnTo>
                      <a:pt x="14" y="48"/>
                    </a:lnTo>
                    <a:lnTo>
                      <a:pt x="6" y="43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6710040" y="608148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1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6688080" y="59878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1" y="24"/>
                    </a:lnTo>
                    <a:lnTo>
                      <a:pt x="47" y="33"/>
                    </a:lnTo>
                    <a:lnTo>
                      <a:pt x="42" y="41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6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6665760" y="589248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6"/>
                    </a:moveTo>
                    <a:lnTo>
                      <a:pt x="1" y="15"/>
                    </a:lnTo>
                    <a:lnTo>
                      <a:pt x="6" y="8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8"/>
                    </a:lnTo>
                    <a:lnTo>
                      <a:pt x="48" y="15"/>
                    </a:lnTo>
                    <a:lnTo>
                      <a:pt x="50" y="26"/>
                    </a:lnTo>
                    <a:lnTo>
                      <a:pt x="48" y="35"/>
                    </a:lnTo>
                    <a:lnTo>
                      <a:pt x="43" y="43"/>
                    </a:lnTo>
                    <a:lnTo>
                      <a:pt x="34" y="49"/>
                    </a:lnTo>
                    <a:lnTo>
                      <a:pt x="26" y="51"/>
                    </a:lnTo>
                    <a:lnTo>
                      <a:pt x="15" y="49"/>
                    </a:lnTo>
                    <a:lnTo>
                      <a:pt x="6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659280" y="581004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25"/>
                    </a:moveTo>
                    <a:lnTo>
                      <a:pt x="2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1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51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2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651720" y="572904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23"/>
                    </a:moveTo>
                    <a:lnTo>
                      <a:pt x="1" y="13"/>
                    </a:lnTo>
                    <a:lnTo>
                      <a:pt x="5" y="6"/>
                    </a:lnTo>
                    <a:lnTo>
                      <a:pt x="11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7" y="6"/>
                    </a:lnTo>
                    <a:lnTo>
                      <a:pt x="42" y="13"/>
                    </a:lnTo>
                    <a:lnTo>
                      <a:pt x="44" y="23"/>
                    </a:lnTo>
                    <a:lnTo>
                      <a:pt x="42" y="30"/>
                    </a:lnTo>
                    <a:lnTo>
                      <a:pt x="37" y="38"/>
                    </a:lnTo>
                    <a:lnTo>
                      <a:pt x="30" y="42"/>
                    </a:lnTo>
                    <a:lnTo>
                      <a:pt x="21" y="44"/>
                    </a:lnTo>
                    <a:lnTo>
                      <a:pt x="11" y="42"/>
                    </a:lnTo>
                    <a:lnTo>
                      <a:pt x="5" y="38"/>
                    </a:lnTo>
                    <a:lnTo>
                      <a:pt x="1" y="3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634080" y="565308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22"/>
                    </a:moveTo>
                    <a:lnTo>
                      <a:pt x="1" y="12"/>
                    </a:lnTo>
                    <a:lnTo>
                      <a:pt x="5" y="6"/>
                    </a:lnTo>
                    <a:lnTo>
                      <a:pt x="12" y="1"/>
                    </a:lnTo>
                    <a:lnTo>
                      <a:pt x="22" y="0"/>
                    </a:lnTo>
                    <a:lnTo>
                      <a:pt x="30" y="1"/>
                    </a:lnTo>
                    <a:lnTo>
                      <a:pt x="38" y="6"/>
                    </a:lnTo>
                    <a:lnTo>
                      <a:pt x="42" y="12"/>
                    </a:lnTo>
                    <a:lnTo>
                      <a:pt x="44" y="22"/>
                    </a:lnTo>
                    <a:lnTo>
                      <a:pt x="42" y="29"/>
                    </a:lnTo>
                    <a:lnTo>
                      <a:pt x="38" y="37"/>
                    </a:lnTo>
                    <a:lnTo>
                      <a:pt x="30" y="42"/>
                    </a:lnTo>
                    <a:lnTo>
                      <a:pt x="22" y="44"/>
                    </a:lnTo>
                    <a:lnTo>
                      <a:pt x="12" y="42"/>
                    </a:lnTo>
                    <a:lnTo>
                      <a:pt x="5" y="37"/>
                    </a:lnTo>
                    <a:lnTo>
                      <a:pt x="1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6683040" y="564516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4"/>
                    </a:moveTo>
                    <a:lnTo>
                      <a:pt x="2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6"/>
                    </a:lnTo>
                    <a:lnTo>
                      <a:pt x="47" y="14"/>
                    </a:lnTo>
                    <a:lnTo>
                      <a:pt x="49" y="24"/>
                    </a:lnTo>
                    <a:lnTo>
                      <a:pt x="47" y="33"/>
                    </a:lnTo>
                    <a:lnTo>
                      <a:pt x="41" y="40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0"/>
                    </a:lnTo>
                    <a:lnTo>
                      <a:pt x="2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6794280" y="567828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0" y="23"/>
                    </a:moveTo>
                    <a:lnTo>
                      <a:pt x="1" y="13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3" y="0"/>
                    </a:lnTo>
                    <a:lnTo>
                      <a:pt x="32" y="1"/>
                    </a:lnTo>
                    <a:lnTo>
                      <a:pt x="40" y="6"/>
                    </a:lnTo>
                    <a:lnTo>
                      <a:pt x="45" y="13"/>
                    </a:lnTo>
                    <a:lnTo>
                      <a:pt x="47" y="23"/>
                    </a:lnTo>
                    <a:lnTo>
                      <a:pt x="45" y="32"/>
                    </a:lnTo>
                    <a:lnTo>
                      <a:pt x="40" y="40"/>
                    </a:lnTo>
                    <a:lnTo>
                      <a:pt x="32" y="46"/>
                    </a:lnTo>
                    <a:lnTo>
                      <a:pt x="23" y="48"/>
                    </a:lnTo>
                    <a:lnTo>
                      <a:pt x="14" y="46"/>
                    </a:lnTo>
                    <a:lnTo>
                      <a:pt x="6" y="40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6892560" y="570528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5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5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954480" y="57276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3" y="0"/>
                    </a:lnTo>
                    <a:lnTo>
                      <a:pt x="32" y="1"/>
                    </a:lnTo>
                    <a:lnTo>
                      <a:pt x="39" y="6"/>
                    </a:lnTo>
                    <a:lnTo>
                      <a:pt x="45" y="14"/>
                    </a:lnTo>
                    <a:lnTo>
                      <a:pt x="47" y="24"/>
                    </a:lnTo>
                    <a:lnTo>
                      <a:pt x="45" y="32"/>
                    </a:lnTo>
                    <a:lnTo>
                      <a:pt x="39" y="40"/>
                    </a:lnTo>
                    <a:lnTo>
                      <a:pt x="32" y="45"/>
                    </a:lnTo>
                    <a:lnTo>
                      <a:pt x="23" y="47"/>
                    </a:lnTo>
                    <a:lnTo>
                      <a:pt x="14" y="45"/>
                    </a:lnTo>
                    <a:lnTo>
                      <a:pt x="6" y="40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7829280" y="605916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 flipV="1">
                <a:off x="7550280" y="6389640"/>
                <a:ext cx="2934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7156440" y="6216120"/>
                <a:ext cx="249120" cy="111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 flipV="1">
                <a:off x="6786720" y="6062040"/>
                <a:ext cx="24228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775560" y="6006960"/>
                <a:ext cx="237600" cy="100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52120" y="6162480"/>
                <a:ext cx="264600" cy="109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539120" y="6333840"/>
                <a:ext cx="298080" cy="120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flipV="1">
                <a:off x="7543800" y="6278040"/>
                <a:ext cx="282240" cy="111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7151760" y="6118200"/>
                <a:ext cx="242640" cy="93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>
                <a:off x="6791400" y="5968800"/>
                <a:ext cx="221760" cy="93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775560" y="5913360"/>
                <a:ext cx="220320" cy="87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51760" y="6062400"/>
                <a:ext cx="220320" cy="88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544160" y="6216480"/>
                <a:ext cx="161640" cy="55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7527960" y="6162120"/>
                <a:ext cx="77400" cy="27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flipV="1">
                <a:off x="7123320" y="6006960"/>
                <a:ext cx="5508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6753240" y="5862240"/>
                <a:ext cx="66240" cy="28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7115400" y="5811840"/>
                <a:ext cx="212400" cy="434880"/>
              </a:xfrm>
              <a:custGeom>
                <a:avLst/>
                <a:gdLst/>
                <a:ahLst/>
                <a:rect l="l" t="t" r="r" b="b"/>
                <a:pathLst>
                  <a:path w="267" h="548">
                    <a:moveTo>
                      <a:pt x="208" y="168"/>
                    </a:moveTo>
                    <a:lnTo>
                      <a:pt x="208" y="245"/>
                    </a:lnTo>
                    <a:lnTo>
                      <a:pt x="245" y="245"/>
                    </a:lnTo>
                    <a:lnTo>
                      <a:pt x="247" y="239"/>
                    </a:lnTo>
                    <a:lnTo>
                      <a:pt x="251" y="232"/>
                    </a:lnTo>
                    <a:lnTo>
                      <a:pt x="254" y="227"/>
                    </a:lnTo>
                    <a:lnTo>
                      <a:pt x="258" y="222"/>
                    </a:lnTo>
                    <a:lnTo>
                      <a:pt x="260" y="215"/>
                    </a:lnTo>
                    <a:lnTo>
                      <a:pt x="263" y="209"/>
                    </a:lnTo>
                    <a:lnTo>
                      <a:pt x="266" y="201"/>
                    </a:lnTo>
                    <a:lnTo>
                      <a:pt x="267" y="194"/>
                    </a:lnTo>
                    <a:lnTo>
                      <a:pt x="262" y="165"/>
                    </a:lnTo>
                    <a:lnTo>
                      <a:pt x="252" y="137"/>
                    </a:lnTo>
                    <a:lnTo>
                      <a:pt x="234" y="108"/>
                    </a:lnTo>
                    <a:lnTo>
                      <a:pt x="215" y="80"/>
                    </a:lnTo>
                    <a:lnTo>
                      <a:pt x="191" y="53"/>
                    </a:lnTo>
                    <a:lnTo>
                      <a:pt x="167" y="30"/>
                    </a:lnTo>
                    <a:lnTo>
                      <a:pt x="142" y="12"/>
                    </a:lnTo>
                    <a:lnTo>
                      <a:pt x="119" y="0"/>
                    </a:lnTo>
                    <a:lnTo>
                      <a:pt x="124" y="15"/>
                    </a:lnTo>
                    <a:lnTo>
                      <a:pt x="130" y="30"/>
                    </a:lnTo>
                    <a:lnTo>
                      <a:pt x="137" y="43"/>
                    </a:lnTo>
                    <a:lnTo>
                      <a:pt x="145" y="57"/>
                    </a:lnTo>
                    <a:lnTo>
                      <a:pt x="151" y="70"/>
                    </a:lnTo>
                    <a:lnTo>
                      <a:pt x="157" y="84"/>
                    </a:lnTo>
                    <a:lnTo>
                      <a:pt x="161" y="99"/>
                    </a:lnTo>
                    <a:lnTo>
                      <a:pt x="163" y="116"/>
                    </a:lnTo>
                    <a:lnTo>
                      <a:pt x="161" y="129"/>
                    </a:lnTo>
                    <a:lnTo>
                      <a:pt x="159" y="137"/>
                    </a:lnTo>
                    <a:lnTo>
                      <a:pt x="155" y="141"/>
                    </a:lnTo>
                    <a:lnTo>
                      <a:pt x="151" y="142"/>
                    </a:lnTo>
                    <a:lnTo>
                      <a:pt x="143" y="140"/>
                    </a:lnTo>
                    <a:lnTo>
                      <a:pt x="136" y="138"/>
                    </a:lnTo>
                    <a:lnTo>
                      <a:pt x="127" y="136"/>
                    </a:lnTo>
                    <a:lnTo>
                      <a:pt x="119" y="136"/>
                    </a:lnTo>
                    <a:lnTo>
                      <a:pt x="99" y="140"/>
                    </a:lnTo>
                    <a:lnTo>
                      <a:pt x="79" y="154"/>
                    </a:lnTo>
                    <a:lnTo>
                      <a:pt x="58" y="174"/>
                    </a:lnTo>
                    <a:lnTo>
                      <a:pt x="40" y="200"/>
                    </a:lnTo>
                    <a:lnTo>
                      <a:pt x="24" y="227"/>
                    </a:lnTo>
                    <a:lnTo>
                      <a:pt x="11" y="255"/>
                    </a:lnTo>
                    <a:lnTo>
                      <a:pt x="2" y="281"/>
                    </a:lnTo>
                    <a:lnTo>
                      <a:pt x="0" y="303"/>
                    </a:lnTo>
                    <a:lnTo>
                      <a:pt x="1" y="337"/>
                    </a:lnTo>
                    <a:lnTo>
                      <a:pt x="8" y="375"/>
                    </a:lnTo>
                    <a:lnTo>
                      <a:pt x="17" y="415"/>
                    </a:lnTo>
                    <a:lnTo>
                      <a:pt x="33" y="456"/>
                    </a:lnTo>
                    <a:lnTo>
                      <a:pt x="53" y="491"/>
                    </a:lnTo>
                    <a:lnTo>
                      <a:pt x="77" y="521"/>
                    </a:lnTo>
                    <a:lnTo>
                      <a:pt x="106" y="541"/>
                    </a:lnTo>
                    <a:lnTo>
                      <a:pt x="141" y="548"/>
                    </a:lnTo>
                    <a:lnTo>
                      <a:pt x="157" y="541"/>
                    </a:lnTo>
                    <a:lnTo>
                      <a:pt x="173" y="520"/>
                    </a:lnTo>
                    <a:lnTo>
                      <a:pt x="186" y="490"/>
                    </a:lnTo>
                    <a:lnTo>
                      <a:pt x="199" y="455"/>
                    </a:lnTo>
                    <a:lnTo>
                      <a:pt x="209" y="415"/>
                    </a:lnTo>
                    <a:lnTo>
                      <a:pt x="216" y="377"/>
                    </a:lnTo>
                    <a:lnTo>
                      <a:pt x="220" y="343"/>
                    </a:lnTo>
                    <a:lnTo>
                      <a:pt x="223" y="316"/>
                    </a:lnTo>
                    <a:lnTo>
                      <a:pt x="219" y="310"/>
                    </a:lnTo>
                    <a:lnTo>
                      <a:pt x="214" y="303"/>
                    </a:lnTo>
                    <a:lnTo>
                      <a:pt x="205" y="297"/>
                    </a:lnTo>
                    <a:lnTo>
                      <a:pt x="197" y="291"/>
                    </a:lnTo>
                    <a:lnTo>
                      <a:pt x="187" y="284"/>
                    </a:lnTo>
                    <a:lnTo>
                      <a:pt x="179" y="276"/>
                    </a:lnTo>
                    <a:lnTo>
                      <a:pt x="173" y="268"/>
                    </a:lnTo>
                    <a:lnTo>
                      <a:pt x="171" y="258"/>
                    </a:lnTo>
                    <a:lnTo>
                      <a:pt x="168" y="250"/>
                    </a:lnTo>
                    <a:lnTo>
                      <a:pt x="162" y="246"/>
                    </a:lnTo>
                    <a:lnTo>
                      <a:pt x="153" y="245"/>
                    </a:lnTo>
                    <a:lnTo>
                      <a:pt x="141" y="247"/>
                    </a:lnTo>
                    <a:lnTo>
                      <a:pt x="127" y="250"/>
                    </a:lnTo>
                    <a:lnTo>
                      <a:pt x="114" y="254"/>
                    </a:lnTo>
                    <a:lnTo>
                      <a:pt x="101" y="256"/>
                    </a:lnTo>
                    <a:lnTo>
                      <a:pt x="89" y="258"/>
                    </a:lnTo>
                    <a:lnTo>
                      <a:pt x="95" y="241"/>
                    </a:lnTo>
                    <a:lnTo>
                      <a:pt x="101" y="228"/>
                    </a:lnTo>
                    <a:lnTo>
                      <a:pt x="108" y="216"/>
                    </a:lnTo>
                    <a:lnTo>
                      <a:pt x="114" y="208"/>
                    </a:lnTo>
                    <a:lnTo>
                      <a:pt x="120" y="198"/>
                    </a:lnTo>
                    <a:lnTo>
                      <a:pt x="129" y="189"/>
                    </a:lnTo>
                    <a:lnTo>
                      <a:pt x="138" y="179"/>
                    </a:lnTo>
                    <a:lnTo>
                      <a:pt x="148" y="168"/>
                    </a:lnTo>
                    <a:lnTo>
                      <a:pt x="148" y="219"/>
                    </a:lnTo>
                    <a:lnTo>
                      <a:pt x="155" y="214"/>
                    </a:lnTo>
                    <a:lnTo>
                      <a:pt x="162" y="209"/>
                    </a:lnTo>
                    <a:lnTo>
                      <a:pt x="168" y="203"/>
                    </a:lnTo>
                    <a:lnTo>
                      <a:pt x="173" y="198"/>
                    </a:lnTo>
                    <a:lnTo>
                      <a:pt x="177" y="191"/>
                    </a:lnTo>
                    <a:lnTo>
                      <a:pt x="182" y="186"/>
                    </a:lnTo>
                    <a:lnTo>
                      <a:pt x="186" y="180"/>
                    </a:lnTo>
                    <a:lnTo>
                      <a:pt x="193" y="174"/>
                    </a:lnTo>
                    <a:lnTo>
                      <a:pt x="20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7132680" y="5827680"/>
                <a:ext cx="158400" cy="311040"/>
              </a:xfrm>
              <a:custGeom>
                <a:avLst/>
                <a:gdLst/>
                <a:ahLst/>
                <a:rect l="l" t="t" r="r" b="b"/>
                <a:pathLst>
                  <a:path w="201" h="393">
                    <a:moveTo>
                      <a:pt x="97" y="0"/>
                    </a:moveTo>
                    <a:lnTo>
                      <a:pt x="115" y="15"/>
                    </a:lnTo>
                    <a:lnTo>
                      <a:pt x="132" y="34"/>
                    </a:lnTo>
                    <a:lnTo>
                      <a:pt x="149" y="55"/>
                    </a:lnTo>
                    <a:lnTo>
                      <a:pt x="164" y="81"/>
                    </a:lnTo>
                    <a:lnTo>
                      <a:pt x="175" y="107"/>
                    </a:lnTo>
                    <a:lnTo>
                      <a:pt x="186" y="134"/>
                    </a:lnTo>
                    <a:lnTo>
                      <a:pt x="195" y="160"/>
                    </a:lnTo>
                    <a:lnTo>
                      <a:pt x="201" y="187"/>
                    </a:lnTo>
                    <a:lnTo>
                      <a:pt x="195" y="177"/>
                    </a:lnTo>
                    <a:lnTo>
                      <a:pt x="190" y="168"/>
                    </a:lnTo>
                    <a:lnTo>
                      <a:pt x="186" y="161"/>
                    </a:lnTo>
                    <a:lnTo>
                      <a:pt x="182" y="154"/>
                    </a:lnTo>
                    <a:lnTo>
                      <a:pt x="175" y="147"/>
                    </a:lnTo>
                    <a:lnTo>
                      <a:pt x="170" y="140"/>
                    </a:lnTo>
                    <a:lnTo>
                      <a:pt x="164" y="134"/>
                    </a:lnTo>
                    <a:lnTo>
                      <a:pt x="156" y="129"/>
                    </a:lnTo>
                    <a:lnTo>
                      <a:pt x="146" y="138"/>
                    </a:lnTo>
                    <a:lnTo>
                      <a:pt x="140" y="146"/>
                    </a:lnTo>
                    <a:lnTo>
                      <a:pt x="136" y="150"/>
                    </a:lnTo>
                    <a:lnTo>
                      <a:pt x="135" y="153"/>
                    </a:lnTo>
                    <a:lnTo>
                      <a:pt x="132" y="155"/>
                    </a:lnTo>
                    <a:lnTo>
                      <a:pt x="130" y="160"/>
                    </a:lnTo>
                    <a:lnTo>
                      <a:pt x="126" y="167"/>
                    </a:lnTo>
                    <a:lnTo>
                      <a:pt x="119" y="180"/>
                    </a:lnTo>
                    <a:lnTo>
                      <a:pt x="115" y="174"/>
                    </a:lnTo>
                    <a:lnTo>
                      <a:pt x="113" y="168"/>
                    </a:lnTo>
                    <a:lnTo>
                      <a:pt x="111" y="162"/>
                    </a:lnTo>
                    <a:lnTo>
                      <a:pt x="110" y="158"/>
                    </a:lnTo>
                    <a:lnTo>
                      <a:pt x="105" y="153"/>
                    </a:lnTo>
                    <a:lnTo>
                      <a:pt x="101" y="150"/>
                    </a:lnTo>
                    <a:lnTo>
                      <a:pt x="94" y="148"/>
                    </a:lnTo>
                    <a:lnTo>
                      <a:pt x="83" y="148"/>
                    </a:lnTo>
                    <a:lnTo>
                      <a:pt x="71" y="150"/>
                    </a:lnTo>
                    <a:lnTo>
                      <a:pt x="59" y="158"/>
                    </a:lnTo>
                    <a:lnTo>
                      <a:pt x="47" y="168"/>
                    </a:lnTo>
                    <a:lnTo>
                      <a:pt x="38" y="183"/>
                    </a:lnTo>
                    <a:lnTo>
                      <a:pt x="27" y="198"/>
                    </a:lnTo>
                    <a:lnTo>
                      <a:pt x="21" y="214"/>
                    </a:lnTo>
                    <a:lnTo>
                      <a:pt x="16" y="230"/>
                    </a:lnTo>
                    <a:lnTo>
                      <a:pt x="15" y="245"/>
                    </a:lnTo>
                    <a:lnTo>
                      <a:pt x="17" y="259"/>
                    </a:lnTo>
                    <a:lnTo>
                      <a:pt x="24" y="266"/>
                    </a:lnTo>
                    <a:lnTo>
                      <a:pt x="33" y="266"/>
                    </a:lnTo>
                    <a:lnTo>
                      <a:pt x="45" y="264"/>
                    </a:lnTo>
                    <a:lnTo>
                      <a:pt x="56" y="257"/>
                    </a:lnTo>
                    <a:lnTo>
                      <a:pt x="66" y="251"/>
                    </a:lnTo>
                    <a:lnTo>
                      <a:pt x="72" y="246"/>
                    </a:lnTo>
                    <a:lnTo>
                      <a:pt x="75" y="245"/>
                    </a:lnTo>
                    <a:lnTo>
                      <a:pt x="81" y="246"/>
                    </a:lnTo>
                    <a:lnTo>
                      <a:pt x="90" y="251"/>
                    </a:lnTo>
                    <a:lnTo>
                      <a:pt x="102" y="259"/>
                    </a:lnTo>
                    <a:lnTo>
                      <a:pt x="115" y="268"/>
                    </a:lnTo>
                    <a:lnTo>
                      <a:pt x="127" y="278"/>
                    </a:lnTo>
                    <a:lnTo>
                      <a:pt x="138" y="288"/>
                    </a:lnTo>
                    <a:lnTo>
                      <a:pt x="145" y="296"/>
                    </a:lnTo>
                    <a:lnTo>
                      <a:pt x="149" y="303"/>
                    </a:lnTo>
                    <a:lnTo>
                      <a:pt x="147" y="313"/>
                    </a:lnTo>
                    <a:lnTo>
                      <a:pt x="145" y="327"/>
                    </a:lnTo>
                    <a:lnTo>
                      <a:pt x="141" y="342"/>
                    </a:lnTo>
                    <a:lnTo>
                      <a:pt x="136" y="357"/>
                    </a:lnTo>
                    <a:lnTo>
                      <a:pt x="128" y="370"/>
                    </a:lnTo>
                    <a:lnTo>
                      <a:pt x="119" y="382"/>
                    </a:lnTo>
                    <a:lnTo>
                      <a:pt x="109" y="390"/>
                    </a:lnTo>
                    <a:lnTo>
                      <a:pt x="97" y="393"/>
                    </a:lnTo>
                    <a:lnTo>
                      <a:pt x="75" y="387"/>
                    </a:lnTo>
                    <a:lnTo>
                      <a:pt x="57" y="377"/>
                    </a:lnTo>
                    <a:lnTo>
                      <a:pt x="40" y="360"/>
                    </a:lnTo>
                    <a:lnTo>
                      <a:pt x="27" y="339"/>
                    </a:lnTo>
                    <a:lnTo>
                      <a:pt x="15" y="314"/>
                    </a:lnTo>
                    <a:lnTo>
                      <a:pt x="7" y="290"/>
                    </a:lnTo>
                    <a:lnTo>
                      <a:pt x="1" y="265"/>
                    </a:lnTo>
                    <a:lnTo>
                      <a:pt x="0" y="245"/>
                    </a:lnTo>
                    <a:lnTo>
                      <a:pt x="1" y="216"/>
                    </a:lnTo>
                    <a:lnTo>
                      <a:pt x="8" y="192"/>
                    </a:lnTo>
                    <a:lnTo>
                      <a:pt x="18" y="173"/>
                    </a:lnTo>
                    <a:lnTo>
                      <a:pt x="35" y="159"/>
                    </a:lnTo>
                    <a:lnTo>
                      <a:pt x="53" y="147"/>
                    </a:lnTo>
                    <a:lnTo>
                      <a:pt x="78" y="140"/>
                    </a:lnTo>
                    <a:lnTo>
                      <a:pt x="107" y="136"/>
                    </a:lnTo>
                    <a:lnTo>
                      <a:pt x="141" y="135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6c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7216560" y="6041880"/>
                <a:ext cx="9000" cy="414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0" y="0"/>
                    </a:moveTo>
                    <a:lnTo>
                      <a:pt x="0" y="52"/>
                    </a:lnTo>
                    <a:lnTo>
                      <a:pt x="5" y="41"/>
                    </a:lnTo>
                    <a:lnTo>
                      <a:pt x="10" y="34"/>
                    </a:lnTo>
                    <a:lnTo>
                      <a:pt x="12" y="28"/>
                    </a:lnTo>
                    <a:lnTo>
                      <a:pt x="13" y="25"/>
                    </a:lnTo>
                    <a:lnTo>
                      <a:pt x="11" y="20"/>
                    </a:lnTo>
                    <a:lnTo>
                      <a:pt x="9" y="15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859800" y="5224320"/>
                <a:ext cx="1755360" cy="784080"/>
              </a:xfrm>
              <a:custGeom>
                <a:avLst/>
                <a:gdLst/>
                <a:ahLst/>
                <a:rect l="l" t="t" r="r" b="b"/>
                <a:pathLst>
                  <a:path w="2211" h="987">
                    <a:moveTo>
                      <a:pt x="0" y="330"/>
                    </a:moveTo>
                    <a:lnTo>
                      <a:pt x="22" y="307"/>
                    </a:lnTo>
                    <a:lnTo>
                      <a:pt x="41" y="283"/>
                    </a:lnTo>
                    <a:lnTo>
                      <a:pt x="58" y="256"/>
                    </a:lnTo>
                    <a:lnTo>
                      <a:pt x="76" y="231"/>
                    </a:lnTo>
                    <a:lnTo>
                      <a:pt x="96" y="207"/>
                    </a:lnTo>
                    <a:lnTo>
                      <a:pt x="121" y="189"/>
                    </a:lnTo>
                    <a:lnTo>
                      <a:pt x="150" y="176"/>
                    </a:lnTo>
                    <a:lnTo>
                      <a:pt x="188" y="172"/>
                    </a:lnTo>
                    <a:lnTo>
                      <a:pt x="207" y="168"/>
                    </a:lnTo>
                    <a:lnTo>
                      <a:pt x="229" y="158"/>
                    </a:lnTo>
                    <a:lnTo>
                      <a:pt x="253" y="144"/>
                    </a:lnTo>
                    <a:lnTo>
                      <a:pt x="279" y="129"/>
                    </a:lnTo>
                    <a:lnTo>
                      <a:pt x="304" y="113"/>
                    </a:lnTo>
                    <a:lnTo>
                      <a:pt x="331" y="99"/>
                    </a:lnTo>
                    <a:lnTo>
                      <a:pt x="357" y="89"/>
                    </a:lnTo>
                    <a:lnTo>
                      <a:pt x="384" y="86"/>
                    </a:lnTo>
                    <a:lnTo>
                      <a:pt x="393" y="83"/>
                    </a:lnTo>
                    <a:lnTo>
                      <a:pt x="403" y="77"/>
                    </a:lnTo>
                    <a:lnTo>
                      <a:pt x="413" y="68"/>
                    </a:lnTo>
                    <a:lnTo>
                      <a:pt x="426" y="59"/>
                    </a:lnTo>
                    <a:lnTo>
                      <a:pt x="438" y="47"/>
                    </a:lnTo>
                    <a:lnTo>
                      <a:pt x="451" y="38"/>
                    </a:lnTo>
                    <a:lnTo>
                      <a:pt x="464" y="29"/>
                    </a:lnTo>
                    <a:lnTo>
                      <a:pt x="478" y="24"/>
                    </a:lnTo>
                    <a:lnTo>
                      <a:pt x="481" y="30"/>
                    </a:lnTo>
                    <a:lnTo>
                      <a:pt x="484" y="38"/>
                    </a:lnTo>
                    <a:lnTo>
                      <a:pt x="487" y="45"/>
                    </a:lnTo>
                    <a:lnTo>
                      <a:pt x="491" y="54"/>
                    </a:lnTo>
                    <a:lnTo>
                      <a:pt x="493" y="60"/>
                    </a:lnTo>
                    <a:lnTo>
                      <a:pt x="495" y="69"/>
                    </a:lnTo>
                    <a:lnTo>
                      <a:pt x="498" y="76"/>
                    </a:lnTo>
                    <a:lnTo>
                      <a:pt x="501" y="86"/>
                    </a:lnTo>
                    <a:lnTo>
                      <a:pt x="521" y="64"/>
                    </a:lnTo>
                    <a:lnTo>
                      <a:pt x="548" y="47"/>
                    </a:lnTo>
                    <a:lnTo>
                      <a:pt x="579" y="32"/>
                    </a:lnTo>
                    <a:lnTo>
                      <a:pt x="613" y="20"/>
                    </a:lnTo>
                    <a:lnTo>
                      <a:pt x="648" y="11"/>
                    </a:lnTo>
                    <a:lnTo>
                      <a:pt x="682" y="4"/>
                    </a:lnTo>
                    <a:lnTo>
                      <a:pt x="714" y="0"/>
                    </a:lnTo>
                    <a:lnTo>
                      <a:pt x="744" y="0"/>
                    </a:lnTo>
                    <a:lnTo>
                      <a:pt x="762" y="1"/>
                    </a:lnTo>
                    <a:lnTo>
                      <a:pt x="785" y="5"/>
                    </a:lnTo>
                    <a:lnTo>
                      <a:pt x="812" y="12"/>
                    </a:lnTo>
                    <a:lnTo>
                      <a:pt x="840" y="21"/>
                    </a:lnTo>
                    <a:lnTo>
                      <a:pt x="866" y="30"/>
                    </a:lnTo>
                    <a:lnTo>
                      <a:pt x="891" y="41"/>
                    </a:lnTo>
                    <a:lnTo>
                      <a:pt x="910" y="52"/>
                    </a:lnTo>
                    <a:lnTo>
                      <a:pt x="925" y="62"/>
                    </a:lnTo>
                    <a:lnTo>
                      <a:pt x="930" y="55"/>
                    </a:lnTo>
                    <a:lnTo>
                      <a:pt x="938" y="47"/>
                    </a:lnTo>
                    <a:lnTo>
                      <a:pt x="944" y="39"/>
                    </a:lnTo>
                    <a:lnTo>
                      <a:pt x="954" y="32"/>
                    </a:lnTo>
                    <a:lnTo>
                      <a:pt x="963" y="25"/>
                    </a:lnTo>
                    <a:lnTo>
                      <a:pt x="973" y="19"/>
                    </a:lnTo>
                    <a:lnTo>
                      <a:pt x="983" y="15"/>
                    </a:lnTo>
                    <a:lnTo>
                      <a:pt x="996" y="15"/>
                    </a:lnTo>
                    <a:lnTo>
                      <a:pt x="1009" y="15"/>
                    </a:lnTo>
                    <a:lnTo>
                      <a:pt x="1020" y="19"/>
                    </a:lnTo>
                    <a:lnTo>
                      <a:pt x="1028" y="25"/>
                    </a:lnTo>
                    <a:lnTo>
                      <a:pt x="1037" y="31"/>
                    </a:lnTo>
                    <a:lnTo>
                      <a:pt x="1044" y="36"/>
                    </a:lnTo>
                    <a:lnTo>
                      <a:pt x="1053" y="42"/>
                    </a:lnTo>
                    <a:lnTo>
                      <a:pt x="1062" y="45"/>
                    </a:lnTo>
                    <a:lnTo>
                      <a:pt x="1073" y="47"/>
                    </a:lnTo>
                    <a:lnTo>
                      <a:pt x="1082" y="45"/>
                    </a:lnTo>
                    <a:lnTo>
                      <a:pt x="1091" y="40"/>
                    </a:lnTo>
                    <a:lnTo>
                      <a:pt x="1097" y="33"/>
                    </a:lnTo>
                    <a:lnTo>
                      <a:pt x="1105" y="27"/>
                    </a:lnTo>
                    <a:lnTo>
                      <a:pt x="1111" y="19"/>
                    </a:lnTo>
                    <a:lnTo>
                      <a:pt x="1119" y="13"/>
                    </a:lnTo>
                    <a:lnTo>
                      <a:pt x="1126" y="9"/>
                    </a:lnTo>
                    <a:lnTo>
                      <a:pt x="1137" y="7"/>
                    </a:lnTo>
                    <a:lnTo>
                      <a:pt x="1150" y="7"/>
                    </a:lnTo>
                    <a:lnTo>
                      <a:pt x="1164" y="11"/>
                    </a:lnTo>
                    <a:lnTo>
                      <a:pt x="1177" y="14"/>
                    </a:lnTo>
                    <a:lnTo>
                      <a:pt x="1190" y="20"/>
                    </a:lnTo>
                    <a:lnTo>
                      <a:pt x="1199" y="28"/>
                    </a:lnTo>
                    <a:lnTo>
                      <a:pt x="1208" y="38"/>
                    </a:lnTo>
                    <a:lnTo>
                      <a:pt x="1213" y="48"/>
                    </a:lnTo>
                    <a:lnTo>
                      <a:pt x="1215" y="62"/>
                    </a:lnTo>
                    <a:lnTo>
                      <a:pt x="1214" y="68"/>
                    </a:lnTo>
                    <a:lnTo>
                      <a:pt x="1213" y="74"/>
                    </a:lnTo>
                    <a:lnTo>
                      <a:pt x="1211" y="81"/>
                    </a:lnTo>
                    <a:lnTo>
                      <a:pt x="1211" y="87"/>
                    </a:lnTo>
                    <a:lnTo>
                      <a:pt x="1210" y="92"/>
                    </a:lnTo>
                    <a:lnTo>
                      <a:pt x="1210" y="99"/>
                    </a:lnTo>
                    <a:lnTo>
                      <a:pt x="1211" y="104"/>
                    </a:lnTo>
                    <a:lnTo>
                      <a:pt x="1215" y="110"/>
                    </a:lnTo>
                    <a:lnTo>
                      <a:pt x="1222" y="115"/>
                    </a:lnTo>
                    <a:lnTo>
                      <a:pt x="1230" y="119"/>
                    </a:lnTo>
                    <a:lnTo>
                      <a:pt x="1239" y="120"/>
                    </a:lnTo>
                    <a:lnTo>
                      <a:pt x="1249" y="122"/>
                    </a:lnTo>
                    <a:lnTo>
                      <a:pt x="1257" y="122"/>
                    </a:lnTo>
                    <a:lnTo>
                      <a:pt x="1267" y="125"/>
                    </a:lnTo>
                    <a:lnTo>
                      <a:pt x="1276" y="127"/>
                    </a:lnTo>
                    <a:lnTo>
                      <a:pt x="1285" y="133"/>
                    </a:lnTo>
                    <a:lnTo>
                      <a:pt x="1295" y="141"/>
                    </a:lnTo>
                    <a:lnTo>
                      <a:pt x="1312" y="155"/>
                    </a:lnTo>
                    <a:lnTo>
                      <a:pt x="1332" y="171"/>
                    </a:lnTo>
                    <a:lnTo>
                      <a:pt x="1355" y="189"/>
                    </a:lnTo>
                    <a:lnTo>
                      <a:pt x="1377" y="205"/>
                    </a:lnTo>
                    <a:lnTo>
                      <a:pt x="1397" y="220"/>
                    </a:lnTo>
                    <a:lnTo>
                      <a:pt x="1411" y="231"/>
                    </a:lnTo>
                    <a:lnTo>
                      <a:pt x="1420" y="235"/>
                    </a:lnTo>
                    <a:lnTo>
                      <a:pt x="1426" y="235"/>
                    </a:lnTo>
                    <a:lnTo>
                      <a:pt x="1436" y="235"/>
                    </a:lnTo>
                    <a:lnTo>
                      <a:pt x="1444" y="235"/>
                    </a:lnTo>
                    <a:lnTo>
                      <a:pt x="1456" y="235"/>
                    </a:lnTo>
                    <a:lnTo>
                      <a:pt x="1468" y="235"/>
                    </a:lnTo>
                    <a:lnTo>
                      <a:pt x="1482" y="235"/>
                    </a:lnTo>
                    <a:lnTo>
                      <a:pt x="1496" y="235"/>
                    </a:lnTo>
                    <a:lnTo>
                      <a:pt x="1513" y="235"/>
                    </a:lnTo>
                    <a:lnTo>
                      <a:pt x="1515" y="233"/>
                    </a:lnTo>
                    <a:lnTo>
                      <a:pt x="1522" y="231"/>
                    </a:lnTo>
                    <a:lnTo>
                      <a:pt x="1531" y="227"/>
                    </a:lnTo>
                    <a:lnTo>
                      <a:pt x="1543" y="223"/>
                    </a:lnTo>
                    <a:lnTo>
                      <a:pt x="1555" y="218"/>
                    </a:lnTo>
                    <a:lnTo>
                      <a:pt x="1569" y="215"/>
                    </a:lnTo>
                    <a:lnTo>
                      <a:pt x="1581" y="212"/>
                    </a:lnTo>
                    <a:lnTo>
                      <a:pt x="1592" y="212"/>
                    </a:lnTo>
                    <a:lnTo>
                      <a:pt x="1599" y="215"/>
                    </a:lnTo>
                    <a:lnTo>
                      <a:pt x="1604" y="225"/>
                    </a:lnTo>
                    <a:lnTo>
                      <a:pt x="1605" y="229"/>
                    </a:lnTo>
                    <a:lnTo>
                      <a:pt x="1608" y="234"/>
                    </a:lnTo>
                    <a:lnTo>
                      <a:pt x="1611" y="238"/>
                    </a:lnTo>
                    <a:lnTo>
                      <a:pt x="1615" y="243"/>
                    </a:lnTo>
                    <a:lnTo>
                      <a:pt x="1625" y="245"/>
                    </a:lnTo>
                    <a:lnTo>
                      <a:pt x="1638" y="248"/>
                    </a:lnTo>
                    <a:lnTo>
                      <a:pt x="1653" y="249"/>
                    </a:lnTo>
                    <a:lnTo>
                      <a:pt x="1670" y="251"/>
                    </a:lnTo>
                    <a:lnTo>
                      <a:pt x="1685" y="251"/>
                    </a:lnTo>
                    <a:lnTo>
                      <a:pt x="1702" y="254"/>
                    </a:lnTo>
                    <a:lnTo>
                      <a:pt x="1714" y="255"/>
                    </a:lnTo>
                    <a:lnTo>
                      <a:pt x="1725" y="259"/>
                    </a:lnTo>
                    <a:lnTo>
                      <a:pt x="1747" y="270"/>
                    </a:lnTo>
                    <a:lnTo>
                      <a:pt x="1772" y="286"/>
                    </a:lnTo>
                    <a:lnTo>
                      <a:pt x="1799" y="304"/>
                    </a:lnTo>
                    <a:lnTo>
                      <a:pt x="1828" y="322"/>
                    </a:lnTo>
                    <a:lnTo>
                      <a:pt x="1856" y="339"/>
                    </a:lnTo>
                    <a:lnTo>
                      <a:pt x="1884" y="355"/>
                    </a:lnTo>
                    <a:lnTo>
                      <a:pt x="1911" y="364"/>
                    </a:lnTo>
                    <a:lnTo>
                      <a:pt x="1937" y="369"/>
                    </a:lnTo>
                    <a:lnTo>
                      <a:pt x="1946" y="367"/>
                    </a:lnTo>
                    <a:lnTo>
                      <a:pt x="1954" y="366"/>
                    </a:lnTo>
                    <a:lnTo>
                      <a:pt x="1962" y="365"/>
                    </a:lnTo>
                    <a:lnTo>
                      <a:pt x="1970" y="364"/>
                    </a:lnTo>
                    <a:lnTo>
                      <a:pt x="1977" y="362"/>
                    </a:lnTo>
                    <a:lnTo>
                      <a:pt x="1985" y="361"/>
                    </a:lnTo>
                    <a:lnTo>
                      <a:pt x="1994" y="360"/>
                    </a:lnTo>
                    <a:lnTo>
                      <a:pt x="2004" y="360"/>
                    </a:lnTo>
                    <a:lnTo>
                      <a:pt x="2013" y="362"/>
                    </a:lnTo>
                    <a:lnTo>
                      <a:pt x="2023" y="365"/>
                    </a:lnTo>
                    <a:lnTo>
                      <a:pt x="2030" y="367"/>
                    </a:lnTo>
                    <a:lnTo>
                      <a:pt x="2037" y="371"/>
                    </a:lnTo>
                    <a:lnTo>
                      <a:pt x="2043" y="373"/>
                    </a:lnTo>
                    <a:lnTo>
                      <a:pt x="2050" y="375"/>
                    </a:lnTo>
                    <a:lnTo>
                      <a:pt x="2059" y="378"/>
                    </a:lnTo>
                    <a:lnTo>
                      <a:pt x="2069" y="384"/>
                    </a:lnTo>
                    <a:lnTo>
                      <a:pt x="2156" y="384"/>
                    </a:lnTo>
                    <a:lnTo>
                      <a:pt x="2163" y="391"/>
                    </a:lnTo>
                    <a:lnTo>
                      <a:pt x="2171" y="400"/>
                    </a:lnTo>
                    <a:lnTo>
                      <a:pt x="2180" y="407"/>
                    </a:lnTo>
                    <a:lnTo>
                      <a:pt x="2190" y="417"/>
                    </a:lnTo>
                    <a:lnTo>
                      <a:pt x="2197" y="427"/>
                    </a:lnTo>
                    <a:lnTo>
                      <a:pt x="2205" y="438"/>
                    </a:lnTo>
                    <a:lnTo>
                      <a:pt x="2209" y="452"/>
                    </a:lnTo>
                    <a:lnTo>
                      <a:pt x="2211" y="471"/>
                    </a:lnTo>
                    <a:lnTo>
                      <a:pt x="2209" y="485"/>
                    </a:lnTo>
                    <a:lnTo>
                      <a:pt x="2205" y="492"/>
                    </a:lnTo>
                    <a:lnTo>
                      <a:pt x="2199" y="496"/>
                    </a:lnTo>
                    <a:lnTo>
                      <a:pt x="2195" y="499"/>
                    </a:lnTo>
                    <a:lnTo>
                      <a:pt x="2192" y="501"/>
                    </a:lnTo>
                    <a:lnTo>
                      <a:pt x="2193" y="506"/>
                    </a:lnTo>
                    <a:lnTo>
                      <a:pt x="2198" y="516"/>
                    </a:lnTo>
                    <a:lnTo>
                      <a:pt x="2211" y="533"/>
                    </a:lnTo>
                    <a:lnTo>
                      <a:pt x="1623" y="776"/>
                    </a:lnTo>
                    <a:lnTo>
                      <a:pt x="1623" y="838"/>
                    </a:lnTo>
                    <a:lnTo>
                      <a:pt x="1617" y="854"/>
                    </a:lnTo>
                    <a:lnTo>
                      <a:pt x="1613" y="869"/>
                    </a:lnTo>
                    <a:lnTo>
                      <a:pt x="1608" y="881"/>
                    </a:lnTo>
                    <a:lnTo>
                      <a:pt x="1604" y="891"/>
                    </a:lnTo>
                    <a:lnTo>
                      <a:pt x="1595" y="897"/>
                    </a:lnTo>
                    <a:lnTo>
                      <a:pt x="1583" y="904"/>
                    </a:lnTo>
                    <a:lnTo>
                      <a:pt x="1567" y="907"/>
                    </a:lnTo>
                    <a:lnTo>
                      <a:pt x="1544" y="909"/>
                    </a:lnTo>
                    <a:lnTo>
                      <a:pt x="1535" y="911"/>
                    </a:lnTo>
                    <a:lnTo>
                      <a:pt x="1523" y="919"/>
                    </a:lnTo>
                    <a:lnTo>
                      <a:pt x="1508" y="929"/>
                    </a:lnTo>
                    <a:lnTo>
                      <a:pt x="1493" y="943"/>
                    </a:lnTo>
                    <a:lnTo>
                      <a:pt x="1475" y="956"/>
                    </a:lnTo>
                    <a:lnTo>
                      <a:pt x="1460" y="969"/>
                    </a:lnTo>
                    <a:lnTo>
                      <a:pt x="1444" y="980"/>
                    </a:lnTo>
                    <a:lnTo>
                      <a:pt x="1435" y="987"/>
                    </a:lnTo>
                    <a:lnTo>
                      <a:pt x="1372" y="925"/>
                    </a:lnTo>
                    <a:lnTo>
                      <a:pt x="1357" y="925"/>
                    </a:lnTo>
                    <a:lnTo>
                      <a:pt x="1343" y="925"/>
                    </a:lnTo>
                    <a:lnTo>
                      <a:pt x="1328" y="925"/>
                    </a:lnTo>
                    <a:lnTo>
                      <a:pt x="1314" y="925"/>
                    </a:lnTo>
                    <a:lnTo>
                      <a:pt x="1298" y="925"/>
                    </a:lnTo>
                    <a:lnTo>
                      <a:pt x="1282" y="925"/>
                    </a:lnTo>
                    <a:lnTo>
                      <a:pt x="1265" y="925"/>
                    </a:lnTo>
                    <a:lnTo>
                      <a:pt x="1247" y="925"/>
                    </a:lnTo>
                    <a:lnTo>
                      <a:pt x="1238" y="930"/>
                    </a:lnTo>
                    <a:lnTo>
                      <a:pt x="1232" y="939"/>
                    </a:lnTo>
                    <a:lnTo>
                      <a:pt x="1224" y="944"/>
                    </a:lnTo>
                    <a:lnTo>
                      <a:pt x="1215" y="948"/>
                    </a:lnTo>
                    <a:lnTo>
                      <a:pt x="1189" y="944"/>
                    </a:lnTo>
                    <a:lnTo>
                      <a:pt x="1166" y="938"/>
                    </a:lnTo>
                    <a:lnTo>
                      <a:pt x="1145" y="929"/>
                    </a:lnTo>
                    <a:lnTo>
                      <a:pt x="1128" y="920"/>
                    </a:lnTo>
                    <a:lnTo>
                      <a:pt x="1110" y="909"/>
                    </a:lnTo>
                    <a:lnTo>
                      <a:pt x="1092" y="900"/>
                    </a:lnTo>
                    <a:lnTo>
                      <a:pt x="1072" y="895"/>
                    </a:lnTo>
                    <a:lnTo>
                      <a:pt x="1051" y="893"/>
                    </a:lnTo>
                    <a:lnTo>
                      <a:pt x="1025" y="895"/>
                    </a:lnTo>
                    <a:lnTo>
                      <a:pt x="997" y="905"/>
                    </a:lnTo>
                    <a:lnTo>
                      <a:pt x="966" y="917"/>
                    </a:lnTo>
                    <a:lnTo>
                      <a:pt x="933" y="932"/>
                    </a:lnTo>
                    <a:lnTo>
                      <a:pt x="897" y="946"/>
                    </a:lnTo>
                    <a:lnTo>
                      <a:pt x="862" y="958"/>
                    </a:lnTo>
                    <a:lnTo>
                      <a:pt x="826" y="967"/>
                    </a:lnTo>
                    <a:lnTo>
                      <a:pt x="792" y="971"/>
                    </a:lnTo>
                    <a:lnTo>
                      <a:pt x="776" y="969"/>
                    </a:lnTo>
                    <a:lnTo>
                      <a:pt x="762" y="964"/>
                    </a:lnTo>
                    <a:lnTo>
                      <a:pt x="748" y="955"/>
                    </a:lnTo>
                    <a:lnTo>
                      <a:pt x="737" y="947"/>
                    </a:lnTo>
                    <a:lnTo>
                      <a:pt x="725" y="935"/>
                    </a:lnTo>
                    <a:lnTo>
                      <a:pt x="715" y="925"/>
                    </a:lnTo>
                    <a:lnTo>
                      <a:pt x="706" y="915"/>
                    </a:lnTo>
                    <a:lnTo>
                      <a:pt x="697" y="909"/>
                    </a:lnTo>
                    <a:lnTo>
                      <a:pt x="664" y="886"/>
                    </a:lnTo>
                    <a:lnTo>
                      <a:pt x="631" y="867"/>
                    </a:lnTo>
                    <a:lnTo>
                      <a:pt x="600" y="850"/>
                    </a:lnTo>
                    <a:lnTo>
                      <a:pt x="570" y="835"/>
                    </a:lnTo>
                    <a:lnTo>
                      <a:pt x="539" y="819"/>
                    </a:lnTo>
                    <a:lnTo>
                      <a:pt x="509" y="803"/>
                    </a:lnTo>
                    <a:lnTo>
                      <a:pt x="478" y="785"/>
                    </a:lnTo>
                    <a:lnTo>
                      <a:pt x="448" y="767"/>
                    </a:lnTo>
                    <a:lnTo>
                      <a:pt x="440" y="763"/>
                    </a:lnTo>
                    <a:lnTo>
                      <a:pt x="432" y="761"/>
                    </a:lnTo>
                    <a:lnTo>
                      <a:pt x="424" y="757"/>
                    </a:lnTo>
                    <a:lnTo>
                      <a:pt x="417" y="755"/>
                    </a:lnTo>
                    <a:lnTo>
                      <a:pt x="410" y="751"/>
                    </a:lnTo>
                    <a:lnTo>
                      <a:pt x="405" y="746"/>
                    </a:lnTo>
                    <a:lnTo>
                      <a:pt x="400" y="739"/>
                    </a:lnTo>
                    <a:lnTo>
                      <a:pt x="400" y="730"/>
                    </a:lnTo>
                    <a:lnTo>
                      <a:pt x="400" y="715"/>
                    </a:lnTo>
                    <a:lnTo>
                      <a:pt x="405" y="705"/>
                    </a:lnTo>
                    <a:lnTo>
                      <a:pt x="410" y="699"/>
                    </a:lnTo>
                    <a:lnTo>
                      <a:pt x="417" y="697"/>
                    </a:lnTo>
                    <a:lnTo>
                      <a:pt x="424" y="695"/>
                    </a:lnTo>
                    <a:lnTo>
                      <a:pt x="432" y="693"/>
                    </a:lnTo>
                    <a:lnTo>
                      <a:pt x="440" y="689"/>
                    </a:lnTo>
                    <a:lnTo>
                      <a:pt x="448" y="682"/>
                    </a:lnTo>
                    <a:lnTo>
                      <a:pt x="459" y="660"/>
                    </a:lnTo>
                    <a:lnTo>
                      <a:pt x="472" y="633"/>
                    </a:lnTo>
                    <a:lnTo>
                      <a:pt x="485" y="603"/>
                    </a:lnTo>
                    <a:lnTo>
                      <a:pt x="498" y="573"/>
                    </a:lnTo>
                    <a:lnTo>
                      <a:pt x="508" y="542"/>
                    </a:lnTo>
                    <a:lnTo>
                      <a:pt x="516" y="514"/>
                    </a:lnTo>
                    <a:lnTo>
                      <a:pt x="522" y="489"/>
                    </a:lnTo>
                    <a:lnTo>
                      <a:pt x="525" y="471"/>
                    </a:lnTo>
                    <a:lnTo>
                      <a:pt x="529" y="453"/>
                    </a:lnTo>
                    <a:lnTo>
                      <a:pt x="544" y="434"/>
                    </a:lnTo>
                    <a:lnTo>
                      <a:pt x="565" y="414"/>
                    </a:lnTo>
                    <a:lnTo>
                      <a:pt x="589" y="393"/>
                    </a:lnTo>
                    <a:lnTo>
                      <a:pt x="614" y="373"/>
                    </a:lnTo>
                    <a:lnTo>
                      <a:pt x="639" y="357"/>
                    </a:lnTo>
                    <a:lnTo>
                      <a:pt x="659" y="344"/>
                    </a:lnTo>
                    <a:lnTo>
                      <a:pt x="673" y="336"/>
                    </a:lnTo>
                    <a:lnTo>
                      <a:pt x="657" y="321"/>
                    </a:lnTo>
                    <a:lnTo>
                      <a:pt x="639" y="302"/>
                    </a:lnTo>
                    <a:lnTo>
                      <a:pt x="620" y="278"/>
                    </a:lnTo>
                    <a:lnTo>
                      <a:pt x="600" y="255"/>
                    </a:lnTo>
                    <a:lnTo>
                      <a:pt x="579" y="231"/>
                    </a:lnTo>
                    <a:lnTo>
                      <a:pt x="559" y="213"/>
                    </a:lnTo>
                    <a:lnTo>
                      <a:pt x="540" y="200"/>
                    </a:lnTo>
                    <a:lnTo>
                      <a:pt x="525" y="195"/>
                    </a:lnTo>
                    <a:lnTo>
                      <a:pt x="510" y="195"/>
                    </a:lnTo>
                    <a:lnTo>
                      <a:pt x="498" y="200"/>
                    </a:lnTo>
                    <a:lnTo>
                      <a:pt x="487" y="205"/>
                    </a:lnTo>
                    <a:lnTo>
                      <a:pt x="478" y="212"/>
                    </a:lnTo>
                    <a:lnTo>
                      <a:pt x="467" y="218"/>
                    </a:lnTo>
                    <a:lnTo>
                      <a:pt x="456" y="225"/>
                    </a:lnTo>
                    <a:lnTo>
                      <a:pt x="444" y="230"/>
                    </a:lnTo>
                    <a:lnTo>
                      <a:pt x="431" y="235"/>
                    </a:lnTo>
                    <a:lnTo>
                      <a:pt x="378" y="246"/>
                    </a:lnTo>
                    <a:lnTo>
                      <a:pt x="325" y="260"/>
                    </a:lnTo>
                    <a:lnTo>
                      <a:pt x="271" y="276"/>
                    </a:lnTo>
                    <a:lnTo>
                      <a:pt x="218" y="292"/>
                    </a:lnTo>
                    <a:lnTo>
                      <a:pt x="164" y="306"/>
                    </a:lnTo>
                    <a:lnTo>
                      <a:pt x="109" y="318"/>
                    </a:lnTo>
                    <a:lnTo>
                      <a:pt x="54" y="327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ffffb3"/>
              </a:solidFill>
              <a:ln w="1440">
                <a:solidFill>
                  <a:srgbClr val="e6ff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8502840" y="5418000"/>
                <a:ext cx="105840" cy="73080"/>
              </a:xfrm>
              <a:custGeom>
                <a:avLst/>
                <a:gdLst/>
                <a:ahLst/>
                <a:rect l="l" t="t" r="r" b="b"/>
                <a:pathLst>
                  <a:path w="133" h="92">
                    <a:moveTo>
                      <a:pt x="49" y="23"/>
                    </a:moveTo>
                    <a:lnTo>
                      <a:pt x="41" y="28"/>
                    </a:lnTo>
                    <a:lnTo>
                      <a:pt x="35" y="32"/>
                    </a:lnTo>
                    <a:lnTo>
                      <a:pt x="31" y="35"/>
                    </a:lnTo>
                    <a:lnTo>
                      <a:pt x="30" y="42"/>
                    </a:lnTo>
                    <a:lnTo>
                      <a:pt x="28" y="48"/>
                    </a:lnTo>
                    <a:lnTo>
                      <a:pt x="29" y="56"/>
                    </a:lnTo>
                    <a:lnTo>
                      <a:pt x="29" y="64"/>
                    </a:lnTo>
                    <a:lnTo>
                      <a:pt x="31" y="77"/>
                    </a:lnTo>
                    <a:lnTo>
                      <a:pt x="28" y="77"/>
                    </a:lnTo>
                    <a:lnTo>
                      <a:pt x="21" y="73"/>
                    </a:lnTo>
                    <a:lnTo>
                      <a:pt x="16" y="66"/>
                    </a:lnTo>
                    <a:lnTo>
                      <a:pt x="18" y="64"/>
                    </a:lnTo>
                    <a:lnTo>
                      <a:pt x="35" y="65"/>
                    </a:lnTo>
                    <a:lnTo>
                      <a:pt x="50" y="66"/>
                    </a:lnTo>
                    <a:lnTo>
                      <a:pt x="63" y="66"/>
                    </a:lnTo>
                    <a:lnTo>
                      <a:pt x="75" y="66"/>
                    </a:lnTo>
                    <a:lnTo>
                      <a:pt x="85" y="64"/>
                    </a:lnTo>
                    <a:lnTo>
                      <a:pt x="97" y="62"/>
                    </a:lnTo>
                    <a:lnTo>
                      <a:pt x="109" y="59"/>
                    </a:lnTo>
                    <a:lnTo>
                      <a:pt x="126" y="55"/>
                    </a:lnTo>
                    <a:lnTo>
                      <a:pt x="130" y="55"/>
                    </a:lnTo>
                    <a:lnTo>
                      <a:pt x="133" y="59"/>
                    </a:lnTo>
                    <a:lnTo>
                      <a:pt x="132" y="62"/>
                    </a:lnTo>
                    <a:lnTo>
                      <a:pt x="129" y="66"/>
                    </a:lnTo>
                    <a:lnTo>
                      <a:pt x="112" y="72"/>
                    </a:lnTo>
                    <a:lnTo>
                      <a:pt x="99" y="77"/>
                    </a:lnTo>
                    <a:lnTo>
                      <a:pt x="87" y="81"/>
                    </a:lnTo>
                    <a:lnTo>
                      <a:pt x="76" y="87"/>
                    </a:lnTo>
                    <a:lnTo>
                      <a:pt x="64" y="89"/>
                    </a:lnTo>
                    <a:lnTo>
                      <a:pt x="51" y="91"/>
                    </a:lnTo>
                    <a:lnTo>
                      <a:pt x="35" y="92"/>
                    </a:lnTo>
                    <a:lnTo>
                      <a:pt x="16" y="92"/>
                    </a:lnTo>
                    <a:lnTo>
                      <a:pt x="6" y="89"/>
                    </a:lnTo>
                    <a:lnTo>
                      <a:pt x="3" y="80"/>
                    </a:lnTo>
                    <a:lnTo>
                      <a:pt x="0" y="62"/>
                    </a:lnTo>
                    <a:lnTo>
                      <a:pt x="1" y="48"/>
                    </a:lnTo>
                    <a:lnTo>
                      <a:pt x="1" y="37"/>
                    </a:lnTo>
                    <a:lnTo>
                      <a:pt x="5" y="29"/>
                    </a:lnTo>
                    <a:lnTo>
                      <a:pt x="8" y="21"/>
                    </a:lnTo>
                    <a:lnTo>
                      <a:pt x="16" y="15"/>
                    </a:lnTo>
                    <a:lnTo>
                      <a:pt x="24" y="8"/>
                    </a:lnTo>
                    <a:lnTo>
                      <a:pt x="37" y="2"/>
                    </a:lnTo>
                    <a:lnTo>
                      <a:pt x="46" y="0"/>
                    </a:lnTo>
                    <a:lnTo>
                      <a:pt x="54" y="6"/>
                    </a:lnTo>
                    <a:lnTo>
                      <a:pt x="55" y="15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8467920" y="5371920"/>
                <a:ext cx="88560" cy="77760"/>
              </a:xfrm>
              <a:custGeom>
                <a:avLst/>
                <a:gdLst/>
                <a:ahLst/>
                <a:rect l="l" t="t" r="r" b="b"/>
                <a:pathLst>
                  <a:path w="113" h="99">
                    <a:moveTo>
                      <a:pt x="67" y="15"/>
                    </a:moveTo>
                    <a:lnTo>
                      <a:pt x="54" y="21"/>
                    </a:lnTo>
                    <a:lnTo>
                      <a:pt x="42" y="30"/>
                    </a:lnTo>
                    <a:lnTo>
                      <a:pt x="30" y="38"/>
                    </a:lnTo>
                    <a:lnTo>
                      <a:pt x="24" y="47"/>
                    </a:lnTo>
                    <a:lnTo>
                      <a:pt x="20" y="55"/>
                    </a:lnTo>
                    <a:lnTo>
                      <a:pt x="22" y="63"/>
                    </a:lnTo>
                    <a:lnTo>
                      <a:pt x="30" y="70"/>
                    </a:lnTo>
                    <a:lnTo>
                      <a:pt x="49" y="76"/>
                    </a:lnTo>
                    <a:lnTo>
                      <a:pt x="55" y="73"/>
                    </a:lnTo>
                    <a:lnTo>
                      <a:pt x="63" y="71"/>
                    </a:lnTo>
                    <a:lnTo>
                      <a:pt x="69" y="69"/>
                    </a:lnTo>
                    <a:lnTo>
                      <a:pt x="77" y="67"/>
                    </a:lnTo>
                    <a:lnTo>
                      <a:pt x="83" y="65"/>
                    </a:lnTo>
                    <a:lnTo>
                      <a:pt x="90" y="63"/>
                    </a:lnTo>
                    <a:lnTo>
                      <a:pt x="96" y="61"/>
                    </a:lnTo>
                    <a:lnTo>
                      <a:pt x="106" y="60"/>
                    </a:lnTo>
                    <a:lnTo>
                      <a:pt x="110" y="59"/>
                    </a:lnTo>
                    <a:lnTo>
                      <a:pt x="113" y="63"/>
                    </a:lnTo>
                    <a:lnTo>
                      <a:pt x="112" y="67"/>
                    </a:lnTo>
                    <a:lnTo>
                      <a:pt x="109" y="72"/>
                    </a:lnTo>
                    <a:lnTo>
                      <a:pt x="100" y="74"/>
                    </a:lnTo>
                    <a:lnTo>
                      <a:pt x="93" y="77"/>
                    </a:lnTo>
                    <a:lnTo>
                      <a:pt x="86" y="80"/>
                    </a:lnTo>
                    <a:lnTo>
                      <a:pt x="80" y="85"/>
                    </a:lnTo>
                    <a:lnTo>
                      <a:pt x="72" y="88"/>
                    </a:lnTo>
                    <a:lnTo>
                      <a:pt x="65" y="91"/>
                    </a:lnTo>
                    <a:lnTo>
                      <a:pt x="57" y="94"/>
                    </a:lnTo>
                    <a:lnTo>
                      <a:pt x="51" y="99"/>
                    </a:lnTo>
                    <a:lnTo>
                      <a:pt x="23" y="89"/>
                    </a:lnTo>
                    <a:lnTo>
                      <a:pt x="7" y="78"/>
                    </a:lnTo>
                    <a:lnTo>
                      <a:pt x="0" y="65"/>
                    </a:lnTo>
                    <a:lnTo>
                      <a:pt x="2" y="53"/>
                    </a:lnTo>
                    <a:lnTo>
                      <a:pt x="10" y="40"/>
                    </a:lnTo>
                    <a:lnTo>
                      <a:pt x="24" y="27"/>
                    </a:lnTo>
                    <a:lnTo>
                      <a:pt x="40" y="14"/>
                    </a:lnTo>
                    <a:lnTo>
                      <a:pt x="59" y="2"/>
                    </a:lnTo>
                    <a:lnTo>
                      <a:pt x="65" y="0"/>
                    </a:lnTo>
                    <a:lnTo>
                      <a:pt x="69" y="4"/>
                    </a:lnTo>
                    <a:lnTo>
                      <a:pt x="70" y="9"/>
                    </a:lnTo>
                    <a:lnTo>
                      <a:pt x="6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8373960" y="5337000"/>
                <a:ext cx="101160" cy="5724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19" y="22"/>
                    </a:moveTo>
                    <a:lnTo>
                      <a:pt x="103" y="19"/>
                    </a:lnTo>
                    <a:lnTo>
                      <a:pt x="89" y="19"/>
                    </a:lnTo>
                    <a:lnTo>
                      <a:pt x="75" y="20"/>
                    </a:lnTo>
                    <a:lnTo>
                      <a:pt x="62" y="24"/>
                    </a:lnTo>
                    <a:lnTo>
                      <a:pt x="49" y="28"/>
                    </a:lnTo>
                    <a:lnTo>
                      <a:pt x="39" y="34"/>
                    </a:lnTo>
                    <a:lnTo>
                      <a:pt x="28" y="41"/>
                    </a:lnTo>
                    <a:lnTo>
                      <a:pt x="21" y="48"/>
                    </a:lnTo>
                    <a:lnTo>
                      <a:pt x="17" y="46"/>
                    </a:lnTo>
                    <a:lnTo>
                      <a:pt x="15" y="38"/>
                    </a:lnTo>
                    <a:lnTo>
                      <a:pt x="17" y="31"/>
                    </a:lnTo>
                    <a:lnTo>
                      <a:pt x="21" y="30"/>
                    </a:lnTo>
                    <a:lnTo>
                      <a:pt x="45" y="50"/>
                    </a:lnTo>
                    <a:lnTo>
                      <a:pt x="57" y="49"/>
                    </a:lnTo>
                    <a:lnTo>
                      <a:pt x="67" y="49"/>
                    </a:lnTo>
                    <a:lnTo>
                      <a:pt x="76" y="48"/>
                    </a:lnTo>
                    <a:lnTo>
                      <a:pt x="84" y="47"/>
                    </a:lnTo>
                    <a:lnTo>
                      <a:pt x="91" y="45"/>
                    </a:lnTo>
                    <a:lnTo>
                      <a:pt x="98" y="43"/>
                    </a:lnTo>
                    <a:lnTo>
                      <a:pt x="107" y="39"/>
                    </a:lnTo>
                    <a:lnTo>
                      <a:pt x="118" y="37"/>
                    </a:lnTo>
                    <a:lnTo>
                      <a:pt x="123" y="36"/>
                    </a:lnTo>
                    <a:lnTo>
                      <a:pt x="126" y="41"/>
                    </a:lnTo>
                    <a:lnTo>
                      <a:pt x="125" y="45"/>
                    </a:lnTo>
                    <a:lnTo>
                      <a:pt x="122" y="50"/>
                    </a:lnTo>
                    <a:lnTo>
                      <a:pt x="110" y="53"/>
                    </a:lnTo>
                    <a:lnTo>
                      <a:pt x="100" y="58"/>
                    </a:lnTo>
                    <a:lnTo>
                      <a:pt x="91" y="61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3" y="70"/>
                    </a:lnTo>
                    <a:lnTo>
                      <a:pt x="51" y="71"/>
                    </a:lnTo>
                    <a:lnTo>
                      <a:pt x="37" y="72"/>
                    </a:lnTo>
                    <a:lnTo>
                      <a:pt x="7" y="48"/>
                    </a:lnTo>
                    <a:lnTo>
                      <a:pt x="0" y="38"/>
                    </a:lnTo>
                    <a:lnTo>
                      <a:pt x="7" y="30"/>
                    </a:lnTo>
                    <a:lnTo>
                      <a:pt x="17" y="21"/>
                    </a:lnTo>
                    <a:lnTo>
                      <a:pt x="28" y="15"/>
                    </a:lnTo>
                    <a:lnTo>
                      <a:pt x="41" y="8"/>
                    </a:lnTo>
                    <a:lnTo>
                      <a:pt x="56" y="4"/>
                    </a:lnTo>
                    <a:lnTo>
                      <a:pt x="70" y="1"/>
                    </a:lnTo>
                    <a:lnTo>
                      <a:pt x="86" y="0"/>
                    </a:lnTo>
                    <a:lnTo>
                      <a:pt x="103" y="0"/>
                    </a:lnTo>
                    <a:lnTo>
                      <a:pt x="122" y="4"/>
                    </a:lnTo>
                    <a:lnTo>
                      <a:pt x="128" y="7"/>
                    </a:lnTo>
                    <a:lnTo>
                      <a:pt x="129" y="15"/>
                    </a:lnTo>
                    <a:lnTo>
                      <a:pt x="125" y="20"/>
                    </a:lnTo>
                    <a:lnTo>
                      <a:pt x="1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8386560" y="5394240"/>
                <a:ext cx="91800" cy="63360"/>
              </a:xfrm>
              <a:custGeom>
                <a:avLst/>
                <a:gdLst/>
                <a:ahLst/>
                <a:rect l="l" t="t" r="r" b="b"/>
                <a:pathLst>
                  <a:path w="116" h="80">
                    <a:moveTo>
                      <a:pt x="85" y="14"/>
                    </a:moveTo>
                    <a:lnTo>
                      <a:pt x="68" y="16"/>
                    </a:lnTo>
                    <a:lnTo>
                      <a:pt x="53" y="19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1" y="38"/>
                    </a:lnTo>
                    <a:lnTo>
                      <a:pt x="23" y="45"/>
                    </a:lnTo>
                    <a:lnTo>
                      <a:pt x="31" y="54"/>
                    </a:lnTo>
                    <a:lnTo>
                      <a:pt x="41" y="52"/>
                    </a:lnTo>
                    <a:lnTo>
                      <a:pt x="50" y="51"/>
                    </a:lnTo>
                    <a:lnTo>
                      <a:pt x="57" y="50"/>
                    </a:lnTo>
                    <a:lnTo>
                      <a:pt x="66" y="49"/>
                    </a:lnTo>
                    <a:lnTo>
                      <a:pt x="73" y="47"/>
                    </a:lnTo>
                    <a:lnTo>
                      <a:pt x="82" y="45"/>
                    </a:lnTo>
                    <a:lnTo>
                      <a:pt x="92" y="43"/>
                    </a:lnTo>
                    <a:lnTo>
                      <a:pt x="103" y="41"/>
                    </a:lnTo>
                    <a:lnTo>
                      <a:pt x="111" y="41"/>
                    </a:lnTo>
                    <a:lnTo>
                      <a:pt x="116" y="48"/>
                    </a:lnTo>
                    <a:lnTo>
                      <a:pt x="115" y="56"/>
                    </a:lnTo>
                    <a:lnTo>
                      <a:pt x="109" y="62"/>
                    </a:lnTo>
                    <a:lnTo>
                      <a:pt x="96" y="64"/>
                    </a:lnTo>
                    <a:lnTo>
                      <a:pt x="86" y="67"/>
                    </a:lnTo>
                    <a:lnTo>
                      <a:pt x="75" y="70"/>
                    </a:lnTo>
                    <a:lnTo>
                      <a:pt x="67" y="73"/>
                    </a:lnTo>
                    <a:lnTo>
                      <a:pt x="57" y="74"/>
                    </a:lnTo>
                    <a:lnTo>
                      <a:pt x="47" y="76"/>
                    </a:lnTo>
                    <a:lnTo>
                      <a:pt x="36" y="78"/>
                    </a:lnTo>
                    <a:lnTo>
                      <a:pt x="24" y="80"/>
                    </a:lnTo>
                    <a:lnTo>
                      <a:pt x="7" y="64"/>
                    </a:lnTo>
                    <a:lnTo>
                      <a:pt x="0" y="51"/>
                    </a:lnTo>
                    <a:lnTo>
                      <a:pt x="0" y="38"/>
                    </a:lnTo>
                    <a:lnTo>
                      <a:pt x="8" y="28"/>
                    </a:lnTo>
                    <a:lnTo>
                      <a:pt x="19" y="17"/>
                    </a:lnTo>
                    <a:lnTo>
                      <a:pt x="37" y="9"/>
                    </a:lnTo>
                    <a:lnTo>
                      <a:pt x="58" y="3"/>
                    </a:lnTo>
                    <a:lnTo>
                      <a:pt x="83" y="0"/>
                    </a:lnTo>
                    <a:lnTo>
                      <a:pt x="88" y="1"/>
                    </a:lnTo>
                    <a:lnTo>
                      <a:pt x="90" y="5"/>
                    </a:lnTo>
                    <a:lnTo>
                      <a:pt x="89" y="10"/>
                    </a:lnTo>
                    <a:lnTo>
                      <a:pt x="8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8247240" y="5373360"/>
                <a:ext cx="128160" cy="61920"/>
              </a:xfrm>
              <a:custGeom>
                <a:avLst/>
                <a:gdLst/>
                <a:ahLst/>
                <a:rect l="l" t="t" r="r" b="b"/>
                <a:pathLst>
                  <a:path w="163" h="77">
                    <a:moveTo>
                      <a:pt x="76" y="13"/>
                    </a:moveTo>
                    <a:lnTo>
                      <a:pt x="65" y="16"/>
                    </a:lnTo>
                    <a:lnTo>
                      <a:pt x="57" y="20"/>
                    </a:lnTo>
                    <a:lnTo>
                      <a:pt x="50" y="25"/>
                    </a:lnTo>
                    <a:lnTo>
                      <a:pt x="43" y="31"/>
                    </a:lnTo>
                    <a:lnTo>
                      <a:pt x="37" y="36"/>
                    </a:lnTo>
                    <a:lnTo>
                      <a:pt x="30" y="43"/>
                    </a:lnTo>
                    <a:lnTo>
                      <a:pt x="25" y="49"/>
                    </a:lnTo>
                    <a:lnTo>
                      <a:pt x="21" y="57"/>
                    </a:lnTo>
                    <a:lnTo>
                      <a:pt x="19" y="55"/>
                    </a:lnTo>
                    <a:lnTo>
                      <a:pt x="19" y="50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6" y="54"/>
                    </a:lnTo>
                    <a:lnTo>
                      <a:pt x="33" y="58"/>
                    </a:lnTo>
                    <a:lnTo>
                      <a:pt x="39" y="58"/>
                    </a:lnTo>
                    <a:lnTo>
                      <a:pt x="48" y="57"/>
                    </a:lnTo>
                    <a:lnTo>
                      <a:pt x="55" y="53"/>
                    </a:lnTo>
                    <a:lnTo>
                      <a:pt x="64" y="48"/>
                    </a:lnTo>
                    <a:lnTo>
                      <a:pt x="72" y="43"/>
                    </a:lnTo>
                    <a:lnTo>
                      <a:pt x="82" y="40"/>
                    </a:lnTo>
                    <a:lnTo>
                      <a:pt x="91" y="35"/>
                    </a:lnTo>
                    <a:lnTo>
                      <a:pt x="100" y="32"/>
                    </a:lnTo>
                    <a:lnTo>
                      <a:pt x="109" y="29"/>
                    </a:lnTo>
                    <a:lnTo>
                      <a:pt x="119" y="26"/>
                    </a:lnTo>
                    <a:lnTo>
                      <a:pt x="126" y="21"/>
                    </a:lnTo>
                    <a:lnTo>
                      <a:pt x="135" y="18"/>
                    </a:lnTo>
                    <a:lnTo>
                      <a:pt x="144" y="14"/>
                    </a:lnTo>
                    <a:lnTo>
                      <a:pt x="154" y="10"/>
                    </a:lnTo>
                    <a:lnTo>
                      <a:pt x="158" y="8"/>
                    </a:lnTo>
                    <a:lnTo>
                      <a:pt x="162" y="12"/>
                    </a:lnTo>
                    <a:lnTo>
                      <a:pt x="163" y="16"/>
                    </a:lnTo>
                    <a:lnTo>
                      <a:pt x="161" y="20"/>
                    </a:lnTo>
                    <a:lnTo>
                      <a:pt x="150" y="25"/>
                    </a:lnTo>
                    <a:lnTo>
                      <a:pt x="141" y="31"/>
                    </a:lnTo>
                    <a:lnTo>
                      <a:pt x="133" y="35"/>
                    </a:lnTo>
                    <a:lnTo>
                      <a:pt x="125" y="42"/>
                    </a:lnTo>
                    <a:lnTo>
                      <a:pt x="116" y="46"/>
                    </a:lnTo>
                    <a:lnTo>
                      <a:pt x="109" y="51"/>
                    </a:lnTo>
                    <a:lnTo>
                      <a:pt x="99" y="56"/>
                    </a:lnTo>
                    <a:lnTo>
                      <a:pt x="91" y="61"/>
                    </a:lnTo>
                    <a:lnTo>
                      <a:pt x="78" y="64"/>
                    </a:lnTo>
                    <a:lnTo>
                      <a:pt x="65" y="70"/>
                    </a:lnTo>
                    <a:lnTo>
                      <a:pt x="52" y="74"/>
                    </a:lnTo>
                    <a:lnTo>
                      <a:pt x="40" y="77"/>
                    </a:lnTo>
                    <a:lnTo>
                      <a:pt x="28" y="77"/>
                    </a:lnTo>
                    <a:lnTo>
                      <a:pt x="19" y="74"/>
                    </a:lnTo>
                    <a:lnTo>
                      <a:pt x="9" y="67"/>
                    </a:lnTo>
                    <a:lnTo>
                      <a:pt x="1" y="55"/>
                    </a:lnTo>
                    <a:lnTo>
                      <a:pt x="0" y="49"/>
                    </a:lnTo>
                    <a:lnTo>
                      <a:pt x="2" y="44"/>
                    </a:lnTo>
                    <a:lnTo>
                      <a:pt x="9" y="34"/>
                    </a:lnTo>
                    <a:lnTo>
                      <a:pt x="15" y="28"/>
                    </a:lnTo>
                    <a:lnTo>
                      <a:pt x="23" y="21"/>
                    </a:lnTo>
                    <a:lnTo>
                      <a:pt x="31" y="17"/>
                    </a:lnTo>
                    <a:lnTo>
                      <a:pt x="40" y="11"/>
                    </a:lnTo>
                    <a:lnTo>
                      <a:pt x="50" y="6"/>
                    </a:lnTo>
                    <a:lnTo>
                      <a:pt x="59" y="3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4"/>
                    </a:lnTo>
                    <a:lnTo>
                      <a:pt x="79" y="8"/>
                    </a:lnTo>
                    <a:lnTo>
                      <a:pt x="7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8250480" y="5292720"/>
                <a:ext cx="113760" cy="680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02" y="14"/>
                    </a:moveTo>
                    <a:lnTo>
                      <a:pt x="83" y="16"/>
                    </a:lnTo>
                    <a:lnTo>
                      <a:pt x="68" y="19"/>
                    </a:lnTo>
                    <a:lnTo>
                      <a:pt x="55" y="22"/>
                    </a:lnTo>
                    <a:lnTo>
                      <a:pt x="47" y="29"/>
                    </a:lnTo>
                    <a:lnTo>
                      <a:pt x="38" y="35"/>
                    </a:lnTo>
                    <a:lnTo>
                      <a:pt x="30" y="45"/>
                    </a:lnTo>
                    <a:lnTo>
                      <a:pt x="24" y="57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12" y="68"/>
                    </a:lnTo>
                    <a:lnTo>
                      <a:pt x="10" y="61"/>
                    </a:lnTo>
                    <a:lnTo>
                      <a:pt x="13" y="60"/>
                    </a:lnTo>
                    <a:lnTo>
                      <a:pt x="30" y="63"/>
                    </a:lnTo>
                    <a:lnTo>
                      <a:pt x="47" y="66"/>
                    </a:lnTo>
                    <a:lnTo>
                      <a:pt x="62" y="65"/>
                    </a:lnTo>
                    <a:lnTo>
                      <a:pt x="77" y="63"/>
                    </a:lnTo>
                    <a:lnTo>
                      <a:pt x="90" y="57"/>
                    </a:lnTo>
                    <a:lnTo>
                      <a:pt x="104" y="50"/>
                    </a:lnTo>
                    <a:lnTo>
                      <a:pt x="118" y="40"/>
                    </a:lnTo>
                    <a:lnTo>
                      <a:pt x="132" y="28"/>
                    </a:lnTo>
                    <a:lnTo>
                      <a:pt x="137" y="25"/>
                    </a:lnTo>
                    <a:lnTo>
                      <a:pt x="142" y="28"/>
                    </a:lnTo>
                    <a:lnTo>
                      <a:pt x="144" y="33"/>
                    </a:lnTo>
                    <a:lnTo>
                      <a:pt x="143" y="40"/>
                    </a:lnTo>
                    <a:lnTo>
                      <a:pt x="127" y="52"/>
                    </a:lnTo>
                    <a:lnTo>
                      <a:pt x="111" y="65"/>
                    </a:lnTo>
                    <a:lnTo>
                      <a:pt x="95" y="75"/>
                    </a:lnTo>
                    <a:lnTo>
                      <a:pt x="80" y="81"/>
                    </a:lnTo>
                    <a:lnTo>
                      <a:pt x="63" y="85"/>
                    </a:lnTo>
                    <a:lnTo>
                      <a:pt x="45" y="86"/>
                    </a:lnTo>
                    <a:lnTo>
                      <a:pt x="26" y="83"/>
                    </a:lnTo>
                    <a:lnTo>
                      <a:pt x="7" y="78"/>
                    </a:lnTo>
                    <a:lnTo>
                      <a:pt x="0" y="73"/>
                    </a:lnTo>
                    <a:lnTo>
                      <a:pt x="0" y="65"/>
                    </a:lnTo>
                    <a:lnTo>
                      <a:pt x="7" y="47"/>
                    </a:lnTo>
                    <a:lnTo>
                      <a:pt x="15" y="34"/>
                    </a:lnTo>
                    <a:lnTo>
                      <a:pt x="24" y="23"/>
                    </a:lnTo>
                    <a:lnTo>
                      <a:pt x="35" y="16"/>
                    </a:lnTo>
                    <a:lnTo>
                      <a:pt x="45" y="9"/>
                    </a:lnTo>
                    <a:lnTo>
                      <a:pt x="61" y="6"/>
                    </a:lnTo>
                    <a:lnTo>
                      <a:pt x="79" y="2"/>
                    </a:lnTo>
                    <a:lnTo>
                      <a:pt x="101" y="0"/>
                    </a:lnTo>
                    <a:lnTo>
                      <a:pt x="106" y="1"/>
                    </a:lnTo>
                    <a:lnTo>
                      <a:pt x="108" y="5"/>
                    </a:lnTo>
                    <a:lnTo>
                      <a:pt x="107" y="11"/>
                    </a:lnTo>
                    <a:lnTo>
                      <a:pt x="10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8188560" y="5325840"/>
                <a:ext cx="82080" cy="65160"/>
              </a:xfrm>
              <a:custGeom>
                <a:avLst/>
                <a:gdLst/>
                <a:ahLst/>
                <a:rect l="l" t="t" r="r" b="b"/>
                <a:pathLst>
                  <a:path w="103" h="80">
                    <a:moveTo>
                      <a:pt x="66" y="15"/>
                    </a:moveTo>
                    <a:lnTo>
                      <a:pt x="53" y="20"/>
                    </a:lnTo>
                    <a:lnTo>
                      <a:pt x="46" y="25"/>
                    </a:lnTo>
                    <a:lnTo>
                      <a:pt x="40" y="28"/>
                    </a:lnTo>
                    <a:lnTo>
                      <a:pt x="37" y="32"/>
                    </a:lnTo>
                    <a:lnTo>
                      <a:pt x="33" y="35"/>
                    </a:lnTo>
                    <a:lnTo>
                      <a:pt x="30" y="40"/>
                    </a:lnTo>
                    <a:lnTo>
                      <a:pt x="24" y="45"/>
                    </a:lnTo>
                    <a:lnTo>
                      <a:pt x="17" y="55"/>
                    </a:lnTo>
                    <a:lnTo>
                      <a:pt x="13" y="52"/>
                    </a:lnTo>
                    <a:lnTo>
                      <a:pt x="13" y="47"/>
                    </a:lnTo>
                    <a:lnTo>
                      <a:pt x="13" y="41"/>
                    </a:lnTo>
                    <a:lnTo>
                      <a:pt x="17" y="42"/>
                    </a:lnTo>
                    <a:lnTo>
                      <a:pt x="22" y="46"/>
                    </a:lnTo>
                    <a:lnTo>
                      <a:pt x="29" y="51"/>
                    </a:lnTo>
                    <a:lnTo>
                      <a:pt x="35" y="55"/>
                    </a:lnTo>
                    <a:lnTo>
                      <a:pt x="45" y="58"/>
                    </a:lnTo>
                    <a:lnTo>
                      <a:pt x="53" y="59"/>
                    </a:lnTo>
                    <a:lnTo>
                      <a:pt x="65" y="60"/>
                    </a:lnTo>
                    <a:lnTo>
                      <a:pt x="77" y="60"/>
                    </a:lnTo>
                    <a:lnTo>
                      <a:pt x="92" y="60"/>
                    </a:lnTo>
                    <a:lnTo>
                      <a:pt x="99" y="61"/>
                    </a:lnTo>
                    <a:lnTo>
                      <a:pt x="103" y="69"/>
                    </a:lnTo>
                    <a:lnTo>
                      <a:pt x="101" y="76"/>
                    </a:lnTo>
                    <a:lnTo>
                      <a:pt x="94" y="80"/>
                    </a:lnTo>
                    <a:lnTo>
                      <a:pt x="76" y="80"/>
                    </a:lnTo>
                    <a:lnTo>
                      <a:pt x="61" y="80"/>
                    </a:lnTo>
                    <a:lnTo>
                      <a:pt x="48" y="78"/>
                    </a:lnTo>
                    <a:lnTo>
                      <a:pt x="37" y="76"/>
                    </a:lnTo>
                    <a:lnTo>
                      <a:pt x="27" y="72"/>
                    </a:lnTo>
                    <a:lnTo>
                      <a:pt x="18" y="66"/>
                    </a:lnTo>
                    <a:lnTo>
                      <a:pt x="9" y="60"/>
                    </a:lnTo>
                    <a:lnTo>
                      <a:pt x="3" y="55"/>
                    </a:lnTo>
                    <a:lnTo>
                      <a:pt x="0" y="48"/>
                    </a:lnTo>
                    <a:lnTo>
                      <a:pt x="3" y="42"/>
                    </a:lnTo>
                    <a:lnTo>
                      <a:pt x="10" y="32"/>
                    </a:lnTo>
                    <a:lnTo>
                      <a:pt x="18" y="26"/>
                    </a:lnTo>
                    <a:lnTo>
                      <a:pt x="22" y="21"/>
                    </a:lnTo>
                    <a:lnTo>
                      <a:pt x="27" y="19"/>
                    </a:lnTo>
                    <a:lnTo>
                      <a:pt x="30" y="16"/>
                    </a:lnTo>
                    <a:lnTo>
                      <a:pt x="37" y="13"/>
                    </a:lnTo>
                    <a:lnTo>
                      <a:pt x="46" y="8"/>
                    </a:lnTo>
                    <a:lnTo>
                      <a:pt x="59" y="2"/>
                    </a:lnTo>
                    <a:lnTo>
                      <a:pt x="64" y="0"/>
                    </a:lnTo>
                    <a:lnTo>
                      <a:pt x="68" y="4"/>
                    </a:lnTo>
                    <a:lnTo>
                      <a:pt x="70" y="9"/>
                    </a:lnTo>
                    <a:lnTo>
                      <a:pt x="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8120160" y="5256000"/>
                <a:ext cx="113760" cy="46080"/>
              </a:xfrm>
              <a:custGeom>
                <a:avLst/>
                <a:gdLst/>
                <a:ahLst/>
                <a:rect l="l" t="t" r="r" b="b"/>
                <a:pathLst>
                  <a:path w="145" h="59">
                    <a:moveTo>
                      <a:pt x="87" y="43"/>
                    </a:moveTo>
                    <a:lnTo>
                      <a:pt x="94" y="39"/>
                    </a:lnTo>
                    <a:lnTo>
                      <a:pt x="102" y="37"/>
                    </a:lnTo>
                    <a:lnTo>
                      <a:pt x="107" y="34"/>
                    </a:lnTo>
                    <a:lnTo>
                      <a:pt x="113" y="32"/>
                    </a:lnTo>
                    <a:lnTo>
                      <a:pt x="121" y="23"/>
                    </a:lnTo>
                    <a:lnTo>
                      <a:pt x="130" y="14"/>
                    </a:lnTo>
                    <a:lnTo>
                      <a:pt x="132" y="13"/>
                    </a:lnTo>
                    <a:lnTo>
                      <a:pt x="135" y="18"/>
                    </a:lnTo>
                    <a:lnTo>
                      <a:pt x="135" y="23"/>
                    </a:lnTo>
                    <a:lnTo>
                      <a:pt x="133" y="26"/>
                    </a:lnTo>
                    <a:lnTo>
                      <a:pt x="119" y="21"/>
                    </a:lnTo>
                    <a:lnTo>
                      <a:pt x="107" y="18"/>
                    </a:lnTo>
                    <a:lnTo>
                      <a:pt x="96" y="16"/>
                    </a:lnTo>
                    <a:lnTo>
                      <a:pt x="86" y="16"/>
                    </a:lnTo>
                    <a:lnTo>
                      <a:pt x="75" y="16"/>
                    </a:lnTo>
                    <a:lnTo>
                      <a:pt x="64" y="19"/>
                    </a:lnTo>
                    <a:lnTo>
                      <a:pt x="51" y="21"/>
                    </a:lnTo>
                    <a:lnTo>
                      <a:pt x="40" y="25"/>
                    </a:lnTo>
                    <a:lnTo>
                      <a:pt x="14" y="46"/>
                    </a:lnTo>
                    <a:lnTo>
                      <a:pt x="9" y="45"/>
                    </a:lnTo>
                    <a:lnTo>
                      <a:pt x="8" y="39"/>
                    </a:lnTo>
                    <a:lnTo>
                      <a:pt x="8" y="34"/>
                    </a:lnTo>
                    <a:lnTo>
                      <a:pt x="13" y="34"/>
                    </a:lnTo>
                    <a:lnTo>
                      <a:pt x="34" y="48"/>
                    </a:lnTo>
                    <a:lnTo>
                      <a:pt x="36" y="51"/>
                    </a:lnTo>
                    <a:lnTo>
                      <a:pt x="35" y="55"/>
                    </a:lnTo>
                    <a:lnTo>
                      <a:pt x="32" y="59"/>
                    </a:lnTo>
                    <a:lnTo>
                      <a:pt x="28" y="59"/>
                    </a:lnTo>
                    <a:lnTo>
                      <a:pt x="5" y="47"/>
                    </a:lnTo>
                    <a:lnTo>
                      <a:pt x="0" y="40"/>
                    </a:lnTo>
                    <a:lnTo>
                      <a:pt x="4" y="34"/>
                    </a:lnTo>
                    <a:lnTo>
                      <a:pt x="32" y="10"/>
                    </a:lnTo>
                    <a:lnTo>
                      <a:pt x="46" y="5"/>
                    </a:lnTo>
                    <a:lnTo>
                      <a:pt x="60" y="3"/>
                    </a:lnTo>
                    <a:lnTo>
                      <a:pt x="72" y="0"/>
                    </a:lnTo>
                    <a:lnTo>
                      <a:pt x="85" y="0"/>
                    </a:lnTo>
                    <a:lnTo>
                      <a:pt x="97" y="0"/>
                    </a:lnTo>
                    <a:lnTo>
                      <a:pt x="109" y="2"/>
                    </a:lnTo>
                    <a:lnTo>
                      <a:pt x="123" y="5"/>
                    </a:lnTo>
                    <a:lnTo>
                      <a:pt x="140" y="10"/>
                    </a:lnTo>
                    <a:lnTo>
                      <a:pt x="145" y="15"/>
                    </a:lnTo>
                    <a:lnTo>
                      <a:pt x="144" y="23"/>
                    </a:lnTo>
                    <a:lnTo>
                      <a:pt x="137" y="29"/>
                    </a:lnTo>
                    <a:lnTo>
                      <a:pt x="132" y="35"/>
                    </a:lnTo>
                    <a:lnTo>
                      <a:pt x="127" y="39"/>
                    </a:lnTo>
                    <a:lnTo>
                      <a:pt x="122" y="44"/>
                    </a:lnTo>
                    <a:lnTo>
                      <a:pt x="115" y="47"/>
                    </a:lnTo>
                    <a:lnTo>
                      <a:pt x="108" y="50"/>
                    </a:lnTo>
                    <a:lnTo>
                      <a:pt x="99" y="52"/>
                    </a:lnTo>
                    <a:lnTo>
                      <a:pt x="89" y="55"/>
                    </a:lnTo>
                    <a:lnTo>
                      <a:pt x="84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7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8010360" y="5243400"/>
                <a:ext cx="99720" cy="58680"/>
              </a:xfrm>
              <a:custGeom>
                <a:avLst/>
                <a:gdLst/>
                <a:ahLst/>
                <a:rect l="l" t="t" r="r" b="b"/>
                <a:pathLst>
                  <a:path w="126" h="76">
                    <a:moveTo>
                      <a:pt x="5" y="64"/>
                    </a:moveTo>
                    <a:lnTo>
                      <a:pt x="22" y="59"/>
                    </a:lnTo>
                    <a:lnTo>
                      <a:pt x="37" y="54"/>
                    </a:lnTo>
                    <a:lnTo>
                      <a:pt x="50" y="49"/>
                    </a:lnTo>
                    <a:lnTo>
                      <a:pt x="64" y="43"/>
                    </a:lnTo>
                    <a:lnTo>
                      <a:pt x="75" y="37"/>
                    </a:lnTo>
                    <a:lnTo>
                      <a:pt x="87" y="31"/>
                    </a:lnTo>
                    <a:lnTo>
                      <a:pt x="99" y="24"/>
                    </a:lnTo>
                    <a:lnTo>
                      <a:pt x="113" y="18"/>
                    </a:lnTo>
                    <a:lnTo>
                      <a:pt x="115" y="19"/>
                    </a:lnTo>
                    <a:lnTo>
                      <a:pt x="115" y="25"/>
                    </a:lnTo>
                    <a:lnTo>
                      <a:pt x="112" y="31"/>
                    </a:lnTo>
                    <a:lnTo>
                      <a:pt x="110" y="32"/>
                    </a:lnTo>
                    <a:lnTo>
                      <a:pt x="100" y="23"/>
                    </a:lnTo>
                    <a:lnTo>
                      <a:pt x="90" y="19"/>
                    </a:lnTo>
                    <a:lnTo>
                      <a:pt x="78" y="16"/>
                    </a:lnTo>
                    <a:lnTo>
                      <a:pt x="68" y="17"/>
                    </a:lnTo>
                    <a:lnTo>
                      <a:pt x="54" y="18"/>
                    </a:lnTo>
                    <a:lnTo>
                      <a:pt x="41" y="21"/>
                    </a:lnTo>
                    <a:lnTo>
                      <a:pt x="28" y="25"/>
                    </a:lnTo>
                    <a:lnTo>
                      <a:pt x="17" y="32"/>
                    </a:lnTo>
                    <a:lnTo>
                      <a:pt x="11" y="31"/>
                    </a:lnTo>
                    <a:lnTo>
                      <a:pt x="8" y="28"/>
                    </a:lnTo>
                    <a:lnTo>
                      <a:pt x="7" y="23"/>
                    </a:lnTo>
                    <a:lnTo>
                      <a:pt x="12" y="20"/>
                    </a:lnTo>
                    <a:lnTo>
                      <a:pt x="26" y="13"/>
                    </a:lnTo>
                    <a:lnTo>
                      <a:pt x="41" y="8"/>
                    </a:lnTo>
                    <a:lnTo>
                      <a:pt x="56" y="4"/>
                    </a:lnTo>
                    <a:lnTo>
                      <a:pt x="72" y="2"/>
                    </a:lnTo>
                    <a:lnTo>
                      <a:pt x="86" y="0"/>
                    </a:lnTo>
                    <a:lnTo>
                      <a:pt x="101" y="4"/>
                    </a:lnTo>
                    <a:lnTo>
                      <a:pt x="113" y="10"/>
                    </a:lnTo>
                    <a:lnTo>
                      <a:pt x="123" y="20"/>
                    </a:lnTo>
                    <a:lnTo>
                      <a:pt x="126" y="27"/>
                    </a:lnTo>
                    <a:lnTo>
                      <a:pt x="120" y="34"/>
                    </a:lnTo>
                    <a:lnTo>
                      <a:pt x="106" y="39"/>
                    </a:lnTo>
                    <a:lnTo>
                      <a:pt x="94" y="46"/>
                    </a:lnTo>
                    <a:lnTo>
                      <a:pt x="82" y="51"/>
                    </a:lnTo>
                    <a:lnTo>
                      <a:pt x="70" y="57"/>
                    </a:lnTo>
                    <a:lnTo>
                      <a:pt x="56" y="62"/>
                    </a:lnTo>
                    <a:lnTo>
                      <a:pt x="42" y="66"/>
                    </a:lnTo>
                    <a:lnTo>
                      <a:pt x="26" y="70"/>
                    </a:lnTo>
                    <a:lnTo>
                      <a:pt x="7" y="76"/>
                    </a:lnTo>
                    <a:lnTo>
                      <a:pt x="2" y="75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7903800" y="5240160"/>
                <a:ext cx="115560" cy="66600"/>
              </a:xfrm>
              <a:custGeom>
                <a:avLst/>
                <a:gdLst/>
                <a:ahLst/>
                <a:rect l="l" t="t" r="r" b="b"/>
                <a:pathLst>
                  <a:path w="146" h="83">
                    <a:moveTo>
                      <a:pt x="9" y="65"/>
                    </a:moveTo>
                    <a:lnTo>
                      <a:pt x="28" y="66"/>
                    </a:lnTo>
                    <a:lnTo>
                      <a:pt x="46" y="65"/>
                    </a:lnTo>
                    <a:lnTo>
                      <a:pt x="63" y="62"/>
                    </a:lnTo>
                    <a:lnTo>
                      <a:pt x="79" y="56"/>
                    </a:lnTo>
                    <a:lnTo>
                      <a:pt x="93" y="48"/>
                    </a:lnTo>
                    <a:lnTo>
                      <a:pt x="106" y="39"/>
                    </a:lnTo>
                    <a:lnTo>
                      <a:pt x="116" y="27"/>
                    </a:lnTo>
                    <a:lnTo>
                      <a:pt x="126" y="15"/>
                    </a:lnTo>
                    <a:lnTo>
                      <a:pt x="129" y="14"/>
                    </a:lnTo>
                    <a:lnTo>
                      <a:pt x="133" y="21"/>
                    </a:lnTo>
                    <a:lnTo>
                      <a:pt x="134" y="27"/>
                    </a:lnTo>
                    <a:lnTo>
                      <a:pt x="132" y="30"/>
                    </a:lnTo>
                    <a:lnTo>
                      <a:pt x="126" y="28"/>
                    </a:lnTo>
                    <a:lnTo>
                      <a:pt x="120" y="27"/>
                    </a:lnTo>
                    <a:lnTo>
                      <a:pt x="113" y="25"/>
                    </a:lnTo>
                    <a:lnTo>
                      <a:pt x="106" y="25"/>
                    </a:lnTo>
                    <a:lnTo>
                      <a:pt x="99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69" y="19"/>
                    </a:lnTo>
                    <a:lnTo>
                      <a:pt x="66" y="11"/>
                    </a:lnTo>
                    <a:lnTo>
                      <a:pt x="69" y="3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102" y="1"/>
                    </a:lnTo>
                    <a:lnTo>
                      <a:pt x="111" y="2"/>
                    </a:lnTo>
                    <a:lnTo>
                      <a:pt x="118" y="3"/>
                    </a:lnTo>
                    <a:lnTo>
                      <a:pt x="127" y="6"/>
                    </a:lnTo>
                    <a:lnTo>
                      <a:pt x="133" y="7"/>
                    </a:lnTo>
                    <a:lnTo>
                      <a:pt x="140" y="10"/>
                    </a:lnTo>
                    <a:lnTo>
                      <a:pt x="146" y="15"/>
                    </a:lnTo>
                    <a:lnTo>
                      <a:pt x="145" y="25"/>
                    </a:lnTo>
                    <a:lnTo>
                      <a:pt x="134" y="39"/>
                    </a:lnTo>
                    <a:lnTo>
                      <a:pt x="121" y="53"/>
                    </a:lnTo>
                    <a:lnTo>
                      <a:pt x="106" y="64"/>
                    </a:lnTo>
                    <a:lnTo>
                      <a:pt x="90" y="73"/>
                    </a:lnTo>
                    <a:lnTo>
                      <a:pt x="70" y="79"/>
                    </a:lnTo>
                    <a:lnTo>
                      <a:pt x="49" y="83"/>
                    </a:lnTo>
                    <a:lnTo>
                      <a:pt x="28" y="83"/>
                    </a:lnTo>
                    <a:lnTo>
                      <a:pt x="6" y="82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2" y="66"/>
                    </a:lnTo>
                    <a:lnTo>
                      <a:pt x="9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778880" y="5251320"/>
                <a:ext cx="112320" cy="68400"/>
              </a:xfrm>
              <a:custGeom>
                <a:avLst/>
                <a:gdLst/>
                <a:ahLst/>
                <a:rect l="l" t="t" r="r" b="b"/>
                <a:pathLst>
                  <a:path w="142" h="86">
                    <a:moveTo>
                      <a:pt x="13" y="65"/>
                    </a:moveTo>
                    <a:lnTo>
                      <a:pt x="25" y="66"/>
                    </a:lnTo>
                    <a:lnTo>
                      <a:pt x="41" y="68"/>
                    </a:lnTo>
                    <a:lnTo>
                      <a:pt x="56" y="67"/>
                    </a:lnTo>
                    <a:lnTo>
                      <a:pt x="73" y="67"/>
                    </a:lnTo>
                    <a:lnTo>
                      <a:pt x="88" y="64"/>
                    </a:lnTo>
                    <a:lnTo>
                      <a:pt x="101" y="59"/>
                    </a:lnTo>
                    <a:lnTo>
                      <a:pt x="112" y="52"/>
                    </a:lnTo>
                    <a:lnTo>
                      <a:pt x="120" y="43"/>
                    </a:lnTo>
                    <a:lnTo>
                      <a:pt x="124" y="27"/>
                    </a:lnTo>
                    <a:lnTo>
                      <a:pt x="120" y="17"/>
                    </a:lnTo>
                    <a:lnTo>
                      <a:pt x="111" y="12"/>
                    </a:lnTo>
                    <a:lnTo>
                      <a:pt x="99" y="11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0" y="15"/>
                    </a:lnTo>
                    <a:lnTo>
                      <a:pt x="37" y="18"/>
                    </a:lnTo>
                    <a:lnTo>
                      <a:pt x="31" y="16"/>
                    </a:lnTo>
                    <a:lnTo>
                      <a:pt x="29" y="12"/>
                    </a:lnTo>
                    <a:lnTo>
                      <a:pt x="30" y="7"/>
                    </a:lnTo>
                    <a:lnTo>
                      <a:pt x="36" y="6"/>
                    </a:lnTo>
                    <a:lnTo>
                      <a:pt x="53" y="2"/>
                    </a:lnTo>
                    <a:lnTo>
                      <a:pt x="73" y="0"/>
                    </a:lnTo>
                    <a:lnTo>
                      <a:pt x="94" y="0"/>
                    </a:lnTo>
                    <a:lnTo>
                      <a:pt x="113" y="2"/>
                    </a:lnTo>
                    <a:lnTo>
                      <a:pt x="128" y="7"/>
                    </a:lnTo>
                    <a:lnTo>
                      <a:pt x="139" y="17"/>
                    </a:lnTo>
                    <a:lnTo>
                      <a:pt x="142" y="31"/>
                    </a:lnTo>
                    <a:lnTo>
                      <a:pt x="138" y="52"/>
                    </a:lnTo>
                    <a:lnTo>
                      <a:pt x="128" y="62"/>
                    </a:lnTo>
                    <a:lnTo>
                      <a:pt x="115" y="72"/>
                    </a:lnTo>
                    <a:lnTo>
                      <a:pt x="99" y="79"/>
                    </a:lnTo>
                    <a:lnTo>
                      <a:pt x="81" y="84"/>
                    </a:lnTo>
                    <a:lnTo>
                      <a:pt x="61" y="85"/>
                    </a:lnTo>
                    <a:lnTo>
                      <a:pt x="42" y="86"/>
                    </a:lnTo>
                    <a:lnTo>
                      <a:pt x="23" y="85"/>
                    </a:lnTo>
                    <a:lnTo>
                      <a:pt x="8" y="83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4" y="65"/>
                    </a:lnTo>
                    <a:lnTo>
                      <a:pt x="1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653240" y="5260680"/>
                <a:ext cx="117000" cy="52560"/>
              </a:xfrm>
              <a:custGeom>
                <a:avLst/>
                <a:gdLst/>
                <a:ahLst/>
                <a:rect l="l" t="t" r="r" b="b"/>
                <a:pathLst>
                  <a:path w="148" h="67">
                    <a:moveTo>
                      <a:pt x="5" y="15"/>
                    </a:moveTo>
                    <a:lnTo>
                      <a:pt x="18" y="11"/>
                    </a:lnTo>
                    <a:lnTo>
                      <a:pt x="35" y="8"/>
                    </a:lnTo>
                    <a:lnTo>
                      <a:pt x="52" y="4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8" y="1"/>
                    </a:lnTo>
                    <a:lnTo>
                      <a:pt x="126" y="2"/>
                    </a:lnTo>
                    <a:lnTo>
                      <a:pt x="142" y="7"/>
                    </a:lnTo>
                    <a:lnTo>
                      <a:pt x="148" y="11"/>
                    </a:lnTo>
                    <a:lnTo>
                      <a:pt x="148" y="20"/>
                    </a:lnTo>
                    <a:lnTo>
                      <a:pt x="145" y="26"/>
                    </a:lnTo>
                    <a:lnTo>
                      <a:pt x="142" y="32"/>
                    </a:lnTo>
                    <a:lnTo>
                      <a:pt x="138" y="38"/>
                    </a:lnTo>
                    <a:lnTo>
                      <a:pt x="136" y="44"/>
                    </a:lnTo>
                    <a:lnTo>
                      <a:pt x="132" y="49"/>
                    </a:lnTo>
                    <a:lnTo>
                      <a:pt x="129" y="55"/>
                    </a:lnTo>
                    <a:lnTo>
                      <a:pt x="123" y="60"/>
                    </a:lnTo>
                    <a:lnTo>
                      <a:pt x="119" y="66"/>
                    </a:lnTo>
                    <a:lnTo>
                      <a:pt x="111" y="67"/>
                    </a:lnTo>
                    <a:lnTo>
                      <a:pt x="104" y="62"/>
                    </a:lnTo>
                    <a:lnTo>
                      <a:pt x="101" y="55"/>
                    </a:lnTo>
                    <a:lnTo>
                      <a:pt x="106" y="47"/>
                    </a:lnTo>
                    <a:lnTo>
                      <a:pt x="113" y="40"/>
                    </a:lnTo>
                    <a:lnTo>
                      <a:pt x="119" y="31"/>
                    </a:lnTo>
                    <a:lnTo>
                      <a:pt x="125" y="22"/>
                    </a:lnTo>
                    <a:lnTo>
                      <a:pt x="130" y="12"/>
                    </a:lnTo>
                    <a:lnTo>
                      <a:pt x="132" y="11"/>
                    </a:lnTo>
                    <a:lnTo>
                      <a:pt x="136" y="17"/>
                    </a:lnTo>
                    <a:lnTo>
                      <a:pt x="137" y="23"/>
                    </a:lnTo>
                    <a:lnTo>
                      <a:pt x="136" y="26"/>
                    </a:lnTo>
                    <a:lnTo>
                      <a:pt x="120" y="22"/>
                    </a:lnTo>
                    <a:lnTo>
                      <a:pt x="105" y="19"/>
                    </a:lnTo>
                    <a:lnTo>
                      <a:pt x="88" y="18"/>
                    </a:lnTo>
                    <a:lnTo>
                      <a:pt x="71" y="19"/>
                    </a:lnTo>
                    <a:lnTo>
                      <a:pt x="52" y="19"/>
                    </a:lnTo>
                    <a:lnTo>
                      <a:pt x="36" y="22"/>
                    </a:lnTo>
                    <a:lnTo>
                      <a:pt x="20" y="24"/>
                    </a:lnTo>
                    <a:lnTo>
                      <a:pt x="8" y="27"/>
                    </a:lnTo>
                    <a:lnTo>
                      <a:pt x="2" y="26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7803720" y="5330520"/>
                <a:ext cx="112680" cy="52560"/>
              </a:xfrm>
              <a:custGeom>
                <a:avLst/>
                <a:gdLst/>
                <a:ahLst/>
                <a:rect l="l" t="t" r="r" b="b"/>
                <a:pathLst>
                  <a:path w="142" h="67">
                    <a:moveTo>
                      <a:pt x="64" y="16"/>
                    </a:moveTo>
                    <a:lnTo>
                      <a:pt x="16" y="34"/>
                    </a:lnTo>
                    <a:lnTo>
                      <a:pt x="15" y="32"/>
                    </a:lnTo>
                    <a:lnTo>
                      <a:pt x="18" y="30"/>
                    </a:lnTo>
                    <a:lnTo>
                      <a:pt x="20" y="27"/>
                    </a:lnTo>
                    <a:lnTo>
                      <a:pt x="23" y="28"/>
                    </a:lnTo>
                    <a:lnTo>
                      <a:pt x="19" y="46"/>
                    </a:lnTo>
                    <a:lnTo>
                      <a:pt x="16" y="45"/>
                    </a:lnTo>
                    <a:lnTo>
                      <a:pt x="14" y="41"/>
                    </a:lnTo>
                    <a:lnTo>
                      <a:pt x="12" y="37"/>
                    </a:lnTo>
                    <a:lnTo>
                      <a:pt x="14" y="36"/>
                    </a:lnTo>
                    <a:lnTo>
                      <a:pt x="38" y="47"/>
                    </a:lnTo>
                    <a:lnTo>
                      <a:pt x="55" y="46"/>
                    </a:lnTo>
                    <a:lnTo>
                      <a:pt x="70" y="45"/>
                    </a:lnTo>
                    <a:lnTo>
                      <a:pt x="83" y="43"/>
                    </a:lnTo>
                    <a:lnTo>
                      <a:pt x="93" y="41"/>
                    </a:lnTo>
                    <a:lnTo>
                      <a:pt x="103" y="38"/>
                    </a:lnTo>
                    <a:lnTo>
                      <a:pt x="113" y="34"/>
                    </a:lnTo>
                    <a:lnTo>
                      <a:pt x="123" y="29"/>
                    </a:lnTo>
                    <a:lnTo>
                      <a:pt x="134" y="25"/>
                    </a:lnTo>
                    <a:lnTo>
                      <a:pt x="139" y="24"/>
                    </a:lnTo>
                    <a:lnTo>
                      <a:pt x="142" y="27"/>
                    </a:lnTo>
                    <a:lnTo>
                      <a:pt x="142" y="31"/>
                    </a:lnTo>
                    <a:lnTo>
                      <a:pt x="140" y="37"/>
                    </a:lnTo>
                    <a:lnTo>
                      <a:pt x="127" y="42"/>
                    </a:lnTo>
                    <a:lnTo>
                      <a:pt x="116" y="47"/>
                    </a:lnTo>
                    <a:lnTo>
                      <a:pt x="105" y="52"/>
                    </a:lnTo>
                    <a:lnTo>
                      <a:pt x="95" y="57"/>
                    </a:lnTo>
                    <a:lnTo>
                      <a:pt x="82" y="60"/>
                    </a:lnTo>
                    <a:lnTo>
                      <a:pt x="69" y="63"/>
                    </a:lnTo>
                    <a:lnTo>
                      <a:pt x="52" y="66"/>
                    </a:lnTo>
                    <a:lnTo>
                      <a:pt x="33" y="67"/>
                    </a:lnTo>
                    <a:lnTo>
                      <a:pt x="5" y="53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4" y="24"/>
                    </a:lnTo>
                    <a:lnTo>
                      <a:pt x="6" y="19"/>
                    </a:lnTo>
                    <a:lnTo>
                      <a:pt x="10" y="17"/>
                    </a:lnTo>
                    <a:lnTo>
                      <a:pt x="59" y="1"/>
                    </a:lnTo>
                    <a:lnTo>
                      <a:pt x="66" y="0"/>
                    </a:lnTo>
                    <a:lnTo>
                      <a:pt x="70" y="5"/>
                    </a:lnTo>
                    <a:lnTo>
                      <a:pt x="69" y="11"/>
                    </a:lnTo>
                    <a:lnTo>
                      <a:pt x="6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7956720" y="5341680"/>
                <a:ext cx="75600" cy="61920"/>
              </a:xfrm>
              <a:custGeom>
                <a:avLst/>
                <a:gdLst/>
                <a:ahLst/>
                <a:rect l="l" t="t" r="r" b="b"/>
                <a:pathLst>
                  <a:path w="95" h="79">
                    <a:moveTo>
                      <a:pt x="91" y="14"/>
                    </a:moveTo>
                    <a:lnTo>
                      <a:pt x="74" y="17"/>
                    </a:lnTo>
                    <a:lnTo>
                      <a:pt x="61" y="22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6"/>
                    </a:lnTo>
                    <a:lnTo>
                      <a:pt x="28" y="44"/>
                    </a:lnTo>
                    <a:lnTo>
                      <a:pt x="23" y="55"/>
                    </a:lnTo>
                    <a:lnTo>
                      <a:pt x="20" y="71"/>
                    </a:lnTo>
                    <a:lnTo>
                      <a:pt x="16" y="71"/>
                    </a:lnTo>
                    <a:lnTo>
                      <a:pt x="12" y="67"/>
                    </a:lnTo>
                    <a:lnTo>
                      <a:pt x="7" y="60"/>
                    </a:lnTo>
                    <a:lnTo>
                      <a:pt x="10" y="58"/>
                    </a:lnTo>
                    <a:lnTo>
                      <a:pt x="20" y="58"/>
                    </a:lnTo>
                    <a:lnTo>
                      <a:pt x="31" y="59"/>
                    </a:lnTo>
                    <a:lnTo>
                      <a:pt x="39" y="60"/>
                    </a:lnTo>
                    <a:lnTo>
                      <a:pt x="49" y="61"/>
                    </a:lnTo>
                    <a:lnTo>
                      <a:pt x="58" y="60"/>
                    </a:lnTo>
                    <a:lnTo>
                      <a:pt x="66" y="60"/>
                    </a:lnTo>
                    <a:lnTo>
                      <a:pt x="76" y="59"/>
                    </a:lnTo>
                    <a:lnTo>
                      <a:pt x="88" y="58"/>
                    </a:lnTo>
                    <a:lnTo>
                      <a:pt x="92" y="58"/>
                    </a:lnTo>
                    <a:lnTo>
                      <a:pt x="95" y="62"/>
                    </a:lnTo>
                    <a:lnTo>
                      <a:pt x="94" y="67"/>
                    </a:lnTo>
                    <a:lnTo>
                      <a:pt x="91" y="70"/>
                    </a:lnTo>
                    <a:lnTo>
                      <a:pt x="78" y="72"/>
                    </a:lnTo>
                    <a:lnTo>
                      <a:pt x="69" y="74"/>
                    </a:lnTo>
                    <a:lnTo>
                      <a:pt x="59" y="75"/>
                    </a:lnTo>
                    <a:lnTo>
                      <a:pt x="49" y="78"/>
                    </a:lnTo>
                    <a:lnTo>
                      <a:pt x="39" y="78"/>
                    </a:lnTo>
                    <a:lnTo>
                      <a:pt x="30" y="79"/>
                    </a:lnTo>
                    <a:lnTo>
                      <a:pt x="19" y="79"/>
                    </a:lnTo>
                    <a:lnTo>
                      <a:pt x="8" y="79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3" y="48"/>
                    </a:lnTo>
                    <a:lnTo>
                      <a:pt x="9" y="36"/>
                    </a:lnTo>
                    <a:lnTo>
                      <a:pt x="16" y="25"/>
                    </a:lnTo>
                    <a:lnTo>
                      <a:pt x="25" y="18"/>
                    </a:lnTo>
                    <a:lnTo>
                      <a:pt x="36" y="13"/>
                    </a:lnTo>
                    <a:lnTo>
                      <a:pt x="50" y="9"/>
                    </a:lnTo>
                    <a:lnTo>
                      <a:pt x="67" y="4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95" y="4"/>
                    </a:lnTo>
                    <a:lnTo>
                      <a:pt x="94" y="10"/>
                    </a:lnTo>
                    <a:lnTo>
                      <a:pt x="9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8043480" y="5330520"/>
                <a:ext cx="75960" cy="60480"/>
              </a:xfrm>
              <a:custGeom>
                <a:avLst/>
                <a:gdLst/>
                <a:ahLst/>
                <a:rect l="l" t="t" r="r" b="b"/>
                <a:pathLst>
                  <a:path w="95" h="76">
                    <a:moveTo>
                      <a:pt x="70" y="15"/>
                    </a:moveTo>
                    <a:lnTo>
                      <a:pt x="55" y="20"/>
                    </a:lnTo>
                    <a:lnTo>
                      <a:pt x="43" y="25"/>
                    </a:lnTo>
                    <a:lnTo>
                      <a:pt x="33" y="30"/>
                    </a:lnTo>
                    <a:lnTo>
                      <a:pt x="27" y="36"/>
                    </a:lnTo>
                    <a:lnTo>
                      <a:pt x="24" y="40"/>
                    </a:lnTo>
                    <a:lnTo>
                      <a:pt x="26" y="45"/>
                    </a:lnTo>
                    <a:lnTo>
                      <a:pt x="32" y="50"/>
                    </a:lnTo>
                    <a:lnTo>
                      <a:pt x="45" y="54"/>
                    </a:lnTo>
                    <a:lnTo>
                      <a:pt x="88" y="54"/>
                    </a:lnTo>
                    <a:lnTo>
                      <a:pt x="92" y="55"/>
                    </a:lnTo>
                    <a:lnTo>
                      <a:pt x="95" y="59"/>
                    </a:lnTo>
                    <a:lnTo>
                      <a:pt x="94" y="64"/>
                    </a:lnTo>
                    <a:lnTo>
                      <a:pt x="89" y="67"/>
                    </a:lnTo>
                    <a:lnTo>
                      <a:pt x="44" y="76"/>
                    </a:lnTo>
                    <a:lnTo>
                      <a:pt x="20" y="69"/>
                    </a:lnTo>
                    <a:lnTo>
                      <a:pt x="6" y="60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6" y="30"/>
                    </a:lnTo>
                    <a:lnTo>
                      <a:pt x="20" y="21"/>
                    </a:lnTo>
                    <a:lnTo>
                      <a:pt x="39" y="1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4" y="4"/>
                    </a:lnTo>
                    <a:lnTo>
                      <a:pt x="73" y="10"/>
                    </a:lnTo>
                    <a:lnTo>
                      <a:pt x="7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8099640" y="5364000"/>
                <a:ext cx="105840" cy="65160"/>
              </a:xfrm>
              <a:custGeom>
                <a:avLst/>
                <a:gdLst/>
                <a:ahLst/>
                <a:rect l="l" t="t" r="r" b="b"/>
                <a:pathLst>
                  <a:path w="135" h="83">
                    <a:moveTo>
                      <a:pt x="64" y="18"/>
                    </a:moveTo>
                    <a:lnTo>
                      <a:pt x="50" y="23"/>
                    </a:lnTo>
                    <a:lnTo>
                      <a:pt x="41" y="28"/>
                    </a:lnTo>
                    <a:lnTo>
                      <a:pt x="37" y="32"/>
                    </a:lnTo>
                    <a:lnTo>
                      <a:pt x="37" y="38"/>
                    </a:lnTo>
                    <a:lnTo>
                      <a:pt x="39" y="42"/>
                    </a:lnTo>
                    <a:lnTo>
                      <a:pt x="46" y="47"/>
                    </a:lnTo>
                    <a:lnTo>
                      <a:pt x="54" y="53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1" y="59"/>
                    </a:lnTo>
                    <a:lnTo>
                      <a:pt x="57" y="59"/>
                    </a:lnTo>
                    <a:lnTo>
                      <a:pt x="65" y="56"/>
                    </a:lnTo>
                    <a:lnTo>
                      <a:pt x="73" y="53"/>
                    </a:lnTo>
                    <a:lnTo>
                      <a:pt x="82" y="51"/>
                    </a:lnTo>
                    <a:lnTo>
                      <a:pt x="91" y="50"/>
                    </a:lnTo>
                    <a:lnTo>
                      <a:pt x="97" y="46"/>
                    </a:lnTo>
                    <a:lnTo>
                      <a:pt x="106" y="45"/>
                    </a:lnTo>
                    <a:lnTo>
                      <a:pt x="114" y="42"/>
                    </a:lnTo>
                    <a:lnTo>
                      <a:pt x="124" y="41"/>
                    </a:lnTo>
                    <a:lnTo>
                      <a:pt x="130" y="41"/>
                    </a:lnTo>
                    <a:lnTo>
                      <a:pt x="135" y="46"/>
                    </a:lnTo>
                    <a:lnTo>
                      <a:pt x="135" y="52"/>
                    </a:lnTo>
                    <a:lnTo>
                      <a:pt x="129" y="57"/>
                    </a:lnTo>
                    <a:lnTo>
                      <a:pt x="120" y="60"/>
                    </a:lnTo>
                    <a:lnTo>
                      <a:pt x="111" y="63"/>
                    </a:lnTo>
                    <a:lnTo>
                      <a:pt x="104" y="67"/>
                    </a:lnTo>
                    <a:lnTo>
                      <a:pt x="97" y="70"/>
                    </a:lnTo>
                    <a:lnTo>
                      <a:pt x="90" y="73"/>
                    </a:lnTo>
                    <a:lnTo>
                      <a:pt x="82" y="76"/>
                    </a:lnTo>
                    <a:lnTo>
                      <a:pt x="73" y="80"/>
                    </a:lnTo>
                    <a:lnTo>
                      <a:pt x="65" y="83"/>
                    </a:lnTo>
                    <a:lnTo>
                      <a:pt x="60" y="83"/>
                    </a:lnTo>
                    <a:lnTo>
                      <a:pt x="55" y="83"/>
                    </a:lnTo>
                    <a:lnTo>
                      <a:pt x="32" y="70"/>
                    </a:lnTo>
                    <a:lnTo>
                      <a:pt x="15" y="59"/>
                    </a:lnTo>
                    <a:lnTo>
                      <a:pt x="5" y="48"/>
                    </a:lnTo>
                    <a:lnTo>
                      <a:pt x="0" y="39"/>
                    </a:lnTo>
                    <a:lnTo>
                      <a:pt x="3" y="29"/>
                    </a:lnTo>
                    <a:lnTo>
                      <a:pt x="13" y="19"/>
                    </a:lnTo>
                    <a:lnTo>
                      <a:pt x="30" y="1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9" y="7"/>
                    </a:lnTo>
                    <a:lnTo>
                      <a:pt x="69" y="13"/>
                    </a:lnTo>
                    <a:lnTo>
                      <a:pt x="6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8064720" y="5403600"/>
                <a:ext cx="74160" cy="60480"/>
              </a:xfrm>
              <a:custGeom>
                <a:avLst/>
                <a:gdLst/>
                <a:ahLst/>
                <a:rect l="l" t="t" r="r" b="b"/>
                <a:pathLst>
                  <a:path w="95" h="76">
                    <a:moveTo>
                      <a:pt x="65" y="15"/>
                    </a:moveTo>
                    <a:lnTo>
                      <a:pt x="53" y="18"/>
                    </a:lnTo>
                    <a:lnTo>
                      <a:pt x="46" y="21"/>
                    </a:lnTo>
                    <a:lnTo>
                      <a:pt x="41" y="24"/>
                    </a:lnTo>
                    <a:lnTo>
                      <a:pt x="38" y="28"/>
                    </a:lnTo>
                    <a:lnTo>
                      <a:pt x="35" y="31"/>
                    </a:lnTo>
                    <a:lnTo>
                      <a:pt x="32" y="35"/>
                    </a:lnTo>
                    <a:lnTo>
                      <a:pt x="28" y="40"/>
                    </a:lnTo>
                    <a:lnTo>
                      <a:pt x="24" y="50"/>
                    </a:lnTo>
                    <a:lnTo>
                      <a:pt x="20" y="48"/>
                    </a:lnTo>
                    <a:lnTo>
                      <a:pt x="18" y="41"/>
                    </a:lnTo>
                    <a:lnTo>
                      <a:pt x="18" y="33"/>
                    </a:lnTo>
                    <a:lnTo>
                      <a:pt x="22" y="33"/>
                    </a:lnTo>
                    <a:lnTo>
                      <a:pt x="43" y="52"/>
                    </a:lnTo>
                    <a:lnTo>
                      <a:pt x="50" y="51"/>
                    </a:lnTo>
                    <a:lnTo>
                      <a:pt x="55" y="51"/>
                    </a:lnTo>
                    <a:lnTo>
                      <a:pt x="59" y="51"/>
                    </a:lnTo>
                    <a:lnTo>
                      <a:pt x="65" y="51"/>
                    </a:lnTo>
                    <a:lnTo>
                      <a:pt x="72" y="50"/>
                    </a:lnTo>
                    <a:lnTo>
                      <a:pt x="82" y="49"/>
                    </a:lnTo>
                    <a:lnTo>
                      <a:pt x="91" y="50"/>
                    </a:lnTo>
                    <a:lnTo>
                      <a:pt x="95" y="58"/>
                    </a:lnTo>
                    <a:lnTo>
                      <a:pt x="93" y="66"/>
                    </a:lnTo>
                    <a:lnTo>
                      <a:pt x="85" y="72"/>
                    </a:lnTo>
                    <a:lnTo>
                      <a:pt x="79" y="72"/>
                    </a:lnTo>
                    <a:lnTo>
                      <a:pt x="73" y="73"/>
                    </a:lnTo>
                    <a:lnTo>
                      <a:pt x="67" y="73"/>
                    </a:lnTo>
                    <a:lnTo>
                      <a:pt x="63" y="74"/>
                    </a:lnTo>
                    <a:lnTo>
                      <a:pt x="56" y="74"/>
                    </a:lnTo>
                    <a:lnTo>
                      <a:pt x="50" y="75"/>
                    </a:lnTo>
                    <a:lnTo>
                      <a:pt x="42" y="75"/>
                    </a:lnTo>
                    <a:lnTo>
                      <a:pt x="36" y="76"/>
                    </a:lnTo>
                    <a:lnTo>
                      <a:pt x="6" y="52"/>
                    </a:lnTo>
                    <a:lnTo>
                      <a:pt x="0" y="43"/>
                    </a:lnTo>
                    <a:lnTo>
                      <a:pt x="3" y="34"/>
                    </a:lnTo>
                    <a:lnTo>
                      <a:pt x="10" y="24"/>
                    </a:lnTo>
                    <a:lnTo>
                      <a:pt x="15" y="18"/>
                    </a:lnTo>
                    <a:lnTo>
                      <a:pt x="20" y="14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5" y="4"/>
                    </a:lnTo>
                    <a:lnTo>
                      <a:pt x="58" y="1"/>
                    </a:lnTo>
                    <a:lnTo>
                      <a:pt x="64" y="0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7988040" y="5387760"/>
                <a:ext cx="93240" cy="68400"/>
              </a:xfrm>
              <a:custGeom>
                <a:avLst/>
                <a:gdLst/>
                <a:ahLst/>
                <a:rect l="l" t="t" r="r" b="b"/>
                <a:pathLst>
                  <a:path w="119" h="87">
                    <a:moveTo>
                      <a:pt x="57" y="29"/>
                    </a:moveTo>
                    <a:lnTo>
                      <a:pt x="47" y="30"/>
                    </a:lnTo>
                    <a:lnTo>
                      <a:pt x="39" y="32"/>
                    </a:lnTo>
                    <a:lnTo>
                      <a:pt x="33" y="33"/>
                    </a:lnTo>
                    <a:lnTo>
                      <a:pt x="30" y="37"/>
                    </a:lnTo>
                    <a:lnTo>
                      <a:pt x="28" y="40"/>
                    </a:lnTo>
                    <a:lnTo>
                      <a:pt x="29" y="44"/>
                    </a:lnTo>
                    <a:lnTo>
                      <a:pt x="31" y="50"/>
                    </a:lnTo>
                    <a:lnTo>
                      <a:pt x="37" y="58"/>
                    </a:lnTo>
                    <a:lnTo>
                      <a:pt x="45" y="60"/>
                    </a:lnTo>
                    <a:lnTo>
                      <a:pt x="52" y="62"/>
                    </a:lnTo>
                    <a:lnTo>
                      <a:pt x="55" y="63"/>
                    </a:lnTo>
                    <a:lnTo>
                      <a:pt x="59" y="65"/>
                    </a:lnTo>
                    <a:lnTo>
                      <a:pt x="63" y="62"/>
                    </a:lnTo>
                    <a:lnTo>
                      <a:pt x="67" y="61"/>
                    </a:lnTo>
                    <a:lnTo>
                      <a:pt x="75" y="58"/>
                    </a:lnTo>
                    <a:lnTo>
                      <a:pt x="87" y="55"/>
                    </a:lnTo>
                    <a:lnTo>
                      <a:pt x="91" y="48"/>
                    </a:lnTo>
                    <a:lnTo>
                      <a:pt x="95" y="42"/>
                    </a:lnTo>
                    <a:lnTo>
                      <a:pt x="98" y="37"/>
                    </a:lnTo>
                    <a:lnTo>
                      <a:pt x="102" y="32"/>
                    </a:lnTo>
                    <a:lnTo>
                      <a:pt x="106" y="22"/>
                    </a:lnTo>
                    <a:lnTo>
                      <a:pt x="104" y="11"/>
                    </a:lnTo>
                    <a:lnTo>
                      <a:pt x="101" y="5"/>
                    </a:lnTo>
                    <a:lnTo>
                      <a:pt x="104" y="2"/>
                    </a:lnTo>
                    <a:lnTo>
                      <a:pt x="108" y="0"/>
                    </a:lnTo>
                    <a:lnTo>
                      <a:pt x="113" y="3"/>
                    </a:lnTo>
                    <a:lnTo>
                      <a:pt x="116" y="10"/>
                    </a:lnTo>
                    <a:lnTo>
                      <a:pt x="119" y="19"/>
                    </a:lnTo>
                    <a:lnTo>
                      <a:pt x="119" y="28"/>
                    </a:lnTo>
                    <a:lnTo>
                      <a:pt x="119" y="38"/>
                    </a:lnTo>
                    <a:lnTo>
                      <a:pt x="114" y="46"/>
                    </a:lnTo>
                    <a:lnTo>
                      <a:pt x="111" y="56"/>
                    </a:lnTo>
                    <a:lnTo>
                      <a:pt x="107" y="65"/>
                    </a:lnTo>
                    <a:lnTo>
                      <a:pt x="102" y="74"/>
                    </a:lnTo>
                    <a:lnTo>
                      <a:pt x="86" y="80"/>
                    </a:lnTo>
                    <a:lnTo>
                      <a:pt x="76" y="84"/>
                    </a:lnTo>
                    <a:lnTo>
                      <a:pt x="68" y="86"/>
                    </a:lnTo>
                    <a:lnTo>
                      <a:pt x="62" y="87"/>
                    </a:lnTo>
                    <a:lnTo>
                      <a:pt x="54" y="86"/>
                    </a:lnTo>
                    <a:lnTo>
                      <a:pt x="47" y="85"/>
                    </a:lnTo>
                    <a:lnTo>
                      <a:pt x="36" y="82"/>
                    </a:lnTo>
                    <a:lnTo>
                      <a:pt x="22" y="79"/>
                    </a:lnTo>
                    <a:lnTo>
                      <a:pt x="10" y="59"/>
                    </a:lnTo>
                    <a:lnTo>
                      <a:pt x="4" y="45"/>
                    </a:lnTo>
                    <a:lnTo>
                      <a:pt x="0" y="36"/>
                    </a:lnTo>
                    <a:lnTo>
                      <a:pt x="2" y="29"/>
                    </a:lnTo>
                    <a:lnTo>
                      <a:pt x="7" y="23"/>
                    </a:lnTo>
                    <a:lnTo>
                      <a:pt x="18" y="19"/>
                    </a:lnTo>
                    <a:lnTo>
                      <a:pt x="31" y="15"/>
                    </a:lnTo>
                    <a:lnTo>
                      <a:pt x="52" y="11"/>
                    </a:lnTo>
                    <a:lnTo>
                      <a:pt x="59" y="11"/>
                    </a:lnTo>
                    <a:lnTo>
                      <a:pt x="64" y="17"/>
                    </a:lnTo>
                    <a:lnTo>
                      <a:pt x="63" y="24"/>
                    </a:lnTo>
                    <a:lnTo>
                      <a:pt x="57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7913880" y="5395680"/>
                <a:ext cx="88560" cy="5868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87" y="17"/>
                    </a:moveTo>
                    <a:lnTo>
                      <a:pt x="74" y="21"/>
                    </a:lnTo>
                    <a:lnTo>
                      <a:pt x="65" y="26"/>
                    </a:lnTo>
                    <a:lnTo>
                      <a:pt x="55" y="30"/>
                    </a:lnTo>
                    <a:lnTo>
                      <a:pt x="49" y="34"/>
                    </a:lnTo>
                    <a:lnTo>
                      <a:pt x="41" y="39"/>
                    </a:lnTo>
                    <a:lnTo>
                      <a:pt x="35" y="45"/>
                    </a:lnTo>
                    <a:lnTo>
                      <a:pt x="28" y="51"/>
                    </a:lnTo>
                    <a:lnTo>
                      <a:pt x="22" y="60"/>
                    </a:lnTo>
                    <a:lnTo>
                      <a:pt x="16" y="59"/>
                    </a:lnTo>
                    <a:lnTo>
                      <a:pt x="13" y="52"/>
                    </a:lnTo>
                    <a:lnTo>
                      <a:pt x="12" y="44"/>
                    </a:lnTo>
                    <a:lnTo>
                      <a:pt x="17" y="43"/>
                    </a:lnTo>
                    <a:lnTo>
                      <a:pt x="27" y="45"/>
                    </a:lnTo>
                    <a:lnTo>
                      <a:pt x="37" y="48"/>
                    </a:lnTo>
                    <a:lnTo>
                      <a:pt x="46" y="49"/>
                    </a:lnTo>
                    <a:lnTo>
                      <a:pt x="57" y="51"/>
                    </a:lnTo>
                    <a:lnTo>
                      <a:pt x="67" y="50"/>
                    </a:lnTo>
                    <a:lnTo>
                      <a:pt x="77" y="49"/>
                    </a:lnTo>
                    <a:lnTo>
                      <a:pt x="86" y="46"/>
                    </a:lnTo>
                    <a:lnTo>
                      <a:pt x="96" y="43"/>
                    </a:lnTo>
                    <a:lnTo>
                      <a:pt x="105" y="41"/>
                    </a:lnTo>
                    <a:lnTo>
                      <a:pt x="111" y="47"/>
                    </a:lnTo>
                    <a:lnTo>
                      <a:pt x="112" y="55"/>
                    </a:lnTo>
                    <a:lnTo>
                      <a:pt x="107" y="63"/>
                    </a:lnTo>
                    <a:lnTo>
                      <a:pt x="94" y="68"/>
                    </a:lnTo>
                    <a:lnTo>
                      <a:pt x="82" y="72"/>
                    </a:lnTo>
                    <a:lnTo>
                      <a:pt x="70" y="73"/>
                    </a:lnTo>
                    <a:lnTo>
                      <a:pt x="58" y="74"/>
                    </a:lnTo>
                    <a:lnTo>
                      <a:pt x="45" y="73"/>
                    </a:lnTo>
                    <a:lnTo>
                      <a:pt x="34" y="71"/>
                    </a:lnTo>
                    <a:lnTo>
                      <a:pt x="21" y="66"/>
                    </a:lnTo>
                    <a:lnTo>
                      <a:pt x="9" y="63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5" y="46"/>
                    </a:lnTo>
                    <a:lnTo>
                      <a:pt x="12" y="35"/>
                    </a:lnTo>
                    <a:lnTo>
                      <a:pt x="20" y="29"/>
                    </a:lnTo>
                    <a:lnTo>
                      <a:pt x="26" y="22"/>
                    </a:lnTo>
                    <a:lnTo>
                      <a:pt x="36" y="19"/>
                    </a:lnTo>
                    <a:lnTo>
                      <a:pt x="43" y="14"/>
                    </a:lnTo>
                    <a:lnTo>
                      <a:pt x="54" y="10"/>
                    </a:lnTo>
                    <a:lnTo>
                      <a:pt x="66" y="5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2" y="5"/>
                    </a:lnTo>
                    <a:lnTo>
                      <a:pt x="92" y="12"/>
                    </a:lnTo>
                    <a:lnTo>
                      <a:pt x="8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8124480" y="533052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43" y="14"/>
                    </a:moveTo>
                    <a:lnTo>
                      <a:pt x="34" y="18"/>
                    </a:lnTo>
                    <a:lnTo>
                      <a:pt x="27" y="23"/>
                    </a:lnTo>
                    <a:lnTo>
                      <a:pt x="23" y="27"/>
                    </a:lnTo>
                    <a:lnTo>
                      <a:pt x="21" y="31"/>
                    </a:lnTo>
                    <a:lnTo>
                      <a:pt x="20" y="35"/>
                    </a:lnTo>
                    <a:lnTo>
                      <a:pt x="23" y="40"/>
                    </a:lnTo>
                    <a:lnTo>
                      <a:pt x="26" y="44"/>
                    </a:lnTo>
                    <a:lnTo>
                      <a:pt x="34" y="50"/>
                    </a:lnTo>
                    <a:lnTo>
                      <a:pt x="65" y="47"/>
                    </a:lnTo>
                    <a:lnTo>
                      <a:pt x="71" y="49"/>
                    </a:lnTo>
                    <a:lnTo>
                      <a:pt x="75" y="55"/>
                    </a:lnTo>
                    <a:lnTo>
                      <a:pt x="73" y="61"/>
                    </a:lnTo>
                    <a:lnTo>
                      <a:pt x="67" y="66"/>
                    </a:lnTo>
                    <a:lnTo>
                      <a:pt x="27" y="70"/>
                    </a:lnTo>
                    <a:lnTo>
                      <a:pt x="15" y="60"/>
                    </a:lnTo>
                    <a:lnTo>
                      <a:pt x="7" y="52"/>
                    </a:lnTo>
                    <a:lnTo>
                      <a:pt x="1" y="42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9" y="17"/>
                    </a:lnTo>
                    <a:lnTo>
                      <a:pt x="20" y="9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6" y="4"/>
                    </a:lnTo>
                    <a:lnTo>
                      <a:pt x="46" y="9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7994880" y="5468760"/>
                <a:ext cx="105840" cy="46080"/>
              </a:xfrm>
              <a:custGeom>
                <a:avLst/>
                <a:gdLst/>
                <a:ahLst/>
                <a:rect l="l" t="t" r="r" b="b"/>
                <a:pathLst>
                  <a:path w="133" h="57">
                    <a:moveTo>
                      <a:pt x="46" y="20"/>
                    </a:moveTo>
                    <a:lnTo>
                      <a:pt x="36" y="22"/>
                    </a:lnTo>
                    <a:lnTo>
                      <a:pt x="32" y="25"/>
                    </a:lnTo>
                    <a:lnTo>
                      <a:pt x="31" y="27"/>
                    </a:lnTo>
                    <a:lnTo>
                      <a:pt x="37" y="34"/>
                    </a:lnTo>
                    <a:lnTo>
                      <a:pt x="50" y="31"/>
                    </a:lnTo>
                    <a:lnTo>
                      <a:pt x="62" y="29"/>
                    </a:lnTo>
                    <a:lnTo>
                      <a:pt x="72" y="27"/>
                    </a:lnTo>
                    <a:lnTo>
                      <a:pt x="81" y="26"/>
                    </a:lnTo>
                    <a:lnTo>
                      <a:pt x="89" y="23"/>
                    </a:lnTo>
                    <a:lnTo>
                      <a:pt x="98" y="21"/>
                    </a:lnTo>
                    <a:lnTo>
                      <a:pt x="106" y="17"/>
                    </a:lnTo>
                    <a:lnTo>
                      <a:pt x="117" y="15"/>
                    </a:lnTo>
                    <a:lnTo>
                      <a:pt x="127" y="15"/>
                    </a:lnTo>
                    <a:lnTo>
                      <a:pt x="133" y="22"/>
                    </a:lnTo>
                    <a:lnTo>
                      <a:pt x="133" y="31"/>
                    </a:lnTo>
                    <a:lnTo>
                      <a:pt x="127" y="39"/>
                    </a:lnTo>
                    <a:lnTo>
                      <a:pt x="114" y="42"/>
                    </a:lnTo>
                    <a:lnTo>
                      <a:pt x="104" y="45"/>
                    </a:lnTo>
                    <a:lnTo>
                      <a:pt x="93" y="48"/>
                    </a:lnTo>
                    <a:lnTo>
                      <a:pt x="82" y="51"/>
                    </a:lnTo>
                    <a:lnTo>
                      <a:pt x="70" y="52"/>
                    </a:lnTo>
                    <a:lnTo>
                      <a:pt x="58" y="54"/>
                    </a:lnTo>
                    <a:lnTo>
                      <a:pt x="44" y="55"/>
                    </a:lnTo>
                    <a:lnTo>
                      <a:pt x="30" y="57"/>
                    </a:lnTo>
                    <a:lnTo>
                      <a:pt x="17" y="45"/>
                    </a:lnTo>
                    <a:lnTo>
                      <a:pt x="7" y="37"/>
                    </a:lnTo>
                    <a:lnTo>
                      <a:pt x="1" y="29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9" y="11"/>
                    </a:lnTo>
                    <a:lnTo>
                      <a:pt x="21" y="5"/>
                    </a:lnTo>
                    <a:lnTo>
                      <a:pt x="39" y="0"/>
                    </a:lnTo>
                    <a:lnTo>
                      <a:pt x="47" y="0"/>
                    </a:lnTo>
                    <a:lnTo>
                      <a:pt x="52" y="7"/>
                    </a:lnTo>
                    <a:lnTo>
                      <a:pt x="51" y="13"/>
                    </a:lnTo>
                    <a:lnTo>
                      <a:pt x="4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8070480" y="5495760"/>
                <a:ext cx="77400" cy="65160"/>
              </a:xfrm>
              <a:custGeom>
                <a:avLst/>
                <a:gdLst/>
                <a:ahLst/>
                <a:rect l="l" t="t" r="r" b="b"/>
                <a:pathLst>
                  <a:path w="99" h="81">
                    <a:moveTo>
                      <a:pt x="68" y="21"/>
                    </a:moveTo>
                    <a:lnTo>
                      <a:pt x="55" y="24"/>
                    </a:lnTo>
                    <a:lnTo>
                      <a:pt x="47" y="28"/>
                    </a:lnTo>
                    <a:lnTo>
                      <a:pt x="38" y="32"/>
                    </a:lnTo>
                    <a:lnTo>
                      <a:pt x="33" y="36"/>
                    </a:lnTo>
                    <a:lnTo>
                      <a:pt x="29" y="40"/>
                    </a:lnTo>
                    <a:lnTo>
                      <a:pt x="29" y="45"/>
                    </a:lnTo>
                    <a:lnTo>
                      <a:pt x="33" y="49"/>
                    </a:lnTo>
                    <a:lnTo>
                      <a:pt x="40" y="53"/>
                    </a:lnTo>
                    <a:lnTo>
                      <a:pt x="47" y="52"/>
                    </a:lnTo>
                    <a:lnTo>
                      <a:pt x="53" y="52"/>
                    </a:lnTo>
                    <a:lnTo>
                      <a:pt x="58" y="52"/>
                    </a:lnTo>
                    <a:lnTo>
                      <a:pt x="65" y="53"/>
                    </a:lnTo>
                    <a:lnTo>
                      <a:pt x="70" y="53"/>
                    </a:lnTo>
                    <a:lnTo>
                      <a:pt x="77" y="54"/>
                    </a:lnTo>
                    <a:lnTo>
                      <a:pt x="83" y="54"/>
                    </a:lnTo>
                    <a:lnTo>
                      <a:pt x="92" y="56"/>
                    </a:lnTo>
                    <a:lnTo>
                      <a:pt x="97" y="58"/>
                    </a:lnTo>
                    <a:lnTo>
                      <a:pt x="99" y="63"/>
                    </a:lnTo>
                    <a:lnTo>
                      <a:pt x="97" y="67"/>
                    </a:lnTo>
                    <a:lnTo>
                      <a:pt x="92" y="71"/>
                    </a:lnTo>
                    <a:lnTo>
                      <a:pt x="83" y="71"/>
                    </a:lnTo>
                    <a:lnTo>
                      <a:pt x="77" y="71"/>
                    </a:lnTo>
                    <a:lnTo>
                      <a:pt x="70" y="72"/>
                    </a:lnTo>
                    <a:lnTo>
                      <a:pt x="64" y="74"/>
                    </a:lnTo>
                    <a:lnTo>
                      <a:pt x="57" y="75"/>
                    </a:lnTo>
                    <a:lnTo>
                      <a:pt x="51" y="77"/>
                    </a:lnTo>
                    <a:lnTo>
                      <a:pt x="44" y="79"/>
                    </a:lnTo>
                    <a:lnTo>
                      <a:pt x="38" y="81"/>
                    </a:lnTo>
                    <a:lnTo>
                      <a:pt x="19" y="72"/>
                    </a:lnTo>
                    <a:lnTo>
                      <a:pt x="7" y="62"/>
                    </a:lnTo>
                    <a:lnTo>
                      <a:pt x="0" y="50"/>
                    </a:lnTo>
                    <a:lnTo>
                      <a:pt x="2" y="39"/>
                    </a:lnTo>
                    <a:lnTo>
                      <a:pt x="8" y="27"/>
                    </a:lnTo>
                    <a:lnTo>
                      <a:pt x="21" y="16"/>
                    </a:lnTo>
                    <a:lnTo>
                      <a:pt x="38" y="6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7"/>
                    </a:lnTo>
                    <a:lnTo>
                      <a:pt x="75" y="15"/>
                    </a:lnTo>
                    <a:lnTo>
                      <a:pt x="6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8072280" y="5527440"/>
                <a:ext cx="115560" cy="6840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73" y="20"/>
                    </a:moveTo>
                    <a:lnTo>
                      <a:pt x="60" y="25"/>
                    </a:lnTo>
                    <a:lnTo>
                      <a:pt x="52" y="30"/>
                    </a:lnTo>
                    <a:lnTo>
                      <a:pt x="43" y="36"/>
                    </a:lnTo>
                    <a:lnTo>
                      <a:pt x="40" y="42"/>
                    </a:lnTo>
                    <a:lnTo>
                      <a:pt x="39" y="47"/>
                    </a:lnTo>
                    <a:lnTo>
                      <a:pt x="43" y="52"/>
                    </a:lnTo>
                    <a:lnTo>
                      <a:pt x="52" y="55"/>
                    </a:lnTo>
                    <a:lnTo>
                      <a:pt x="68" y="59"/>
                    </a:lnTo>
                    <a:lnTo>
                      <a:pt x="75" y="57"/>
                    </a:lnTo>
                    <a:lnTo>
                      <a:pt x="84" y="56"/>
                    </a:lnTo>
                    <a:lnTo>
                      <a:pt x="91" y="54"/>
                    </a:lnTo>
                    <a:lnTo>
                      <a:pt x="100" y="54"/>
                    </a:lnTo>
                    <a:lnTo>
                      <a:pt x="107" y="53"/>
                    </a:lnTo>
                    <a:lnTo>
                      <a:pt x="116" y="52"/>
                    </a:lnTo>
                    <a:lnTo>
                      <a:pt x="124" y="51"/>
                    </a:lnTo>
                    <a:lnTo>
                      <a:pt x="133" y="50"/>
                    </a:lnTo>
                    <a:lnTo>
                      <a:pt x="140" y="51"/>
                    </a:lnTo>
                    <a:lnTo>
                      <a:pt x="144" y="57"/>
                    </a:lnTo>
                    <a:lnTo>
                      <a:pt x="142" y="65"/>
                    </a:lnTo>
                    <a:lnTo>
                      <a:pt x="137" y="69"/>
                    </a:lnTo>
                    <a:lnTo>
                      <a:pt x="127" y="69"/>
                    </a:lnTo>
                    <a:lnTo>
                      <a:pt x="118" y="71"/>
                    </a:lnTo>
                    <a:lnTo>
                      <a:pt x="110" y="73"/>
                    </a:lnTo>
                    <a:lnTo>
                      <a:pt x="102" y="77"/>
                    </a:lnTo>
                    <a:lnTo>
                      <a:pt x="94" y="79"/>
                    </a:lnTo>
                    <a:lnTo>
                      <a:pt x="85" y="81"/>
                    </a:lnTo>
                    <a:lnTo>
                      <a:pt x="76" y="83"/>
                    </a:lnTo>
                    <a:lnTo>
                      <a:pt x="69" y="86"/>
                    </a:lnTo>
                    <a:lnTo>
                      <a:pt x="34" y="80"/>
                    </a:lnTo>
                    <a:lnTo>
                      <a:pt x="13" y="71"/>
                    </a:lnTo>
                    <a:lnTo>
                      <a:pt x="1" y="61"/>
                    </a:lnTo>
                    <a:lnTo>
                      <a:pt x="0" y="51"/>
                    </a:lnTo>
                    <a:lnTo>
                      <a:pt x="6" y="38"/>
                    </a:lnTo>
                    <a:lnTo>
                      <a:pt x="20" y="26"/>
                    </a:lnTo>
                    <a:lnTo>
                      <a:pt x="40" y="13"/>
                    </a:lnTo>
                    <a:lnTo>
                      <a:pt x="64" y="1"/>
                    </a:lnTo>
                    <a:lnTo>
                      <a:pt x="73" y="0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8083800" y="5562360"/>
                <a:ext cx="120240" cy="7632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62" y="21"/>
                    </a:moveTo>
                    <a:lnTo>
                      <a:pt x="49" y="24"/>
                    </a:lnTo>
                    <a:lnTo>
                      <a:pt x="40" y="31"/>
                    </a:lnTo>
                    <a:lnTo>
                      <a:pt x="34" y="38"/>
                    </a:lnTo>
                    <a:lnTo>
                      <a:pt x="32" y="47"/>
                    </a:lnTo>
                    <a:lnTo>
                      <a:pt x="33" y="54"/>
                    </a:lnTo>
                    <a:lnTo>
                      <a:pt x="39" y="61"/>
                    </a:lnTo>
                    <a:lnTo>
                      <a:pt x="49" y="66"/>
                    </a:lnTo>
                    <a:lnTo>
                      <a:pt x="64" y="68"/>
                    </a:lnTo>
                    <a:lnTo>
                      <a:pt x="75" y="65"/>
                    </a:lnTo>
                    <a:lnTo>
                      <a:pt x="85" y="64"/>
                    </a:lnTo>
                    <a:lnTo>
                      <a:pt x="94" y="63"/>
                    </a:lnTo>
                    <a:lnTo>
                      <a:pt x="103" y="62"/>
                    </a:lnTo>
                    <a:lnTo>
                      <a:pt x="110" y="60"/>
                    </a:lnTo>
                    <a:lnTo>
                      <a:pt x="120" y="58"/>
                    </a:lnTo>
                    <a:lnTo>
                      <a:pt x="129" y="56"/>
                    </a:lnTo>
                    <a:lnTo>
                      <a:pt x="141" y="54"/>
                    </a:lnTo>
                    <a:lnTo>
                      <a:pt x="148" y="54"/>
                    </a:lnTo>
                    <a:lnTo>
                      <a:pt x="152" y="61"/>
                    </a:lnTo>
                    <a:lnTo>
                      <a:pt x="151" y="67"/>
                    </a:lnTo>
                    <a:lnTo>
                      <a:pt x="146" y="72"/>
                    </a:lnTo>
                    <a:lnTo>
                      <a:pt x="134" y="76"/>
                    </a:lnTo>
                    <a:lnTo>
                      <a:pt x="124" y="79"/>
                    </a:lnTo>
                    <a:lnTo>
                      <a:pt x="114" y="82"/>
                    </a:lnTo>
                    <a:lnTo>
                      <a:pt x="107" y="85"/>
                    </a:lnTo>
                    <a:lnTo>
                      <a:pt x="97" y="87"/>
                    </a:lnTo>
                    <a:lnTo>
                      <a:pt x="88" y="90"/>
                    </a:lnTo>
                    <a:lnTo>
                      <a:pt x="77" y="92"/>
                    </a:lnTo>
                    <a:lnTo>
                      <a:pt x="66" y="95"/>
                    </a:lnTo>
                    <a:lnTo>
                      <a:pt x="36" y="91"/>
                    </a:lnTo>
                    <a:lnTo>
                      <a:pt x="15" y="82"/>
                    </a:lnTo>
                    <a:lnTo>
                      <a:pt x="3" y="68"/>
                    </a:lnTo>
                    <a:lnTo>
                      <a:pt x="0" y="53"/>
                    </a:lnTo>
                    <a:lnTo>
                      <a:pt x="4" y="36"/>
                    </a:lnTo>
                    <a:lnTo>
                      <a:pt x="15" y="21"/>
                    </a:lnTo>
                    <a:lnTo>
                      <a:pt x="34" y="8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69" y="8"/>
                    </a:lnTo>
                    <a:lnTo>
                      <a:pt x="68" y="15"/>
                    </a:lnTo>
                    <a:lnTo>
                      <a:pt x="6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8029800" y="5556240"/>
                <a:ext cx="80640" cy="8244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73" y="16"/>
                    </a:moveTo>
                    <a:lnTo>
                      <a:pt x="64" y="21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43"/>
                    </a:lnTo>
                    <a:lnTo>
                      <a:pt x="40" y="52"/>
                    </a:lnTo>
                    <a:lnTo>
                      <a:pt x="35" y="61"/>
                    </a:lnTo>
                    <a:lnTo>
                      <a:pt x="31" y="71"/>
                    </a:lnTo>
                    <a:lnTo>
                      <a:pt x="28" y="84"/>
                    </a:lnTo>
                    <a:lnTo>
                      <a:pt x="22" y="84"/>
                    </a:lnTo>
                    <a:lnTo>
                      <a:pt x="17" y="77"/>
                    </a:lnTo>
                    <a:lnTo>
                      <a:pt x="13" y="69"/>
                    </a:lnTo>
                    <a:lnTo>
                      <a:pt x="17" y="67"/>
                    </a:lnTo>
                    <a:lnTo>
                      <a:pt x="35" y="69"/>
                    </a:lnTo>
                    <a:lnTo>
                      <a:pt x="47" y="72"/>
                    </a:lnTo>
                    <a:lnTo>
                      <a:pt x="54" y="74"/>
                    </a:lnTo>
                    <a:lnTo>
                      <a:pt x="59" y="75"/>
                    </a:lnTo>
                    <a:lnTo>
                      <a:pt x="61" y="74"/>
                    </a:lnTo>
                    <a:lnTo>
                      <a:pt x="65" y="74"/>
                    </a:lnTo>
                    <a:lnTo>
                      <a:pt x="73" y="72"/>
                    </a:lnTo>
                    <a:lnTo>
                      <a:pt x="86" y="69"/>
                    </a:lnTo>
                    <a:lnTo>
                      <a:pt x="94" y="69"/>
                    </a:lnTo>
                    <a:lnTo>
                      <a:pt x="101" y="75"/>
                    </a:lnTo>
                    <a:lnTo>
                      <a:pt x="100" y="84"/>
                    </a:lnTo>
                    <a:lnTo>
                      <a:pt x="93" y="91"/>
                    </a:lnTo>
                    <a:lnTo>
                      <a:pt x="78" y="96"/>
                    </a:lnTo>
                    <a:lnTo>
                      <a:pt x="70" y="99"/>
                    </a:lnTo>
                    <a:lnTo>
                      <a:pt x="64" y="101"/>
                    </a:lnTo>
                    <a:lnTo>
                      <a:pt x="61" y="102"/>
                    </a:lnTo>
                    <a:lnTo>
                      <a:pt x="56" y="101"/>
                    </a:lnTo>
                    <a:lnTo>
                      <a:pt x="47" y="99"/>
                    </a:lnTo>
                    <a:lnTo>
                      <a:pt x="33" y="96"/>
                    </a:lnTo>
                    <a:lnTo>
                      <a:pt x="13" y="93"/>
                    </a:lnTo>
                    <a:lnTo>
                      <a:pt x="5" y="90"/>
                    </a:lnTo>
                    <a:lnTo>
                      <a:pt x="2" y="87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6" y="61"/>
                    </a:lnTo>
                    <a:lnTo>
                      <a:pt x="13" y="50"/>
                    </a:lnTo>
                    <a:lnTo>
                      <a:pt x="19" y="40"/>
                    </a:lnTo>
                    <a:lnTo>
                      <a:pt x="27" y="31"/>
                    </a:lnTo>
                    <a:lnTo>
                      <a:pt x="34" y="21"/>
                    </a:lnTo>
                    <a:lnTo>
                      <a:pt x="44" y="15"/>
                    </a:lnTo>
                    <a:lnTo>
                      <a:pt x="53" y="9"/>
                    </a:lnTo>
                    <a:lnTo>
                      <a:pt x="62" y="2"/>
                    </a:lnTo>
                    <a:lnTo>
                      <a:pt x="69" y="0"/>
                    </a:lnTo>
                    <a:lnTo>
                      <a:pt x="74" y="4"/>
                    </a:lnTo>
                    <a:lnTo>
                      <a:pt x="75" y="10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7950240" y="55227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122" h="96">
                    <a:moveTo>
                      <a:pt x="60" y="16"/>
                    </a:moveTo>
                    <a:lnTo>
                      <a:pt x="42" y="20"/>
                    </a:lnTo>
                    <a:lnTo>
                      <a:pt x="33" y="27"/>
                    </a:lnTo>
                    <a:lnTo>
                      <a:pt x="27" y="33"/>
                    </a:lnTo>
                    <a:lnTo>
                      <a:pt x="27" y="42"/>
                    </a:lnTo>
                    <a:lnTo>
                      <a:pt x="31" y="49"/>
                    </a:lnTo>
                    <a:lnTo>
                      <a:pt x="38" y="57"/>
                    </a:lnTo>
                    <a:lnTo>
                      <a:pt x="50" y="63"/>
                    </a:lnTo>
                    <a:lnTo>
                      <a:pt x="66" y="70"/>
                    </a:lnTo>
                    <a:lnTo>
                      <a:pt x="107" y="54"/>
                    </a:lnTo>
                    <a:lnTo>
                      <a:pt x="116" y="54"/>
                    </a:lnTo>
                    <a:lnTo>
                      <a:pt x="122" y="60"/>
                    </a:lnTo>
                    <a:lnTo>
                      <a:pt x="122" y="69"/>
                    </a:lnTo>
                    <a:lnTo>
                      <a:pt x="116" y="76"/>
                    </a:lnTo>
                    <a:lnTo>
                      <a:pt x="68" y="96"/>
                    </a:lnTo>
                    <a:lnTo>
                      <a:pt x="41" y="86"/>
                    </a:lnTo>
                    <a:lnTo>
                      <a:pt x="21" y="74"/>
                    </a:lnTo>
                    <a:lnTo>
                      <a:pt x="7" y="60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10" y="18"/>
                    </a:lnTo>
                    <a:lnTo>
                      <a:pt x="27" y="7"/>
                    </a:lnTo>
                    <a:lnTo>
                      <a:pt x="56" y="0"/>
                    </a:lnTo>
                    <a:lnTo>
                      <a:pt x="63" y="1"/>
                    </a:lnTo>
                    <a:lnTo>
                      <a:pt x="66" y="6"/>
                    </a:lnTo>
                    <a:lnTo>
                      <a:pt x="65" y="12"/>
                    </a:lnTo>
                    <a:lnTo>
                      <a:pt x="6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8100720" y="5605200"/>
                <a:ext cx="129960" cy="82800"/>
              </a:xfrm>
              <a:custGeom>
                <a:avLst/>
                <a:gdLst/>
                <a:ahLst/>
                <a:rect l="l" t="t" r="r" b="b"/>
                <a:pathLst>
                  <a:path w="165" h="103">
                    <a:moveTo>
                      <a:pt x="84" y="31"/>
                    </a:moveTo>
                    <a:lnTo>
                      <a:pt x="75" y="29"/>
                    </a:lnTo>
                    <a:lnTo>
                      <a:pt x="67" y="28"/>
                    </a:lnTo>
                    <a:lnTo>
                      <a:pt x="57" y="28"/>
                    </a:lnTo>
                    <a:lnTo>
                      <a:pt x="48" y="28"/>
                    </a:lnTo>
                    <a:lnTo>
                      <a:pt x="39" y="28"/>
                    </a:lnTo>
                    <a:lnTo>
                      <a:pt x="30" y="28"/>
                    </a:lnTo>
                    <a:lnTo>
                      <a:pt x="22" y="28"/>
                    </a:lnTo>
                    <a:lnTo>
                      <a:pt x="14" y="28"/>
                    </a:lnTo>
                    <a:lnTo>
                      <a:pt x="12" y="24"/>
                    </a:lnTo>
                    <a:lnTo>
                      <a:pt x="17" y="17"/>
                    </a:lnTo>
                    <a:lnTo>
                      <a:pt x="24" y="11"/>
                    </a:lnTo>
                    <a:lnTo>
                      <a:pt x="28" y="14"/>
                    </a:lnTo>
                    <a:lnTo>
                      <a:pt x="28" y="23"/>
                    </a:lnTo>
                    <a:lnTo>
                      <a:pt x="28" y="32"/>
                    </a:lnTo>
                    <a:lnTo>
                      <a:pt x="28" y="41"/>
                    </a:lnTo>
                    <a:lnTo>
                      <a:pt x="28" y="50"/>
                    </a:lnTo>
                    <a:lnTo>
                      <a:pt x="28" y="58"/>
                    </a:lnTo>
                    <a:lnTo>
                      <a:pt x="28" y="67"/>
                    </a:lnTo>
                    <a:lnTo>
                      <a:pt x="28" y="76"/>
                    </a:lnTo>
                    <a:lnTo>
                      <a:pt x="29" y="88"/>
                    </a:lnTo>
                    <a:lnTo>
                      <a:pt x="25" y="89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14" y="74"/>
                    </a:lnTo>
                    <a:lnTo>
                      <a:pt x="36" y="73"/>
                    </a:lnTo>
                    <a:lnTo>
                      <a:pt x="56" y="72"/>
                    </a:lnTo>
                    <a:lnTo>
                      <a:pt x="73" y="70"/>
                    </a:lnTo>
                    <a:lnTo>
                      <a:pt x="90" y="69"/>
                    </a:lnTo>
                    <a:lnTo>
                      <a:pt x="104" y="65"/>
                    </a:lnTo>
                    <a:lnTo>
                      <a:pt x="120" y="61"/>
                    </a:lnTo>
                    <a:lnTo>
                      <a:pt x="136" y="57"/>
                    </a:lnTo>
                    <a:lnTo>
                      <a:pt x="153" y="54"/>
                    </a:lnTo>
                    <a:lnTo>
                      <a:pt x="160" y="54"/>
                    </a:lnTo>
                    <a:lnTo>
                      <a:pt x="165" y="59"/>
                    </a:lnTo>
                    <a:lnTo>
                      <a:pt x="163" y="66"/>
                    </a:lnTo>
                    <a:lnTo>
                      <a:pt x="158" y="72"/>
                    </a:lnTo>
                    <a:lnTo>
                      <a:pt x="141" y="78"/>
                    </a:lnTo>
                    <a:lnTo>
                      <a:pt x="125" y="83"/>
                    </a:lnTo>
                    <a:lnTo>
                      <a:pt x="109" y="87"/>
                    </a:lnTo>
                    <a:lnTo>
                      <a:pt x="94" y="93"/>
                    </a:lnTo>
                    <a:lnTo>
                      <a:pt x="76" y="96"/>
                    </a:lnTo>
                    <a:lnTo>
                      <a:pt x="58" y="100"/>
                    </a:lnTo>
                    <a:lnTo>
                      <a:pt x="37" y="102"/>
                    </a:lnTo>
                    <a:lnTo>
                      <a:pt x="14" y="103"/>
                    </a:lnTo>
                    <a:lnTo>
                      <a:pt x="8" y="101"/>
                    </a:lnTo>
                    <a:lnTo>
                      <a:pt x="3" y="99"/>
                    </a:lnTo>
                    <a:lnTo>
                      <a:pt x="0" y="94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7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1" y="7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1" y="0"/>
                    </a:lnTo>
                    <a:lnTo>
                      <a:pt x="51" y="1"/>
                    </a:lnTo>
                    <a:lnTo>
                      <a:pt x="59" y="1"/>
                    </a:lnTo>
                    <a:lnTo>
                      <a:pt x="69" y="2"/>
                    </a:lnTo>
                    <a:lnTo>
                      <a:pt x="77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6" y="11"/>
                    </a:lnTo>
                    <a:lnTo>
                      <a:pt x="97" y="15"/>
                    </a:lnTo>
                    <a:lnTo>
                      <a:pt x="98" y="21"/>
                    </a:lnTo>
                    <a:lnTo>
                      <a:pt x="93" y="28"/>
                    </a:lnTo>
                    <a:lnTo>
                      <a:pt x="8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8130960" y="5634000"/>
                <a:ext cx="93240" cy="88920"/>
              </a:xfrm>
              <a:custGeom>
                <a:avLst/>
                <a:gdLst/>
                <a:ahLst/>
                <a:rect l="l" t="t" r="r" b="b"/>
                <a:pathLst>
                  <a:path w="118" h="111">
                    <a:moveTo>
                      <a:pt x="86" y="18"/>
                    </a:moveTo>
                    <a:lnTo>
                      <a:pt x="66" y="22"/>
                    </a:lnTo>
                    <a:lnTo>
                      <a:pt x="50" y="29"/>
                    </a:lnTo>
                    <a:lnTo>
                      <a:pt x="36" y="35"/>
                    </a:lnTo>
                    <a:lnTo>
                      <a:pt x="28" y="45"/>
                    </a:lnTo>
                    <a:lnTo>
                      <a:pt x="22" y="53"/>
                    </a:lnTo>
                    <a:lnTo>
                      <a:pt x="23" y="63"/>
                    </a:lnTo>
                    <a:lnTo>
                      <a:pt x="30" y="73"/>
                    </a:lnTo>
                    <a:lnTo>
                      <a:pt x="43" y="82"/>
                    </a:lnTo>
                    <a:lnTo>
                      <a:pt x="50" y="81"/>
                    </a:lnTo>
                    <a:lnTo>
                      <a:pt x="59" y="81"/>
                    </a:lnTo>
                    <a:lnTo>
                      <a:pt x="65" y="80"/>
                    </a:lnTo>
                    <a:lnTo>
                      <a:pt x="73" y="80"/>
                    </a:lnTo>
                    <a:lnTo>
                      <a:pt x="79" y="79"/>
                    </a:lnTo>
                    <a:lnTo>
                      <a:pt x="87" y="78"/>
                    </a:lnTo>
                    <a:lnTo>
                      <a:pt x="94" y="77"/>
                    </a:lnTo>
                    <a:lnTo>
                      <a:pt x="104" y="76"/>
                    </a:lnTo>
                    <a:lnTo>
                      <a:pt x="113" y="77"/>
                    </a:lnTo>
                    <a:lnTo>
                      <a:pt x="118" y="86"/>
                    </a:lnTo>
                    <a:lnTo>
                      <a:pt x="116" y="94"/>
                    </a:lnTo>
                    <a:lnTo>
                      <a:pt x="108" y="100"/>
                    </a:lnTo>
                    <a:lnTo>
                      <a:pt x="99" y="101"/>
                    </a:lnTo>
                    <a:lnTo>
                      <a:pt x="90" y="103"/>
                    </a:lnTo>
                    <a:lnTo>
                      <a:pt x="80" y="104"/>
                    </a:lnTo>
                    <a:lnTo>
                      <a:pt x="73" y="106"/>
                    </a:lnTo>
                    <a:lnTo>
                      <a:pt x="63" y="107"/>
                    </a:lnTo>
                    <a:lnTo>
                      <a:pt x="55" y="108"/>
                    </a:lnTo>
                    <a:lnTo>
                      <a:pt x="46" y="109"/>
                    </a:lnTo>
                    <a:lnTo>
                      <a:pt x="37" y="111"/>
                    </a:lnTo>
                    <a:lnTo>
                      <a:pt x="16" y="95"/>
                    </a:lnTo>
                    <a:lnTo>
                      <a:pt x="4" y="79"/>
                    </a:lnTo>
                    <a:lnTo>
                      <a:pt x="0" y="63"/>
                    </a:lnTo>
                    <a:lnTo>
                      <a:pt x="3" y="47"/>
                    </a:lnTo>
                    <a:lnTo>
                      <a:pt x="13" y="31"/>
                    </a:lnTo>
                    <a:lnTo>
                      <a:pt x="30" y="18"/>
                    </a:lnTo>
                    <a:lnTo>
                      <a:pt x="52" y="7"/>
                    </a:lnTo>
                    <a:lnTo>
                      <a:pt x="83" y="0"/>
                    </a:lnTo>
                    <a:lnTo>
                      <a:pt x="89" y="1"/>
                    </a:lnTo>
                    <a:lnTo>
                      <a:pt x="92" y="6"/>
                    </a:lnTo>
                    <a:lnTo>
                      <a:pt x="91" y="13"/>
                    </a:lnTo>
                    <a:lnTo>
                      <a:pt x="8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8182080" y="5695920"/>
                <a:ext cx="66240" cy="60120"/>
              </a:xfrm>
              <a:custGeom>
                <a:avLst/>
                <a:gdLst/>
                <a:ahLst/>
                <a:rect l="l" t="t" r="r" b="b"/>
                <a:pathLst>
                  <a:path w="83" h="76">
                    <a:moveTo>
                      <a:pt x="61" y="21"/>
                    </a:moveTo>
                    <a:lnTo>
                      <a:pt x="50" y="23"/>
                    </a:lnTo>
                    <a:lnTo>
                      <a:pt x="43" y="26"/>
                    </a:lnTo>
                    <a:lnTo>
                      <a:pt x="37" y="29"/>
                    </a:lnTo>
                    <a:lnTo>
                      <a:pt x="34" y="32"/>
                    </a:lnTo>
                    <a:lnTo>
                      <a:pt x="31" y="36"/>
                    </a:lnTo>
                    <a:lnTo>
                      <a:pt x="30" y="42"/>
                    </a:lnTo>
                    <a:lnTo>
                      <a:pt x="27" y="48"/>
                    </a:lnTo>
                    <a:lnTo>
                      <a:pt x="26" y="58"/>
                    </a:lnTo>
                    <a:lnTo>
                      <a:pt x="22" y="58"/>
                    </a:lnTo>
                    <a:lnTo>
                      <a:pt x="17" y="52"/>
                    </a:lnTo>
                    <a:lnTo>
                      <a:pt x="13" y="43"/>
                    </a:lnTo>
                    <a:lnTo>
                      <a:pt x="17" y="41"/>
                    </a:lnTo>
                    <a:lnTo>
                      <a:pt x="22" y="42"/>
                    </a:lnTo>
                    <a:lnTo>
                      <a:pt x="29" y="43"/>
                    </a:lnTo>
                    <a:lnTo>
                      <a:pt x="35" y="44"/>
                    </a:lnTo>
                    <a:lnTo>
                      <a:pt x="43" y="46"/>
                    </a:lnTo>
                    <a:lnTo>
                      <a:pt x="49" y="47"/>
                    </a:lnTo>
                    <a:lnTo>
                      <a:pt x="55" y="48"/>
                    </a:lnTo>
                    <a:lnTo>
                      <a:pt x="63" y="48"/>
                    </a:lnTo>
                    <a:lnTo>
                      <a:pt x="70" y="50"/>
                    </a:lnTo>
                    <a:lnTo>
                      <a:pt x="76" y="50"/>
                    </a:lnTo>
                    <a:lnTo>
                      <a:pt x="80" y="53"/>
                    </a:lnTo>
                    <a:lnTo>
                      <a:pt x="82" y="57"/>
                    </a:lnTo>
                    <a:lnTo>
                      <a:pt x="83" y="62"/>
                    </a:lnTo>
                    <a:lnTo>
                      <a:pt x="82" y="67"/>
                    </a:lnTo>
                    <a:lnTo>
                      <a:pt x="80" y="71"/>
                    </a:lnTo>
                    <a:lnTo>
                      <a:pt x="76" y="74"/>
                    </a:lnTo>
                    <a:lnTo>
                      <a:pt x="70" y="76"/>
                    </a:lnTo>
                    <a:lnTo>
                      <a:pt x="62" y="75"/>
                    </a:lnTo>
                    <a:lnTo>
                      <a:pt x="54" y="75"/>
                    </a:lnTo>
                    <a:lnTo>
                      <a:pt x="46" y="74"/>
                    </a:lnTo>
                    <a:lnTo>
                      <a:pt x="38" y="73"/>
                    </a:lnTo>
                    <a:lnTo>
                      <a:pt x="31" y="71"/>
                    </a:lnTo>
                    <a:lnTo>
                      <a:pt x="23" y="70"/>
                    </a:lnTo>
                    <a:lnTo>
                      <a:pt x="17" y="68"/>
                    </a:lnTo>
                    <a:lnTo>
                      <a:pt x="10" y="67"/>
                    </a:lnTo>
                    <a:lnTo>
                      <a:pt x="4" y="63"/>
                    </a:lnTo>
                    <a:lnTo>
                      <a:pt x="1" y="60"/>
                    </a:lnTo>
                    <a:lnTo>
                      <a:pt x="0" y="56"/>
                    </a:lnTo>
                    <a:lnTo>
                      <a:pt x="1" y="51"/>
                    </a:lnTo>
                    <a:lnTo>
                      <a:pt x="3" y="37"/>
                    </a:lnTo>
                    <a:lnTo>
                      <a:pt x="6" y="27"/>
                    </a:lnTo>
                    <a:lnTo>
                      <a:pt x="9" y="19"/>
                    </a:lnTo>
                    <a:lnTo>
                      <a:pt x="13" y="15"/>
                    </a:lnTo>
                    <a:lnTo>
                      <a:pt x="19" y="11"/>
                    </a:lnTo>
                    <a:lnTo>
                      <a:pt x="27" y="8"/>
                    </a:lnTo>
                    <a:lnTo>
                      <a:pt x="38" y="3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67" y="7"/>
                    </a:lnTo>
                    <a:lnTo>
                      <a:pt x="67" y="14"/>
                    </a:lnTo>
                    <a:lnTo>
                      <a:pt x="6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8040600" y="5676840"/>
                <a:ext cx="102960" cy="69840"/>
              </a:xfrm>
              <a:custGeom>
                <a:avLst/>
                <a:gdLst/>
                <a:ahLst/>
                <a:rect l="l" t="t" r="r" b="b"/>
                <a:pathLst>
                  <a:path w="130" h="87">
                    <a:moveTo>
                      <a:pt x="76" y="22"/>
                    </a:moveTo>
                    <a:lnTo>
                      <a:pt x="64" y="26"/>
                    </a:lnTo>
                    <a:lnTo>
                      <a:pt x="54" y="32"/>
                    </a:lnTo>
                    <a:lnTo>
                      <a:pt x="43" y="37"/>
                    </a:lnTo>
                    <a:lnTo>
                      <a:pt x="35" y="42"/>
                    </a:lnTo>
                    <a:lnTo>
                      <a:pt x="29" y="46"/>
                    </a:lnTo>
                    <a:lnTo>
                      <a:pt x="29" y="51"/>
                    </a:lnTo>
                    <a:lnTo>
                      <a:pt x="35" y="54"/>
                    </a:lnTo>
                    <a:lnTo>
                      <a:pt x="49" y="60"/>
                    </a:lnTo>
                    <a:lnTo>
                      <a:pt x="61" y="56"/>
                    </a:lnTo>
                    <a:lnTo>
                      <a:pt x="72" y="54"/>
                    </a:lnTo>
                    <a:lnTo>
                      <a:pt x="80" y="51"/>
                    </a:lnTo>
                    <a:lnTo>
                      <a:pt x="90" y="49"/>
                    </a:lnTo>
                    <a:lnTo>
                      <a:pt x="97" y="45"/>
                    </a:lnTo>
                    <a:lnTo>
                      <a:pt x="104" y="41"/>
                    </a:lnTo>
                    <a:lnTo>
                      <a:pt x="111" y="36"/>
                    </a:lnTo>
                    <a:lnTo>
                      <a:pt x="119" y="29"/>
                    </a:lnTo>
                    <a:lnTo>
                      <a:pt x="123" y="27"/>
                    </a:lnTo>
                    <a:lnTo>
                      <a:pt x="128" y="29"/>
                    </a:lnTo>
                    <a:lnTo>
                      <a:pt x="130" y="33"/>
                    </a:lnTo>
                    <a:lnTo>
                      <a:pt x="129" y="38"/>
                    </a:lnTo>
                    <a:lnTo>
                      <a:pt x="119" y="46"/>
                    </a:lnTo>
                    <a:lnTo>
                      <a:pt x="112" y="54"/>
                    </a:lnTo>
                    <a:lnTo>
                      <a:pt x="103" y="61"/>
                    </a:lnTo>
                    <a:lnTo>
                      <a:pt x="96" y="67"/>
                    </a:lnTo>
                    <a:lnTo>
                      <a:pt x="85" y="72"/>
                    </a:lnTo>
                    <a:lnTo>
                      <a:pt x="75" y="78"/>
                    </a:lnTo>
                    <a:lnTo>
                      <a:pt x="62" y="82"/>
                    </a:lnTo>
                    <a:lnTo>
                      <a:pt x="49" y="87"/>
                    </a:lnTo>
                    <a:lnTo>
                      <a:pt x="20" y="78"/>
                    </a:lnTo>
                    <a:lnTo>
                      <a:pt x="5" y="68"/>
                    </a:lnTo>
                    <a:lnTo>
                      <a:pt x="0" y="57"/>
                    </a:lnTo>
                    <a:lnTo>
                      <a:pt x="3" y="47"/>
                    </a:lnTo>
                    <a:lnTo>
                      <a:pt x="12" y="35"/>
                    </a:lnTo>
                    <a:lnTo>
                      <a:pt x="27" y="24"/>
                    </a:lnTo>
                    <a:lnTo>
                      <a:pt x="45" y="12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80" y="6"/>
                    </a:lnTo>
                    <a:lnTo>
                      <a:pt x="82" y="13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8188560" y="573552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114" h="100">
                    <a:moveTo>
                      <a:pt x="99" y="15"/>
                    </a:moveTo>
                    <a:lnTo>
                      <a:pt x="87" y="19"/>
                    </a:lnTo>
                    <a:lnTo>
                      <a:pt x="75" y="23"/>
                    </a:lnTo>
                    <a:lnTo>
                      <a:pt x="60" y="28"/>
                    </a:lnTo>
                    <a:lnTo>
                      <a:pt x="48" y="33"/>
                    </a:lnTo>
                    <a:lnTo>
                      <a:pt x="37" y="39"/>
                    </a:lnTo>
                    <a:lnTo>
                      <a:pt x="30" y="49"/>
                    </a:lnTo>
                    <a:lnTo>
                      <a:pt x="28" y="62"/>
                    </a:lnTo>
                    <a:lnTo>
                      <a:pt x="33" y="81"/>
                    </a:lnTo>
                    <a:lnTo>
                      <a:pt x="30" y="83"/>
                    </a:lnTo>
                    <a:lnTo>
                      <a:pt x="23" y="81"/>
                    </a:lnTo>
                    <a:lnTo>
                      <a:pt x="14" y="76"/>
                    </a:lnTo>
                    <a:lnTo>
                      <a:pt x="15" y="73"/>
                    </a:lnTo>
                    <a:lnTo>
                      <a:pt x="26" y="68"/>
                    </a:lnTo>
                    <a:lnTo>
                      <a:pt x="37" y="65"/>
                    </a:lnTo>
                    <a:lnTo>
                      <a:pt x="46" y="62"/>
                    </a:lnTo>
                    <a:lnTo>
                      <a:pt x="57" y="59"/>
                    </a:lnTo>
                    <a:lnTo>
                      <a:pt x="67" y="54"/>
                    </a:lnTo>
                    <a:lnTo>
                      <a:pt x="76" y="51"/>
                    </a:lnTo>
                    <a:lnTo>
                      <a:pt x="86" y="48"/>
                    </a:lnTo>
                    <a:lnTo>
                      <a:pt x="99" y="45"/>
                    </a:lnTo>
                    <a:lnTo>
                      <a:pt x="107" y="45"/>
                    </a:lnTo>
                    <a:lnTo>
                      <a:pt x="114" y="51"/>
                    </a:lnTo>
                    <a:lnTo>
                      <a:pt x="114" y="60"/>
                    </a:lnTo>
                    <a:lnTo>
                      <a:pt x="107" y="67"/>
                    </a:lnTo>
                    <a:lnTo>
                      <a:pt x="95" y="71"/>
                    </a:lnTo>
                    <a:lnTo>
                      <a:pt x="85" y="75"/>
                    </a:lnTo>
                    <a:lnTo>
                      <a:pt x="75" y="79"/>
                    </a:lnTo>
                    <a:lnTo>
                      <a:pt x="66" y="83"/>
                    </a:lnTo>
                    <a:lnTo>
                      <a:pt x="55" y="87"/>
                    </a:lnTo>
                    <a:lnTo>
                      <a:pt x="45" y="91"/>
                    </a:lnTo>
                    <a:lnTo>
                      <a:pt x="34" y="95"/>
                    </a:lnTo>
                    <a:lnTo>
                      <a:pt x="24" y="100"/>
                    </a:lnTo>
                    <a:lnTo>
                      <a:pt x="17" y="100"/>
                    </a:lnTo>
                    <a:lnTo>
                      <a:pt x="13" y="100"/>
                    </a:lnTo>
                    <a:lnTo>
                      <a:pt x="9" y="96"/>
                    </a:lnTo>
                    <a:lnTo>
                      <a:pt x="6" y="92"/>
                    </a:lnTo>
                    <a:lnTo>
                      <a:pt x="0" y="67"/>
                    </a:lnTo>
                    <a:lnTo>
                      <a:pt x="2" y="50"/>
                    </a:lnTo>
                    <a:lnTo>
                      <a:pt x="11" y="36"/>
                    </a:lnTo>
                    <a:lnTo>
                      <a:pt x="25" y="28"/>
                    </a:lnTo>
                    <a:lnTo>
                      <a:pt x="40" y="20"/>
                    </a:lnTo>
                    <a:lnTo>
                      <a:pt x="58" y="15"/>
                    </a:lnTo>
                    <a:lnTo>
                      <a:pt x="74" y="8"/>
                    </a:lnTo>
                    <a:lnTo>
                      <a:pt x="89" y="2"/>
                    </a:lnTo>
                    <a:lnTo>
                      <a:pt x="96" y="0"/>
                    </a:lnTo>
                    <a:lnTo>
                      <a:pt x="101" y="3"/>
                    </a:lnTo>
                    <a:lnTo>
                      <a:pt x="102" y="8"/>
                    </a:lnTo>
                    <a:lnTo>
                      <a:pt x="99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8136000" y="5786280"/>
                <a:ext cx="126720" cy="60480"/>
              </a:xfrm>
              <a:custGeom>
                <a:avLst/>
                <a:gdLst/>
                <a:ahLst/>
                <a:rect l="l" t="t" r="r" b="b"/>
                <a:pathLst>
                  <a:path w="161" h="76">
                    <a:moveTo>
                      <a:pt x="51" y="18"/>
                    </a:moveTo>
                    <a:lnTo>
                      <a:pt x="42" y="24"/>
                    </a:lnTo>
                    <a:lnTo>
                      <a:pt x="36" y="28"/>
                    </a:lnTo>
                    <a:lnTo>
                      <a:pt x="31" y="31"/>
                    </a:lnTo>
                    <a:lnTo>
                      <a:pt x="31" y="35"/>
                    </a:lnTo>
                    <a:lnTo>
                      <a:pt x="31" y="38"/>
                    </a:lnTo>
                    <a:lnTo>
                      <a:pt x="36" y="41"/>
                    </a:lnTo>
                    <a:lnTo>
                      <a:pt x="42" y="45"/>
                    </a:lnTo>
                    <a:lnTo>
                      <a:pt x="53" y="50"/>
                    </a:lnTo>
                    <a:lnTo>
                      <a:pt x="71" y="49"/>
                    </a:lnTo>
                    <a:lnTo>
                      <a:pt x="87" y="49"/>
                    </a:lnTo>
                    <a:lnTo>
                      <a:pt x="100" y="48"/>
                    </a:lnTo>
                    <a:lnTo>
                      <a:pt x="112" y="47"/>
                    </a:lnTo>
                    <a:lnTo>
                      <a:pt x="121" y="43"/>
                    </a:lnTo>
                    <a:lnTo>
                      <a:pt x="130" y="40"/>
                    </a:lnTo>
                    <a:lnTo>
                      <a:pt x="139" y="34"/>
                    </a:lnTo>
                    <a:lnTo>
                      <a:pt x="152" y="28"/>
                    </a:lnTo>
                    <a:lnTo>
                      <a:pt x="156" y="26"/>
                    </a:lnTo>
                    <a:lnTo>
                      <a:pt x="159" y="29"/>
                    </a:lnTo>
                    <a:lnTo>
                      <a:pt x="161" y="33"/>
                    </a:lnTo>
                    <a:lnTo>
                      <a:pt x="158" y="39"/>
                    </a:lnTo>
                    <a:lnTo>
                      <a:pt x="144" y="46"/>
                    </a:lnTo>
                    <a:lnTo>
                      <a:pt x="134" y="54"/>
                    </a:lnTo>
                    <a:lnTo>
                      <a:pt x="123" y="60"/>
                    </a:lnTo>
                    <a:lnTo>
                      <a:pt x="113" y="67"/>
                    </a:lnTo>
                    <a:lnTo>
                      <a:pt x="100" y="70"/>
                    </a:lnTo>
                    <a:lnTo>
                      <a:pt x="86" y="73"/>
                    </a:lnTo>
                    <a:lnTo>
                      <a:pt x="68" y="75"/>
                    </a:lnTo>
                    <a:lnTo>
                      <a:pt x="47" y="76"/>
                    </a:lnTo>
                    <a:lnTo>
                      <a:pt x="26" y="66"/>
                    </a:lnTo>
                    <a:lnTo>
                      <a:pt x="12" y="57"/>
                    </a:lnTo>
                    <a:lnTo>
                      <a:pt x="2" y="49"/>
                    </a:lnTo>
                    <a:lnTo>
                      <a:pt x="0" y="43"/>
                    </a:lnTo>
                    <a:lnTo>
                      <a:pt x="2" y="34"/>
                    </a:lnTo>
                    <a:lnTo>
                      <a:pt x="10" y="26"/>
                    </a:lnTo>
                    <a:lnTo>
                      <a:pt x="22" y="16"/>
                    </a:lnTo>
                    <a:lnTo>
                      <a:pt x="39" y="3"/>
                    </a:lnTo>
                    <a:lnTo>
                      <a:pt x="45" y="0"/>
                    </a:lnTo>
                    <a:lnTo>
                      <a:pt x="52" y="4"/>
                    </a:lnTo>
                    <a:lnTo>
                      <a:pt x="54" y="11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8137440" y="582768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77">
                    <a:moveTo>
                      <a:pt x="39" y="17"/>
                    </a:moveTo>
                    <a:lnTo>
                      <a:pt x="33" y="22"/>
                    </a:lnTo>
                    <a:lnTo>
                      <a:pt x="30" y="28"/>
                    </a:lnTo>
                    <a:lnTo>
                      <a:pt x="27" y="32"/>
                    </a:lnTo>
                    <a:lnTo>
                      <a:pt x="28" y="36"/>
                    </a:lnTo>
                    <a:lnTo>
                      <a:pt x="30" y="44"/>
                    </a:lnTo>
                    <a:lnTo>
                      <a:pt x="40" y="53"/>
                    </a:lnTo>
                    <a:lnTo>
                      <a:pt x="38" y="53"/>
                    </a:lnTo>
                    <a:lnTo>
                      <a:pt x="34" y="52"/>
                    </a:lnTo>
                    <a:lnTo>
                      <a:pt x="29" y="50"/>
                    </a:lnTo>
                    <a:lnTo>
                      <a:pt x="41" y="47"/>
                    </a:lnTo>
                    <a:lnTo>
                      <a:pt x="50" y="47"/>
                    </a:lnTo>
                    <a:lnTo>
                      <a:pt x="55" y="47"/>
                    </a:lnTo>
                    <a:lnTo>
                      <a:pt x="61" y="47"/>
                    </a:lnTo>
                    <a:lnTo>
                      <a:pt x="64" y="45"/>
                    </a:lnTo>
                    <a:lnTo>
                      <a:pt x="68" y="44"/>
                    </a:lnTo>
                    <a:lnTo>
                      <a:pt x="76" y="40"/>
                    </a:lnTo>
                    <a:lnTo>
                      <a:pt x="89" y="37"/>
                    </a:lnTo>
                    <a:lnTo>
                      <a:pt x="96" y="36"/>
                    </a:lnTo>
                    <a:lnTo>
                      <a:pt x="100" y="42"/>
                    </a:lnTo>
                    <a:lnTo>
                      <a:pt x="100" y="49"/>
                    </a:lnTo>
                    <a:lnTo>
                      <a:pt x="96" y="56"/>
                    </a:lnTo>
                    <a:lnTo>
                      <a:pt x="82" y="60"/>
                    </a:lnTo>
                    <a:lnTo>
                      <a:pt x="75" y="64"/>
                    </a:lnTo>
                    <a:lnTo>
                      <a:pt x="69" y="66"/>
                    </a:lnTo>
                    <a:lnTo>
                      <a:pt x="66" y="69"/>
                    </a:lnTo>
                    <a:lnTo>
                      <a:pt x="61" y="71"/>
                    </a:lnTo>
                    <a:lnTo>
                      <a:pt x="55" y="73"/>
                    </a:lnTo>
                    <a:lnTo>
                      <a:pt x="46" y="74"/>
                    </a:lnTo>
                    <a:lnTo>
                      <a:pt x="33" y="77"/>
                    </a:lnTo>
                    <a:lnTo>
                      <a:pt x="26" y="76"/>
                    </a:lnTo>
                    <a:lnTo>
                      <a:pt x="21" y="73"/>
                    </a:lnTo>
                    <a:lnTo>
                      <a:pt x="11" y="62"/>
                    </a:lnTo>
                    <a:lnTo>
                      <a:pt x="5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1" y="33"/>
                    </a:lnTo>
                    <a:lnTo>
                      <a:pt x="7" y="25"/>
                    </a:lnTo>
                    <a:lnTo>
                      <a:pt x="13" y="16"/>
                    </a:lnTo>
                    <a:lnTo>
                      <a:pt x="23" y="4"/>
                    </a:lnTo>
                    <a:lnTo>
                      <a:pt x="29" y="0"/>
                    </a:lnTo>
                    <a:lnTo>
                      <a:pt x="37" y="2"/>
                    </a:lnTo>
                    <a:lnTo>
                      <a:pt x="41" y="8"/>
                    </a:lnTo>
                    <a:lnTo>
                      <a:pt x="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8078400" y="5873760"/>
                <a:ext cx="74520" cy="41040"/>
              </a:xfrm>
              <a:custGeom>
                <a:avLst/>
                <a:gdLst/>
                <a:ahLst/>
                <a:rect l="l" t="t" r="r" b="b"/>
                <a:pathLst>
                  <a:path w="94" h="52">
                    <a:moveTo>
                      <a:pt x="21" y="18"/>
                    </a:moveTo>
                    <a:lnTo>
                      <a:pt x="33" y="20"/>
                    </a:lnTo>
                    <a:lnTo>
                      <a:pt x="44" y="22"/>
                    </a:lnTo>
                    <a:lnTo>
                      <a:pt x="51" y="22"/>
                    </a:lnTo>
                    <a:lnTo>
                      <a:pt x="58" y="22"/>
                    </a:lnTo>
                    <a:lnTo>
                      <a:pt x="62" y="19"/>
                    </a:lnTo>
                    <a:lnTo>
                      <a:pt x="69" y="15"/>
                    </a:lnTo>
                    <a:lnTo>
                      <a:pt x="74" y="8"/>
                    </a:lnTo>
                    <a:lnTo>
                      <a:pt x="84" y="2"/>
                    </a:lnTo>
                    <a:lnTo>
                      <a:pt x="87" y="0"/>
                    </a:lnTo>
                    <a:lnTo>
                      <a:pt x="91" y="2"/>
                    </a:lnTo>
                    <a:lnTo>
                      <a:pt x="94" y="6"/>
                    </a:lnTo>
                    <a:lnTo>
                      <a:pt x="92" y="11"/>
                    </a:lnTo>
                    <a:lnTo>
                      <a:pt x="81" y="21"/>
                    </a:lnTo>
                    <a:lnTo>
                      <a:pt x="73" y="32"/>
                    </a:lnTo>
                    <a:lnTo>
                      <a:pt x="66" y="39"/>
                    </a:lnTo>
                    <a:lnTo>
                      <a:pt x="60" y="47"/>
                    </a:lnTo>
                    <a:lnTo>
                      <a:pt x="53" y="50"/>
                    </a:lnTo>
                    <a:lnTo>
                      <a:pt x="43" y="52"/>
                    </a:lnTo>
                    <a:lnTo>
                      <a:pt x="29" y="51"/>
                    </a:lnTo>
                    <a:lnTo>
                      <a:pt x="13" y="48"/>
                    </a:lnTo>
                    <a:lnTo>
                      <a:pt x="5" y="44"/>
                    </a:lnTo>
                    <a:lnTo>
                      <a:pt x="2" y="39"/>
                    </a:lnTo>
                    <a:lnTo>
                      <a:pt x="0" y="34"/>
                    </a:lnTo>
                    <a:lnTo>
                      <a:pt x="1" y="29"/>
                    </a:lnTo>
                    <a:lnTo>
                      <a:pt x="3" y="22"/>
                    </a:lnTo>
                    <a:lnTo>
                      <a:pt x="7" y="19"/>
                    </a:lnTo>
                    <a:lnTo>
                      <a:pt x="13" y="17"/>
                    </a:lnTo>
                    <a:lnTo>
                      <a:pt x="2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8024400" y="591012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84" h="46">
                    <a:moveTo>
                      <a:pt x="23" y="3"/>
                    </a:moveTo>
                    <a:lnTo>
                      <a:pt x="47" y="19"/>
                    </a:lnTo>
                    <a:lnTo>
                      <a:pt x="44" y="19"/>
                    </a:lnTo>
                    <a:lnTo>
                      <a:pt x="39" y="19"/>
                    </a:lnTo>
                    <a:lnTo>
                      <a:pt x="33" y="17"/>
                    </a:lnTo>
                    <a:lnTo>
                      <a:pt x="69" y="9"/>
                    </a:lnTo>
                    <a:lnTo>
                      <a:pt x="78" y="11"/>
                    </a:lnTo>
                    <a:lnTo>
                      <a:pt x="84" y="18"/>
                    </a:lnTo>
                    <a:lnTo>
                      <a:pt x="83" y="27"/>
                    </a:lnTo>
                    <a:lnTo>
                      <a:pt x="76" y="34"/>
                    </a:lnTo>
                    <a:lnTo>
                      <a:pt x="40" y="46"/>
                    </a:lnTo>
                    <a:lnTo>
                      <a:pt x="33" y="46"/>
                    </a:lnTo>
                    <a:lnTo>
                      <a:pt x="27" y="43"/>
                    </a:lnTo>
                    <a:lnTo>
                      <a:pt x="7" y="2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7976880" y="58244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30" y="16"/>
                    </a:moveTo>
                    <a:lnTo>
                      <a:pt x="26" y="25"/>
                    </a:lnTo>
                    <a:lnTo>
                      <a:pt x="26" y="34"/>
                    </a:lnTo>
                    <a:lnTo>
                      <a:pt x="26" y="43"/>
                    </a:lnTo>
                    <a:lnTo>
                      <a:pt x="29" y="54"/>
                    </a:lnTo>
                    <a:lnTo>
                      <a:pt x="27" y="53"/>
                    </a:lnTo>
                    <a:lnTo>
                      <a:pt x="23" y="49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38" y="51"/>
                    </a:lnTo>
                    <a:lnTo>
                      <a:pt x="53" y="54"/>
                    </a:lnTo>
                    <a:lnTo>
                      <a:pt x="66" y="54"/>
                    </a:lnTo>
                    <a:lnTo>
                      <a:pt x="79" y="52"/>
                    </a:lnTo>
                    <a:lnTo>
                      <a:pt x="91" y="45"/>
                    </a:lnTo>
                    <a:lnTo>
                      <a:pt x="104" y="38"/>
                    </a:lnTo>
                    <a:lnTo>
                      <a:pt x="119" y="28"/>
                    </a:lnTo>
                    <a:lnTo>
                      <a:pt x="137" y="20"/>
                    </a:lnTo>
                    <a:lnTo>
                      <a:pt x="146" y="17"/>
                    </a:lnTo>
                    <a:lnTo>
                      <a:pt x="152" y="24"/>
                    </a:lnTo>
                    <a:lnTo>
                      <a:pt x="154" y="31"/>
                    </a:lnTo>
                    <a:lnTo>
                      <a:pt x="148" y="40"/>
                    </a:lnTo>
                    <a:lnTo>
                      <a:pt x="126" y="51"/>
                    </a:lnTo>
                    <a:lnTo>
                      <a:pt x="108" y="62"/>
                    </a:lnTo>
                    <a:lnTo>
                      <a:pt x="92" y="71"/>
                    </a:lnTo>
                    <a:lnTo>
                      <a:pt x="78" y="78"/>
                    </a:lnTo>
                    <a:lnTo>
                      <a:pt x="63" y="81"/>
                    </a:lnTo>
                    <a:lnTo>
                      <a:pt x="47" y="81"/>
                    </a:lnTo>
                    <a:lnTo>
                      <a:pt x="30" y="75"/>
                    </a:lnTo>
                    <a:lnTo>
                      <a:pt x="9" y="68"/>
                    </a:lnTo>
                    <a:lnTo>
                      <a:pt x="4" y="63"/>
                    </a:lnTo>
                    <a:lnTo>
                      <a:pt x="2" y="58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2" y="24"/>
                    </a:lnTo>
                    <a:lnTo>
                      <a:pt x="4" y="19"/>
                    </a:lnTo>
                    <a:lnTo>
                      <a:pt x="7" y="12"/>
                    </a:lnTo>
                    <a:lnTo>
                      <a:pt x="10" y="7"/>
                    </a:lnTo>
                    <a:lnTo>
                      <a:pt x="17" y="0"/>
                    </a:lnTo>
                    <a:lnTo>
                      <a:pt x="24" y="1"/>
                    </a:lnTo>
                    <a:lnTo>
                      <a:pt x="30" y="7"/>
                    </a:lnTo>
                    <a:lnTo>
                      <a:pt x="3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8015040" y="5773680"/>
                <a:ext cx="107640" cy="6804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41" y="13"/>
                    </a:moveTo>
                    <a:lnTo>
                      <a:pt x="31" y="21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9" y="44"/>
                    </a:lnTo>
                    <a:lnTo>
                      <a:pt x="20" y="49"/>
                    </a:lnTo>
                    <a:lnTo>
                      <a:pt x="27" y="55"/>
                    </a:lnTo>
                    <a:lnTo>
                      <a:pt x="35" y="59"/>
                    </a:lnTo>
                    <a:lnTo>
                      <a:pt x="49" y="63"/>
                    </a:lnTo>
                    <a:lnTo>
                      <a:pt x="60" y="60"/>
                    </a:lnTo>
                    <a:lnTo>
                      <a:pt x="71" y="57"/>
                    </a:lnTo>
                    <a:lnTo>
                      <a:pt x="79" y="55"/>
                    </a:lnTo>
                    <a:lnTo>
                      <a:pt x="89" y="53"/>
                    </a:lnTo>
                    <a:lnTo>
                      <a:pt x="96" y="49"/>
                    </a:lnTo>
                    <a:lnTo>
                      <a:pt x="105" y="47"/>
                    </a:lnTo>
                    <a:lnTo>
                      <a:pt x="114" y="44"/>
                    </a:lnTo>
                    <a:lnTo>
                      <a:pt x="123" y="41"/>
                    </a:lnTo>
                    <a:lnTo>
                      <a:pt x="130" y="39"/>
                    </a:lnTo>
                    <a:lnTo>
                      <a:pt x="135" y="44"/>
                    </a:lnTo>
                    <a:lnTo>
                      <a:pt x="135" y="49"/>
                    </a:lnTo>
                    <a:lnTo>
                      <a:pt x="132" y="56"/>
                    </a:lnTo>
                    <a:lnTo>
                      <a:pt x="121" y="59"/>
                    </a:lnTo>
                    <a:lnTo>
                      <a:pt x="113" y="63"/>
                    </a:lnTo>
                    <a:lnTo>
                      <a:pt x="103" y="68"/>
                    </a:lnTo>
                    <a:lnTo>
                      <a:pt x="94" y="72"/>
                    </a:lnTo>
                    <a:lnTo>
                      <a:pt x="84" y="75"/>
                    </a:lnTo>
                    <a:lnTo>
                      <a:pt x="73" y="78"/>
                    </a:lnTo>
                    <a:lnTo>
                      <a:pt x="61" y="82"/>
                    </a:lnTo>
                    <a:lnTo>
                      <a:pt x="49" y="85"/>
                    </a:lnTo>
                    <a:lnTo>
                      <a:pt x="27" y="78"/>
                    </a:lnTo>
                    <a:lnTo>
                      <a:pt x="12" y="72"/>
                    </a:lnTo>
                    <a:lnTo>
                      <a:pt x="2" y="63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6" y="31"/>
                    </a:lnTo>
                    <a:lnTo>
                      <a:pt x="16" y="17"/>
                    </a:lnTo>
                    <a:lnTo>
                      <a:pt x="31" y="3"/>
                    </a:lnTo>
                    <a:lnTo>
                      <a:pt x="35" y="0"/>
                    </a:lnTo>
                    <a:lnTo>
                      <a:pt x="41" y="3"/>
                    </a:lnTo>
                    <a:lnTo>
                      <a:pt x="42" y="7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7966080" y="5748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31" y="13"/>
                    </a:moveTo>
                    <a:lnTo>
                      <a:pt x="26" y="31"/>
                    </a:lnTo>
                    <a:lnTo>
                      <a:pt x="25" y="44"/>
                    </a:lnTo>
                    <a:lnTo>
                      <a:pt x="27" y="51"/>
                    </a:lnTo>
                    <a:lnTo>
                      <a:pt x="33" y="57"/>
                    </a:lnTo>
                    <a:lnTo>
                      <a:pt x="40" y="58"/>
                    </a:lnTo>
                    <a:lnTo>
                      <a:pt x="53" y="56"/>
                    </a:lnTo>
                    <a:lnTo>
                      <a:pt x="67" y="51"/>
                    </a:lnTo>
                    <a:lnTo>
                      <a:pt x="86" y="47"/>
                    </a:lnTo>
                    <a:lnTo>
                      <a:pt x="96" y="47"/>
                    </a:lnTo>
                    <a:lnTo>
                      <a:pt x="103" y="54"/>
                    </a:lnTo>
                    <a:lnTo>
                      <a:pt x="103" y="59"/>
                    </a:lnTo>
                    <a:lnTo>
                      <a:pt x="101" y="64"/>
                    </a:lnTo>
                    <a:lnTo>
                      <a:pt x="98" y="67"/>
                    </a:lnTo>
                    <a:lnTo>
                      <a:pt x="94" y="72"/>
                    </a:lnTo>
                    <a:lnTo>
                      <a:pt x="64" y="79"/>
                    </a:lnTo>
                    <a:lnTo>
                      <a:pt x="41" y="86"/>
                    </a:lnTo>
                    <a:lnTo>
                      <a:pt x="23" y="87"/>
                    </a:lnTo>
                    <a:lnTo>
                      <a:pt x="11" y="85"/>
                    </a:lnTo>
                    <a:lnTo>
                      <a:pt x="4" y="75"/>
                    </a:lnTo>
                    <a:lnTo>
                      <a:pt x="0" y="61"/>
                    </a:lnTo>
                    <a:lnTo>
                      <a:pt x="3" y="37"/>
                    </a:lnTo>
                    <a:lnTo>
                      <a:pt x="10" y="8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4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946640" y="5686200"/>
                <a:ext cx="99720" cy="66600"/>
              </a:xfrm>
              <a:custGeom>
                <a:avLst/>
                <a:gdLst/>
                <a:ahLst/>
                <a:rect l="l" t="t" r="r" b="b"/>
                <a:pathLst>
                  <a:path w="126" h="84">
                    <a:moveTo>
                      <a:pt x="52" y="17"/>
                    </a:moveTo>
                    <a:lnTo>
                      <a:pt x="45" y="21"/>
                    </a:lnTo>
                    <a:lnTo>
                      <a:pt x="40" y="26"/>
                    </a:lnTo>
                    <a:lnTo>
                      <a:pt x="35" y="31"/>
                    </a:lnTo>
                    <a:lnTo>
                      <a:pt x="32" y="38"/>
                    </a:lnTo>
                    <a:lnTo>
                      <a:pt x="28" y="43"/>
                    </a:lnTo>
                    <a:lnTo>
                      <a:pt x="25" y="51"/>
                    </a:lnTo>
                    <a:lnTo>
                      <a:pt x="23" y="59"/>
                    </a:lnTo>
                    <a:lnTo>
                      <a:pt x="23" y="69"/>
                    </a:lnTo>
                    <a:lnTo>
                      <a:pt x="21" y="68"/>
                    </a:lnTo>
                    <a:lnTo>
                      <a:pt x="16" y="64"/>
                    </a:lnTo>
                    <a:lnTo>
                      <a:pt x="13" y="57"/>
                    </a:lnTo>
                    <a:lnTo>
                      <a:pt x="15" y="56"/>
                    </a:lnTo>
                    <a:lnTo>
                      <a:pt x="27" y="59"/>
                    </a:lnTo>
                    <a:lnTo>
                      <a:pt x="40" y="61"/>
                    </a:lnTo>
                    <a:lnTo>
                      <a:pt x="52" y="61"/>
                    </a:lnTo>
                    <a:lnTo>
                      <a:pt x="65" y="63"/>
                    </a:lnTo>
                    <a:lnTo>
                      <a:pt x="76" y="60"/>
                    </a:lnTo>
                    <a:lnTo>
                      <a:pt x="89" y="59"/>
                    </a:lnTo>
                    <a:lnTo>
                      <a:pt x="100" y="56"/>
                    </a:lnTo>
                    <a:lnTo>
                      <a:pt x="115" y="54"/>
                    </a:lnTo>
                    <a:lnTo>
                      <a:pt x="122" y="55"/>
                    </a:lnTo>
                    <a:lnTo>
                      <a:pt x="126" y="60"/>
                    </a:lnTo>
                    <a:lnTo>
                      <a:pt x="125" y="66"/>
                    </a:lnTo>
                    <a:lnTo>
                      <a:pt x="120" y="71"/>
                    </a:lnTo>
                    <a:lnTo>
                      <a:pt x="104" y="74"/>
                    </a:lnTo>
                    <a:lnTo>
                      <a:pt x="90" y="78"/>
                    </a:lnTo>
                    <a:lnTo>
                      <a:pt x="76" y="81"/>
                    </a:lnTo>
                    <a:lnTo>
                      <a:pt x="63" y="84"/>
                    </a:lnTo>
                    <a:lnTo>
                      <a:pt x="49" y="84"/>
                    </a:lnTo>
                    <a:lnTo>
                      <a:pt x="35" y="84"/>
                    </a:lnTo>
                    <a:lnTo>
                      <a:pt x="21" y="82"/>
                    </a:lnTo>
                    <a:lnTo>
                      <a:pt x="8" y="79"/>
                    </a:lnTo>
                    <a:lnTo>
                      <a:pt x="0" y="73"/>
                    </a:lnTo>
                    <a:lnTo>
                      <a:pt x="0" y="66"/>
                    </a:lnTo>
                    <a:lnTo>
                      <a:pt x="1" y="53"/>
                    </a:lnTo>
                    <a:lnTo>
                      <a:pt x="5" y="43"/>
                    </a:lnTo>
                    <a:lnTo>
                      <a:pt x="8" y="34"/>
                    </a:lnTo>
                    <a:lnTo>
                      <a:pt x="13" y="27"/>
                    </a:lnTo>
                    <a:lnTo>
                      <a:pt x="19" y="20"/>
                    </a:lnTo>
                    <a:lnTo>
                      <a:pt x="26" y="13"/>
                    </a:lnTo>
                    <a:lnTo>
                      <a:pt x="33" y="8"/>
                    </a:lnTo>
                    <a:lnTo>
                      <a:pt x="42" y="2"/>
                    </a:lnTo>
                    <a:lnTo>
                      <a:pt x="49" y="0"/>
                    </a:lnTo>
                    <a:lnTo>
                      <a:pt x="54" y="4"/>
                    </a:lnTo>
                    <a:lnTo>
                      <a:pt x="55" y="11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8067240" y="573876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126" h="83">
                    <a:moveTo>
                      <a:pt x="40" y="15"/>
                    </a:moveTo>
                    <a:lnTo>
                      <a:pt x="31" y="22"/>
                    </a:lnTo>
                    <a:lnTo>
                      <a:pt x="26" y="28"/>
                    </a:lnTo>
                    <a:lnTo>
                      <a:pt x="21" y="31"/>
                    </a:lnTo>
                    <a:lnTo>
                      <a:pt x="21" y="34"/>
                    </a:lnTo>
                    <a:lnTo>
                      <a:pt x="20" y="37"/>
                    </a:lnTo>
                    <a:lnTo>
                      <a:pt x="21" y="45"/>
                    </a:lnTo>
                    <a:lnTo>
                      <a:pt x="22" y="55"/>
                    </a:lnTo>
                    <a:lnTo>
                      <a:pt x="23" y="71"/>
                    </a:lnTo>
                    <a:lnTo>
                      <a:pt x="20" y="72"/>
                    </a:lnTo>
                    <a:lnTo>
                      <a:pt x="14" y="68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28" y="59"/>
                    </a:lnTo>
                    <a:lnTo>
                      <a:pt x="43" y="59"/>
                    </a:lnTo>
                    <a:lnTo>
                      <a:pt x="56" y="59"/>
                    </a:lnTo>
                    <a:lnTo>
                      <a:pt x="69" y="59"/>
                    </a:lnTo>
                    <a:lnTo>
                      <a:pt x="79" y="56"/>
                    </a:lnTo>
                    <a:lnTo>
                      <a:pt x="90" y="54"/>
                    </a:lnTo>
                    <a:lnTo>
                      <a:pt x="101" y="49"/>
                    </a:lnTo>
                    <a:lnTo>
                      <a:pt x="114" y="45"/>
                    </a:lnTo>
                    <a:lnTo>
                      <a:pt x="119" y="44"/>
                    </a:lnTo>
                    <a:lnTo>
                      <a:pt x="125" y="48"/>
                    </a:lnTo>
                    <a:lnTo>
                      <a:pt x="126" y="55"/>
                    </a:lnTo>
                    <a:lnTo>
                      <a:pt x="121" y="61"/>
                    </a:lnTo>
                    <a:lnTo>
                      <a:pt x="107" y="66"/>
                    </a:lnTo>
                    <a:lnTo>
                      <a:pt x="95" y="71"/>
                    </a:lnTo>
                    <a:lnTo>
                      <a:pt x="84" y="74"/>
                    </a:lnTo>
                    <a:lnTo>
                      <a:pt x="73" y="78"/>
                    </a:lnTo>
                    <a:lnTo>
                      <a:pt x="59" y="79"/>
                    </a:lnTo>
                    <a:lnTo>
                      <a:pt x="46" y="81"/>
                    </a:lnTo>
                    <a:lnTo>
                      <a:pt x="30" y="81"/>
                    </a:lnTo>
                    <a:lnTo>
                      <a:pt x="12" y="83"/>
                    </a:lnTo>
                    <a:lnTo>
                      <a:pt x="3" y="79"/>
                    </a:lnTo>
                    <a:lnTo>
                      <a:pt x="1" y="71"/>
                    </a:lnTo>
                    <a:lnTo>
                      <a:pt x="0" y="51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4" y="22"/>
                    </a:lnTo>
                    <a:lnTo>
                      <a:pt x="9" y="18"/>
                    </a:lnTo>
                    <a:lnTo>
                      <a:pt x="17" y="12"/>
                    </a:lnTo>
                    <a:lnTo>
                      <a:pt x="28" y="3"/>
                    </a:lnTo>
                    <a:lnTo>
                      <a:pt x="33" y="0"/>
                    </a:lnTo>
                    <a:lnTo>
                      <a:pt x="40" y="3"/>
                    </a:lnTo>
                    <a:lnTo>
                      <a:pt x="42" y="8"/>
                    </a:lnTo>
                    <a:lnTo>
                      <a:pt x="4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7946640" y="5884560"/>
                <a:ext cx="98280" cy="66960"/>
              </a:xfrm>
              <a:custGeom>
                <a:avLst/>
                <a:gdLst/>
                <a:ahLst/>
                <a:rect l="l" t="t" r="r" b="b"/>
                <a:pathLst>
                  <a:path w="125" h="84">
                    <a:moveTo>
                      <a:pt x="45" y="16"/>
                    </a:moveTo>
                    <a:lnTo>
                      <a:pt x="39" y="22"/>
                    </a:lnTo>
                    <a:lnTo>
                      <a:pt x="37" y="29"/>
                    </a:lnTo>
                    <a:lnTo>
                      <a:pt x="34" y="35"/>
                    </a:lnTo>
                    <a:lnTo>
                      <a:pt x="33" y="41"/>
                    </a:lnTo>
                    <a:lnTo>
                      <a:pt x="31" y="48"/>
                    </a:lnTo>
                    <a:lnTo>
                      <a:pt x="30" y="54"/>
                    </a:lnTo>
                    <a:lnTo>
                      <a:pt x="28" y="62"/>
                    </a:lnTo>
                    <a:lnTo>
                      <a:pt x="27" y="70"/>
                    </a:lnTo>
                    <a:lnTo>
                      <a:pt x="23" y="70"/>
                    </a:lnTo>
                    <a:lnTo>
                      <a:pt x="18" y="64"/>
                    </a:lnTo>
                    <a:lnTo>
                      <a:pt x="13" y="57"/>
                    </a:lnTo>
                    <a:lnTo>
                      <a:pt x="17" y="54"/>
                    </a:lnTo>
                    <a:lnTo>
                      <a:pt x="26" y="55"/>
                    </a:lnTo>
                    <a:lnTo>
                      <a:pt x="36" y="58"/>
                    </a:lnTo>
                    <a:lnTo>
                      <a:pt x="45" y="58"/>
                    </a:lnTo>
                    <a:lnTo>
                      <a:pt x="54" y="59"/>
                    </a:lnTo>
                    <a:lnTo>
                      <a:pt x="63" y="58"/>
                    </a:lnTo>
                    <a:lnTo>
                      <a:pt x="71" y="58"/>
                    </a:lnTo>
                    <a:lnTo>
                      <a:pt x="81" y="55"/>
                    </a:lnTo>
                    <a:lnTo>
                      <a:pt x="92" y="54"/>
                    </a:lnTo>
                    <a:lnTo>
                      <a:pt x="119" y="58"/>
                    </a:lnTo>
                    <a:lnTo>
                      <a:pt x="123" y="59"/>
                    </a:lnTo>
                    <a:lnTo>
                      <a:pt x="125" y="62"/>
                    </a:lnTo>
                    <a:lnTo>
                      <a:pt x="124" y="65"/>
                    </a:lnTo>
                    <a:lnTo>
                      <a:pt x="121" y="69"/>
                    </a:lnTo>
                    <a:lnTo>
                      <a:pt x="96" y="80"/>
                    </a:lnTo>
                    <a:lnTo>
                      <a:pt x="83" y="81"/>
                    </a:lnTo>
                    <a:lnTo>
                      <a:pt x="73" y="83"/>
                    </a:lnTo>
                    <a:lnTo>
                      <a:pt x="63" y="83"/>
                    </a:lnTo>
                    <a:lnTo>
                      <a:pt x="53" y="84"/>
                    </a:lnTo>
                    <a:lnTo>
                      <a:pt x="42" y="83"/>
                    </a:lnTo>
                    <a:lnTo>
                      <a:pt x="33" y="83"/>
                    </a:lnTo>
                    <a:lnTo>
                      <a:pt x="22" y="81"/>
                    </a:lnTo>
                    <a:lnTo>
                      <a:pt x="11" y="80"/>
                    </a:lnTo>
                    <a:lnTo>
                      <a:pt x="5" y="77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2" y="64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8" y="39"/>
                    </a:lnTo>
                    <a:lnTo>
                      <a:pt x="11" y="33"/>
                    </a:lnTo>
                    <a:lnTo>
                      <a:pt x="14" y="25"/>
                    </a:lnTo>
                    <a:lnTo>
                      <a:pt x="18" y="18"/>
                    </a:lnTo>
                    <a:lnTo>
                      <a:pt x="22" y="10"/>
                    </a:lnTo>
                    <a:lnTo>
                      <a:pt x="28" y="4"/>
                    </a:lnTo>
                    <a:lnTo>
                      <a:pt x="35" y="0"/>
                    </a:lnTo>
                    <a:lnTo>
                      <a:pt x="41" y="2"/>
                    </a:lnTo>
                    <a:lnTo>
                      <a:pt x="46" y="7"/>
                    </a:lnTo>
                    <a:lnTo>
                      <a:pt x="4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7913520" y="5941800"/>
                <a:ext cx="99720" cy="58680"/>
              </a:xfrm>
              <a:custGeom>
                <a:avLst/>
                <a:gdLst/>
                <a:ahLst/>
                <a:rect l="l" t="t" r="r" b="b"/>
                <a:pathLst>
                  <a:path w="126" h="75">
                    <a:moveTo>
                      <a:pt x="45" y="15"/>
                    </a:moveTo>
                    <a:lnTo>
                      <a:pt x="39" y="18"/>
                    </a:lnTo>
                    <a:lnTo>
                      <a:pt x="35" y="23"/>
                    </a:lnTo>
                    <a:lnTo>
                      <a:pt x="31" y="29"/>
                    </a:lnTo>
                    <a:lnTo>
                      <a:pt x="30" y="35"/>
                    </a:lnTo>
                    <a:lnTo>
                      <a:pt x="28" y="40"/>
                    </a:lnTo>
                    <a:lnTo>
                      <a:pt x="27" y="47"/>
                    </a:lnTo>
                    <a:lnTo>
                      <a:pt x="27" y="54"/>
                    </a:lnTo>
                    <a:lnTo>
                      <a:pt x="27" y="62"/>
                    </a:lnTo>
                    <a:lnTo>
                      <a:pt x="23" y="63"/>
                    </a:lnTo>
                    <a:lnTo>
                      <a:pt x="17" y="58"/>
                    </a:lnTo>
                    <a:lnTo>
                      <a:pt x="13" y="51"/>
                    </a:lnTo>
                    <a:lnTo>
                      <a:pt x="15" y="48"/>
                    </a:lnTo>
                    <a:lnTo>
                      <a:pt x="33" y="49"/>
                    </a:lnTo>
                    <a:lnTo>
                      <a:pt x="48" y="50"/>
                    </a:lnTo>
                    <a:lnTo>
                      <a:pt x="59" y="50"/>
                    </a:lnTo>
                    <a:lnTo>
                      <a:pt x="71" y="50"/>
                    </a:lnTo>
                    <a:lnTo>
                      <a:pt x="81" y="47"/>
                    </a:lnTo>
                    <a:lnTo>
                      <a:pt x="92" y="44"/>
                    </a:lnTo>
                    <a:lnTo>
                      <a:pt x="102" y="37"/>
                    </a:lnTo>
                    <a:lnTo>
                      <a:pt x="116" y="30"/>
                    </a:lnTo>
                    <a:lnTo>
                      <a:pt x="121" y="29"/>
                    </a:lnTo>
                    <a:lnTo>
                      <a:pt x="125" y="32"/>
                    </a:lnTo>
                    <a:lnTo>
                      <a:pt x="126" y="36"/>
                    </a:lnTo>
                    <a:lnTo>
                      <a:pt x="124" y="40"/>
                    </a:lnTo>
                    <a:lnTo>
                      <a:pt x="109" y="49"/>
                    </a:lnTo>
                    <a:lnTo>
                      <a:pt x="96" y="58"/>
                    </a:lnTo>
                    <a:lnTo>
                      <a:pt x="85" y="64"/>
                    </a:lnTo>
                    <a:lnTo>
                      <a:pt x="74" y="69"/>
                    </a:lnTo>
                    <a:lnTo>
                      <a:pt x="62" y="73"/>
                    </a:lnTo>
                    <a:lnTo>
                      <a:pt x="49" y="75"/>
                    </a:lnTo>
                    <a:lnTo>
                      <a:pt x="31" y="75"/>
                    </a:lnTo>
                    <a:lnTo>
                      <a:pt x="12" y="74"/>
                    </a:lnTo>
                    <a:lnTo>
                      <a:pt x="2" y="69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3" y="41"/>
                    </a:lnTo>
                    <a:lnTo>
                      <a:pt x="6" y="33"/>
                    </a:lnTo>
                    <a:lnTo>
                      <a:pt x="10" y="26"/>
                    </a:lnTo>
                    <a:lnTo>
                      <a:pt x="14" y="20"/>
                    </a:lnTo>
                    <a:lnTo>
                      <a:pt x="21" y="14"/>
                    </a:lnTo>
                    <a:lnTo>
                      <a:pt x="27" y="7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8" y="8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7862760" y="5884560"/>
                <a:ext cx="101160" cy="76320"/>
              </a:xfrm>
              <a:custGeom>
                <a:avLst/>
                <a:gdLst/>
                <a:ahLst/>
                <a:rect l="l" t="t" r="r" b="b"/>
                <a:pathLst>
                  <a:path w="129" h="96">
                    <a:moveTo>
                      <a:pt x="47" y="15"/>
                    </a:moveTo>
                    <a:lnTo>
                      <a:pt x="23" y="57"/>
                    </a:lnTo>
                    <a:lnTo>
                      <a:pt x="21" y="55"/>
                    </a:lnTo>
                    <a:lnTo>
                      <a:pt x="21" y="50"/>
                    </a:lnTo>
                    <a:lnTo>
                      <a:pt x="21" y="44"/>
                    </a:lnTo>
                    <a:lnTo>
                      <a:pt x="23" y="44"/>
                    </a:lnTo>
                    <a:lnTo>
                      <a:pt x="28" y="52"/>
                    </a:lnTo>
                    <a:lnTo>
                      <a:pt x="31" y="60"/>
                    </a:lnTo>
                    <a:lnTo>
                      <a:pt x="33" y="64"/>
                    </a:lnTo>
                    <a:lnTo>
                      <a:pt x="36" y="67"/>
                    </a:lnTo>
                    <a:lnTo>
                      <a:pt x="37" y="68"/>
                    </a:lnTo>
                    <a:lnTo>
                      <a:pt x="41" y="68"/>
                    </a:lnTo>
                    <a:lnTo>
                      <a:pt x="45" y="67"/>
                    </a:lnTo>
                    <a:lnTo>
                      <a:pt x="52" y="65"/>
                    </a:lnTo>
                    <a:lnTo>
                      <a:pt x="70" y="57"/>
                    </a:lnTo>
                    <a:lnTo>
                      <a:pt x="80" y="52"/>
                    </a:lnTo>
                    <a:lnTo>
                      <a:pt x="87" y="50"/>
                    </a:lnTo>
                    <a:lnTo>
                      <a:pt x="91" y="50"/>
                    </a:lnTo>
                    <a:lnTo>
                      <a:pt x="93" y="49"/>
                    </a:lnTo>
                    <a:lnTo>
                      <a:pt x="99" y="48"/>
                    </a:lnTo>
                    <a:lnTo>
                      <a:pt x="106" y="44"/>
                    </a:lnTo>
                    <a:lnTo>
                      <a:pt x="119" y="36"/>
                    </a:lnTo>
                    <a:lnTo>
                      <a:pt x="123" y="34"/>
                    </a:lnTo>
                    <a:lnTo>
                      <a:pt x="128" y="37"/>
                    </a:lnTo>
                    <a:lnTo>
                      <a:pt x="129" y="41"/>
                    </a:lnTo>
                    <a:lnTo>
                      <a:pt x="127" y="47"/>
                    </a:lnTo>
                    <a:lnTo>
                      <a:pt x="113" y="54"/>
                    </a:lnTo>
                    <a:lnTo>
                      <a:pt x="106" y="61"/>
                    </a:lnTo>
                    <a:lnTo>
                      <a:pt x="101" y="64"/>
                    </a:lnTo>
                    <a:lnTo>
                      <a:pt x="100" y="67"/>
                    </a:lnTo>
                    <a:lnTo>
                      <a:pt x="95" y="69"/>
                    </a:lnTo>
                    <a:lnTo>
                      <a:pt x="90" y="73"/>
                    </a:lnTo>
                    <a:lnTo>
                      <a:pt x="79" y="78"/>
                    </a:lnTo>
                    <a:lnTo>
                      <a:pt x="62" y="87"/>
                    </a:lnTo>
                    <a:lnTo>
                      <a:pt x="48" y="92"/>
                    </a:lnTo>
                    <a:lnTo>
                      <a:pt x="39" y="95"/>
                    </a:lnTo>
                    <a:lnTo>
                      <a:pt x="32" y="96"/>
                    </a:lnTo>
                    <a:lnTo>
                      <a:pt x="29" y="96"/>
                    </a:lnTo>
                    <a:lnTo>
                      <a:pt x="23" y="92"/>
                    </a:lnTo>
                    <a:lnTo>
                      <a:pt x="19" y="84"/>
                    </a:lnTo>
                    <a:lnTo>
                      <a:pt x="11" y="72"/>
                    </a:lnTo>
                    <a:lnTo>
                      <a:pt x="3" y="57"/>
                    </a:lnTo>
                    <a:lnTo>
                      <a:pt x="0" y="49"/>
                    </a:lnTo>
                    <a:lnTo>
                      <a:pt x="3" y="44"/>
                    </a:lnTo>
                    <a:lnTo>
                      <a:pt x="31" y="5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8" y="6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787880" y="5876640"/>
                <a:ext cx="91800" cy="74880"/>
              </a:xfrm>
              <a:custGeom>
                <a:avLst/>
                <a:gdLst/>
                <a:ahLst/>
                <a:rect l="l" t="t" r="r" b="b"/>
                <a:pathLst>
                  <a:path w="116" h="92">
                    <a:moveTo>
                      <a:pt x="61" y="12"/>
                    </a:moveTo>
                    <a:lnTo>
                      <a:pt x="54" y="16"/>
                    </a:lnTo>
                    <a:lnTo>
                      <a:pt x="48" y="21"/>
                    </a:lnTo>
                    <a:lnTo>
                      <a:pt x="43" y="28"/>
                    </a:lnTo>
                    <a:lnTo>
                      <a:pt x="40" y="34"/>
                    </a:lnTo>
                    <a:lnTo>
                      <a:pt x="36" y="41"/>
                    </a:lnTo>
                    <a:lnTo>
                      <a:pt x="31" y="47"/>
                    </a:lnTo>
                    <a:lnTo>
                      <a:pt x="27" y="54"/>
                    </a:lnTo>
                    <a:lnTo>
                      <a:pt x="24" y="61"/>
                    </a:lnTo>
                    <a:lnTo>
                      <a:pt x="19" y="60"/>
                    </a:lnTo>
                    <a:lnTo>
                      <a:pt x="18" y="53"/>
                    </a:lnTo>
                    <a:lnTo>
                      <a:pt x="18" y="45"/>
                    </a:lnTo>
                    <a:lnTo>
                      <a:pt x="22" y="45"/>
                    </a:lnTo>
                    <a:lnTo>
                      <a:pt x="29" y="52"/>
                    </a:lnTo>
                    <a:lnTo>
                      <a:pt x="34" y="58"/>
                    </a:lnTo>
                    <a:lnTo>
                      <a:pt x="38" y="61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6" y="66"/>
                    </a:lnTo>
                    <a:lnTo>
                      <a:pt x="52" y="63"/>
                    </a:lnTo>
                    <a:lnTo>
                      <a:pt x="61" y="61"/>
                    </a:lnTo>
                    <a:lnTo>
                      <a:pt x="67" y="58"/>
                    </a:lnTo>
                    <a:lnTo>
                      <a:pt x="73" y="55"/>
                    </a:lnTo>
                    <a:lnTo>
                      <a:pt x="79" y="52"/>
                    </a:lnTo>
                    <a:lnTo>
                      <a:pt x="84" y="49"/>
                    </a:lnTo>
                    <a:lnTo>
                      <a:pt x="95" y="43"/>
                    </a:lnTo>
                    <a:lnTo>
                      <a:pt x="106" y="35"/>
                    </a:lnTo>
                    <a:lnTo>
                      <a:pt x="111" y="34"/>
                    </a:lnTo>
                    <a:lnTo>
                      <a:pt x="115" y="37"/>
                    </a:lnTo>
                    <a:lnTo>
                      <a:pt x="116" y="40"/>
                    </a:lnTo>
                    <a:lnTo>
                      <a:pt x="114" y="45"/>
                    </a:lnTo>
                    <a:lnTo>
                      <a:pt x="103" y="55"/>
                    </a:lnTo>
                    <a:lnTo>
                      <a:pt x="94" y="66"/>
                    </a:lnTo>
                    <a:lnTo>
                      <a:pt x="88" y="70"/>
                    </a:lnTo>
                    <a:lnTo>
                      <a:pt x="83" y="74"/>
                    </a:lnTo>
                    <a:lnTo>
                      <a:pt x="76" y="78"/>
                    </a:lnTo>
                    <a:lnTo>
                      <a:pt x="71" y="84"/>
                    </a:lnTo>
                    <a:lnTo>
                      <a:pt x="57" y="88"/>
                    </a:lnTo>
                    <a:lnTo>
                      <a:pt x="47" y="91"/>
                    </a:lnTo>
                    <a:lnTo>
                      <a:pt x="41" y="92"/>
                    </a:lnTo>
                    <a:lnTo>
                      <a:pt x="38" y="92"/>
                    </a:lnTo>
                    <a:lnTo>
                      <a:pt x="32" y="89"/>
                    </a:lnTo>
                    <a:lnTo>
                      <a:pt x="26" y="83"/>
                    </a:lnTo>
                    <a:lnTo>
                      <a:pt x="17" y="74"/>
                    </a:lnTo>
                    <a:lnTo>
                      <a:pt x="5" y="63"/>
                    </a:lnTo>
                    <a:lnTo>
                      <a:pt x="0" y="55"/>
                    </a:lnTo>
                    <a:lnTo>
                      <a:pt x="3" y="47"/>
                    </a:lnTo>
                    <a:lnTo>
                      <a:pt x="9" y="39"/>
                    </a:lnTo>
                    <a:lnTo>
                      <a:pt x="14" y="32"/>
                    </a:lnTo>
                    <a:lnTo>
                      <a:pt x="19" y="27"/>
                    </a:lnTo>
                    <a:lnTo>
                      <a:pt x="26" y="21"/>
                    </a:lnTo>
                    <a:lnTo>
                      <a:pt x="32" y="16"/>
                    </a:lnTo>
                    <a:lnTo>
                      <a:pt x="39" y="11"/>
                    </a:lnTo>
                    <a:lnTo>
                      <a:pt x="45" y="5"/>
                    </a:lnTo>
                    <a:lnTo>
                      <a:pt x="54" y="1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63" y="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862760" y="5830560"/>
                <a:ext cx="77400" cy="71640"/>
              </a:xfrm>
              <a:custGeom>
                <a:avLst/>
                <a:gdLst/>
                <a:ahLst/>
                <a:rect l="l" t="t" r="r" b="b"/>
                <a:pathLst>
                  <a:path w="98" h="89">
                    <a:moveTo>
                      <a:pt x="51" y="14"/>
                    </a:moveTo>
                    <a:lnTo>
                      <a:pt x="40" y="19"/>
                    </a:lnTo>
                    <a:lnTo>
                      <a:pt x="32" y="26"/>
                    </a:lnTo>
                    <a:lnTo>
                      <a:pt x="27" y="32"/>
                    </a:lnTo>
                    <a:lnTo>
                      <a:pt x="25" y="39"/>
                    </a:lnTo>
                    <a:lnTo>
                      <a:pt x="22" y="45"/>
                    </a:lnTo>
                    <a:lnTo>
                      <a:pt x="23" y="53"/>
                    </a:lnTo>
                    <a:lnTo>
                      <a:pt x="27" y="62"/>
                    </a:lnTo>
                    <a:lnTo>
                      <a:pt x="32" y="73"/>
                    </a:lnTo>
                    <a:lnTo>
                      <a:pt x="30" y="73"/>
                    </a:lnTo>
                    <a:lnTo>
                      <a:pt x="25" y="71"/>
                    </a:lnTo>
                    <a:lnTo>
                      <a:pt x="20" y="68"/>
                    </a:lnTo>
                    <a:lnTo>
                      <a:pt x="21" y="66"/>
                    </a:lnTo>
                    <a:lnTo>
                      <a:pt x="32" y="65"/>
                    </a:lnTo>
                    <a:lnTo>
                      <a:pt x="43" y="64"/>
                    </a:lnTo>
                    <a:lnTo>
                      <a:pt x="51" y="62"/>
                    </a:lnTo>
                    <a:lnTo>
                      <a:pt x="60" y="61"/>
                    </a:lnTo>
                    <a:lnTo>
                      <a:pt x="67" y="58"/>
                    </a:lnTo>
                    <a:lnTo>
                      <a:pt x="74" y="55"/>
                    </a:lnTo>
                    <a:lnTo>
                      <a:pt x="80" y="50"/>
                    </a:lnTo>
                    <a:lnTo>
                      <a:pt x="88" y="46"/>
                    </a:lnTo>
                    <a:lnTo>
                      <a:pt x="92" y="45"/>
                    </a:lnTo>
                    <a:lnTo>
                      <a:pt x="97" y="48"/>
                    </a:lnTo>
                    <a:lnTo>
                      <a:pt x="98" y="53"/>
                    </a:lnTo>
                    <a:lnTo>
                      <a:pt x="96" y="57"/>
                    </a:lnTo>
                    <a:lnTo>
                      <a:pt x="86" y="62"/>
                    </a:lnTo>
                    <a:lnTo>
                      <a:pt x="79" y="68"/>
                    </a:lnTo>
                    <a:lnTo>
                      <a:pt x="72" y="73"/>
                    </a:lnTo>
                    <a:lnTo>
                      <a:pt x="64" y="78"/>
                    </a:lnTo>
                    <a:lnTo>
                      <a:pt x="56" y="82"/>
                    </a:lnTo>
                    <a:lnTo>
                      <a:pt x="46" y="86"/>
                    </a:lnTo>
                    <a:lnTo>
                      <a:pt x="34" y="88"/>
                    </a:lnTo>
                    <a:lnTo>
                      <a:pt x="21" y="89"/>
                    </a:lnTo>
                    <a:lnTo>
                      <a:pt x="15" y="87"/>
                    </a:lnTo>
                    <a:lnTo>
                      <a:pt x="11" y="83"/>
                    </a:lnTo>
                    <a:lnTo>
                      <a:pt x="4" y="66"/>
                    </a:lnTo>
                    <a:lnTo>
                      <a:pt x="1" y="55"/>
                    </a:lnTo>
                    <a:lnTo>
                      <a:pt x="0" y="44"/>
                    </a:lnTo>
                    <a:lnTo>
                      <a:pt x="3" y="35"/>
                    </a:lnTo>
                    <a:lnTo>
                      <a:pt x="7" y="26"/>
                    </a:lnTo>
                    <a:lnTo>
                      <a:pt x="17" y="18"/>
                    </a:lnTo>
                    <a:lnTo>
                      <a:pt x="28" y="10"/>
                    </a:lnTo>
                    <a:lnTo>
                      <a:pt x="44" y="1"/>
                    </a:lnTo>
                    <a:lnTo>
                      <a:pt x="49" y="0"/>
                    </a:lnTo>
                    <a:lnTo>
                      <a:pt x="54" y="3"/>
                    </a:lnTo>
                    <a:lnTo>
                      <a:pt x="55" y="8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7799040" y="5762520"/>
                <a:ext cx="83880" cy="5220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37" y="16"/>
                    </a:moveTo>
                    <a:lnTo>
                      <a:pt x="29" y="18"/>
                    </a:lnTo>
                    <a:lnTo>
                      <a:pt x="25" y="20"/>
                    </a:lnTo>
                    <a:lnTo>
                      <a:pt x="21" y="21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1" y="33"/>
                    </a:lnTo>
                    <a:lnTo>
                      <a:pt x="22" y="41"/>
                    </a:lnTo>
                    <a:lnTo>
                      <a:pt x="23" y="53"/>
                    </a:lnTo>
                    <a:lnTo>
                      <a:pt x="20" y="54"/>
                    </a:lnTo>
                    <a:lnTo>
                      <a:pt x="14" y="49"/>
                    </a:lnTo>
                    <a:lnTo>
                      <a:pt x="9" y="43"/>
                    </a:lnTo>
                    <a:lnTo>
                      <a:pt x="12" y="41"/>
                    </a:lnTo>
                    <a:lnTo>
                      <a:pt x="25" y="39"/>
                    </a:lnTo>
                    <a:lnTo>
                      <a:pt x="36" y="38"/>
                    </a:lnTo>
                    <a:lnTo>
                      <a:pt x="46" y="35"/>
                    </a:lnTo>
                    <a:lnTo>
                      <a:pt x="57" y="33"/>
                    </a:lnTo>
                    <a:lnTo>
                      <a:pt x="64" y="29"/>
                    </a:lnTo>
                    <a:lnTo>
                      <a:pt x="74" y="26"/>
                    </a:lnTo>
                    <a:lnTo>
                      <a:pt x="82" y="21"/>
                    </a:lnTo>
                    <a:lnTo>
                      <a:pt x="91" y="17"/>
                    </a:lnTo>
                    <a:lnTo>
                      <a:pt x="100" y="15"/>
                    </a:lnTo>
                    <a:lnTo>
                      <a:pt x="105" y="20"/>
                    </a:lnTo>
                    <a:lnTo>
                      <a:pt x="106" y="28"/>
                    </a:lnTo>
                    <a:lnTo>
                      <a:pt x="101" y="37"/>
                    </a:lnTo>
                    <a:lnTo>
                      <a:pt x="90" y="41"/>
                    </a:lnTo>
                    <a:lnTo>
                      <a:pt x="82" y="45"/>
                    </a:lnTo>
                    <a:lnTo>
                      <a:pt x="72" y="49"/>
                    </a:lnTo>
                    <a:lnTo>
                      <a:pt x="62" y="55"/>
                    </a:lnTo>
                    <a:lnTo>
                      <a:pt x="51" y="57"/>
                    </a:lnTo>
                    <a:lnTo>
                      <a:pt x="41" y="60"/>
                    </a:lnTo>
                    <a:lnTo>
                      <a:pt x="27" y="62"/>
                    </a:lnTo>
                    <a:lnTo>
                      <a:pt x="13" y="64"/>
                    </a:lnTo>
                    <a:lnTo>
                      <a:pt x="3" y="61"/>
                    </a:lnTo>
                    <a:lnTo>
                      <a:pt x="1" y="53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11" y="7"/>
                    </a:lnTo>
                    <a:lnTo>
                      <a:pt x="18" y="4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2" y="4"/>
                    </a:lnTo>
                    <a:lnTo>
                      <a:pt x="42" y="11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7671960" y="5865480"/>
                <a:ext cx="122040" cy="71640"/>
              </a:xfrm>
              <a:custGeom>
                <a:avLst/>
                <a:gdLst/>
                <a:ahLst/>
                <a:rect l="l" t="t" r="r" b="b"/>
                <a:pathLst>
                  <a:path w="155" h="88">
                    <a:moveTo>
                      <a:pt x="19" y="44"/>
                    </a:moveTo>
                    <a:lnTo>
                      <a:pt x="25" y="52"/>
                    </a:lnTo>
                    <a:lnTo>
                      <a:pt x="33" y="58"/>
                    </a:lnTo>
                    <a:lnTo>
                      <a:pt x="36" y="60"/>
                    </a:lnTo>
                    <a:lnTo>
                      <a:pt x="42" y="62"/>
                    </a:lnTo>
                    <a:lnTo>
                      <a:pt x="47" y="63"/>
                    </a:lnTo>
                    <a:lnTo>
                      <a:pt x="53" y="66"/>
                    </a:lnTo>
                    <a:lnTo>
                      <a:pt x="70" y="59"/>
                    </a:lnTo>
                    <a:lnTo>
                      <a:pt x="79" y="56"/>
                    </a:lnTo>
                    <a:lnTo>
                      <a:pt x="85" y="54"/>
                    </a:lnTo>
                    <a:lnTo>
                      <a:pt x="87" y="54"/>
                    </a:lnTo>
                    <a:lnTo>
                      <a:pt x="87" y="52"/>
                    </a:lnTo>
                    <a:lnTo>
                      <a:pt x="90" y="49"/>
                    </a:lnTo>
                    <a:lnTo>
                      <a:pt x="96" y="44"/>
                    </a:lnTo>
                    <a:lnTo>
                      <a:pt x="110" y="37"/>
                    </a:lnTo>
                    <a:lnTo>
                      <a:pt x="136" y="19"/>
                    </a:lnTo>
                    <a:lnTo>
                      <a:pt x="134" y="24"/>
                    </a:lnTo>
                    <a:lnTo>
                      <a:pt x="132" y="28"/>
                    </a:lnTo>
                    <a:lnTo>
                      <a:pt x="131" y="29"/>
                    </a:lnTo>
                    <a:lnTo>
                      <a:pt x="132" y="11"/>
                    </a:lnTo>
                    <a:lnTo>
                      <a:pt x="135" y="2"/>
                    </a:lnTo>
                    <a:lnTo>
                      <a:pt x="143" y="0"/>
                    </a:lnTo>
                    <a:lnTo>
                      <a:pt x="149" y="2"/>
                    </a:lnTo>
                    <a:lnTo>
                      <a:pt x="153" y="11"/>
                    </a:lnTo>
                    <a:lnTo>
                      <a:pt x="155" y="29"/>
                    </a:lnTo>
                    <a:lnTo>
                      <a:pt x="152" y="33"/>
                    </a:lnTo>
                    <a:lnTo>
                      <a:pt x="149" y="39"/>
                    </a:lnTo>
                    <a:lnTo>
                      <a:pt x="122" y="56"/>
                    </a:lnTo>
                    <a:lnTo>
                      <a:pt x="107" y="64"/>
                    </a:lnTo>
                    <a:lnTo>
                      <a:pt x="100" y="71"/>
                    </a:lnTo>
                    <a:lnTo>
                      <a:pt x="95" y="73"/>
                    </a:lnTo>
                    <a:lnTo>
                      <a:pt x="94" y="75"/>
                    </a:lnTo>
                    <a:lnTo>
                      <a:pt x="91" y="75"/>
                    </a:lnTo>
                    <a:lnTo>
                      <a:pt x="86" y="77"/>
                    </a:lnTo>
                    <a:lnTo>
                      <a:pt x="74" y="81"/>
                    </a:lnTo>
                    <a:lnTo>
                      <a:pt x="57" y="88"/>
                    </a:lnTo>
                    <a:lnTo>
                      <a:pt x="47" y="86"/>
                    </a:lnTo>
                    <a:lnTo>
                      <a:pt x="39" y="84"/>
                    </a:lnTo>
                    <a:lnTo>
                      <a:pt x="32" y="81"/>
                    </a:lnTo>
                    <a:lnTo>
                      <a:pt x="25" y="78"/>
                    </a:lnTo>
                    <a:lnTo>
                      <a:pt x="18" y="73"/>
                    </a:lnTo>
                    <a:lnTo>
                      <a:pt x="11" y="69"/>
                    </a:lnTo>
                    <a:lnTo>
                      <a:pt x="6" y="62"/>
                    </a:lnTo>
                    <a:lnTo>
                      <a:pt x="2" y="57"/>
                    </a:lnTo>
                    <a:lnTo>
                      <a:pt x="0" y="48"/>
                    </a:lnTo>
                    <a:lnTo>
                      <a:pt x="4" y="42"/>
                    </a:lnTo>
                    <a:lnTo>
                      <a:pt x="11" y="40"/>
                    </a:lnTo>
                    <a:lnTo>
                      <a:pt x="1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7616520" y="58705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20" y="35"/>
                    </a:moveTo>
                    <a:lnTo>
                      <a:pt x="14" y="58"/>
                    </a:lnTo>
                    <a:lnTo>
                      <a:pt x="17" y="77"/>
                    </a:lnTo>
                    <a:lnTo>
                      <a:pt x="27" y="88"/>
                    </a:lnTo>
                    <a:lnTo>
                      <a:pt x="42" y="94"/>
                    </a:lnTo>
                    <a:lnTo>
                      <a:pt x="57" y="92"/>
                    </a:lnTo>
                    <a:lnTo>
                      <a:pt x="73" y="84"/>
                    </a:lnTo>
                    <a:lnTo>
                      <a:pt x="86" y="69"/>
                    </a:lnTo>
                    <a:lnTo>
                      <a:pt x="96" y="49"/>
                    </a:lnTo>
                    <a:lnTo>
                      <a:pt x="92" y="11"/>
                    </a:lnTo>
                    <a:lnTo>
                      <a:pt x="93" y="9"/>
                    </a:lnTo>
                    <a:lnTo>
                      <a:pt x="98" y="13"/>
                    </a:lnTo>
                    <a:lnTo>
                      <a:pt x="102" y="18"/>
                    </a:lnTo>
                    <a:lnTo>
                      <a:pt x="102" y="21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3" y="19"/>
                    </a:lnTo>
                    <a:lnTo>
                      <a:pt x="78" y="19"/>
                    </a:lnTo>
                    <a:lnTo>
                      <a:pt x="71" y="18"/>
                    </a:lnTo>
                    <a:lnTo>
                      <a:pt x="66" y="16"/>
                    </a:lnTo>
                    <a:lnTo>
                      <a:pt x="59" y="16"/>
                    </a:lnTo>
                    <a:lnTo>
                      <a:pt x="53" y="16"/>
                    </a:lnTo>
                    <a:lnTo>
                      <a:pt x="48" y="14"/>
                    </a:lnTo>
                    <a:lnTo>
                      <a:pt x="46" y="10"/>
                    </a:lnTo>
                    <a:lnTo>
                      <a:pt x="48" y="5"/>
                    </a:lnTo>
                    <a:lnTo>
                      <a:pt x="53" y="4"/>
                    </a:lnTo>
                    <a:lnTo>
                      <a:pt x="59" y="3"/>
                    </a:lnTo>
                    <a:lnTo>
                      <a:pt x="66" y="3"/>
                    </a:lnTo>
                    <a:lnTo>
                      <a:pt x="71" y="1"/>
                    </a:lnTo>
                    <a:lnTo>
                      <a:pt x="78" y="1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3"/>
                    </a:lnTo>
                    <a:lnTo>
                      <a:pt x="112" y="9"/>
                    </a:lnTo>
                    <a:lnTo>
                      <a:pt x="116" y="51"/>
                    </a:lnTo>
                    <a:lnTo>
                      <a:pt x="102" y="81"/>
                    </a:lnTo>
                    <a:lnTo>
                      <a:pt x="84" y="102"/>
                    </a:lnTo>
                    <a:lnTo>
                      <a:pt x="60" y="113"/>
                    </a:lnTo>
                    <a:lnTo>
                      <a:pt x="39" y="115"/>
                    </a:lnTo>
                    <a:lnTo>
                      <a:pt x="18" y="107"/>
                    </a:lnTo>
                    <a:lnTo>
                      <a:pt x="6" y="91"/>
                    </a:lnTo>
                    <a:lnTo>
                      <a:pt x="0" y="64"/>
                    </a:lnTo>
                    <a:lnTo>
                      <a:pt x="8" y="30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8"/>
                    </a:lnTo>
                    <a:lnTo>
                      <a:pt x="2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7591680" y="591012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133" h="94">
                    <a:moveTo>
                      <a:pt x="17" y="44"/>
                    </a:moveTo>
                    <a:lnTo>
                      <a:pt x="21" y="51"/>
                    </a:lnTo>
                    <a:lnTo>
                      <a:pt x="25" y="59"/>
                    </a:lnTo>
                    <a:lnTo>
                      <a:pt x="28" y="63"/>
                    </a:lnTo>
                    <a:lnTo>
                      <a:pt x="34" y="68"/>
                    </a:lnTo>
                    <a:lnTo>
                      <a:pt x="38" y="70"/>
                    </a:lnTo>
                    <a:lnTo>
                      <a:pt x="46" y="71"/>
                    </a:lnTo>
                    <a:lnTo>
                      <a:pt x="53" y="71"/>
                    </a:lnTo>
                    <a:lnTo>
                      <a:pt x="64" y="72"/>
                    </a:lnTo>
                    <a:lnTo>
                      <a:pt x="71" y="68"/>
                    </a:lnTo>
                    <a:lnTo>
                      <a:pt x="79" y="63"/>
                    </a:lnTo>
                    <a:lnTo>
                      <a:pt x="85" y="59"/>
                    </a:lnTo>
                    <a:lnTo>
                      <a:pt x="92" y="55"/>
                    </a:lnTo>
                    <a:lnTo>
                      <a:pt x="96" y="48"/>
                    </a:lnTo>
                    <a:lnTo>
                      <a:pt x="101" y="42"/>
                    </a:lnTo>
                    <a:lnTo>
                      <a:pt x="105" y="34"/>
                    </a:lnTo>
                    <a:lnTo>
                      <a:pt x="109" y="27"/>
                    </a:lnTo>
                    <a:lnTo>
                      <a:pt x="117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3"/>
                    </a:lnTo>
                    <a:lnTo>
                      <a:pt x="133" y="10"/>
                    </a:lnTo>
                    <a:lnTo>
                      <a:pt x="131" y="33"/>
                    </a:lnTo>
                    <a:lnTo>
                      <a:pt x="125" y="43"/>
                    </a:lnTo>
                    <a:lnTo>
                      <a:pt x="120" y="53"/>
                    </a:lnTo>
                    <a:lnTo>
                      <a:pt x="113" y="61"/>
                    </a:lnTo>
                    <a:lnTo>
                      <a:pt x="108" y="70"/>
                    </a:lnTo>
                    <a:lnTo>
                      <a:pt x="99" y="76"/>
                    </a:lnTo>
                    <a:lnTo>
                      <a:pt x="91" y="84"/>
                    </a:lnTo>
                    <a:lnTo>
                      <a:pt x="80" y="89"/>
                    </a:lnTo>
                    <a:lnTo>
                      <a:pt x="69" y="94"/>
                    </a:lnTo>
                    <a:lnTo>
                      <a:pt x="54" y="93"/>
                    </a:lnTo>
                    <a:lnTo>
                      <a:pt x="42" y="93"/>
                    </a:lnTo>
                    <a:lnTo>
                      <a:pt x="33" y="90"/>
                    </a:lnTo>
                    <a:lnTo>
                      <a:pt x="26" y="87"/>
                    </a:lnTo>
                    <a:lnTo>
                      <a:pt x="20" y="80"/>
                    </a:lnTo>
                    <a:lnTo>
                      <a:pt x="14" y="73"/>
                    </a:lnTo>
                    <a:lnTo>
                      <a:pt x="8" y="63"/>
                    </a:lnTo>
                    <a:lnTo>
                      <a:pt x="3" y="51"/>
                    </a:lnTo>
                    <a:lnTo>
                      <a:pt x="0" y="44"/>
                    </a:lnTo>
                    <a:lnTo>
                      <a:pt x="6" y="40"/>
                    </a:lnTo>
                    <a:lnTo>
                      <a:pt x="11" y="39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513560" y="5862600"/>
                <a:ext cx="88560" cy="104760"/>
              </a:xfrm>
              <a:custGeom>
                <a:avLst/>
                <a:gdLst/>
                <a:ahLst/>
                <a:rect l="l" t="t" r="r" b="b"/>
                <a:pathLst>
                  <a:path w="113" h="131">
                    <a:moveTo>
                      <a:pt x="14" y="71"/>
                    </a:moveTo>
                    <a:lnTo>
                      <a:pt x="16" y="80"/>
                    </a:lnTo>
                    <a:lnTo>
                      <a:pt x="20" y="89"/>
                    </a:lnTo>
                    <a:lnTo>
                      <a:pt x="23" y="94"/>
                    </a:lnTo>
                    <a:lnTo>
                      <a:pt x="30" y="99"/>
                    </a:lnTo>
                    <a:lnTo>
                      <a:pt x="35" y="101"/>
                    </a:lnTo>
                    <a:lnTo>
                      <a:pt x="43" y="104"/>
                    </a:lnTo>
                    <a:lnTo>
                      <a:pt x="50" y="106"/>
                    </a:lnTo>
                    <a:lnTo>
                      <a:pt x="60" y="109"/>
                    </a:lnTo>
                    <a:lnTo>
                      <a:pt x="67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3"/>
                    </a:lnTo>
                    <a:lnTo>
                      <a:pt x="81" y="101"/>
                    </a:lnTo>
                    <a:lnTo>
                      <a:pt x="85" y="97"/>
                    </a:lnTo>
                    <a:lnTo>
                      <a:pt x="88" y="92"/>
                    </a:lnTo>
                    <a:lnTo>
                      <a:pt x="94" y="85"/>
                    </a:lnTo>
                    <a:lnTo>
                      <a:pt x="88" y="68"/>
                    </a:lnTo>
                    <a:lnTo>
                      <a:pt x="82" y="57"/>
                    </a:lnTo>
                    <a:lnTo>
                      <a:pt x="75" y="46"/>
                    </a:lnTo>
                    <a:lnTo>
                      <a:pt x="67" y="38"/>
                    </a:lnTo>
                    <a:lnTo>
                      <a:pt x="58" y="31"/>
                    </a:lnTo>
                    <a:lnTo>
                      <a:pt x="48" y="24"/>
                    </a:lnTo>
                    <a:lnTo>
                      <a:pt x="36" y="18"/>
                    </a:lnTo>
                    <a:lnTo>
                      <a:pt x="25" y="12"/>
                    </a:lnTo>
                    <a:lnTo>
                      <a:pt x="21" y="7"/>
                    </a:lnTo>
                    <a:lnTo>
                      <a:pt x="22" y="3"/>
                    </a:lnTo>
                    <a:lnTo>
                      <a:pt x="25" y="0"/>
                    </a:lnTo>
                    <a:lnTo>
                      <a:pt x="32" y="1"/>
                    </a:lnTo>
                    <a:lnTo>
                      <a:pt x="45" y="8"/>
                    </a:lnTo>
                    <a:lnTo>
                      <a:pt x="58" y="16"/>
                    </a:lnTo>
                    <a:lnTo>
                      <a:pt x="70" y="23"/>
                    </a:lnTo>
                    <a:lnTo>
                      <a:pt x="81" y="33"/>
                    </a:lnTo>
                    <a:lnTo>
                      <a:pt x="90" y="43"/>
                    </a:lnTo>
                    <a:lnTo>
                      <a:pt x="100" y="55"/>
                    </a:lnTo>
                    <a:lnTo>
                      <a:pt x="106" y="68"/>
                    </a:lnTo>
                    <a:lnTo>
                      <a:pt x="113" y="87"/>
                    </a:lnTo>
                    <a:lnTo>
                      <a:pt x="105" y="97"/>
                    </a:lnTo>
                    <a:lnTo>
                      <a:pt x="101" y="106"/>
                    </a:lnTo>
                    <a:lnTo>
                      <a:pt x="96" y="113"/>
                    </a:lnTo>
                    <a:lnTo>
                      <a:pt x="92" y="117"/>
                    </a:lnTo>
                    <a:lnTo>
                      <a:pt x="87" y="120"/>
                    </a:lnTo>
                    <a:lnTo>
                      <a:pt x="80" y="123"/>
                    </a:lnTo>
                    <a:lnTo>
                      <a:pt x="71" y="126"/>
                    </a:lnTo>
                    <a:lnTo>
                      <a:pt x="59" y="131"/>
                    </a:lnTo>
                    <a:lnTo>
                      <a:pt x="46" y="125"/>
                    </a:lnTo>
                    <a:lnTo>
                      <a:pt x="35" y="121"/>
                    </a:lnTo>
                    <a:lnTo>
                      <a:pt x="25" y="117"/>
                    </a:lnTo>
                    <a:lnTo>
                      <a:pt x="19" y="113"/>
                    </a:lnTo>
                    <a:lnTo>
                      <a:pt x="13" y="105"/>
                    </a:lnTo>
                    <a:lnTo>
                      <a:pt x="7" y="97"/>
                    </a:lnTo>
                    <a:lnTo>
                      <a:pt x="3" y="87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5" y="64"/>
                    </a:lnTo>
                    <a:lnTo>
                      <a:pt x="9" y="65"/>
                    </a:lnTo>
                    <a:lnTo>
                      <a:pt x="1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7432920" y="5865480"/>
                <a:ext cx="91440" cy="128880"/>
              </a:xfrm>
              <a:custGeom>
                <a:avLst/>
                <a:gdLst/>
                <a:ahLst/>
                <a:rect l="l" t="t" r="r" b="b"/>
                <a:pathLst>
                  <a:path w="115" h="161">
                    <a:moveTo>
                      <a:pt x="17" y="96"/>
                    </a:moveTo>
                    <a:lnTo>
                      <a:pt x="22" y="105"/>
                    </a:lnTo>
                    <a:lnTo>
                      <a:pt x="31" y="117"/>
                    </a:lnTo>
                    <a:lnTo>
                      <a:pt x="42" y="128"/>
                    </a:lnTo>
                    <a:lnTo>
                      <a:pt x="53" y="138"/>
                    </a:lnTo>
                    <a:lnTo>
                      <a:pt x="64" y="143"/>
                    </a:lnTo>
                    <a:lnTo>
                      <a:pt x="75" y="143"/>
                    </a:lnTo>
                    <a:lnTo>
                      <a:pt x="85" y="135"/>
                    </a:lnTo>
                    <a:lnTo>
                      <a:pt x="91" y="119"/>
                    </a:lnTo>
                    <a:lnTo>
                      <a:pt x="93" y="92"/>
                    </a:lnTo>
                    <a:lnTo>
                      <a:pt x="92" y="72"/>
                    </a:lnTo>
                    <a:lnTo>
                      <a:pt x="87" y="57"/>
                    </a:lnTo>
                    <a:lnTo>
                      <a:pt x="78" y="46"/>
                    </a:lnTo>
                    <a:lnTo>
                      <a:pt x="65" y="38"/>
                    </a:lnTo>
                    <a:lnTo>
                      <a:pt x="50" y="32"/>
                    </a:lnTo>
                    <a:lnTo>
                      <a:pt x="31" y="26"/>
                    </a:lnTo>
                    <a:lnTo>
                      <a:pt x="10" y="21"/>
                    </a:lnTo>
                    <a:lnTo>
                      <a:pt x="3" y="15"/>
                    </a:lnTo>
                    <a:lnTo>
                      <a:pt x="2" y="8"/>
                    </a:lnTo>
                    <a:lnTo>
                      <a:pt x="6" y="0"/>
                    </a:lnTo>
                    <a:lnTo>
                      <a:pt x="16" y="0"/>
                    </a:lnTo>
                    <a:lnTo>
                      <a:pt x="42" y="6"/>
                    </a:lnTo>
                    <a:lnTo>
                      <a:pt x="64" y="13"/>
                    </a:lnTo>
                    <a:lnTo>
                      <a:pt x="82" y="20"/>
                    </a:lnTo>
                    <a:lnTo>
                      <a:pt x="97" y="32"/>
                    </a:lnTo>
                    <a:lnTo>
                      <a:pt x="107" y="45"/>
                    </a:lnTo>
                    <a:lnTo>
                      <a:pt x="114" y="64"/>
                    </a:lnTo>
                    <a:lnTo>
                      <a:pt x="115" y="89"/>
                    </a:lnTo>
                    <a:lnTo>
                      <a:pt x="111" y="122"/>
                    </a:lnTo>
                    <a:lnTo>
                      <a:pt x="102" y="146"/>
                    </a:lnTo>
                    <a:lnTo>
                      <a:pt x="89" y="159"/>
                    </a:lnTo>
                    <a:lnTo>
                      <a:pt x="73" y="161"/>
                    </a:lnTo>
                    <a:lnTo>
                      <a:pt x="57" y="157"/>
                    </a:lnTo>
                    <a:lnTo>
                      <a:pt x="38" y="146"/>
                    </a:lnTo>
                    <a:lnTo>
                      <a:pt x="23" y="132"/>
                    </a:lnTo>
                    <a:lnTo>
                      <a:pt x="10" y="116"/>
                    </a:lnTo>
                    <a:lnTo>
                      <a:pt x="2" y="102"/>
                    </a:lnTo>
                    <a:lnTo>
                      <a:pt x="0" y="95"/>
                    </a:lnTo>
                    <a:lnTo>
                      <a:pt x="5" y="90"/>
                    </a:lnTo>
                    <a:lnTo>
                      <a:pt x="10" y="90"/>
                    </a:lnTo>
                    <a:lnTo>
                      <a:pt x="17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341840" y="58640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143" h="108">
                    <a:moveTo>
                      <a:pt x="19" y="71"/>
                    </a:moveTo>
                    <a:lnTo>
                      <a:pt x="58" y="88"/>
                    </a:lnTo>
                    <a:lnTo>
                      <a:pt x="77" y="85"/>
                    </a:lnTo>
                    <a:lnTo>
                      <a:pt x="94" y="81"/>
                    </a:lnTo>
                    <a:lnTo>
                      <a:pt x="106" y="75"/>
                    </a:lnTo>
                    <a:lnTo>
                      <a:pt x="115" y="70"/>
                    </a:lnTo>
                    <a:lnTo>
                      <a:pt x="117" y="61"/>
                    </a:lnTo>
                    <a:lnTo>
                      <a:pt x="115" y="52"/>
                    </a:lnTo>
                    <a:lnTo>
                      <a:pt x="107" y="41"/>
                    </a:lnTo>
                    <a:lnTo>
                      <a:pt x="94" y="29"/>
                    </a:lnTo>
                    <a:lnTo>
                      <a:pt x="81" y="26"/>
                    </a:lnTo>
                    <a:lnTo>
                      <a:pt x="71" y="22"/>
                    </a:lnTo>
                    <a:lnTo>
                      <a:pt x="60" y="19"/>
                    </a:lnTo>
                    <a:lnTo>
                      <a:pt x="50" y="17"/>
                    </a:lnTo>
                    <a:lnTo>
                      <a:pt x="39" y="14"/>
                    </a:lnTo>
                    <a:lnTo>
                      <a:pt x="30" y="14"/>
                    </a:lnTo>
                    <a:lnTo>
                      <a:pt x="19" y="14"/>
                    </a:lnTo>
                    <a:lnTo>
                      <a:pt x="7" y="16"/>
                    </a:lnTo>
                    <a:lnTo>
                      <a:pt x="2" y="14"/>
                    </a:lnTo>
                    <a:lnTo>
                      <a:pt x="0" y="11"/>
                    </a:lnTo>
                    <a:lnTo>
                      <a:pt x="1" y="5"/>
                    </a:lnTo>
                    <a:lnTo>
                      <a:pt x="6" y="4"/>
                    </a:lnTo>
                    <a:lnTo>
                      <a:pt x="18" y="1"/>
                    </a:lnTo>
                    <a:lnTo>
                      <a:pt x="31" y="1"/>
                    </a:lnTo>
                    <a:lnTo>
                      <a:pt x="43" y="0"/>
                    </a:lnTo>
                    <a:lnTo>
                      <a:pt x="54" y="1"/>
                    </a:lnTo>
                    <a:lnTo>
                      <a:pt x="65" y="1"/>
                    </a:lnTo>
                    <a:lnTo>
                      <a:pt x="77" y="3"/>
                    </a:lnTo>
                    <a:lnTo>
                      <a:pt x="90" y="5"/>
                    </a:lnTo>
                    <a:lnTo>
                      <a:pt x="104" y="8"/>
                    </a:lnTo>
                    <a:lnTo>
                      <a:pt x="124" y="28"/>
                    </a:lnTo>
                    <a:lnTo>
                      <a:pt x="137" y="47"/>
                    </a:lnTo>
                    <a:lnTo>
                      <a:pt x="143" y="63"/>
                    </a:lnTo>
                    <a:lnTo>
                      <a:pt x="140" y="78"/>
                    </a:lnTo>
                    <a:lnTo>
                      <a:pt x="130" y="89"/>
                    </a:lnTo>
                    <a:lnTo>
                      <a:pt x="111" y="98"/>
                    </a:lnTo>
                    <a:lnTo>
                      <a:pt x="86" y="104"/>
                    </a:lnTo>
                    <a:lnTo>
                      <a:pt x="53" y="108"/>
                    </a:lnTo>
                    <a:lnTo>
                      <a:pt x="11" y="89"/>
                    </a:lnTo>
                    <a:lnTo>
                      <a:pt x="5" y="83"/>
                    </a:lnTo>
                    <a:lnTo>
                      <a:pt x="5" y="75"/>
                    </a:lnTo>
                    <a:lnTo>
                      <a:pt x="10" y="70"/>
                    </a:lnTo>
                    <a:lnTo>
                      <a:pt x="19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319520" y="5816520"/>
                <a:ext cx="137880" cy="83880"/>
              </a:xfrm>
              <a:custGeom>
                <a:avLst/>
                <a:gdLst/>
                <a:ahLst/>
                <a:rect l="l" t="t" r="r" b="b"/>
                <a:pathLst>
                  <a:path w="176" h="106">
                    <a:moveTo>
                      <a:pt x="107" y="78"/>
                    </a:moveTo>
                    <a:lnTo>
                      <a:pt x="111" y="79"/>
                    </a:lnTo>
                    <a:lnTo>
                      <a:pt x="118" y="80"/>
                    </a:lnTo>
                    <a:lnTo>
                      <a:pt x="124" y="81"/>
                    </a:lnTo>
                    <a:lnTo>
                      <a:pt x="133" y="83"/>
                    </a:lnTo>
                    <a:lnTo>
                      <a:pt x="140" y="83"/>
                    </a:lnTo>
                    <a:lnTo>
                      <a:pt x="149" y="84"/>
                    </a:lnTo>
                    <a:lnTo>
                      <a:pt x="156" y="84"/>
                    </a:lnTo>
                    <a:lnTo>
                      <a:pt x="165" y="86"/>
                    </a:lnTo>
                    <a:lnTo>
                      <a:pt x="165" y="88"/>
                    </a:lnTo>
                    <a:lnTo>
                      <a:pt x="162" y="93"/>
                    </a:lnTo>
                    <a:lnTo>
                      <a:pt x="156" y="96"/>
                    </a:lnTo>
                    <a:lnTo>
                      <a:pt x="154" y="95"/>
                    </a:lnTo>
                    <a:lnTo>
                      <a:pt x="152" y="75"/>
                    </a:lnTo>
                    <a:lnTo>
                      <a:pt x="150" y="60"/>
                    </a:lnTo>
                    <a:lnTo>
                      <a:pt x="144" y="49"/>
                    </a:lnTo>
                    <a:lnTo>
                      <a:pt x="138" y="42"/>
                    </a:lnTo>
                    <a:lnTo>
                      <a:pt x="128" y="34"/>
                    </a:lnTo>
                    <a:lnTo>
                      <a:pt x="118" y="31"/>
                    </a:lnTo>
                    <a:lnTo>
                      <a:pt x="104" y="26"/>
                    </a:lnTo>
                    <a:lnTo>
                      <a:pt x="87" y="23"/>
                    </a:lnTo>
                    <a:lnTo>
                      <a:pt x="79" y="21"/>
                    </a:lnTo>
                    <a:lnTo>
                      <a:pt x="70" y="20"/>
                    </a:lnTo>
                    <a:lnTo>
                      <a:pt x="60" y="18"/>
                    </a:lnTo>
                    <a:lnTo>
                      <a:pt x="49" y="17"/>
                    </a:lnTo>
                    <a:lnTo>
                      <a:pt x="37" y="15"/>
                    </a:lnTo>
                    <a:lnTo>
                      <a:pt x="26" y="14"/>
                    </a:lnTo>
                    <a:lnTo>
                      <a:pt x="15" y="14"/>
                    </a:lnTo>
                    <a:lnTo>
                      <a:pt x="7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7" y="2"/>
                    </a:lnTo>
                    <a:lnTo>
                      <a:pt x="15" y="1"/>
                    </a:lnTo>
                    <a:lnTo>
                      <a:pt x="27" y="1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92" y="1"/>
                    </a:lnTo>
                    <a:lnTo>
                      <a:pt x="112" y="6"/>
                    </a:lnTo>
                    <a:lnTo>
                      <a:pt x="131" y="11"/>
                    </a:lnTo>
                    <a:lnTo>
                      <a:pt x="144" y="17"/>
                    </a:lnTo>
                    <a:lnTo>
                      <a:pt x="156" y="25"/>
                    </a:lnTo>
                    <a:lnTo>
                      <a:pt x="165" y="35"/>
                    </a:lnTo>
                    <a:lnTo>
                      <a:pt x="170" y="50"/>
                    </a:lnTo>
                    <a:lnTo>
                      <a:pt x="174" y="69"/>
                    </a:lnTo>
                    <a:lnTo>
                      <a:pt x="176" y="95"/>
                    </a:lnTo>
                    <a:lnTo>
                      <a:pt x="172" y="103"/>
                    </a:lnTo>
                    <a:lnTo>
                      <a:pt x="165" y="106"/>
                    </a:lnTo>
                    <a:lnTo>
                      <a:pt x="155" y="105"/>
                    </a:lnTo>
                    <a:lnTo>
                      <a:pt x="147" y="104"/>
                    </a:lnTo>
                    <a:lnTo>
                      <a:pt x="138" y="103"/>
                    </a:lnTo>
                    <a:lnTo>
                      <a:pt x="129" y="102"/>
                    </a:lnTo>
                    <a:lnTo>
                      <a:pt x="120" y="100"/>
                    </a:lnTo>
                    <a:lnTo>
                      <a:pt x="112" y="98"/>
                    </a:lnTo>
                    <a:lnTo>
                      <a:pt x="106" y="96"/>
                    </a:lnTo>
                    <a:lnTo>
                      <a:pt x="100" y="95"/>
                    </a:lnTo>
                    <a:lnTo>
                      <a:pt x="94" y="90"/>
                    </a:lnTo>
                    <a:lnTo>
                      <a:pt x="94" y="83"/>
                    </a:lnTo>
                    <a:lnTo>
                      <a:pt x="98" y="78"/>
                    </a:lnTo>
                    <a:lnTo>
                      <a:pt x="107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7418160" y="5817960"/>
                <a:ext cx="109080" cy="68400"/>
              </a:xfrm>
              <a:custGeom>
                <a:avLst/>
                <a:gdLst/>
                <a:ahLst/>
                <a:rect l="l" t="t" r="r" b="b"/>
                <a:pathLst>
                  <a:path w="140" h="86">
                    <a:moveTo>
                      <a:pt x="10" y="67"/>
                    </a:moveTo>
                    <a:lnTo>
                      <a:pt x="28" y="67"/>
                    </a:lnTo>
                    <a:lnTo>
                      <a:pt x="48" y="67"/>
                    </a:lnTo>
                    <a:lnTo>
                      <a:pt x="63" y="66"/>
                    </a:lnTo>
                    <a:lnTo>
                      <a:pt x="79" y="65"/>
                    </a:lnTo>
                    <a:lnTo>
                      <a:pt x="92" y="61"/>
                    </a:lnTo>
                    <a:lnTo>
                      <a:pt x="102" y="56"/>
                    </a:lnTo>
                    <a:lnTo>
                      <a:pt x="111" y="46"/>
                    </a:lnTo>
                    <a:lnTo>
                      <a:pt x="118" y="33"/>
                    </a:lnTo>
                    <a:lnTo>
                      <a:pt x="120" y="33"/>
                    </a:lnTo>
                    <a:lnTo>
                      <a:pt x="122" y="38"/>
                    </a:lnTo>
                    <a:lnTo>
                      <a:pt x="123" y="44"/>
                    </a:lnTo>
                    <a:lnTo>
                      <a:pt x="123" y="46"/>
                    </a:lnTo>
                    <a:lnTo>
                      <a:pt x="115" y="41"/>
                    </a:lnTo>
                    <a:lnTo>
                      <a:pt x="108" y="36"/>
                    </a:lnTo>
                    <a:lnTo>
                      <a:pt x="100" y="32"/>
                    </a:lnTo>
                    <a:lnTo>
                      <a:pt x="94" y="29"/>
                    </a:lnTo>
                    <a:lnTo>
                      <a:pt x="84" y="24"/>
                    </a:lnTo>
                    <a:lnTo>
                      <a:pt x="75" y="22"/>
                    </a:lnTo>
                    <a:lnTo>
                      <a:pt x="65" y="21"/>
                    </a:lnTo>
                    <a:lnTo>
                      <a:pt x="54" y="21"/>
                    </a:lnTo>
                    <a:lnTo>
                      <a:pt x="45" y="17"/>
                    </a:lnTo>
                    <a:lnTo>
                      <a:pt x="43" y="10"/>
                    </a:lnTo>
                    <a:lnTo>
                      <a:pt x="45" y="3"/>
                    </a:lnTo>
                    <a:lnTo>
                      <a:pt x="54" y="0"/>
                    </a:lnTo>
                    <a:lnTo>
                      <a:pt x="67" y="0"/>
                    </a:lnTo>
                    <a:lnTo>
                      <a:pt x="81" y="1"/>
                    </a:lnTo>
                    <a:lnTo>
                      <a:pt x="92" y="3"/>
                    </a:lnTo>
                    <a:lnTo>
                      <a:pt x="102" y="7"/>
                    </a:lnTo>
                    <a:lnTo>
                      <a:pt x="111" y="10"/>
                    </a:lnTo>
                    <a:lnTo>
                      <a:pt x="120" y="16"/>
                    </a:lnTo>
                    <a:lnTo>
                      <a:pt x="127" y="21"/>
                    </a:lnTo>
                    <a:lnTo>
                      <a:pt x="136" y="28"/>
                    </a:lnTo>
                    <a:lnTo>
                      <a:pt x="139" y="33"/>
                    </a:lnTo>
                    <a:lnTo>
                      <a:pt x="140" y="41"/>
                    </a:lnTo>
                    <a:lnTo>
                      <a:pt x="131" y="56"/>
                    </a:lnTo>
                    <a:lnTo>
                      <a:pt x="122" y="67"/>
                    </a:lnTo>
                    <a:lnTo>
                      <a:pt x="108" y="75"/>
                    </a:lnTo>
                    <a:lnTo>
                      <a:pt x="94" y="81"/>
                    </a:lnTo>
                    <a:lnTo>
                      <a:pt x="74" y="84"/>
                    </a:lnTo>
                    <a:lnTo>
                      <a:pt x="55" y="85"/>
                    </a:lnTo>
                    <a:lnTo>
                      <a:pt x="32" y="85"/>
                    </a:lnTo>
                    <a:lnTo>
                      <a:pt x="10" y="86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2" y="70"/>
                    </a:lnTo>
                    <a:lnTo>
                      <a:pt x="1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7483680" y="5827680"/>
                <a:ext cx="112320" cy="64800"/>
              </a:xfrm>
              <a:custGeom>
                <a:avLst/>
                <a:gdLst/>
                <a:ahLst/>
                <a:rect l="l" t="t" r="r" b="b"/>
                <a:pathLst>
                  <a:path w="143" h="80">
                    <a:moveTo>
                      <a:pt x="75" y="13"/>
                    </a:moveTo>
                    <a:lnTo>
                      <a:pt x="61" y="15"/>
                    </a:lnTo>
                    <a:lnTo>
                      <a:pt x="52" y="17"/>
                    </a:lnTo>
                    <a:lnTo>
                      <a:pt x="44" y="19"/>
                    </a:lnTo>
                    <a:lnTo>
                      <a:pt x="41" y="22"/>
                    </a:lnTo>
                    <a:lnTo>
                      <a:pt x="37" y="25"/>
                    </a:lnTo>
                    <a:lnTo>
                      <a:pt x="33" y="32"/>
                    </a:lnTo>
                    <a:lnTo>
                      <a:pt x="28" y="38"/>
                    </a:lnTo>
                    <a:lnTo>
                      <a:pt x="22" y="49"/>
                    </a:lnTo>
                    <a:lnTo>
                      <a:pt x="17" y="48"/>
                    </a:lnTo>
                    <a:lnTo>
                      <a:pt x="15" y="40"/>
                    </a:lnTo>
                    <a:lnTo>
                      <a:pt x="14" y="32"/>
                    </a:lnTo>
                    <a:lnTo>
                      <a:pt x="18" y="31"/>
                    </a:lnTo>
                    <a:lnTo>
                      <a:pt x="25" y="34"/>
                    </a:lnTo>
                    <a:lnTo>
                      <a:pt x="32" y="37"/>
                    </a:lnTo>
                    <a:lnTo>
                      <a:pt x="39" y="40"/>
                    </a:lnTo>
                    <a:lnTo>
                      <a:pt x="46" y="45"/>
                    </a:lnTo>
                    <a:lnTo>
                      <a:pt x="53" y="47"/>
                    </a:lnTo>
                    <a:lnTo>
                      <a:pt x="61" y="50"/>
                    </a:lnTo>
                    <a:lnTo>
                      <a:pt x="69" y="53"/>
                    </a:lnTo>
                    <a:lnTo>
                      <a:pt x="80" y="57"/>
                    </a:lnTo>
                    <a:lnTo>
                      <a:pt x="92" y="53"/>
                    </a:lnTo>
                    <a:lnTo>
                      <a:pt x="101" y="50"/>
                    </a:lnTo>
                    <a:lnTo>
                      <a:pt x="108" y="47"/>
                    </a:lnTo>
                    <a:lnTo>
                      <a:pt x="113" y="44"/>
                    </a:lnTo>
                    <a:lnTo>
                      <a:pt x="116" y="38"/>
                    </a:lnTo>
                    <a:lnTo>
                      <a:pt x="121" y="33"/>
                    </a:lnTo>
                    <a:lnTo>
                      <a:pt x="124" y="25"/>
                    </a:lnTo>
                    <a:lnTo>
                      <a:pt x="129" y="16"/>
                    </a:lnTo>
                    <a:lnTo>
                      <a:pt x="134" y="10"/>
                    </a:lnTo>
                    <a:lnTo>
                      <a:pt x="139" y="11"/>
                    </a:lnTo>
                    <a:lnTo>
                      <a:pt x="142" y="16"/>
                    </a:lnTo>
                    <a:lnTo>
                      <a:pt x="143" y="23"/>
                    </a:lnTo>
                    <a:lnTo>
                      <a:pt x="137" y="35"/>
                    </a:lnTo>
                    <a:lnTo>
                      <a:pt x="132" y="46"/>
                    </a:lnTo>
                    <a:lnTo>
                      <a:pt x="127" y="54"/>
                    </a:lnTo>
                    <a:lnTo>
                      <a:pt x="123" y="62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4" y="76"/>
                    </a:lnTo>
                    <a:lnTo>
                      <a:pt x="79" y="80"/>
                    </a:lnTo>
                    <a:lnTo>
                      <a:pt x="67" y="76"/>
                    </a:lnTo>
                    <a:lnTo>
                      <a:pt x="57" y="73"/>
                    </a:lnTo>
                    <a:lnTo>
                      <a:pt x="49" y="69"/>
                    </a:lnTo>
                    <a:lnTo>
                      <a:pt x="40" y="67"/>
                    </a:lnTo>
                    <a:lnTo>
                      <a:pt x="31" y="63"/>
                    </a:lnTo>
                    <a:lnTo>
                      <a:pt x="24" y="60"/>
                    </a:lnTo>
                    <a:lnTo>
                      <a:pt x="15" y="56"/>
                    </a:lnTo>
                    <a:lnTo>
                      <a:pt x="8" y="52"/>
                    </a:lnTo>
                    <a:lnTo>
                      <a:pt x="2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3" y="34"/>
                    </a:lnTo>
                    <a:lnTo>
                      <a:pt x="11" y="22"/>
                    </a:lnTo>
                    <a:lnTo>
                      <a:pt x="18" y="15"/>
                    </a:lnTo>
                    <a:lnTo>
                      <a:pt x="23" y="9"/>
                    </a:lnTo>
                    <a:lnTo>
                      <a:pt x="29" y="7"/>
                    </a:lnTo>
                    <a:lnTo>
                      <a:pt x="35" y="4"/>
                    </a:lnTo>
                    <a:lnTo>
                      <a:pt x="44" y="3"/>
                    </a:lnTo>
                    <a:lnTo>
                      <a:pt x="56" y="2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1" y="4"/>
                    </a:lnTo>
                    <a:lnTo>
                      <a:pt x="80" y="9"/>
                    </a:lnTo>
                    <a:lnTo>
                      <a:pt x="7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7570440" y="582444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133" h="80">
                    <a:moveTo>
                      <a:pt x="54" y="20"/>
                    </a:moveTo>
                    <a:lnTo>
                      <a:pt x="44" y="28"/>
                    </a:lnTo>
                    <a:lnTo>
                      <a:pt x="38" y="36"/>
                    </a:lnTo>
                    <a:lnTo>
                      <a:pt x="34" y="42"/>
                    </a:lnTo>
                    <a:lnTo>
                      <a:pt x="37" y="49"/>
                    </a:lnTo>
                    <a:lnTo>
                      <a:pt x="41" y="52"/>
                    </a:lnTo>
                    <a:lnTo>
                      <a:pt x="50" y="54"/>
                    </a:lnTo>
                    <a:lnTo>
                      <a:pt x="62" y="54"/>
                    </a:lnTo>
                    <a:lnTo>
                      <a:pt x="80" y="53"/>
                    </a:lnTo>
                    <a:lnTo>
                      <a:pt x="117" y="37"/>
                    </a:lnTo>
                    <a:lnTo>
                      <a:pt x="127" y="36"/>
                    </a:lnTo>
                    <a:lnTo>
                      <a:pt x="133" y="42"/>
                    </a:lnTo>
                    <a:lnTo>
                      <a:pt x="133" y="51"/>
                    </a:lnTo>
                    <a:lnTo>
                      <a:pt x="128" y="58"/>
                    </a:lnTo>
                    <a:lnTo>
                      <a:pt x="87" y="77"/>
                    </a:lnTo>
                    <a:lnTo>
                      <a:pt x="53" y="80"/>
                    </a:lnTo>
                    <a:lnTo>
                      <a:pt x="28" y="79"/>
                    </a:lnTo>
                    <a:lnTo>
                      <a:pt x="11" y="73"/>
                    </a:lnTo>
                    <a:lnTo>
                      <a:pt x="2" y="66"/>
                    </a:lnTo>
                    <a:lnTo>
                      <a:pt x="0" y="53"/>
                    </a:lnTo>
                    <a:lnTo>
                      <a:pt x="7" y="39"/>
                    </a:lnTo>
                    <a:lnTo>
                      <a:pt x="20" y="22"/>
                    </a:lnTo>
                    <a:lnTo>
                      <a:pt x="41" y="3"/>
                    </a:lnTo>
                    <a:lnTo>
                      <a:pt x="48" y="0"/>
                    </a:lnTo>
                    <a:lnTo>
                      <a:pt x="55" y="5"/>
                    </a:lnTo>
                    <a:lnTo>
                      <a:pt x="57" y="12"/>
                    </a:lnTo>
                    <a:lnTo>
                      <a:pt x="5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651800" y="5698800"/>
                <a:ext cx="112320" cy="684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63" y="20"/>
                    </a:moveTo>
                    <a:lnTo>
                      <a:pt x="54" y="24"/>
                    </a:lnTo>
                    <a:lnTo>
                      <a:pt x="48" y="29"/>
                    </a:lnTo>
                    <a:lnTo>
                      <a:pt x="41" y="35"/>
                    </a:lnTo>
                    <a:lnTo>
                      <a:pt x="36" y="41"/>
                    </a:lnTo>
                    <a:lnTo>
                      <a:pt x="30" y="48"/>
                    </a:lnTo>
                    <a:lnTo>
                      <a:pt x="28" y="55"/>
                    </a:lnTo>
                    <a:lnTo>
                      <a:pt x="26" y="63"/>
                    </a:lnTo>
                    <a:lnTo>
                      <a:pt x="26" y="72"/>
                    </a:lnTo>
                    <a:lnTo>
                      <a:pt x="23" y="73"/>
                    </a:lnTo>
                    <a:lnTo>
                      <a:pt x="16" y="69"/>
                    </a:lnTo>
                    <a:lnTo>
                      <a:pt x="11" y="63"/>
                    </a:lnTo>
                    <a:lnTo>
                      <a:pt x="13" y="59"/>
                    </a:lnTo>
                    <a:lnTo>
                      <a:pt x="30" y="58"/>
                    </a:lnTo>
                    <a:lnTo>
                      <a:pt x="47" y="56"/>
                    </a:lnTo>
                    <a:lnTo>
                      <a:pt x="62" y="53"/>
                    </a:lnTo>
                    <a:lnTo>
                      <a:pt x="77" y="50"/>
                    </a:lnTo>
                    <a:lnTo>
                      <a:pt x="90" y="44"/>
                    </a:lnTo>
                    <a:lnTo>
                      <a:pt x="102" y="40"/>
                    </a:lnTo>
                    <a:lnTo>
                      <a:pt x="115" y="35"/>
                    </a:lnTo>
                    <a:lnTo>
                      <a:pt x="128" y="30"/>
                    </a:lnTo>
                    <a:lnTo>
                      <a:pt x="137" y="30"/>
                    </a:lnTo>
                    <a:lnTo>
                      <a:pt x="142" y="38"/>
                    </a:lnTo>
                    <a:lnTo>
                      <a:pt x="142" y="46"/>
                    </a:lnTo>
                    <a:lnTo>
                      <a:pt x="136" y="52"/>
                    </a:lnTo>
                    <a:lnTo>
                      <a:pt x="122" y="56"/>
                    </a:lnTo>
                    <a:lnTo>
                      <a:pt x="108" y="62"/>
                    </a:lnTo>
                    <a:lnTo>
                      <a:pt x="94" y="67"/>
                    </a:lnTo>
                    <a:lnTo>
                      <a:pt x="81" y="73"/>
                    </a:lnTo>
                    <a:lnTo>
                      <a:pt x="65" y="77"/>
                    </a:lnTo>
                    <a:lnTo>
                      <a:pt x="50" y="81"/>
                    </a:lnTo>
                    <a:lnTo>
                      <a:pt x="31" y="83"/>
                    </a:lnTo>
                    <a:lnTo>
                      <a:pt x="13" y="85"/>
                    </a:lnTo>
                    <a:lnTo>
                      <a:pt x="7" y="84"/>
                    </a:lnTo>
                    <a:lnTo>
                      <a:pt x="4" y="82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4" y="49"/>
                    </a:lnTo>
                    <a:lnTo>
                      <a:pt x="8" y="39"/>
                    </a:lnTo>
                    <a:lnTo>
                      <a:pt x="14" y="30"/>
                    </a:lnTo>
                    <a:lnTo>
                      <a:pt x="21" y="22"/>
                    </a:lnTo>
                    <a:lnTo>
                      <a:pt x="30" y="15"/>
                    </a:lnTo>
                    <a:lnTo>
                      <a:pt x="40" y="9"/>
                    </a:lnTo>
                    <a:lnTo>
                      <a:pt x="52" y="3"/>
                    </a:lnTo>
                    <a:lnTo>
                      <a:pt x="59" y="0"/>
                    </a:lnTo>
                    <a:lnTo>
                      <a:pt x="66" y="5"/>
                    </a:lnTo>
                    <a:lnTo>
                      <a:pt x="67" y="12"/>
                    </a:lnTo>
                    <a:lnTo>
                      <a:pt x="6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7805880" y="5665680"/>
                <a:ext cx="97920" cy="46080"/>
              </a:xfrm>
              <a:custGeom>
                <a:avLst/>
                <a:gdLst/>
                <a:ahLst/>
                <a:rect l="l" t="t" r="r" b="b"/>
                <a:pathLst>
                  <a:path w="124" h="59">
                    <a:moveTo>
                      <a:pt x="45" y="17"/>
                    </a:moveTo>
                    <a:lnTo>
                      <a:pt x="35" y="19"/>
                    </a:lnTo>
                    <a:lnTo>
                      <a:pt x="29" y="21"/>
                    </a:lnTo>
                    <a:lnTo>
                      <a:pt x="24" y="22"/>
                    </a:lnTo>
                    <a:lnTo>
                      <a:pt x="23" y="25"/>
                    </a:lnTo>
                    <a:lnTo>
                      <a:pt x="22" y="26"/>
                    </a:lnTo>
                    <a:lnTo>
                      <a:pt x="23" y="31"/>
                    </a:lnTo>
                    <a:lnTo>
                      <a:pt x="24" y="37"/>
                    </a:lnTo>
                    <a:lnTo>
                      <a:pt x="27" y="47"/>
                    </a:lnTo>
                    <a:lnTo>
                      <a:pt x="24" y="48"/>
                    </a:lnTo>
                    <a:lnTo>
                      <a:pt x="17" y="46"/>
                    </a:lnTo>
                    <a:lnTo>
                      <a:pt x="12" y="41"/>
                    </a:lnTo>
                    <a:lnTo>
                      <a:pt x="13" y="38"/>
                    </a:lnTo>
                    <a:lnTo>
                      <a:pt x="83" y="17"/>
                    </a:lnTo>
                    <a:lnTo>
                      <a:pt x="114" y="6"/>
                    </a:lnTo>
                    <a:lnTo>
                      <a:pt x="119" y="6"/>
                    </a:lnTo>
                    <a:lnTo>
                      <a:pt x="124" y="9"/>
                    </a:lnTo>
                    <a:lnTo>
                      <a:pt x="124" y="14"/>
                    </a:lnTo>
                    <a:lnTo>
                      <a:pt x="120" y="20"/>
                    </a:lnTo>
                    <a:lnTo>
                      <a:pt x="90" y="36"/>
                    </a:lnTo>
                    <a:lnTo>
                      <a:pt x="19" y="59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3" y="34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5" y="11"/>
                    </a:lnTo>
                    <a:lnTo>
                      <a:pt x="13" y="10"/>
                    </a:lnTo>
                    <a:lnTo>
                      <a:pt x="23" y="6"/>
                    </a:lnTo>
                    <a:lnTo>
                      <a:pt x="40" y="2"/>
                    </a:lnTo>
                    <a:lnTo>
                      <a:pt x="45" y="0"/>
                    </a:lnTo>
                    <a:lnTo>
                      <a:pt x="49" y="6"/>
                    </a:lnTo>
                    <a:lnTo>
                      <a:pt x="48" y="11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7464600" y="5705280"/>
                <a:ext cx="105840" cy="68400"/>
              </a:xfrm>
              <a:custGeom>
                <a:avLst/>
                <a:gdLst/>
                <a:ahLst/>
                <a:rect l="l" t="t" r="r" b="b"/>
                <a:pathLst>
                  <a:path w="135" h="87">
                    <a:moveTo>
                      <a:pt x="57" y="2"/>
                    </a:moveTo>
                    <a:lnTo>
                      <a:pt x="67" y="0"/>
                    </a:lnTo>
                    <a:lnTo>
                      <a:pt x="80" y="0"/>
                    </a:lnTo>
                    <a:lnTo>
                      <a:pt x="94" y="1"/>
                    </a:lnTo>
                    <a:lnTo>
                      <a:pt x="108" y="4"/>
                    </a:lnTo>
                    <a:lnTo>
                      <a:pt x="120" y="7"/>
                    </a:lnTo>
                    <a:lnTo>
                      <a:pt x="128" y="14"/>
                    </a:lnTo>
                    <a:lnTo>
                      <a:pt x="134" y="22"/>
                    </a:lnTo>
                    <a:lnTo>
                      <a:pt x="135" y="35"/>
                    </a:lnTo>
                    <a:lnTo>
                      <a:pt x="128" y="51"/>
                    </a:lnTo>
                    <a:lnTo>
                      <a:pt x="120" y="63"/>
                    </a:lnTo>
                    <a:lnTo>
                      <a:pt x="109" y="72"/>
                    </a:lnTo>
                    <a:lnTo>
                      <a:pt x="96" y="78"/>
                    </a:lnTo>
                    <a:lnTo>
                      <a:pt x="80" y="80"/>
                    </a:lnTo>
                    <a:lnTo>
                      <a:pt x="65" y="83"/>
                    </a:lnTo>
                    <a:lnTo>
                      <a:pt x="46" y="84"/>
                    </a:lnTo>
                    <a:lnTo>
                      <a:pt x="27" y="87"/>
                    </a:lnTo>
                    <a:lnTo>
                      <a:pt x="8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5" y="63"/>
                    </a:lnTo>
                    <a:lnTo>
                      <a:pt x="13" y="63"/>
                    </a:lnTo>
                    <a:lnTo>
                      <a:pt x="28" y="68"/>
                    </a:lnTo>
                    <a:lnTo>
                      <a:pt x="44" y="65"/>
                    </a:lnTo>
                    <a:lnTo>
                      <a:pt x="59" y="65"/>
                    </a:lnTo>
                    <a:lnTo>
                      <a:pt x="71" y="64"/>
                    </a:lnTo>
                    <a:lnTo>
                      <a:pt x="85" y="63"/>
                    </a:lnTo>
                    <a:lnTo>
                      <a:pt x="95" y="59"/>
                    </a:lnTo>
                    <a:lnTo>
                      <a:pt x="104" y="54"/>
                    </a:lnTo>
                    <a:lnTo>
                      <a:pt x="110" y="44"/>
                    </a:lnTo>
                    <a:lnTo>
                      <a:pt x="117" y="32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5" y="16"/>
                    </a:lnTo>
                    <a:lnTo>
                      <a:pt x="96" y="16"/>
                    </a:lnTo>
                    <a:lnTo>
                      <a:pt x="87" y="16"/>
                    </a:lnTo>
                    <a:lnTo>
                      <a:pt x="77" y="17"/>
                    </a:lnTo>
                    <a:lnTo>
                      <a:pt x="67" y="18"/>
                    </a:lnTo>
                    <a:lnTo>
                      <a:pt x="61" y="20"/>
                    </a:lnTo>
                    <a:lnTo>
                      <a:pt x="53" y="18"/>
                    </a:lnTo>
                    <a:lnTo>
                      <a:pt x="50" y="13"/>
                    </a:lnTo>
                    <a:lnTo>
                      <a:pt x="50" y="5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270920" y="5778360"/>
                <a:ext cx="112320" cy="58680"/>
              </a:xfrm>
              <a:custGeom>
                <a:avLst/>
                <a:gdLst/>
                <a:ahLst/>
                <a:rect l="l" t="t" r="r" b="b"/>
                <a:pathLst>
                  <a:path w="142" h="74">
                    <a:moveTo>
                      <a:pt x="2" y="42"/>
                    </a:moveTo>
                    <a:lnTo>
                      <a:pt x="22" y="22"/>
                    </a:lnTo>
                    <a:lnTo>
                      <a:pt x="45" y="8"/>
                    </a:lnTo>
                    <a:lnTo>
                      <a:pt x="69" y="0"/>
                    </a:lnTo>
                    <a:lnTo>
                      <a:pt x="93" y="0"/>
                    </a:lnTo>
                    <a:lnTo>
                      <a:pt x="113" y="5"/>
                    </a:lnTo>
                    <a:lnTo>
                      <a:pt x="129" y="18"/>
                    </a:lnTo>
                    <a:lnTo>
                      <a:pt x="139" y="37"/>
                    </a:lnTo>
                    <a:lnTo>
                      <a:pt x="142" y="66"/>
                    </a:lnTo>
                    <a:lnTo>
                      <a:pt x="139" y="72"/>
                    </a:lnTo>
                    <a:lnTo>
                      <a:pt x="132" y="74"/>
                    </a:lnTo>
                    <a:lnTo>
                      <a:pt x="119" y="73"/>
                    </a:lnTo>
                    <a:lnTo>
                      <a:pt x="109" y="73"/>
                    </a:lnTo>
                    <a:lnTo>
                      <a:pt x="98" y="72"/>
                    </a:lnTo>
                    <a:lnTo>
                      <a:pt x="88" y="72"/>
                    </a:lnTo>
                    <a:lnTo>
                      <a:pt x="77" y="71"/>
                    </a:lnTo>
                    <a:lnTo>
                      <a:pt x="68" y="71"/>
                    </a:lnTo>
                    <a:lnTo>
                      <a:pt x="57" y="71"/>
                    </a:lnTo>
                    <a:lnTo>
                      <a:pt x="47" y="71"/>
                    </a:lnTo>
                    <a:lnTo>
                      <a:pt x="42" y="69"/>
                    </a:lnTo>
                    <a:lnTo>
                      <a:pt x="41" y="65"/>
                    </a:lnTo>
                    <a:lnTo>
                      <a:pt x="42" y="59"/>
                    </a:lnTo>
                    <a:lnTo>
                      <a:pt x="47" y="58"/>
                    </a:lnTo>
                    <a:lnTo>
                      <a:pt x="57" y="57"/>
                    </a:lnTo>
                    <a:lnTo>
                      <a:pt x="68" y="57"/>
                    </a:lnTo>
                    <a:lnTo>
                      <a:pt x="77" y="56"/>
                    </a:lnTo>
                    <a:lnTo>
                      <a:pt x="88" y="56"/>
                    </a:lnTo>
                    <a:lnTo>
                      <a:pt x="98" y="55"/>
                    </a:lnTo>
                    <a:lnTo>
                      <a:pt x="109" y="55"/>
                    </a:lnTo>
                    <a:lnTo>
                      <a:pt x="119" y="55"/>
                    </a:lnTo>
                    <a:lnTo>
                      <a:pt x="132" y="55"/>
                    </a:lnTo>
                    <a:lnTo>
                      <a:pt x="132" y="56"/>
                    </a:lnTo>
                    <a:lnTo>
                      <a:pt x="129" y="62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42"/>
                    </a:lnTo>
                    <a:lnTo>
                      <a:pt x="113" y="28"/>
                    </a:lnTo>
                    <a:lnTo>
                      <a:pt x="100" y="19"/>
                    </a:lnTo>
                    <a:lnTo>
                      <a:pt x="84" y="16"/>
                    </a:lnTo>
                    <a:lnTo>
                      <a:pt x="66" y="18"/>
                    </a:lnTo>
                    <a:lnTo>
                      <a:pt x="47" y="24"/>
                    </a:lnTo>
                    <a:lnTo>
                      <a:pt x="29" y="36"/>
                    </a:lnTo>
                    <a:lnTo>
                      <a:pt x="14" y="52"/>
                    </a:lnTo>
                    <a:lnTo>
                      <a:pt x="8" y="54"/>
                    </a:lnTo>
                    <a:lnTo>
                      <a:pt x="3" y="52"/>
                    </a:lnTo>
                    <a:lnTo>
                      <a:pt x="0" y="47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196040" y="5749920"/>
                <a:ext cx="93240" cy="63360"/>
              </a:xfrm>
              <a:custGeom>
                <a:avLst/>
                <a:gdLst/>
                <a:ahLst/>
                <a:rect l="l" t="t" r="r" b="b"/>
                <a:pathLst>
                  <a:path w="120" h="80">
                    <a:moveTo>
                      <a:pt x="5" y="46"/>
                    </a:moveTo>
                    <a:lnTo>
                      <a:pt x="14" y="36"/>
                    </a:lnTo>
                    <a:lnTo>
                      <a:pt x="24" y="28"/>
                    </a:lnTo>
                    <a:lnTo>
                      <a:pt x="35" y="18"/>
                    </a:lnTo>
                    <a:lnTo>
                      <a:pt x="48" y="11"/>
                    </a:lnTo>
                    <a:lnTo>
                      <a:pt x="59" y="3"/>
                    </a:lnTo>
                    <a:lnTo>
                      <a:pt x="73" y="0"/>
                    </a:lnTo>
                    <a:lnTo>
                      <a:pt x="86" y="0"/>
                    </a:lnTo>
                    <a:lnTo>
                      <a:pt x="102" y="4"/>
                    </a:lnTo>
                    <a:lnTo>
                      <a:pt x="115" y="13"/>
                    </a:lnTo>
                    <a:lnTo>
                      <a:pt x="120" y="23"/>
                    </a:lnTo>
                    <a:lnTo>
                      <a:pt x="116" y="35"/>
                    </a:lnTo>
                    <a:lnTo>
                      <a:pt x="109" y="47"/>
                    </a:lnTo>
                    <a:lnTo>
                      <a:pt x="96" y="58"/>
                    </a:lnTo>
                    <a:lnTo>
                      <a:pt x="83" y="67"/>
                    </a:lnTo>
                    <a:lnTo>
                      <a:pt x="70" y="75"/>
                    </a:lnTo>
                    <a:lnTo>
                      <a:pt x="60" y="80"/>
                    </a:lnTo>
                    <a:lnTo>
                      <a:pt x="41" y="78"/>
                    </a:lnTo>
                    <a:lnTo>
                      <a:pt x="34" y="74"/>
                    </a:lnTo>
                    <a:lnTo>
                      <a:pt x="31" y="70"/>
                    </a:lnTo>
                    <a:lnTo>
                      <a:pt x="34" y="63"/>
                    </a:lnTo>
                    <a:lnTo>
                      <a:pt x="41" y="61"/>
                    </a:lnTo>
                    <a:lnTo>
                      <a:pt x="57" y="59"/>
                    </a:lnTo>
                    <a:lnTo>
                      <a:pt x="64" y="56"/>
                    </a:lnTo>
                    <a:lnTo>
                      <a:pt x="73" y="52"/>
                    </a:lnTo>
                    <a:lnTo>
                      <a:pt x="83" y="47"/>
                    </a:lnTo>
                    <a:lnTo>
                      <a:pt x="94" y="43"/>
                    </a:lnTo>
                    <a:lnTo>
                      <a:pt x="100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5" y="21"/>
                    </a:lnTo>
                    <a:lnTo>
                      <a:pt x="82" y="17"/>
                    </a:lnTo>
                    <a:lnTo>
                      <a:pt x="70" y="18"/>
                    </a:lnTo>
                    <a:lnTo>
                      <a:pt x="59" y="21"/>
                    </a:lnTo>
                    <a:lnTo>
                      <a:pt x="50" y="29"/>
                    </a:lnTo>
                    <a:lnTo>
                      <a:pt x="40" y="35"/>
                    </a:lnTo>
                    <a:lnTo>
                      <a:pt x="31" y="44"/>
                    </a:lnTo>
                    <a:lnTo>
                      <a:pt x="23" y="51"/>
                    </a:lnTo>
                    <a:lnTo>
                      <a:pt x="15" y="59"/>
                    </a:lnTo>
                    <a:lnTo>
                      <a:pt x="8" y="60"/>
                    </a:lnTo>
                    <a:lnTo>
                      <a:pt x="3" y="57"/>
                    </a:lnTo>
                    <a:lnTo>
                      <a:pt x="0" y="51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7295760" y="5735520"/>
                <a:ext cx="107640" cy="7452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9" y="90"/>
                    </a:moveTo>
                    <a:lnTo>
                      <a:pt x="1" y="66"/>
                    </a:lnTo>
                    <a:lnTo>
                      <a:pt x="0" y="50"/>
                    </a:lnTo>
                    <a:lnTo>
                      <a:pt x="3" y="36"/>
                    </a:lnTo>
                    <a:lnTo>
                      <a:pt x="11" y="26"/>
                    </a:lnTo>
                    <a:lnTo>
                      <a:pt x="22" y="18"/>
                    </a:lnTo>
                    <a:lnTo>
                      <a:pt x="38" y="11"/>
                    </a:lnTo>
                    <a:lnTo>
                      <a:pt x="56" y="5"/>
                    </a:lnTo>
                    <a:lnTo>
                      <a:pt x="79" y="0"/>
                    </a:lnTo>
                    <a:lnTo>
                      <a:pt x="86" y="2"/>
                    </a:lnTo>
                    <a:lnTo>
                      <a:pt x="94" y="5"/>
                    </a:lnTo>
                    <a:lnTo>
                      <a:pt x="100" y="7"/>
                    </a:lnTo>
                    <a:lnTo>
                      <a:pt x="107" y="10"/>
                    </a:lnTo>
                    <a:lnTo>
                      <a:pt x="112" y="12"/>
                    </a:lnTo>
                    <a:lnTo>
                      <a:pt x="117" y="17"/>
                    </a:lnTo>
                    <a:lnTo>
                      <a:pt x="124" y="21"/>
                    </a:lnTo>
                    <a:lnTo>
                      <a:pt x="132" y="27"/>
                    </a:lnTo>
                    <a:lnTo>
                      <a:pt x="137" y="34"/>
                    </a:lnTo>
                    <a:lnTo>
                      <a:pt x="135" y="41"/>
                    </a:lnTo>
                    <a:lnTo>
                      <a:pt x="114" y="65"/>
                    </a:lnTo>
                    <a:lnTo>
                      <a:pt x="95" y="70"/>
                    </a:lnTo>
                    <a:lnTo>
                      <a:pt x="86" y="68"/>
                    </a:lnTo>
                    <a:lnTo>
                      <a:pt x="82" y="63"/>
                    </a:lnTo>
                    <a:lnTo>
                      <a:pt x="82" y="55"/>
                    </a:lnTo>
                    <a:lnTo>
                      <a:pt x="89" y="52"/>
                    </a:lnTo>
                    <a:lnTo>
                      <a:pt x="105" y="49"/>
                    </a:lnTo>
                    <a:lnTo>
                      <a:pt x="119" y="29"/>
                    </a:lnTo>
                    <a:lnTo>
                      <a:pt x="121" y="29"/>
                    </a:lnTo>
                    <a:lnTo>
                      <a:pt x="123" y="35"/>
                    </a:lnTo>
                    <a:lnTo>
                      <a:pt x="122" y="40"/>
                    </a:lnTo>
                    <a:lnTo>
                      <a:pt x="121" y="42"/>
                    </a:lnTo>
                    <a:lnTo>
                      <a:pt x="113" y="36"/>
                    </a:lnTo>
                    <a:lnTo>
                      <a:pt x="108" y="33"/>
                    </a:lnTo>
                    <a:lnTo>
                      <a:pt x="103" y="30"/>
                    </a:lnTo>
                    <a:lnTo>
                      <a:pt x="99" y="27"/>
                    </a:lnTo>
                    <a:lnTo>
                      <a:pt x="94" y="24"/>
                    </a:lnTo>
                    <a:lnTo>
                      <a:pt x="89" y="22"/>
                    </a:lnTo>
                    <a:lnTo>
                      <a:pt x="84" y="20"/>
                    </a:lnTo>
                    <a:lnTo>
                      <a:pt x="78" y="18"/>
                    </a:lnTo>
                    <a:lnTo>
                      <a:pt x="59" y="22"/>
                    </a:lnTo>
                    <a:lnTo>
                      <a:pt x="45" y="26"/>
                    </a:lnTo>
                    <a:lnTo>
                      <a:pt x="34" y="31"/>
                    </a:lnTo>
                    <a:lnTo>
                      <a:pt x="25" y="37"/>
                    </a:lnTo>
                    <a:lnTo>
                      <a:pt x="18" y="44"/>
                    </a:lnTo>
                    <a:lnTo>
                      <a:pt x="16" y="54"/>
                    </a:lnTo>
                    <a:lnTo>
                      <a:pt x="16" y="67"/>
                    </a:lnTo>
                    <a:lnTo>
                      <a:pt x="23" y="85"/>
                    </a:lnTo>
                    <a:lnTo>
                      <a:pt x="22" y="91"/>
                    </a:lnTo>
                    <a:lnTo>
                      <a:pt x="18" y="94"/>
                    </a:lnTo>
                    <a:lnTo>
                      <a:pt x="12" y="93"/>
                    </a:lnTo>
                    <a:lnTo>
                      <a:pt x="9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7211880" y="5719680"/>
                <a:ext cx="117000" cy="50760"/>
              </a:xfrm>
              <a:custGeom>
                <a:avLst/>
                <a:gdLst/>
                <a:ahLst/>
                <a:rect l="l" t="t" r="r" b="b"/>
                <a:pathLst>
                  <a:path w="147" h="65">
                    <a:moveTo>
                      <a:pt x="12" y="37"/>
                    </a:moveTo>
                    <a:lnTo>
                      <a:pt x="25" y="28"/>
                    </a:lnTo>
                    <a:lnTo>
                      <a:pt x="38" y="21"/>
                    </a:lnTo>
                    <a:lnTo>
                      <a:pt x="52" y="14"/>
                    </a:lnTo>
                    <a:lnTo>
                      <a:pt x="69" y="9"/>
                    </a:lnTo>
                    <a:lnTo>
                      <a:pt x="85" y="3"/>
                    </a:lnTo>
                    <a:lnTo>
                      <a:pt x="102" y="1"/>
                    </a:lnTo>
                    <a:lnTo>
                      <a:pt x="120" y="0"/>
                    </a:lnTo>
                    <a:lnTo>
                      <a:pt x="140" y="2"/>
                    </a:lnTo>
                    <a:lnTo>
                      <a:pt x="144" y="2"/>
                    </a:lnTo>
                    <a:lnTo>
                      <a:pt x="147" y="6"/>
                    </a:lnTo>
                    <a:lnTo>
                      <a:pt x="147" y="9"/>
                    </a:lnTo>
                    <a:lnTo>
                      <a:pt x="146" y="15"/>
                    </a:lnTo>
                    <a:lnTo>
                      <a:pt x="140" y="24"/>
                    </a:lnTo>
                    <a:lnTo>
                      <a:pt x="136" y="32"/>
                    </a:lnTo>
                    <a:lnTo>
                      <a:pt x="132" y="38"/>
                    </a:lnTo>
                    <a:lnTo>
                      <a:pt x="129" y="44"/>
                    </a:lnTo>
                    <a:lnTo>
                      <a:pt x="123" y="49"/>
                    </a:lnTo>
                    <a:lnTo>
                      <a:pt x="119" y="53"/>
                    </a:lnTo>
                    <a:lnTo>
                      <a:pt x="113" y="56"/>
                    </a:lnTo>
                    <a:lnTo>
                      <a:pt x="106" y="61"/>
                    </a:lnTo>
                    <a:lnTo>
                      <a:pt x="92" y="62"/>
                    </a:lnTo>
                    <a:lnTo>
                      <a:pt x="79" y="64"/>
                    </a:lnTo>
                    <a:lnTo>
                      <a:pt x="66" y="64"/>
                    </a:lnTo>
                    <a:lnTo>
                      <a:pt x="56" y="65"/>
                    </a:lnTo>
                    <a:lnTo>
                      <a:pt x="43" y="64"/>
                    </a:lnTo>
                    <a:lnTo>
                      <a:pt x="31" y="64"/>
                    </a:lnTo>
                    <a:lnTo>
                      <a:pt x="18" y="62"/>
                    </a:lnTo>
                    <a:lnTo>
                      <a:pt x="5" y="61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7" y="49"/>
                    </a:lnTo>
                    <a:lnTo>
                      <a:pt x="19" y="49"/>
                    </a:lnTo>
                    <a:lnTo>
                      <a:pt x="32" y="50"/>
                    </a:lnTo>
                    <a:lnTo>
                      <a:pt x="43" y="49"/>
                    </a:lnTo>
                    <a:lnTo>
                      <a:pt x="54" y="47"/>
                    </a:lnTo>
                    <a:lnTo>
                      <a:pt x="63" y="45"/>
                    </a:lnTo>
                    <a:lnTo>
                      <a:pt x="75" y="44"/>
                    </a:lnTo>
                    <a:lnTo>
                      <a:pt x="86" y="42"/>
                    </a:lnTo>
                    <a:lnTo>
                      <a:pt x="100" y="41"/>
                    </a:lnTo>
                    <a:lnTo>
                      <a:pt x="105" y="37"/>
                    </a:lnTo>
                    <a:lnTo>
                      <a:pt x="111" y="33"/>
                    </a:lnTo>
                    <a:lnTo>
                      <a:pt x="114" y="30"/>
                    </a:lnTo>
                    <a:lnTo>
                      <a:pt x="118" y="28"/>
                    </a:lnTo>
                    <a:lnTo>
                      <a:pt x="120" y="24"/>
                    </a:lnTo>
                    <a:lnTo>
                      <a:pt x="122" y="20"/>
                    </a:lnTo>
                    <a:lnTo>
                      <a:pt x="126" y="13"/>
                    </a:lnTo>
                    <a:lnTo>
                      <a:pt x="131" y="7"/>
                    </a:lnTo>
                    <a:lnTo>
                      <a:pt x="134" y="6"/>
                    </a:lnTo>
                    <a:lnTo>
                      <a:pt x="139" y="11"/>
                    </a:lnTo>
                    <a:lnTo>
                      <a:pt x="140" y="16"/>
                    </a:lnTo>
                    <a:lnTo>
                      <a:pt x="137" y="20"/>
                    </a:lnTo>
                    <a:lnTo>
                      <a:pt x="119" y="17"/>
                    </a:lnTo>
                    <a:lnTo>
                      <a:pt x="103" y="17"/>
                    </a:lnTo>
                    <a:lnTo>
                      <a:pt x="87" y="18"/>
                    </a:lnTo>
                    <a:lnTo>
                      <a:pt x="72" y="23"/>
                    </a:lnTo>
                    <a:lnTo>
                      <a:pt x="57" y="26"/>
                    </a:lnTo>
                    <a:lnTo>
                      <a:pt x="43" y="32"/>
                    </a:lnTo>
                    <a:lnTo>
                      <a:pt x="30" y="39"/>
                    </a:lnTo>
                    <a:lnTo>
                      <a:pt x="18" y="46"/>
                    </a:lnTo>
                    <a:lnTo>
                      <a:pt x="13" y="46"/>
                    </a:lnTo>
                    <a:lnTo>
                      <a:pt x="9" y="44"/>
                    </a:lnTo>
                    <a:lnTo>
                      <a:pt x="8" y="40"/>
                    </a:lnTo>
                    <a:lnTo>
                      <a:pt x="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404120" y="5756040"/>
                <a:ext cx="96480" cy="58680"/>
              </a:xfrm>
              <a:custGeom>
                <a:avLst/>
                <a:gdLst/>
                <a:ahLst/>
                <a:rect l="l" t="t" r="r" b="b"/>
                <a:pathLst>
                  <a:path w="121" h="73">
                    <a:moveTo>
                      <a:pt x="61" y="6"/>
                    </a:moveTo>
                    <a:lnTo>
                      <a:pt x="92" y="0"/>
                    </a:lnTo>
                    <a:lnTo>
                      <a:pt x="112" y="3"/>
                    </a:lnTo>
                    <a:lnTo>
                      <a:pt x="121" y="9"/>
                    </a:lnTo>
                    <a:lnTo>
                      <a:pt x="121" y="20"/>
                    </a:lnTo>
                    <a:lnTo>
                      <a:pt x="112" y="32"/>
                    </a:lnTo>
                    <a:lnTo>
                      <a:pt x="96" y="47"/>
                    </a:lnTo>
                    <a:lnTo>
                      <a:pt x="74" y="59"/>
                    </a:lnTo>
                    <a:lnTo>
                      <a:pt x="47" y="73"/>
                    </a:lnTo>
                    <a:lnTo>
                      <a:pt x="34" y="72"/>
                    </a:lnTo>
                    <a:lnTo>
                      <a:pt x="29" y="71"/>
                    </a:lnTo>
                    <a:lnTo>
                      <a:pt x="27" y="71"/>
                    </a:lnTo>
                    <a:lnTo>
                      <a:pt x="25" y="70"/>
                    </a:lnTo>
                    <a:lnTo>
                      <a:pt x="24" y="69"/>
                    </a:lnTo>
                    <a:lnTo>
                      <a:pt x="19" y="68"/>
                    </a:lnTo>
                    <a:lnTo>
                      <a:pt x="8" y="67"/>
                    </a:lnTo>
                    <a:lnTo>
                      <a:pt x="1" y="63"/>
                    </a:lnTo>
                    <a:lnTo>
                      <a:pt x="0" y="56"/>
                    </a:lnTo>
                    <a:lnTo>
                      <a:pt x="3" y="50"/>
                    </a:lnTo>
                    <a:lnTo>
                      <a:pt x="12" y="49"/>
                    </a:lnTo>
                    <a:lnTo>
                      <a:pt x="20" y="49"/>
                    </a:lnTo>
                    <a:lnTo>
                      <a:pt x="25" y="50"/>
                    </a:lnTo>
                    <a:lnTo>
                      <a:pt x="27" y="50"/>
                    </a:lnTo>
                    <a:lnTo>
                      <a:pt x="27" y="51"/>
                    </a:lnTo>
                    <a:lnTo>
                      <a:pt x="25" y="50"/>
                    </a:lnTo>
                    <a:lnTo>
                      <a:pt x="27" y="49"/>
                    </a:lnTo>
                    <a:lnTo>
                      <a:pt x="31" y="49"/>
                    </a:lnTo>
                    <a:lnTo>
                      <a:pt x="43" y="50"/>
                    </a:lnTo>
                    <a:lnTo>
                      <a:pt x="58" y="42"/>
                    </a:lnTo>
                    <a:lnTo>
                      <a:pt x="72" y="36"/>
                    </a:lnTo>
                    <a:lnTo>
                      <a:pt x="82" y="29"/>
                    </a:lnTo>
                    <a:lnTo>
                      <a:pt x="90" y="25"/>
                    </a:lnTo>
                    <a:lnTo>
                      <a:pt x="92" y="20"/>
                    </a:lnTo>
                    <a:lnTo>
                      <a:pt x="90" y="18"/>
                    </a:lnTo>
                    <a:lnTo>
                      <a:pt x="80" y="18"/>
                    </a:lnTo>
                    <a:lnTo>
                      <a:pt x="64" y="21"/>
                    </a:lnTo>
                    <a:lnTo>
                      <a:pt x="57" y="19"/>
                    </a:lnTo>
                    <a:lnTo>
                      <a:pt x="55" y="14"/>
                    </a:lnTo>
                    <a:lnTo>
                      <a:pt x="55" y="9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7128000" y="5709960"/>
                <a:ext cx="90000" cy="69840"/>
              </a:xfrm>
              <a:custGeom>
                <a:avLst/>
                <a:gdLst/>
                <a:ahLst/>
                <a:rect l="l" t="t" r="r" b="b"/>
                <a:pathLst>
                  <a:path w="114" h="89">
                    <a:moveTo>
                      <a:pt x="44" y="12"/>
                    </a:moveTo>
                    <a:lnTo>
                      <a:pt x="48" y="10"/>
                    </a:lnTo>
                    <a:lnTo>
                      <a:pt x="56" y="8"/>
                    </a:lnTo>
                    <a:lnTo>
                      <a:pt x="62" y="6"/>
                    </a:lnTo>
                    <a:lnTo>
                      <a:pt x="71" y="5"/>
                    </a:lnTo>
                    <a:lnTo>
                      <a:pt x="78" y="1"/>
                    </a:lnTo>
                    <a:lnTo>
                      <a:pt x="87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3" y="4"/>
                    </a:lnTo>
                    <a:lnTo>
                      <a:pt x="114" y="7"/>
                    </a:lnTo>
                    <a:lnTo>
                      <a:pt x="114" y="13"/>
                    </a:lnTo>
                    <a:lnTo>
                      <a:pt x="105" y="34"/>
                    </a:lnTo>
                    <a:lnTo>
                      <a:pt x="99" y="51"/>
                    </a:lnTo>
                    <a:lnTo>
                      <a:pt x="90" y="65"/>
                    </a:lnTo>
                    <a:lnTo>
                      <a:pt x="80" y="77"/>
                    </a:lnTo>
                    <a:lnTo>
                      <a:pt x="67" y="84"/>
                    </a:lnTo>
                    <a:lnTo>
                      <a:pt x="52" y="88"/>
                    </a:lnTo>
                    <a:lnTo>
                      <a:pt x="32" y="89"/>
                    </a:lnTo>
                    <a:lnTo>
                      <a:pt x="9" y="87"/>
                    </a:lnTo>
                    <a:lnTo>
                      <a:pt x="1" y="82"/>
                    </a:lnTo>
                    <a:lnTo>
                      <a:pt x="0" y="74"/>
                    </a:lnTo>
                    <a:lnTo>
                      <a:pt x="3" y="67"/>
                    </a:lnTo>
                    <a:lnTo>
                      <a:pt x="13" y="66"/>
                    </a:lnTo>
                    <a:lnTo>
                      <a:pt x="31" y="66"/>
                    </a:lnTo>
                    <a:lnTo>
                      <a:pt x="46" y="66"/>
                    </a:lnTo>
                    <a:lnTo>
                      <a:pt x="58" y="63"/>
                    </a:lnTo>
                    <a:lnTo>
                      <a:pt x="67" y="57"/>
                    </a:lnTo>
                    <a:lnTo>
                      <a:pt x="74" y="48"/>
                    </a:lnTo>
                    <a:lnTo>
                      <a:pt x="81" y="37"/>
                    </a:lnTo>
                    <a:lnTo>
                      <a:pt x="87" y="24"/>
                    </a:lnTo>
                    <a:lnTo>
                      <a:pt x="93" y="8"/>
                    </a:lnTo>
                    <a:lnTo>
                      <a:pt x="96" y="6"/>
                    </a:lnTo>
                    <a:lnTo>
                      <a:pt x="103" y="11"/>
                    </a:lnTo>
                    <a:lnTo>
                      <a:pt x="105" y="17"/>
                    </a:lnTo>
                    <a:lnTo>
                      <a:pt x="103" y="21"/>
                    </a:lnTo>
                    <a:lnTo>
                      <a:pt x="95" y="21"/>
                    </a:lnTo>
                    <a:lnTo>
                      <a:pt x="88" y="21"/>
                    </a:lnTo>
                    <a:lnTo>
                      <a:pt x="80" y="21"/>
                    </a:lnTo>
                    <a:lnTo>
                      <a:pt x="74" y="22"/>
                    </a:lnTo>
                    <a:lnTo>
                      <a:pt x="65" y="22"/>
                    </a:lnTo>
                    <a:lnTo>
                      <a:pt x="59" y="24"/>
                    </a:lnTo>
                    <a:lnTo>
                      <a:pt x="52" y="25"/>
                    </a:lnTo>
                    <a:lnTo>
                      <a:pt x="48" y="27"/>
                    </a:lnTo>
                    <a:lnTo>
                      <a:pt x="41" y="26"/>
                    </a:lnTo>
                    <a:lnTo>
                      <a:pt x="37" y="22"/>
                    </a:lnTo>
                    <a:lnTo>
                      <a:pt x="37" y="16"/>
                    </a:ln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040160" y="569088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153" h="82">
                    <a:moveTo>
                      <a:pt x="68" y="0"/>
                    </a:moveTo>
                    <a:lnTo>
                      <a:pt x="104" y="2"/>
                    </a:lnTo>
                    <a:lnTo>
                      <a:pt x="131" y="8"/>
                    </a:lnTo>
                    <a:lnTo>
                      <a:pt x="147" y="18"/>
                    </a:lnTo>
                    <a:lnTo>
                      <a:pt x="153" y="31"/>
                    </a:lnTo>
                    <a:lnTo>
                      <a:pt x="150" y="44"/>
                    </a:lnTo>
                    <a:lnTo>
                      <a:pt x="137" y="58"/>
                    </a:lnTo>
                    <a:lnTo>
                      <a:pt x="115" y="70"/>
                    </a:lnTo>
                    <a:lnTo>
                      <a:pt x="83" y="82"/>
                    </a:lnTo>
                    <a:lnTo>
                      <a:pt x="66" y="81"/>
                    </a:lnTo>
                    <a:lnTo>
                      <a:pt x="53" y="80"/>
                    </a:lnTo>
                    <a:lnTo>
                      <a:pt x="43" y="79"/>
                    </a:lnTo>
                    <a:lnTo>
                      <a:pt x="34" y="78"/>
                    </a:lnTo>
                    <a:lnTo>
                      <a:pt x="25" y="76"/>
                    </a:lnTo>
                    <a:lnTo>
                      <a:pt x="18" y="74"/>
                    </a:lnTo>
                    <a:lnTo>
                      <a:pt x="11" y="72"/>
                    </a:lnTo>
                    <a:lnTo>
                      <a:pt x="6" y="72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58"/>
                    </a:lnTo>
                    <a:lnTo>
                      <a:pt x="9" y="57"/>
                    </a:lnTo>
                    <a:lnTo>
                      <a:pt x="15" y="57"/>
                    </a:lnTo>
                    <a:lnTo>
                      <a:pt x="21" y="58"/>
                    </a:lnTo>
                    <a:lnTo>
                      <a:pt x="28" y="59"/>
                    </a:lnTo>
                    <a:lnTo>
                      <a:pt x="35" y="60"/>
                    </a:lnTo>
                    <a:lnTo>
                      <a:pt x="43" y="61"/>
                    </a:lnTo>
                    <a:lnTo>
                      <a:pt x="52" y="62"/>
                    </a:lnTo>
                    <a:lnTo>
                      <a:pt x="64" y="62"/>
                    </a:lnTo>
                    <a:lnTo>
                      <a:pt x="80" y="63"/>
                    </a:lnTo>
                    <a:lnTo>
                      <a:pt x="99" y="56"/>
                    </a:lnTo>
                    <a:lnTo>
                      <a:pt x="111" y="48"/>
                    </a:lnTo>
                    <a:lnTo>
                      <a:pt x="118" y="39"/>
                    </a:lnTo>
                    <a:lnTo>
                      <a:pt x="121" y="32"/>
                    </a:lnTo>
                    <a:lnTo>
                      <a:pt x="116" y="23"/>
                    </a:lnTo>
                    <a:lnTo>
                      <a:pt x="106" y="18"/>
                    </a:lnTo>
                    <a:lnTo>
                      <a:pt x="90" y="14"/>
                    </a:lnTo>
                    <a:lnTo>
                      <a:pt x="68" y="14"/>
                    </a:lnTo>
                    <a:lnTo>
                      <a:pt x="62" y="10"/>
                    </a:lnTo>
                    <a:lnTo>
                      <a:pt x="61" y="6"/>
                    </a:lnTo>
                    <a:lnTo>
                      <a:pt x="62" y="1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6978240" y="5657760"/>
                <a:ext cx="106200" cy="73080"/>
              </a:xfrm>
              <a:custGeom>
                <a:avLst/>
                <a:gdLst/>
                <a:ahLst/>
                <a:rect l="l" t="t" r="r" b="b"/>
                <a:pathLst>
                  <a:path w="135" h="90">
                    <a:moveTo>
                      <a:pt x="28" y="6"/>
                    </a:moveTo>
                    <a:lnTo>
                      <a:pt x="34" y="4"/>
                    </a:lnTo>
                    <a:lnTo>
                      <a:pt x="50" y="3"/>
                    </a:lnTo>
                    <a:lnTo>
                      <a:pt x="70" y="0"/>
                    </a:lnTo>
                    <a:lnTo>
                      <a:pt x="95" y="1"/>
                    </a:lnTo>
                    <a:lnTo>
                      <a:pt x="115" y="3"/>
                    </a:lnTo>
                    <a:lnTo>
                      <a:pt x="130" y="12"/>
                    </a:lnTo>
                    <a:lnTo>
                      <a:pt x="135" y="25"/>
                    </a:lnTo>
                    <a:lnTo>
                      <a:pt x="127" y="46"/>
                    </a:lnTo>
                    <a:lnTo>
                      <a:pt x="116" y="56"/>
                    </a:lnTo>
                    <a:lnTo>
                      <a:pt x="105" y="65"/>
                    </a:lnTo>
                    <a:lnTo>
                      <a:pt x="91" y="72"/>
                    </a:lnTo>
                    <a:lnTo>
                      <a:pt x="78" y="77"/>
                    </a:lnTo>
                    <a:lnTo>
                      <a:pt x="62" y="80"/>
                    </a:lnTo>
                    <a:lnTo>
                      <a:pt x="46" y="85"/>
                    </a:lnTo>
                    <a:lnTo>
                      <a:pt x="29" y="87"/>
                    </a:lnTo>
                    <a:lnTo>
                      <a:pt x="14" y="90"/>
                    </a:lnTo>
                    <a:lnTo>
                      <a:pt x="8" y="89"/>
                    </a:lnTo>
                    <a:lnTo>
                      <a:pt x="4" y="87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1" y="72"/>
                    </a:lnTo>
                    <a:lnTo>
                      <a:pt x="10" y="68"/>
                    </a:lnTo>
                    <a:lnTo>
                      <a:pt x="24" y="64"/>
                    </a:lnTo>
                    <a:lnTo>
                      <a:pt x="38" y="63"/>
                    </a:lnTo>
                    <a:lnTo>
                      <a:pt x="52" y="61"/>
                    </a:lnTo>
                    <a:lnTo>
                      <a:pt x="66" y="59"/>
                    </a:lnTo>
                    <a:lnTo>
                      <a:pt x="78" y="55"/>
                    </a:lnTo>
                    <a:lnTo>
                      <a:pt x="91" y="49"/>
                    </a:lnTo>
                    <a:lnTo>
                      <a:pt x="100" y="43"/>
                    </a:lnTo>
                    <a:lnTo>
                      <a:pt x="110" y="34"/>
                    </a:lnTo>
                    <a:lnTo>
                      <a:pt x="115" y="18"/>
                    </a:lnTo>
                    <a:lnTo>
                      <a:pt x="111" y="11"/>
                    </a:lnTo>
                    <a:lnTo>
                      <a:pt x="99" y="6"/>
                    </a:lnTo>
                    <a:lnTo>
                      <a:pt x="83" y="8"/>
                    </a:lnTo>
                    <a:lnTo>
                      <a:pt x="65" y="11"/>
                    </a:lnTo>
                    <a:lnTo>
                      <a:pt x="48" y="15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5" y="19"/>
                    </a:lnTo>
                    <a:lnTo>
                      <a:pt x="22" y="15"/>
                    </a:lnTo>
                    <a:lnTo>
                      <a:pt x="23" y="8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113240" y="5634000"/>
                <a:ext cx="106200" cy="63360"/>
              </a:xfrm>
              <a:custGeom>
                <a:avLst/>
                <a:gdLst/>
                <a:ahLst/>
                <a:rect l="l" t="t" r="r" b="b"/>
                <a:pathLst>
                  <a:path w="133" h="80">
                    <a:moveTo>
                      <a:pt x="60" y="6"/>
                    </a:moveTo>
                    <a:lnTo>
                      <a:pt x="81" y="2"/>
                    </a:lnTo>
                    <a:lnTo>
                      <a:pt x="98" y="0"/>
                    </a:lnTo>
                    <a:lnTo>
                      <a:pt x="111" y="1"/>
                    </a:lnTo>
                    <a:lnTo>
                      <a:pt x="121" y="6"/>
                    </a:lnTo>
                    <a:lnTo>
                      <a:pt x="126" y="14"/>
                    </a:lnTo>
                    <a:lnTo>
                      <a:pt x="130" y="28"/>
                    </a:lnTo>
                    <a:lnTo>
                      <a:pt x="132" y="46"/>
                    </a:lnTo>
                    <a:lnTo>
                      <a:pt x="133" y="71"/>
                    </a:lnTo>
                    <a:lnTo>
                      <a:pt x="130" y="77"/>
                    </a:lnTo>
                    <a:lnTo>
                      <a:pt x="123" y="80"/>
                    </a:lnTo>
                    <a:lnTo>
                      <a:pt x="104" y="80"/>
                    </a:lnTo>
                    <a:lnTo>
                      <a:pt x="87" y="80"/>
                    </a:lnTo>
                    <a:lnTo>
                      <a:pt x="69" y="80"/>
                    </a:lnTo>
                    <a:lnTo>
                      <a:pt x="53" y="80"/>
                    </a:lnTo>
                    <a:lnTo>
                      <a:pt x="37" y="78"/>
                    </a:lnTo>
                    <a:lnTo>
                      <a:pt x="24" y="75"/>
                    </a:lnTo>
                    <a:lnTo>
                      <a:pt x="11" y="69"/>
                    </a:lnTo>
                    <a:lnTo>
                      <a:pt x="3" y="63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7" y="48"/>
                    </a:lnTo>
                    <a:lnTo>
                      <a:pt x="15" y="51"/>
                    </a:lnTo>
                    <a:lnTo>
                      <a:pt x="23" y="58"/>
                    </a:lnTo>
                    <a:lnTo>
                      <a:pt x="34" y="62"/>
                    </a:lnTo>
                    <a:lnTo>
                      <a:pt x="46" y="63"/>
                    </a:lnTo>
                    <a:lnTo>
                      <a:pt x="61" y="64"/>
                    </a:lnTo>
                    <a:lnTo>
                      <a:pt x="75" y="63"/>
                    </a:lnTo>
                    <a:lnTo>
                      <a:pt x="90" y="63"/>
                    </a:lnTo>
                    <a:lnTo>
                      <a:pt x="106" y="62"/>
                    </a:lnTo>
                    <a:lnTo>
                      <a:pt x="123" y="62"/>
                    </a:lnTo>
                    <a:lnTo>
                      <a:pt x="124" y="63"/>
                    </a:lnTo>
                    <a:lnTo>
                      <a:pt x="121" y="68"/>
                    </a:lnTo>
                    <a:lnTo>
                      <a:pt x="116" y="72"/>
                    </a:lnTo>
                    <a:lnTo>
                      <a:pt x="115" y="71"/>
                    </a:lnTo>
                    <a:lnTo>
                      <a:pt x="114" y="51"/>
                    </a:lnTo>
                    <a:lnTo>
                      <a:pt x="112" y="38"/>
                    </a:lnTo>
                    <a:lnTo>
                      <a:pt x="110" y="29"/>
                    </a:lnTo>
                    <a:lnTo>
                      <a:pt x="107" y="22"/>
                    </a:lnTo>
                    <a:lnTo>
                      <a:pt x="100" y="18"/>
                    </a:lnTo>
                    <a:lnTo>
                      <a:pt x="91" y="17"/>
                    </a:lnTo>
                    <a:lnTo>
                      <a:pt x="78" y="18"/>
                    </a:lnTo>
                    <a:lnTo>
                      <a:pt x="62" y="21"/>
                    </a:lnTo>
                    <a:lnTo>
                      <a:pt x="55" y="19"/>
                    </a:lnTo>
                    <a:lnTo>
                      <a:pt x="53" y="15"/>
                    </a:lnTo>
                    <a:lnTo>
                      <a:pt x="53" y="8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 flipH="1">
              <a:off x="7024680" y="5608440"/>
              <a:ext cx="104400" cy="5544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47" y="3"/>
                  </a:moveTo>
                  <a:lnTo>
                    <a:pt x="54" y="0"/>
                  </a:lnTo>
                  <a:lnTo>
                    <a:pt x="68" y="0"/>
                  </a:lnTo>
                  <a:lnTo>
                    <a:pt x="86" y="0"/>
                  </a:lnTo>
                  <a:lnTo>
                    <a:pt x="105" y="5"/>
                  </a:lnTo>
                  <a:lnTo>
                    <a:pt x="119" y="9"/>
                  </a:lnTo>
                  <a:lnTo>
                    <a:pt x="130" y="17"/>
                  </a:lnTo>
                  <a:lnTo>
                    <a:pt x="131" y="27"/>
                  </a:lnTo>
                  <a:lnTo>
                    <a:pt x="122" y="43"/>
                  </a:lnTo>
                  <a:lnTo>
                    <a:pt x="115" y="48"/>
                  </a:lnTo>
                  <a:lnTo>
                    <a:pt x="105" y="52"/>
                  </a:lnTo>
                  <a:lnTo>
                    <a:pt x="92" y="55"/>
                  </a:lnTo>
                  <a:lnTo>
                    <a:pt x="78" y="60"/>
                  </a:lnTo>
                  <a:lnTo>
                    <a:pt x="63" y="62"/>
                  </a:lnTo>
                  <a:lnTo>
                    <a:pt x="48" y="65"/>
                  </a:lnTo>
                  <a:lnTo>
                    <a:pt x="35" y="67"/>
                  </a:lnTo>
                  <a:lnTo>
                    <a:pt x="24" y="69"/>
                  </a:lnTo>
                  <a:lnTo>
                    <a:pt x="5" y="57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5" y="39"/>
                  </a:lnTo>
                  <a:lnTo>
                    <a:pt x="13" y="41"/>
                  </a:lnTo>
                  <a:lnTo>
                    <a:pt x="29" y="49"/>
                  </a:lnTo>
                  <a:lnTo>
                    <a:pt x="37" y="47"/>
                  </a:lnTo>
                  <a:lnTo>
                    <a:pt x="48" y="46"/>
                  </a:lnTo>
                  <a:lnTo>
                    <a:pt x="60" y="43"/>
                  </a:lnTo>
                  <a:lnTo>
                    <a:pt x="73" y="42"/>
                  </a:lnTo>
                  <a:lnTo>
                    <a:pt x="83" y="39"/>
                  </a:lnTo>
                  <a:lnTo>
                    <a:pt x="93" y="36"/>
                  </a:lnTo>
                  <a:lnTo>
                    <a:pt x="102" y="33"/>
                  </a:lnTo>
                  <a:lnTo>
                    <a:pt x="108" y="29"/>
                  </a:lnTo>
                  <a:lnTo>
                    <a:pt x="114" y="20"/>
                  </a:lnTo>
                  <a:lnTo>
                    <a:pt x="111" y="13"/>
                  </a:lnTo>
                  <a:lnTo>
                    <a:pt x="104" y="10"/>
                  </a:lnTo>
                  <a:lnTo>
                    <a:pt x="93" y="10"/>
                  </a:lnTo>
                  <a:lnTo>
                    <a:pt x="79" y="10"/>
                  </a:lnTo>
                  <a:lnTo>
                    <a:pt x="66" y="13"/>
                  </a:lnTo>
                  <a:lnTo>
                    <a:pt x="55" y="14"/>
                  </a:lnTo>
                  <a:lnTo>
                    <a:pt x="51" y="17"/>
                  </a:lnTo>
                  <a:lnTo>
                    <a:pt x="45" y="16"/>
                  </a:lnTo>
                  <a:lnTo>
                    <a:pt x="41" y="11"/>
                  </a:lnTo>
                  <a:lnTo>
                    <a:pt x="41" y="6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935400" y="5589360"/>
              <a:ext cx="93240" cy="6192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50" y="2"/>
                  </a:moveTo>
                  <a:lnTo>
                    <a:pt x="86" y="0"/>
                  </a:lnTo>
                  <a:lnTo>
                    <a:pt x="109" y="7"/>
                  </a:lnTo>
                  <a:lnTo>
                    <a:pt x="119" y="21"/>
                  </a:lnTo>
                  <a:lnTo>
                    <a:pt x="116" y="39"/>
                  </a:lnTo>
                  <a:lnTo>
                    <a:pt x="102" y="55"/>
                  </a:lnTo>
                  <a:lnTo>
                    <a:pt x="80" y="69"/>
                  </a:lnTo>
                  <a:lnTo>
                    <a:pt x="48" y="76"/>
                  </a:lnTo>
                  <a:lnTo>
                    <a:pt x="10" y="75"/>
                  </a:lnTo>
                  <a:lnTo>
                    <a:pt x="1" y="70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54"/>
                  </a:lnTo>
                  <a:lnTo>
                    <a:pt x="8" y="51"/>
                  </a:lnTo>
                  <a:lnTo>
                    <a:pt x="14" y="52"/>
                  </a:lnTo>
                  <a:lnTo>
                    <a:pt x="37" y="52"/>
                  </a:lnTo>
                  <a:lnTo>
                    <a:pt x="57" y="50"/>
                  </a:lnTo>
                  <a:lnTo>
                    <a:pt x="73" y="44"/>
                  </a:lnTo>
                  <a:lnTo>
                    <a:pt x="85" y="36"/>
                  </a:lnTo>
                  <a:lnTo>
                    <a:pt x="89" y="28"/>
                  </a:lnTo>
                  <a:lnTo>
                    <a:pt x="86" y="21"/>
                  </a:lnTo>
                  <a:lnTo>
                    <a:pt x="73" y="18"/>
                  </a:lnTo>
                  <a:lnTo>
                    <a:pt x="53" y="20"/>
                  </a:lnTo>
                  <a:lnTo>
                    <a:pt x="44" y="18"/>
                  </a:lnTo>
                  <a:lnTo>
                    <a:pt x="41" y="12"/>
                  </a:lnTo>
                  <a:lnTo>
                    <a:pt x="42" y="5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914880" y="5624280"/>
              <a:ext cx="83880" cy="66600"/>
            </a:xfrm>
            <a:custGeom>
              <a:avLst/>
              <a:gdLst/>
              <a:ahLst/>
              <a:rect l="l" t="t" r="r" b="b"/>
              <a:pathLst>
                <a:path w="106" h="84">
                  <a:moveTo>
                    <a:pt x="51" y="12"/>
                  </a:moveTo>
                  <a:lnTo>
                    <a:pt x="60" y="6"/>
                  </a:lnTo>
                  <a:lnTo>
                    <a:pt x="68" y="3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7" y="3"/>
                  </a:lnTo>
                  <a:lnTo>
                    <a:pt x="100" y="6"/>
                  </a:lnTo>
                  <a:lnTo>
                    <a:pt x="106" y="11"/>
                  </a:lnTo>
                  <a:lnTo>
                    <a:pt x="105" y="20"/>
                  </a:lnTo>
                  <a:lnTo>
                    <a:pt x="97" y="33"/>
                  </a:lnTo>
                  <a:lnTo>
                    <a:pt x="90" y="44"/>
                  </a:lnTo>
                  <a:lnTo>
                    <a:pt x="83" y="53"/>
                  </a:lnTo>
                  <a:lnTo>
                    <a:pt x="76" y="60"/>
                  </a:lnTo>
                  <a:lnTo>
                    <a:pt x="67" y="65"/>
                  </a:lnTo>
                  <a:lnTo>
                    <a:pt x="57" y="71"/>
                  </a:lnTo>
                  <a:lnTo>
                    <a:pt x="44" y="76"/>
                  </a:lnTo>
                  <a:lnTo>
                    <a:pt x="29" y="84"/>
                  </a:lnTo>
                  <a:lnTo>
                    <a:pt x="10" y="83"/>
                  </a:lnTo>
                  <a:lnTo>
                    <a:pt x="2" y="78"/>
                  </a:lnTo>
                  <a:lnTo>
                    <a:pt x="0" y="72"/>
                  </a:lnTo>
                  <a:lnTo>
                    <a:pt x="2" y="65"/>
                  </a:lnTo>
                  <a:lnTo>
                    <a:pt x="10" y="62"/>
                  </a:lnTo>
                  <a:lnTo>
                    <a:pt x="25" y="61"/>
                  </a:lnTo>
                  <a:lnTo>
                    <a:pt x="37" y="55"/>
                  </a:lnTo>
                  <a:lnTo>
                    <a:pt x="47" y="50"/>
                  </a:lnTo>
                  <a:lnTo>
                    <a:pt x="56" y="46"/>
                  </a:lnTo>
                  <a:lnTo>
                    <a:pt x="63" y="43"/>
                  </a:lnTo>
                  <a:lnTo>
                    <a:pt x="70" y="38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9" y="12"/>
                  </a:lnTo>
                  <a:lnTo>
                    <a:pt x="91" y="11"/>
                  </a:lnTo>
                  <a:lnTo>
                    <a:pt x="96" y="16"/>
                  </a:lnTo>
                  <a:lnTo>
                    <a:pt x="97" y="21"/>
                  </a:lnTo>
                  <a:lnTo>
                    <a:pt x="96" y="25"/>
                  </a:lnTo>
                  <a:lnTo>
                    <a:pt x="85" y="21"/>
                  </a:lnTo>
                  <a:lnTo>
                    <a:pt x="80" y="20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3" y="19"/>
                  </a:lnTo>
                  <a:lnTo>
                    <a:pt x="70" y="20"/>
                  </a:lnTo>
                  <a:lnTo>
                    <a:pt x="64" y="24"/>
                  </a:lnTo>
                  <a:lnTo>
                    <a:pt x="56" y="28"/>
                  </a:lnTo>
                  <a:lnTo>
                    <a:pt x="48" y="27"/>
                  </a:lnTo>
                  <a:lnTo>
                    <a:pt x="45" y="22"/>
                  </a:lnTo>
                  <a:lnTo>
                    <a:pt x="45" y="16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884640" y="5559120"/>
              <a:ext cx="101160" cy="5904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31" y="9"/>
                  </a:moveTo>
                  <a:lnTo>
                    <a:pt x="41" y="7"/>
                  </a:lnTo>
                  <a:lnTo>
                    <a:pt x="52" y="6"/>
                  </a:lnTo>
                  <a:lnTo>
                    <a:pt x="62" y="3"/>
                  </a:lnTo>
                  <a:lnTo>
                    <a:pt x="73" y="2"/>
                  </a:lnTo>
                  <a:lnTo>
                    <a:pt x="83" y="1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27" y="8"/>
                  </a:lnTo>
                  <a:lnTo>
                    <a:pt x="127" y="14"/>
                  </a:lnTo>
                  <a:lnTo>
                    <a:pt x="111" y="53"/>
                  </a:lnTo>
                  <a:lnTo>
                    <a:pt x="88" y="61"/>
                  </a:lnTo>
                  <a:lnTo>
                    <a:pt x="74" y="68"/>
                  </a:lnTo>
                  <a:lnTo>
                    <a:pt x="65" y="71"/>
                  </a:lnTo>
                  <a:lnTo>
                    <a:pt x="58" y="73"/>
                  </a:lnTo>
                  <a:lnTo>
                    <a:pt x="51" y="72"/>
                  </a:lnTo>
                  <a:lnTo>
                    <a:pt x="41" y="71"/>
                  </a:lnTo>
                  <a:lnTo>
                    <a:pt x="26" y="68"/>
                  </a:lnTo>
                  <a:lnTo>
                    <a:pt x="5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3"/>
                  </a:lnTo>
                  <a:lnTo>
                    <a:pt x="8" y="53"/>
                  </a:lnTo>
                  <a:lnTo>
                    <a:pt x="27" y="55"/>
                  </a:lnTo>
                  <a:lnTo>
                    <a:pt x="40" y="58"/>
                  </a:lnTo>
                  <a:lnTo>
                    <a:pt x="47" y="59"/>
                  </a:lnTo>
                  <a:lnTo>
                    <a:pt x="53" y="59"/>
                  </a:lnTo>
                  <a:lnTo>
                    <a:pt x="57" y="56"/>
                  </a:lnTo>
                  <a:lnTo>
                    <a:pt x="65" y="52"/>
                  </a:lnTo>
                  <a:lnTo>
                    <a:pt x="76" y="45"/>
                  </a:lnTo>
                  <a:lnTo>
                    <a:pt x="96" y="38"/>
                  </a:lnTo>
                  <a:lnTo>
                    <a:pt x="108" y="7"/>
                  </a:lnTo>
                  <a:lnTo>
                    <a:pt x="111" y="4"/>
                  </a:lnTo>
                  <a:lnTo>
                    <a:pt x="116" y="10"/>
                  </a:lnTo>
                  <a:lnTo>
                    <a:pt x="119" y="16"/>
                  </a:lnTo>
                  <a:lnTo>
                    <a:pt x="117" y="21"/>
                  </a:lnTo>
                  <a:lnTo>
                    <a:pt x="105" y="21"/>
                  </a:lnTo>
                  <a:lnTo>
                    <a:pt x="95" y="21"/>
                  </a:lnTo>
                  <a:lnTo>
                    <a:pt x="84" y="22"/>
                  </a:lnTo>
                  <a:lnTo>
                    <a:pt x="74" y="23"/>
                  </a:lnTo>
                  <a:lnTo>
                    <a:pt x="64" y="24"/>
                  </a:lnTo>
                  <a:lnTo>
                    <a:pt x="54" y="26"/>
                  </a:lnTo>
                  <a:lnTo>
                    <a:pt x="44" y="27"/>
                  </a:lnTo>
                  <a:lnTo>
                    <a:pt x="35" y="29"/>
                  </a:lnTo>
                  <a:lnTo>
                    <a:pt x="26" y="27"/>
                  </a:lnTo>
                  <a:lnTo>
                    <a:pt x="23" y="21"/>
                  </a:lnTo>
                  <a:lnTo>
                    <a:pt x="24" y="13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6889320" y="5527440"/>
              <a:ext cx="82440" cy="52560"/>
            </a:xfrm>
            <a:custGeom>
              <a:avLst/>
              <a:gdLst/>
              <a:ahLst/>
              <a:rect l="l" t="t" r="r" b="b"/>
              <a:pathLst>
                <a:path w="105" h="66">
                  <a:moveTo>
                    <a:pt x="8" y="0"/>
                  </a:moveTo>
                  <a:lnTo>
                    <a:pt x="24" y="0"/>
                  </a:lnTo>
                  <a:lnTo>
                    <a:pt x="40" y="1"/>
                  </a:lnTo>
                  <a:lnTo>
                    <a:pt x="53" y="1"/>
                  </a:lnTo>
                  <a:lnTo>
                    <a:pt x="65" y="4"/>
                  </a:lnTo>
                  <a:lnTo>
                    <a:pt x="73" y="5"/>
                  </a:lnTo>
                  <a:lnTo>
                    <a:pt x="83" y="9"/>
                  </a:lnTo>
                  <a:lnTo>
                    <a:pt x="92" y="14"/>
                  </a:lnTo>
                  <a:lnTo>
                    <a:pt x="101" y="23"/>
                  </a:lnTo>
                  <a:lnTo>
                    <a:pt x="105" y="29"/>
                  </a:lnTo>
                  <a:lnTo>
                    <a:pt x="100" y="36"/>
                  </a:lnTo>
                  <a:lnTo>
                    <a:pt x="93" y="40"/>
                  </a:lnTo>
                  <a:lnTo>
                    <a:pt x="86" y="44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64" y="56"/>
                  </a:lnTo>
                  <a:lnTo>
                    <a:pt x="56" y="59"/>
                  </a:lnTo>
                  <a:lnTo>
                    <a:pt x="48" y="63"/>
                  </a:lnTo>
                  <a:lnTo>
                    <a:pt x="39" y="66"/>
                  </a:lnTo>
                  <a:lnTo>
                    <a:pt x="33" y="65"/>
                  </a:lnTo>
                  <a:lnTo>
                    <a:pt x="30" y="61"/>
                  </a:lnTo>
                  <a:lnTo>
                    <a:pt x="31" y="55"/>
                  </a:lnTo>
                  <a:lnTo>
                    <a:pt x="37" y="53"/>
                  </a:lnTo>
                  <a:lnTo>
                    <a:pt x="44" y="50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66" y="39"/>
                  </a:lnTo>
                  <a:lnTo>
                    <a:pt x="71" y="34"/>
                  </a:lnTo>
                  <a:lnTo>
                    <a:pt x="77" y="29"/>
                  </a:lnTo>
                  <a:lnTo>
                    <a:pt x="83" y="25"/>
                  </a:lnTo>
                  <a:lnTo>
                    <a:pt x="90" y="21"/>
                  </a:lnTo>
                  <a:lnTo>
                    <a:pt x="92" y="22"/>
                  </a:lnTo>
                  <a:lnTo>
                    <a:pt x="93" y="28"/>
                  </a:lnTo>
                  <a:lnTo>
                    <a:pt x="91" y="34"/>
                  </a:lnTo>
                  <a:lnTo>
                    <a:pt x="88" y="35"/>
                  </a:lnTo>
                  <a:lnTo>
                    <a:pt x="81" y="27"/>
                  </a:lnTo>
                  <a:lnTo>
                    <a:pt x="73" y="22"/>
                  </a:lnTo>
                  <a:lnTo>
                    <a:pt x="65" y="18"/>
                  </a:lnTo>
                  <a:lnTo>
                    <a:pt x="56" y="17"/>
                  </a:lnTo>
                  <a:lnTo>
                    <a:pt x="45" y="14"/>
                  </a:lnTo>
                  <a:lnTo>
                    <a:pt x="35" y="14"/>
                  </a:lnTo>
                  <a:lnTo>
                    <a:pt x="21" y="13"/>
                  </a:lnTo>
                  <a:lnTo>
                    <a:pt x="7" y="13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857640" y="5586120"/>
              <a:ext cx="90360" cy="57240"/>
            </a:xfrm>
            <a:custGeom>
              <a:avLst/>
              <a:gdLst/>
              <a:ahLst/>
              <a:rect l="l" t="t" r="r" b="b"/>
              <a:pathLst>
                <a:path w="115" h="70">
                  <a:moveTo>
                    <a:pt x="42" y="4"/>
                  </a:moveTo>
                  <a:lnTo>
                    <a:pt x="71" y="0"/>
                  </a:lnTo>
                  <a:lnTo>
                    <a:pt x="94" y="3"/>
                  </a:lnTo>
                  <a:lnTo>
                    <a:pt x="108" y="9"/>
                  </a:lnTo>
                  <a:lnTo>
                    <a:pt x="115" y="19"/>
                  </a:lnTo>
                  <a:lnTo>
                    <a:pt x="113" y="30"/>
                  </a:lnTo>
                  <a:lnTo>
                    <a:pt x="104" y="43"/>
                  </a:lnTo>
                  <a:lnTo>
                    <a:pt x="85" y="54"/>
                  </a:lnTo>
                  <a:lnTo>
                    <a:pt x="60" y="66"/>
                  </a:lnTo>
                  <a:lnTo>
                    <a:pt x="53" y="66"/>
                  </a:lnTo>
                  <a:lnTo>
                    <a:pt x="48" y="67"/>
                  </a:lnTo>
                  <a:lnTo>
                    <a:pt x="41" y="67"/>
                  </a:lnTo>
                  <a:lnTo>
                    <a:pt x="37" y="68"/>
                  </a:lnTo>
                  <a:lnTo>
                    <a:pt x="31" y="68"/>
                  </a:lnTo>
                  <a:lnTo>
                    <a:pt x="25" y="69"/>
                  </a:lnTo>
                  <a:lnTo>
                    <a:pt x="19" y="69"/>
                  </a:lnTo>
                  <a:lnTo>
                    <a:pt x="13" y="70"/>
                  </a:lnTo>
                  <a:lnTo>
                    <a:pt x="7" y="68"/>
                  </a:lnTo>
                  <a:lnTo>
                    <a:pt x="4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12" y="48"/>
                  </a:lnTo>
                  <a:lnTo>
                    <a:pt x="18" y="47"/>
                  </a:lnTo>
                  <a:lnTo>
                    <a:pt x="23" y="47"/>
                  </a:lnTo>
                  <a:lnTo>
                    <a:pt x="27" y="46"/>
                  </a:lnTo>
                  <a:lnTo>
                    <a:pt x="33" y="46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8" y="43"/>
                  </a:lnTo>
                  <a:lnTo>
                    <a:pt x="54" y="43"/>
                  </a:lnTo>
                  <a:lnTo>
                    <a:pt x="64" y="37"/>
                  </a:lnTo>
                  <a:lnTo>
                    <a:pt x="71" y="33"/>
                  </a:lnTo>
                  <a:lnTo>
                    <a:pt x="75" y="26"/>
                  </a:lnTo>
                  <a:lnTo>
                    <a:pt x="76" y="23"/>
                  </a:lnTo>
                  <a:lnTo>
                    <a:pt x="72" y="19"/>
                  </a:lnTo>
                  <a:lnTo>
                    <a:pt x="66" y="17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8" y="16"/>
                  </a:lnTo>
                  <a:lnTo>
                    <a:pt x="36" y="11"/>
                  </a:lnTo>
                  <a:lnTo>
                    <a:pt x="36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872040" y="5622840"/>
              <a:ext cx="68040" cy="4752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10" y="13"/>
                  </a:moveTo>
                  <a:lnTo>
                    <a:pt x="24" y="6"/>
                  </a:lnTo>
                  <a:lnTo>
                    <a:pt x="35" y="3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1" y="3"/>
                  </a:lnTo>
                  <a:lnTo>
                    <a:pt x="58" y="8"/>
                  </a:lnTo>
                  <a:lnTo>
                    <a:pt x="68" y="16"/>
                  </a:lnTo>
                  <a:lnTo>
                    <a:pt x="83" y="29"/>
                  </a:lnTo>
                  <a:lnTo>
                    <a:pt x="86" y="32"/>
                  </a:lnTo>
                  <a:lnTo>
                    <a:pt x="87" y="37"/>
                  </a:lnTo>
                  <a:lnTo>
                    <a:pt x="85" y="41"/>
                  </a:lnTo>
                  <a:lnTo>
                    <a:pt x="81" y="45"/>
                  </a:lnTo>
                  <a:lnTo>
                    <a:pt x="71" y="47"/>
                  </a:lnTo>
                  <a:lnTo>
                    <a:pt x="62" y="49"/>
                  </a:lnTo>
                  <a:lnTo>
                    <a:pt x="53" y="51"/>
                  </a:lnTo>
                  <a:lnTo>
                    <a:pt x="44" y="53"/>
                  </a:lnTo>
                  <a:lnTo>
                    <a:pt x="35" y="54"/>
                  </a:lnTo>
                  <a:lnTo>
                    <a:pt x="25" y="57"/>
                  </a:lnTo>
                  <a:lnTo>
                    <a:pt x="15" y="58"/>
                  </a:lnTo>
                  <a:lnTo>
                    <a:pt x="8" y="60"/>
                  </a:lnTo>
                  <a:lnTo>
                    <a:pt x="2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5" y="47"/>
                  </a:lnTo>
                  <a:lnTo>
                    <a:pt x="12" y="45"/>
                  </a:lnTo>
                  <a:lnTo>
                    <a:pt x="21" y="43"/>
                  </a:lnTo>
                  <a:lnTo>
                    <a:pt x="29" y="41"/>
                  </a:lnTo>
                  <a:lnTo>
                    <a:pt x="39" y="38"/>
                  </a:lnTo>
                  <a:lnTo>
                    <a:pt x="47" y="35"/>
                  </a:lnTo>
                  <a:lnTo>
                    <a:pt x="56" y="33"/>
                  </a:lnTo>
                  <a:lnTo>
                    <a:pt x="65" y="30"/>
                  </a:lnTo>
                  <a:lnTo>
                    <a:pt x="74" y="28"/>
                  </a:lnTo>
                  <a:lnTo>
                    <a:pt x="78" y="29"/>
                  </a:lnTo>
                  <a:lnTo>
                    <a:pt x="79" y="36"/>
                  </a:lnTo>
                  <a:lnTo>
                    <a:pt x="76" y="43"/>
                  </a:lnTo>
                  <a:lnTo>
                    <a:pt x="72" y="44"/>
                  </a:lnTo>
                  <a:lnTo>
                    <a:pt x="58" y="33"/>
                  </a:lnTo>
                  <a:lnTo>
                    <a:pt x="51" y="25"/>
                  </a:lnTo>
                  <a:lnTo>
                    <a:pt x="45" y="20"/>
                  </a:lnTo>
                  <a:lnTo>
                    <a:pt x="42" y="18"/>
                  </a:lnTo>
                  <a:lnTo>
                    <a:pt x="38" y="17"/>
                  </a:lnTo>
                  <a:lnTo>
                    <a:pt x="33" y="18"/>
                  </a:lnTo>
                  <a:lnTo>
                    <a:pt x="25" y="20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6965640" y="5513400"/>
              <a:ext cx="93240" cy="6156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9" y="2"/>
                  </a:moveTo>
                  <a:lnTo>
                    <a:pt x="34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9" y="7"/>
                  </a:lnTo>
                  <a:lnTo>
                    <a:pt x="90" y="13"/>
                  </a:lnTo>
                  <a:lnTo>
                    <a:pt x="110" y="24"/>
                  </a:lnTo>
                  <a:lnTo>
                    <a:pt x="115" y="27"/>
                  </a:lnTo>
                  <a:lnTo>
                    <a:pt x="117" y="31"/>
                  </a:lnTo>
                  <a:lnTo>
                    <a:pt x="116" y="36"/>
                  </a:lnTo>
                  <a:lnTo>
                    <a:pt x="113" y="41"/>
                  </a:lnTo>
                  <a:lnTo>
                    <a:pt x="103" y="47"/>
                  </a:lnTo>
                  <a:lnTo>
                    <a:pt x="93" y="54"/>
                  </a:lnTo>
                  <a:lnTo>
                    <a:pt x="82" y="59"/>
                  </a:lnTo>
                  <a:lnTo>
                    <a:pt x="72" y="66"/>
                  </a:lnTo>
                  <a:lnTo>
                    <a:pt x="58" y="69"/>
                  </a:lnTo>
                  <a:lnTo>
                    <a:pt x="44" y="73"/>
                  </a:lnTo>
                  <a:lnTo>
                    <a:pt x="28" y="75"/>
                  </a:lnTo>
                  <a:lnTo>
                    <a:pt x="10" y="79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4" y="68"/>
                  </a:lnTo>
                  <a:lnTo>
                    <a:pt x="9" y="67"/>
                  </a:lnTo>
                  <a:lnTo>
                    <a:pt x="26" y="64"/>
                  </a:lnTo>
                  <a:lnTo>
                    <a:pt x="39" y="60"/>
                  </a:lnTo>
                  <a:lnTo>
                    <a:pt x="52" y="56"/>
                  </a:lnTo>
                  <a:lnTo>
                    <a:pt x="64" y="52"/>
                  </a:lnTo>
                  <a:lnTo>
                    <a:pt x="73" y="45"/>
                  </a:lnTo>
                  <a:lnTo>
                    <a:pt x="82" y="39"/>
                  </a:lnTo>
                  <a:lnTo>
                    <a:pt x="91" y="32"/>
                  </a:lnTo>
                  <a:lnTo>
                    <a:pt x="100" y="26"/>
                  </a:lnTo>
                  <a:lnTo>
                    <a:pt x="104" y="26"/>
                  </a:lnTo>
                  <a:lnTo>
                    <a:pt x="106" y="32"/>
                  </a:lnTo>
                  <a:lnTo>
                    <a:pt x="105" y="40"/>
                  </a:lnTo>
                  <a:lnTo>
                    <a:pt x="102" y="42"/>
                  </a:lnTo>
                  <a:lnTo>
                    <a:pt x="84" y="32"/>
                  </a:lnTo>
                  <a:lnTo>
                    <a:pt x="73" y="26"/>
                  </a:lnTo>
                  <a:lnTo>
                    <a:pt x="66" y="21"/>
                  </a:lnTo>
                  <a:lnTo>
                    <a:pt x="62" y="19"/>
                  </a:lnTo>
                  <a:lnTo>
                    <a:pt x="56" y="18"/>
                  </a:lnTo>
                  <a:lnTo>
                    <a:pt x="47" y="18"/>
                  </a:lnTo>
                  <a:lnTo>
                    <a:pt x="32" y="18"/>
                  </a:lnTo>
                  <a:lnTo>
                    <a:pt x="9" y="19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4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048080" y="5551200"/>
              <a:ext cx="115560" cy="5904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81" y="0"/>
                  </a:moveTo>
                  <a:lnTo>
                    <a:pt x="87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6" y="1"/>
                  </a:lnTo>
                  <a:lnTo>
                    <a:pt x="133" y="3"/>
                  </a:lnTo>
                  <a:lnTo>
                    <a:pt x="140" y="4"/>
                  </a:lnTo>
                  <a:lnTo>
                    <a:pt x="147" y="6"/>
                  </a:lnTo>
                  <a:lnTo>
                    <a:pt x="148" y="14"/>
                  </a:lnTo>
                  <a:lnTo>
                    <a:pt x="143" y="27"/>
                  </a:lnTo>
                  <a:lnTo>
                    <a:pt x="141" y="37"/>
                  </a:lnTo>
                  <a:lnTo>
                    <a:pt x="139" y="44"/>
                  </a:lnTo>
                  <a:lnTo>
                    <a:pt x="138" y="50"/>
                  </a:lnTo>
                  <a:lnTo>
                    <a:pt x="134" y="53"/>
                  </a:lnTo>
                  <a:lnTo>
                    <a:pt x="130" y="57"/>
                  </a:lnTo>
                  <a:lnTo>
                    <a:pt x="124" y="61"/>
                  </a:lnTo>
                  <a:lnTo>
                    <a:pt x="115" y="66"/>
                  </a:lnTo>
                  <a:lnTo>
                    <a:pt x="99" y="68"/>
                  </a:lnTo>
                  <a:lnTo>
                    <a:pt x="85" y="71"/>
                  </a:lnTo>
                  <a:lnTo>
                    <a:pt x="72" y="73"/>
                  </a:lnTo>
                  <a:lnTo>
                    <a:pt x="59" y="75"/>
                  </a:lnTo>
                  <a:lnTo>
                    <a:pt x="46" y="73"/>
                  </a:lnTo>
                  <a:lnTo>
                    <a:pt x="33" y="73"/>
                  </a:lnTo>
                  <a:lnTo>
                    <a:pt x="19" y="70"/>
                  </a:lnTo>
                  <a:lnTo>
                    <a:pt x="5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2" y="54"/>
                  </a:lnTo>
                  <a:lnTo>
                    <a:pt x="9" y="55"/>
                  </a:lnTo>
                  <a:lnTo>
                    <a:pt x="22" y="58"/>
                  </a:lnTo>
                  <a:lnTo>
                    <a:pt x="35" y="61"/>
                  </a:lnTo>
                  <a:lnTo>
                    <a:pt x="47" y="60"/>
                  </a:lnTo>
                  <a:lnTo>
                    <a:pt x="58" y="60"/>
                  </a:lnTo>
                  <a:lnTo>
                    <a:pt x="69" y="56"/>
                  </a:lnTo>
                  <a:lnTo>
                    <a:pt x="82" y="54"/>
                  </a:lnTo>
                  <a:lnTo>
                    <a:pt x="95" y="50"/>
                  </a:lnTo>
                  <a:lnTo>
                    <a:pt x="109" y="47"/>
                  </a:lnTo>
                  <a:lnTo>
                    <a:pt x="114" y="43"/>
                  </a:lnTo>
                  <a:lnTo>
                    <a:pt x="119" y="41"/>
                  </a:lnTo>
                  <a:lnTo>
                    <a:pt x="121" y="38"/>
                  </a:lnTo>
                  <a:lnTo>
                    <a:pt x="124" y="36"/>
                  </a:lnTo>
                  <a:lnTo>
                    <a:pt x="125" y="32"/>
                  </a:lnTo>
                  <a:lnTo>
                    <a:pt x="126" y="26"/>
                  </a:lnTo>
                  <a:lnTo>
                    <a:pt x="127" y="20"/>
                  </a:lnTo>
                  <a:lnTo>
                    <a:pt x="130" y="10"/>
                  </a:lnTo>
                  <a:lnTo>
                    <a:pt x="132" y="8"/>
                  </a:lnTo>
                  <a:lnTo>
                    <a:pt x="137" y="13"/>
                  </a:lnTo>
                  <a:lnTo>
                    <a:pt x="139" y="18"/>
                  </a:lnTo>
                  <a:lnTo>
                    <a:pt x="138" y="21"/>
                  </a:lnTo>
                  <a:lnTo>
                    <a:pt x="130" y="20"/>
                  </a:lnTo>
                  <a:lnTo>
                    <a:pt x="124" y="19"/>
                  </a:lnTo>
                  <a:lnTo>
                    <a:pt x="116" y="18"/>
                  </a:lnTo>
                  <a:lnTo>
                    <a:pt x="110" y="18"/>
                  </a:lnTo>
                  <a:lnTo>
                    <a:pt x="103" y="17"/>
                  </a:lnTo>
                  <a:lnTo>
                    <a:pt x="95" y="15"/>
                  </a:lnTo>
                  <a:lnTo>
                    <a:pt x="87" y="15"/>
                  </a:lnTo>
                  <a:lnTo>
                    <a:pt x="81" y="15"/>
                  </a:lnTo>
                  <a:lnTo>
                    <a:pt x="75" y="12"/>
                  </a:lnTo>
                  <a:lnTo>
                    <a:pt x="73" y="8"/>
                  </a:lnTo>
                  <a:lnTo>
                    <a:pt x="75" y="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73640" y="5500440"/>
              <a:ext cx="75960" cy="6840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9" y="0"/>
                  </a:moveTo>
                  <a:lnTo>
                    <a:pt x="30" y="0"/>
                  </a:lnTo>
                  <a:lnTo>
                    <a:pt x="49" y="2"/>
                  </a:lnTo>
                  <a:lnTo>
                    <a:pt x="65" y="5"/>
                  </a:lnTo>
                  <a:lnTo>
                    <a:pt x="78" y="12"/>
                  </a:lnTo>
                  <a:lnTo>
                    <a:pt x="87" y="19"/>
                  </a:lnTo>
                  <a:lnTo>
                    <a:pt x="93" y="31"/>
                  </a:lnTo>
                  <a:lnTo>
                    <a:pt x="95" y="45"/>
                  </a:lnTo>
                  <a:lnTo>
                    <a:pt x="95" y="64"/>
                  </a:lnTo>
                  <a:lnTo>
                    <a:pt x="93" y="69"/>
                  </a:lnTo>
                  <a:lnTo>
                    <a:pt x="89" y="73"/>
                  </a:lnTo>
                  <a:lnTo>
                    <a:pt x="81" y="75"/>
                  </a:lnTo>
                  <a:lnTo>
                    <a:pt x="74" y="77"/>
                  </a:lnTo>
                  <a:lnTo>
                    <a:pt x="64" y="80"/>
                  </a:lnTo>
                  <a:lnTo>
                    <a:pt x="56" y="82"/>
                  </a:lnTo>
                  <a:lnTo>
                    <a:pt x="45" y="83"/>
                  </a:lnTo>
                  <a:lnTo>
                    <a:pt x="34" y="84"/>
                  </a:lnTo>
                  <a:lnTo>
                    <a:pt x="24" y="85"/>
                  </a:lnTo>
                  <a:lnTo>
                    <a:pt x="15" y="86"/>
                  </a:lnTo>
                  <a:lnTo>
                    <a:pt x="6" y="82"/>
                  </a:lnTo>
                  <a:lnTo>
                    <a:pt x="4" y="75"/>
                  </a:lnTo>
                  <a:lnTo>
                    <a:pt x="6" y="68"/>
                  </a:lnTo>
                  <a:lnTo>
                    <a:pt x="15" y="64"/>
                  </a:lnTo>
                  <a:lnTo>
                    <a:pt x="22" y="63"/>
                  </a:lnTo>
                  <a:lnTo>
                    <a:pt x="32" y="62"/>
                  </a:lnTo>
                  <a:lnTo>
                    <a:pt x="40" y="61"/>
                  </a:lnTo>
                  <a:lnTo>
                    <a:pt x="50" y="60"/>
                  </a:lnTo>
                  <a:lnTo>
                    <a:pt x="58" y="58"/>
                  </a:lnTo>
                  <a:lnTo>
                    <a:pt x="65" y="56"/>
                  </a:lnTo>
                  <a:lnTo>
                    <a:pt x="72" y="54"/>
                  </a:lnTo>
                  <a:lnTo>
                    <a:pt x="79" y="53"/>
                  </a:lnTo>
                  <a:lnTo>
                    <a:pt x="77" y="56"/>
                  </a:lnTo>
                  <a:lnTo>
                    <a:pt x="74" y="59"/>
                  </a:lnTo>
                  <a:lnTo>
                    <a:pt x="73" y="60"/>
                  </a:lnTo>
                  <a:lnTo>
                    <a:pt x="73" y="47"/>
                  </a:lnTo>
                  <a:lnTo>
                    <a:pt x="71" y="38"/>
                  </a:lnTo>
                  <a:lnTo>
                    <a:pt x="65" y="30"/>
                  </a:lnTo>
                  <a:lnTo>
                    <a:pt x="59" y="25"/>
                  </a:lnTo>
                  <a:lnTo>
                    <a:pt x="49" y="20"/>
                  </a:lnTo>
                  <a:lnTo>
                    <a:pt x="37" y="19"/>
                  </a:lnTo>
                  <a:lnTo>
                    <a:pt x="24" y="18"/>
                  </a:lnTo>
                  <a:lnTo>
                    <a:pt x="9" y="18"/>
                  </a:lnTo>
                  <a:lnTo>
                    <a:pt x="2" y="15"/>
                  </a:lnTo>
                  <a:lnTo>
                    <a:pt x="0" y="9"/>
                  </a:lnTo>
                  <a:lnTo>
                    <a:pt x="2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151760" y="5559120"/>
              <a:ext cx="87120" cy="5904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11" y="4"/>
                  </a:moveTo>
                  <a:lnTo>
                    <a:pt x="19" y="2"/>
                  </a:lnTo>
                  <a:lnTo>
                    <a:pt x="32" y="1"/>
                  </a:lnTo>
                  <a:lnTo>
                    <a:pt x="47" y="0"/>
                  </a:lnTo>
                  <a:lnTo>
                    <a:pt x="64" y="1"/>
                  </a:lnTo>
                  <a:lnTo>
                    <a:pt x="78" y="2"/>
                  </a:lnTo>
                  <a:lnTo>
                    <a:pt x="92" y="7"/>
                  </a:lnTo>
                  <a:lnTo>
                    <a:pt x="102" y="12"/>
                  </a:lnTo>
                  <a:lnTo>
                    <a:pt x="108" y="22"/>
                  </a:lnTo>
                  <a:lnTo>
                    <a:pt x="109" y="38"/>
                  </a:lnTo>
                  <a:lnTo>
                    <a:pt x="106" y="52"/>
                  </a:lnTo>
                  <a:lnTo>
                    <a:pt x="99" y="61"/>
                  </a:lnTo>
                  <a:lnTo>
                    <a:pt x="89" y="68"/>
                  </a:lnTo>
                  <a:lnTo>
                    <a:pt x="75" y="71"/>
                  </a:lnTo>
                  <a:lnTo>
                    <a:pt x="61" y="73"/>
                  </a:lnTo>
                  <a:lnTo>
                    <a:pt x="45" y="73"/>
                  </a:lnTo>
                  <a:lnTo>
                    <a:pt x="31" y="73"/>
                  </a:lnTo>
                  <a:lnTo>
                    <a:pt x="5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8" y="49"/>
                  </a:lnTo>
                  <a:lnTo>
                    <a:pt x="35" y="54"/>
                  </a:lnTo>
                  <a:lnTo>
                    <a:pt x="45" y="54"/>
                  </a:lnTo>
                  <a:lnTo>
                    <a:pt x="56" y="55"/>
                  </a:lnTo>
                  <a:lnTo>
                    <a:pt x="65" y="54"/>
                  </a:lnTo>
                  <a:lnTo>
                    <a:pt x="76" y="54"/>
                  </a:lnTo>
                  <a:lnTo>
                    <a:pt x="84" y="50"/>
                  </a:lnTo>
                  <a:lnTo>
                    <a:pt x="89" y="44"/>
                  </a:lnTo>
                  <a:lnTo>
                    <a:pt x="91" y="36"/>
                  </a:lnTo>
                  <a:lnTo>
                    <a:pt x="91" y="25"/>
                  </a:lnTo>
                  <a:lnTo>
                    <a:pt x="86" y="17"/>
                  </a:lnTo>
                  <a:lnTo>
                    <a:pt x="78" y="13"/>
                  </a:lnTo>
                  <a:lnTo>
                    <a:pt x="68" y="11"/>
                  </a:lnTo>
                  <a:lnTo>
                    <a:pt x="56" y="11"/>
                  </a:lnTo>
                  <a:lnTo>
                    <a:pt x="42" y="11"/>
                  </a:lnTo>
                  <a:lnTo>
                    <a:pt x="30" y="13"/>
                  </a:lnTo>
                  <a:lnTo>
                    <a:pt x="19" y="15"/>
                  </a:lnTo>
                  <a:lnTo>
                    <a:pt x="13" y="17"/>
                  </a:lnTo>
                  <a:lnTo>
                    <a:pt x="7" y="15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210440" y="5481360"/>
              <a:ext cx="96480" cy="61920"/>
            </a:xfrm>
            <a:custGeom>
              <a:avLst/>
              <a:gdLst/>
              <a:ahLst/>
              <a:rect l="l" t="t" r="r" b="b"/>
              <a:pathLst>
                <a:path w="121" h="80">
                  <a:moveTo>
                    <a:pt x="30" y="2"/>
                  </a:moveTo>
                  <a:lnTo>
                    <a:pt x="59" y="0"/>
                  </a:lnTo>
                  <a:lnTo>
                    <a:pt x="85" y="5"/>
                  </a:lnTo>
                  <a:lnTo>
                    <a:pt x="104" y="11"/>
                  </a:lnTo>
                  <a:lnTo>
                    <a:pt x="117" y="23"/>
                  </a:lnTo>
                  <a:lnTo>
                    <a:pt x="121" y="35"/>
                  </a:lnTo>
                  <a:lnTo>
                    <a:pt x="119" y="50"/>
                  </a:lnTo>
                  <a:lnTo>
                    <a:pt x="107" y="65"/>
                  </a:lnTo>
                  <a:lnTo>
                    <a:pt x="87" y="80"/>
                  </a:lnTo>
                  <a:lnTo>
                    <a:pt x="75" y="79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5" y="78"/>
                  </a:lnTo>
                  <a:lnTo>
                    <a:pt x="35" y="77"/>
                  </a:lnTo>
                  <a:lnTo>
                    <a:pt x="26" y="76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1" y="71"/>
                  </a:lnTo>
                  <a:lnTo>
                    <a:pt x="0" y="65"/>
                  </a:lnTo>
                  <a:lnTo>
                    <a:pt x="2" y="57"/>
                  </a:lnTo>
                  <a:lnTo>
                    <a:pt x="9" y="56"/>
                  </a:lnTo>
                  <a:lnTo>
                    <a:pt x="17" y="56"/>
                  </a:lnTo>
                  <a:lnTo>
                    <a:pt x="26" y="56"/>
                  </a:lnTo>
                  <a:lnTo>
                    <a:pt x="34" y="56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70" y="57"/>
                  </a:lnTo>
                  <a:lnTo>
                    <a:pt x="81" y="58"/>
                  </a:lnTo>
                  <a:lnTo>
                    <a:pt x="92" y="49"/>
                  </a:lnTo>
                  <a:lnTo>
                    <a:pt x="98" y="41"/>
                  </a:lnTo>
                  <a:lnTo>
                    <a:pt x="98" y="35"/>
                  </a:lnTo>
                  <a:lnTo>
                    <a:pt x="92" y="29"/>
                  </a:lnTo>
                  <a:lnTo>
                    <a:pt x="80" y="24"/>
                  </a:lnTo>
                  <a:lnTo>
                    <a:pt x="66" y="22"/>
                  </a:lnTo>
                  <a:lnTo>
                    <a:pt x="50" y="21"/>
                  </a:lnTo>
                  <a:lnTo>
                    <a:pt x="32" y="23"/>
                  </a:lnTo>
                  <a:lnTo>
                    <a:pt x="23" y="20"/>
                  </a:lnTo>
                  <a:lnTo>
                    <a:pt x="21" y="13"/>
                  </a:lnTo>
                  <a:lnTo>
                    <a:pt x="22" y="6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137000" y="5457600"/>
              <a:ext cx="90360" cy="6984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9" y="6"/>
                  </a:moveTo>
                  <a:lnTo>
                    <a:pt x="32" y="1"/>
                  </a:lnTo>
                  <a:lnTo>
                    <a:pt x="54" y="0"/>
                  </a:lnTo>
                  <a:lnTo>
                    <a:pt x="72" y="1"/>
                  </a:lnTo>
                  <a:lnTo>
                    <a:pt x="87" y="7"/>
                  </a:lnTo>
                  <a:lnTo>
                    <a:pt x="99" y="14"/>
                  </a:lnTo>
                  <a:lnTo>
                    <a:pt x="107" y="28"/>
                  </a:lnTo>
                  <a:lnTo>
                    <a:pt x="113" y="45"/>
                  </a:lnTo>
                  <a:lnTo>
                    <a:pt x="115" y="69"/>
                  </a:lnTo>
                  <a:lnTo>
                    <a:pt x="113" y="74"/>
                  </a:lnTo>
                  <a:lnTo>
                    <a:pt x="108" y="80"/>
                  </a:lnTo>
                  <a:lnTo>
                    <a:pt x="98" y="83"/>
                  </a:lnTo>
                  <a:lnTo>
                    <a:pt x="88" y="87"/>
                  </a:lnTo>
                  <a:lnTo>
                    <a:pt x="78" y="88"/>
                  </a:lnTo>
                  <a:lnTo>
                    <a:pt x="69" y="89"/>
                  </a:lnTo>
                  <a:lnTo>
                    <a:pt x="58" y="88"/>
                  </a:lnTo>
                  <a:lnTo>
                    <a:pt x="48" y="87"/>
                  </a:lnTo>
                  <a:lnTo>
                    <a:pt x="37" y="85"/>
                  </a:lnTo>
                  <a:lnTo>
                    <a:pt x="27" y="84"/>
                  </a:lnTo>
                  <a:lnTo>
                    <a:pt x="18" y="79"/>
                  </a:lnTo>
                  <a:lnTo>
                    <a:pt x="17" y="71"/>
                  </a:lnTo>
                  <a:lnTo>
                    <a:pt x="20" y="64"/>
                  </a:lnTo>
                  <a:lnTo>
                    <a:pt x="30" y="63"/>
                  </a:lnTo>
                  <a:lnTo>
                    <a:pt x="38" y="64"/>
                  </a:lnTo>
                  <a:lnTo>
                    <a:pt x="47" y="65"/>
                  </a:lnTo>
                  <a:lnTo>
                    <a:pt x="56" y="65"/>
                  </a:lnTo>
                  <a:lnTo>
                    <a:pt x="64" y="66"/>
                  </a:lnTo>
                  <a:lnTo>
                    <a:pt x="72" y="65"/>
                  </a:lnTo>
                  <a:lnTo>
                    <a:pt x="80" y="64"/>
                  </a:lnTo>
                  <a:lnTo>
                    <a:pt x="88" y="60"/>
                  </a:lnTo>
                  <a:lnTo>
                    <a:pt x="98" y="58"/>
                  </a:lnTo>
                  <a:lnTo>
                    <a:pt x="98" y="59"/>
                  </a:lnTo>
                  <a:lnTo>
                    <a:pt x="95" y="64"/>
                  </a:lnTo>
                  <a:lnTo>
                    <a:pt x="92" y="68"/>
                  </a:lnTo>
                  <a:lnTo>
                    <a:pt x="91" y="69"/>
                  </a:lnTo>
                  <a:lnTo>
                    <a:pt x="89" y="52"/>
                  </a:lnTo>
                  <a:lnTo>
                    <a:pt x="85" y="40"/>
                  </a:lnTo>
                  <a:lnTo>
                    <a:pt x="78" y="30"/>
                  </a:lnTo>
                  <a:lnTo>
                    <a:pt x="70" y="26"/>
                  </a:lnTo>
                  <a:lnTo>
                    <a:pt x="57" y="23"/>
                  </a:lnTo>
                  <a:lnTo>
                    <a:pt x="44" y="23"/>
                  </a:lnTo>
                  <a:lnTo>
                    <a:pt x="29" y="24"/>
                  </a:lnTo>
                  <a:lnTo>
                    <a:pt x="13" y="27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221240" y="5416560"/>
              <a:ext cx="109080" cy="4284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7" y="18"/>
                  </a:moveTo>
                  <a:lnTo>
                    <a:pt x="23" y="14"/>
                  </a:lnTo>
                  <a:lnTo>
                    <a:pt x="38" y="9"/>
                  </a:lnTo>
                  <a:lnTo>
                    <a:pt x="52" y="6"/>
                  </a:lnTo>
                  <a:lnTo>
                    <a:pt x="67" y="4"/>
                  </a:lnTo>
                  <a:lnTo>
                    <a:pt x="80" y="1"/>
                  </a:lnTo>
                  <a:lnTo>
                    <a:pt x="95" y="0"/>
                  </a:lnTo>
                  <a:lnTo>
                    <a:pt x="110" y="0"/>
                  </a:lnTo>
                  <a:lnTo>
                    <a:pt x="129" y="3"/>
                  </a:lnTo>
                  <a:lnTo>
                    <a:pt x="135" y="5"/>
                  </a:lnTo>
                  <a:lnTo>
                    <a:pt x="138" y="8"/>
                  </a:lnTo>
                  <a:lnTo>
                    <a:pt x="138" y="14"/>
                  </a:lnTo>
                  <a:lnTo>
                    <a:pt x="136" y="20"/>
                  </a:lnTo>
                  <a:lnTo>
                    <a:pt x="110" y="53"/>
                  </a:lnTo>
                  <a:lnTo>
                    <a:pt x="101" y="53"/>
                  </a:lnTo>
                  <a:lnTo>
                    <a:pt x="93" y="53"/>
                  </a:lnTo>
                  <a:lnTo>
                    <a:pt x="86" y="53"/>
                  </a:lnTo>
                  <a:lnTo>
                    <a:pt x="78" y="53"/>
                  </a:lnTo>
                  <a:lnTo>
                    <a:pt x="71" y="52"/>
                  </a:lnTo>
                  <a:lnTo>
                    <a:pt x="63" y="51"/>
                  </a:lnTo>
                  <a:lnTo>
                    <a:pt x="54" y="50"/>
                  </a:lnTo>
                  <a:lnTo>
                    <a:pt x="47" y="50"/>
                  </a:lnTo>
                  <a:lnTo>
                    <a:pt x="42" y="47"/>
                  </a:lnTo>
                  <a:lnTo>
                    <a:pt x="42" y="43"/>
                  </a:lnTo>
                  <a:lnTo>
                    <a:pt x="44" y="38"/>
                  </a:lnTo>
                  <a:lnTo>
                    <a:pt x="49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7" y="37"/>
                  </a:lnTo>
                  <a:lnTo>
                    <a:pt x="74" y="38"/>
                  </a:lnTo>
                  <a:lnTo>
                    <a:pt x="79" y="37"/>
                  </a:lnTo>
                  <a:lnTo>
                    <a:pt x="85" y="36"/>
                  </a:lnTo>
                  <a:lnTo>
                    <a:pt x="91" y="35"/>
                  </a:lnTo>
                  <a:lnTo>
                    <a:pt x="100" y="35"/>
                  </a:lnTo>
                  <a:lnTo>
                    <a:pt x="119" y="7"/>
                  </a:lnTo>
                  <a:lnTo>
                    <a:pt x="123" y="6"/>
                  </a:lnTo>
                  <a:lnTo>
                    <a:pt x="129" y="13"/>
                  </a:lnTo>
                  <a:lnTo>
                    <a:pt x="130" y="20"/>
                  </a:lnTo>
                  <a:lnTo>
                    <a:pt x="125" y="24"/>
                  </a:lnTo>
                  <a:lnTo>
                    <a:pt x="108" y="21"/>
                  </a:lnTo>
                  <a:lnTo>
                    <a:pt x="93" y="20"/>
                  </a:lnTo>
                  <a:lnTo>
                    <a:pt x="80" y="20"/>
                  </a:lnTo>
                  <a:lnTo>
                    <a:pt x="67" y="22"/>
                  </a:lnTo>
                  <a:lnTo>
                    <a:pt x="53" y="24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0" y="34"/>
                  </a:lnTo>
                  <a:lnTo>
                    <a:pt x="3" y="32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237080" y="5449680"/>
              <a:ext cx="98280" cy="46080"/>
            </a:xfrm>
            <a:custGeom>
              <a:avLst/>
              <a:gdLst/>
              <a:ahLst/>
              <a:rect l="l" t="t" r="r" b="b"/>
              <a:pathLst>
                <a:path w="125" h="57">
                  <a:moveTo>
                    <a:pt x="26" y="14"/>
                  </a:moveTo>
                  <a:lnTo>
                    <a:pt x="42" y="7"/>
                  </a:lnTo>
                  <a:lnTo>
                    <a:pt x="57" y="3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5" y="2"/>
                  </a:lnTo>
                  <a:lnTo>
                    <a:pt x="106" y="8"/>
                  </a:lnTo>
                  <a:lnTo>
                    <a:pt x="115" y="18"/>
                  </a:lnTo>
                  <a:lnTo>
                    <a:pt x="125" y="33"/>
                  </a:lnTo>
                  <a:lnTo>
                    <a:pt x="125" y="42"/>
                  </a:lnTo>
                  <a:lnTo>
                    <a:pt x="120" y="47"/>
                  </a:lnTo>
                  <a:lnTo>
                    <a:pt x="91" y="57"/>
                  </a:lnTo>
                  <a:lnTo>
                    <a:pt x="79" y="55"/>
                  </a:lnTo>
                  <a:lnTo>
                    <a:pt x="68" y="55"/>
                  </a:lnTo>
                  <a:lnTo>
                    <a:pt x="58" y="54"/>
                  </a:lnTo>
                  <a:lnTo>
                    <a:pt x="49" y="54"/>
                  </a:lnTo>
                  <a:lnTo>
                    <a:pt x="38" y="52"/>
                  </a:lnTo>
                  <a:lnTo>
                    <a:pt x="28" y="52"/>
                  </a:lnTo>
                  <a:lnTo>
                    <a:pt x="19" y="50"/>
                  </a:lnTo>
                  <a:lnTo>
                    <a:pt x="9" y="50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11" y="33"/>
                  </a:lnTo>
                  <a:lnTo>
                    <a:pt x="20" y="33"/>
                  </a:lnTo>
                  <a:lnTo>
                    <a:pt x="29" y="34"/>
                  </a:lnTo>
                  <a:lnTo>
                    <a:pt x="38" y="34"/>
                  </a:lnTo>
                  <a:lnTo>
                    <a:pt x="48" y="35"/>
                  </a:lnTo>
                  <a:lnTo>
                    <a:pt x="56" y="35"/>
                  </a:lnTo>
                  <a:lnTo>
                    <a:pt x="66" y="35"/>
                  </a:lnTo>
                  <a:lnTo>
                    <a:pt x="76" y="35"/>
                  </a:lnTo>
                  <a:lnTo>
                    <a:pt x="87" y="36"/>
                  </a:lnTo>
                  <a:lnTo>
                    <a:pt x="113" y="29"/>
                  </a:lnTo>
                  <a:lnTo>
                    <a:pt x="115" y="30"/>
                  </a:lnTo>
                  <a:lnTo>
                    <a:pt x="114" y="36"/>
                  </a:lnTo>
                  <a:lnTo>
                    <a:pt x="110" y="42"/>
                  </a:lnTo>
                  <a:lnTo>
                    <a:pt x="107" y="42"/>
                  </a:lnTo>
                  <a:lnTo>
                    <a:pt x="99" y="29"/>
                  </a:lnTo>
                  <a:lnTo>
                    <a:pt x="92" y="21"/>
                  </a:lnTo>
                  <a:lnTo>
                    <a:pt x="83" y="16"/>
                  </a:lnTo>
                  <a:lnTo>
                    <a:pt x="76" y="15"/>
                  </a:lnTo>
                  <a:lnTo>
                    <a:pt x="65" y="14"/>
                  </a:lnTo>
                  <a:lnTo>
                    <a:pt x="54" y="17"/>
                  </a:lnTo>
                  <a:lnTo>
                    <a:pt x="42" y="20"/>
                  </a:lnTo>
                  <a:lnTo>
                    <a:pt x="30" y="25"/>
                  </a:lnTo>
                  <a:lnTo>
                    <a:pt x="24" y="24"/>
                  </a:lnTo>
                  <a:lnTo>
                    <a:pt x="22" y="21"/>
                  </a:lnTo>
                  <a:lnTo>
                    <a:pt x="22" y="16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7328160" y="5389560"/>
              <a:ext cx="104400" cy="66600"/>
            </a:xfrm>
            <a:custGeom>
              <a:avLst/>
              <a:gdLst/>
              <a:ahLst/>
              <a:rect l="l" t="t" r="r" b="b"/>
              <a:pathLst>
                <a:path w="133" h="84">
                  <a:moveTo>
                    <a:pt x="5" y="34"/>
                  </a:moveTo>
                  <a:lnTo>
                    <a:pt x="17" y="25"/>
                  </a:lnTo>
                  <a:lnTo>
                    <a:pt x="35" y="16"/>
                  </a:lnTo>
                  <a:lnTo>
                    <a:pt x="56" y="8"/>
                  </a:lnTo>
                  <a:lnTo>
                    <a:pt x="78" y="2"/>
                  </a:lnTo>
                  <a:lnTo>
                    <a:pt x="99" y="0"/>
                  </a:lnTo>
                  <a:lnTo>
                    <a:pt x="116" y="6"/>
                  </a:lnTo>
                  <a:lnTo>
                    <a:pt x="128" y="20"/>
                  </a:lnTo>
                  <a:lnTo>
                    <a:pt x="133" y="44"/>
                  </a:lnTo>
                  <a:lnTo>
                    <a:pt x="132" y="49"/>
                  </a:lnTo>
                  <a:lnTo>
                    <a:pt x="130" y="53"/>
                  </a:lnTo>
                  <a:lnTo>
                    <a:pt x="122" y="57"/>
                  </a:lnTo>
                  <a:lnTo>
                    <a:pt x="116" y="61"/>
                  </a:lnTo>
                  <a:lnTo>
                    <a:pt x="110" y="65"/>
                  </a:lnTo>
                  <a:lnTo>
                    <a:pt x="106" y="69"/>
                  </a:lnTo>
                  <a:lnTo>
                    <a:pt x="101" y="72"/>
                  </a:lnTo>
                  <a:lnTo>
                    <a:pt x="95" y="75"/>
                  </a:lnTo>
                  <a:lnTo>
                    <a:pt x="89" y="79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71" y="80"/>
                  </a:lnTo>
                  <a:lnTo>
                    <a:pt x="68" y="72"/>
                  </a:lnTo>
                  <a:lnTo>
                    <a:pt x="74" y="67"/>
                  </a:lnTo>
                  <a:lnTo>
                    <a:pt x="79" y="63"/>
                  </a:lnTo>
                  <a:lnTo>
                    <a:pt x="86" y="59"/>
                  </a:lnTo>
                  <a:lnTo>
                    <a:pt x="90" y="56"/>
                  </a:lnTo>
                  <a:lnTo>
                    <a:pt x="95" y="53"/>
                  </a:lnTo>
                  <a:lnTo>
                    <a:pt x="100" y="49"/>
                  </a:lnTo>
                  <a:lnTo>
                    <a:pt x="105" y="45"/>
                  </a:lnTo>
                  <a:lnTo>
                    <a:pt x="110" y="41"/>
                  </a:lnTo>
                  <a:lnTo>
                    <a:pt x="117" y="37"/>
                  </a:lnTo>
                  <a:lnTo>
                    <a:pt x="115" y="40"/>
                  </a:lnTo>
                  <a:lnTo>
                    <a:pt x="113" y="43"/>
                  </a:lnTo>
                  <a:lnTo>
                    <a:pt x="113" y="44"/>
                  </a:lnTo>
                  <a:lnTo>
                    <a:pt x="108" y="25"/>
                  </a:lnTo>
                  <a:lnTo>
                    <a:pt x="99" y="15"/>
                  </a:lnTo>
                  <a:lnTo>
                    <a:pt x="85" y="13"/>
                  </a:lnTo>
                  <a:lnTo>
                    <a:pt x="70" y="17"/>
                  </a:lnTo>
                  <a:lnTo>
                    <a:pt x="51" y="24"/>
                  </a:lnTo>
                  <a:lnTo>
                    <a:pt x="35" y="32"/>
                  </a:lnTo>
                  <a:lnTo>
                    <a:pt x="21" y="40"/>
                  </a:lnTo>
                  <a:lnTo>
                    <a:pt x="11" y="48"/>
                  </a:lnTo>
                  <a:lnTo>
                    <a:pt x="5" y="46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372080" y="5445000"/>
              <a:ext cx="75960" cy="4752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6" y="17"/>
                  </a:moveTo>
                  <a:lnTo>
                    <a:pt x="30" y="9"/>
                  </a:lnTo>
                  <a:lnTo>
                    <a:pt x="53" y="3"/>
                  </a:lnTo>
                  <a:lnTo>
                    <a:pt x="70" y="0"/>
                  </a:lnTo>
                  <a:lnTo>
                    <a:pt x="84" y="1"/>
                  </a:lnTo>
                  <a:lnTo>
                    <a:pt x="93" y="4"/>
                  </a:lnTo>
                  <a:lnTo>
                    <a:pt x="97" y="15"/>
                  </a:lnTo>
                  <a:lnTo>
                    <a:pt x="96" y="30"/>
                  </a:lnTo>
                  <a:lnTo>
                    <a:pt x="92" y="53"/>
                  </a:lnTo>
                  <a:lnTo>
                    <a:pt x="88" y="56"/>
                  </a:lnTo>
                  <a:lnTo>
                    <a:pt x="84" y="59"/>
                  </a:lnTo>
                  <a:lnTo>
                    <a:pt x="74" y="59"/>
                  </a:lnTo>
                  <a:lnTo>
                    <a:pt x="66" y="60"/>
                  </a:lnTo>
                  <a:lnTo>
                    <a:pt x="57" y="60"/>
                  </a:lnTo>
                  <a:lnTo>
                    <a:pt x="50" y="61"/>
                  </a:lnTo>
                  <a:lnTo>
                    <a:pt x="41" y="61"/>
                  </a:lnTo>
                  <a:lnTo>
                    <a:pt x="34" y="61"/>
                  </a:lnTo>
                  <a:lnTo>
                    <a:pt x="25" y="61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9" y="54"/>
                  </a:lnTo>
                  <a:lnTo>
                    <a:pt x="10" y="48"/>
                  </a:lnTo>
                  <a:lnTo>
                    <a:pt x="16" y="46"/>
                  </a:lnTo>
                  <a:lnTo>
                    <a:pt x="24" y="45"/>
                  </a:lnTo>
                  <a:lnTo>
                    <a:pt x="32" y="45"/>
                  </a:lnTo>
                  <a:lnTo>
                    <a:pt x="40" y="44"/>
                  </a:lnTo>
                  <a:lnTo>
                    <a:pt x="49" y="44"/>
                  </a:lnTo>
                  <a:lnTo>
                    <a:pt x="55" y="43"/>
                  </a:lnTo>
                  <a:lnTo>
                    <a:pt x="64" y="42"/>
                  </a:lnTo>
                  <a:lnTo>
                    <a:pt x="71" y="41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8" y="44"/>
                  </a:lnTo>
                  <a:lnTo>
                    <a:pt x="74" y="46"/>
                  </a:lnTo>
                  <a:lnTo>
                    <a:pt x="78" y="30"/>
                  </a:lnTo>
                  <a:lnTo>
                    <a:pt x="78" y="21"/>
                  </a:lnTo>
                  <a:lnTo>
                    <a:pt x="73" y="15"/>
                  </a:lnTo>
                  <a:lnTo>
                    <a:pt x="67" y="14"/>
                  </a:lnTo>
                  <a:lnTo>
                    <a:pt x="56" y="14"/>
                  </a:lnTo>
                  <a:lnTo>
                    <a:pt x="42" y="18"/>
                  </a:lnTo>
                  <a:lnTo>
                    <a:pt x="26" y="24"/>
                  </a:lnTo>
                  <a:lnTo>
                    <a:pt x="9" y="30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305480" y="5524200"/>
              <a:ext cx="94680" cy="54000"/>
            </a:xfrm>
            <a:custGeom>
              <a:avLst/>
              <a:gdLst/>
              <a:ahLst/>
              <a:rect l="l" t="t" r="r" b="b"/>
              <a:pathLst>
                <a:path w="119" h="70">
                  <a:moveTo>
                    <a:pt x="8" y="0"/>
                  </a:moveTo>
                  <a:lnTo>
                    <a:pt x="37" y="1"/>
                  </a:lnTo>
                  <a:lnTo>
                    <a:pt x="58" y="3"/>
                  </a:lnTo>
                  <a:lnTo>
                    <a:pt x="70" y="4"/>
                  </a:lnTo>
                  <a:lnTo>
                    <a:pt x="81" y="6"/>
                  </a:lnTo>
                  <a:lnTo>
                    <a:pt x="88" y="9"/>
                  </a:lnTo>
                  <a:lnTo>
                    <a:pt x="94" y="14"/>
                  </a:lnTo>
                  <a:lnTo>
                    <a:pt x="103" y="22"/>
                  </a:lnTo>
                  <a:lnTo>
                    <a:pt x="116" y="35"/>
                  </a:lnTo>
                  <a:lnTo>
                    <a:pt x="119" y="42"/>
                  </a:lnTo>
                  <a:lnTo>
                    <a:pt x="116" y="49"/>
                  </a:lnTo>
                  <a:lnTo>
                    <a:pt x="95" y="68"/>
                  </a:lnTo>
                  <a:lnTo>
                    <a:pt x="84" y="69"/>
                  </a:lnTo>
                  <a:lnTo>
                    <a:pt x="75" y="70"/>
                  </a:lnTo>
                  <a:lnTo>
                    <a:pt x="65" y="70"/>
                  </a:lnTo>
                  <a:lnTo>
                    <a:pt x="57" y="70"/>
                  </a:lnTo>
                  <a:lnTo>
                    <a:pt x="47" y="68"/>
                  </a:lnTo>
                  <a:lnTo>
                    <a:pt x="38" y="67"/>
                  </a:lnTo>
                  <a:lnTo>
                    <a:pt x="29" y="66"/>
                  </a:lnTo>
                  <a:lnTo>
                    <a:pt x="19" y="64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15" y="48"/>
                  </a:lnTo>
                  <a:lnTo>
                    <a:pt x="22" y="47"/>
                  </a:lnTo>
                  <a:lnTo>
                    <a:pt x="31" y="48"/>
                  </a:lnTo>
                  <a:lnTo>
                    <a:pt x="39" y="49"/>
                  </a:lnTo>
                  <a:lnTo>
                    <a:pt x="47" y="51"/>
                  </a:lnTo>
                  <a:lnTo>
                    <a:pt x="54" y="53"/>
                  </a:lnTo>
                  <a:lnTo>
                    <a:pt x="61" y="53"/>
                  </a:lnTo>
                  <a:lnTo>
                    <a:pt x="68" y="53"/>
                  </a:lnTo>
                  <a:lnTo>
                    <a:pt x="77" y="52"/>
                  </a:lnTo>
                  <a:lnTo>
                    <a:pt x="87" y="52"/>
                  </a:lnTo>
                  <a:lnTo>
                    <a:pt x="103" y="35"/>
                  </a:lnTo>
                  <a:lnTo>
                    <a:pt x="105" y="35"/>
                  </a:lnTo>
                  <a:lnTo>
                    <a:pt x="105" y="42"/>
                  </a:lnTo>
                  <a:lnTo>
                    <a:pt x="104" y="47"/>
                  </a:lnTo>
                  <a:lnTo>
                    <a:pt x="102" y="49"/>
                  </a:lnTo>
                  <a:lnTo>
                    <a:pt x="90" y="37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2" y="18"/>
                  </a:lnTo>
                  <a:lnTo>
                    <a:pt x="50" y="17"/>
                  </a:lnTo>
                  <a:lnTo>
                    <a:pt x="32" y="16"/>
                  </a:lnTo>
                  <a:lnTo>
                    <a:pt x="7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2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292520" y="5603760"/>
              <a:ext cx="107640" cy="65160"/>
            </a:xfrm>
            <a:custGeom>
              <a:avLst/>
              <a:gdLst/>
              <a:ahLst/>
              <a:rect l="l" t="t" r="r" b="b"/>
              <a:pathLst>
                <a:path w="135" h="83">
                  <a:moveTo>
                    <a:pt x="15" y="10"/>
                  </a:moveTo>
                  <a:lnTo>
                    <a:pt x="29" y="6"/>
                  </a:lnTo>
                  <a:lnTo>
                    <a:pt x="49" y="3"/>
                  </a:lnTo>
                  <a:lnTo>
                    <a:pt x="70" y="0"/>
                  </a:lnTo>
                  <a:lnTo>
                    <a:pt x="93" y="0"/>
                  </a:lnTo>
                  <a:lnTo>
                    <a:pt x="111" y="2"/>
                  </a:lnTo>
                  <a:lnTo>
                    <a:pt x="127" y="12"/>
                  </a:lnTo>
                  <a:lnTo>
                    <a:pt x="135" y="28"/>
                  </a:lnTo>
                  <a:lnTo>
                    <a:pt x="135" y="54"/>
                  </a:lnTo>
                  <a:lnTo>
                    <a:pt x="127" y="63"/>
                  </a:lnTo>
                  <a:lnTo>
                    <a:pt x="116" y="72"/>
                  </a:lnTo>
                  <a:lnTo>
                    <a:pt x="100" y="77"/>
                  </a:lnTo>
                  <a:lnTo>
                    <a:pt x="81" y="82"/>
                  </a:lnTo>
                  <a:lnTo>
                    <a:pt x="60" y="82"/>
                  </a:lnTo>
                  <a:lnTo>
                    <a:pt x="41" y="83"/>
                  </a:lnTo>
                  <a:lnTo>
                    <a:pt x="24" y="80"/>
                  </a:lnTo>
                  <a:lnTo>
                    <a:pt x="12" y="77"/>
                  </a:lnTo>
                  <a:lnTo>
                    <a:pt x="8" y="75"/>
                  </a:lnTo>
                  <a:lnTo>
                    <a:pt x="7" y="71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5" y="29"/>
                  </a:lnTo>
                  <a:lnTo>
                    <a:pt x="10" y="30"/>
                  </a:lnTo>
                  <a:lnTo>
                    <a:pt x="16" y="35"/>
                  </a:lnTo>
                  <a:lnTo>
                    <a:pt x="25" y="67"/>
                  </a:lnTo>
                  <a:lnTo>
                    <a:pt x="23" y="66"/>
                  </a:lnTo>
                  <a:lnTo>
                    <a:pt x="21" y="63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30" y="61"/>
                  </a:lnTo>
                  <a:lnTo>
                    <a:pt x="43" y="65"/>
                  </a:lnTo>
                  <a:lnTo>
                    <a:pt x="58" y="66"/>
                  </a:lnTo>
                  <a:lnTo>
                    <a:pt x="75" y="67"/>
                  </a:lnTo>
                  <a:lnTo>
                    <a:pt x="89" y="66"/>
                  </a:lnTo>
                  <a:lnTo>
                    <a:pt x="103" y="62"/>
                  </a:lnTo>
                  <a:lnTo>
                    <a:pt x="111" y="57"/>
                  </a:lnTo>
                  <a:lnTo>
                    <a:pt x="118" y="49"/>
                  </a:lnTo>
                  <a:lnTo>
                    <a:pt x="118" y="29"/>
                  </a:lnTo>
                  <a:lnTo>
                    <a:pt x="111" y="16"/>
                  </a:lnTo>
                  <a:lnTo>
                    <a:pt x="98" y="10"/>
                  </a:lnTo>
                  <a:lnTo>
                    <a:pt x="82" y="10"/>
                  </a:lnTo>
                  <a:lnTo>
                    <a:pt x="63" y="11"/>
                  </a:lnTo>
                  <a:lnTo>
                    <a:pt x="45" y="15"/>
                  </a:lnTo>
                  <a:lnTo>
                    <a:pt x="29" y="19"/>
                  </a:lnTo>
                  <a:lnTo>
                    <a:pt x="17" y="23"/>
                  </a:lnTo>
                  <a:lnTo>
                    <a:pt x="11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418520" y="5634000"/>
              <a:ext cx="110880" cy="69840"/>
            </a:xfrm>
            <a:custGeom>
              <a:avLst/>
              <a:gdLst/>
              <a:ahLst/>
              <a:rect l="l" t="t" r="r" b="b"/>
              <a:pathLst>
                <a:path w="141" h="89">
                  <a:moveTo>
                    <a:pt x="69" y="16"/>
                  </a:moveTo>
                  <a:lnTo>
                    <a:pt x="50" y="23"/>
                  </a:lnTo>
                  <a:lnTo>
                    <a:pt x="37" y="30"/>
                  </a:lnTo>
                  <a:lnTo>
                    <a:pt x="28" y="33"/>
                  </a:lnTo>
                  <a:lnTo>
                    <a:pt x="25" y="37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9" y="60"/>
                  </a:lnTo>
                  <a:lnTo>
                    <a:pt x="36" y="77"/>
                  </a:lnTo>
                  <a:lnTo>
                    <a:pt x="32" y="77"/>
                  </a:lnTo>
                  <a:lnTo>
                    <a:pt x="28" y="75"/>
                  </a:lnTo>
                  <a:lnTo>
                    <a:pt x="24" y="71"/>
                  </a:lnTo>
                  <a:lnTo>
                    <a:pt x="25" y="69"/>
                  </a:lnTo>
                  <a:lnTo>
                    <a:pt x="42" y="66"/>
                  </a:lnTo>
                  <a:lnTo>
                    <a:pt x="58" y="64"/>
                  </a:lnTo>
                  <a:lnTo>
                    <a:pt x="71" y="61"/>
                  </a:lnTo>
                  <a:lnTo>
                    <a:pt x="83" y="59"/>
                  </a:lnTo>
                  <a:lnTo>
                    <a:pt x="93" y="53"/>
                  </a:lnTo>
                  <a:lnTo>
                    <a:pt x="103" y="49"/>
                  </a:lnTo>
                  <a:lnTo>
                    <a:pt x="114" y="43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29" y="44"/>
                  </a:lnTo>
                  <a:lnTo>
                    <a:pt x="127" y="50"/>
                  </a:lnTo>
                  <a:lnTo>
                    <a:pt x="125" y="51"/>
                  </a:lnTo>
                  <a:lnTo>
                    <a:pt x="95" y="19"/>
                  </a:lnTo>
                  <a:lnTo>
                    <a:pt x="91" y="13"/>
                  </a:lnTo>
                  <a:lnTo>
                    <a:pt x="94" y="7"/>
                  </a:lnTo>
                  <a:lnTo>
                    <a:pt x="99" y="4"/>
                  </a:lnTo>
                  <a:lnTo>
                    <a:pt x="107" y="7"/>
                  </a:lnTo>
                  <a:lnTo>
                    <a:pt x="138" y="37"/>
                  </a:lnTo>
                  <a:lnTo>
                    <a:pt x="141" y="45"/>
                  </a:lnTo>
                  <a:lnTo>
                    <a:pt x="137" y="52"/>
                  </a:lnTo>
                  <a:lnTo>
                    <a:pt x="123" y="59"/>
                  </a:lnTo>
                  <a:lnTo>
                    <a:pt x="112" y="66"/>
                  </a:lnTo>
                  <a:lnTo>
                    <a:pt x="101" y="72"/>
                  </a:lnTo>
                  <a:lnTo>
                    <a:pt x="90" y="77"/>
                  </a:lnTo>
                  <a:lnTo>
                    <a:pt x="76" y="80"/>
                  </a:lnTo>
                  <a:lnTo>
                    <a:pt x="63" y="83"/>
                  </a:lnTo>
                  <a:lnTo>
                    <a:pt x="46" y="86"/>
                  </a:lnTo>
                  <a:lnTo>
                    <a:pt x="27" y="89"/>
                  </a:lnTo>
                  <a:lnTo>
                    <a:pt x="19" y="88"/>
                  </a:lnTo>
                  <a:lnTo>
                    <a:pt x="16" y="82"/>
                  </a:lnTo>
                  <a:lnTo>
                    <a:pt x="8" y="59"/>
                  </a:lnTo>
                  <a:lnTo>
                    <a:pt x="3" y="45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8" y="24"/>
                  </a:lnTo>
                  <a:lnTo>
                    <a:pt x="18" y="20"/>
                  </a:lnTo>
                  <a:lnTo>
                    <a:pt x="36" y="13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72" y="5"/>
                  </a:lnTo>
                  <a:lnTo>
                    <a:pt x="72" y="10"/>
                  </a:lnTo>
                  <a:lnTo>
                    <a:pt x="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572600" y="5621040"/>
              <a:ext cx="91440" cy="763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70" y="12"/>
                  </a:moveTo>
                  <a:lnTo>
                    <a:pt x="57" y="19"/>
                  </a:lnTo>
                  <a:lnTo>
                    <a:pt x="44" y="25"/>
                  </a:lnTo>
                  <a:lnTo>
                    <a:pt x="31" y="33"/>
                  </a:lnTo>
                  <a:lnTo>
                    <a:pt x="22" y="42"/>
                  </a:lnTo>
                  <a:lnTo>
                    <a:pt x="14" y="49"/>
                  </a:lnTo>
                  <a:lnTo>
                    <a:pt x="12" y="58"/>
                  </a:lnTo>
                  <a:lnTo>
                    <a:pt x="14" y="67"/>
                  </a:lnTo>
                  <a:lnTo>
                    <a:pt x="25" y="77"/>
                  </a:lnTo>
                  <a:lnTo>
                    <a:pt x="42" y="72"/>
                  </a:lnTo>
                  <a:lnTo>
                    <a:pt x="57" y="67"/>
                  </a:lnTo>
                  <a:lnTo>
                    <a:pt x="67" y="62"/>
                  </a:lnTo>
                  <a:lnTo>
                    <a:pt x="77" y="57"/>
                  </a:lnTo>
                  <a:lnTo>
                    <a:pt x="82" y="49"/>
                  </a:lnTo>
                  <a:lnTo>
                    <a:pt x="88" y="42"/>
                  </a:lnTo>
                  <a:lnTo>
                    <a:pt x="93" y="30"/>
                  </a:lnTo>
                  <a:lnTo>
                    <a:pt x="98" y="17"/>
                  </a:lnTo>
                  <a:lnTo>
                    <a:pt x="101" y="10"/>
                  </a:lnTo>
                  <a:lnTo>
                    <a:pt x="109" y="11"/>
                  </a:lnTo>
                  <a:lnTo>
                    <a:pt x="113" y="15"/>
                  </a:lnTo>
                  <a:lnTo>
                    <a:pt x="115" y="22"/>
                  </a:lnTo>
                  <a:lnTo>
                    <a:pt x="109" y="37"/>
                  </a:lnTo>
                  <a:lnTo>
                    <a:pt x="102" y="51"/>
                  </a:lnTo>
                  <a:lnTo>
                    <a:pt x="95" y="61"/>
                  </a:lnTo>
                  <a:lnTo>
                    <a:pt x="86" y="71"/>
                  </a:lnTo>
                  <a:lnTo>
                    <a:pt x="74" y="76"/>
                  </a:lnTo>
                  <a:lnTo>
                    <a:pt x="60" y="82"/>
                  </a:lnTo>
                  <a:lnTo>
                    <a:pt x="43" y="89"/>
                  </a:lnTo>
                  <a:lnTo>
                    <a:pt x="22" y="95"/>
                  </a:lnTo>
                  <a:lnTo>
                    <a:pt x="7" y="81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7" y="44"/>
                  </a:lnTo>
                  <a:lnTo>
                    <a:pt x="16" y="31"/>
                  </a:lnTo>
                  <a:lnTo>
                    <a:pt x="30" y="20"/>
                  </a:lnTo>
                  <a:lnTo>
                    <a:pt x="46" y="9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2" y="3"/>
                  </a:lnTo>
                  <a:lnTo>
                    <a:pt x="73" y="7"/>
                  </a:lnTo>
                  <a:lnTo>
                    <a:pt x="7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408800" y="5499000"/>
              <a:ext cx="109440" cy="54000"/>
            </a:xfrm>
            <a:custGeom>
              <a:avLst/>
              <a:gdLst/>
              <a:ahLst/>
              <a:rect l="l" t="t" r="r" b="b"/>
              <a:pathLst>
                <a:path w="139" h="69">
                  <a:moveTo>
                    <a:pt x="6" y="14"/>
                  </a:moveTo>
                  <a:lnTo>
                    <a:pt x="22" y="11"/>
                  </a:lnTo>
                  <a:lnTo>
                    <a:pt x="38" y="8"/>
                  </a:lnTo>
                  <a:lnTo>
                    <a:pt x="52" y="6"/>
                  </a:lnTo>
                  <a:lnTo>
                    <a:pt x="66" y="5"/>
                  </a:lnTo>
                  <a:lnTo>
                    <a:pt x="79" y="3"/>
                  </a:lnTo>
                  <a:lnTo>
                    <a:pt x="94" y="2"/>
                  </a:lnTo>
                  <a:lnTo>
                    <a:pt x="10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4" y="6"/>
                  </a:lnTo>
                  <a:lnTo>
                    <a:pt x="134" y="15"/>
                  </a:lnTo>
                  <a:lnTo>
                    <a:pt x="137" y="24"/>
                  </a:lnTo>
                  <a:lnTo>
                    <a:pt x="137" y="32"/>
                  </a:lnTo>
                  <a:lnTo>
                    <a:pt x="139" y="42"/>
                  </a:lnTo>
                  <a:lnTo>
                    <a:pt x="138" y="47"/>
                  </a:lnTo>
                  <a:lnTo>
                    <a:pt x="133" y="51"/>
                  </a:lnTo>
                  <a:lnTo>
                    <a:pt x="79" y="69"/>
                  </a:lnTo>
                  <a:lnTo>
                    <a:pt x="33" y="61"/>
                  </a:lnTo>
                  <a:lnTo>
                    <a:pt x="28" y="58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34" y="49"/>
                  </a:lnTo>
                  <a:lnTo>
                    <a:pt x="76" y="51"/>
                  </a:lnTo>
                  <a:lnTo>
                    <a:pt x="128" y="34"/>
                  </a:lnTo>
                  <a:lnTo>
                    <a:pt x="128" y="35"/>
                  </a:lnTo>
                  <a:lnTo>
                    <a:pt x="126" y="40"/>
                  </a:lnTo>
                  <a:lnTo>
                    <a:pt x="123" y="43"/>
                  </a:lnTo>
                  <a:lnTo>
                    <a:pt x="122" y="44"/>
                  </a:lnTo>
                  <a:lnTo>
                    <a:pt x="120" y="33"/>
                  </a:lnTo>
                  <a:lnTo>
                    <a:pt x="119" y="26"/>
                  </a:lnTo>
                  <a:lnTo>
                    <a:pt x="118" y="16"/>
                  </a:lnTo>
                  <a:lnTo>
                    <a:pt x="118" y="7"/>
                  </a:lnTo>
                  <a:lnTo>
                    <a:pt x="119" y="5"/>
                  </a:lnTo>
                  <a:lnTo>
                    <a:pt x="124" y="8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10" y="15"/>
                  </a:lnTo>
                  <a:lnTo>
                    <a:pt x="95" y="17"/>
                  </a:lnTo>
                  <a:lnTo>
                    <a:pt x="80" y="17"/>
                  </a:lnTo>
                  <a:lnTo>
                    <a:pt x="67" y="19"/>
                  </a:lnTo>
                  <a:lnTo>
                    <a:pt x="53" y="20"/>
                  </a:lnTo>
                  <a:lnTo>
                    <a:pt x="39" y="22"/>
                  </a:lnTo>
                  <a:lnTo>
                    <a:pt x="23" y="25"/>
                  </a:lnTo>
                  <a:lnTo>
                    <a:pt x="8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419600" y="5419440"/>
              <a:ext cx="114120" cy="63720"/>
            </a:xfrm>
            <a:custGeom>
              <a:avLst/>
              <a:gdLst/>
              <a:ahLst/>
              <a:rect l="l" t="t" r="r" b="b"/>
              <a:pathLst>
                <a:path w="143" h="81">
                  <a:moveTo>
                    <a:pt x="7" y="3"/>
                  </a:moveTo>
                  <a:lnTo>
                    <a:pt x="26" y="1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78" y="1"/>
                  </a:lnTo>
                  <a:lnTo>
                    <a:pt x="93" y="1"/>
                  </a:lnTo>
                  <a:lnTo>
                    <a:pt x="109" y="4"/>
                  </a:lnTo>
                  <a:lnTo>
                    <a:pt x="124" y="6"/>
                  </a:lnTo>
                  <a:lnTo>
                    <a:pt x="138" y="12"/>
                  </a:lnTo>
                  <a:lnTo>
                    <a:pt x="143" y="15"/>
                  </a:lnTo>
                  <a:lnTo>
                    <a:pt x="143" y="21"/>
                  </a:lnTo>
                  <a:lnTo>
                    <a:pt x="134" y="50"/>
                  </a:lnTo>
                  <a:lnTo>
                    <a:pt x="124" y="55"/>
                  </a:lnTo>
                  <a:lnTo>
                    <a:pt x="118" y="60"/>
                  </a:lnTo>
                  <a:lnTo>
                    <a:pt x="111" y="64"/>
                  </a:lnTo>
                  <a:lnTo>
                    <a:pt x="104" y="70"/>
                  </a:lnTo>
                  <a:lnTo>
                    <a:pt x="97" y="72"/>
                  </a:lnTo>
                  <a:lnTo>
                    <a:pt x="89" y="75"/>
                  </a:lnTo>
                  <a:lnTo>
                    <a:pt x="79" y="77"/>
                  </a:lnTo>
                  <a:lnTo>
                    <a:pt x="71" y="81"/>
                  </a:lnTo>
                  <a:lnTo>
                    <a:pt x="63" y="78"/>
                  </a:lnTo>
                  <a:lnTo>
                    <a:pt x="60" y="73"/>
                  </a:lnTo>
                  <a:lnTo>
                    <a:pt x="60" y="67"/>
                  </a:lnTo>
                  <a:lnTo>
                    <a:pt x="67" y="63"/>
                  </a:lnTo>
                  <a:lnTo>
                    <a:pt x="75" y="61"/>
                  </a:lnTo>
                  <a:lnTo>
                    <a:pt x="83" y="59"/>
                  </a:lnTo>
                  <a:lnTo>
                    <a:pt x="88" y="57"/>
                  </a:lnTo>
                  <a:lnTo>
                    <a:pt x="94" y="55"/>
                  </a:lnTo>
                  <a:lnTo>
                    <a:pt x="99" y="52"/>
                  </a:lnTo>
                  <a:lnTo>
                    <a:pt x="105" y="48"/>
                  </a:lnTo>
                  <a:lnTo>
                    <a:pt x="112" y="44"/>
                  </a:lnTo>
                  <a:lnTo>
                    <a:pt x="119" y="40"/>
                  </a:lnTo>
                  <a:lnTo>
                    <a:pt x="128" y="16"/>
                  </a:lnTo>
                  <a:lnTo>
                    <a:pt x="129" y="16"/>
                  </a:lnTo>
                  <a:lnTo>
                    <a:pt x="132" y="20"/>
                  </a:lnTo>
                  <a:lnTo>
                    <a:pt x="133" y="25"/>
                  </a:lnTo>
                  <a:lnTo>
                    <a:pt x="132" y="27"/>
                  </a:lnTo>
                  <a:lnTo>
                    <a:pt x="118" y="21"/>
                  </a:lnTo>
                  <a:lnTo>
                    <a:pt x="105" y="19"/>
                  </a:lnTo>
                  <a:lnTo>
                    <a:pt x="90" y="16"/>
                  </a:lnTo>
                  <a:lnTo>
                    <a:pt x="76" y="16"/>
                  </a:lnTo>
                  <a:lnTo>
                    <a:pt x="59" y="15"/>
                  </a:lnTo>
                  <a:lnTo>
                    <a:pt x="43" y="15"/>
                  </a:lnTo>
                  <a:lnTo>
                    <a:pt x="26" y="15"/>
                  </a:lnTo>
                  <a:lnTo>
                    <a:pt x="8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499520" y="5378400"/>
              <a:ext cx="96480" cy="55440"/>
            </a:xfrm>
            <a:custGeom>
              <a:avLst/>
              <a:gdLst/>
              <a:ahLst/>
              <a:rect l="l" t="t" r="r" b="b"/>
              <a:pathLst>
                <a:path w="122" h="69">
                  <a:moveTo>
                    <a:pt x="31" y="7"/>
                  </a:moveTo>
                  <a:lnTo>
                    <a:pt x="44" y="2"/>
                  </a:lnTo>
                  <a:lnTo>
                    <a:pt x="59" y="1"/>
                  </a:lnTo>
                  <a:lnTo>
                    <a:pt x="73" y="0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09" y="12"/>
                  </a:lnTo>
                  <a:lnTo>
                    <a:pt x="116" y="21"/>
                  </a:lnTo>
                  <a:lnTo>
                    <a:pt x="122" y="34"/>
                  </a:lnTo>
                  <a:lnTo>
                    <a:pt x="121" y="39"/>
                  </a:lnTo>
                  <a:lnTo>
                    <a:pt x="117" y="43"/>
                  </a:lnTo>
                  <a:lnTo>
                    <a:pt x="106" y="49"/>
                  </a:lnTo>
                  <a:lnTo>
                    <a:pt x="95" y="54"/>
                  </a:lnTo>
                  <a:lnTo>
                    <a:pt x="82" y="58"/>
                  </a:lnTo>
                  <a:lnTo>
                    <a:pt x="70" y="63"/>
                  </a:lnTo>
                  <a:lnTo>
                    <a:pt x="56" y="65"/>
                  </a:lnTo>
                  <a:lnTo>
                    <a:pt x="41" y="67"/>
                  </a:lnTo>
                  <a:lnTo>
                    <a:pt x="24" y="68"/>
                  </a:lnTo>
                  <a:lnTo>
                    <a:pt x="7" y="69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1" y="57"/>
                  </a:lnTo>
                  <a:lnTo>
                    <a:pt x="7" y="56"/>
                  </a:lnTo>
                  <a:lnTo>
                    <a:pt x="22" y="55"/>
                  </a:lnTo>
                  <a:lnTo>
                    <a:pt x="38" y="53"/>
                  </a:lnTo>
                  <a:lnTo>
                    <a:pt x="51" y="50"/>
                  </a:lnTo>
                  <a:lnTo>
                    <a:pt x="65" y="48"/>
                  </a:lnTo>
                  <a:lnTo>
                    <a:pt x="77" y="43"/>
                  </a:lnTo>
                  <a:lnTo>
                    <a:pt x="88" y="39"/>
                  </a:lnTo>
                  <a:lnTo>
                    <a:pt x="98" y="34"/>
                  </a:lnTo>
                  <a:lnTo>
                    <a:pt x="109" y="28"/>
                  </a:lnTo>
                  <a:lnTo>
                    <a:pt x="108" y="33"/>
                  </a:lnTo>
                  <a:lnTo>
                    <a:pt x="106" y="36"/>
                  </a:lnTo>
                  <a:lnTo>
                    <a:pt x="105" y="37"/>
                  </a:lnTo>
                  <a:lnTo>
                    <a:pt x="100" y="27"/>
                  </a:lnTo>
                  <a:lnTo>
                    <a:pt x="94" y="21"/>
                  </a:lnTo>
                  <a:lnTo>
                    <a:pt x="86" y="16"/>
                  </a:lnTo>
                  <a:lnTo>
                    <a:pt x="78" y="14"/>
                  </a:lnTo>
                  <a:lnTo>
                    <a:pt x="67" y="13"/>
                  </a:lnTo>
                  <a:lnTo>
                    <a:pt x="56" y="14"/>
                  </a:lnTo>
                  <a:lnTo>
                    <a:pt x="45" y="16"/>
                  </a:lnTo>
                  <a:lnTo>
                    <a:pt x="36" y="20"/>
                  </a:lnTo>
                  <a:lnTo>
                    <a:pt x="29" y="19"/>
                  </a:lnTo>
                  <a:lnTo>
                    <a:pt x="27" y="15"/>
                  </a:lnTo>
                  <a:lnTo>
                    <a:pt x="27" y="1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537680" y="5348160"/>
              <a:ext cx="99360" cy="50760"/>
            </a:xfrm>
            <a:custGeom>
              <a:avLst/>
              <a:gdLst/>
              <a:ahLst/>
              <a:rect l="l" t="t" r="r" b="b"/>
              <a:pathLst>
                <a:path w="125" h="62">
                  <a:moveTo>
                    <a:pt x="5" y="14"/>
                  </a:moveTo>
                  <a:lnTo>
                    <a:pt x="18" y="10"/>
                  </a:lnTo>
                  <a:lnTo>
                    <a:pt x="32" y="7"/>
                  </a:lnTo>
                  <a:lnTo>
                    <a:pt x="46" y="4"/>
                  </a:lnTo>
                  <a:lnTo>
                    <a:pt x="60" y="2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18" y="3"/>
                  </a:lnTo>
                  <a:lnTo>
                    <a:pt x="123" y="6"/>
                  </a:lnTo>
                  <a:lnTo>
                    <a:pt x="125" y="13"/>
                  </a:lnTo>
                  <a:lnTo>
                    <a:pt x="120" y="47"/>
                  </a:lnTo>
                  <a:lnTo>
                    <a:pt x="114" y="50"/>
                  </a:lnTo>
                  <a:lnTo>
                    <a:pt x="107" y="53"/>
                  </a:lnTo>
                  <a:lnTo>
                    <a:pt x="100" y="56"/>
                  </a:lnTo>
                  <a:lnTo>
                    <a:pt x="92" y="58"/>
                  </a:lnTo>
                  <a:lnTo>
                    <a:pt x="83" y="59"/>
                  </a:lnTo>
                  <a:lnTo>
                    <a:pt x="75" y="61"/>
                  </a:lnTo>
                  <a:lnTo>
                    <a:pt x="65" y="61"/>
                  </a:lnTo>
                  <a:lnTo>
                    <a:pt x="55" y="62"/>
                  </a:lnTo>
                  <a:lnTo>
                    <a:pt x="50" y="60"/>
                  </a:lnTo>
                  <a:lnTo>
                    <a:pt x="49" y="56"/>
                  </a:lnTo>
                  <a:lnTo>
                    <a:pt x="50" y="50"/>
                  </a:lnTo>
                  <a:lnTo>
                    <a:pt x="55" y="49"/>
                  </a:lnTo>
                  <a:lnTo>
                    <a:pt x="63" y="48"/>
                  </a:lnTo>
                  <a:lnTo>
                    <a:pt x="71" y="48"/>
                  </a:lnTo>
                  <a:lnTo>
                    <a:pt x="77" y="47"/>
                  </a:lnTo>
                  <a:lnTo>
                    <a:pt x="83" y="46"/>
                  </a:lnTo>
                  <a:lnTo>
                    <a:pt x="93" y="43"/>
                  </a:lnTo>
                  <a:lnTo>
                    <a:pt x="104" y="37"/>
                  </a:lnTo>
                  <a:lnTo>
                    <a:pt x="108" y="10"/>
                  </a:lnTo>
                  <a:lnTo>
                    <a:pt x="109" y="8"/>
                  </a:lnTo>
                  <a:lnTo>
                    <a:pt x="114" y="13"/>
                  </a:lnTo>
                  <a:lnTo>
                    <a:pt x="116" y="17"/>
                  </a:lnTo>
                  <a:lnTo>
                    <a:pt x="115" y="20"/>
                  </a:lnTo>
                  <a:lnTo>
                    <a:pt x="100" y="17"/>
                  </a:lnTo>
                  <a:lnTo>
                    <a:pt x="86" y="16"/>
                  </a:lnTo>
                  <a:lnTo>
                    <a:pt x="73" y="16"/>
                  </a:lnTo>
                  <a:lnTo>
                    <a:pt x="60" y="17"/>
                  </a:lnTo>
                  <a:lnTo>
                    <a:pt x="46" y="17"/>
                  </a:lnTo>
                  <a:lnTo>
                    <a:pt x="33" y="20"/>
                  </a:lnTo>
                  <a:lnTo>
                    <a:pt x="20" y="23"/>
                  </a:lnTo>
                  <a:lnTo>
                    <a:pt x="7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589520" y="5391000"/>
              <a:ext cx="69480" cy="540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11" y="0"/>
                  </a:moveTo>
                  <a:lnTo>
                    <a:pt x="32" y="2"/>
                  </a:lnTo>
                  <a:lnTo>
                    <a:pt x="52" y="6"/>
                  </a:lnTo>
                  <a:lnTo>
                    <a:pt x="70" y="11"/>
                  </a:lnTo>
                  <a:lnTo>
                    <a:pt x="82" y="21"/>
                  </a:lnTo>
                  <a:lnTo>
                    <a:pt x="88" y="31"/>
                  </a:lnTo>
                  <a:lnTo>
                    <a:pt x="87" y="42"/>
                  </a:lnTo>
                  <a:lnTo>
                    <a:pt x="76" y="55"/>
                  </a:lnTo>
                  <a:lnTo>
                    <a:pt x="57" y="68"/>
                  </a:lnTo>
                  <a:lnTo>
                    <a:pt x="5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8" y="39"/>
                  </a:lnTo>
                  <a:lnTo>
                    <a:pt x="54" y="50"/>
                  </a:lnTo>
                  <a:lnTo>
                    <a:pt x="67" y="41"/>
                  </a:lnTo>
                  <a:lnTo>
                    <a:pt x="73" y="35"/>
                  </a:lnTo>
                  <a:lnTo>
                    <a:pt x="71" y="27"/>
                  </a:lnTo>
                  <a:lnTo>
                    <a:pt x="65" y="23"/>
                  </a:lnTo>
                  <a:lnTo>
                    <a:pt x="53" y="18"/>
                  </a:lnTo>
                  <a:lnTo>
                    <a:pt x="41" y="14"/>
                  </a:lnTo>
                  <a:lnTo>
                    <a:pt x="25" y="12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5" y="6"/>
                  </a:lnTo>
                  <a:lnTo>
                    <a:pt x="6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589880" y="5313240"/>
              <a:ext cx="96480" cy="52200"/>
            </a:xfrm>
            <a:custGeom>
              <a:avLst/>
              <a:gdLst/>
              <a:ahLst/>
              <a:rect l="l" t="t" r="r" b="b"/>
              <a:pathLst>
                <a:path w="123" h="66">
                  <a:moveTo>
                    <a:pt x="7" y="9"/>
                  </a:moveTo>
                  <a:lnTo>
                    <a:pt x="26" y="6"/>
                  </a:lnTo>
                  <a:lnTo>
                    <a:pt x="41" y="3"/>
                  </a:lnTo>
                  <a:lnTo>
                    <a:pt x="52" y="1"/>
                  </a:lnTo>
                  <a:lnTo>
                    <a:pt x="63" y="1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5" y="0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3" y="7"/>
                  </a:lnTo>
                  <a:lnTo>
                    <a:pt x="123" y="11"/>
                  </a:lnTo>
                  <a:lnTo>
                    <a:pt x="122" y="18"/>
                  </a:lnTo>
                  <a:lnTo>
                    <a:pt x="114" y="25"/>
                  </a:lnTo>
                  <a:lnTo>
                    <a:pt x="107" y="34"/>
                  </a:lnTo>
                  <a:lnTo>
                    <a:pt x="97" y="40"/>
                  </a:lnTo>
                  <a:lnTo>
                    <a:pt x="87" y="48"/>
                  </a:lnTo>
                  <a:lnTo>
                    <a:pt x="75" y="53"/>
                  </a:lnTo>
                  <a:lnTo>
                    <a:pt x="63" y="59"/>
                  </a:lnTo>
                  <a:lnTo>
                    <a:pt x="47" y="62"/>
                  </a:lnTo>
                  <a:lnTo>
                    <a:pt x="31" y="66"/>
                  </a:lnTo>
                  <a:lnTo>
                    <a:pt x="26" y="64"/>
                  </a:lnTo>
                  <a:lnTo>
                    <a:pt x="24" y="61"/>
                  </a:lnTo>
                  <a:lnTo>
                    <a:pt x="24" y="55"/>
                  </a:lnTo>
                  <a:lnTo>
                    <a:pt x="29" y="54"/>
                  </a:lnTo>
                  <a:lnTo>
                    <a:pt x="43" y="50"/>
                  </a:lnTo>
                  <a:lnTo>
                    <a:pt x="56" y="47"/>
                  </a:lnTo>
                  <a:lnTo>
                    <a:pt x="67" y="42"/>
                  </a:lnTo>
                  <a:lnTo>
                    <a:pt x="78" y="36"/>
                  </a:lnTo>
                  <a:lnTo>
                    <a:pt x="85" y="29"/>
                  </a:lnTo>
                  <a:lnTo>
                    <a:pt x="93" y="22"/>
                  </a:lnTo>
                  <a:lnTo>
                    <a:pt x="99" y="15"/>
                  </a:lnTo>
                  <a:lnTo>
                    <a:pt x="106" y="7"/>
                  </a:lnTo>
                  <a:lnTo>
                    <a:pt x="110" y="6"/>
                  </a:lnTo>
                  <a:lnTo>
                    <a:pt x="114" y="11"/>
                  </a:lnTo>
                  <a:lnTo>
                    <a:pt x="115" y="18"/>
                  </a:lnTo>
                  <a:lnTo>
                    <a:pt x="112" y="22"/>
                  </a:lnTo>
                  <a:lnTo>
                    <a:pt x="94" y="19"/>
                  </a:lnTo>
                  <a:lnTo>
                    <a:pt x="81" y="18"/>
                  </a:lnTo>
                  <a:lnTo>
                    <a:pt x="70" y="17"/>
                  </a:lnTo>
                  <a:lnTo>
                    <a:pt x="63" y="17"/>
                  </a:lnTo>
                  <a:lnTo>
                    <a:pt x="53" y="17"/>
                  </a:lnTo>
                  <a:lnTo>
                    <a:pt x="42" y="18"/>
                  </a:lnTo>
                  <a:lnTo>
                    <a:pt x="28" y="20"/>
                  </a:lnTo>
                  <a:lnTo>
                    <a:pt x="9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669080" y="5344920"/>
              <a:ext cx="72360" cy="4608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21" y="1"/>
                  </a:moveTo>
                  <a:lnTo>
                    <a:pt x="41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83" y="5"/>
                  </a:lnTo>
                  <a:lnTo>
                    <a:pt x="90" y="9"/>
                  </a:lnTo>
                  <a:lnTo>
                    <a:pt x="93" y="18"/>
                  </a:lnTo>
                  <a:lnTo>
                    <a:pt x="93" y="30"/>
                  </a:lnTo>
                  <a:lnTo>
                    <a:pt x="91" y="50"/>
                  </a:lnTo>
                  <a:lnTo>
                    <a:pt x="87" y="54"/>
                  </a:lnTo>
                  <a:lnTo>
                    <a:pt x="83" y="56"/>
                  </a:lnTo>
                  <a:lnTo>
                    <a:pt x="64" y="57"/>
                  </a:lnTo>
                  <a:lnTo>
                    <a:pt x="51" y="58"/>
                  </a:lnTo>
                  <a:lnTo>
                    <a:pt x="41" y="58"/>
                  </a:lnTo>
                  <a:lnTo>
                    <a:pt x="36" y="58"/>
                  </a:lnTo>
                  <a:lnTo>
                    <a:pt x="29" y="56"/>
                  </a:lnTo>
                  <a:lnTo>
                    <a:pt x="23" y="54"/>
                  </a:lnTo>
                  <a:lnTo>
                    <a:pt x="15" y="50"/>
                  </a:lnTo>
                  <a:lnTo>
                    <a:pt x="5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10" y="34"/>
                  </a:lnTo>
                  <a:lnTo>
                    <a:pt x="20" y="37"/>
                  </a:lnTo>
                  <a:lnTo>
                    <a:pt x="27" y="41"/>
                  </a:lnTo>
                  <a:lnTo>
                    <a:pt x="33" y="42"/>
                  </a:lnTo>
                  <a:lnTo>
                    <a:pt x="38" y="43"/>
                  </a:lnTo>
                  <a:lnTo>
                    <a:pt x="43" y="42"/>
                  </a:lnTo>
                  <a:lnTo>
                    <a:pt x="52" y="41"/>
                  </a:lnTo>
                  <a:lnTo>
                    <a:pt x="64" y="40"/>
                  </a:lnTo>
                  <a:lnTo>
                    <a:pt x="81" y="39"/>
                  </a:lnTo>
                  <a:lnTo>
                    <a:pt x="81" y="40"/>
                  </a:lnTo>
                  <a:lnTo>
                    <a:pt x="78" y="43"/>
                  </a:lnTo>
                  <a:lnTo>
                    <a:pt x="73" y="45"/>
                  </a:lnTo>
                  <a:lnTo>
                    <a:pt x="73" y="47"/>
                  </a:lnTo>
                  <a:lnTo>
                    <a:pt x="74" y="33"/>
                  </a:lnTo>
                  <a:lnTo>
                    <a:pt x="74" y="24"/>
                  </a:lnTo>
                  <a:lnTo>
                    <a:pt x="71" y="18"/>
                  </a:lnTo>
                  <a:lnTo>
                    <a:pt x="67" y="14"/>
                  </a:lnTo>
                  <a:lnTo>
                    <a:pt x="58" y="13"/>
                  </a:lnTo>
                  <a:lnTo>
                    <a:pt x="49" y="13"/>
                  </a:lnTo>
                  <a:lnTo>
                    <a:pt x="36" y="13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5" y="3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685280" y="5414760"/>
              <a:ext cx="88560" cy="54000"/>
            </a:xfrm>
            <a:custGeom>
              <a:avLst/>
              <a:gdLst/>
              <a:ahLst/>
              <a:rect l="l" t="t" r="r" b="b"/>
              <a:pathLst>
                <a:path w="111" h="68">
                  <a:moveTo>
                    <a:pt x="31" y="6"/>
                  </a:moveTo>
                  <a:lnTo>
                    <a:pt x="49" y="3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5" y="5"/>
                  </a:lnTo>
                  <a:lnTo>
                    <a:pt x="103" y="12"/>
                  </a:lnTo>
                  <a:lnTo>
                    <a:pt x="107" y="22"/>
                  </a:lnTo>
                  <a:lnTo>
                    <a:pt x="111" y="38"/>
                  </a:lnTo>
                  <a:lnTo>
                    <a:pt x="110" y="42"/>
                  </a:lnTo>
                  <a:lnTo>
                    <a:pt x="107" y="47"/>
                  </a:lnTo>
                  <a:lnTo>
                    <a:pt x="98" y="50"/>
                  </a:lnTo>
                  <a:lnTo>
                    <a:pt x="91" y="54"/>
                  </a:lnTo>
                  <a:lnTo>
                    <a:pt x="82" y="57"/>
                  </a:lnTo>
                  <a:lnTo>
                    <a:pt x="74" y="61"/>
                  </a:lnTo>
                  <a:lnTo>
                    <a:pt x="63" y="63"/>
                  </a:lnTo>
                  <a:lnTo>
                    <a:pt x="52" y="66"/>
                  </a:lnTo>
                  <a:lnTo>
                    <a:pt x="40" y="67"/>
                  </a:lnTo>
                  <a:lnTo>
                    <a:pt x="29" y="68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5" y="23"/>
                  </a:lnTo>
                  <a:lnTo>
                    <a:pt x="10" y="26"/>
                  </a:lnTo>
                  <a:lnTo>
                    <a:pt x="35" y="54"/>
                  </a:lnTo>
                  <a:lnTo>
                    <a:pt x="45" y="53"/>
                  </a:lnTo>
                  <a:lnTo>
                    <a:pt x="54" y="51"/>
                  </a:lnTo>
                  <a:lnTo>
                    <a:pt x="63" y="48"/>
                  </a:lnTo>
                  <a:lnTo>
                    <a:pt x="72" y="46"/>
                  </a:lnTo>
                  <a:lnTo>
                    <a:pt x="78" y="41"/>
                  </a:lnTo>
                  <a:lnTo>
                    <a:pt x="84" y="38"/>
                  </a:lnTo>
                  <a:lnTo>
                    <a:pt x="91" y="35"/>
                  </a:lnTo>
                  <a:lnTo>
                    <a:pt x="98" y="32"/>
                  </a:lnTo>
                  <a:lnTo>
                    <a:pt x="98" y="33"/>
                  </a:lnTo>
                  <a:lnTo>
                    <a:pt x="97" y="37"/>
                  </a:lnTo>
                  <a:lnTo>
                    <a:pt x="94" y="40"/>
                  </a:lnTo>
                  <a:lnTo>
                    <a:pt x="94" y="41"/>
                  </a:lnTo>
                  <a:lnTo>
                    <a:pt x="90" y="29"/>
                  </a:lnTo>
                  <a:lnTo>
                    <a:pt x="87" y="22"/>
                  </a:lnTo>
                  <a:lnTo>
                    <a:pt x="81" y="18"/>
                  </a:lnTo>
                  <a:lnTo>
                    <a:pt x="76" y="16"/>
                  </a:lnTo>
                  <a:lnTo>
                    <a:pt x="67" y="14"/>
                  </a:lnTo>
                  <a:lnTo>
                    <a:pt x="59" y="16"/>
                  </a:lnTo>
                  <a:lnTo>
                    <a:pt x="46" y="18"/>
                  </a:lnTo>
                  <a:lnTo>
                    <a:pt x="32" y="20"/>
                  </a:lnTo>
                  <a:lnTo>
                    <a:pt x="26" y="18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561440" y="5451480"/>
              <a:ext cx="75600" cy="45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8" y="12"/>
                  </a:moveTo>
                  <a:lnTo>
                    <a:pt x="20" y="5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3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90" y="18"/>
                  </a:lnTo>
                  <a:lnTo>
                    <a:pt x="96" y="23"/>
                  </a:lnTo>
                  <a:lnTo>
                    <a:pt x="93" y="33"/>
                  </a:lnTo>
                  <a:lnTo>
                    <a:pt x="72" y="57"/>
                  </a:lnTo>
                  <a:lnTo>
                    <a:pt x="59" y="56"/>
                  </a:lnTo>
                  <a:lnTo>
                    <a:pt x="49" y="56"/>
                  </a:lnTo>
                  <a:lnTo>
                    <a:pt x="41" y="55"/>
                  </a:lnTo>
                  <a:lnTo>
                    <a:pt x="35" y="55"/>
                  </a:lnTo>
                  <a:lnTo>
                    <a:pt x="29" y="53"/>
                  </a:lnTo>
                  <a:lnTo>
                    <a:pt x="22" y="52"/>
                  </a:lnTo>
                  <a:lnTo>
                    <a:pt x="15" y="51"/>
                  </a:lnTo>
                  <a:lnTo>
                    <a:pt x="6" y="50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7" y="38"/>
                  </a:lnTo>
                  <a:lnTo>
                    <a:pt x="16" y="38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32" y="40"/>
                  </a:lnTo>
                  <a:lnTo>
                    <a:pt x="36" y="40"/>
                  </a:lnTo>
                  <a:lnTo>
                    <a:pt x="43" y="40"/>
                  </a:lnTo>
                  <a:lnTo>
                    <a:pt x="51" y="40"/>
                  </a:lnTo>
                  <a:lnTo>
                    <a:pt x="64" y="40"/>
                  </a:lnTo>
                  <a:lnTo>
                    <a:pt x="79" y="21"/>
                  </a:lnTo>
                  <a:lnTo>
                    <a:pt x="81" y="20"/>
                  </a:lnTo>
                  <a:lnTo>
                    <a:pt x="84" y="27"/>
                  </a:lnTo>
                  <a:lnTo>
                    <a:pt x="84" y="32"/>
                  </a:lnTo>
                  <a:lnTo>
                    <a:pt x="82" y="35"/>
                  </a:lnTo>
                  <a:lnTo>
                    <a:pt x="71" y="29"/>
                  </a:lnTo>
                  <a:lnTo>
                    <a:pt x="61" y="24"/>
                  </a:lnTo>
                  <a:lnTo>
                    <a:pt x="53" y="19"/>
                  </a:lnTo>
                  <a:lnTo>
                    <a:pt x="47" y="17"/>
                  </a:lnTo>
                  <a:lnTo>
                    <a:pt x="39" y="15"/>
                  </a:lnTo>
                  <a:lnTo>
                    <a:pt x="33" y="15"/>
                  </a:lnTo>
                  <a:lnTo>
                    <a:pt x="23" y="17"/>
                  </a:lnTo>
                  <a:lnTo>
                    <a:pt x="14" y="23"/>
                  </a:lnTo>
                  <a:lnTo>
                    <a:pt x="7" y="22"/>
                  </a:lnTo>
                  <a:lnTo>
                    <a:pt x="5" y="20"/>
                  </a:lnTo>
                  <a:lnTo>
                    <a:pt x="4" y="15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583040" y="5487840"/>
              <a:ext cx="120600" cy="52200"/>
            </a:xfrm>
            <a:custGeom>
              <a:avLst/>
              <a:gdLst/>
              <a:ahLst/>
              <a:rect l="l" t="t" r="r" b="b"/>
              <a:pathLst>
                <a:path w="151" h="65">
                  <a:moveTo>
                    <a:pt x="73" y="6"/>
                  </a:moveTo>
                  <a:lnTo>
                    <a:pt x="81" y="4"/>
                  </a:lnTo>
                  <a:lnTo>
                    <a:pt x="90" y="3"/>
                  </a:lnTo>
                  <a:lnTo>
                    <a:pt x="99" y="2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32" y="0"/>
                  </a:lnTo>
                  <a:lnTo>
                    <a:pt x="143" y="0"/>
                  </a:lnTo>
                  <a:lnTo>
                    <a:pt x="149" y="1"/>
                  </a:lnTo>
                  <a:lnTo>
                    <a:pt x="151" y="7"/>
                  </a:lnTo>
                  <a:lnTo>
                    <a:pt x="149" y="27"/>
                  </a:lnTo>
                  <a:lnTo>
                    <a:pt x="145" y="42"/>
                  </a:lnTo>
                  <a:lnTo>
                    <a:pt x="137" y="51"/>
                  </a:lnTo>
                  <a:lnTo>
                    <a:pt x="128" y="58"/>
                  </a:lnTo>
                  <a:lnTo>
                    <a:pt x="114" y="61"/>
                  </a:lnTo>
                  <a:lnTo>
                    <a:pt x="99" y="63"/>
                  </a:lnTo>
                  <a:lnTo>
                    <a:pt x="81" y="63"/>
                  </a:lnTo>
                  <a:lnTo>
                    <a:pt x="62" y="65"/>
                  </a:lnTo>
                  <a:lnTo>
                    <a:pt x="53" y="62"/>
                  </a:lnTo>
                  <a:lnTo>
                    <a:pt x="47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5" y="49"/>
                  </a:lnTo>
                  <a:lnTo>
                    <a:pt x="18" y="46"/>
                  </a:lnTo>
                  <a:lnTo>
                    <a:pt x="10" y="44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9" y="28"/>
                  </a:lnTo>
                  <a:lnTo>
                    <a:pt x="16" y="29"/>
                  </a:lnTo>
                  <a:lnTo>
                    <a:pt x="23" y="32"/>
                  </a:lnTo>
                  <a:lnTo>
                    <a:pt x="30" y="33"/>
                  </a:lnTo>
                  <a:lnTo>
                    <a:pt x="37" y="36"/>
                  </a:lnTo>
                  <a:lnTo>
                    <a:pt x="44" y="39"/>
                  </a:lnTo>
                  <a:lnTo>
                    <a:pt x="50" y="42"/>
                  </a:lnTo>
                  <a:lnTo>
                    <a:pt x="57" y="45"/>
                  </a:lnTo>
                  <a:lnTo>
                    <a:pt x="65" y="48"/>
                  </a:lnTo>
                  <a:lnTo>
                    <a:pt x="80" y="47"/>
                  </a:lnTo>
                  <a:lnTo>
                    <a:pt x="93" y="46"/>
                  </a:lnTo>
                  <a:lnTo>
                    <a:pt x="105" y="45"/>
                  </a:lnTo>
                  <a:lnTo>
                    <a:pt x="116" y="45"/>
                  </a:lnTo>
                  <a:lnTo>
                    <a:pt x="123" y="41"/>
                  </a:lnTo>
                  <a:lnTo>
                    <a:pt x="130" y="34"/>
                  </a:lnTo>
                  <a:lnTo>
                    <a:pt x="133" y="22"/>
                  </a:lnTo>
                  <a:lnTo>
                    <a:pt x="135" y="7"/>
                  </a:lnTo>
                  <a:lnTo>
                    <a:pt x="136" y="5"/>
                  </a:lnTo>
                  <a:lnTo>
                    <a:pt x="141" y="10"/>
                  </a:lnTo>
                  <a:lnTo>
                    <a:pt x="144" y="13"/>
                  </a:lnTo>
                  <a:lnTo>
                    <a:pt x="143" y="16"/>
                  </a:lnTo>
                  <a:lnTo>
                    <a:pt x="133" y="16"/>
                  </a:lnTo>
                  <a:lnTo>
                    <a:pt x="124" y="16"/>
                  </a:lnTo>
                  <a:lnTo>
                    <a:pt x="116" y="16"/>
                  </a:lnTo>
                  <a:lnTo>
                    <a:pt x="108" y="16"/>
                  </a:lnTo>
                  <a:lnTo>
                    <a:pt x="100" y="16"/>
                  </a:lnTo>
                  <a:lnTo>
                    <a:pt x="91" y="16"/>
                  </a:lnTo>
                  <a:lnTo>
                    <a:pt x="82" y="17"/>
                  </a:lnTo>
                  <a:lnTo>
                    <a:pt x="74" y="19"/>
                  </a:lnTo>
                  <a:lnTo>
                    <a:pt x="68" y="17"/>
                  </a:lnTo>
                  <a:lnTo>
                    <a:pt x="66" y="13"/>
                  </a:lnTo>
                  <a:lnTo>
                    <a:pt x="67" y="7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497360" y="5516280"/>
              <a:ext cx="85320" cy="5868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15" y="23"/>
                  </a:moveTo>
                  <a:lnTo>
                    <a:pt x="23" y="17"/>
                  </a:lnTo>
                  <a:lnTo>
                    <a:pt x="30" y="11"/>
                  </a:lnTo>
                  <a:lnTo>
                    <a:pt x="37" y="5"/>
                  </a:lnTo>
                  <a:lnTo>
                    <a:pt x="48" y="3"/>
                  </a:lnTo>
                  <a:lnTo>
                    <a:pt x="65" y="0"/>
                  </a:lnTo>
                  <a:lnTo>
                    <a:pt x="81" y="5"/>
                  </a:lnTo>
                  <a:lnTo>
                    <a:pt x="94" y="11"/>
                  </a:lnTo>
                  <a:lnTo>
                    <a:pt x="104" y="22"/>
                  </a:lnTo>
                  <a:lnTo>
                    <a:pt x="108" y="34"/>
                  </a:lnTo>
                  <a:lnTo>
                    <a:pt x="109" y="46"/>
                  </a:lnTo>
                  <a:lnTo>
                    <a:pt x="104" y="57"/>
                  </a:lnTo>
                  <a:lnTo>
                    <a:pt x="94" y="68"/>
                  </a:lnTo>
                  <a:lnTo>
                    <a:pt x="85" y="70"/>
                  </a:lnTo>
                  <a:lnTo>
                    <a:pt x="76" y="72"/>
                  </a:lnTo>
                  <a:lnTo>
                    <a:pt x="64" y="73"/>
                  </a:lnTo>
                  <a:lnTo>
                    <a:pt x="52" y="75"/>
                  </a:lnTo>
                  <a:lnTo>
                    <a:pt x="39" y="75"/>
                  </a:lnTo>
                  <a:lnTo>
                    <a:pt x="27" y="75"/>
                  </a:lnTo>
                  <a:lnTo>
                    <a:pt x="16" y="75"/>
                  </a:lnTo>
                  <a:lnTo>
                    <a:pt x="9" y="75"/>
                  </a:lnTo>
                  <a:lnTo>
                    <a:pt x="1" y="70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11" y="55"/>
                  </a:lnTo>
                  <a:lnTo>
                    <a:pt x="16" y="55"/>
                  </a:lnTo>
                  <a:lnTo>
                    <a:pt x="26" y="55"/>
                  </a:lnTo>
                  <a:lnTo>
                    <a:pt x="36" y="55"/>
                  </a:lnTo>
                  <a:lnTo>
                    <a:pt x="48" y="56"/>
                  </a:lnTo>
                  <a:lnTo>
                    <a:pt x="57" y="55"/>
                  </a:lnTo>
                  <a:lnTo>
                    <a:pt x="68" y="55"/>
                  </a:lnTo>
                  <a:lnTo>
                    <a:pt x="77" y="53"/>
                  </a:lnTo>
                  <a:lnTo>
                    <a:pt x="84" y="52"/>
                  </a:lnTo>
                  <a:lnTo>
                    <a:pt x="90" y="46"/>
                  </a:lnTo>
                  <a:lnTo>
                    <a:pt x="92" y="40"/>
                  </a:lnTo>
                  <a:lnTo>
                    <a:pt x="90" y="34"/>
                  </a:lnTo>
                  <a:lnTo>
                    <a:pt x="86" y="29"/>
                  </a:lnTo>
                  <a:lnTo>
                    <a:pt x="79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1" y="20"/>
                  </a:lnTo>
                  <a:lnTo>
                    <a:pt x="42" y="22"/>
                  </a:lnTo>
                  <a:lnTo>
                    <a:pt x="36" y="26"/>
                  </a:lnTo>
                  <a:lnTo>
                    <a:pt x="29" y="31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2" y="33"/>
                  </a:lnTo>
                  <a:lnTo>
                    <a:pt x="11" y="27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391520" y="5597280"/>
              <a:ext cx="104400" cy="49320"/>
            </a:xfrm>
            <a:custGeom>
              <a:avLst/>
              <a:gdLst/>
              <a:ahLst/>
              <a:rect l="l" t="t" r="r" b="b"/>
              <a:pathLst>
                <a:path w="132" h="64">
                  <a:moveTo>
                    <a:pt x="57" y="2"/>
                  </a:moveTo>
                  <a:lnTo>
                    <a:pt x="65" y="0"/>
                  </a:lnTo>
                  <a:lnTo>
                    <a:pt x="80" y="3"/>
                  </a:lnTo>
                  <a:lnTo>
                    <a:pt x="95" y="6"/>
                  </a:lnTo>
                  <a:lnTo>
                    <a:pt x="112" y="11"/>
                  </a:lnTo>
                  <a:lnTo>
                    <a:pt x="124" y="18"/>
                  </a:lnTo>
                  <a:lnTo>
                    <a:pt x="132" y="27"/>
                  </a:lnTo>
                  <a:lnTo>
                    <a:pt x="131" y="37"/>
                  </a:lnTo>
                  <a:lnTo>
                    <a:pt x="121" y="50"/>
                  </a:lnTo>
                  <a:lnTo>
                    <a:pt x="104" y="57"/>
                  </a:lnTo>
                  <a:lnTo>
                    <a:pt x="91" y="62"/>
                  </a:lnTo>
                  <a:lnTo>
                    <a:pt x="79" y="64"/>
                  </a:lnTo>
                  <a:lnTo>
                    <a:pt x="66" y="64"/>
                  </a:lnTo>
                  <a:lnTo>
                    <a:pt x="52" y="61"/>
                  </a:lnTo>
                  <a:lnTo>
                    <a:pt x="38" y="57"/>
                  </a:lnTo>
                  <a:lnTo>
                    <a:pt x="23" y="54"/>
                  </a:lnTo>
                  <a:lnTo>
                    <a:pt x="8" y="51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1" y="34"/>
                  </a:lnTo>
                  <a:lnTo>
                    <a:pt x="24" y="36"/>
                  </a:lnTo>
                  <a:lnTo>
                    <a:pt x="38" y="39"/>
                  </a:lnTo>
                  <a:lnTo>
                    <a:pt x="50" y="42"/>
                  </a:lnTo>
                  <a:lnTo>
                    <a:pt x="61" y="46"/>
                  </a:lnTo>
                  <a:lnTo>
                    <a:pt x="72" y="46"/>
                  </a:lnTo>
                  <a:lnTo>
                    <a:pt x="85" y="46"/>
                  </a:lnTo>
                  <a:lnTo>
                    <a:pt x="97" y="41"/>
                  </a:lnTo>
                  <a:lnTo>
                    <a:pt x="110" y="35"/>
                  </a:lnTo>
                  <a:lnTo>
                    <a:pt x="116" y="26"/>
                  </a:lnTo>
                  <a:lnTo>
                    <a:pt x="116" y="21"/>
                  </a:lnTo>
                  <a:lnTo>
                    <a:pt x="110" y="17"/>
                  </a:lnTo>
                  <a:lnTo>
                    <a:pt x="100" y="14"/>
                  </a:lnTo>
                  <a:lnTo>
                    <a:pt x="87" y="12"/>
                  </a:lnTo>
                  <a:lnTo>
                    <a:pt x="74" y="12"/>
                  </a:lnTo>
                  <a:lnTo>
                    <a:pt x="64" y="13"/>
                  </a:lnTo>
                  <a:lnTo>
                    <a:pt x="58" y="14"/>
                  </a:lnTo>
                  <a:lnTo>
                    <a:pt x="53" y="12"/>
                  </a:lnTo>
                  <a:lnTo>
                    <a:pt x="51" y="8"/>
                  </a:lnTo>
                  <a:lnTo>
                    <a:pt x="52" y="3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819920" y="5580000"/>
              <a:ext cx="85320" cy="66600"/>
            </a:xfrm>
            <a:custGeom>
              <a:avLst/>
              <a:gdLst/>
              <a:ahLst/>
              <a:rect l="l" t="t" r="r" b="b"/>
              <a:pathLst>
                <a:path w="107" h="84">
                  <a:moveTo>
                    <a:pt x="46" y="18"/>
                  </a:moveTo>
                  <a:lnTo>
                    <a:pt x="36" y="25"/>
                  </a:lnTo>
                  <a:lnTo>
                    <a:pt x="30" y="31"/>
                  </a:lnTo>
                  <a:lnTo>
                    <a:pt x="25" y="36"/>
                  </a:lnTo>
                  <a:lnTo>
                    <a:pt x="22" y="42"/>
                  </a:lnTo>
                  <a:lnTo>
                    <a:pt x="21" y="46"/>
                  </a:lnTo>
                  <a:lnTo>
                    <a:pt x="25" y="52"/>
                  </a:lnTo>
                  <a:lnTo>
                    <a:pt x="31" y="56"/>
                  </a:lnTo>
                  <a:lnTo>
                    <a:pt x="41" y="62"/>
                  </a:lnTo>
                  <a:lnTo>
                    <a:pt x="93" y="44"/>
                  </a:lnTo>
                  <a:lnTo>
                    <a:pt x="102" y="44"/>
                  </a:lnTo>
                  <a:lnTo>
                    <a:pt x="107" y="52"/>
                  </a:lnTo>
                  <a:lnTo>
                    <a:pt x="107" y="59"/>
                  </a:lnTo>
                  <a:lnTo>
                    <a:pt x="101" y="65"/>
                  </a:lnTo>
                  <a:lnTo>
                    <a:pt x="40" y="84"/>
                  </a:lnTo>
                  <a:lnTo>
                    <a:pt x="21" y="74"/>
                  </a:lnTo>
                  <a:lnTo>
                    <a:pt x="10" y="65"/>
                  </a:lnTo>
                  <a:lnTo>
                    <a:pt x="2" y="56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7" y="27"/>
                  </a:lnTo>
                  <a:lnTo>
                    <a:pt x="18" y="15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7" y="4"/>
                  </a:lnTo>
                  <a:lnTo>
                    <a:pt x="49" y="11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840800" y="5298480"/>
              <a:ext cx="1080" cy="19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755120" y="5446440"/>
              <a:ext cx="6300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670880" y="5532120"/>
              <a:ext cx="1360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755120" y="5557680"/>
              <a:ext cx="6300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840800" y="5567040"/>
              <a:ext cx="1080" cy="16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68160" y="555768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877160" y="5532120"/>
              <a:ext cx="133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868160" y="544644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8247240" y="5033520"/>
              <a:ext cx="1080" cy="19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8161560" y="518148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8077320" y="5267160"/>
              <a:ext cx="136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8161560" y="529272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8247240" y="5302080"/>
              <a:ext cx="1080" cy="168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72800" y="529272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83600" y="5267160"/>
              <a:ext cx="13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272800" y="518148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6931080" y="5292360"/>
              <a:ext cx="1080" cy="19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6845400" y="5440320"/>
              <a:ext cx="6156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759720" y="5527440"/>
              <a:ext cx="1360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845400" y="5553000"/>
              <a:ext cx="6156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931080" y="5562360"/>
              <a:ext cx="1080" cy="16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57000" y="5553000"/>
              <a:ext cx="6156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968160" y="5527440"/>
              <a:ext cx="131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957000" y="5440320"/>
              <a:ext cx="6156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>
              <a:off x="8050320" y="5436720"/>
              <a:ext cx="1080" cy="19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7964640" y="558468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7880400" y="5670360"/>
              <a:ext cx="136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7964640" y="569592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8050320" y="5705280"/>
              <a:ext cx="1080" cy="16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077320" y="5695920"/>
              <a:ext cx="597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86680" y="5670360"/>
              <a:ext cx="13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8077320" y="5584680"/>
              <a:ext cx="597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272360" y="6449760"/>
              <a:ext cx="128160" cy="96840"/>
            </a:xfrm>
            <a:custGeom>
              <a:avLst/>
              <a:gdLst/>
              <a:ahLst/>
              <a:rect l="l" t="t" r="r" b="b"/>
              <a:pathLst>
                <a:path w="161" h="122">
                  <a:moveTo>
                    <a:pt x="123" y="12"/>
                  </a:moveTo>
                  <a:lnTo>
                    <a:pt x="100" y="14"/>
                  </a:lnTo>
                  <a:lnTo>
                    <a:pt x="79" y="19"/>
                  </a:lnTo>
                  <a:lnTo>
                    <a:pt x="61" y="27"/>
                  </a:lnTo>
                  <a:lnTo>
                    <a:pt x="47" y="38"/>
                  </a:lnTo>
                  <a:lnTo>
                    <a:pt x="35" y="51"/>
                  </a:lnTo>
                  <a:lnTo>
                    <a:pt x="27" y="67"/>
                  </a:lnTo>
                  <a:lnTo>
                    <a:pt x="23" y="86"/>
                  </a:lnTo>
                  <a:lnTo>
                    <a:pt x="24" y="110"/>
                  </a:lnTo>
                  <a:lnTo>
                    <a:pt x="21" y="111"/>
                  </a:lnTo>
                  <a:lnTo>
                    <a:pt x="16" y="106"/>
                  </a:lnTo>
                  <a:lnTo>
                    <a:pt x="11" y="101"/>
                  </a:lnTo>
                  <a:lnTo>
                    <a:pt x="12" y="99"/>
                  </a:lnTo>
                  <a:lnTo>
                    <a:pt x="20" y="98"/>
                  </a:lnTo>
                  <a:lnTo>
                    <a:pt x="29" y="98"/>
                  </a:lnTo>
                  <a:lnTo>
                    <a:pt x="35" y="97"/>
                  </a:lnTo>
                  <a:lnTo>
                    <a:pt x="43" y="97"/>
                  </a:lnTo>
                  <a:lnTo>
                    <a:pt x="49" y="96"/>
                  </a:lnTo>
                  <a:lnTo>
                    <a:pt x="57" y="96"/>
                  </a:lnTo>
                  <a:lnTo>
                    <a:pt x="64" y="96"/>
                  </a:lnTo>
                  <a:lnTo>
                    <a:pt x="73" y="96"/>
                  </a:lnTo>
                  <a:lnTo>
                    <a:pt x="84" y="92"/>
                  </a:lnTo>
                  <a:lnTo>
                    <a:pt x="96" y="91"/>
                  </a:lnTo>
                  <a:lnTo>
                    <a:pt x="107" y="89"/>
                  </a:lnTo>
                  <a:lnTo>
                    <a:pt x="118" y="87"/>
                  </a:lnTo>
                  <a:lnTo>
                    <a:pt x="125" y="83"/>
                  </a:lnTo>
                  <a:lnTo>
                    <a:pt x="132" y="76"/>
                  </a:lnTo>
                  <a:lnTo>
                    <a:pt x="135" y="67"/>
                  </a:lnTo>
                  <a:lnTo>
                    <a:pt x="135" y="55"/>
                  </a:lnTo>
                  <a:lnTo>
                    <a:pt x="134" y="48"/>
                  </a:lnTo>
                  <a:lnTo>
                    <a:pt x="136" y="44"/>
                  </a:lnTo>
                  <a:lnTo>
                    <a:pt x="139" y="41"/>
                  </a:lnTo>
                  <a:lnTo>
                    <a:pt x="145" y="40"/>
                  </a:lnTo>
                  <a:lnTo>
                    <a:pt x="149" y="39"/>
                  </a:lnTo>
                  <a:lnTo>
                    <a:pt x="154" y="42"/>
                  </a:lnTo>
                  <a:lnTo>
                    <a:pt x="158" y="45"/>
                  </a:lnTo>
                  <a:lnTo>
                    <a:pt x="161" y="52"/>
                  </a:lnTo>
                  <a:lnTo>
                    <a:pt x="160" y="70"/>
                  </a:lnTo>
                  <a:lnTo>
                    <a:pt x="157" y="85"/>
                  </a:lnTo>
                  <a:lnTo>
                    <a:pt x="149" y="95"/>
                  </a:lnTo>
                  <a:lnTo>
                    <a:pt x="139" y="102"/>
                  </a:lnTo>
                  <a:lnTo>
                    <a:pt x="125" y="106"/>
                  </a:lnTo>
                  <a:lnTo>
                    <a:pt x="110" y="112"/>
                  </a:lnTo>
                  <a:lnTo>
                    <a:pt x="93" y="115"/>
                  </a:lnTo>
                  <a:lnTo>
                    <a:pt x="77" y="120"/>
                  </a:lnTo>
                  <a:lnTo>
                    <a:pt x="67" y="120"/>
                  </a:lnTo>
                  <a:lnTo>
                    <a:pt x="60" y="120"/>
                  </a:lnTo>
                  <a:lnTo>
                    <a:pt x="52" y="120"/>
                  </a:lnTo>
                  <a:lnTo>
                    <a:pt x="45" y="121"/>
                  </a:lnTo>
                  <a:lnTo>
                    <a:pt x="36" y="121"/>
                  </a:lnTo>
                  <a:lnTo>
                    <a:pt x="29" y="121"/>
                  </a:lnTo>
                  <a:lnTo>
                    <a:pt x="20" y="121"/>
                  </a:lnTo>
                  <a:lnTo>
                    <a:pt x="12" y="122"/>
                  </a:lnTo>
                  <a:lnTo>
                    <a:pt x="4" y="119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5" y="62"/>
                  </a:lnTo>
                  <a:lnTo>
                    <a:pt x="13" y="43"/>
                  </a:lnTo>
                  <a:lnTo>
                    <a:pt x="29" y="29"/>
                  </a:lnTo>
                  <a:lnTo>
                    <a:pt x="47" y="16"/>
                  </a:lnTo>
                  <a:lnTo>
                    <a:pt x="68" y="8"/>
                  </a:lnTo>
                  <a:lnTo>
                    <a:pt x="93" y="2"/>
                  </a:lnTo>
                  <a:lnTo>
                    <a:pt x="122" y="0"/>
                  </a:lnTo>
                  <a:lnTo>
                    <a:pt x="125" y="1"/>
                  </a:lnTo>
                  <a:lnTo>
                    <a:pt x="127" y="5"/>
                  </a:lnTo>
                  <a:lnTo>
                    <a:pt x="126" y="10"/>
                  </a:lnTo>
                  <a:lnTo>
                    <a:pt x="123" y="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125840" y="6476760"/>
              <a:ext cx="129960" cy="76320"/>
            </a:xfrm>
            <a:custGeom>
              <a:avLst/>
              <a:gdLst/>
              <a:ahLst/>
              <a:rect l="l" t="t" r="r" b="b"/>
              <a:pathLst>
                <a:path w="165" h="97">
                  <a:moveTo>
                    <a:pt x="92" y="16"/>
                  </a:moveTo>
                  <a:lnTo>
                    <a:pt x="75" y="23"/>
                  </a:lnTo>
                  <a:lnTo>
                    <a:pt x="59" y="29"/>
                  </a:lnTo>
                  <a:lnTo>
                    <a:pt x="43" y="37"/>
                  </a:lnTo>
                  <a:lnTo>
                    <a:pt x="30" y="44"/>
                  </a:lnTo>
                  <a:lnTo>
                    <a:pt x="22" y="52"/>
                  </a:lnTo>
                  <a:lnTo>
                    <a:pt x="21" y="59"/>
                  </a:lnTo>
                  <a:lnTo>
                    <a:pt x="28" y="66"/>
                  </a:lnTo>
                  <a:lnTo>
                    <a:pt x="46" y="73"/>
                  </a:lnTo>
                  <a:lnTo>
                    <a:pt x="55" y="72"/>
                  </a:lnTo>
                  <a:lnTo>
                    <a:pt x="65" y="72"/>
                  </a:lnTo>
                  <a:lnTo>
                    <a:pt x="73" y="71"/>
                  </a:lnTo>
                  <a:lnTo>
                    <a:pt x="83" y="71"/>
                  </a:lnTo>
                  <a:lnTo>
                    <a:pt x="91" y="70"/>
                  </a:lnTo>
                  <a:lnTo>
                    <a:pt x="99" y="69"/>
                  </a:lnTo>
                  <a:lnTo>
                    <a:pt x="107" y="68"/>
                  </a:lnTo>
                  <a:lnTo>
                    <a:pt x="114" y="68"/>
                  </a:lnTo>
                  <a:lnTo>
                    <a:pt x="123" y="63"/>
                  </a:lnTo>
                  <a:lnTo>
                    <a:pt x="130" y="58"/>
                  </a:lnTo>
                  <a:lnTo>
                    <a:pt x="137" y="52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9" y="50"/>
                  </a:lnTo>
                  <a:lnTo>
                    <a:pt x="149" y="56"/>
                  </a:lnTo>
                  <a:lnTo>
                    <a:pt x="148" y="58"/>
                  </a:lnTo>
                  <a:lnTo>
                    <a:pt x="121" y="37"/>
                  </a:lnTo>
                  <a:lnTo>
                    <a:pt x="117" y="31"/>
                  </a:lnTo>
                  <a:lnTo>
                    <a:pt x="118" y="27"/>
                  </a:lnTo>
                  <a:lnTo>
                    <a:pt x="121" y="25"/>
                  </a:lnTo>
                  <a:lnTo>
                    <a:pt x="127" y="26"/>
                  </a:lnTo>
                  <a:lnTo>
                    <a:pt x="159" y="40"/>
                  </a:lnTo>
                  <a:lnTo>
                    <a:pt x="165" y="45"/>
                  </a:lnTo>
                  <a:lnTo>
                    <a:pt x="163" y="54"/>
                  </a:lnTo>
                  <a:lnTo>
                    <a:pt x="158" y="59"/>
                  </a:lnTo>
                  <a:lnTo>
                    <a:pt x="154" y="65"/>
                  </a:lnTo>
                  <a:lnTo>
                    <a:pt x="149" y="69"/>
                  </a:lnTo>
                  <a:lnTo>
                    <a:pt x="144" y="74"/>
                  </a:lnTo>
                  <a:lnTo>
                    <a:pt x="138" y="78"/>
                  </a:lnTo>
                  <a:lnTo>
                    <a:pt x="132" y="81"/>
                  </a:lnTo>
                  <a:lnTo>
                    <a:pt x="126" y="84"/>
                  </a:lnTo>
                  <a:lnTo>
                    <a:pt x="120" y="88"/>
                  </a:lnTo>
                  <a:lnTo>
                    <a:pt x="112" y="88"/>
                  </a:lnTo>
                  <a:lnTo>
                    <a:pt x="103" y="91"/>
                  </a:lnTo>
                  <a:lnTo>
                    <a:pt x="94" y="91"/>
                  </a:lnTo>
                  <a:lnTo>
                    <a:pt x="84" y="93"/>
                  </a:lnTo>
                  <a:lnTo>
                    <a:pt x="72" y="94"/>
                  </a:lnTo>
                  <a:lnTo>
                    <a:pt x="63" y="95"/>
                  </a:lnTo>
                  <a:lnTo>
                    <a:pt x="52" y="96"/>
                  </a:lnTo>
                  <a:lnTo>
                    <a:pt x="43" y="97"/>
                  </a:lnTo>
                  <a:lnTo>
                    <a:pt x="15" y="85"/>
                  </a:lnTo>
                  <a:lnTo>
                    <a:pt x="2" y="74"/>
                  </a:lnTo>
                  <a:lnTo>
                    <a:pt x="0" y="62"/>
                  </a:lnTo>
                  <a:lnTo>
                    <a:pt x="9" y="49"/>
                  </a:lnTo>
                  <a:lnTo>
                    <a:pt x="23" y="36"/>
                  </a:lnTo>
                  <a:lnTo>
                    <a:pt x="41" y="23"/>
                  </a:lnTo>
                  <a:lnTo>
                    <a:pt x="63" y="11"/>
                  </a:lnTo>
                  <a:lnTo>
                    <a:pt x="84" y="1"/>
                  </a:lnTo>
                  <a:lnTo>
                    <a:pt x="89" y="0"/>
                  </a:lnTo>
                  <a:lnTo>
                    <a:pt x="95" y="5"/>
                  </a:lnTo>
                  <a:lnTo>
                    <a:pt x="95" y="1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245360" y="6546600"/>
              <a:ext cx="120240" cy="79560"/>
            </a:xfrm>
            <a:custGeom>
              <a:avLst/>
              <a:gdLst/>
              <a:ahLst/>
              <a:rect l="l" t="t" r="r" b="b"/>
              <a:pathLst>
                <a:path w="151" h="100">
                  <a:moveTo>
                    <a:pt x="83" y="14"/>
                  </a:moveTo>
                  <a:lnTo>
                    <a:pt x="73" y="14"/>
                  </a:lnTo>
                  <a:lnTo>
                    <a:pt x="62" y="18"/>
                  </a:lnTo>
                  <a:lnTo>
                    <a:pt x="50" y="21"/>
                  </a:lnTo>
                  <a:lnTo>
                    <a:pt x="39" y="27"/>
                  </a:lnTo>
                  <a:lnTo>
                    <a:pt x="30" y="33"/>
                  </a:lnTo>
                  <a:lnTo>
                    <a:pt x="23" y="40"/>
                  </a:lnTo>
                  <a:lnTo>
                    <a:pt x="20" y="48"/>
                  </a:lnTo>
                  <a:lnTo>
                    <a:pt x="22" y="57"/>
                  </a:lnTo>
                  <a:lnTo>
                    <a:pt x="25" y="64"/>
                  </a:lnTo>
                  <a:lnTo>
                    <a:pt x="32" y="70"/>
                  </a:lnTo>
                  <a:lnTo>
                    <a:pt x="38" y="74"/>
                  </a:lnTo>
                  <a:lnTo>
                    <a:pt x="47" y="77"/>
                  </a:lnTo>
                  <a:lnTo>
                    <a:pt x="54" y="78"/>
                  </a:lnTo>
                  <a:lnTo>
                    <a:pt x="64" y="78"/>
                  </a:lnTo>
                  <a:lnTo>
                    <a:pt x="73" y="77"/>
                  </a:lnTo>
                  <a:lnTo>
                    <a:pt x="82" y="77"/>
                  </a:lnTo>
                  <a:lnTo>
                    <a:pt x="94" y="71"/>
                  </a:lnTo>
                  <a:lnTo>
                    <a:pt x="105" y="68"/>
                  </a:lnTo>
                  <a:lnTo>
                    <a:pt x="113" y="64"/>
                  </a:lnTo>
                  <a:lnTo>
                    <a:pt x="120" y="60"/>
                  </a:lnTo>
                  <a:lnTo>
                    <a:pt x="124" y="52"/>
                  </a:lnTo>
                  <a:lnTo>
                    <a:pt x="128" y="43"/>
                  </a:lnTo>
                  <a:lnTo>
                    <a:pt x="129" y="33"/>
                  </a:lnTo>
                  <a:lnTo>
                    <a:pt x="130" y="19"/>
                  </a:lnTo>
                  <a:lnTo>
                    <a:pt x="132" y="17"/>
                  </a:lnTo>
                  <a:lnTo>
                    <a:pt x="137" y="21"/>
                  </a:lnTo>
                  <a:lnTo>
                    <a:pt x="140" y="25"/>
                  </a:lnTo>
                  <a:lnTo>
                    <a:pt x="140" y="28"/>
                  </a:lnTo>
                  <a:lnTo>
                    <a:pt x="96" y="27"/>
                  </a:lnTo>
                  <a:lnTo>
                    <a:pt x="89" y="23"/>
                  </a:lnTo>
                  <a:lnTo>
                    <a:pt x="87" y="18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1" y="18"/>
                  </a:lnTo>
                  <a:lnTo>
                    <a:pt x="151" y="36"/>
                  </a:lnTo>
                  <a:lnTo>
                    <a:pt x="149" y="51"/>
                  </a:lnTo>
                  <a:lnTo>
                    <a:pt x="145" y="63"/>
                  </a:lnTo>
                  <a:lnTo>
                    <a:pt x="139" y="72"/>
                  </a:lnTo>
                  <a:lnTo>
                    <a:pt x="130" y="79"/>
                  </a:lnTo>
                  <a:lnTo>
                    <a:pt x="118" y="85"/>
                  </a:lnTo>
                  <a:lnTo>
                    <a:pt x="104" y="92"/>
                  </a:lnTo>
                  <a:lnTo>
                    <a:pt x="88" y="98"/>
                  </a:lnTo>
                  <a:lnTo>
                    <a:pt x="75" y="99"/>
                  </a:lnTo>
                  <a:lnTo>
                    <a:pt x="62" y="100"/>
                  </a:lnTo>
                  <a:lnTo>
                    <a:pt x="49" y="99"/>
                  </a:lnTo>
                  <a:lnTo>
                    <a:pt x="38" y="97"/>
                  </a:lnTo>
                  <a:lnTo>
                    <a:pt x="26" y="92"/>
                  </a:lnTo>
                  <a:lnTo>
                    <a:pt x="17" y="85"/>
                  </a:lnTo>
                  <a:lnTo>
                    <a:pt x="8" y="77"/>
                  </a:lnTo>
                  <a:lnTo>
                    <a:pt x="3" y="67"/>
                  </a:lnTo>
                  <a:lnTo>
                    <a:pt x="0" y="54"/>
                  </a:lnTo>
                  <a:lnTo>
                    <a:pt x="4" y="42"/>
                  </a:lnTo>
                  <a:lnTo>
                    <a:pt x="13" y="31"/>
                  </a:lnTo>
                  <a:lnTo>
                    <a:pt x="24" y="22"/>
                  </a:lnTo>
                  <a:lnTo>
                    <a:pt x="38" y="13"/>
                  </a:lnTo>
                  <a:lnTo>
                    <a:pt x="53" y="7"/>
                  </a:lnTo>
                  <a:lnTo>
                    <a:pt x="68" y="3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89" y="6"/>
                  </a:lnTo>
                  <a:lnTo>
                    <a:pt x="88" y="10"/>
                  </a:lnTo>
                  <a:lnTo>
                    <a:pt x="83" y="1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405920" y="6484680"/>
              <a:ext cx="96480" cy="73080"/>
            </a:xfrm>
            <a:custGeom>
              <a:avLst/>
              <a:gdLst/>
              <a:ahLst/>
              <a:rect l="l" t="t" r="r" b="b"/>
              <a:pathLst>
                <a:path w="123" h="91">
                  <a:moveTo>
                    <a:pt x="119" y="12"/>
                  </a:moveTo>
                  <a:lnTo>
                    <a:pt x="106" y="14"/>
                  </a:lnTo>
                  <a:lnTo>
                    <a:pt x="91" y="19"/>
                  </a:lnTo>
                  <a:lnTo>
                    <a:pt x="75" y="25"/>
                  </a:lnTo>
                  <a:lnTo>
                    <a:pt x="60" y="32"/>
                  </a:lnTo>
                  <a:lnTo>
                    <a:pt x="45" y="40"/>
                  </a:lnTo>
                  <a:lnTo>
                    <a:pt x="33" y="49"/>
                  </a:lnTo>
                  <a:lnTo>
                    <a:pt x="25" y="60"/>
                  </a:lnTo>
                  <a:lnTo>
                    <a:pt x="24" y="73"/>
                  </a:lnTo>
                  <a:lnTo>
                    <a:pt x="25" y="77"/>
                  </a:lnTo>
                  <a:lnTo>
                    <a:pt x="29" y="78"/>
                  </a:lnTo>
                  <a:lnTo>
                    <a:pt x="36" y="77"/>
                  </a:lnTo>
                  <a:lnTo>
                    <a:pt x="45" y="76"/>
                  </a:lnTo>
                  <a:lnTo>
                    <a:pt x="51" y="72"/>
                  </a:lnTo>
                  <a:lnTo>
                    <a:pt x="57" y="70"/>
                  </a:lnTo>
                  <a:lnTo>
                    <a:pt x="62" y="67"/>
                  </a:lnTo>
                  <a:lnTo>
                    <a:pt x="65" y="67"/>
                  </a:lnTo>
                  <a:lnTo>
                    <a:pt x="98" y="65"/>
                  </a:lnTo>
                  <a:lnTo>
                    <a:pt x="103" y="66"/>
                  </a:lnTo>
                  <a:lnTo>
                    <a:pt x="106" y="69"/>
                  </a:lnTo>
                  <a:lnTo>
                    <a:pt x="105" y="73"/>
                  </a:lnTo>
                  <a:lnTo>
                    <a:pt x="100" y="77"/>
                  </a:lnTo>
                  <a:lnTo>
                    <a:pt x="68" y="89"/>
                  </a:lnTo>
                  <a:lnTo>
                    <a:pt x="64" y="89"/>
                  </a:lnTo>
                  <a:lnTo>
                    <a:pt x="56" y="90"/>
                  </a:lnTo>
                  <a:lnTo>
                    <a:pt x="45" y="90"/>
                  </a:lnTo>
                  <a:lnTo>
                    <a:pt x="34" y="91"/>
                  </a:lnTo>
                  <a:lnTo>
                    <a:pt x="21" y="90"/>
                  </a:lnTo>
                  <a:lnTo>
                    <a:pt x="11" y="88"/>
                  </a:lnTo>
                  <a:lnTo>
                    <a:pt x="3" y="83"/>
                  </a:lnTo>
                  <a:lnTo>
                    <a:pt x="0" y="75"/>
                  </a:lnTo>
                  <a:lnTo>
                    <a:pt x="3" y="59"/>
                  </a:lnTo>
                  <a:lnTo>
                    <a:pt x="11" y="46"/>
                  </a:lnTo>
                  <a:lnTo>
                    <a:pt x="25" y="34"/>
                  </a:lnTo>
                  <a:lnTo>
                    <a:pt x="43" y="25"/>
                  </a:lnTo>
                  <a:lnTo>
                    <a:pt x="62" y="15"/>
                  </a:lnTo>
                  <a:lnTo>
                    <a:pt x="82" y="9"/>
                  </a:lnTo>
                  <a:lnTo>
                    <a:pt x="100" y="3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3" y="4"/>
                  </a:lnTo>
                  <a:lnTo>
                    <a:pt x="122" y="8"/>
                  </a:lnTo>
                  <a:lnTo>
                    <a:pt x="119" y="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221240" y="6384600"/>
              <a:ext cx="153720" cy="84240"/>
            </a:xfrm>
            <a:custGeom>
              <a:avLst/>
              <a:gdLst/>
              <a:ahLst/>
              <a:rect l="l" t="t" r="r" b="b"/>
              <a:pathLst>
                <a:path w="193" h="107">
                  <a:moveTo>
                    <a:pt x="131" y="15"/>
                  </a:moveTo>
                  <a:lnTo>
                    <a:pt x="114" y="15"/>
                  </a:lnTo>
                  <a:lnTo>
                    <a:pt x="100" y="18"/>
                  </a:lnTo>
                  <a:lnTo>
                    <a:pt x="86" y="20"/>
                  </a:lnTo>
                  <a:lnTo>
                    <a:pt x="75" y="24"/>
                  </a:lnTo>
                  <a:lnTo>
                    <a:pt x="63" y="27"/>
                  </a:lnTo>
                  <a:lnTo>
                    <a:pt x="54" y="34"/>
                  </a:lnTo>
                  <a:lnTo>
                    <a:pt x="43" y="40"/>
                  </a:lnTo>
                  <a:lnTo>
                    <a:pt x="33" y="50"/>
                  </a:lnTo>
                  <a:lnTo>
                    <a:pt x="25" y="58"/>
                  </a:lnTo>
                  <a:lnTo>
                    <a:pt x="23" y="68"/>
                  </a:lnTo>
                  <a:lnTo>
                    <a:pt x="27" y="76"/>
                  </a:lnTo>
                  <a:lnTo>
                    <a:pt x="35" y="83"/>
                  </a:lnTo>
                  <a:lnTo>
                    <a:pt x="47" y="82"/>
                  </a:lnTo>
                  <a:lnTo>
                    <a:pt x="58" y="82"/>
                  </a:lnTo>
                  <a:lnTo>
                    <a:pt x="66" y="81"/>
                  </a:lnTo>
                  <a:lnTo>
                    <a:pt x="76" y="81"/>
                  </a:lnTo>
                  <a:lnTo>
                    <a:pt x="84" y="79"/>
                  </a:lnTo>
                  <a:lnTo>
                    <a:pt x="91" y="78"/>
                  </a:lnTo>
                  <a:lnTo>
                    <a:pt x="99" y="77"/>
                  </a:lnTo>
                  <a:lnTo>
                    <a:pt x="109" y="76"/>
                  </a:lnTo>
                  <a:lnTo>
                    <a:pt x="120" y="70"/>
                  </a:lnTo>
                  <a:lnTo>
                    <a:pt x="130" y="67"/>
                  </a:lnTo>
                  <a:lnTo>
                    <a:pt x="136" y="63"/>
                  </a:lnTo>
                  <a:lnTo>
                    <a:pt x="144" y="59"/>
                  </a:lnTo>
                  <a:lnTo>
                    <a:pt x="149" y="54"/>
                  </a:lnTo>
                  <a:lnTo>
                    <a:pt x="157" y="50"/>
                  </a:lnTo>
                  <a:lnTo>
                    <a:pt x="163" y="42"/>
                  </a:lnTo>
                  <a:lnTo>
                    <a:pt x="174" y="36"/>
                  </a:lnTo>
                  <a:lnTo>
                    <a:pt x="177" y="36"/>
                  </a:lnTo>
                  <a:lnTo>
                    <a:pt x="178" y="44"/>
                  </a:lnTo>
                  <a:lnTo>
                    <a:pt x="177" y="51"/>
                  </a:lnTo>
                  <a:lnTo>
                    <a:pt x="174" y="53"/>
                  </a:lnTo>
                  <a:lnTo>
                    <a:pt x="165" y="45"/>
                  </a:lnTo>
                  <a:lnTo>
                    <a:pt x="160" y="40"/>
                  </a:lnTo>
                  <a:lnTo>
                    <a:pt x="156" y="36"/>
                  </a:lnTo>
                  <a:lnTo>
                    <a:pt x="154" y="33"/>
                  </a:lnTo>
                  <a:lnTo>
                    <a:pt x="149" y="29"/>
                  </a:lnTo>
                  <a:lnTo>
                    <a:pt x="144" y="27"/>
                  </a:lnTo>
                  <a:lnTo>
                    <a:pt x="136" y="26"/>
                  </a:lnTo>
                  <a:lnTo>
                    <a:pt x="126" y="25"/>
                  </a:lnTo>
                  <a:lnTo>
                    <a:pt x="120" y="22"/>
                  </a:lnTo>
                  <a:lnTo>
                    <a:pt x="120" y="18"/>
                  </a:lnTo>
                  <a:lnTo>
                    <a:pt x="122" y="13"/>
                  </a:lnTo>
                  <a:lnTo>
                    <a:pt x="128" y="12"/>
                  </a:lnTo>
                  <a:lnTo>
                    <a:pt x="140" y="13"/>
                  </a:lnTo>
                  <a:lnTo>
                    <a:pt x="149" y="14"/>
                  </a:lnTo>
                  <a:lnTo>
                    <a:pt x="156" y="14"/>
                  </a:lnTo>
                  <a:lnTo>
                    <a:pt x="162" y="16"/>
                  </a:lnTo>
                  <a:lnTo>
                    <a:pt x="166" y="18"/>
                  </a:lnTo>
                  <a:lnTo>
                    <a:pt x="172" y="22"/>
                  </a:lnTo>
                  <a:lnTo>
                    <a:pt x="178" y="27"/>
                  </a:lnTo>
                  <a:lnTo>
                    <a:pt x="189" y="36"/>
                  </a:lnTo>
                  <a:lnTo>
                    <a:pt x="193" y="44"/>
                  </a:lnTo>
                  <a:lnTo>
                    <a:pt x="189" y="53"/>
                  </a:lnTo>
                  <a:lnTo>
                    <a:pt x="178" y="62"/>
                  </a:lnTo>
                  <a:lnTo>
                    <a:pt x="170" y="69"/>
                  </a:lnTo>
                  <a:lnTo>
                    <a:pt x="162" y="74"/>
                  </a:lnTo>
                  <a:lnTo>
                    <a:pt x="156" y="81"/>
                  </a:lnTo>
                  <a:lnTo>
                    <a:pt x="147" y="85"/>
                  </a:lnTo>
                  <a:lnTo>
                    <a:pt x="139" y="91"/>
                  </a:lnTo>
                  <a:lnTo>
                    <a:pt x="129" y="95"/>
                  </a:lnTo>
                  <a:lnTo>
                    <a:pt x="116" y="100"/>
                  </a:lnTo>
                  <a:lnTo>
                    <a:pt x="105" y="101"/>
                  </a:lnTo>
                  <a:lnTo>
                    <a:pt x="95" y="103"/>
                  </a:lnTo>
                  <a:lnTo>
                    <a:pt x="86" y="105"/>
                  </a:lnTo>
                  <a:lnTo>
                    <a:pt x="77" y="106"/>
                  </a:lnTo>
                  <a:lnTo>
                    <a:pt x="65" y="106"/>
                  </a:lnTo>
                  <a:lnTo>
                    <a:pt x="55" y="106"/>
                  </a:lnTo>
                  <a:lnTo>
                    <a:pt x="42" y="106"/>
                  </a:lnTo>
                  <a:lnTo>
                    <a:pt x="29" y="107"/>
                  </a:lnTo>
                  <a:lnTo>
                    <a:pt x="19" y="99"/>
                  </a:lnTo>
                  <a:lnTo>
                    <a:pt x="12" y="92"/>
                  </a:lnTo>
                  <a:lnTo>
                    <a:pt x="5" y="82"/>
                  </a:lnTo>
                  <a:lnTo>
                    <a:pt x="2" y="73"/>
                  </a:lnTo>
                  <a:lnTo>
                    <a:pt x="0" y="63"/>
                  </a:lnTo>
                  <a:lnTo>
                    <a:pt x="1" y="52"/>
                  </a:lnTo>
                  <a:lnTo>
                    <a:pt x="6" y="41"/>
                  </a:lnTo>
                  <a:lnTo>
                    <a:pt x="17" y="31"/>
                  </a:lnTo>
                  <a:lnTo>
                    <a:pt x="28" y="21"/>
                  </a:lnTo>
                  <a:lnTo>
                    <a:pt x="41" y="14"/>
                  </a:lnTo>
                  <a:lnTo>
                    <a:pt x="52" y="9"/>
                  </a:lnTo>
                  <a:lnTo>
                    <a:pt x="66" y="7"/>
                  </a:lnTo>
                  <a:lnTo>
                    <a:pt x="79" y="4"/>
                  </a:lnTo>
                  <a:lnTo>
                    <a:pt x="94" y="2"/>
                  </a:lnTo>
                  <a:lnTo>
                    <a:pt x="111" y="1"/>
                  </a:lnTo>
                  <a:lnTo>
                    <a:pt x="130" y="0"/>
                  </a:lnTo>
                  <a:lnTo>
                    <a:pt x="135" y="1"/>
                  </a:lnTo>
                  <a:lnTo>
                    <a:pt x="137" y="7"/>
                  </a:lnTo>
                  <a:lnTo>
                    <a:pt x="135" y="11"/>
                  </a:lnTo>
                  <a:lnTo>
                    <a:pt x="131" y="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505640" y="6659280"/>
              <a:ext cx="142560" cy="92160"/>
            </a:xfrm>
            <a:custGeom>
              <a:avLst/>
              <a:gdLst/>
              <a:ahLst/>
              <a:rect l="l" t="t" r="r" b="b"/>
              <a:pathLst>
                <a:path w="179" h="115">
                  <a:moveTo>
                    <a:pt x="171" y="22"/>
                  </a:moveTo>
                  <a:lnTo>
                    <a:pt x="150" y="18"/>
                  </a:lnTo>
                  <a:lnTo>
                    <a:pt x="125" y="15"/>
                  </a:lnTo>
                  <a:lnTo>
                    <a:pt x="99" y="14"/>
                  </a:lnTo>
                  <a:lnTo>
                    <a:pt x="72" y="18"/>
                  </a:lnTo>
                  <a:lnTo>
                    <a:pt x="47" y="23"/>
                  </a:lnTo>
                  <a:lnTo>
                    <a:pt x="29" y="35"/>
                  </a:lnTo>
                  <a:lnTo>
                    <a:pt x="19" y="52"/>
                  </a:lnTo>
                  <a:lnTo>
                    <a:pt x="21" y="78"/>
                  </a:lnTo>
                  <a:lnTo>
                    <a:pt x="29" y="93"/>
                  </a:lnTo>
                  <a:lnTo>
                    <a:pt x="43" y="100"/>
                  </a:lnTo>
                  <a:lnTo>
                    <a:pt x="60" y="100"/>
                  </a:lnTo>
                  <a:lnTo>
                    <a:pt x="79" y="97"/>
                  </a:lnTo>
                  <a:lnTo>
                    <a:pt x="97" y="88"/>
                  </a:lnTo>
                  <a:lnTo>
                    <a:pt x="116" y="80"/>
                  </a:lnTo>
                  <a:lnTo>
                    <a:pt x="131" y="70"/>
                  </a:lnTo>
                  <a:lnTo>
                    <a:pt x="143" y="63"/>
                  </a:lnTo>
                  <a:lnTo>
                    <a:pt x="145" y="53"/>
                  </a:lnTo>
                  <a:lnTo>
                    <a:pt x="148" y="48"/>
                  </a:lnTo>
                  <a:lnTo>
                    <a:pt x="150" y="43"/>
                  </a:lnTo>
                  <a:lnTo>
                    <a:pt x="152" y="40"/>
                  </a:lnTo>
                  <a:lnTo>
                    <a:pt x="151" y="36"/>
                  </a:lnTo>
                  <a:lnTo>
                    <a:pt x="150" y="33"/>
                  </a:lnTo>
                  <a:lnTo>
                    <a:pt x="147" y="28"/>
                  </a:lnTo>
                  <a:lnTo>
                    <a:pt x="143" y="23"/>
                  </a:lnTo>
                  <a:lnTo>
                    <a:pt x="139" y="18"/>
                  </a:lnTo>
                  <a:lnTo>
                    <a:pt x="142" y="13"/>
                  </a:lnTo>
                  <a:lnTo>
                    <a:pt x="146" y="11"/>
                  </a:lnTo>
                  <a:lnTo>
                    <a:pt x="151" y="14"/>
                  </a:lnTo>
                  <a:lnTo>
                    <a:pt x="159" y="22"/>
                  </a:lnTo>
                  <a:lnTo>
                    <a:pt x="165" y="28"/>
                  </a:lnTo>
                  <a:lnTo>
                    <a:pt x="170" y="34"/>
                  </a:lnTo>
                  <a:lnTo>
                    <a:pt x="173" y="39"/>
                  </a:lnTo>
                  <a:lnTo>
                    <a:pt x="173" y="44"/>
                  </a:lnTo>
                  <a:lnTo>
                    <a:pt x="172" y="52"/>
                  </a:lnTo>
                  <a:lnTo>
                    <a:pt x="168" y="63"/>
                  </a:lnTo>
                  <a:lnTo>
                    <a:pt x="165" y="77"/>
                  </a:lnTo>
                  <a:lnTo>
                    <a:pt x="151" y="85"/>
                  </a:lnTo>
                  <a:lnTo>
                    <a:pt x="132" y="96"/>
                  </a:lnTo>
                  <a:lnTo>
                    <a:pt x="107" y="105"/>
                  </a:lnTo>
                  <a:lnTo>
                    <a:pt x="81" y="113"/>
                  </a:lnTo>
                  <a:lnTo>
                    <a:pt x="54" y="115"/>
                  </a:lnTo>
                  <a:lnTo>
                    <a:pt x="32" y="113"/>
                  </a:lnTo>
                  <a:lnTo>
                    <a:pt x="13" y="102"/>
                  </a:lnTo>
                  <a:lnTo>
                    <a:pt x="2" y="82"/>
                  </a:lnTo>
                  <a:lnTo>
                    <a:pt x="0" y="52"/>
                  </a:lnTo>
                  <a:lnTo>
                    <a:pt x="10" y="30"/>
                  </a:lnTo>
                  <a:lnTo>
                    <a:pt x="32" y="15"/>
                  </a:lnTo>
                  <a:lnTo>
                    <a:pt x="60" y="7"/>
                  </a:lnTo>
                  <a:lnTo>
                    <a:pt x="90" y="1"/>
                  </a:lnTo>
                  <a:lnTo>
                    <a:pt x="122" y="0"/>
                  </a:lnTo>
                  <a:lnTo>
                    <a:pt x="150" y="2"/>
                  </a:lnTo>
                  <a:lnTo>
                    <a:pt x="174" y="7"/>
                  </a:lnTo>
                  <a:lnTo>
                    <a:pt x="178" y="10"/>
                  </a:lnTo>
                  <a:lnTo>
                    <a:pt x="179" y="15"/>
                  </a:lnTo>
                  <a:lnTo>
                    <a:pt x="176" y="20"/>
                  </a:lnTo>
                  <a:lnTo>
                    <a:pt x="171" y="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356240" y="6576840"/>
              <a:ext cx="101160" cy="7632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87" y="17"/>
                  </a:moveTo>
                  <a:lnTo>
                    <a:pt x="71" y="19"/>
                  </a:lnTo>
                  <a:lnTo>
                    <a:pt x="56" y="26"/>
                  </a:lnTo>
                  <a:lnTo>
                    <a:pt x="40" y="32"/>
                  </a:lnTo>
                  <a:lnTo>
                    <a:pt x="28" y="42"/>
                  </a:lnTo>
                  <a:lnTo>
                    <a:pt x="18" y="51"/>
                  </a:lnTo>
                  <a:lnTo>
                    <a:pt x="12" y="60"/>
                  </a:lnTo>
                  <a:lnTo>
                    <a:pt x="13" y="69"/>
                  </a:lnTo>
                  <a:lnTo>
                    <a:pt x="22" y="76"/>
                  </a:lnTo>
                  <a:lnTo>
                    <a:pt x="67" y="58"/>
                  </a:lnTo>
                  <a:lnTo>
                    <a:pt x="79" y="48"/>
                  </a:lnTo>
                  <a:lnTo>
                    <a:pt x="90" y="44"/>
                  </a:lnTo>
                  <a:lnTo>
                    <a:pt x="98" y="40"/>
                  </a:lnTo>
                  <a:lnTo>
                    <a:pt x="106" y="39"/>
                  </a:lnTo>
                  <a:lnTo>
                    <a:pt x="110" y="34"/>
                  </a:lnTo>
                  <a:lnTo>
                    <a:pt x="114" y="29"/>
                  </a:lnTo>
                  <a:lnTo>
                    <a:pt x="114" y="20"/>
                  </a:lnTo>
                  <a:lnTo>
                    <a:pt x="113" y="9"/>
                  </a:lnTo>
                  <a:lnTo>
                    <a:pt x="114" y="2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6" y="5"/>
                  </a:lnTo>
                  <a:lnTo>
                    <a:pt x="127" y="22"/>
                  </a:lnTo>
                  <a:lnTo>
                    <a:pt x="128" y="33"/>
                  </a:lnTo>
                  <a:lnTo>
                    <a:pt x="125" y="41"/>
                  </a:lnTo>
                  <a:lnTo>
                    <a:pt x="121" y="48"/>
                  </a:lnTo>
                  <a:lnTo>
                    <a:pt x="113" y="53"/>
                  </a:lnTo>
                  <a:lnTo>
                    <a:pt x="104" y="59"/>
                  </a:lnTo>
                  <a:lnTo>
                    <a:pt x="92" y="67"/>
                  </a:lnTo>
                  <a:lnTo>
                    <a:pt x="78" y="78"/>
                  </a:lnTo>
                  <a:lnTo>
                    <a:pt x="25" y="97"/>
                  </a:lnTo>
                  <a:lnTo>
                    <a:pt x="21" y="97"/>
                  </a:lnTo>
                  <a:lnTo>
                    <a:pt x="17" y="97"/>
                  </a:lnTo>
                  <a:lnTo>
                    <a:pt x="4" y="86"/>
                  </a:lnTo>
                  <a:lnTo>
                    <a:pt x="0" y="73"/>
                  </a:lnTo>
                  <a:lnTo>
                    <a:pt x="4" y="58"/>
                  </a:lnTo>
                  <a:lnTo>
                    <a:pt x="14" y="44"/>
                  </a:lnTo>
                  <a:lnTo>
                    <a:pt x="28" y="28"/>
                  </a:lnTo>
                  <a:lnTo>
                    <a:pt x="46" y="16"/>
                  </a:lnTo>
                  <a:lnTo>
                    <a:pt x="65" y="6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3" y="9"/>
                  </a:lnTo>
                  <a:lnTo>
                    <a:pt x="92" y="14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029360" y="6413400"/>
              <a:ext cx="134640" cy="73080"/>
            </a:xfrm>
            <a:custGeom>
              <a:avLst/>
              <a:gdLst/>
              <a:ahLst/>
              <a:rect l="l" t="t" r="r" b="b"/>
              <a:pathLst>
                <a:path w="169" h="90">
                  <a:moveTo>
                    <a:pt x="17" y="33"/>
                  </a:moveTo>
                  <a:lnTo>
                    <a:pt x="28" y="19"/>
                  </a:lnTo>
                  <a:lnTo>
                    <a:pt x="47" y="10"/>
                  </a:lnTo>
                  <a:lnTo>
                    <a:pt x="67" y="3"/>
                  </a:lnTo>
                  <a:lnTo>
                    <a:pt x="90" y="0"/>
                  </a:lnTo>
                  <a:lnTo>
                    <a:pt x="111" y="0"/>
                  </a:lnTo>
                  <a:lnTo>
                    <a:pt x="132" y="5"/>
                  </a:lnTo>
                  <a:lnTo>
                    <a:pt x="149" y="14"/>
                  </a:lnTo>
                  <a:lnTo>
                    <a:pt x="162" y="28"/>
                  </a:lnTo>
                  <a:lnTo>
                    <a:pt x="169" y="54"/>
                  </a:lnTo>
                  <a:lnTo>
                    <a:pt x="162" y="72"/>
                  </a:lnTo>
                  <a:lnTo>
                    <a:pt x="140" y="83"/>
                  </a:lnTo>
                  <a:lnTo>
                    <a:pt x="113" y="89"/>
                  </a:lnTo>
                  <a:lnTo>
                    <a:pt x="81" y="90"/>
                  </a:lnTo>
                  <a:lnTo>
                    <a:pt x="51" y="89"/>
                  </a:lnTo>
                  <a:lnTo>
                    <a:pt x="24" y="86"/>
                  </a:lnTo>
                  <a:lnTo>
                    <a:pt x="8" y="83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7" y="65"/>
                  </a:lnTo>
                  <a:lnTo>
                    <a:pt x="50" y="71"/>
                  </a:lnTo>
                  <a:lnTo>
                    <a:pt x="77" y="75"/>
                  </a:lnTo>
                  <a:lnTo>
                    <a:pt x="104" y="77"/>
                  </a:lnTo>
                  <a:lnTo>
                    <a:pt x="127" y="75"/>
                  </a:lnTo>
                  <a:lnTo>
                    <a:pt x="145" y="70"/>
                  </a:lnTo>
                  <a:lnTo>
                    <a:pt x="151" y="57"/>
                  </a:lnTo>
                  <a:lnTo>
                    <a:pt x="146" y="37"/>
                  </a:lnTo>
                  <a:lnTo>
                    <a:pt x="135" y="26"/>
                  </a:lnTo>
                  <a:lnTo>
                    <a:pt x="121" y="18"/>
                  </a:lnTo>
                  <a:lnTo>
                    <a:pt x="104" y="14"/>
                  </a:lnTo>
                  <a:lnTo>
                    <a:pt x="86" y="14"/>
                  </a:lnTo>
                  <a:lnTo>
                    <a:pt x="67" y="16"/>
                  </a:lnTo>
                  <a:lnTo>
                    <a:pt x="51" y="21"/>
                  </a:lnTo>
                  <a:lnTo>
                    <a:pt x="37" y="29"/>
                  </a:lnTo>
                  <a:lnTo>
                    <a:pt x="27" y="41"/>
                  </a:lnTo>
                  <a:lnTo>
                    <a:pt x="22" y="43"/>
                  </a:lnTo>
                  <a:lnTo>
                    <a:pt x="18" y="42"/>
                  </a:lnTo>
                  <a:lnTo>
                    <a:pt x="15" y="37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105320" y="6364080"/>
              <a:ext cx="101160" cy="5544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4" y="33"/>
                  </a:moveTo>
                  <a:lnTo>
                    <a:pt x="14" y="25"/>
                  </a:lnTo>
                  <a:lnTo>
                    <a:pt x="26" y="20"/>
                  </a:lnTo>
                  <a:lnTo>
                    <a:pt x="38" y="13"/>
                  </a:lnTo>
                  <a:lnTo>
                    <a:pt x="52" y="10"/>
                  </a:lnTo>
                  <a:lnTo>
                    <a:pt x="65" y="6"/>
                  </a:lnTo>
                  <a:lnTo>
                    <a:pt x="82" y="4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25" y="2"/>
                  </a:lnTo>
                  <a:lnTo>
                    <a:pt x="129" y="10"/>
                  </a:lnTo>
                  <a:lnTo>
                    <a:pt x="125" y="39"/>
                  </a:lnTo>
                  <a:lnTo>
                    <a:pt x="123" y="42"/>
                  </a:lnTo>
                  <a:lnTo>
                    <a:pt x="121" y="47"/>
                  </a:lnTo>
                  <a:lnTo>
                    <a:pt x="115" y="50"/>
                  </a:lnTo>
                  <a:lnTo>
                    <a:pt x="108" y="53"/>
                  </a:lnTo>
                  <a:lnTo>
                    <a:pt x="103" y="56"/>
                  </a:lnTo>
                  <a:lnTo>
                    <a:pt x="97" y="60"/>
                  </a:lnTo>
                  <a:lnTo>
                    <a:pt x="91" y="62"/>
                  </a:lnTo>
                  <a:lnTo>
                    <a:pt x="86" y="65"/>
                  </a:lnTo>
                  <a:lnTo>
                    <a:pt x="79" y="68"/>
                  </a:lnTo>
                  <a:lnTo>
                    <a:pt x="73" y="71"/>
                  </a:lnTo>
                  <a:lnTo>
                    <a:pt x="65" y="71"/>
                  </a:lnTo>
                  <a:lnTo>
                    <a:pt x="61" y="67"/>
                  </a:lnTo>
                  <a:lnTo>
                    <a:pt x="60" y="60"/>
                  </a:lnTo>
                  <a:lnTo>
                    <a:pt x="65" y="55"/>
                  </a:lnTo>
                  <a:lnTo>
                    <a:pt x="71" y="52"/>
                  </a:lnTo>
                  <a:lnTo>
                    <a:pt x="77" y="49"/>
                  </a:lnTo>
                  <a:lnTo>
                    <a:pt x="82" y="46"/>
                  </a:lnTo>
                  <a:lnTo>
                    <a:pt x="89" y="43"/>
                  </a:lnTo>
                  <a:lnTo>
                    <a:pt x="93" y="40"/>
                  </a:lnTo>
                  <a:lnTo>
                    <a:pt x="100" y="37"/>
                  </a:lnTo>
                  <a:lnTo>
                    <a:pt x="105" y="34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9" y="34"/>
                  </a:lnTo>
                  <a:lnTo>
                    <a:pt x="106" y="36"/>
                  </a:lnTo>
                  <a:lnTo>
                    <a:pt x="107" y="37"/>
                  </a:lnTo>
                  <a:lnTo>
                    <a:pt x="110" y="8"/>
                  </a:lnTo>
                  <a:lnTo>
                    <a:pt x="112" y="6"/>
                  </a:lnTo>
                  <a:lnTo>
                    <a:pt x="118" y="10"/>
                  </a:lnTo>
                  <a:lnTo>
                    <a:pt x="121" y="14"/>
                  </a:lnTo>
                  <a:lnTo>
                    <a:pt x="120" y="19"/>
                  </a:lnTo>
                  <a:lnTo>
                    <a:pt x="102" y="19"/>
                  </a:lnTo>
                  <a:lnTo>
                    <a:pt x="86" y="20"/>
                  </a:lnTo>
                  <a:lnTo>
                    <a:pt x="69" y="22"/>
                  </a:lnTo>
                  <a:lnTo>
                    <a:pt x="57" y="25"/>
                  </a:lnTo>
                  <a:lnTo>
                    <a:pt x="44" y="28"/>
                  </a:lnTo>
                  <a:lnTo>
                    <a:pt x="32" y="33"/>
                  </a:lnTo>
                  <a:lnTo>
                    <a:pt x="20" y="37"/>
                  </a:lnTo>
                  <a:lnTo>
                    <a:pt x="10" y="45"/>
                  </a:lnTo>
                  <a:lnTo>
                    <a:pt x="4" y="45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949800" y="6373800"/>
              <a:ext cx="122040" cy="71280"/>
            </a:xfrm>
            <a:custGeom>
              <a:avLst/>
              <a:gdLst/>
              <a:ahLst/>
              <a:rect l="l" t="t" r="r" b="b"/>
              <a:pathLst>
                <a:path w="154" h="92">
                  <a:moveTo>
                    <a:pt x="10" y="0"/>
                  </a:moveTo>
                  <a:lnTo>
                    <a:pt x="145" y="10"/>
                  </a:lnTo>
                  <a:lnTo>
                    <a:pt x="150" y="10"/>
                  </a:lnTo>
                  <a:lnTo>
                    <a:pt x="153" y="13"/>
                  </a:lnTo>
                  <a:lnTo>
                    <a:pt x="154" y="17"/>
                  </a:lnTo>
                  <a:lnTo>
                    <a:pt x="152" y="24"/>
                  </a:lnTo>
                  <a:lnTo>
                    <a:pt x="140" y="40"/>
                  </a:lnTo>
                  <a:lnTo>
                    <a:pt x="128" y="53"/>
                  </a:lnTo>
                  <a:lnTo>
                    <a:pt x="114" y="64"/>
                  </a:lnTo>
                  <a:lnTo>
                    <a:pt x="100" y="73"/>
                  </a:lnTo>
                  <a:lnTo>
                    <a:pt x="82" y="80"/>
                  </a:lnTo>
                  <a:lnTo>
                    <a:pt x="64" y="85"/>
                  </a:lnTo>
                  <a:lnTo>
                    <a:pt x="41" y="88"/>
                  </a:lnTo>
                  <a:lnTo>
                    <a:pt x="18" y="92"/>
                  </a:lnTo>
                  <a:lnTo>
                    <a:pt x="11" y="89"/>
                  </a:lnTo>
                  <a:lnTo>
                    <a:pt x="8" y="87"/>
                  </a:lnTo>
                  <a:lnTo>
                    <a:pt x="5" y="84"/>
                  </a:lnTo>
                  <a:lnTo>
                    <a:pt x="5" y="81"/>
                  </a:lnTo>
                  <a:lnTo>
                    <a:pt x="7" y="72"/>
                  </a:lnTo>
                  <a:lnTo>
                    <a:pt x="16" y="69"/>
                  </a:lnTo>
                  <a:lnTo>
                    <a:pt x="36" y="66"/>
                  </a:lnTo>
                  <a:lnTo>
                    <a:pt x="55" y="64"/>
                  </a:lnTo>
                  <a:lnTo>
                    <a:pt x="73" y="59"/>
                  </a:lnTo>
                  <a:lnTo>
                    <a:pt x="89" y="55"/>
                  </a:lnTo>
                  <a:lnTo>
                    <a:pt x="102" y="48"/>
                  </a:lnTo>
                  <a:lnTo>
                    <a:pt x="114" y="39"/>
                  </a:lnTo>
                  <a:lnTo>
                    <a:pt x="125" y="27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5" y="19"/>
                  </a:lnTo>
                  <a:lnTo>
                    <a:pt x="146" y="25"/>
                  </a:lnTo>
                  <a:lnTo>
                    <a:pt x="144" y="29"/>
                  </a:lnTo>
                  <a:lnTo>
                    <a:pt x="9" y="17"/>
                  </a:lnTo>
                  <a:lnTo>
                    <a:pt x="2" y="13"/>
                  </a:lnTo>
                  <a:lnTo>
                    <a:pt x="0" y="7"/>
                  </a:lnTo>
                  <a:lnTo>
                    <a:pt x="3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938640" y="6429240"/>
              <a:ext cx="114120" cy="8244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70" y="0"/>
                  </a:moveTo>
                  <a:lnTo>
                    <a:pt x="90" y="2"/>
                  </a:lnTo>
                  <a:lnTo>
                    <a:pt x="109" y="8"/>
                  </a:lnTo>
                  <a:lnTo>
                    <a:pt x="123" y="14"/>
                  </a:lnTo>
                  <a:lnTo>
                    <a:pt x="135" y="24"/>
                  </a:lnTo>
                  <a:lnTo>
                    <a:pt x="141" y="33"/>
                  </a:lnTo>
                  <a:lnTo>
                    <a:pt x="145" y="46"/>
                  </a:lnTo>
                  <a:lnTo>
                    <a:pt x="144" y="59"/>
                  </a:lnTo>
                  <a:lnTo>
                    <a:pt x="141" y="76"/>
                  </a:lnTo>
                  <a:lnTo>
                    <a:pt x="139" y="81"/>
                  </a:lnTo>
                  <a:lnTo>
                    <a:pt x="135" y="83"/>
                  </a:lnTo>
                  <a:lnTo>
                    <a:pt x="124" y="86"/>
                  </a:lnTo>
                  <a:lnTo>
                    <a:pt x="113" y="89"/>
                  </a:lnTo>
                  <a:lnTo>
                    <a:pt x="101" y="93"/>
                  </a:lnTo>
                  <a:lnTo>
                    <a:pt x="89" y="96"/>
                  </a:lnTo>
                  <a:lnTo>
                    <a:pt x="76" y="98"/>
                  </a:lnTo>
                  <a:lnTo>
                    <a:pt x="65" y="101"/>
                  </a:lnTo>
                  <a:lnTo>
                    <a:pt x="52" y="103"/>
                  </a:lnTo>
                  <a:lnTo>
                    <a:pt x="42" y="105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2" y="74"/>
                  </a:lnTo>
                  <a:lnTo>
                    <a:pt x="9" y="74"/>
                  </a:lnTo>
                  <a:lnTo>
                    <a:pt x="45" y="84"/>
                  </a:lnTo>
                  <a:lnTo>
                    <a:pt x="55" y="82"/>
                  </a:lnTo>
                  <a:lnTo>
                    <a:pt x="66" y="80"/>
                  </a:lnTo>
                  <a:lnTo>
                    <a:pt x="75" y="76"/>
                  </a:lnTo>
                  <a:lnTo>
                    <a:pt x="87" y="74"/>
                  </a:lnTo>
                  <a:lnTo>
                    <a:pt x="97" y="71"/>
                  </a:lnTo>
                  <a:lnTo>
                    <a:pt x="108" y="68"/>
                  </a:lnTo>
                  <a:lnTo>
                    <a:pt x="117" y="65"/>
                  </a:lnTo>
                  <a:lnTo>
                    <a:pt x="127" y="62"/>
                  </a:lnTo>
                  <a:lnTo>
                    <a:pt x="126" y="62"/>
                  </a:lnTo>
                  <a:lnTo>
                    <a:pt x="124" y="66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3" y="57"/>
                  </a:lnTo>
                  <a:lnTo>
                    <a:pt x="123" y="47"/>
                  </a:lnTo>
                  <a:lnTo>
                    <a:pt x="120" y="38"/>
                  </a:lnTo>
                  <a:lnTo>
                    <a:pt x="115" y="31"/>
                  </a:lnTo>
                  <a:lnTo>
                    <a:pt x="106" y="25"/>
                  </a:lnTo>
                  <a:lnTo>
                    <a:pt x="96" y="21"/>
                  </a:lnTo>
                  <a:lnTo>
                    <a:pt x="82" y="16"/>
                  </a:lnTo>
                  <a:lnTo>
                    <a:pt x="68" y="15"/>
                  </a:lnTo>
                  <a:lnTo>
                    <a:pt x="61" y="11"/>
                  </a:lnTo>
                  <a:lnTo>
                    <a:pt x="60" y="7"/>
                  </a:lnTo>
                  <a:lnTo>
                    <a:pt x="64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868800" y="6327720"/>
              <a:ext cx="99720" cy="601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" y="6"/>
                  </a:moveTo>
                  <a:lnTo>
                    <a:pt x="37" y="0"/>
                  </a:lnTo>
                  <a:lnTo>
                    <a:pt x="67" y="0"/>
                  </a:lnTo>
                  <a:lnTo>
                    <a:pt x="93" y="5"/>
                  </a:lnTo>
                  <a:lnTo>
                    <a:pt x="114" y="12"/>
                  </a:lnTo>
                  <a:lnTo>
                    <a:pt x="124" y="23"/>
                  </a:lnTo>
                  <a:lnTo>
                    <a:pt x="124" y="37"/>
                  </a:lnTo>
                  <a:lnTo>
                    <a:pt x="112" y="54"/>
                  </a:lnTo>
                  <a:lnTo>
                    <a:pt x="84" y="76"/>
                  </a:lnTo>
                  <a:lnTo>
                    <a:pt x="74" y="74"/>
                  </a:lnTo>
                  <a:lnTo>
                    <a:pt x="65" y="73"/>
                  </a:lnTo>
                  <a:lnTo>
                    <a:pt x="56" y="72"/>
                  </a:lnTo>
                  <a:lnTo>
                    <a:pt x="47" y="71"/>
                  </a:lnTo>
                  <a:lnTo>
                    <a:pt x="38" y="69"/>
                  </a:lnTo>
                  <a:lnTo>
                    <a:pt x="31" y="67"/>
                  </a:lnTo>
                  <a:lnTo>
                    <a:pt x="23" y="65"/>
                  </a:lnTo>
                  <a:lnTo>
                    <a:pt x="17" y="64"/>
                  </a:lnTo>
                  <a:lnTo>
                    <a:pt x="13" y="59"/>
                  </a:lnTo>
                  <a:lnTo>
                    <a:pt x="13" y="55"/>
                  </a:lnTo>
                  <a:lnTo>
                    <a:pt x="15" y="51"/>
                  </a:lnTo>
                  <a:lnTo>
                    <a:pt x="21" y="52"/>
                  </a:lnTo>
                  <a:lnTo>
                    <a:pt x="27" y="53"/>
                  </a:lnTo>
                  <a:lnTo>
                    <a:pt x="33" y="54"/>
                  </a:lnTo>
                  <a:lnTo>
                    <a:pt x="39" y="54"/>
                  </a:lnTo>
                  <a:lnTo>
                    <a:pt x="47" y="55"/>
                  </a:lnTo>
                  <a:lnTo>
                    <a:pt x="53" y="55"/>
                  </a:lnTo>
                  <a:lnTo>
                    <a:pt x="61" y="55"/>
                  </a:lnTo>
                  <a:lnTo>
                    <a:pt x="69" y="55"/>
                  </a:lnTo>
                  <a:lnTo>
                    <a:pt x="78" y="55"/>
                  </a:lnTo>
                  <a:lnTo>
                    <a:pt x="96" y="41"/>
                  </a:lnTo>
                  <a:lnTo>
                    <a:pt x="104" y="30"/>
                  </a:lnTo>
                  <a:lnTo>
                    <a:pt x="102" y="23"/>
                  </a:lnTo>
                  <a:lnTo>
                    <a:pt x="92" y="19"/>
                  </a:lnTo>
                  <a:lnTo>
                    <a:pt x="75" y="15"/>
                  </a:lnTo>
                  <a:lnTo>
                    <a:pt x="55" y="16"/>
                  </a:lnTo>
                  <a:lnTo>
                    <a:pt x="32" y="18"/>
                  </a:lnTo>
                  <a:lnTo>
                    <a:pt x="9" y="22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9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066080" y="6538680"/>
              <a:ext cx="104400" cy="6516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28" y="15"/>
                  </a:moveTo>
                  <a:lnTo>
                    <a:pt x="25" y="27"/>
                  </a:lnTo>
                  <a:lnTo>
                    <a:pt x="22" y="35"/>
                  </a:lnTo>
                  <a:lnTo>
                    <a:pt x="20" y="40"/>
                  </a:lnTo>
                  <a:lnTo>
                    <a:pt x="20" y="44"/>
                  </a:lnTo>
                  <a:lnTo>
                    <a:pt x="21" y="46"/>
                  </a:lnTo>
                  <a:lnTo>
                    <a:pt x="25" y="50"/>
                  </a:lnTo>
                  <a:lnTo>
                    <a:pt x="30" y="55"/>
                  </a:lnTo>
                  <a:lnTo>
                    <a:pt x="39" y="64"/>
                  </a:lnTo>
                  <a:lnTo>
                    <a:pt x="36" y="64"/>
                  </a:lnTo>
                  <a:lnTo>
                    <a:pt x="33" y="62"/>
                  </a:lnTo>
                  <a:lnTo>
                    <a:pt x="30" y="60"/>
                  </a:lnTo>
                  <a:lnTo>
                    <a:pt x="31" y="61"/>
                  </a:lnTo>
                  <a:lnTo>
                    <a:pt x="53" y="61"/>
                  </a:lnTo>
                  <a:lnTo>
                    <a:pt x="72" y="62"/>
                  </a:lnTo>
                  <a:lnTo>
                    <a:pt x="87" y="61"/>
                  </a:lnTo>
                  <a:lnTo>
                    <a:pt x="100" y="59"/>
                  </a:lnTo>
                  <a:lnTo>
                    <a:pt x="107" y="52"/>
                  </a:lnTo>
                  <a:lnTo>
                    <a:pt x="113" y="43"/>
                  </a:lnTo>
                  <a:lnTo>
                    <a:pt x="114" y="29"/>
                  </a:lnTo>
                  <a:lnTo>
                    <a:pt x="113" y="11"/>
                  </a:lnTo>
                  <a:lnTo>
                    <a:pt x="114" y="3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0" y="7"/>
                  </a:lnTo>
                  <a:lnTo>
                    <a:pt x="132" y="31"/>
                  </a:lnTo>
                  <a:lnTo>
                    <a:pt x="131" y="50"/>
                  </a:lnTo>
                  <a:lnTo>
                    <a:pt x="126" y="63"/>
                  </a:lnTo>
                  <a:lnTo>
                    <a:pt x="117" y="74"/>
                  </a:lnTo>
                  <a:lnTo>
                    <a:pt x="102" y="78"/>
                  </a:lnTo>
                  <a:lnTo>
                    <a:pt x="83" y="81"/>
                  </a:lnTo>
                  <a:lnTo>
                    <a:pt x="58" y="81"/>
                  </a:lnTo>
                  <a:lnTo>
                    <a:pt x="30" y="81"/>
                  </a:lnTo>
                  <a:lnTo>
                    <a:pt x="26" y="79"/>
                  </a:lnTo>
                  <a:lnTo>
                    <a:pt x="21" y="78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1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3" y="40"/>
                  </a:lnTo>
                  <a:lnTo>
                    <a:pt x="6" y="28"/>
                  </a:lnTo>
                  <a:lnTo>
                    <a:pt x="11" y="12"/>
                  </a:lnTo>
                  <a:lnTo>
                    <a:pt x="14" y="5"/>
                  </a:lnTo>
                  <a:lnTo>
                    <a:pt x="20" y="5"/>
                  </a:lnTo>
                  <a:lnTo>
                    <a:pt x="26" y="7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908400" y="6543360"/>
              <a:ext cx="147240" cy="71640"/>
            </a:xfrm>
            <a:custGeom>
              <a:avLst/>
              <a:gdLst/>
              <a:ahLst/>
              <a:rect l="l" t="t" r="r" b="b"/>
              <a:pathLst>
                <a:path w="185" h="89">
                  <a:moveTo>
                    <a:pt x="12" y="52"/>
                  </a:moveTo>
                  <a:lnTo>
                    <a:pt x="55" y="71"/>
                  </a:lnTo>
                  <a:lnTo>
                    <a:pt x="116" y="68"/>
                  </a:lnTo>
                  <a:lnTo>
                    <a:pt x="130" y="59"/>
                  </a:lnTo>
                  <a:lnTo>
                    <a:pt x="142" y="53"/>
                  </a:lnTo>
                  <a:lnTo>
                    <a:pt x="147" y="45"/>
                  </a:lnTo>
                  <a:lnTo>
                    <a:pt x="151" y="39"/>
                  </a:lnTo>
                  <a:lnTo>
                    <a:pt x="147" y="32"/>
                  </a:lnTo>
                  <a:lnTo>
                    <a:pt x="141" y="27"/>
                  </a:lnTo>
                  <a:lnTo>
                    <a:pt x="128" y="24"/>
                  </a:lnTo>
                  <a:lnTo>
                    <a:pt x="112" y="22"/>
                  </a:lnTo>
                  <a:lnTo>
                    <a:pt x="80" y="25"/>
                  </a:lnTo>
                  <a:lnTo>
                    <a:pt x="70" y="22"/>
                  </a:lnTo>
                  <a:lnTo>
                    <a:pt x="68" y="16"/>
                  </a:lnTo>
                  <a:lnTo>
                    <a:pt x="69" y="9"/>
                  </a:lnTo>
                  <a:lnTo>
                    <a:pt x="76" y="4"/>
                  </a:lnTo>
                  <a:lnTo>
                    <a:pt x="111" y="0"/>
                  </a:lnTo>
                  <a:lnTo>
                    <a:pt x="143" y="3"/>
                  </a:lnTo>
                  <a:lnTo>
                    <a:pt x="166" y="11"/>
                  </a:lnTo>
                  <a:lnTo>
                    <a:pt x="180" y="20"/>
                  </a:lnTo>
                  <a:lnTo>
                    <a:pt x="185" y="32"/>
                  </a:lnTo>
                  <a:lnTo>
                    <a:pt x="181" y="44"/>
                  </a:lnTo>
                  <a:lnTo>
                    <a:pt x="169" y="58"/>
                  </a:lnTo>
                  <a:lnTo>
                    <a:pt x="148" y="72"/>
                  </a:lnTo>
                  <a:lnTo>
                    <a:pt x="120" y="86"/>
                  </a:lnTo>
                  <a:lnTo>
                    <a:pt x="51" y="89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4" y="51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134480" y="6608520"/>
              <a:ext cx="128160" cy="84240"/>
            </a:xfrm>
            <a:custGeom>
              <a:avLst/>
              <a:gdLst/>
              <a:ahLst/>
              <a:rect l="l" t="t" r="r" b="b"/>
              <a:pathLst>
                <a:path w="162" h="104">
                  <a:moveTo>
                    <a:pt x="101" y="16"/>
                  </a:moveTo>
                  <a:lnTo>
                    <a:pt x="76" y="19"/>
                  </a:lnTo>
                  <a:lnTo>
                    <a:pt x="58" y="23"/>
                  </a:lnTo>
                  <a:lnTo>
                    <a:pt x="44" y="24"/>
                  </a:lnTo>
                  <a:lnTo>
                    <a:pt x="34" y="28"/>
                  </a:lnTo>
                  <a:lnTo>
                    <a:pt x="28" y="32"/>
                  </a:lnTo>
                  <a:lnTo>
                    <a:pt x="24" y="43"/>
                  </a:lnTo>
                  <a:lnTo>
                    <a:pt x="23" y="58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8" y="77"/>
                  </a:lnTo>
                  <a:lnTo>
                    <a:pt x="15" y="71"/>
                  </a:lnTo>
                  <a:lnTo>
                    <a:pt x="16" y="70"/>
                  </a:lnTo>
                  <a:lnTo>
                    <a:pt x="25" y="73"/>
                  </a:lnTo>
                  <a:lnTo>
                    <a:pt x="35" y="76"/>
                  </a:lnTo>
                  <a:lnTo>
                    <a:pt x="43" y="77"/>
                  </a:lnTo>
                  <a:lnTo>
                    <a:pt x="52" y="79"/>
                  </a:lnTo>
                  <a:lnTo>
                    <a:pt x="61" y="79"/>
                  </a:lnTo>
                  <a:lnTo>
                    <a:pt x="73" y="79"/>
                  </a:lnTo>
                  <a:lnTo>
                    <a:pt x="86" y="77"/>
                  </a:lnTo>
                  <a:lnTo>
                    <a:pt x="103" y="76"/>
                  </a:lnTo>
                  <a:lnTo>
                    <a:pt x="112" y="72"/>
                  </a:lnTo>
                  <a:lnTo>
                    <a:pt x="121" y="68"/>
                  </a:lnTo>
                  <a:lnTo>
                    <a:pt x="130" y="62"/>
                  </a:lnTo>
                  <a:lnTo>
                    <a:pt x="137" y="58"/>
                  </a:lnTo>
                  <a:lnTo>
                    <a:pt x="142" y="52"/>
                  </a:lnTo>
                  <a:lnTo>
                    <a:pt x="143" y="45"/>
                  </a:lnTo>
                  <a:lnTo>
                    <a:pt x="138" y="39"/>
                  </a:lnTo>
                  <a:lnTo>
                    <a:pt x="131" y="33"/>
                  </a:lnTo>
                  <a:lnTo>
                    <a:pt x="127" y="27"/>
                  </a:lnTo>
                  <a:lnTo>
                    <a:pt x="128" y="21"/>
                  </a:lnTo>
                  <a:lnTo>
                    <a:pt x="132" y="17"/>
                  </a:lnTo>
                  <a:lnTo>
                    <a:pt x="139" y="19"/>
                  </a:lnTo>
                  <a:lnTo>
                    <a:pt x="153" y="30"/>
                  </a:lnTo>
                  <a:lnTo>
                    <a:pt x="161" y="42"/>
                  </a:lnTo>
                  <a:lnTo>
                    <a:pt x="162" y="54"/>
                  </a:lnTo>
                  <a:lnTo>
                    <a:pt x="158" y="65"/>
                  </a:lnTo>
                  <a:lnTo>
                    <a:pt x="149" y="75"/>
                  </a:lnTo>
                  <a:lnTo>
                    <a:pt x="137" y="86"/>
                  </a:lnTo>
                  <a:lnTo>
                    <a:pt x="122" y="93"/>
                  </a:lnTo>
                  <a:lnTo>
                    <a:pt x="108" y="100"/>
                  </a:lnTo>
                  <a:lnTo>
                    <a:pt x="89" y="101"/>
                  </a:lnTo>
                  <a:lnTo>
                    <a:pt x="74" y="103"/>
                  </a:lnTo>
                  <a:lnTo>
                    <a:pt x="60" y="103"/>
                  </a:lnTo>
                  <a:lnTo>
                    <a:pt x="49" y="104"/>
                  </a:lnTo>
                  <a:lnTo>
                    <a:pt x="38" y="102"/>
                  </a:lnTo>
                  <a:lnTo>
                    <a:pt x="29" y="100"/>
                  </a:lnTo>
                  <a:lnTo>
                    <a:pt x="18" y="96"/>
                  </a:lnTo>
                  <a:lnTo>
                    <a:pt x="7" y="92"/>
                  </a:lnTo>
                  <a:lnTo>
                    <a:pt x="1" y="88"/>
                  </a:lnTo>
                  <a:lnTo>
                    <a:pt x="0" y="82"/>
                  </a:lnTo>
                  <a:lnTo>
                    <a:pt x="0" y="53"/>
                  </a:lnTo>
                  <a:lnTo>
                    <a:pt x="2" y="33"/>
                  </a:lnTo>
                  <a:lnTo>
                    <a:pt x="5" y="20"/>
                  </a:lnTo>
                  <a:lnTo>
                    <a:pt x="14" y="14"/>
                  </a:lnTo>
                  <a:lnTo>
                    <a:pt x="24" y="9"/>
                  </a:lnTo>
                  <a:lnTo>
                    <a:pt x="43" y="6"/>
                  </a:lnTo>
                  <a:lnTo>
                    <a:pt x="66" y="4"/>
                  </a:lnTo>
                  <a:lnTo>
                    <a:pt x="98" y="0"/>
                  </a:lnTo>
                  <a:lnTo>
                    <a:pt x="104" y="1"/>
                  </a:lnTo>
                  <a:lnTo>
                    <a:pt x="107" y="6"/>
                  </a:lnTo>
                  <a:lnTo>
                    <a:pt x="105" y="12"/>
                  </a:lnTo>
                  <a:lnTo>
                    <a:pt x="101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999120" y="6649920"/>
              <a:ext cx="132840" cy="92160"/>
            </a:xfrm>
            <a:custGeom>
              <a:avLst/>
              <a:gdLst/>
              <a:ahLst/>
              <a:rect l="l" t="t" r="r" b="b"/>
              <a:pathLst>
                <a:path w="168" h="116">
                  <a:moveTo>
                    <a:pt x="63" y="12"/>
                  </a:moveTo>
                  <a:lnTo>
                    <a:pt x="26" y="46"/>
                  </a:lnTo>
                  <a:lnTo>
                    <a:pt x="22" y="55"/>
                  </a:lnTo>
                  <a:lnTo>
                    <a:pt x="21" y="63"/>
                  </a:lnTo>
                  <a:lnTo>
                    <a:pt x="20" y="68"/>
                  </a:lnTo>
                  <a:lnTo>
                    <a:pt x="22" y="74"/>
                  </a:lnTo>
                  <a:lnTo>
                    <a:pt x="24" y="77"/>
                  </a:lnTo>
                  <a:lnTo>
                    <a:pt x="30" y="80"/>
                  </a:lnTo>
                  <a:lnTo>
                    <a:pt x="38" y="83"/>
                  </a:lnTo>
                  <a:lnTo>
                    <a:pt x="50" y="88"/>
                  </a:lnTo>
                  <a:lnTo>
                    <a:pt x="68" y="90"/>
                  </a:lnTo>
                  <a:lnTo>
                    <a:pt x="81" y="92"/>
                  </a:lnTo>
                  <a:lnTo>
                    <a:pt x="89" y="93"/>
                  </a:lnTo>
                  <a:lnTo>
                    <a:pt x="96" y="94"/>
                  </a:lnTo>
                  <a:lnTo>
                    <a:pt x="100" y="93"/>
                  </a:lnTo>
                  <a:lnTo>
                    <a:pt x="109" y="91"/>
                  </a:lnTo>
                  <a:lnTo>
                    <a:pt x="121" y="87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7" y="84"/>
                  </a:lnTo>
                  <a:lnTo>
                    <a:pt x="135" y="85"/>
                  </a:lnTo>
                  <a:lnTo>
                    <a:pt x="134" y="87"/>
                  </a:lnTo>
                  <a:lnTo>
                    <a:pt x="139" y="73"/>
                  </a:lnTo>
                  <a:lnTo>
                    <a:pt x="143" y="65"/>
                  </a:lnTo>
                  <a:lnTo>
                    <a:pt x="145" y="60"/>
                  </a:lnTo>
                  <a:lnTo>
                    <a:pt x="146" y="59"/>
                  </a:lnTo>
                  <a:lnTo>
                    <a:pt x="144" y="55"/>
                  </a:lnTo>
                  <a:lnTo>
                    <a:pt x="141" y="52"/>
                  </a:lnTo>
                  <a:lnTo>
                    <a:pt x="135" y="46"/>
                  </a:lnTo>
                  <a:lnTo>
                    <a:pt x="128" y="37"/>
                  </a:lnTo>
                  <a:lnTo>
                    <a:pt x="102" y="20"/>
                  </a:lnTo>
                  <a:lnTo>
                    <a:pt x="98" y="15"/>
                  </a:lnTo>
                  <a:lnTo>
                    <a:pt x="99" y="10"/>
                  </a:lnTo>
                  <a:lnTo>
                    <a:pt x="102" y="7"/>
                  </a:lnTo>
                  <a:lnTo>
                    <a:pt x="109" y="8"/>
                  </a:lnTo>
                  <a:lnTo>
                    <a:pt x="141" y="21"/>
                  </a:lnTo>
                  <a:lnTo>
                    <a:pt x="152" y="34"/>
                  </a:lnTo>
                  <a:lnTo>
                    <a:pt x="160" y="43"/>
                  </a:lnTo>
                  <a:lnTo>
                    <a:pt x="165" y="47"/>
                  </a:lnTo>
                  <a:lnTo>
                    <a:pt x="168" y="52"/>
                  </a:lnTo>
                  <a:lnTo>
                    <a:pt x="168" y="55"/>
                  </a:lnTo>
                  <a:lnTo>
                    <a:pt x="165" y="63"/>
                  </a:lnTo>
                  <a:lnTo>
                    <a:pt x="158" y="75"/>
                  </a:lnTo>
                  <a:lnTo>
                    <a:pt x="152" y="94"/>
                  </a:lnTo>
                  <a:lnTo>
                    <a:pt x="149" y="97"/>
                  </a:lnTo>
                  <a:lnTo>
                    <a:pt x="145" y="99"/>
                  </a:lnTo>
                  <a:lnTo>
                    <a:pt x="124" y="105"/>
                  </a:lnTo>
                  <a:lnTo>
                    <a:pt x="111" y="110"/>
                  </a:lnTo>
                  <a:lnTo>
                    <a:pt x="101" y="113"/>
                  </a:lnTo>
                  <a:lnTo>
                    <a:pt x="96" y="116"/>
                  </a:lnTo>
                  <a:lnTo>
                    <a:pt x="88" y="114"/>
                  </a:lnTo>
                  <a:lnTo>
                    <a:pt x="80" y="113"/>
                  </a:lnTo>
                  <a:lnTo>
                    <a:pt x="66" y="111"/>
                  </a:lnTo>
                  <a:lnTo>
                    <a:pt x="45" y="109"/>
                  </a:lnTo>
                  <a:lnTo>
                    <a:pt x="28" y="103"/>
                  </a:lnTo>
                  <a:lnTo>
                    <a:pt x="16" y="96"/>
                  </a:lnTo>
                  <a:lnTo>
                    <a:pt x="7" y="90"/>
                  </a:lnTo>
                  <a:lnTo>
                    <a:pt x="2" y="83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5" y="50"/>
                  </a:lnTo>
                  <a:lnTo>
                    <a:pt x="11" y="35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4" y="3"/>
                  </a:lnTo>
                  <a:lnTo>
                    <a:pt x="65" y="7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946920" y="6618240"/>
              <a:ext cx="72720" cy="54000"/>
            </a:xfrm>
            <a:custGeom>
              <a:avLst/>
              <a:gdLst/>
              <a:ahLst/>
              <a:rect l="l" t="t" r="r" b="b"/>
              <a:pathLst>
                <a:path w="92" h="68">
                  <a:moveTo>
                    <a:pt x="23" y="0"/>
                  </a:moveTo>
                  <a:lnTo>
                    <a:pt x="30" y="0"/>
                  </a:lnTo>
                  <a:lnTo>
                    <a:pt x="42" y="1"/>
                  </a:lnTo>
                  <a:lnTo>
                    <a:pt x="56" y="4"/>
                  </a:lnTo>
                  <a:lnTo>
                    <a:pt x="70" y="9"/>
                  </a:lnTo>
                  <a:lnTo>
                    <a:pt x="81" y="15"/>
                  </a:lnTo>
                  <a:lnTo>
                    <a:pt x="89" y="23"/>
                  </a:lnTo>
                  <a:lnTo>
                    <a:pt x="92" y="34"/>
                  </a:lnTo>
                  <a:lnTo>
                    <a:pt x="88" y="49"/>
                  </a:lnTo>
                  <a:lnTo>
                    <a:pt x="81" y="57"/>
                  </a:lnTo>
                  <a:lnTo>
                    <a:pt x="73" y="63"/>
                  </a:lnTo>
                  <a:lnTo>
                    <a:pt x="64" y="66"/>
                  </a:lnTo>
                  <a:lnTo>
                    <a:pt x="55" y="68"/>
                  </a:lnTo>
                  <a:lnTo>
                    <a:pt x="43" y="67"/>
                  </a:lnTo>
                  <a:lnTo>
                    <a:pt x="32" y="67"/>
                  </a:lnTo>
                  <a:lnTo>
                    <a:pt x="21" y="66"/>
                  </a:lnTo>
                  <a:lnTo>
                    <a:pt x="10" y="66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2" y="47"/>
                  </a:lnTo>
                  <a:lnTo>
                    <a:pt x="12" y="45"/>
                  </a:lnTo>
                  <a:lnTo>
                    <a:pt x="20" y="45"/>
                  </a:lnTo>
                  <a:lnTo>
                    <a:pt x="28" y="47"/>
                  </a:lnTo>
                  <a:lnTo>
                    <a:pt x="37" y="48"/>
                  </a:lnTo>
                  <a:lnTo>
                    <a:pt x="45" y="50"/>
                  </a:lnTo>
                  <a:lnTo>
                    <a:pt x="53" y="49"/>
                  </a:lnTo>
                  <a:lnTo>
                    <a:pt x="60" y="48"/>
                  </a:lnTo>
                  <a:lnTo>
                    <a:pt x="66" y="45"/>
                  </a:lnTo>
                  <a:lnTo>
                    <a:pt x="72" y="39"/>
                  </a:lnTo>
                  <a:lnTo>
                    <a:pt x="74" y="30"/>
                  </a:lnTo>
                  <a:lnTo>
                    <a:pt x="72" y="23"/>
                  </a:lnTo>
                  <a:lnTo>
                    <a:pt x="65" y="19"/>
                  </a:lnTo>
                  <a:lnTo>
                    <a:pt x="56" y="18"/>
                  </a:lnTo>
                  <a:lnTo>
                    <a:pt x="45" y="16"/>
                  </a:lnTo>
                  <a:lnTo>
                    <a:pt x="36" y="16"/>
                  </a:lnTo>
                  <a:lnTo>
                    <a:pt x="27" y="16"/>
                  </a:lnTo>
                  <a:lnTo>
                    <a:pt x="22" y="17"/>
                  </a:lnTo>
                  <a:lnTo>
                    <a:pt x="14" y="13"/>
                  </a:lnTo>
                  <a:lnTo>
                    <a:pt x="13" y="7"/>
                  </a:lnTo>
                  <a:lnTo>
                    <a:pt x="15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791040" y="6662520"/>
              <a:ext cx="137880" cy="88920"/>
            </a:xfrm>
            <a:custGeom>
              <a:avLst/>
              <a:gdLst/>
              <a:ahLst/>
              <a:rect l="l" t="t" r="r" b="b"/>
              <a:pathLst>
                <a:path w="173" h="111">
                  <a:moveTo>
                    <a:pt x="65" y="8"/>
                  </a:moveTo>
                  <a:lnTo>
                    <a:pt x="79" y="2"/>
                  </a:lnTo>
                  <a:lnTo>
                    <a:pt x="96" y="0"/>
                  </a:lnTo>
                  <a:lnTo>
                    <a:pt x="114" y="1"/>
                  </a:lnTo>
                  <a:lnTo>
                    <a:pt x="134" y="5"/>
                  </a:lnTo>
                  <a:lnTo>
                    <a:pt x="149" y="13"/>
                  </a:lnTo>
                  <a:lnTo>
                    <a:pt x="161" y="23"/>
                  </a:lnTo>
                  <a:lnTo>
                    <a:pt x="170" y="38"/>
                  </a:lnTo>
                  <a:lnTo>
                    <a:pt x="173" y="58"/>
                  </a:lnTo>
                  <a:lnTo>
                    <a:pt x="168" y="74"/>
                  </a:lnTo>
                  <a:lnTo>
                    <a:pt x="159" y="87"/>
                  </a:lnTo>
                  <a:lnTo>
                    <a:pt x="145" y="96"/>
                  </a:lnTo>
                  <a:lnTo>
                    <a:pt x="129" y="103"/>
                  </a:lnTo>
                  <a:lnTo>
                    <a:pt x="110" y="106"/>
                  </a:lnTo>
                  <a:lnTo>
                    <a:pt x="89" y="109"/>
                  </a:lnTo>
                  <a:lnTo>
                    <a:pt x="69" y="110"/>
                  </a:lnTo>
                  <a:lnTo>
                    <a:pt x="50" y="111"/>
                  </a:lnTo>
                  <a:lnTo>
                    <a:pt x="7" y="81"/>
                  </a:lnTo>
                  <a:lnTo>
                    <a:pt x="3" y="78"/>
                  </a:lnTo>
                  <a:lnTo>
                    <a:pt x="2" y="74"/>
                  </a:lnTo>
                  <a:lnTo>
                    <a:pt x="0" y="56"/>
                  </a:lnTo>
                  <a:lnTo>
                    <a:pt x="1" y="47"/>
                  </a:lnTo>
                  <a:lnTo>
                    <a:pt x="9" y="44"/>
                  </a:lnTo>
                  <a:lnTo>
                    <a:pt x="15" y="44"/>
                  </a:lnTo>
                  <a:lnTo>
                    <a:pt x="21" y="51"/>
                  </a:lnTo>
                  <a:lnTo>
                    <a:pt x="24" y="65"/>
                  </a:lnTo>
                  <a:lnTo>
                    <a:pt x="57" y="90"/>
                  </a:lnTo>
                  <a:lnTo>
                    <a:pt x="72" y="90"/>
                  </a:lnTo>
                  <a:lnTo>
                    <a:pt x="88" y="90"/>
                  </a:lnTo>
                  <a:lnTo>
                    <a:pt x="103" y="89"/>
                  </a:lnTo>
                  <a:lnTo>
                    <a:pt x="120" y="88"/>
                  </a:lnTo>
                  <a:lnTo>
                    <a:pt x="131" y="83"/>
                  </a:lnTo>
                  <a:lnTo>
                    <a:pt x="142" y="78"/>
                  </a:lnTo>
                  <a:lnTo>
                    <a:pt x="149" y="68"/>
                  </a:lnTo>
                  <a:lnTo>
                    <a:pt x="153" y="57"/>
                  </a:lnTo>
                  <a:lnTo>
                    <a:pt x="150" y="43"/>
                  </a:lnTo>
                  <a:lnTo>
                    <a:pt x="144" y="33"/>
                  </a:lnTo>
                  <a:lnTo>
                    <a:pt x="135" y="25"/>
                  </a:lnTo>
                  <a:lnTo>
                    <a:pt x="123" y="21"/>
                  </a:lnTo>
                  <a:lnTo>
                    <a:pt x="109" y="18"/>
                  </a:lnTo>
                  <a:lnTo>
                    <a:pt x="96" y="19"/>
                  </a:lnTo>
                  <a:lnTo>
                    <a:pt x="82" y="21"/>
                  </a:lnTo>
                  <a:lnTo>
                    <a:pt x="72" y="25"/>
                  </a:lnTo>
                  <a:lnTo>
                    <a:pt x="64" y="24"/>
                  </a:lnTo>
                  <a:lnTo>
                    <a:pt x="59" y="20"/>
                  </a:lnTo>
                  <a:lnTo>
                    <a:pt x="58" y="13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92920" y="6292440"/>
              <a:ext cx="1440" cy="19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09040" y="6440040"/>
              <a:ext cx="5976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723000" y="6526080"/>
              <a:ext cx="136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809040" y="6549840"/>
              <a:ext cx="597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892920" y="6561000"/>
              <a:ext cx="1440" cy="168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18840" y="654984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30000" y="6526080"/>
              <a:ext cx="132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918840" y="6440040"/>
              <a:ext cx="6156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-380880" y="-776160"/>
            <a:ext cx="9292680" cy="7030080"/>
            <a:chOff x="-380880" y="-776160"/>
            <a:chExt cx="9292680" cy="7030080"/>
          </a:xfrm>
        </p:grpSpPr>
        <p:grpSp>
          <p:nvGrpSpPr>
            <p:cNvPr id="822" name=""/>
            <p:cNvGrpSpPr/>
            <p:nvPr/>
          </p:nvGrpSpPr>
          <p:grpSpPr>
            <a:xfrm>
              <a:off x="4921920" y="94320"/>
              <a:ext cx="3989880" cy="6159600"/>
              <a:chOff x="4921920" y="94320"/>
              <a:chExt cx="3989880" cy="6159600"/>
            </a:xfrm>
          </p:grpSpPr>
          <p:grpSp>
            <p:nvGrpSpPr>
              <p:cNvPr id="823" name=""/>
              <p:cNvGrpSpPr/>
              <p:nvPr/>
            </p:nvGrpSpPr>
            <p:grpSpPr>
              <a:xfrm>
                <a:off x="6773760" y="4475880"/>
                <a:ext cx="2138040" cy="1778040"/>
                <a:chOff x="6773760" y="4475880"/>
                <a:chExt cx="2138040" cy="1778040"/>
              </a:xfrm>
            </p:grpSpPr>
            <p:sp>
              <p:nvSpPr>
                <p:cNvPr id="824" name=""/>
                <p:cNvSpPr/>
                <p:nvPr/>
              </p:nvSpPr>
              <p:spPr>
                <a:xfrm rot="12077400">
                  <a:off x="7250040" y="476820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79" h="2331">
                      <a:moveTo>
                        <a:pt x="4336" y="245"/>
                      </a:moveTo>
                      <a:lnTo>
                        <a:pt x="4255" y="183"/>
                      </a:lnTo>
                      <a:lnTo>
                        <a:pt x="4173" y="167"/>
                      </a:lnTo>
                      <a:lnTo>
                        <a:pt x="4092" y="187"/>
                      </a:lnTo>
                      <a:lnTo>
                        <a:pt x="4005" y="245"/>
                      </a:lnTo>
                      <a:lnTo>
                        <a:pt x="3991" y="297"/>
                      </a:lnTo>
                      <a:lnTo>
                        <a:pt x="4009" y="311"/>
                      </a:lnTo>
                      <a:lnTo>
                        <a:pt x="4030" y="317"/>
                      </a:lnTo>
                      <a:lnTo>
                        <a:pt x="4131" y="392"/>
                      </a:lnTo>
                      <a:lnTo>
                        <a:pt x="4158" y="458"/>
                      </a:lnTo>
                      <a:lnTo>
                        <a:pt x="4243" y="448"/>
                      </a:lnTo>
                      <a:lnTo>
                        <a:pt x="4323" y="406"/>
                      </a:lnTo>
                      <a:lnTo>
                        <a:pt x="4365" y="336"/>
                      </a:lnTo>
                      <a:lnTo>
                        <a:pt x="4336" y="245"/>
                      </a:lnTo>
                      <a:close/>
                      <a:moveTo>
                        <a:pt x="4462" y="125"/>
                      </a:moveTo>
                      <a:lnTo>
                        <a:pt x="4567" y="245"/>
                      </a:lnTo>
                      <a:lnTo>
                        <a:pt x="4579" y="388"/>
                      </a:lnTo>
                      <a:lnTo>
                        <a:pt x="4538" y="472"/>
                      </a:lnTo>
                      <a:lnTo>
                        <a:pt x="4428" y="555"/>
                      </a:lnTo>
                      <a:lnTo>
                        <a:pt x="4317" y="600"/>
                      </a:lnTo>
                      <a:lnTo>
                        <a:pt x="4173" y="607"/>
                      </a:lnTo>
                      <a:lnTo>
                        <a:pt x="4158" y="607"/>
                      </a:lnTo>
                      <a:lnTo>
                        <a:pt x="4102" y="774"/>
                      </a:lnTo>
                      <a:lnTo>
                        <a:pt x="3987" y="891"/>
                      </a:lnTo>
                      <a:lnTo>
                        <a:pt x="3848" y="941"/>
                      </a:lnTo>
                      <a:lnTo>
                        <a:pt x="3743" y="947"/>
                      </a:lnTo>
                      <a:lnTo>
                        <a:pt x="3863" y="1162"/>
                      </a:lnTo>
                      <a:lnTo>
                        <a:pt x="3863" y="1176"/>
                      </a:lnTo>
                      <a:lnTo>
                        <a:pt x="3669" y="1267"/>
                      </a:lnTo>
                      <a:lnTo>
                        <a:pt x="3625" y="1259"/>
                      </a:lnTo>
                      <a:lnTo>
                        <a:pt x="3074" y="988"/>
                      </a:lnTo>
                      <a:lnTo>
                        <a:pt x="2655" y="1220"/>
                      </a:lnTo>
                      <a:lnTo>
                        <a:pt x="2170" y="1490"/>
                      </a:lnTo>
                      <a:lnTo>
                        <a:pt x="2157" y="1713"/>
                      </a:lnTo>
                      <a:lnTo>
                        <a:pt x="2125" y="1796"/>
                      </a:lnTo>
                      <a:lnTo>
                        <a:pt x="2025" y="1887"/>
                      </a:lnTo>
                      <a:lnTo>
                        <a:pt x="1910" y="1949"/>
                      </a:lnTo>
                      <a:lnTo>
                        <a:pt x="1648" y="1986"/>
                      </a:lnTo>
                      <a:lnTo>
                        <a:pt x="1532" y="1967"/>
                      </a:lnTo>
                      <a:lnTo>
                        <a:pt x="1416" y="1953"/>
                      </a:lnTo>
                      <a:lnTo>
                        <a:pt x="1445" y="1977"/>
                      </a:lnTo>
                      <a:lnTo>
                        <a:pt x="1681" y="2062"/>
                      </a:lnTo>
                      <a:lnTo>
                        <a:pt x="2046" y="2116"/>
                      </a:lnTo>
                      <a:lnTo>
                        <a:pt x="2292" y="2106"/>
                      </a:lnTo>
                      <a:lnTo>
                        <a:pt x="2467" y="2062"/>
                      </a:lnTo>
                      <a:lnTo>
                        <a:pt x="2484" y="2046"/>
                      </a:lnTo>
                      <a:lnTo>
                        <a:pt x="2414" y="2010"/>
                      </a:lnTo>
                      <a:lnTo>
                        <a:pt x="2277" y="1967"/>
                      </a:lnTo>
                      <a:lnTo>
                        <a:pt x="2261" y="1942"/>
                      </a:lnTo>
                      <a:lnTo>
                        <a:pt x="2292" y="1926"/>
                      </a:lnTo>
                      <a:lnTo>
                        <a:pt x="2473" y="1891"/>
                      </a:lnTo>
                      <a:lnTo>
                        <a:pt x="2874" y="1738"/>
                      </a:lnTo>
                      <a:lnTo>
                        <a:pt x="3070" y="1633"/>
                      </a:lnTo>
                      <a:lnTo>
                        <a:pt x="3089" y="1633"/>
                      </a:lnTo>
                      <a:lnTo>
                        <a:pt x="3070" y="1690"/>
                      </a:lnTo>
                      <a:lnTo>
                        <a:pt x="2839" y="2231"/>
                      </a:lnTo>
                      <a:lnTo>
                        <a:pt x="2797" y="2316"/>
                      </a:lnTo>
                      <a:lnTo>
                        <a:pt x="2777" y="2331"/>
                      </a:lnTo>
                      <a:lnTo>
                        <a:pt x="2647" y="2169"/>
                      </a:lnTo>
                      <a:lnTo>
                        <a:pt x="2647" y="2165"/>
                      </a:lnTo>
                      <a:lnTo>
                        <a:pt x="2587" y="2178"/>
                      </a:lnTo>
                      <a:lnTo>
                        <a:pt x="2430" y="2225"/>
                      </a:lnTo>
                      <a:lnTo>
                        <a:pt x="2083" y="2304"/>
                      </a:lnTo>
                      <a:lnTo>
                        <a:pt x="1864" y="2310"/>
                      </a:lnTo>
                      <a:lnTo>
                        <a:pt x="1319" y="2248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43" y="1982"/>
                      </a:lnTo>
                      <a:lnTo>
                        <a:pt x="725" y="1949"/>
                      </a:lnTo>
                      <a:lnTo>
                        <a:pt x="688" y="1926"/>
                      </a:lnTo>
                      <a:lnTo>
                        <a:pt x="481" y="1914"/>
                      </a:lnTo>
                      <a:lnTo>
                        <a:pt x="219" y="1986"/>
                      </a:lnTo>
                      <a:lnTo>
                        <a:pt x="114" y="2031"/>
                      </a:lnTo>
                      <a:lnTo>
                        <a:pt x="83" y="2046"/>
                      </a:lnTo>
                      <a:lnTo>
                        <a:pt x="78" y="2044"/>
                      </a:lnTo>
                      <a:lnTo>
                        <a:pt x="78" y="2033"/>
                      </a:lnTo>
                      <a:lnTo>
                        <a:pt x="97" y="2019"/>
                      </a:lnTo>
                      <a:lnTo>
                        <a:pt x="48" y="2015"/>
                      </a:lnTo>
                      <a:lnTo>
                        <a:pt x="72" y="1986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68" y="1967"/>
                      </a:lnTo>
                      <a:lnTo>
                        <a:pt x="78" y="1957"/>
                      </a:lnTo>
                      <a:lnTo>
                        <a:pt x="10" y="1963"/>
                      </a:lnTo>
                      <a:lnTo>
                        <a:pt x="6" y="1967"/>
                      </a:lnTo>
                      <a:lnTo>
                        <a:pt x="0" y="1957"/>
                      </a:lnTo>
                      <a:lnTo>
                        <a:pt x="10" y="1949"/>
                      </a:lnTo>
                      <a:lnTo>
                        <a:pt x="60" y="1942"/>
                      </a:lnTo>
                      <a:lnTo>
                        <a:pt x="78" y="1926"/>
                      </a:lnTo>
                      <a:lnTo>
                        <a:pt x="72" y="1911"/>
                      </a:lnTo>
                      <a:lnTo>
                        <a:pt x="35" y="1901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207" y="1891"/>
                      </a:lnTo>
                      <a:lnTo>
                        <a:pt x="384" y="1843"/>
                      </a:lnTo>
                      <a:lnTo>
                        <a:pt x="537" y="1804"/>
                      </a:lnTo>
                      <a:lnTo>
                        <a:pt x="659" y="1810"/>
                      </a:lnTo>
                      <a:lnTo>
                        <a:pt x="634" y="1633"/>
                      </a:lnTo>
                      <a:lnTo>
                        <a:pt x="712" y="1401"/>
                      </a:lnTo>
                      <a:lnTo>
                        <a:pt x="865" y="1168"/>
                      </a:lnTo>
                      <a:lnTo>
                        <a:pt x="1100" y="939"/>
                      </a:lnTo>
                      <a:lnTo>
                        <a:pt x="1319" y="780"/>
                      </a:lnTo>
                      <a:lnTo>
                        <a:pt x="1233" y="732"/>
                      </a:lnTo>
                      <a:lnTo>
                        <a:pt x="1090" y="685"/>
                      </a:lnTo>
                      <a:lnTo>
                        <a:pt x="1032" y="654"/>
                      </a:lnTo>
                      <a:lnTo>
                        <a:pt x="1039" y="623"/>
                      </a:lnTo>
                      <a:lnTo>
                        <a:pt x="1057" y="613"/>
                      </a:lnTo>
                      <a:lnTo>
                        <a:pt x="1276" y="613"/>
                      </a:lnTo>
                      <a:lnTo>
                        <a:pt x="1557" y="586"/>
                      </a:lnTo>
                      <a:lnTo>
                        <a:pt x="1722" y="582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668" y="863"/>
                      </a:lnTo>
                      <a:lnTo>
                        <a:pt x="1515" y="1032"/>
                      </a:lnTo>
                      <a:lnTo>
                        <a:pt x="1484" y="1081"/>
                      </a:lnTo>
                      <a:lnTo>
                        <a:pt x="1466" y="1092"/>
                      </a:lnTo>
                      <a:lnTo>
                        <a:pt x="1441" y="1071"/>
                      </a:lnTo>
                      <a:lnTo>
                        <a:pt x="1416" y="910"/>
                      </a:lnTo>
                      <a:lnTo>
                        <a:pt x="1412" y="904"/>
                      </a:lnTo>
                      <a:lnTo>
                        <a:pt x="1319" y="988"/>
                      </a:lnTo>
                      <a:lnTo>
                        <a:pt x="1191" y="1181"/>
                      </a:lnTo>
                      <a:lnTo>
                        <a:pt x="1109" y="1364"/>
                      </a:lnTo>
                      <a:lnTo>
                        <a:pt x="1080" y="1593"/>
                      </a:lnTo>
                      <a:lnTo>
                        <a:pt x="1109" y="1728"/>
                      </a:lnTo>
                      <a:lnTo>
                        <a:pt x="1162" y="1775"/>
                      </a:lnTo>
                      <a:lnTo>
                        <a:pt x="1245" y="1744"/>
                      </a:lnTo>
                      <a:lnTo>
                        <a:pt x="1416" y="1649"/>
                      </a:lnTo>
                      <a:lnTo>
                        <a:pt x="2017" y="1329"/>
                      </a:lnTo>
                      <a:lnTo>
                        <a:pt x="1984" y="1176"/>
                      </a:lnTo>
                      <a:lnTo>
                        <a:pt x="2007" y="1019"/>
                      </a:lnTo>
                      <a:lnTo>
                        <a:pt x="2083" y="900"/>
                      </a:lnTo>
                      <a:lnTo>
                        <a:pt x="2240" y="796"/>
                      </a:lnTo>
                      <a:lnTo>
                        <a:pt x="2387" y="751"/>
                      </a:lnTo>
                      <a:lnTo>
                        <a:pt x="2606" y="737"/>
                      </a:lnTo>
                      <a:lnTo>
                        <a:pt x="2820" y="772"/>
                      </a:lnTo>
                      <a:lnTo>
                        <a:pt x="2878" y="790"/>
                      </a:lnTo>
                      <a:lnTo>
                        <a:pt x="2862" y="710"/>
                      </a:lnTo>
                      <a:lnTo>
                        <a:pt x="2754" y="412"/>
                      </a:lnTo>
                      <a:lnTo>
                        <a:pt x="2812" y="357"/>
                      </a:lnTo>
                      <a:lnTo>
                        <a:pt x="2917" y="305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7"/>
                      </a:lnTo>
                      <a:lnTo>
                        <a:pt x="3689" y="429"/>
                      </a:lnTo>
                      <a:lnTo>
                        <a:pt x="3673" y="367"/>
                      </a:lnTo>
                      <a:lnTo>
                        <a:pt x="3698" y="330"/>
                      </a:lnTo>
                      <a:lnTo>
                        <a:pt x="3786" y="287"/>
                      </a:lnTo>
                      <a:lnTo>
                        <a:pt x="3786" y="204"/>
                      </a:lnTo>
                      <a:lnTo>
                        <a:pt x="3826" y="128"/>
                      </a:lnTo>
                      <a:lnTo>
                        <a:pt x="3939" y="45"/>
                      </a:lnTo>
                      <a:lnTo>
                        <a:pt x="4059" y="10"/>
                      </a:lnTo>
                      <a:lnTo>
                        <a:pt x="4144" y="0"/>
                      </a:lnTo>
                      <a:lnTo>
                        <a:pt x="4309" y="37"/>
                      </a:lnTo>
                      <a:lnTo>
                        <a:pt x="4462" y="125"/>
                      </a:lnTo>
                      <a:close/>
                      <a:moveTo>
                        <a:pt x="1941" y="1786"/>
                      </a:moveTo>
                      <a:lnTo>
                        <a:pt x="1992" y="1705"/>
                      </a:lnTo>
                      <a:lnTo>
                        <a:pt x="2003" y="1581"/>
                      </a:lnTo>
                      <a:lnTo>
                        <a:pt x="1520" y="1849"/>
                      </a:lnTo>
                      <a:lnTo>
                        <a:pt x="1546" y="1849"/>
                      </a:lnTo>
                      <a:lnTo>
                        <a:pt x="1598" y="1866"/>
                      </a:lnTo>
                      <a:lnTo>
                        <a:pt x="1685" y="1878"/>
                      </a:lnTo>
                      <a:lnTo>
                        <a:pt x="1825" y="1852"/>
                      </a:lnTo>
                      <a:lnTo>
                        <a:pt x="1941" y="1786"/>
                      </a:lnTo>
                      <a:close/>
                      <a:moveTo>
                        <a:pt x="2787" y="887"/>
                      </a:moveTo>
                      <a:lnTo>
                        <a:pt x="2771" y="877"/>
                      </a:lnTo>
                      <a:lnTo>
                        <a:pt x="2473" y="842"/>
                      </a:lnTo>
                      <a:lnTo>
                        <a:pt x="2362" y="865"/>
                      </a:lnTo>
                      <a:lnTo>
                        <a:pt x="2261" y="918"/>
                      </a:lnTo>
                      <a:lnTo>
                        <a:pt x="2193" y="982"/>
                      </a:lnTo>
                      <a:lnTo>
                        <a:pt x="2125" y="1108"/>
                      </a:lnTo>
                      <a:lnTo>
                        <a:pt x="2149" y="1251"/>
                      </a:lnTo>
                      <a:lnTo>
                        <a:pt x="2787" y="887"/>
                      </a:lnTo>
                      <a:close/>
                      <a:moveTo>
                        <a:pt x="3972" y="732"/>
                      </a:moveTo>
                      <a:lnTo>
                        <a:pt x="4036" y="594"/>
                      </a:lnTo>
                      <a:lnTo>
                        <a:pt x="3906" y="526"/>
                      </a:lnTo>
                      <a:lnTo>
                        <a:pt x="3632" y="681"/>
                      </a:lnTo>
                      <a:lnTo>
                        <a:pt x="3698" y="842"/>
                      </a:lnTo>
                      <a:lnTo>
                        <a:pt x="3795" y="846"/>
                      </a:lnTo>
                      <a:lnTo>
                        <a:pt x="3906" y="797"/>
                      </a:lnTo>
                      <a:lnTo>
                        <a:pt x="3972" y="732"/>
                      </a:lnTo>
                      <a:close/>
                    </a:path>
                  </a:pathLst>
                </a:custGeom>
                <a:solidFill>
                  <a:srgbClr val="7c54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rot="12077400">
                  <a:off x="7260120" y="5128560"/>
                  <a:ext cx="121320" cy="94680"/>
                </a:xfrm>
                <a:custGeom>
                  <a:avLst/>
                  <a:gdLst/>
                  <a:ahLst/>
                  <a:rect l="l" t="t" r="r" b="b"/>
                  <a:pathLst>
                    <a:path w="378" h="293">
                      <a:moveTo>
                        <a:pt x="349" y="78"/>
                      </a:moveTo>
                      <a:lnTo>
                        <a:pt x="266" y="14"/>
                      </a:lnTo>
                      <a:lnTo>
                        <a:pt x="184" y="0"/>
                      </a:lnTo>
                      <a:lnTo>
                        <a:pt x="101" y="18"/>
                      </a:lnTo>
                      <a:lnTo>
                        <a:pt x="14" y="78"/>
                      </a:lnTo>
                      <a:lnTo>
                        <a:pt x="0" y="130"/>
                      </a:lnTo>
                      <a:lnTo>
                        <a:pt x="20" y="144"/>
                      </a:lnTo>
                      <a:lnTo>
                        <a:pt x="41" y="151"/>
                      </a:lnTo>
                      <a:lnTo>
                        <a:pt x="142" y="227"/>
                      </a:lnTo>
                      <a:lnTo>
                        <a:pt x="140" y="225"/>
                      </a:lnTo>
                      <a:lnTo>
                        <a:pt x="169" y="293"/>
                      </a:lnTo>
                      <a:lnTo>
                        <a:pt x="254" y="283"/>
                      </a:lnTo>
                      <a:lnTo>
                        <a:pt x="334" y="239"/>
                      </a:lnTo>
                      <a:lnTo>
                        <a:pt x="378" y="169"/>
                      </a:lnTo>
                      <a:lnTo>
                        <a:pt x="349" y="78"/>
                      </a:lnTo>
                      <a:lnTo>
                        <a:pt x="345" y="80"/>
                      </a:lnTo>
                      <a:lnTo>
                        <a:pt x="375" y="169"/>
                      </a:lnTo>
                      <a:lnTo>
                        <a:pt x="375" y="167"/>
                      </a:lnTo>
                      <a:lnTo>
                        <a:pt x="332" y="237"/>
                      </a:lnTo>
                      <a:lnTo>
                        <a:pt x="334" y="237"/>
                      </a:lnTo>
                      <a:lnTo>
                        <a:pt x="252" y="281"/>
                      </a:lnTo>
                      <a:lnTo>
                        <a:pt x="254" y="281"/>
                      </a:lnTo>
                      <a:lnTo>
                        <a:pt x="169" y="289"/>
                      </a:lnTo>
                      <a:lnTo>
                        <a:pt x="171" y="291"/>
                      </a:lnTo>
                      <a:lnTo>
                        <a:pt x="144" y="225"/>
                      </a:lnTo>
                      <a:lnTo>
                        <a:pt x="43" y="148"/>
                      </a:lnTo>
                      <a:lnTo>
                        <a:pt x="22" y="142"/>
                      </a:lnTo>
                      <a:lnTo>
                        <a:pt x="2" y="128"/>
                      </a:lnTo>
                      <a:lnTo>
                        <a:pt x="4" y="130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03" y="22"/>
                      </a:lnTo>
                      <a:lnTo>
                        <a:pt x="103" y="22"/>
                      </a:lnTo>
                      <a:lnTo>
                        <a:pt x="184" y="2"/>
                      </a:lnTo>
                      <a:lnTo>
                        <a:pt x="266" y="16"/>
                      </a:lnTo>
                      <a:lnTo>
                        <a:pt x="264" y="16"/>
                      </a:lnTo>
                      <a:lnTo>
                        <a:pt x="345" y="80"/>
                      </a:lnTo>
                      <a:lnTo>
                        <a:pt x="345" y="80"/>
                      </a:lnTo>
                      <a:lnTo>
                        <a:pt x="349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rot="12077400">
                  <a:off x="7250040" y="476820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81" h="2331">
                      <a:moveTo>
                        <a:pt x="4460" y="126"/>
                      </a:moveTo>
                      <a:lnTo>
                        <a:pt x="4460" y="125"/>
                      </a:lnTo>
                      <a:lnTo>
                        <a:pt x="4565" y="247"/>
                      </a:lnTo>
                      <a:lnTo>
                        <a:pt x="4565" y="245"/>
                      </a:lnTo>
                      <a:lnTo>
                        <a:pt x="4577" y="388"/>
                      </a:lnTo>
                      <a:lnTo>
                        <a:pt x="4577" y="386"/>
                      </a:lnTo>
                      <a:lnTo>
                        <a:pt x="4536" y="472"/>
                      </a:lnTo>
                      <a:lnTo>
                        <a:pt x="4536" y="470"/>
                      </a:lnTo>
                      <a:lnTo>
                        <a:pt x="4428" y="553"/>
                      </a:lnTo>
                      <a:lnTo>
                        <a:pt x="4315" y="600"/>
                      </a:lnTo>
                      <a:lnTo>
                        <a:pt x="4317" y="600"/>
                      </a:lnTo>
                      <a:lnTo>
                        <a:pt x="4173" y="605"/>
                      </a:lnTo>
                      <a:lnTo>
                        <a:pt x="4158" y="605"/>
                      </a:lnTo>
                      <a:lnTo>
                        <a:pt x="4100" y="772"/>
                      </a:lnTo>
                      <a:lnTo>
                        <a:pt x="4100" y="772"/>
                      </a:lnTo>
                      <a:lnTo>
                        <a:pt x="3985" y="891"/>
                      </a:lnTo>
                      <a:lnTo>
                        <a:pt x="3985" y="889"/>
                      </a:lnTo>
                      <a:lnTo>
                        <a:pt x="3848" y="939"/>
                      </a:lnTo>
                      <a:lnTo>
                        <a:pt x="3848" y="939"/>
                      </a:lnTo>
                      <a:lnTo>
                        <a:pt x="3739" y="947"/>
                      </a:lnTo>
                      <a:lnTo>
                        <a:pt x="3861" y="1164"/>
                      </a:lnTo>
                      <a:lnTo>
                        <a:pt x="3861" y="1162"/>
                      </a:lnTo>
                      <a:lnTo>
                        <a:pt x="3861" y="1176"/>
                      </a:lnTo>
                      <a:lnTo>
                        <a:pt x="3861" y="1176"/>
                      </a:lnTo>
                      <a:lnTo>
                        <a:pt x="3669" y="1267"/>
                      </a:lnTo>
                      <a:lnTo>
                        <a:pt x="3669" y="1267"/>
                      </a:lnTo>
                      <a:lnTo>
                        <a:pt x="3625" y="1257"/>
                      </a:lnTo>
                      <a:lnTo>
                        <a:pt x="3627" y="1257"/>
                      </a:lnTo>
                      <a:lnTo>
                        <a:pt x="3074" y="986"/>
                      </a:lnTo>
                      <a:lnTo>
                        <a:pt x="2653" y="1218"/>
                      </a:lnTo>
                      <a:lnTo>
                        <a:pt x="2168" y="1488"/>
                      </a:lnTo>
                      <a:lnTo>
                        <a:pt x="2155" y="1713"/>
                      </a:lnTo>
                      <a:lnTo>
                        <a:pt x="2155" y="1713"/>
                      </a:lnTo>
                      <a:lnTo>
                        <a:pt x="2125" y="1794"/>
                      </a:lnTo>
                      <a:lnTo>
                        <a:pt x="2125" y="1794"/>
                      </a:lnTo>
                      <a:lnTo>
                        <a:pt x="2025" y="1887"/>
                      </a:lnTo>
                      <a:lnTo>
                        <a:pt x="2025" y="1885"/>
                      </a:lnTo>
                      <a:lnTo>
                        <a:pt x="1910" y="1947"/>
                      </a:lnTo>
                      <a:lnTo>
                        <a:pt x="1910" y="1947"/>
                      </a:lnTo>
                      <a:lnTo>
                        <a:pt x="1648" y="1984"/>
                      </a:lnTo>
                      <a:lnTo>
                        <a:pt x="1532" y="1965"/>
                      </a:lnTo>
                      <a:lnTo>
                        <a:pt x="1412" y="1951"/>
                      </a:lnTo>
                      <a:lnTo>
                        <a:pt x="1445" y="1977"/>
                      </a:lnTo>
                      <a:lnTo>
                        <a:pt x="1681" y="2064"/>
                      </a:lnTo>
                      <a:lnTo>
                        <a:pt x="2046" y="2116"/>
                      </a:lnTo>
                      <a:lnTo>
                        <a:pt x="2292" y="2108"/>
                      </a:lnTo>
                      <a:lnTo>
                        <a:pt x="2467" y="2064"/>
                      </a:lnTo>
                      <a:lnTo>
                        <a:pt x="2486" y="2046"/>
                      </a:lnTo>
                      <a:lnTo>
                        <a:pt x="2414" y="2010"/>
                      </a:lnTo>
                      <a:lnTo>
                        <a:pt x="2279" y="1965"/>
                      </a:lnTo>
                      <a:lnTo>
                        <a:pt x="2279" y="1967"/>
                      </a:lnTo>
                      <a:lnTo>
                        <a:pt x="2263" y="1942"/>
                      </a:lnTo>
                      <a:lnTo>
                        <a:pt x="2261" y="1944"/>
                      </a:lnTo>
                      <a:lnTo>
                        <a:pt x="2292" y="1928"/>
                      </a:lnTo>
                      <a:lnTo>
                        <a:pt x="2292" y="1928"/>
                      </a:lnTo>
                      <a:lnTo>
                        <a:pt x="2475" y="1893"/>
                      </a:lnTo>
                      <a:lnTo>
                        <a:pt x="2874" y="1740"/>
                      </a:lnTo>
                      <a:lnTo>
                        <a:pt x="3070" y="1635"/>
                      </a:lnTo>
                      <a:lnTo>
                        <a:pt x="3070" y="1635"/>
                      </a:lnTo>
                      <a:lnTo>
                        <a:pt x="3089" y="1635"/>
                      </a:lnTo>
                      <a:lnTo>
                        <a:pt x="3087" y="1633"/>
                      </a:lnTo>
                      <a:lnTo>
                        <a:pt x="3068" y="1690"/>
                      </a:lnTo>
                      <a:lnTo>
                        <a:pt x="2837" y="2229"/>
                      </a:lnTo>
                      <a:lnTo>
                        <a:pt x="2795" y="2316"/>
                      </a:lnTo>
                      <a:lnTo>
                        <a:pt x="2795" y="2316"/>
                      </a:lnTo>
                      <a:lnTo>
                        <a:pt x="2777" y="2329"/>
                      </a:lnTo>
                      <a:lnTo>
                        <a:pt x="2779" y="2329"/>
                      </a:lnTo>
                      <a:lnTo>
                        <a:pt x="2649" y="2167"/>
                      </a:lnTo>
                      <a:lnTo>
                        <a:pt x="2649" y="2169"/>
                      </a:lnTo>
                      <a:lnTo>
                        <a:pt x="2649" y="2163"/>
                      </a:lnTo>
                      <a:lnTo>
                        <a:pt x="2587" y="2176"/>
                      </a:lnTo>
                      <a:lnTo>
                        <a:pt x="2587" y="2176"/>
                      </a:lnTo>
                      <a:lnTo>
                        <a:pt x="2430" y="2223"/>
                      </a:lnTo>
                      <a:lnTo>
                        <a:pt x="2430" y="2223"/>
                      </a:lnTo>
                      <a:lnTo>
                        <a:pt x="2083" y="2304"/>
                      </a:lnTo>
                      <a:lnTo>
                        <a:pt x="1864" y="2308"/>
                      </a:lnTo>
                      <a:lnTo>
                        <a:pt x="1319" y="2246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52" y="2124"/>
                      </a:lnTo>
                      <a:lnTo>
                        <a:pt x="745" y="1982"/>
                      </a:lnTo>
                      <a:lnTo>
                        <a:pt x="725" y="1947"/>
                      </a:lnTo>
                      <a:lnTo>
                        <a:pt x="688" y="1924"/>
                      </a:lnTo>
                      <a:lnTo>
                        <a:pt x="481" y="1913"/>
                      </a:lnTo>
                      <a:lnTo>
                        <a:pt x="217" y="1984"/>
                      </a:lnTo>
                      <a:lnTo>
                        <a:pt x="114" y="2029"/>
                      </a:lnTo>
                      <a:lnTo>
                        <a:pt x="81" y="2046"/>
                      </a:lnTo>
                      <a:lnTo>
                        <a:pt x="83" y="2046"/>
                      </a:lnTo>
                      <a:lnTo>
                        <a:pt x="79" y="2042"/>
                      </a:lnTo>
                      <a:lnTo>
                        <a:pt x="79" y="2044"/>
                      </a:lnTo>
                      <a:lnTo>
                        <a:pt x="79" y="2033"/>
                      </a:lnTo>
                      <a:lnTo>
                        <a:pt x="79" y="2035"/>
                      </a:lnTo>
                      <a:lnTo>
                        <a:pt x="101" y="2019"/>
                      </a:lnTo>
                      <a:lnTo>
                        <a:pt x="48" y="2013"/>
                      </a:lnTo>
                      <a:lnTo>
                        <a:pt x="50" y="2015"/>
                      </a:lnTo>
                      <a:lnTo>
                        <a:pt x="74" y="1984"/>
                      </a:lnTo>
                      <a:lnTo>
                        <a:pt x="41" y="1984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41" y="1973"/>
                      </a:lnTo>
                      <a:lnTo>
                        <a:pt x="68" y="1969"/>
                      </a:lnTo>
                      <a:lnTo>
                        <a:pt x="83" y="1957"/>
                      </a:lnTo>
                      <a:lnTo>
                        <a:pt x="10" y="1961"/>
                      </a:lnTo>
                      <a:lnTo>
                        <a:pt x="4" y="1967"/>
                      </a:lnTo>
                      <a:lnTo>
                        <a:pt x="8" y="1967"/>
                      </a:lnTo>
                      <a:lnTo>
                        <a:pt x="2" y="1957"/>
                      </a:lnTo>
                      <a:lnTo>
                        <a:pt x="2" y="1959"/>
                      </a:lnTo>
                      <a:lnTo>
                        <a:pt x="12" y="1949"/>
                      </a:lnTo>
                      <a:lnTo>
                        <a:pt x="10" y="1949"/>
                      </a:lnTo>
                      <a:lnTo>
                        <a:pt x="60" y="1944"/>
                      </a:lnTo>
                      <a:lnTo>
                        <a:pt x="79" y="1926"/>
                      </a:lnTo>
                      <a:lnTo>
                        <a:pt x="72" y="1909"/>
                      </a:lnTo>
                      <a:lnTo>
                        <a:pt x="35" y="1899"/>
                      </a:lnTo>
                      <a:lnTo>
                        <a:pt x="35" y="1899"/>
                      </a:lnTo>
                      <a:lnTo>
                        <a:pt x="31" y="1895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31" y="1889"/>
                      </a:lnTo>
                      <a:lnTo>
                        <a:pt x="207" y="1893"/>
                      </a:lnTo>
                      <a:lnTo>
                        <a:pt x="386" y="1845"/>
                      </a:lnTo>
                      <a:lnTo>
                        <a:pt x="384" y="1845"/>
                      </a:lnTo>
                      <a:lnTo>
                        <a:pt x="537" y="1806"/>
                      </a:lnTo>
                      <a:lnTo>
                        <a:pt x="661" y="1810"/>
                      </a:lnTo>
                      <a:lnTo>
                        <a:pt x="636" y="1633"/>
                      </a:lnTo>
                      <a:lnTo>
                        <a:pt x="636" y="1633"/>
                      </a:lnTo>
                      <a:lnTo>
                        <a:pt x="714" y="1401"/>
                      </a:lnTo>
                      <a:lnTo>
                        <a:pt x="867" y="1168"/>
                      </a:lnTo>
                      <a:lnTo>
                        <a:pt x="865" y="1168"/>
                      </a:lnTo>
                      <a:lnTo>
                        <a:pt x="1101" y="939"/>
                      </a:lnTo>
                      <a:lnTo>
                        <a:pt x="1101" y="939"/>
                      </a:lnTo>
                      <a:lnTo>
                        <a:pt x="1323" y="780"/>
                      </a:lnTo>
                      <a:lnTo>
                        <a:pt x="1233" y="732"/>
                      </a:lnTo>
                      <a:lnTo>
                        <a:pt x="1092" y="683"/>
                      </a:lnTo>
                      <a:lnTo>
                        <a:pt x="1032" y="654"/>
                      </a:lnTo>
                      <a:lnTo>
                        <a:pt x="1034" y="654"/>
                      </a:lnTo>
                      <a:lnTo>
                        <a:pt x="1039" y="623"/>
                      </a:lnTo>
                      <a:lnTo>
                        <a:pt x="1039" y="625"/>
                      </a:lnTo>
                      <a:lnTo>
                        <a:pt x="1057" y="615"/>
                      </a:lnTo>
                      <a:lnTo>
                        <a:pt x="1057" y="615"/>
                      </a:lnTo>
                      <a:lnTo>
                        <a:pt x="1276" y="615"/>
                      </a:lnTo>
                      <a:lnTo>
                        <a:pt x="1557" y="588"/>
                      </a:lnTo>
                      <a:lnTo>
                        <a:pt x="1722" y="584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881" y="578"/>
                      </a:lnTo>
                      <a:lnTo>
                        <a:pt x="1666" y="861"/>
                      </a:lnTo>
                      <a:lnTo>
                        <a:pt x="1666" y="861"/>
                      </a:lnTo>
                      <a:lnTo>
                        <a:pt x="1513" y="1030"/>
                      </a:lnTo>
                      <a:lnTo>
                        <a:pt x="1482" y="1079"/>
                      </a:lnTo>
                      <a:lnTo>
                        <a:pt x="1484" y="1079"/>
                      </a:lnTo>
                      <a:lnTo>
                        <a:pt x="1464" y="1090"/>
                      </a:lnTo>
                      <a:lnTo>
                        <a:pt x="1466" y="1090"/>
                      </a:lnTo>
                      <a:lnTo>
                        <a:pt x="1441" y="1069"/>
                      </a:lnTo>
                      <a:lnTo>
                        <a:pt x="1443" y="1071"/>
                      </a:lnTo>
                      <a:lnTo>
                        <a:pt x="1418" y="910"/>
                      </a:lnTo>
                      <a:lnTo>
                        <a:pt x="1412" y="902"/>
                      </a:lnTo>
                      <a:lnTo>
                        <a:pt x="1319" y="986"/>
                      </a:lnTo>
                      <a:lnTo>
                        <a:pt x="1191" y="1180"/>
                      </a:lnTo>
                      <a:lnTo>
                        <a:pt x="1107" y="1364"/>
                      </a:lnTo>
                      <a:lnTo>
                        <a:pt x="1078" y="1593"/>
                      </a:lnTo>
                      <a:lnTo>
                        <a:pt x="1107" y="1730"/>
                      </a:lnTo>
                      <a:lnTo>
                        <a:pt x="1162" y="1777"/>
                      </a:lnTo>
                      <a:lnTo>
                        <a:pt x="1245" y="1744"/>
                      </a:lnTo>
                      <a:lnTo>
                        <a:pt x="1416" y="1651"/>
                      </a:lnTo>
                      <a:lnTo>
                        <a:pt x="2019" y="1331"/>
                      </a:lnTo>
                      <a:lnTo>
                        <a:pt x="1986" y="1176"/>
                      </a:lnTo>
                      <a:lnTo>
                        <a:pt x="2009" y="1019"/>
                      </a:lnTo>
                      <a:lnTo>
                        <a:pt x="2009" y="1019"/>
                      </a:lnTo>
                      <a:lnTo>
                        <a:pt x="2085" y="900"/>
                      </a:lnTo>
                      <a:lnTo>
                        <a:pt x="2085" y="902"/>
                      </a:lnTo>
                      <a:lnTo>
                        <a:pt x="2242" y="796"/>
                      </a:lnTo>
                      <a:lnTo>
                        <a:pt x="2387" y="753"/>
                      </a:lnTo>
                      <a:lnTo>
                        <a:pt x="2387" y="753"/>
                      </a:lnTo>
                      <a:lnTo>
                        <a:pt x="2606" y="739"/>
                      </a:lnTo>
                      <a:lnTo>
                        <a:pt x="2820" y="772"/>
                      </a:lnTo>
                      <a:lnTo>
                        <a:pt x="2818" y="772"/>
                      </a:lnTo>
                      <a:lnTo>
                        <a:pt x="2880" y="792"/>
                      </a:lnTo>
                      <a:lnTo>
                        <a:pt x="2864" y="710"/>
                      </a:lnTo>
                      <a:lnTo>
                        <a:pt x="2864" y="710"/>
                      </a:lnTo>
                      <a:lnTo>
                        <a:pt x="2754" y="412"/>
                      </a:lnTo>
                      <a:lnTo>
                        <a:pt x="2754" y="413"/>
                      </a:lnTo>
                      <a:lnTo>
                        <a:pt x="2812" y="359"/>
                      </a:lnTo>
                      <a:lnTo>
                        <a:pt x="2812" y="359"/>
                      </a:lnTo>
                      <a:lnTo>
                        <a:pt x="2919" y="307"/>
                      </a:lnTo>
                      <a:lnTo>
                        <a:pt x="2917" y="307"/>
                      </a:lnTo>
                      <a:lnTo>
                        <a:pt x="2971" y="297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9"/>
                      </a:lnTo>
                      <a:lnTo>
                        <a:pt x="3689" y="429"/>
                      </a:lnTo>
                      <a:lnTo>
                        <a:pt x="3675" y="367"/>
                      </a:lnTo>
                      <a:lnTo>
                        <a:pt x="3675" y="367"/>
                      </a:lnTo>
                      <a:lnTo>
                        <a:pt x="3700" y="332"/>
                      </a:lnTo>
                      <a:lnTo>
                        <a:pt x="3698" y="332"/>
                      </a:lnTo>
                      <a:lnTo>
                        <a:pt x="3788" y="287"/>
                      </a:lnTo>
                      <a:lnTo>
                        <a:pt x="3788" y="204"/>
                      </a:lnTo>
                      <a:lnTo>
                        <a:pt x="3788" y="206"/>
                      </a:lnTo>
                      <a:lnTo>
                        <a:pt x="3828" y="130"/>
                      </a:lnTo>
                      <a:lnTo>
                        <a:pt x="3828" y="130"/>
                      </a:lnTo>
                      <a:lnTo>
                        <a:pt x="3939" y="45"/>
                      </a:lnTo>
                      <a:lnTo>
                        <a:pt x="4061" y="12"/>
                      </a:lnTo>
                      <a:lnTo>
                        <a:pt x="4059" y="12"/>
                      </a:lnTo>
                      <a:lnTo>
                        <a:pt x="4144" y="2"/>
                      </a:lnTo>
                      <a:lnTo>
                        <a:pt x="4309" y="39"/>
                      </a:lnTo>
                      <a:lnTo>
                        <a:pt x="4309" y="39"/>
                      </a:lnTo>
                      <a:lnTo>
                        <a:pt x="4460" y="126"/>
                      </a:lnTo>
                      <a:lnTo>
                        <a:pt x="4462" y="123"/>
                      </a:lnTo>
                      <a:lnTo>
                        <a:pt x="4309" y="35"/>
                      </a:lnTo>
                      <a:lnTo>
                        <a:pt x="4144" y="0"/>
                      </a:lnTo>
                      <a:lnTo>
                        <a:pt x="4059" y="8"/>
                      </a:lnTo>
                      <a:lnTo>
                        <a:pt x="4059" y="8"/>
                      </a:lnTo>
                      <a:lnTo>
                        <a:pt x="3939" y="43"/>
                      </a:lnTo>
                      <a:lnTo>
                        <a:pt x="3824" y="128"/>
                      </a:lnTo>
                      <a:lnTo>
                        <a:pt x="3784" y="204"/>
                      </a:lnTo>
                      <a:lnTo>
                        <a:pt x="3784" y="287"/>
                      </a:lnTo>
                      <a:lnTo>
                        <a:pt x="3786" y="285"/>
                      </a:lnTo>
                      <a:lnTo>
                        <a:pt x="3698" y="330"/>
                      </a:lnTo>
                      <a:lnTo>
                        <a:pt x="3673" y="367"/>
                      </a:lnTo>
                      <a:lnTo>
                        <a:pt x="3687" y="429"/>
                      </a:lnTo>
                      <a:lnTo>
                        <a:pt x="3687" y="427"/>
                      </a:lnTo>
                      <a:lnTo>
                        <a:pt x="3479" y="545"/>
                      </a:lnTo>
                      <a:lnTo>
                        <a:pt x="3481" y="545"/>
                      </a:lnTo>
                      <a:lnTo>
                        <a:pt x="3338" y="489"/>
                      </a:lnTo>
                      <a:lnTo>
                        <a:pt x="2971" y="295"/>
                      </a:lnTo>
                      <a:lnTo>
                        <a:pt x="2917" y="303"/>
                      </a:lnTo>
                      <a:lnTo>
                        <a:pt x="2812" y="355"/>
                      </a:lnTo>
                      <a:lnTo>
                        <a:pt x="2752" y="412"/>
                      </a:lnTo>
                      <a:lnTo>
                        <a:pt x="2861" y="710"/>
                      </a:lnTo>
                      <a:lnTo>
                        <a:pt x="2861" y="710"/>
                      </a:lnTo>
                      <a:lnTo>
                        <a:pt x="2876" y="790"/>
                      </a:lnTo>
                      <a:lnTo>
                        <a:pt x="2878" y="788"/>
                      </a:lnTo>
                      <a:lnTo>
                        <a:pt x="2820" y="770"/>
                      </a:lnTo>
                      <a:lnTo>
                        <a:pt x="2820" y="770"/>
                      </a:lnTo>
                      <a:lnTo>
                        <a:pt x="2606" y="735"/>
                      </a:lnTo>
                      <a:lnTo>
                        <a:pt x="2387" y="749"/>
                      </a:lnTo>
                      <a:lnTo>
                        <a:pt x="2240" y="794"/>
                      </a:lnTo>
                      <a:lnTo>
                        <a:pt x="2083" y="898"/>
                      </a:lnTo>
                      <a:lnTo>
                        <a:pt x="2007" y="1017"/>
                      </a:lnTo>
                      <a:lnTo>
                        <a:pt x="1984" y="1176"/>
                      </a:lnTo>
                      <a:lnTo>
                        <a:pt x="2015" y="1329"/>
                      </a:lnTo>
                      <a:lnTo>
                        <a:pt x="2015" y="1327"/>
                      </a:lnTo>
                      <a:lnTo>
                        <a:pt x="1416" y="1647"/>
                      </a:lnTo>
                      <a:lnTo>
                        <a:pt x="1243" y="1742"/>
                      </a:lnTo>
                      <a:lnTo>
                        <a:pt x="1162" y="1773"/>
                      </a:lnTo>
                      <a:lnTo>
                        <a:pt x="1162" y="1773"/>
                      </a:lnTo>
                      <a:lnTo>
                        <a:pt x="1109" y="1728"/>
                      </a:lnTo>
                      <a:lnTo>
                        <a:pt x="1111" y="1728"/>
                      </a:lnTo>
                      <a:lnTo>
                        <a:pt x="1080" y="1593"/>
                      </a:lnTo>
                      <a:lnTo>
                        <a:pt x="1111" y="1364"/>
                      </a:lnTo>
                      <a:lnTo>
                        <a:pt x="1111" y="1364"/>
                      </a:lnTo>
                      <a:lnTo>
                        <a:pt x="1193" y="1181"/>
                      </a:lnTo>
                      <a:lnTo>
                        <a:pt x="1321" y="988"/>
                      </a:lnTo>
                      <a:lnTo>
                        <a:pt x="1321" y="988"/>
                      </a:lnTo>
                      <a:lnTo>
                        <a:pt x="1412" y="904"/>
                      </a:lnTo>
                      <a:lnTo>
                        <a:pt x="1410" y="904"/>
                      </a:lnTo>
                      <a:lnTo>
                        <a:pt x="1414" y="912"/>
                      </a:lnTo>
                      <a:lnTo>
                        <a:pt x="1414" y="910"/>
                      </a:lnTo>
                      <a:lnTo>
                        <a:pt x="1439" y="1071"/>
                      </a:lnTo>
                      <a:lnTo>
                        <a:pt x="1466" y="1094"/>
                      </a:lnTo>
                      <a:lnTo>
                        <a:pt x="1485" y="1081"/>
                      </a:lnTo>
                      <a:lnTo>
                        <a:pt x="1515" y="1032"/>
                      </a:lnTo>
                      <a:lnTo>
                        <a:pt x="1515" y="1032"/>
                      </a:lnTo>
                      <a:lnTo>
                        <a:pt x="1668" y="863"/>
                      </a:lnTo>
                      <a:lnTo>
                        <a:pt x="1668" y="863"/>
                      </a:lnTo>
                      <a:lnTo>
                        <a:pt x="1883" y="580"/>
                      </a:lnTo>
                      <a:lnTo>
                        <a:pt x="1869" y="567"/>
                      </a:lnTo>
                      <a:lnTo>
                        <a:pt x="1850" y="567"/>
                      </a:lnTo>
                      <a:lnTo>
                        <a:pt x="1722" y="580"/>
                      </a:lnTo>
                      <a:lnTo>
                        <a:pt x="1557" y="584"/>
                      </a:lnTo>
                      <a:lnTo>
                        <a:pt x="1276" y="611"/>
                      </a:lnTo>
                      <a:lnTo>
                        <a:pt x="1055" y="611"/>
                      </a:lnTo>
                      <a:lnTo>
                        <a:pt x="1037" y="623"/>
                      </a:lnTo>
                      <a:lnTo>
                        <a:pt x="1030" y="656"/>
                      </a:lnTo>
                      <a:lnTo>
                        <a:pt x="1090" y="687"/>
                      </a:lnTo>
                      <a:lnTo>
                        <a:pt x="1231" y="733"/>
                      </a:lnTo>
                      <a:lnTo>
                        <a:pt x="1319" y="782"/>
                      </a:lnTo>
                      <a:lnTo>
                        <a:pt x="1319" y="780"/>
                      </a:lnTo>
                      <a:lnTo>
                        <a:pt x="1100" y="937"/>
                      </a:lnTo>
                      <a:lnTo>
                        <a:pt x="1100" y="937"/>
                      </a:lnTo>
                      <a:lnTo>
                        <a:pt x="863" y="1166"/>
                      </a:lnTo>
                      <a:lnTo>
                        <a:pt x="710" y="1399"/>
                      </a:lnTo>
                      <a:lnTo>
                        <a:pt x="632" y="1633"/>
                      </a:lnTo>
                      <a:lnTo>
                        <a:pt x="657" y="1810"/>
                      </a:lnTo>
                      <a:lnTo>
                        <a:pt x="659" y="1808"/>
                      </a:lnTo>
                      <a:lnTo>
                        <a:pt x="537" y="1802"/>
                      </a:lnTo>
                      <a:lnTo>
                        <a:pt x="384" y="1843"/>
                      </a:lnTo>
                      <a:lnTo>
                        <a:pt x="384" y="1843"/>
                      </a:lnTo>
                      <a:lnTo>
                        <a:pt x="206" y="1889"/>
                      </a:lnTo>
                      <a:lnTo>
                        <a:pt x="207" y="1889"/>
                      </a:lnTo>
                      <a:lnTo>
                        <a:pt x="29" y="1887"/>
                      </a:lnTo>
                      <a:lnTo>
                        <a:pt x="29" y="1897"/>
                      </a:lnTo>
                      <a:lnTo>
                        <a:pt x="33" y="1903"/>
                      </a:lnTo>
                      <a:lnTo>
                        <a:pt x="72" y="1911"/>
                      </a:lnTo>
                      <a:lnTo>
                        <a:pt x="70" y="1911"/>
                      </a:lnTo>
                      <a:lnTo>
                        <a:pt x="78" y="1926"/>
                      </a:lnTo>
                      <a:lnTo>
                        <a:pt x="78" y="1924"/>
                      </a:lnTo>
                      <a:lnTo>
                        <a:pt x="60" y="1940"/>
                      </a:lnTo>
                      <a:lnTo>
                        <a:pt x="60" y="1940"/>
                      </a:lnTo>
                      <a:lnTo>
                        <a:pt x="10" y="1947"/>
                      </a:lnTo>
                      <a:lnTo>
                        <a:pt x="0" y="1957"/>
                      </a:lnTo>
                      <a:lnTo>
                        <a:pt x="6" y="1969"/>
                      </a:lnTo>
                      <a:lnTo>
                        <a:pt x="12" y="1963"/>
                      </a:lnTo>
                      <a:lnTo>
                        <a:pt x="10" y="1965"/>
                      </a:lnTo>
                      <a:lnTo>
                        <a:pt x="78" y="1959"/>
                      </a:lnTo>
                      <a:lnTo>
                        <a:pt x="78" y="1957"/>
                      </a:lnTo>
                      <a:lnTo>
                        <a:pt x="66" y="1965"/>
                      </a:lnTo>
                      <a:lnTo>
                        <a:pt x="68" y="1965"/>
                      </a:lnTo>
                      <a:lnTo>
                        <a:pt x="39" y="1971"/>
                      </a:lnTo>
                      <a:lnTo>
                        <a:pt x="39" y="1986"/>
                      </a:lnTo>
                      <a:lnTo>
                        <a:pt x="72" y="1986"/>
                      </a:lnTo>
                      <a:lnTo>
                        <a:pt x="70" y="1984"/>
                      </a:lnTo>
                      <a:lnTo>
                        <a:pt x="45" y="2017"/>
                      </a:lnTo>
                      <a:lnTo>
                        <a:pt x="97" y="2021"/>
                      </a:lnTo>
                      <a:lnTo>
                        <a:pt x="97" y="2017"/>
                      </a:lnTo>
                      <a:lnTo>
                        <a:pt x="78" y="2033"/>
                      </a:lnTo>
                      <a:lnTo>
                        <a:pt x="78" y="2046"/>
                      </a:lnTo>
                      <a:lnTo>
                        <a:pt x="83" y="2048"/>
                      </a:lnTo>
                      <a:lnTo>
                        <a:pt x="116" y="2033"/>
                      </a:lnTo>
                      <a:lnTo>
                        <a:pt x="219" y="1986"/>
                      </a:lnTo>
                      <a:lnTo>
                        <a:pt x="481" y="1916"/>
                      </a:lnTo>
                      <a:lnTo>
                        <a:pt x="481" y="1916"/>
                      </a:lnTo>
                      <a:lnTo>
                        <a:pt x="688" y="1928"/>
                      </a:lnTo>
                      <a:lnTo>
                        <a:pt x="688" y="1928"/>
                      </a:lnTo>
                      <a:lnTo>
                        <a:pt x="725" y="1949"/>
                      </a:lnTo>
                      <a:lnTo>
                        <a:pt x="723" y="1949"/>
                      </a:lnTo>
                      <a:lnTo>
                        <a:pt x="743" y="1984"/>
                      </a:lnTo>
                      <a:lnTo>
                        <a:pt x="743" y="1982"/>
                      </a:lnTo>
                      <a:lnTo>
                        <a:pt x="750" y="2126"/>
                      </a:lnTo>
                      <a:lnTo>
                        <a:pt x="908" y="2151"/>
                      </a:lnTo>
                      <a:lnTo>
                        <a:pt x="1319" y="2250"/>
                      </a:lnTo>
                      <a:lnTo>
                        <a:pt x="1864" y="2312"/>
                      </a:lnTo>
                      <a:lnTo>
                        <a:pt x="2083" y="2306"/>
                      </a:lnTo>
                      <a:lnTo>
                        <a:pt x="2430" y="2227"/>
                      </a:lnTo>
                      <a:lnTo>
                        <a:pt x="2432" y="2227"/>
                      </a:lnTo>
                      <a:lnTo>
                        <a:pt x="2589" y="2178"/>
                      </a:lnTo>
                      <a:lnTo>
                        <a:pt x="2587" y="2178"/>
                      </a:lnTo>
                      <a:lnTo>
                        <a:pt x="2647" y="2165"/>
                      </a:lnTo>
                      <a:lnTo>
                        <a:pt x="2645" y="2165"/>
                      </a:lnTo>
                      <a:lnTo>
                        <a:pt x="2645" y="2169"/>
                      </a:lnTo>
                      <a:lnTo>
                        <a:pt x="2777" y="2331"/>
                      </a:lnTo>
                      <a:lnTo>
                        <a:pt x="2798" y="2318"/>
                      </a:lnTo>
                      <a:lnTo>
                        <a:pt x="2841" y="2231"/>
                      </a:lnTo>
                      <a:lnTo>
                        <a:pt x="3072" y="1691"/>
                      </a:lnTo>
                      <a:lnTo>
                        <a:pt x="3089" y="1631"/>
                      </a:lnTo>
                      <a:lnTo>
                        <a:pt x="3070" y="1631"/>
                      </a:lnTo>
                      <a:lnTo>
                        <a:pt x="2872" y="1736"/>
                      </a:lnTo>
                      <a:lnTo>
                        <a:pt x="2473" y="1889"/>
                      </a:lnTo>
                      <a:lnTo>
                        <a:pt x="2473" y="1889"/>
                      </a:lnTo>
                      <a:lnTo>
                        <a:pt x="2290" y="1924"/>
                      </a:lnTo>
                      <a:lnTo>
                        <a:pt x="2259" y="1942"/>
                      </a:lnTo>
                      <a:lnTo>
                        <a:pt x="2277" y="1969"/>
                      </a:lnTo>
                      <a:lnTo>
                        <a:pt x="2413" y="2011"/>
                      </a:lnTo>
                      <a:lnTo>
                        <a:pt x="2484" y="2048"/>
                      </a:lnTo>
                      <a:lnTo>
                        <a:pt x="2484" y="2046"/>
                      </a:lnTo>
                      <a:lnTo>
                        <a:pt x="2465" y="2062"/>
                      </a:lnTo>
                      <a:lnTo>
                        <a:pt x="2467" y="2062"/>
                      </a:lnTo>
                      <a:lnTo>
                        <a:pt x="2292" y="2105"/>
                      </a:lnTo>
                      <a:lnTo>
                        <a:pt x="2046" y="2114"/>
                      </a:lnTo>
                      <a:lnTo>
                        <a:pt x="1681" y="2062"/>
                      </a:lnTo>
                      <a:lnTo>
                        <a:pt x="1681" y="2062"/>
                      </a:lnTo>
                      <a:lnTo>
                        <a:pt x="1445" y="1975"/>
                      </a:lnTo>
                      <a:lnTo>
                        <a:pt x="1416" y="1951"/>
                      </a:lnTo>
                      <a:lnTo>
                        <a:pt x="1416" y="1955"/>
                      </a:lnTo>
                      <a:lnTo>
                        <a:pt x="1532" y="1969"/>
                      </a:lnTo>
                      <a:lnTo>
                        <a:pt x="1648" y="1986"/>
                      </a:lnTo>
                      <a:lnTo>
                        <a:pt x="1912" y="1949"/>
                      </a:lnTo>
                      <a:lnTo>
                        <a:pt x="2027" y="1889"/>
                      </a:lnTo>
                      <a:lnTo>
                        <a:pt x="2127" y="1796"/>
                      </a:lnTo>
                      <a:lnTo>
                        <a:pt x="2158" y="1713"/>
                      </a:lnTo>
                      <a:lnTo>
                        <a:pt x="2172" y="1490"/>
                      </a:lnTo>
                      <a:lnTo>
                        <a:pt x="2170" y="1492"/>
                      </a:lnTo>
                      <a:lnTo>
                        <a:pt x="2655" y="1220"/>
                      </a:lnTo>
                      <a:lnTo>
                        <a:pt x="3076" y="988"/>
                      </a:lnTo>
                      <a:lnTo>
                        <a:pt x="3074" y="988"/>
                      </a:lnTo>
                      <a:lnTo>
                        <a:pt x="3625" y="1259"/>
                      </a:lnTo>
                      <a:lnTo>
                        <a:pt x="3669" y="1269"/>
                      </a:lnTo>
                      <a:lnTo>
                        <a:pt x="3865" y="1178"/>
                      </a:lnTo>
                      <a:lnTo>
                        <a:pt x="3865" y="1162"/>
                      </a:lnTo>
                      <a:lnTo>
                        <a:pt x="3743" y="947"/>
                      </a:lnTo>
                      <a:lnTo>
                        <a:pt x="3743" y="949"/>
                      </a:lnTo>
                      <a:lnTo>
                        <a:pt x="3848" y="943"/>
                      </a:lnTo>
                      <a:lnTo>
                        <a:pt x="3987" y="892"/>
                      </a:lnTo>
                      <a:lnTo>
                        <a:pt x="4102" y="774"/>
                      </a:lnTo>
                      <a:lnTo>
                        <a:pt x="4160" y="607"/>
                      </a:lnTo>
                      <a:lnTo>
                        <a:pt x="4158" y="609"/>
                      </a:lnTo>
                      <a:lnTo>
                        <a:pt x="4173" y="609"/>
                      </a:lnTo>
                      <a:lnTo>
                        <a:pt x="4317" y="602"/>
                      </a:lnTo>
                      <a:lnTo>
                        <a:pt x="4428" y="555"/>
                      </a:lnTo>
                      <a:lnTo>
                        <a:pt x="4538" y="474"/>
                      </a:lnTo>
                      <a:lnTo>
                        <a:pt x="4581" y="388"/>
                      </a:lnTo>
                      <a:lnTo>
                        <a:pt x="4569" y="245"/>
                      </a:lnTo>
                      <a:lnTo>
                        <a:pt x="4462" y="123"/>
                      </a:lnTo>
                      <a:lnTo>
                        <a:pt x="446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rot="12077400">
                  <a:off x="8128440" y="4986720"/>
                  <a:ext cx="156960" cy="95760"/>
                </a:xfrm>
                <a:custGeom>
                  <a:avLst/>
                  <a:gdLst/>
                  <a:ahLst/>
                  <a:rect l="l" t="t" r="r" b="b"/>
                  <a:pathLst>
                    <a:path w="488" h="301">
                      <a:moveTo>
                        <a:pt x="426" y="207"/>
                      </a:moveTo>
                      <a:lnTo>
                        <a:pt x="477" y="126"/>
                      </a:lnTo>
                      <a:lnTo>
                        <a:pt x="488" y="0"/>
                      </a:lnTo>
                      <a:lnTo>
                        <a:pt x="0" y="271"/>
                      </a:lnTo>
                      <a:lnTo>
                        <a:pt x="31" y="271"/>
                      </a:lnTo>
                      <a:lnTo>
                        <a:pt x="31" y="271"/>
                      </a:lnTo>
                      <a:lnTo>
                        <a:pt x="83" y="289"/>
                      </a:lnTo>
                      <a:lnTo>
                        <a:pt x="170" y="301"/>
                      </a:lnTo>
                      <a:lnTo>
                        <a:pt x="310" y="275"/>
                      </a:lnTo>
                      <a:lnTo>
                        <a:pt x="426" y="207"/>
                      </a:lnTo>
                      <a:lnTo>
                        <a:pt x="426" y="206"/>
                      </a:lnTo>
                      <a:lnTo>
                        <a:pt x="308" y="271"/>
                      </a:lnTo>
                      <a:lnTo>
                        <a:pt x="310" y="271"/>
                      </a:lnTo>
                      <a:lnTo>
                        <a:pt x="170" y="297"/>
                      </a:lnTo>
                      <a:lnTo>
                        <a:pt x="83" y="285"/>
                      </a:lnTo>
                      <a:lnTo>
                        <a:pt x="85" y="285"/>
                      </a:lnTo>
                      <a:lnTo>
                        <a:pt x="31" y="268"/>
                      </a:lnTo>
                      <a:lnTo>
                        <a:pt x="5" y="268"/>
                      </a:lnTo>
                      <a:lnTo>
                        <a:pt x="7" y="271"/>
                      </a:lnTo>
                      <a:lnTo>
                        <a:pt x="488" y="4"/>
                      </a:lnTo>
                      <a:lnTo>
                        <a:pt x="486" y="2"/>
                      </a:lnTo>
                      <a:lnTo>
                        <a:pt x="475" y="126"/>
                      </a:lnTo>
                      <a:lnTo>
                        <a:pt x="475" y="124"/>
                      </a:lnTo>
                      <a:lnTo>
                        <a:pt x="424" y="206"/>
                      </a:lnTo>
                      <a:lnTo>
                        <a:pt x="426" y="206"/>
                      </a:lnTo>
                      <a:lnTo>
                        <a:pt x="426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rot="12077400">
                  <a:off x="7812720" y="5091480"/>
                  <a:ext cx="213120" cy="131760"/>
                </a:xfrm>
                <a:custGeom>
                  <a:avLst/>
                  <a:gdLst/>
                  <a:ahLst/>
                  <a:rect l="l" t="t" r="r" b="b"/>
                  <a:pathLst>
                    <a:path w="666" h="413">
                      <a:moveTo>
                        <a:pt x="666" y="47"/>
                      </a:moveTo>
                      <a:lnTo>
                        <a:pt x="646" y="35"/>
                      </a:lnTo>
                      <a:lnTo>
                        <a:pt x="348" y="0"/>
                      </a:lnTo>
                      <a:lnTo>
                        <a:pt x="235" y="23"/>
                      </a:lnTo>
                      <a:lnTo>
                        <a:pt x="136" y="76"/>
                      </a:lnTo>
                      <a:lnTo>
                        <a:pt x="66" y="142"/>
                      </a:lnTo>
                      <a:lnTo>
                        <a:pt x="0" y="268"/>
                      </a:lnTo>
                      <a:lnTo>
                        <a:pt x="24" y="413"/>
                      </a:lnTo>
                      <a:lnTo>
                        <a:pt x="666" y="47"/>
                      </a:lnTo>
                      <a:lnTo>
                        <a:pt x="662" y="45"/>
                      </a:lnTo>
                      <a:lnTo>
                        <a:pt x="24" y="409"/>
                      </a:lnTo>
                      <a:lnTo>
                        <a:pt x="26" y="411"/>
                      </a:lnTo>
                      <a:lnTo>
                        <a:pt x="2" y="268"/>
                      </a:lnTo>
                      <a:lnTo>
                        <a:pt x="2" y="268"/>
                      </a:lnTo>
                      <a:lnTo>
                        <a:pt x="70" y="144"/>
                      </a:lnTo>
                      <a:lnTo>
                        <a:pt x="68" y="144"/>
                      </a:lnTo>
                      <a:lnTo>
                        <a:pt x="136" y="80"/>
                      </a:lnTo>
                      <a:lnTo>
                        <a:pt x="136" y="80"/>
                      </a:lnTo>
                      <a:lnTo>
                        <a:pt x="237" y="27"/>
                      </a:lnTo>
                      <a:lnTo>
                        <a:pt x="237" y="27"/>
                      </a:lnTo>
                      <a:lnTo>
                        <a:pt x="348" y="4"/>
                      </a:lnTo>
                      <a:lnTo>
                        <a:pt x="646" y="39"/>
                      </a:lnTo>
                      <a:lnTo>
                        <a:pt x="644" y="39"/>
                      </a:lnTo>
                      <a:lnTo>
                        <a:pt x="662" y="47"/>
                      </a:lnTo>
                      <a:lnTo>
                        <a:pt x="662" y="45"/>
                      </a:lnTo>
                      <a:lnTo>
                        <a:pt x="66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rot="12077400">
                  <a:off x="7401960" y="5053320"/>
                  <a:ext cx="130320" cy="103320"/>
                </a:xfrm>
                <a:custGeom>
                  <a:avLst/>
                  <a:gdLst/>
                  <a:ahLst/>
                  <a:rect l="l" t="t" r="r" b="b"/>
                  <a:pathLst>
                    <a:path w="406" h="324">
                      <a:moveTo>
                        <a:pt x="344" y="209"/>
                      </a:moveTo>
                      <a:lnTo>
                        <a:pt x="406" y="68"/>
                      </a:lnTo>
                      <a:lnTo>
                        <a:pt x="276" y="0"/>
                      </a:lnTo>
                      <a:lnTo>
                        <a:pt x="0" y="155"/>
                      </a:lnTo>
                      <a:lnTo>
                        <a:pt x="68" y="320"/>
                      </a:lnTo>
                      <a:lnTo>
                        <a:pt x="165" y="324"/>
                      </a:lnTo>
                      <a:lnTo>
                        <a:pt x="278" y="275"/>
                      </a:lnTo>
                      <a:lnTo>
                        <a:pt x="344" y="209"/>
                      </a:lnTo>
                      <a:lnTo>
                        <a:pt x="342" y="208"/>
                      </a:lnTo>
                      <a:lnTo>
                        <a:pt x="276" y="273"/>
                      </a:lnTo>
                      <a:lnTo>
                        <a:pt x="276" y="273"/>
                      </a:lnTo>
                      <a:lnTo>
                        <a:pt x="163" y="322"/>
                      </a:lnTo>
                      <a:lnTo>
                        <a:pt x="165" y="322"/>
                      </a:lnTo>
                      <a:lnTo>
                        <a:pt x="68" y="316"/>
                      </a:lnTo>
                      <a:lnTo>
                        <a:pt x="70" y="318"/>
                      </a:lnTo>
                      <a:lnTo>
                        <a:pt x="4" y="155"/>
                      </a:lnTo>
                      <a:lnTo>
                        <a:pt x="2" y="157"/>
                      </a:lnTo>
                      <a:lnTo>
                        <a:pt x="278" y="2"/>
                      </a:lnTo>
                      <a:lnTo>
                        <a:pt x="276" y="2"/>
                      </a:lnTo>
                      <a:lnTo>
                        <a:pt x="404" y="72"/>
                      </a:lnTo>
                      <a:lnTo>
                        <a:pt x="404" y="68"/>
                      </a:lnTo>
                      <a:lnTo>
                        <a:pt x="342" y="208"/>
                      </a:lnTo>
                      <a:lnTo>
                        <a:pt x="342" y="208"/>
                      </a:lnTo>
                      <a:lnTo>
                        <a:pt x="344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12077400">
                  <a:off x="6927840" y="4767840"/>
                  <a:ext cx="1828800" cy="1194480"/>
                </a:xfrm>
                <a:custGeom>
                  <a:avLst/>
                  <a:gdLst/>
                  <a:ahLst/>
                  <a:rect l="l" t="t" r="r" b="b"/>
                  <a:pathLst>
                    <a:path w="5711" h="3727">
                      <a:moveTo>
                        <a:pt x="5405" y="391"/>
                      </a:moveTo>
                      <a:lnTo>
                        <a:pt x="5306" y="289"/>
                      </a:lnTo>
                      <a:lnTo>
                        <a:pt x="5207" y="269"/>
                      </a:lnTo>
                      <a:lnTo>
                        <a:pt x="5102" y="300"/>
                      </a:lnTo>
                      <a:lnTo>
                        <a:pt x="4996" y="391"/>
                      </a:lnTo>
                      <a:lnTo>
                        <a:pt x="4978" y="475"/>
                      </a:lnTo>
                      <a:lnTo>
                        <a:pt x="4999" y="496"/>
                      </a:lnTo>
                      <a:lnTo>
                        <a:pt x="5027" y="506"/>
                      </a:lnTo>
                      <a:lnTo>
                        <a:pt x="5153" y="626"/>
                      </a:lnTo>
                      <a:lnTo>
                        <a:pt x="5184" y="735"/>
                      </a:lnTo>
                      <a:lnTo>
                        <a:pt x="5292" y="719"/>
                      </a:lnTo>
                      <a:lnTo>
                        <a:pt x="5389" y="647"/>
                      </a:lnTo>
                      <a:lnTo>
                        <a:pt x="5445" y="533"/>
                      </a:lnTo>
                      <a:lnTo>
                        <a:pt x="5405" y="391"/>
                      </a:lnTo>
                      <a:close/>
                      <a:moveTo>
                        <a:pt x="5566" y="201"/>
                      </a:moveTo>
                      <a:lnTo>
                        <a:pt x="5696" y="391"/>
                      </a:lnTo>
                      <a:lnTo>
                        <a:pt x="5711" y="620"/>
                      </a:lnTo>
                      <a:lnTo>
                        <a:pt x="5657" y="758"/>
                      </a:lnTo>
                      <a:lnTo>
                        <a:pt x="5519" y="888"/>
                      </a:lnTo>
                      <a:lnTo>
                        <a:pt x="5381" y="963"/>
                      </a:lnTo>
                      <a:lnTo>
                        <a:pt x="5207" y="973"/>
                      </a:lnTo>
                      <a:lnTo>
                        <a:pt x="5184" y="973"/>
                      </a:lnTo>
                      <a:lnTo>
                        <a:pt x="5114" y="1243"/>
                      </a:lnTo>
                      <a:lnTo>
                        <a:pt x="4972" y="1427"/>
                      </a:lnTo>
                      <a:lnTo>
                        <a:pt x="4798" y="1508"/>
                      </a:lnTo>
                      <a:lnTo>
                        <a:pt x="4668" y="1518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573" y="2030"/>
                      </a:lnTo>
                      <a:lnTo>
                        <a:pt x="4522" y="2015"/>
                      </a:lnTo>
                      <a:lnTo>
                        <a:pt x="3836" y="1578"/>
                      </a:lnTo>
                      <a:lnTo>
                        <a:pt x="3312" y="1953"/>
                      </a:lnTo>
                      <a:lnTo>
                        <a:pt x="2703" y="2383"/>
                      </a:lnTo>
                      <a:lnTo>
                        <a:pt x="2690" y="2742"/>
                      </a:lnTo>
                      <a:lnTo>
                        <a:pt x="2649" y="2872"/>
                      </a:lnTo>
                      <a:lnTo>
                        <a:pt x="2527" y="3017"/>
                      </a:lnTo>
                      <a:lnTo>
                        <a:pt x="2385" y="3116"/>
                      </a:lnTo>
                      <a:lnTo>
                        <a:pt x="2055" y="3176"/>
                      </a:lnTo>
                      <a:lnTo>
                        <a:pt x="1912" y="3143"/>
                      </a:lnTo>
                      <a:lnTo>
                        <a:pt x="1765" y="3122"/>
                      </a:lnTo>
                      <a:lnTo>
                        <a:pt x="1801" y="3159"/>
                      </a:lnTo>
                      <a:lnTo>
                        <a:pt x="2094" y="3296"/>
                      </a:lnTo>
                      <a:lnTo>
                        <a:pt x="2552" y="3384"/>
                      </a:lnTo>
                      <a:lnTo>
                        <a:pt x="2856" y="3368"/>
                      </a:lnTo>
                      <a:lnTo>
                        <a:pt x="3072" y="3296"/>
                      </a:lnTo>
                      <a:lnTo>
                        <a:pt x="3095" y="3273"/>
                      </a:lnTo>
                      <a:lnTo>
                        <a:pt x="3008" y="3215"/>
                      </a:lnTo>
                      <a:lnTo>
                        <a:pt x="2841" y="3143"/>
                      </a:lnTo>
                      <a:lnTo>
                        <a:pt x="2818" y="3108"/>
                      </a:lnTo>
                      <a:lnTo>
                        <a:pt x="2856" y="3077"/>
                      </a:lnTo>
                      <a:lnTo>
                        <a:pt x="3083" y="3025"/>
                      </a:lnTo>
                      <a:lnTo>
                        <a:pt x="3584" y="2781"/>
                      </a:lnTo>
                      <a:lnTo>
                        <a:pt x="3828" y="2612"/>
                      </a:lnTo>
                      <a:lnTo>
                        <a:pt x="3851" y="2612"/>
                      </a:lnTo>
                      <a:lnTo>
                        <a:pt x="3828" y="2703"/>
                      </a:lnTo>
                      <a:lnTo>
                        <a:pt x="3541" y="3564"/>
                      </a:lnTo>
                      <a:lnTo>
                        <a:pt x="3487" y="3704"/>
                      </a:lnTo>
                      <a:lnTo>
                        <a:pt x="3463" y="3727"/>
                      </a:lnTo>
                      <a:lnTo>
                        <a:pt x="3301" y="3465"/>
                      </a:lnTo>
                      <a:lnTo>
                        <a:pt x="3301" y="3459"/>
                      </a:lnTo>
                      <a:lnTo>
                        <a:pt x="3225" y="3483"/>
                      </a:lnTo>
                      <a:lnTo>
                        <a:pt x="3029" y="3558"/>
                      </a:lnTo>
                      <a:lnTo>
                        <a:pt x="2597" y="3686"/>
                      </a:lnTo>
                      <a:lnTo>
                        <a:pt x="2323" y="3694"/>
                      </a:lnTo>
                      <a:lnTo>
                        <a:pt x="1644" y="3595"/>
                      </a:lnTo>
                      <a:lnTo>
                        <a:pt x="1132" y="3436"/>
                      </a:lnTo>
                      <a:lnTo>
                        <a:pt x="935" y="3399"/>
                      </a:lnTo>
                      <a:lnTo>
                        <a:pt x="927" y="3170"/>
                      </a:lnTo>
                      <a:lnTo>
                        <a:pt x="903" y="3116"/>
                      </a:lnTo>
                      <a:lnTo>
                        <a:pt x="861" y="3077"/>
                      </a:lnTo>
                      <a:lnTo>
                        <a:pt x="599" y="3062"/>
                      </a:lnTo>
                      <a:lnTo>
                        <a:pt x="273" y="3176"/>
                      </a:lnTo>
                      <a:lnTo>
                        <a:pt x="143" y="3246"/>
                      </a:lnTo>
                      <a:lnTo>
                        <a:pt x="103" y="3273"/>
                      </a:lnTo>
                      <a:lnTo>
                        <a:pt x="99" y="3269"/>
                      </a:lnTo>
                      <a:lnTo>
                        <a:pt x="99" y="3254"/>
                      </a:lnTo>
                      <a:lnTo>
                        <a:pt x="120" y="3231"/>
                      </a:lnTo>
                      <a:lnTo>
                        <a:pt x="60" y="3221"/>
                      </a:lnTo>
                      <a:lnTo>
                        <a:pt x="87" y="3176"/>
                      </a:lnTo>
                      <a:lnTo>
                        <a:pt x="50" y="3176"/>
                      </a:lnTo>
                      <a:lnTo>
                        <a:pt x="50" y="3155"/>
                      </a:lnTo>
                      <a:lnTo>
                        <a:pt x="83" y="3143"/>
                      </a:lnTo>
                      <a:lnTo>
                        <a:pt x="99" y="3132"/>
                      </a:lnTo>
                      <a:lnTo>
                        <a:pt x="11" y="3139"/>
                      </a:lnTo>
                      <a:lnTo>
                        <a:pt x="6" y="3143"/>
                      </a:lnTo>
                      <a:lnTo>
                        <a:pt x="0" y="3132"/>
                      </a:lnTo>
                      <a:lnTo>
                        <a:pt x="11" y="3116"/>
                      </a:lnTo>
                      <a:lnTo>
                        <a:pt x="75" y="3108"/>
                      </a:lnTo>
                      <a:lnTo>
                        <a:pt x="99" y="3077"/>
                      </a:lnTo>
                      <a:lnTo>
                        <a:pt x="87" y="3056"/>
                      </a:lnTo>
                      <a:lnTo>
                        <a:pt x="44" y="3040"/>
                      </a:lnTo>
                      <a:lnTo>
                        <a:pt x="37" y="3029"/>
                      </a:lnTo>
                      <a:lnTo>
                        <a:pt x="37" y="3017"/>
                      </a:lnTo>
                      <a:lnTo>
                        <a:pt x="258" y="3025"/>
                      </a:lnTo>
                      <a:lnTo>
                        <a:pt x="479" y="2947"/>
                      </a:lnTo>
                      <a:lnTo>
                        <a:pt x="671" y="2887"/>
                      </a:lnTo>
                      <a:lnTo>
                        <a:pt x="820" y="2895"/>
                      </a:lnTo>
                      <a:lnTo>
                        <a:pt x="789" y="2612"/>
                      </a:lnTo>
                      <a:lnTo>
                        <a:pt x="888" y="2240"/>
                      </a:lnTo>
                      <a:lnTo>
                        <a:pt x="1080" y="1867"/>
                      </a:lnTo>
                      <a:lnTo>
                        <a:pt x="1371" y="1503"/>
                      </a:lnTo>
                      <a:lnTo>
                        <a:pt x="1644" y="1250"/>
                      </a:lnTo>
                      <a:lnTo>
                        <a:pt x="1536" y="1175"/>
                      </a:lnTo>
                      <a:lnTo>
                        <a:pt x="1361" y="1099"/>
                      </a:lnTo>
                      <a:lnTo>
                        <a:pt x="1286" y="1053"/>
                      </a:lnTo>
                      <a:lnTo>
                        <a:pt x="1293" y="1002"/>
                      </a:lnTo>
                      <a:lnTo>
                        <a:pt x="1317" y="985"/>
                      </a:lnTo>
                      <a:lnTo>
                        <a:pt x="1588" y="985"/>
                      </a:lnTo>
                      <a:lnTo>
                        <a:pt x="1941" y="938"/>
                      </a:lnTo>
                      <a:lnTo>
                        <a:pt x="2145" y="931"/>
                      </a:lnTo>
                      <a:lnTo>
                        <a:pt x="2308" y="907"/>
                      </a:lnTo>
                      <a:lnTo>
                        <a:pt x="2329" y="907"/>
                      </a:lnTo>
                      <a:lnTo>
                        <a:pt x="2346" y="925"/>
                      </a:lnTo>
                      <a:lnTo>
                        <a:pt x="2079" y="1380"/>
                      </a:lnTo>
                      <a:lnTo>
                        <a:pt x="1889" y="1656"/>
                      </a:lnTo>
                      <a:lnTo>
                        <a:pt x="1850" y="1729"/>
                      </a:lnTo>
                      <a:lnTo>
                        <a:pt x="1827" y="1747"/>
                      </a:lnTo>
                      <a:lnTo>
                        <a:pt x="1798" y="1716"/>
                      </a:lnTo>
                      <a:lnTo>
                        <a:pt x="1765" y="1458"/>
                      </a:lnTo>
                      <a:lnTo>
                        <a:pt x="1759" y="1446"/>
                      </a:lnTo>
                      <a:lnTo>
                        <a:pt x="1644" y="1578"/>
                      </a:lnTo>
                      <a:lnTo>
                        <a:pt x="1483" y="1889"/>
                      </a:lnTo>
                      <a:lnTo>
                        <a:pt x="1384" y="2179"/>
                      </a:lnTo>
                      <a:lnTo>
                        <a:pt x="1344" y="2544"/>
                      </a:lnTo>
                      <a:lnTo>
                        <a:pt x="1384" y="2765"/>
                      </a:lnTo>
                      <a:lnTo>
                        <a:pt x="1448" y="2839"/>
                      </a:lnTo>
                      <a:lnTo>
                        <a:pt x="1551" y="2790"/>
                      </a:lnTo>
                      <a:lnTo>
                        <a:pt x="1765" y="2635"/>
                      </a:lnTo>
                      <a:lnTo>
                        <a:pt x="2511" y="2127"/>
                      </a:lnTo>
                      <a:lnTo>
                        <a:pt x="2476" y="1885"/>
                      </a:lnTo>
                      <a:lnTo>
                        <a:pt x="2503" y="1633"/>
                      </a:lnTo>
                      <a:lnTo>
                        <a:pt x="2597" y="1442"/>
                      </a:lnTo>
                      <a:lnTo>
                        <a:pt x="2792" y="1274"/>
                      </a:lnTo>
                      <a:lnTo>
                        <a:pt x="2977" y="1202"/>
                      </a:lnTo>
                      <a:lnTo>
                        <a:pt x="3248" y="1183"/>
                      </a:lnTo>
                      <a:lnTo>
                        <a:pt x="3514" y="1235"/>
                      </a:lnTo>
                      <a:lnTo>
                        <a:pt x="3591" y="1268"/>
                      </a:lnTo>
                      <a:lnTo>
                        <a:pt x="3568" y="1136"/>
                      </a:lnTo>
                      <a:lnTo>
                        <a:pt x="3432" y="659"/>
                      </a:lnTo>
                      <a:lnTo>
                        <a:pt x="3510" y="572"/>
                      </a:lnTo>
                      <a:lnTo>
                        <a:pt x="3638" y="490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0" y="876"/>
                      </a:lnTo>
                      <a:lnTo>
                        <a:pt x="4596" y="686"/>
                      </a:lnTo>
                      <a:lnTo>
                        <a:pt x="4581" y="587"/>
                      </a:lnTo>
                      <a:lnTo>
                        <a:pt x="4613" y="529"/>
                      </a:lnTo>
                      <a:lnTo>
                        <a:pt x="4720" y="457"/>
                      </a:lnTo>
                      <a:lnTo>
                        <a:pt x="4720" y="327"/>
                      </a:lnTo>
                      <a:lnTo>
                        <a:pt x="4771" y="205"/>
                      </a:lnTo>
                      <a:lnTo>
                        <a:pt x="4912" y="71"/>
                      </a:lnTo>
                      <a:lnTo>
                        <a:pt x="5063" y="17"/>
                      </a:lnTo>
                      <a:lnTo>
                        <a:pt x="5168" y="0"/>
                      </a:lnTo>
                      <a:lnTo>
                        <a:pt x="5374" y="60"/>
                      </a:lnTo>
                      <a:lnTo>
                        <a:pt x="5566" y="201"/>
                      </a:lnTo>
                      <a:close/>
                      <a:moveTo>
                        <a:pt x="2420" y="2856"/>
                      </a:moveTo>
                      <a:lnTo>
                        <a:pt x="2482" y="2724"/>
                      </a:lnTo>
                      <a:lnTo>
                        <a:pt x="2498" y="2528"/>
                      </a:lnTo>
                      <a:lnTo>
                        <a:pt x="1894" y="2953"/>
                      </a:lnTo>
                      <a:lnTo>
                        <a:pt x="1927" y="2953"/>
                      </a:lnTo>
                      <a:lnTo>
                        <a:pt x="1993" y="2986"/>
                      </a:lnTo>
                      <a:lnTo>
                        <a:pt x="2102" y="3002"/>
                      </a:lnTo>
                      <a:lnTo>
                        <a:pt x="2275" y="2963"/>
                      </a:lnTo>
                      <a:lnTo>
                        <a:pt x="2420" y="2856"/>
                      </a:lnTo>
                      <a:close/>
                      <a:moveTo>
                        <a:pt x="3477" y="1421"/>
                      </a:moveTo>
                      <a:lnTo>
                        <a:pt x="3454" y="1404"/>
                      </a:lnTo>
                      <a:lnTo>
                        <a:pt x="3083" y="1349"/>
                      </a:lnTo>
                      <a:lnTo>
                        <a:pt x="2944" y="1388"/>
                      </a:lnTo>
                      <a:lnTo>
                        <a:pt x="2818" y="1470"/>
                      </a:lnTo>
                      <a:lnTo>
                        <a:pt x="2732" y="1572"/>
                      </a:lnTo>
                      <a:lnTo>
                        <a:pt x="2649" y="1774"/>
                      </a:lnTo>
                      <a:lnTo>
                        <a:pt x="2680" y="2003"/>
                      </a:lnTo>
                      <a:lnTo>
                        <a:pt x="3477" y="1421"/>
                      </a:lnTo>
                      <a:close/>
                      <a:moveTo>
                        <a:pt x="4955" y="1175"/>
                      </a:moveTo>
                      <a:lnTo>
                        <a:pt x="5032" y="954"/>
                      </a:lnTo>
                      <a:lnTo>
                        <a:pt x="4873" y="839"/>
                      </a:lnTo>
                      <a:lnTo>
                        <a:pt x="4530" y="1088"/>
                      </a:lnTo>
                      <a:lnTo>
                        <a:pt x="4613" y="1349"/>
                      </a:lnTo>
                      <a:lnTo>
                        <a:pt x="4734" y="1355"/>
                      </a:lnTo>
                      <a:lnTo>
                        <a:pt x="4873" y="1280"/>
                      </a:lnTo>
                      <a:lnTo>
                        <a:pt x="4955" y="11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2077400">
                  <a:off x="6906960" y="5422680"/>
                  <a:ext cx="149400" cy="150480"/>
                </a:xfrm>
                <a:custGeom>
                  <a:avLst/>
                  <a:gdLst/>
                  <a:ahLst/>
                  <a:rect l="l" t="t" r="r" b="b"/>
                  <a:pathLst>
                    <a:path w="469" h="470">
                      <a:moveTo>
                        <a:pt x="431" y="122"/>
                      </a:moveTo>
                      <a:lnTo>
                        <a:pt x="330" y="20"/>
                      </a:lnTo>
                      <a:lnTo>
                        <a:pt x="231" y="0"/>
                      </a:lnTo>
                      <a:lnTo>
                        <a:pt x="126" y="31"/>
                      </a:lnTo>
                      <a:lnTo>
                        <a:pt x="18" y="122"/>
                      </a:lnTo>
                      <a:lnTo>
                        <a:pt x="0" y="208"/>
                      </a:lnTo>
                      <a:lnTo>
                        <a:pt x="23" y="231"/>
                      </a:lnTo>
                      <a:lnTo>
                        <a:pt x="51" y="241"/>
                      </a:lnTo>
                      <a:lnTo>
                        <a:pt x="51" y="239"/>
                      </a:lnTo>
                      <a:lnTo>
                        <a:pt x="175" y="361"/>
                      </a:lnTo>
                      <a:lnTo>
                        <a:pt x="175" y="361"/>
                      </a:lnTo>
                      <a:lnTo>
                        <a:pt x="208" y="470"/>
                      </a:lnTo>
                      <a:lnTo>
                        <a:pt x="316" y="452"/>
                      </a:lnTo>
                      <a:lnTo>
                        <a:pt x="415" y="382"/>
                      </a:lnTo>
                      <a:lnTo>
                        <a:pt x="469" y="266"/>
                      </a:lnTo>
                      <a:lnTo>
                        <a:pt x="431" y="122"/>
                      </a:lnTo>
                      <a:lnTo>
                        <a:pt x="429" y="124"/>
                      </a:lnTo>
                      <a:lnTo>
                        <a:pt x="468" y="268"/>
                      </a:lnTo>
                      <a:lnTo>
                        <a:pt x="468" y="266"/>
                      </a:lnTo>
                      <a:lnTo>
                        <a:pt x="413" y="380"/>
                      </a:lnTo>
                      <a:lnTo>
                        <a:pt x="413" y="378"/>
                      </a:lnTo>
                      <a:lnTo>
                        <a:pt x="314" y="450"/>
                      </a:lnTo>
                      <a:lnTo>
                        <a:pt x="316" y="450"/>
                      </a:lnTo>
                      <a:lnTo>
                        <a:pt x="208" y="466"/>
                      </a:lnTo>
                      <a:lnTo>
                        <a:pt x="210" y="466"/>
                      </a:lnTo>
                      <a:lnTo>
                        <a:pt x="179" y="359"/>
                      </a:lnTo>
                      <a:lnTo>
                        <a:pt x="53" y="237"/>
                      </a:lnTo>
                      <a:lnTo>
                        <a:pt x="23" y="227"/>
                      </a:lnTo>
                      <a:lnTo>
                        <a:pt x="23" y="229"/>
                      </a:lnTo>
                      <a:lnTo>
                        <a:pt x="4" y="206"/>
                      </a:lnTo>
                      <a:lnTo>
                        <a:pt x="4" y="208"/>
                      </a:lnTo>
                      <a:lnTo>
                        <a:pt x="20" y="124"/>
                      </a:lnTo>
                      <a:lnTo>
                        <a:pt x="20" y="126"/>
                      </a:lnTo>
                      <a:lnTo>
                        <a:pt x="126" y="35"/>
                      </a:lnTo>
                      <a:lnTo>
                        <a:pt x="231" y="2"/>
                      </a:lnTo>
                      <a:lnTo>
                        <a:pt x="231" y="2"/>
                      </a:lnTo>
                      <a:lnTo>
                        <a:pt x="330" y="24"/>
                      </a:lnTo>
                      <a:lnTo>
                        <a:pt x="328" y="22"/>
                      </a:lnTo>
                      <a:lnTo>
                        <a:pt x="429" y="124"/>
                      </a:lnTo>
                      <a:lnTo>
                        <a:pt x="429" y="124"/>
                      </a:lnTo>
                      <a:lnTo>
                        <a:pt x="431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rot="12077400">
                  <a:off x="6928200" y="4767120"/>
                  <a:ext cx="1828800" cy="1195560"/>
                </a:xfrm>
                <a:custGeom>
                  <a:avLst/>
                  <a:gdLst/>
                  <a:ahLst/>
                  <a:rect l="l" t="t" r="r" b="b"/>
                  <a:pathLst>
                    <a:path w="5715" h="3729">
                      <a:moveTo>
                        <a:pt x="5568" y="203"/>
                      </a:moveTo>
                      <a:lnTo>
                        <a:pt x="5566" y="201"/>
                      </a:lnTo>
                      <a:lnTo>
                        <a:pt x="5696" y="391"/>
                      </a:lnTo>
                      <a:lnTo>
                        <a:pt x="5696" y="391"/>
                      </a:lnTo>
                      <a:lnTo>
                        <a:pt x="5713" y="620"/>
                      </a:lnTo>
                      <a:lnTo>
                        <a:pt x="5713" y="618"/>
                      </a:lnTo>
                      <a:lnTo>
                        <a:pt x="5659" y="756"/>
                      </a:lnTo>
                      <a:lnTo>
                        <a:pt x="5659" y="756"/>
                      </a:lnTo>
                      <a:lnTo>
                        <a:pt x="5521" y="886"/>
                      </a:lnTo>
                      <a:lnTo>
                        <a:pt x="5521" y="886"/>
                      </a:lnTo>
                      <a:lnTo>
                        <a:pt x="5382" y="962"/>
                      </a:lnTo>
                      <a:lnTo>
                        <a:pt x="5383" y="962"/>
                      </a:lnTo>
                      <a:lnTo>
                        <a:pt x="5209" y="973"/>
                      </a:lnTo>
                      <a:lnTo>
                        <a:pt x="5186" y="973"/>
                      </a:lnTo>
                      <a:lnTo>
                        <a:pt x="5114" y="1241"/>
                      </a:lnTo>
                      <a:lnTo>
                        <a:pt x="4972" y="1427"/>
                      </a:lnTo>
                      <a:lnTo>
                        <a:pt x="4972" y="1425"/>
                      </a:lnTo>
                      <a:lnTo>
                        <a:pt x="4800" y="1508"/>
                      </a:lnTo>
                      <a:lnTo>
                        <a:pt x="4800" y="1508"/>
                      </a:lnTo>
                      <a:lnTo>
                        <a:pt x="4668" y="1516"/>
                      </a:lnTo>
                      <a:lnTo>
                        <a:pt x="4819" y="1861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819" y="1883"/>
                      </a:lnTo>
                      <a:lnTo>
                        <a:pt x="4575" y="2028"/>
                      </a:lnTo>
                      <a:lnTo>
                        <a:pt x="4577" y="2028"/>
                      </a:lnTo>
                      <a:lnTo>
                        <a:pt x="4524" y="2013"/>
                      </a:lnTo>
                      <a:lnTo>
                        <a:pt x="3838" y="1576"/>
                      </a:lnTo>
                      <a:lnTo>
                        <a:pt x="3314" y="1951"/>
                      </a:lnTo>
                      <a:lnTo>
                        <a:pt x="2705" y="2381"/>
                      </a:lnTo>
                      <a:lnTo>
                        <a:pt x="2690" y="2742"/>
                      </a:lnTo>
                      <a:lnTo>
                        <a:pt x="2690" y="2740"/>
                      </a:lnTo>
                      <a:lnTo>
                        <a:pt x="2651" y="2872"/>
                      </a:lnTo>
                      <a:lnTo>
                        <a:pt x="2527" y="3017"/>
                      </a:lnTo>
                      <a:lnTo>
                        <a:pt x="2527" y="3015"/>
                      </a:lnTo>
                      <a:lnTo>
                        <a:pt x="2385" y="3114"/>
                      </a:lnTo>
                      <a:lnTo>
                        <a:pt x="2387" y="3114"/>
                      </a:lnTo>
                      <a:lnTo>
                        <a:pt x="2057" y="3174"/>
                      </a:lnTo>
                      <a:lnTo>
                        <a:pt x="1914" y="3141"/>
                      </a:lnTo>
                      <a:lnTo>
                        <a:pt x="1765" y="3120"/>
                      </a:lnTo>
                      <a:lnTo>
                        <a:pt x="1803" y="3161"/>
                      </a:lnTo>
                      <a:lnTo>
                        <a:pt x="2096" y="3298"/>
                      </a:lnTo>
                      <a:lnTo>
                        <a:pt x="2554" y="3386"/>
                      </a:lnTo>
                      <a:lnTo>
                        <a:pt x="2858" y="3370"/>
                      </a:lnTo>
                      <a:lnTo>
                        <a:pt x="3076" y="3298"/>
                      </a:lnTo>
                      <a:lnTo>
                        <a:pt x="3099" y="3273"/>
                      </a:lnTo>
                      <a:lnTo>
                        <a:pt x="3012" y="3213"/>
                      </a:lnTo>
                      <a:lnTo>
                        <a:pt x="2845" y="3141"/>
                      </a:lnTo>
                      <a:lnTo>
                        <a:pt x="2845" y="3143"/>
                      </a:lnTo>
                      <a:lnTo>
                        <a:pt x="2822" y="3106"/>
                      </a:lnTo>
                      <a:lnTo>
                        <a:pt x="2822" y="3108"/>
                      </a:lnTo>
                      <a:lnTo>
                        <a:pt x="2858" y="3079"/>
                      </a:lnTo>
                      <a:lnTo>
                        <a:pt x="2858" y="3079"/>
                      </a:lnTo>
                      <a:lnTo>
                        <a:pt x="3087" y="3027"/>
                      </a:lnTo>
                      <a:lnTo>
                        <a:pt x="3588" y="2783"/>
                      </a:lnTo>
                      <a:lnTo>
                        <a:pt x="3832" y="2612"/>
                      </a:lnTo>
                      <a:lnTo>
                        <a:pt x="3830" y="2612"/>
                      </a:lnTo>
                      <a:lnTo>
                        <a:pt x="3853" y="2612"/>
                      </a:lnTo>
                      <a:lnTo>
                        <a:pt x="3851" y="2612"/>
                      </a:lnTo>
                      <a:lnTo>
                        <a:pt x="3830" y="2703"/>
                      </a:lnTo>
                      <a:lnTo>
                        <a:pt x="3830" y="2701"/>
                      </a:lnTo>
                      <a:lnTo>
                        <a:pt x="3541" y="3564"/>
                      </a:lnTo>
                      <a:lnTo>
                        <a:pt x="3487" y="3702"/>
                      </a:lnTo>
                      <a:lnTo>
                        <a:pt x="3487" y="3702"/>
                      </a:lnTo>
                      <a:lnTo>
                        <a:pt x="3464" y="3725"/>
                      </a:lnTo>
                      <a:lnTo>
                        <a:pt x="3467" y="3725"/>
                      </a:lnTo>
                      <a:lnTo>
                        <a:pt x="3304" y="3465"/>
                      </a:lnTo>
                      <a:lnTo>
                        <a:pt x="3304" y="3465"/>
                      </a:lnTo>
                      <a:lnTo>
                        <a:pt x="3304" y="3457"/>
                      </a:lnTo>
                      <a:lnTo>
                        <a:pt x="3227" y="3481"/>
                      </a:lnTo>
                      <a:lnTo>
                        <a:pt x="3031" y="3556"/>
                      </a:lnTo>
                      <a:lnTo>
                        <a:pt x="2599" y="3686"/>
                      </a:lnTo>
                      <a:lnTo>
                        <a:pt x="2599" y="3686"/>
                      </a:lnTo>
                      <a:lnTo>
                        <a:pt x="2325" y="3692"/>
                      </a:lnTo>
                      <a:lnTo>
                        <a:pt x="1646" y="3595"/>
                      </a:lnTo>
                      <a:lnTo>
                        <a:pt x="1646" y="3595"/>
                      </a:lnTo>
                      <a:lnTo>
                        <a:pt x="1134" y="3434"/>
                      </a:lnTo>
                      <a:lnTo>
                        <a:pt x="1134" y="3434"/>
                      </a:lnTo>
                      <a:lnTo>
                        <a:pt x="937" y="3397"/>
                      </a:lnTo>
                      <a:lnTo>
                        <a:pt x="938" y="3399"/>
                      </a:lnTo>
                      <a:lnTo>
                        <a:pt x="929" y="3170"/>
                      </a:lnTo>
                      <a:lnTo>
                        <a:pt x="907" y="3114"/>
                      </a:lnTo>
                      <a:lnTo>
                        <a:pt x="863" y="3075"/>
                      </a:lnTo>
                      <a:lnTo>
                        <a:pt x="601" y="3060"/>
                      </a:lnTo>
                      <a:lnTo>
                        <a:pt x="273" y="3174"/>
                      </a:lnTo>
                      <a:lnTo>
                        <a:pt x="143" y="3244"/>
                      </a:lnTo>
                      <a:lnTo>
                        <a:pt x="105" y="3273"/>
                      </a:lnTo>
                      <a:lnTo>
                        <a:pt x="106" y="3273"/>
                      </a:lnTo>
                      <a:lnTo>
                        <a:pt x="101" y="3269"/>
                      </a:lnTo>
                      <a:lnTo>
                        <a:pt x="103" y="3269"/>
                      </a:lnTo>
                      <a:lnTo>
                        <a:pt x="103" y="3254"/>
                      </a:lnTo>
                      <a:lnTo>
                        <a:pt x="101" y="3254"/>
                      </a:lnTo>
                      <a:lnTo>
                        <a:pt x="124" y="3229"/>
                      </a:lnTo>
                      <a:lnTo>
                        <a:pt x="62" y="3219"/>
                      </a:lnTo>
                      <a:lnTo>
                        <a:pt x="64" y="3223"/>
                      </a:lnTo>
                      <a:lnTo>
                        <a:pt x="91" y="3174"/>
                      </a:lnTo>
                      <a:lnTo>
                        <a:pt x="52" y="3174"/>
                      </a:lnTo>
                      <a:lnTo>
                        <a:pt x="54" y="3176"/>
                      </a:lnTo>
                      <a:lnTo>
                        <a:pt x="54" y="3155"/>
                      </a:lnTo>
                      <a:lnTo>
                        <a:pt x="54" y="3157"/>
                      </a:lnTo>
                      <a:lnTo>
                        <a:pt x="85" y="3145"/>
                      </a:lnTo>
                      <a:lnTo>
                        <a:pt x="106" y="3130"/>
                      </a:lnTo>
                      <a:lnTo>
                        <a:pt x="13" y="3137"/>
                      </a:lnTo>
                      <a:lnTo>
                        <a:pt x="6" y="3141"/>
                      </a:lnTo>
                      <a:lnTo>
                        <a:pt x="9" y="3143"/>
                      </a:lnTo>
                      <a:lnTo>
                        <a:pt x="2" y="3132"/>
                      </a:lnTo>
                      <a:lnTo>
                        <a:pt x="2" y="3134"/>
                      </a:lnTo>
                      <a:lnTo>
                        <a:pt x="15" y="3116"/>
                      </a:lnTo>
                      <a:lnTo>
                        <a:pt x="13" y="3118"/>
                      </a:lnTo>
                      <a:lnTo>
                        <a:pt x="79" y="3108"/>
                      </a:lnTo>
                      <a:lnTo>
                        <a:pt x="103" y="3077"/>
                      </a:lnTo>
                      <a:lnTo>
                        <a:pt x="91" y="3056"/>
                      </a:lnTo>
                      <a:lnTo>
                        <a:pt x="46" y="3039"/>
                      </a:lnTo>
                      <a:lnTo>
                        <a:pt x="48" y="3040"/>
                      </a:lnTo>
                      <a:lnTo>
                        <a:pt x="41" y="3029"/>
                      </a:lnTo>
                      <a:lnTo>
                        <a:pt x="41" y="3029"/>
                      </a:lnTo>
                      <a:lnTo>
                        <a:pt x="41" y="3017"/>
                      </a:lnTo>
                      <a:lnTo>
                        <a:pt x="39" y="3019"/>
                      </a:lnTo>
                      <a:lnTo>
                        <a:pt x="260" y="3027"/>
                      </a:lnTo>
                      <a:lnTo>
                        <a:pt x="481" y="2949"/>
                      </a:lnTo>
                      <a:lnTo>
                        <a:pt x="673" y="2889"/>
                      </a:lnTo>
                      <a:lnTo>
                        <a:pt x="673" y="2889"/>
                      </a:lnTo>
                      <a:lnTo>
                        <a:pt x="824" y="2897"/>
                      </a:lnTo>
                      <a:lnTo>
                        <a:pt x="793" y="2612"/>
                      </a:lnTo>
                      <a:lnTo>
                        <a:pt x="793" y="2612"/>
                      </a:lnTo>
                      <a:lnTo>
                        <a:pt x="892" y="2241"/>
                      </a:lnTo>
                      <a:lnTo>
                        <a:pt x="1084" y="1869"/>
                      </a:lnTo>
                      <a:lnTo>
                        <a:pt x="1373" y="1503"/>
                      </a:lnTo>
                      <a:lnTo>
                        <a:pt x="1373" y="1503"/>
                      </a:lnTo>
                      <a:lnTo>
                        <a:pt x="1648" y="1250"/>
                      </a:lnTo>
                      <a:lnTo>
                        <a:pt x="1540" y="1173"/>
                      </a:lnTo>
                      <a:lnTo>
                        <a:pt x="1363" y="1099"/>
                      </a:lnTo>
                      <a:lnTo>
                        <a:pt x="1288" y="1051"/>
                      </a:lnTo>
                      <a:lnTo>
                        <a:pt x="1289" y="1053"/>
                      </a:lnTo>
                      <a:lnTo>
                        <a:pt x="1297" y="1002"/>
                      </a:lnTo>
                      <a:lnTo>
                        <a:pt x="1297" y="1002"/>
                      </a:lnTo>
                      <a:lnTo>
                        <a:pt x="1321" y="987"/>
                      </a:lnTo>
                      <a:lnTo>
                        <a:pt x="1319" y="987"/>
                      </a:lnTo>
                      <a:lnTo>
                        <a:pt x="1590" y="987"/>
                      </a:lnTo>
                      <a:lnTo>
                        <a:pt x="1943" y="940"/>
                      </a:lnTo>
                      <a:lnTo>
                        <a:pt x="2147" y="932"/>
                      </a:lnTo>
                      <a:lnTo>
                        <a:pt x="2310" y="909"/>
                      </a:lnTo>
                      <a:lnTo>
                        <a:pt x="2331" y="909"/>
                      </a:lnTo>
                      <a:lnTo>
                        <a:pt x="2331" y="909"/>
                      </a:lnTo>
                      <a:lnTo>
                        <a:pt x="2346" y="925"/>
                      </a:lnTo>
                      <a:lnTo>
                        <a:pt x="2346" y="923"/>
                      </a:lnTo>
                      <a:lnTo>
                        <a:pt x="2079" y="1380"/>
                      </a:lnTo>
                      <a:lnTo>
                        <a:pt x="1889" y="1654"/>
                      </a:lnTo>
                      <a:lnTo>
                        <a:pt x="1850" y="1729"/>
                      </a:lnTo>
                      <a:lnTo>
                        <a:pt x="1852" y="1729"/>
                      </a:lnTo>
                      <a:lnTo>
                        <a:pt x="1829" y="1745"/>
                      </a:lnTo>
                      <a:lnTo>
                        <a:pt x="1831" y="1745"/>
                      </a:lnTo>
                      <a:lnTo>
                        <a:pt x="1800" y="1714"/>
                      </a:lnTo>
                      <a:lnTo>
                        <a:pt x="1801" y="1716"/>
                      </a:lnTo>
                      <a:lnTo>
                        <a:pt x="1768" y="1458"/>
                      </a:lnTo>
                      <a:lnTo>
                        <a:pt x="1761" y="1444"/>
                      </a:lnTo>
                      <a:lnTo>
                        <a:pt x="1644" y="1576"/>
                      </a:lnTo>
                      <a:lnTo>
                        <a:pt x="1483" y="1889"/>
                      </a:lnTo>
                      <a:lnTo>
                        <a:pt x="1385" y="2179"/>
                      </a:lnTo>
                      <a:lnTo>
                        <a:pt x="1346" y="2544"/>
                      </a:lnTo>
                      <a:lnTo>
                        <a:pt x="1385" y="2765"/>
                      </a:lnTo>
                      <a:lnTo>
                        <a:pt x="1450" y="2841"/>
                      </a:lnTo>
                      <a:lnTo>
                        <a:pt x="1555" y="2790"/>
                      </a:lnTo>
                      <a:lnTo>
                        <a:pt x="1768" y="2637"/>
                      </a:lnTo>
                      <a:lnTo>
                        <a:pt x="2515" y="2127"/>
                      </a:lnTo>
                      <a:lnTo>
                        <a:pt x="2480" y="1885"/>
                      </a:lnTo>
                      <a:lnTo>
                        <a:pt x="2507" y="1633"/>
                      </a:lnTo>
                      <a:lnTo>
                        <a:pt x="2507" y="1633"/>
                      </a:lnTo>
                      <a:lnTo>
                        <a:pt x="2600" y="1442"/>
                      </a:lnTo>
                      <a:lnTo>
                        <a:pt x="2599" y="1444"/>
                      </a:lnTo>
                      <a:lnTo>
                        <a:pt x="2796" y="1276"/>
                      </a:lnTo>
                      <a:lnTo>
                        <a:pt x="2979" y="1204"/>
                      </a:lnTo>
                      <a:lnTo>
                        <a:pt x="2979" y="1204"/>
                      </a:lnTo>
                      <a:lnTo>
                        <a:pt x="3250" y="1185"/>
                      </a:lnTo>
                      <a:lnTo>
                        <a:pt x="3516" y="1237"/>
                      </a:lnTo>
                      <a:lnTo>
                        <a:pt x="3516" y="1237"/>
                      </a:lnTo>
                      <a:lnTo>
                        <a:pt x="3595" y="1270"/>
                      </a:lnTo>
                      <a:lnTo>
                        <a:pt x="3572" y="1136"/>
                      </a:lnTo>
                      <a:lnTo>
                        <a:pt x="3572" y="1136"/>
                      </a:lnTo>
                      <a:lnTo>
                        <a:pt x="3434" y="659"/>
                      </a:lnTo>
                      <a:lnTo>
                        <a:pt x="3434" y="659"/>
                      </a:lnTo>
                      <a:lnTo>
                        <a:pt x="3512" y="574"/>
                      </a:lnTo>
                      <a:lnTo>
                        <a:pt x="3512" y="574"/>
                      </a:lnTo>
                      <a:lnTo>
                        <a:pt x="3642" y="490"/>
                      </a:lnTo>
                      <a:lnTo>
                        <a:pt x="3640" y="490"/>
                      </a:lnTo>
                      <a:lnTo>
                        <a:pt x="3708" y="475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2" y="878"/>
                      </a:lnTo>
                      <a:lnTo>
                        <a:pt x="4600" y="686"/>
                      </a:lnTo>
                      <a:lnTo>
                        <a:pt x="4584" y="587"/>
                      </a:lnTo>
                      <a:lnTo>
                        <a:pt x="4584" y="589"/>
                      </a:lnTo>
                      <a:lnTo>
                        <a:pt x="4615" y="529"/>
                      </a:lnTo>
                      <a:lnTo>
                        <a:pt x="4615" y="531"/>
                      </a:lnTo>
                      <a:lnTo>
                        <a:pt x="4724" y="459"/>
                      </a:lnTo>
                      <a:lnTo>
                        <a:pt x="4724" y="327"/>
                      </a:lnTo>
                      <a:lnTo>
                        <a:pt x="4724" y="327"/>
                      </a:lnTo>
                      <a:lnTo>
                        <a:pt x="4775" y="207"/>
                      </a:lnTo>
                      <a:lnTo>
                        <a:pt x="4773" y="207"/>
                      </a:lnTo>
                      <a:lnTo>
                        <a:pt x="4914" y="73"/>
                      </a:lnTo>
                      <a:lnTo>
                        <a:pt x="4914" y="73"/>
                      </a:lnTo>
                      <a:lnTo>
                        <a:pt x="5065" y="17"/>
                      </a:lnTo>
                      <a:lnTo>
                        <a:pt x="5065" y="17"/>
                      </a:lnTo>
                      <a:lnTo>
                        <a:pt x="5170" y="2"/>
                      </a:lnTo>
                      <a:lnTo>
                        <a:pt x="5170" y="2"/>
                      </a:lnTo>
                      <a:lnTo>
                        <a:pt x="5376" y="62"/>
                      </a:lnTo>
                      <a:lnTo>
                        <a:pt x="5568" y="203"/>
                      </a:lnTo>
                      <a:lnTo>
                        <a:pt x="5570" y="201"/>
                      </a:lnTo>
                      <a:lnTo>
                        <a:pt x="5378" y="58"/>
                      </a:lnTo>
                      <a:lnTo>
                        <a:pt x="5170" y="0"/>
                      </a:lnTo>
                      <a:lnTo>
                        <a:pt x="5065" y="15"/>
                      </a:lnTo>
                      <a:lnTo>
                        <a:pt x="4912" y="69"/>
                      </a:lnTo>
                      <a:lnTo>
                        <a:pt x="4771" y="205"/>
                      </a:lnTo>
                      <a:lnTo>
                        <a:pt x="4720" y="327"/>
                      </a:lnTo>
                      <a:lnTo>
                        <a:pt x="4720" y="457"/>
                      </a:lnTo>
                      <a:lnTo>
                        <a:pt x="4722" y="457"/>
                      </a:lnTo>
                      <a:lnTo>
                        <a:pt x="4614" y="527"/>
                      </a:lnTo>
                      <a:lnTo>
                        <a:pt x="4581" y="587"/>
                      </a:lnTo>
                      <a:lnTo>
                        <a:pt x="4598" y="686"/>
                      </a:lnTo>
                      <a:lnTo>
                        <a:pt x="4598" y="684"/>
                      </a:lnTo>
                      <a:lnTo>
                        <a:pt x="4342" y="874"/>
                      </a:lnTo>
                      <a:lnTo>
                        <a:pt x="4344" y="874"/>
                      </a:lnTo>
                      <a:lnTo>
                        <a:pt x="4166" y="783"/>
                      </a:lnTo>
                      <a:lnTo>
                        <a:pt x="3708" y="473"/>
                      </a:lnTo>
                      <a:lnTo>
                        <a:pt x="3640" y="488"/>
                      </a:lnTo>
                      <a:lnTo>
                        <a:pt x="3510" y="572"/>
                      </a:lnTo>
                      <a:lnTo>
                        <a:pt x="3432" y="659"/>
                      </a:lnTo>
                      <a:lnTo>
                        <a:pt x="3568" y="1138"/>
                      </a:lnTo>
                      <a:lnTo>
                        <a:pt x="3568" y="1136"/>
                      </a:lnTo>
                      <a:lnTo>
                        <a:pt x="3592" y="1268"/>
                      </a:lnTo>
                      <a:lnTo>
                        <a:pt x="3593" y="1266"/>
                      </a:lnTo>
                      <a:lnTo>
                        <a:pt x="3516" y="1233"/>
                      </a:lnTo>
                      <a:lnTo>
                        <a:pt x="3250" y="1181"/>
                      </a:lnTo>
                      <a:lnTo>
                        <a:pt x="2979" y="1202"/>
                      </a:lnTo>
                      <a:lnTo>
                        <a:pt x="2794" y="1272"/>
                      </a:lnTo>
                      <a:lnTo>
                        <a:pt x="2597" y="1442"/>
                      </a:lnTo>
                      <a:lnTo>
                        <a:pt x="2504" y="1631"/>
                      </a:lnTo>
                      <a:lnTo>
                        <a:pt x="2476" y="1885"/>
                      </a:lnTo>
                      <a:lnTo>
                        <a:pt x="2513" y="2127"/>
                      </a:lnTo>
                      <a:lnTo>
                        <a:pt x="2513" y="2125"/>
                      </a:lnTo>
                      <a:lnTo>
                        <a:pt x="1767" y="2635"/>
                      </a:lnTo>
                      <a:lnTo>
                        <a:pt x="1553" y="2788"/>
                      </a:lnTo>
                      <a:lnTo>
                        <a:pt x="1448" y="2839"/>
                      </a:lnTo>
                      <a:lnTo>
                        <a:pt x="1450" y="2839"/>
                      </a:lnTo>
                      <a:lnTo>
                        <a:pt x="1386" y="2763"/>
                      </a:lnTo>
                      <a:lnTo>
                        <a:pt x="1386" y="2765"/>
                      </a:lnTo>
                      <a:lnTo>
                        <a:pt x="1348" y="2544"/>
                      </a:lnTo>
                      <a:lnTo>
                        <a:pt x="1386" y="2179"/>
                      </a:lnTo>
                      <a:lnTo>
                        <a:pt x="1386" y="2179"/>
                      </a:lnTo>
                      <a:lnTo>
                        <a:pt x="1487" y="1889"/>
                      </a:lnTo>
                      <a:lnTo>
                        <a:pt x="1648" y="1578"/>
                      </a:lnTo>
                      <a:lnTo>
                        <a:pt x="1763" y="1448"/>
                      </a:lnTo>
                      <a:lnTo>
                        <a:pt x="1759" y="1448"/>
                      </a:lnTo>
                      <a:lnTo>
                        <a:pt x="1767" y="1460"/>
                      </a:lnTo>
                      <a:lnTo>
                        <a:pt x="1767" y="1458"/>
                      </a:lnTo>
                      <a:lnTo>
                        <a:pt x="1798" y="1716"/>
                      </a:lnTo>
                      <a:lnTo>
                        <a:pt x="1829" y="1749"/>
                      </a:lnTo>
                      <a:lnTo>
                        <a:pt x="1854" y="1731"/>
                      </a:lnTo>
                      <a:lnTo>
                        <a:pt x="1893" y="1656"/>
                      </a:lnTo>
                      <a:lnTo>
                        <a:pt x="2081" y="1382"/>
                      </a:lnTo>
                      <a:lnTo>
                        <a:pt x="2348" y="925"/>
                      </a:lnTo>
                      <a:lnTo>
                        <a:pt x="2333" y="907"/>
                      </a:lnTo>
                      <a:lnTo>
                        <a:pt x="2310" y="907"/>
                      </a:lnTo>
                      <a:lnTo>
                        <a:pt x="2147" y="929"/>
                      </a:lnTo>
                      <a:lnTo>
                        <a:pt x="1943" y="936"/>
                      </a:lnTo>
                      <a:lnTo>
                        <a:pt x="1590" y="985"/>
                      </a:lnTo>
                      <a:lnTo>
                        <a:pt x="1319" y="985"/>
                      </a:lnTo>
                      <a:lnTo>
                        <a:pt x="1295" y="1000"/>
                      </a:lnTo>
                      <a:lnTo>
                        <a:pt x="1286" y="1053"/>
                      </a:lnTo>
                      <a:lnTo>
                        <a:pt x="1361" y="1101"/>
                      </a:lnTo>
                      <a:lnTo>
                        <a:pt x="1538" y="1177"/>
                      </a:lnTo>
                      <a:lnTo>
                        <a:pt x="1646" y="1252"/>
                      </a:lnTo>
                      <a:lnTo>
                        <a:pt x="1646" y="1250"/>
                      </a:lnTo>
                      <a:lnTo>
                        <a:pt x="1371" y="1501"/>
                      </a:lnTo>
                      <a:lnTo>
                        <a:pt x="1371" y="1501"/>
                      </a:lnTo>
                      <a:lnTo>
                        <a:pt x="1080" y="1867"/>
                      </a:lnTo>
                      <a:lnTo>
                        <a:pt x="888" y="2240"/>
                      </a:lnTo>
                      <a:lnTo>
                        <a:pt x="789" y="2612"/>
                      </a:lnTo>
                      <a:lnTo>
                        <a:pt x="822" y="2895"/>
                      </a:lnTo>
                      <a:lnTo>
                        <a:pt x="822" y="2893"/>
                      </a:lnTo>
                      <a:lnTo>
                        <a:pt x="673" y="2885"/>
                      </a:lnTo>
                      <a:lnTo>
                        <a:pt x="479" y="2945"/>
                      </a:lnTo>
                      <a:lnTo>
                        <a:pt x="258" y="3023"/>
                      </a:lnTo>
                      <a:lnTo>
                        <a:pt x="260" y="3023"/>
                      </a:lnTo>
                      <a:lnTo>
                        <a:pt x="39" y="3017"/>
                      </a:lnTo>
                      <a:lnTo>
                        <a:pt x="39" y="3031"/>
                      </a:lnTo>
                      <a:lnTo>
                        <a:pt x="46" y="3042"/>
                      </a:lnTo>
                      <a:lnTo>
                        <a:pt x="89" y="3058"/>
                      </a:lnTo>
                      <a:lnTo>
                        <a:pt x="87" y="3058"/>
                      </a:lnTo>
                      <a:lnTo>
                        <a:pt x="99" y="3077"/>
                      </a:lnTo>
                      <a:lnTo>
                        <a:pt x="99" y="3077"/>
                      </a:lnTo>
                      <a:lnTo>
                        <a:pt x="75" y="3106"/>
                      </a:lnTo>
                      <a:lnTo>
                        <a:pt x="77" y="3106"/>
                      </a:lnTo>
                      <a:lnTo>
                        <a:pt x="13" y="3114"/>
                      </a:lnTo>
                      <a:lnTo>
                        <a:pt x="0" y="3132"/>
                      </a:lnTo>
                      <a:lnTo>
                        <a:pt x="8" y="3145"/>
                      </a:lnTo>
                      <a:lnTo>
                        <a:pt x="15" y="3141"/>
                      </a:lnTo>
                      <a:lnTo>
                        <a:pt x="13" y="3141"/>
                      </a:lnTo>
                      <a:lnTo>
                        <a:pt x="101" y="3134"/>
                      </a:lnTo>
                      <a:lnTo>
                        <a:pt x="101" y="3130"/>
                      </a:lnTo>
                      <a:lnTo>
                        <a:pt x="83" y="3141"/>
                      </a:lnTo>
                      <a:lnTo>
                        <a:pt x="52" y="3155"/>
                      </a:lnTo>
                      <a:lnTo>
                        <a:pt x="52" y="3176"/>
                      </a:lnTo>
                      <a:lnTo>
                        <a:pt x="89" y="3178"/>
                      </a:lnTo>
                      <a:lnTo>
                        <a:pt x="87" y="3174"/>
                      </a:lnTo>
                      <a:lnTo>
                        <a:pt x="60" y="3223"/>
                      </a:lnTo>
                      <a:lnTo>
                        <a:pt x="122" y="3232"/>
                      </a:lnTo>
                      <a:lnTo>
                        <a:pt x="120" y="3229"/>
                      </a:lnTo>
                      <a:lnTo>
                        <a:pt x="99" y="3252"/>
                      </a:lnTo>
                      <a:lnTo>
                        <a:pt x="99" y="3269"/>
                      </a:lnTo>
                      <a:lnTo>
                        <a:pt x="105" y="3275"/>
                      </a:lnTo>
                      <a:lnTo>
                        <a:pt x="145" y="3248"/>
                      </a:lnTo>
                      <a:lnTo>
                        <a:pt x="275" y="3178"/>
                      </a:lnTo>
                      <a:lnTo>
                        <a:pt x="603" y="3064"/>
                      </a:lnTo>
                      <a:lnTo>
                        <a:pt x="601" y="3064"/>
                      </a:lnTo>
                      <a:lnTo>
                        <a:pt x="863" y="3079"/>
                      </a:lnTo>
                      <a:lnTo>
                        <a:pt x="861" y="3079"/>
                      </a:lnTo>
                      <a:lnTo>
                        <a:pt x="905" y="3118"/>
                      </a:lnTo>
                      <a:lnTo>
                        <a:pt x="904" y="3116"/>
                      </a:lnTo>
                      <a:lnTo>
                        <a:pt x="927" y="3172"/>
                      </a:lnTo>
                      <a:lnTo>
                        <a:pt x="927" y="3170"/>
                      </a:lnTo>
                      <a:lnTo>
                        <a:pt x="937" y="3399"/>
                      </a:lnTo>
                      <a:lnTo>
                        <a:pt x="1134" y="3438"/>
                      </a:lnTo>
                      <a:lnTo>
                        <a:pt x="1132" y="3438"/>
                      </a:lnTo>
                      <a:lnTo>
                        <a:pt x="1646" y="3597"/>
                      </a:lnTo>
                      <a:lnTo>
                        <a:pt x="1646" y="3597"/>
                      </a:lnTo>
                      <a:lnTo>
                        <a:pt x="2325" y="3696"/>
                      </a:lnTo>
                      <a:lnTo>
                        <a:pt x="2599" y="3688"/>
                      </a:lnTo>
                      <a:lnTo>
                        <a:pt x="3031" y="3558"/>
                      </a:lnTo>
                      <a:lnTo>
                        <a:pt x="3229" y="3485"/>
                      </a:lnTo>
                      <a:lnTo>
                        <a:pt x="3304" y="3461"/>
                      </a:lnTo>
                      <a:lnTo>
                        <a:pt x="3301" y="3459"/>
                      </a:lnTo>
                      <a:lnTo>
                        <a:pt x="3301" y="3467"/>
                      </a:lnTo>
                      <a:lnTo>
                        <a:pt x="3465" y="3729"/>
                      </a:lnTo>
                      <a:lnTo>
                        <a:pt x="3489" y="3704"/>
                      </a:lnTo>
                      <a:lnTo>
                        <a:pt x="3545" y="3566"/>
                      </a:lnTo>
                      <a:lnTo>
                        <a:pt x="3832" y="2703"/>
                      </a:lnTo>
                      <a:lnTo>
                        <a:pt x="3832" y="2703"/>
                      </a:lnTo>
                      <a:lnTo>
                        <a:pt x="3855" y="2610"/>
                      </a:lnTo>
                      <a:lnTo>
                        <a:pt x="3830" y="2610"/>
                      </a:lnTo>
                      <a:lnTo>
                        <a:pt x="3586" y="2779"/>
                      </a:lnTo>
                      <a:lnTo>
                        <a:pt x="3085" y="3023"/>
                      </a:lnTo>
                      <a:lnTo>
                        <a:pt x="3085" y="3023"/>
                      </a:lnTo>
                      <a:lnTo>
                        <a:pt x="2856" y="3075"/>
                      </a:lnTo>
                      <a:lnTo>
                        <a:pt x="2820" y="3108"/>
                      </a:lnTo>
                      <a:lnTo>
                        <a:pt x="2843" y="3145"/>
                      </a:lnTo>
                      <a:lnTo>
                        <a:pt x="3010" y="3215"/>
                      </a:lnTo>
                      <a:lnTo>
                        <a:pt x="3097" y="3275"/>
                      </a:lnTo>
                      <a:lnTo>
                        <a:pt x="3097" y="3273"/>
                      </a:lnTo>
                      <a:lnTo>
                        <a:pt x="3074" y="3296"/>
                      </a:lnTo>
                      <a:lnTo>
                        <a:pt x="3074" y="3294"/>
                      </a:lnTo>
                      <a:lnTo>
                        <a:pt x="2856" y="3366"/>
                      </a:lnTo>
                      <a:lnTo>
                        <a:pt x="2858" y="3366"/>
                      </a:lnTo>
                      <a:lnTo>
                        <a:pt x="2554" y="3382"/>
                      </a:lnTo>
                      <a:lnTo>
                        <a:pt x="2096" y="3294"/>
                      </a:lnTo>
                      <a:lnTo>
                        <a:pt x="2096" y="3294"/>
                      </a:lnTo>
                      <a:lnTo>
                        <a:pt x="1805" y="3159"/>
                      </a:lnTo>
                      <a:lnTo>
                        <a:pt x="1805" y="3159"/>
                      </a:lnTo>
                      <a:lnTo>
                        <a:pt x="1768" y="3122"/>
                      </a:lnTo>
                      <a:lnTo>
                        <a:pt x="1767" y="3124"/>
                      </a:lnTo>
                      <a:lnTo>
                        <a:pt x="1914" y="3145"/>
                      </a:lnTo>
                      <a:lnTo>
                        <a:pt x="2057" y="3178"/>
                      </a:lnTo>
                      <a:lnTo>
                        <a:pt x="2387" y="3118"/>
                      </a:lnTo>
                      <a:lnTo>
                        <a:pt x="2529" y="3019"/>
                      </a:lnTo>
                      <a:lnTo>
                        <a:pt x="2653" y="2872"/>
                      </a:lnTo>
                      <a:lnTo>
                        <a:pt x="2692" y="2742"/>
                      </a:lnTo>
                      <a:lnTo>
                        <a:pt x="2707" y="2383"/>
                      </a:lnTo>
                      <a:lnTo>
                        <a:pt x="2707" y="2383"/>
                      </a:lnTo>
                      <a:lnTo>
                        <a:pt x="3316" y="1954"/>
                      </a:lnTo>
                      <a:lnTo>
                        <a:pt x="3838" y="1578"/>
                      </a:lnTo>
                      <a:lnTo>
                        <a:pt x="3836" y="1578"/>
                      </a:lnTo>
                      <a:lnTo>
                        <a:pt x="4522" y="2017"/>
                      </a:lnTo>
                      <a:lnTo>
                        <a:pt x="4575" y="2032"/>
                      </a:lnTo>
                      <a:lnTo>
                        <a:pt x="4823" y="1885"/>
                      </a:lnTo>
                      <a:lnTo>
                        <a:pt x="4823" y="1861"/>
                      </a:lnTo>
                      <a:lnTo>
                        <a:pt x="4672" y="1518"/>
                      </a:lnTo>
                      <a:lnTo>
                        <a:pt x="4670" y="1520"/>
                      </a:lnTo>
                      <a:lnTo>
                        <a:pt x="4802" y="1510"/>
                      </a:lnTo>
                      <a:lnTo>
                        <a:pt x="4974" y="1429"/>
                      </a:lnTo>
                      <a:lnTo>
                        <a:pt x="5118" y="1243"/>
                      </a:lnTo>
                      <a:lnTo>
                        <a:pt x="5188" y="975"/>
                      </a:lnTo>
                      <a:lnTo>
                        <a:pt x="5186" y="975"/>
                      </a:lnTo>
                      <a:lnTo>
                        <a:pt x="5209" y="975"/>
                      </a:lnTo>
                      <a:lnTo>
                        <a:pt x="5383" y="963"/>
                      </a:lnTo>
                      <a:lnTo>
                        <a:pt x="5523" y="888"/>
                      </a:lnTo>
                      <a:lnTo>
                        <a:pt x="5661" y="758"/>
                      </a:lnTo>
                      <a:lnTo>
                        <a:pt x="5715" y="620"/>
                      </a:lnTo>
                      <a:lnTo>
                        <a:pt x="5700" y="389"/>
                      </a:lnTo>
                      <a:lnTo>
                        <a:pt x="5570" y="201"/>
                      </a:lnTo>
                      <a:lnTo>
                        <a:pt x="5568" y="2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rot="12077400">
                  <a:off x="8047440" y="5096160"/>
                  <a:ext cx="194040" cy="151920"/>
                </a:xfrm>
                <a:custGeom>
                  <a:avLst/>
                  <a:gdLst/>
                  <a:ahLst/>
                  <a:rect l="l" t="t" r="r" b="b"/>
                  <a:pathLst>
                    <a:path w="609" h="477">
                      <a:moveTo>
                        <a:pt x="531" y="329"/>
                      </a:moveTo>
                      <a:lnTo>
                        <a:pt x="593" y="199"/>
                      </a:lnTo>
                      <a:lnTo>
                        <a:pt x="609" y="0"/>
                      </a:lnTo>
                      <a:lnTo>
                        <a:pt x="0" y="428"/>
                      </a:lnTo>
                      <a:lnTo>
                        <a:pt x="36" y="428"/>
                      </a:lnTo>
                      <a:lnTo>
                        <a:pt x="35" y="428"/>
                      </a:lnTo>
                      <a:lnTo>
                        <a:pt x="102" y="461"/>
                      </a:lnTo>
                      <a:lnTo>
                        <a:pt x="211" y="477"/>
                      </a:lnTo>
                      <a:lnTo>
                        <a:pt x="384" y="438"/>
                      </a:lnTo>
                      <a:lnTo>
                        <a:pt x="531" y="329"/>
                      </a:lnTo>
                      <a:lnTo>
                        <a:pt x="529" y="327"/>
                      </a:lnTo>
                      <a:lnTo>
                        <a:pt x="384" y="434"/>
                      </a:lnTo>
                      <a:lnTo>
                        <a:pt x="384" y="434"/>
                      </a:lnTo>
                      <a:lnTo>
                        <a:pt x="211" y="473"/>
                      </a:lnTo>
                      <a:lnTo>
                        <a:pt x="102" y="457"/>
                      </a:lnTo>
                      <a:lnTo>
                        <a:pt x="104" y="457"/>
                      </a:lnTo>
                      <a:lnTo>
                        <a:pt x="36" y="426"/>
                      </a:lnTo>
                      <a:lnTo>
                        <a:pt x="3" y="426"/>
                      </a:lnTo>
                      <a:lnTo>
                        <a:pt x="5" y="428"/>
                      </a:lnTo>
                      <a:lnTo>
                        <a:pt x="609" y="3"/>
                      </a:lnTo>
                      <a:lnTo>
                        <a:pt x="607" y="1"/>
                      </a:lnTo>
                      <a:lnTo>
                        <a:pt x="591" y="197"/>
                      </a:lnTo>
                      <a:lnTo>
                        <a:pt x="591" y="197"/>
                      </a:lnTo>
                      <a:lnTo>
                        <a:pt x="529" y="327"/>
                      </a:lnTo>
                      <a:lnTo>
                        <a:pt x="529" y="327"/>
                      </a:lnTo>
                      <a:lnTo>
                        <a:pt x="531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12077400">
                  <a:off x="7625520" y="5290920"/>
                  <a:ext cx="265680" cy="210600"/>
                </a:xfrm>
                <a:custGeom>
                  <a:avLst/>
                  <a:gdLst/>
                  <a:ahLst/>
                  <a:rect l="l" t="t" r="r" b="b"/>
                  <a:pathLst>
                    <a:path w="830" h="658">
                      <a:moveTo>
                        <a:pt x="830" y="74"/>
                      </a:moveTo>
                      <a:lnTo>
                        <a:pt x="805" y="55"/>
                      </a:lnTo>
                      <a:lnTo>
                        <a:pt x="434" y="0"/>
                      </a:lnTo>
                      <a:lnTo>
                        <a:pt x="295" y="39"/>
                      </a:lnTo>
                      <a:lnTo>
                        <a:pt x="169" y="123"/>
                      </a:lnTo>
                      <a:lnTo>
                        <a:pt x="81" y="225"/>
                      </a:lnTo>
                      <a:lnTo>
                        <a:pt x="0" y="427"/>
                      </a:lnTo>
                      <a:lnTo>
                        <a:pt x="29" y="658"/>
                      </a:lnTo>
                      <a:lnTo>
                        <a:pt x="830" y="74"/>
                      </a:lnTo>
                      <a:lnTo>
                        <a:pt x="828" y="72"/>
                      </a:lnTo>
                      <a:lnTo>
                        <a:pt x="29" y="654"/>
                      </a:lnTo>
                      <a:lnTo>
                        <a:pt x="33" y="656"/>
                      </a:lnTo>
                      <a:lnTo>
                        <a:pt x="2" y="427"/>
                      </a:lnTo>
                      <a:lnTo>
                        <a:pt x="2" y="427"/>
                      </a:lnTo>
                      <a:lnTo>
                        <a:pt x="85" y="227"/>
                      </a:lnTo>
                      <a:lnTo>
                        <a:pt x="171" y="125"/>
                      </a:lnTo>
                      <a:lnTo>
                        <a:pt x="171" y="125"/>
                      </a:lnTo>
                      <a:lnTo>
                        <a:pt x="297" y="43"/>
                      </a:lnTo>
                      <a:lnTo>
                        <a:pt x="436" y="2"/>
                      </a:lnTo>
                      <a:lnTo>
                        <a:pt x="434" y="2"/>
                      </a:lnTo>
                      <a:lnTo>
                        <a:pt x="805" y="59"/>
                      </a:lnTo>
                      <a:lnTo>
                        <a:pt x="805" y="59"/>
                      </a:lnTo>
                      <a:lnTo>
                        <a:pt x="828" y="74"/>
                      </a:lnTo>
                      <a:lnTo>
                        <a:pt x="828" y="72"/>
                      </a:lnTo>
                      <a:lnTo>
                        <a:pt x="83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rot="12077400">
                  <a:off x="7098120" y="5287680"/>
                  <a:ext cx="160920" cy="165960"/>
                </a:xfrm>
                <a:custGeom>
                  <a:avLst/>
                  <a:gdLst/>
                  <a:ahLst/>
                  <a:rect l="l" t="t" r="r" b="b"/>
                  <a:pathLst>
                    <a:path w="502" h="520">
                      <a:moveTo>
                        <a:pt x="427" y="340"/>
                      </a:moveTo>
                      <a:lnTo>
                        <a:pt x="502" y="117"/>
                      </a:lnTo>
                      <a:lnTo>
                        <a:pt x="343" y="0"/>
                      </a:lnTo>
                      <a:lnTo>
                        <a:pt x="0" y="251"/>
                      </a:lnTo>
                      <a:lnTo>
                        <a:pt x="82" y="512"/>
                      </a:lnTo>
                      <a:lnTo>
                        <a:pt x="204" y="520"/>
                      </a:lnTo>
                      <a:lnTo>
                        <a:pt x="343" y="445"/>
                      </a:lnTo>
                      <a:lnTo>
                        <a:pt x="427" y="340"/>
                      </a:lnTo>
                      <a:lnTo>
                        <a:pt x="425" y="338"/>
                      </a:lnTo>
                      <a:lnTo>
                        <a:pt x="341" y="443"/>
                      </a:lnTo>
                      <a:lnTo>
                        <a:pt x="343" y="443"/>
                      </a:lnTo>
                      <a:lnTo>
                        <a:pt x="202" y="516"/>
                      </a:lnTo>
                      <a:lnTo>
                        <a:pt x="204" y="516"/>
                      </a:lnTo>
                      <a:lnTo>
                        <a:pt x="83" y="510"/>
                      </a:lnTo>
                      <a:lnTo>
                        <a:pt x="83" y="510"/>
                      </a:lnTo>
                      <a:lnTo>
                        <a:pt x="2" y="251"/>
                      </a:lnTo>
                      <a:lnTo>
                        <a:pt x="2" y="253"/>
                      </a:lnTo>
                      <a:lnTo>
                        <a:pt x="343" y="4"/>
                      </a:lnTo>
                      <a:lnTo>
                        <a:pt x="343" y="4"/>
                      </a:lnTo>
                      <a:lnTo>
                        <a:pt x="500" y="119"/>
                      </a:lnTo>
                      <a:lnTo>
                        <a:pt x="500" y="117"/>
                      </a:lnTo>
                      <a:lnTo>
                        <a:pt x="425" y="338"/>
                      </a:lnTo>
                      <a:lnTo>
                        <a:pt x="427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12077400">
                  <a:off x="6832080" y="5356080"/>
                  <a:ext cx="290880" cy="287640"/>
                </a:xfrm>
                <a:custGeom>
                  <a:avLst/>
                  <a:gdLst/>
                  <a:ahLst/>
                  <a:rect l="l" t="t" r="r" b="b"/>
                  <a:pathLst>
                    <a:path w="909" h="898">
                      <a:moveTo>
                        <a:pt x="801" y="229"/>
                      </a:moveTo>
                      <a:lnTo>
                        <a:pt x="876" y="336"/>
                      </a:lnTo>
                      <a:lnTo>
                        <a:pt x="909" y="524"/>
                      </a:lnTo>
                      <a:lnTo>
                        <a:pt x="861" y="695"/>
                      </a:lnTo>
                      <a:lnTo>
                        <a:pt x="729" y="815"/>
                      </a:lnTo>
                      <a:lnTo>
                        <a:pt x="541" y="898"/>
                      </a:lnTo>
                      <a:lnTo>
                        <a:pt x="395" y="898"/>
                      </a:lnTo>
                      <a:lnTo>
                        <a:pt x="223" y="836"/>
                      </a:lnTo>
                      <a:lnTo>
                        <a:pt x="153" y="776"/>
                      </a:lnTo>
                      <a:lnTo>
                        <a:pt x="136" y="631"/>
                      </a:lnTo>
                      <a:lnTo>
                        <a:pt x="120" y="619"/>
                      </a:lnTo>
                      <a:lnTo>
                        <a:pt x="231" y="669"/>
                      </a:lnTo>
                      <a:lnTo>
                        <a:pt x="343" y="733"/>
                      </a:lnTo>
                      <a:lnTo>
                        <a:pt x="533" y="722"/>
                      </a:lnTo>
                      <a:lnTo>
                        <a:pt x="624" y="669"/>
                      </a:lnTo>
                      <a:lnTo>
                        <a:pt x="706" y="547"/>
                      </a:lnTo>
                      <a:lnTo>
                        <a:pt x="706" y="402"/>
                      </a:lnTo>
                      <a:lnTo>
                        <a:pt x="648" y="287"/>
                      </a:lnTo>
                      <a:lnTo>
                        <a:pt x="551" y="206"/>
                      </a:lnTo>
                      <a:lnTo>
                        <a:pt x="479" y="198"/>
                      </a:lnTo>
                      <a:lnTo>
                        <a:pt x="388" y="198"/>
                      </a:lnTo>
                      <a:lnTo>
                        <a:pt x="250" y="260"/>
                      </a:lnTo>
                      <a:lnTo>
                        <a:pt x="174" y="351"/>
                      </a:lnTo>
                      <a:lnTo>
                        <a:pt x="168" y="402"/>
                      </a:lnTo>
                      <a:lnTo>
                        <a:pt x="0" y="394"/>
                      </a:lnTo>
                      <a:lnTo>
                        <a:pt x="0" y="264"/>
                      </a:lnTo>
                      <a:lnTo>
                        <a:pt x="54" y="173"/>
                      </a:lnTo>
                      <a:lnTo>
                        <a:pt x="120" y="92"/>
                      </a:lnTo>
                      <a:lnTo>
                        <a:pt x="213" y="37"/>
                      </a:lnTo>
                      <a:lnTo>
                        <a:pt x="403" y="0"/>
                      </a:lnTo>
                      <a:lnTo>
                        <a:pt x="616" y="74"/>
                      </a:lnTo>
                      <a:lnTo>
                        <a:pt x="801" y="22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12077400">
                  <a:off x="7008840" y="5464800"/>
                  <a:ext cx="127440" cy="75240"/>
                </a:xfrm>
                <a:custGeom>
                  <a:avLst/>
                  <a:gdLst/>
                  <a:ahLst/>
                  <a:rect l="l" t="t" r="r" b="b"/>
                  <a:pathLst>
                    <a:path w="398" h="234">
                      <a:moveTo>
                        <a:pt x="326" y="120"/>
                      </a:moveTo>
                      <a:lnTo>
                        <a:pt x="398" y="234"/>
                      </a:lnTo>
                      <a:lnTo>
                        <a:pt x="350" y="203"/>
                      </a:lnTo>
                      <a:lnTo>
                        <a:pt x="284" y="203"/>
                      </a:lnTo>
                      <a:lnTo>
                        <a:pt x="272" y="196"/>
                      </a:lnTo>
                      <a:lnTo>
                        <a:pt x="311" y="168"/>
                      </a:lnTo>
                      <a:lnTo>
                        <a:pt x="326" y="184"/>
                      </a:lnTo>
                      <a:lnTo>
                        <a:pt x="334" y="184"/>
                      </a:lnTo>
                      <a:lnTo>
                        <a:pt x="344" y="172"/>
                      </a:lnTo>
                      <a:lnTo>
                        <a:pt x="344" y="151"/>
                      </a:lnTo>
                      <a:lnTo>
                        <a:pt x="311" y="130"/>
                      </a:lnTo>
                      <a:lnTo>
                        <a:pt x="253" y="157"/>
                      </a:lnTo>
                      <a:lnTo>
                        <a:pt x="235" y="172"/>
                      </a:lnTo>
                      <a:lnTo>
                        <a:pt x="196" y="145"/>
                      </a:lnTo>
                      <a:lnTo>
                        <a:pt x="272" y="89"/>
                      </a:lnTo>
                      <a:lnTo>
                        <a:pt x="245" y="70"/>
                      </a:lnTo>
                      <a:lnTo>
                        <a:pt x="154" y="130"/>
                      </a:lnTo>
                      <a:lnTo>
                        <a:pt x="138" y="130"/>
                      </a:lnTo>
                      <a:lnTo>
                        <a:pt x="138" y="89"/>
                      </a:lnTo>
                      <a:lnTo>
                        <a:pt x="181" y="58"/>
                      </a:lnTo>
                      <a:lnTo>
                        <a:pt x="181" y="42"/>
                      </a:lnTo>
                      <a:lnTo>
                        <a:pt x="130" y="54"/>
                      </a:lnTo>
                      <a:lnTo>
                        <a:pt x="99" y="81"/>
                      </a:lnTo>
                      <a:lnTo>
                        <a:pt x="99" y="112"/>
                      </a:lnTo>
                      <a:lnTo>
                        <a:pt x="66" y="106"/>
                      </a:lnTo>
                      <a:lnTo>
                        <a:pt x="66" y="70"/>
                      </a:lnTo>
                      <a:lnTo>
                        <a:pt x="115" y="31"/>
                      </a:lnTo>
                      <a:lnTo>
                        <a:pt x="115" y="21"/>
                      </a:lnTo>
                      <a:lnTo>
                        <a:pt x="99" y="6"/>
                      </a:lnTo>
                      <a:lnTo>
                        <a:pt x="28" y="81"/>
                      </a:lnTo>
                      <a:lnTo>
                        <a:pt x="0" y="112"/>
                      </a:lnTo>
                      <a:lnTo>
                        <a:pt x="22" y="21"/>
                      </a:lnTo>
                      <a:lnTo>
                        <a:pt x="55" y="0"/>
                      </a:lnTo>
                      <a:lnTo>
                        <a:pt x="220" y="42"/>
                      </a:lnTo>
                      <a:lnTo>
                        <a:pt x="326" y="12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12077400">
                  <a:off x="7129440" y="5519520"/>
                  <a:ext cx="16200" cy="42120"/>
                </a:xfrm>
                <a:custGeom>
                  <a:avLst/>
                  <a:gdLst/>
                  <a:ahLst/>
                  <a:rect l="l" t="t" r="r" b="b"/>
                  <a:pathLst>
                    <a:path w="51" h="130">
                      <a:moveTo>
                        <a:pt x="27" y="115"/>
                      </a:moveTo>
                      <a:lnTo>
                        <a:pt x="0" y="130"/>
                      </a:lnTo>
                      <a:lnTo>
                        <a:pt x="0" y="43"/>
                      </a:lnTo>
                      <a:lnTo>
                        <a:pt x="37" y="6"/>
                      </a:lnTo>
                      <a:lnTo>
                        <a:pt x="51" y="0"/>
                      </a:lnTo>
                      <a:lnTo>
                        <a:pt x="22" y="66"/>
                      </a:lnTo>
                      <a:lnTo>
                        <a:pt x="27" y="11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rot="12077400">
                  <a:off x="7183800" y="5181840"/>
                  <a:ext cx="367920" cy="447120"/>
                </a:xfrm>
                <a:custGeom>
                  <a:avLst/>
                  <a:gdLst/>
                  <a:ahLst/>
                  <a:rect l="l" t="t" r="r" b="b"/>
                  <a:pathLst>
                    <a:path w="1148" h="1392">
                      <a:moveTo>
                        <a:pt x="810" y="461"/>
                      </a:moveTo>
                      <a:lnTo>
                        <a:pt x="1148" y="1355"/>
                      </a:lnTo>
                      <a:lnTo>
                        <a:pt x="1078" y="1392"/>
                      </a:lnTo>
                      <a:lnTo>
                        <a:pt x="735" y="1181"/>
                      </a:lnTo>
                      <a:lnTo>
                        <a:pt x="267" y="822"/>
                      </a:lnTo>
                      <a:lnTo>
                        <a:pt x="0" y="36"/>
                      </a:lnTo>
                      <a:lnTo>
                        <a:pt x="81" y="0"/>
                      </a:lnTo>
                      <a:lnTo>
                        <a:pt x="581" y="343"/>
                      </a:lnTo>
                      <a:lnTo>
                        <a:pt x="810" y="4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rot="12077400">
                  <a:off x="7158240" y="5519880"/>
                  <a:ext cx="11520" cy="33120"/>
                </a:xfrm>
                <a:custGeom>
                  <a:avLst/>
                  <a:gdLst/>
                  <a:ahLst/>
                  <a:rect l="l" t="t" r="r" b="b"/>
                  <a:pathLst>
                    <a:path w="33" h="102">
                      <a:moveTo>
                        <a:pt x="33" y="98"/>
                      </a:moveTo>
                      <a:lnTo>
                        <a:pt x="26" y="98"/>
                      </a:lnTo>
                      <a:lnTo>
                        <a:pt x="16" y="102"/>
                      </a:lnTo>
                      <a:lnTo>
                        <a:pt x="0" y="75"/>
                      </a:lnTo>
                      <a:lnTo>
                        <a:pt x="10" y="19"/>
                      </a:lnTo>
                      <a:lnTo>
                        <a:pt x="33" y="0"/>
                      </a:lnTo>
                      <a:lnTo>
                        <a:pt x="33" y="98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rot="12077400">
                  <a:off x="7225920" y="5174640"/>
                  <a:ext cx="379440" cy="447480"/>
                </a:xfrm>
                <a:custGeom>
                  <a:avLst/>
                  <a:gdLst/>
                  <a:ahLst/>
                  <a:rect l="l" t="t" r="r" b="b"/>
                  <a:pathLst>
                    <a:path w="1183" h="1395">
                      <a:moveTo>
                        <a:pt x="1036" y="1259"/>
                      </a:moveTo>
                      <a:lnTo>
                        <a:pt x="1160" y="1317"/>
                      </a:lnTo>
                      <a:lnTo>
                        <a:pt x="1183" y="1340"/>
                      </a:lnTo>
                      <a:lnTo>
                        <a:pt x="1100" y="1395"/>
                      </a:lnTo>
                      <a:lnTo>
                        <a:pt x="801" y="1226"/>
                      </a:lnTo>
                      <a:lnTo>
                        <a:pt x="549" y="1061"/>
                      </a:lnTo>
                      <a:lnTo>
                        <a:pt x="442" y="997"/>
                      </a:lnTo>
                      <a:lnTo>
                        <a:pt x="415" y="970"/>
                      </a:lnTo>
                      <a:lnTo>
                        <a:pt x="415" y="871"/>
                      </a:lnTo>
                      <a:lnTo>
                        <a:pt x="338" y="768"/>
                      </a:lnTo>
                      <a:lnTo>
                        <a:pt x="252" y="702"/>
                      </a:lnTo>
                      <a:lnTo>
                        <a:pt x="175" y="693"/>
                      </a:lnTo>
                      <a:lnTo>
                        <a:pt x="0" y="84"/>
                      </a:lnTo>
                      <a:lnTo>
                        <a:pt x="41" y="33"/>
                      </a:lnTo>
                      <a:lnTo>
                        <a:pt x="60" y="18"/>
                      </a:lnTo>
                      <a:lnTo>
                        <a:pt x="109" y="0"/>
                      </a:lnTo>
                      <a:lnTo>
                        <a:pt x="377" y="778"/>
                      </a:lnTo>
                      <a:lnTo>
                        <a:pt x="1036" y="125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rot="12077400">
                  <a:off x="7115040" y="5399280"/>
                  <a:ext cx="158400" cy="135360"/>
                </a:xfrm>
                <a:custGeom>
                  <a:avLst/>
                  <a:gdLst/>
                  <a:ahLst/>
                  <a:rect l="l" t="t" r="r" b="b"/>
                  <a:pathLst>
                    <a:path w="496" h="425">
                      <a:moveTo>
                        <a:pt x="496" y="89"/>
                      </a:moveTo>
                      <a:lnTo>
                        <a:pt x="487" y="173"/>
                      </a:lnTo>
                      <a:lnTo>
                        <a:pt x="138" y="425"/>
                      </a:lnTo>
                      <a:lnTo>
                        <a:pt x="99" y="328"/>
                      </a:lnTo>
                      <a:lnTo>
                        <a:pt x="8" y="279"/>
                      </a:lnTo>
                      <a:lnTo>
                        <a:pt x="0" y="272"/>
                      </a:lnTo>
                      <a:lnTo>
                        <a:pt x="242" y="89"/>
                      </a:lnTo>
                      <a:lnTo>
                        <a:pt x="374" y="6"/>
                      </a:lnTo>
                      <a:lnTo>
                        <a:pt x="409" y="0"/>
                      </a:lnTo>
                      <a:lnTo>
                        <a:pt x="448" y="12"/>
                      </a:lnTo>
                      <a:lnTo>
                        <a:pt x="496" y="8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rot="12077400">
                  <a:off x="7918560" y="5691240"/>
                  <a:ext cx="293760" cy="71280"/>
                </a:xfrm>
                <a:custGeom>
                  <a:avLst/>
                  <a:gdLst/>
                  <a:ahLst/>
                  <a:rect l="l" t="t" r="r" b="b"/>
                  <a:pathLst>
                    <a:path w="919" h="221">
                      <a:moveTo>
                        <a:pt x="721" y="124"/>
                      </a:moveTo>
                      <a:lnTo>
                        <a:pt x="582" y="182"/>
                      </a:lnTo>
                      <a:lnTo>
                        <a:pt x="539" y="221"/>
                      </a:lnTo>
                      <a:lnTo>
                        <a:pt x="0" y="75"/>
                      </a:lnTo>
                      <a:lnTo>
                        <a:pt x="326" y="52"/>
                      </a:lnTo>
                      <a:lnTo>
                        <a:pt x="675" y="19"/>
                      </a:lnTo>
                      <a:lnTo>
                        <a:pt x="859" y="9"/>
                      </a:lnTo>
                      <a:lnTo>
                        <a:pt x="865" y="0"/>
                      </a:lnTo>
                      <a:lnTo>
                        <a:pt x="919" y="0"/>
                      </a:lnTo>
                      <a:lnTo>
                        <a:pt x="721" y="124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rot="12077400">
                  <a:off x="7077600" y="5279400"/>
                  <a:ext cx="41040" cy="101160"/>
                </a:xfrm>
                <a:custGeom>
                  <a:avLst/>
                  <a:gdLst/>
                  <a:ahLst/>
                  <a:rect l="l" t="t" r="r" b="b"/>
                  <a:pathLst>
                    <a:path w="129" h="317">
                      <a:moveTo>
                        <a:pt x="129" y="125"/>
                      </a:moveTo>
                      <a:lnTo>
                        <a:pt x="81" y="268"/>
                      </a:lnTo>
                      <a:lnTo>
                        <a:pt x="42" y="317"/>
                      </a:lnTo>
                      <a:lnTo>
                        <a:pt x="0" y="239"/>
                      </a:lnTo>
                      <a:lnTo>
                        <a:pt x="13" y="189"/>
                      </a:lnTo>
                      <a:lnTo>
                        <a:pt x="58" y="220"/>
                      </a:lnTo>
                      <a:lnTo>
                        <a:pt x="67" y="229"/>
                      </a:lnTo>
                      <a:lnTo>
                        <a:pt x="81" y="229"/>
                      </a:lnTo>
                      <a:lnTo>
                        <a:pt x="91" y="220"/>
                      </a:lnTo>
                      <a:lnTo>
                        <a:pt x="36" y="142"/>
                      </a:lnTo>
                      <a:lnTo>
                        <a:pt x="42" y="121"/>
                      </a:lnTo>
                      <a:lnTo>
                        <a:pt x="50" y="115"/>
                      </a:lnTo>
                      <a:lnTo>
                        <a:pt x="73" y="115"/>
                      </a:lnTo>
                      <a:lnTo>
                        <a:pt x="97" y="142"/>
                      </a:lnTo>
                      <a:lnTo>
                        <a:pt x="112" y="142"/>
                      </a:lnTo>
                      <a:lnTo>
                        <a:pt x="129" y="125"/>
                      </a:lnTo>
                      <a:lnTo>
                        <a:pt x="67" y="66"/>
                      </a:lnTo>
                      <a:lnTo>
                        <a:pt x="97" y="76"/>
                      </a:lnTo>
                      <a:lnTo>
                        <a:pt x="112" y="90"/>
                      </a:lnTo>
                      <a:lnTo>
                        <a:pt x="129" y="76"/>
                      </a:lnTo>
                      <a:lnTo>
                        <a:pt x="73" y="6"/>
                      </a:lnTo>
                      <a:lnTo>
                        <a:pt x="73" y="0"/>
                      </a:lnTo>
                      <a:lnTo>
                        <a:pt x="129" y="6"/>
                      </a:lnTo>
                      <a:lnTo>
                        <a:pt x="129" y="12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rot="12077400">
                  <a:off x="7954200" y="5518440"/>
                  <a:ext cx="127440" cy="203040"/>
                </a:xfrm>
                <a:custGeom>
                  <a:avLst/>
                  <a:gdLst/>
                  <a:ahLst/>
                  <a:rect l="l" t="t" r="r" b="b"/>
                  <a:pathLst>
                    <a:path w="395" h="636">
                      <a:moveTo>
                        <a:pt x="0" y="636"/>
                      </a:moveTo>
                      <a:lnTo>
                        <a:pt x="46" y="229"/>
                      </a:lnTo>
                      <a:lnTo>
                        <a:pt x="46" y="200"/>
                      </a:lnTo>
                      <a:lnTo>
                        <a:pt x="197" y="115"/>
                      </a:lnTo>
                      <a:lnTo>
                        <a:pt x="325" y="51"/>
                      </a:lnTo>
                      <a:lnTo>
                        <a:pt x="395" y="0"/>
                      </a:lnTo>
                      <a:lnTo>
                        <a:pt x="211" y="326"/>
                      </a:lnTo>
                      <a:lnTo>
                        <a:pt x="0" y="63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rot="12077400">
                  <a:off x="8082720" y="5574600"/>
                  <a:ext cx="129960" cy="164520"/>
                </a:xfrm>
                <a:custGeom>
                  <a:avLst/>
                  <a:gdLst/>
                  <a:ahLst/>
                  <a:rect l="l" t="t" r="r" b="b"/>
                  <a:pathLst>
                    <a:path w="409" h="512">
                      <a:moveTo>
                        <a:pt x="403" y="429"/>
                      </a:moveTo>
                      <a:lnTo>
                        <a:pt x="386" y="489"/>
                      </a:lnTo>
                      <a:lnTo>
                        <a:pt x="386" y="512"/>
                      </a:lnTo>
                      <a:lnTo>
                        <a:pt x="367" y="306"/>
                      </a:lnTo>
                      <a:lnTo>
                        <a:pt x="396" y="283"/>
                      </a:lnTo>
                      <a:lnTo>
                        <a:pt x="396" y="192"/>
                      </a:lnTo>
                      <a:lnTo>
                        <a:pt x="343" y="114"/>
                      </a:lnTo>
                      <a:lnTo>
                        <a:pt x="295" y="87"/>
                      </a:lnTo>
                      <a:lnTo>
                        <a:pt x="256" y="97"/>
                      </a:lnTo>
                      <a:lnTo>
                        <a:pt x="0" y="0"/>
                      </a:lnTo>
                      <a:lnTo>
                        <a:pt x="409" y="114"/>
                      </a:lnTo>
                      <a:lnTo>
                        <a:pt x="403" y="42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rot="12077400">
                  <a:off x="7546680" y="5452920"/>
                  <a:ext cx="163440" cy="48600"/>
                </a:xfrm>
                <a:custGeom>
                  <a:avLst/>
                  <a:gdLst/>
                  <a:ahLst/>
                  <a:rect l="l" t="t" r="r" b="b"/>
                  <a:pathLst>
                    <a:path w="512" h="154">
                      <a:moveTo>
                        <a:pt x="512" y="97"/>
                      </a:moveTo>
                      <a:lnTo>
                        <a:pt x="473" y="136"/>
                      </a:lnTo>
                      <a:lnTo>
                        <a:pt x="465" y="88"/>
                      </a:lnTo>
                      <a:lnTo>
                        <a:pt x="446" y="94"/>
                      </a:lnTo>
                      <a:lnTo>
                        <a:pt x="419" y="136"/>
                      </a:lnTo>
                      <a:lnTo>
                        <a:pt x="419" y="154"/>
                      </a:lnTo>
                      <a:lnTo>
                        <a:pt x="392" y="146"/>
                      </a:lnTo>
                      <a:lnTo>
                        <a:pt x="368" y="146"/>
                      </a:lnTo>
                      <a:lnTo>
                        <a:pt x="368" y="70"/>
                      </a:lnTo>
                      <a:lnTo>
                        <a:pt x="351" y="55"/>
                      </a:lnTo>
                      <a:lnTo>
                        <a:pt x="337" y="55"/>
                      </a:lnTo>
                      <a:lnTo>
                        <a:pt x="332" y="109"/>
                      </a:lnTo>
                      <a:lnTo>
                        <a:pt x="332" y="130"/>
                      </a:lnTo>
                      <a:lnTo>
                        <a:pt x="301" y="130"/>
                      </a:lnTo>
                      <a:lnTo>
                        <a:pt x="283" y="115"/>
                      </a:lnTo>
                      <a:lnTo>
                        <a:pt x="283" y="49"/>
                      </a:lnTo>
                      <a:lnTo>
                        <a:pt x="268" y="31"/>
                      </a:lnTo>
                      <a:lnTo>
                        <a:pt x="244" y="49"/>
                      </a:lnTo>
                      <a:lnTo>
                        <a:pt x="254" y="125"/>
                      </a:lnTo>
                      <a:lnTo>
                        <a:pt x="186" y="109"/>
                      </a:lnTo>
                      <a:lnTo>
                        <a:pt x="178" y="39"/>
                      </a:lnTo>
                      <a:lnTo>
                        <a:pt x="163" y="24"/>
                      </a:lnTo>
                      <a:lnTo>
                        <a:pt x="147" y="31"/>
                      </a:lnTo>
                      <a:lnTo>
                        <a:pt x="140" y="78"/>
                      </a:lnTo>
                      <a:lnTo>
                        <a:pt x="140" y="97"/>
                      </a:lnTo>
                      <a:lnTo>
                        <a:pt x="91" y="97"/>
                      </a:lnTo>
                      <a:lnTo>
                        <a:pt x="91" y="31"/>
                      </a:lnTo>
                      <a:lnTo>
                        <a:pt x="72" y="12"/>
                      </a:lnTo>
                      <a:lnTo>
                        <a:pt x="56" y="24"/>
                      </a:lnTo>
                      <a:lnTo>
                        <a:pt x="56" y="94"/>
                      </a:lnTo>
                      <a:lnTo>
                        <a:pt x="15" y="88"/>
                      </a:lnTo>
                      <a:lnTo>
                        <a:pt x="0" y="88"/>
                      </a:lnTo>
                      <a:lnTo>
                        <a:pt x="10" y="12"/>
                      </a:lnTo>
                      <a:lnTo>
                        <a:pt x="48" y="0"/>
                      </a:lnTo>
                      <a:lnTo>
                        <a:pt x="283" y="16"/>
                      </a:lnTo>
                      <a:lnTo>
                        <a:pt x="512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rot="12077400">
                  <a:off x="7709040" y="550800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60" h="82">
                      <a:moveTo>
                        <a:pt x="48" y="82"/>
                      </a:moveTo>
                      <a:lnTo>
                        <a:pt x="21" y="82"/>
                      </a:lnTo>
                      <a:lnTo>
                        <a:pt x="0" y="19"/>
                      </a:lnTo>
                      <a:lnTo>
                        <a:pt x="60" y="0"/>
                      </a:lnTo>
                      <a:lnTo>
                        <a:pt x="48" y="58"/>
                      </a:lnTo>
                      <a:lnTo>
                        <a:pt x="48" y="82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2077400">
                  <a:off x="7131600" y="5242680"/>
                  <a:ext cx="79200" cy="74160"/>
                </a:xfrm>
                <a:custGeom>
                  <a:avLst/>
                  <a:gdLst/>
                  <a:ahLst/>
                  <a:rect l="l" t="t" r="r" b="b"/>
                  <a:pathLst>
                    <a:path w="245" h="235">
                      <a:moveTo>
                        <a:pt x="115" y="196"/>
                      </a:moveTo>
                      <a:lnTo>
                        <a:pt x="4" y="235"/>
                      </a:lnTo>
                      <a:lnTo>
                        <a:pt x="0" y="169"/>
                      </a:lnTo>
                      <a:lnTo>
                        <a:pt x="0" y="153"/>
                      </a:lnTo>
                      <a:lnTo>
                        <a:pt x="22" y="138"/>
                      </a:lnTo>
                      <a:lnTo>
                        <a:pt x="37" y="138"/>
                      </a:lnTo>
                      <a:lnTo>
                        <a:pt x="43" y="186"/>
                      </a:lnTo>
                      <a:lnTo>
                        <a:pt x="60" y="196"/>
                      </a:lnTo>
                      <a:lnTo>
                        <a:pt x="66" y="196"/>
                      </a:lnTo>
                      <a:lnTo>
                        <a:pt x="82" y="186"/>
                      </a:lnTo>
                      <a:lnTo>
                        <a:pt x="66" y="109"/>
                      </a:lnTo>
                      <a:lnTo>
                        <a:pt x="103" y="81"/>
                      </a:lnTo>
                      <a:lnTo>
                        <a:pt x="157" y="145"/>
                      </a:lnTo>
                      <a:lnTo>
                        <a:pt x="173" y="130"/>
                      </a:lnTo>
                      <a:lnTo>
                        <a:pt x="142" y="62"/>
                      </a:lnTo>
                      <a:lnTo>
                        <a:pt x="181" y="0"/>
                      </a:lnTo>
                      <a:lnTo>
                        <a:pt x="245" y="72"/>
                      </a:lnTo>
                      <a:lnTo>
                        <a:pt x="115" y="19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12077400">
                  <a:off x="8214120" y="5085000"/>
                  <a:ext cx="289800" cy="669960"/>
                </a:xfrm>
                <a:custGeom>
                  <a:avLst/>
                  <a:gdLst/>
                  <a:ahLst/>
                  <a:rect l="l" t="t" r="r" b="b"/>
                  <a:pathLst>
                    <a:path w="905" h="2092">
                      <a:moveTo>
                        <a:pt x="905" y="15"/>
                      </a:moveTo>
                      <a:lnTo>
                        <a:pt x="523" y="444"/>
                      </a:lnTo>
                      <a:lnTo>
                        <a:pt x="289" y="884"/>
                      </a:lnTo>
                      <a:lnTo>
                        <a:pt x="242" y="1156"/>
                      </a:lnTo>
                      <a:lnTo>
                        <a:pt x="242" y="1423"/>
                      </a:lnTo>
                      <a:lnTo>
                        <a:pt x="289" y="1621"/>
                      </a:lnTo>
                      <a:lnTo>
                        <a:pt x="372" y="1842"/>
                      </a:lnTo>
                      <a:lnTo>
                        <a:pt x="203" y="2063"/>
                      </a:lnTo>
                      <a:lnTo>
                        <a:pt x="159" y="2092"/>
                      </a:lnTo>
                      <a:lnTo>
                        <a:pt x="104" y="1858"/>
                      </a:lnTo>
                      <a:lnTo>
                        <a:pt x="23" y="1584"/>
                      </a:lnTo>
                      <a:lnTo>
                        <a:pt x="0" y="1472"/>
                      </a:lnTo>
                      <a:lnTo>
                        <a:pt x="5" y="1318"/>
                      </a:lnTo>
                      <a:lnTo>
                        <a:pt x="104" y="975"/>
                      </a:lnTo>
                      <a:lnTo>
                        <a:pt x="273" y="657"/>
                      </a:lnTo>
                      <a:lnTo>
                        <a:pt x="506" y="341"/>
                      </a:lnTo>
                      <a:lnTo>
                        <a:pt x="864" y="7"/>
                      </a:lnTo>
                      <a:lnTo>
                        <a:pt x="882" y="0"/>
                      </a:lnTo>
                      <a:lnTo>
                        <a:pt x="888" y="0"/>
                      </a:lnTo>
                      <a:lnTo>
                        <a:pt x="905" y="1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12077400">
                  <a:off x="7733880" y="5511240"/>
                  <a:ext cx="21600" cy="2520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68" y="66"/>
                      </a:moveTo>
                      <a:lnTo>
                        <a:pt x="37" y="84"/>
                      </a:lnTo>
                      <a:lnTo>
                        <a:pt x="10" y="57"/>
                      </a:lnTo>
                      <a:lnTo>
                        <a:pt x="0" y="8"/>
                      </a:lnTo>
                      <a:lnTo>
                        <a:pt x="31" y="0"/>
                      </a:lnTo>
                      <a:lnTo>
                        <a:pt x="60" y="3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2077400">
                  <a:off x="7765920" y="5491080"/>
                  <a:ext cx="68760" cy="58680"/>
                </a:xfrm>
                <a:custGeom>
                  <a:avLst/>
                  <a:gdLst/>
                  <a:ahLst/>
                  <a:rect l="l" t="t" r="r" b="b"/>
                  <a:pathLst>
                    <a:path w="212" h="184">
                      <a:moveTo>
                        <a:pt x="212" y="75"/>
                      </a:moveTo>
                      <a:lnTo>
                        <a:pt x="183" y="99"/>
                      </a:lnTo>
                      <a:lnTo>
                        <a:pt x="161" y="75"/>
                      </a:lnTo>
                      <a:lnTo>
                        <a:pt x="152" y="42"/>
                      </a:lnTo>
                      <a:lnTo>
                        <a:pt x="146" y="39"/>
                      </a:lnTo>
                      <a:lnTo>
                        <a:pt x="130" y="39"/>
                      </a:lnTo>
                      <a:lnTo>
                        <a:pt x="130" y="91"/>
                      </a:lnTo>
                      <a:lnTo>
                        <a:pt x="146" y="114"/>
                      </a:lnTo>
                      <a:lnTo>
                        <a:pt x="123" y="137"/>
                      </a:lnTo>
                      <a:lnTo>
                        <a:pt x="68" y="81"/>
                      </a:lnTo>
                      <a:lnTo>
                        <a:pt x="61" y="81"/>
                      </a:lnTo>
                      <a:lnTo>
                        <a:pt x="53" y="91"/>
                      </a:lnTo>
                      <a:lnTo>
                        <a:pt x="86" y="168"/>
                      </a:lnTo>
                      <a:lnTo>
                        <a:pt x="68" y="184"/>
                      </a:lnTo>
                      <a:lnTo>
                        <a:pt x="20" y="153"/>
                      </a:lnTo>
                      <a:lnTo>
                        <a:pt x="0" y="130"/>
                      </a:lnTo>
                      <a:lnTo>
                        <a:pt x="123" y="39"/>
                      </a:lnTo>
                      <a:lnTo>
                        <a:pt x="183" y="0"/>
                      </a:lnTo>
                      <a:lnTo>
                        <a:pt x="198" y="0"/>
                      </a:lnTo>
                      <a:lnTo>
                        <a:pt x="212" y="7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12077400">
                  <a:off x="8193240" y="5155200"/>
                  <a:ext cx="218160" cy="560160"/>
                </a:xfrm>
                <a:custGeom>
                  <a:avLst/>
                  <a:gdLst/>
                  <a:ahLst/>
                  <a:rect l="l" t="t" r="r" b="b"/>
                  <a:pathLst>
                    <a:path w="685" h="1749">
                      <a:moveTo>
                        <a:pt x="685" y="48"/>
                      </a:moveTo>
                      <a:lnTo>
                        <a:pt x="503" y="265"/>
                      </a:lnTo>
                      <a:lnTo>
                        <a:pt x="353" y="570"/>
                      </a:lnTo>
                      <a:lnTo>
                        <a:pt x="245" y="878"/>
                      </a:lnTo>
                      <a:lnTo>
                        <a:pt x="212" y="1229"/>
                      </a:lnTo>
                      <a:lnTo>
                        <a:pt x="229" y="1375"/>
                      </a:lnTo>
                      <a:lnTo>
                        <a:pt x="266" y="1505"/>
                      </a:lnTo>
                      <a:lnTo>
                        <a:pt x="336" y="1580"/>
                      </a:lnTo>
                      <a:lnTo>
                        <a:pt x="353" y="1679"/>
                      </a:lnTo>
                      <a:lnTo>
                        <a:pt x="134" y="1749"/>
                      </a:lnTo>
                      <a:lnTo>
                        <a:pt x="68" y="1572"/>
                      </a:lnTo>
                      <a:lnTo>
                        <a:pt x="0" y="1282"/>
                      </a:lnTo>
                      <a:lnTo>
                        <a:pt x="37" y="938"/>
                      </a:lnTo>
                      <a:lnTo>
                        <a:pt x="107" y="727"/>
                      </a:lnTo>
                      <a:lnTo>
                        <a:pt x="363" y="310"/>
                      </a:lnTo>
                      <a:lnTo>
                        <a:pt x="679" y="0"/>
                      </a:lnTo>
                      <a:lnTo>
                        <a:pt x="685" y="27"/>
                      </a:lnTo>
                      <a:lnTo>
                        <a:pt x="685" y="4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12077400">
                  <a:off x="7563240" y="5011920"/>
                  <a:ext cx="752400" cy="554760"/>
                </a:xfrm>
                <a:custGeom>
                  <a:avLst/>
                  <a:gdLst/>
                  <a:ahLst/>
                  <a:rect l="l" t="t" r="r" b="b"/>
                  <a:pathLst>
                    <a:path w="2353" h="1734">
                      <a:moveTo>
                        <a:pt x="2353" y="142"/>
                      </a:moveTo>
                      <a:lnTo>
                        <a:pt x="2353" y="206"/>
                      </a:lnTo>
                      <a:lnTo>
                        <a:pt x="891" y="1233"/>
                      </a:lnTo>
                      <a:lnTo>
                        <a:pt x="167" y="1734"/>
                      </a:lnTo>
                      <a:lnTo>
                        <a:pt x="86" y="1712"/>
                      </a:lnTo>
                      <a:lnTo>
                        <a:pt x="0" y="1602"/>
                      </a:lnTo>
                      <a:lnTo>
                        <a:pt x="0" y="1551"/>
                      </a:lnTo>
                      <a:lnTo>
                        <a:pt x="297" y="1348"/>
                      </a:lnTo>
                      <a:lnTo>
                        <a:pt x="726" y="1055"/>
                      </a:lnTo>
                      <a:lnTo>
                        <a:pt x="1424" y="572"/>
                      </a:lnTo>
                      <a:lnTo>
                        <a:pt x="2070" y="99"/>
                      </a:lnTo>
                      <a:lnTo>
                        <a:pt x="2215" y="0"/>
                      </a:lnTo>
                      <a:lnTo>
                        <a:pt x="2291" y="60"/>
                      </a:lnTo>
                      <a:lnTo>
                        <a:pt x="2353" y="14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12077400">
                  <a:off x="7221600" y="5262480"/>
                  <a:ext cx="43200" cy="30600"/>
                </a:xfrm>
                <a:custGeom>
                  <a:avLst/>
                  <a:gdLst/>
                  <a:ahLst/>
                  <a:rect l="l" t="t" r="r" b="b"/>
                  <a:pathLst>
                    <a:path w="136" h="93">
                      <a:moveTo>
                        <a:pt x="136" y="76"/>
                      </a:moveTo>
                      <a:lnTo>
                        <a:pt x="76" y="93"/>
                      </a:lnTo>
                      <a:lnTo>
                        <a:pt x="43" y="64"/>
                      </a:lnTo>
                      <a:lnTo>
                        <a:pt x="23" y="64"/>
                      </a:lnTo>
                      <a:lnTo>
                        <a:pt x="0" y="10"/>
                      </a:lnTo>
                      <a:lnTo>
                        <a:pt x="27" y="10"/>
                      </a:lnTo>
                      <a:lnTo>
                        <a:pt x="54" y="48"/>
                      </a:lnTo>
                      <a:lnTo>
                        <a:pt x="58" y="52"/>
                      </a:lnTo>
                      <a:lnTo>
                        <a:pt x="81" y="10"/>
                      </a:lnTo>
                      <a:lnTo>
                        <a:pt x="105" y="0"/>
                      </a:lnTo>
                      <a:lnTo>
                        <a:pt x="130" y="70"/>
                      </a:lnTo>
                      <a:lnTo>
                        <a:pt x="136" y="7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12077400">
                  <a:off x="7863480" y="5317200"/>
                  <a:ext cx="68760" cy="214560"/>
                </a:xfrm>
                <a:custGeom>
                  <a:avLst/>
                  <a:gdLst/>
                  <a:ahLst/>
                  <a:rect l="l" t="t" r="r" b="b"/>
                  <a:pathLst>
                    <a:path w="213" h="669">
                      <a:moveTo>
                        <a:pt x="196" y="97"/>
                      </a:moveTo>
                      <a:lnTo>
                        <a:pt x="171" y="97"/>
                      </a:lnTo>
                      <a:lnTo>
                        <a:pt x="161" y="74"/>
                      </a:lnTo>
                      <a:lnTo>
                        <a:pt x="147" y="58"/>
                      </a:lnTo>
                      <a:lnTo>
                        <a:pt x="130" y="58"/>
                      </a:lnTo>
                      <a:lnTo>
                        <a:pt x="114" y="74"/>
                      </a:lnTo>
                      <a:lnTo>
                        <a:pt x="161" y="151"/>
                      </a:lnTo>
                      <a:lnTo>
                        <a:pt x="114" y="140"/>
                      </a:lnTo>
                      <a:lnTo>
                        <a:pt x="83" y="120"/>
                      </a:lnTo>
                      <a:lnTo>
                        <a:pt x="62" y="136"/>
                      </a:lnTo>
                      <a:lnTo>
                        <a:pt x="130" y="196"/>
                      </a:lnTo>
                      <a:lnTo>
                        <a:pt x="114" y="227"/>
                      </a:lnTo>
                      <a:lnTo>
                        <a:pt x="83" y="212"/>
                      </a:lnTo>
                      <a:lnTo>
                        <a:pt x="62" y="212"/>
                      </a:lnTo>
                      <a:lnTo>
                        <a:pt x="47" y="227"/>
                      </a:lnTo>
                      <a:lnTo>
                        <a:pt x="83" y="254"/>
                      </a:lnTo>
                      <a:lnTo>
                        <a:pt x="93" y="250"/>
                      </a:lnTo>
                      <a:lnTo>
                        <a:pt x="114" y="272"/>
                      </a:lnTo>
                      <a:lnTo>
                        <a:pt x="107" y="287"/>
                      </a:lnTo>
                      <a:lnTo>
                        <a:pt x="93" y="303"/>
                      </a:lnTo>
                      <a:lnTo>
                        <a:pt x="39" y="287"/>
                      </a:lnTo>
                      <a:lnTo>
                        <a:pt x="23" y="303"/>
                      </a:lnTo>
                      <a:lnTo>
                        <a:pt x="33" y="326"/>
                      </a:lnTo>
                      <a:lnTo>
                        <a:pt x="83" y="349"/>
                      </a:lnTo>
                      <a:lnTo>
                        <a:pt x="8" y="369"/>
                      </a:lnTo>
                      <a:lnTo>
                        <a:pt x="8" y="386"/>
                      </a:lnTo>
                      <a:lnTo>
                        <a:pt x="33" y="402"/>
                      </a:lnTo>
                      <a:lnTo>
                        <a:pt x="56" y="392"/>
                      </a:lnTo>
                      <a:lnTo>
                        <a:pt x="78" y="392"/>
                      </a:lnTo>
                      <a:lnTo>
                        <a:pt x="83" y="417"/>
                      </a:lnTo>
                      <a:lnTo>
                        <a:pt x="83" y="440"/>
                      </a:lnTo>
                      <a:lnTo>
                        <a:pt x="39" y="446"/>
                      </a:lnTo>
                      <a:lnTo>
                        <a:pt x="15" y="446"/>
                      </a:lnTo>
                      <a:lnTo>
                        <a:pt x="8" y="456"/>
                      </a:lnTo>
                      <a:lnTo>
                        <a:pt x="8" y="468"/>
                      </a:lnTo>
                      <a:lnTo>
                        <a:pt x="33" y="483"/>
                      </a:lnTo>
                      <a:lnTo>
                        <a:pt x="83" y="479"/>
                      </a:lnTo>
                      <a:lnTo>
                        <a:pt x="93" y="499"/>
                      </a:lnTo>
                      <a:lnTo>
                        <a:pt x="93" y="522"/>
                      </a:lnTo>
                      <a:lnTo>
                        <a:pt x="33" y="545"/>
                      </a:lnTo>
                      <a:lnTo>
                        <a:pt x="23" y="555"/>
                      </a:lnTo>
                      <a:lnTo>
                        <a:pt x="23" y="570"/>
                      </a:lnTo>
                      <a:lnTo>
                        <a:pt x="83" y="570"/>
                      </a:lnTo>
                      <a:lnTo>
                        <a:pt x="99" y="555"/>
                      </a:lnTo>
                      <a:lnTo>
                        <a:pt x="114" y="594"/>
                      </a:lnTo>
                      <a:lnTo>
                        <a:pt x="114" y="621"/>
                      </a:lnTo>
                      <a:lnTo>
                        <a:pt x="39" y="669"/>
                      </a:lnTo>
                      <a:lnTo>
                        <a:pt x="0" y="417"/>
                      </a:lnTo>
                      <a:lnTo>
                        <a:pt x="39" y="173"/>
                      </a:lnTo>
                      <a:lnTo>
                        <a:pt x="122" y="25"/>
                      </a:lnTo>
                      <a:lnTo>
                        <a:pt x="153" y="0"/>
                      </a:lnTo>
                      <a:lnTo>
                        <a:pt x="213" y="74"/>
                      </a:lnTo>
                      <a:lnTo>
                        <a:pt x="196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12077400">
                  <a:off x="7929360" y="5342040"/>
                  <a:ext cx="19080" cy="864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60" y="15"/>
                      </a:moveTo>
                      <a:lnTo>
                        <a:pt x="15" y="27"/>
                      </a:lnTo>
                      <a:lnTo>
                        <a:pt x="0" y="27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6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12077400">
                  <a:off x="7972920" y="5184000"/>
                  <a:ext cx="34200" cy="35640"/>
                </a:xfrm>
                <a:custGeom>
                  <a:avLst/>
                  <a:gdLst/>
                  <a:ahLst/>
                  <a:rect l="l" t="t" r="r" b="b"/>
                  <a:pathLst>
                    <a:path w="108" h="114">
                      <a:moveTo>
                        <a:pt x="17" y="50"/>
                      </a:moveTo>
                      <a:lnTo>
                        <a:pt x="8" y="58"/>
                      </a:lnTo>
                      <a:lnTo>
                        <a:pt x="23" y="74"/>
                      </a:lnTo>
                      <a:lnTo>
                        <a:pt x="83" y="66"/>
                      </a:lnTo>
                      <a:lnTo>
                        <a:pt x="91" y="66"/>
                      </a:lnTo>
                      <a:lnTo>
                        <a:pt x="91" y="114"/>
                      </a:lnTo>
                      <a:lnTo>
                        <a:pt x="0" y="114"/>
                      </a:lnTo>
                      <a:lnTo>
                        <a:pt x="0" y="43"/>
                      </a:lnTo>
                      <a:lnTo>
                        <a:pt x="83" y="0"/>
                      </a:lnTo>
                      <a:lnTo>
                        <a:pt x="108" y="21"/>
                      </a:lnTo>
                      <a:lnTo>
                        <a:pt x="17" y="5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12077400">
                  <a:off x="8007840" y="5052240"/>
                  <a:ext cx="282240" cy="177480"/>
                </a:xfrm>
                <a:custGeom>
                  <a:avLst/>
                  <a:gdLst/>
                  <a:ahLst/>
                  <a:rect l="l" t="t" r="r" b="b"/>
                  <a:pathLst>
                    <a:path w="883" h="556">
                      <a:moveTo>
                        <a:pt x="883" y="44"/>
                      </a:moveTo>
                      <a:lnTo>
                        <a:pt x="784" y="52"/>
                      </a:lnTo>
                      <a:lnTo>
                        <a:pt x="792" y="68"/>
                      </a:lnTo>
                      <a:lnTo>
                        <a:pt x="867" y="93"/>
                      </a:lnTo>
                      <a:lnTo>
                        <a:pt x="875" y="83"/>
                      </a:lnTo>
                      <a:lnTo>
                        <a:pt x="875" y="120"/>
                      </a:lnTo>
                      <a:lnTo>
                        <a:pt x="784" y="132"/>
                      </a:lnTo>
                      <a:lnTo>
                        <a:pt x="778" y="136"/>
                      </a:lnTo>
                      <a:lnTo>
                        <a:pt x="778" y="141"/>
                      </a:lnTo>
                      <a:lnTo>
                        <a:pt x="792" y="159"/>
                      </a:lnTo>
                      <a:lnTo>
                        <a:pt x="867" y="159"/>
                      </a:lnTo>
                      <a:lnTo>
                        <a:pt x="823" y="296"/>
                      </a:lnTo>
                      <a:lnTo>
                        <a:pt x="737" y="265"/>
                      </a:lnTo>
                      <a:lnTo>
                        <a:pt x="724" y="281"/>
                      </a:lnTo>
                      <a:lnTo>
                        <a:pt x="778" y="320"/>
                      </a:lnTo>
                      <a:lnTo>
                        <a:pt x="801" y="320"/>
                      </a:lnTo>
                      <a:lnTo>
                        <a:pt x="778" y="347"/>
                      </a:lnTo>
                      <a:lnTo>
                        <a:pt x="753" y="370"/>
                      </a:lnTo>
                      <a:lnTo>
                        <a:pt x="702" y="331"/>
                      </a:lnTo>
                      <a:lnTo>
                        <a:pt x="687" y="331"/>
                      </a:lnTo>
                      <a:lnTo>
                        <a:pt x="677" y="343"/>
                      </a:lnTo>
                      <a:lnTo>
                        <a:pt x="724" y="395"/>
                      </a:lnTo>
                      <a:lnTo>
                        <a:pt x="724" y="411"/>
                      </a:lnTo>
                      <a:lnTo>
                        <a:pt x="693" y="426"/>
                      </a:lnTo>
                      <a:lnTo>
                        <a:pt x="631" y="388"/>
                      </a:lnTo>
                      <a:lnTo>
                        <a:pt x="615" y="388"/>
                      </a:lnTo>
                      <a:lnTo>
                        <a:pt x="611" y="395"/>
                      </a:lnTo>
                      <a:lnTo>
                        <a:pt x="664" y="457"/>
                      </a:lnTo>
                      <a:lnTo>
                        <a:pt x="611" y="485"/>
                      </a:lnTo>
                      <a:lnTo>
                        <a:pt x="572" y="419"/>
                      </a:lnTo>
                      <a:lnTo>
                        <a:pt x="563" y="411"/>
                      </a:lnTo>
                      <a:lnTo>
                        <a:pt x="555" y="411"/>
                      </a:lnTo>
                      <a:lnTo>
                        <a:pt x="539" y="426"/>
                      </a:lnTo>
                      <a:lnTo>
                        <a:pt x="572" y="502"/>
                      </a:lnTo>
                      <a:lnTo>
                        <a:pt x="524" y="518"/>
                      </a:lnTo>
                      <a:lnTo>
                        <a:pt x="479" y="457"/>
                      </a:lnTo>
                      <a:lnTo>
                        <a:pt x="464" y="473"/>
                      </a:lnTo>
                      <a:lnTo>
                        <a:pt x="479" y="533"/>
                      </a:lnTo>
                      <a:lnTo>
                        <a:pt x="442" y="533"/>
                      </a:lnTo>
                      <a:lnTo>
                        <a:pt x="419" y="494"/>
                      </a:lnTo>
                      <a:lnTo>
                        <a:pt x="409" y="485"/>
                      </a:lnTo>
                      <a:lnTo>
                        <a:pt x="396" y="494"/>
                      </a:lnTo>
                      <a:lnTo>
                        <a:pt x="402" y="539"/>
                      </a:lnTo>
                      <a:lnTo>
                        <a:pt x="349" y="549"/>
                      </a:lnTo>
                      <a:lnTo>
                        <a:pt x="344" y="479"/>
                      </a:lnTo>
                      <a:lnTo>
                        <a:pt x="328" y="461"/>
                      </a:lnTo>
                      <a:lnTo>
                        <a:pt x="311" y="479"/>
                      </a:lnTo>
                      <a:lnTo>
                        <a:pt x="320" y="549"/>
                      </a:lnTo>
                      <a:lnTo>
                        <a:pt x="287" y="556"/>
                      </a:lnTo>
                      <a:lnTo>
                        <a:pt x="268" y="556"/>
                      </a:lnTo>
                      <a:lnTo>
                        <a:pt x="250" y="479"/>
                      </a:lnTo>
                      <a:lnTo>
                        <a:pt x="245" y="473"/>
                      </a:lnTo>
                      <a:lnTo>
                        <a:pt x="229" y="485"/>
                      </a:lnTo>
                      <a:lnTo>
                        <a:pt x="235" y="549"/>
                      </a:lnTo>
                      <a:lnTo>
                        <a:pt x="173" y="533"/>
                      </a:lnTo>
                      <a:lnTo>
                        <a:pt x="167" y="473"/>
                      </a:lnTo>
                      <a:lnTo>
                        <a:pt x="153" y="457"/>
                      </a:lnTo>
                      <a:lnTo>
                        <a:pt x="138" y="461"/>
                      </a:lnTo>
                      <a:lnTo>
                        <a:pt x="142" y="533"/>
                      </a:lnTo>
                      <a:lnTo>
                        <a:pt x="76" y="518"/>
                      </a:lnTo>
                      <a:lnTo>
                        <a:pt x="66" y="461"/>
                      </a:lnTo>
                      <a:lnTo>
                        <a:pt x="66" y="446"/>
                      </a:lnTo>
                      <a:lnTo>
                        <a:pt x="60" y="442"/>
                      </a:lnTo>
                      <a:lnTo>
                        <a:pt x="43" y="442"/>
                      </a:lnTo>
                      <a:lnTo>
                        <a:pt x="39" y="510"/>
                      </a:lnTo>
                      <a:lnTo>
                        <a:pt x="16" y="502"/>
                      </a:lnTo>
                      <a:lnTo>
                        <a:pt x="0" y="461"/>
                      </a:lnTo>
                      <a:lnTo>
                        <a:pt x="53" y="411"/>
                      </a:lnTo>
                      <a:lnTo>
                        <a:pt x="367" y="461"/>
                      </a:lnTo>
                      <a:lnTo>
                        <a:pt x="534" y="419"/>
                      </a:lnTo>
                      <a:lnTo>
                        <a:pt x="677" y="312"/>
                      </a:lnTo>
                      <a:lnTo>
                        <a:pt x="745" y="182"/>
                      </a:lnTo>
                      <a:lnTo>
                        <a:pt x="768" y="0"/>
                      </a:lnTo>
                      <a:lnTo>
                        <a:pt x="883" y="17"/>
                      </a:lnTo>
                      <a:lnTo>
                        <a:pt x="883" y="44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12077400">
                  <a:off x="7699320" y="4901400"/>
                  <a:ext cx="261720" cy="156960"/>
                </a:xfrm>
                <a:custGeom>
                  <a:avLst/>
                  <a:gdLst/>
                  <a:ahLst/>
                  <a:rect l="l" t="t" r="r" b="b"/>
                  <a:pathLst>
                    <a:path w="820" h="491">
                      <a:moveTo>
                        <a:pt x="455" y="491"/>
                      </a:moveTo>
                      <a:lnTo>
                        <a:pt x="128" y="419"/>
                      </a:lnTo>
                      <a:lnTo>
                        <a:pt x="0" y="384"/>
                      </a:lnTo>
                      <a:lnTo>
                        <a:pt x="211" y="320"/>
                      </a:lnTo>
                      <a:lnTo>
                        <a:pt x="789" y="26"/>
                      </a:lnTo>
                      <a:lnTo>
                        <a:pt x="820" y="0"/>
                      </a:lnTo>
                      <a:lnTo>
                        <a:pt x="546" y="384"/>
                      </a:lnTo>
                      <a:lnTo>
                        <a:pt x="455" y="49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12077400">
                  <a:off x="7718040" y="4743360"/>
                  <a:ext cx="118800" cy="286200"/>
                </a:xfrm>
                <a:custGeom>
                  <a:avLst/>
                  <a:gdLst/>
                  <a:ahLst/>
                  <a:rect l="l" t="t" r="r" b="b"/>
                  <a:pathLst>
                    <a:path w="375" h="898">
                      <a:moveTo>
                        <a:pt x="70" y="898"/>
                      </a:moveTo>
                      <a:lnTo>
                        <a:pt x="28" y="588"/>
                      </a:lnTo>
                      <a:lnTo>
                        <a:pt x="0" y="524"/>
                      </a:lnTo>
                      <a:lnTo>
                        <a:pt x="33" y="448"/>
                      </a:lnTo>
                      <a:lnTo>
                        <a:pt x="268" y="145"/>
                      </a:lnTo>
                      <a:lnTo>
                        <a:pt x="375" y="0"/>
                      </a:lnTo>
                      <a:lnTo>
                        <a:pt x="115" y="791"/>
                      </a:lnTo>
                      <a:lnTo>
                        <a:pt x="70" y="89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12077400">
                  <a:off x="8021160" y="511308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60" y="31"/>
                      </a:moveTo>
                      <a:lnTo>
                        <a:pt x="14" y="31"/>
                      </a:lnTo>
                      <a:lnTo>
                        <a:pt x="0" y="0"/>
                      </a:lnTo>
                      <a:lnTo>
                        <a:pt x="66" y="21"/>
                      </a:lnTo>
                      <a:lnTo>
                        <a:pt x="6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rot="12077400">
                  <a:off x="8566920" y="5240520"/>
                  <a:ext cx="238680" cy="84240"/>
                </a:xfrm>
                <a:custGeom>
                  <a:avLst/>
                  <a:gdLst/>
                  <a:ahLst/>
                  <a:rect l="l" t="t" r="r" b="b"/>
                  <a:pathLst>
                    <a:path w="747" h="266">
                      <a:moveTo>
                        <a:pt x="723" y="60"/>
                      </a:moveTo>
                      <a:lnTo>
                        <a:pt x="747" y="114"/>
                      </a:lnTo>
                      <a:lnTo>
                        <a:pt x="723" y="114"/>
                      </a:lnTo>
                      <a:lnTo>
                        <a:pt x="718" y="68"/>
                      </a:lnTo>
                      <a:lnTo>
                        <a:pt x="708" y="60"/>
                      </a:lnTo>
                      <a:lnTo>
                        <a:pt x="692" y="76"/>
                      </a:lnTo>
                      <a:lnTo>
                        <a:pt x="692" y="114"/>
                      </a:lnTo>
                      <a:lnTo>
                        <a:pt x="654" y="103"/>
                      </a:lnTo>
                      <a:lnTo>
                        <a:pt x="665" y="37"/>
                      </a:lnTo>
                      <a:lnTo>
                        <a:pt x="648" y="21"/>
                      </a:lnTo>
                      <a:lnTo>
                        <a:pt x="626" y="45"/>
                      </a:lnTo>
                      <a:lnTo>
                        <a:pt x="617" y="103"/>
                      </a:lnTo>
                      <a:lnTo>
                        <a:pt x="603" y="99"/>
                      </a:lnTo>
                      <a:lnTo>
                        <a:pt x="578" y="99"/>
                      </a:lnTo>
                      <a:lnTo>
                        <a:pt x="555" y="21"/>
                      </a:lnTo>
                      <a:lnTo>
                        <a:pt x="533" y="52"/>
                      </a:lnTo>
                      <a:lnTo>
                        <a:pt x="539" y="83"/>
                      </a:lnTo>
                      <a:lnTo>
                        <a:pt x="551" y="91"/>
                      </a:lnTo>
                      <a:lnTo>
                        <a:pt x="502" y="103"/>
                      </a:lnTo>
                      <a:lnTo>
                        <a:pt x="463" y="37"/>
                      </a:lnTo>
                      <a:lnTo>
                        <a:pt x="450" y="52"/>
                      </a:lnTo>
                      <a:lnTo>
                        <a:pt x="450" y="91"/>
                      </a:lnTo>
                      <a:lnTo>
                        <a:pt x="421" y="118"/>
                      </a:lnTo>
                      <a:lnTo>
                        <a:pt x="365" y="83"/>
                      </a:lnTo>
                      <a:lnTo>
                        <a:pt x="365" y="136"/>
                      </a:lnTo>
                      <a:lnTo>
                        <a:pt x="322" y="159"/>
                      </a:lnTo>
                      <a:lnTo>
                        <a:pt x="306" y="159"/>
                      </a:lnTo>
                      <a:lnTo>
                        <a:pt x="299" y="114"/>
                      </a:lnTo>
                      <a:lnTo>
                        <a:pt x="283" y="99"/>
                      </a:lnTo>
                      <a:lnTo>
                        <a:pt x="268" y="103"/>
                      </a:lnTo>
                      <a:lnTo>
                        <a:pt x="273" y="159"/>
                      </a:lnTo>
                      <a:lnTo>
                        <a:pt x="283" y="167"/>
                      </a:lnTo>
                      <a:lnTo>
                        <a:pt x="244" y="182"/>
                      </a:lnTo>
                      <a:lnTo>
                        <a:pt x="184" y="130"/>
                      </a:lnTo>
                      <a:lnTo>
                        <a:pt x="175" y="142"/>
                      </a:lnTo>
                      <a:lnTo>
                        <a:pt x="196" y="190"/>
                      </a:lnTo>
                      <a:lnTo>
                        <a:pt x="169" y="206"/>
                      </a:lnTo>
                      <a:lnTo>
                        <a:pt x="145" y="206"/>
                      </a:lnTo>
                      <a:lnTo>
                        <a:pt x="120" y="159"/>
                      </a:lnTo>
                      <a:lnTo>
                        <a:pt x="114" y="151"/>
                      </a:lnTo>
                      <a:lnTo>
                        <a:pt x="97" y="151"/>
                      </a:lnTo>
                      <a:lnTo>
                        <a:pt x="107" y="206"/>
                      </a:lnTo>
                      <a:lnTo>
                        <a:pt x="114" y="213"/>
                      </a:lnTo>
                      <a:lnTo>
                        <a:pt x="97" y="233"/>
                      </a:lnTo>
                      <a:lnTo>
                        <a:pt x="81" y="250"/>
                      </a:lnTo>
                      <a:lnTo>
                        <a:pt x="39" y="182"/>
                      </a:lnTo>
                      <a:lnTo>
                        <a:pt x="23" y="196"/>
                      </a:lnTo>
                      <a:lnTo>
                        <a:pt x="47" y="266"/>
                      </a:lnTo>
                      <a:lnTo>
                        <a:pt x="0" y="266"/>
                      </a:lnTo>
                      <a:lnTo>
                        <a:pt x="15" y="159"/>
                      </a:lnTo>
                      <a:lnTo>
                        <a:pt x="23" y="136"/>
                      </a:lnTo>
                      <a:lnTo>
                        <a:pt x="268" y="103"/>
                      </a:lnTo>
                      <a:lnTo>
                        <a:pt x="463" y="16"/>
                      </a:lnTo>
                      <a:lnTo>
                        <a:pt x="533" y="0"/>
                      </a:lnTo>
                      <a:lnTo>
                        <a:pt x="679" y="16"/>
                      </a:lnTo>
                      <a:lnTo>
                        <a:pt x="723" y="6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rot="12077400">
                  <a:off x="7874640" y="4937400"/>
                  <a:ext cx="623160" cy="156960"/>
                </a:xfrm>
                <a:custGeom>
                  <a:avLst/>
                  <a:gdLst/>
                  <a:ahLst/>
                  <a:rect l="l" t="t" r="r" b="b"/>
                  <a:pathLst>
                    <a:path w="1947" h="489">
                      <a:moveTo>
                        <a:pt x="320" y="83"/>
                      </a:moveTo>
                      <a:lnTo>
                        <a:pt x="382" y="91"/>
                      </a:lnTo>
                      <a:lnTo>
                        <a:pt x="601" y="221"/>
                      </a:lnTo>
                      <a:lnTo>
                        <a:pt x="801" y="310"/>
                      </a:lnTo>
                      <a:lnTo>
                        <a:pt x="1208" y="386"/>
                      </a:lnTo>
                      <a:lnTo>
                        <a:pt x="1470" y="386"/>
                      </a:lnTo>
                      <a:lnTo>
                        <a:pt x="1730" y="335"/>
                      </a:lnTo>
                      <a:lnTo>
                        <a:pt x="1908" y="248"/>
                      </a:lnTo>
                      <a:lnTo>
                        <a:pt x="1947" y="260"/>
                      </a:lnTo>
                      <a:lnTo>
                        <a:pt x="1893" y="310"/>
                      </a:lnTo>
                      <a:lnTo>
                        <a:pt x="1730" y="386"/>
                      </a:lnTo>
                      <a:lnTo>
                        <a:pt x="1470" y="461"/>
                      </a:lnTo>
                      <a:lnTo>
                        <a:pt x="1111" y="489"/>
                      </a:lnTo>
                      <a:lnTo>
                        <a:pt x="807" y="425"/>
                      </a:lnTo>
                      <a:lnTo>
                        <a:pt x="539" y="347"/>
                      </a:lnTo>
                      <a:lnTo>
                        <a:pt x="448" y="304"/>
                      </a:lnTo>
                      <a:lnTo>
                        <a:pt x="205" y="211"/>
                      </a:lnTo>
                      <a:lnTo>
                        <a:pt x="0" y="60"/>
                      </a:lnTo>
                      <a:lnTo>
                        <a:pt x="153" y="0"/>
                      </a:lnTo>
                      <a:lnTo>
                        <a:pt x="213" y="4"/>
                      </a:lnTo>
                      <a:lnTo>
                        <a:pt x="320" y="8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rot="12077400">
                  <a:off x="8825400" y="533628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21" y="24"/>
                      </a:move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21" y="12"/>
                      </a:lnTo>
                      <a:lnTo>
                        <a:pt x="2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12077400">
                  <a:off x="8309880" y="512964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21"/>
                      </a:moveTo>
                      <a:lnTo>
                        <a:pt x="8" y="0"/>
                      </a:lnTo>
                      <a:lnTo>
                        <a:pt x="24" y="29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12077400">
                  <a:off x="7862760" y="4905360"/>
                  <a:ext cx="726840" cy="174960"/>
                </a:xfrm>
                <a:custGeom>
                  <a:avLst/>
                  <a:gdLst/>
                  <a:ahLst/>
                  <a:rect l="l" t="t" r="r" b="b"/>
                  <a:pathLst>
                    <a:path w="2271" h="547">
                      <a:moveTo>
                        <a:pt x="772" y="291"/>
                      </a:moveTo>
                      <a:lnTo>
                        <a:pt x="791" y="313"/>
                      </a:lnTo>
                      <a:lnTo>
                        <a:pt x="1264" y="433"/>
                      </a:lnTo>
                      <a:lnTo>
                        <a:pt x="1600" y="433"/>
                      </a:lnTo>
                      <a:lnTo>
                        <a:pt x="1842" y="390"/>
                      </a:lnTo>
                      <a:lnTo>
                        <a:pt x="2145" y="264"/>
                      </a:lnTo>
                      <a:lnTo>
                        <a:pt x="2238" y="221"/>
                      </a:lnTo>
                      <a:lnTo>
                        <a:pt x="2255" y="227"/>
                      </a:lnTo>
                      <a:lnTo>
                        <a:pt x="2271" y="243"/>
                      </a:lnTo>
                      <a:lnTo>
                        <a:pt x="2259" y="295"/>
                      </a:lnTo>
                      <a:lnTo>
                        <a:pt x="2042" y="406"/>
                      </a:lnTo>
                      <a:lnTo>
                        <a:pt x="1586" y="541"/>
                      </a:lnTo>
                      <a:lnTo>
                        <a:pt x="1287" y="547"/>
                      </a:lnTo>
                      <a:lnTo>
                        <a:pt x="686" y="466"/>
                      </a:lnTo>
                      <a:lnTo>
                        <a:pt x="0" y="260"/>
                      </a:lnTo>
                      <a:lnTo>
                        <a:pt x="137" y="123"/>
                      </a:lnTo>
                      <a:lnTo>
                        <a:pt x="221" y="0"/>
                      </a:lnTo>
                      <a:lnTo>
                        <a:pt x="481" y="177"/>
                      </a:lnTo>
                      <a:lnTo>
                        <a:pt x="772" y="29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rot="12077400">
                  <a:off x="7890480" y="4925880"/>
                  <a:ext cx="74160" cy="21600"/>
                </a:xfrm>
                <a:custGeom>
                  <a:avLst/>
                  <a:gdLst/>
                  <a:ahLst/>
                  <a:rect l="l" t="t" r="r" b="b"/>
                  <a:pathLst>
                    <a:path w="232" h="66">
                      <a:moveTo>
                        <a:pt x="151" y="66"/>
                      </a:moveTo>
                      <a:lnTo>
                        <a:pt x="0" y="0"/>
                      </a:lnTo>
                      <a:lnTo>
                        <a:pt x="232" y="51"/>
                      </a:lnTo>
                      <a:lnTo>
                        <a:pt x="151" y="6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rot="12077400">
                  <a:off x="7853400" y="4791240"/>
                  <a:ext cx="57240" cy="114840"/>
                </a:xfrm>
                <a:custGeom>
                  <a:avLst/>
                  <a:gdLst/>
                  <a:ahLst/>
                  <a:rect l="l" t="t" r="r" b="b"/>
                  <a:pathLst>
                    <a:path w="180" h="358">
                      <a:moveTo>
                        <a:pt x="164" y="190"/>
                      </a:moveTo>
                      <a:lnTo>
                        <a:pt x="180" y="358"/>
                      </a:lnTo>
                      <a:lnTo>
                        <a:pt x="89" y="195"/>
                      </a:lnTo>
                      <a:lnTo>
                        <a:pt x="120" y="180"/>
                      </a:lnTo>
                      <a:lnTo>
                        <a:pt x="99" y="98"/>
                      </a:lnTo>
                      <a:lnTo>
                        <a:pt x="0" y="0"/>
                      </a:lnTo>
                      <a:lnTo>
                        <a:pt x="114" y="38"/>
                      </a:lnTo>
                      <a:lnTo>
                        <a:pt x="164" y="19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rot="12077400">
                  <a:off x="7569720" y="5010840"/>
                  <a:ext cx="735840" cy="534240"/>
                </a:xfrm>
                <a:custGeom>
                  <a:avLst/>
                  <a:gdLst/>
                  <a:ahLst/>
                  <a:rect l="l" t="t" r="r" b="b"/>
                  <a:pathLst>
                    <a:path w="2302" h="1668">
                      <a:moveTo>
                        <a:pt x="2302" y="146"/>
                      </a:moveTo>
                      <a:lnTo>
                        <a:pt x="128" y="1668"/>
                      </a:lnTo>
                      <a:lnTo>
                        <a:pt x="35" y="1647"/>
                      </a:lnTo>
                      <a:lnTo>
                        <a:pt x="0" y="1612"/>
                      </a:lnTo>
                      <a:lnTo>
                        <a:pt x="2236" y="0"/>
                      </a:lnTo>
                      <a:lnTo>
                        <a:pt x="2302" y="72"/>
                      </a:lnTo>
                      <a:lnTo>
                        <a:pt x="2302" y="14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rot="12077400">
                  <a:off x="8199720" y="5172480"/>
                  <a:ext cx="146880" cy="110880"/>
                </a:xfrm>
                <a:custGeom>
                  <a:avLst/>
                  <a:gdLst/>
                  <a:ahLst/>
                  <a:rect l="l" t="t" r="r" b="b"/>
                  <a:pathLst>
                    <a:path w="460" h="347">
                      <a:moveTo>
                        <a:pt x="0" y="297"/>
                      </a:moveTo>
                      <a:lnTo>
                        <a:pt x="337" y="70"/>
                      </a:lnTo>
                      <a:lnTo>
                        <a:pt x="429" y="0"/>
                      </a:lnTo>
                      <a:lnTo>
                        <a:pt x="460" y="0"/>
                      </a:lnTo>
                      <a:lnTo>
                        <a:pt x="19" y="347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rot="12077400">
                  <a:off x="8053200" y="5732280"/>
                  <a:ext cx="72720" cy="17640"/>
                </a:xfrm>
                <a:custGeom>
                  <a:avLst/>
                  <a:gdLst/>
                  <a:ahLst/>
                  <a:rect l="l" t="t" r="r" b="b"/>
                  <a:pathLst>
                    <a:path w="227" h="56">
                      <a:moveTo>
                        <a:pt x="93" y="56"/>
                      </a:moveTo>
                      <a:lnTo>
                        <a:pt x="0" y="15"/>
                      </a:lnTo>
                      <a:lnTo>
                        <a:pt x="227" y="0"/>
                      </a:lnTo>
                      <a:lnTo>
                        <a:pt x="93" y="56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rot="12077400">
                  <a:off x="7852320" y="4952160"/>
                  <a:ext cx="71280" cy="39600"/>
                </a:xfrm>
                <a:custGeom>
                  <a:avLst/>
                  <a:gdLst/>
                  <a:ahLst/>
                  <a:rect l="l" t="t" r="r" b="b"/>
                  <a:pathLst>
                    <a:path w="225" h="122">
                      <a:moveTo>
                        <a:pt x="87" y="122"/>
                      </a:moveTo>
                      <a:lnTo>
                        <a:pt x="0" y="103"/>
                      </a:lnTo>
                      <a:lnTo>
                        <a:pt x="225" y="0"/>
                      </a:lnTo>
                      <a:lnTo>
                        <a:pt x="87" y="12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rot="12077400">
                  <a:off x="7119360" y="5391720"/>
                  <a:ext cx="135360" cy="125280"/>
                </a:xfrm>
                <a:custGeom>
                  <a:avLst/>
                  <a:gdLst/>
                  <a:ahLst/>
                  <a:rect l="l" t="t" r="r" b="b"/>
                  <a:pathLst>
                    <a:path w="424" h="394">
                      <a:moveTo>
                        <a:pt x="66" y="394"/>
                      </a:moveTo>
                      <a:lnTo>
                        <a:pt x="0" y="277"/>
                      </a:lnTo>
                      <a:lnTo>
                        <a:pt x="384" y="0"/>
                      </a:lnTo>
                      <a:lnTo>
                        <a:pt x="424" y="50"/>
                      </a:lnTo>
                      <a:lnTo>
                        <a:pt x="409" y="134"/>
                      </a:lnTo>
                      <a:lnTo>
                        <a:pt x="66" y="394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12077400">
                  <a:off x="7008840" y="55731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209" h="238">
                      <a:moveTo>
                        <a:pt x="0" y="227"/>
                      </a:moveTo>
                      <a:lnTo>
                        <a:pt x="25" y="153"/>
                      </a:lnTo>
                      <a:lnTo>
                        <a:pt x="87" y="52"/>
                      </a:lnTo>
                      <a:lnTo>
                        <a:pt x="161" y="0"/>
                      </a:lnTo>
                      <a:lnTo>
                        <a:pt x="209" y="0"/>
                      </a:lnTo>
                      <a:lnTo>
                        <a:pt x="139" y="77"/>
                      </a:lnTo>
                      <a:lnTo>
                        <a:pt x="87" y="143"/>
                      </a:lnTo>
                      <a:lnTo>
                        <a:pt x="66" y="238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12077400">
                  <a:off x="6912360" y="5377680"/>
                  <a:ext cx="91800" cy="66600"/>
                </a:xfrm>
                <a:custGeom>
                  <a:avLst/>
                  <a:gdLst/>
                  <a:ahLst/>
                  <a:rect l="l" t="t" r="r" b="b"/>
                  <a:pathLst>
                    <a:path w="289" h="212">
                      <a:moveTo>
                        <a:pt x="25" y="212"/>
                      </a:moveTo>
                      <a:lnTo>
                        <a:pt x="0" y="182"/>
                      </a:lnTo>
                      <a:lnTo>
                        <a:pt x="132" y="153"/>
                      </a:lnTo>
                      <a:lnTo>
                        <a:pt x="219" y="82"/>
                      </a:lnTo>
                      <a:lnTo>
                        <a:pt x="274" y="0"/>
                      </a:lnTo>
                      <a:lnTo>
                        <a:pt x="289" y="33"/>
                      </a:lnTo>
                      <a:lnTo>
                        <a:pt x="248" y="103"/>
                      </a:lnTo>
                      <a:lnTo>
                        <a:pt x="150" y="190"/>
                      </a:lnTo>
                      <a:lnTo>
                        <a:pt x="25" y="2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12077400">
                  <a:off x="8473320" y="5228280"/>
                  <a:ext cx="43200" cy="252000"/>
                </a:xfrm>
                <a:custGeom>
                  <a:avLst/>
                  <a:gdLst/>
                  <a:ahLst/>
                  <a:rect l="l" t="t" r="r" b="b"/>
                  <a:pathLst>
                    <a:path w="132" h="786">
                      <a:moveTo>
                        <a:pt x="132" y="704"/>
                      </a:moveTo>
                      <a:lnTo>
                        <a:pt x="72" y="786"/>
                      </a:lnTo>
                      <a:lnTo>
                        <a:pt x="12" y="541"/>
                      </a:lnTo>
                      <a:lnTo>
                        <a:pt x="0" y="348"/>
                      </a:lnTo>
                      <a:lnTo>
                        <a:pt x="30" y="144"/>
                      </a:lnTo>
                      <a:lnTo>
                        <a:pt x="92" y="0"/>
                      </a:lnTo>
                      <a:lnTo>
                        <a:pt x="92" y="103"/>
                      </a:lnTo>
                      <a:lnTo>
                        <a:pt x="72" y="297"/>
                      </a:lnTo>
                      <a:lnTo>
                        <a:pt x="72" y="429"/>
                      </a:lnTo>
                      <a:lnTo>
                        <a:pt x="92" y="571"/>
                      </a:lnTo>
                      <a:lnTo>
                        <a:pt x="132" y="70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12077400">
                  <a:off x="7239960" y="5235480"/>
                  <a:ext cx="260640" cy="334800"/>
                </a:xfrm>
                <a:custGeom>
                  <a:avLst/>
                  <a:gdLst/>
                  <a:ahLst/>
                  <a:rect l="l" t="t" r="r" b="b"/>
                  <a:pathLst>
                    <a:path w="810" h="1043">
                      <a:moveTo>
                        <a:pt x="0" y="0"/>
                      </a:moveTo>
                      <a:lnTo>
                        <a:pt x="143" y="397"/>
                      </a:lnTo>
                      <a:lnTo>
                        <a:pt x="197" y="593"/>
                      </a:lnTo>
                      <a:lnTo>
                        <a:pt x="486" y="830"/>
                      </a:lnTo>
                      <a:lnTo>
                        <a:pt x="810" y="1043"/>
                      </a:lnTo>
                      <a:lnTo>
                        <a:pt x="486" y="667"/>
                      </a:lnTo>
                      <a:lnTo>
                        <a:pt x="341" y="558"/>
                      </a:lnTo>
                      <a:lnTo>
                        <a:pt x="250" y="269"/>
                      </a:lnTo>
                      <a:lnTo>
                        <a:pt x="180" y="1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9" name=""/>
              <p:cNvSpPr/>
              <p:nvPr/>
            </p:nvSpPr>
            <p:spPr>
              <a:xfrm rot="14953800">
                <a:off x="3124080" y="2752560"/>
                <a:ext cx="5790960" cy="152280"/>
              </a:xfrm>
              <a:custGeom>
                <a:avLst/>
                <a:gdLst>
                  <a:gd name="textAreaLeft" fmla="*/ 1158120 w 5790960"/>
                  <a:gd name="textAreaRight" fmla="*/ 4632840 w 5790960"/>
                  <a:gd name="textAreaTop" fmla="*/ 31320 h 152280"/>
                  <a:gd name="textAreaBottom" fmla="*/ 12096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229"/>
                    </a:moveTo>
                    <a:cubicBezTo>
                      <a:pt x="1440" y="-5667"/>
                      <a:pt x="7200" y="10125"/>
                      <a:pt x="8640" y="2229"/>
                    </a:cubicBezTo>
                    <a:cubicBezTo>
                      <a:pt x="10080" y="-5667"/>
                      <a:pt x="15840" y="10125"/>
                      <a:pt x="17280" y="2229"/>
                    </a:cubicBezTo>
                    <a:lnTo>
                      <a:pt x="21600" y="19371"/>
                    </a:lnTo>
                    <a:cubicBezTo>
                      <a:pt x="20160" y="27267"/>
                      <a:pt x="14400" y="11475"/>
                      <a:pt x="12960" y="19371"/>
                    </a:cubicBezTo>
                    <a:cubicBezTo>
                      <a:pt x="11520" y="27267"/>
                      <a:pt x="5760" y="11475"/>
                      <a:pt x="4320" y="19371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-380880" y="-776160"/>
              <a:ext cx="6006600" cy="1569960"/>
              <a:chOff x="-380880" y="-776160"/>
              <a:chExt cx="6006600" cy="1569960"/>
            </a:xfrm>
          </p:grpSpPr>
          <p:sp>
            <p:nvSpPr>
              <p:cNvPr id="881" name=""/>
              <p:cNvSpPr/>
              <p:nvPr/>
            </p:nvSpPr>
            <p:spPr>
              <a:xfrm>
                <a:off x="-380880" y="9720"/>
                <a:ext cx="5486040" cy="304920"/>
              </a:xfrm>
              <a:custGeom>
                <a:avLst/>
                <a:gdLst>
                  <a:gd name="textAreaLeft" fmla="*/ 648000 w 5486040"/>
                  <a:gd name="textAreaRight" fmla="*/ 4838040 w 5486040"/>
                  <a:gd name="textAreaTop" fmla="*/ 36000 h 304920"/>
                  <a:gd name="textAreaBottom" fmla="*/ 2689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56" y="21600"/>
                    </a:lnTo>
                    <a:lnTo>
                      <a:pt x="1444" y="216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2" name=""/>
              <p:cNvGrpSpPr/>
              <p:nvPr/>
            </p:nvGrpSpPr>
            <p:grpSpPr>
              <a:xfrm>
                <a:off x="4876560" y="-776160"/>
                <a:ext cx="749160" cy="1569960"/>
                <a:chOff x="4876560" y="-776160"/>
                <a:chExt cx="749160" cy="15699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5422320" y="528120"/>
                  <a:ext cx="88200" cy="127800"/>
                </a:xfrm>
                <a:custGeom>
                  <a:avLst/>
                  <a:gdLst/>
                  <a:ahLst/>
                  <a:rect l="l" t="t" r="r" b="b"/>
                  <a:pathLst>
                    <a:path w="314" h="457">
                      <a:moveTo>
                        <a:pt x="235" y="0"/>
                      </a:moveTo>
                      <a:lnTo>
                        <a:pt x="0" y="9"/>
                      </a:lnTo>
                      <a:lnTo>
                        <a:pt x="64" y="457"/>
                      </a:lnTo>
                      <a:lnTo>
                        <a:pt x="314" y="432"/>
                      </a:lnTo>
                      <a:lnTo>
                        <a:pt x="23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876560" y="-776160"/>
                  <a:ext cx="749160" cy="1569960"/>
                </a:xfrm>
                <a:custGeom>
                  <a:avLst/>
                  <a:gdLst/>
                  <a:ahLst/>
                  <a:rect l="l" t="t" r="r" b="b"/>
                  <a:pathLst>
                    <a:path w="2680" h="5614">
                      <a:moveTo>
                        <a:pt x="136" y="1867"/>
                      </a:moveTo>
                      <a:lnTo>
                        <a:pt x="128" y="1865"/>
                      </a:lnTo>
                      <a:lnTo>
                        <a:pt x="114" y="1865"/>
                      </a:lnTo>
                      <a:lnTo>
                        <a:pt x="103" y="1865"/>
                      </a:lnTo>
                      <a:lnTo>
                        <a:pt x="93" y="1865"/>
                      </a:lnTo>
                      <a:lnTo>
                        <a:pt x="81" y="1865"/>
                      </a:lnTo>
                      <a:lnTo>
                        <a:pt x="70" y="1869"/>
                      </a:lnTo>
                      <a:lnTo>
                        <a:pt x="56" y="1871"/>
                      </a:lnTo>
                      <a:lnTo>
                        <a:pt x="45" y="1875"/>
                      </a:lnTo>
                      <a:lnTo>
                        <a:pt x="33" y="1881"/>
                      </a:lnTo>
                      <a:lnTo>
                        <a:pt x="25" y="1889"/>
                      </a:lnTo>
                      <a:lnTo>
                        <a:pt x="16" y="1897"/>
                      </a:lnTo>
                      <a:lnTo>
                        <a:pt x="10" y="1908"/>
                      </a:lnTo>
                      <a:lnTo>
                        <a:pt x="4" y="1920"/>
                      </a:lnTo>
                      <a:lnTo>
                        <a:pt x="4" y="1937"/>
                      </a:lnTo>
                      <a:lnTo>
                        <a:pt x="2" y="1957"/>
                      </a:lnTo>
                      <a:lnTo>
                        <a:pt x="0" y="1978"/>
                      </a:lnTo>
                      <a:lnTo>
                        <a:pt x="0" y="1988"/>
                      </a:lnTo>
                      <a:lnTo>
                        <a:pt x="0" y="1999"/>
                      </a:lnTo>
                      <a:lnTo>
                        <a:pt x="0" y="2011"/>
                      </a:lnTo>
                      <a:lnTo>
                        <a:pt x="0" y="2023"/>
                      </a:lnTo>
                      <a:lnTo>
                        <a:pt x="0" y="2042"/>
                      </a:lnTo>
                      <a:lnTo>
                        <a:pt x="4" y="2063"/>
                      </a:lnTo>
                      <a:lnTo>
                        <a:pt x="8" y="2083"/>
                      </a:lnTo>
                      <a:lnTo>
                        <a:pt x="14" y="2104"/>
                      </a:lnTo>
                      <a:lnTo>
                        <a:pt x="19" y="2121"/>
                      </a:lnTo>
                      <a:lnTo>
                        <a:pt x="27" y="2139"/>
                      </a:lnTo>
                      <a:lnTo>
                        <a:pt x="37" y="2152"/>
                      </a:lnTo>
                      <a:lnTo>
                        <a:pt x="50" y="2168"/>
                      </a:lnTo>
                      <a:lnTo>
                        <a:pt x="64" y="2180"/>
                      </a:lnTo>
                      <a:lnTo>
                        <a:pt x="81" y="2191"/>
                      </a:lnTo>
                      <a:lnTo>
                        <a:pt x="91" y="2195"/>
                      </a:lnTo>
                      <a:lnTo>
                        <a:pt x="101" y="2201"/>
                      </a:lnTo>
                      <a:lnTo>
                        <a:pt x="112" y="2205"/>
                      </a:lnTo>
                      <a:lnTo>
                        <a:pt x="124" y="2209"/>
                      </a:lnTo>
                      <a:lnTo>
                        <a:pt x="142" y="2211"/>
                      </a:lnTo>
                      <a:lnTo>
                        <a:pt x="159" y="2215"/>
                      </a:lnTo>
                      <a:lnTo>
                        <a:pt x="176" y="2216"/>
                      </a:lnTo>
                      <a:lnTo>
                        <a:pt x="196" y="2218"/>
                      </a:lnTo>
                      <a:lnTo>
                        <a:pt x="215" y="2218"/>
                      </a:lnTo>
                      <a:lnTo>
                        <a:pt x="235" y="2220"/>
                      </a:lnTo>
                      <a:lnTo>
                        <a:pt x="254" y="2220"/>
                      </a:lnTo>
                      <a:lnTo>
                        <a:pt x="275" y="2222"/>
                      </a:lnTo>
                      <a:lnTo>
                        <a:pt x="295" y="2220"/>
                      </a:lnTo>
                      <a:lnTo>
                        <a:pt x="314" y="2220"/>
                      </a:lnTo>
                      <a:lnTo>
                        <a:pt x="334" y="2220"/>
                      </a:lnTo>
                      <a:lnTo>
                        <a:pt x="355" y="2220"/>
                      </a:lnTo>
                      <a:lnTo>
                        <a:pt x="372" y="2220"/>
                      </a:lnTo>
                      <a:lnTo>
                        <a:pt x="394" y="2220"/>
                      </a:lnTo>
                      <a:lnTo>
                        <a:pt x="411" y="2220"/>
                      </a:lnTo>
                      <a:lnTo>
                        <a:pt x="432" y="2220"/>
                      </a:lnTo>
                      <a:lnTo>
                        <a:pt x="450" y="2220"/>
                      </a:lnTo>
                      <a:lnTo>
                        <a:pt x="467" y="2220"/>
                      </a:lnTo>
                      <a:lnTo>
                        <a:pt x="485" y="2220"/>
                      </a:lnTo>
                      <a:lnTo>
                        <a:pt x="502" y="2220"/>
                      </a:lnTo>
                      <a:lnTo>
                        <a:pt x="518" y="2220"/>
                      </a:lnTo>
                      <a:lnTo>
                        <a:pt x="533" y="2222"/>
                      </a:lnTo>
                      <a:lnTo>
                        <a:pt x="549" y="2224"/>
                      </a:lnTo>
                      <a:lnTo>
                        <a:pt x="564" y="2228"/>
                      </a:lnTo>
                      <a:lnTo>
                        <a:pt x="576" y="2230"/>
                      </a:lnTo>
                      <a:lnTo>
                        <a:pt x="590" y="2234"/>
                      </a:lnTo>
                      <a:lnTo>
                        <a:pt x="601" y="2240"/>
                      </a:lnTo>
                      <a:lnTo>
                        <a:pt x="613" y="2246"/>
                      </a:lnTo>
                      <a:lnTo>
                        <a:pt x="623" y="2251"/>
                      </a:lnTo>
                      <a:lnTo>
                        <a:pt x="632" y="2259"/>
                      </a:lnTo>
                      <a:lnTo>
                        <a:pt x="640" y="2267"/>
                      </a:lnTo>
                      <a:lnTo>
                        <a:pt x="650" y="2279"/>
                      </a:lnTo>
                      <a:lnTo>
                        <a:pt x="654" y="2294"/>
                      </a:lnTo>
                      <a:lnTo>
                        <a:pt x="648" y="2306"/>
                      </a:lnTo>
                      <a:lnTo>
                        <a:pt x="640" y="2310"/>
                      </a:lnTo>
                      <a:lnTo>
                        <a:pt x="630" y="2313"/>
                      </a:lnTo>
                      <a:lnTo>
                        <a:pt x="619" y="2315"/>
                      </a:lnTo>
                      <a:lnTo>
                        <a:pt x="607" y="2319"/>
                      </a:lnTo>
                      <a:lnTo>
                        <a:pt x="590" y="2319"/>
                      </a:lnTo>
                      <a:lnTo>
                        <a:pt x="572" y="2321"/>
                      </a:lnTo>
                      <a:lnTo>
                        <a:pt x="553" y="2321"/>
                      </a:lnTo>
                      <a:lnTo>
                        <a:pt x="533" y="2323"/>
                      </a:lnTo>
                      <a:lnTo>
                        <a:pt x="522" y="2323"/>
                      </a:lnTo>
                      <a:lnTo>
                        <a:pt x="510" y="2323"/>
                      </a:lnTo>
                      <a:lnTo>
                        <a:pt x="498" y="2323"/>
                      </a:lnTo>
                      <a:lnTo>
                        <a:pt x="489" y="2323"/>
                      </a:lnTo>
                      <a:lnTo>
                        <a:pt x="477" y="2323"/>
                      </a:lnTo>
                      <a:lnTo>
                        <a:pt x="465" y="2323"/>
                      </a:lnTo>
                      <a:lnTo>
                        <a:pt x="454" y="2323"/>
                      </a:lnTo>
                      <a:lnTo>
                        <a:pt x="444" y="2323"/>
                      </a:lnTo>
                      <a:lnTo>
                        <a:pt x="431" y="2321"/>
                      </a:lnTo>
                      <a:lnTo>
                        <a:pt x="417" y="2321"/>
                      </a:lnTo>
                      <a:lnTo>
                        <a:pt x="405" y="2321"/>
                      </a:lnTo>
                      <a:lnTo>
                        <a:pt x="394" y="2321"/>
                      </a:lnTo>
                      <a:lnTo>
                        <a:pt x="380" y="2321"/>
                      </a:lnTo>
                      <a:lnTo>
                        <a:pt x="367" y="2321"/>
                      </a:lnTo>
                      <a:lnTo>
                        <a:pt x="355" y="2321"/>
                      </a:lnTo>
                      <a:lnTo>
                        <a:pt x="343" y="2323"/>
                      </a:lnTo>
                      <a:lnTo>
                        <a:pt x="330" y="2323"/>
                      </a:lnTo>
                      <a:lnTo>
                        <a:pt x="318" y="2323"/>
                      </a:lnTo>
                      <a:lnTo>
                        <a:pt x="304" y="2323"/>
                      </a:lnTo>
                      <a:lnTo>
                        <a:pt x="293" y="2325"/>
                      </a:lnTo>
                      <a:lnTo>
                        <a:pt x="281" y="2325"/>
                      </a:lnTo>
                      <a:lnTo>
                        <a:pt x="270" y="2327"/>
                      </a:lnTo>
                      <a:lnTo>
                        <a:pt x="258" y="2329"/>
                      </a:lnTo>
                      <a:lnTo>
                        <a:pt x="246" y="2333"/>
                      </a:lnTo>
                      <a:lnTo>
                        <a:pt x="235" y="2333"/>
                      </a:lnTo>
                      <a:lnTo>
                        <a:pt x="223" y="2337"/>
                      </a:lnTo>
                      <a:lnTo>
                        <a:pt x="211" y="2339"/>
                      </a:lnTo>
                      <a:lnTo>
                        <a:pt x="202" y="2343"/>
                      </a:lnTo>
                      <a:lnTo>
                        <a:pt x="182" y="2348"/>
                      </a:lnTo>
                      <a:lnTo>
                        <a:pt x="165" y="2356"/>
                      </a:lnTo>
                      <a:lnTo>
                        <a:pt x="147" y="2364"/>
                      </a:lnTo>
                      <a:lnTo>
                        <a:pt x="132" y="2376"/>
                      </a:lnTo>
                      <a:lnTo>
                        <a:pt x="118" y="2387"/>
                      </a:lnTo>
                      <a:lnTo>
                        <a:pt x="109" y="2403"/>
                      </a:lnTo>
                      <a:lnTo>
                        <a:pt x="97" y="2414"/>
                      </a:lnTo>
                      <a:lnTo>
                        <a:pt x="87" y="2430"/>
                      </a:lnTo>
                      <a:lnTo>
                        <a:pt x="80" y="2441"/>
                      </a:lnTo>
                      <a:lnTo>
                        <a:pt x="74" y="2457"/>
                      </a:lnTo>
                      <a:lnTo>
                        <a:pt x="68" y="2469"/>
                      </a:lnTo>
                      <a:lnTo>
                        <a:pt x="62" y="2482"/>
                      </a:lnTo>
                      <a:lnTo>
                        <a:pt x="58" y="2496"/>
                      </a:lnTo>
                      <a:lnTo>
                        <a:pt x="56" y="2509"/>
                      </a:lnTo>
                      <a:lnTo>
                        <a:pt x="52" y="2521"/>
                      </a:lnTo>
                      <a:lnTo>
                        <a:pt x="50" y="2533"/>
                      </a:lnTo>
                      <a:lnTo>
                        <a:pt x="50" y="2544"/>
                      </a:lnTo>
                      <a:lnTo>
                        <a:pt x="50" y="2556"/>
                      </a:lnTo>
                      <a:lnTo>
                        <a:pt x="50" y="2566"/>
                      </a:lnTo>
                      <a:lnTo>
                        <a:pt x="50" y="2577"/>
                      </a:lnTo>
                      <a:lnTo>
                        <a:pt x="52" y="2589"/>
                      </a:lnTo>
                      <a:lnTo>
                        <a:pt x="56" y="2600"/>
                      </a:lnTo>
                      <a:lnTo>
                        <a:pt x="62" y="2616"/>
                      </a:lnTo>
                      <a:lnTo>
                        <a:pt x="72" y="2633"/>
                      </a:lnTo>
                      <a:lnTo>
                        <a:pt x="81" y="2645"/>
                      </a:lnTo>
                      <a:lnTo>
                        <a:pt x="93" y="2659"/>
                      </a:lnTo>
                      <a:lnTo>
                        <a:pt x="105" y="2666"/>
                      </a:lnTo>
                      <a:lnTo>
                        <a:pt x="120" y="2674"/>
                      </a:lnTo>
                      <a:lnTo>
                        <a:pt x="134" y="2676"/>
                      </a:lnTo>
                      <a:lnTo>
                        <a:pt x="151" y="2678"/>
                      </a:lnTo>
                      <a:lnTo>
                        <a:pt x="163" y="2672"/>
                      </a:lnTo>
                      <a:lnTo>
                        <a:pt x="173" y="2666"/>
                      </a:lnTo>
                      <a:lnTo>
                        <a:pt x="176" y="2657"/>
                      </a:lnTo>
                      <a:lnTo>
                        <a:pt x="182" y="2649"/>
                      </a:lnTo>
                      <a:lnTo>
                        <a:pt x="184" y="2635"/>
                      </a:lnTo>
                      <a:lnTo>
                        <a:pt x="186" y="2622"/>
                      </a:lnTo>
                      <a:lnTo>
                        <a:pt x="186" y="2608"/>
                      </a:lnTo>
                      <a:lnTo>
                        <a:pt x="190" y="2597"/>
                      </a:lnTo>
                      <a:lnTo>
                        <a:pt x="190" y="2581"/>
                      </a:lnTo>
                      <a:lnTo>
                        <a:pt x="196" y="2567"/>
                      </a:lnTo>
                      <a:lnTo>
                        <a:pt x="202" y="2556"/>
                      </a:lnTo>
                      <a:lnTo>
                        <a:pt x="213" y="2544"/>
                      </a:lnTo>
                      <a:lnTo>
                        <a:pt x="219" y="2538"/>
                      </a:lnTo>
                      <a:lnTo>
                        <a:pt x="227" y="2533"/>
                      </a:lnTo>
                      <a:lnTo>
                        <a:pt x="235" y="2529"/>
                      </a:lnTo>
                      <a:lnTo>
                        <a:pt x="246" y="2527"/>
                      </a:lnTo>
                      <a:lnTo>
                        <a:pt x="258" y="2523"/>
                      </a:lnTo>
                      <a:lnTo>
                        <a:pt x="271" y="2521"/>
                      </a:lnTo>
                      <a:lnTo>
                        <a:pt x="287" y="2521"/>
                      </a:lnTo>
                      <a:lnTo>
                        <a:pt x="304" y="2521"/>
                      </a:lnTo>
                      <a:lnTo>
                        <a:pt x="314" y="2523"/>
                      </a:lnTo>
                      <a:lnTo>
                        <a:pt x="326" y="2535"/>
                      </a:lnTo>
                      <a:lnTo>
                        <a:pt x="330" y="2540"/>
                      </a:lnTo>
                      <a:lnTo>
                        <a:pt x="334" y="2552"/>
                      </a:lnTo>
                      <a:lnTo>
                        <a:pt x="337" y="2562"/>
                      </a:lnTo>
                      <a:lnTo>
                        <a:pt x="341" y="2575"/>
                      </a:lnTo>
                      <a:lnTo>
                        <a:pt x="343" y="2587"/>
                      </a:lnTo>
                      <a:lnTo>
                        <a:pt x="347" y="2604"/>
                      </a:lnTo>
                      <a:lnTo>
                        <a:pt x="349" y="2622"/>
                      </a:lnTo>
                      <a:lnTo>
                        <a:pt x="353" y="2643"/>
                      </a:lnTo>
                      <a:lnTo>
                        <a:pt x="353" y="2651"/>
                      </a:lnTo>
                      <a:lnTo>
                        <a:pt x="355" y="2661"/>
                      </a:lnTo>
                      <a:lnTo>
                        <a:pt x="355" y="2672"/>
                      </a:lnTo>
                      <a:lnTo>
                        <a:pt x="357" y="2684"/>
                      </a:lnTo>
                      <a:lnTo>
                        <a:pt x="357" y="2695"/>
                      </a:lnTo>
                      <a:lnTo>
                        <a:pt x="359" y="2707"/>
                      </a:lnTo>
                      <a:lnTo>
                        <a:pt x="361" y="2721"/>
                      </a:lnTo>
                      <a:lnTo>
                        <a:pt x="363" y="2734"/>
                      </a:lnTo>
                      <a:lnTo>
                        <a:pt x="363" y="2746"/>
                      </a:lnTo>
                      <a:lnTo>
                        <a:pt x="363" y="2758"/>
                      </a:lnTo>
                      <a:lnTo>
                        <a:pt x="363" y="2771"/>
                      </a:lnTo>
                      <a:lnTo>
                        <a:pt x="365" y="2787"/>
                      </a:lnTo>
                      <a:lnTo>
                        <a:pt x="365" y="2800"/>
                      </a:lnTo>
                      <a:lnTo>
                        <a:pt x="365" y="2816"/>
                      </a:lnTo>
                      <a:lnTo>
                        <a:pt x="365" y="2829"/>
                      </a:lnTo>
                      <a:lnTo>
                        <a:pt x="367" y="2847"/>
                      </a:lnTo>
                      <a:lnTo>
                        <a:pt x="367" y="2860"/>
                      </a:lnTo>
                      <a:lnTo>
                        <a:pt x="367" y="2876"/>
                      </a:lnTo>
                      <a:lnTo>
                        <a:pt x="367" y="2893"/>
                      </a:lnTo>
                      <a:lnTo>
                        <a:pt x="368" y="2911"/>
                      </a:lnTo>
                      <a:lnTo>
                        <a:pt x="368" y="2926"/>
                      </a:lnTo>
                      <a:lnTo>
                        <a:pt x="370" y="2944"/>
                      </a:lnTo>
                      <a:lnTo>
                        <a:pt x="370" y="2961"/>
                      </a:lnTo>
                      <a:lnTo>
                        <a:pt x="372" y="2981"/>
                      </a:lnTo>
                      <a:lnTo>
                        <a:pt x="372" y="2998"/>
                      </a:lnTo>
                      <a:lnTo>
                        <a:pt x="372" y="3015"/>
                      </a:lnTo>
                      <a:lnTo>
                        <a:pt x="372" y="3035"/>
                      </a:lnTo>
                      <a:lnTo>
                        <a:pt x="374" y="3054"/>
                      </a:lnTo>
                      <a:lnTo>
                        <a:pt x="374" y="3072"/>
                      </a:lnTo>
                      <a:lnTo>
                        <a:pt x="376" y="3093"/>
                      </a:lnTo>
                      <a:lnTo>
                        <a:pt x="376" y="3112"/>
                      </a:lnTo>
                      <a:lnTo>
                        <a:pt x="378" y="3134"/>
                      </a:lnTo>
                      <a:lnTo>
                        <a:pt x="378" y="3153"/>
                      </a:lnTo>
                      <a:lnTo>
                        <a:pt x="378" y="3174"/>
                      </a:lnTo>
                      <a:lnTo>
                        <a:pt x="378" y="3194"/>
                      </a:lnTo>
                      <a:lnTo>
                        <a:pt x="380" y="3215"/>
                      </a:lnTo>
                      <a:lnTo>
                        <a:pt x="380" y="3237"/>
                      </a:lnTo>
                      <a:lnTo>
                        <a:pt x="382" y="3258"/>
                      </a:lnTo>
                      <a:lnTo>
                        <a:pt x="384" y="3281"/>
                      </a:lnTo>
                      <a:lnTo>
                        <a:pt x="386" y="3304"/>
                      </a:lnTo>
                      <a:lnTo>
                        <a:pt x="386" y="3324"/>
                      </a:lnTo>
                      <a:lnTo>
                        <a:pt x="386" y="3345"/>
                      </a:lnTo>
                      <a:lnTo>
                        <a:pt x="388" y="3365"/>
                      </a:lnTo>
                      <a:lnTo>
                        <a:pt x="390" y="3386"/>
                      </a:lnTo>
                      <a:lnTo>
                        <a:pt x="392" y="3403"/>
                      </a:lnTo>
                      <a:lnTo>
                        <a:pt x="396" y="3423"/>
                      </a:lnTo>
                      <a:lnTo>
                        <a:pt x="398" y="3440"/>
                      </a:lnTo>
                      <a:lnTo>
                        <a:pt x="401" y="3460"/>
                      </a:lnTo>
                      <a:lnTo>
                        <a:pt x="403" y="3475"/>
                      </a:lnTo>
                      <a:lnTo>
                        <a:pt x="407" y="3491"/>
                      </a:lnTo>
                      <a:lnTo>
                        <a:pt x="409" y="3506"/>
                      </a:lnTo>
                      <a:lnTo>
                        <a:pt x="413" y="3522"/>
                      </a:lnTo>
                      <a:lnTo>
                        <a:pt x="417" y="3535"/>
                      </a:lnTo>
                      <a:lnTo>
                        <a:pt x="421" y="3549"/>
                      </a:lnTo>
                      <a:lnTo>
                        <a:pt x="425" y="3562"/>
                      </a:lnTo>
                      <a:lnTo>
                        <a:pt x="431" y="3576"/>
                      </a:lnTo>
                      <a:lnTo>
                        <a:pt x="434" y="3586"/>
                      </a:lnTo>
                      <a:lnTo>
                        <a:pt x="438" y="3597"/>
                      </a:lnTo>
                      <a:lnTo>
                        <a:pt x="442" y="3609"/>
                      </a:lnTo>
                      <a:lnTo>
                        <a:pt x="448" y="3621"/>
                      </a:lnTo>
                      <a:lnTo>
                        <a:pt x="458" y="3638"/>
                      </a:lnTo>
                      <a:lnTo>
                        <a:pt x="469" y="3657"/>
                      </a:lnTo>
                      <a:lnTo>
                        <a:pt x="479" y="3673"/>
                      </a:lnTo>
                      <a:lnTo>
                        <a:pt x="491" y="3688"/>
                      </a:lnTo>
                      <a:lnTo>
                        <a:pt x="504" y="3700"/>
                      </a:lnTo>
                      <a:lnTo>
                        <a:pt x="518" y="3714"/>
                      </a:lnTo>
                      <a:lnTo>
                        <a:pt x="529" y="3721"/>
                      </a:lnTo>
                      <a:lnTo>
                        <a:pt x="543" y="3731"/>
                      </a:lnTo>
                      <a:lnTo>
                        <a:pt x="557" y="3737"/>
                      </a:lnTo>
                      <a:lnTo>
                        <a:pt x="570" y="3743"/>
                      </a:lnTo>
                      <a:lnTo>
                        <a:pt x="584" y="3747"/>
                      </a:lnTo>
                      <a:lnTo>
                        <a:pt x="599" y="3750"/>
                      </a:lnTo>
                      <a:lnTo>
                        <a:pt x="613" y="3754"/>
                      </a:lnTo>
                      <a:lnTo>
                        <a:pt x="628" y="3758"/>
                      </a:lnTo>
                      <a:lnTo>
                        <a:pt x="640" y="3758"/>
                      </a:lnTo>
                      <a:lnTo>
                        <a:pt x="655" y="3758"/>
                      </a:lnTo>
                      <a:lnTo>
                        <a:pt x="667" y="3758"/>
                      </a:lnTo>
                      <a:lnTo>
                        <a:pt x="683" y="3760"/>
                      </a:lnTo>
                      <a:lnTo>
                        <a:pt x="696" y="3758"/>
                      </a:lnTo>
                      <a:lnTo>
                        <a:pt x="710" y="3758"/>
                      </a:lnTo>
                      <a:lnTo>
                        <a:pt x="723" y="3756"/>
                      </a:lnTo>
                      <a:lnTo>
                        <a:pt x="739" y="3756"/>
                      </a:lnTo>
                      <a:lnTo>
                        <a:pt x="749" y="3754"/>
                      </a:lnTo>
                      <a:lnTo>
                        <a:pt x="760" y="3752"/>
                      </a:lnTo>
                      <a:lnTo>
                        <a:pt x="770" y="3750"/>
                      </a:lnTo>
                      <a:lnTo>
                        <a:pt x="782" y="3750"/>
                      </a:lnTo>
                      <a:lnTo>
                        <a:pt x="791" y="3750"/>
                      </a:lnTo>
                      <a:lnTo>
                        <a:pt x="803" y="3750"/>
                      </a:lnTo>
                      <a:lnTo>
                        <a:pt x="813" y="3750"/>
                      </a:lnTo>
                      <a:lnTo>
                        <a:pt x="824" y="3750"/>
                      </a:lnTo>
                      <a:lnTo>
                        <a:pt x="844" y="3750"/>
                      </a:lnTo>
                      <a:lnTo>
                        <a:pt x="863" y="3750"/>
                      </a:lnTo>
                      <a:lnTo>
                        <a:pt x="880" y="3752"/>
                      </a:lnTo>
                      <a:lnTo>
                        <a:pt x="898" y="3756"/>
                      </a:lnTo>
                      <a:lnTo>
                        <a:pt x="911" y="3758"/>
                      </a:lnTo>
                      <a:lnTo>
                        <a:pt x="925" y="3762"/>
                      </a:lnTo>
                      <a:lnTo>
                        <a:pt x="937" y="3768"/>
                      </a:lnTo>
                      <a:lnTo>
                        <a:pt x="948" y="3776"/>
                      </a:lnTo>
                      <a:lnTo>
                        <a:pt x="956" y="3781"/>
                      </a:lnTo>
                      <a:lnTo>
                        <a:pt x="962" y="3793"/>
                      </a:lnTo>
                      <a:lnTo>
                        <a:pt x="964" y="3803"/>
                      </a:lnTo>
                      <a:lnTo>
                        <a:pt x="966" y="3816"/>
                      </a:lnTo>
                      <a:lnTo>
                        <a:pt x="962" y="3830"/>
                      </a:lnTo>
                      <a:lnTo>
                        <a:pt x="962" y="3849"/>
                      </a:lnTo>
                      <a:lnTo>
                        <a:pt x="962" y="3861"/>
                      </a:lnTo>
                      <a:lnTo>
                        <a:pt x="962" y="3873"/>
                      </a:lnTo>
                      <a:lnTo>
                        <a:pt x="962" y="3884"/>
                      </a:lnTo>
                      <a:lnTo>
                        <a:pt x="964" y="3900"/>
                      </a:lnTo>
                      <a:lnTo>
                        <a:pt x="964" y="3913"/>
                      </a:lnTo>
                      <a:lnTo>
                        <a:pt x="964" y="3929"/>
                      </a:lnTo>
                      <a:lnTo>
                        <a:pt x="964" y="3944"/>
                      </a:lnTo>
                      <a:lnTo>
                        <a:pt x="966" y="3962"/>
                      </a:lnTo>
                      <a:lnTo>
                        <a:pt x="966" y="3979"/>
                      </a:lnTo>
                      <a:lnTo>
                        <a:pt x="968" y="3997"/>
                      </a:lnTo>
                      <a:lnTo>
                        <a:pt x="970" y="4016"/>
                      </a:lnTo>
                      <a:lnTo>
                        <a:pt x="974" y="4037"/>
                      </a:lnTo>
                      <a:lnTo>
                        <a:pt x="974" y="4055"/>
                      </a:lnTo>
                      <a:lnTo>
                        <a:pt x="975" y="4076"/>
                      </a:lnTo>
                      <a:lnTo>
                        <a:pt x="977" y="4096"/>
                      </a:lnTo>
                      <a:lnTo>
                        <a:pt x="979" y="4119"/>
                      </a:lnTo>
                      <a:lnTo>
                        <a:pt x="981" y="4140"/>
                      </a:lnTo>
                      <a:lnTo>
                        <a:pt x="985" y="4162"/>
                      </a:lnTo>
                      <a:lnTo>
                        <a:pt x="987" y="4185"/>
                      </a:lnTo>
                      <a:lnTo>
                        <a:pt x="991" y="4208"/>
                      </a:lnTo>
                      <a:lnTo>
                        <a:pt x="993" y="4231"/>
                      </a:lnTo>
                      <a:lnTo>
                        <a:pt x="997" y="4255"/>
                      </a:lnTo>
                      <a:lnTo>
                        <a:pt x="999" y="4278"/>
                      </a:lnTo>
                      <a:lnTo>
                        <a:pt x="1003" y="4301"/>
                      </a:lnTo>
                      <a:lnTo>
                        <a:pt x="1005" y="4324"/>
                      </a:lnTo>
                      <a:lnTo>
                        <a:pt x="1010" y="4350"/>
                      </a:lnTo>
                      <a:lnTo>
                        <a:pt x="1012" y="4373"/>
                      </a:lnTo>
                      <a:lnTo>
                        <a:pt x="1018" y="4398"/>
                      </a:lnTo>
                      <a:lnTo>
                        <a:pt x="1020" y="4421"/>
                      </a:lnTo>
                      <a:lnTo>
                        <a:pt x="1024" y="4445"/>
                      </a:lnTo>
                      <a:lnTo>
                        <a:pt x="1026" y="4468"/>
                      </a:lnTo>
                      <a:lnTo>
                        <a:pt x="1030" y="4491"/>
                      </a:lnTo>
                      <a:lnTo>
                        <a:pt x="1032" y="4514"/>
                      </a:lnTo>
                      <a:lnTo>
                        <a:pt x="1038" y="4538"/>
                      </a:lnTo>
                      <a:lnTo>
                        <a:pt x="1039" y="4561"/>
                      </a:lnTo>
                      <a:lnTo>
                        <a:pt x="1045" y="4584"/>
                      </a:lnTo>
                      <a:lnTo>
                        <a:pt x="1047" y="4606"/>
                      </a:lnTo>
                      <a:lnTo>
                        <a:pt x="1053" y="4629"/>
                      </a:lnTo>
                      <a:lnTo>
                        <a:pt x="1055" y="4650"/>
                      </a:lnTo>
                      <a:lnTo>
                        <a:pt x="1061" y="4672"/>
                      </a:lnTo>
                      <a:lnTo>
                        <a:pt x="1065" y="4691"/>
                      </a:lnTo>
                      <a:lnTo>
                        <a:pt x="1069" y="4712"/>
                      </a:lnTo>
                      <a:lnTo>
                        <a:pt x="1072" y="4734"/>
                      </a:lnTo>
                      <a:lnTo>
                        <a:pt x="1078" y="4755"/>
                      </a:lnTo>
                      <a:lnTo>
                        <a:pt x="1080" y="4772"/>
                      </a:lnTo>
                      <a:lnTo>
                        <a:pt x="1084" y="4792"/>
                      </a:lnTo>
                      <a:lnTo>
                        <a:pt x="1088" y="4809"/>
                      </a:lnTo>
                      <a:lnTo>
                        <a:pt x="1094" y="4827"/>
                      </a:lnTo>
                      <a:lnTo>
                        <a:pt x="1096" y="4842"/>
                      </a:lnTo>
                      <a:lnTo>
                        <a:pt x="1100" y="4858"/>
                      </a:lnTo>
                      <a:lnTo>
                        <a:pt x="1103" y="4873"/>
                      </a:lnTo>
                      <a:lnTo>
                        <a:pt x="1109" y="4889"/>
                      </a:lnTo>
                      <a:lnTo>
                        <a:pt x="1111" y="4900"/>
                      </a:lnTo>
                      <a:lnTo>
                        <a:pt x="1115" y="4912"/>
                      </a:lnTo>
                      <a:lnTo>
                        <a:pt x="1119" y="4924"/>
                      </a:lnTo>
                      <a:lnTo>
                        <a:pt x="1123" y="4935"/>
                      </a:lnTo>
                      <a:lnTo>
                        <a:pt x="1131" y="4953"/>
                      </a:lnTo>
                      <a:lnTo>
                        <a:pt x="1138" y="4968"/>
                      </a:lnTo>
                      <a:lnTo>
                        <a:pt x="1144" y="4978"/>
                      </a:lnTo>
                      <a:lnTo>
                        <a:pt x="1156" y="4993"/>
                      </a:lnTo>
                      <a:lnTo>
                        <a:pt x="1167" y="5009"/>
                      </a:lnTo>
                      <a:lnTo>
                        <a:pt x="1185" y="5028"/>
                      </a:lnTo>
                      <a:lnTo>
                        <a:pt x="1193" y="5036"/>
                      </a:lnTo>
                      <a:lnTo>
                        <a:pt x="1202" y="5046"/>
                      </a:lnTo>
                      <a:lnTo>
                        <a:pt x="1212" y="5057"/>
                      </a:lnTo>
                      <a:lnTo>
                        <a:pt x="1224" y="5069"/>
                      </a:lnTo>
                      <a:lnTo>
                        <a:pt x="1233" y="5079"/>
                      </a:lnTo>
                      <a:lnTo>
                        <a:pt x="1245" y="5090"/>
                      </a:lnTo>
                      <a:lnTo>
                        <a:pt x="1257" y="5102"/>
                      </a:lnTo>
                      <a:lnTo>
                        <a:pt x="1270" y="5116"/>
                      </a:lnTo>
                      <a:lnTo>
                        <a:pt x="1282" y="5127"/>
                      </a:lnTo>
                      <a:lnTo>
                        <a:pt x="1294" y="5139"/>
                      </a:lnTo>
                      <a:lnTo>
                        <a:pt x="1307" y="5153"/>
                      </a:lnTo>
                      <a:lnTo>
                        <a:pt x="1321" y="5166"/>
                      </a:lnTo>
                      <a:lnTo>
                        <a:pt x="1334" y="5178"/>
                      </a:lnTo>
                      <a:lnTo>
                        <a:pt x="1350" y="5191"/>
                      </a:lnTo>
                      <a:lnTo>
                        <a:pt x="1363" y="5205"/>
                      </a:lnTo>
                      <a:lnTo>
                        <a:pt x="1379" y="5220"/>
                      </a:lnTo>
                      <a:lnTo>
                        <a:pt x="1392" y="5232"/>
                      </a:lnTo>
                      <a:lnTo>
                        <a:pt x="1408" y="5246"/>
                      </a:lnTo>
                      <a:lnTo>
                        <a:pt x="1422" y="5259"/>
                      </a:lnTo>
                      <a:lnTo>
                        <a:pt x="1437" y="5275"/>
                      </a:lnTo>
                      <a:lnTo>
                        <a:pt x="1453" y="5286"/>
                      </a:lnTo>
                      <a:lnTo>
                        <a:pt x="1468" y="5302"/>
                      </a:lnTo>
                      <a:lnTo>
                        <a:pt x="1484" y="5315"/>
                      </a:lnTo>
                      <a:lnTo>
                        <a:pt x="1501" y="5331"/>
                      </a:lnTo>
                      <a:lnTo>
                        <a:pt x="1515" y="5343"/>
                      </a:lnTo>
                      <a:lnTo>
                        <a:pt x="1530" y="5356"/>
                      </a:lnTo>
                      <a:lnTo>
                        <a:pt x="1546" y="5370"/>
                      </a:lnTo>
                      <a:lnTo>
                        <a:pt x="1561" y="5383"/>
                      </a:lnTo>
                      <a:lnTo>
                        <a:pt x="1575" y="5395"/>
                      </a:lnTo>
                      <a:lnTo>
                        <a:pt x="1590" y="5408"/>
                      </a:lnTo>
                      <a:lnTo>
                        <a:pt x="1606" y="5422"/>
                      </a:lnTo>
                      <a:lnTo>
                        <a:pt x="1621" y="5436"/>
                      </a:lnTo>
                      <a:lnTo>
                        <a:pt x="1635" y="5447"/>
                      </a:lnTo>
                      <a:lnTo>
                        <a:pt x="1648" y="5459"/>
                      </a:lnTo>
                      <a:lnTo>
                        <a:pt x="1662" y="5471"/>
                      </a:lnTo>
                      <a:lnTo>
                        <a:pt x="1678" y="5482"/>
                      </a:lnTo>
                      <a:lnTo>
                        <a:pt x="1691" y="5492"/>
                      </a:lnTo>
                      <a:lnTo>
                        <a:pt x="1705" y="5504"/>
                      </a:lnTo>
                      <a:lnTo>
                        <a:pt x="1718" y="5513"/>
                      </a:lnTo>
                      <a:lnTo>
                        <a:pt x="1732" y="5525"/>
                      </a:lnTo>
                      <a:lnTo>
                        <a:pt x="1742" y="5533"/>
                      </a:lnTo>
                      <a:lnTo>
                        <a:pt x="1753" y="5540"/>
                      </a:lnTo>
                      <a:lnTo>
                        <a:pt x="1765" y="5548"/>
                      </a:lnTo>
                      <a:lnTo>
                        <a:pt x="1776" y="5558"/>
                      </a:lnTo>
                      <a:lnTo>
                        <a:pt x="1786" y="5566"/>
                      </a:lnTo>
                      <a:lnTo>
                        <a:pt x="1796" y="5573"/>
                      </a:lnTo>
                      <a:lnTo>
                        <a:pt x="1806" y="5579"/>
                      </a:lnTo>
                      <a:lnTo>
                        <a:pt x="1815" y="5587"/>
                      </a:lnTo>
                      <a:lnTo>
                        <a:pt x="1831" y="5597"/>
                      </a:lnTo>
                      <a:lnTo>
                        <a:pt x="1844" y="5604"/>
                      </a:lnTo>
                      <a:lnTo>
                        <a:pt x="1856" y="5610"/>
                      </a:lnTo>
                      <a:lnTo>
                        <a:pt x="1866" y="5614"/>
                      </a:lnTo>
                      <a:lnTo>
                        <a:pt x="1879" y="5614"/>
                      </a:lnTo>
                      <a:lnTo>
                        <a:pt x="1897" y="5614"/>
                      </a:lnTo>
                      <a:lnTo>
                        <a:pt x="1906" y="5614"/>
                      </a:lnTo>
                      <a:lnTo>
                        <a:pt x="1918" y="5614"/>
                      </a:lnTo>
                      <a:lnTo>
                        <a:pt x="1930" y="5614"/>
                      </a:lnTo>
                      <a:lnTo>
                        <a:pt x="1941" y="5614"/>
                      </a:lnTo>
                      <a:lnTo>
                        <a:pt x="1959" y="5612"/>
                      </a:lnTo>
                      <a:lnTo>
                        <a:pt x="1980" y="5610"/>
                      </a:lnTo>
                      <a:lnTo>
                        <a:pt x="1990" y="5608"/>
                      </a:lnTo>
                      <a:lnTo>
                        <a:pt x="1999" y="5608"/>
                      </a:lnTo>
                      <a:lnTo>
                        <a:pt x="2011" y="5606"/>
                      </a:lnTo>
                      <a:lnTo>
                        <a:pt x="2023" y="5606"/>
                      </a:lnTo>
                      <a:lnTo>
                        <a:pt x="2042" y="5602"/>
                      </a:lnTo>
                      <a:lnTo>
                        <a:pt x="2063" y="5599"/>
                      </a:lnTo>
                      <a:lnTo>
                        <a:pt x="2083" y="5595"/>
                      </a:lnTo>
                      <a:lnTo>
                        <a:pt x="2104" y="5591"/>
                      </a:lnTo>
                      <a:lnTo>
                        <a:pt x="2120" y="5583"/>
                      </a:lnTo>
                      <a:lnTo>
                        <a:pt x="2135" y="5577"/>
                      </a:lnTo>
                      <a:lnTo>
                        <a:pt x="2149" y="5568"/>
                      </a:lnTo>
                      <a:lnTo>
                        <a:pt x="2162" y="5560"/>
                      </a:lnTo>
                      <a:lnTo>
                        <a:pt x="2170" y="5548"/>
                      </a:lnTo>
                      <a:lnTo>
                        <a:pt x="2176" y="5538"/>
                      </a:lnTo>
                      <a:lnTo>
                        <a:pt x="2178" y="5527"/>
                      </a:lnTo>
                      <a:lnTo>
                        <a:pt x="2178" y="5515"/>
                      </a:lnTo>
                      <a:lnTo>
                        <a:pt x="2174" y="5504"/>
                      </a:lnTo>
                      <a:lnTo>
                        <a:pt x="2170" y="5492"/>
                      </a:lnTo>
                      <a:lnTo>
                        <a:pt x="2166" y="5480"/>
                      </a:lnTo>
                      <a:lnTo>
                        <a:pt x="2162" y="5469"/>
                      </a:lnTo>
                      <a:lnTo>
                        <a:pt x="2157" y="5453"/>
                      </a:lnTo>
                      <a:lnTo>
                        <a:pt x="2153" y="5438"/>
                      </a:lnTo>
                      <a:lnTo>
                        <a:pt x="2147" y="5422"/>
                      </a:lnTo>
                      <a:lnTo>
                        <a:pt x="2143" y="5407"/>
                      </a:lnTo>
                      <a:lnTo>
                        <a:pt x="2135" y="5387"/>
                      </a:lnTo>
                      <a:lnTo>
                        <a:pt x="2129" y="5370"/>
                      </a:lnTo>
                      <a:lnTo>
                        <a:pt x="2124" y="5352"/>
                      </a:lnTo>
                      <a:lnTo>
                        <a:pt x="2118" y="5335"/>
                      </a:lnTo>
                      <a:lnTo>
                        <a:pt x="2110" y="5313"/>
                      </a:lnTo>
                      <a:lnTo>
                        <a:pt x="2104" y="5296"/>
                      </a:lnTo>
                      <a:lnTo>
                        <a:pt x="2098" y="5275"/>
                      </a:lnTo>
                      <a:lnTo>
                        <a:pt x="2093" y="5257"/>
                      </a:lnTo>
                      <a:lnTo>
                        <a:pt x="2085" y="5236"/>
                      </a:lnTo>
                      <a:lnTo>
                        <a:pt x="2079" y="5216"/>
                      </a:lnTo>
                      <a:lnTo>
                        <a:pt x="2071" y="5195"/>
                      </a:lnTo>
                      <a:lnTo>
                        <a:pt x="2065" y="5178"/>
                      </a:lnTo>
                      <a:lnTo>
                        <a:pt x="2060" y="5158"/>
                      </a:lnTo>
                      <a:lnTo>
                        <a:pt x="2054" y="5139"/>
                      </a:lnTo>
                      <a:lnTo>
                        <a:pt x="2048" y="5121"/>
                      </a:lnTo>
                      <a:lnTo>
                        <a:pt x="2044" y="5104"/>
                      </a:lnTo>
                      <a:lnTo>
                        <a:pt x="2038" y="5087"/>
                      </a:lnTo>
                      <a:lnTo>
                        <a:pt x="2032" y="5069"/>
                      </a:lnTo>
                      <a:lnTo>
                        <a:pt x="2029" y="5052"/>
                      </a:lnTo>
                      <a:lnTo>
                        <a:pt x="2027" y="5038"/>
                      </a:lnTo>
                      <a:lnTo>
                        <a:pt x="2023" y="5023"/>
                      </a:lnTo>
                      <a:lnTo>
                        <a:pt x="2021" y="5011"/>
                      </a:lnTo>
                      <a:lnTo>
                        <a:pt x="2019" y="4999"/>
                      </a:lnTo>
                      <a:lnTo>
                        <a:pt x="2019" y="4990"/>
                      </a:lnTo>
                      <a:lnTo>
                        <a:pt x="2015" y="4976"/>
                      </a:lnTo>
                      <a:lnTo>
                        <a:pt x="2015" y="4962"/>
                      </a:lnTo>
                      <a:lnTo>
                        <a:pt x="2011" y="4947"/>
                      </a:lnTo>
                      <a:lnTo>
                        <a:pt x="2011" y="4931"/>
                      </a:lnTo>
                      <a:lnTo>
                        <a:pt x="2009" y="4912"/>
                      </a:lnTo>
                      <a:lnTo>
                        <a:pt x="2007" y="4895"/>
                      </a:lnTo>
                      <a:lnTo>
                        <a:pt x="2005" y="4875"/>
                      </a:lnTo>
                      <a:lnTo>
                        <a:pt x="2005" y="4856"/>
                      </a:lnTo>
                      <a:lnTo>
                        <a:pt x="2003" y="4844"/>
                      </a:lnTo>
                      <a:lnTo>
                        <a:pt x="2001" y="4833"/>
                      </a:lnTo>
                      <a:lnTo>
                        <a:pt x="1999" y="4821"/>
                      </a:lnTo>
                      <a:lnTo>
                        <a:pt x="1999" y="4809"/>
                      </a:lnTo>
                      <a:lnTo>
                        <a:pt x="1998" y="4798"/>
                      </a:lnTo>
                      <a:lnTo>
                        <a:pt x="1998" y="4786"/>
                      </a:lnTo>
                      <a:lnTo>
                        <a:pt x="1998" y="4774"/>
                      </a:lnTo>
                      <a:lnTo>
                        <a:pt x="1998" y="4765"/>
                      </a:lnTo>
                      <a:lnTo>
                        <a:pt x="1996" y="4753"/>
                      </a:lnTo>
                      <a:lnTo>
                        <a:pt x="1996" y="4741"/>
                      </a:lnTo>
                      <a:lnTo>
                        <a:pt x="1996" y="4730"/>
                      </a:lnTo>
                      <a:lnTo>
                        <a:pt x="1996" y="4718"/>
                      </a:lnTo>
                      <a:lnTo>
                        <a:pt x="1996" y="4706"/>
                      </a:lnTo>
                      <a:lnTo>
                        <a:pt x="1996" y="4695"/>
                      </a:lnTo>
                      <a:lnTo>
                        <a:pt x="1996" y="4683"/>
                      </a:lnTo>
                      <a:lnTo>
                        <a:pt x="1996" y="4672"/>
                      </a:lnTo>
                      <a:lnTo>
                        <a:pt x="1994" y="4658"/>
                      </a:lnTo>
                      <a:lnTo>
                        <a:pt x="1994" y="4646"/>
                      </a:lnTo>
                      <a:lnTo>
                        <a:pt x="1994" y="4635"/>
                      </a:lnTo>
                      <a:lnTo>
                        <a:pt x="1994" y="4623"/>
                      </a:lnTo>
                      <a:lnTo>
                        <a:pt x="1994" y="4611"/>
                      </a:lnTo>
                      <a:lnTo>
                        <a:pt x="1994" y="4600"/>
                      </a:lnTo>
                      <a:lnTo>
                        <a:pt x="1994" y="4588"/>
                      </a:lnTo>
                      <a:lnTo>
                        <a:pt x="1996" y="4578"/>
                      </a:lnTo>
                      <a:lnTo>
                        <a:pt x="1996" y="4567"/>
                      </a:lnTo>
                      <a:lnTo>
                        <a:pt x="1996" y="4555"/>
                      </a:lnTo>
                      <a:lnTo>
                        <a:pt x="1996" y="4546"/>
                      </a:lnTo>
                      <a:lnTo>
                        <a:pt x="1996" y="4536"/>
                      </a:lnTo>
                      <a:lnTo>
                        <a:pt x="1998" y="4518"/>
                      </a:lnTo>
                      <a:lnTo>
                        <a:pt x="2001" y="4501"/>
                      </a:lnTo>
                      <a:lnTo>
                        <a:pt x="2003" y="4482"/>
                      </a:lnTo>
                      <a:lnTo>
                        <a:pt x="2007" y="4466"/>
                      </a:lnTo>
                      <a:lnTo>
                        <a:pt x="2009" y="4452"/>
                      </a:lnTo>
                      <a:lnTo>
                        <a:pt x="2015" y="4441"/>
                      </a:lnTo>
                      <a:lnTo>
                        <a:pt x="2021" y="4429"/>
                      </a:lnTo>
                      <a:lnTo>
                        <a:pt x="2027" y="4421"/>
                      </a:lnTo>
                      <a:lnTo>
                        <a:pt x="2032" y="4414"/>
                      </a:lnTo>
                      <a:lnTo>
                        <a:pt x="2042" y="4412"/>
                      </a:lnTo>
                      <a:lnTo>
                        <a:pt x="2048" y="4406"/>
                      </a:lnTo>
                      <a:lnTo>
                        <a:pt x="2060" y="4402"/>
                      </a:lnTo>
                      <a:lnTo>
                        <a:pt x="2069" y="4398"/>
                      </a:lnTo>
                      <a:lnTo>
                        <a:pt x="2085" y="4394"/>
                      </a:lnTo>
                      <a:lnTo>
                        <a:pt x="2098" y="4390"/>
                      </a:lnTo>
                      <a:lnTo>
                        <a:pt x="2116" y="4387"/>
                      </a:lnTo>
                      <a:lnTo>
                        <a:pt x="2133" y="4383"/>
                      </a:lnTo>
                      <a:lnTo>
                        <a:pt x="2153" y="4379"/>
                      </a:lnTo>
                      <a:lnTo>
                        <a:pt x="2170" y="4373"/>
                      </a:lnTo>
                      <a:lnTo>
                        <a:pt x="2191" y="4369"/>
                      </a:lnTo>
                      <a:lnTo>
                        <a:pt x="2201" y="4365"/>
                      </a:lnTo>
                      <a:lnTo>
                        <a:pt x="2213" y="4363"/>
                      </a:lnTo>
                      <a:lnTo>
                        <a:pt x="2224" y="4359"/>
                      </a:lnTo>
                      <a:lnTo>
                        <a:pt x="2236" y="4359"/>
                      </a:lnTo>
                      <a:lnTo>
                        <a:pt x="2246" y="4355"/>
                      </a:lnTo>
                      <a:lnTo>
                        <a:pt x="2257" y="4354"/>
                      </a:lnTo>
                      <a:lnTo>
                        <a:pt x="2269" y="4350"/>
                      </a:lnTo>
                      <a:lnTo>
                        <a:pt x="2281" y="4350"/>
                      </a:lnTo>
                      <a:lnTo>
                        <a:pt x="2292" y="4346"/>
                      </a:lnTo>
                      <a:lnTo>
                        <a:pt x="2304" y="4344"/>
                      </a:lnTo>
                      <a:lnTo>
                        <a:pt x="2316" y="4340"/>
                      </a:lnTo>
                      <a:lnTo>
                        <a:pt x="2327" y="4340"/>
                      </a:lnTo>
                      <a:lnTo>
                        <a:pt x="2337" y="4336"/>
                      </a:lnTo>
                      <a:lnTo>
                        <a:pt x="2349" y="4334"/>
                      </a:lnTo>
                      <a:lnTo>
                        <a:pt x="2358" y="4330"/>
                      </a:lnTo>
                      <a:lnTo>
                        <a:pt x="2370" y="4328"/>
                      </a:lnTo>
                      <a:lnTo>
                        <a:pt x="2380" y="4324"/>
                      </a:lnTo>
                      <a:lnTo>
                        <a:pt x="2391" y="4323"/>
                      </a:lnTo>
                      <a:lnTo>
                        <a:pt x="2403" y="4319"/>
                      </a:lnTo>
                      <a:lnTo>
                        <a:pt x="2415" y="4317"/>
                      </a:lnTo>
                      <a:lnTo>
                        <a:pt x="2434" y="4311"/>
                      </a:lnTo>
                      <a:lnTo>
                        <a:pt x="2455" y="4305"/>
                      </a:lnTo>
                      <a:lnTo>
                        <a:pt x="2475" y="4299"/>
                      </a:lnTo>
                      <a:lnTo>
                        <a:pt x="2496" y="4295"/>
                      </a:lnTo>
                      <a:lnTo>
                        <a:pt x="2513" y="4290"/>
                      </a:lnTo>
                      <a:lnTo>
                        <a:pt x="2531" y="4284"/>
                      </a:lnTo>
                      <a:lnTo>
                        <a:pt x="2544" y="4278"/>
                      </a:lnTo>
                      <a:lnTo>
                        <a:pt x="2560" y="4272"/>
                      </a:lnTo>
                      <a:lnTo>
                        <a:pt x="2572" y="4266"/>
                      </a:lnTo>
                      <a:lnTo>
                        <a:pt x="2583" y="4260"/>
                      </a:lnTo>
                      <a:lnTo>
                        <a:pt x="2591" y="4255"/>
                      </a:lnTo>
                      <a:lnTo>
                        <a:pt x="2601" y="4251"/>
                      </a:lnTo>
                      <a:lnTo>
                        <a:pt x="2610" y="4239"/>
                      </a:lnTo>
                      <a:lnTo>
                        <a:pt x="2622" y="4227"/>
                      </a:lnTo>
                      <a:lnTo>
                        <a:pt x="2630" y="4216"/>
                      </a:lnTo>
                      <a:lnTo>
                        <a:pt x="2639" y="4208"/>
                      </a:lnTo>
                      <a:lnTo>
                        <a:pt x="2651" y="4191"/>
                      </a:lnTo>
                      <a:lnTo>
                        <a:pt x="2659" y="4177"/>
                      </a:lnTo>
                      <a:lnTo>
                        <a:pt x="2657" y="4165"/>
                      </a:lnTo>
                      <a:lnTo>
                        <a:pt x="2645" y="4158"/>
                      </a:lnTo>
                      <a:lnTo>
                        <a:pt x="2634" y="4154"/>
                      </a:lnTo>
                      <a:lnTo>
                        <a:pt x="2622" y="4152"/>
                      </a:lnTo>
                      <a:lnTo>
                        <a:pt x="2607" y="4152"/>
                      </a:lnTo>
                      <a:lnTo>
                        <a:pt x="2589" y="4152"/>
                      </a:lnTo>
                      <a:lnTo>
                        <a:pt x="2577" y="4150"/>
                      </a:lnTo>
                      <a:lnTo>
                        <a:pt x="2566" y="4148"/>
                      </a:lnTo>
                      <a:lnTo>
                        <a:pt x="2554" y="4146"/>
                      </a:lnTo>
                      <a:lnTo>
                        <a:pt x="2544" y="4146"/>
                      </a:lnTo>
                      <a:lnTo>
                        <a:pt x="2523" y="4142"/>
                      </a:lnTo>
                      <a:lnTo>
                        <a:pt x="2504" y="4140"/>
                      </a:lnTo>
                      <a:lnTo>
                        <a:pt x="2492" y="4136"/>
                      </a:lnTo>
                      <a:lnTo>
                        <a:pt x="2480" y="4134"/>
                      </a:lnTo>
                      <a:lnTo>
                        <a:pt x="2471" y="4132"/>
                      </a:lnTo>
                      <a:lnTo>
                        <a:pt x="2461" y="4131"/>
                      </a:lnTo>
                      <a:lnTo>
                        <a:pt x="2444" y="4127"/>
                      </a:lnTo>
                      <a:lnTo>
                        <a:pt x="2426" y="4123"/>
                      </a:lnTo>
                      <a:lnTo>
                        <a:pt x="2409" y="4117"/>
                      </a:lnTo>
                      <a:lnTo>
                        <a:pt x="2393" y="4111"/>
                      </a:lnTo>
                      <a:lnTo>
                        <a:pt x="2380" y="4107"/>
                      </a:lnTo>
                      <a:lnTo>
                        <a:pt x="2370" y="4103"/>
                      </a:lnTo>
                      <a:lnTo>
                        <a:pt x="2352" y="4098"/>
                      </a:lnTo>
                      <a:lnTo>
                        <a:pt x="2349" y="4098"/>
                      </a:lnTo>
                      <a:lnTo>
                        <a:pt x="2347" y="4094"/>
                      </a:lnTo>
                      <a:lnTo>
                        <a:pt x="2347" y="4086"/>
                      </a:lnTo>
                      <a:lnTo>
                        <a:pt x="2347" y="4072"/>
                      </a:lnTo>
                      <a:lnTo>
                        <a:pt x="2347" y="4057"/>
                      </a:lnTo>
                      <a:lnTo>
                        <a:pt x="2345" y="4045"/>
                      </a:lnTo>
                      <a:lnTo>
                        <a:pt x="2345" y="4035"/>
                      </a:lnTo>
                      <a:lnTo>
                        <a:pt x="2345" y="4024"/>
                      </a:lnTo>
                      <a:lnTo>
                        <a:pt x="2345" y="4012"/>
                      </a:lnTo>
                      <a:lnTo>
                        <a:pt x="2343" y="3999"/>
                      </a:lnTo>
                      <a:lnTo>
                        <a:pt x="2343" y="3987"/>
                      </a:lnTo>
                      <a:lnTo>
                        <a:pt x="2341" y="3975"/>
                      </a:lnTo>
                      <a:lnTo>
                        <a:pt x="2341" y="3964"/>
                      </a:lnTo>
                      <a:lnTo>
                        <a:pt x="2337" y="3950"/>
                      </a:lnTo>
                      <a:lnTo>
                        <a:pt x="2337" y="3937"/>
                      </a:lnTo>
                      <a:lnTo>
                        <a:pt x="2333" y="3923"/>
                      </a:lnTo>
                      <a:lnTo>
                        <a:pt x="2333" y="3911"/>
                      </a:lnTo>
                      <a:lnTo>
                        <a:pt x="2329" y="3898"/>
                      </a:lnTo>
                      <a:lnTo>
                        <a:pt x="2327" y="3886"/>
                      </a:lnTo>
                      <a:lnTo>
                        <a:pt x="2325" y="3875"/>
                      </a:lnTo>
                      <a:lnTo>
                        <a:pt x="2323" y="3863"/>
                      </a:lnTo>
                      <a:lnTo>
                        <a:pt x="2319" y="3851"/>
                      </a:lnTo>
                      <a:lnTo>
                        <a:pt x="2316" y="3840"/>
                      </a:lnTo>
                      <a:lnTo>
                        <a:pt x="2312" y="3828"/>
                      </a:lnTo>
                      <a:lnTo>
                        <a:pt x="2308" y="3820"/>
                      </a:lnTo>
                      <a:lnTo>
                        <a:pt x="2298" y="3805"/>
                      </a:lnTo>
                      <a:lnTo>
                        <a:pt x="2290" y="3795"/>
                      </a:lnTo>
                      <a:lnTo>
                        <a:pt x="2277" y="3783"/>
                      </a:lnTo>
                      <a:lnTo>
                        <a:pt x="2265" y="3774"/>
                      </a:lnTo>
                      <a:lnTo>
                        <a:pt x="2252" y="3764"/>
                      </a:lnTo>
                      <a:lnTo>
                        <a:pt x="2240" y="3754"/>
                      </a:lnTo>
                      <a:lnTo>
                        <a:pt x="2226" y="3743"/>
                      </a:lnTo>
                      <a:lnTo>
                        <a:pt x="2213" y="3731"/>
                      </a:lnTo>
                      <a:lnTo>
                        <a:pt x="2201" y="3721"/>
                      </a:lnTo>
                      <a:lnTo>
                        <a:pt x="2190" y="3714"/>
                      </a:lnTo>
                      <a:lnTo>
                        <a:pt x="2178" y="3702"/>
                      </a:lnTo>
                      <a:lnTo>
                        <a:pt x="2166" y="3694"/>
                      </a:lnTo>
                      <a:lnTo>
                        <a:pt x="2157" y="3688"/>
                      </a:lnTo>
                      <a:lnTo>
                        <a:pt x="2151" y="3683"/>
                      </a:lnTo>
                      <a:lnTo>
                        <a:pt x="2139" y="3673"/>
                      </a:lnTo>
                      <a:lnTo>
                        <a:pt x="2135" y="3671"/>
                      </a:lnTo>
                      <a:lnTo>
                        <a:pt x="2050" y="3260"/>
                      </a:lnTo>
                      <a:lnTo>
                        <a:pt x="2050" y="3256"/>
                      </a:lnTo>
                      <a:lnTo>
                        <a:pt x="2058" y="3250"/>
                      </a:lnTo>
                      <a:lnTo>
                        <a:pt x="2065" y="3238"/>
                      </a:lnTo>
                      <a:lnTo>
                        <a:pt x="2079" y="3227"/>
                      </a:lnTo>
                      <a:lnTo>
                        <a:pt x="2093" y="3209"/>
                      </a:lnTo>
                      <a:lnTo>
                        <a:pt x="2110" y="3190"/>
                      </a:lnTo>
                      <a:lnTo>
                        <a:pt x="2118" y="3178"/>
                      </a:lnTo>
                      <a:lnTo>
                        <a:pt x="2127" y="3167"/>
                      </a:lnTo>
                      <a:lnTo>
                        <a:pt x="2137" y="3153"/>
                      </a:lnTo>
                      <a:lnTo>
                        <a:pt x="2149" y="3142"/>
                      </a:lnTo>
                      <a:lnTo>
                        <a:pt x="2157" y="3126"/>
                      </a:lnTo>
                      <a:lnTo>
                        <a:pt x="2166" y="3110"/>
                      </a:lnTo>
                      <a:lnTo>
                        <a:pt x="2176" y="3095"/>
                      </a:lnTo>
                      <a:lnTo>
                        <a:pt x="2186" y="3079"/>
                      </a:lnTo>
                      <a:lnTo>
                        <a:pt x="2195" y="3062"/>
                      </a:lnTo>
                      <a:lnTo>
                        <a:pt x="2205" y="3045"/>
                      </a:lnTo>
                      <a:lnTo>
                        <a:pt x="2215" y="3027"/>
                      </a:lnTo>
                      <a:lnTo>
                        <a:pt x="2224" y="3010"/>
                      </a:lnTo>
                      <a:lnTo>
                        <a:pt x="2230" y="2988"/>
                      </a:lnTo>
                      <a:lnTo>
                        <a:pt x="2238" y="2969"/>
                      </a:lnTo>
                      <a:lnTo>
                        <a:pt x="2246" y="2950"/>
                      </a:lnTo>
                      <a:lnTo>
                        <a:pt x="2254" y="2930"/>
                      </a:lnTo>
                      <a:lnTo>
                        <a:pt x="2255" y="2918"/>
                      </a:lnTo>
                      <a:lnTo>
                        <a:pt x="2257" y="2909"/>
                      </a:lnTo>
                      <a:lnTo>
                        <a:pt x="2259" y="2897"/>
                      </a:lnTo>
                      <a:lnTo>
                        <a:pt x="2263" y="2887"/>
                      </a:lnTo>
                      <a:lnTo>
                        <a:pt x="2265" y="2876"/>
                      </a:lnTo>
                      <a:lnTo>
                        <a:pt x="2267" y="2866"/>
                      </a:lnTo>
                      <a:lnTo>
                        <a:pt x="2269" y="2855"/>
                      </a:lnTo>
                      <a:lnTo>
                        <a:pt x="2273" y="2845"/>
                      </a:lnTo>
                      <a:lnTo>
                        <a:pt x="2273" y="2831"/>
                      </a:lnTo>
                      <a:lnTo>
                        <a:pt x="2273" y="2820"/>
                      </a:lnTo>
                      <a:lnTo>
                        <a:pt x="2275" y="2806"/>
                      </a:lnTo>
                      <a:lnTo>
                        <a:pt x="2279" y="2794"/>
                      </a:lnTo>
                      <a:lnTo>
                        <a:pt x="2279" y="2781"/>
                      </a:lnTo>
                      <a:lnTo>
                        <a:pt x="2283" y="2767"/>
                      </a:lnTo>
                      <a:lnTo>
                        <a:pt x="2285" y="2754"/>
                      </a:lnTo>
                      <a:lnTo>
                        <a:pt x="2290" y="2740"/>
                      </a:lnTo>
                      <a:lnTo>
                        <a:pt x="2292" y="2725"/>
                      </a:lnTo>
                      <a:lnTo>
                        <a:pt x="2296" y="2711"/>
                      </a:lnTo>
                      <a:lnTo>
                        <a:pt x="2300" y="2695"/>
                      </a:lnTo>
                      <a:lnTo>
                        <a:pt x="2306" y="2682"/>
                      </a:lnTo>
                      <a:lnTo>
                        <a:pt x="2310" y="2666"/>
                      </a:lnTo>
                      <a:lnTo>
                        <a:pt x="2314" y="2651"/>
                      </a:lnTo>
                      <a:lnTo>
                        <a:pt x="2319" y="2635"/>
                      </a:lnTo>
                      <a:lnTo>
                        <a:pt x="2325" y="2622"/>
                      </a:lnTo>
                      <a:lnTo>
                        <a:pt x="2329" y="2604"/>
                      </a:lnTo>
                      <a:lnTo>
                        <a:pt x="2335" y="2589"/>
                      </a:lnTo>
                      <a:lnTo>
                        <a:pt x="2341" y="2571"/>
                      </a:lnTo>
                      <a:lnTo>
                        <a:pt x="2347" y="2556"/>
                      </a:lnTo>
                      <a:lnTo>
                        <a:pt x="2352" y="2538"/>
                      </a:lnTo>
                      <a:lnTo>
                        <a:pt x="2358" y="2523"/>
                      </a:lnTo>
                      <a:lnTo>
                        <a:pt x="2364" y="2505"/>
                      </a:lnTo>
                      <a:lnTo>
                        <a:pt x="2370" y="2490"/>
                      </a:lnTo>
                      <a:lnTo>
                        <a:pt x="2376" y="2472"/>
                      </a:lnTo>
                      <a:lnTo>
                        <a:pt x="2382" y="2455"/>
                      </a:lnTo>
                      <a:lnTo>
                        <a:pt x="2389" y="2438"/>
                      </a:lnTo>
                      <a:lnTo>
                        <a:pt x="2397" y="2422"/>
                      </a:lnTo>
                      <a:lnTo>
                        <a:pt x="2403" y="2405"/>
                      </a:lnTo>
                      <a:lnTo>
                        <a:pt x="2411" y="2389"/>
                      </a:lnTo>
                      <a:lnTo>
                        <a:pt x="2418" y="2374"/>
                      </a:lnTo>
                      <a:lnTo>
                        <a:pt x="2426" y="2358"/>
                      </a:lnTo>
                      <a:lnTo>
                        <a:pt x="2432" y="2341"/>
                      </a:lnTo>
                      <a:lnTo>
                        <a:pt x="2438" y="2323"/>
                      </a:lnTo>
                      <a:lnTo>
                        <a:pt x="2446" y="2306"/>
                      </a:lnTo>
                      <a:lnTo>
                        <a:pt x="2453" y="2290"/>
                      </a:lnTo>
                      <a:lnTo>
                        <a:pt x="2459" y="2273"/>
                      </a:lnTo>
                      <a:lnTo>
                        <a:pt x="2467" y="2257"/>
                      </a:lnTo>
                      <a:lnTo>
                        <a:pt x="2475" y="2242"/>
                      </a:lnTo>
                      <a:lnTo>
                        <a:pt x="2482" y="2228"/>
                      </a:lnTo>
                      <a:lnTo>
                        <a:pt x="2488" y="2211"/>
                      </a:lnTo>
                      <a:lnTo>
                        <a:pt x="2496" y="2195"/>
                      </a:lnTo>
                      <a:lnTo>
                        <a:pt x="2504" y="2180"/>
                      </a:lnTo>
                      <a:lnTo>
                        <a:pt x="2511" y="2166"/>
                      </a:lnTo>
                      <a:lnTo>
                        <a:pt x="2517" y="2151"/>
                      </a:lnTo>
                      <a:lnTo>
                        <a:pt x="2527" y="2137"/>
                      </a:lnTo>
                      <a:lnTo>
                        <a:pt x="2533" y="2123"/>
                      </a:lnTo>
                      <a:lnTo>
                        <a:pt x="2543" y="2112"/>
                      </a:lnTo>
                      <a:lnTo>
                        <a:pt x="2548" y="2098"/>
                      </a:lnTo>
                      <a:lnTo>
                        <a:pt x="2556" y="2085"/>
                      </a:lnTo>
                      <a:lnTo>
                        <a:pt x="2564" y="2073"/>
                      </a:lnTo>
                      <a:lnTo>
                        <a:pt x="2572" y="2061"/>
                      </a:lnTo>
                      <a:lnTo>
                        <a:pt x="2577" y="2048"/>
                      </a:lnTo>
                      <a:lnTo>
                        <a:pt x="2585" y="2036"/>
                      </a:lnTo>
                      <a:lnTo>
                        <a:pt x="2593" y="2026"/>
                      </a:lnTo>
                      <a:lnTo>
                        <a:pt x="2601" y="2017"/>
                      </a:lnTo>
                      <a:lnTo>
                        <a:pt x="2612" y="1995"/>
                      </a:lnTo>
                      <a:lnTo>
                        <a:pt x="2626" y="1978"/>
                      </a:lnTo>
                      <a:lnTo>
                        <a:pt x="2639" y="1961"/>
                      </a:lnTo>
                      <a:lnTo>
                        <a:pt x="2653" y="1949"/>
                      </a:lnTo>
                      <a:lnTo>
                        <a:pt x="2657" y="1939"/>
                      </a:lnTo>
                      <a:lnTo>
                        <a:pt x="2663" y="1929"/>
                      </a:lnTo>
                      <a:lnTo>
                        <a:pt x="2667" y="1918"/>
                      </a:lnTo>
                      <a:lnTo>
                        <a:pt x="2671" y="1906"/>
                      </a:lnTo>
                      <a:lnTo>
                        <a:pt x="2672" y="1891"/>
                      </a:lnTo>
                      <a:lnTo>
                        <a:pt x="2674" y="1875"/>
                      </a:lnTo>
                      <a:lnTo>
                        <a:pt x="2676" y="1858"/>
                      </a:lnTo>
                      <a:lnTo>
                        <a:pt x="2680" y="1840"/>
                      </a:lnTo>
                      <a:lnTo>
                        <a:pt x="2680" y="1817"/>
                      </a:lnTo>
                      <a:lnTo>
                        <a:pt x="2680" y="1796"/>
                      </a:lnTo>
                      <a:lnTo>
                        <a:pt x="2680" y="1772"/>
                      </a:lnTo>
                      <a:lnTo>
                        <a:pt x="2680" y="1749"/>
                      </a:lnTo>
                      <a:lnTo>
                        <a:pt x="2678" y="1722"/>
                      </a:lnTo>
                      <a:lnTo>
                        <a:pt x="2676" y="1695"/>
                      </a:lnTo>
                      <a:lnTo>
                        <a:pt x="2674" y="1668"/>
                      </a:lnTo>
                      <a:lnTo>
                        <a:pt x="2674" y="1641"/>
                      </a:lnTo>
                      <a:lnTo>
                        <a:pt x="2671" y="1610"/>
                      </a:lnTo>
                      <a:lnTo>
                        <a:pt x="2667" y="1578"/>
                      </a:lnTo>
                      <a:lnTo>
                        <a:pt x="2663" y="1546"/>
                      </a:lnTo>
                      <a:lnTo>
                        <a:pt x="2661" y="1514"/>
                      </a:lnTo>
                      <a:lnTo>
                        <a:pt x="2657" y="1482"/>
                      </a:lnTo>
                      <a:lnTo>
                        <a:pt x="2653" y="1449"/>
                      </a:lnTo>
                      <a:lnTo>
                        <a:pt x="2649" y="1414"/>
                      </a:lnTo>
                      <a:lnTo>
                        <a:pt x="2645" y="1381"/>
                      </a:lnTo>
                      <a:lnTo>
                        <a:pt x="2639" y="1344"/>
                      </a:lnTo>
                      <a:lnTo>
                        <a:pt x="2634" y="1309"/>
                      </a:lnTo>
                      <a:lnTo>
                        <a:pt x="2628" y="1272"/>
                      </a:lnTo>
                      <a:lnTo>
                        <a:pt x="2622" y="1237"/>
                      </a:lnTo>
                      <a:lnTo>
                        <a:pt x="2616" y="1200"/>
                      </a:lnTo>
                      <a:lnTo>
                        <a:pt x="2610" y="1163"/>
                      </a:lnTo>
                      <a:lnTo>
                        <a:pt x="2605" y="1127"/>
                      </a:lnTo>
                      <a:lnTo>
                        <a:pt x="2599" y="1092"/>
                      </a:lnTo>
                      <a:lnTo>
                        <a:pt x="2591" y="1053"/>
                      </a:lnTo>
                      <a:lnTo>
                        <a:pt x="2583" y="1016"/>
                      </a:lnTo>
                      <a:lnTo>
                        <a:pt x="2575" y="979"/>
                      </a:lnTo>
                      <a:lnTo>
                        <a:pt x="2570" y="944"/>
                      </a:lnTo>
                      <a:lnTo>
                        <a:pt x="2562" y="908"/>
                      </a:lnTo>
                      <a:lnTo>
                        <a:pt x="2554" y="873"/>
                      </a:lnTo>
                      <a:lnTo>
                        <a:pt x="2546" y="838"/>
                      </a:lnTo>
                      <a:lnTo>
                        <a:pt x="2541" y="803"/>
                      </a:lnTo>
                      <a:lnTo>
                        <a:pt x="2531" y="768"/>
                      </a:lnTo>
                      <a:lnTo>
                        <a:pt x="2525" y="733"/>
                      </a:lnTo>
                      <a:lnTo>
                        <a:pt x="2515" y="698"/>
                      </a:lnTo>
                      <a:lnTo>
                        <a:pt x="2510" y="667"/>
                      </a:lnTo>
                      <a:lnTo>
                        <a:pt x="2502" y="634"/>
                      </a:lnTo>
                      <a:lnTo>
                        <a:pt x="2494" y="603"/>
                      </a:lnTo>
                      <a:lnTo>
                        <a:pt x="2486" y="574"/>
                      </a:lnTo>
                      <a:lnTo>
                        <a:pt x="2480" y="547"/>
                      </a:lnTo>
                      <a:lnTo>
                        <a:pt x="2473" y="518"/>
                      </a:lnTo>
                      <a:lnTo>
                        <a:pt x="2465" y="489"/>
                      </a:lnTo>
                      <a:lnTo>
                        <a:pt x="2457" y="461"/>
                      </a:lnTo>
                      <a:lnTo>
                        <a:pt x="2451" y="438"/>
                      </a:lnTo>
                      <a:lnTo>
                        <a:pt x="2444" y="413"/>
                      </a:lnTo>
                      <a:lnTo>
                        <a:pt x="2436" y="392"/>
                      </a:lnTo>
                      <a:lnTo>
                        <a:pt x="2430" y="368"/>
                      </a:lnTo>
                      <a:lnTo>
                        <a:pt x="2424" y="351"/>
                      </a:lnTo>
                      <a:lnTo>
                        <a:pt x="2416" y="332"/>
                      </a:lnTo>
                      <a:lnTo>
                        <a:pt x="2411" y="316"/>
                      </a:lnTo>
                      <a:lnTo>
                        <a:pt x="2405" y="299"/>
                      </a:lnTo>
                      <a:lnTo>
                        <a:pt x="2399" y="287"/>
                      </a:lnTo>
                      <a:lnTo>
                        <a:pt x="2393" y="273"/>
                      </a:lnTo>
                      <a:lnTo>
                        <a:pt x="2389" y="264"/>
                      </a:lnTo>
                      <a:lnTo>
                        <a:pt x="2385" y="256"/>
                      </a:lnTo>
                      <a:lnTo>
                        <a:pt x="2382" y="252"/>
                      </a:lnTo>
                      <a:lnTo>
                        <a:pt x="2368" y="235"/>
                      </a:lnTo>
                      <a:lnTo>
                        <a:pt x="2356" y="221"/>
                      </a:lnTo>
                      <a:lnTo>
                        <a:pt x="2345" y="209"/>
                      </a:lnTo>
                      <a:lnTo>
                        <a:pt x="2333" y="198"/>
                      </a:lnTo>
                      <a:lnTo>
                        <a:pt x="2321" y="186"/>
                      </a:lnTo>
                      <a:lnTo>
                        <a:pt x="2310" y="178"/>
                      </a:lnTo>
                      <a:lnTo>
                        <a:pt x="2298" y="169"/>
                      </a:lnTo>
                      <a:lnTo>
                        <a:pt x="2287" y="163"/>
                      </a:lnTo>
                      <a:lnTo>
                        <a:pt x="2275" y="153"/>
                      </a:lnTo>
                      <a:lnTo>
                        <a:pt x="2263" y="147"/>
                      </a:lnTo>
                      <a:lnTo>
                        <a:pt x="2252" y="142"/>
                      </a:lnTo>
                      <a:lnTo>
                        <a:pt x="2240" y="136"/>
                      </a:lnTo>
                      <a:lnTo>
                        <a:pt x="2219" y="128"/>
                      </a:lnTo>
                      <a:lnTo>
                        <a:pt x="2201" y="122"/>
                      </a:lnTo>
                      <a:lnTo>
                        <a:pt x="2182" y="116"/>
                      </a:lnTo>
                      <a:lnTo>
                        <a:pt x="2166" y="112"/>
                      </a:lnTo>
                      <a:lnTo>
                        <a:pt x="2151" y="110"/>
                      </a:lnTo>
                      <a:lnTo>
                        <a:pt x="2139" y="110"/>
                      </a:lnTo>
                      <a:lnTo>
                        <a:pt x="2127" y="110"/>
                      </a:lnTo>
                      <a:lnTo>
                        <a:pt x="2122" y="110"/>
                      </a:lnTo>
                      <a:lnTo>
                        <a:pt x="2116" y="110"/>
                      </a:lnTo>
                      <a:lnTo>
                        <a:pt x="2116" y="112"/>
                      </a:lnTo>
                      <a:lnTo>
                        <a:pt x="2112" y="105"/>
                      </a:lnTo>
                      <a:lnTo>
                        <a:pt x="2104" y="91"/>
                      </a:lnTo>
                      <a:lnTo>
                        <a:pt x="2095" y="79"/>
                      </a:lnTo>
                      <a:lnTo>
                        <a:pt x="2085" y="70"/>
                      </a:lnTo>
                      <a:lnTo>
                        <a:pt x="2071" y="60"/>
                      </a:lnTo>
                      <a:lnTo>
                        <a:pt x="2056" y="50"/>
                      </a:lnTo>
                      <a:lnTo>
                        <a:pt x="2044" y="45"/>
                      </a:lnTo>
                      <a:lnTo>
                        <a:pt x="2032" y="39"/>
                      </a:lnTo>
                      <a:lnTo>
                        <a:pt x="2019" y="33"/>
                      </a:lnTo>
                      <a:lnTo>
                        <a:pt x="2007" y="27"/>
                      </a:lnTo>
                      <a:lnTo>
                        <a:pt x="1992" y="21"/>
                      </a:lnTo>
                      <a:lnTo>
                        <a:pt x="1978" y="17"/>
                      </a:lnTo>
                      <a:lnTo>
                        <a:pt x="1961" y="14"/>
                      </a:lnTo>
                      <a:lnTo>
                        <a:pt x="1943" y="12"/>
                      </a:lnTo>
                      <a:lnTo>
                        <a:pt x="1922" y="6"/>
                      </a:lnTo>
                      <a:lnTo>
                        <a:pt x="1903" y="4"/>
                      </a:lnTo>
                      <a:lnTo>
                        <a:pt x="1891" y="2"/>
                      </a:lnTo>
                      <a:lnTo>
                        <a:pt x="1879" y="0"/>
                      </a:lnTo>
                      <a:lnTo>
                        <a:pt x="1868" y="0"/>
                      </a:lnTo>
                      <a:lnTo>
                        <a:pt x="1856" y="0"/>
                      </a:lnTo>
                      <a:lnTo>
                        <a:pt x="1842" y="0"/>
                      </a:lnTo>
                      <a:lnTo>
                        <a:pt x="1829" y="0"/>
                      </a:lnTo>
                      <a:lnTo>
                        <a:pt x="1815" y="0"/>
                      </a:lnTo>
                      <a:lnTo>
                        <a:pt x="1804" y="0"/>
                      </a:lnTo>
                      <a:lnTo>
                        <a:pt x="1788" y="0"/>
                      </a:lnTo>
                      <a:lnTo>
                        <a:pt x="1775" y="0"/>
                      </a:lnTo>
                      <a:lnTo>
                        <a:pt x="1759" y="0"/>
                      </a:lnTo>
                      <a:lnTo>
                        <a:pt x="1745" y="2"/>
                      </a:lnTo>
                      <a:lnTo>
                        <a:pt x="1722" y="2"/>
                      </a:lnTo>
                      <a:lnTo>
                        <a:pt x="1701" y="2"/>
                      </a:lnTo>
                      <a:lnTo>
                        <a:pt x="1678" y="4"/>
                      </a:lnTo>
                      <a:lnTo>
                        <a:pt x="1656" y="6"/>
                      </a:lnTo>
                      <a:lnTo>
                        <a:pt x="1631" y="6"/>
                      </a:lnTo>
                      <a:lnTo>
                        <a:pt x="1608" y="8"/>
                      </a:lnTo>
                      <a:lnTo>
                        <a:pt x="1584" y="10"/>
                      </a:lnTo>
                      <a:lnTo>
                        <a:pt x="1561" y="14"/>
                      </a:lnTo>
                      <a:lnTo>
                        <a:pt x="1534" y="15"/>
                      </a:lnTo>
                      <a:lnTo>
                        <a:pt x="1511" y="19"/>
                      </a:lnTo>
                      <a:lnTo>
                        <a:pt x="1484" y="21"/>
                      </a:lnTo>
                      <a:lnTo>
                        <a:pt x="1460" y="25"/>
                      </a:lnTo>
                      <a:lnTo>
                        <a:pt x="1433" y="29"/>
                      </a:lnTo>
                      <a:lnTo>
                        <a:pt x="1408" y="33"/>
                      </a:lnTo>
                      <a:lnTo>
                        <a:pt x="1381" y="37"/>
                      </a:lnTo>
                      <a:lnTo>
                        <a:pt x="1356" y="43"/>
                      </a:lnTo>
                      <a:lnTo>
                        <a:pt x="1327" y="46"/>
                      </a:lnTo>
                      <a:lnTo>
                        <a:pt x="1299" y="50"/>
                      </a:lnTo>
                      <a:lnTo>
                        <a:pt x="1272" y="54"/>
                      </a:lnTo>
                      <a:lnTo>
                        <a:pt x="1245" y="60"/>
                      </a:lnTo>
                      <a:lnTo>
                        <a:pt x="1218" y="66"/>
                      </a:lnTo>
                      <a:lnTo>
                        <a:pt x="1191" y="72"/>
                      </a:lnTo>
                      <a:lnTo>
                        <a:pt x="1164" y="78"/>
                      </a:lnTo>
                      <a:lnTo>
                        <a:pt x="1136" y="85"/>
                      </a:lnTo>
                      <a:lnTo>
                        <a:pt x="1107" y="91"/>
                      </a:lnTo>
                      <a:lnTo>
                        <a:pt x="1080" y="97"/>
                      </a:lnTo>
                      <a:lnTo>
                        <a:pt x="1053" y="105"/>
                      </a:lnTo>
                      <a:lnTo>
                        <a:pt x="1026" y="112"/>
                      </a:lnTo>
                      <a:lnTo>
                        <a:pt x="997" y="120"/>
                      </a:lnTo>
                      <a:lnTo>
                        <a:pt x="970" y="130"/>
                      </a:lnTo>
                      <a:lnTo>
                        <a:pt x="943" y="138"/>
                      </a:lnTo>
                      <a:lnTo>
                        <a:pt x="917" y="147"/>
                      </a:lnTo>
                      <a:lnTo>
                        <a:pt x="888" y="155"/>
                      </a:lnTo>
                      <a:lnTo>
                        <a:pt x="861" y="165"/>
                      </a:lnTo>
                      <a:lnTo>
                        <a:pt x="834" y="173"/>
                      </a:lnTo>
                      <a:lnTo>
                        <a:pt x="807" y="184"/>
                      </a:lnTo>
                      <a:lnTo>
                        <a:pt x="778" y="192"/>
                      </a:lnTo>
                      <a:lnTo>
                        <a:pt x="752" y="204"/>
                      </a:lnTo>
                      <a:lnTo>
                        <a:pt x="725" y="215"/>
                      </a:lnTo>
                      <a:lnTo>
                        <a:pt x="702" y="227"/>
                      </a:lnTo>
                      <a:lnTo>
                        <a:pt x="675" y="237"/>
                      </a:lnTo>
                      <a:lnTo>
                        <a:pt x="650" y="248"/>
                      </a:lnTo>
                      <a:lnTo>
                        <a:pt x="623" y="260"/>
                      </a:lnTo>
                      <a:lnTo>
                        <a:pt x="599" y="273"/>
                      </a:lnTo>
                      <a:lnTo>
                        <a:pt x="574" y="285"/>
                      </a:lnTo>
                      <a:lnTo>
                        <a:pt x="551" y="299"/>
                      </a:lnTo>
                      <a:lnTo>
                        <a:pt x="527" y="312"/>
                      </a:lnTo>
                      <a:lnTo>
                        <a:pt x="504" y="328"/>
                      </a:lnTo>
                      <a:lnTo>
                        <a:pt x="479" y="339"/>
                      </a:lnTo>
                      <a:lnTo>
                        <a:pt x="456" y="355"/>
                      </a:lnTo>
                      <a:lnTo>
                        <a:pt x="432" y="368"/>
                      </a:lnTo>
                      <a:lnTo>
                        <a:pt x="411" y="386"/>
                      </a:lnTo>
                      <a:lnTo>
                        <a:pt x="388" y="399"/>
                      </a:lnTo>
                      <a:lnTo>
                        <a:pt x="368" y="417"/>
                      </a:lnTo>
                      <a:lnTo>
                        <a:pt x="347" y="434"/>
                      </a:lnTo>
                      <a:lnTo>
                        <a:pt x="330" y="452"/>
                      </a:lnTo>
                      <a:lnTo>
                        <a:pt x="310" y="467"/>
                      </a:lnTo>
                      <a:lnTo>
                        <a:pt x="291" y="485"/>
                      </a:lnTo>
                      <a:lnTo>
                        <a:pt x="273" y="502"/>
                      </a:lnTo>
                      <a:lnTo>
                        <a:pt x="256" y="522"/>
                      </a:lnTo>
                      <a:lnTo>
                        <a:pt x="239" y="539"/>
                      </a:lnTo>
                      <a:lnTo>
                        <a:pt x="223" y="558"/>
                      </a:lnTo>
                      <a:lnTo>
                        <a:pt x="208" y="578"/>
                      </a:lnTo>
                      <a:lnTo>
                        <a:pt x="196" y="599"/>
                      </a:lnTo>
                      <a:lnTo>
                        <a:pt x="184" y="611"/>
                      </a:lnTo>
                      <a:lnTo>
                        <a:pt x="176" y="626"/>
                      </a:lnTo>
                      <a:lnTo>
                        <a:pt x="167" y="642"/>
                      </a:lnTo>
                      <a:lnTo>
                        <a:pt x="159" y="659"/>
                      </a:lnTo>
                      <a:lnTo>
                        <a:pt x="151" y="677"/>
                      </a:lnTo>
                      <a:lnTo>
                        <a:pt x="144" y="694"/>
                      </a:lnTo>
                      <a:lnTo>
                        <a:pt x="138" y="714"/>
                      </a:lnTo>
                      <a:lnTo>
                        <a:pt x="132" y="735"/>
                      </a:lnTo>
                      <a:lnTo>
                        <a:pt x="126" y="754"/>
                      </a:lnTo>
                      <a:lnTo>
                        <a:pt x="120" y="776"/>
                      </a:lnTo>
                      <a:lnTo>
                        <a:pt x="114" y="797"/>
                      </a:lnTo>
                      <a:lnTo>
                        <a:pt x="112" y="820"/>
                      </a:lnTo>
                      <a:lnTo>
                        <a:pt x="107" y="844"/>
                      </a:lnTo>
                      <a:lnTo>
                        <a:pt x="105" y="867"/>
                      </a:lnTo>
                      <a:lnTo>
                        <a:pt x="101" y="892"/>
                      </a:lnTo>
                      <a:lnTo>
                        <a:pt x="99" y="917"/>
                      </a:lnTo>
                      <a:lnTo>
                        <a:pt x="95" y="940"/>
                      </a:lnTo>
                      <a:lnTo>
                        <a:pt x="93" y="966"/>
                      </a:lnTo>
                      <a:lnTo>
                        <a:pt x="89" y="991"/>
                      </a:lnTo>
                      <a:lnTo>
                        <a:pt x="87" y="1018"/>
                      </a:lnTo>
                      <a:lnTo>
                        <a:pt x="85" y="1043"/>
                      </a:lnTo>
                      <a:lnTo>
                        <a:pt x="83" y="1070"/>
                      </a:lnTo>
                      <a:lnTo>
                        <a:pt x="83" y="1098"/>
                      </a:lnTo>
                      <a:lnTo>
                        <a:pt x="83" y="1125"/>
                      </a:lnTo>
                      <a:lnTo>
                        <a:pt x="83" y="1150"/>
                      </a:lnTo>
                      <a:lnTo>
                        <a:pt x="83" y="1177"/>
                      </a:lnTo>
                      <a:lnTo>
                        <a:pt x="83" y="1204"/>
                      </a:lnTo>
                      <a:lnTo>
                        <a:pt x="83" y="1231"/>
                      </a:lnTo>
                      <a:lnTo>
                        <a:pt x="83" y="1259"/>
                      </a:lnTo>
                      <a:lnTo>
                        <a:pt x="83" y="1286"/>
                      </a:lnTo>
                      <a:lnTo>
                        <a:pt x="85" y="1313"/>
                      </a:lnTo>
                      <a:lnTo>
                        <a:pt x="87" y="1340"/>
                      </a:lnTo>
                      <a:lnTo>
                        <a:pt x="87" y="1365"/>
                      </a:lnTo>
                      <a:lnTo>
                        <a:pt x="87" y="1390"/>
                      </a:lnTo>
                      <a:lnTo>
                        <a:pt x="89" y="1416"/>
                      </a:lnTo>
                      <a:lnTo>
                        <a:pt x="91" y="1443"/>
                      </a:lnTo>
                      <a:lnTo>
                        <a:pt x="91" y="1466"/>
                      </a:lnTo>
                      <a:lnTo>
                        <a:pt x="93" y="1491"/>
                      </a:lnTo>
                      <a:lnTo>
                        <a:pt x="95" y="1514"/>
                      </a:lnTo>
                      <a:lnTo>
                        <a:pt x="99" y="1540"/>
                      </a:lnTo>
                      <a:lnTo>
                        <a:pt x="99" y="1561"/>
                      </a:lnTo>
                      <a:lnTo>
                        <a:pt x="101" y="1584"/>
                      </a:lnTo>
                      <a:lnTo>
                        <a:pt x="103" y="1606"/>
                      </a:lnTo>
                      <a:lnTo>
                        <a:pt x="105" y="1629"/>
                      </a:lnTo>
                      <a:lnTo>
                        <a:pt x="107" y="1648"/>
                      </a:lnTo>
                      <a:lnTo>
                        <a:pt x="109" y="1668"/>
                      </a:lnTo>
                      <a:lnTo>
                        <a:pt x="111" y="1687"/>
                      </a:lnTo>
                      <a:lnTo>
                        <a:pt x="114" y="1708"/>
                      </a:lnTo>
                      <a:lnTo>
                        <a:pt x="114" y="1724"/>
                      </a:lnTo>
                      <a:lnTo>
                        <a:pt x="116" y="1741"/>
                      </a:lnTo>
                      <a:lnTo>
                        <a:pt x="118" y="1757"/>
                      </a:lnTo>
                      <a:lnTo>
                        <a:pt x="120" y="1772"/>
                      </a:lnTo>
                      <a:lnTo>
                        <a:pt x="122" y="1786"/>
                      </a:lnTo>
                      <a:lnTo>
                        <a:pt x="124" y="1800"/>
                      </a:lnTo>
                      <a:lnTo>
                        <a:pt x="126" y="1811"/>
                      </a:lnTo>
                      <a:lnTo>
                        <a:pt x="128" y="1823"/>
                      </a:lnTo>
                      <a:lnTo>
                        <a:pt x="130" y="1840"/>
                      </a:lnTo>
                      <a:lnTo>
                        <a:pt x="132" y="1856"/>
                      </a:lnTo>
                      <a:lnTo>
                        <a:pt x="134" y="1864"/>
                      </a:lnTo>
                      <a:lnTo>
                        <a:pt x="136" y="18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72760" y="-174960"/>
                  <a:ext cx="428760" cy="932040"/>
                </a:xfrm>
                <a:custGeom>
                  <a:avLst/>
                  <a:gdLst/>
                  <a:ahLst/>
                  <a:rect l="l" t="t" r="r" b="b"/>
                  <a:pathLst>
                    <a:path w="1534" h="3333">
                      <a:moveTo>
                        <a:pt x="0" y="9"/>
                      </a:moveTo>
                      <a:lnTo>
                        <a:pt x="2" y="9"/>
                      </a:lnTo>
                      <a:lnTo>
                        <a:pt x="12" y="15"/>
                      </a:lnTo>
                      <a:lnTo>
                        <a:pt x="17" y="17"/>
                      </a:lnTo>
                      <a:lnTo>
                        <a:pt x="25" y="25"/>
                      </a:lnTo>
                      <a:lnTo>
                        <a:pt x="35" y="31"/>
                      </a:lnTo>
                      <a:lnTo>
                        <a:pt x="47" y="42"/>
                      </a:lnTo>
                      <a:lnTo>
                        <a:pt x="56" y="52"/>
                      </a:lnTo>
                      <a:lnTo>
                        <a:pt x="70" y="66"/>
                      </a:lnTo>
                      <a:lnTo>
                        <a:pt x="81" y="81"/>
                      </a:lnTo>
                      <a:lnTo>
                        <a:pt x="99" y="100"/>
                      </a:lnTo>
                      <a:lnTo>
                        <a:pt x="105" y="110"/>
                      </a:lnTo>
                      <a:lnTo>
                        <a:pt x="113" y="122"/>
                      </a:lnTo>
                      <a:lnTo>
                        <a:pt x="120" y="133"/>
                      </a:lnTo>
                      <a:lnTo>
                        <a:pt x="130" y="147"/>
                      </a:lnTo>
                      <a:lnTo>
                        <a:pt x="138" y="159"/>
                      </a:lnTo>
                      <a:lnTo>
                        <a:pt x="147" y="174"/>
                      </a:lnTo>
                      <a:lnTo>
                        <a:pt x="155" y="188"/>
                      </a:lnTo>
                      <a:lnTo>
                        <a:pt x="167" y="205"/>
                      </a:lnTo>
                      <a:lnTo>
                        <a:pt x="175" y="221"/>
                      </a:lnTo>
                      <a:lnTo>
                        <a:pt x="184" y="238"/>
                      </a:lnTo>
                      <a:lnTo>
                        <a:pt x="192" y="256"/>
                      </a:lnTo>
                      <a:lnTo>
                        <a:pt x="202" y="275"/>
                      </a:lnTo>
                      <a:lnTo>
                        <a:pt x="209" y="294"/>
                      </a:lnTo>
                      <a:lnTo>
                        <a:pt x="221" y="316"/>
                      </a:lnTo>
                      <a:lnTo>
                        <a:pt x="229" y="339"/>
                      </a:lnTo>
                      <a:lnTo>
                        <a:pt x="241" y="362"/>
                      </a:lnTo>
                      <a:lnTo>
                        <a:pt x="250" y="386"/>
                      </a:lnTo>
                      <a:lnTo>
                        <a:pt x="260" y="411"/>
                      </a:lnTo>
                      <a:lnTo>
                        <a:pt x="270" y="438"/>
                      </a:lnTo>
                      <a:lnTo>
                        <a:pt x="281" y="467"/>
                      </a:lnTo>
                      <a:lnTo>
                        <a:pt x="291" y="494"/>
                      </a:lnTo>
                      <a:lnTo>
                        <a:pt x="301" y="525"/>
                      </a:lnTo>
                      <a:lnTo>
                        <a:pt x="310" y="554"/>
                      </a:lnTo>
                      <a:lnTo>
                        <a:pt x="322" y="589"/>
                      </a:lnTo>
                      <a:lnTo>
                        <a:pt x="332" y="620"/>
                      </a:lnTo>
                      <a:lnTo>
                        <a:pt x="341" y="655"/>
                      </a:lnTo>
                      <a:lnTo>
                        <a:pt x="351" y="690"/>
                      </a:lnTo>
                      <a:lnTo>
                        <a:pt x="363" y="729"/>
                      </a:lnTo>
                      <a:lnTo>
                        <a:pt x="372" y="766"/>
                      </a:lnTo>
                      <a:lnTo>
                        <a:pt x="382" y="806"/>
                      </a:lnTo>
                      <a:lnTo>
                        <a:pt x="392" y="847"/>
                      </a:lnTo>
                      <a:lnTo>
                        <a:pt x="403" y="892"/>
                      </a:lnTo>
                      <a:lnTo>
                        <a:pt x="413" y="934"/>
                      </a:lnTo>
                      <a:lnTo>
                        <a:pt x="423" y="981"/>
                      </a:lnTo>
                      <a:lnTo>
                        <a:pt x="433" y="1027"/>
                      </a:lnTo>
                      <a:lnTo>
                        <a:pt x="442" y="1078"/>
                      </a:lnTo>
                      <a:lnTo>
                        <a:pt x="452" y="1126"/>
                      </a:lnTo>
                      <a:lnTo>
                        <a:pt x="462" y="1179"/>
                      </a:lnTo>
                      <a:lnTo>
                        <a:pt x="471" y="1231"/>
                      </a:lnTo>
                      <a:lnTo>
                        <a:pt x="483" y="1287"/>
                      </a:lnTo>
                      <a:lnTo>
                        <a:pt x="355" y="1446"/>
                      </a:lnTo>
                      <a:lnTo>
                        <a:pt x="520" y="2715"/>
                      </a:lnTo>
                      <a:lnTo>
                        <a:pt x="1222" y="3333"/>
                      </a:lnTo>
                      <a:lnTo>
                        <a:pt x="1352" y="3320"/>
                      </a:lnTo>
                      <a:lnTo>
                        <a:pt x="1127" y="2852"/>
                      </a:lnTo>
                      <a:lnTo>
                        <a:pt x="1125" y="2850"/>
                      </a:lnTo>
                      <a:lnTo>
                        <a:pt x="1123" y="2846"/>
                      </a:lnTo>
                      <a:lnTo>
                        <a:pt x="1119" y="2839"/>
                      </a:lnTo>
                      <a:lnTo>
                        <a:pt x="1117" y="2829"/>
                      </a:lnTo>
                      <a:lnTo>
                        <a:pt x="1111" y="2815"/>
                      </a:lnTo>
                      <a:lnTo>
                        <a:pt x="1107" y="2802"/>
                      </a:lnTo>
                      <a:lnTo>
                        <a:pt x="1104" y="2784"/>
                      </a:lnTo>
                      <a:lnTo>
                        <a:pt x="1104" y="2769"/>
                      </a:lnTo>
                      <a:lnTo>
                        <a:pt x="1102" y="2757"/>
                      </a:lnTo>
                      <a:lnTo>
                        <a:pt x="1100" y="2746"/>
                      </a:lnTo>
                      <a:lnTo>
                        <a:pt x="1100" y="2734"/>
                      </a:lnTo>
                      <a:lnTo>
                        <a:pt x="1100" y="2724"/>
                      </a:lnTo>
                      <a:lnTo>
                        <a:pt x="1100" y="2711"/>
                      </a:lnTo>
                      <a:lnTo>
                        <a:pt x="1102" y="2699"/>
                      </a:lnTo>
                      <a:lnTo>
                        <a:pt x="1104" y="2687"/>
                      </a:lnTo>
                      <a:lnTo>
                        <a:pt x="1107" y="2676"/>
                      </a:lnTo>
                      <a:lnTo>
                        <a:pt x="1109" y="2660"/>
                      </a:lnTo>
                      <a:lnTo>
                        <a:pt x="1113" y="2647"/>
                      </a:lnTo>
                      <a:lnTo>
                        <a:pt x="1117" y="2633"/>
                      </a:lnTo>
                      <a:lnTo>
                        <a:pt x="1123" y="2620"/>
                      </a:lnTo>
                      <a:lnTo>
                        <a:pt x="1129" y="2604"/>
                      </a:lnTo>
                      <a:lnTo>
                        <a:pt x="1135" y="2589"/>
                      </a:lnTo>
                      <a:lnTo>
                        <a:pt x="1142" y="2573"/>
                      </a:lnTo>
                      <a:lnTo>
                        <a:pt x="1154" y="2559"/>
                      </a:lnTo>
                      <a:lnTo>
                        <a:pt x="1179" y="2125"/>
                      </a:lnTo>
                      <a:lnTo>
                        <a:pt x="1534" y="2057"/>
                      </a:lnTo>
                      <a:lnTo>
                        <a:pt x="1532" y="2053"/>
                      </a:lnTo>
                      <a:lnTo>
                        <a:pt x="1532" y="2044"/>
                      </a:lnTo>
                      <a:lnTo>
                        <a:pt x="1530" y="2028"/>
                      </a:lnTo>
                      <a:lnTo>
                        <a:pt x="1528" y="2011"/>
                      </a:lnTo>
                      <a:lnTo>
                        <a:pt x="1524" y="1999"/>
                      </a:lnTo>
                      <a:lnTo>
                        <a:pt x="1522" y="1987"/>
                      </a:lnTo>
                      <a:lnTo>
                        <a:pt x="1519" y="1974"/>
                      </a:lnTo>
                      <a:lnTo>
                        <a:pt x="1517" y="1962"/>
                      </a:lnTo>
                      <a:lnTo>
                        <a:pt x="1513" y="1949"/>
                      </a:lnTo>
                      <a:lnTo>
                        <a:pt x="1509" y="1935"/>
                      </a:lnTo>
                      <a:lnTo>
                        <a:pt x="1505" y="1921"/>
                      </a:lnTo>
                      <a:lnTo>
                        <a:pt x="1501" y="1908"/>
                      </a:lnTo>
                      <a:lnTo>
                        <a:pt x="1493" y="1892"/>
                      </a:lnTo>
                      <a:lnTo>
                        <a:pt x="1488" y="1879"/>
                      </a:lnTo>
                      <a:lnTo>
                        <a:pt x="1480" y="1863"/>
                      </a:lnTo>
                      <a:lnTo>
                        <a:pt x="1474" y="1850"/>
                      </a:lnTo>
                      <a:lnTo>
                        <a:pt x="1464" y="1834"/>
                      </a:lnTo>
                      <a:lnTo>
                        <a:pt x="1457" y="1821"/>
                      </a:lnTo>
                      <a:lnTo>
                        <a:pt x="1447" y="1809"/>
                      </a:lnTo>
                      <a:lnTo>
                        <a:pt x="1439" y="1797"/>
                      </a:lnTo>
                      <a:lnTo>
                        <a:pt x="1425" y="1786"/>
                      </a:lnTo>
                      <a:lnTo>
                        <a:pt x="1414" y="1774"/>
                      </a:lnTo>
                      <a:lnTo>
                        <a:pt x="1400" y="1762"/>
                      </a:lnTo>
                      <a:lnTo>
                        <a:pt x="1389" y="1757"/>
                      </a:lnTo>
                      <a:lnTo>
                        <a:pt x="1373" y="1747"/>
                      </a:lnTo>
                      <a:lnTo>
                        <a:pt x="1358" y="1741"/>
                      </a:lnTo>
                      <a:lnTo>
                        <a:pt x="1342" y="1735"/>
                      </a:lnTo>
                      <a:lnTo>
                        <a:pt x="1327" y="1733"/>
                      </a:lnTo>
                      <a:lnTo>
                        <a:pt x="1199" y="1082"/>
                      </a:lnTo>
                      <a:lnTo>
                        <a:pt x="1197" y="1078"/>
                      </a:lnTo>
                      <a:lnTo>
                        <a:pt x="1197" y="1072"/>
                      </a:lnTo>
                      <a:lnTo>
                        <a:pt x="1195" y="1062"/>
                      </a:lnTo>
                      <a:lnTo>
                        <a:pt x="1193" y="1051"/>
                      </a:lnTo>
                      <a:lnTo>
                        <a:pt x="1189" y="1035"/>
                      </a:lnTo>
                      <a:lnTo>
                        <a:pt x="1187" y="1020"/>
                      </a:lnTo>
                      <a:lnTo>
                        <a:pt x="1185" y="1000"/>
                      </a:lnTo>
                      <a:lnTo>
                        <a:pt x="1183" y="983"/>
                      </a:lnTo>
                      <a:lnTo>
                        <a:pt x="1179" y="961"/>
                      </a:lnTo>
                      <a:lnTo>
                        <a:pt x="1177" y="944"/>
                      </a:lnTo>
                      <a:lnTo>
                        <a:pt x="1173" y="923"/>
                      </a:lnTo>
                      <a:lnTo>
                        <a:pt x="1171" y="905"/>
                      </a:lnTo>
                      <a:lnTo>
                        <a:pt x="1168" y="888"/>
                      </a:lnTo>
                      <a:lnTo>
                        <a:pt x="1166" y="872"/>
                      </a:lnTo>
                      <a:lnTo>
                        <a:pt x="1164" y="861"/>
                      </a:lnTo>
                      <a:lnTo>
                        <a:pt x="1164" y="853"/>
                      </a:lnTo>
                      <a:lnTo>
                        <a:pt x="1164" y="835"/>
                      </a:lnTo>
                      <a:lnTo>
                        <a:pt x="1169" y="820"/>
                      </a:lnTo>
                      <a:lnTo>
                        <a:pt x="1177" y="806"/>
                      </a:lnTo>
                      <a:lnTo>
                        <a:pt x="1189" y="801"/>
                      </a:lnTo>
                      <a:lnTo>
                        <a:pt x="1197" y="797"/>
                      </a:lnTo>
                      <a:lnTo>
                        <a:pt x="1204" y="804"/>
                      </a:lnTo>
                      <a:lnTo>
                        <a:pt x="1204" y="810"/>
                      </a:lnTo>
                      <a:lnTo>
                        <a:pt x="1206" y="824"/>
                      </a:lnTo>
                      <a:lnTo>
                        <a:pt x="1206" y="837"/>
                      </a:lnTo>
                      <a:lnTo>
                        <a:pt x="1204" y="857"/>
                      </a:lnTo>
                      <a:lnTo>
                        <a:pt x="1204" y="855"/>
                      </a:lnTo>
                      <a:lnTo>
                        <a:pt x="1208" y="849"/>
                      </a:lnTo>
                      <a:lnTo>
                        <a:pt x="1212" y="837"/>
                      </a:lnTo>
                      <a:lnTo>
                        <a:pt x="1218" y="824"/>
                      </a:lnTo>
                      <a:lnTo>
                        <a:pt x="1224" y="804"/>
                      </a:lnTo>
                      <a:lnTo>
                        <a:pt x="1233" y="785"/>
                      </a:lnTo>
                      <a:lnTo>
                        <a:pt x="1237" y="771"/>
                      </a:lnTo>
                      <a:lnTo>
                        <a:pt x="1241" y="760"/>
                      </a:lnTo>
                      <a:lnTo>
                        <a:pt x="1245" y="748"/>
                      </a:lnTo>
                      <a:lnTo>
                        <a:pt x="1251" y="737"/>
                      </a:lnTo>
                      <a:lnTo>
                        <a:pt x="1255" y="721"/>
                      </a:lnTo>
                      <a:lnTo>
                        <a:pt x="1259" y="706"/>
                      </a:lnTo>
                      <a:lnTo>
                        <a:pt x="1263" y="690"/>
                      </a:lnTo>
                      <a:lnTo>
                        <a:pt x="1266" y="676"/>
                      </a:lnTo>
                      <a:lnTo>
                        <a:pt x="1270" y="661"/>
                      </a:lnTo>
                      <a:lnTo>
                        <a:pt x="1274" y="645"/>
                      </a:lnTo>
                      <a:lnTo>
                        <a:pt x="1278" y="630"/>
                      </a:lnTo>
                      <a:lnTo>
                        <a:pt x="1282" y="616"/>
                      </a:lnTo>
                      <a:lnTo>
                        <a:pt x="1284" y="599"/>
                      </a:lnTo>
                      <a:lnTo>
                        <a:pt x="1286" y="583"/>
                      </a:lnTo>
                      <a:lnTo>
                        <a:pt x="1288" y="568"/>
                      </a:lnTo>
                      <a:lnTo>
                        <a:pt x="1292" y="552"/>
                      </a:lnTo>
                      <a:lnTo>
                        <a:pt x="1292" y="537"/>
                      </a:lnTo>
                      <a:lnTo>
                        <a:pt x="1294" y="523"/>
                      </a:lnTo>
                      <a:lnTo>
                        <a:pt x="1294" y="508"/>
                      </a:lnTo>
                      <a:lnTo>
                        <a:pt x="1296" y="494"/>
                      </a:lnTo>
                      <a:lnTo>
                        <a:pt x="1294" y="479"/>
                      </a:lnTo>
                      <a:lnTo>
                        <a:pt x="1294" y="465"/>
                      </a:lnTo>
                      <a:lnTo>
                        <a:pt x="1294" y="451"/>
                      </a:lnTo>
                      <a:lnTo>
                        <a:pt x="1294" y="440"/>
                      </a:lnTo>
                      <a:lnTo>
                        <a:pt x="1294" y="426"/>
                      </a:lnTo>
                      <a:lnTo>
                        <a:pt x="1294" y="413"/>
                      </a:lnTo>
                      <a:lnTo>
                        <a:pt x="1296" y="401"/>
                      </a:lnTo>
                      <a:lnTo>
                        <a:pt x="1297" y="389"/>
                      </a:lnTo>
                      <a:lnTo>
                        <a:pt x="1297" y="376"/>
                      </a:lnTo>
                      <a:lnTo>
                        <a:pt x="1299" y="364"/>
                      </a:lnTo>
                      <a:lnTo>
                        <a:pt x="1301" y="351"/>
                      </a:lnTo>
                      <a:lnTo>
                        <a:pt x="1303" y="339"/>
                      </a:lnTo>
                      <a:lnTo>
                        <a:pt x="1305" y="327"/>
                      </a:lnTo>
                      <a:lnTo>
                        <a:pt x="1309" y="316"/>
                      </a:lnTo>
                      <a:lnTo>
                        <a:pt x="1311" y="304"/>
                      </a:lnTo>
                      <a:lnTo>
                        <a:pt x="1315" y="294"/>
                      </a:lnTo>
                      <a:lnTo>
                        <a:pt x="1317" y="283"/>
                      </a:lnTo>
                      <a:lnTo>
                        <a:pt x="1321" y="271"/>
                      </a:lnTo>
                      <a:lnTo>
                        <a:pt x="1323" y="259"/>
                      </a:lnTo>
                      <a:lnTo>
                        <a:pt x="1327" y="250"/>
                      </a:lnTo>
                      <a:lnTo>
                        <a:pt x="1332" y="228"/>
                      </a:lnTo>
                      <a:lnTo>
                        <a:pt x="1340" y="209"/>
                      </a:lnTo>
                      <a:lnTo>
                        <a:pt x="1348" y="190"/>
                      </a:lnTo>
                      <a:lnTo>
                        <a:pt x="1356" y="172"/>
                      </a:lnTo>
                      <a:lnTo>
                        <a:pt x="1363" y="155"/>
                      </a:lnTo>
                      <a:lnTo>
                        <a:pt x="1373" y="139"/>
                      </a:lnTo>
                      <a:lnTo>
                        <a:pt x="1379" y="122"/>
                      </a:lnTo>
                      <a:lnTo>
                        <a:pt x="1387" y="106"/>
                      </a:lnTo>
                      <a:lnTo>
                        <a:pt x="1394" y="91"/>
                      </a:lnTo>
                      <a:lnTo>
                        <a:pt x="1402" y="79"/>
                      </a:lnTo>
                      <a:lnTo>
                        <a:pt x="1408" y="66"/>
                      </a:lnTo>
                      <a:lnTo>
                        <a:pt x="1416" y="54"/>
                      </a:lnTo>
                      <a:lnTo>
                        <a:pt x="1422" y="42"/>
                      </a:lnTo>
                      <a:lnTo>
                        <a:pt x="1429" y="35"/>
                      </a:lnTo>
                      <a:lnTo>
                        <a:pt x="1439" y="17"/>
                      </a:lnTo>
                      <a:lnTo>
                        <a:pt x="1449" y="7"/>
                      </a:lnTo>
                      <a:lnTo>
                        <a:pt x="1455" y="0"/>
                      </a:lnTo>
                      <a:lnTo>
                        <a:pt x="1458" y="0"/>
                      </a:lnTo>
                      <a:lnTo>
                        <a:pt x="1455" y="0"/>
                      </a:lnTo>
                      <a:lnTo>
                        <a:pt x="1445" y="0"/>
                      </a:lnTo>
                      <a:lnTo>
                        <a:pt x="1437" y="0"/>
                      </a:lnTo>
                      <a:lnTo>
                        <a:pt x="1429" y="0"/>
                      </a:lnTo>
                      <a:lnTo>
                        <a:pt x="1420" y="0"/>
                      </a:lnTo>
                      <a:lnTo>
                        <a:pt x="1410" y="0"/>
                      </a:lnTo>
                      <a:lnTo>
                        <a:pt x="1396" y="0"/>
                      </a:lnTo>
                      <a:lnTo>
                        <a:pt x="1385" y="0"/>
                      </a:lnTo>
                      <a:lnTo>
                        <a:pt x="1369" y="0"/>
                      </a:lnTo>
                      <a:lnTo>
                        <a:pt x="1356" y="2"/>
                      </a:lnTo>
                      <a:lnTo>
                        <a:pt x="1338" y="2"/>
                      </a:lnTo>
                      <a:lnTo>
                        <a:pt x="1321" y="3"/>
                      </a:lnTo>
                      <a:lnTo>
                        <a:pt x="1301" y="5"/>
                      </a:lnTo>
                      <a:lnTo>
                        <a:pt x="1284" y="7"/>
                      </a:lnTo>
                      <a:lnTo>
                        <a:pt x="1261" y="7"/>
                      </a:lnTo>
                      <a:lnTo>
                        <a:pt x="1239" y="7"/>
                      </a:lnTo>
                      <a:lnTo>
                        <a:pt x="1216" y="7"/>
                      </a:lnTo>
                      <a:lnTo>
                        <a:pt x="1195" y="9"/>
                      </a:lnTo>
                      <a:lnTo>
                        <a:pt x="1169" y="9"/>
                      </a:lnTo>
                      <a:lnTo>
                        <a:pt x="1146" y="11"/>
                      </a:lnTo>
                      <a:lnTo>
                        <a:pt x="1121" y="11"/>
                      </a:lnTo>
                      <a:lnTo>
                        <a:pt x="1096" y="13"/>
                      </a:lnTo>
                      <a:lnTo>
                        <a:pt x="1069" y="13"/>
                      </a:lnTo>
                      <a:lnTo>
                        <a:pt x="1041" y="13"/>
                      </a:lnTo>
                      <a:lnTo>
                        <a:pt x="1012" y="15"/>
                      </a:lnTo>
                      <a:lnTo>
                        <a:pt x="985" y="17"/>
                      </a:lnTo>
                      <a:lnTo>
                        <a:pt x="956" y="17"/>
                      </a:lnTo>
                      <a:lnTo>
                        <a:pt x="927" y="17"/>
                      </a:lnTo>
                      <a:lnTo>
                        <a:pt x="898" y="19"/>
                      </a:lnTo>
                      <a:lnTo>
                        <a:pt x="871" y="21"/>
                      </a:lnTo>
                      <a:lnTo>
                        <a:pt x="840" y="21"/>
                      </a:lnTo>
                      <a:lnTo>
                        <a:pt x="809" y="21"/>
                      </a:lnTo>
                      <a:lnTo>
                        <a:pt x="778" y="21"/>
                      </a:lnTo>
                      <a:lnTo>
                        <a:pt x="749" y="23"/>
                      </a:lnTo>
                      <a:lnTo>
                        <a:pt x="718" y="23"/>
                      </a:lnTo>
                      <a:lnTo>
                        <a:pt x="687" y="23"/>
                      </a:lnTo>
                      <a:lnTo>
                        <a:pt x="656" y="23"/>
                      </a:lnTo>
                      <a:lnTo>
                        <a:pt x="626" y="25"/>
                      </a:lnTo>
                      <a:lnTo>
                        <a:pt x="595" y="25"/>
                      </a:lnTo>
                      <a:lnTo>
                        <a:pt x="564" y="25"/>
                      </a:lnTo>
                      <a:lnTo>
                        <a:pt x="533" y="25"/>
                      </a:lnTo>
                      <a:lnTo>
                        <a:pt x="504" y="25"/>
                      </a:lnTo>
                      <a:lnTo>
                        <a:pt x="473" y="25"/>
                      </a:lnTo>
                      <a:lnTo>
                        <a:pt x="444" y="25"/>
                      </a:lnTo>
                      <a:lnTo>
                        <a:pt x="415" y="25"/>
                      </a:lnTo>
                      <a:lnTo>
                        <a:pt x="388" y="27"/>
                      </a:lnTo>
                      <a:lnTo>
                        <a:pt x="359" y="25"/>
                      </a:lnTo>
                      <a:lnTo>
                        <a:pt x="330" y="25"/>
                      </a:lnTo>
                      <a:lnTo>
                        <a:pt x="301" y="23"/>
                      </a:lnTo>
                      <a:lnTo>
                        <a:pt x="273" y="23"/>
                      </a:lnTo>
                      <a:lnTo>
                        <a:pt x="246" y="21"/>
                      </a:lnTo>
                      <a:lnTo>
                        <a:pt x="221" y="21"/>
                      </a:lnTo>
                      <a:lnTo>
                        <a:pt x="194" y="21"/>
                      </a:lnTo>
                      <a:lnTo>
                        <a:pt x="171" y="21"/>
                      </a:lnTo>
                      <a:lnTo>
                        <a:pt x="145" y="19"/>
                      </a:lnTo>
                      <a:lnTo>
                        <a:pt x="122" y="17"/>
                      </a:lnTo>
                      <a:lnTo>
                        <a:pt x="99" y="15"/>
                      </a:lnTo>
                      <a:lnTo>
                        <a:pt x="78" y="15"/>
                      </a:lnTo>
                      <a:lnTo>
                        <a:pt x="54" y="13"/>
                      </a:lnTo>
                      <a:lnTo>
                        <a:pt x="35" y="11"/>
                      </a:lnTo>
                      <a:lnTo>
                        <a:pt x="17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d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916880" y="-271080"/>
                  <a:ext cx="576360" cy="80280"/>
                </a:xfrm>
                <a:custGeom>
                  <a:avLst/>
                  <a:gdLst/>
                  <a:ahLst/>
                  <a:rect l="l" t="t" r="r" b="b"/>
                  <a:pathLst>
                    <a:path w="2063" h="287">
                      <a:moveTo>
                        <a:pt x="155" y="142"/>
                      </a:moveTo>
                      <a:lnTo>
                        <a:pt x="147" y="142"/>
                      </a:lnTo>
                      <a:lnTo>
                        <a:pt x="133" y="142"/>
                      </a:lnTo>
                      <a:lnTo>
                        <a:pt x="122" y="142"/>
                      </a:lnTo>
                      <a:lnTo>
                        <a:pt x="112" y="142"/>
                      </a:lnTo>
                      <a:lnTo>
                        <a:pt x="100" y="144"/>
                      </a:lnTo>
                      <a:lnTo>
                        <a:pt x="89" y="148"/>
                      </a:lnTo>
                      <a:lnTo>
                        <a:pt x="73" y="150"/>
                      </a:lnTo>
                      <a:lnTo>
                        <a:pt x="62" y="154"/>
                      </a:lnTo>
                      <a:lnTo>
                        <a:pt x="48" y="159"/>
                      </a:lnTo>
                      <a:lnTo>
                        <a:pt x="38" y="165"/>
                      </a:lnTo>
                      <a:lnTo>
                        <a:pt x="27" y="171"/>
                      </a:lnTo>
                      <a:lnTo>
                        <a:pt x="17" y="179"/>
                      </a:lnTo>
                      <a:lnTo>
                        <a:pt x="11" y="188"/>
                      </a:lnTo>
                      <a:lnTo>
                        <a:pt x="7" y="200"/>
                      </a:lnTo>
                      <a:lnTo>
                        <a:pt x="0" y="220"/>
                      </a:lnTo>
                      <a:lnTo>
                        <a:pt x="0" y="237"/>
                      </a:lnTo>
                      <a:lnTo>
                        <a:pt x="0" y="243"/>
                      </a:lnTo>
                      <a:lnTo>
                        <a:pt x="7" y="251"/>
                      </a:lnTo>
                      <a:lnTo>
                        <a:pt x="13" y="256"/>
                      </a:lnTo>
                      <a:lnTo>
                        <a:pt x="27" y="264"/>
                      </a:lnTo>
                      <a:lnTo>
                        <a:pt x="38" y="268"/>
                      </a:lnTo>
                      <a:lnTo>
                        <a:pt x="56" y="272"/>
                      </a:lnTo>
                      <a:lnTo>
                        <a:pt x="65" y="272"/>
                      </a:lnTo>
                      <a:lnTo>
                        <a:pt x="77" y="276"/>
                      </a:lnTo>
                      <a:lnTo>
                        <a:pt x="89" y="276"/>
                      </a:lnTo>
                      <a:lnTo>
                        <a:pt x="104" y="280"/>
                      </a:lnTo>
                      <a:lnTo>
                        <a:pt x="116" y="280"/>
                      </a:lnTo>
                      <a:lnTo>
                        <a:pt x="133" y="282"/>
                      </a:lnTo>
                      <a:lnTo>
                        <a:pt x="149" y="282"/>
                      </a:lnTo>
                      <a:lnTo>
                        <a:pt x="168" y="284"/>
                      </a:lnTo>
                      <a:lnTo>
                        <a:pt x="186" y="284"/>
                      </a:lnTo>
                      <a:lnTo>
                        <a:pt x="207" y="285"/>
                      </a:lnTo>
                      <a:lnTo>
                        <a:pt x="217" y="285"/>
                      </a:lnTo>
                      <a:lnTo>
                        <a:pt x="228" y="285"/>
                      </a:lnTo>
                      <a:lnTo>
                        <a:pt x="240" y="285"/>
                      </a:lnTo>
                      <a:lnTo>
                        <a:pt x="254" y="287"/>
                      </a:lnTo>
                      <a:lnTo>
                        <a:pt x="265" y="285"/>
                      </a:lnTo>
                      <a:lnTo>
                        <a:pt x="279" y="285"/>
                      </a:lnTo>
                      <a:lnTo>
                        <a:pt x="292" y="285"/>
                      </a:lnTo>
                      <a:lnTo>
                        <a:pt x="310" y="285"/>
                      </a:lnTo>
                      <a:lnTo>
                        <a:pt x="325" y="285"/>
                      </a:lnTo>
                      <a:lnTo>
                        <a:pt x="345" y="285"/>
                      </a:lnTo>
                      <a:lnTo>
                        <a:pt x="362" y="285"/>
                      </a:lnTo>
                      <a:lnTo>
                        <a:pt x="385" y="285"/>
                      </a:lnTo>
                      <a:lnTo>
                        <a:pt x="405" y="285"/>
                      </a:lnTo>
                      <a:lnTo>
                        <a:pt x="428" y="285"/>
                      </a:lnTo>
                      <a:lnTo>
                        <a:pt x="451" y="285"/>
                      </a:lnTo>
                      <a:lnTo>
                        <a:pt x="477" y="285"/>
                      </a:lnTo>
                      <a:lnTo>
                        <a:pt x="500" y="285"/>
                      </a:lnTo>
                      <a:lnTo>
                        <a:pt x="527" y="285"/>
                      </a:lnTo>
                      <a:lnTo>
                        <a:pt x="554" y="285"/>
                      </a:lnTo>
                      <a:lnTo>
                        <a:pt x="583" y="285"/>
                      </a:lnTo>
                      <a:lnTo>
                        <a:pt x="610" y="284"/>
                      </a:lnTo>
                      <a:lnTo>
                        <a:pt x="639" y="284"/>
                      </a:lnTo>
                      <a:lnTo>
                        <a:pt x="669" y="282"/>
                      </a:lnTo>
                      <a:lnTo>
                        <a:pt x="698" y="282"/>
                      </a:lnTo>
                      <a:lnTo>
                        <a:pt x="727" y="280"/>
                      </a:lnTo>
                      <a:lnTo>
                        <a:pt x="760" y="280"/>
                      </a:lnTo>
                      <a:lnTo>
                        <a:pt x="791" y="280"/>
                      </a:lnTo>
                      <a:lnTo>
                        <a:pt x="824" y="280"/>
                      </a:lnTo>
                      <a:lnTo>
                        <a:pt x="855" y="278"/>
                      </a:lnTo>
                      <a:lnTo>
                        <a:pt x="888" y="278"/>
                      </a:lnTo>
                      <a:lnTo>
                        <a:pt x="921" y="276"/>
                      </a:lnTo>
                      <a:lnTo>
                        <a:pt x="956" y="276"/>
                      </a:lnTo>
                      <a:lnTo>
                        <a:pt x="989" y="274"/>
                      </a:lnTo>
                      <a:lnTo>
                        <a:pt x="1023" y="274"/>
                      </a:lnTo>
                      <a:lnTo>
                        <a:pt x="1058" y="274"/>
                      </a:lnTo>
                      <a:lnTo>
                        <a:pt x="1093" y="274"/>
                      </a:lnTo>
                      <a:lnTo>
                        <a:pt x="1126" y="270"/>
                      </a:lnTo>
                      <a:lnTo>
                        <a:pt x="1161" y="270"/>
                      </a:lnTo>
                      <a:lnTo>
                        <a:pt x="1196" y="266"/>
                      </a:lnTo>
                      <a:lnTo>
                        <a:pt x="1231" y="266"/>
                      </a:lnTo>
                      <a:lnTo>
                        <a:pt x="1264" y="262"/>
                      </a:lnTo>
                      <a:lnTo>
                        <a:pt x="1299" y="262"/>
                      </a:lnTo>
                      <a:lnTo>
                        <a:pt x="1334" y="258"/>
                      </a:lnTo>
                      <a:lnTo>
                        <a:pt x="1369" y="258"/>
                      </a:lnTo>
                      <a:lnTo>
                        <a:pt x="1402" y="254"/>
                      </a:lnTo>
                      <a:lnTo>
                        <a:pt x="1437" y="252"/>
                      </a:lnTo>
                      <a:lnTo>
                        <a:pt x="1470" y="249"/>
                      </a:lnTo>
                      <a:lnTo>
                        <a:pt x="1504" y="247"/>
                      </a:lnTo>
                      <a:lnTo>
                        <a:pt x="1537" y="243"/>
                      </a:lnTo>
                      <a:lnTo>
                        <a:pt x="1570" y="241"/>
                      </a:lnTo>
                      <a:lnTo>
                        <a:pt x="1603" y="237"/>
                      </a:lnTo>
                      <a:lnTo>
                        <a:pt x="1636" y="235"/>
                      </a:lnTo>
                      <a:lnTo>
                        <a:pt x="1667" y="229"/>
                      </a:lnTo>
                      <a:lnTo>
                        <a:pt x="1698" y="227"/>
                      </a:lnTo>
                      <a:lnTo>
                        <a:pt x="1727" y="221"/>
                      </a:lnTo>
                      <a:lnTo>
                        <a:pt x="1759" y="220"/>
                      </a:lnTo>
                      <a:lnTo>
                        <a:pt x="1788" y="214"/>
                      </a:lnTo>
                      <a:lnTo>
                        <a:pt x="1817" y="212"/>
                      </a:lnTo>
                      <a:lnTo>
                        <a:pt x="1844" y="206"/>
                      </a:lnTo>
                      <a:lnTo>
                        <a:pt x="1873" y="204"/>
                      </a:lnTo>
                      <a:lnTo>
                        <a:pt x="1898" y="198"/>
                      </a:lnTo>
                      <a:lnTo>
                        <a:pt x="1923" y="194"/>
                      </a:lnTo>
                      <a:lnTo>
                        <a:pt x="1949" y="188"/>
                      </a:lnTo>
                      <a:lnTo>
                        <a:pt x="1974" y="185"/>
                      </a:lnTo>
                      <a:lnTo>
                        <a:pt x="1995" y="179"/>
                      </a:lnTo>
                      <a:lnTo>
                        <a:pt x="2018" y="173"/>
                      </a:lnTo>
                      <a:lnTo>
                        <a:pt x="2040" y="167"/>
                      </a:lnTo>
                      <a:lnTo>
                        <a:pt x="2063" y="163"/>
                      </a:lnTo>
                      <a:lnTo>
                        <a:pt x="2016" y="0"/>
                      </a:lnTo>
                      <a:lnTo>
                        <a:pt x="2011" y="0"/>
                      </a:lnTo>
                      <a:lnTo>
                        <a:pt x="2001" y="0"/>
                      </a:lnTo>
                      <a:lnTo>
                        <a:pt x="1991" y="0"/>
                      </a:lnTo>
                      <a:lnTo>
                        <a:pt x="1983" y="0"/>
                      </a:lnTo>
                      <a:lnTo>
                        <a:pt x="1972" y="2"/>
                      </a:lnTo>
                      <a:lnTo>
                        <a:pt x="1960" y="4"/>
                      </a:lnTo>
                      <a:lnTo>
                        <a:pt x="1945" y="4"/>
                      </a:lnTo>
                      <a:lnTo>
                        <a:pt x="1929" y="4"/>
                      </a:lnTo>
                      <a:lnTo>
                        <a:pt x="1912" y="6"/>
                      </a:lnTo>
                      <a:lnTo>
                        <a:pt x="1894" y="8"/>
                      </a:lnTo>
                      <a:lnTo>
                        <a:pt x="1873" y="10"/>
                      </a:lnTo>
                      <a:lnTo>
                        <a:pt x="1854" y="12"/>
                      </a:lnTo>
                      <a:lnTo>
                        <a:pt x="1832" y="14"/>
                      </a:lnTo>
                      <a:lnTo>
                        <a:pt x="1811" y="18"/>
                      </a:lnTo>
                      <a:lnTo>
                        <a:pt x="1784" y="18"/>
                      </a:lnTo>
                      <a:lnTo>
                        <a:pt x="1759" y="22"/>
                      </a:lnTo>
                      <a:lnTo>
                        <a:pt x="1731" y="22"/>
                      </a:lnTo>
                      <a:lnTo>
                        <a:pt x="1706" y="26"/>
                      </a:lnTo>
                      <a:lnTo>
                        <a:pt x="1677" y="28"/>
                      </a:lnTo>
                      <a:lnTo>
                        <a:pt x="1648" y="31"/>
                      </a:lnTo>
                      <a:lnTo>
                        <a:pt x="1617" y="33"/>
                      </a:lnTo>
                      <a:lnTo>
                        <a:pt x="1588" y="37"/>
                      </a:lnTo>
                      <a:lnTo>
                        <a:pt x="1555" y="39"/>
                      </a:lnTo>
                      <a:lnTo>
                        <a:pt x="1522" y="43"/>
                      </a:lnTo>
                      <a:lnTo>
                        <a:pt x="1487" y="45"/>
                      </a:lnTo>
                      <a:lnTo>
                        <a:pt x="1454" y="49"/>
                      </a:lnTo>
                      <a:lnTo>
                        <a:pt x="1419" y="51"/>
                      </a:lnTo>
                      <a:lnTo>
                        <a:pt x="1384" y="55"/>
                      </a:lnTo>
                      <a:lnTo>
                        <a:pt x="1349" y="57"/>
                      </a:lnTo>
                      <a:lnTo>
                        <a:pt x="1314" y="62"/>
                      </a:lnTo>
                      <a:lnTo>
                        <a:pt x="1276" y="64"/>
                      </a:lnTo>
                      <a:lnTo>
                        <a:pt x="1239" y="68"/>
                      </a:lnTo>
                      <a:lnTo>
                        <a:pt x="1202" y="70"/>
                      </a:lnTo>
                      <a:lnTo>
                        <a:pt x="1165" y="74"/>
                      </a:lnTo>
                      <a:lnTo>
                        <a:pt x="1126" y="76"/>
                      </a:lnTo>
                      <a:lnTo>
                        <a:pt x="1087" y="80"/>
                      </a:lnTo>
                      <a:lnTo>
                        <a:pt x="1049" y="82"/>
                      </a:lnTo>
                      <a:lnTo>
                        <a:pt x="1012" y="86"/>
                      </a:lnTo>
                      <a:lnTo>
                        <a:pt x="971" y="88"/>
                      </a:lnTo>
                      <a:lnTo>
                        <a:pt x="932" y="92"/>
                      </a:lnTo>
                      <a:lnTo>
                        <a:pt x="894" y="93"/>
                      </a:lnTo>
                      <a:lnTo>
                        <a:pt x="857" y="97"/>
                      </a:lnTo>
                      <a:lnTo>
                        <a:pt x="816" y="99"/>
                      </a:lnTo>
                      <a:lnTo>
                        <a:pt x="779" y="103"/>
                      </a:lnTo>
                      <a:lnTo>
                        <a:pt x="740" y="105"/>
                      </a:lnTo>
                      <a:lnTo>
                        <a:pt x="703" y="109"/>
                      </a:lnTo>
                      <a:lnTo>
                        <a:pt x="663" y="109"/>
                      </a:lnTo>
                      <a:lnTo>
                        <a:pt x="626" y="113"/>
                      </a:lnTo>
                      <a:lnTo>
                        <a:pt x="587" y="115"/>
                      </a:lnTo>
                      <a:lnTo>
                        <a:pt x="552" y="119"/>
                      </a:lnTo>
                      <a:lnTo>
                        <a:pt x="513" y="119"/>
                      </a:lnTo>
                      <a:lnTo>
                        <a:pt x="479" y="123"/>
                      </a:lnTo>
                      <a:lnTo>
                        <a:pt x="444" y="124"/>
                      </a:lnTo>
                      <a:lnTo>
                        <a:pt x="409" y="128"/>
                      </a:lnTo>
                      <a:lnTo>
                        <a:pt x="374" y="128"/>
                      </a:lnTo>
                      <a:lnTo>
                        <a:pt x="339" y="130"/>
                      </a:lnTo>
                      <a:lnTo>
                        <a:pt x="306" y="132"/>
                      </a:lnTo>
                      <a:lnTo>
                        <a:pt x="275" y="134"/>
                      </a:lnTo>
                      <a:lnTo>
                        <a:pt x="242" y="136"/>
                      </a:lnTo>
                      <a:lnTo>
                        <a:pt x="211" y="138"/>
                      </a:lnTo>
                      <a:lnTo>
                        <a:pt x="182" y="140"/>
                      </a:lnTo>
                      <a:lnTo>
                        <a:pt x="155" y="142"/>
                      </a:lnTo>
                      <a:close/>
                    </a:path>
                  </a:pathLst>
                </a:custGeom>
                <a:solidFill>
                  <a:srgbClr val="d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951440" y="-750960"/>
                  <a:ext cx="504360" cy="479160"/>
                </a:xfrm>
                <a:custGeom>
                  <a:avLst/>
                  <a:gdLst/>
                  <a:ahLst/>
                  <a:rect l="l" t="t" r="r" b="b"/>
                  <a:pathLst>
                    <a:path w="1803" h="1714">
                      <a:moveTo>
                        <a:pt x="1803" y="157"/>
                      </a:moveTo>
                      <a:lnTo>
                        <a:pt x="1801" y="153"/>
                      </a:lnTo>
                      <a:lnTo>
                        <a:pt x="1799" y="148"/>
                      </a:lnTo>
                      <a:lnTo>
                        <a:pt x="1794" y="138"/>
                      </a:lnTo>
                      <a:lnTo>
                        <a:pt x="1790" y="128"/>
                      </a:lnTo>
                      <a:lnTo>
                        <a:pt x="1782" y="115"/>
                      </a:lnTo>
                      <a:lnTo>
                        <a:pt x="1772" y="101"/>
                      </a:lnTo>
                      <a:lnTo>
                        <a:pt x="1761" y="85"/>
                      </a:lnTo>
                      <a:lnTo>
                        <a:pt x="1749" y="72"/>
                      </a:lnTo>
                      <a:lnTo>
                        <a:pt x="1730" y="54"/>
                      </a:lnTo>
                      <a:lnTo>
                        <a:pt x="1712" y="41"/>
                      </a:lnTo>
                      <a:lnTo>
                        <a:pt x="1699" y="33"/>
                      </a:lnTo>
                      <a:lnTo>
                        <a:pt x="1687" y="27"/>
                      </a:lnTo>
                      <a:lnTo>
                        <a:pt x="1675" y="21"/>
                      </a:lnTo>
                      <a:lnTo>
                        <a:pt x="1664" y="18"/>
                      </a:lnTo>
                      <a:lnTo>
                        <a:pt x="1648" y="12"/>
                      </a:lnTo>
                      <a:lnTo>
                        <a:pt x="1633" y="8"/>
                      </a:lnTo>
                      <a:lnTo>
                        <a:pt x="1617" y="4"/>
                      </a:lnTo>
                      <a:lnTo>
                        <a:pt x="1602" y="2"/>
                      </a:lnTo>
                      <a:lnTo>
                        <a:pt x="1582" y="0"/>
                      </a:lnTo>
                      <a:lnTo>
                        <a:pt x="1565" y="0"/>
                      </a:lnTo>
                      <a:lnTo>
                        <a:pt x="1545" y="0"/>
                      </a:lnTo>
                      <a:lnTo>
                        <a:pt x="1528" y="4"/>
                      </a:lnTo>
                      <a:lnTo>
                        <a:pt x="1514" y="4"/>
                      </a:lnTo>
                      <a:lnTo>
                        <a:pt x="1503" y="4"/>
                      </a:lnTo>
                      <a:lnTo>
                        <a:pt x="1489" y="6"/>
                      </a:lnTo>
                      <a:lnTo>
                        <a:pt x="1477" y="8"/>
                      </a:lnTo>
                      <a:lnTo>
                        <a:pt x="1462" y="8"/>
                      </a:lnTo>
                      <a:lnTo>
                        <a:pt x="1448" y="12"/>
                      </a:lnTo>
                      <a:lnTo>
                        <a:pt x="1433" y="14"/>
                      </a:lnTo>
                      <a:lnTo>
                        <a:pt x="1417" y="18"/>
                      </a:lnTo>
                      <a:lnTo>
                        <a:pt x="1398" y="18"/>
                      </a:lnTo>
                      <a:lnTo>
                        <a:pt x="1380" y="21"/>
                      </a:lnTo>
                      <a:lnTo>
                        <a:pt x="1361" y="23"/>
                      </a:lnTo>
                      <a:lnTo>
                        <a:pt x="1344" y="27"/>
                      </a:lnTo>
                      <a:lnTo>
                        <a:pt x="1322" y="31"/>
                      </a:lnTo>
                      <a:lnTo>
                        <a:pt x="1303" y="35"/>
                      </a:lnTo>
                      <a:lnTo>
                        <a:pt x="1283" y="39"/>
                      </a:lnTo>
                      <a:lnTo>
                        <a:pt x="1264" y="45"/>
                      </a:lnTo>
                      <a:lnTo>
                        <a:pt x="1241" y="49"/>
                      </a:lnTo>
                      <a:lnTo>
                        <a:pt x="1218" y="53"/>
                      </a:lnTo>
                      <a:lnTo>
                        <a:pt x="1194" y="56"/>
                      </a:lnTo>
                      <a:lnTo>
                        <a:pt x="1173" y="62"/>
                      </a:lnTo>
                      <a:lnTo>
                        <a:pt x="1148" y="68"/>
                      </a:lnTo>
                      <a:lnTo>
                        <a:pt x="1124" y="74"/>
                      </a:lnTo>
                      <a:lnTo>
                        <a:pt x="1101" y="80"/>
                      </a:lnTo>
                      <a:lnTo>
                        <a:pt x="1078" y="87"/>
                      </a:lnTo>
                      <a:lnTo>
                        <a:pt x="1051" y="93"/>
                      </a:lnTo>
                      <a:lnTo>
                        <a:pt x="1027" y="99"/>
                      </a:lnTo>
                      <a:lnTo>
                        <a:pt x="1000" y="107"/>
                      </a:lnTo>
                      <a:lnTo>
                        <a:pt x="977" y="115"/>
                      </a:lnTo>
                      <a:lnTo>
                        <a:pt x="950" y="120"/>
                      </a:lnTo>
                      <a:lnTo>
                        <a:pt x="925" y="130"/>
                      </a:lnTo>
                      <a:lnTo>
                        <a:pt x="899" y="138"/>
                      </a:lnTo>
                      <a:lnTo>
                        <a:pt x="874" y="149"/>
                      </a:lnTo>
                      <a:lnTo>
                        <a:pt x="845" y="157"/>
                      </a:lnTo>
                      <a:lnTo>
                        <a:pt x="820" y="167"/>
                      </a:lnTo>
                      <a:lnTo>
                        <a:pt x="791" y="175"/>
                      </a:lnTo>
                      <a:lnTo>
                        <a:pt x="766" y="186"/>
                      </a:lnTo>
                      <a:lnTo>
                        <a:pt x="739" y="196"/>
                      </a:lnTo>
                      <a:lnTo>
                        <a:pt x="713" y="208"/>
                      </a:lnTo>
                      <a:lnTo>
                        <a:pt x="686" y="219"/>
                      </a:lnTo>
                      <a:lnTo>
                        <a:pt x="661" y="231"/>
                      </a:lnTo>
                      <a:lnTo>
                        <a:pt x="632" y="243"/>
                      </a:lnTo>
                      <a:lnTo>
                        <a:pt x="607" y="254"/>
                      </a:lnTo>
                      <a:lnTo>
                        <a:pt x="579" y="266"/>
                      </a:lnTo>
                      <a:lnTo>
                        <a:pt x="554" y="279"/>
                      </a:lnTo>
                      <a:lnTo>
                        <a:pt x="529" y="291"/>
                      </a:lnTo>
                      <a:lnTo>
                        <a:pt x="504" y="307"/>
                      </a:lnTo>
                      <a:lnTo>
                        <a:pt x="479" y="320"/>
                      </a:lnTo>
                      <a:lnTo>
                        <a:pt x="455" y="338"/>
                      </a:lnTo>
                      <a:lnTo>
                        <a:pt x="428" y="351"/>
                      </a:lnTo>
                      <a:lnTo>
                        <a:pt x="403" y="367"/>
                      </a:lnTo>
                      <a:lnTo>
                        <a:pt x="380" y="382"/>
                      </a:lnTo>
                      <a:lnTo>
                        <a:pt x="356" y="400"/>
                      </a:lnTo>
                      <a:lnTo>
                        <a:pt x="331" y="415"/>
                      </a:lnTo>
                      <a:lnTo>
                        <a:pt x="308" y="433"/>
                      </a:lnTo>
                      <a:lnTo>
                        <a:pt x="287" y="450"/>
                      </a:lnTo>
                      <a:lnTo>
                        <a:pt x="265" y="469"/>
                      </a:lnTo>
                      <a:lnTo>
                        <a:pt x="242" y="487"/>
                      </a:lnTo>
                      <a:lnTo>
                        <a:pt x="221" y="504"/>
                      </a:lnTo>
                      <a:lnTo>
                        <a:pt x="199" y="524"/>
                      </a:lnTo>
                      <a:lnTo>
                        <a:pt x="182" y="545"/>
                      </a:lnTo>
                      <a:lnTo>
                        <a:pt x="163" y="564"/>
                      </a:lnTo>
                      <a:lnTo>
                        <a:pt x="143" y="586"/>
                      </a:lnTo>
                      <a:lnTo>
                        <a:pt x="126" y="609"/>
                      </a:lnTo>
                      <a:lnTo>
                        <a:pt x="110" y="632"/>
                      </a:lnTo>
                      <a:lnTo>
                        <a:pt x="106" y="632"/>
                      </a:lnTo>
                      <a:lnTo>
                        <a:pt x="102" y="636"/>
                      </a:lnTo>
                      <a:lnTo>
                        <a:pt x="95" y="642"/>
                      </a:lnTo>
                      <a:lnTo>
                        <a:pt x="89" y="654"/>
                      </a:lnTo>
                      <a:lnTo>
                        <a:pt x="77" y="665"/>
                      </a:lnTo>
                      <a:lnTo>
                        <a:pt x="67" y="683"/>
                      </a:lnTo>
                      <a:lnTo>
                        <a:pt x="62" y="692"/>
                      </a:lnTo>
                      <a:lnTo>
                        <a:pt x="58" y="704"/>
                      </a:lnTo>
                      <a:lnTo>
                        <a:pt x="52" y="716"/>
                      </a:lnTo>
                      <a:lnTo>
                        <a:pt x="48" y="729"/>
                      </a:lnTo>
                      <a:lnTo>
                        <a:pt x="42" y="741"/>
                      </a:lnTo>
                      <a:lnTo>
                        <a:pt x="36" y="755"/>
                      </a:lnTo>
                      <a:lnTo>
                        <a:pt x="31" y="770"/>
                      </a:lnTo>
                      <a:lnTo>
                        <a:pt x="25" y="787"/>
                      </a:lnTo>
                      <a:lnTo>
                        <a:pt x="19" y="803"/>
                      </a:lnTo>
                      <a:lnTo>
                        <a:pt x="15" y="822"/>
                      </a:lnTo>
                      <a:lnTo>
                        <a:pt x="13" y="832"/>
                      </a:lnTo>
                      <a:lnTo>
                        <a:pt x="11" y="842"/>
                      </a:lnTo>
                      <a:lnTo>
                        <a:pt x="9" y="853"/>
                      </a:lnTo>
                      <a:lnTo>
                        <a:pt x="9" y="865"/>
                      </a:lnTo>
                      <a:lnTo>
                        <a:pt x="7" y="875"/>
                      </a:lnTo>
                      <a:lnTo>
                        <a:pt x="5" y="886"/>
                      </a:lnTo>
                      <a:lnTo>
                        <a:pt x="3" y="898"/>
                      </a:lnTo>
                      <a:lnTo>
                        <a:pt x="3" y="910"/>
                      </a:lnTo>
                      <a:lnTo>
                        <a:pt x="2" y="921"/>
                      </a:lnTo>
                      <a:lnTo>
                        <a:pt x="0" y="933"/>
                      </a:lnTo>
                      <a:lnTo>
                        <a:pt x="0" y="946"/>
                      </a:lnTo>
                      <a:lnTo>
                        <a:pt x="0" y="960"/>
                      </a:lnTo>
                      <a:lnTo>
                        <a:pt x="0" y="972"/>
                      </a:lnTo>
                      <a:lnTo>
                        <a:pt x="0" y="985"/>
                      </a:lnTo>
                      <a:lnTo>
                        <a:pt x="0" y="999"/>
                      </a:lnTo>
                      <a:lnTo>
                        <a:pt x="0" y="1014"/>
                      </a:lnTo>
                      <a:lnTo>
                        <a:pt x="0" y="1028"/>
                      </a:lnTo>
                      <a:lnTo>
                        <a:pt x="0" y="1043"/>
                      </a:lnTo>
                      <a:lnTo>
                        <a:pt x="2" y="1059"/>
                      </a:lnTo>
                      <a:lnTo>
                        <a:pt x="3" y="1076"/>
                      </a:lnTo>
                      <a:lnTo>
                        <a:pt x="3" y="1090"/>
                      </a:lnTo>
                      <a:lnTo>
                        <a:pt x="3" y="1106"/>
                      </a:lnTo>
                      <a:lnTo>
                        <a:pt x="3" y="1121"/>
                      </a:lnTo>
                      <a:lnTo>
                        <a:pt x="5" y="1137"/>
                      </a:lnTo>
                      <a:lnTo>
                        <a:pt x="5" y="1150"/>
                      </a:lnTo>
                      <a:lnTo>
                        <a:pt x="7" y="1168"/>
                      </a:lnTo>
                      <a:lnTo>
                        <a:pt x="9" y="1181"/>
                      </a:lnTo>
                      <a:lnTo>
                        <a:pt x="11" y="1199"/>
                      </a:lnTo>
                      <a:lnTo>
                        <a:pt x="11" y="1212"/>
                      </a:lnTo>
                      <a:lnTo>
                        <a:pt x="11" y="1228"/>
                      </a:lnTo>
                      <a:lnTo>
                        <a:pt x="13" y="1241"/>
                      </a:lnTo>
                      <a:lnTo>
                        <a:pt x="15" y="1257"/>
                      </a:lnTo>
                      <a:lnTo>
                        <a:pt x="15" y="1270"/>
                      </a:lnTo>
                      <a:lnTo>
                        <a:pt x="17" y="1286"/>
                      </a:lnTo>
                      <a:lnTo>
                        <a:pt x="19" y="1299"/>
                      </a:lnTo>
                      <a:lnTo>
                        <a:pt x="21" y="1315"/>
                      </a:lnTo>
                      <a:lnTo>
                        <a:pt x="21" y="1327"/>
                      </a:lnTo>
                      <a:lnTo>
                        <a:pt x="23" y="1342"/>
                      </a:lnTo>
                      <a:lnTo>
                        <a:pt x="25" y="1354"/>
                      </a:lnTo>
                      <a:lnTo>
                        <a:pt x="27" y="1369"/>
                      </a:lnTo>
                      <a:lnTo>
                        <a:pt x="27" y="1381"/>
                      </a:lnTo>
                      <a:lnTo>
                        <a:pt x="29" y="1396"/>
                      </a:lnTo>
                      <a:lnTo>
                        <a:pt x="31" y="1408"/>
                      </a:lnTo>
                      <a:lnTo>
                        <a:pt x="33" y="1424"/>
                      </a:lnTo>
                      <a:lnTo>
                        <a:pt x="33" y="1435"/>
                      </a:lnTo>
                      <a:lnTo>
                        <a:pt x="35" y="1447"/>
                      </a:lnTo>
                      <a:lnTo>
                        <a:pt x="36" y="1458"/>
                      </a:lnTo>
                      <a:lnTo>
                        <a:pt x="38" y="1472"/>
                      </a:lnTo>
                      <a:lnTo>
                        <a:pt x="38" y="1484"/>
                      </a:lnTo>
                      <a:lnTo>
                        <a:pt x="40" y="1495"/>
                      </a:lnTo>
                      <a:lnTo>
                        <a:pt x="42" y="1507"/>
                      </a:lnTo>
                      <a:lnTo>
                        <a:pt x="44" y="1521"/>
                      </a:lnTo>
                      <a:lnTo>
                        <a:pt x="46" y="1540"/>
                      </a:lnTo>
                      <a:lnTo>
                        <a:pt x="48" y="1561"/>
                      </a:lnTo>
                      <a:lnTo>
                        <a:pt x="50" y="1579"/>
                      </a:lnTo>
                      <a:lnTo>
                        <a:pt x="54" y="1598"/>
                      </a:lnTo>
                      <a:lnTo>
                        <a:pt x="56" y="1614"/>
                      </a:lnTo>
                      <a:lnTo>
                        <a:pt x="58" y="1631"/>
                      </a:lnTo>
                      <a:lnTo>
                        <a:pt x="60" y="1645"/>
                      </a:lnTo>
                      <a:lnTo>
                        <a:pt x="64" y="1660"/>
                      </a:lnTo>
                      <a:lnTo>
                        <a:pt x="64" y="1670"/>
                      </a:lnTo>
                      <a:lnTo>
                        <a:pt x="66" y="1681"/>
                      </a:lnTo>
                      <a:lnTo>
                        <a:pt x="66" y="1691"/>
                      </a:lnTo>
                      <a:lnTo>
                        <a:pt x="67" y="1699"/>
                      </a:lnTo>
                      <a:lnTo>
                        <a:pt x="69" y="1709"/>
                      </a:lnTo>
                      <a:lnTo>
                        <a:pt x="71" y="1714"/>
                      </a:lnTo>
                      <a:lnTo>
                        <a:pt x="73" y="1714"/>
                      </a:lnTo>
                      <a:lnTo>
                        <a:pt x="85" y="1714"/>
                      </a:lnTo>
                      <a:lnTo>
                        <a:pt x="91" y="1714"/>
                      </a:lnTo>
                      <a:lnTo>
                        <a:pt x="100" y="1714"/>
                      </a:lnTo>
                      <a:lnTo>
                        <a:pt x="110" y="1714"/>
                      </a:lnTo>
                      <a:lnTo>
                        <a:pt x="124" y="1714"/>
                      </a:lnTo>
                      <a:lnTo>
                        <a:pt x="135" y="1714"/>
                      </a:lnTo>
                      <a:lnTo>
                        <a:pt x="151" y="1714"/>
                      </a:lnTo>
                      <a:lnTo>
                        <a:pt x="168" y="1714"/>
                      </a:lnTo>
                      <a:lnTo>
                        <a:pt x="186" y="1714"/>
                      </a:lnTo>
                      <a:lnTo>
                        <a:pt x="203" y="1714"/>
                      </a:lnTo>
                      <a:lnTo>
                        <a:pt x="225" y="1714"/>
                      </a:lnTo>
                      <a:lnTo>
                        <a:pt x="248" y="1714"/>
                      </a:lnTo>
                      <a:lnTo>
                        <a:pt x="271" y="1714"/>
                      </a:lnTo>
                      <a:lnTo>
                        <a:pt x="294" y="1712"/>
                      </a:lnTo>
                      <a:lnTo>
                        <a:pt x="318" y="1712"/>
                      </a:lnTo>
                      <a:lnTo>
                        <a:pt x="343" y="1712"/>
                      </a:lnTo>
                      <a:lnTo>
                        <a:pt x="372" y="1712"/>
                      </a:lnTo>
                      <a:lnTo>
                        <a:pt x="397" y="1711"/>
                      </a:lnTo>
                      <a:lnTo>
                        <a:pt x="426" y="1711"/>
                      </a:lnTo>
                      <a:lnTo>
                        <a:pt x="455" y="1711"/>
                      </a:lnTo>
                      <a:lnTo>
                        <a:pt x="486" y="1711"/>
                      </a:lnTo>
                      <a:lnTo>
                        <a:pt x="515" y="1709"/>
                      </a:lnTo>
                      <a:lnTo>
                        <a:pt x="548" y="1709"/>
                      </a:lnTo>
                      <a:lnTo>
                        <a:pt x="579" y="1709"/>
                      </a:lnTo>
                      <a:lnTo>
                        <a:pt x="612" y="1709"/>
                      </a:lnTo>
                      <a:lnTo>
                        <a:pt x="645" y="1709"/>
                      </a:lnTo>
                      <a:lnTo>
                        <a:pt x="680" y="1709"/>
                      </a:lnTo>
                      <a:lnTo>
                        <a:pt x="715" y="1709"/>
                      </a:lnTo>
                      <a:lnTo>
                        <a:pt x="750" y="1709"/>
                      </a:lnTo>
                      <a:lnTo>
                        <a:pt x="783" y="1707"/>
                      </a:lnTo>
                      <a:lnTo>
                        <a:pt x="818" y="1705"/>
                      </a:lnTo>
                      <a:lnTo>
                        <a:pt x="853" y="1703"/>
                      </a:lnTo>
                      <a:lnTo>
                        <a:pt x="890" y="1703"/>
                      </a:lnTo>
                      <a:lnTo>
                        <a:pt x="925" y="1701"/>
                      </a:lnTo>
                      <a:lnTo>
                        <a:pt x="960" y="1701"/>
                      </a:lnTo>
                      <a:lnTo>
                        <a:pt x="996" y="1699"/>
                      </a:lnTo>
                      <a:lnTo>
                        <a:pt x="1033" y="1699"/>
                      </a:lnTo>
                      <a:lnTo>
                        <a:pt x="1068" y="1697"/>
                      </a:lnTo>
                      <a:lnTo>
                        <a:pt x="1103" y="1695"/>
                      </a:lnTo>
                      <a:lnTo>
                        <a:pt x="1138" y="1693"/>
                      </a:lnTo>
                      <a:lnTo>
                        <a:pt x="1175" y="1693"/>
                      </a:lnTo>
                      <a:lnTo>
                        <a:pt x="1210" y="1691"/>
                      </a:lnTo>
                      <a:lnTo>
                        <a:pt x="1245" y="1689"/>
                      </a:lnTo>
                      <a:lnTo>
                        <a:pt x="1280" y="1687"/>
                      </a:lnTo>
                      <a:lnTo>
                        <a:pt x="1315" y="1687"/>
                      </a:lnTo>
                      <a:lnTo>
                        <a:pt x="1346" y="1683"/>
                      </a:lnTo>
                      <a:lnTo>
                        <a:pt x="1379" y="1681"/>
                      </a:lnTo>
                      <a:lnTo>
                        <a:pt x="1411" y="1680"/>
                      </a:lnTo>
                      <a:lnTo>
                        <a:pt x="1444" y="1678"/>
                      </a:lnTo>
                      <a:lnTo>
                        <a:pt x="1475" y="1674"/>
                      </a:lnTo>
                      <a:lnTo>
                        <a:pt x="1507" y="1672"/>
                      </a:lnTo>
                      <a:lnTo>
                        <a:pt x="1538" y="1670"/>
                      </a:lnTo>
                      <a:lnTo>
                        <a:pt x="1569" y="1668"/>
                      </a:lnTo>
                      <a:lnTo>
                        <a:pt x="1596" y="1664"/>
                      </a:lnTo>
                      <a:lnTo>
                        <a:pt x="1625" y="1662"/>
                      </a:lnTo>
                      <a:lnTo>
                        <a:pt x="1650" y="1658"/>
                      </a:lnTo>
                      <a:lnTo>
                        <a:pt x="1677" y="1656"/>
                      </a:lnTo>
                      <a:lnTo>
                        <a:pt x="1702" y="1652"/>
                      </a:lnTo>
                      <a:lnTo>
                        <a:pt x="1728" y="1650"/>
                      </a:lnTo>
                      <a:lnTo>
                        <a:pt x="1751" y="1647"/>
                      </a:lnTo>
                      <a:lnTo>
                        <a:pt x="1774" y="1645"/>
                      </a:lnTo>
                      <a:lnTo>
                        <a:pt x="1803" y="157"/>
                      </a:lnTo>
                      <a:close/>
                    </a:path>
                  </a:pathLst>
                </a:custGeom>
                <a:solidFill>
                  <a:srgbClr val="d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283000" y="-724680"/>
                  <a:ext cx="224640" cy="73080"/>
                </a:xfrm>
                <a:custGeom>
                  <a:avLst/>
                  <a:gdLst/>
                  <a:ahLst/>
                  <a:rect l="l" t="t" r="r" b="b"/>
                  <a:pathLst>
                    <a:path w="802" h="264">
                      <a:moveTo>
                        <a:pt x="802" y="250"/>
                      </a:moveTo>
                      <a:lnTo>
                        <a:pt x="800" y="247"/>
                      </a:lnTo>
                      <a:lnTo>
                        <a:pt x="799" y="239"/>
                      </a:lnTo>
                      <a:lnTo>
                        <a:pt x="793" y="227"/>
                      </a:lnTo>
                      <a:lnTo>
                        <a:pt x="789" y="212"/>
                      </a:lnTo>
                      <a:lnTo>
                        <a:pt x="781" y="192"/>
                      </a:lnTo>
                      <a:lnTo>
                        <a:pt x="773" y="173"/>
                      </a:lnTo>
                      <a:lnTo>
                        <a:pt x="768" y="161"/>
                      </a:lnTo>
                      <a:lnTo>
                        <a:pt x="762" y="151"/>
                      </a:lnTo>
                      <a:lnTo>
                        <a:pt x="756" y="140"/>
                      </a:lnTo>
                      <a:lnTo>
                        <a:pt x="752" y="130"/>
                      </a:lnTo>
                      <a:lnTo>
                        <a:pt x="744" y="119"/>
                      </a:lnTo>
                      <a:lnTo>
                        <a:pt x="736" y="107"/>
                      </a:lnTo>
                      <a:lnTo>
                        <a:pt x="729" y="95"/>
                      </a:lnTo>
                      <a:lnTo>
                        <a:pt x="721" y="84"/>
                      </a:lnTo>
                      <a:lnTo>
                        <a:pt x="702" y="62"/>
                      </a:lnTo>
                      <a:lnTo>
                        <a:pt x="682" y="45"/>
                      </a:lnTo>
                      <a:lnTo>
                        <a:pt x="669" y="35"/>
                      </a:lnTo>
                      <a:lnTo>
                        <a:pt x="657" y="27"/>
                      </a:lnTo>
                      <a:lnTo>
                        <a:pt x="645" y="22"/>
                      </a:lnTo>
                      <a:lnTo>
                        <a:pt x="634" y="16"/>
                      </a:lnTo>
                      <a:lnTo>
                        <a:pt x="618" y="10"/>
                      </a:lnTo>
                      <a:lnTo>
                        <a:pt x="605" y="6"/>
                      </a:lnTo>
                      <a:lnTo>
                        <a:pt x="591" y="4"/>
                      </a:lnTo>
                      <a:lnTo>
                        <a:pt x="577" y="4"/>
                      </a:lnTo>
                      <a:lnTo>
                        <a:pt x="560" y="2"/>
                      </a:lnTo>
                      <a:lnTo>
                        <a:pt x="543" y="0"/>
                      </a:lnTo>
                      <a:lnTo>
                        <a:pt x="525" y="0"/>
                      </a:lnTo>
                      <a:lnTo>
                        <a:pt x="508" y="0"/>
                      </a:lnTo>
                      <a:lnTo>
                        <a:pt x="486" y="0"/>
                      </a:lnTo>
                      <a:lnTo>
                        <a:pt x="467" y="0"/>
                      </a:lnTo>
                      <a:lnTo>
                        <a:pt x="446" y="0"/>
                      </a:lnTo>
                      <a:lnTo>
                        <a:pt x="426" y="0"/>
                      </a:lnTo>
                      <a:lnTo>
                        <a:pt x="415" y="0"/>
                      </a:lnTo>
                      <a:lnTo>
                        <a:pt x="403" y="0"/>
                      </a:lnTo>
                      <a:lnTo>
                        <a:pt x="391" y="0"/>
                      </a:lnTo>
                      <a:lnTo>
                        <a:pt x="382" y="0"/>
                      </a:lnTo>
                      <a:lnTo>
                        <a:pt x="370" y="0"/>
                      </a:lnTo>
                      <a:lnTo>
                        <a:pt x="358" y="2"/>
                      </a:lnTo>
                      <a:lnTo>
                        <a:pt x="347" y="2"/>
                      </a:lnTo>
                      <a:lnTo>
                        <a:pt x="337" y="4"/>
                      </a:lnTo>
                      <a:lnTo>
                        <a:pt x="325" y="4"/>
                      </a:lnTo>
                      <a:lnTo>
                        <a:pt x="314" y="4"/>
                      </a:lnTo>
                      <a:lnTo>
                        <a:pt x="302" y="4"/>
                      </a:lnTo>
                      <a:lnTo>
                        <a:pt x="292" y="6"/>
                      </a:lnTo>
                      <a:lnTo>
                        <a:pt x="281" y="6"/>
                      </a:lnTo>
                      <a:lnTo>
                        <a:pt x="271" y="8"/>
                      </a:lnTo>
                      <a:lnTo>
                        <a:pt x="259" y="10"/>
                      </a:lnTo>
                      <a:lnTo>
                        <a:pt x="250" y="12"/>
                      </a:lnTo>
                      <a:lnTo>
                        <a:pt x="238" y="12"/>
                      </a:lnTo>
                      <a:lnTo>
                        <a:pt x="226" y="12"/>
                      </a:lnTo>
                      <a:lnTo>
                        <a:pt x="215" y="12"/>
                      </a:lnTo>
                      <a:lnTo>
                        <a:pt x="205" y="14"/>
                      </a:lnTo>
                      <a:lnTo>
                        <a:pt x="184" y="16"/>
                      </a:lnTo>
                      <a:lnTo>
                        <a:pt x="164" y="20"/>
                      </a:lnTo>
                      <a:lnTo>
                        <a:pt x="145" y="22"/>
                      </a:lnTo>
                      <a:lnTo>
                        <a:pt x="126" y="25"/>
                      </a:lnTo>
                      <a:lnTo>
                        <a:pt x="108" y="27"/>
                      </a:lnTo>
                      <a:lnTo>
                        <a:pt x="93" y="33"/>
                      </a:lnTo>
                      <a:lnTo>
                        <a:pt x="75" y="37"/>
                      </a:lnTo>
                      <a:lnTo>
                        <a:pt x="62" y="41"/>
                      </a:lnTo>
                      <a:lnTo>
                        <a:pt x="48" y="45"/>
                      </a:lnTo>
                      <a:lnTo>
                        <a:pt x="38" y="51"/>
                      </a:lnTo>
                      <a:lnTo>
                        <a:pt x="27" y="56"/>
                      </a:lnTo>
                      <a:lnTo>
                        <a:pt x="19" y="62"/>
                      </a:lnTo>
                      <a:lnTo>
                        <a:pt x="11" y="68"/>
                      </a:lnTo>
                      <a:lnTo>
                        <a:pt x="7" y="74"/>
                      </a:lnTo>
                      <a:lnTo>
                        <a:pt x="0" y="82"/>
                      </a:lnTo>
                      <a:lnTo>
                        <a:pt x="1" y="91"/>
                      </a:lnTo>
                      <a:lnTo>
                        <a:pt x="7" y="99"/>
                      </a:lnTo>
                      <a:lnTo>
                        <a:pt x="23" y="107"/>
                      </a:lnTo>
                      <a:lnTo>
                        <a:pt x="29" y="109"/>
                      </a:lnTo>
                      <a:lnTo>
                        <a:pt x="38" y="111"/>
                      </a:lnTo>
                      <a:lnTo>
                        <a:pt x="50" y="113"/>
                      </a:lnTo>
                      <a:lnTo>
                        <a:pt x="62" y="117"/>
                      </a:lnTo>
                      <a:lnTo>
                        <a:pt x="73" y="117"/>
                      </a:lnTo>
                      <a:lnTo>
                        <a:pt x="87" y="120"/>
                      </a:lnTo>
                      <a:lnTo>
                        <a:pt x="100" y="120"/>
                      </a:lnTo>
                      <a:lnTo>
                        <a:pt x="116" y="124"/>
                      </a:lnTo>
                      <a:lnTo>
                        <a:pt x="128" y="124"/>
                      </a:lnTo>
                      <a:lnTo>
                        <a:pt x="143" y="126"/>
                      </a:lnTo>
                      <a:lnTo>
                        <a:pt x="157" y="126"/>
                      </a:lnTo>
                      <a:lnTo>
                        <a:pt x="174" y="128"/>
                      </a:lnTo>
                      <a:lnTo>
                        <a:pt x="188" y="128"/>
                      </a:lnTo>
                      <a:lnTo>
                        <a:pt x="203" y="130"/>
                      </a:lnTo>
                      <a:lnTo>
                        <a:pt x="219" y="130"/>
                      </a:lnTo>
                      <a:lnTo>
                        <a:pt x="234" y="132"/>
                      </a:lnTo>
                      <a:lnTo>
                        <a:pt x="248" y="132"/>
                      </a:lnTo>
                      <a:lnTo>
                        <a:pt x="261" y="132"/>
                      </a:lnTo>
                      <a:lnTo>
                        <a:pt x="275" y="132"/>
                      </a:lnTo>
                      <a:lnTo>
                        <a:pt x="290" y="134"/>
                      </a:lnTo>
                      <a:lnTo>
                        <a:pt x="302" y="134"/>
                      </a:lnTo>
                      <a:lnTo>
                        <a:pt x="314" y="134"/>
                      </a:lnTo>
                      <a:lnTo>
                        <a:pt x="325" y="134"/>
                      </a:lnTo>
                      <a:lnTo>
                        <a:pt x="337" y="136"/>
                      </a:lnTo>
                      <a:lnTo>
                        <a:pt x="345" y="136"/>
                      </a:lnTo>
                      <a:lnTo>
                        <a:pt x="354" y="136"/>
                      </a:lnTo>
                      <a:lnTo>
                        <a:pt x="366" y="138"/>
                      </a:lnTo>
                      <a:lnTo>
                        <a:pt x="380" y="144"/>
                      </a:lnTo>
                      <a:lnTo>
                        <a:pt x="391" y="146"/>
                      </a:lnTo>
                      <a:lnTo>
                        <a:pt x="405" y="151"/>
                      </a:lnTo>
                      <a:lnTo>
                        <a:pt x="418" y="157"/>
                      </a:lnTo>
                      <a:lnTo>
                        <a:pt x="436" y="163"/>
                      </a:lnTo>
                      <a:lnTo>
                        <a:pt x="451" y="169"/>
                      </a:lnTo>
                      <a:lnTo>
                        <a:pt x="467" y="175"/>
                      </a:lnTo>
                      <a:lnTo>
                        <a:pt x="484" y="183"/>
                      </a:lnTo>
                      <a:lnTo>
                        <a:pt x="502" y="190"/>
                      </a:lnTo>
                      <a:lnTo>
                        <a:pt x="519" y="196"/>
                      </a:lnTo>
                      <a:lnTo>
                        <a:pt x="537" y="204"/>
                      </a:lnTo>
                      <a:lnTo>
                        <a:pt x="554" y="212"/>
                      </a:lnTo>
                      <a:lnTo>
                        <a:pt x="572" y="219"/>
                      </a:lnTo>
                      <a:lnTo>
                        <a:pt x="587" y="225"/>
                      </a:lnTo>
                      <a:lnTo>
                        <a:pt x="605" y="231"/>
                      </a:lnTo>
                      <a:lnTo>
                        <a:pt x="622" y="237"/>
                      </a:lnTo>
                      <a:lnTo>
                        <a:pt x="640" y="243"/>
                      </a:lnTo>
                      <a:lnTo>
                        <a:pt x="655" y="247"/>
                      </a:lnTo>
                      <a:lnTo>
                        <a:pt x="671" y="252"/>
                      </a:lnTo>
                      <a:lnTo>
                        <a:pt x="686" y="256"/>
                      </a:lnTo>
                      <a:lnTo>
                        <a:pt x="704" y="260"/>
                      </a:lnTo>
                      <a:lnTo>
                        <a:pt x="717" y="260"/>
                      </a:lnTo>
                      <a:lnTo>
                        <a:pt x="731" y="262"/>
                      </a:lnTo>
                      <a:lnTo>
                        <a:pt x="744" y="262"/>
                      </a:lnTo>
                      <a:lnTo>
                        <a:pt x="758" y="264"/>
                      </a:lnTo>
                      <a:lnTo>
                        <a:pt x="769" y="260"/>
                      </a:lnTo>
                      <a:lnTo>
                        <a:pt x="781" y="258"/>
                      </a:lnTo>
                      <a:lnTo>
                        <a:pt x="791" y="254"/>
                      </a:lnTo>
                      <a:lnTo>
                        <a:pt x="802" y="250"/>
                      </a:lnTo>
                      <a:close/>
                    </a:path>
                  </a:pathLst>
                </a:custGeom>
                <a:solidFill>
                  <a:srgbClr val="a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392080" y="-688680"/>
                  <a:ext cx="193320" cy="470520"/>
                </a:xfrm>
                <a:custGeom>
                  <a:avLst/>
                  <a:gdLst/>
                  <a:ahLst/>
                  <a:rect l="l" t="t" r="r" b="b"/>
                  <a:pathLst>
                    <a:path w="693" h="1685">
                      <a:moveTo>
                        <a:pt x="313" y="12"/>
                      </a:moveTo>
                      <a:lnTo>
                        <a:pt x="307" y="10"/>
                      </a:lnTo>
                      <a:lnTo>
                        <a:pt x="297" y="8"/>
                      </a:lnTo>
                      <a:lnTo>
                        <a:pt x="287" y="6"/>
                      </a:lnTo>
                      <a:lnTo>
                        <a:pt x="280" y="6"/>
                      </a:lnTo>
                      <a:lnTo>
                        <a:pt x="268" y="4"/>
                      </a:lnTo>
                      <a:lnTo>
                        <a:pt x="258" y="4"/>
                      </a:lnTo>
                      <a:lnTo>
                        <a:pt x="245" y="2"/>
                      </a:lnTo>
                      <a:lnTo>
                        <a:pt x="231" y="2"/>
                      </a:lnTo>
                      <a:lnTo>
                        <a:pt x="218" y="0"/>
                      </a:lnTo>
                      <a:lnTo>
                        <a:pt x="204" y="0"/>
                      </a:lnTo>
                      <a:lnTo>
                        <a:pt x="188" y="0"/>
                      </a:lnTo>
                      <a:lnTo>
                        <a:pt x="173" y="0"/>
                      </a:lnTo>
                      <a:lnTo>
                        <a:pt x="157" y="2"/>
                      </a:lnTo>
                      <a:lnTo>
                        <a:pt x="144" y="4"/>
                      </a:lnTo>
                      <a:lnTo>
                        <a:pt x="126" y="4"/>
                      </a:lnTo>
                      <a:lnTo>
                        <a:pt x="113" y="6"/>
                      </a:lnTo>
                      <a:lnTo>
                        <a:pt x="97" y="8"/>
                      </a:lnTo>
                      <a:lnTo>
                        <a:pt x="84" y="14"/>
                      </a:lnTo>
                      <a:lnTo>
                        <a:pt x="68" y="18"/>
                      </a:lnTo>
                      <a:lnTo>
                        <a:pt x="57" y="23"/>
                      </a:lnTo>
                      <a:lnTo>
                        <a:pt x="45" y="29"/>
                      </a:lnTo>
                      <a:lnTo>
                        <a:pt x="35" y="39"/>
                      </a:lnTo>
                      <a:lnTo>
                        <a:pt x="24" y="45"/>
                      </a:lnTo>
                      <a:lnTo>
                        <a:pt x="18" y="56"/>
                      </a:lnTo>
                      <a:lnTo>
                        <a:pt x="10" y="66"/>
                      </a:lnTo>
                      <a:lnTo>
                        <a:pt x="6" y="80"/>
                      </a:lnTo>
                      <a:lnTo>
                        <a:pt x="0" y="91"/>
                      </a:lnTo>
                      <a:lnTo>
                        <a:pt x="0" y="107"/>
                      </a:lnTo>
                      <a:lnTo>
                        <a:pt x="0" y="122"/>
                      </a:lnTo>
                      <a:lnTo>
                        <a:pt x="4" y="142"/>
                      </a:lnTo>
                      <a:lnTo>
                        <a:pt x="4" y="150"/>
                      </a:lnTo>
                      <a:lnTo>
                        <a:pt x="6" y="161"/>
                      </a:lnTo>
                      <a:lnTo>
                        <a:pt x="8" y="171"/>
                      </a:lnTo>
                      <a:lnTo>
                        <a:pt x="10" y="186"/>
                      </a:lnTo>
                      <a:lnTo>
                        <a:pt x="12" y="198"/>
                      </a:lnTo>
                      <a:lnTo>
                        <a:pt x="16" y="215"/>
                      </a:lnTo>
                      <a:lnTo>
                        <a:pt x="18" y="231"/>
                      </a:lnTo>
                      <a:lnTo>
                        <a:pt x="24" y="250"/>
                      </a:lnTo>
                      <a:lnTo>
                        <a:pt x="26" y="268"/>
                      </a:lnTo>
                      <a:lnTo>
                        <a:pt x="29" y="287"/>
                      </a:lnTo>
                      <a:lnTo>
                        <a:pt x="33" y="307"/>
                      </a:lnTo>
                      <a:lnTo>
                        <a:pt x="39" y="330"/>
                      </a:lnTo>
                      <a:lnTo>
                        <a:pt x="43" y="351"/>
                      </a:lnTo>
                      <a:lnTo>
                        <a:pt x="47" y="374"/>
                      </a:lnTo>
                      <a:lnTo>
                        <a:pt x="53" y="398"/>
                      </a:lnTo>
                      <a:lnTo>
                        <a:pt x="59" y="423"/>
                      </a:lnTo>
                      <a:lnTo>
                        <a:pt x="62" y="446"/>
                      </a:lnTo>
                      <a:lnTo>
                        <a:pt x="68" y="471"/>
                      </a:lnTo>
                      <a:lnTo>
                        <a:pt x="72" y="497"/>
                      </a:lnTo>
                      <a:lnTo>
                        <a:pt x="78" y="526"/>
                      </a:lnTo>
                      <a:lnTo>
                        <a:pt x="84" y="551"/>
                      </a:lnTo>
                      <a:lnTo>
                        <a:pt x="90" y="578"/>
                      </a:lnTo>
                      <a:lnTo>
                        <a:pt x="95" y="607"/>
                      </a:lnTo>
                      <a:lnTo>
                        <a:pt x="101" y="636"/>
                      </a:lnTo>
                      <a:lnTo>
                        <a:pt x="107" y="665"/>
                      </a:lnTo>
                      <a:lnTo>
                        <a:pt x="113" y="694"/>
                      </a:lnTo>
                      <a:lnTo>
                        <a:pt x="119" y="724"/>
                      </a:lnTo>
                      <a:lnTo>
                        <a:pt x="124" y="753"/>
                      </a:lnTo>
                      <a:lnTo>
                        <a:pt x="130" y="782"/>
                      </a:lnTo>
                      <a:lnTo>
                        <a:pt x="136" y="813"/>
                      </a:lnTo>
                      <a:lnTo>
                        <a:pt x="142" y="842"/>
                      </a:lnTo>
                      <a:lnTo>
                        <a:pt x="148" y="873"/>
                      </a:lnTo>
                      <a:lnTo>
                        <a:pt x="152" y="902"/>
                      </a:lnTo>
                      <a:lnTo>
                        <a:pt x="157" y="931"/>
                      </a:lnTo>
                      <a:lnTo>
                        <a:pt x="161" y="960"/>
                      </a:lnTo>
                      <a:lnTo>
                        <a:pt x="167" y="989"/>
                      </a:lnTo>
                      <a:lnTo>
                        <a:pt x="171" y="1016"/>
                      </a:lnTo>
                      <a:lnTo>
                        <a:pt x="177" y="1045"/>
                      </a:lnTo>
                      <a:lnTo>
                        <a:pt x="183" y="1075"/>
                      </a:lnTo>
                      <a:lnTo>
                        <a:pt x="188" y="1104"/>
                      </a:lnTo>
                      <a:lnTo>
                        <a:pt x="192" y="1131"/>
                      </a:lnTo>
                      <a:lnTo>
                        <a:pt x="196" y="1158"/>
                      </a:lnTo>
                      <a:lnTo>
                        <a:pt x="200" y="1185"/>
                      </a:lnTo>
                      <a:lnTo>
                        <a:pt x="204" y="1212"/>
                      </a:lnTo>
                      <a:lnTo>
                        <a:pt x="208" y="1237"/>
                      </a:lnTo>
                      <a:lnTo>
                        <a:pt x="212" y="1265"/>
                      </a:lnTo>
                      <a:lnTo>
                        <a:pt x="216" y="1290"/>
                      </a:lnTo>
                      <a:lnTo>
                        <a:pt x="221" y="1317"/>
                      </a:lnTo>
                      <a:lnTo>
                        <a:pt x="223" y="1338"/>
                      </a:lnTo>
                      <a:lnTo>
                        <a:pt x="227" y="1362"/>
                      </a:lnTo>
                      <a:lnTo>
                        <a:pt x="229" y="1383"/>
                      </a:lnTo>
                      <a:lnTo>
                        <a:pt x="233" y="1406"/>
                      </a:lnTo>
                      <a:lnTo>
                        <a:pt x="233" y="1426"/>
                      </a:lnTo>
                      <a:lnTo>
                        <a:pt x="237" y="1445"/>
                      </a:lnTo>
                      <a:lnTo>
                        <a:pt x="237" y="1464"/>
                      </a:lnTo>
                      <a:lnTo>
                        <a:pt x="241" y="1484"/>
                      </a:lnTo>
                      <a:lnTo>
                        <a:pt x="241" y="1499"/>
                      </a:lnTo>
                      <a:lnTo>
                        <a:pt x="243" y="1515"/>
                      </a:lnTo>
                      <a:lnTo>
                        <a:pt x="243" y="1528"/>
                      </a:lnTo>
                      <a:lnTo>
                        <a:pt x="245" y="1544"/>
                      </a:lnTo>
                      <a:lnTo>
                        <a:pt x="243" y="1555"/>
                      </a:lnTo>
                      <a:lnTo>
                        <a:pt x="243" y="1569"/>
                      </a:lnTo>
                      <a:lnTo>
                        <a:pt x="243" y="1579"/>
                      </a:lnTo>
                      <a:lnTo>
                        <a:pt x="243" y="1588"/>
                      </a:lnTo>
                      <a:lnTo>
                        <a:pt x="239" y="1600"/>
                      </a:lnTo>
                      <a:lnTo>
                        <a:pt x="239" y="1612"/>
                      </a:lnTo>
                      <a:lnTo>
                        <a:pt x="239" y="1621"/>
                      </a:lnTo>
                      <a:lnTo>
                        <a:pt x="241" y="1631"/>
                      </a:lnTo>
                      <a:lnTo>
                        <a:pt x="247" y="1647"/>
                      </a:lnTo>
                      <a:lnTo>
                        <a:pt x="260" y="1660"/>
                      </a:lnTo>
                      <a:lnTo>
                        <a:pt x="272" y="1670"/>
                      </a:lnTo>
                      <a:lnTo>
                        <a:pt x="289" y="1678"/>
                      </a:lnTo>
                      <a:lnTo>
                        <a:pt x="299" y="1680"/>
                      </a:lnTo>
                      <a:lnTo>
                        <a:pt x="309" y="1682"/>
                      </a:lnTo>
                      <a:lnTo>
                        <a:pt x="320" y="1683"/>
                      </a:lnTo>
                      <a:lnTo>
                        <a:pt x="332" y="1685"/>
                      </a:lnTo>
                      <a:lnTo>
                        <a:pt x="342" y="1683"/>
                      </a:lnTo>
                      <a:lnTo>
                        <a:pt x="353" y="1683"/>
                      </a:lnTo>
                      <a:lnTo>
                        <a:pt x="365" y="1683"/>
                      </a:lnTo>
                      <a:lnTo>
                        <a:pt x="377" y="1683"/>
                      </a:lnTo>
                      <a:lnTo>
                        <a:pt x="388" y="1682"/>
                      </a:lnTo>
                      <a:lnTo>
                        <a:pt x="400" y="1682"/>
                      </a:lnTo>
                      <a:lnTo>
                        <a:pt x="411" y="1682"/>
                      </a:lnTo>
                      <a:lnTo>
                        <a:pt x="423" y="1682"/>
                      </a:lnTo>
                      <a:lnTo>
                        <a:pt x="433" y="1680"/>
                      </a:lnTo>
                      <a:lnTo>
                        <a:pt x="444" y="1678"/>
                      </a:lnTo>
                      <a:lnTo>
                        <a:pt x="454" y="1676"/>
                      </a:lnTo>
                      <a:lnTo>
                        <a:pt x="466" y="1676"/>
                      </a:lnTo>
                      <a:lnTo>
                        <a:pt x="475" y="1674"/>
                      </a:lnTo>
                      <a:lnTo>
                        <a:pt x="485" y="1672"/>
                      </a:lnTo>
                      <a:lnTo>
                        <a:pt x="495" y="1672"/>
                      </a:lnTo>
                      <a:lnTo>
                        <a:pt x="505" y="1672"/>
                      </a:lnTo>
                      <a:lnTo>
                        <a:pt x="518" y="1668"/>
                      </a:lnTo>
                      <a:lnTo>
                        <a:pt x="536" y="1664"/>
                      </a:lnTo>
                      <a:lnTo>
                        <a:pt x="555" y="1660"/>
                      </a:lnTo>
                      <a:lnTo>
                        <a:pt x="574" y="1656"/>
                      </a:lnTo>
                      <a:lnTo>
                        <a:pt x="592" y="1649"/>
                      </a:lnTo>
                      <a:lnTo>
                        <a:pt x="611" y="1641"/>
                      </a:lnTo>
                      <a:lnTo>
                        <a:pt x="629" y="1629"/>
                      </a:lnTo>
                      <a:lnTo>
                        <a:pt x="646" y="1618"/>
                      </a:lnTo>
                      <a:lnTo>
                        <a:pt x="652" y="1608"/>
                      </a:lnTo>
                      <a:lnTo>
                        <a:pt x="658" y="1600"/>
                      </a:lnTo>
                      <a:lnTo>
                        <a:pt x="664" y="1590"/>
                      </a:lnTo>
                      <a:lnTo>
                        <a:pt x="671" y="1581"/>
                      </a:lnTo>
                      <a:lnTo>
                        <a:pt x="675" y="1569"/>
                      </a:lnTo>
                      <a:lnTo>
                        <a:pt x="681" y="1557"/>
                      </a:lnTo>
                      <a:lnTo>
                        <a:pt x="685" y="1544"/>
                      </a:lnTo>
                      <a:lnTo>
                        <a:pt x="689" y="1532"/>
                      </a:lnTo>
                      <a:lnTo>
                        <a:pt x="691" y="1517"/>
                      </a:lnTo>
                      <a:lnTo>
                        <a:pt x="693" y="1501"/>
                      </a:lnTo>
                      <a:lnTo>
                        <a:pt x="693" y="1484"/>
                      </a:lnTo>
                      <a:lnTo>
                        <a:pt x="693" y="1468"/>
                      </a:lnTo>
                      <a:lnTo>
                        <a:pt x="691" y="1447"/>
                      </a:lnTo>
                      <a:lnTo>
                        <a:pt x="689" y="1427"/>
                      </a:lnTo>
                      <a:lnTo>
                        <a:pt x="685" y="1406"/>
                      </a:lnTo>
                      <a:lnTo>
                        <a:pt x="683" y="1387"/>
                      </a:lnTo>
                      <a:lnTo>
                        <a:pt x="679" y="1373"/>
                      </a:lnTo>
                      <a:lnTo>
                        <a:pt x="677" y="1362"/>
                      </a:lnTo>
                      <a:lnTo>
                        <a:pt x="673" y="1348"/>
                      </a:lnTo>
                      <a:lnTo>
                        <a:pt x="671" y="1334"/>
                      </a:lnTo>
                      <a:lnTo>
                        <a:pt x="667" y="1319"/>
                      </a:lnTo>
                      <a:lnTo>
                        <a:pt x="666" y="1305"/>
                      </a:lnTo>
                      <a:lnTo>
                        <a:pt x="662" y="1290"/>
                      </a:lnTo>
                      <a:lnTo>
                        <a:pt x="660" y="1276"/>
                      </a:lnTo>
                      <a:lnTo>
                        <a:pt x="656" y="1259"/>
                      </a:lnTo>
                      <a:lnTo>
                        <a:pt x="654" y="1243"/>
                      </a:lnTo>
                      <a:lnTo>
                        <a:pt x="650" y="1228"/>
                      </a:lnTo>
                      <a:lnTo>
                        <a:pt x="648" y="1212"/>
                      </a:lnTo>
                      <a:lnTo>
                        <a:pt x="644" y="1195"/>
                      </a:lnTo>
                      <a:lnTo>
                        <a:pt x="642" y="1177"/>
                      </a:lnTo>
                      <a:lnTo>
                        <a:pt x="638" y="1160"/>
                      </a:lnTo>
                      <a:lnTo>
                        <a:pt x="636" y="1142"/>
                      </a:lnTo>
                      <a:lnTo>
                        <a:pt x="633" y="1123"/>
                      </a:lnTo>
                      <a:lnTo>
                        <a:pt x="629" y="1104"/>
                      </a:lnTo>
                      <a:lnTo>
                        <a:pt x="625" y="1084"/>
                      </a:lnTo>
                      <a:lnTo>
                        <a:pt x="623" y="1067"/>
                      </a:lnTo>
                      <a:lnTo>
                        <a:pt x="619" y="1045"/>
                      </a:lnTo>
                      <a:lnTo>
                        <a:pt x="615" y="1026"/>
                      </a:lnTo>
                      <a:lnTo>
                        <a:pt x="611" y="1007"/>
                      </a:lnTo>
                      <a:lnTo>
                        <a:pt x="609" y="987"/>
                      </a:lnTo>
                      <a:lnTo>
                        <a:pt x="605" y="966"/>
                      </a:lnTo>
                      <a:lnTo>
                        <a:pt x="602" y="945"/>
                      </a:lnTo>
                      <a:lnTo>
                        <a:pt x="598" y="923"/>
                      </a:lnTo>
                      <a:lnTo>
                        <a:pt x="596" y="904"/>
                      </a:lnTo>
                      <a:lnTo>
                        <a:pt x="592" y="883"/>
                      </a:lnTo>
                      <a:lnTo>
                        <a:pt x="588" y="861"/>
                      </a:lnTo>
                      <a:lnTo>
                        <a:pt x="584" y="840"/>
                      </a:lnTo>
                      <a:lnTo>
                        <a:pt x="582" y="821"/>
                      </a:lnTo>
                      <a:lnTo>
                        <a:pt x="576" y="797"/>
                      </a:lnTo>
                      <a:lnTo>
                        <a:pt x="572" y="776"/>
                      </a:lnTo>
                      <a:lnTo>
                        <a:pt x="569" y="755"/>
                      </a:lnTo>
                      <a:lnTo>
                        <a:pt x="565" y="733"/>
                      </a:lnTo>
                      <a:lnTo>
                        <a:pt x="559" y="710"/>
                      </a:lnTo>
                      <a:lnTo>
                        <a:pt x="555" y="689"/>
                      </a:lnTo>
                      <a:lnTo>
                        <a:pt x="551" y="667"/>
                      </a:lnTo>
                      <a:lnTo>
                        <a:pt x="547" y="646"/>
                      </a:lnTo>
                      <a:lnTo>
                        <a:pt x="541" y="623"/>
                      </a:lnTo>
                      <a:lnTo>
                        <a:pt x="538" y="601"/>
                      </a:lnTo>
                      <a:lnTo>
                        <a:pt x="532" y="580"/>
                      </a:lnTo>
                      <a:lnTo>
                        <a:pt x="528" y="559"/>
                      </a:lnTo>
                      <a:lnTo>
                        <a:pt x="522" y="537"/>
                      </a:lnTo>
                      <a:lnTo>
                        <a:pt x="518" y="516"/>
                      </a:lnTo>
                      <a:lnTo>
                        <a:pt x="514" y="495"/>
                      </a:lnTo>
                      <a:lnTo>
                        <a:pt x="510" y="475"/>
                      </a:lnTo>
                      <a:lnTo>
                        <a:pt x="505" y="452"/>
                      </a:lnTo>
                      <a:lnTo>
                        <a:pt x="499" y="433"/>
                      </a:lnTo>
                      <a:lnTo>
                        <a:pt x="493" y="411"/>
                      </a:lnTo>
                      <a:lnTo>
                        <a:pt x="489" y="392"/>
                      </a:lnTo>
                      <a:lnTo>
                        <a:pt x="483" y="371"/>
                      </a:lnTo>
                      <a:lnTo>
                        <a:pt x="479" y="351"/>
                      </a:lnTo>
                      <a:lnTo>
                        <a:pt x="474" y="330"/>
                      </a:lnTo>
                      <a:lnTo>
                        <a:pt x="470" y="312"/>
                      </a:lnTo>
                      <a:lnTo>
                        <a:pt x="464" y="291"/>
                      </a:lnTo>
                      <a:lnTo>
                        <a:pt x="458" y="272"/>
                      </a:lnTo>
                      <a:lnTo>
                        <a:pt x="452" y="254"/>
                      </a:lnTo>
                      <a:lnTo>
                        <a:pt x="448" y="237"/>
                      </a:lnTo>
                      <a:lnTo>
                        <a:pt x="443" y="217"/>
                      </a:lnTo>
                      <a:lnTo>
                        <a:pt x="437" y="200"/>
                      </a:lnTo>
                      <a:lnTo>
                        <a:pt x="431" y="183"/>
                      </a:lnTo>
                      <a:lnTo>
                        <a:pt x="427" y="167"/>
                      </a:lnTo>
                      <a:lnTo>
                        <a:pt x="421" y="155"/>
                      </a:lnTo>
                      <a:lnTo>
                        <a:pt x="417" y="144"/>
                      </a:lnTo>
                      <a:lnTo>
                        <a:pt x="411" y="132"/>
                      </a:lnTo>
                      <a:lnTo>
                        <a:pt x="408" y="124"/>
                      </a:lnTo>
                      <a:lnTo>
                        <a:pt x="398" y="105"/>
                      </a:lnTo>
                      <a:lnTo>
                        <a:pt x="390" y="91"/>
                      </a:lnTo>
                      <a:lnTo>
                        <a:pt x="379" y="74"/>
                      </a:lnTo>
                      <a:lnTo>
                        <a:pt x="371" y="62"/>
                      </a:lnTo>
                      <a:lnTo>
                        <a:pt x="361" y="51"/>
                      </a:lnTo>
                      <a:lnTo>
                        <a:pt x="353" y="43"/>
                      </a:lnTo>
                      <a:lnTo>
                        <a:pt x="336" y="27"/>
                      </a:lnTo>
                      <a:lnTo>
                        <a:pt x="324" y="18"/>
                      </a:lnTo>
                      <a:lnTo>
                        <a:pt x="315" y="12"/>
                      </a:lnTo>
                      <a:lnTo>
                        <a:pt x="313" y="12"/>
                      </a:lnTo>
                      <a:close/>
                    </a:path>
                  </a:pathLst>
                </a:custGeom>
                <a:solidFill>
                  <a:srgbClr val="a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949280" y="-750960"/>
                  <a:ext cx="530640" cy="528840"/>
                </a:xfrm>
                <a:custGeom>
                  <a:avLst/>
                  <a:gdLst/>
                  <a:ahLst/>
                  <a:rect l="l" t="t" r="r" b="b"/>
                  <a:pathLst>
                    <a:path w="1899" h="1893">
                      <a:moveTo>
                        <a:pt x="4" y="869"/>
                      </a:moveTo>
                      <a:lnTo>
                        <a:pt x="6" y="865"/>
                      </a:lnTo>
                      <a:lnTo>
                        <a:pt x="13" y="861"/>
                      </a:lnTo>
                      <a:lnTo>
                        <a:pt x="19" y="855"/>
                      </a:lnTo>
                      <a:lnTo>
                        <a:pt x="27" y="851"/>
                      </a:lnTo>
                      <a:lnTo>
                        <a:pt x="35" y="846"/>
                      </a:lnTo>
                      <a:lnTo>
                        <a:pt x="46" y="842"/>
                      </a:lnTo>
                      <a:lnTo>
                        <a:pt x="56" y="834"/>
                      </a:lnTo>
                      <a:lnTo>
                        <a:pt x="68" y="826"/>
                      </a:lnTo>
                      <a:lnTo>
                        <a:pt x="79" y="819"/>
                      </a:lnTo>
                      <a:lnTo>
                        <a:pt x="97" y="811"/>
                      </a:lnTo>
                      <a:lnTo>
                        <a:pt x="110" y="801"/>
                      </a:lnTo>
                      <a:lnTo>
                        <a:pt x="128" y="791"/>
                      </a:lnTo>
                      <a:lnTo>
                        <a:pt x="145" y="782"/>
                      </a:lnTo>
                      <a:lnTo>
                        <a:pt x="165" y="772"/>
                      </a:lnTo>
                      <a:lnTo>
                        <a:pt x="182" y="760"/>
                      </a:lnTo>
                      <a:lnTo>
                        <a:pt x="202" y="749"/>
                      </a:lnTo>
                      <a:lnTo>
                        <a:pt x="221" y="737"/>
                      </a:lnTo>
                      <a:lnTo>
                        <a:pt x="244" y="725"/>
                      </a:lnTo>
                      <a:lnTo>
                        <a:pt x="266" y="712"/>
                      </a:lnTo>
                      <a:lnTo>
                        <a:pt x="289" y="700"/>
                      </a:lnTo>
                      <a:lnTo>
                        <a:pt x="314" y="687"/>
                      </a:lnTo>
                      <a:lnTo>
                        <a:pt x="339" y="675"/>
                      </a:lnTo>
                      <a:lnTo>
                        <a:pt x="363" y="659"/>
                      </a:lnTo>
                      <a:lnTo>
                        <a:pt x="390" y="646"/>
                      </a:lnTo>
                      <a:lnTo>
                        <a:pt x="415" y="632"/>
                      </a:lnTo>
                      <a:lnTo>
                        <a:pt x="442" y="619"/>
                      </a:lnTo>
                      <a:lnTo>
                        <a:pt x="469" y="603"/>
                      </a:lnTo>
                      <a:lnTo>
                        <a:pt x="498" y="592"/>
                      </a:lnTo>
                      <a:lnTo>
                        <a:pt x="527" y="576"/>
                      </a:lnTo>
                      <a:lnTo>
                        <a:pt x="556" y="564"/>
                      </a:lnTo>
                      <a:lnTo>
                        <a:pt x="584" y="549"/>
                      </a:lnTo>
                      <a:lnTo>
                        <a:pt x="613" y="535"/>
                      </a:lnTo>
                      <a:lnTo>
                        <a:pt x="642" y="520"/>
                      </a:lnTo>
                      <a:lnTo>
                        <a:pt x="673" y="506"/>
                      </a:lnTo>
                      <a:lnTo>
                        <a:pt x="702" y="493"/>
                      </a:lnTo>
                      <a:lnTo>
                        <a:pt x="733" y="479"/>
                      </a:lnTo>
                      <a:lnTo>
                        <a:pt x="764" y="466"/>
                      </a:lnTo>
                      <a:lnTo>
                        <a:pt x="795" y="454"/>
                      </a:lnTo>
                      <a:lnTo>
                        <a:pt x="824" y="440"/>
                      </a:lnTo>
                      <a:lnTo>
                        <a:pt x="855" y="427"/>
                      </a:lnTo>
                      <a:lnTo>
                        <a:pt x="886" y="415"/>
                      </a:lnTo>
                      <a:lnTo>
                        <a:pt x="917" y="404"/>
                      </a:lnTo>
                      <a:lnTo>
                        <a:pt x="946" y="390"/>
                      </a:lnTo>
                      <a:lnTo>
                        <a:pt x="979" y="378"/>
                      </a:lnTo>
                      <a:lnTo>
                        <a:pt x="1008" y="369"/>
                      </a:lnTo>
                      <a:lnTo>
                        <a:pt x="1041" y="359"/>
                      </a:lnTo>
                      <a:lnTo>
                        <a:pt x="1070" y="347"/>
                      </a:lnTo>
                      <a:lnTo>
                        <a:pt x="1099" y="338"/>
                      </a:lnTo>
                      <a:lnTo>
                        <a:pt x="1129" y="328"/>
                      </a:lnTo>
                      <a:lnTo>
                        <a:pt x="1160" y="320"/>
                      </a:lnTo>
                      <a:lnTo>
                        <a:pt x="1189" y="312"/>
                      </a:lnTo>
                      <a:lnTo>
                        <a:pt x="1218" y="305"/>
                      </a:lnTo>
                      <a:lnTo>
                        <a:pt x="1247" y="299"/>
                      </a:lnTo>
                      <a:lnTo>
                        <a:pt x="1276" y="293"/>
                      </a:lnTo>
                      <a:lnTo>
                        <a:pt x="1301" y="287"/>
                      </a:lnTo>
                      <a:lnTo>
                        <a:pt x="1328" y="281"/>
                      </a:lnTo>
                      <a:lnTo>
                        <a:pt x="1355" y="277"/>
                      </a:lnTo>
                      <a:lnTo>
                        <a:pt x="1383" y="277"/>
                      </a:lnTo>
                      <a:lnTo>
                        <a:pt x="1408" y="274"/>
                      </a:lnTo>
                      <a:lnTo>
                        <a:pt x="1433" y="274"/>
                      </a:lnTo>
                      <a:lnTo>
                        <a:pt x="1456" y="274"/>
                      </a:lnTo>
                      <a:lnTo>
                        <a:pt x="1482" y="276"/>
                      </a:lnTo>
                      <a:lnTo>
                        <a:pt x="1482" y="277"/>
                      </a:lnTo>
                      <a:lnTo>
                        <a:pt x="1483" y="285"/>
                      </a:lnTo>
                      <a:lnTo>
                        <a:pt x="1487" y="297"/>
                      </a:lnTo>
                      <a:lnTo>
                        <a:pt x="1493" y="314"/>
                      </a:lnTo>
                      <a:lnTo>
                        <a:pt x="1495" y="322"/>
                      </a:lnTo>
                      <a:lnTo>
                        <a:pt x="1499" y="334"/>
                      </a:lnTo>
                      <a:lnTo>
                        <a:pt x="1501" y="345"/>
                      </a:lnTo>
                      <a:lnTo>
                        <a:pt x="1507" y="359"/>
                      </a:lnTo>
                      <a:lnTo>
                        <a:pt x="1511" y="372"/>
                      </a:lnTo>
                      <a:lnTo>
                        <a:pt x="1516" y="388"/>
                      </a:lnTo>
                      <a:lnTo>
                        <a:pt x="1522" y="405"/>
                      </a:lnTo>
                      <a:lnTo>
                        <a:pt x="1528" y="423"/>
                      </a:lnTo>
                      <a:lnTo>
                        <a:pt x="1532" y="440"/>
                      </a:lnTo>
                      <a:lnTo>
                        <a:pt x="1538" y="458"/>
                      </a:lnTo>
                      <a:lnTo>
                        <a:pt x="1544" y="477"/>
                      </a:lnTo>
                      <a:lnTo>
                        <a:pt x="1549" y="499"/>
                      </a:lnTo>
                      <a:lnTo>
                        <a:pt x="1555" y="518"/>
                      </a:lnTo>
                      <a:lnTo>
                        <a:pt x="1561" y="541"/>
                      </a:lnTo>
                      <a:lnTo>
                        <a:pt x="1567" y="564"/>
                      </a:lnTo>
                      <a:lnTo>
                        <a:pt x="1575" y="588"/>
                      </a:lnTo>
                      <a:lnTo>
                        <a:pt x="1580" y="611"/>
                      </a:lnTo>
                      <a:lnTo>
                        <a:pt x="1586" y="636"/>
                      </a:lnTo>
                      <a:lnTo>
                        <a:pt x="1594" y="661"/>
                      </a:lnTo>
                      <a:lnTo>
                        <a:pt x="1602" y="689"/>
                      </a:lnTo>
                      <a:lnTo>
                        <a:pt x="1608" y="714"/>
                      </a:lnTo>
                      <a:lnTo>
                        <a:pt x="1615" y="743"/>
                      </a:lnTo>
                      <a:lnTo>
                        <a:pt x="1623" y="772"/>
                      </a:lnTo>
                      <a:lnTo>
                        <a:pt x="1631" y="801"/>
                      </a:lnTo>
                      <a:lnTo>
                        <a:pt x="1637" y="828"/>
                      </a:lnTo>
                      <a:lnTo>
                        <a:pt x="1643" y="857"/>
                      </a:lnTo>
                      <a:lnTo>
                        <a:pt x="1648" y="888"/>
                      </a:lnTo>
                      <a:lnTo>
                        <a:pt x="1656" y="919"/>
                      </a:lnTo>
                      <a:lnTo>
                        <a:pt x="1662" y="948"/>
                      </a:lnTo>
                      <a:lnTo>
                        <a:pt x="1670" y="981"/>
                      </a:lnTo>
                      <a:lnTo>
                        <a:pt x="1675" y="1012"/>
                      </a:lnTo>
                      <a:lnTo>
                        <a:pt x="1683" y="1045"/>
                      </a:lnTo>
                      <a:lnTo>
                        <a:pt x="1689" y="1076"/>
                      </a:lnTo>
                      <a:lnTo>
                        <a:pt x="1695" y="1109"/>
                      </a:lnTo>
                      <a:lnTo>
                        <a:pt x="1701" y="1140"/>
                      </a:lnTo>
                      <a:lnTo>
                        <a:pt x="1708" y="1175"/>
                      </a:lnTo>
                      <a:lnTo>
                        <a:pt x="1714" y="1208"/>
                      </a:lnTo>
                      <a:lnTo>
                        <a:pt x="1720" y="1241"/>
                      </a:lnTo>
                      <a:lnTo>
                        <a:pt x="1726" y="1276"/>
                      </a:lnTo>
                      <a:lnTo>
                        <a:pt x="1732" y="1311"/>
                      </a:lnTo>
                      <a:lnTo>
                        <a:pt x="1736" y="1344"/>
                      </a:lnTo>
                      <a:lnTo>
                        <a:pt x="1739" y="1379"/>
                      </a:lnTo>
                      <a:lnTo>
                        <a:pt x="1743" y="1412"/>
                      </a:lnTo>
                      <a:lnTo>
                        <a:pt x="1749" y="1447"/>
                      </a:lnTo>
                      <a:lnTo>
                        <a:pt x="1753" y="1480"/>
                      </a:lnTo>
                      <a:lnTo>
                        <a:pt x="1757" y="1515"/>
                      </a:lnTo>
                      <a:lnTo>
                        <a:pt x="1761" y="1550"/>
                      </a:lnTo>
                      <a:lnTo>
                        <a:pt x="1765" y="1585"/>
                      </a:lnTo>
                      <a:lnTo>
                        <a:pt x="1767" y="1617"/>
                      </a:lnTo>
                      <a:lnTo>
                        <a:pt x="1769" y="1652"/>
                      </a:lnTo>
                      <a:lnTo>
                        <a:pt x="1771" y="1685"/>
                      </a:lnTo>
                      <a:lnTo>
                        <a:pt x="1772" y="1720"/>
                      </a:lnTo>
                      <a:lnTo>
                        <a:pt x="1772" y="1753"/>
                      </a:lnTo>
                      <a:lnTo>
                        <a:pt x="1774" y="1788"/>
                      </a:lnTo>
                      <a:lnTo>
                        <a:pt x="1774" y="1821"/>
                      </a:lnTo>
                      <a:lnTo>
                        <a:pt x="1776" y="1856"/>
                      </a:lnTo>
                      <a:lnTo>
                        <a:pt x="1780" y="1860"/>
                      </a:lnTo>
                      <a:lnTo>
                        <a:pt x="1790" y="1870"/>
                      </a:lnTo>
                      <a:lnTo>
                        <a:pt x="1805" y="1879"/>
                      </a:lnTo>
                      <a:lnTo>
                        <a:pt x="1823" y="1891"/>
                      </a:lnTo>
                      <a:lnTo>
                        <a:pt x="1838" y="1893"/>
                      </a:lnTo>
                      <a:lnTo>
                        <a:pt x="1856" y="1887"/>
                      </a:lnTo>
                      <a:lnTo>
                        <a:pt x="1860" y="1879"/>
                      </a:lnTo>
                      <a:lnTo>
                        <a:pt x="1866" y="1868"/>
                      </a:lnTo>
                      <a:lnTo>
                        <a:pt x="1867" y="1860"/>
                      </a:lnTo>
                      <a:lnTo>
                        <a:pt x="1869" y="1852"/>
                      </a:lnTo>
                      <a:lnTo>
                        <a:pt x="1869" y="1842"/>
                      </a:lnTo>
                      <a:lnTo>
                        <a:pt x="1871" y="1833"/>
                      </a:lnTo>
                      <a:lnTo>
                        <a:pt x="1869" y="1815"/>
                      </a:lnTo>
                      <a:lnTo>
                        <a:pt x="1869" y="1798"/>
                      </a:lnTo>
                      <a:lnTo>
                        <a:pt x="1867" y="1786"/>
                      </a:lnTo>
                      <a:lnTo>
                        <a:pt x="1867" y="1776"/>
                      </a:lnTo>
                      <a:lnTo>
                        <a:pt x="1867" y="1765"/>
                      </a:lnTo>
                      <a:lnTo>
                        <a:pt x="1867" y="1753"/>
                      </a:lnTo>
                      <a:lnTo>
                        <a:pt x="1866" y="1738"/>
                      </a:lnTo>
                      <a:lnTo>
                        <a:pt x="1864" y="1724"/>
                      </a:lnTo>
                      <a:lnTo>
                        <a:pt x="1862" y="1709"/>
                      </a:lnTo>
                      <a:lnTo>
                        <a:pt x="1862" y="1695"/>
                      </a:lnTo>
                      <a:lnTo>
                        <a:pt x="1860" y="1678"/>
                      </a:lnTo>
                      <a:lnTo>
                        <a:pt x="1860" y="1660"/>
                      </a:lnTo>
                      <a:lnTo>
                        <a:pt x="1858" y="1643"/>
                      </a:lnTo>
                      <a:lnTo>
                        <a:pt x="1858" y="1625"/>
                      </a:lnTo>
                      <a:lnTo>
                        <a:pt x="1854" y="1604"/>
                      </a:lnTo>
                      <a:lnTo>
                        <a:pt x="1854" y="1585"/>
                      </a:lnTo>
                      <a:lnTo>
                        <a:pt x="1850" y="1563"/>
                      </a:lnTo>
                      <a:lnTo>
                        <a:pt x="1850" y="1544"/>
                      </a:lnTo>
                      <a:lnTo>
                        <a:pt x="1846" y="1521"/>
                      </a:lnTo>
                      <a:lnTo>
                        <a:pt x="1846" y="1499"/>
                      </a:lnTo>
                      <a:lnTo>
                        <a:pt x="1842" y="1476"/>
                      </a:lnTo>
                      <a:lnTo>
                        <a:pt x="1842" y="1455"/>
                      </a:lnTo>
                      <a:lnTo>
                        <a:pt x="1838" y="1429"/>
                      </a:lnTo>
                      <a:lnTo>
                        <a:pt x="1836" y="1406"/>
                      </a:lnTo>
                      <a:lnTo>
                        <a:pt x="1835" y="1383"/>
                      </a:lnTo>
                      <a:lnTo>
                        <a:pt x="1833" y="1360"/>
                      </a:lnTo>
                      <a:lnTo>
                        <a:pt x="1829" y="1334"/>
                      </a:lnTo>
                      <a:lnTo>
                        <a:pt x="1827" y="1309"/>
                      </a:lnTo>
                      <a:lnTo>
                        <a:pt x="1825" y="1284"/>
                      </a:lnTo>
                      <a:lnTo>
                        <a:pt x="1823" y="1261"/>
                      </a:lnTo>
                      <a:lnTo>
                        <a:pt x="1817" y="1234"/>
                      </a:lnTo>
                      <a:lnTo>
                        <a:pt x="1815" y="1206"/>
                      </a:lnTo>
                      <a:lnTo>
                        <a:pt x="1809" y="1179"/>
                      </a:lnTo>
                      <a:lnTo>
                        <a:pt x="1807" y="1154"/>
                      </a:lnTo>
                      <a:lnTo>
                        <a:pt x="1803" y="1127"/>
                      </a:lnTo>
                      <a:lnTo>
                        <a:pt x="1800" y="1100"/>
                      </a:lnTo>
                      <a:lnTo>
                        <a:pt x="1796" y="1073"/>
                      </a:lnTo>
                      <a:lnTo>
                        <a:pt x="1794" y="1047"/>
                      </a:lnTo>
                      <a:lnTo>
                        <a:pt x="1788" y="1018"/>
                      </a:lnTo>
                      <a:lnTo>
                        <a:pt x="1784" y="991"/>
                      </a:lnTo>
                      <a:lnTo>
                        <a:pt x="1780" y="964"/>
                      </a:lnTo>
                      <a:lnTo>
                        <a:pt x="1776" y="939"/>
                      </a:lnTo>
                      <a:lnTo>
                        <a:pt x="1771" y="910"/>
                      </a:lnTo>
                      <a:lnTo>
                        <a:pt x="1767" y="884"/>
                      </a:lnTo>
                      <a:lnTo>
                        <a:pt x="1763" y="857"/>
                      </a:lnTo>
                      <a:lnTo>
                        <a:pt x="1759" y="832"/>
                      </a:lnTo>
                      <a:lnTo>
                        <a:pt x="1753" y="803"/>
                      </a:lnTo>
                      <a:lnTo>
                        <a:pt x="1747" y="778"/>
                      </a:lnTo>
                      <a:lnTo>
                        <a:pt x="1741" y="751"/>
                      </a:lnTo>
                      <a:lnTo>
                        <a:pt x="1738" y="725"/>
                      </a:lnTo>
                      <a:lnTo>
                        <a:pt x="1732" y="698"/>
                      </a:lnTo>
                      <a:lnTo>
                        <a:pt x="1726" y="673"/>
                      </a:lnTo>
                      <a:lnTo>
                        <a:pt x="1720" y="648"/>
                      </a:lnTo>
                      <a:lnTo>
                        <a:pt x="1716" y="625"/>
                      </a:lnTo>
                      <a:lnTo>
                        <a:pt x="1708" y="599"/>
                      </a:lnTo>
                      <a:lnTo>
                        <a:pt x="1703" y="574"/>
                      </a:lnTo>
                      <a:lnTo>
                        <a:pt x="1697" y="551"/>
                      </a:lnTo>
                      <a:lnTo>
                        <a:pt x="1691" y="528"/>
                      </a:lnTo>
                      <a:lnTo>
                        <a:pt x="1685" y="504"/>
                      </a:lnTo>
                      <a:lnTo>
                        <a:pt x="1679" y="481"/>
                      </a:lnTo>
                      <a:lnTo>
                        <a:pt x="1674" y="458"/>
                      </a:lnTo>
                      <a:lnTo>
                        <a:pt x="1668" y="438"/>
                      </a:lnTo>
                      <a:lnTo>
                        <a:pt x="1664" y="433"/>
                      </a:lnTo>
                      <a:lnTo>
                        <a:pt x="1662" y="417"/>
                      </a:lnTo>
                      <a:lnTo>
                        <a:pt x="1658" y="405"/>
                      </a:lnTo>
                      <a:lnTo>
                        <a:pt x="1656" y="396"/>
                      </a:lnTo>
                      <a:lnTo>
                        <a:pt x="1656" y="384"/>
                      </a:lnTo>
                      <a:lnTo>
                        <a:pt x="1656" y="372"/>
                      </a:lnTo>
                      <a:lnTo>
                        <a:pt x="1656" y="359"/>
                      </a:lnTo>
                      <a:lnTo>
                        <a:pt x="1658" y="345"/>
                      </a:lnTo>
                      <a:lnTo>
                        <a:pt x="1662" y="334"/>
                      </a:lnTo>
                      <a:lnTo>
                        <a:pt x="1670" y="324"/>
                      </a:lnTo>
                      <a:lnTo>
                        <a:pt x="1677" y="312"/>
                      </a:lnTo>
                      <a:lnTo>
                        <a:pt x="1689" y="303"/>
                      </a:lnTo>
                      <a:lnTo>
                        <a:pt x="1703" y="297"/>
                      </a:lnTo>
                      <a:lnTo>
                        <a:pt x="1722" y="293"/>
                      </a:lnTo>
                      <a:lnTo>
                        <a:pt x="1734" y="289"/>
                      </a:lnTo>
                      <a:lnTo>
                        <a:pt x="1745" y="287"/>
                      </a:lnTo>
                      <a:lnTo>
                        <a:pt x="1757" y="283"/>
                      </a:lnTo>
                      <a:lnTo>
                        <a:pt x="1771" y="281"/>
                      </a:lnTo>
                      <a:lnTo>
                        <a:pt x="1780" y="277"/>
                      </a:lnTo>
                      <a:lnTo>
                        <a:pt x="1792" y="276"/>
                      </a:lnTo>
                      <a:lnTo>
                        <a:pt x="1803" y="272"/>
                      </a:lnTo>
                      <a:lnTo>
                        <a:pt x="1815" y="270"/>
                      </a:lnTo>
                      <a:lnTo>
                        <a:pt x="1833" y="264"/>
                      </a:lnTo>
                      <a:lnTo>
                        <a:pt x="1852" y="260"/>
                      </a:lnTo>
                      <a:lnTo>
                        <a:pt x="1867" y="254"/>
                      </a:lnTo>
                      <a:lnTo>
                        <a:pt x="1881" y="250"/>
                      </a:lnTo>
                      <a:lnTo>
                        <a:pt x="1895" y="239"/>
                      </a:lnTo>
                      <a:lnTo>
                        <a:pt x="1899" y="229"/>
                      </a:lnTo>
                      <a:lnTo>
                        <a:pt x="1893" y="223"/>
                      </a:lnTo>
                      <a:lnTo>
                        <a:pt x="1883" y="219"/>
                      </a:lnTo>
                      <a:lnTo>
                        <a:pt x="1869" y="213"/>
                      </a:lnTo>
                      <a:lnTo>
                        <a:pt x="1852" y="210"/>
                      </a:lnTo>
                      <a:lnTo>
                        <a:pt x="1840" y="206"/>
                      </a:lnTo>
                      <a:lnTo>
                        <a:pt x="1829" y="202"/>
                      </a:lnTo>
                      <a:lnTo>
                        <a:pt x="1819" y="198"/>
                      </a:lnTo>
                      <a:lnTo>
                        <a:pt x="1811" y="196"/>
                      </a:lnTo>
                      <a:lnTo>
                        <a:pt x="1794" y="190"/>
                      </a:lnTo>
                      <a:lnTo>
                        <a:pt x="1778" y="184"/>
                      </a:lnTo>
                      <a:lnTo>
                        <a:pt x="1761" y="179"/>
                      </a:lnTo>
                      <a:lnTo>
                        <a:pt x="1745" y="173"/>
                      </a:lnTo>
                      <a:lnTo>
                        <a:pt x="1726" y="169"/>
                      </a:lnTo>
                      <a:lnTo>
                        <a:pt x="1708" y="167"/>
                      </a:lnTo>
                      <a:lnTo>
                        <a:pt x="1695" y="165"/>
                      </a:lnTo>
                      <a:lnTo>
                        <a:pt x="1683" y="163"/>
                      </a:lnTo>
                      <a:lnTo>
                        <a:pt x="1670" y="161"/>
                      </a:lnTo>
                      <a:lnTo>
                        <a:pt x="1658" y="161"/>
                      </a:lnTo>
                      <a:lnTo>
                        <a:pt x="1643" y="161"/>
                      </a:lnTo>
                      <a:lnTo>
                        <a:pt x="1627" y="161"/>
                      </a:lnTo>
                      <a:lnTo>
                        <a:pt x="1610" y="161"/>
                      </a:lnTo>
                      <a:lnTo>
                        <a:pt x="1594" y="163"/>
                      </a:lnTo>
                      <a:lnTo>
                        <a:pt x="1573" y="163"/>
                      </a:lnTo>
                      <a:lnTo>
                        <a:pt x="1553" y="165"/>
                      </a:lnTo>
                      <a:lnTo>
                        <a:pt x="1542" y="165"/>
                      </a:lnTo>
                      <a:lnTo>
                        <a:pt x="1530" y="167"/>
                      </a:lnTo>
                      <a:lnTo>
                        <a:pt x="1518" y="169"/>
                      </a:lnTo>
                      <a:lnTo>
                        <a:pt x="1509" y="171"/>
                      </a:lnTo>
                      <a:lnTo>
                        <a:pt x="1495" y="171"/>
                      </a:lnTo>
                      <a:lnTo>
                        <a:pt x="1483" y="173"/>
                      </a:lnTo>
                      <a:lnTo>
                        <a:pt x="1470" y="175"/>
                      </a:lnTo>
                      <a:lnTo>
                        <a:pt x="1458" y="177"/>
                      </a:lnTo>
                      <a:lnTo>
                        <a:pt x="1443" y="177"/>
                      </a:lnTo>
                      <a:lnTo>
                        <a:pt x="1429" y="180"/>
                      </a:lnTo>
                      <a:lnTo>
                        <a:pt x="1416" y="182"/>
                      </a:lnTo>
                      <a:lnTo>
                        <a:pt x="1402" y="186"/>
                      </a:lnTo>
                      <a:lnTo>
                        <a:pt x="1385" y="186"/>
                      </a:lnTo>
                      <a:lnTo>
                        <a:pt x="1367" y="190"/>
                      </a:lnTo>
                      <a:lnTo>
                        <a:pt x="1350" y="192"/>
                      </a:lnTo>
                      <a:lnTo>
                        <a:pt x="1334" y="198"/>
                      </a:lnTo>
                      <a:lnTo>
                        <a:pt x="1315" y="200"/>
                      </a:lnTo>
                      <a:lnTo>
                        <a:pt x="1297" y="204"/>
                      </a:lnTo>
                      <a:lnTo>
                        <a:pt x="1280" y="210"/>
                      </a:lnTo>
                      <a:lnTo>
                        <a:pt x="1262" y="215"/>
                      </a:lnTo>
                      <a:lnTo>
                        <a:pt x="1241" y="221"/>
                      </a:lnTo>
                      <a:lnTo>
                        <a:pt x="1222" y="227"/>
                      </a:lnTo>
                      <a:lnTo>
                        <a:pt x="1202" y="233"/>
                      </a:lnTo>
                      <a:lnTo>
                        <a:pt x="1183" y="239"/>
                      </a:lnTo>
                      <a:lnTo>
                        <a:pt x="1162" y="244"/>
                      </a:lnTo>
                      <a:lnTo>
                        <a:pt x="1142" y="252"/>
                      </a:lnTo>
                      <a:lnTo>
                        <a:pt x="1121" y="260"/>
                      </a:lnTo>
                      <a:lnTo>
                        <a:pt x="1101" y="268"/>
                      </a:lnTo>
                      <a:lnTo>
                        <a:pt x="1078" y="274"/>
                      </a:lnTo>
                      <a:lnTo>
                        <a:pt x="1059" y="281"/>
                      </a:lnTo>
                      <a:lnTo>
                        <a:pt x="1035" y="289"/>
                      </a:lnTo>
                      <a:lnTo>
                        <a:pt x="1016" y="297"/>
                      </a:lnTo>
                      <a:lnTo>
                        <a:pt x="993" y="305"/>
                      </a:lnTo>
                      <a:lnTo>
                        <a:pt x="973" y="312"/>
                      </a:lnTo>
                      <a:lnTo>
                        <a:pt x="950" y="320"/>
                      </a:lnTo>
                      <a:lnTo>
                        <a:pt x="931" y="330"/>
                      </a:lnTo>
                      <a:lnTo>
                        <a:pt x="907" y="338"/>
                      </a:lnTo>
                      <a:lnTo>
                        <a:pt x="886" y="347"/>
                      </a:lnTo>
                      <a:lnTo>
                        <a:pt x="865" y="355"/>
                      </a:lnTo>
                      <a:lnTo>
                        <a:pt x="845" y="365"/>
                      </a:lnTo>
                      <a:lnTo>
                        <a:pt x="822" y="372"/>
                      </a:lnTo>
                      <a:lnTo>
                        <a:pt x="803" y="382"/>
                      </a:lnTo>
                      <a:lnTo>
                        <a:pt x="781" y="390"/>
                      </a:lnTo>
                      <a:lnTo>
                        <a:pt x="762" y="400"/>
                      </a:lnTo>
                      <a:lnTo>
                        <a:pt x="739" y="405"/>
                      </a:lnTo>
                      <a:lnTo>
                        <a:pt x="719" y="415"/>
                      </a:lnTo>
                      <a:lnTo>
                        <a:pt x="698" y="421"/>
                      </a:lnTo>
                      <a:lnTo>
                        <a:pt x="679" y="431"/>
                      </a:lnTo>
                      <a:lnTo>
                        <a:pt x="657" y="438"/>
                      </a:lnTo>
                      <a:lnTo>
                        <a:pt x="638" y="446"/>
                      </a:lnTo>
                      <a:lnTo>
                        <a:pt x="619" y="454"/>
                      </a:lnTo>
                      <a:lnTo>
                        <a:pt x="601" y="464"/>
                      </a:lnTo>
                      <a:lnTo>
                        <a:pt x="582" y="469"/>
                      </a:lnTo>
                      <a:lnTo>
                        <a:pt x="562" y="479"/>
                      </a:lnTo>
                      <a:lnTo>
                        <a:pt x="545" y="485"/>
                      </a:lnTo>
                      <a:lnTo>
                        <a:pt x="529" y="495"/>
                      </a:lnTo>
                      <a:lnTo>
                        <a:pt x="512" y="500"/>
                      </a:lnTo>
                      <a:lnTo>
                        <a:pt x="494" y="508"/>
                      </a:lnTo>
                      <a:lnTo>
                        <a:pt x="479" y="516"/>
                      </a:lnTo>
                      <a:lnTo>
                        <a:pt x="465" y="524"/>
                      </a:lnTo>
                      <a:lnTo>
                        <a:pt x="448" y="528"/>
                      </a:lnTo>
                      <a:lnTo>
                        <a:pt x="434" y="533"/>
                      </a:lnTo>
                      <a:lnTo>
                        <a:pt x="419" y="539"/>
                      </a:lnTo>
                      <a:lnTo>
                        <a:pt x="407" y="545"/>
                      </a:lnTo>
                      <a:lnTo>
                        <a:pt x="395" y="549"/>
                      </a:lnTo>
                      <a:lnTo>
                        <a:pt x="384" y="555"/>
                      </a:lnTo>
                      <a:lnTo>
                        <a:pt x="372" y="559"/>
                      </a:lnTo>
                      <a:lnTo>
                        <a:pt x="363" y="564"/>
                      </a:lnTo>
                      <a:lnTo>
                        <a:pt x="343" y="570"/>
                      </a:lnTo>
                      <a:lnTo>
                        <a:pt x="330" y="576"/>
                      </a:lnTo>
                      <a:lnTo>
                        <a:pt x="316" y="580"/>
                      </a:lnTo>
                      <a:lnTo>
                        <a:pt x="308" y="584"/>
                      </a:lnTo>
                      <a:lnTo>
                        <a:pt x="295" y="580"/>
                      </a:lnTo>
                      <a:lnTo>
                        <a:pt x="293" y="574"/>
                      </a:lnTo>
                      <a:lnTo>
                        <a:pt x="297" y="561"/>
                      </a:lnTo>
                      <a:lnTo>
                        <a:pt x="308" y="545"/>
                      </a:lnTo>
                      <a:lnTo>
                        <a:pt x="314" y="533"/>
                      </a:lnTo>
                      <a:lnTo>
                        <a:pt x="324" y="524"/>
                      </a:lnTo>
                      <a:lnTo>
                        <a:pt x="333" y="512"/>
                      </a:lnTo>
                      <a:lnTo>
                        <a:pt x="347" y="502"/>
                      </a:lnTo>
                      <a:lnTo>
                        <a:pt x="359" y="489"/>
                      </a:lnTo>
                      <a:lnTo>
                        <a:pt x="374" y="475"/>
                      </a:lnTo>
                      <a:lnTo>
                        <a:pt x="392" y="462"/>
                      </a:lnTo>
                      <a:lnTo>
                        <a:pt x="409" y="448"/>
                      </a:lnTo>
                      <a:lnTo>
                        <a:pt x="427" y="433"/>
                      </a:lnTo>
                      <a:lnTo>
                        <a:pt x="444" y="417"/>
                      </a:lnTo>
                      <a:lnTo>
                        <a:pt x="463" y="402"/>
                      </a:lnTo>
                      <a:lnTo>
                        <a:pt x="485" y="388"/>
                      </a:lnTo>
                      <a:lnTo>
                        <a:pt x="494" y="378"/>
                      </a:lnTo>
                      <a:lnTo>
                        <a:pt x="506" y="372"/>
                      </a:lnTo>
                      <a:lnTo>
                        <a:pt x="516" y="363"/>
                      </a:lnTo>
                      <a:lnTo>
                        <a:pt x="527" y="357"/>
                      </a:lnTo>
                      <a:lnTo>
                        <a:pt x="539" y="349"/>
                      </a:lnTo>
                      <a:lnTo>
                        <a:pt x="551" y="341"/>
                      </a:lnTo>
                      <a:lnTo>
                        <a:pt x="562" y="334"/>
                      </a:lnTo>
                      <a:lnTo>
                        <a:pt x="576" y="328"/>
                      </a:lnTo>
                      <a:lnTo>
                        <a:pt x="587" y="320"/>
                      </a:lnTo>
                      <a:lnTo>
                        <a:pt x="599" y="312"/>
                      </a:lnTo>
                      <a:lnTo>
                        <a:pt x="611" y="305"/>
                      </a:lnTo>
                      <a:lnTo>
                        <a:pt x="622" y="299"/>
                      </a:lnTo>
                      <a:lnTo>
                        <a:pt x="634" y="291"/>
                      </a:lnTo>
                      <a:lnTo>
                        <a:pt x="648" y="283"/>
                      </a:lnTo>
                      <a:lnTo>
                        <a:pt x="659" y="277"/>
                      </a:lnTo>
                      <a:lnTo>
                        <a:pt x="673" y="272"/>
                      </a:lnTo>
                      <a:lnTo>
                        <a:pt x="684" y="264"/>
                      </a:lnTo>
                      <a:lnTo>
                        <a:pt x="696" y="258"/>
                      </a:lnTo>
                      <a:lnTo>
                        <a:pt x="710" y="252"/>
                      </a:lnTo>
                      <a:lnTo>
                        <a:pt x="723" y="246"/>
                      </a:lnTo>
                      <a:lnTo>
                        <a:pt x="735" y="241"/>
                      </a:lnTo>
                      <a:lnTo>
                        <a:pt x="748" y="235"/>
                      </a:lnTo>
                      <a:lnTo>
                        <a:pt x="762" y="229"/>
                      </a:lnTo>
                      <a:lnTo>
                        <a:pt x="776" y="225"/>
                      </a:lnTo>
                      <a:lnTo>
                        <a:pt x="787" y="219"/>
                      </a:lnTo>
                      <a:lnTo>
                        <a:pt x="799" y="213"/>
                      </a:lnTo>
                      <a:lnTo>
                        <a:pt x="811" y="208"/>
                      </a:lnTo>
                      <a:lnTo>
                        <a:pt x="824" y="202"/>
                      </a:lnTo>
                      <a:lnTo>
                        <a:pt x="836" y="196"/>
                      </a:lnTo>
                      <a:lnTo>
                        <a:pt x="847" y="192"/>
                      </a:lnTo>
                      <a:lnTo>
                        <a:pt x="859" y="188"/>
                      </a:lnTo>
                      <a:lnTo>
                        <a:pt x="873" y="184"/>
                      </a:lnTo>
                      <a:lnTo>
                        <a:pt x="884" y="179"/>
                      </a:lnTo>
                      <a:lnTo>
                        <a:pt x="896" y="175"/>
                      </a:lnTo>
                      <a:lnTo>
                        <a:pt x="907" y="171"/>
                      </a:lnTo>
                      <a:lnTo>
                        <a:pt x="921" y="167"/>
                      </a:lnTo>
                      <a:lnTo>
                        <a:pt x="933" y="163"/>
                      </a:lnTo>
                      <a:lnTo>
                        <a:pt x="946" y="161"/>
                      </a:lnTo>
                      <a:lnTo>
                        <a:pt x="958" y="157"/>
                      </a:lnTo>
                      <a:lnTo>
                        <a:pt x="971" y="155"/>
                      </a:lnTo>
                      <a:lnTo>
                        <a:pt x="981" y="149"/>
                      </a:lnTo>
                      <a:lnTo>
                        <a:pt x="993" y="148"/>
                      </a:lnTo>
                      <a:lnTo>
                        <a:pt x="1004" y="142"/>
                      </a:lnTo>
                      <a:lnTo>
                        <a:pt x="1016" y="140"/>
                      </a:lnTo>
                      <a:lnTo>
                        <a:pt x="1028" y="136"/>
                      </a:lnTo>
                      <a:lnTo>
                        <a:pt x="1039" y="134"/>
                      </a:lnTo>
                      <a:lnTo>
                        <a:pt x="1051" y="130"/>
                      </a:lnTo>
                      <a:lnTo>
                        <a:pt x="1063" y="130"/>
                      </a:lnTo>
                      <a:lnTo>
                        <a:pt x="1074" y="126"/>
                      </a:lnTo>
                      <a:lnTo>
                        <a:pt x="1086" y="124"/>
                      </a:lnTo>
                      <a:lnTo>
                        <a:pt x="1098" y="120"/>
                      </a:lnTo>
                      <a:lnTo>
                        <a:pt x="1109" y="118"/>
                      </a:lnTo>
                      <a:lnTo>
                        <a:pt x="1121" y="115"/>
                      </a:lnTo>
                      <a:lnTo>
                        <a:pt x="1132" y="115"/>
                      </a:lnTo>
                      <a:lnTo>
                        <a:pt x="1144" y="111"/>
                      </a:lnTo>
                      <a:lnTo>
                        <a:pt x="1156" y="111"/>
                      </a:lnTo>
                      <a:lnTo>
                        <a:pt x="1175" y="105"/>
                      </a:lnTo>
                      <a:lnTo>
                        <a:pt x="1196" y="101"/>
                      </a:lnTo>
                      <a:lnTo>
                        <a:pt x="1206" y="97"/>
                      </a:lnTo>
                      <a:lnTo>
                        <a:pt x="1218" y="97"/>
                      </a:lnTo>
                      <a:lnTo>
                        <a:pt x="1227" y="93"/>
                      </a:lnTo>
                      <a:lnTo>
                        <a:pt x="1239" y="93"/>
                      </a:lnTo>
                      <a:lnTo>
                        <a:pt x="1259" y="89"/>
                      </a:lnTo>
                      <a:lnTo>
                        <a:pt x="1278" y="87"/>
                      </a:lnTo>
                      <a:lnTo>
                        <a:pt x="1297" y="84"/>
                      </a:lnTo>
                      <a:lnTo>
                        <a:pt x="1319" y="84"/>
                      </a:lnTo>
                      <a:lnTo>
                        <a:pt x="1336" y="80"/>
                      </a:lnTo>
                      <a:lnTo>
                        <a:pt x="1355" y="78"/>
                      </a:lnTo>
                      <a:lnTo>
                        <a:pt x="1373" y="74"/>
                      </a:lnTo>
                      <a:lnTo>
                        <a:pt x="1392" y="74"/>
                      </a:lnTo>
                      <a:lnTo>
                        <a:pt x="1408" y="72"/>
                      </a:lnTo>
                      <a:lnTo>
                        <a:pt x="1425" y="70"/>
                      </a:lnTo>
                      <a:lnTo>
                        <a:pt x="1443" y="68"/>
                      </a:lnTo>
                      <a:lnTo>
                        <a:pt x="1460" y="68"/>
                      </a:lnTo>
                      <a:lnTo>
                        <a:pt x="1474" y="64"/>
                      </a:lnTo>
                      <a:lnTo>
                        <a:pt x="1487" y="62"/>
                      </a:lnTo>
                      <a:lnTo>
                        <a:pt x="1501" y="60"/>
                      </a:lnTo>
                      <a:lnTo>
                        <a:pt x="1516" y="58"/>
                      </a:lnTo>
                      <a:lnTo>
                        <a:pt x="1530" y="54"/>
                      </a:lnTo>
                      <a:lnTo>
                        <a:pt x="1544" y="53"/>
                      </a:lnTo>
                      <a:lnTo>
                        <a:pt x="1555" y="51"/>
                      </a:lnTo>
                      <a:lnTo>
                        <a:pt x="1569" y="49"/>
                      </a:lnTo>
                      <a:lnTo>
                        <a:pt x="1579" y="45"/>
                      </a:lnTo>
                      <a:lnTo>
                        <a:pt x="1590" y="43"/>
                      </a:lnTo>
                      <a:lnTo>
                        <a:pt x="1600" y="39"/>
                      </a:lnTo>
                      <a:lnTo>
                        <a:pt x="1610" y="37"/>
                      </a:lnTo>
                      <a:lnTo>
                        <a:pt x="1625" y="31"/>
                      </a:lnTo>
                      <a:lnTo>
                        <a:pt x="1639" y="25"/>
                      </a:lnTo>
                      <a:lnTo>
                        <a:pt x="1650" y="14"/>
                      </a:lnTo>
                      <a:lnTo>
                        <a:pt x="1644" y="6"/>
                      </a:lnTo>
                      <a:lnTo>
                        <a:pt x="1633" y="2"/>
                      </a:lnTo>
                      <a:lnTo>
                        <a:pt x="1615" y="0"/>
                      </a:lnTo>
                      <a:lnTo>
                        <a:pt x="1604" y="0"/>
                      </a:lnTo>
                      <a:lnTo>
                        <a:pt x="1592" y="0"/>
                      </a:lnTo>
                      <a:lnTo>
                        <a:pt x="1579" y="0"/>
                      </a:lnTo>
                      <a:lnTo>
                        <a:pt x="1565" y="2"/>
                      </a:lnTo>
                      <a:lnTo>
                        <a:pt x="1553" y="2"/>
                      </a:lnTo>
                      <a:lnTo>
                        <a:pt x="1544" y="2"/>
                      </a:lnTo>
                      <a:lnTo>
                        <a:pt x="1532" y="2"/>
                      </a:lnTo>
                      <a:lnTo>
                        <a:pt x="1520" y="2"/>
                      </a:lnTo>
                      <a:lnTo>
                        <a:pt x="1507" y="2"/>
                      </a:lnTo>
                      <a:lnTo>
                        <a:pt x="1495" y="4"/>
                      </a:lnTo>
                      <a:lnTo>
                        <a:pt x="1482" y="6"/>
                      </a:lnTo>
                      <a:lnTo>
                        <a:pt x="1468" y="8"/>
                      </a:lnTo>
                      <a:lnTo>
                        <a:pt x="1452" y="8"/>
                      </a:lnTo>
                      <a:lnTo>
                        <a:pt x="1437" y="10"/>
                      </a:lnTo>
                      <a:lnTo>
                        <a:pt x="1421" y="12"/>
                      </a:lnTo>
                      <a:lnTo>
                        <a:pt x="1406" y="14"/>
                      </a:lnTo>
                      <a:lnTo>
                        <a:pt x="1388" y="14"/>
                      </a:lnTo>
                      <a:lnTo>
                        <a:pt x="1371" y="18"/>
                      </a:lnTo>
                      <a:lnTo>
                        <a:pt x="1354" y="20"/>
                      </a:lnTo>
                      <a:lnTo>
                        <a:pt x="1338" y="23"/>
                      </a:lnTo>
                      <a:lnTo>
                        <a:pt x="1319" y="23"/>
                      </a:lnTo>
                      <a:lnTo>
                        <a:pt x="1299" y="27"/>
                      </a:lnTo>
                      <a:lnTo>
                        <a:pt x="1280" y="29"/>
                      </a:lnTo>
                      <a:lnTo>
                        <a:pt x="1260" y="33"/>
                      </a:lnTo>
                      <a:lnTo>
                        <a:pt x="1239" y="35"/>
                      </a:lnTo>
                      <a:lnTo>
                        <a:pt x="1220" y="41"/>
                      </a:lnTo>
                      <a:lnTo>
                        <a:pt x="1200" y="43"/>
                      </a:lnTo>
                      <a:lnTo>
                        <a:pt x="1181" y="49"/>
                      </a:lnTo>
                      <a:lnTo>
                        <a:pt x="1158" y="53"/>
                      </a:lnTo>
                      <a:lnTo>
                        <a:pt x="1136" y="56"/>
                      </a:lnTo>
                      <a:lnTo>
                        <a:pt x="1115" y="60"/>
                      </a:lnTo>
                      <a:lnTo>
                        <a:pt x="1094" y="66"/>
                      </a:lnTo>
                      <a:lnTo>
                        <a:pt x="1070" y="70"/>
                      </a:lnTo>
                      <a:lnTo>
                        <a:pt x="1049" y="76"/>
                      </a:lnTo>
                      <a:lnTo>
                        <a:pt x="1028" y="82"/>
                      </a:lnTo>
                      <a:lnTo>
                        <a:pt x="1006" y="87"/>
                      </a:lnTo>
                      <a:lnTo>
                        <a:pt x="983" y="91"/>
                      </a:lnTo>
                      <a:lnTo>
                        <a:pt x="960" y="97"/>
                      </a:lnTo>
                      <a:lnTo>
                        <a:pt x="937" y="103"/>
                      </a:lnTo>
                      <a:lnTo>
                        <a:pt x="913" y="109"/>
                      </a:lnTo>
                      <a:lnTo>
                        <a:pt x="890" y="115"/>
                      </a:lnTo>
                      <a:lnTo>
                        <a:pt x="867" y="122"/>
                      </a:lnTo>
                      <a:lnTo>
                        <a:pt x="843" y="128"/>
                      </a:lnTo>
                      <a:lnTo>
                        <a:pt x="822" y="136"/>
                      </a:lnTo>
                      <a:lnTo>
                        <a:pt x="799" y="142"/>
                      </a:lnTo>
                      <a:lnTo>
                        <a:pt x="776" y="149"/>
                      </a:lnTo>
                      <a:lnTo>
                        <a:pt x="752" y="157"/>
                      </a:lnTo>
                      <a:lnTo>
                        <a:pt x="729" y="167"/>
                      </a:lnTo>
                      <a:lnTo>
                        <a:pt x="706" y="175"/>
                      </a:lnTo>
                      <a:lnTo>
                        <a:pt x="684" y="184"/>
                      </a:lnTo>
                      <a:lnTo>
                        <a:pt x="661" y="192"/>
                      </a:lnTo>
                      <a:lnTo>
                        <a:pt x="640" y="204"/>
                      </a:lnTo>
                      <a:lnTo>
                        <a:pt x="617" y="212"/>
                      </a:lnTo>
                      <a:lnTo>
                        <a:pt x="593" y="221"/>
                      </a:lnTo>
                      <a:lnTo>
                        <a:pt x="572" y="229"/>
                      </a:lnTo>
                      <a:lnTo>
                        <a:pt x="551" y="241"/>
                      </a:lnTo>
                      <a:lnTo>
                        <a:pt x="527" y="250"/>
                      </a:lnTo>
                      <a:lnTo>
                        <a:pt x="508" y="262"/>
                      </a:lnTo>
                      <a:lnTo>
                        <a:pt x="487" y="274"/>
                      </a:lnTo>
                      <a:lnTo>
                        <a:pt x="467" y="285"/>
                      </a:lnTo>
                      <a:lnTo>
                        <a:pt x="446" y="295"/>
                      </a:lnTo>
                      <a:lnTo>
                        <a:pt x="427" y="307"/>
                      </a:lnTo>
                      <a:lnTo>
                        <a:pt x="405" y="318"/>
                      </a:lnTo>
                      <a:lnTo>
                        <a:pt x="388" y="332"/>
                      </a:lnTo>
                      <a:lnTo>
                        <a:pt x="368" y="343"/>
                      </a:lnTo>
                      <a:lnTo>
                        <a:pt x="351" y="357"/>
                      </a:lnTo>
                      <a:lnTo>
                        <a:pt x="333" y="371"/>
                      </a:lnTo>
                      <a:lnTo>
                        <a:pt x="316" y="386"/>
                      </a:lnTo>
                      <a:lnTo>
                        <a:pt x="297" y="398"/>
                      </a:lnTo>
                      <a:lnTo>
                        <a:pt x="279" y="411"/>
                      </a:lnTo>
                      <a:lnTo>
                        <a:pt x="264" y="423"/>
                      </a:lnTo>
                      <a:lnTo>
                        <a:pt x="248" y="436"/>
                      </a:lnTo>
                      <a:lnTo>
                        <a:pt x="233" y="448"/>
                      </a:lnTo>
                      <a:lnTo>
                        <a:pt x="219" y="462"/>
                      </a:lnTo>
                      <a:lnTo>
                        <a:pt x="205" y="475"/>
                      </a:lnTo>
                      <a:lnTo>
                        <a:pt x="194" y="489"/>
                      </a:lnTo>
                      <a:lnTo>
                        <a:pt x="180" y="500"/>
                      </a:lnTo>
                      <a:lnTo>
                        <a:pt x="169" y="512"/>
                      </a:lnTo>
                      <a:lnTo>
                        <a:pt x="157" y="524"/>
                      </a:lnTo>
                      <a:lnTo>
                        <a:pt x="145" y="535"/>
                      </a:lnTo>
                      <a:lnTo>
                        <a:pt x="134" y="547"/>
                      </a:lnTo>
                      <a:lnTo>
                        <a:pt x="126" y="559"/>
                      </a:lnTo>
                      <a:lnTo>
                        <a:pt x="116" y="570"/>
                      </a:lnTo>
                      <a:lnTo>
                        <a:pt x="108" y="584"/>
                      </a:lnTo>
                      <a:lnTo>
                        <a:pt x="91" y="603"/>
                      </a:lnTo>
                      <a:lnTo>
                        <a:pt x="75" y="625"/>
                      </a:lnTo>
                      <a:lnTo>
                        <a:pt x="62" y="644"/>
                      </a:lnTo>
                      <a:lnTo>
                        <a:pt x="52" y="665"/>
                      </a:lnTo>
                      <a:lnTo>
                        <a:pt x="41" y="683"/>
                      </a:lnTo>
                      <a:lnTo>
                        <a:pt x="33" y="702"/>
                      </a:lnTo>
                      <a:lnTo>
                        <a:pt x="25" y="720"/>
                      </a:lnTo>
                      <a:lnTo>
                        <a:pt x="19" y="737"/>
                      </a:lnTo>
                      <a:lnTo>
                        <a:pt x="13" y="751"/>
                      </a:lnTo>
                      <a:lnTo>
                        <a:pt x="8" y="764"/>
                      </a:lnTo>
                      <a:lnTo>
                        <a:pt x="4" y="778"/>
                      </a:lnTo>
                      <a:lnTo>
                        <a:pt x="4" y="791"/>
                      </a:lnTo>
                      <a:lnTo>
                        <a:pt x="0" y="801"/>
                      </a:lnTo>
                      <a:lnTo>
                        <a:pt x="0" y="813"/>
                      </a:lnTo>
                      <a:lnTo>
                        <a:pt x="0" y="822"/>
                      </a:lnTo>
                      <a:lnTo>
                        <a:pt x="0" y="834"/>
                      </a:lnTo>
                      <a:lnTo>
                        <a:pt x="0" y="848"/>
                      </a:lnTo>
                      <a:lnTo>
                        <a:pt x="2" y="859"/>
                      </a:lnTo>
                      <a:lnTo>
                        <a:pt x="2" y="865"/>
                      </a:lnTo>
                      <a:lnTo>
                        <a:pt x="4" y="869"/>
                      </a:lnTo>
                      <a:close/>
                    </a:path>
                  </a:pathLst>
                </a:custGeom>
                <a:solidFill>
                  <a:srgbClr val="f1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0520" y="-478080"/>
                  <a:ext cx="440640" cy="104400"/>
                </a:xfrm>
                <a:custGeom>
                  <a:avLst/>
                  <a:gdLst/>
                  <a:ahLst/>
                  <a:rect l="l" t="t" r="r" b="b"/>
                  <a:pathLst>
                    <a:path w="1577" h="374">
                      <a:moveTo>
                        <a:pt x="0" y="304"/>
                      </a:moveTo>
                      <a:lnTo>
                        <a:pt x="1550" y="0"/>
                      </a:lnTo>
                      <a:lnTo>
                        <a:pt x="1577" y="108"/>
                      </a:lnTo>
                      <a:lnTo>
                        <a:pt x="6" y="374"/>
                      </a:lnTo>
                      <a:lnTo>
                        <a:pt x="0" y="30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977720" y="-427680"/>
                  <a:ext cx="432720" cy="84240"/>
                </a:xfrm>
                <a:custGeom>
                  <a:avLst/>
                  <a:gdLst/>
                  <a:ahLst/>
                  <a:rect l="l" t="t" r="r" b="b"/>
                  <a:pathLst>
                    <a:path w="1547" h="302">
                      <a:moveTo>
                        <a:pt x="0" y="248"/>
                      </a:moveTo>
                      <a:lnTo>
                        <a:pt x="1528" y="0"/>
                      </a:lnTo>
                      <a:lnTo>
                        <a:pt x="1547" y="54"/>
                      </a:lnTo>
                      <a:lnTo>
                        <a:pt x="5" y="302"/>
                      </a:lnTo>
                      <a:lnTo>
                        <a:pt x="0" y="2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458680" y="-443520"/>
                  <a:ext cx="99360" cy="21600"/>
                </a:xfrm>
                <a:custGeom>
                  <a:avLst/>
                  <a:gdLst/>
                  <a:ahLst/>
                  <a:rect l="l" t="t" r="r" b="b"/>
                  <a:pathLst>
                    <a:path w="355" h="77">
                      <a:moveTo>
                        <a:pt x="0" y="23"/>
                      </a:moveTo>
                      <a:lnTo>
                        <a:pt x="349" y="0"/>
                      </a:lnTo>
                      <a:lnTo>
                        <a:pt x="355" y="54"/>
                      </a:lnTo>
                      <a:lnTo>
                        <a:pt x="21" y="77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450400" y="-486360"/>
                  <a:ext cx="101160" cy="29880"/>
                </a:xfrm>
                <a:custGeom>
                  <a:avLst/>
                  <a:gdLst/>
                  <a:ahLst/>
                  <a:rect l="l" t="t" r="r" b="b"/>
                  <a:pathLst>
                    <a:path w="363" h="107">
                      <a:moveTo>
                        <a:pt x="0" y="12"/>
                      </a:moveTo>
                      <a:lnTo>
                        <a:pt x="363" y="0"/>
                      </a:lnTo>
                      <a:lnTo>
                        <a:pt x="357" y="72"/>
                      </a:lnTo>
                      <a:lnTo>
                        <a:pt x="25" y="10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146560" y="-178200"/>
                  <a:ext cx="347760" cy="163080"/>
                </a:xfrm>
                <a:custGeom>
                  <a:avLst/>
                  <a:gdLst/>
                  <a:ahLst/>
                  <a:rect l="l" t="t" r="r" b="b"/>
                  <a:pathLst>
                    <a:path w="1245" h="584">
                      <a:moveTo>
                        <a:pt x="0" y="19"/>
                      </a:moveTo>
                      <a:lnTo>
                        <a:pt x="4" y="23"/>
                      </a:lnTo>
                      <a:lnTo>
                        <a:pt x="17" y="41"/>
                      </a:lnTo>
                      <a:lnTo>
                        <a:pt x="27" y="50"/>
                      </a:lnTo>
                      <a:lnTo>
                        <a:pt x="39" y="64"/>
                      </a:lnTo>
                      <a:lnTo>
                        <a:pt x="54" y="79"/>
                      </a:lnTo>
                      <a:lnTo>
                        <a:pt x="72" y="99"/>
                      </a:lnTo>
                      <a:lnTo>
                        <a:pt x="79" y="107"/>
                      </a:lnTo>
                      <a:lnTo>
                        <a:pt x="89" y="116"/>
                      </a:lnTo>
                      <a:lnTo>
                        <a:pt x="99" y="126"/>
                      </a:lnTo>
                      <a:lnTo>
                        <a:pt x="110" y="138"/>
                      </a:lnTo>
                      <a:lnTo>
                        <a:pt x="120" y="149"/>
                      </a:lnTo>
                      <a:lnTo>
                        <a:pt x="132" y="161"/>
                      </a:lnTo>
                      <a:lnTo>
                        <a:pt x="145" y="173"/>
                      </a:lnTo>
                      <a:lnTo>
                        <a:pt x="159" y="184"/>
                      </a:lnTo>
                      <a:lnTo>
                        <a:pt x="170" y="196"/>
                      </a:lnTo>
                      <a:lnTo>
                        <a:pt x="184" y="207"/>
                      </a:lnTo>
                      <a:lnTo>
                        <a:pt x="198" y="219"/>
                      </a:lnTo>
                      <a:lnTo>
                        <a:pt x="215" y="231"/>
                      </a:lnTo>
                      <a:lnTo>
                        <a:pt x="229" y="242"/>
                      </a:lnTo>
                      <a:lnTo>
                        <a:pt x="244" y="256"/>
                      </a:lnTo>
                      <a:lnTo>
                        <a:pt x="262" y="270"/>
                      </a:lnTo>
                      <a:lnTo>
                        <a:pt x="279" y="283"/>
                      </a:lnTo>
                      <a:lnTo>
                        <a:pt x="295" y="295"/>
                      </a:lnTo>
                      <a:lnTo>
                        <a:pt x="312" y="306"/>
                      </a:lnTo>
                      <a:lnTo>
                        <a:pt x="329" y="318"/>
                      </a:lnTo>
                      <a:lnTo>
                        <a:pt x="349" y="332"/>
                      </a:lnTo>
                      <a:lnTo>
                        <a:pt x="366" y="343"/>
                      </a:lnTo>
                      <a:lnTo>
                        <a:pt x="386" y="357"/>
                      </a:lnTo>
                      <a:lnTo>
                        <a:pt x="405" y="368"/>
                      </a:lnTo>
                      <a:lnTo>
                        <a:pt x="426" y="382"/>
                      </a:lnTo>
                      <a:lnTo>
                        <a:pt x="446" y="394"/>
                      </a:lnTo>
                      <a:lnTo>
                        <a:pt x="467" y="405"/>
                      </a:lnTo>
                      <a:lnTo>
                        <a:pt x="487" y="417"/>
                      </a:lnTo>
                      <a:lnTo>
                        <a:pt x="510" y="429"/>
                      </a:lnTo>
                      <a:lnTo>
                        <a:pt x="531" y="440"/>
                      </a:lnTo>
                      <a:lnTo>
                        <a:pt x="554" y="452"/>
                      </a:lnTo>
                      <a:lnTo>
                        <a:pt x="578" y="463"/>
                      </a:lnTo>
                      <a:lnTo>
                        <a:pt x="603" y="475"/>
                      </a:lnTo>
                      <a:lnTo>
                        <a:pt x="626" y="483"/>
                      </a:lnTo>
                      <a:lnTo>
                        <a:pt x="649" y="493"/>
                      </a:lnTo>
                      <a:lnTo>
                        <a:pt x="673" y="502"/>
                      </a:lnTo>
                      <a:lnTo>
                        <a:pt x="698" y="512"/>
                      </a:lnTo>
                      <a:lnTo>
                        <a:pt x="721" y="520"/>
                      </a:lnTo>
                      <a:lnTo>
                        <a:pt x="748" y="527"/>
                      </a:lnTo>
                      <a:lnTo>
                        <a:pt x="774" y="535"/>
                      </a:lnTo>
                      <a:lnTo>
                        <a:pt x="803" y="545"/>
                      </a:lnTo>
                      <a:lnTo>
                        <a:pt x="828" y="551"/>
                      </a:lnTo>
                      <a:lnTo>
                        <a:pt x="855" y="557"/>
                      </a:lnTo>
                      <a:lnTo>
                        <a:pt x="882" y="562"/>
                      </a:lnTo>
                      <a:lnTo>
                        <a:pt x="911" y="568"/>
                      </a:lnTo>
                      <a:lnTo>
                        <a:pt x="938" y="572"/>
                      </a:lnTo>
                      <a:lnTo>
                        <a:pt x="968" y="576"/>
                      </a:lnTo>
                      <a:lnTo>
                        <a:pt x="997" y="580"/>
                      </a:lnTo>
                      <a:lnTo>
                        <a:pt x="1026" y="584"/>
                      </a:lnTo>
                      <a:lnTo>
                        <a:pt x="1026" y="578"/>
                      </a:lnTo>
                      <a:lnTo>
                        <a:pt x="1026" y="562"/>
                      </a:lnTo>
                      <a:lnTo>
                        <a:pt x="1026" y="549"/>
                      </a:lnTo>
                      <a:lnTo>
                        <a:pt x="1026" y="537"/>
                      </a:lnTo>
                      <a:lnTo>
                        <a:pt x="1028" y="522"/>
                      </a:lnTo>
                      <a:lnTo>
                        <a:pt x="1030" y="506"/>
                      </a:lnTo>
                      <a:lnTo>
                        <a:pt x="1030" y="487"/>
                      </a:lnTo>
                      <a:lnTo>
                        <a:pt x="1033" y="467"/>
                      </a:lnTo>
                      <a:lnTo>
                        <a:pt x="1033" y="456"/>
                      </a:lnTo>
                      <a:lnTo>
                        <a:pt x="1035" y="446"/>
                      </a:lnTo>
                      <a:lnTo>
                        <a:pt x="1037" y="434"/>
                      </a:lnTo>
                      <a:lnTo>
                        <a:pt x="1039" y="425"/>
                      </a:lnTo>
                      <a:lnTo>
                        <a:pt x="1039" y="411"/>
                      </a:lnTo>
                      <a:lnTo>
                        <a:pt x="1043" y="399"/>
                      </a:lnTo>
                      <a:lnTo>
                        <a:pt x="1043" y="388"/>
                      </a:lnTo>
                      <a:lnTo>
                        <a:pt x="1047" y="376"/>
                      </a:lnTo>
                      <a:lnTo>
                        <a:pt x="1049" y="365"/>
                      </a:lnTo>
                      <a:lnTo>
                        <a:pt x="1053" y="353"/>
                      </a:lnTo>
                      <a:lnTo>
                        <a:pt x="1055" y="341"/>
                      </a:lnTo>
                      <a:lnTo>
                        <a:pt x="1059" y="330"/>
                      </a:lnTo>
                      <a:lnTo>
                        <a:pt x="1061" y="316"/>
                      </a:lnTo>
                      <a:lnTo>
                        <a:pt x="1065" y="303"/>
                      </a:lnTo>
                      <a:lnTo>
                        <a:pt x="1066" y="291"/>
                      </a:lnTo>
                      <a:lnTo>
                        <a:pt x="1070" y="279"/>
                      </a:lnTo>
                      <a:lnTo>
                        <a:pt x="1072" y="266"/>
                      </a:lnTo>
                      <a:lnTo>
                        <a:pt x="1076" y="252"/>
                      </a:lnTo>
                      <a:lnTo>
                        <a:pt x="1080" y="240"/>
                      </a:lnTo>
                      <a:lnTo>
                        <a:pt x="1086" y="229"/>
                      </a:lnTo>
                      <a:lnTo>
                        <a:pt x="1090" y="215"/>
                      </a:lnTo>
                      <a:lnTo>
                        <a:pt x="1094" y="204"/>
                      </a:lnTo>
                      <a:lnTo>
                        <a:pt x="1097" y="190"/>
                      </a:lnTo>
                      <a:lnTo>
                        <a:pt x="1103" y="178"/>
                      </a:lnTo>
                      <a:lnTo>
                        <a:pt x="1107" y="167"/>
                      </a:lnTo>
                      <a:lnTo>
                        <a:pt x="1113" y="155"/>
                      </a:lnTo>
                      <a:lnTo>
                        <a:pt x="1119" y="143"/>
                      </a:lnTo>
                      <a:lnTo>
                        <a:pt x="1125" y="134"/>
                      </a:lnTo>
                      <a:lnTo>
                        <a:pt x="1130" y="122"/>
                      </a:lnTo>
                      <a:lnTo>
                        <a:pt x="1136" y="111"/>
                      </a:lnTo>
                      <a:lnTo>
                        <a:pt x="1142" y="101"/>
                      </a:lnTo>
                      <a:lnTo>
                        <a:pt x="1148" y="91"/>
                      </a:lnTo>
                      <a:lnTo>
                        <a:pt x="1161" y="72"/>
                      </a:lnTo>
                      <a:lnTo>
                        <a:pt x="1177" y="54"/>
                      </a:lnTo>
                      <a:lnTo>
                        <a:pt x="1191" y="37"/>
                      </a:lnTo>
                      <a:lnTo>
                        <a:pt x="1208" y="21"/>
                      </a:lnTo>
                      <a:lnTo>
                        <a:pt x="1225" y="10"/>
                      </a:lnTo>
                      <a:lnTo>
                        <a:pt x="1245" y="0"/>
                      </a:lnTo>
                      <a:lnTo>
                        <a:pt x="1241" y="0"/>
                      </a:lnTo>
                      <a:lnTo>
                        <a:pt x="1235" y="0"/>
                      </a:lnTo>
                      <a:lnTo>
                        <a:pt x="1222" y="2"/>
                      </a:lnTo>
                      <a:lnTo>
                        <a:pt x="1208" y="4"/>
                      </a:lnTo>
                      <a:lnTo>
                        <a:pt x="1198" y="4"/>
                      </a:lnTo>
                      <a:lnTo>
                        <a:pt x="1189" y="6"/>
                      </a:lnTo>
                      <a:lnTo>
                        <a:pt x="1177" y="8"/>
                      </a:lnTo>
                      <a:lnTo>
                        <a:pt x="1167" y="10"/>
                      </a:lnTo>
                      <a:lnTo>
                        <a:pt x="1154" y="10"/>
                      </a:lnTo>
                      <a:lnTo>
                        <a:pt x="1140" y="12"/>
                      </a:lnTo>
                      <a:lnTo>
                        <a:pt x="1127" y="14"/>
                      </a:lnTo>
                      <a:lnTo>
                        <a:pt x="1113" y="17"/>
                      </a:lnTo>
                      <a:lnTo>
                        <a:pt x="1096" y="17"/>
                      </a:lnTo>
                      <a:lnTo>
                        <a:pt x="1078" y="19"/>
                      </a:lnTo>
                      <a:lnTo>
                        <a:pt x="1061" y="21"/>
                      </a:lnTo>
                      <a:lnTo>
                        <a:pt x="1043" y="23"/>
                      </a:lnTo>
                      <a:lnTo>
                        <a:pt x="1024" y="25"/>
                      </a:lnTo>
                      <a:lnTo>
                        <a:pt x="1006" y="27"/>
                      </a:lnTo>
                      <a:lnTo>
                        <a:pt x="987" y="29"/>
                      </a:lnTo>
                      <a:lnTo>
                        <a:pt x="968" y="33"/>
                      </a:lnTo>
                      <a:lnTo>
                        <a:pt x="946" y="33"/>
                      </a:lnTo>
                      <a:lnTo>
                        <a:pt x="925" y="35"/>
                      </a:lnTo>
                      <a:lnTo>
                        <a:pt x="902" y="37"/>
                      </a:lnTo>
                      <a:lnTo>
                        <a:pt x="880" y="39"/>
                      </a:lnTo>
                      <a:lnTo>
                        <a:pt x="857" y="41"/>
                      </a:lnTo>
                      <a:lnTo>
                        <a:pt x="834" y="43"/>
                      </a:lnTo>
                      <a:lnTo>
                        <a:pt x="810" y="45"/>
                      </a:lnTo>
                      <a:lnTo>
                        <a:pt x="789" y="48"/>
                      </a:lnTo>
                      <a:lnTo>
                        <a:pt x="764" y="48"/>
                      </a:lnTo>
                      <a:lnTo>
                        <a:pt x="739" y="50"/>
                      </a:lnTo>
                      <a:lnTo>
                        <a:pt x="713" y="50"/>
                      </a:lnTo>
                      <a:lnTo>
                        <a:pt x="690" y="52"/>
                      </a:lnTo>
                      <a:lnTo>
                        <a:pt x="663" y="52"/>
                      </a:lnTo>
                      <a:lnTo>
                        <a:pt x="638" y="54"/>
                      </a:lnTo>
                      <a:lnTo>
                        <a:pt x="613" y="56"/>
                      </a:lnTo>
                      <a:lnTo>
                        <a:pt x="587" y="58"/>
                      </a:lnTo>
                      <a:lnTo>
                        <a:pt x="560" y="58"/>
                      </a:lnTo>
                      <a:lnTo>
                        <a:pt x="535" y="58"/>
                      </a:lnTo>
                      <a:lnTo>
                        <a:pt x="508" y="58"/>
                      </a:lnTo>
                      <a:lnTo>
                        <a:pt x="485" y="60"/>
                      </a:lnTo>
                      <a:lnTo>
                        <a:pt x="457" y="60"/>
                      </a:lnTo>
                      <a:lnTo>
                        <a:pt x="432" y="60"/>
                      </a:lnTo>
                      <a:lnTo>
                        <a:pt x="405" y="60"/>
                      </a:lnTo>
                      <a:lnTo>
                        <a:pt x="382" y="60"/>
                      </a:lnTo>
                      <a:lnTo>
                        <a:pt x="355" y="58"/>
                      </a:lnTo>
                      <a:lnTo>
                        <a:pt x="329" y="56"/>
                      </a:lnTo>
                      <a:lnTo>
                        <a:pt x="302" y="54"/>
                      </a:lnTo>
                      <a:lnTo>
                        <a:pt x="277" y="54"/>
                      </a:lnTo>
                      <a:lnTo>
                        <a:pt x="252" y="52"/>
                      </a:lnTo>
                      <a:lnTo>
                        <a:pt x="227" y="50"/>
                      </a:lnTo>
                      <a:lnTo>
                        <a:pt x="203" y="48"/>
                      </a:lnTo>
                      <a:lnTo>
                        <a:pt x="180" y="47"/>
                      </a:lnTo>
                      <a:lnTo>
                        <a:pt x="155" y="43"/>
                      </a:lnTo>
                      <a:lnTo>
                        <a:pt x="132" y="41"/>
                      </a:lnTo>
                      <a:lnTo>
                        <a:pt x="108" y="37"/>
                      </a:lnTo>
                      <a:lnTo>
                        <a:pt x="85" y="35"/>
                      </a:lnTo>
                      <a:lnTo>
                        <a:pt x="62" y="29"/>
                      </a:lnTo>
                      <a:lnTo>
                        <a:pt x="41" y="27"/>
                      </a:lnTo>
                      <a:lnTo>
                        <a:pt x="19" y="2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6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286960" y="11880"/>
                  <a:ext cx="141480" cy="175320"/>
                </a:xfrm>
                <a:custGeom>
                  <a:avLst/>
                  <a:gdLst/>
                  <a:ahLst/>
                  <a:rect l="l" t="t" r="r" b="b"/>
                  <a:pathLst>
                    <a:path w="506" h="628">
                      <a:moveTo>
                        <a:pt x="341" y="17"/>
                      </a:moveTo>
                      <a:lnTo>
                        <a:pt x="339" y="21"/>
                      </a:lnTo>
                      <a:lnTo>
                        <a:pt x="336" y="33"/>
                      </a:lnTo>
                      <a:lnTo>
                        <a:pt x="332" y="40"/>
                      </a:lnTo>
                      <a:lnTo>
                        <a:pt x="330" y="52"/>
                      </a:lnTo>
                      <a:lnTo>
                        <a:pt x="328" y="64"/>
                      </a:lnTo>
                      <a:lnTo>
                        <a:pt x="326" y="81"/>
                      </a:lnTo>
                      <a:lnTo>
                        <a:pt x="320" y="95"/>
                      </a:lnTo>
                      <a:lnTo>
                        <a:pt x="314" y="114"/>
                      </a:lnTo>
                      <a:lnTo>
                        <a:pt x="308" y="131"/>
                      </a:lnTo>
                      <a:lnTo>
                        <a:pt x="303" y="153"/>
                      </a:lnTo>
                      <a:lnTo>
                        <a:pt x="295" y="172"/>
                      </a:lnTo>
                      <a:lnTo>
                        <a:pt x="287" y="194"/>
                      </a:lnTo>
                      <a:lnTo>
                        <a:pt x="283" y="205"/>
                      </a:lnTo>
                      <a:lnTo>
                        <a:pt x="279" y="217"/>
                      </a:lnTo>
                      <a:lnTo>
                        <a:pt x="275" y="228"/>
                      </a:lnTo>
                      <a:lnTo>
                        <a:pt x="272" y="242"/>
                      </a:lnTo>
                      <a:lnTo>
                        <a:pt x="266" y="254"/>
                      </a:lnTo>
                      <a:lnTo>
                        <a:pt x="260" y="265"/>
                      </a:lnTo>
                      <a:lnTo>
                        <a:pt x="254" y="277"/>
                      </a:lnTo>
                      <a:lnTo>
                        <a:pt x="248" y="289"/>
                      </a:lnTo>
                      <a:lnTo>
                        <a:pt x="243" y="300"/>
                      </a:lnTo>
                      <a:lnTo>
                        <a:pt x="237" y="314"/>
                      </a:lnTo>
                      <a:lnTo>
                        <a:pt x="231" y="325"/>
                      </a:lnTo>
                      <a:lnTo>
                        <a:pt x="225" y="339"/>
                      </a:lnTo>
                      <a:lnTo>
                        <a:pt x="217" y="351"/>
                      </a:lnTo>
                      <a:lnTo>
                        <a:pt x="210" y="362"/>
                      </a:lnTo>
                      <a:lnTo>
                        <a:pt x="202" y="376"/>
                      </a:lnTo>
                      <a:lnTo>
                        <a:pt x="196" y="389"/>
                      </a:lnTo>
                      <a:lnTo>
                        <a:pt x="188" y="401"/>
                      </a:lnTo>
                      <a:lnTo>
                        <a:pt x="180" y="415"/>
                      </a:lnTo>
                      <a:lnTo>
                        <a:pt x="173" y="428"/>
                      </a:lnTo>
                      <a:lnTo>
                        <a:pt x="167" y="442"/>
                      </a:lnTo>
                      <a:lnTo>
                        <a:pt x="157" y="453"/>
                      </a:lnTo>
                      <a:lnTo>
                        <a:pt x="147" y="465"/>
                      </a:lnTo>
                      <a:lnTo>
                        <a:pt x="138" y="477"/>
                      </a:lnTo>
                      <a:lnTo>
                        <a:pt x="130" y="490"/>
                      </a:lnTo>
                      <a:lnTo>
                        <a:pt x="118" y="502"/>
                      </a:lnTo>
                      <a:lnTo>
                        <a:pt x="111" y="513"/>
                      </a:lnTo>
                      <a:lnTo>
                        <a:pt x="99" y="525"/>
                      </a:lnTo>
                      <a:lnTo>
                        <a:pt x="91" y="539"/>
                      </a:lnTo>
                      <a:lnTo>
                        <a:pt x="80" y="548"/>
                      </a:lnTo>
                      <a:lnTo>
                        <a:pt x="68" y="560"/>
                      </a:lnTo>
                      <a:lnTo>
                        <a:pt x="56" y="572"/>
                      </a:lnTo>
                      <a:lnTo>
                        <a:pt x="47" y="583"/>
                      </a:lnTo>
                      <a:lnTo>
                        <a:pt x="35" y="593"/>
                      </a:lnTo>
                      <a:lnTo>
                        <a:pt x="23" y="605"/>
                      </a:lnTo>
                      <a:lnTo>
                        <a:pt x="12" y="616"/>
                      </a:lnTo>
                      <a:lnTo>
                        <a:pt x="0" y="628"/>
                      </a:lnTo>
                      <a:lnTo>
                        <a:pt x="4" y="624"/>
                      </a:lnTo>
                      <a:lnTo>
                        <a:pt x="19" y="614"/>
                      </a:lnTo>
                      <a:lnTo>
                        <a:pt x="29" y="607"/>
                      </a:lnTo>
                      <a:lnTo>
                        <a:pt x="43" y="599"/>
                      </a:lnTo>
                      <a:lnTo>
                        <a:pt x="56" y="589"/>
                      </a:lnTo>
                      <a:lnTo>
                        <a:pt x="74" y="579"/>
                      </a:lnTo>
                      <a:lnTo>
                        <a:pt x="89" y="566"/>
                      </a:lnTo>
                      <a:lnTo>
                        <a:pt x="109" y="554"/>
                      </a:lnTo>
                      <a:lnTo>
                        <a:pt x="128" y="539"/>
                      </a:lnTo>
                      <a:lnTo>
                        <a:pt x="149" y="523"/>
                      </a:lnTo>
                      <a:lnTo>
                        <a:pt x="159" y="513"/>
                      </a:lnTo>
                      <a:lnTo>
                        <a:pt x="171" y="506"/>
                      </a:lnTo>
                      <a:lnTo>
                        <a:pt x="182" y="496"/>
                      </a:lnTo>
                      <a:lnTo>
                        <a:pt x="194" y="488"/>
                      </a:lnTo>
                      <a:lnTo>
                        <a:pt x="206" y="479"/>
                      </a:lnTo>
                      <a:lnTo>
                        <a:pt x="217" y="469"/>
                      </a:lnTo>
                      <a:lnTo>
                        <a:pt x="229" y="459"/>
                      </a:lnTo>
                      <a:lnTo>
                        <a:pt x="241" y="451"/>
                      </a:lnTo>
                      <a:lnTo>
                        <a:pt x="250" y="440"/>
                      </a:lnTo>
                      <a:lnTo>
                        <a:pt x="262" y="428"/>
                      </a:lnTo>
                      <a:lnTo>
                        <a:pt x="274" y="417"/>
                      </a:lnTo>
                      <a:lnTo>
                        <a:pt x="285" y="405"/>
                      </a:lnTo>
                      <a:lnTo>
                        <a:pt x="297" y="393"/>
                      </a:lnTo>
                      <a:lnTo>
                        <a:pt x="308" y="382"/>
                      </a:lnTo>
                      <a:lnTo>
                        <a:pt x="320" y="370"/>
                      </a:lnTo>
                      <a:lnTo>
                        <a:pt x="332" y="358"/>
                      </a:lnTo>
                      <a:lnTo>
                        <a:pt x="341" y="345"/>
                      </a:lnTo>
                      <a:lnTo>
                        <a:pt x="351" y="331"/>
                      </a:lnTo>
                      <a:lnTo>
                        <a:pt x="361" y="318"/>
                      </a:lnTo>
                      <a:lnTo>
                        <a:pt x="372" y="306"/>
                      </a:lnTo>
                      <a:lnTo>
                        <a:pt x="382" y="292"/>
                      </a:lnTo>
                      <a:lnTo>
                        <a:pt x="392" y="279"/>
                      </a:lnTo>
                      <a:lnTo>
                        <a:pt x="402" y="265"/>
                      </a:lnTo>
                      <a:lnTo>
                        <a:pt x="413" y="252"/>
                      </a:lnTo>
                      <a:lnTo>
                        <a:pt x="421" y="236"/>
                      </a:lnTo>
                      <a:lnTo>
                        <a:pt x="429" y="221"/>
                      </a:lnTo>
                      <a:lnTo>
                        <a:pt x="436" y="205"/>
                      </a:lnTo>
                      <a:lnTo>
                        <a:pt x="446" y="192"/>
                      </a:lnTo>
                      <a:lnTo>
                        <a:pt x="452" y="176"/>
                      </a:lnTo>
                      <a:lnTo>
                        <a:pt x="460" y="161"/>
                      </a:lnTo>
                      <a:lnTo>
                        <a:pt x="466" y="145"/>
                      </a:lnTo>
                      <a:lnTo>
                        <a:pt x="473" y="131"/>
                      </a:lnTo>
                      <a:lnTo>
                        <a:pt x="477" y="114"/>
                      </a:lnTo>
                      <a:lnTo>
                        <a:pt x="483" y="98"/>
                      </a:lnTo>
                      <a:lnTo>
                        <a:pt x="489" y="81"/>
                      </a:lnTo>
                      <a:lnTo>
                        <a:pt x="495" y="66"/>
                      </a:lnTo>
                      <a:lnTo>
                        <a:pt x="497" y="48"/>
                      </a:lnTo>
                      <a:lnTo>
                        <a:pt x="500" y="33"/>
                      </a:lnTo>
                      <a:lnTo>
                        <a:pt x="502" y="15"/>
                      </a:lnTo>
                      <a:lnTo>
                        <a:pt x="506" y="0"/>
                      </a:lnTo>
                      <a:lnTo>
                        <a:pt x="502" y="0"/>
                      </a:lnTo>
                      <a:lnTo>
                        <a:pt x="493" y="3"/>
                      </a:lnTo>
                      <a:lnTo>
                        <a:pt x="477" y="7"/>
                      </a:lnTo>
                      <a:lnTo>
                        <a:pt x="460" y="13"/>
                      </a:lnTo>
                      <a:lnTo>
                        <a:pt x="446" y="15"/>
                      </a:lnTo>
                      <a:lnTo>
                        <a:pt x="435" y="17"/>
                      </a:lnTo>
                      <a:lnTo>
                        <a:pt x="421" y="19"/>
                      </a:lnTo>
                      <a:lnTo>
                        <a:pt x="407" y="21"/>
                      </a:lnTo>
                      <a:lnTo>
                        <a:pt x="390" y="19"/>
                      </a:lnTo>
                      <a:lnTo>
                        <a:pt x="374" y="19"/>
                      </a:lnTo>
                      <a:lnTo>
                        <a:pt x="357" y="17"/>
                      </a:lnTo>
                      <a:lnTo>
                        <a:pt x="341" y="17"/>
                      </a:lnTo>
                      <a:close/>
                    </a:path>
                  </a:pathLst>
                </a:custGeom>
                <a:solidFill>
                  <a:srgbClr val="6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209920" y="363960"/>
                  <a:ext cx="275040" cy="62640"/>
                </a:xfrm>
                <a:custGeom>
                  <a:avLst/>
                  <a:gdLst/>
                  <a:ahLst/>
                  <a:rect l="l" t="t" r="r" b="b"/>
                  <a:pathLst>
                    <a:path w="983" h="225">
                      <a:moveTo>
                        <a:pt x="958" y="0"/>
                      </a:moveTo>
                      <a:lnTo>
                        <a:pt x="954" y="0"/>
                      </a:lnTo>
                      <a:lnTo>
                        <a:pt x="948" y="0"/>
                      </a:lnTo>
                      <a:lnTo>
                        <a:pt x="934" y="0"/>
                      </a:lnTo>
                      <a:lnTo>
                        <a:pt x="921" y="2"/>
                      </a:lnTo>
                      <a:lnTo>
                        <a:pt x="911" y="2"/>
                      </a:lnTo>
                      <a:lnTo>
                        <a:pt x="902" y="2"/>
                      </a:lnTo>
                      <a:lnTo>
                        <a:pt x="890" y="4"/>
                      </a:lnTo>
                      <a:lnTo>
                        <a:pt x="880" y="6"/>
                      </a:lnTo>
                      <a:lnTo>
                        <a:pt x="867" y="6"/>
                      </a:lnTo>
                      <a:lnTo>
                        <a:pt x="855" y="8"/>
                      </a:lnTo>
                      <a:lnTo>
                        <a:pt x="841" y="10"/>
                      </a:lnTo>
                      <a:lnTo>
                        <a:pt x="828" y="12"/>
                      </a:lnTo>
                      <a:lnTo>
                        <a:pt x="810" y="12"/>
                      </a:lnTo>
                      <a:lnTo>
                        <a:pt x="795" y="14"/>
                      </a:lnTo>
                      <a:lnTo>
                        <a:pt x="777" y="16"/>
                      </a:lnTo>
                      <a:lnTo>
                        <a:pt x="762" y="18"/>
                      </a:lnTo>
                      <a:lnTo>
                        <a:pt x="744" y="18"/>
                      </a:lnTo>
                      <a:lnTo>
                        <a:pt x="727" y="20"/>
                      </a:lnTo>
                      <a:lnTo>
                        <a:pt x="710" y="22"/>
                      </a:lnTo>
                      <a:lnTo>
                        <a:pt x="692" y="25"/>
                      </a:lnTo>
                      <a:lnTo>
                        <a:pt x="671" y="25"/>
                      </a:lnTo>
                      <a:lnTo>
                        <a:pt x="651" y="29"/>
                      </a:lnTo>
                      <a:lnTo>
                        <a:pt x="632" y="29"/>
                      </a:lnTo>
                      <a:lnTo>
                        <a:pt x="613" y="33"/>
                      </a:lnTo>
                      <a:lnTo>
                        <a:pt x="591" y="35"/>
                      </a:lnTo>
                      <a:lnTo>
                        <a:pt x="572" y="37"/>
                      </a:lnTo>
                      <a:lnTo>
                        <a:pt x="552" y="39"/>
                      </a:lnTo>
                      <a:lnTo>
                        <a:pt x="533" y="43"/>
                      </a:lnTo>
                      <a:lnTo>
                        <a:pt x="510" y="43"/>
                      </a:lnTo>
                      <a:lnTo>
                        <a:pt x="490" y="45"/>
                      </a:lnTo>
                      <a:lnTo>
                        <a:pt x="467" y="47"/>
                      </a:lnTo>
                      <a:lnTo>
                        <a:pt x="448" y="49"/>
                      </a:lnTo>
                      <a:lnTo>
                        <a:pt x="426" y="51"/>
                      </a:lnTo>
                      <a:lnTo>
                        <a:pt x="407" y="53"/>
                      </a:lnTo>
                      <a:lnTo>
                        <a:pt x="386" y="55"/>
                      </a:lnTo>
                      <a:lnTo>
                        <a:pt x="366" y="58"/>
                      </a:lnTo>
                      <a:lnTo>
                        <a:pt x="343" y="58"/>
                      </a:lnTo>
                      <a:lnTo>
                        <a:pt x="324" y="60"/>
                      </a:lnTo>
                      <a:lnTo>
                        <a:pt x="302" y="62"/>
                      </a:lnTo>
                      <a:lnTo>
                        <a:pt x="285" y="64"/>
                      </a:lnTo>
                      <a:lnTo>
                        <a:pt x="263" y="66"/>
                      </a:lnTo>
                      <a:lnTo>
                        <a:pt x="246" y="68"/>
                      </a:lnTo>
                      <a:lnTo>
                        <a:pt x="229" y="70"/>
                      </a:lnTo>
                      <a:lnTo>
                        <a:pt x="211" y="74"/>
                      </a:lnTo>
                      <a:lnTo>
                        <a:pt x="192" y="74"/>
                      </a:lnTo>
                      <a:lnTo>
                        <a:pt x="174" y="76"/>
                      </a:lnTo>
                      <a:lnTo>
                        <a:pt x="157" y="76"/>
                      </a:lnTo>
                      <a:lnTo>
                        <a:pt x="141" y="78"/>
                      </a:lnTo>
                      <a:lnTo>
                        <a:pt x="124" y="78"/>
                      </a:lnTo>
                      <a:lnTo>
                        <a:pt x="108" y="80"/>
                      </a:lnTo>
                      <a:lnTo>
                        <a:pt x="93" y="82"/>
                      </a:lnTo>
                      <a:lnTo>
                        <a:pt x="81" y="84"/>
                      </a:lnTo>
                      <a:lnTo>
                        <a:pt x="68" y="84"/>
                      </a:lnTo>
                      <a:lnTo>
                        <a:pt x="54" y="86"/>
                      </a:lnTo>
                      <a:lnTo>
                        <a:pt x="42" y="86"/>
                      </a:lnTo>
                      <a:lnTo>
                        <a:pt x="33" y="87"/>
                      </a:lnTo>
                      <a:lnTo>
                        <a:pt x="13" y="89"/>
                      </a:lnTo>
                      <a:lnTo>
                        <a:pt x="0" y="93"/>
                      </a:lnTo>
                      <a:lnTo>
                        <a:pt x="2" y="95"/>
                      </a:lnTo>
                      <a:lnTo>
                        <a:pt x="9" y="103"/>
                      </a:lnTo>
                      <a:lnTo>
                        <a:pt x="19" y="113"/>
                      </a:lnTo>
                      <a:lnTo>
                        <a:pt x="31" y="130"/>
                      </a:lnTo>
                      <a:lnTo>
                        <a:pt x="33" y="138"/>
                      </a:lnTo>
                      <a:lnTo>
                        <a:pt x="37" y="148"/>
                      </a:lnTo>
                      <a:lnTo>
                        <a:pt x="37" y="159"/>
                      </a:lnTo>
                      <a:lnTo>
                        <a:pt x="38" y="171"/>
                      </a:lnTo>
                      <a:lnTo>
                        <a:pt x="35" y="183"/>
                      </a:lnTo>
                      <a:lnTo>
                        <a:pt x="31" y="196"/>
                      </a:lnTo>
                      <a:lnTo>
                        <a:pt x="23" y="210"/>
                      </a:lnTo>
                      <a:lnTo>
                        <a:pt x="15" y="225"/>
                      </a:lnTo>
                      <a:lnTo>
                        <a:pt x="983" y="109"/>
                      </a:lnTo>
                      <a:lnTo>
                        <a:pt x="958" y="0"/>
                      </a:lnTo>
                      <a:close/>
                    </a:path>
                  </a:pathLst>
                </a:custGeom>
                <a:solidFill>
                  <a:srgbClr val="6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244840" y="602640"/>
                  <a:ext cx="148680" cy="41040"/>
                </a:xfrm>
                <a:custGeom>
                  <a:avLst/>
                  <a:gdLst/>
                  <a:ahLst/>
                  <a:rect l="l" t="t" r="r" b="b"/>
                  <a:pathLst>
                    <a:path w="531" h="148">
                      <a:moveTo>
                        <a:pt x="0" y="26"/>
                      </a:moveTo>
                      <a:lnTo>
                        <a:pt x="492" y="0"/>
                      </a:lnTo>
                      <a:lnTo>
                        <a:pt x="531" y="113"/>
                      </a:lnTo>
                      <a:lnTo>
                        <a:pt x="151" y="14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6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401440" y="425880"/>
                  <a:ext cx="203400" cy="330840"/>
                </a:xfrm>
                <a:custGeom>
                  <a:avLst/>
                  <a:gdLst/>
                  <a:ahLst/>
                  <a:rect l="l" t="t" r="r" b="b"/>
                  <a:pathLst>
                    <a:path w="730" h="1183">
                      <a:moveTo>
                        <a:pt x="192" y="470"/>
                      </a:moveTo>
                      <a:lnTo>
                        <a:pt x="192" y="464"/>
                      </a:lnTo>
                      <a:lnTo>
                        <a:pt x="194" y="448"/>
                      </a:lnTo>
                      <a:lnTo>
                        <a:pt x="194" y="437"/>
                      </a:lnTo>
                      <a:lnTo>
                        <a:pt x="198" y="427"/>
                      </a:lnTo>
                      <a:lnTo>
                        <a:pt x="204" y="415"/>
                      </a:lnTo>
                      <a:lnTo>
                        <a:pt x="210" y="406"/>
                      </a:lnTo>
                      <a:lnTo>
                        <a:pt x="214" y="390"/>
                      </a:lnTo>
                      <a:lnTo>
                        <a:pt x="221" y="378"/>
                      </a:lnTo>
                      <a:lnTo>
                        <a:pt x="229" y="365"/>
                      </a:lnTo>
                      <a:lnTo>
                        <a:pt x="241" y="353"/>
                      </a:lnTo>
                      <a:lnTo>
                        <a:pt x="250" y="340"/>
                      </a:lnTo>
                      <a:lnTo>
                        <a:pt x="264" y="330"/>
                      </a:lnTo>
                      <a:lnTo>
                        <a:pt x="280" y="318"/>
                      </a:lnTo>
                      <a:lnTo>
                        <a:pt x="297" y="312"/>
                      </a:lnTo>
                      <a:lnTo>
                        <a:pt x="295" y="309"/>
                      </a:lnTo>
                      <a:lnTo>
                        <a:pt x="293" y="299"/>
                      </a:lnTo>
                      <a:lnTo>
                        <a:pt x="291" y="281"/>
                      </a:lnTo>
                      <a:lnTo>
                        <a:pt x="289" y="264"/>
                      </a:lnTo>
                      <a:lnTo>
                        <a:pt x="285" y="250"/>
                      </a:lnTo>
                      <a:lnTo>
                        <a:pt x="283" y="239"/>
                      </a:lnTo>
                      <a:lnTo>
                        <a:pt x="282" y="225"/>
                      </a:lnTo>
                      <a:lnTo>
                        <a:pt x="282" y="214"/>
                      </a:lnTo>
                      <a:lnTo>
                        <a:pt x="280" y="198"/>
                      </a:lnTo>
                      <a:lnTo>
                        <a:pt x="278" y="184"/>
                      </a:lnTo>
                      <a:lnTo>
                        <a:pt x="276" y="171"/>
                      </a:lnTo>
                      <a:lnTo>
                        <a:pt x="276" y="157"/>
                      </a:lnTo>
                      <a:lnTo>
                        <a:pt x="274" y="142"/>
                      </a:lnTo>
                      <a:lnTo>
                        <a:pt x="272" y="128"/>
                      </a:lnTo>
                      <a:lnTo>
                        <a:pt x="270" y="113"/>
                      </a:lnTo>
                      <a:lnTo>
                        <a:pt x="270" y="99"/>
                      </a:lnTo>
                      <a:lnTo>
                        <a:pt x="270" y="86"/>
                      </a:lnTo>
                      <a:lnTo>
                        <a:pt x="270" y="72"/>
                      </a:lnTo>
                      <a:lnTo>
                        <a:pt x="270" y="60"/>
                      </a:lnTo>
                      <a:lnTo>
                        <a:pt x="270" y="51"/>
                      </a:lnTo>
                      <a:lnTo>
                        <a:pt x="270" y="39"/>
                      </a:lnTo>
                      <a:lnTo>
                        <a:pt x="270" y="29"/>
                      </a:lnTo>
                      <a:lnTo>
                        <a:pt x="272" y="20"/>
                      </a:lnTo>
                      <a:lnTo>
                        <a:pt x="274" y="14"/>
                      </a:lnTo>
                      <a:lnTo>
                        <a:pt x="278" y="4"/>
                      </a:lnTo>
                      <a:lnTo>
                        <a:pt x="285" y="2"/>
                      </a:lnTo>
                      <a:lnTo>
                        <a:pt x="293" y="0"/>
                      </a:lnTo>
                      <a:lnTo>
                        <a:pt x="309" y="2"/>
                      </a:lnTo>
                      <a:lnTo>
                        <a:pt x="316" y="2"/>
                      </a:lnTo>
                      <a:lnTo>
                        <a:pt x="328" y="4"/>
                      </a:lnTo>
                      <a:lnTo>
                        <a:pt x="340" y="6"/>
                      </a:lnTo>
                      <a:lnTo>
                        <a:pt x="353" y="10"/>
                      </a:lnTo>
                      <a:lnTo>
                        <a:pt x="365" y="10"/>
                      </a:lnTo>
                      <a:lnTo>
                        <a:pt x="380" y="14"/>
                      </a:lnTo>
                      <a:lnTo>
                        <a:pt x="394" y="18"/>
                      </a:lnTo>
                      <a:lnTo>
                        <a:pt x="410" y="24"/>
                      </a:lnTo>
                      <a:lnTo>
                        <a:pt x="425" y="29"/>
                      </a:lnTo>
                      <a:lnTo>
                        <a:pt x="441" y="35"/>
                      </a:lnTo>
                      <a:lnTo>
                        <a:pt x="456" y="43"/>
                      </a:lnTo>
                      <a:lnTo>
                        <a:pt x="474" y="53"/>
                      </a:lnTo>
                      <a:lnTo>
                        <a:pt x="487" y="60"/>
                      </a:lnTo>
                      <a:lnTo>
                        <a:pt x="503" y="70"/>
                      </a:lnTo>
                      <a:lnTo>
                        <a:pt x="518" y="82"/>
                      </a:lnTo>
                      <a:lnTo>
                        <a:pt x="534" y="93"/>
                      </a:lnTo>
                      <a:lnTo>
                        <a:pt x="547" y="105"/>
                      </a:lnTo>
                      <a:lnTo>
                        <a:pt x="563" y="120"/>
                      </a:lnTo>
                      <a:lnTo>
                        <a:pt x="576" y="136"/>
                      </a:lnTo>
                      <a:lnTo>
                        <a:pt x="590" y="153"/>
                      </a:lnTo>
                      <a:lnTo>
                        <a:pt x="602" y="169"/>
                      </a:lnTo>
                      <a:lnTo>
                        <a:pt x="613" y="188"/>
                      </a:lnTo>
                      <a:lnTo>
                        <a:pt x="617" y="196"/>
                      </a:lnTo>
                      <a:lnTo>
                        <a:pt x="623" y="206"/>
                      </a:lnTo>
                      <a:lnTo>
                        <a:pt x="627" y="217"/>
                      </a:lnTo>
                      <a:lnTo>
                        <a:pt x="633" y="229"/>
                      </a:lnTo>
                      <a:lnTo>
                        <a:pt x="634" y="241"/>
                      </a:lnTo>
                      <a:lnTo>
                        <a:pt x="638" y="252"/>
                      </a:lnTo>
                      <a:lnTo>
                        <a:pt x="642" y="264"/>
                      </a:lnTo>
                      <a:lnTo>
                        <a:pt x="646" y="276"/>
                      </a:lnTo>
                      <a:lnTo>
                        <a:pt x="648" y="287"/>
                      </a:lnTo>
                      <a:lnTo>
                        <a:pt x="650" y="301"/>
                      </a:lnTo>
                      <a:lnTo>
                        <a:pt x="652" y="314"/>
                      </a:lnTo>
                      <a:lnTo>
                        <a:pt x="656" y="330"/>
                      </a:lnTo>
                      <a:lnTo>
                        <a:pt x="567" y="423"/>
                      </a:lnTo>
                      <a:lnTo>
                        <a:pt x="570" y="427"/>
                      </a:lnTo>
                      <a:lnTo>
                        <a:pt x="574" y="433"/>
                      </a:lnTo>
                      <a:lnTo>
                        <a:pt x="580" y="444"/>
                      </a:lnTo>
                      <a:lnTo>
                        <a:pt x="586" y="454"/>
                      </a:lnTo>
                      <a:lnTo>
                        <a:pt x="596" y="470"/>
                      </a:lnTo>
                      <a:lnTo>
                        <a:pt x="600" y="477"/>
                      </a:lnTo>
                      <a:lnTo>
                        <a:pt x="603" y="487"/>
                      </a:lnTo>
                      <a:lnTo>
                        <a:pt x="607" y="497"/>
                      </a:lnTo>
                      <a:lnTo>
                        <a:pt x="613" y="508"/>
                      </a:lnTo>
                      <a:lnTo>
                        <a:pt x="615" y="518"/>
                      </a:lnTo>
                      <a:lnTo>
                        <a:pt x="619" y="528"/>
                      </a:lnTo>
                      <a:lnTo>
                        <a:pt x="623" y="539"/>
                      </a:lnTo>
                      <a:lnTo>
                        <a:pt x="627" y="553"/>
                      </a:lnTo>
                      <a:lnTo>
                        <a:pt x="629" y="565"/>
                      </a:lnTo>
                      <a:lnTo>
                        <a:pt x="633" y="578"/>
                      </a:lnTo>
                      <a:lnTo>
                        <a:pt x="634" y="592"/>
                      </a:lnTo>
                      <a:lnTo>
                        <a:pt x="638" y="607"/>
                      </a:lnTo>
                      <a:lnTo>
                        <a:pt x="638" y="621"/>
                      </a:lnTo>
                      <a:lnTo>
                        <a:pt x="638" y="636"/>
                      </a:lnTo>
                      <a:lnTo>
                        <a:pt x="638" y="652"/>
                      </a:lnTo>
                      <a:lnTo>
                        <a:pt x="640" y="669"/>
                      </a:lnTo>
                      <a:lnTo>
                        <a:pt x="638" y="685"/>
                      </a:lnTo>
                      <a:lnTo>
                        <a:pt x="638" y="702"/>
                      </a:lnTo>
                      <a:lnTo>
                        <a:pt x="636" y="722"/>
                      </a:lnTo>
                      <a:lnTo>
                        <a:pt x="634" y="741"/>
                      </a:lnTo>
                      <a:lnTo>
                        <a:pt x="631" y="755"/>
                      </a:lnTo>
                      <a:lnTo>
                        <a:pt x="629" y="768"/>
                      </a:lnTo>
                      <a:lnTo>
                        <a:pt x="625" y="778"/>
                      </a:lnTo>
                      <a:lnTo>
                        <a:pt x="625" y="790"/>
                      </a:lnTo>
                      <a:lnTo>
                        <a:pt x="623" y="807"/>
                      </a:lnTo>
                      <a:lnTo>
                        <a:pt x="625" y="821"/>
                      </a:lnTo>
                      <a:lnTo>
                        <a:pt x="625" y="828"/>
                      </a:lnTo>
                      <a:lnTo>
                        <a:pt x="631" y="836"/>
                      </a:lnTo>
                      <a:lnTo>
                        <a:pt x="634" y="838"/>
                      </a:lnTo>
                      <a:lnTo>
                        <a:pt x="642" y="840"/>
                      </a:lnTo>
                      <a:lnTo>
                        <a:pt x="654" y="836"/>
                      </a:lnTo>
                      <a:lnTo>
                        <a:pt x="671" y="834"/>
                      </a:lnTo>
                      <a:lnTo>
                        <a:pt x="689" y="836"/>
                      </a:lnTo>
                      <a:lnTo>
                        <a:pt x="710" y="848"/>
                      </a:lnTo>
                      <a:lnTo>
                        <a:pt x="716" y="857"/>
                      </a:lnTo>
                      <a:lnTo>
                        <a:pt x="724" y="873"/>
                      </a:lnTo>
                      <a:lnTo>
                        <a:pt x="726" y="881"/>
                      </a:lnTo>
                      <a:lnTo>
                        <a:pt x="728" y="890"/>
                      </a:lnTo>
                      <a:lnTo>
                        <a:pt x="728" y="902"/>
                      </a:lnTo>
                      <a:lnTo>
                        <a:pt x="730" y="916"/>
                      </a:lnTo>
                      <a:lnTo>
                        <a:pt x="728" y="927"/>
                      </a:lnTo>
                      <a:lnTo>
                        <a:pt x="728" y="939"/>
                      </a:lnTo>
                      <a:lnTo>
                        <a:pt x="726" y="952"/>
                      </a:lnTo>
                      <a:lnTo>
                        <a:pt x="724" y="966"/>
                      </a:lnTo>
                      <a:lnTo>
                        <a:pt x="720" y="980"/>
                      </a:lnTo>
                      <a:lnTo>
                        <a:pt x="716" y="995"/>
                      </a:lnTo>
                      <a:lnTo>
                        <a:pt x="712" y="1009"/>
                      </a:lnTo>
                      <a:lnTo>
                        <a:pt x="708" y="1024"/>
                      </a:lnTo>
                      <a:lnTo>
                        <a:pt x="700" y="1036"/>
                      </a:lnTo>
                      <a:lnTo>
                        <a:pt x="695" y="1051"/>
                      </a:lnTo>
                      <a:lnTo>
                        <a:pt x="687" y="1063"/>
                      </a:lnTo>
                      <a:lnTo>
                        <a:pt x="681" y="1078"/>
                      </a:lnTo>
                      <a:lnTo>
                        <a:pt x="671" y="1090"/>
                      </a:lnTo>
                      <a:lnTo>
                        <a:pt x="662" y="1102"/>
                      </a:lnTo>
                      <a:lnTo>
                        <a:pt x="652" y="1113"/>
                      </a:lnTo>
                      <a:lnTo>
                        <a:pt x="642" y="1127"/>
                      </a:lnTo>
                      <a:lnTo>
                        <a:pt x="629" y="1137"/>
                      </a:lnTo>
                      <a:lnTo>
                        <a:pt x="617" y="1146"/>
                      </a:lnTo>
                      <a:lnTo>
                        <a:pt x="603" y="1154"/>
                      </a:lnTo>
                      <a:lnTo>
                        <a:pt x="590" y="1164"/>
                      </a:lnTo>
                      <a:lnTo>
                        <a:pt x="574" y="1170"/>
                      </a:lnTo>
                      <a:lnTo>
                        <a:pt x="559" y="1175"/>
                      </a:lnTo>
                      <a:lnTo>
                        <a:pt x="541" y="1179"/>
                      </a:lnTo>
                      <a:lnTo>
                        <a:pt x="526" y="1183"/>
                      </a:lnTo>
                      <a:lnTo>
                        <a:pt x="508" y="1183"/>
                      </a:lnTo>
                      <a:lnTo>
                        <a:pt x="497" y="1183"/>
                      </a:lnTo>
                      <a:lnTo>
                        <a:pt x="485" y="1183"/>
                      </a:lnTo>
                      <a:lnTo>
                        <a:pt x="475" y="1183"/>
                      </a:lnTo>
                      <a:lnTo>
                        <a:pt x="458" y="1179"/>
                      </a:lnTo>
                      <a:lnTo>
                        <a:pt x="448" y="1175"/>
                      </a:lnTo>
                      <a:lnTo>
                        <a:pt x="441" y="1166"/>
                      </a:lnTo>
                      <a:lnTo>
                        <a:pt x="435" y="1156"/>
                      </a:lnTo>
                      <a:lnTo>
                        <a:pt x="433" y="1144"/>
                      </a:lnTo>
                      <a:lnTo>
                        <a:pt x="435" y="1131"/>
                      </a:lnTo>
                      <a:lnTo>
                        <a:pt x="435" y="1111"/>
                      </a:lnTo>
                      <a:lnTo>
                        <a:pt x="437" y="1094"/>
                      </a:lnTo>
                      <a:lnTo>
                        <a:pt x="437" y="1082"/>
                      </a:lnTo>
                      <a:lnTo>
                        <a:pt x="437" y="1071"/>
                      </a:lnTo>
                      <a:lnTo>
                        <a:pt x="437" y="1059"/>
                      </a:lnTo>
                      <a:lnTo>
                        <a:pt x="439" y="1049"/>
                      </a:lnTo>
                      <a:lnTo>
                        <a:pt x="437" y="1036"/>
                      </a:lnTo>
                      <a:lnTo>
                        <a:pt x="437" y="1022"/>
                      </a:lnTo>
                      <a:lnTo>
                        <a:pt x="437" y="1007"/>
                      </a:lnTo>
                      <a:lnTo>
                        <a:pt x="437" y="993"/>
                      </a:lnTo>
                      <a:lnTo>
                        <a:pt x="435" y="978"/>
                      </a:lnTo>
                      <a:lnTo>
                        <a:pt x="433" y="962"/>
                      </a:lnTo>
                      <a:lnTo>
                        <a:pt x="431" y="947"/>
                      </a:lnTo>
                      <a:lnTo>
                        <a:pt x="429" y="931"/>
                      </a:lnTo>
                      <a:lnTo>
                        <a:pt x="425" y="929"/>
                      </a:lnTo>
                      <a:lnTo>
                        <a:pt x="415" y="929"/>
                      </a:lnTo>
                      <a:lnTo>
                        <a:pt x="400" y="927"/>
                      </a:lnTo>
                      <a:lnTo>
                        <a:pt x="382" y="923"/>
                      </a:lnTo>
                      <a:lnTo>
                        <a:pt x="371" y="917"/>
                      </a:lnTo>
                      <a:lnTo>
                        <a:pt x="359" y="912"/>
                      </a:lnTo>
                      <a:lnTo>
                        <a:pt x="347" y="904"/>
                      </a:lnTo>
                      <a:lnTo>
                        <a:pt x="336" y="898"/>
                      </a:lnTo>
                      <a:lnTo>
                        <a:pt x="324" y="886"/>
                      </a:lnTo>
                      <a:lnTo>
                        <a:pt x="313" y="875"/>
                      </a:lnTo>
                      <a:lnTo>
                        <a:pt x="301" y="861"/>
                      </a:lnTo>
                      <a:lnTo>
                        <a:pt x="289" y="848"/>
                      </a:lnTo>
                      <a:lnTo>
                        <a:pt x="287" y="844"/>
                      </a:lnTo>
                      <a:lnTo>
                        <a:pt x="283" y="840"/>
                      </a:lnTo>
                      <a:lnTo>
                        <a:pt x="276" y="836"/>
                      </a:lnTo>
                      <a:lnTo>
                        <a:pt x="270" y="838"/>
                      </a:lnTo>
                      <a:lnTo>
                        <a:pt x="264" y="842"/>
                      </a:lnTo>
                      <a:lnTo>
                        <a:pt x="260" y="850"/>
                      </a:lnTo>
                      <a:lnTo>
                        <a:pt x="256" y="859"/>
                      </a:lnTo>
                      <a:lnTo>
                        <a:pt x="254" y="877"/>
                      </a:lnTo>
                      <a:lnTo>
                        <a:pt x="250" y="885"/>
                      </a:lnTo>
                      <a:lnTo>
                        <a:pt x="249" y="896"/>
                      </a:lnTo>
                      <a:lnTo>
                        <a:pt x="247" y="906"/>
                      </a:lnTo>
                      <a:lnTo>
                        <a:pt x="245" y="921"/>
                      </a:lnTo>
                      <a:lnTo>
                        <a:pt x="243" y="933"/>
                      </a:lnTo>
                      <a:lnTo>
                        <a:pt x="241" y="950"/>
                      </a:lnTo>
                      <a:lnTo>
                        <a:pt x="239" y="968"/>
                      </a:lnTo>
                      <a:lnTo>
                        <a:pt x="239" y="989"/>
                      </a:lnTo>
                      <a:lnTo>
                        <a:pt x="233" y="995"/>
                      </a:lnTo>
                      <a:lnTo>
                        <a:pt x="225" y="997"/>
                      </a:lnTo>
                      <a:lnTo>
                        <a:pt x="210" y="995"/>
                      </a:lnTo>
                      <a:lnTo>
                        <a:pt x="194" y="989"/>
                      </a:lnTo>
                      <a:lnTo>
                        <a:pt x="183" y="983"/>
                      </a:lnTo>
                      <a:lnTo>
                        <a:pt x="173" y="978"/>
                      </a:lnTo>
                      <a:lnTo>
                        <a:pt x="161" y="968"/>
                      </a:lnTo>
                      <a:lnTo>
                        <a:pt x="152" y="960"/>
                      </a:lnTo>
                      <a:lnTo>
                        <a:pt x="140" y="949"/>
                      </a:lnTo>
                      <a:lnTo>
                        <a:pt x="128" y="939"/>
                      </a:lnTo>
                      <a:lnTo>
                        <a:pt x="117" y="925"/>
                      </a:lnTo>
                      <a:lnTo>
                        <a:pt x="107" y="914"/>
                      </a:lnTo>
                      <a:lnTo>
                        <a:pt x="95" y="896"/>
                      </a:lnTo>
                      <a:lnTo>
                        <a:pt x="84" y="879"/>
                      </a:lnTo>
                      <a:lnTo>
                        <a:pt x="72" y="859"/>
                      </a:lnTo>
                      <a:lnTo>
                        <a:pt x="62" y="842"/>
                      </a:lnTo>
                      <a:lnTo>
                        <a:pt x="57" y="830"/>
                      </a:lnTo>
                      <a:lnTo>
                        <a:pt x="51" y="819"/>
                      </a:lnTo>
                      <a:lnTo>
                        <a:pt x="47" y="807"/>
                      </a:lnTo>
                      <a:lnTo>
                        <a:pt x="43" y="797"/>
                      </a:lnTo>
                      <a:lnTo>
                        <a:pt x="37" y="786"/>
                      </a:lnTo>
                      <a:lnTo>
                        <a:pt x="33" y="774"/>
                      </a:lnTo>
                      <a:lnTo>
                        <a:pt x="29" y="762"/>
                      </a:lnTo>
                      <a:lnTo>
                        <a:pt x="27" y="751"/>
                      </a:lnTo>
                      <a:lnTo>
                        <a:pt x="22" y="735"/>
                      </a:lnTo>
                      <a:lnTo>
                        <a:pt x="18" y="722"/>
                      </a:lnTo>
                      <a:lnTo>
                        <a:pt x="14" y="708"/>
                      </a:lnTo>
                      <a:lnTo>
                        <a:pt x="12" y="694"/>
                      </a:lnTo>
                      <a:lnTo>
                        <a:pt x="8" y="679"/>
                      </a:lnTo>
                      <a:lnTo>
                        <a:pt x="6" y="663"/>
                      </a:lnTo>
                      <a:lnTo>
                        <a:pt x="4" y="648"/>
                      </a:lnTo>
                      <a:lnTo>
                        <a:pt x="4" y="634"/>
                      </a:lnTo>
                      <a:lnTo>
                        <a:pt x="2" y="617"/>
                      </a:lnTo>
                      <a:lnTo>
                        <a:pt x="0" y="599"/>
                      </a:lnTo>
                      <a:lnTo>
                        <a:pt x="0" y="582"/>
                      </a:lnTo>
                      <a:lnTo>
                        <a:pt x="0" y="566"/>
                      </a:lnTo>
                      <a:lnTo>
                        <a:pt x="0" y="547"/>
                      </a:lnTo>
                      <a:lnTo>
                        <a:pt x="0" y="530"/>
                      </a:lnTo>
                      <a:lnTo>
                        <a:pt x="2" y="512"/>
                      </a:lnTo>
                      <a:lnTo>
                        <a:pt x="6" y="495"/>
                      </a:lnTo>
                      <a:lnTo>
                        <a:pt x="6" y="483"/>
                      </a:lnTo>
                      <a:lnTo>
                        <a:pt x="6" y="471"/>
                      </a:lnTo>
                      <a:lnTo>
                        <a:pt x="8" y="462"/>
                      </a:lnTo>
                      <a:lnTo>
                        <a:pt x="10" y="454"/>
                      </a:lnTo>
                      <a:lnTo>
                        <a:pt x="12" y="437"/>
                      </a:lnTo>
                      <a:lnTo>
                        <a:pt x="18" y="425"/>
                      </a:lnTo>
                      <a:lnTo>
                        <a:pt x="22" y="411"/>
                      </a:lnTo>
                      <a:lnTo>
                        <a:pt x="27" y="402"/>
                      </a:lnTo>
                      <a:lnTo>
                        <a:pt x="35" y="394"/>
                      </a:lnTo>
                      <a:lnTo>
                        <a:pt x="43" y="390"/>
                      </a:lnTo>
                      <a:lnTo>
                        <a:pt x="55" y="382"/>
                      </a:lnTo>
                      <a:lnTo>
                        <a:pt x="72" y="382"/>
                      </a:lnTo>
                      <a:lnTo>
                        <a:pt x="88" y="384"/>
                      </a:lnTo>
                      <a:lnTo>
                        <a:pt x="105" y="394"/>
                      </a:lnTo>
                      <a:lnTo>
                        <a:pt x="121" y="402"/>
                      </a:lnTo>
                      <a:lnTo>
                        <a:pt x="136" y="413"/>
                      </a:lnTo>
                      <a:lnTo>
                        <a:pt x="150" y="427"/>
                      </a:lnTo>
                      <a:lnTo>
                        <a:pt x="165" y="440"/>
                      </a:lnTo>
                      <a:lnTo>
                        <a:pt x="175" y="450"/>
                      </a:lnTo>
                      <a:lnTo>
                        <a:pt x="185" y="460"/>
                      </a:lnTo>
                      <a:lnTo>
                        <a:pt x="188" y="466"/>
                      </a:lnTo>
                      <a:lnTo>
                        <a:pt x="192" y="4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518440" y="562320"/>
                  <a:ext cx="32400" cy="80280"/>
                </a:xfrm>
                <a:custGeom>
                  <a:avLst/>
                  <a:gdLst/>
                  <a:ahLst/>
                  <a:rect l="l" t="t" r="r" b="b"/>
                  <a:pathLst>
                    <a:path w="117" h="287">
                      <a:moveTo>
                        <a:pt x="117" y="138"/>
                      </a:moveTo>
                      <a:lnTo>
                        <a:pt x="117" y="151"/>
                      </a:lnTo>
                      <a:lnTo>
                        <a:pt x="117" y="165"/>
                      </a:lnTo>
                      <a:lnTo>
                        <a:pt x="117" y="178"/>
                      </a:lnTo>
                      <a:lnTo>
                        <a:pt x="117" y="192"/>
                      </a:lnTo>
                      <a:lnTo>
                        <a:pt x="115" y="204"/>
                      </a:lnTo>
                      <a:lnTo>
                        <a:pt x="113" y="217"/>
                      </a:lnTo>
                      <a:lnTo>
                        <a:pt x="111" y="229"/>
                      </a:lnTo>
                      <a:lnTo>
                        <a:pt x="111" y="240"/>
                      </a:lnTo>
                      <a:lnTo>
                        <a:pt x="103" y="258"/>
                      </a:lnTo>
                      <a:lnTo>
                        <a:pt x="95" y="271"/>
                      </a:lnTo>
                      <a:lnTo>
                        <a:pt x="86" y="281"/>
                      </a:lnTo>
                      <a:lnTo>
                        <a:pt x="76" y="287"/>
                      </a:lnTo>
                      <a:lnTo>
                        <a:pt x="62" y="283"/>
                      </a:lnTo>
                      <a:lnTo>
                        <a:pt x="51" y="277"/>
                      </a:lnTo>
                      <a:lnTo>
                        <a:pt x="39" y="264"/>
                      </a:lnTo>
                      <a:lnTo>
                        <a:pt x="31" y="248"/>
                      </a:lnTo>
                      <a:lnTo>
                        <a:pt x="25" y="237"/>
                      </a:lnTo>
                      <a:lnTo>
                        <a:pt x="20" y="225"/>
                      </a:lnTo>
                      <a:lnTo>
                        <a:pt x="16" y="213"/>
                      </a:lnTo>
                      <a:lnTo>
                        <a:pt x="14" y="204"/>
                      </a:lnTo>
                      <a:lnTo>
                        <a:pt x="8" y="190"/>
                      </a:lnTo>
                      <a:lnTo>
                        <a:pt x="6" y="176"/>
                      </a:lnTo>
                      <a:lnTo>
                        <a:pt x="4" y="163"/>
                      </a:lnTo>
                      <a:lnTo>
                        <a:pt x="4" y="149"/>
                      </a:lnTo>
                      <a:lnTo>
                        <a:pt x="0" y="132"/>
                      </a:lnTo>
                      <a:lnTo>
                        <a:pt x="0" y="118"/>
                      </a:lnTo>
                      <a:lnTo>
                        <a:pt x="0" y="103"/>
                      </a:lnTo>
                      <a:lnTo>
                        <a:pt x="0" y="91"/>
                      </a:lnTo>
                      <a:lnTo>
                        <a:pt x="0" y="77"/>
                      </a:lnTo>
                      <a:lnTo>
                        <a:pt x="2" y="66"/>
                      </a:lnTo>
                      <a:lnTo>
                        <a:pt x="4" y="54"/>
                      </a:lnTo>
                      <a:lnTo>
                        <a:pt x="8" y="45"/>
                      </a:lnTo>
                      <a:lnTo>
                        <a:pt x="14" y="25"/>
                      </a:lnTo>
                      <a:lnTo>
                        <a:pt x="23" y="12"/>
                      </a:lnTo>
                      <a:lnTo>
                        <a:pt x="33" y="2"/>
                      </a:lnTo>
                      <a:lnTo>
                        <a:pt x="45" y="0"/>
                      </a:lnTo>
                      <a:lnTo>
                        <a:pt x="55" y="0"/>
                      </a:lnTo>
                      <a:lnTo>
                        <a:pt x="66" y="8"/>
                      </a:lnTo>
                      <a:lnTo>
                        <a:pt x="76" y="19"/>
                      </a:lnTo>
                      <a:lnTo>
                        <a:pt x="87" y="37"/>
                      </a:lnTo>
                      <a:lnTo>
                        <a:pt x="91" y="45"/>
                      </a:lnTo>
                      <a:lnTo>
                        <a:pt x="95" y="56"/>
                      </a:lnTo>
                      <a:lnTo>
                        <a:pt x="99" y="68"/>
                      </a:lnTo>
                      <a:lnTo>
                        <a:pt x="105" y="81"/>
                      </a:lnTo>
                      <a:lnTo>
                        <a:pt x="107" y="93"/>
                      </a:lnTo>
                      <a:lnTo>
                        <a:pt x="111" y="107"/>
                      </a:lnTo>
                      <a:lnTo>
                        <a:pt x="113" y="120"/>
                      </a:lnTo>
                      <a:lnTo>
                        <a:pt x="117" y="138"/>
                      </a:lnTo>
                      <a:close/>
                    </a:path>
                  </a:pathLst>
                </a:custGeom>
                <a:solidFill>
                  <a:srgbClr val="a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020200" y="-33840"/>
                  <a:ext cx="143640" cy="270000"/>
                </a:xfrm>
                <a:custGeom>
                  <a:avLst/>
                  <a:gdLst/>
                  <a:ahLst/>
                  <a:rect l="l" t="t" r="r" b="b"/>
                  <a:pathLst>
                    <a:path w="514" h="96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2" y="39"/>
                      </a:lnTo>
                      <a:lnTo>
                        <a:pt x="2" y="46"/>
                      </a:lnTo>
                      <a:lnTo>
                        <a:pt x="2" y="56"/>
                      </a:lnTo>
                      <a:lnTo>
                        <a:pt x="4" y="68"/>
                      </a:lnTo>
                      <a:lnTo>
                        <a:pt x="6" y="81"/>
                      </a:lnTo>
                      <a:lnTo>
                        <a:pt x="6" y="93"/>
                      </a:lnTo>
                      <a:lnTo>
                        <a:pt x="8" y="108"/>
                      </a:lnTo>
                      <a:lnTo>
                        <a:pt x="10" y="124"/>
                      </a:lnTo>
                      <a:lnTo>
                        <a:pt x="12" y="141"/>
                      </a:lnTo>
                      <a:lnTo>
                        <a:pt x="12" y="157"/>
                      </a:lnTo>
                      <a:lnTo>
                        <a:pt x="13" y="172"/>
                      </a:lnTo>
                      <a:lnTo>
                        <a:pt x="15" y="190"/>
                      </a:lnTo>
                      <a:lnTo>
                        <a:pt x="17" y="209"/>
                      </a:lnTo>
                      <a:lnTo>
                        <a:pt x="17" y="227"/>
                      </a:lnTo>
                      <a:lnTo>
                        <a:pt x="19" y="246"/>
                      </a:lnTo>
                      <a:lnTo>
                        <a:pt x="21" y="265"/>
                      </a:lnTo>
                      <a:lnTo>
                        <a:pt x="25" y="287"/>
                      </a:lnTo>
                      <a:lnTo>
                        <a:pt x="25" y="306"/>
                      </a:lnTo>
                      <a:lnTo>
                        <a:pt x="29" y="328"/>
                      </a:lnTo>
                      <a:lnTo>
                        <a:pt x="29" y="347"/>
                      </a:lnTo>
                      <a:lnTo>
                        <a:pt x="33" y="370"/>
                      </a:lnTo>
                      <a:lnTo>
                        <a:pt x="35" y="392"/>
                      </a:lnTo>
                      <a:lnTo>
                        <a:pt x="37" y="413"/>
                      </a:lnTo>
                      <a:lnTo>
                        <a:pt x="39" y="434"/>
                      </a:lnTo>
                      <a:lnTo>
                        <a:pt x="43" y="457"/>
                      </a:lnTo>
                      <a:lnTo>
                        <a:pt x="43" y="477"/>
                      </a:lnTo>
                      <a:lnTo>
                        <a:pt x="46" y="498"/>
                      </a:lnTo>
                      <a:lnTo>
                        <a:pt x="46" y="520"/>
                      </a:lnTo>
                      <a:lnTo>
                        <a:pt x="50" y="543"/>
                      </a:lnTo>
                      <a:lnTo>
                        <a:pt x="50" y="562"/>
                      </a:lnTo>
                      <a:lnTo>
                        <a:pt x="54" y="584"/>
                      </a:lnTo>
                      <a:lnTo>
                        <a:pt x="54" y="605"/>
                      </a:lnTo>
                      <a:lnTo>
                        <a:pt x="58" y="628"/>
                      </a:lnTo>
                      <a:lnTo>
                        <a:pt x="58" y="648"/>
                      </a:lnTo>
                      <a:lnTo>
                        <a:pt x="62" y="667"/>
                      </a:lnTo>
                      <a:lnTo>
                        <a:pt x="62" y="686"/>
                      </a:lnTo>
                      <a:lnTo>
                        <a:pt x="66" y="708"/>
                      </a:lnTo>
                      <a:lnTo>
                        <a:pt x="68" y="725"/>
                      </a:lnTo>
                      <a:lnTo>
                        <a:pt x="70" y="744"/>
                      </a:lnTo>
                      <a:lnTo>
                        <a:pt x="72" y="762"/>
                      </a:lnTo>
                      <a:lnTo>
                        <a:pt x="76" y="781"/>
                      </a:lnTo>
                      <a:lnTo>
                        <a:pt x="76" y="797"/>
                      </a:lnTo>
                      <a:lnTo>
                        <a:pt x="77" y="814"/>
                      </a:lnTo>
                      <a:lnTo>
                        <a:pt x="79" y="830"/>
                      </a:lnTo>
                      <a:lnTo>
                        <a:pt x="83" y="845"/>
                      </a:lnTo>
                      <a:lnTo>
                        <a:pt x="83" y="859"/>
                      </a:lnTo>
                      <a:lnTo>
                        <a:pt x="85" y="872"/>
                      </a:lnTo>
                      <a:lnTo>
                        <a:pt x="87" y="884"/>
                      </a:lnTo>
                      <a:lnTo>
                        <a:pt x="91" y="898"/>
                      </a:lnTo>
                      <a:lnTo>
                        <a:pt x="91" y="907"/>
                      </a:lnTo>
                      <a:lnTo>
                        <a:pt x="93" y="917"/>
                      </a:lnTo>
                      <a:lnTo>
                        <a:pt x="95" y="925"/>
                      </a:lnTo>
                      <a:lnTo>
                        <a:pt x="97" y="935"/>
                      </a:lnTo>
                      <a:lnTo>
                        <a:pt x="99" y="946"/>
                      </a:lnTo>
                      <a:lnTo>
                        <a:pt x="103" y="956"/>
                      </a:lnTo>
                      <a:lnTo>
                        <a:pt x="109" y="962"/>
                      </a:lnTo>
                      <a:lnTo>
                        <a:pt x="124" y="966"/>
                      </a:lnTo>
                      <a:lnTo>
                        <a:pt x="134" y="966"/>
                      </a:lnTo>
                      <a:lnTo>
                        <a:pt x="145" y="966"/>
                      </a:lnTo>
                      <a:lnTo>
                        <a:pt x="159" y="964"/>
                      </a:lnTo>
                      <a:lnTo>
                        <a:pt x="174" y="964"/>
                      </a:lnTo>
                      <a:lnTo>
                        <a:pt x="188" y="960"/>
                      </a:lnTo>
                      <a:lnTo>
                        <a:pt x="204" y="958"/>
                      </a:lnTo>
                      <a:lnTo>
                        <a:pt x="221" y="954"/>
                      </a:lnTo>
                      <a:lnTo>
                        <a:pt x="238" y="950"/>
                      </a:lnTo>
                      <a:lnTo>
                        <a:pt x="256" y="944"/>
                      </a:lnTo>
                      <a:lnTo>
                        <a:pt x="275" y="940"/>
                      </a:lnTo>
                      <a:lnTo>
                        <a:pt x="295" y="936"/>
                      </a:lnTo>
                      <a:lnTo>
                        <a:pt x="314" y="933"/>
                      </a:lnTo>
                      <a:lnTo>
                        <a:pt x="332" y="927"/>
                      </a:lnTo>
                      <a:lnTo>
                        <a:pt x="349" y="921"/>
                      </a:lnTo>
                      <a:lnTo>
                        <a:pt x="366" y="915"/>
                      </a:lnTo>
                      <a:lnTo>
                        <a:pt x="386" y="911"/>
                      </a:lnTo>
                      <a:lnTo>
                        <a:pt x="401" y="905"/>
                      </a:lnTo>
                      <a:lnTo>
                        <a:pt x="419" y="900"/>
                      </a:lnTo>
                      <a:lnTo>
                        <a:pt x="434" y="894"/>
                      </a:lnTo>
                      <a:lnTo>
                        <a:pt x="452" y="890"/>
                      </a:lnTo>
                      <a:lnTo>
                        <a:pt x="463" y="884"/>
                      </a:lnTo>
                      <a:lnTo>
                        <a:pt x="475" y="880"/>
                      </a:lnTo>
                      <a:lnTo>
                        <a:pt x="485" y="876"/>
                      </a:lnTo>
                      <a:lnTo>
                        <a:pt x="496" y="874"/>
                      </a:lnTo>
                      <a:lnTo>
                        <a:pt x="508" y="871"/>
                      </a:lnTo>
                      <a:lnTo>
                        <a:pt x="514" y="871"/>
                      </a:lnTo>
                      <a:lnTo>
                        <a:pt x="512" y="867"/>
                      </a:lnTo>
                      <a:lnTo>
                        <a:pt x="512" y="863"/>
                      </a:lnTo>
                      <a:lnTo>
                        <a:pt x="508" y="853"/>
                      </a:lnTo>
                      <a:lnTo>
                        <a:pt x="506" y="843"/>
                      </a:lnTo>
                      <a:lnTo>
                        <a:pt x="502" y="828"/>
                      </a:lnTo>
                      <a:lnTo>
                        <a:pt x="498" y="810"/>
                      </a:lnTo>
                      <a:lnTo>
                        <a:pt x="494" y="801"/>
                      </a:lnTo>
                      <a:lnTo>
                        <a:pt x="493" y="791"/>
                      </a:lnTo>
                      <a:lnTo>
                        <a:pt x="491" y="779"/>
                      </a:lnTo>
                      <a:lnTo>
                        <a:pt x="489" y="770"/>
                      </a:lnTo>
                      <a:lnTo>
                        <a:pt x="485" y="756"/>
                      </a:lnTo>
                      <a:lnTo>
                        <a:pt x="481" y="744"/>
                      </a:lnTo>
                      <a:lnTo>
                        <a:pt x="477" y="731"/>
                      </a:lnTo>
                      <a:lnTo>
                        <a:pt x="473" y="717"/>
                      </a:lnTo>
                      <a:lnTo>
                        <a:pt x="467" y="702"/>
                      </a:lnTo>
                      <a:lnTo>
                        <a:pt x="463" y="688"/>
                      </a:lnTo>
                      <a:lnTo>
                        <a:pt x="460" y="675"/>
                      </a:lnTo>
                      <a:lnTo>
                        <a:pt x="456" y="661"/>
                      </a:lnTo>
                      <a:lnTo>
                        <a:pt x="450" y="644"/>
                      </a:lnTo>
                      <a:lnTo>
                        <a:pt x="444" y="628"/>
                      </a:lnTo>
                      <a:lnTo>
                        <a:pt x="438" y="613"/>
                      </a:lnTo>
                      <a:lnTo>
                        <a:pt x="432" y="597"/>
                      </a:lnTo>
                      <a:lnTo>
                        <a:pt x="425" y="580"/>
                      </a:lnTo>
                      <a:lnTo>
                        <a:pt x="419" y="562"/>
                      </a:lnTo>
                      <a:lnTo>
                        <a:pt x="413" y="545"/>
                      </a:lnTo>
                      <a:lnTo>
                        <a:pt x="407" y="529"/>
                      </a:lnTo>
                      <a:lnTo>
                        <a:pt x="397" y="510"/>
                      </a:lnTo>
                      <a:lnTo>
                        <a:pt x="390" y="492"/>
                      </a:lnTo>
                      <a:lnTo>
                        <a:pt x="382" y="475"/>
                      </a:lnTo>
                      <a:lnTo>
                        <a:pt x="374" y="457"/>
                      </a:lnTo>
                      <a:lnTo>
                        <a:pt x="365" y="438"/>
                      </a:lnTo>
                      <a:lnTo>
                        <a:pt x="355" y="421"/>
                      </a:lnTo>
                      <a:lnTo>
                        <a:pt x="345" y="401"/>
                      </a:lnTo>
                      <a:lnTo>
                        <a:pt x="337" y="384"/>
                      </a:lnTo>
                      <a:lnTo>
                        <a:pt x="326" y="364"/>
                      </a:lnTo>
                      <a:lnTo>
                        <a:pt x="316" y="347"/>
                      </a:lnTo>
                      <a:lnTo>
                        <a:pt x="306" y="328"/>
                      </a:lnTo>
                      <a:lnTo>
                        <a:pt x="297" y="310"/>
                      </a:lnTo>
                      <a:lnTo>
                        <a:pt x="285" y="293"/>
                      </a:lnTo>
                      <a:lnTo>
                        <a:pt x="273" y="275"/>
                      </a:lnTo>
                      <a:lnTo>
                        <a:pt x="262" y="258"/>
                      </a:lnTo>
                      <a:lnTo>
                        <a:pt x="250" y="240"/>
                      </a:lnTo>
                      <a:lnTo>
                        <a:pt x="235" y="223"/>
                      </a:lnTo>
                      <a:lnTo>
                        <a:pt x="223" y="205"/>
                      </a:lnTo>
                      <a:lnTo>
                        <a:pt x="207" y="188"/>
                      </a:lnTo>
                      <a:lnTo>
                        <a:pt x="196" y="170"/>
                      </a:lnTo>
                      <a:lnTo>
                        <a:pt x="180" y="153"/>
                      </a:lnTo>
                      <a:lnTo>
                        <a:pt x="165" y="138"/>
                      </a:lnTo>
                      <a:lnTo>
                        <a:pt x="149" y="122"/>
                      </a:lnTo>
                      <a:lnTo>
                        <a:pt x="136" y="108"/>
                      </a:lnTo>
                      <a:lnTo>
                        <a:pt x="118" y="91"/>
                      </a:lnTo>
                      <a:lnTo>
                        <a:pt x="103" y="77"/>
                      </a:lnTo>
                      <a:lnTo>
                        <a:pt x="85" y="62"/>
                      </a:lnTo>
                      <a:lnTo>
                        <a:pt x="70" y="50"/>
                      </a:lnTo>
                      <a:lnTo>
                        <a:pt x="52" y="35"/>
                      </a:lnTo>
                      <a:lnTo>
                        <a:pt x="35" y="23"/>
                      </a:lnTo>
                      <a:lnTo>
                        <a:pt x="17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961520" y="-256680"/>
                  <a:ext cx="383400" cy="31320"/>
                </a:xfrm>
                <a:custGeom>
                  <a:avLst/>
                  <a:gdLst/>
                  <a:ahLst/>
                  <a:rect l="l" t="t" r="r" b="b"/>
                  <a:pathLst>
                    <a:path w="1372" h="110">
                      <a:moveTo>
                        <a:pt x="61" y="54"/>
                      </a:moveTo>
                      <a:lnTo>
                        <a:pt x="53" y="54"/>
                      </a:lnTo>
                      <a:lnTo>
                        <a:pt x="41" y="60"/>
                      </a:lnTo>
                      <a:lnTo>
                        <a:pt x="24" y="66"/>
                      </a:lnTo>
                      <a:lnTo>
                        <a:pt x="10" y="75"/>
                      </a:lnTo>
                      <a:lnTo>
                        <a:pt x="0" y="85"/>
                      </a:lnTo>
                      <a:lnTo>
                        <a:pt x="4" y="95"/>
                      </a:lnTo>
                      <a:lnTo>
                        <a:pt x="10" y="99"/>
                      </a:lnTo>
                      <a:lnTo>
                        <a:pt x="24" y="103"/>
                      </a:lnTo>
                      <a:lnTo>
                        <a:pt x="30" y="103"/>
                      </a:lnTo>
                      <a:lnTo>
                        <a:pt x="41" y="106"/>
                      </a:lnTo>
                      <a:lnTo>
                        <a:pt x="51" y="106"/>
                      </a:lnTo>
                      <a:lnTo>
                        <a:pt x="66" y="110"/>
                      </a:lnTo>
                      <a:lnTo>
                        <a:pt x="72" y="108"/>
                      </a:lnTo>
                      <a:lnTo>
                        <a:pt x="80" y="108"/>
                      </a:lnTo>
                      <a:lnTo>
                        <a:pt x="90" y="108"/>
                      </a:lnTo>
                      <a:lnTo>
                        <a:pt x="101" y="108"/>
                      </a:lnTo>
                      <a:lnTo>
                        <a:pt x="111" y="108"/>
                      </a:lnTo>
                      <a:lnTo>
                        <a:pt x="125" y="108"/>
                      </a:lnTo>
                      <a:lnTo>
                        <a:pt x="136" y="108"/>
                      </a:lnTo>
                      <a:lnTo>
                        <a:pt x="154" y="108"/>
                      </a:lnTo>
                      <a:lnTo>
                        <a:pt x="167" y="106"/>
                      </a:lnTo>
                      <a:lnTo>
                        <a:pt x="183" y="106"/>
                      </a:lnTo>
                      <a:lnTo>
                        <a:pt x="200" y="104"/>
                      </a:lnTo>
                      <a:lnTo>
                        <a:pt x="220" y="104"/>
                      </a:lnTo>
                      <a:lnTo>
                        <a:pt x="237" y="103"/>
                      </a:lnTo>
                      <a:lnTo>
                        <a:pt x="256" y="103"/>
                      </a:lnTo>
                      <a:lnTo>
                        <a:pt x="276" y="103"/>
                      </a:lnTo>
                      <a:lnTo>
                        <a:pt x="299" y="103"/>
                      </a:lnTo>
                      <a:lnTo>
                        <a:pt x="319" y="99"/>
                      </a:lnTo>
                      <a:lnTo>
                        <a:pt x="342" y="99"/>
                      </a:lnTo>
                      <a:lnTo>
                        <a:pt x="365" y="95"/>
                      </a:lnTo>
                      <a:lnTo>
                        <a:pt x="388" y="95"/>
                      </a:lnTo>
                      <a:lnTo>
                        <a:pt x="412" y="91"/>
                      </a:lnTo>
                      <a:lnTo>
                        <a:pt x="435" y="91"/>
                      </a:lnTo>
                      <a:lnTo>
                        <a:pt x="460" y="87"/>
                      </a:lnTo>
                      <a:lnTo>
                        <a:pt x="485" y="87"/>
                      </a:lnTo>
                      <a:lnTo>
                        <a:pt x="509" y="83"/>
                      </a:lnTo>
                      <a:lnTo>
                        <a:pt x="536" y="83"/>
                      </a:lnTo>
                      <a:lnTo>
                        <a:pt x="561" y="79"/>
                      </a:lnTo>
                      <a:lnTo>
                        <a:pt x="588" y="79"/>
                      </a:lnTo>
                      <a:lnTo>
                        <a:pt x="613" y="75"/>
                      </a:lnTo>
                      <a:lnTo>
                        <a:pt x="640" y="75"/>
                      </a:lnTo>
                      <a:lnTo>
                        <a:pt x="666" y="71"/>
                      </a:lnTo>
                      <a:lnTo>
                        <a:pt x="695" y="71"/>
                      </a:lnTo>
                      <a:lnTo>
                        <a:pt x="720" y="68"/>
                      </a:lnTo>
                      <a:lnTo>
                        <a:pt x="747" y="66"/>
                      </a:lnTo>
                      <a:lnTo>
                        <a:pt x="772" y="62"/>
                      </a:lnTo>
                      <a:lnTo>
                        <a:pt x="799" y="62"/>
                      </a:lnTo>
                      <a:lnTo>
                        <a:pt x="825" y="58"/>
                      </a:lnTo>
                      <a:lnTo>
                        <a:pt x="852" y="56"/>
                      </a:lnTo>
                      <a:lnTo>
                        <a:pt x="877" y="52"/>
                      </a:lnTo>
                      <a:lnTo>
                        <a:pt x="904" y="52"/>
                      </a:lnTo>
                      <a:lnTo>
                        <a:pt x="929" y="48"/>
                      </a:lnTo>
                      <a:lnTo>
                        <a:pt x="955" y="46"/>
                      </a:lnTo>
                      <a:lnTo>
                        <a:pt x="980" y="42"/>
                      </a:lnTo>
                      <a:lnTo>
                        <a:pt x="1005" y="42"/>
                      </a:lnTo>
                      <a:lnTo>
                        <a:pt x="1028" y="39"/>
                      </a:lnTo>
                      <a:lnTo>
                        <a:pt x="1052" y="37"/>
                      </a:lnTo>
                      <a:lnTo>
                        <a:pt x="1075" y="33"/>
                      </a:lnTo>
                      <a:lnTo>
                        <a:pt x="1100" y="33"/>
                      </a:lnTo>
                      <a:lnTo>
                        <a:pt x="1121" y="29"/>
                      </a:lnTo>
                      <a:lnTo>
                        <a:pt x="1143" y="27"/>
                      </a:lnTo>
                      <a:lnTo>
                        <a:pt x="1164" y="23"/>
                      </a:lnTo>
                      <a:lnTo>
                        <a:pt x="1185" y="21"/>
                      </a:lnTo>
                      <a:lnTo>
                        <a:pt x="1205" y="17"/>
                      </a:lnTo>
                      <a:lnTo>
                        <a:pt x="1224" y="17"/>
                      </a:lnTo>
                      <a:lnTo>
                        <a:pt x="1242" y="13"/>
                      </a:lnTo>
                      <a:lnTo>
                        <a:pt x="1261" y="13"/>
                      </a:lnTo>
                      <a:lnTo>
                        <a:pt x="1277" y="9"/>
                      </a:lnTo>
                      <a:lnTo>
                        <a:pt x="1292" y="7"/>
                      </a:lnTo>
                      <a:lnTo>
                        <a:pt x="1308" y="6"/>
                      </a:lnTo>
                      <a:lnTo>
                        <a:pt x="1323" y="6"/>
                      </a:lnTo>
                      <a:lnTo>
                        <a:pt x="1335" y="4"/>
                      </a:lnTo>
                      <a:lnTo>
                        <a:pt x="1348" y="2"/>
                      </a:lnTo>
                      <a:lnTo>
                        <a:pt x="1360" y="0"/>
                      </a:lnTo>
                      <a:lnTo>
                        <a:pt x="1372" y="0"/>
                      </a:lnTo>
                      <a:lnTo>
                        <a:pt x="61" y="54"/>
                      </a:lnTo>
                      <a:close/>
                    </a:path>
                  </a:pathLst>
                </a:custGeom>
                <a:solidFill>
                  <a:srgbClr val="f1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466960" y="517680"/>
                  <a:ext cx="50040" cy="150120"/>
                </a:xfrm>
                <a:custGeom>
                  <a:avLst/>
                  <a:gdLst/>
                  <a:ahLst/>
                  <a:rect l="l" t="t" r="r" b="b"/>
                  <a:pathLst>
                    <a:path w="180" h="537">
                      <a:moveTo>
                        <a:pt x="178" y="0"/>
                      </a:moveTo>
                      <a:lnTo>
                        <a:pt x="175" y="0"/>
                      </a:lnTo>
                      <a:lnTo>
                        <a:pt x="171" y="0"/>
                      </a:lnTo>
                      <a:lnTo>
                        <a:pt x="163" y="0"/>
                      </a:lnTo>
                      <a:lnTo>
                        <a:pt x="153" y="4"/>
                      </a:lnTo>
                      <a:lnTo>
                        <a:pt x="140" y="4"/>
                      </a:lnTo>
                      <a:lnTo>
                        <a:pt x="128" y="10"/>
                      </a:lnTo>
                      <a:lnTo>
                        <a:pt x="114" y="15"/>
                      </a:lnTo>
                      <a:lnTo>
                        <a:pt x="101" y="25"/>
                      </a:lnTo>
                      <a:lnTo>
                        <a:pt x="83" y="33"/>
                      </a:lnTo>
                      <a:lnTo>
                        <a:pt x="68" y="47"/>
                      </a:lnTo>
                      <a:lnTo>
                        <a:pt x="52" y="60"/>
                      </a:lnTo>
                      <a:lnTo>
                        <a:pt x="41" y="79"/>
                      </a:lnTo>
                      <a:lnTo>
                        <a:pt x="35" y="87"/>
                      </a:lnTo>
                      <a:lnTo>
                        <a:pt x="29" y="99"/>
                      </a:lnTo>
                      <a:lnTo>
                        <a:pt x="23" y="111"/>
                      </a:lnTo>
                      <a:lnTo>
                        <a:pt x="19" y="122"/>
                      </a:lnTo>
                      <a:lnTo>
                        <a:pt x="14" y="134"/>
                      </a:lnTo>
                      <a:lnTo>
                        <a:pt x="10" y="149"/>
                      </a:lnTo>
                      <a:lnTo>
                        <a:pt x="6" y="165"/>
                      </a:lnTo>
                      <a:lnTo>
                        <a:pt x="6" y="182"/>
                      </a:lnTo>
                      <a:lnTo>
                        <a:pt x="2" y="198"/>
                      </a:lnTo>
                      <a:lnTo>
                        <a:pt x="0" y="213"/>
                      </a:lnTo>
                      <a:lnTo>
                        <a:pt x="0" y="229"/>
                      </a:lnTo>
                      <a:lnTo>
                        <a:pt x="0" y="244"/>
                      </a:lnTo>
                      <a:lnTo>
                        <a:pt x="0" y="260"/>
                      </a:lnTo>
                      <a:lnTo>
                        <a:pt x="2" y="275"/>
                      </a:lnTo>
                      <a:lnTo>
                        <a:pt x="4" y="291"/>
                      </a:lnTo>
                      <a:lnTo>
                        <a:pt x="8" y="308"/>
                      </a:lnTo>
                      <a:lnTo>
                        <a:pt x="8" y="322"/>
                      </a:lnTo>
                      <a:lnTo>
                        <a:pt x="12" y="335"/>
                      </a:lnTo>
                      <a:lnTo>
                        <a:pt x="15" y="349"/>
                      </a:lnTo>
                      <a:lnTo>
                        <a:pt x="21" y="365"/>
                      </a:lnTo>
                      <a:lnTo>
                        <a:pt x="25" y="378"/>
                      </a:lnTo>
                      <a:lnTo>
                        <a:pt x="31" y="392"/>
                      </a:lnTo>
                      <a:lnTo>
                        <a:pt x="37" y="405"/>
                      </a:lnTo>
                      <a:lnTo>
                        <a:pt x="43" y="419"/>
                      </a:lnTo>
                      <a:lnTo>
                        <a:pt x="48" y="429"/>
                      </a:lnTo>
                      <a:lnTo>
                        <a:pt x="54" y="440"/>
                      </a:lnTo>
                      <a:lnTo>
                        <a:pt x="60" y="450"/>
                      </a:lnTo>
                      <a:lnTo>
                        <a:pt x="68" y="462"/>
                      </a:lnTo>
                      <a:lnTo>
                        <a:pt x="81" y="479"/>
                      </a:lnTo>
                      <a:lnTo>
                        <a:pt x="99" y="498"/>
                      </a:lnTo>
                      <a:lnTo>
                        <a:pt x="114" y="512"/>
                      </a:lnTo>
                      <a:lnTo>
                        <a:pt x="132" y="524"/>
                      </a:lnTo>
                      <a:lnTo>
                        <a:pt x="151" y="531"/>
                      </a:lnTo>
                      <a:lnTo>
                        <a:pt x="171" y="537"/>
                      </a:lnTo>
                      <a:lnTo>
                        <a:pt x="167" y="531"/>
                      </a:lnTo>
                      <a:lnTo>
                        <a:pt x="159" y="522"/>
                      </a:lnTo>
                      <a:lnTo>
                        <a:pt x="153" y="514"/>
                      </a:lnTo>
                      <a:lnTo>
                        <a:pt x="147" y="504"/>
                      </a:lnTo>
                      <a:lnTo>
                        <a:pt x="142" y="491"/>
                      </a:lnTo>
                      <a:lnTo>
                        <a:pt x="136" y="479"/>
                      </a:lnTo>
                      <a:lnTo>
                        <a:pt x="128" y="462"/>
                      </a:lnTo>
                      <a:lnTo>
                        <a:pt x="120" y="444"/>
                      </a:lnTo>
                      <a:lnTo>
                        <a:pt x="116" y="432"/>
                      </a:lnTo>
                      <a:lnTo>
                        <a:pt x="114" y="423"/>
                      </a:lnTo>
                      <a:lnTo>
                        <a:pt x="111" y="411"/>
                      </a:lnTo>
                      <a:lnTo>
                        <a:pt x="109" y="401"/>
                      </a:lnTo>
                      <a:lnTo>
                        <a:pt x="105" y="388"/>
                      </a:lnTo>
                      <a:lnTo>
                        <a:pt x="103" y="376"/>
                      </a:lnTo>
                      <a:lnTo>
                        <a:pt x="99" y="363"/>
                      </a:lnTo>
                      <a:lnTo>
                        <a:pt x="99" y="349"/>
                      </a:lnTo>
                      <a:lnTo>
                        <a:pt x="97" y="334"/>
                      </a:lnTo>
                      <a:lnTo>
                        <a:pt x="95" y="318"/>
                      </a:lnTo>
                      <a:lnTo>
                        <a:pt x="95" y="302"/>
                      </a:lnTo>
                      <a:lnTo>
                        <a:pt x="95" y="287"/>
                      </a:lnTo>
                      <a:lnTo>
                        <a:pt x="93" y="271"/>
                      </a:lnTo>
                      <a:lnTo>
                        <a:pt x="93" y="256"/>
                      </a:lnTo>
                      <a:lnTo>
                        <a:pt x="93" y="240"/>
                      </a:lnTo>
                      <a:lnTo>
                        <a:pt x="97" y="227"/>
                      </a:lnTo>
                      <a:lnTo>
                        <a:pt x="97" y="211"/>
                      </a:lnTo>
                      <a:lnTo>
                        <a:pt x="101" y="198"/>
                      </a:lnTo>
                      <a:lnTo>
                        <a:pt x="105" y="184"/>
                      </a:lnTo>
                      <a:lnTo>
                        <a:pt x="111" y="173"/>
                      </a:lnTo>
                      <a:lnTo>
                        <a:pt x="116" y="159"/>
                      </a:lnTo>
                      <a:lnTo>
                        <a:pt x="122" y="145"/>
                      </a:lnTo>
                      <a:lnTo>
                        <a:pt x="128" y="134"/>
                      </a:lnTo>
                      <a:lnTo>
                        <a:pt x="138" y="122"/>
                      </a:lnTo>
                      <a:lnTo>
                        <a:pt x="145" y="111"/>
                      </a:lnTo>
                      <a:lnTo>
                        <a:pt x="155" y="99"/>
                      </a:lnTo>
                      <a:lnTo>
                        <a:pt x="167" y="89"/>
                      </a:lnTo>
                      <a:lnTo>
                        <a:pt x="180" y="81"/>
                      </a:lnTo>
                      <a:lnTo>
                        <a:pt x="178" y="78"/>
                      </a:lnTo>
                      <a:lnTo>
                        <a:pt x="178" y="70"/>
                      </a:lnTo>
                      <a:lnTo>
                        <a:pt x="178" y="58"/>
                      </a:lnTo>
                      <a:lnTo>
                        <a:pt x="178" y="47"/>
                      </a:lnTo>
                      <a:lnTo>
                        <a:pt x="178" y="31"/>
                      </a:lnTo>
                      <a:lnTo>
                        <a:pt x="178" y="17"/>
                      </a:lnTo>
                      <a:lnTo>
                        <a:pt x="178" y="6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492160" y="436320"/>
                  <a:ext cx="73800" cy="71640"/>
                </a:xfrm>
                <a:custGeom>
                  <a:avLst/>
                  <a:gdLst/>
                  <a:ahLst/>
                  <a:rect l="l" t="t" r="r" b="b"/>
                  <a:pathLst>
                    <a:path w="266" h="256">
                      <a:moveTo>
                        <a:pt x="20" y="244"/>
                      </a:moveTo>
                      <a:lnTo>
                        <a:pt x="18" y="241"/>
                      </a:lnTo>
                      <a:lnTo>
                        <a:pt x="18" y="235"/>
                      </a:lnTo>
                      <a:lnTo>
                        <a:pt x="16" y="223"/>
                      </a:lnTo>
                      <a:lnTo>
                        <a:pt x="14" y="210"/>
                      </a:lnTo>
                      <a:lnTo>
                        <a:pt x="10" y="190"/>
                      </a:lnTo>
                      <a:lnTo>
                        <a:pt x="10" y="173"/>
                      </a:lnTo>
                      <a:lnTo>
                        <a:pt x="6" y="151"/>
                      </a:lnTo>
                      <a:lnTo>
                        <a:pt x="6" y="132"/>
                      </a:lnTo>
                      <a:lnTo>
                        <a:pt x="4" y="120"/>
                      </a:lnTo>
                      <a:lnTo>
                        <a:pt x="4" y="109"/>
                      </a:lnTo>
                      <a:lnTo>
                        <a:pt x="2" y="97"/>
                      </a:lnTo>
                      <a:lnTo>
                        <a:pt x="2" y="87"/>
                      </a:lnTo>
                      <a:lnTo>
                        <a:pt x="0" y="68"/>
                      </a:lnTo>
                      <a:lnTo>
                        <a:pt x="0" y="51"/>
                      </a:lnTo>
                      <a:lnTo>
                        <a:pt x="0" y="33"/>
                      </a:lnTo>
                      <a:lnTo>
                        <a:pt x="0" y="19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45" y="6"/>
                      </a:lnTo>
                      <a:lnTo>
                        <a:pt x="60" y="10"/>
                      </a:lnTo>
                      <a:lnTo>
                        <a:pt x="80" y="19"/>
                      </a:lnTo>
                      <a:lnTo>
                        <a:pt x="89" y="23"/>
                      </a:lnTo>
                      <a:lnTo>
                        <a:pt x="99" y="29"/>
                      </a:lnTo>
                      <a:lnTo>
                        <a:pt x="111" y="35"/>
                      </a:lnTo>
                      <a:lnTo>
                        <a:pt x="122" y="43"/>
                      </a:lnTo>
                      <a:lnTo>
                        <a:pt x="132" y="49"/>
                      </a:lnTo>
                      <a:lnTo>
                        <a:pt x="144" y="54"/>
                      </a:lnTo>
                      <a:lnTo>
                        <a:pt x="153" y="62"/>
                      </a:lnTo>
                      <a:lnTo>
                        <a:pt x="165" y="72"/>
                      </a:lnTo>
                      <a:lnTo>
                        <a:pt x="184" y="89"/>
                      </a:lnTo>
                      <a:lnTo>
                        <a:pt x="206" y="111"/>
                      </a:lnTo>
                      <a:lnTo>
                        <a:pt x="214" y="120"/>
                      </a:lnTo>
                      <a:lnTo>
                        <a:pt x="223" y="132"/>
                      </a:lnTo>
                      <a:lnTo>
                        <a:pt x="231" y="144"/>
                      </a:lnTo>
                      <a:lnTo>
                        <a:pt x="241" y="157"/>
                      </a:lnTo>
                      <a:lnTo>
                        <a:pt x="246" y="169"/>
                      </a:lnTo>
                      <a:lnTo>
                        <a:pt x="254" y="184"/>
                      </a:lnTo>
                      <a:lnTo>
                        <a:pt x="260" y="198"/>
                      </a:lnTo>
                      <a:lnTo>
                        <a:pt x="266" y="215"/>
                      </a:lnTo>
                      <a:lnTo>
                        <a:pt x="262" y="211"/>
                      </a:lnTo>
                      <a:lnTo>
                        <a:pt x="258" y="208"/>
                      </a:lnTo>
                      <a:lnTo>
                        <a:pt x="250" y="198"/>
                      </a:lnTo>
                      <a:lnTo>
                        <a:pt x="241" y="188"/>
                      </a:lnTo>
                      <a:lnTo>
                        <a:pt x="227" y="175"/>
                      </a:lnTo>
                      <a:lnTo>
                        <a:pt x="214" y="161"/>
                      </a:lnTo>
                      <a:lnTo>
                        <a:pt x="198" y="146"/>
                      </a:lnTo>
                      <a:lnTo>
                        <a:pt x="182" y="132"/>
                      </a:lnTo>
                      <a:lnTo>
                        <a:pt x="165" y="116"/>
                      </a:lnTo>
                      <a:lnTo>
                        <a:pt x="150" y="103"/>
                      </a:lnTo>
                      <a:lnTo>
                        <a:pt x="132" y="89"/>
                      </a:lnTo>
                      <a:lnTo>
                        <a:pt x="117" y="78"/>
                      </a:lnTo>
                      <a:lnTo>
                        <a:pt x="101" y="66"/>
                      </a:lnTo>
                      <a:lnTo>
                        <a:pt x="89" y="62"/>
                      </a:lnTo>
                      <a:lnTo>
                        <a:pt x="78" y="58"/>
                      </a:lnTo>
                      <a:lnTo>
                        <a:pt x="70" y="60"/>
                      </a:lnTo>
                      <a:lnTo>
                        <a:pt x="60" y="62"/>
                      </a:lnTo>
                      <a:lnTo>
                        <a:pt x="56" y="68"/>
                      </a:lnTo>
                      <a:lnTo>
                        <a:pt x="53" y="78"/>
                      </a:lnTo>
                      <a:lnTo>
                        <a:pt x="53" y="89"/>
                      </a:lnTo>
                      <a:lnTo>
                        <a:pt x="51" y="101"/>
                      </a:lnTo>
                      <a:lnTo>
                        <a:pt x="53" y="114"/>
                      </a:lnTo>
                      <a:lnTo>
                        <a:pt x="54" y="128"/>
                      </a:lnTo>
                      <a:lnTo>
                        <a:pt x="58" y="146"/>
                      </a:lnTo>
                      <a:lnTo>
                        <a:pt x="60" y="159"/>
                      </a:lnTo>
                      <a:lnTo>
                        <a:pt x="62" y="175"/>
                      </a:lnTo>
                      <a:lnTo>
                        <a:pt x="64" y="188"/>
                      </a:lnTo>
                      <a:lnTo>
                        <a:pt x="68" y="204"/>
                      </a:lnTo>
                      <a:lnTo>
                        <a:pt x="68" y="215"/>
                      </a:lnTo>
                      <a:lnTo>
                        <a:pt x="70" y="227"/>
                      </a:lnTo>
                      <a:lnTo>
                        <a:pt x="68" y="237"/>
                      </a:lnTo>
                      <a:lnTo>
                        <a:pt x="68" y="244"/>
                      </a:lnTo>
                      <a:lnTo>
                        <a:pt x="58" y="252"/>
                      </a:lnTo>
                      <a:lnTo>
                        <a:pt x="53" y="256"/>
                      </a:lnTo>
                      <a:lnTo>
                        <a:pt x="43" y="256"/>
                      </a:lnTo>
                      <a:lnTo>
                        <a:pt x="37" y="256"/>
                      </a:lnTo>
                      <a:lnTo>
                        <a:pt x="23" y="248"/>
                      </a:lnTo>
                      <a:lnTo>
                        <a:pt x="20" y="2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412240" y="547920"/>
                  <a:ext cx="44640" cy="136800"/>
                </a:xfrm>
                <a:custGeom>
                  <a:avLst/>
                  <a:gdLst/>
                  <a:ahLst/>
                  <a:rect l="l" t="t" r="r" b="b"/>
                  <a:pathLst>
                    <a:path w="159" h="488">
                      <a:moveTo>
                        <a:pt x="151" y="87"/>
                      </a:moveTo>
                      <a:lnTo>
                        <a:pt x="146" y="79"/>
                      </a:lnTo>
                      <a:lnTo>
                        <a:pt x="134" y="66"/>
                      </a:lnTo>
                      <a:lnTo>
                        <a:pt x="124" y="56"/>
                      </a:lnTo>
                      <a:lnTo>
                        <a:pt x="116" y="46"/>
                      </a:lnTo>
                      <a:lnTo>
                        <a:pt x="107" y="36"/>
                      </a:lnTo>
                      <a:lnTo>
                        <a:pt x="97" y="29"/>
                      </a:lnTo>
                      <a:lnTo>
                        <a:pt x="85" y="17"/>
                      </a:lnTo>
                      <a:lnTo>
                        <a:pt x="74" y="11"/>
                      </a:lnTo>
                      <a:lnTo>
                        <a:pt x="62" y="3"/>
                      </a:lnTo>
                      <a:lnTo>
                        <a:pt x="54" y="2"/>
                      </a:lnTo>
                      <a:lnTo>
                        <a:pt x="43" y="0"/>
                      </a:lnTo>
                      <a:lnTo>
                        <a:pt x="37" y="2"/>
                      </a:lnTo>
                      <a:lnTo>
                        <a:pt x="29" y="7"/>
                      </a:lnTo>
                      <a:lnTo>
                        <a:pt x="25" y="19"/>
                      </a:lnTo>
                      <a:lnTo>
                        <a:pt x="19" y="31"/>
                      </a:lnTo>
                      <a:lnTo>
                        <a:pt x="14" y="50"/>
                      </a:lnTo>
                      <a:lnTo>
                        <a:pt x="10" y="60"/>
                      </a:lnTo>
                      <a:lnTo>
                        <a:pt x="8" y="71"/>
                      </a:lnTo>
                      <a:lnTo>
                        <a:pt x="6" y="83"/>
                      </a:lnTo>
                      <a:lnTo>
                        <a:pt x="6" y="97"/>
                      </a:lnTo>
                      <a:lnTo>
                        <a:pt x="2" y="108"/>
                      </a:lnTo>
                      <a:lnTo>
                        <a:pt x="0" y="124"/>
                      </a:lnTo>
                      <a:lnTo>
                        <a:pt x="0" y="137"/>
                      </a:lnTo>
                      <a:lnTo>
                        <a:pt x="0" y="153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2" y="203"/>
                      </a:lnTo>
                      <a:lnTo>
                        <a:pt x="6" y="221"/>
                      </a:lnTo>
                      <a:lnTo>
                        <a:pt x="6" y="236"/>
                      </a:lnTo>
                      <a:lnTo>
                        <a:pt x="10" y="254"/>
                      </a:lnTo>
                      <a:lnTo>
                        <a:pt x="12" y="271"/>
                      </a:lnTo>
                      <a:lnTo>
                        <a:pt x="18" y="289"/>
                      </a:lnTo>
                      <a:lnTo>
                        <a:pt x="21" y="306"/>
                      </a:lnTo>
                      <a:lnTo>
                        <a:pt x="27" y="323"/>
                      </a:lnTo>
                      <a:lnTo>
                        <a:pt x="33" y="341"/>
                      </a:lnTo>
                      <a:lnTo>
                        <a:pt x="43" y="360"/>
                      </a:lnTo>
                      <a:lnTo>
                        <a:pt x="51" y="376"/>
                      </a:lnTo>
                      <a:lnTo>
                        <a:pt x="60" y="393"/>
                      </a:lnTo>
                      <a:lnTo>
                        <a:pt x="72" y="409"/>
                      </a:lnTo>
                      <a:lnTo>
                        <a:pt x="83" y="426"/>
                      </a:lnTo>
                      <a:lnTo>
                        <a:pt x="95" y="442"/>
                      </a:lnTo>
                      <a:lnTo>
                        <a:pt x="111" y="457"/>
                      </a:lnTo>
                      <a:lnTo>
                        <a:pt x="126" y="473"/>
                      </a:lnTo>
                      <a:lnTo>
                        <a:pt x="144" y="488"/>
                      </a:lnTo>
                      <a:lnTo>
                        <a:pt x="140" y="484"/>
                      </a:lnTo>
                      <a:lnTo>
                        <a:pt x="136" y="479"/>
                      </a:lnTo>
                      <a:lnTo>
                        <a:pt x="128" y="469"/>
                      </a:lnTo>
                      <a:lnTo>
                        <a:pt x="122" y="459"/>
                      </a:lnTo>
                      <a:lnTo>
                        <a:pt x="113" y="442"/>
                      </a:lnTo>
                      <a:lnTo>
                        <a:pt x="103" y="424"/>
                      </a:lnTo>
                      <a:lnTo>
                        <a:pt x="97" y="413"/>
                      </a:lnTo>
                      <a:lnTo>
                        <a:pt x="93" y="403"/>
                      </a:lnTo>
                      <a:lnTo>
                        <a:pt x="87" y="391"/>
                      </a:lnTo>
                      <a:lnTo>
                        <a:pt x="83" y="382"/>
                      </a:lnTo>
                      <a:lnTo>
                        <a:pt x="78" y="368"/>
                      </a:lnTo>
                      <a:lnTo>
                        <a:pt x="72" y="354"/>
                      </a:lnTo>
                      <a:lnTo>
                        <a:pt x="66" y="341"/>
                      </a:lnTo>
                      <a:lnTo>
                        <a:pt x="62" y="327"/>
                      </a:lnTo>
                      <a:lnTo>
                        <a:pt x="56" y="312"/>
                      </a:lnTo>
                      <a:lnTo>
                        <a:pt x="54" y="296"/>
                      </a:lnTo>
                      <a:lnTo>
                        <a:pt x="51" y="281"/>
                      </a:lnTo>
                      <a:lnTo>
                        <a:pt x="49" y="265"/>
                      </a:lnTo>
                      <a:lnTo>
                        <a:pt x="45" y="248"/>
                      </a:lnTo>
                      <a:lnTo>
                        <a:pt x="43" y="230"/>
                      </a:lnTo>
                      <a:lnTo>
                        <a:pt x="43" y="213"/>
                      </a:lnTo>
                      <a:lnTo>
                        <a:pt x="45" y="197"/>
                      </a:lnTo>
                      <a:lnTo>
                        <a:pt x="45" y="178"/>
                      </a:lnTo>
                      <a:lnTo>
                        <a:pt x="45" y="161"/>
                      </a:lnTo>
                      <a:lnTo>
                        <a:pt x="47" y="143"/>
                      </a:lnTo>
                      <a:lnTo>
                        <a:pt x="52" y="126"/>
                      </a:lnTo>
                      <a:lnTo>
                        <a:pt x="52" y="114"/>
                      </a:lnTo>
                      <a:lnTo>
                        <a:pt x="56" y="104"/>
                      </a:lnTo>
                      <a:lnTo>
                        <a:pt x="56" y="97"/>
                      </a:lnTo>
                      <a:lnTo>
                        <a:pt x="60" y="91"/>
                      </a:lnTo>
                      <a:lnTo>
                        <a:pt x="64" y="83"/>
                      </a:lnTo>
                      <a:lnTo>
                        <a:pt x="70" y="81"/>
                      </a:lnTo>
                      <a:lnTo>
                        <a:pt x="82" y="85"/>
                      </a:lnTo>
                      <a:lnTo>
                        <a:pt x="93" y="100"/>
                      </a:lnTo>
                      <a:lnTo>
                        <a:pt x="99" y="108"/>
                      </a:lnTo>
                      <a:lnTo>
                        <a:pt x="105" y="120"/>
                      </a:lnTo>
                      <a:lnTo>
                        <a:pt x="111" y="131"/>
                      </a:lnTo>
                      <a:lnTo>
                        <a:pt x="116" y="143"/>
                      </a:lnTo>
                      <a:lnTo>
                        <a:pt x="122" y="153"/>
                      </a:lnTo>
                      <a:lnTo>
                        <a:pt x="130" y="162"/>
                      </a:lnTo>
                      <a:lnTo>
                        <a:pt x="136" y="168"/>
                      </a:lnTo>
                      <a:lnTo>
                        <a:pt x="144" y="174"/>
                      </a:lnTo>
                      <a:lnTo>
                        <a:pt x="151" y="170"/>
                      </a:lnTo>
                      <a:lnTo>
                        <a:pt x="157" y="162"/>
                      </a:lnTo>
                      <a:lnTo>
                        <a:pt x="157" y="147"/>
                      </a:lnTo>
                      <a:lnTo>
                        <a:pt x="159" y="133"/>
                      </a:lnTo>
                      <a:lnTo>
                        <a:pt x="155" y="116"/>
                      </a:lnTo>
                      <a:lnTo>
                        <a:pt x="153" y="100"/>
                      </a:lnTo>
                      <a:lnTo>
                        <a:pt x="151" y="91"/>
                      </a:lnTo>
                      <a:lnTo>
                        <a:pt x="151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534640" y="683640"/>
                  <a:ext cx="57960" cy="62640"/>
                </a:xfrm>
                <a:custGeom>
                  <a:avLst/>
                  <a:gdLst/>
                  <a:ahLst/>
                  <a:rect l="l" t="t" r="r" b="b"/>
                  <a:pathLst>
                    <a:path w="208" h="22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6" y="18"/>
                      </a:lnTo>
                      <a:lnTo>
                        <a:pt x="6" y="26"/>
                      </a:lnTo>
                      <a:lnTo>
                        <a:pt x="10" y="37"/>
                      </a:lnTo>
                      <a:lnTo>
                        <a:pt x="14" y="51"/>
                      </a:lnTo>
                      <a:lnTo>
                        <a:pt x="18" y="64"/>
                      </a:lnTo>
                      <a:lnTo>
                        <a:pt x="18" y="76"/>
                      </a:lnTo>
                      <a:lnTo>
                        <a:pt x="20" y="92"/>
                      </a:lnTo>
                      <a:lnTo>
                        <a:pt x="22" y="105"/>
                      </a:lnTo>
                      <a:lnTo>
                        <a:pt x="24" y="121"/>
                      </a:lnTo>
                      <a:lnTo>
                        <a:pt x="22" y="134"/>
                      </a:lnTo>
                      <a:lnTo>
                        <a:pt x="22" y="148"/>
                      </a:lnTo>
                      <a:lnTo>
                        <a:pt x="20" y="159"/>
                      </a:lnTo>
                      <a:lnTo>
                        <a:pt x="18" y="171"/>
                      </a:lnTo>
                      <a:lnTo>
                        <a:pt x="10" y="187"/>
                      </a:lnTo>
                      <a:lnTo>
                        <a:pt x="6" y="200"/>
                      </a:lnTo>
                      <a:lnTo>
                        <a:pt x="4" y="212"/>
                      </a:lnTo>
                      <a:lnTo>
                        <a:pt x="6" y="220"/>
                      </a:lnTo>
                      <a:lnTo>
                        <a:pt x="10" y="223"/>
                      </a:lnTo>
                      <a:lnTo>
                        <a:pt x="20" y="225"/>
                      </a:lnTo>
                      <a:lnTo>
                        <a:pt x="31" y="223"/>
                      </a:lnTo>
                      <a:lnTo>
                        <a:pt x="49" y="221"/>
                      </a:lnTo>
                      <a:lnTo>
                        <a:pt x="55" y="216"/>
                      </a:lnTo>
                      <a:lnTo>
                        <a:pt x="66" y="212"/>
                      </a:lnTo>
                      <a:lnTo>
                        <a:pt x="78" y="206"/>
                      </a:lnTo>
                      <a:lnTo>
                        <a:pt x="90" y="200"/>
                      </a:lnTo>
                      <a:lnTo>
                        <a:pt x="101" y="192"/>
                      </a:lnTo>
                      <a:lnTo>
                        <a:pt x="113" y="185"/>
                      </a:lnTo>
                      <a:lnTo>
                        <a:pt x="126" y="175"/>
                      </a:lnTo>
                      <a:lnTo>
                        <a:pt x="140" y="167"/>
                      </a:lnTo>
                      <a:lnTo>
                        <a:pt x="152" y="156"/>
                      </a:lnTo>
                      <a:lnTo>
                        <a:pt x="163" y="144"/>
                      </a:lnTo>
                      <a:lnTo>
                        <a:pt x="173" y="132"/>
                      </a:lnTo>
                      <a:lnTo>
                        <a:pt x="185" y="123"/>
                      </a:lnTo>
                      <a:lnTo>
                        <a:pt x="190" y="109"/>
                      </a:lnTo>
                      <a:lnTo>
                        <a:pt x="198" y="97"/>
                      </a:lnTo>
                      <a:lnTo>
                        <a:pt x="204" y="84"/>
                      </a:lnTo>
                      <a:lnTo>
                        <a:pt x="208" y="72"/>
                      </a:lnTo>
                      <a:lnTo>
                        <a:pt x="202" y="76"/>
                      </a:lnTo>
                      <a:lnTo>
                        <a:pt x="189" y="88"/>
                      </a:lnTo>
                      <a:lnTo>
                        <a:pt x="179" y="93"/>
                      </a:lnTo>
                      <a:lnTo>
                        <a:pt x="169" y="103"/>
                      </a:lnTo>
                      <a:lnTo>
                        <a:pt x="157" y="113"/>
                      </a:lnTo>
                      <a:lnTo>
                        <a:pt x="148" y="124"/>
                      </a:lnTo>
                      <a:lnTo>
                        <a:pt x="136" y="132"/>
                      </a:lnTo>
                      <a:lnTo>
                        <a:pt x="125" y="142"/>
                      </a:lnTo>
                      <a:lnTo>
                        <a:pt x="113" y="150"/>
                      </a:lnTo>
                      <a:lnTo>
                        <a:pt x="103" y="159"/>
                      </a:lnTo>
                      <a:lnTo>
                        <a:pt x="84" y="169"/>
                      </a:lnTo>
                      <a:lnTo>
                        <a:pt x="72" y="173"/>
                      </a:lnTo>
                      <a:lnTo>
                        <a:pt x="62" y="163"/>
                      </a:lnTo>
                      <a:lnTo>
                        <a:pt x="61" y="148"/>
                      </a:lnTo>
                      <a:lnTo>
                        <a:pt x="59" y="136"/>
                      </a:lnTo>
                      <a:lnTo>
                        <a:pt x="59" y="126"/>
                      </a:lnTo>
                      <a:lnTo>
                        <a:pt x="57" y="113"/>
                      </a:lnTo>
                      <a:lnTo>
                        <a:pt x="57" y="101"/>
                      </a:lnTo>
                      <a:lnTo>
                        <a:pt x="53" y="86"/>
                      </a:lnTo>
                      <a:lnTo>
                        <a:pt x="51" y="74"/>
                      </a:lnTo>
                      <a:lnTo>
                        <a:pt x="45" y="59"/>
                      </a:lnTo>
                      <a:lnTo>
                        <a:pt x="41" y="47"/>
                      </a:lnTo>
                      <a:lnTo>
                        <a:pt x="33" y="33"/>
                      </a:lnTo>
                      <a:lnTo>
                        <a:pt x="24" y="20"/>
                      </a:lnTo>
                      <a:lnTo>
                        <a:pt x="1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224320" y="549000"/>
                  <a:ext cx="165960" cy="43560"/>
                </a:xfrm>
                <a:custGeom>
                  <a:avLst/>
                  <a:gdLst/>
                  <a:ahLst/>
                  <a:rect l="l" t="t" r="r" b="b"/>
                  <a:pathLst>
                    <a:path w="596" h="156">
                      <a:moveTo>
                        <a:pt x="596" y="0"/>
                      </a:moveTo>
                      <a:lnTo>
                        <a:pt x="594" y="2"/>
                      </a:lnTo>
                      <a:lnTo>
                        <a:pt x="590" y="12"/>
                      </a:lnTo>
                      <a:lnTo>
                        <a:pt x="584" y="26"/>
                      </a:lnTo>
                      <a:lnTo>
                        <a:pt x="580" y="45"/>
                      </a:lnTo>
                      <a:lnTo>
                        <a:pt x="576" y="55"/>
                      </a:lnTo>
                      <a:lnTo>
                        <a:pt x="574" y="66"/>
                      </a:lnTo>
                      <a:lnTo>
                        <a:pt x="570" y="78"/>
                      </a:lnTo>
                      <a:lnTo>
                        <a:pt x="568" y="90"/>
                      </a:lnTo>
                      <a:lnTo>
                        <a:pt x="566" y="101"/>
                      </a:lnTo>
                      <a:lnTo>
                        <a:pt x="564" y="113"/>
                      </a:lnTo>
                      <a:lnTo>
                        <a:pt x="564" y="125"/>
                      </a:lnTo>
                      <a:lnTo>
                        <a:pt x="564" y="138"/>
                      </a:lnTo>
                      <a:lnTo>
                        <a:pt x="557" y="138"/>
                      </a:lnTo>
                      <a:lnTo>
                        <a:pt x="541" y="138"/>
                      </a:lnTo>
                      <a:lnTo>
                        <a:pt x="528" y="138"/>
                      </a:lnTo>
                      <a:lnTo>
                        <a:pt x="514" y="138"/>
                      </a:lnTo>
                      <a:lnTo>
                        <a:pt x="497" y="138"/>
                      </a:lnTo>
                      <a:lnTo>
                        <a:pt x="481" y="140"/>
                      </a:lnTo>
                      <a:lnTo>
                        <a:pt x="460" y="140"/>
                      </a:lnTo>
                      <a:lnTo>
                        <a:pt x="440" y="142"/>
                      </a:lnTo>
                      <a:lnTo>
                        <a:pt x="429" y="142"/>
                      </a:lnTo>
                      <a:lnTo>
                        <a:pt x="417" y="142"/>
                      </a:lnTo>
                      <a:lnTo>
                        <a:pt x="405" y="142"/>
                      </a:lnTo>
                      <a:lnTo>
                        <a:pt x="394" y="144"/>
                      </a:lnTo>
                      <a:lnTo>
                        <a:pt x="380" y="144"/>
                      </a:lnTo>
                      <a:lnTo>
                        <a:pt x="369" y="144"/>
                      </a:lnTo>
                      <a:lnTo>
                        <a:pt x="357" y="144"/>
                      </a:lnTo>
                      <a:lnTo>
                        <a:pt x="345" y="146"/>
                      </a:lnTo>
                      <a:lnTo>
                        <a:pt x="332" y="146"/>
                      </a:lnTo>
                      <a:lnTo>
                        <a:pt x="320" y="148"/>
                      </a:lnTo>
                      <a:lnTo>
                        <a:pt x="308" y="148"/>
                      </a:lnTo>
                      <a:lnTo>
                        <a:pt x="297" y="150"/>
                      </a:lnTo>
                      <a:lnTo>
                        <a:pt x="283" y="150"/>
                      </a:lnTo>
                      <a:lnTo>
                        <a:pt x="270" y="150"/>
                      </a:lnTo>
                      <a:lnTo>
                        <a:pt x="256" y="150"/>
                      </a:lnTo>
                      <a:lnTo>
                        <a:pt x="244" y="150"/>
                      </a:lnTo>
                      <a:lnTo>
                        <a:pt x="231" y="150"/>
                      </a:lnTo>
                      <a:lnTo>
                        <a:pt x="219" y="150"/>
                      </a:lnTo>
                      <a:lnTo>
                        <a:pt x="208" y="150"/>
                      </a:lnTo>
                      <a:lnTo>
                        <a:pt x="196" y="152"/>
                      </a:lnTo>
                      <a:lnTo>
                        <a:pt x="184" y="152"/>
                      </a:lnTo>
                      <a:lnTo>
                        <a:pt x="173" y="152"/>
                      </a:lnTo>
                      <a:lnTo>
                        <a:pt x="161" y="152"/>
                      </a:lnTo>
                      <a:lnTo>
                        <a:pt x="149" y="154"/>
                      </a:lnTo>
                      <a:lnTo>
                        <a:pt x="138" y="154"/>
                      </a:lnTo>
                      <a:lnTo>
                        <a:pt x="126" y="154"/>
                      </a:lnTo>
                      <a:lnTo>
                        <a:pt x="116" y="154"/>
                      </a:lnTo>
                      <a:lnTo>
                        <a:pt x="109" y="156"/>
                      </a:lnTo>
                      <a:lnTo>
                        <a:pt x="87" y="156"/>
                      </a:lnTo>
                      <a:lnTo>
                        <a:pt x="72" y="156"/>
                      </a:lnTo>
                      <a:lnTo>
                        <a:pt x="54" y="156"/>
                      </a:lnTo>
                      <a:lnTo>
                        <a:pt x="43" y="156"/>
                      </a:lnTo>
                      <a:lnTo>
                        <a:pt x="31" y="156"/>
                      </a:lnTo>
                      <a:lnTo>
                        <a:pt x="21" y="156"/>
                      </a:lnTo>
                      <a:lnTo>
                        <a:pt x="16" y="156"/>
                      </a:lnTo>
                      <a:lnTo>
                        <a:pt x="14" y="156"/>
                      </a:lnTo>
                      <a:lnTo>
                        <a:pt x="4" y="148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6" y="115"/>
                      </a:lnTo>
                      <a:lnTo>
                        <a:pt x="8" y="107"/>
                      </a:lnTo>
                      <a:lnTo>
                        <a:pt x="16" y="99"/>
                      </a:lnTo>
                      <a:lnTo>
                        <a:pt x="23" y="94"/>
                      </a:lnTo>
                      <a:lnTo>
                        <a:pt x="35" y="88"/>
                      </a:lnTo>
                      <a:lnTo>
                        <a:pt x="45" y="82"/>
                      </a:lnTo>
                      <a:lnTo>
                        <a:pt x="60" y="76"/>
                      </a:lnTo>
                      <a:lnTo>
                        <a:pt x="68" y="72"/>
                      </a:lnTo>
                      <a:lnTo>
                        <a:pt x="78" y="70"/>
                      </a:lnTo>
                      <a:lnTo>
                        <a:pt x="87" y="68"/>
                      </a:lnTo>
                      <a:lnTo>
                        <a:pt x="99" y="68"/>
                      </a:lnTo>
                      <a:lnTo>
                        <a:pt x="109" y="64"/>
                      </a:lnTo>
                      <a:lnTo>
                        <a:pt x="122" y="63"/>
                      </a:lnTo>
                      <a:lnTo>
                        <a:pt x="134" y="59"/>
                      </a:lnTo>
                      <a:lnTo>
                        <a:pt x="151" y="57"/>
                      </a:lnTo>
                      <a:lnTo>
                        <a:pt x="167" y="53"/>
                      </a:lnTo>
                      <a:lnTo>
                        <a:pt x="184" y="51"/>
                      </a:lnTo>
                      <a:lnTo>
                        <a:pt x="202" y="49"/>
                      </a:lnTo>
                      <a:lnTo>
                        <a:pt x="223" y="47"/>
                      </a:lnTo>
                      <a:lnTo>
                        <a:pt x="241" y="43"/>
                      </a:lnTo>
                      <a:lnTo>
                        <a:pt x="262" y="41"/>
                      </a:lnTo>
                      <a:lnTo>
                        <a:pt x="272" y="39"/>
                      </a:lnTo>
                      <a:lnTo>
                        <a:pt x="281" y="37"/>
                      </a:lnTo>
                      <a:lnTo>
                        <a:pt x="293" y="35"/>
                      </a:lnTo>
                      <a:lnTo>
                        <a:pt x="305" y="35"/>
                      </a:lnTo>
                      <a:lnTo>
                        <a:pt x="324" y="31"/>
                      </a:lnTo>
                      <a:lnTo>
                        <a:pt x="345" y="30"/>
                      </a:lnTo>
                      <a:lnTo>
                        <a:pt x="355" y="28"/>
                      </a:lnTo>
                      <a:lnTo>
                        <a:pt x="367" y="26"/>
                      </a:lnTo>
                      <a:lnTo>
                        <a:pt x="376" y="26"/>
                      </a:lnTo>
                      <a:lnTo>
                        <a:pt x="388" y="26"/>
                      </a:lnTo>
                      <a:lnTo>
                        <a:pt x="407" y="22"/>
                      </a:lnTo>
                      <a:lnTo>
                        <a:pt x="427" y="20"/>
                      </a:lnTo>
                      <a:lnTo>
                        <a:pt x="446" y="16"/>
                      </a:lnTo>
                      <a:lnTo>
                        <a:pt x="466" y="14"/>
                      </a:lnTo>
                      <a:lnTo>
                        <a:pt x="483" y="10"/>
                      </a:lnTo>
                      <a:lnTo>
                        <a:pt x="500" y="8"/>
                      </a:lnTo>
                      <a:lnTo>
                        <a:pt x="516" y="6"/>
                      </a:lnTo>
                      <a:lnTo>
                        <a:pt x="532" y="6"/>
                      </a:lnTo>
                      <a:lnTo>
                        <a:pt x="543" y="4"/>
                      </a:lnTo>
                      <a:lnTo>
                        <a:pt x="557" y="2"/>
                      </a:lnTo>
                      <a:lnTo>
                        <a:pt x="566" y="0"/>
                      </a:lnTo>
                      <a:lnTo>
                        <a:pt x="578" y="0"/>
                      </a:lnTo>
                      <a:lnTo>
                        <a:pt x="590" y="0"/>
                      </a:lnTo>
                      <a:lnTo>
                        <a:pt x="596" y="0"/>
                      </a:lnTo>
                      <a:close/>
                    </a:path>
                  </a:pathLst>
                </a:custGeom>
                <a:solidFill>
                  <a:srgbClr val="ea7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205960" y="334080"/>
                  <a:ext cx="267840" cy="36360"/>
                </a:xfrm>
                <a:custGeom>
                  <a:avLst/>
                  <a:gdLst/>
                  <a:ahLst/>
                  <a:rect l="l" t="t" r="r" b="b"/>
                  <a:pathLst>
                    <a:path w="958" h="129">
                      <a:moveTo>
                        <a:pt x="958" y="54"/>
                      </a:moveTo>
                      <a:lnTo>
                        <a:pt x="954" y="46"/>
                      </a:lnTo>
                      <a:lnTo>
                        <a:pt x="945" y="31"/>
                      </a:lnTo>
                      <a:lnTo>
                        <a:pt x="931" y="13"/>
                      </a:lnTo>
                      <a:lnTo>
                        <a:pt x="918" y="1"/>
                      </a:lnTo>
                      <a:lnTo>
                        <a:pt x="912" y="0"/>
                      </a:lnTo>
                      <a:lnTo>
                        <a:pt x="902" y="0"/>
                      </a:lnTo>
                      <a:lnTo>
                        <a:pt x="888" y="0"/>
                      </a:lnTo>
                      <a:lnTo>
                        <a:pt x="871" y="0"/>
                      </a:lnTo>
                      <a:lnTo>
                        <a:pt x="859" y="0"/>
                      </a:lnTo>
                      <a:lnTo>
                        <a:pt x="848" y="0"/>
                      </a:lnTo>
                      <a:lnTo>
                        <a:pt x="836" y="1"/>
                      </a:lnTo>
                      <a:lnTo>
                        <a:pt x="824" y="3"/>
                      </a:lnTo>
                      <a:lnTo>
                        <a:pt x="809" y="3"/>
                      </a:lnTo>
                      <a:lnTo>
                        <a:pt x="795" y="5"/>
                      </a:lnTo>
                      <a:lnTo>
                        <a:pt x="780" y="7"/>
                      </a:lnTo>
                      <a:lnTo>
                        <a:pt x="766" y="9"/>
                      </a:lnTo>
                      <a:lnTo>
                        <a:pt x="749" y="9"/>
                      </a:lnTo>
                      <a:lnTo>
                        <a:pt x="731" y="11"/>
                      </a:lnTo>
                      <a:lnTo>
                        <a:pt x="714" y="13"/>
                      </a:lnTo>
                      <a:lnTo>
                        <a:pt x="696" y="15"/>
                      </a:lnTo>
                      <a:lnTo>
                        <a:pt x="677" y="15"/>
                      </a:lnTo>
                      <a:lnTo>
                        <a:pt x="658" y="17"/>
                      </a:lnTo>
                      <a:lnTo>
                        <a:pt x="638" y="19"/>
                      </a:lnTo>
                      <a:lnTo>
                        <a:pt x="621" y="21"/>
                      </a:lnTo>
                      <a:lnTo>
                        <a:pt x="599" y="21"/>
                      </a:lnTo>
                      <a:lnTo>
                        <a:pt x="580" y="25"/>
                      </a:lnTo>
                      <a:lnTo>
                        <a:pt x="559" y="25"/>
                      </a:lnTo>
                      <a:lnTo>
                        <a:pt x="539" y="29"/>
                      </a:lnTo>
                      <a:lnTo>
                        <a:pt x="518" y="31"/>
                      </a:lnTo>
                      <a:lnTo>
                        <a:pt x="499" y="32"/>
                      </a:lnTo>
                      <a:lnTo>
                        <a:pt x="477" y="34"/>
                      </a:lnTo>
                      <a:lnTo>
                        <a:pt x="458" y="38"/>
                      </a:lnTo>
                      <a:lnTo>
                        <a:pt x="435" y="38"/>
                      </a:lnTo>
                      <a:lnTo>
                        <a:pt x="415" y="42"/>
                      </a:lnTo>
                      <a:lnTo>
                        <a:pt x="392" y="42"/>
                      </a:lnTo>
                      <a:lnTo>
                        <a:pt x="373" y="46"/>
                      </a:lnTo>
                      <a:lnTo>
                        <a:pt x="351" y="46"/>
                      </a:lnTo>
                      <a:lnTo>
                        <a:pt x="332" y="50"/>
                      </a:lnTo>
                      <a:lnTo>
                        <a:pt x="310" y="50"/>
                      </a:lnTo>
                      <a:lnTo>
                        <a:pt x="293" y="54"/>
                      </a:lnTo>
                      <a:lnTo>
                        <a:pt x="272" y="54"/>
                      </a:lnTo>
                      <a:lnTo>
                        <a:pt x="252" y="58"/>
                      </a:lnTo>
                      <a:lnTo>
                        <a:pt x="235" y="58"/>
                      </a:lnTo>
                      <a:lnTo>
                        <a:pt x="217" y="62"/>
                      </a:lnTo>
                      <a:lnTo>
                        <a:pt x="198" y="62"/>
                      </a:lnTo>
                      <a:lnTo>
                        <a:pt x="181" y="65"/>
                      </a:lnTo>
                      <a:lnTo>
                        <a:pt x="165" y="65"/>
                      </a:lnTo>
                      <a:lnTo>
                        <a:pt x="150" y="69"/>
                      </a:lnTo>
                      <a:lnTo>
                        <a:pt x="132" y="69"/>
                      </a:lnTo>
                      <a:lnTo>
                        <a:pt x="117" y="71"/>
                      </a:lnTo>
                      <a:lnTo>
                        <a:pt x="101" y="71"/>
                      </a:lnTo>
                      <a:lnTo>
                        <a:pt x="89" y="73"/>
                      </a:lnTo>
                      <a:lnTo>
                        <a:pt x="76" y="73"/>
                      </a:lnTo>
                      <a:lnTo>
                        <a:pt x="64" y="75"/>
                      </a:lnTo>
                      <a:lnTo>
                        <a:pt x="53" y="77"/>
                      </a:lnTo>
                      <a:lnTo>
                        <a:pt x="45" y="79"/>
                      </a:lnTo>
                      <a:lnTo>
                        <a:pt x="27" y="81"/>
                      </a:lnTo>
                      <a:lnTo>
                        <a:pt x="16" y="83"/>
                      </a:lnTo>
                      <a:lnTo>
                        <a:pt x="6" y="83"/>
                      </a:lnTo>
                      <a:lnTo>
                        <a:pt x="4" y="85"/>
                      </a:lnTo>
                      <a:lnTo>
                        <a:pt x="0" y="89"/>
                      </a:lnTo>
                      <a:lnTo>
                        <a:pt x="14" y="102"/>
                      </a:lnTo>
                      <a:lnTo>
                        <a:pt x="22" y="108"/>
                      </a:lnTo>
                      <a:lnTo>
                        <a:pt x="31" y="116"/>
                      </a:lnTo>
                      <a:lnTo>
                        <a:pt x="41" y="122"/>
                      </a:lnTo>
                      <a:lnTo>
                        <a:pt x="51" y="129"/>
                      </a:lnTo>
                      <a:lnTo>
                        <a:pt x="53" y="127"/>
                      </a:lnTo>
                      <a:lnTo>
                        <a:pt x="62" y="127"/>
                      </a:lnTo>
                      <a:lnTo>
                        <a:pt x="74" y="127"/>
                      </a:lnTo>
                      <a:lnTo>
                        <a:pt x="93" y="127"/>
                      </a:lnTo>
                      <a:lnTo>
                        <a:pt x="103" y="126"/>
                      </a:lnTo>
                      <a:lnTo>
                        <a:pt x="115" y="126"/>
                      </a:lnTo>
                      <a:lnTo>
                        <a:pt x="126" y="124"/>
                      </a:lnTo>
                      <a:lnTo>
                        <a:pt x="140" y="124"/>
                      </a:lnTo>
                      <a:lnTo>
                        <a:pt x="151" y="122"/>
                      </a:lnTo>
                      <a:lnTo>
                        <a:pt x="167" y="122"/>
                      </a:lnTo>
                      <a:lnTo>
                        <a:pt x="182" y="120"/>
                      </a:lnTo>
                      <a:lnTo>
                        <a:pt x="200" y="120"/>
                      </a:lnTo>
                      <a:lnTo>
                        <a:pt x="215" y="118"/>
                      </a:lnTo>
                      <a:lnTo>
                        <a:pt x="231" y="116"/>
                      </a:lnTo>
                      <a:lnTo>
                        <a:pt x="248" y="114"/>
                      </a:lnTo>
                      <a:lnTo>
                        <a:pt x="268" y="114"/>
                      </a:lnTo>
                      <a:lnTo>
                        <a:pt x="285" y="112"/>
                      </a:lnTo>
                      <a:lnTo>
                        <a:pt x="303" y="110"/>
                      </a:lnTo>
                      <a:lnTo>
                        <a:pt x="322" y="108"/>
                      </a:lnTo>
                      <a:lnTo>
                        <a:pt x="343" y="108"/>
                      </a:lnTo>
                      <a:lnTo>
                        <a:pt x="363" y="104"/>
                      </a:lnTo>
                      <a:lnTo>
                        <a:pt x="384" y="104"/>
                      </a:lnTo>
                      <a:lnTo>
                        <a:pt x="404" y="100"/>
                      </a:lnTo>
                      <a:lnTo>
                        <a:pt x="425" y="100"/>
                      </a:lnTo>
                      <a:lnTo>
                        <a:pt x="444" y="98"/>
                      </a:lnTo>
                      <a:lnTo>
                        <a:pt x="468" y="96"/>
                      </a:lnTo>
                      <a:lnTo>
                        <a:pt x="487" y="95"/>
                      </a:lnTo>
                      <a:lnTo>
                        <a:pt x="510" y="95"/>
                      </a:lnTo>
                      <a:lnTo>
                        <a:pt x="530" y="91"/>
                      </a:lnTo>
                      <a:lnTo>
                        <a:pt x="551" y="89"/>
                      </a:lnTo>
                      <a:lnTo>
                        <a:pt x="570" y="87"/>
                      </a:lnTo>
                      <a:lnTo>
                        <a:pt x="592" y="85"/>
                      </a:lnTo>
                      <a:lnTo>
                        <a:pt x="611" y="81"/>
                      </a:lnTo>
                      <a:lnTo>
                        <a:pt x="632" y="81"/>
                      </a:lnTo>
                      <a:lnTo>
                        <a:pt x="652" y="77"/>
                      </a:lnTo>
                      <a:lnTo>
                        <a:pt x="673" y="77"/>
                      </a:lnTo>
                      <a:lnTo>
                        <a:pt x="691" y="75"/>
                      </a:lnTo>
                      <a:lnTo>
                        <a:pt x="710" y="73"/>
                      </a:lnTo>
                      <a:lnTo>
                        <a:pt x="729" y="71"/>
                      </a:lnTo>
                      <a:lnTo>
                        <a:pt x="749" y="71"/>
                      </a:lnTo>
                      <a:lnTo>
                        <a:pt x="766" y="69"/>
                      </a:lnTo>
                      <a:lnTo>
                        <a:pt x="784" y="67"/>
                      </a:lnTo>
                      <a:lnTo>
                        <a:pt x="801" y="65"/>
                      </a:lnTo>
                      <a:lnTo>
                        <a:pt x="819" y="65"/>
                      </a:lnTo>
                      <a:lnTo>
                        <a:pt x="832" y="63"/>
                      </a:lnTo>
                      <a:lnTo>
                        <a:pt x="846" y="62"/>
                      </a:lnTo>
                      <a:lnTo>
                        <a:pt x="859" y="60"/>
                      </a:lnTo>
                      <a:lnTo>
                        <a:pt x="875" y="60"/>
                      </a:lnTo>
                      <a:lnTo>
                        <a:pt x="885" y="58"/>
                      </a:lnTo>
                      <a:lnTo>
                        <a:pt x="896" y="56"/>
                      </a:lnTo>
                      <a:lnTo>
                        <a:pt x="908" y="56"/>
                      </a:lnTo>
                      <a:lnTo>
                        <a:pt x="919" y="56"/>
                      </a:lnTo>
                      <a:lnTo>
                        <a:pt x="935" y="54"/>
                      </a:lnTo>
                      <a:lnTo>
                        <a:pt x="947" y="54"/>
                      </a:lnTo>
                      <a:lnTo>
                        <a:pt x="954" y="54"/>
                      </a:lnTo>
                      <a:lnTo>
                        <a:pt x="958" y="54"/>
                      </a:lnTo>
                      <a:close/>
                    </a:path>
                  </a:pathLst>
                </a:custGeom>
                <a:solidFill>
                  <a:srgbClr val="e3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87800" y="-90000"/>
                  <a:ext cx="68040" cy="322920"/>
                </a:xfrm>
                <a:custGeom>
                  <a:avLst/>
                  <a:gdLst/>
                  <a:ahLst/>
                  <a:rect l="l" t="t" r="r" b="b"/>
                  <a:pathLst>
                    <a:path w="244" h="1156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1" y="16"/>
                      </a:lnTo>
                      <a:lnTo>
                        <a:pt x="5" y="29"/>
                      </a:lnTo>
                      <a:lnTo>
                        <a:pt x="11" y="49"/>
                      </a:lnTo>
                      <a:lnTo>
                        <a:pt x="13" y="58"/>
                      </a:lnTo>
                      <a:lnTo>
                        <a:pt x="17" y="70"/>
                      </a:lnTo>
                      <a:lnTo>
                        <a:pt x="19" y="83"/>
                      </a:lnTo>
                      <a:lnTo>
                        <a:pt x="23" y="99"/>
                      </a:lnTo>
                      <a:lnTo>
                        <a:pt x="25" y="114"/>
                      </a:lnTo>
                      <a:lnTo>
                        <a:pt x="31" y="130"/>
                      </a:lnTo>
                      <a:lnTo>
                        <a:pt x="33" y="147"/>
                      </a:lnTo>
                      <a:lnTo>
                        <a:pt x="38" y="167"/>
                      </a:lnTo>
                      <a:lnTo>
                        <a:pt x="40" y="184"/>
                      </a:lnTo>
                      <a:lnTo>
                        <a:pt x="44" y="204"/>
                      </a:lnTo>
                      <a:lnTo>
                        <a:pt x="48" y="223"/>
                      </a:lnTo>
                      <a:lnTo>
                        <a:pt x="54" y="244"/>
                      </a:lnTo>
                      <a:lnTo>
                        <a:pt x="56" y="264"/>
                      </a:lnTo>
                      <a:lnTo>
                        <a:pt x="60" y="285"/>
                      </a:lnTo>
                      <a:lnTo>
                        <a:pt x="62" y="297"/>
                      </a:lnTo>
                      <a:lnTo>
                        <a:pt x="64" y="308"/>
                      </a:lnTo>
                      <a:lnTo>
                        <a:pt x="65" y="320"/>
                      </a:lnTo>
                      <a:lnTo>
                        <a:pt x="69" y="332"/>
                      </a:lnTo>
                      <a:lnTo>
                        <a:pt x="69" y="341"/>
                      </a:lnTo>
                      <a:lnTo>
                        <a:pt x="71" y="353"/>
                      </a:lnTo>
                      <a:lnTo>
                        <a:pt x="71" y="365"/>
                      </a:lnTo>
                      <a:lnTo>
                        <a:pt x="73" y="376"/>
                      </a:lnTo>
                      <a:lnTo>
                        <a:pt x="73" y="388"/>
                      </a:lnTo>
                      <a:lnTo>
                        <a:pt x="75" y="400"/>
                      </a:lnTo>
                      <a:lnTo>
                        <a:pt x="77" y="411"/>
                      </a:lnTo>
                      <a:lnTo>
                        <a:pt x="79" y="423"/>
                      </a:lnTo>
                      <a:lnTo>
                        <a:pt x="79" y="434"/>
                      </a:lnTo>
                      <a:lnTo>
                        <a:pt x="81" y="446"/>
                      </a:lnTo>
                      <a:lnTo>
                        <a:pt x="81" y="458"/>
                      </a:lnTo>
                      <a:lnTo>
                        <a:pt x="83" y="471"/>
                      </a:lnTo>
                      <a:lnTo>
                        <a:pt x="83" y="483"/>
                      </a:lnTo>
                      <a:lnTo>
                        <a:pt x="85" y="495"/>
                      </a:lnTo>
                      <a:lnTo>
                        <a:pt x="87" y="506"/>
                      </a:lnTo>
                      <a:lnTo>
                        <a:pt x="89" y="520"/>
                      </a:lnTo>
                      <a:lnTo>
                        <a:pt x="89" y="531"/>
                      </a:lnTo>
                      <a:lnTo>
                        <a:pt x="89" y="543"/>
                      </a:lnTo>
                      <a:lnTo>
                        <a:pt x="89" y="555"/>
                      </a:lnTo>
                      <a:lnTo>
                        <a:pt x="89" y="566"/>
                      </a:lnTo>
                      <a:lnTo>
                        <a:pt x="89" y="578"/>
                      </a:lnTo>
                      <a:lnTo>
                        <a:pt x="89" y="592"/>
                      </a:lnTo>
                      <a:lnTo>
                        <a:pt x="89" y="603"/>
                      </a:lnTo>
                      <a:lnTo>
                        <a:pt x="91" y="617"/>
                      </a:lnTo>
                      <a:lnTo>
                        <a:pt x="91" y="628"/>
                      </a:lnTo>
                      <a:lnTo>
                        <a:pt x="91" y="642"/>
                      </a:lnTo>
                      <a:lnTo>
                        <a:pt x="91" y="656"/>
                      </a:lnTo>
                      <a:lnTo>
                        <a:pt x="93" y="669"/>
                      </a:lnTo>
                      <a:lnTo>
                        <a:pt x="93" y="681"/>
                      </a:lnTo>
                      <a:lnTo>
                        <a:pt x="95" y="694"/>
                      </a:lnTo>
                      <a:lnTo>
                        <a:pt x="97" y="708"/>
                      </a:lnTo>
                      <a:lnTo>
                        <a:pt x="98" y="721"/>
                      </a:lnTo>
                      <a:lnTo>
                        <a:pt x="98" y="733"/>
                      </a:lnTo>
                      <a:lnTo>
                        <a:pt x="98" y="747"/>
                      </a:lnTo>
                      <a:lnTo>
                        <a:pt x="100" y="760"/>
                      </a:lnTo>
                      <a:lnTo>
                        <a:pt x="102" y="774"/>
                      </a:lnTo>
                      <a:lnTo>
                        <a:pt x="102" y="785"/>
                      </a:lnTo>
                      <a:lnTo>
                        <a:pt x="104" y="799"/>
                      </a:lnTo>
                      <a:lnTo>
                        <a:pt x="106" y="813"/>
                      </a:lnTo>
                      <a:lnTo>
                        <a:pt x="108" y="826"/>
                      </a:lnTo>
                      <a:lnTo>
                        <a:pt x="108" y="838"/>
                      </a:lnTo>
                      <a:lnTo>
                        <a:pt x="110" y="851"/>
                      </a:lnTo>
                      <a:lnTo>
                        <a:pt x="112" y="863"/>
                      </a:lnTo>
                      <a:lnTo>
                        <a:pt x="114" y="877"/>
                      </a:lnTo>
                      <a:lnTo>
                        <a:pt x="114" y="888"/>
                      </a:lnTo>
                      <a:lnTo>
                        <a:pt x="116" y="900"/>
                      </a:lnTo>
                      <a:lnTo>
                        <a:pt x="118" y="912"/>
                      </a:lnTo>
                      <a:lnTo>
                        <a:pt x="122" y="925"/>
                      </a:lnTo>
                      <a:lnTo>
                        <a:pt x="122" y="935"/>
                      </a:lnTo>
                      <a:lnTo>
                        <a:pt x="124" y="946"/>
                      </a:lnTo>
                      <a:lnTo>
                        <a:pt x="126" y="958"/>
                      </a:lnTo>
                      <a:lnTo>
                        <a:pt x="128" y="970"/>
                      </a:lnTo>
                      <a:lnTo>
                        <a:pt x="129" y="979"/>
                      </a:lnTo>
                      <a:lnTo>
                        <a:pt x="131" y="991"/>
                      </a:lnTo>
                      <a:lnTo>
                        <a:pt x="133" y="1001"/>
                      </a:lnTo>
                      <a:lnTo>
                        <a:pt x="137" y="1012"/>
                      </a:lnTo>
                      <a:lnTo>
                        <a:pt x="141" y="1030"/>
                      </a:lnTo>
                      <a:lnTo>
                        <a:pt x="147" y="1049"/>
                      </a:lnTo>
                      <a:lnTo>
                        <a:pt x="153" y="1067"/>
                      </a:lnTo>
                      <a:lnTo>
                        <a:pt x="159" y="1084"/>
                      </a:lnTo>
                      <a:lnTo>
                        <a:pt x="164" y="1098"/>
                      </a:lnTo>
                      <a:lnTo>
                        <a:pt x="170" y="1111"/>
                      </a:lnTo>
                      <a:lnTo>
                        <a:pt x="178" y="1121"/>
                      </a:lnTo>
                      <a:lnTo>
                        <a:pt x="186" y="1133"/>
                      </a:lnTo>
                      <a:lnTo>
                        <a:pt x="201" y="1148"/>
                      </a:lnTo>
                      <a:lnTo>
                        <a:pt x="219" y="1156"/>
                      </a:lnTo>
                      <a:lnTo>
                        <a:pt x="225" y="1154"/>
                      </a:lnTo>
                      <a:lnTo>
                        <a:pt x="230" y="1146"/>
                      </a:lnTo>
                      <a:lnTo>
                        <a:pt x="234" y="1135"/>
                      </a:lnTo>
                      <a:lnTo>
                        <a:pt x="240" y="1121"/>
                      </a:lnTo>
                      <a:lnTo>
                        <a:pt x="240" y="1109"/>
                      </a:lnTo>
                      <a:lnTo>
                        <a:pt x="242" y="1098"/>
                      </a:lnTo>
                      <a:lnTo>
                        <a:pt x="242" y="1086"/>
                      </a:lnTo>
                      <a:lnTo>
                        <a:pt x="244" y="1074"/>
                      </a:lnTo>
                      <a:lnTo>
                        <a:pt x="244" y="1061"/>
                      </a:lnTo>
                      <a:lnTo>
                        <a:pt x="244" y="1047"/>
                      </a:lnTo>
                      <a:lnTo>
                        <a:pt x="244" y="1032"/>
                      </a:lnTo>
                      <a:lnTo>
                        <a:pt x="244" y="1018"/>
                      </a:lnTo>
                      <a:lnTo>
                        <a:pt x="242" y="1001"/>
                      </a:lnTo>
                      <a:lnTo>
                        <a:pt x="240" y="983"/>
                      </a:lnTo>
                      <a:lnTo>
                        <a:pt x="238" y="966"/>
                      </a:lnTo>
                      <a:lnTo>
                        <a:pt x="238" y="948"/>
                      </a:lnTo>
                      <a:lnTo>
                        <a:pt x="234" y="927"/>
                      </a:lnTo>
                      <a:lnTo>
                        <a:pt x="234" y="908"/>
                      </a:lnTo>
                      <a:lnTo>
                        <a:pt x="230" y="888"/>
                      </a:lnTo>
                      <a:lnTo>
                        <a:pt x="230" y="869"/>
                      </a:lnTo>
                      <a:lnTo>
                        <a:pt x="226" y="848"/>
                      </a:lnTo>
                      <a:lnTo>
                        <a:pt x="225" y="826"/>
                      </a:lnTo>
                      <a:lnTo>
                        <a:pt x="221" y="805"/>
                      </a:lnTo>
                      <a:lnTo>
                        <a:pt x="219" y="784"/>
                      </a:lnTo>
                      <a:lnTo>
                        <a:pt x="215" y="760"/>
                      </a:lnTo>
                      <a:lnTo>
                        <a:pt x="213" y="739"/>
                      </a:lnTo>
                      <a:lnTo>
                        <a:pt x="211" y="716"/>
                      </a:lnTo>
                      <a:lnTo>
                        <a:pt x="209" y="694"/>
                      </a:lnTo>
                      <a:lnTo>
                        <a:pt x="203" y="671"/>
                      </a:lnTo>
                      <a:lnTo>
                        <a:pt x="199" y="648"/>
                      </a:lnTo>
                      <a:lnTo>
                        <a:pt x="195" y="625"/>
                      </a:lnTo>
                      <a:lnTo>
                        <a:pt x="193" y="601"/>
                      </a:lnTo>
                      <a:lnTo>
                        <a:pt x="188" y="578"/>
                      </a:lnTo>
                      <a:lnTo>
                        <a:pt x="184" y="555"/>
                      </a:lnTo>
                      <a:lnTo>
                        <a:pt x="180" y="531"/>
                      </a:lnTo>
                      <a:lnTo>
                        <a:pt x="178" y="510"/>
                      </a:lnTo>
                      <a:lnTo>
                        <a:pt x="172" y="487"/>
                      </a:lnTo>
                      <a:lnTo>
                        <a:pt x="168" y="464"/>
                      </a:lnTo>
                      <a:lnTo>
                        <a:pt x="164" y="442"/>
                      </a:lnTo>
                      <a:lnTo>
                        <a:pt x="162" y="421"/>
                      </a:lnTo>
                      <a:lnTo>
                        <a:pt x="157" y="398"/>
                      </a:lnTo>
                      <a:lnTo>
                        <a:pt x="153" y="378"/>
                      </a:lnTo>
                      <a:lnTo>
                        <a:pt x="149" y="357"/>
                      </a:lnTo>
                      <a:lnTo>
                        <a:pt x="147" y="339"/>
                      </a:lnTo>
                      <a:lnTo>
                        <a:pt x="141" y="318"/>
                      </a:lnTo>
                      <a:lnTo>
                        <a:pt x="137" y="299"/>
                      </a:lnTo>
                      <a:lnTo>
                        <a:pt x="133" y="281"/>
                      </a:lnTo>
                      <a:lnTo>
                        <a:pt x="129" y="264"/>
                      </a:lnTo>
                      <a:lnTo>
                        <a:pt x="126" y="246"/>
                      </a:lnTo>
                      <a:lnTo>
                        <a:pt x="122" y="229"/>
                      </a:lnTo>
                      <a:lnTo>
                        <a:pt x="118" y="213"/>
                      </a:lnTo>
                      <a:lnTo>
                        <a:pt x="116" y="200"/>
                      </a:lnTo>
                      <a:lnTo>
                        <a:pt x="112" y="184"/>
                      </a:lnTo>
                      <a:lnTo>
                        <a:pt x="110" y="171"/>
                      </a:lnTo>
                      <a:lnTo>
                        <a:pt x="106" y="159"/>
                      </a:lnTo>
                      <a:lnTo>
                        <a:pt x="104" y="147"/>
                      </a:lnTo>
                      <a:lnTo>
                        <a:pt x="100" y="136"/>
                      </a:lnTo>
                      <a:lnTo>
                        <a:pt x="98" y="126"/>
                      </a:lnTo>
                      <a:lnTo>
                        <a:pt x="95" y="118"/>
                      </a:lnTo>
                      <a:lnTo>
                        <a:pt x="95" y="113"/>
                      </a:lnTo>
                      <a:lnTo>
                        <a:pt x="89" y="97"/>
                      </a:lnTo>
                      <a:lnTo>
                        <a:pt x="83" y="85"/>
                      </a:lnTo>
                      <a:lnTo>
                        <a:pt x="79" y="74"/>
                      </a:lnTo>
                      <a:lnTo>
                        <a:pt x="75" y="64"/>
                      </a:lnTo>
                      <a:lnTo>
                        <a:pt x="65" y="47"/>
                      </a:lnTo>
                      <a:lnTo>
                        <a:pt x="58" y="33"/>
                      </a:lnTo>
                      <a:lnTo>
                        <a:pt x="48" y="19"/>
                      </a:lnTo>
                      <a:lnTo>
                        <a:pt x="40" y="12"/>
                      </a:lnTo>
                      <a:lnTo>
                        <a:pt x="34" y="6"/>
                      </a:lnTo>
                      <a:lnTo>
                        <a:pt x="29" y="4"/>
                      </a:lnTo>
                      <a:lnTo>
                        <a:pt x="15" y="0"/>
                      </a:lnTo>
                      <a:lnTo>
                        <a:pt x="7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d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0" name=""/>
          <p:cNvGrpSpPr/>
          <p:nvPr/>
        </p:nvGrpSpPr>
        <p:grpSpPr>
          <a:xfrm>
            <a:off x="2576880" y="6438960"/>
            <a:ext cx="4259160" cy="3820680"/>
            <a:chOff x="2576880" y="6438960"/>
            <a:chExt cx="4259160" cy="3820680"/>
          </a:xfrm>
        </p:grpSpPr>
        <p:sp>
          <p:nvSpPr>
            <p:cNvPr id="911" name=""/>
            <p:cNvSpPr/>
            <p:nvPr/>
          </p:nvSpPr>
          <p:spPr>
            <a:xfrm flipH="1" rot="2109000">
              <a:off x="5220360" y="948600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1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b8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rot="2109000">
              <a:off x="2748240" y="7800120"/>
              <a:ext cx="1595160" cy="1103040"/>
            </a:xfrm>
            <a:custGeom>
              <a:avLst/>
              <a:gdLst/>
              <a:ahLst/>
              <a:rect l="l" t="t" r="r" b="b"/>
              <a:pathLst>
                <a:path w="2011" h="1391">
                  <a:moveTo>
                    <a:pt x="731" y="1389"/>
                  </a:moveTo>
                  <a:lnTo>
                    <a:pt x="667" y="1377"/>
                  </a:lnTo>
                  <a:lnTo>
                    <a:pt x="605" y="1367"/>
                  </a:lnTo>
                  <a:lnTo>
                    <a:pt x="543" y="1354"/>
                  </a:lnTo>
                  <a:lnTo>
                    <a:pt x="481" y="1338"/>
                  </a:lnTo>
                  <a:lnTo>
                    <a:pt x="419" y="1315"/>
                  </a:lnTo>
                  <a:lnTo>
                    <a:pt x="357" y="1286"/>
                  </a:lnTo>
                  <a:lnTo>
                    <a:pt x="295" y="1249"/>
                  </a:lnTo>
                  <a:lnTo>
                    <a:pt x="233" y="1206"/>
                  </a:lnTo>
                  <a:lnTo>
                    <a:pt x="204" y="1175"/>
                  </a:lnTo>
                  <a:lnTo>
                    <a:pt x="177" y="1144"/>
                  </a:lnTo>
                  <a:lnTo>
                    <a:pt x="149" y="1111"/>
                  </a:lnTo>
                  <a:lnTo>
                    <a:pt x="122" y="1082"/>
                  </a:lnTo>
                  <a:lnTo>
                    <a:pt x="93" y="1049"/>
                  </a:lnTo>
                  <a:lnTo>
                    <a:pt x="64" y="1020"/>
                  </a:lnTo>
                  <a:lnTo>
                    <a:pt x="31" y="993"/>
                  </a:lnTo>
                  <a:lnTo>
                    <a:pt x="0" y="972"/>
                  </a:lnTo>
                  <a:lnTo>
                    <a:pt x="4" y="968"/>
                  </a:lnTo>
                  <a:lnTo>
                    <a:pt x="124" y="950"/>
                  </a:lnTo>
                  <a:lnTo>
                    <a:pt x="144" y="941"/>
                  </a:lnTo>
                  <a:lnTo>
                    <a:pt x="194" y="921"/>
                  </a:lnTo>
                  <a:lnTo>
                    <a:pt x="204" y="919"/>
                  </a:lnTo>
                  <a:lnTo>
                    <a:pt x="233" y="906"/>
                  </a:lnTo>
                  <a:lnTo>
                    <a:pt x="266" y="888"/>
                  </a:lnTo>
                  <a:lnTo>
                    <a:pt x="299" y="865"/>
                  </a:lnTo>
                  <a:lnTo>
                    <a:pt x="334" y="838"/>
                  </a:lnTo>
                  <a:lnTo>
                    <a:pt x="363" y="807"/>
                  </a:lnTo>
                  <a:lnTo>
                    <a:pt x="390" y="776"/>
                  </a:lnTo>
                  <a:lnTo>
                    <a:pt x="411" y="743"/>
                  </a:lnTo>
                  <a:lnTo>
                    <a:pt x="427" y="712"/>
                  </a:lnTo>
                  <a:lnTo>
                    <a:pt x="435" y="667"/>
                  </a:lnTo>
                  <a:lnTo>
                    <a:pt x="431" y="640"/>
                  </a:lnTo>
                  <a:lnTo>
                    <a:pt x="421" y="615"/>
                  </a:lnTo>
                  <a:lnTo>
                    <a:pt x="409" y="601"/>
                  </a:lnTo>
                  <a:lnTo>
                    <a:pt x="559" y="564"/>
                  </a:lnTo>
                  <a:lnTo>
                    <a:pt x="691" y="539"/>
                  </a:lnTo>
                  <a:lnTo>
                    <a:pt x="700" y="541"/>
                  </a:lnTo>
                  <a:lnTo>
                    <a:pt x="733" y="535"/>
                  </a:lnTo>
                  <a:lnTo>
                    <a:pt x="914" y="528"/>
                  </a:lnTo>
                  <a:lnTo>
                    <a:pt x="943" y="524"/>
                  </a:lnTo>
                  <a:lnTo>
                    <a:pt x="981" y="524"/>
                  </a:lnTo>
                  <a:lnTo>
                    <a:pt x="983" y="528"/>
                  </a:lnTo>
                  <a:lnTo>
                    <a:pt x="1024" y="520"/>
                  </a:lnTo>
                  <a:lnTo>
                    <a:pt x="1034" y="520"/>
                  </a:lnTo>
                  <a:lnTo>
                    <a:pt x="1119" y="518"/>
                  </a:lnTo>
                  <a:lnTo>
                    <a:pt x="1129" y="518"/>
                  </a:lnTo>
                  <a:lnTo>
                    <a:pt x="1152" y="514"/>
                  </a:lnTo>
                  <a:lnTo>
                    <a:pt x="1179" y="512"/>
                  </a:lnTo>
                  <a:lnTo>
                    <a:pt x="1203" y="508"/>
                  </a:lnTo>
                  <a:lnTo>
                    <a:pt x="1230" y="506"/>
                  </a:lnTo>
                  <a:lnTo>
                    <a:pt x="1255" y="501"/>
                  </a:lnTo>
                  <a:lnTo>
                    <a:pt x="1282" y="495"/>
                  </a:lnTo>
                  <a:lnTo>
                    <a:pt x="1307" y="489"/>
                  </a:lnTo>
                  <a:lnTo>
                    <a:pt x="1334" y="485"/>
                  </a:lnTo>
                  <a:lnTo>
                    <a:pt x="1350" y="479"/>
                  </a:lnTo>
                  <a:lnTo>
                    <a:pt x="1367" y="473"/>
                  </a:lnTo>
                  <a:lnTo>
                    <a:pt x="1385" y="468"/>
                  </a:lnTo>
                  <a:lnTo>
                    <a:pt x="1402" y="462"/>
                  </a:lnTo>
                  <a:lnTo>
                    <a:pt x="1420" y="454"/>
                  </a:lnTo>
                  <a:lnTo>
                    <a:pt x="1437" y="446"/>
                  </a:lnTo>
                  <a:lnTo>
                    <a:pt x="1455" y="437"/>
                  </a:lnTo>
                  <a:lnTo>
                    <a:pt x="1472" y="429"/>
                  </a:lnTo>
                  <a:lnTo>
                    <a:pt x="1486" y="419"/>
                  </a:lnTo>
                  <a:lnTo>
                    <a:pt x="1552" y="355"/>
                  </a:lnTo>
                  <a:lnTo>
                    <a:pt x="1567" y="326"/>
                  </a:lnTo>
                  <a:lnTo>
                    <a:pt x="1581" y="297"/>
                  </a:lnTo>
                  <a:lnTo>
                    <a:pt x="1592" y="266"/>
                  </a:lnTo>
                  <a:lnTo>
                    <a:pt x="1604" y="235"/>
                  </a:lnTo>
                  <a:lnTo>
                    <a:pt x="1610" y="202"/>
                  </a:lnTo>
                  <a:lnTo>
                    <a:pt x="1616" y="173"/>
                  </a:lnTo>
                  <a:lnTo>
                    <a:pt x="1618" y="142"/>
                  </a:lnTo>
                  <a:lnTo>
                    <a:pt x="1619" y="113"/>
                  </a:lnTo>
                  <a:lnTo>
                    <a:pt x="1616" y="101"/>
                  </a:lnTo>
                  <a:lnTo>
                    <a:pt x="1614" y="89"/>
                  </a:lnTo>
                  <a:lnTo>
                    <a:pt x="1610" y="78"/>
                  </a:lnTo>
                  <a:lnTo>
                    <a:pt x="1608" y="68"/>
                  </a:lnTo>
                  <a:lnTo>
                    <a:pt x="1602" y="56"/>
                  </a:lnTo>
                  <a:lnTo>
                    <a:pt x="1598" y="45"/>
                  </a:lnTo>
                  <a:lnTo>
                    <a:pt x="1594" y="33"/>
                  </a:lnTo>
                  <a:lnTo>
                    <a:pt x="1590" y="23"/>
                  </a:lnTo>
                  <a:lnTo>
                    <a:pt x="1606" y="20"/>
                  </a:lnTo>
                  <a:lnTo>
                    <a:pt x="1610" y="18"/>
                  </a:lnTo>
                  <a:lnTo>
                    <a:pt x="1614" y="14"/>
                  </a:lnTo>
                  <a:lnTo>
                    <a:pt x="1619" y="0"/>
                  </a:lnTo>
                  <a:lnTo>
                    <a:pt x="1649" y="22"/>
                  </a:lnTo>
                  <a:lnTo>
                    <a:pt x="1672" y="23"/>
                  </a:lnTo>
                  <a:lnTo>
                    <a:pt x="1685" y="18"/>
                  </a:lnTo>
                  <a:lnTo>
                    <a:pt x="1687" y="25"/>
                  </a:lnTo>
                  <a:lnTo>
                    <a:pt x="1703" y="39"/>
                  </a:lnTo>
                  <a:lnTo>
                    <a:pt x="1724" y="41"/>
                  </a:lnTo>
                  <a:lnTo>
                    <a:pt x="1751" y="18"/>
                  </a:lnTo>
                  <a:lnTo>
                    <a:pt x="1757" y="60"/>
                  </a:lnTo>
                  <a:lnTo>
                    <a:pt x="1759" y="62"/>
                  </a:lnTo>
                  <a:lnTo>
                    <a:pt x="1777" y="82"/>
                  </a:lnTo>
                  <a:lnTo>
                    <a:pt x="1804" y="82"/>
                  </a:lnTo>
                  <a:lnTo>
                    <a:pt x="1829" y="68"/>
                  </a:lnTo>
                  <a:lnTo>
                    <a:pt x="1833" y="82"/>
                  </a:lnTo>
                  <a:lnTo>
                    <a:pt x="1839" y="89"/>
                  </a:lnTo>
                  <a:lnTo>
                    <a:pt x="1868" y="103"/>
                  </a:lnTo>
                  <a:lnTo>
                    <a:pt x="1877" y="101"/>
                  </a:lnTo>
                  <a:lnTo>
                    <a:pt x="1897" y="87"/>
                  </a:lnTo>
                  <a:lnTo>
                    <a:pt x="1903" y="82"/>
                  </a:lnTo>
                  <a:lnTo>
                    <a:pt x="1916" y="72"/>
                  </a:lnTo>
                  <a:lnTo>
                    <a:pt x="1918" y="89"/>
                  </a:lnTo>
                  <a:lnTo>
                    <a:pt x="1932" y="105"/>
                  </a:lnTo>
                  <a:lnTo>
                    <a:pt x="1955" y="107"/>
                  </a:lnTo>
                  <a:lnTo>
                    <a:pt x="1967" y="103"/>
                  </a:lnTo>
                  <a:lnTo>
                    <a:pt x="1971" y="124"/>
                  </a:lnTo>
                  <a:lnTo>
                    <a:pt x="1984" y="140"/>
                  </a:lnTo>
                  <a:lnTo>
                    <a:pt x="2011" y="144"/>
                  </a:lnTo>
                  <a:lnTo>
                    <a:pt x="1978" y="200"/>
                  </a:lnTo>
                  <a:lnTo>
                    <a:pt x="1953" y="258"/>
                  </a:lnTo>
                  <a:lnTo>
                    <a:pt x="1930" y="314"/>
                  </a:lnTo>
                  <a:lnTo>
                    <a:pt x="1910" y="373"/>
                  </a:lnTo>
                  <a:lnTo>
                    <a:pt x="1887" y="429"/>
                  </a:lnTo>
                  <a:lnTo>
                    <a:pt x="1866" y="485"/>
                  </a:lnTo>
                  <a:lnTo>
                    <a:pt x="1843" y="543"/>
                  </a:lnTo>
                  <a:lnTo>
                    <a:pt x="1817" y="601"/>
                  </a:lnTo>
                  <a:lnTo>
                    <a:pt x="1811" y="605"/>
                  </a:lnTo>
                  <a:lnTo>
                    <a:pt x="1794" y="642"/>
                  </a:lnTo>
                  <a:lnTo>
                    <a:pt x="1777" y="679"/>
                  </a:lnTo>
                  <a:lnTo>
                    <a:pt x="1757" y="716"/>
                  </a:lnTo>
                  <a:lnTo>
                    <a:pt x="1738" y="755"/>
                  </a:lnTo>
                  <a:lnTo>
                    <a:pt x="1715" y="791"/>
                  </a:lnTo>
                  <a:lnTo>
                    <a:pt x="1693" y="830"/>
                  </a:lnTo>
                  <a:lnTo>
                    <a:pt x="1670" y="867"/>
                  </a:lnTo>
                  <a:lnTo>
                    <a:pt x="1647" y="906"/>
                  </a:lnTo>
                  <a:lnTo>
                    <a:pt x="1633" y="919"/>
                  </a:lnTo>
                  <a:lnTo>
                    <a:pt x="1621" y="935"/>
                  </a:lnTo>
                  <a:lnTo>
                    <a:pt x="1610" y="950"/>
                  </a:lnTo>
                  <a:lnTo>
                    <a:pt x="1598" y="966"/>
                  </a:lnTo>
                  <a:lnTo>
                    <a:pt x="1585" y="979"/>
                  </a:lnTo>
                  <a:lnTo>
                    <a:pt x="1573" y="993"/>
                  </a:lnTo>
                  <a:lnTo>
                    <a:pt x="1559" y="1007"/>
                  </a:lnTo>
                  <a:lnTo>
                    <a:pt x="1548" y="1020"/>
                  </a:lnTo>
                  <a:lnTo>
                    <a:pt x="1513" y="1059"/>
                  </a:lnTo>
                  <a:lnTo>
                    <a:pt x="1493" y="1076"/>
                  </a:lnTo>
                  <a:lnTo>
                    <a:pt x="1474" y="1096"/>
                  </a:lnTo>
                  <a:lnTo>
                    <a:pt x="1455" y="1113"/>
                  </a:lnTo>
                  <a:lnTo>
                    <a:pt x="1435" y="1131"/>
                  </a:lnTo>
                  <a:lnTo>
                    <a:pt x="1416" y="1146"/>
                  </a:lnTo>
                  <a:lnTo>
                    <a:pt x="1396" y="1162"/>
                  </a:lnTo>
                  <a:lnTo>
                    <a:pt x="1377" y="1177"/>
                  </a:lnTo>
                  <a:lnTo>
                    <a:pt x="1360" y="1193"/>
                  </a:lnTo>
                  <a:lnTo>
                    <a:pt x="1331" y="1214"/>
                  </a:lnTo>
                  <a:lnTo>
                    <a:pt x="1309" y="1228"/>
                  </a:lnTo>
                  <a:lnTo>
                    <a:pt x="1282" y="1243"/>
                  </a:lnTo>
                  <a:lnTo>
                    <a:pt x="1272" y="1251"/>
                  </a:lnTo>
                  <a:lnTo>
                    <a:pt x="1247" y="1263"/>
                  </a:lnTo>
                  <a:lnTo>
                    <a:pt x="1224" y="1274"/>
                  </a:lnTo>
                  <a:lnTo>
                    <a:pt x="1201" y="1286"/>
                  </a:lnTo>
                  <a:lnTo>
                    <a:pt x="1177" y="1298"/>
                  </a:lnTo>
                  <a:lnTo>
                    <a:pt x="1154" y="1307"/>
                  </a:lnTo>
                  <a:lnTo>
                    <a:pt x="1131" y="1319"/>
                  </a:lnTo>
                  <a:lnTo>
                    <a:pt x="1108" y="1327"/>
                  </a:lnTo>
                  <a:lnTo>
                    <a:pt x="1086" y="1336"/>
                  </a:lnTo>
                  <a:lnTo>
                    <a:pt x="999" y="1358"/>
                  </a:lnTo>
                  <a:lnTo>
                    <a:pt x="966" y="1362"/>
                  </a:lnTo>
                  <a:lnTo>
                    <a:pt x="933" y="1367"/>
                  </a:lnTo>
                  <a:lnTo>
                    <a:pt x="900" y="1373"/>
                  </a:lnTo>
                  <a:lnTo>
                    <a:pt x="867" y="1379"/>
                  </a:lnTo>
                  <a:lnTo>
                    <a:pt x="834" y="1383"/>
                  </a:lnTo>
                  <a:lnTo>
                    <a:pt x="801" y="1387"/>
                  </a:lnTo>
                  <a:lnTo>
                    <a:pt x="768" y="1389"/>
                  </a:lnTo>
                  <a:lnTo>
                    <a:pt x="737" y="1391"/>
                  </a:lnTo>
                  <a:lnTo>
                    <a:pt x="731" y="13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rot="2109000">
              <a:off x="3202560" y="8560440"/>
              <a:ext cx="176040" cy="11916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31" y="150"/>
                  </a:moveTo>
                  <a:lnTo>
                    <a:pt x="0" y="144"/>
                  </a:lnTo>
                  <a:lnTo>
                    <a:pt x="0" y="138"/>
                  </a:lnTo>
                  <a:lnTo>
                    <a:pt x="78" y="136"/>
                  </a:lnTo>
                  <a:lnTo>
                    <a:pt x="89" y="132"/>
                  </a:lnTo>
                  <a:lnTo>
                    <a:pt x="93" y="128"/>
                  </a:lnTo>
                  <a:lnTo>
                    <a:pt x="97" y="128"/>
                  </a:lnTo>
                  <a:lnTo>
                    <a:pt x="101" y="124"/>
                  </a:lnTo>
                  <a:lnTo>
                    <a:pt x="101" y="120"/>
                  </a:lnTo>
                  <a:lnTo>
                    <a:pt x="99" y="117"/>
                  </a:lnTo>
                  <a:lnTo>
                    <a:pt x="89" y="109"/>
                  </a:lnTo>
                  <a:lnTo>
                    <a:pt x="35" y="109"/>
                  </a:lnTo>
                  <a:lnTo>
                    <a:pt x="29" y="103"/>
                  </a:lnTo>
                  <a:lnTo>
                    <a:pt x="31" y="97"/>
                  </a:lnTo>
                  <a:lnTo>
                    <a:pt x="35" y="89"/>
                  </a:lnTo>
                  <a:lnTo>
                    <a:pt x="72" y="88"/>
                  </a:lnTo>
                  <a:lnTo>
                    <a:pt x="89" y="80"/>
                  </a:lnTo>
                  <a:lnTo>
                    <a:pt x="93" y="78"/>
                  </a:lnTo>
                  <a:lnTo>
                    <a:pt x="95" y="74"/>
                  </a:lnTo>
                  <a:lnTo>
                    <a:pt x="93" y="70"/>
                  </a:lnTo>
                  <a:lnTo>
                    <a:pt x="85" y="64"/>
                  </a:lnTo>
                  <a:lnTo>
                    <a:pt x="29" y="64"/>
                  </a:lnTo>
                  <a:lnTo>
                    <a:pt x="27" y="55"/>
                  </a:lnTo>
                  <a:lnTo>
                    <a:pt x="31" y="47"/>
                  </a:lnTo>
                  <a:lnTo>
                    <a:pt x="50" y="45"/>
                  </a:lnTo>
                  <a:lnTo>
                    <a:pt x="76" y="35"/>
                  </a:lnTo>
                  <a:lnTo>
                    <a:pt x="76" y="25"/>
                  </a:lnTo>
                  <a:lnTo>
                    <a:pt x="68" y="20"/>
                  </a:lnTo>
                  <a:lnTo>
                    <a:pt x="45" y="20"/>
                  </a:lnTo>
                  <a:lnTo>
                    <a:pt x="31" y="18"/>
                  </a:lnTo>
                  <a:lnTo>
                    <a:pt x="39" y="10"/>
                  </a:lnTo>
                  <a:lnTo>
                    <a:pt x="45" y="4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78" y="6"/>
                  </a:lnTo>
                  <a:lnTo>
                    <a:pt x="91" y="14"/>
                  </a:lnTo>
                  <a:lnTo>
                    <a:pt x="134" y="4"/>
                  </a:lnTo>
                  <a:lnTo>
                    <a:pt x="153" y="18"/>
                  </a:lnTo>
                  <a:lnTo>
                    <a:pt x="210" y="12"/>
                  </a:lnTo>
                  <a:lnTo>
                    <a:pt x="223" y="24"/>
                  </a:lnTo>
                  <a:lnTo>
                    <a:pt x="223" y="35"/>
                  </a:lnTo>
                  <a:lnTo>
                    <a:pt x="217" y="49"/>
                  </a:lnTo>
                  <a:lnTo>
                    <a:pt x="175" y="68"/>
                  </a:lnTo>
                  <a:lnTo>
                    <a:pt x="173" y="88"/>
                  </a:lnTo>
                  <a:lnTo>
                    <a:pt x="161" y="101"/>
                  </a:lnTo>
                  <a:lnTo>
                    <a:pt x="147" y="109"/>
                  </a:lnTo>
                  <a:lnTo>
                    <a:pt x="132" y="113"/>
                  </a:lnTo>
                  <a:lnTo>
                    <a:pt x="118" y="117"/>
                  </a:lnTo>
                  <a:lnTo>
                    <a:pt x="105" y="138"/>
                  </a:lnTo>
                  <a:lnTo>
                    <a:pt x="87" y="144"/>
                  </a:lnTo>
                  <a:lnTo>
                    <a:pt x="70" y="146"/>
                  </a:lnTo>
                  <a:lnTo>
                    <a:pt x="52" y="148"/>
                  </a:lnTo>
                  <a:lnTo>
                    <a:pt x="35" y="150"/>
                  </a:lnTo>
                  <a:lnTo>
                    <a:pt x="31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rot="2109000">
              <a:off x="3639960" y="8877600"/>
              <a:ext cx="169920" cy="101520"/>
            </a:xfrm>
            <a:custGeom>
              <a:avLst/>
              <a:gdLst/>
              <a:ahLst/>
              <a:rect l="l" t="t" r="r" b="b"/>
              <a:pathLst>
                <a:path w="213" h="128">
                  <a:moveTo>
                    <a:pt x="83" y="128"/>
                  </a:moveTo>
                  <a:lnTo>
                    <a:pt x="0" y="103"/>
                  </a:lnTo>
                  <a:lnTo>
                    <a:pt x="2" y="97"/>
                  </a:lnTo>
                  <a:lnTo>
                    <a:pt x="11" y="97"/>
                  </a:lnTo>
                  <a:lnTo>
                    <a:pt x="23" y="101"/>
                  </a:lnTo>
                  <a:lnTo>
                    <a:pt x="33" y="103"/>
                  </a:lnTo>
                  <a:lnTo>
                    <a:pt x="44" y="106"/>
                  </a:lnTo>
                  <a:lnTo>
                    <a:pt x="54" y="108"/>
                  </a:lnTo>
                  <a:lnTo>
                    <a:pt x="66" y="110"/>
                  </a:lnTo>
                  <a:lnTo>
                    <a:pt x="77" y="112"/>
                  </a:lnTo>
                  <a:lnTo>
                    <a:pt x="89" y="114"/>
                  </a:lnTo>
                  <a:lnTo>
                    <a:pt x="85" y="108"/>
                  </a:lnTo>
                  <a:lnTo>
                    <a:pt x="85" y="103"/>
                  </a:lnTo>
                  <a:lnTo>
                    <a:pt x="50" y="83"/>
                  </a:lnTo>
                  <a:lnTo>
                    <a:pt x="52" y="72"/>
                  </a:lnTo>
                  <a:lnTo>
                    <a:pt x="89" y="75"/>
                  </a:lnTo>
                  <a:lnTo>
                    <a:pt x="101" y="75"/>
                  </a:lnTo>
                  <a:lnTo>
                    <a:pt x="107" y="72"/>
                  </a:lnTo>
                  <a:lnTo>
                    <a:pt x="97" y="60"/>
                  </a:lnTo>
                  <a:lnTo>
                    <a:pt x="87" y="54"/>
                  </a:lnTo>
                  <a:lnTo>
                    <a:pt x="75" y="48"/>
                  </a:lnTo>
                  <a:lnTo>
                    <a:pt x="68" y="46"/>
                  </a:lnTo>
                  <a:lnTo>
                    <a:pt x="70" y="37"/>
                  </a:lnTo>
                  <a:lnTo>
                    <a:pt x="75" y="35"/>
                  </a:lnTo>
                  <a:lnTo>
                    <a:pt x="103" y="42"/>
                  </a:lnTo>
                  <a:lnTo>
                    <a:pt x="110" y="41"/>
                  </a:lnTo>
                  <a:lnTo>
                    <a:pt x="116" y="41"/>
                  </a:lnTo>
                  <a:lnTo>
                    <a:pt x="118" y="29"/>
                  </a:lnTo>
                  <a:lnTo>
                    <a:pt x="105" y="19"/>
                  </a:lnTo>
                  <a:lnTo>
                    <a:pt x="75" y="11"/>
                  </a:lnTo>
                  <a:lnTo>
                    <a:pt x="79" y="2"/>
                  </a:lnTo>
                  <a:lnTo>
                    <a:pt x="89" y="0"/>
                  </a:lnTo>
                  <a:lnTo>
                    <a:pt x="101" y="2"/>
                  </a:lnTo>
                  <a:lnTo>
                    <a:pt x="112" y="6"/>
                  </a:lnTo>
                  <a:lnTo>
                    <a:pt x="124" y="13"/>
                  </a:lnTo>
                  <a:lnTo>
                    <a:pt x="132" y="21"/>
                  </a:lnTo>
                  <a:lnTo>
                    <a:pt x="134" y="41"/>
                  </a:lnTo>
                  <a:lnTo>
                    <a:pt x="147" y="41"/>
                  </a:lnTo>
                  <a:lnTo>
                    <a:pt x="169" y="54"/>
                  </a:lnTo>
                  <a:lnTo>
                    <a:pt x="172" y="62"/>
                  </a:lnTo>
                  <a:lnTo>
                    <a:pt x="178" y="62"/>
                  </a:lnTo>
                  <a:lnTo>
                    <a:pt x="209" y="72"/>
                  </a:lnTo>
                  <a:lnTo>
                    <a:pt x="211" y="75"/>
                  </a:lnTo>
                  <a:lnTo>
                    <a:pt x="213" y="91"/>
                  </a:lnTo>
                  <a:lnTo>
                    <a:pt x="207" y="101"/>
                  </a:lnTo>
                  <a:lnTo>
                    <a:pt x="159" y="103"/>
                  </a:lnTo>
                  <a:lnTo>
                    <a:pt x="155" y="114"/>
                  </a:lnTo>
                  <a:lnTo>
                    <a:pt x="145" y="118"/>
                  </a:lnTo>
                  <a:lnTo>
                    <a:pt x="107" y="118"/>
                  </a:lnTo>
                  <a:lnTo>
                    <a:pt x="97" y="128"/>
                  </a:lnTo>
                  <a:lnTo>
                    <a:pt x="8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rot="2109000">
              <a:off x="3679200" y="8933040"/>
              <a:ext cx="47520" cy="2052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27" y="25"/>
                  </a:moveTo>
                  <a:lnTo>
                    <a:pt x="20" y="25"/>
                  </a:lnTo>
                  <a:lnTo>
                    <a:pt x="0" y="10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60" y="14"/>
                  </a:lnTo>
                  <a:lnTo>
                    <a:pt x="56" y="27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2109000">
              <a:off x="3651840" y="8901720"/>
              <a:ext cx="36360" cy="1584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16" y="19"/>
                  </a:moveTo>
                  <a:lnTo>
                    <a:pt x="0" y="13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45" y="11"/>
                  </a:lnTo>
                  <a:lnTo>
                    <a:pt x="35" y="21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rot="2109000">
              <a:off x="3247560" y="8603640"/>
              <a:ext cx="58680" cy="3348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20" y="43"/>
                  </a:moveTo>
                  <a:lnTo>
                    <a:pt x="0" y="31"/>
                  </a:lnTo>
                  <a:lnTo>
                    <a:pt x="4" y="25"/>
                  </a:lnTo>
                  <a:lnTo>
                    <a:pt x="20" y="10"/>
                  </a:lnTo>
                  <a:lnTo>
                    <a:pt x="24" y="0"/>
                  </a:lnTo>
                  <a:lnTo>
                    <a:pt x="74" y="8"/>
                  </a:lnTo>
                  <a:lnTo>
                    <a:pt x="74" y="22"/>
                  </a:lnTo>
                  <a:lnTo>
                    <a:pt x="64" y="33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rot="2109000">
              <a:off x="3689280" y="8905680"/>
              <a:ext cx="34920" cy="1584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3" y="20"/>
                  </a:moveTo>
                  <a:lnTo>
                    <a:pt x="14" y="16"/>
                  </a:lnTo>
                  <a:lnTo>
                    <a:pt x="2" y="10"/>
                  </a:lnTo>
                  <a:lnTo>
                    <a:pt x="0" y="0"/>
                  </a:lnTo>
                  <a:lnTo>
                    <a:pt x="45" y="16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rot="2109000">
              <a:off x="3238920" y="8557200"/>
              <a:ext cx="47520" cy="2232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8" y="29"/>
                  </a:moveTo>
                  <a:lnTo>
                    <a:pt x="0" y="24"/>
                  </a:lnTo>
                  <a:lnTo>
                    <a:pt x="6" y="4"/>
                  </a:lnTo>
                  <a:lnTo>
                    <a:pt x="55" y="0"/>
                  </a:lnTo>
                  <a:lnTo>
                    <a:pt x="61" y="4"/>
                  </a:lnTo>
                  <a:lnTo>
                    <a:pt x="55" y="16"/>
                  </a:lnTo>
                  <a:lnTo>
                    <a:pt x="47" y="22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rot="2109000">
              <a:off x="3282480" y="8584560"/>
              <a:ext cx="47880" cy="2376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16" y="31"/>
                  </a:moveTo>
                  <a:lnTo>
                    <a:pt x="0" y="25"/>
                  </a:lnTo>
                  <a:lnTo>
                    <a:pt x="8" y="13"/>
                  </a:lnTo>
                  <a:lnTo>
                    <a:pt x="14" y="1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57" y="21"/>
                  </a:lnTo>
                  <a:lnTo>
                    <a:pt x="51" y="23"/>
                  </a:lnTo>
                  <a:lnTo>
                    <a:pt x="28" y="2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rot="2109000">
              <a:off x="3888360" y="8533080"/>
              <a:ext cx="702000" cy="501480"/>
            </a:xfrm>
            <a:custGeom>
              <a:avLst/>
              <a:gdLst/>
              <a:ahLst/>
              <a:rect l="l" t="t" r="r" b="b"/>
              <a:pathLst>
                <a:path w="884" h="632">
                  <a:moveTo>
                    <a:pt x="457" y="630"/>
                  </a:moveTo>
                  <a:lnTo>
                    <a:pt x="442" y="628"/>
                  </a:lnTo>
                  <a:lnTo>
                    <a:pt x="426" y="626"/>
                  </a:lnTo>
                  <a:lnTo>
                    <a:pt x="411" y="621"/>
                  </a:lnTo>
                  <a:lnTo>
                    <a:pt x="397" y="613"/>
                  </a:lnTo>
                  <a:lnTo>
                    <a:pt x="403" y="605"/>
                  </a:lnTo>
                  <a:lnTo>
                    <a:pt x="484" y="582"/>
                  </a:lnTo>
                  <a:lnTo>
                    <a:pt x="494" y="578"/>
                  </a:lnTo>
                  <a:lnTo>
                    <a:pt x="496" y="574"/>
                  </a:lnTo>
                  <a:lnTo>
                    <a:pt x="500" y="570"/>
                  </a:lnTo>
                  <a:lnTo>
                    <a:pt x="500" y="568"/>
                  </a:lnTo>
                  <a:lnTo>
                    <a:pt x="448" y="578"/>
                  </a:lnTo>
                  <a:lnTo>
                    <a:pt x="386" y="593"/>
                  </a:lnTo>
                  <a:lnTo>
                    <a:pt x="374" y="592"/>
                  </a:lnTo>
                  <a:lnTo>
                    <a:pt x="362" y="592"/>
                  </a:lnTo>
                  <a:lnTo>
                    <a:pt x="351" y="588"/>
                  </a:lnTo>
                  <a:lnTo>
                    <a:pt x="339" y="586"/>
                  </a:lnTo>
                  <a:lnTo>
                    <a:pt x="327" y="580"/>
                  </a:lnTo>
                  <a:lnTo>
                    <a:pt x="316" y="574"/>
                  </a:lnTo>
                  <a:lnTo>
                    <a:pt x="304" y="566"/>
                  </a:lnTo>
                  <a:lnTo>
                    <a:pt x="294" y="561"/>
                  </a:lnTo>
                  <a:lnTo>
                    <a:pt x="343" y="533"/>
                  </a:lnTo>
                  <a:lnTo>
                    <a:pt x="349" y="529"/>
                  </a:lnTo>
                  <a:lnTo>
                    <a:pt x="349" y="526"/>
                  </a:lnTo>
                  <a:lnTo>
                    <a:pt x="341" y="526"/>
                  </a:lnTo>
                  <a:lnTo>
                    <a:pt x="320" y="531"/>
                  </a:lnTo>
                  <a:lnTo>
                    <a:pt x="302" y="535"/>
                  </a:lnTo>
                  <a:lnTo>
                    <a:pt x="285" y="543"/>
                  </a:lnTo>
                  <a:lnTo>
                    <a:pt x="269" y="549"/>
                  </a:lnTo>
                  <a:lnTo>
                    <a:pt x="254" y="557"/>
                  </a:lnTo>
                  <a:lnTo>
                    <a:pt x="236" y="559"/>
                  </a:lnTo>
                  <a:lnTo>
                    <a:pt x="221" y="561"/>
                  </a:lnTo>
                  <a:lnTo>
                    <a:pt x="205" y="555"/>
                  </a:lnTo>
                  <a:lnTo>
                    <a:pt x="190" y="547"/>
                  </a:lnTo>
                  <a:lnTo>
                    <a:pt x="168" y="528"/>
                  </a:lnTo>
                  <a:lnTo>
                    <a:pt x="184" y="514"/>
                  </a:lnTo>
                  <a:lnTo>
                    <a:pt x="205" y="498"/>
                  </a:lnTo>
                  <a:lnTo>
                    <a:pt x="225" y="479"/>
                  </a:lnTo>
                  <a:lnTo>
                    <a:pt x="225" y="477"/>
                  </a:lnTo>
                  <a:lnTo>
                    <a:pt x="207" y="483"/>
                  </a:lnTo>
                  <a:lnTo>
                    <a:pt x="197" y="491"/>
                  </a:lnTo>
                  <a:lnTo>
                    <a:pt x="137" y="524"/>
                  </a:lnTo>
                  <a:lnTo>
                    <a:pt x="126" y="526"/>
                  </a:lnTo>
                  <a:lnTo>
                    <a:pt x="114" y="528"/>
                  </a:lnTo>
                  <a:lnTo>
                    <a:pt x="102" y="529"/>
                  </a:lnTo>
                  <a:lnTo>
                    <a:pt x="93" y="531"/>
                  </a:lnTo>
                  <a:lnTo>
                    <a:pt x="81" y="529"/>
                  </a:lnTo>
                  <a:lnTo>
                    <a:pt x="71" y="529"/>
                  </a:lnTo>
                  <a:lnTo>
                    <a:pt x="60" y="524"/>
                  </a:lnTo>
                  <a:lnTo>
                    <a:pt x="50" y="520"/>
                  </a:lnTo>
                  <a:lnTo>
                    <a:pt x="7" y="493"/>
                  </a:lnTo>
                  <a:lnTo>
                    <a:pt x="0" y="485"/>
                  </a:lnTo>
                  <a:lnTo>
                    <a:pt x="48" y="462"/>
                  </a:lnTo>
                  <a:lnTo>
                    <a:pt x="110" y="409"/>
                  </a:lnTo>
                  <a:lnTo>
                    <a:pt x="137" y="380"/>
                  </a:lnTo>
                  <a:lnTo>
                    <a:pt x="161" y="349"/>
                  </a:lnTo>
                  <a:lnTo>
                    <a:pt x="180" y="320"/>
                  </a:lnTo>
                  <a:lnTo>
                    <a:pt x="194" y="289"/>
                  </a:lnTo>
                  <a:lnTo>
                    <a:pt x="205" y="260"/>
                  </a:lnTo>
                  <a:lnTo>
                    <a:pt x="209" y="229"/>
                  </a:lnTo>
                  <a:lnTo>
                    <a:pt x="211" y="200"/>
                  </a:lnTo>
                  <a:lnTo>
                    <a:pt x="209" y="169"/>
                  </a:lnTo>
                  <a:lnTo>
                    <a:pt x="205" y="140"/>
                  </a:lnTo>
                  <a:lnTo>
                    <a:pt x="197" y="120"/>
                  </a:lnTo>
                  <a:lnTo>
                    <a:pt x="215" y="132"/>
                  </a:lnTo>
                  <a:lnTo>
                    <a:pt x="236" y="142"/>
                  </a:lnTo>
                  <a:lnTo>
                    <a:pt x="254" y="147"/>
                  </a:lnTo>
                  <a:lnTo>
                    <a:pt x="275" y="153"/>
                  </a:lnTo>
                  <a:lnTo>
                    <a:pt x="292" y="153"/>
                  </a:lnTo>
                  <a:lnTo>
                    <a:pt x="314" y="155"/>
                  </a:lnTo>
                  <a:lnTo>
                    <a:pt x="331" y="155"/>
                  </a:lnTo>
                  <a:lnTo>
                    <a:pt x="353" y="157"/>
                  </a:lnTo>
                  <a:lnTo>
                    <a:pt x="465" y="134"/>
                  </a:lnTo>
                  <a:lnTo>
                    <a:pt x="473" y="132"/>
                  </a:lnTo>
                  <a:lnTo>
                    <a:pt x="562" y="89"/>
                  </a:lnTo>
                  <a:lnTo>
                    <a:pt x="572" y="82"/>
                  </a:lnTo>
                  <a:lnTo>
                    <a:pt x="576" y="80"/>
                  </a:lnTo>
                  <a:lnTo>
                    <a:pt x="587" y="72"/>
                  </a:lnTo>
                  <a:lnTo>
                    <a:pt x="607" y="56"/>
                  </a:lnTo>
                  <a:lnTo>
                    <a:pt x="628" y="39"/>
                  </a:lnTo>
                  <a:lnTo>
                    <a:pt x="638" y="29"/>
                  </a:lnTo>
                  <a:lnTo>
                    <a:pt x="649" y="19"/>
                  </a:lnTo>
                  <a:lnTo>
                    <a:pt x="659" y="10"/>
                  </a:lnTo>
                  <a:lnTo>
                    <a:pt x="669" y="0"/>
                  </a:lnTo>
                  <a:lnTo>
                    <a:pt x="694" y="19"/>
                  </a:lnTo>
                  <a:lnTo>
                    <a:pt x="700" y="31"/>
                  </a:lnTo>
                  <a:lnTo>
                    <a:pt x="702" y="43"/>
                  </a:lnTo>
                  <a:lnTo>
                    <a:pt x="702" y="54"/>
                  </a:lnTo>
                  <a:lnTo>
                    <a:pt x="700" y="68"/>
                  </a:lnTo>
                  <a:lnTo>
                    <a:pt x="694" y="82"/>
                  </a:lnTo>
                  <a:lnTo>
                    <a:pt x="659" y="126"/>
                  </a:lnTo>
                  <a:lnTo>
                    <a:pt x="671" y="124"/>
                  </a:lnTo>
                  <a:lnTo>
                    <a:pt x="673" y="124"/>
                  </a:lnTo>
                  <a:lnTo>
                    <a:pt x="700" y="93"/>
                  </a:lnTo>
                  <a:lnTo>
                    <a:pt x="723" y="115"/>
                  </a:lnTo>
                  <a:lnTo>
                    <a:pt x="729" y="128"/>
                  </a:lnTo>
                  <a:lnTo>
                    <a:pt x="739" y="144"/>
                  </a:lnTo>
                  <a:lnTo>
                    <a:pt x="742" y="155"/>
                  </a:lnTo>
                  <a:lnTo>
                    <a:pt x="748" y="173"/>
                  </a:lnTo>
                  <a:lnTo>
                    <a:pt x="744" y="184"/>
                  </a:lnTo>
                  <a:lnTo>
                    <a:pt x="740" y="198"/>
                  </a:lnTo>
                  <a:lnTo>
                    <a:pt x="733" y="210"/>
                  </a:lnTo>
                  <a:lnTo>
                    <a:pt x="727" y="223"/>
                  </a:lnTo>
                  <a:lnTo>
                    <a:pt x="717" y="235"/>
                  </a:lnTo>
                  <a:lnTo>
                    <a:pt x="707" y="248"/>
                  </a:lnTo>
                  <a:lnTo>
                    <a:pt x="698" y="260"/>
                  </a:lnTo>
                  <a:lnTo>
                    <a:pt x="688" y="274"/>
                  </a:lnTo>
                  <a:lnTo>
                    <a:pt x="684" y="283"/>
                  </a:lnTo>
                  <a:lnTo>
                    <a:pt x="688" y="285"/>
                  </a:lnTo>
                  <a:lnTo>
                    <a:pt x="702" y="270"/>
                  </a:lnTo>
                  <a:lnTo>
                    <a:pt x="715" y="254"/>
                  </a:lnTo>
                  <a:lnTo>
                    <a:pt x="729" y="239"/>
                  </a:lnTo>
                  <a:lnTo>
                    <a:pt x="742" y="225"/>
                  </a:lnTo>
                  <a:lnTo>
                    <a:pt x="752" y="225"/>
                  </a:lnTo>
                  <a:lnTo>
                    <a:pt x="764" y="229"/>
                  </a:lnTo>
                  <a:lnTo>
                    <a:pt x="775" y="235"/>
                  </a:lnTo>
                  <a:lnTo>
                    <a:pt x="789" y="241"/>
                  </a:lnTo>
                  <a:lnTo>
                    <a:pt x="799" y="246"/>
                  </a:lnTo>
                  <a:lnTo>
                    <a:pt x="810" y="254"/>
                  </a:lnTo>
                  <a:lnTo>
                    <a:pt x="818" y="264"/>
                  </a:lnTo>
                  <a:lnTo>
                    <a:pt x="826" y="277"/>
                  </a:lnTo>
                  <a:lnTo>
                    <a:pt x="824" y="287"/>
                  </a:lnTo>
                  <a:lnTo>
                    <a:pt x="822" y="299"/>
                  </a:lnTo>
                  <a:lnTo>
                    <a:pt x="818" y="308"/>
                  </a:lnTo>
                  <a:lnTo>
                    <a:pt x="814" y="320"/>
                  </a:lnTo>
                  <a:lnTo>
                    <a:pt x="806" y="330"/>
                  </a:lnTo>
                  <a:lnTo>
                    <a:pt x="801" y="341"/>
                  </a:lnTo>
                  <a:lnTo>
                    <a:pt x="793" y="353"/>
                  </a:lnTo>
                  <a:lnTo>
                    <a:pt x="785" y="365"/>
                  </a:lnTo>
                  <a:lnTo>
                    <a:pt x="783" y="372"/>
                  </a:lnTo>
                  <a:lnTo>
                    <a:pt x="787" y="372"/>
                  </a:lnTo>
                  <a:lnTo>
                    <a:pt x="797" y="361"/>
                  </a:lnTo>
                  <a:lnTo>
                    <a:pt x="806" y="351"/>
                  </a:lnTo>
                  <a:lnTo>
                    <a:pt x="814" y="339"/>
                  </a:lnTo>
                  <a:lnTo>
                    <a:pt x="824" y="330"/>
                  </a:lnTo>
                  <a:lnTo>
                    <a:pt x="830" y="316"/>
                  </a:lnTo>
                  <a:lnTo>
                    <a:pt x="835" y="305"/>
                  </a:lnTo>
                  <a:lnTo>
                    <a:pt x="839" y="293"/>
                  </a:lnTo>
                  <a:lnTo>
                    <a:pt x="843" y="283"/>
                  </a:lnTo>
                  <a:lnTo>
                    <a:pt x="861" y="291"/>
                  </a:lnTo>
                  <a:lnTo>
                    <a:pt x="872" y="306"/>
                  </a:lnTo>
                  <a:lnTo>
                    <a:pt x="880" y="322"/>
                  </a:lnTo>
                  <a:lnTo>
                    <a:pt x="884" y="339"/>
                  </a:lnTo>
                  <a:lnTo>
                    <a:pt x="876" y="392"/>
                  </a:lnTo>
                  <a:lnTo>
                    <a:pt x="867" y="413"/>
                  </a:lnTo>
                  <a:lnTo>
                    <a:pt x="835" y="454"/>
                  </a:lnTo>
                  <a:lnTo>
                    <a:pt x="803" y="491"/>
                  </a:lnTo>
                  <a:lnTo>
                    <a:pt x="766" y="520"/>
                  </a:lnTo>
                  <a:lnTo>
                    <a:pt x="729" y="549"/>
                  </a:lnTo>
                  <a:lnTo>
                    <a:pt x="688" y="570"/>
                  </a:lnTo>
                  <a:lnTo>
                    <a:pt x="649" y="590"/>
                  </a:lnTo>
                  <a:lnTo>
                    <a:pt x="611" y="603"/>
                  </a:lnTo>
                  <a:lnTo>
                    <a:pt x="576" y="617"/>
                  </a:lnTo>
                  <a:lnTo>
                    <a:pt x="558" y="619"/>
                  </a:lnTo>
                  <a:lnTo>
                    <a:pt x="545" y="621"/>
                  </a:lnTo>
                  <a:lnTo>
                    <a:pt x="529" y="623"/>
                  </a:lnTo>
                  <a:lnTo>
                    <a:pt x="515" y="626"/>
                  </a:lnTo>
                  <a:lnTo>
                    <a:pt x="500" y="626"/>
                  </a:lnTo>
                  <a:lnTo>
                    <a:pt x="486" y="628"/>
                  </a:lnTo>
                  <a:lnTo>
                    <a:pt x="473" y="630"/>
                  </a:lnTo>
                  <a:lnTo>
                    <a:pt x="459" y="632"/>
                  </a:lnTo>
                  <a:lnTo>
                    <a:pt x="457" y="6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rot="2109000">
              <a:off x="3971520" y="8775720"/>
              <a:ext cx="101520" cy="58320"/>
            </a:xfrm>
            <a:custGeom>
              <a:avLst/>
              <a:gdLst/>
              <a:ahLst/>
              <a:rect l="l" t="t" r="r" b="b"/>
              <a:pathLst>
                <a:path w="128" h="73">
                  <a:moveTo>
                    <a:pt x="111" y="71"/>
                  </a:moveTo>
                  <a:lnTo>
                    <a:pt x="97" y="66"/>
                  </a:lnTo>
                  <a:lnTo>
                    <a:pt x="84" y="64"/>
                  </a:lnTo>
                  <a:lnTo>
                    <a:pt x="70" y="60"/>
                  </a:lnTo>
                  <a:lnTo>
                    <a:pt x="58" y="60"/>
                  </a:lnTo>
                  <a:lnTo>
                    <a:pt x="45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6" y="64"/>
                  </a:lnTo>
                  <a:lnTo>
                    <a:pt x="0" y="60"/>
                  </a:lnTo>
                  <a:lnTo>
                    <a:pt x="4" y="50"/>
                  </a:lnTo>
                  <a:lnTo>
                    <a:pt x="26" y="44"/>
                  </a:lnTo>
                  <a:lnTo>
                    <a:pt x="33" y="37"/>
                  </a:lnTo>
                  <a:lnTo>
                    <a:pt x="26" y="29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14" y="9"/>
                  </a:lnTo>
                  <a:lnTo>
                    <a:pt x="53" y="19"/>
                  </a:lnTo>
                  <a:lnTo>
                    <a:pt x="72" y="9"/>
                  </a:lnTo>
                  <a:lnTo>
                    <a:pt x="84" y="8"/>
                  </a:lnTo>
                  <a:lnTo>
                    <a:pt x="107" y="0"/>
                  </a:lnTo>
                  <a:lnTo>
                    <a:pt x="121" y="6"/>
                  </a:lnTo>
                  <a:lnTo>
                    <a:pt x="109" y="15"/>
                  </a:lnTo>
                  <a:lnTo>
                    <a:pt x="103" y="19"/>
                  </a:lnTo>
                  <a:lnTo>
                    <a:pt x="105" y="44"/>
                  </a:lnTo>
                  <a:lnTo>
                    <a:pt x="128" y="66"/>
                  </a:lnTo>
                  <a:lnTo>
                    <a:pt x="122" y="73"/>
                  </a:lnTo>
                  <a:lnTo>
                    <a:pt x="11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rot="2109000">
              <a:off x="3658680" y="8145720"/>
              <a:ext cx="3067200" cy="1354320"/>
            </a:xfrm>
            <a:custGeom>
              <a:avLst/>
              <a:gdLst/>
              <a:ahLst/>
              <a:rect l="l" t="t" r="r" b="b"/>
              <a:pathLst>
                <a:path w="3865" h="1707">
                  <a:moveTo>
                    <a:pt x="2292" y="1705"/>
                  </a:moveTo>
                  <a:lnTo>
                    <a:pt x="2265" y="1701"/>
                  </a:lnTo>
                  <a:lnTo>
                    <a:pt x="2238" y="1697"/>
                  </a:lnTo>
                  <a:lnTo>
                    <a:pt x="2211" y="1691"/>
                  </a:lnTo>
                  <a:lnTo>
                    <a:pt x="2183" y="1684"/>
                  </a:lnTo>
                  <a:lnTo>
                    <a:pt x="2154" y="1670"/>
                  </a:lnTo>
                  <a:lnTo>
                    <a:pt x="2129" y="1655"/>
                  </a:lnTo>
                  <a:lnTo>
                    <a:pt x="2102" y="1635"/>
                  </a:lnTo>
                  <a:lnTo>
                    <a:pt x="2079" y="1612"/>
                  </a:lnTo>
                  <a:lnTo>
                    <a:pt x="2065" y="1600"/>
                  </a:lnTo>
                  <a:lnTo>
                    <a:pt x="2048" y="1579"/>
                  </a:lnTo>
                  <a:lnTo>
                    <a:pt x="2040" y="1565"/>
                  </a:lnTo>
                  <a:lnTo>
                    <a:pt x="2038" y="1561"/>
                  </a:lnTo>
                  <a:lnTo>
                    <a:pt x="2024" y="1544"/>
                  </a:lnTo>
                  <a:lnTo>
                    <a:pt x="1995" y="1478"/>
                  </a:lnTo>
                  <a:lnTo>
                    <a:pt x="1991" y="1466"/>
                  </a:lnTo>
                  <a:lnTo>
                    <a:pt x="1988" y="1455"/>
                  </a:lnTo>
                  <a:lnTo>
                    <a:pt x="1984" y="1443"/>
                  </a:lnTo>
                  <a:lnTo>
                    <a:pt x="1984" y="1431"/>
                  </a:lnTo>
                  <a:lnTo>
                    <a:pt x="1982" y="1420"/>
                  </a:lnTo>
                  <a:lnTo>
                    <a:pt x="1980" y="1408"/>
                  </a:lnTo>
                  <a:lnTo>
                    <a:pt x="1980" y="1397"/>
                  </a:lnTo>
                  <a:lnTo>
                    <a:pt x="1984" y="1387"/>
                  </a:lnTo>
                  <a:lnTo>
                    <a:pt x="1980" y="1383"/>
                  </a:lnTo>
                  <a:lnTo>
                    <a:pt x="1974" y="1395"/>
                  </a:lnTo>
                  <a:lnTo>
                    <a:pt x="1974" y="1410"/>
                  </a:lnTo>
                  <a:lnTo>
                    <a:pt x="1974" y="1424"/>
                  </a:lnTo>
                  <a:lnTo>
                    <a:pt x="1976" y="1439"/>
                  </a:lnTo>
                  <a:lnTo>
                    <a:pt x="1976" y="1453"/>
                  </a:lnTo>
                  <a:lnTo>
                    <a:pt x="1980" y="1468"/>
                  </a:lnTo>
                  <a:lnTo>
                    <a:pt x="1986" y="1484"/>
                  </a:lnTo>
                  <a:lnTo>
                    <a:pt x="1991" y="1499"/>
                  </a:lnTo>
                  <a:lnTo>
                    <a:pt x="2023" y="1559"/>
                  </a:lnTo>
                  <a:lnTo>
                    <a:pt x="2057" y="1608"/>
                  </a:lnTo>
                  <a:lnTo>
                    <a:pt x="2083" y="1639"/>
                  </a:lnTo>
                  <a:lnTo>
                    <a:pt x="1896" y="1561"/>
                  </a:lnTo>
                  <a:lnTo>
                    <a:pt x="1873" y="1550"/>
                  </a:lnTo>
                  <a:lnTo>
                    <a:pt x="1850" y="1538"/>
                  </a:lnTo>
                  <a:lnTo>
                    <a:pt x="1827" y="1527"/>
                  </a:lnTo>
                  <a:lnTo>
                    <a:pt x="1805" y="1519"/>
                  </a:lnTo>
                  <a:lnTo>
                    <a:pt x="1782" y="1511"/>
                  </a:lnTo>
                  <a:lnTo>
                    <a:pt x="1759" y="1503"/>
                  </a:lnTo>
                  <a:lnTo>
                    <a:pt x="1735" y="1497"/>
                  </a:lnTo>
                  <a:lnTo>
                    <a:pt x="1714" y="1495"/>
                  </a:lnTo>
                  <a:lnTo>
                    <a:pt x="1732" y="1484"/>
                  </a:lnTo>
                  <a:lnTo>
                    <a:pt x="1749" y="1472"/>
                  </a:lnTo>
                  <a:lnTo>
                    <a:pt x="1767" y="1457"/>
                  </a:lnTo>
                  <a:lnTo>
                    <a:pt x="1786" y="1441"/>
                  </a:lnTo>
                  <a:lnTo>
                    <a:pt x="1798" y="1441"/>
                  </a:lnTo>
                  <a:lnTo>
                    <a:pt x="1809" y="1441"/>
                  </a:lnTo>
                  <a:lnTo>
                    <a:pt x="1821" y="1441"/>
                  </a:lnTo>
                  <a:lnTo>
                    <a:pt x="1832" y="1445"/>
                  </a:lnTo>
                  <a:lnTo>
                    <a:pt x="1844" y="1445"/>
                  </a:lnTo>
                  <a:lnTo>
                    <a:pt x="1856" y="1451"/>
                  </a:lnTo>
                  <a:lnTo>
                    <a:pt x="1867" y="1455"/>
                  </a:lnTo>
                  <a:lnTo>
                    <a:pt x="1879" y="1463"/>
                  </a:lnTo>
                  <a:lnTo>
                    <a:pt x="1887" y="1463"/>
                  </a:lnTo>
                  <a:lnTo>
                    <a:pt x="1887" y="1455"/>
                  </a:lnTo>
                  <a:lnTo>
                    <a:pt x="1871" y="1443"/>
                  </a:lnTo>
                  <a:lnTo>
                    <a:pt x="1819" y="1428"/>
                  </a:lnTo>
                  <a:lnTo>
                    <a:pt x="1829" y="1418"/>
                  </a:lnTo>
                  <a:lnTo>
                    <a:pt x="1831" y="1416"/>
                  </a:lnTo>
                  <a:lnTo>
                    <a:pt x="1831" y="1412"/>
                  </a:lnTo>
                  <a:lnTo>
                    <a:pt x="1831" y="1408"/>
                  </a:lnTo>
                  <a:lnTo>
                    <a:pt x="1817" y="1406"/>
                  </a:lnTo>
                  <a:lnTo>
                    <a:pt x="1786" y="1424"/>
                  </a:lnTo>
                  <a:lnTo>
                    <a:pt x="1776" y="1426"/>
                  </a:lnTo>
                  <a:lnTo>
                    <a:pt x="1770" y="1430"/>
                  </a:lnTo>
                  <a:lnTo>
                    <a:pt x="1654" y="1449"/>
                  </a:lnTo>
                  <a:lnTo>
                    <a:pt x="1650" y="1451"/>
                  </a:lnTo>
                  <a:lnTo>
                    <a:pt x="1648" y="1457"/>
                  </a:lnTo>
                  <a:lnTo>
                    <a:pt x="1749" y="1455"/>
                  </a:lnTo>
                  <a:lnTo>
                    <a:pt x="1735" y="1461"/>
                  </a:lnTo>
                  <a:lnTo>
                    <a:pt x="1722" y="1468"/>
                  </a:lnTo>
                  <a:lnTo>
                    <a:pt x="1708" y="1474"/>
                  </a:lnTo>
                  <a:lnTo>
                    <a:pt x="1697" y="1480"/>
                  </a:lnTo>
                  <a:lnTo>
                    <a:pt x="1683" y="1484"/>
                  </a:lnTo>
                  <a:lnTo>
                    <a:pt x="1670" y="1488"/>
                  </a:lnTo>
                  <a:lnTo>
                    <a:pt x="1656" y="1494"/>
                  </a:lnTo>
                  <a:lnTo>
                    <a:pt x="1644" y="1499"/>
                  </a:lnTo>
                  <a:lnTo>
                    <a:pt x="1623" y="1501"/>
                  </a:lnTo>
                  <a:lnTo>
                    <a:pt x="1604" y="1505"/>
                  </a:lnTo>
                  <a:lnTo>
                    <a:pt x="1584" y="1507"/>
                  </a:lnTo>
                  <a:lnTo>
                    <a:pt x="1565" y="1509"/>
                  </a:lnTo>
                  <a:lnTo>
                    <a:pt x="1545" y="1509"/>
                  </a:lnTo>
                  <a:lnTo>
                    <a:pt x="1526" y="1509"/>
                  </a:lnTo>
                  <a:lnTo>
                    <a:pt x="1507" y="1509"/>
                  </a:lnTo>
                  <a:lnTo>
                    <a:pt x="1489" y="1509"/>
                  </a:lnTo>
                  <a:lnTo>
                    <a:pt x="1375" y="1492"/>
                  </a:lnTo>
                  <a:lnTo>
                    <a:pt x="1371" y="1495"/>
                  </a:lnTo>
                  <a:lnTo>
                    <a:pt x="1371" y="1501"/>
                  </a:lnTo>
                  <a:lnTo>
                    <a:pt x="1384" y="1511"/>
                  </a:lnTo>
                  <a:lnTo>
                    <a:pt x="1367" y="1513"/>
                  </a:lnTo>
                  <a:lnTo>
                    <a:pt x="1352" y="1515"/>
                  </a:lnTo>
                  <a:lnTo>
                    <a:pt x="1336" y="1515"/>
                  </a:lnTo>
                  <a:lnTo>
                    <a:pt x="1322" y="1515"/>
                  </a:lnTo>
                  <a:lnTo>
                    <a:pt x="1305" y="1511"/>
                  </a:lnTo>
                  <a:lnTo>
                    <a:pt x="1291" y="1509"/>
                  </a:lnTo>
                  <a:lnTo>
                    <a:pt x="1274" y="1505"/>
                  </a:lnTo>
                  <a:lnTo>
                    <a:pt x="1260" y="1503"/>
                  </a:lnTo>
                  <a:lnTo>
                    <a:pt x="1245" y="1495"/>
                  </a:lnTo>
                  <a:lnTo>
                    <a:pt x="1227" y="1488"/>
                  </a:lnTo>
                  <a:lnTo>
                    <a:pt x="1262" y="1480"/>
                  </a:lnTo>
                  <a:lnTo>
                    <a:pt x="1262" y="1474"/>
                  </a:lnTo>
                  <a:lnTo>
                    <a:pt x="1134" y="1461"/>
                  </a:lnTo>
                  <a:lnTo>
                    <a:pt x="1084" y="1441"/>
                  </a:lnTo>
                  <a:lnTo>
                    <a:pt x="1035" y="1420"/>
                  </a:lnTo>
                  <a:lnTo>
                    <a:pt x="989" y="1393"/>
                  </a:lnTo>
                  <a:lnTo>
                    <a:pt x="942" y="1368"/>
                  </a:lnTo>
                  <a:lnTo>
                    <a:pt x="894" y="1338"/>
                  </a:lnTo>
                  <a:lnTo>
                    <a:pt x="847" y="1311"/>
                  </a:lnTo>
                  <a:lnTo>
                    <a:pt x="799" y="1282"/>
                  </a:lnTo>
                  <a:lnTo>
                    <a:pt x="752" y="1257"/>
                  </a:lnTo>
                  <a:lnTo>
                    <a:pt x="741" y="1245"/>
                  </a:lnTo>
                  <a:lnTo>
                    <a:pt x="752" y="1241"/>
                  </a:lnTo>
                  <a:lnTo>
                    <a:pt x="760" y="1234"/>
                  </a:lnTo>
                  <a:lnTo>
                    <a:pt x="756" y="1230"/>
                  </a:lnTo>
                  <a:lnTo>
                    <a:pt x="744" y="1232"/>
                  </a:lnTo>
                  <a:lnTo>
                    <a:pt x="733" y="1236"/>
                  </a:lnTo>
                  <a:lnTo>
                    <a:pt x="723" y="1238"/>
                  </a:lnTo>
                  <a:lnTo>
                    <a:pt x="713" y="1238"/>
                  </a:lnTo>
                  <a:lnTo>
                    <a:pt x="684" y="1241"/>
                  </a:lnTo>
                  <a:lnTo>
                    <a:pt x="692" y="1226"/>
                  </a:lnTo>
                  <a:lnTo>
                    <a:pt x="692" y="1220"/>
                  </a:lnTo>
                  <a:lnTo>
                    <a:pt x="690" y="1216"/>
                  </a:lnTo>
                  <a:lnTo>
                    <a:pt x="684" y="1214"/>
                  </a:lnTo>
                  <a:lnTo>
                    <a:pt x="646" y="1261"/>
                  </a:lnTo>
                  <a:lnTo>
                    <a:pt x="636" y="1267"/>
                  </a:lnTo>
                  <a:lnTo>
                    <a:pt x="622" y="1274"/>
                  </a:lnTo>
                  <a:lnTo>
                    <a:pt x="613" y="1276"/>
                  </a:lnTo>
                  <a:lnTo>
                    <a:pt x="589" y="1280"/>
                  </a:lnTo>
                  <a:lnTo>
                    <a:pt x="570" y="1286"/>
                  </a:lnTo>
                  <a:lnTo>
                    <a:pt x="549" y="1290"/>
                  </a:lnTo>
                  <a:lnTo>
                    <a:pt x="531" y="1296"/>
                  </a:lnTo>
                  <a:lnTo>
                    <a:pt x="510" y="1298"/>
                  </a:lnTo>
                  <a:lnTo>
                    <a:pt x="490" y="1302"/>
                  </a:lnTo>
                  <a:lnTo>
                    <a:pt x="469" y="1304"/>
                  </a:lnTo>
                  <a:lnTo>
                    <a:pt x="450" y="1309"/>
                  </a:lnTo>
                  <a:lnTo>
                    <a:pt x="409" y="1315"/>
                  </a:lnTo>
                  <a:lnTo>
                    <a:pt x="393" y="1317"/>
                  </a:lnTo>
                  <a:lnTo>
                    <a:pt x="382" y="1321"/>
                  </a:lnTo>
                  <a:lnTo>
                    <a:pt x="366" y="1325"/>
                  </a:lnTo>
                  <a:lnTo>
                    <a:pt x="355" y="1329"/>
                  </a:lnTo>
                  <a:lnTo>
                    <a:pt x="341" y="1331"/>
                  </a:lnTo>
                  <a:lnTo>
                    <a:pt x="328" y="1333"/>
                  </a:lnTo>
                  <a:lnTo>
                    <a:pt x="314" y="1335"/>
                  </a:lnTo>
                  <a:lnTo>
                    <a:pt x="302" y="1336"/>
                  </a:lnTo>
                  <a:lnTo>
                    <a:pt x="285" y="1336"/>
                  </a:lnTo>
                  <a:lnTo>
                    <a:pt x="265" y="1336"/>
                  </a:lnTo>
                  <a:lnTo>
                    <a:pt x="246" y="1338"/>
                  </a:lnTo>
                  <a:lnTo>
                    <a:pt x="227" y="1333"/>
                  </a:lnTo>
                  <a:lnTo>
                    <a:pt x="209" y="1325"/>
                  </a:lnTo>
                  <a:lnTo>
                    <a:pt x="209" y="1309"/>
                  </a:lnTo>
                  <a:lnTo>
                    <a:pt x="248" y="1294"/>
                  </a:lnTo>
                  <a:lnTo>
                    <a:pt x="269" y="1290"/>
                  </a:lnTo>
                  <a:lnTo>
                    <a:pt x="393" y="1259"/>
                  </a:lnTo>
                  <a:lnTo>
                    <a:pt x="448" y="1226"/>
                  </a:lnTo>
                  <a:lnTo>
                    <a:pt x="465" y="1232"/>
                  </a:lnTo>
                  <a:lnTo>
                    <a:pt x="459" y="1224"/>
                  </a:lnTo>
                  <a:lnTo>
                    <a:pt x="456" y="1222"/>
                  </a:lnTo>
                  <a:lnTo>
                    <a:pt x="456" y="1214"/>
                  </a:lnTo>
                  <a:lnTo>
                    <a:pt x="465" y="1205"/>
                  </a:lnTo>
                  <a:lnTo>
                    <a:pt x="457" y="1197"/>
                  </a:lnTo>
                  <a:lnTo>
                    <a:pt x="450" y="1197"/>
                  </a:lnTo>
                  <a:lnTo>
                    <a:pt x="409" y="1207"/>
                  </a:lnTo>
                  <a:lnTo>
                    <a:pt x="397" y="1208"/>
                  </a:lnTo>
                  <a:lnTo>
                    <a:pt x="341" y="1208"/>
                  </a:lnTo>
                  <a:lnTo>
                    <a:pt x="308" y="1205"/>
                  </a:lnTo>
                  <a:lnTo>
                    <a:pt x="277" y="1201"/>
                  </a:lnTo>
                  <a:lnTo>
                    <a:pt x="244" y="1197"/>
                  </a:lnTo>
                  <a:lnTo>
                    <a:pt x="213" y="1193"/>
                  </a:lnTo>
                  <a:lnTo>
                    <a:pt x="180" y="1185"/>
                  </a:lnTo>
                  <a:lnTo>
                    <a:pt x="149" y="1179"/>
                  </a:lnTo>
                  <a:lnTo>
                    <a:pt x="118" y="1172"/>
                  </a:lnTo>
                  <a:lnTo>
                    <a:pt x="87" y="1164"/>
                  </a:lnTo>
                  <a:lnTo>
                    <a:pt x="75" y="1160"/>
                  </a:lnTo>
                  <a:lnTo>
                    <a:pt x="64" y="1156"/>
                  </a:lnTo>
                  <a:lnTo>
                    <a:pt x="54" y="1150"/>
                  </a:lnTo>
                  <a:lnTo>
                    <a:pt x="44" y="1146"/>
                  </a:lnTo>
                  <a:lnTo>
                    <a:pt x="25" y="1133"/>
                  </a:lnTo>
                  <a:lnTo>
                    <a:pt x="6" y="1115"/>
                  </a:lnTo>
                  <a:lnTo>
                    <a:pt x="2" y="1112"/>
                  </a:lnTo>
                  <a:lnTo>
                    <a:pt x="0" y="1106"/>
                  </a:lnTo>
                  <a:lnTo>
                    <a:pt x="2" y="1092"/>
                  </a:lnTo>
                  <a:lnTo>
                    <a:pt x="33" y="1090"/>
                  </a:lnTo>
                  <a:lnTo>
                    <a:pt x="66" y="1094"/>
                  </a:lnTo>
                  <a:lnTo>
                    <a:pt x="99" y="1100"/>
                  </a:lnTo>
                  <a:lnTo>
                    <a:pt x="132" y="1108"/>
                  </a:lnTo>
                  <a:lnTo>
                    <a:pt x="163" y="1113"/>
                  </a:lnTo>
                  <a:lnTo>
                    <a:pt x="196" y="1119"/>
                  </a:lnTo>
                  <a:lnTo>
                    <a:pt x="227" y="1123"/>
                  </a:lnTo>
                  <a:lnTo>
                    <a:pt x="262" y="1127"/>
                  </a:lnTo>
                  <a:lnTo>
                    <a:pt x="409" y="1115"/>
                  </a:lnTo>
                  <a:lnTo>
                    <a:pt x="423" y="1113"/>
                  </a:lnTo>
                  <a:lnTo>
                    <a:pt x="436" y="1106"/>
                  </a:lnTo>
                  <a:lnTo>
                    <a:pt x="436" y="1117"/>
                  </a:lnTo>
                  <a:lnTo>
                    <a:pt x="444" y="1131"/>
                  </a:lnTo>
                  <a:lnTo>
                    <a:pt x="454" y="1139"/>
                  </a:lnTo>
                  <a:lnTo>
                    <a:pt x="454" y="1125"/>
                  </a:lnTo>
                  <a:lnTo>
                    <a:pt x="450" y="1119"/>
                  </a:lnTo>
                  <a:lnTo>
                    <a:pt x="446" y="1115"/>
                  </a:lnTo>
                  <a:lnTo>
                    <a:pt x="452" y="1106"/>
                  </a:lnTo>
                  <a:lnTo>
                    <a:pt x="483" y="1137"/>
                  </a:lnTo>
                  <a:lnTo>
                    <a:pt x="485" y="1125"/>
                  </a:lnTo>
                  <a:lnTo>
                    <a:pt x="463" y="1102"/>
                  </a:lnTo>
                  <a:lnTo>
                    <a:pt x="461" y="1090"/>
                  </a:lnTo>
                  <a:lnTo>
                    <a:pt x="463" y="1077"/>
                  </a:lnTo>
                  <a:lnTo>
                    <a:pt x="461" y="1063"/>
                  </a:lnTo>
                  <a:lnTo>
                    <a:pt x="392" y="1046"/>
                  </a:lnTo>
                  <a:lnTo>
                    <a:pt x="392" y="1040"/>
                  </a:lnTo>
                  <a:lnTo>
                    <a:pt x="273" y="966"/>
                  </a:lnTo>
                  <a:lnTo>
                    <a:pt x="250" y="953"/>
                  </a:lnTo>
                  <a:lnTo>
                    <a:pt x="229" y="937"/>
                  </a:lnTo>
                  <a:lnTo>
                    <a:pt x="207" y="920"/>
                  </a:lnTo>
                  <a:lnTo>
                    <a:pt x="190" y="904"/>
                  </a:lnTo>
                  <a:lnTo>
                    <a:pt x="168" y="883"/>
                  </a:lnTo>
                  <a:lnTo>
                    <a:pt x="149" y="863"/>
                  </a:lnTo>
                  <a:lnTo>
                    <a:pt x="130" y="844"/>
                  </a:lnTo>
                  <a:lnTo>
                    <a:pt x="112" y="825"/>
                  </a:lnTo>
                  <a:lnTo>
                    <a:pt x="103" y="792"/>
                  </a:lnTo>
                  <a:lnTo>
                    <a:pt x="103" y="786"/>
                  </a:lnTo>
                  <a:lnTo>
                    <a:pt x="110" y="770"/>
                  </a:lnTo>
                  <a:lnTo>
                    <a:pt x="124" y="774"/>
                  </a:lnTo>
                  <a:lnTo>
                    <a:pt x="139" y="782"/>
                  </a:lnTo>
                  <a:lnTo>
                    <a:pt x="153" y="792"/>
                  </a:lnTo>
                  <a:lnTo>
                    <a:pt x="168" y="807"/>
                  </a:lnTo>
                  <a:lnTo>
                    <a:pt x="186" y="821"/>
                  </a:lnTo>
                  <a:lnTo>
                    <a:pt x="203" y="836"/>
                  </a:lnTo>
                  <a:lnTo>
                    <a:pt x="221" y="852"/>
                  </a:lnTo>
                  <a:lnTo>
                    <a:pt x="238" y="867"/>
                  </a:lnTo>
                  <a:lnTo>
                    <a:pt x="256" y="879"/>
                  </a:lnTo>
                  <a:lnTo>
                    <a:pt x="273" y="892"/>
                  </a:lnTo>
                  <a:lnTo>
                    <a:pt x="291" y="904"/>
                  </a:lnTo>
                  <a:lnTo>
                    <a:pt x="310" y="916"/>
                  </a:lnTo>
                  <a:lnTo>
                    <a:pt x="444" y="982"/>
                  </a:lnTo>
                  <a:lnTo>
                    <a:pt x="461" y="985"/>
                  </a:lnTo>
                  <a:lnTo>
                    <a:pt x="481" y="991"/>
                  </a:lnTo>
                  <a:lnTo>
                    <a:pt x="498" y="995"/>
                  </a:lnTo>
                  <a:lnTo>
                    <a:pt x="518" y="1001"/>
                  </a:lnTo>
                  <a:lnTo>
                    <a:pt x="535" y="1003"/>
                  </a:lnTo>
                  <a:lnTo>
                    <a:pt x="554" y="1007"/>
                  </a:lnTo>
                  <a:lnTo>
                    <a:pt x="574" y="1009"/>
                  </a:lnTo>
                  <a:lnTo>
                    <a:pt x="593" y="1011"/>
                  </a:lnTo>
                  <a:lnTo>
                    <a:pt x="607" y="1011"/>
                  </a:lnTo>
                  <a:lnTo>
                    <a:pt x="634" y="1011"/>
                  </a:lnTo>
                  <a:lnTo>
                    <a:pt x="684" y="985"/>
                  </a:lnTo>
                  <a:lnTo>
                    <a:pt x="694" y="978"/>
                  </a:lnTo>
                  <a:lnTo>
                    <a:pt x="700" y="976"/>
                  </a:lnTo>
                  <a:lnTo>
                    <a:pt x="712" y="966"/>
                  </a:lnTo>
                  <a:lnTo>
                    <a:pt x="717" y="964"/>
                  </a:lnTo>
                  <a:lnTo>
                    <a:pt x="723" y="958"/>
                  </a:lnTo>
                  <a:lnTo>
                    <a:pt x="743" y="941"/>
                  </a:lnTo>
                  <a:lnTo>
                    <a:pt x="764" y="925"/>
                  </a:lnTo>
                  <a:lnTo>
                    <a:pt x="774" y="918"/>
                  </a:lnTo>
                  <a:lnTo>
                    <a:pt x="785" y="912"/>
                  </a:lnTo>
                  <a:lnTo>
                    <a:pt x="797" y="906"/>
                  </a:lnTo>
                  <a:lnTo>
                    <a:pt x="808" y="904"/>
                  </a:lnTo>
                  <a:lnTo>
                    <a:pt x="828" y="896"/>
                  </a:lnTo>
                  <a:lnTo>
                    <a:pt x="847" y="896"/>
                  </a:lnTo>
                  <a:lnTo>
                    <a:pt x="867" y="900"/>
                  </a:lnTo>
                  <a:lnTo>
                    <a:pt x="888" y="912"/>
                  </a:lnTo>
                  <a:lnTo>
                    <a:pt x="907" y="929"/>
                  </a:lnTo>
                  <a:lnTo>
                    <a:pt x="907" y="943"/>
                  </a:lnTo>
                  <a:lnTo>
                    <a:pt x="888" y="964"/>
                  </a:lnTo>
                  <a:lnTo>
                    <a:pt x="878" y="966"/>
                  </a:lnTo>
                  <a:lnTo>
                    <a:pt x="855" y="974"/>
                  </a:lnTo>
                  <a:lnTo>
                    <a:pt x="836" y="978"/>
                  </a:lnTo>
                  <a:lnTo>
                    <a:pt x="816" y="985"/>
                  </a:lnTo>
                  <a:lnTo>
                    <a:pt x="797" y="995"/>
                  </a:lnTo>
                  <a:lnTo>
                    <a:pt x="779" y="1009"/>
                  </a:lnTo>
                  <a:lnTo>
                    <a:pt x="760" y="1022"/>
                  </a:lnTo>
                  <a:lnTo>
                    <a:pt x="746" y="1040"/>
                  </a:lnTo>
                  <a:lnTo>
                    <a:pt x="735" y="1057"/>
                  </a:lnTo>
                  <a:lnTo>
                    <a:pt x="731" y="1079"/>
                  </a:lnTo>
                  <a:lnTo>
                    <a:pt x="729" y="1088"/>
                  </a:lnTo>
                  <a:lnTo>
                    <a:pt x="729" y="1100"/>
                  </a:lnTo>
                  <a:lnTo>
                    <a:pt x="729" y="1110"/>
                  </a:lnTo>
                  <a:lnTo>
                    <a:pt x="729" y="1121"/>
                  </a:lnTo>
                  <a:lnTo>
                    <a:pt x="725" y="1131"/>
                  </a:lnTo>
                  <a:lnTo>
                    <a:pt x="721" y="1143"/>
                  </a:lnTo>
                  <a:lnTo>
                    <a:pt x="715" y="1154"/>
                  </a:lnTo>
                  <a:lnTo>
                    <a:pt x="708" y="1166"/>
                  </a:lnTo>
                  <a:lnTo>
                    <a:pt x="694" y="1174"/>
                  </a:lnTo>
                  <a:lnTo>
                    <a:pt x="680" y="1176"/>
                  </a:lnTo>
                  <a:lnTo>
                    <a:pt x="679" y="1185"/>
                  </a:lnTo>
                  <a:lnTo>
                    <a:pt x="706" y="1183"/>
                  </a:lnTo>
                  <a:lnTo>
                    <a:pt x="710" y="1181"/>
                  </a:lnTo>
                  <a:lnTo>
                    <a:pt x="737" y="1150"/>
                  </a:lnTo>
                  <a:lnTo>
                    <a:pt x="744" y="1108"/>
                  </a:lnTo>
                  <a:lnTo>
                    <a:pt x="789" y="1117"/>
                  </a:lnTo>
                  <a:lnTo>
                    <a:pt x="836" y="1129"/>
                  </a:lnTo>
                  <a:lnTo>
                    <a:pt x="882" y="1141"/>
                  </a:lnTo>
                  <a:lnTo>
                    <a:pt x="929" y="1152"/>
                  </a:lnTo>
                  <a:lnTo>
                    <a:pt x="973" y="1162"/>
                  </a:lnTo>
                  <a:lnTo>
                    <a:pt x="1020" y="1174"/>
                  </a:lnTo>
                  <a:lnTo>
                    <a:pt x="1066" y="1181"/>
                  </a:lnTo>
                  <a:lnTo>
                    <a:pt x="1113" y="1191"/>
                  </a:lnTo>
                  <a:lnTo>
                    <a:pt x="1165" y="1193"/>
                  </a:lnTo>
                  <a:lnTo>
                    <a:pt x="1160" y="1201"/>
                  </a:lnTo>
                  <a:lnTo>
                    <a:pt x="1148" y="1205"/>
                  </a:lnTo>
                  <a:lnTo>
                    <a:pt x="1134" y="1212"/>
                  </a:lnTo>
                  <a:lnTo>
                    <a:pt x="1123" y="1214"/>
                  </a:lnTo>
                  <a:lnTo>
                    <a:pt x="1119" y="1216"/>
                  </a:lnTo>
                  <a:lnTo>
                    <a:pt x="1115" y="1218"/>
                  </a:lnTo>
                  <a:lnTo>
                    <a:pt x="1115" y="1226"/>
                  </a:lnTo>
                  <a:lnTo>
                    <a:pt x="1181" y="1208"/>
                  </a:lnTo>
                  <a:lnTo>
                    <a:pt x="1346" y="1119"/>
                  </a:lnTo>
                  <a:lnTo>
                    <a:pt x="1355" y="1115"/>
                  </a:lnTo>
                  <a:lnTo>
                    <a:pt x="1367" y="1112"/>
                  </a:lnTo>
                  <a:lnTo>
                    <a:pt x="1377" y="1108"/>
                  </a:lnTo>
                  <a:lnTo>
                    <a:pt x="1419" y="1094"/>
                  </a:lnTo>
                  <a:lnTo>
                    <a:pt x="1437" y="1086"/>
                  </a:lnTo>
                  <a:lnTo>
                    <a:pt x="1456" y="1081"/>
                  </a:lnTo>
                  <a:lnTo>
                    <a:pt x="1476" y="1077"/>
                  </a:lnTo>
                  <a:lnTo>
                    <a:pt x="1495" y="1075"/>
                  </a:lnTo>
                  <a:lnTo>
                    <a:pt x="1514" y="1069"/>
                  </a:lnTo>
                  <a:lnTo>
                    <a:pt x="1534" y="1067"/>
                  </a:lnTo>
                  <a:lnTo>
                    <a:pt x="1553" y="1067"/>
                  </a:lnTo>
                  <a:lnTo>
                    <a:pt x="1573" y="1067"/>
                  </a:lnTo>
                  <a:lnTo>
                    <a:pt x="1689" y="1077"/>
                  </a:lnTo>
                  <a:lnTo>
                    <a:pt x="1703" y="1081"/>
                  </a:lnTo>
                  <a:lnTo>
                    <a:pt x="1718" y="1086"/>
                  </a:lnTo>
                  <a:lnTo>
                    <a:pt x="1732" y="1092"/>
                  </a:lnTo>
                  <a:lnTo>
                    <a:pt x="1747" y="1100"/>
                  </a:lnTo>
                  <a:lnTo>
                    <a:pt x="1761" y="1104"/>
                  </a:lnTo>
                  <a:lnTo>
                    <a:pt x="1778" y="1110"/>
                  </a:lnTo>
                  <a:lnTo>
                    <a:pt x="1792" y="1112"/>
                  </a:lnTo>
                  <a:lnTo>
                    <a:pt x="1809" y="1113"/>
                  </a:lnTo>
                  <a:lnTo>
                    <a:pt x="1811" y="1115"/>
                  </a:lnTo>
                  <a:lnTo>
                    <a:pt x="1836" y="1115"/>
                  </a:lnTo>
                  <a:lnTo>
                    <a:pt x="1834" y="1106"/>
                  </a:lnTo>
                  <a:lnTo>
                    <a:pt x="1743" y="1084"/>
                  </a:lnTo>
                  <a:lnTo>
                    <a:pt x="1778" y="1038"/>
                  </a:lnTo>
                  <a:lnTo>
                    <a:pt x="1813" y="1011"/>
                  </a:lnTo>
                  <a:lnTo>
                    <a:pt x="1856" y="991"/>
                  </a:lnTo>
                  <a:lnTo>
                    <a:pt x="1871" y="987"/>
                  </a:lnTo>
                  <a:lnTo>
                    <a:pt x="1893" y="989"/>
                  </a:lnTo>
                  <a:lnTo>
                    <a:pt x="1896" y="985"/>
                  </a:lnTo>
                  <a:lnTo>
                    <a:pt x="1879" y="974"/>
                  </a:lnTo>
                  <a:lnTo>
                    <a:pt x="1856" y="974"/>
                  </a:lnTo>
                  <a:lnTo>
                    <a:pt x="1848" y="949"/>
                  </a:lnTo>
                  <a:lnTo>
                    <a:pt x="1846" y="925"/>
                  </a:lnTo>
                  <a:lnTo>
                    <a:pt x="1844" y="900"/>
                  </a:lnTo>
                  <a:lnTo>
                    <a:pt x="1848" y="877"/>
                  </a:lnTo>
                  <a:lnTo>
                    <a:pt x="1852" y="852"/>
                  </a:lnTo>
                  <a:lnTo>
                    <a:pt x="1860" y="828"/>
                  </a:lnTo>
                  <a:lnTo>
                    <a:pt x="1865" y="805"/>
                  </a:lnTo>
                  <a:lnTo>
                    <a:pt x="1877" y="782"/>
                  </a:lnTo>
                  <a:lnTo>
                    <a:pt x="1945" y="890"/>
                  </a:lnTo>
                  <a:lnTo>
                    <a:pt x="1947" y="896"/>
                  </a:lnTo>
                  <a:lnTo>
                    <a:pt x="1955" y="904"/>
                  </a:lnTo>
                  <a:lnTo>
                    <a:pt x="1964" y="916"/>
                  </a:lnTo>
                  <a:lnTo>
                    <a:pt x="1976" y="927"/>
                  </a:lnTo>
                  <a:lnTo>
                    <a:pt x="1988" y="937"/>
                  </a:lnTo>
                  <a:lnTo>
                    <a:pt x="2001" y="947"/>
                  </a:lnTo>
                  <a:lnTo>
                    <a:pt x="2013" y="953"/>
                  </a:lnTo>
                  <a:lnTo>
                    <a:pt x="2026" y="960"/>
                  </a:lnTo>
                  <a:lnTo>
                    <a:pt x="2040" y="964"/>
                  </a:lnTo>
                  <a:lnTo>
                    <a:pt x="2054" y="966"/>
                  </a:lnTo>
                  <a:lnTo>
                    <a:pt x="2077" y="991"/>
                  </a:lnTo>
                  <a:lnTo>
                    <a:pt x="2100" y="1011"/>
                  </a:lnTo>
                  <a:lnTo>
                    <a:pt x="2125" y="1022"/>
                  </a:lnTo>
                  <a:lnTo>
                    <a:pt x="2151" y="1034"/>
                  </a:lnTo>
                  <a:lnTo>
                    <a:pt x="2174" y="1038"/>
                  </a:lnTo>
                  <a:lnTo>
                    <a:pt x="2199" y="1042"/>
                  </a:lnTo>
                  <a:lnTo>
                    <a:pt x="2224" y="1044"/>
                  </a:lnTo>
                  <a:lnTo>
                    <a:pt x="2249" y="1046"/>
                  </a:lnTo>
                  <a:lnTo>
                    <a:pt x="2277" y="1042"/>
                  </a:lnTo>
                  <a:lnTo>
                    <a:pt x="2306" y="1034"/>
                  </a:lnTo>
                  <a:lnTo>
                    <a:pt x="2420" y="982"/>
                  </a:lnTo>
                  <a:lnTo>
                    <a:pt x="2430" y="974"/>
                  </a:lnTo>
                  <a:lnTo>
                    <a:pt x="2453" y="954"/>
                  </a:lnTo>
                  <a:lnTo>
                    <a:pt x="2480" y="935"/>
                  </a:lnTo>
                  <a:lnTo>
                    <a:pt x="2507" y="912"/>
                  </a:lnTo>
                  <a:lnTo>
                    <a:pt x="2535" y="890"/>
                  </a:lnTo>
                  <a:lnTo>
                    <a:pt x="2558" y="863"/>
                  </a:lnTo>
                  <a:lnTo>
                    <a:pt x="2583" y="838"/>
                  </a:lnTo>
                  <a:lnTo>
                    <a:pt x="2602" y="811"/>
                  </a:lnTo>
                  <a:lnTo>
                    <a:pt x="2620" y="786"/>
                  </a:lnTo>
                  <a:lnTo>
                    <a:pt x="2622" y="768"/>
                  </a:lnTo>
                  <a:lnTo>
                    <a:pt x="2626" y="753"/>
                  </a:lnTo>
                  <a:lnTo>
                    <a:pt x="2626" y="737"/>
                  </a:lnTo>
                  <a:lnTo>
                    <a:pt x="2626" y="724"/>
                  </a:lnTo>
                  <a:lnTo>
                    <a:pt x="2622" y="706"/>
                  </a:lnTo>
                  <a:lnTo>
                    <a:pt x="2620" y="693"/>
                  </a:lnTo>
                  <a:lnTo>
                    <a:pt x="2616" y="677"/>
                  </a:lnTo>
                  <a:lnTo>
                    <a:pt x="2612" y="664"/>
                  </a:lnTo>
                  <a:lnTo>
                    <a:pt x="2608" y="658"/>
                  </a:lnTo>
                  <a:lnTo>
                    <a:pt x="2610" y="636"/>
                  </a:lnTo>
                  <a:lnTo>
                    <a:pt x="2612" y="617"/>
                  </a:lnTo>
                  <a:lnTo>
                    <a:pt x="2612" y="596"/>
                  </a:lnTo>
                  <a:lnTo>
                    <a:pt x="2612" y="578"/>
                  </a:lnTo>
                  <a:lnTo>
                    <a:pt x="2610" y="557"/>
                  </a:lnTo>
                  <a:lnTo>
                    <a:pt x="2608" y="538"/>
                  </a:lnTo>
                  <a:lnTo>
                    <a:pt x="2606" y="516"/>
                  </a:lnTo>
                  <a:lnTo>
                    <a:pt x="2604" y="499"/>
                  </a:lnTo>
                  <a:lnTo>
                    <a:pt x="2600" y="487"/>
                  </a:lnTo>
                  <a:lnTo>
                    <a:pt x="2569" y="441"/>
                  </a:lnTo>
                  <a:lnTo>
                    <a:pt x="2548" y="417"/>
                  </a:lnTo>
                  <a:lnTo>
                    <a:pt x="2567" y="417"/>
                  </a:lnTo>
                  <a:lnTo>
                    <a:pt x="2587" y="419"/>
                  </a:lnTo>
                  <a:lnTo>
                    <a:pt x="2606" y="421"/>
                  </a:lnTo>
                  <a:lnTo>
                    <a:pt x="2626" y="427"/>
                  </a:lnTo>
                  <a:lnTo>
                    <a:pt x="2645" y="431"/>
                  </a:lnTo>
                  <a:lnTo>
                    <a:pt x="2664" y="437"/>
                  </a:lnTo>
                  <a:lnTo>
                    <a:pt x="2684" y="444"/>
                  </a:lnTo>
                  <a:lnTo>
                    <a:pt x="2705" y="458"/>
                  </a:lnTo>
                  <a:lnTo>
                    <a:pt x="2690" y="468"/>
                  </a:lnTo>
                  <a:lnTo>
                    <a:pt x="2674" y="479"/>
                  </a:lnTo>
                  <a:lnTo>
                    <a:pt x="2670" y="483"/>
                  </a:lnTo>
                  <a:lnTo>
                    <a:pt x="2670" y="489"/>
                  </a:lnTo>
                  <a:lnTo>
                    <a:pt x="2711" y="472"/>
                  </a:lnTo>
                  <a:lnTo>
                    <a:pt x="2723" y="470"/>
                  </a:lnTo>
                  <a:lnTo>
                    <a:pt x="2744" y="462"/>
                  </a:lnTo>
                  <a:lnTo>
                    <a:pt x="2767" y="458"/>
                  </a:lnTo>
                  <a:lnTo>
                    <a:pt x="2789" y="452"/>
                  </a:lnTo>
                  <a:lnTo>
                    <a:pt x="2812" y="452"/>
                  </a:lnTo>
                  <a:lnTo>
                    <a:pt x="2833" y="452"/>
                  </a:lnTo>
                  <a:lnTo>
                    <a:pt x="2856" y="454"/>
                  </a:lnTo>
                  <a:lnTo>
                    <a:pt x="2880" y="458"/>
                  </a:lnTo>
                  <a:lnTo>
                    <a:pt x="2903" y="466"/>
                  </a:lnTo>
                  <a:lnTo>
                    <a:pt x="2911" y="464"/>
                  </a:lnTo>
                  <a:lnTo>
                    <a:pt x="2911" y="462"/>
                  </a:lnTo>
                  <a:lnTo>
                    <a:pt x="2909" y="454"/>
                  </a:lnTo>
                  <a:lnTo>
                    <a:pt x="2891" y="444"/>
                  </a:lnTo>
                  <a:lnTo>
                    <a:pt x="2868" y="441"/>
                  </a:lnTo>
                  <a:lnTo>
                    <a:pt x="2874" y="435"/>
                  </a:lnTo>
                  <a:lnTo>
                    <a:pt x="2930" y="423"/>
                  </a:lnTo>
                  <a:lnTo>
                    <a:pt x="2948" y="423"/>
                  </a:lnTo>
                  <a:lnTo>
                    <a:pt x="2965" y="427"/>
                  </a:lnTo>
                  <a:lnTo>
                    <a:pt x="2983" y="429"/>
                  </a:lnTo>
                  <a:lnTo>
                    <a:pt x="3002" y="435"/>
                  </a:lnTo>
                  <a:lnTo>
                    <a:pt x="3019" y="441"/>
                  </a:lnTo>
                  <a:lnTo>
                    <a:pt x="3037" y="446"/>
                  </a:lnTo>
                  <a:lnTo>
                    <a:pt x="3054" y="454"/>
                  </a:lnTo>
                  <a:lnTo>
                    <a:pt x="3074" y="466"/>
                  </a:lnTo>
                  <a:lnTo>
                    <a:pt x="3043" y="477"/>
                  </a:lnTo>
                  <a:lnTo>
                    <a:pt x="3008" y="491"/>
                  </a:lnTo>
                  <a:lnTo>
                    <a:pt x="3000" y="501"/>
                  </a:lnTo>
                  <a:lnTo>
                    <a:pt x="3002" y="505"/>
                  </a:lnTo>
                  <a:lnTo>
                    <a:pt x="3021" y="499"/>
                  </a:lnTo>
                  <a:lnTo>
                    <a:pt x="3041" y="493"/>
                  </a:lnTo>
                  <a:lnTo>
                    <a:pt x="3060" y="489"/>
                  </a:lnTo>
                  <a:lnTo>
                    <a:pt x="3081" y="487"/>
                  </a:lnTo>
                  <a:lnTo>
                    <a:pt x="3099" y="483"/>
                  </a:lnTo>
                  <a:lnTo>
                    <a:pt x="3120" y="481"/>
                  </a:lnTo>
                  <a:lnTo>
                    <a:pt x="3140" y="481"/>
                  </a:lnTo>
                  <a:lnTo>
                    <a:pt x="3161" y="483"/>
                  </a:lnTo>
                  <a:lnTo>
                    <a:pt x="3173" y="483"/>
                  </a:lnTo>
                  <a:lnTo>
                    <a:pt x="3207" y="483"/>
                  </a:lnTo>
                  <a:lnTo>
                    <a:pt x="3242" y="487"/>
                  </a:lnTo>
                  <a:lnTo>
                    <a:pt x="3277" y="493"/>
                  </a:lnTo>
                  <a:lnTo>
                    <a:pt x="3314" y="501"/>
                  </a:lnTo>
                  <a:lnTo>
                    <a:pt x="3349" y="508"/>
                  </a:lnTo>
                  <a:lnTo>
                    <a:pt x="3386" y="520"/>
                  </a:lnTo>
                  <a:lnTo>
                    <a:pt x="3421" y="536"/>
                  </a:lnTo>
                  <a:lnTo>
                    <a:pt x="3458" y="555"/>
                  </a:lnTo>
                  <a:lnTo>
                    <a:pt x="3452" y="596"/>
                  </a:lnTo>
                  <a:lnTo>
                    <a:pt x="3462" y="594"/>
                  </a:lnTo>
                  <a:lnTo>
                    <a:pt x="3469" y="578"/>
                  </a:lnTo>
                  <a:lnTo>
                    <a:pt x="3477" y="633"/>
                  </a:lnTo>
                  <a:lnTo>
                    <a:pt x="3487" y="634"/>
                  </a:lnTo>
                  <a:lnTo>
                    <a:pt x="3489" y="609"/>
                  </a:lnTo>
                  <a:lnTo>
                    <a:pt x="3487" y="586"/>
                  </a:lnTo>
                  <a:lnTo>
                    <a:pt x="3487" y="565"/>
                  </a:lnTo>
                  <a:lnTo>
                    <a:pt x="3489" y="543"/>
                  </a:lnTo>
                  <a:lnTo>
                    <a:pt x="3495" y="522"/>
                  </a:lnTo>
                  <a:lnTo>
                    <a:pt x="3496" y="499"/>
                  </a:lnTo>
                  <a:lnTo>
                    <a:pt x="3502" y="479"/>
                  </a:lnTo>
                  <a:lnTo>
                    <a:pt x="3506" y="456"/>
                  </a:lnTo>
                  <a:lnTo>
                    <a:pt x="3512" y="437"/>
                  </a:lnTo>
                  <a:lnTo>
                    <a:pt x="3512" y="419"/>
                  </a:lnTo>
                  <a:lnTo>
                    <a:pt x="3512" y="404"/>
                  </a:lnTo>
                  <a:lnTo>
                    <a:pt x="3512" y="388"/>
                  </a:lnTo>
                  <a:lnTo>
                    <a:pt x="3512" y="373"/>
                  </a:lnTo>
                  <a:lnTo>
                    <a:pt x="3510" y="357"/>
                  </a:lnTo>
                  <a:lnTo>
                    <a:pt x="3508" y="342"/>
                  </a:lnTo>
                  <a:lnTo>
                    <a:pt x="3506" y="326"/>
                  </a:lnTo>
                  <a:lnTo>
                    <a:pt x="3506" y="313"/>
                  </a:lnTo>
                  <a:lnTo>
                    <a:pt x="3502" y="301"/>
                  </a:lnTo>
                  <a:lnTo>
                    <a:pt x="3498" y="289"/>
                  </a:lnTo>
                  <a:lnTo>
                    <a:pt x="3514" y="278"/>
                  </a:lnTo>
                  <a:lnTo>
                    <a:pt x="3543" y="239"/>
                  </a:lnTo>
                  <a:lnTo>
                    <a:pt x="3549" y="212"/>
                  </a:lnTo>
                  <a:lnTo>
                    <a:pt x="3547" y="200"/>
                  </a:lnTo>
                  <a:lnTo>
                    <a:pt x="3543" y="196"/>
                  </a:lnTo>
                  <a:lnTo>
                    <a:pt x="3539" y="208"/>
                  </a:lnTo>
                  <a:lnTo>
                    <a:pt x="3533" y="221"/>
                  </a:lnTo>
                  <a:lnTo>
                    <a:pt x="3526" y="235"/>
                  </a:lnTo>
                  <a:lnTo>
                    <a:pt x="3518" y="251"/>
                  </a:lnTo>
                  <a:lnTo>
                    <a:pt x="3506" y="262"/>
                  </a:lnTo>
                  <a:lnTo>
                    <a:pt x="3495" y="274"/>
                  </a:lnTo>
                  <a:lnTo>
                    <a:pt x="3481" y="282"/>
                  </a:lnTo>
                  <a:lnTo>
                    <a:pt x="3467" y="287"/>
                  </a:lnTo>
                  <a:lnTo>
                    <a:pt x="3454" y="289"/>
                  </a:lnTo>
                  <a:lnTo>
                    <a:pt x="3442" y="291"/>
                  </a:lnTo>
                  <a:lnTo>
                    <a:pt x="3431" y="291"/>
                  </a:lnTo>
                  <a:lnTo>
                    <a:pt x="3421" y="291"/>
                  </a:lnTo>
                  <a:lnTo>
                    <a:pt x="3409" y="287"/>
                  </a:lnTo>
                  <a:lnTo>
                    <a:pt x="3398" y="284"/>
                  </a:lnTo>
                  <a:lnTo>
                    <a:pt x="3386" y="278"/>
                  </a:lnTo>
                  <a:lnTo>
                    <a:pt x="3376" y="272"/>
                  </a:lnTo>
                  <a:lnTo>
                    <a:pt x="3359" y="256"/>
                  </a:lnTo>
                  <a:lnTo>
                    <a:pt x="3343" y="243"/>
                  </a:lnTo>
                  <a:lnTo>
                    <a:pt x="3330" y="227"/>
                  </a:lnTo>
                  <a:lnTo>
                    <a:pt x="3318" y="214"/>
                  </a:lnTo>
                  <a:lnTo>
                    <a:pt x="3287" y="148"/>
                  </a:lnTo>
                  <a:lnTo>
                    <a:pt x="3285" y="138"/>
                  </a:lnTo>
                  <a:lnTo>
                    <a:pt x="3279" y="123"/>
                  </a:lnTo>
                  <a:lnTo>
                    <a:pt x="3275" y="109"/>
                  </a:lnTo>
                  <a:lnTo>
                    <a:pt x="3270" y="95"/>
                  </a:lnTo>
                  <a:lnTo>
                    <a:pt x="3270" y="84"/>
                  </a:lnTo>
                  <a:lnTo>
                    <a:pt x="3268" y="70"/>
                  </a:lnTo>
                  <a:lnTo>
                    <a:pt x="3270" y="57"/>
                  </a:lnTo>
                  <a:lnTo>
                    <a:pt x="3275" y="43"/>
                  </a:lnTo>
                  <a:lnTo>
                    <a:pt x="3283" y="31"/>
                  </a:lnTo>
                  <a:lnTo>
                    <a:pt x="3308" y="20"/>
                  </a:lnTo>
                  <a:lnTo>
                    <a:pt x="3335" y="14"/>
                  </a:lnTo>
                  <a:lnTo>
                    <a:pt x="3361" y="12"/>
                  </a:lnTo>
                  <a:lnTo>
                    <a:pt x="3388" y="12"/>
                  </a:lnTo>
                  <a:lnTo>
                    <a:pt x="3413" y="12"/>
                  </a:lnTo>
                  <a:lnTo>
                    <a:pt x="3440" y="12"/>
                  </a:lnTo>
                  <a:lnTo>
                    <a:pt x="3465" y="8"/>
                  </a:lnTo>
                  <a:lnTo>
                    <a:pt x="3495" y="0"/>
                  </a:lnTo>
                  <a:lnTo>
                    <a:pt x="3512" y="10"/>
                  </a:lnTo>
                  <a:lnTo>
                    <a:pt x="3512" y="14"/>
                  </a:lnTo>
                  <a:lnTo>
                    <a:pt x="3514" y="24"/>
                  </a:lnTo>
                  <a:lnTo>
                    <a:pt x="3522" y="41"/>
                  </a:lnTo>
                  <a:lnTo>
                    <a:pt x="3514" y="60"/>
                  </a:lnTo>
                  <a:lnTo>
                    <a:pt x="3500" y="80"/>
                  </a:lnTo>
                  <a:lnTo>
                    <a:pt x="3481" y="95"/>
                  </a:lnTo>
                  <a:lnTo>
                    <a:pt x="3463" y="109"/>
                  </a:lnTo>
                  <a:lnTo>
                    <a:pt x="3456" y="113"/>
                  </a:lnTo>
                  <a:lnTo>
                    <a:pt x="3444" y="115"/>
                  </a:lnTo>
                  <a:lnTo>
                    <a:pt x="3434" y="117"/>
                  </a:lnTo>
                  <a:lnTo>
                    <a:pt x="3423" y="119"/>
                  </a:lnTo>
                  <a:lnTo>
                    <a:pt x="3413" y="121"/>
                  </a:lnTo>
                  <a:lnTo>
                    <a:pt x="3392" y="119"/>
                  </a:lnTo>
                  <a:lnTo>
                    <a:pt x="3372" y="119"/>
                  </a:lnTo>
                  <a:lnTo>
                    <a:pt x="3351" y="109"/>
                  </a:lnTo>
                  <a:lnTo>
                    <a:pt x="3345" y="109"/>
                  </a:lnTo>
                  <a:lnTo>
                    <a:pt x="3347" y="117"/>
                  </a:lnTo>
                  <a:lnTo>
                    <a:pt x="3386" y="134"/>
                  </a:lnTo>
                  <a:lnTo>
                    <a:pt x="3378" y="146"/>
                  </a:lnTo>
                  <a:lnTo>
                    <a:pt x="3370" y="152"/>
                  </a:lnTo>
                  <a:lnTo>
                    <a:pt x="3372" y="157"/>
                  </a:lnTo>
                  <a:lnTo>
                    <a:pt x="3386" y="156"/>
                  </a:lnTo>
                  <a:lnTo>
                    <a:pt x="3394" y="148"/>
                  </a:lnTo>
                  <a:lnTo>
                    <a:pt x="3401" y="136"/>
                  </a:lnTo>
                  <a:lnTo>
                    <a:pt x="3469" y="124"/>
                  </a:lnTo>
                  <a:lnTo>
                    <a:pt x="3481" y="117"/>
                  </a:lnTo>
                  <a:lnTo>
                    <a:pt x="3485" y="113"/>
                  </a:lnTo>
                  <a:lnTo>
                    <a:pt x="3524" y="111"/>
                  </a:lnTo>
                  <a:lnTo>
                    <a:pt x="3531" y="109"/>
                  </a:lnTo>
                  <a:lnTo>
                    <a:pt x="3553" y="88"/>
                  </a:lnTo>
                  <a:lnTo>
                    <a:pt x="3557" y="86"/>
                  </a:lnTo>
                  <a:lnTo>
                    <a:pt x="3570" y="93"/>
                  </a:lnTo>
                  <a:lnTo>
                    <a:pt x="3586" y="99"/>
                  </a:lnTo>
                  <a:lnTo>
                    <a:pt x="3601" y="99"/>
                  </a:lnTo>
                  <a:lnTo>
                    <a:pt x="3617" y="97"/>
                  </a:lnTo>
                  <a:lnTo>
                    <a:pt x="3632" y="101"/>
                  </a:lnTo>
                  <a:lnTo>
                    <a:pt x="3638" y="115"/>
                  </a:lnTo>
                  <a:lnTo>
                    <a:pt x="3644" y="128"/>
                  </a:lnTo>
                  <a:lnTo>
                    <a:pt x="3646" y="142"/>
                  </a:lnTo>
                  <a:lnTo>
                    <a:pt x="3644" y="157"/>
                  </a:lnTo>
                  <a:lnTo>
                    <a:pt x="3628" y="187"/>
                  </a:lnTo>
                  <a:lnTo>
                    <a:pt x="3624" y="190"/>
                  </a:lnTo>
                  <a:lnTo>
                    <a:pt x="3613" y="194"/>
                  </a:lnTo>
                  <a:lnTo>
                    <a:pt x="3601" y="196"/>
                  </a:lnTo>
                  <a:lnTo>
                    <a:pt x="3590" y="194"/>
                  </a:lnTo>
                  <a:lnTo>
                    <a:pt x="3580" y="190"/>
                  </a:lnTo>
                  <a:lnTo>
                    <a:pt x="3568" y="190"/>
                  </a:lnTo>
                  <a:lnTo>
                    <a:pt x="3564" y="198"/>
                  </a:lnTo>
                  <a:lnTo>
                    <a:pt x="3566" y="202"/>
                  </a:lnTo>
                  <a:lnTo>
                    <a:pt x="3578" y="206"/>
                  </a:lnTo>
                  <a:lnTo>
                    <a:pt x="3591" y="210"/>
                  </a:lnTo>
                  <a:lnTo>
                    <a:pt x="3605" y="210"/>
                  </a:lnTo>
                  <a:lnTo>
                    <a:pt x="3619" y="212"/>
                  </a:lnTo>
                  <a:lnTo>
                    <a:pt x="3630" y="237"/>
                  </a:lnTo>
                  <a:lnTo>
                    <a:pt x="3644" y="264"/>
                  </a:lnTo>
                  <a:lnTo>
                    <a:pt x="3655" y="291"/>
                  </a:lnTo>
                  <a:lnTo>
                    <a:pt x="3671" y="318"/>
                  </a:lnTo>
                  <a:lnTo>
                    <a:pt x="3683" y="344"/>
                  </a:lnTo>
                  <a:lnTo>
                    <a:pt x="3698" y="371"/>
                  </a:lnTo>
                  <a:lnTo>
                    <a:pt x="3716" y="396"/>
                  </a:lnTo>
                  <a:lnTo>
                    <a:pt x="3733" y="425"/>
                  </a:lnTo>
                  <a:lnTo>
                    <a:pt x="3760" y="475"/>
                  </a:lnTo>
                  <a:lnTo>
                    <a:pt x="3789" y="526"/>
                  </a:lnTo>
                  <a:lnTo>
                    <a:pt x="3816" y="576"/>
                  </a:lnTo>
                  <a:lnTo>
                    <a:pt x="3840" y="629"/>
                  </a:lnTo>
                  <a:lnTo>
                    <a:pt x="3855" y="679"/>
                  </a:lnTo>
                  <a:lnTo>
                    <a:pt x="3865" y="731"/>
                  </a:lnTo>
                  <a:lnTo>
                    <a:pt x="3863" y="782"/>
                  </a:lnTo>
                  <a:lnTo>
                    <a:pt x="3851" y="834"/>
                  </a:lnTo>
                  <a:lnTo>
                    <a:pt x="3838" y="852"/>
                  </a:lnTo>
                  <a:lnTo>
                    <a:pt x="3822" y="871"/>
                  </a:lnTo>
                  <a:lnTo>
                    <a:pt x="3801" y="887"/>
                  </a:lnTo>
                  <a:lnTo>
                    <a:pt x="3782" y="900"/>
                  </a:lnTo>
                  <a:lnTo>
                    <a:pt x="3772" y="910"/>
                  </a:lnTo>
                  <a:lnTo>
                    <a:pt x="3756" y="916"/>
                  </a:lnTo>
                  <a:lnTo>
                    <a:pt x="3747" y="923"/>
                  </a:lnTo>
                  <a:lnTo>
                    <a:pt x="3735" y="925"/>
                  </a:lnTo>
                  <a:lnTo>
                    <a:pt x="3731" y="929"/>
                  </a:lnTo>
                  <a:lnTo>
                    <a:pt x="3721" y="929"/>
                  </a:lnTo>
                  <a:lnTo>
                    <a:pt x="3617" y="953"/>
                  </a:lnTo>
                  <a:lnTo>
                    <a:pt x="3572" y="958"/>
                  </a:lnTo>
                  <a:lnTo>
                    <a:pt x="3529" y="964"/>
                  </a:lnTo>
                  <a:lnTo>
                    <a:pt x="3487" y="968"/>
                  </a:lnTo>
                  <a:lnTo>
                    <a:pt x="3444" y="970"/>
                  </a:lnTo>
                  <a:lnTo>
                    <a:pt x="3399" y="968"/>
                  </a:lnTo>
                  <a:lnTo>
                    <a:pt x="3357" y="964"/>
                  </a:lnTo>
                  <a:lnTo>
                    <a:pt x="3314" y="958"/>
                  </a:lnTo>
                  <a:lnTo>
                    <a:pt x="3271" y="951"/>
                  </a:lnTo>
                  <a:lnTo>
                    <a:pt x="3246" y="945"/>
                  </a:lnTo>
                  <a:lnTo>
                    <a:pt x="3242" y="953"/>
                  </a:lnTo>
                  <a:lnTo>
                    <a:pt x="3254" y="960"/>
                  </a:lnTo>
                  <a:lnTo>
                    <a:pt x="3271" y="964"/>
                  </a:lnTo>
                  <a:lnTo>
                    <a:pt x="3289" y="968"/>
                  </a:lnTo>
                  <a:lnTo>
                    <a:pt x="3306" y="972"/>
                  </a:lnTo>
                  <a:lnTo>
                    <a:pt x="3326" y="976"/>
                  </a:lnTo>
                  <a:lnTo>
                    <a:pt x="3343" y="978"/>
                  </a:lnTo>
                  <a:lnTo>
                    <a:pt x="3361" y="982"/>
                  </a:lnTo>
                  <a:lnTo>
                    <a:pt x="3378" y="984"/>
                  </a:lnTo>
                  <a:lnTo>
                    <a:pt x="3398" y="987"/>
                  </a:lnTo>
                  <a:lnTo>
                    <a:pt x="3382" y="1017"/>
                  </a:lnTo>
                  <a:lnTo>
                    <a:pt x="3353" y="1051"/>
                  </a:lnTo>
                  <a:lnTo>
                    <a:pt x="3330" y="1090"/>
                  </a:lnTo>
                  <a:lnTo>
                    <a:pt x="3310" y="1127"/>
                  </a:lnTo>
                  <a:lnTo>
                    <a:pt x="3297" y="1168"/>
                  </a:lnTo>
                  <a:lnTo>
                    <a:pt x="3283" y="1205"/>
                  </a:lnTo>
                  <a:lnTo>
                    <a:pt x="3273" y="1243"/>
                  </a:lnTo>
                  <a:lnTo>
                    <a:pt x="3262" y="1282"/>
                  </a:lnTo>
                  <a:lnTo>
                    <a:pt x="3254" y="1321"/>
                  </a:lnTo>
                  <a:lnTo>
                    <a:pt x="3219" y="1276"/>
                  </a:lnTo>
                  <a:lnTo>
                    <a:pt x="3209" y="1271"/>
                  </a:lnTo>
                  <a:lnTo>
                    <a:pt x="3219" y="1238"/>
                  </a:lnTo>
                  <a:lnTo>
                    <a:pt x="3207" y="1201"/>
                  </a:lnTo>
                  <a:lnTo>
                    <a:pt x="3184" y="1174"/>
                  </a:lnTo>
                  <a:lnTo>
                    <a:pt x="3194" y="1154"/>
                  </a:lnTo>
                  <a:lnTo>
                    <a:pt x="3204" y="1137"/>
                  </a:lnTo>
                  <a:lnTo>
                    <a:pt x="3209" y="1119"/>
                  </a:lnTo>
                  <a:lnTo>
                    <a:pt x="3217" y="1102"/>
                  </a:lnTo>
                  <a:lnTo>
                    <a:pt x="3219" y="1084"/>
                  </a:lnTo>
                  <a:lnTo>
                    <a:pt x="3223" y="1067"/>
                  </a:lnTo>
                  <a:lnTo>
                    <a:pt x="3225" y="1049"/>
                  </a:lnTo>
                  <a:lnTo>
                    <a:pt x="3227" y="1032"/>
                  </a:lnTo>
                  <a:lnTo>
                    <a:pt x="3207" y="887"/>
                  </a:lnTo>
                  <a:lnTo>
                    <a:pt x="3196" y="858"/>
                  </a:lnTo>
                  <a:lnTo>
                    <a:pt x="3188" y="848"/>
                  </a:lnTo>
                  <a:lnTo>
                    <a:pt x="3180" y="842"/>
                  </a:lnTo>
                  <a:lnTo>
                    <a:pt x="3180" y="848"/>
                  </a:lnTo>
                  <a:lnTo>
                    <a:pt x="3188" y="867"/>
                  </a:lnTo>
                  <a:lnTo>
                    <a:pt x="3194" y="902"/>
                  </a:lnTo>
                  <a:lnTo>
                    <a:pt x="3202" y="939"/>
                  </a:lnTo>
                  <a:lnTo>
                    <a:pt x="3206" y="974"/>
                  </a:lnTo>
                  <a:lnTo>
                    <a:pt x="3211" y="1011"/>
                  </a:lnTo>
                  <a:lnTo>
                    <a:pt x="3209" y="1046"/>
                  </a:lnTo>
                  <a:lnTo>
                    <a:pt x="3204" y="1082"/>
                  </a:lnTo>
                  <a:lnTo>
                    <a:pt x="3190" y="1119"/>
                  </a:lnTo>
                  <a:lnTo>
                    <a:pt x="3173" y="1158"/>
                  </a:lnTo>
                  <a:lnTo>
                    <a:pt x="3132" y="1210"/>
                  </a:lnTo>
                  <a:lnTo>
                    <a:pt x="3112" y="1224"/>
                  </a:lnTo>
                  <a:lnTo>
                    <a:pt x="3111" y="1222"/>
                  </a:lnTo>
                  <a:lnTo>
                    <a:pt x="3093" y="1234"/>
                  </a:lnTo>
                  <a:lnTo>
                    <a:pt x="3076" y="1247"/>
                  </a:lnTo>
                  <a:lnTo>
                    <a:pt x="3058" y="1257"/>
                  </a:lnTo>
                  <a:lnTo>
                    <a:pt x="3041" y="1269"/>
                  </a:lnTo>
                  <a:lnTo>
                    <a:pt x="3023" y="1276"/>
                  </a:lnTo>
                  <a:lnTo>
                    <a:pt x="3006" y="1286"/>
                  </a:lnTo>
                  <a:lnTo>
                    <a:pt x="2988" y="1294"/>
                  </a:lnTo>
                  <a:lnTo>
                    <a:pt x="2971" y="1304"/>
                  </a:lnTo>
                  <a:lnTo>
                    <a:pt x="2924" y="1319"/>
                  </a:lnTo>
                  <a:lnTo>
                    <a:pt x="2907" y="1321"/>
                  </a:lnTo>
                  <a:lnTo>
                    <a:pt x="2891" y="1323"/>
                  </a:lnTo>
                  <a:lnTo>
                    <a:pt x="2876" y="1325"/>
                  </a:lnTo>
                  <a:lnTo>
                    <a:pt x="2860" y="1329"/>
                  </a:lnTo>
                  <a:lnTo>
                    <a:pt x="2845" y="1329"/>
                  </a:lnTo>
                  <a:lnTo>
                    <a:pt x="2829" y="1331"/>
                  </a:lnTo>
                  <a:lnTo>
                    <a:pt x="2814" y="1331"/>
                  </a:lnTo>
                  <a:lnTo>
                    <a:pt x="2800" y="1333"/>
                  </a:lnTo>
                  <a:lnTo>
                    <a:pt x="2717" y="1309"/>
                  </a:lnTo>
                  <a:lnTo>
                    <a:pt x="2674" y="1267"/>
                  </a:lnTo>
                  <a:lnTo>
                    <a:pt x="2661" y="1251"/>
                  </a:lnTo>
                  <a:lnTo>
                    <a:pt x="2653" y="1236"/>
                  </a:lnTo>
                  <a:lnTo>
                    <a:pt x="2643" y="1230"/>
                  </a:lnTo>
                  <a:lnTo>
                    <a:pt x="2600" y="1174"/>
                  </a:lnTo>
                  <a:lnTo>
                    <a:pt x="2595" y="1160"/>
                  </a:lnTo>
                  <a:lnTo>
                    <a:pt x="2591" y="1148"/>
                  </a:lnTo>
                  <a:lnTo>
                    <a:pt x="2587" y="1137"/>
                  </a:lnTo>
                  <a:lnTo>
                    <a:pt x="2585" y="1125"/>
                  </a:lnTo>
                  <a:lnTo>
                    <a:pt x="2583" y="1113"/>
                  </a:lnTo>
                  <a:lnTo>
                    <a:pt x="2581" y="1102"/>
                  </a:lnTo>
                  <a:lnTo>
                    <a:pt x="2579" y="1090"/>
                  </a:lnTo>
                  <a:lnTo>
                    <a:pt x="2579" y="1079"/>
                  </a:lnTo>
                  <a:lnTo>
                    <a:pt x="2571" y="1075"/>
                  </a:lnTo>
                  <a:lnTo>
                    <a:pt x="2581" y="1150"/>
                  </a:lnTo>
                  <a:lnTo>
                    <a:pt x="2542" y="1125"/>
                  </a:lnTo>
                  <a:lnTo>
                    <a:pt x="2492" y="1112"/>
                  </a:lnTo>
                  <a:lnTo>
                    <a:pt x="2490" y="1121"/>
                  </a:lnTo>
                  <a:lnTo>
                    <a:pt x="2511" y="1125"/>
                  </a:lnTo>
                  <a:lnTo>
                    <a:pt x="2535" y="1135"/>
                  </a:lnTo>
                  <a:lnTo>
                    <a:pt x="2556" y="1148"/>
                  </a:lnTo>
                  <a:lnTo>
                    <a:pt x="2579" y="1168"/>
                  </a:lnTo>
                  <a:lnTo>
                    <a:pt x="2599" y="1185"/>
                  </a:lnTo>
                  <a:lnTo>
                    <a:pt x="2620" y="1208"/>
                  </a:lnTo>
                  <a:lnTo>
                    <a:pt x="2637" y="1232"/>
                  </a:lnTo>
                  <a:lnTo>
                    <a:pt x="2657" y="1255"/>
                  </a:lnTo>
                  <a:lnTo>
                    <a:pt x="2680" y="1300"/>
                  </a:lnTo>
                  <a:lnTo>
                    <a:pt x="2682" y="1309"/>
                  </a:lnTo>
                  <a:lnTo>
                    <a:pt x="2688" y="1338"/>
                  </a:lnTo>
                  <a:lnTo>
                    <a:pt x="2694" y="1368"/>
                  </a:lnTo>
                  <a:lnTo>
                    <a:pt x="2694" y="1397"/>
                  </a:lnTo>
                  <a:lnTo>
                    <a:pt x="2694" y="1428"/>
                  </a:lnTo>
                  <a:lnTo>
                    <a:pt x="2684" y="1457"/>
                  </a:lnTo>
                  <a:lnTo>
                    <a:pt x="2674" y="1486"/>
                  </a:lnTo>
                  <a:lnTo>
                    <a:pt x="2657" y="1517"/>
                  </a:lnTo>
                  <a:lnTo>
                    <a:pt x="2639" y="1548"/>
                  </a:lnTo>
                  <a:lnTo>
                    <a:pt x="2599" y="1587"/>
                  </a:lnTo>
                  <a:lnTo>
                    <a:pt x="2560" y="1620"/>
                  </a:lnTo>
                  <a:lnTo>
                    <a:pt x="2517" y="1647"/>
                  </a:lnTo>
                  <a:lnTo>
                    <a:pt x="2476" y="1668"/>
                  </a:lnTo>
                  <a:lnTo>
                    <a:pt x="2434" y="1684"/>
                  </a:lnTo>
                  <a:lnTo>
                    <a:pt x="2391" y="1695"/>
                  </a:lnTo>
                  <a:lnTo>
                    <a:pt x="2350" y="1701"/>
                  </a:lnTo>
                  <a:lnTo>
                    <a:pt x="2310" y="1707"/>
                  </a:lnTo>
                  <a:lnTo>
                    <a:pt x="2292" y="170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2109000">
              <a:off x="3608640" y="8466480"/>
              <a:ext cx="158760" cy="109440"/>
            </a:xfrm>
            <a:custGeom>
              <a:avLst/>
              <a:gdLst/>
              <a:ahLst/>
              <a:rect l="l" t="t" r="r" b="b"/>
              <a:pathLst>
                <a:path w="202" h="138">
                  <a:moveTo>
                    <a:pt x="66" y="138"/>
                  </a:moveTo>
                  <a:lnTo>
                    <a:pt x="10" y="136"/>
                  </a:lnTo>
                  <a:lnTo>
                    <a:pt x="0" y="130"/>
                  </a:lnTo>
                  <a:lnTo>
                    <a:pt x="55" y="122"/>
                  </a:lnTo>
                  <a:lnTo>
                    <a:pt x="105" y="119"/>
                  </a:lnTo>
                  <a:lnTo>
                    <a:pt x="88" y="103"/>
                  </a:lnTo>
                  <a:lnTo>
                    <a:pt x="45" y="93"/>
                  </a:lnTo>
                  <a:lnTo>
                    <a:pt x="53" y="88"/>
                  </a:lnTo>
                  <a:lnTo>
                    <a:pt x="60" y="88"/>
                  </a:lnTo>
                  <a:lnTo>
                    <a:pt x="86" y="78"/>
                  </a:lnTo>
                  <a:lnTo>
                    <a:pt x="91" y="66"/>
                  </a:lnTo>
                  <a:lnTo>
                    <a:pt x="72" y="62"/>
                  </a:lnTo>
                  <a:lnTo>
                    <a:pt x="33" y="66"/>
                  </a:lnTo>
                  <a:lnTo>
                    <a:pt x="29" y="58"/>
                  </a:lnTo>
                  <a:lnTo>
                    <a:pt x="64" y="39"/>
                  </a:lnTo>
                  <a:lnTo>
                    <a:pt x="68" y="39"/>
                  </a:lnTo>
                  <a:lnTo>
                    <a:pt x="76" y="31"/>
                  </a:lnTo>
                  <a:lnTo>
                    <a:pt x="76" y="26"/>
                  </a:lnTo>
                  <a:lnTo>
                    <a:pt x="41" y="26"/>
                  </a:lnTo>
                  <a:lnTo>
                    <a:pt x="24" y="29"/>
                  </a:lnTo>
                  <a:lnTo>
                    <a:pt x="29" y="16"/>
                  </a:lnTo>
                  <a:lnTo>
                    <a:pt x="41" y="12"/>
                  </a:lnTo>
                  <a:lnTo>
                    <a:pt x="51" y="6"/>
                  </a:lnTo>
                  <a:lnTo>
                    <a:pt x="62" y="4"/>
                  </a:lnTo>
                  <a:lnTo>
                    <a:pt x="74" y="4"/>
                  </a:lnTo>
                  <a:lnTo>
                    <a:pt x="88" y="12"/>
                  </a:lnTo>
                  <a:lnTo>
                    <a:pt x="99" y="6"/>
                  </a:lnTo>
                  <a:lnTo>
                    <a:pt x="111" y="4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53" y="14"/>
                  </a:lnTo>
                  <a:lnTo>
                    <a:pt x="163" y="12"/>
                  </a:lnTo>
                  <a:lnTo>
                    <a:pt x="181" y="10"/>
                  </a:lnTo>
                  <a:lnTo>
                    <a:pt x="200" y="20"/>
                  </a:lnTo>
                  <a:lnTo>
                    <a:pt x="202" y="37"/>
                  </a:lnTo>
                  <a:lnTo>
                    <a:pt x="177" y="62"/>
                  </a:lnTo>
                  <a:lnTo>
                    <a:pt x="169" y="74"/>
                  </a:lnTo>
                  <a:lnTo>
                    <a:pt x="159" y="84"/>
                  </a:lnTo>
                  <a:lnTo>
                    <a:pt x="150" y="91"/>
                  </a:lnTo>
                  <a:lnTo>
                    <a:pt x="138" y="97"/>
                  </a:lnTo>
                  <a:lnTo>
                    <a:pt x="128" y="103"/>
                  </a:lnTo>
                  <a:lnTo>
                    <a:pt x="120" y="105"/>
                  </a:lnTo>
                  <a:lnTo>
                    <a:pt x="120" y="111"/>
                  </a:lnTo>
                  <a:lnTo>
                    <a:pt x="122" y="119"/>
                  </a:lnTo>
                  <a:lnTo>
                    <a:pt x="115" y="132"/>
                  </a:lnTo>
                  <a:lnTo>
                    <a:pt x="109" y="134"/>
                  </a:lnTo>
                  <a:lnTo>
                    <a:pt x="6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2109000">
              <a:off x="4000680" y="8791200"/>
              <a:ext cx="36360" cy="2232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3" y="27"/>
                  </a:moveTo>
                  <a:lnTo>
                    <a:pt x="0" y="21"/>
                  </a:lnTo>
                  <a:lnTo>
                    <a:pt x="4" y="12"/>
                  </a:lnTo>
                  <a:lnTo>
                    <a:pt x="44" y="0"/>
                  </a:lnTo>
                  <a:lnTo>
                    <a:pt x="46" y="29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2109000">
              <a:off x="3282120" y="8168760"/>
              <a:ext cx="144360" cy="131760"/>
            </a:xfrm>
            <a:custGeom>
              <a:avLst/>
              <a:gdLst/>
              <a:ahLst/>
              <a:rect l="l" t="t" r="r" b="b"/>
              <a:pathLst>
                <a:path w="182" h="165">
                  <a:moveTo>
                    <a:pt x="37" y="165"/>
                  </a:moveTo>
                  <a:lnTo>
                    <a:pt x="37" y="158"/>
                  </a:lnTo>
                  <a:lnTo>
                    <a:pt x="52" y="152"/>
                  </a:lnTo>
                  <a:lnTo>
                    <a:pt x="68" y="146"/>
                  </a:lnTo>
                  <a:lnTo>
                    <a:pt x="81" y="136"/>
                  </a:lnTo>
                  <a:lnTo>
                    <a:pt x="99" y="125"/>
                  </a:lnTo>
                  <a:lnTo>
                    <a:pt x="101" y="115"/>
                  </a:lnTo>
                  <a:lnTo>
                    <a:pt x="87" y="109"/>
                  </a:lnTo>
                  <a:lnTo>
                    <a:pt x="60" y="119"/>
                  </a:lnTo>
                  <a:lnTo>
                    <a:pt x="50" y="123"/>
                  </a:lnTo>
                  <a:lnTo>
                    <a:pt x="37" y="123"/>
                  </a:lnTo>
                  <a:lnTo>
                    <a:pt x="42" y="105"/>
                  </a:lnTo>
                  <a:lnTo>
                    <a:pt x="81" y="90"/>
                  </a:lnTo>
                  <a:lnTo>
                    <a:pt x="85" y="74"/>
                  </a:lnTo>
                  <a:lnTo>
                    <a:pt x="83" y="70"/>
                  </a:lnTo>
                  <a:lnTo>
                    <a:pt x="39" y="80"/>
                  </a:lnTo>
                  <a:lnTo>
                    <a:pt x="35" y="82"/>
                  </a:lnTo>
                  <a:lnTo>
                    <a:pt x="23" y="78"/>
                  </a:lnTo>
                  <a:lnTo>
                    <a:pt x="31" y="64"/>
                  </a:lnTo>
                  <a:lnTo>
                    <a:pt x="39" y="62"/>
                  </a:lnTo>
                  <a:lnTo>
                    <a:pt x="58" y="39"/>
                  </a:lnTo>
                  <a:lnTo>
                    <a:pt x="48" y="28"/>
                  </a:lnTo>
                  <a:lnTo>
                    <a:pt x="29" y="35"/>
                  </a:lnTo>
                  <a:lnTo>
                    <a:pt x="21" y="39"/>
                  </a:lnTo>
                  <a:lnTo>
                    <a:pt x="9" y="47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4" y="33"/>
                  </a:lnTo>
                  <a:lnTo>
                    <a:pt x="15" y="22"/>
                  </a:lnTo>
                  <a:lnTo>
                    <a:pt x="29" y="16"/>
                  </a:lnTo>
                  <a:lnTo>
                    <a:pt x="42" y="12"/>
                  </a:lnTo>
                  <a:lnTo>
                    <a:pt x="56" y="14"/>
                  </a:lnTo>
                  <a:lnTo>
                    <a:pt x="64" y="18"/>
                  </a:lnTo>
                  <a:lnTo>
                    <a:pt x="101" y="2"/>
                  </a:lnTo>
                  <a:lnTo>
                    <a:pt x="112" y="0"/>
                  </a:lnTo>
                  <a:lnTo>
                    <a:pt x="134" y="8"/>
                  </a:lnTo>
                  <a:lnTo>
                    <a:pt x="143" y="2"/>
                  </a:lnTo>
                  <a:lnTo>
                    <a:pt x="165" y="0"/>
                  </a:lnTo>
                  <a:lnTo>
                    <a:pt x="180" y="12"/>
                  </a:lnTo>
                  <a:lnTo>
                    <a:pt x="182" y="16"/>
                  </a:lnTo>
                  <a:lnTo>
                    <a:pt x="161" y="57"/>
                  </a:lnTo>
                  <a:lnTo>
                    <a:pt x="155" y="62"/>
                  </a:lnTo>
                  <a:lnTo>
                    <a:pt x="155" y="70"/>
                  </a:lnTo>
                  <a:lnTo>
                    <a:pt x="118" y="113"/>
                  </a:lnTo>
                  <a:lnTo>
                    <a:pt x="114" y="121"/>
                  </a:lnTo>
                  <a:lnTo>
                    <a:pt x="103" y="132"/>
                  </a:lnTo>
                  <a:lnTo>
                    <a:pt x="91" y="144"/>
                  </a:lnTo>
                  <a:lnTo>
                    <a:pt x="79" y="152"/>
                  </a:lnTo>
                  <a:lnTo>
                    <a:pt x="68" y="158"/>
                  </a:lnTo>
                  <a:lnTo>
                    <a:pt x="37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2109000">
              <a:off x="3643560" y="8502480"/>
              <a:ext cx="52560" cy="270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16" y="33"/>
                  </a:moveTo>
                  <a:lnTo>
                    <a:pt x="0" y="30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57" y="0"/>
                  </a:lnTo>
                  <a:lnTo>
                    <a:pt x="66" y="6"/>
                  </a:lnTo>
                  <a:lnTo>
                    <a:pt x="66" y="14"/>
                  </a:lnTo>
                  <a:lnTo>
                    <a:pt x="57" y="2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rot="2109000">
              <a:off x="4099320" y="8787960"/>
              <a:ext cx="100080" cy="6192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2" y="78"/>
                  </a:moveTo>
                  <a:lnTo>
                    <a:pt x="0" y="76"/>
                  </a:lnTo>
                  <a:lnTo>
                    <a:pt x="9" y="66"/>
                  </a:lnTo>
                  <a:lnTo>
                    <a:pt x="25" y="51"/>
                  </a:lnTo>
                  <a:lnTo>
                    <a:pt x="23" y="35"/>
                  </a:lnTo>
                  <a:lnTo>
                    <a:pt x="7" y="16"/>
                  </a:lnTo>
                  <a:lnTo>
                    <a:pt x="5" y="8"/>
                  </a:lnTo>
                  <a:lnTo>
                    <a:pt x="17" y="8"/>
                  </a:lnTo>
                  <a:lnTo>
                    <a:pt x="35" y="12"/>
                  </a:lnTo>
                  <a:lnTo>
                    <a:pt x="54" y="14"/>
                  </a:lnTo>
                  <a:lnTo>
                    <a:pt x="71" y="10"/>
                  </a:lnTo>
                  <a:lnTo>
                    <a:pt x="91" y="8"/>
                  </a:lnTo>
                  <a:lnTo>
                    <a:pt x="116" y="0"/>
                  </a:lnTo>
                  <a:lnTo>
                    <a:pt x="126" y="8"/>
                  </a:lnTo>
                  <a:lnTo>
                    <a:pt x="118" y="14"/>
                  </a:lnTo>
                  <a:lnTo>
                    <a:pt x="114" y="16"/>
                  </a:lnTo>
                  <a:lnTo>
                    <a:pt x="104" y="24"/>
                  </a:lnTo>
                  <a:lnTo>
                    <a:pt x="102" y="37"/>
                  </a:lnTo>
                  <a:lnTo>
                    <a:pt x="104" y="41"/>
                  </a:lnTo>
                  <a:lnTo>
                    <a:pt x="118" y="55"/>
                  </a:lnTo>
                  <a:lnTo>
                    <a:pt x="112" y="64"/>
                  </a:lnTo>
                  <a:lnTo>
                    <a:pt x="104" y="74"/>
                  </a:lnTo>
                  <a:lnTo>
                    <a:pt x="38" y="62"/>
                  </a:lnTo>
                  <a:lnTo>
                    <a:pt x="17" y="78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rot="2109000">
              <a:off x="4126320" y="8805960"/>
              <a:ext cx="42840" cy="237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47" y="29"/>
                  </a:moveTo>
                  <a:lnTo>
                    <a:pt x="2" y="23"/>
                  </a:lnTo>
                  <a:lnTo>
                    <a:pt x="0" y="5"/>
                  </a:lnTo>
                  <a:lnTo>
                    <a:pt x="53" y="0"/>
                  </a:lnTo>
                  <a:lnTo>
                    <a:pt x="51" y="15"/>
                  </a:lnTo>
                  <a:lnTo>
                    <a:pt x="55" y="31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rot="2109000">
              <a:off x="3675240" y="8480160"/>
              <a:ext cx="41400" cy="270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13" y="35"/>
                  </a:moveTo>
                  <a:lnTo>
                    <a:pt x="0" y="27"/>
                  </a:lnTo>
                  <a:lnTo>
                    <a:pt x="5" y="8"/>
                  </a:lnTo>
                  <a:lnTo>
                    <a:pt x="44" y="0"/>
                  </a:lnTo>
                  <a:lnTo>
                    <a:pt x="52" y="6"/>
                  </a:lnTo>
                  <a:lnTo>
                    <a:pt x="52" y="11"/>
                  </a:lnTo>
                  <a:lnTo>
                    <a:pt x="42" y="27"/>
                  </a:lnTo>
                  <a:lnTo>
                    <a:pt x="34" y="27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rot="2109000">
              <a:off x="3642120" y="8458920"/>
              <a:ext cx="3312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15" y="29"/>
                  </a:moveTo>
                  <a:lnTo>
                    <a:pt x="0" y="17"/>
                  </a:lnTo>
                  <a:lnTo>
                    <a:pt x="5" y="2"/>
                  </a:lnTo>
                  <a:lnTo>
                    <a:pt x="29" y="0"/>
                  </a:lnTo>
                  <a:lnTo>
                    <a:pt x="40" y="7"/>
                  </a:lnTo>
                  <a:lnTo>
                    <a:pt x="38" y="13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rot="2109000">
              <a:off x="3318480" y="8204400"/>
              <a:ext cx="39960" cy="334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5" y="40"/>
                  </a:moveTo>
                  <a:lnTo>
                    <a:pt x="0" y="33"/>
                  </a:lnTo>
                  <a:lnTo>
                    <a:pt x="10" y="5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3"/>
                  </a:lnTo>
                  <a:lnTo>
                    <a:pt x="48" y="11"/>
                  </a:lnTo>
                  <a:lnTo>
                    <a:pt x="31" y="38"/>
                  </a:lnTo>
                  <a:lnTo>
                    <a:pt x="15" y="4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2109000">
              <a:off x="4237200" y="8759880"/>
              <a:ext cx="90360" cy="102240"/>
            </a:xfrm>
            <a:custGeom>
              <a:avLst/>
              <a:gdLst/>
              <a:ahLst/>
              <a:rect l="l" t="t" r="r" b="b"/>
              <a:pathLst>
                <a:path w="114" h="128">
                  <a:moveTo>
                    <a:pt x="9" y="126"/>
                  </a:moveTo>
                  <a:lnTo>
                    <a:pt x="9" y="124"/>
                  </a:lnTo>
                  <a:lnTo>
                    <a:pt x="9" y="122"/>
                  </a:lnTo>
                  <a:lnTo>
                    <a:pt x="33" y="84"/>
                  </a:lnTo>
                  <a:lnTo>
                    <a:pt x="33" y="60"/>
                  </a:lnTo>
                  <a:lnTo>
                    <a:pt x="0" y="10"/>
                  </a:lnTo>
                  <a:lnTo>
                    <a:pt x="5" y="4"/>
                  </a:lnTo>
                  <a:lnTo>
                    <a:pt x="17" y="6"/>
                  </a:lnTo>
                  <a:lnTo>
                    <a:pt x="29" y="14"/>
                  </a:lnTo>
                  <a:lnTo>
                    <a:pt x="42" y="22"/>
                  </a:lnTo>
                  <a:lnTo>
                    <a:pt x="91" y="14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99" y="29"/>
                  </a:lnTo>
                  <a:lnTo>
                    <a:pt x="93" y="31"/>
                  </a:lnTo>
                  <a:lnTo>
                    <a:pt x="87" y="41"/>
                  </a:lnTo>
                  <a:lnTo>
                    <a:pt x="102" y="91"/>
                  </a:lnTo>
                  <a:lnTo>
                    <a:pt x="114" y="111"/>
                  </a:lnTo>
                  <a:lnTo>
                    <a:pt x="104" y="122"/>
                  </a:lnTo>
                  <a:lnTo>
                    <a:pt x="44" y="101"/>
                  </a:lnTo>
                  <a:lnTo>
                    <a:pt x="17" y="128"/>
                  </a:lnTo>
                  <a:lnTo>
                    <a:pt x="9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rot="2109000">
              <a:off x="4573080" y="9047880"/>
              <a:ext cx="3204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0" y="42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6"/>
                  </a:lnTo>
                  <a:lnTo>
                    <a:pt x="8" y="4"/>
                  </a:lnTo>
                  <a:lnTo>
                    <a:pt x="27" y="0"/>
                  </a:lnTo>
                  <a:lnTo>
                    <a:pt x="39" y="6"/>
                  </a:lnTo>
                  <a:lnTo>
                    <a:pt x="41" y="21"/>
                  </a:lnTo>
                  <a:lnTo>
                    <a:pt x="25" y="42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rot="2109000">
              <a:off x="3349800" y="8183520"/>
              <a:ext cx="46080" cy="3348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25" y="43"/>
                  </a:moveTo>
                  <a:lnTo>
                    <a:pt x="0" y="39"/>
                  </a:lnTo>
                  <a:lnTo>
                    <a:pt x="3" y="19"/>
                  </a:lnTo>
                  <a:lnTo>
                    <a:pt x="44" y="0"/>
                  </a:lnTo>
                  <a:lnTo>
                    <a:pt x="58" y="4"/>
                  </a:lnTo>
                  <a:lnTo>
                    <a:pt x="58" y="12"/>
                  </a:lnTo>
                  <a:lnTo>
                    <a:pt x="44" y="35"/>
                  </a:lnTo>
                  <a:lnTo>
                    <a:pt x="35" y="39"/>
                  </a:lnTo>
                  <a:lnTo>
                    <a:pt x="25" y="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rot="2109000">
              <a:off x="3324600" y="81622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21" y="37"/>
                  </a:moveTo>
                  <a:lnTo>
                    <a:pt x="13" y="33"/>
                  </a:lnTo>
                  <a:lnTo>
                    <a:pt x="0" y="31"/>
                  </a:lnTo>
                  <a:lnTo>
                    <a:pt x="11" y="6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6"/>
                  </a:lnTo>
                  <a:lnTo>
                    <a:pt x="40" y="15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rot="2109000">
              <a:off x="4582440" y="9061200"/>
              <a:ext cx="14400" cy="111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4"/>
                  </a:moveTo>
                  <a:lnTo>
                    <a:pt x="0" y="2"/>
                  </a:lnTo>
                  <a:lnTo>
                    <a:pt x="17" y="0"/>
                  </a:lnTo>
                  <a:lnTo>
                    <a:pt x="11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rot="2109000">
              <a:off x="4259160" y="8786160"/>
              <a:ext cx="34920" cy="4752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41" y="58"/>
                  </a:moveTo>
                  <a:lnTo>
                    <a:pt x="6" y="51"/>
                  </a:lnTo>
                  <a:lnTo>
                    <a:pt x="0" y="2"/>
                  </a:lnTo>
                  <a:lnTo>
                    <a:pt x="12" y="4"/>
                  </a:lnTo>
                  <a:lnTo>
                    <a:pt x="31" y="0"/>
                  </a:lnTo>
                  <a:lnTo>
                    <a:pt x="35" y="37"/>
                  </a:lnTo>
                  <a:lnTo>
                    <a:pt x="45" y="60"/>
                  </a:lnTo>
                  <a:lnTo>
                    <a:pt x="41" y="5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2109000">
              <a:off x="4333680" y="7910640"/>
              <a:ext cx="1440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5" y="2"/>
                  </a:lnTo>
                  <a:lnTo>
                    <a:pt x="15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b5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2109000">
              <a:off x="4971600" y="9095760"/>
              <a:ext cx="160560" cy="96840"/>
            </a:xfrm>
            <a:custGeom>
              <a:avLst/>
              <a:gdLst/>
              <a:ahLst/>
              <a:rect l="l" t="t" r="r" b="b"/>
              <a:pathLst>
                <a:path w="202" h="120">
                  <a:moveTo>
                    <a:pt x="161" y="120"/>
                  </a:moveTo>
                  <a:lnTo>
                    <a:pt x="144" y="114"/>
                  </a:lnTo>
                  <a:lnTo>
                    <a:pt x="150" y="110"/>
                  </a:lnTo>
                  <a:lnTo>
                    <a:pt x="183" y="110"/>
                  </a:lnTo>
                  <a:lnTo>
                    <a:pt x="183" y="87"/>
                  </a:lnTo>
                  <a:lnTo>
                    <a:pt x="165" y="68"/>
                  </a:lnTo>
                  <a:lnTo>
                    <a:pt x="150" y="54"/>
                  </a:lnTo>
                  <a:lnTo>
                    <a:pt x="132" y="41"/>
                  </a:lnTo>
                  <a:lnTo>
                    <a:pt x="117" y="33"/>
                  </a:lnTo>
                  <a:lnTo>
                    <a:pt x="99" y="25"/>
                  </a:lnTo>
                  <a:lnTo>
                    <a:pt x="82" y="21"/>
                  </a:lnTo>
                  <a:lnTo>
                    <a:pt x="64" y="17"/>
                  </a:lnTo>
                  <a:lnTo>
                    <a:pt x="49" y="15"/>
                  </a:lnTo>
                  <a:lnTo>
                    <a:pt x="10" y="21"/>
                  </a:lnTo>
                  <a:lnTo>
                    <a:pt x="0" y="15"/>
                  </a:lnTo>
                  <a:lnTo>
                    <a:pt x="16" y="6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78" y="4"/>
                  </a:lnTo>
                  <a:lnTo>
                    <a:pt x="93" y="6"/>
                  </a:lnTo>
                  <a:lnTo>
                    <a:pt x="109" y="14"/>
                  </a:lnTo>
                  <a:lnTo>
                    <a:pt x="124" y="19"/>
                  </a:lnTo>
                  <a:lnTo>
                    <a:pt x="142" y="29"/>
                  </a:lnTo>
                  <a:lnTo>
                    <a:pt x="173" y="48"/>
                  </a:lnTo>
                  <a:lnTo>
                    <a:pt x="194" y="81"/>
                  </a:lnTo>
                  <a:lnTo>
                    <a:pt x="202" y="103"/>
                  </a:lnTo>
                  <a:lnTo>
                    <a:pt x="194" y="116"/>
                  </a:lnTo>
                  <a:lnTo>
                    <a:pt x="161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rot="2109000">
              <a:off x="4956840" y="9053280"/>
              <a:ext cx="12600" cy="3456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0" y="43"/>
                  </a:moveTo>
                  <a:lnTo>
                    <a:pt x="0" y="41"/>
                  </a:lnTo>
                  <a:lnTo>
                    <a:pt x="8" y="0"/>
                  </a:lnTo>
                  <a:lnTo>
                    <a:pt x="15" y="4"/>
                  </a:lnTo>
                  <a:lnTo>
                    <a:pt x="4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rot="2109000">
              <a:off x="5887800" y="9647640"/>
              <a:ext cx="28800" cy="111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11" y="14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5" y="2"/>
                  </a:lnTo>
                  <a:lnTo>
                    <a:pt x="36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2109000">
              <a:off x="4362840" y="8441640"/>
              <a:ext cx="37800" cy="316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9" y="38"/>
                  </a:moveTo>
                  <a:lnTo>
                    <a:pt x="0" y="33"/>
                  </a:lnTo>
                  <a:lnTo>
                    <a:pt x="0" y="19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8" y="9"/>
                  </a:lnTo>
                  <a:lnTo>
                    <a:pt x="48" y="19"/>
                  </a:lnTo>
                  <a:lnTo>
                    <a:pt x="35" y="3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2109000">
              <a:off x="4375440" y="8453160"/>
              <a:ext cx="14400" cy="792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10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0" y="2"/>
                  </a:lnTo>
                  <a:lnTo>
                    <a:pt x="1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rot="2109000">
              <a:off x="4843080" y="8082000"/>
              <a:ext cx="750960" cy="839880"/>
            </a:xfrm>
            <a:custGeom>
              <a:avLst/>
              <a:gdLst/>
              <a:ahLst/>
              <a:rect l="l" t="t" r="r" b="b"/>
              <a:pathLst>
                <a:path w="946" h="1057">
                  <a:moveTo>
                    <a:pt x="545" y="1055"/>
                  </a:moveTo>
                  <a:lnTo>
                    <a:pt x="525" y="1053"/>
                  </a:lnTo>
                  <a:lnTo>
                    <a:pt x="506" y="1049"/>
                  </a:lnTo>
                  <a:lnTo>
                    <a:pt x="487" y="1043"/>
                  </a:lnTo>
                  <a:lnTo>
                    <a:pt x="469" y="1038"/>
                  </a:lnTo>
                  <a:lnTo>
                    <a:pt x="450" y="1026"/>
                  </a:lnTo>
                  <a:lnTo>
                    <a:pt x="432" y="1012"/>
                  </a:lnTo>
                  <a:lnTo>
                    <a:pt x="415" y="995"/>
                  </a:lnTo>
                  <a:lnTo>
                    <a:pt x="401" y="978"/>
                  </a:lnTo>
                  <a:lnTo>
                    <a:pt x="357" y="892"/>
                  </a:lnTo>
                  <a:lnTo>
                    <a:pt x="335" y="873"/>
                  </a:lnTo>
                  <a:lnTo>
                    <a:pt x="384" y="976"/>
                  </a:lnTo>
                  <a:lnTo>
                    <a:pt x="368" y="970"/>
                  </a:lnTo>
                  <a:lnTo>
                    <a:pt x="357" y="964"/>
                  </a:lnTo>
                  <a:lnTo>
                    <a:pt x="341" y="956"/>
                  </a:lnTo>
                  <a:lnTo>
                    <a:pt x="329" y="948"/>
                  </a:lnTo>
                  <a:lnTo>
                    <a:pt x="316" y="935"/>
                  </a:lnTo>
                  <a:lnTo>
                    <a:pt x="304" y="923"/>
                  </a:lnTo>
                  <a:lnTo>
                    <a:pt x="293" y="910"/>
                  </a:lnTo>
                  <a:lnTo>
                    <a:pt x="285" y="898"/>
                  </a:lnTo>
                  <a:lnTo>
                    <a:pt x="258" y="851"/>
                  </a:lnTo>
                  <a:lnTo>
                    <a:pt x="256" y="842"/>
                  </a:lnTo>
                  <a:lnTo>
                    <a:pt x="248" y="832"/>
                  </a:lnTo>
                  <a:lnTo>
                    <a:pt x="240" y="815"/>
                  </a:lnTo>
                  <a:lnTo>
                    <a:pt x="238" y="805"/>
                  </a:lnTo>
                  <a:lnTo>
                    <a:pt x="231" y="791"/>
                  </a:lnTo>
                  <a:lnTo>
                    <a:pt x="229" y="782"/>
                  </a:lnTo>
                  <a:lnTo>
                    <a:pt x="217" y="760"/>
                  </a:lnTo>
                  <a:lnTo>
                    <a:pt x="180" y="683"/>
                  </a:lnTo>
                  <a:lnTo>
                    <a:pt x="250" y="735"/>
                  </a:lnTo>
                  <a:lnTo>
                    <a:pt x="256" y="735"/>
                  </a:lnTo>
                  <a:lnTo>
                    <a:pt x="256" y="723"/>
                  </a:lnTo>
                  <a:lnTo>
                    <a:pt x="236" y="704"/>
                  </a:lnTo>
                  <a:lnTo>
                    <a:pt x="215" y="687"/>
                  </a:lnTo>
                  <a:lnTo>
                    <a:pt x="194" y="671"/>
                  </a:lnTo>
                  <a:lnTo>
                    <a:pt x="172" y="658"/>
                  </a:lnTo>
                  <a:lnTo>
                    <a:pt x="151" y="640"/>
                  </a:lnTo>
                  <a:lnTo>
                    <a:pt x="134" y="623"/>
                  </a:lnTo>
                  <a:lnTo>
                    <a:pt x="120" y="601"/>
                  </a:lnTo>
                  <a:lnTo>
                    <a:pt x="112" y="580"/>
                  </a:lnTo>
                  <a:lnTo>
                    <a:pt x="103" y="561"/>
                  </a:lnTo>
                  <a:lnTo>
                    <a:pt x="101" y="543"/>
                  </a:lnTo>
                  <a:lnTo>
                    <a:pt x="101" y="524"/>
                  </a:lnTo>
                  <a:lnTo>
                    <a:pt x="104" y="506"/>
                  </a:lnTo>
                  <a:lnTo>
                    <a:pt x="108" y="489"/>
                  </a:lnTo>
                  <a:lnTo>
                    <a:pt x="112" y="471"/>
                  </a:lnTo>
                  <a:lnTo>
                    <a:pt x="114" y="454"/>
                  </a:lnTo>
                  <a:lnTo>
                    <a:pt x="116" y="436"/>
                  </a:lnTo>
                  <a:lnTo>
                    <a:pt x="112" y="435"/>
                  </a:lnTo>
                  <a:lnTo>
                    <a:pt x="93" y="518"/>
                  </a:lnTo>
                  <a:lnTo>
                    <a:pt x="81" y="518"/>
                  </a:lnTo>
                  <a:lnTo>
                    <a:pt x="70" y="518"/>
                  </a:lnTo>
                  <a:lnTo>
                    <a:pt x="60" y="512"/>
                  </a:lnTo>
                  <a:lnTo>
                    <a:pt x="50" y="508"/>
                  </a:lnTo>
                  <a:lnTo>
                    <a:pt x="35" y="489"/>
                  </a:lnTo>
                  <a:lnTo>
                    <a:pt x="25" y="475"/>
                  </a:lnTo>
                  <a:lnTo>
                    <a:pt x="19" y="464"/>
                  </a:lnTo>
                  <a:lnTo>
                    <a:pt x="13" y="452"/>
                  </a:lnTo>
                  <a:lnTo>
                    <a:pt x="9" y="440"/>
                  </a:lnTo>
                  <a:lnTo>
                    <a:pt x="4" y="429"/>
                  </a:lnTo>
                  <a:lnTo>
                    <a:pt x="2" y="417"/>
                  </a:lnTo>
                  <a:lnTo>
                    <a:pt x="0" y="405"/>
                  </a:lnTo>
                  <a:lnTo>
                    <a:pt x="0" y="396"/>
                  </a:lnTo>
                  <a:lnTo>
                    <a:pt x="9" y="347"/>
                  </a:lnTo>
                  <a:lnTo>
                    <a:pt x="37" y="343"/>
                  </a:lnTo>
                  <a:lnTo>
                    <a:pt x="50" y="349"/>
                  </a:lnTo>
                  <a:lnTo>
                    <a:pt x="58" y="349"/>
                  </a:lnTo>
                  <a:lnTo>
                    <a:pt x="60" y="341"/>
                  </a:lnTo>
                  <a:lnTo>
                    <a:pt x="54" y="330"/>
                  </a:lnTo>
                  <a:lnTo>
                    <a:pt x="62" y="316"/>
                  </a:lnTo>
                  <a:lnTo>
                    <a:pt x="62" y="310"/>
                  </a:lnTo>
                  <a:lnTo>
                    <a:pt x="75" y="291"/>
                  </a:lnTo>
                  <a:lnTo>
                    <a:pt x="75" y="260"/>
                  </a:lnTo>
                  <a:lnTo>
                    <a:pt x="71" y="246"/>
                  </a:lnTo>
                  <a:lnTo>
                    <a:pt x="81" y="229"/>
                  </a:lnTo>
                  <a:lnTo>
                    <a:pt x="75" y="188"/>
                  </a:lnTo>
                  <a:lnTo>
                    <a:pt x="81" y="175"/>
                  </a:lnTo>
                  <a:lnTo>
                    <a:pt x="85" y="163"/>
                  </a:lnTo>
                  <a:lnTo>
                    <a:pt x="85" y="151"/>
                  </a:lnTo>
                  <a:lnTo>
                    <a:pt x="85" y="142"/>
                  </a:lnTo>
                  <a:lnTo>
                    <a:pt x="97" y="122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08" y="76"/>
                  </a:lnTo>
                  <a:lnTo>
                    <a:pt x="112" y="93"/>
                  </a:lnTo>
                  <a:lnTo>
                    <a:pt x="114" y="97"/>
                  </a:lnTo>
                  <a:lnTo>
                    <a:pt x="120" y="103"/>
                  </a:lnTo>
                  <a:lnTo>
                    <a:pt x="130" y="103"/>
                  </a:lnTo>
                  <a:lnTo>
                    <a:pt x="145" y="138"/>
                  </a:lnTo>
                  <a:lnTo>
                    <a:pt x="155" y="148"/>
                  </a:lnTo>
                  <a:lnTo>
                    <a:pt x="172" y="148"/>
                  </a:lnTo>
                  <a:lnTo>
                    <a:pt x="178" y="167"/>
                  </a:lnTo>
                  <a:lnTo>
                    <a:pt x="180" y="175"/>
                  </a:lnTo>
                  <a:lnTo>
                    <a:pt x="192" y="186"/>
                  </a:lnTo>
                  <a:lnTo>
                    <a:pt x="201" y="194"/>
                  </a:lnTo>
                  <a:lnTo>
                    <a:pt x="211" y="190"/>
                  </a:lnTo>
                  <a:lnTo>
                    <a:pt x="215" y="186"/>
                  </a:lnTo>
                  <a:lnTo>
                    <a:pt x="219" y="159"/>
                  </a:lnTo>
                  <a:lnTo>
                    <a:pt x="211" y="149"/>
                  </a:lnTo>
                  <a:lnTo>
                    <a:pt x="215" y="134"/>
                  </a:lnTo>
                  <a:lnTo>
                    <a:pt x="217" y="122"/>
                  </a:lnTo>
                  <a:lnTo>
                    <a:pt x="217" y="111"/>
                  </a:lnTo>
                  <a:lnTo>
                    <a:pt x="213" y="99"/>
                  </a:lnTo>
                  <a:lnTo>
                    <a:pt x="215" y="80"/>
                  </a:lnTo>
                  <a:lnTo>
                    <a:pt x="211" y="58"/>
                  </a:lnTo>
                  <a:lnTo>
                    <a:pt x="231" y="58"/>
                  </a:lnTo>
                  <a:lnTo>
                    <a:pt x="234" y="56"/>
                  </a:lnTo>
                  <a:lnTo>
                    <a:pt x="250" y="43"/>
                  </a:lnTo>
                  <a:lnTo>
                    <a:pt x="262" y="53"/>
                  </a:lnTo>
                  <a:lnTo>
                    <a:pt x="271" y="62"/>
                  </a:lnTo>
                  <a:lnTo>
                    <a:pt x="283" y="64"/>
                  </a:lnTo>
                  <a:lnTo>
                    <a:pt x="289" y="62"/>
                  </a:lnTo>
                  <a:lnTo>
                    <a:pt x="304" y="54"/>
                  </a:lnTo>
                  <a:lnTo>
                    <a:pt x="306" y="60"/>
                  </a:lnTo>
                  <a:lnTo>
                    <a:pt x="326" y="84"/>
                  </a:lnTo>
                  <a:lnTo>
                    <a:pt x="341" y="85"/>
                  </a:lnTo>
                  <a:lnTo>
                    <a:pt x="345" y="84"/>
                  </a:lnTo>
                  <a:lnTo>
                    <a:pt x="349" y="82"/>
                  </a:lnTo>
                  <a:lnTo>
                    <a:pt x="355" y="76"/>
                  </a:lnTo>
                  <a:lnTo>
                    <a:pt x="378" y="95"/>
                  </a:lnTo>
                  <a:lnTo>
                    <a:pt x="393" y="91"/>
                  </a:lnTo>
                  <a:lnTo>
                    <a:pt x="421" y="118"/>
                  </a:lnTo>
                  <a:lnTo>
                    <a:pt x="428" y="118"/>
                  </a:lnTo>
                  <a:lnTo>
                    <a:pt x="432" y="117"/>
                  </a:lnTo>
                  <a:lnTo>
                    <a:pt x="452" y="95"/>
                  </a:lnTo>
                  <a:lnTo>
                    <a:pt x="450" y="84"/>
                  </a:lnTo>
                  <a:lnTo>
                    <a:pt x="450" y="72"/>
                  </a:lnTo>
                  <a:lnTo>
                    <a:pt x="452" y="60"/>
                  </a:lnTo>
                  <a:lnTo>
                    <a:pt x="455" y="51"/>
                  </a:lnTo>
                  <a:lnTo>
                    <a:pt x="459" y="39"/>
                  </a:lnTo>
                  <a:lnTo>
                    <a:pt x="465" y="29"/>
                  </a:lnTo>
                  <a:lnTo>
                    <a:pt x="471" y="18"/>
                  </a:lnTo>
                  <a:lnTo>
                    <a:pt x="479" y="8"/>
                  </a:lnTo>
                  <a:lnTo>
                    <a:pt x="496" y="0"/>
                  </a:lnTo>
                  <a:lnTo>
                    <a:pt x="516" y="2"/>
                  </a:lnTo>
                  <a:lnTo>
                    <a:pt x="535" y="6"/>
                  </a:lnTo>
                  <a:lnTo>
                    <a:pt x="554" y="18"/>
                  </a:lnTo>
                  <a:lnTo>
                    <a:pt x="580" y="37"/>
                  </a:lnTo>
                  <a:lnTo>
                    <a:pt x="603" y="70"/>
                  </a:lnTo>
                  <a:lnTo>
                    <a:pt x="609" y="82"/>
                  </a:lnTo>
                  <a:lnTo>
                    <a:pt x="615" y="95"/>
                  </a:lnTo>
                  <a:lnTo>
                    <a:pt x="618" y="109"/>
                  </a:lnTo>
                  <a:lnTo>
                    <a:pt x="624" y="124"/>
                  </a:lnTo>
                  <a:lnTo>
                    <a:pt x="624" y="136"/>
                  </a:lnTo>
                  <a:lnTo>
                    <a:pt x="626" y="149"/>
                  </a:lnTo>
                  <a:lnTo>
                    <a:pt x="624" y="163"/>
                  </a:lnTo>
                  <a:lnTo>
                    <a:pt x="624" y="179"/>
                  </a:lnTo>
                  <a:lnTo>
                    <a:pt x="613" y="196"/>
                  </a:lnTo>
                  <a:lnTo>
                    <a:pt x="514" y="175"/>
                  </a:lnTo>
                  <a:lnTo>
                    <a:pt x="512" y="181"/>
                  </a:lnTo>
                  <a:lnTo>
                    <a:pt x="531" y="190"/>
                  </a:lnTo>
                  <a:lnTo>
                    <a:pt x="551" y="198"/>
                  </a:lnTo>
                  <a:lnTo>
                    <a:pt x="570" y="202"/>
                  </a:lnTo>
                  <a:lnTo>
                    <a:pt x="591" y="208"/>
                  </a:lnTo>
                  <a:lnTo>
                    <a:pt x="611" y="212"/>
                  </a:lnTo>
                  <a:lnTo>
                    <a:pt x="632" y="217"/>
                  </a:lnTo>
                  <a:lnTo>
                    <a:pt x="651" y="229"/>
                  </a:lnTo>
                  <a:lnTo>
                    <a:pt x="675" y="246"/>
                  </a:lnTo>
                  <a:lnTo>
                    <a:pt x="688" y="262"/>
                  </a:lnTo>
                  <a:lnTo>
                    <a:pt x="700" y="279"/>
                  </a:lnTo>
                  <a:lnTo>
                    <a:pt x="706" y="297"/>
                  </a:lnTo>
                  <a:lnTo>
                    <a:pt x="713" y="314"/>
                  </a:lnTo>
                  <a:lnTo>
                    <a:pt x="731" y="372"/>
                  </a:lnTo>
                  <a:lnTo>
                    <a:pt x="748" y="413"/>
                  </a:lnTo>
                  <a:lnTo>
                    <a:pt x="758" y="413"/>
                  </a:lnTo>
                  <a:lnTo>
                    <a:pt x="756" y="402"/>
                  </a:lnTo>
                  <a:lnTo>
                    <a:pt x="744" y="376"/>
                  </a:lnTo>
                  <a:lnTo>
                    <a:pt x="744" y="369"/>
                  </a:lnTo>
                  <a:lnTo>
                    <a:pt x="739" y="347"/>
                  </a:lnTo>
                  <a:lnTo>
                    <a:pt x="775" y="378"/>
                  </a:lnTo>
                  <a:lnTo>
                    <a:pt x="812" y="402"/>
                  </a:lnTo>
                  <a:lnTo>
                    <a:pt x="847" y="431"/>
                  </a:lnTo>
                  <a:lnTo>
                    <a:pt x="876" y="462"/>
                  </a:lnTo>
                  <a:lnTo>
                    <a:pt x="903" y="497"/>
                  </a:lnTo>
                  <a:lnTo>
                    <a:pt x="921" y="530"/>
                  </a:lnTo>
                  <a:lnTo>
                    <a:pt x="935" y="566"/>
                  </a:lnTo>
                  <a:lnTo>
                    <a:pt x="938" y="601"/>
                  </a:lnTo>
                  <a:lnTo>
                    <a:pt x="938" y="638"/>
                  </a:lnTo>
                  <a:lnTo>
                    <a:pt x="936" y="658"/>
                  </a:lnTo>
                  <a:lnTo>
                    <a:pt x="931" y="650"/>
                  </a:lnTo>
                  <a:lnTo>
                    <a:pt x="921" y="646"/>
                  </a:lnTo>
                  <a:lnTo>
                    <a:pt x="917" y="632"/>
                  </a:lnTo>
                  <a:lnTo>
                    <a:pt x="909" y="623"/>
                  </a:lnTo>
                  <a:lnTo>
                    <a:pt x="894" y="611"/>
                  </a:lnTo>
                  <a:lnTo>
                    <a:pt x="892" y="605"/>
                  </a:lnTo>
                  <a:lnTo>
                    <a:pt x="839" y="545"/>
                  </a:lnTo>
                  <a:lnTo>
                    <a:pt x="822" y="530"/>
                  </a:lnTo>
                  <a:lnTo>
                    <a:pt x="808" y="508"/>
                  </a:lnTo>
                  <a:lnTo>
                    <a:pt x="801" y="493"/>
                  </a:lnTo>
                  <a:lnTo>
                    <a:pt x="797" y="487"/>
                  </a:lnTo>
                  <a:lnTo>
                    <a:pt x="789" y="487"/>
                  </a:lnTo>
                  <a:lnTo>
                    <a:pt x="793" y="495"/>
                  </a:lnTo>
                  <a:lnTo>
                    <a:pt x="801" y="504"/>
                  </a:lnTo>
                  <a:lnTo>
                    <a:pt x="805" y="516"/>
                  </a:lnTo>
                  <a:lnTo>
                    <a:pt x="826" y="537"/>
                  </a:lnTo>
                  <a:lnTo>
                    <a:pt x="878" y="603"/>
                  </a:lnTo>
                  <a:lnTo>
                    <a:pt x="903" y="638"/>
                  </a:lnTo>
                  <a:lnTo>
                    <a:pt x="940" y="700"/>
                  </a:lnTo>
                  <a:lnTo>
                    <a:pt x="942" y="718"/>
                  </a:lnTo>
                  <a:lnTo>
                    <a:pt x="946" y="735"/>
                  </a:lnTo>
                  <a:lnTo>
                    <a:pt x="946" y="753"/>
                  </a:lnTo>
                  <a:lnTo>
                    <a:pt x="946" y="772"/>
                  </a:lnTo>
                  <a:lnTo>
                    <a:pt x="942" y="789"/>
                  </a:lnTo>
                  <a:lnTo>
                    <a:pt x="936" y="807"/>
                  </a:lnTo>
                  <a:lnTo>
                    <a:pt x="929" y="824"/>
                  </a:lnTo>
                  <a:lnTo>
                    <a:pt x="917" y="844"/>
                  </a:lnTo>
                  <a:lnTo>
                    <a:pt x="886" y="883"/>
                  </a:lnTo>
                  <a:lnTo>
                    <a:pt x="826" y="937"/>
                  </a:lnTo>
                  <a:lnTo>
                    <a:pt x="772" y="979"/>
                  </a:lnTo>
                  <a:lnTo>
                    <a:pt x="743" y="993"/>
                  </a:lnTo>
                  <a:lnTo>
                    <a:pt x="717" y="1009"/>
                  </a:lnTo>
                  <a:lnTo>
                    <a:pt x="688" y="1020"/>
                  </a:lnTo>
                  <a:lnTo>
                    <a:pt x="663" y="1034"/>
                  </a:lnTo>
                  <a:lnTo>
                    <a:pt x="634" y="1042"/>
                  </a:lnTo>
                  <a:lnTo>
                    <a:pt x="609" y="1049"/>
                  </a:lnTo>
                  <a:lnTo>
                    <a:pt x="580" y="1053"/>
                  </a:lnTo>
                  <a:lnTo>
                    <a:pt x="554" y="1057"/>
                  </a:lnTo>
                  <a:lnTo>
                    <a:pt x="545" y="105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rot="2109000">
              <a:off x="2684880" y="6802560"/>
              <a:ext cx="1528920" cy="837000"/>
            </a:xfrm>
            <a:custGeom>
              <a:avLst/>
              <a:gdLst/>
              <a:ahLst/>
              <a:rect l="l" t="t" r="r" b="b"/>
              <a:pathLst>
                <a:path w="1926" h="1055">
                  <a:moveTo>
                    <a:pt x="1047" y="1055"/>
                  </a:moveTo>
                  <a:lnTo>
                    <a:pt x="1028" y="1053"/>
                  </a:lnTo>
                  <a:lnTo>
                    <a:pt x="1018" y="1047"/>
                  </a:lnTo>
                  <a:lnTo>
                    <a:pt x="1014" y="1030"/>
                  </a:lnTo>
                  <a:lnTo>
                    <a:pt x="1024" y="989"/>
                  </a:lnTo>
                  <a:lnTo>
                    <a:pt x="1018" y="989"/>
                  </a:lnTo>
                  <a:lnTo>
                    <a:pt x="993" y="1016"/>
                  </a:lnTo>
                  <a:lnTo>
                    <a:pt x="983" y="1020"/>
                  </a:lnTo>
                  <a:lnTo>
                    <a:pt x="970" y="1014"/>
                  </a:lnTo>
                  <a:lnTo>
                    <a:pt x="966" y="1011"/>
                  </a:lnTo>
                  <a:lnTo>
                    <a:pt x="964" y="995"/>
                  </a:lnTo>
                  <a:lnTo>
                    <a:pt x="966" y="978"/>
                  </a:lnTo>
                  <a:lnTo>
                    <a:pt x="974" y="962"/>
                  </a:lnTo>
                  <a:lnTo>
                    <a:pt x="975" y="949"/>
                  </a:lnTo>
                  <a:lnTo>
                    <a:pt x="968" y="949"/>
                  </a:lnTo>
                  <a:lnTo>
                    <a:pt x="935" y="997"/>
                  </a:lnTo>
                  <a:lnTo>
                    <a:pt x="917" y="1011"/>
                  </a:lnTo>
                  <a:lnTo>
                    <a:pt x="896" y="1014"/>
                  </a:lnTo>
                  <a:lnTo>
                    <a:pt x="884" y="1009"/>
                  </a:lnTo>
                  <a:lnTo>
                    <a:pt x="879" y="995"/>
                  </a:lnTo>
                  <a:lnTo>
                    <a:pt x="879" y="962"/>
                  </a:lnTo>
                  <a:lnTo>
                    <a:pt x="871" y="960"/>
                  </a:lnTo>
                  <a:lnTo>
                    <a:pt x="846" y="989"/>
                  </a:lnTo>
                  <a:lnTo>
                    <a:pt x="816" y="995"/>
                  </a:lnTo>
                  <a:lnTo>
                    <a:pt x="807" y="987"/>
                  </a:lnTo>
                  <a:lnTo>
                    <a:pt x="805" y="978"/>
                  </a:lnTo>
                  <a:lnTo>
                    <a:pt x="797" y="894"/>
                  </a:lnTo>
                  <a:lnTo>
                    <a:pt x="793" y="896"/>
                  </a:lnTo>
                  <a:lnTo>
                    <a:pt x="760" y="950"/>
                  </a:lnTo>
                  <a:lnTo>
                    <a:pt x="743" y="952"/>
                  </a:lnTo>
                  <a:lnTo>
                    <a:pt x="731" y="939"/>
                  </a:lnTo>
                  <a:lnTo>
                    <a:pt x="723" y="914"/>
                  </a:lnTo>
                  <a:lnTo>
                    <a:pt x="716" y="906"/>
                  </a:lnTo>
                  <a:lnTo>
                    <a:pt x="702" y="939"/>
                  </a:lnTo>
                  <a:lnTo>
                    <a:pt x="692" y="939"/>
                  </a:lnTo>
                  <a:lnTo>
                    <a:pt x="669" y="919"/>
                  </a:lnTo>
                  <a:lnTo>
                    <a:pt x="634" y="857"/>
                  </a:lnTo>
                  <a:lnTo>
                    <a:pt x="630" y="857"/>
                  </a:lnTo>
                  <a:lnTo>
                    <a:pt x="638" y="927"/>
                  </a:lnTo>
                  <a:lnTo>
                    <a:pt x="634" y="933"/>
                  </a:lnTo>
                  <a:lnTo>
                    <a:pt x="613" y="923"/>
                  </a:lnTo>
                  <a:lnTo>
                    <a:pt x="591" y="886"/>
                  </a:lnTo>
                  <a:lnTo>
                    <a:pt x="566" y="855"/>
                  </a:lnTo>
                  <a:lnTo>
                    <a:pt x="539" y="832"/>
                  </a:lnTo>
                  <a:lnTo>
                    <a:pt x="510" y="811"/>
                  </a:lnTo>
                  <a:lnTo>
                    <a:pt x="481" y="795"/>
                  </a:lnTo>
                  <a:lnTo>
                    <a:pt x="450" y="778"/>
                  </a:lnTo>
                  <a:lnTo>
                    <a:pt x="419" y="766"/>
                  </a:lnTo>
                  <a:lnTo>
                    <a:pt x="390" y="755"/>
                  </a:lnTo>
                  <a:lnTo>
                    <a:pt x="361" y="745"/>
                  </a:lnTo>
                  <a:lnTo>
                    <a:pt x="324" y="726"/>
                  </a:lnTo>
                  <a:lnTo>
                    <a:pt x="287" y="710"/>
                  </a:lnTo>
                  <a:lnTo>
                    <a:pt x="250" y="693"/>
                  </a:lnTo>
                  <a:lnTo>
                    <a:pt x="215" y="677"/>
                  </a:lnTo>
                  <a:lnTo>
                    <a:pt x="180" y="658"/>
                  </a:lnTo>
                  <a:lnTo>
                    <a:pt x="147" y="636"/>
                  </a:lnTo>
                  <a:lnTo>
                    <a:pt x="116" y="609"/>
                  </a:lnTo>
                  <a:lnTo>
                    <a:pt x="91" y="580"/>
                  </a:lnTo>
                  <a:lnTo>
                    <a:pt x="66" y="543"/>
                  </a:lnTo>
                  <a:lnTo>
                    <a:pt x="56" y="532"/>
                  </a:lnTo>
                  <a:lnTo>
                    <a:pt x="37" y="489"/>
                  </a:lnTo>
                  <a:lnTo>
                    <a:pt x="33" y="481"/>
                  </a:lnTo>
                  <a:lnTo>
                    <a:pt x="29" y="470"/>
                  </a:lnTo>
                  <a:lnTo>
                    <a:pt x="25" y="452"/>
                  </a:lnTo>
                  <a:lnTo>
                    <a:pt x="23" y="448"/>
                  </a:lnTo>
                  <a:lnTo>
                    <a:pt x="16" y="423"/>
                  </a:lnTo>
                  <a:lnTo>
                    <a:pt x="8" y="392"/>
                  </a:lnTo>
                  <a:lnTo>
                    <a:pt x="2" y="361"/>
                  </a:lnTo>
                  <a:lnTo>
                    <a:pt x="0" y="330"/>
                  </a:lnTo>
                  <a:lnTo>
                    <a:pt x="0" y="299"/>
                  </a:lnTo>
                  <a:lnTo>
                    <a:pt x="0" y="268"/>
                  </a:lnTo>
                  <a:lnTo>
                    <a:pt x="4" y="237"/>
                  </a:lnTo>
                  <a:lnTo>
                    <a:pt x="8" y="206"/>
                  </a:lnTo>
                  <a:lnTo>
                    <a:pt x="16" y="177"/>
                  </a:lnTo>
                  <a:lnTo>
                    <a:pt x="37" y="124"/>
                  </a:lnTo>
                  <a:lnTo>
                    <a:pt x="97" y="0"/>
                  </a:lnTo>
                  <a:lnTo>
                    <a:pt x="95" y="14"/>
                  </a:lnTo>
                  <a:lnTo>
                    <a:pt x="95" y="29"/>
                  </a:lnTo>
                  <a:lnTo>
                    <a:pt x="95" y="43"/>
                  </a:lnTo>
                  <a:lnTo>
                    <a:pt x="97" y="58"/>
                  </a:lnTo>
                  <a:lnTo>
                    <a:pt x="99" y="72"/>
                  </a:lnTo>
                  <a:lnTo>
                    <a:pt x="103" y="88"/>
                  </a:lnTo>
                  <a:lnTo>
                    <a:pt x="105" y="101"/>
                  </a:lnTo>
                  <a:lnTo>
                    <a:pt x="111" y="119"/>
                  </a:lnTo>
                  <a:lnTo>
                    <a:pt x="120" y="136"/>
                  </a:lnTo>
                  <a:lnTo>
                    <a:pt x="153" y="165"/>
                  </a:lnTo>
                  <a:lnTo>
                    <a:pt x="227" y="165"/>
                  </a:lnTo>
                  <a:lnTo>
                    <a:pt x="237" y="165"/>
                  </a:lnTo>
                  <a:lnTo>
                    <a:pt x="254" y="163"/>
                  </a:lnTo>
                  <a:lnTo>
                    <a:pt x="272" y="163"/>
                  </a:lnTo>
                  <a:lnTo>
                    <a:pt x="291" y="163"/>
                  </a:lnTo>
                  <a:lnTo>
                    <a:pt x="310" y="167"/>
                  </a:lnTo>
                  <a:lnTo>
                    <a:pt x="328" y="171"/>
                  </a:lnTo>
                  <a:lnTo>
                    <a:pt x="347" y="181"/>
                  </a:lnTo>
                  <a:lnTo>
                    <a:pt x="367" y="194"/>
                  </a:lnTo>
                  <a:lnTo>
                    <a:pt x="386" y="214"/>
                  </a:lnTo>
                  <a:lnTo>
                    <a:pt x="398" y="225"/>
                  </a:lnTo>
                  <a:lnTo>
                    <a:pt x="411" y="241"/>
                  </a:lnTo>
                  <a:lnTo>
                    <a:pt x="423" y="254"/>
                  </a:lnTo>
                  <a:lnTo>
                    <a:pt x="434" y="272"/>
                  </a:lnTo>
                  <a:lnTo>
                    <a:pt x="444" y="285"/>
                  </a:lnTo>
                  <a:lnTo>
                    <a:pt x="454" y="301"/>
                  </a:lnTo>
                  <a:lnTo>
                    <a:pt x="465" y="316"/>
                  </a:lnTo>
                  <a:lnTo>
                    <a:pt x="479" y="334"/>
                  </a:lnTo>
                  <a:lnTo>
                    <a:pt x="491" y="344"/>
                  </a:lnTo>
                  <a:lnTo>
                    <a:pt x="506" y="365"/>
                  </a:lnTo>
                  <a:lnTo>
                    <a:pt x="557" y="390"/>
                  </a:lnTo>
                  <a:lnTo>
                    <a:pt x="609" y="402"/>
                  </a:lnTo>
                  <a:lnTo>
                    <a:pt x="663" y="406"/>
                  </a:lnTo>
                  <a:lnTo>
                    <a:pt x="719" y="411"/>
                  </a:lnTo>
                  <a:lnTo>
                    <a:pt x="774" y="419"/>
                  </a:lnTo>
                  <a:lnTo>
                    <a:pt x="828" y="437"/>
                  </a:lnTo>
                  <a:lnTo>
                    <a:pt x="880" y="468"/>
                  </a:lnTo>
                  <a:lnTo>
                    <a:pt x="933" y="524"/>
                  </a:lnTo>
                  <a:lnTo>
                    <a:pt x="989" y="545"/>
                  </a:lnTo>
                  <a:lnTo>
                    <a:pt x="1047" y="559"/>
                  </a:lnTo>
                  <a:lnTo>
                    <a:pt x="1103" y="568"/>
                  </a:lnTo>
                  <a:lnTo>
                    <a:pt x="1162" y="578"/>
                  </a:lnTo>
                  <a:lnTo>
                    <a:pt x="1218" y="588"/>
                  </a:lnTo>
                  <a:lnTo>
                    <a:pt x="1274" y="609"/>
                  </a:lnTo>
                  <a:lnTo>
                    <a:pt x="1330" y="642"/>
                  </a:lnTo>
                  <a:lnTo>
                    <a:pt x="1389" y="696"/>
                  </a:lnTo>
                  <a:lnTo>
                    <a:pt x="1422" y="708"/>
                  </a:lnTo>
                  <a:lnTo>
                    <a:pt x="1456" y="714"/>
                  </a:lnTo>
                  <a:lnTo>
                    <a:pt x="1489" y="714"/>
                  </a:lnTo>
                  <a:lnTo>
                    <a:pt x="1524" y="710"/>
                  </a:lnTo>
                  <a:lnTo>
                    <a:pt x="1557" y="704"/>
                  </a:lnTo>
                  <a:lnTo>
                    <a:pt x="1590" y="698"/>
                  </a:lnTo>
                  <a:lnTo>
                    <a:pt x="1623" y="694"/>
                  </a:lnTo>
                  <a:lnTo>
                    <a:pt x="1658" y="696"/>
                  </a:lnTo>
                  <a:lnTo>
                    <a:pt x="1720" y="706"/>
                  </a:lnTo>
                  <a:lnTo>
                    <a:pt x="1718" y="706"/>
                  </a:lnTo>
                  <a:lnTo>
                    <a:pt x="1742" y="712"/>
                  </a:lnTo>
                  <a:lnTo>
                    <a:pt x="1765" y="718"/>
                  </a:lnTo>
                  <a:lnTo>
                    <a:pt x="1788" y="724"/>
                  </a:lnTo>
                  <a:lnTo>
                    <a:pt x="1813" y="729"/>
                  </a:lnTo>
                  <a:lnTo>
                    <a:pt x="1837" y="733"/>
                  </a:lnTo>
                  <a:lnTo>
                    <a:pt x="1860" y="735"/>
                  </a:lnTo>
                  <a:lnTo>
                    <a:pt x="1883" y="735"/>
                  </a:lnTo>
                  <a:lnTo>
                    <a:pt x="1908" y="733"/>
                  </a:lnTo>
                  <a:lnTo>
                    <a:pt x="1914" y="729"/>
                  </a:lnTo>
                  <a:lnTo>
                    <a:pt x="1926" y="727"/>
                  </a:lnTo>
                  <a:lnTo>
                    <a:pt x="1926" y="741"/>
                  </a:lnTo>
                  <a:lnTo>
                    <a:pt x="1922" y="766"/>
                  </a:lnTo>
                  <a:lnTo>
                    <a:pt x="1920" y="795"/>
                  </a:lnTo>
                  <a:lnTo>
                    <a:pt x="1914" y="821"/>
                  </a:lnTo>
                  <a:lnTo>
                    <a:pt x="1910" y="850"/>
                  </a:lnTo>
                  <a:lnTo>
                    <a:pt x="1903" y="875"/>
                  </a:lnTo>
                  <a:lnTo>
                    <a:pt x="1891" y="904"/>
                  </a:lnTo>
                  <a:lnTo>
                    <a:pt x="1875" y="929"/>
                  </a:lnTo>
                  <a:lnTo>
                    <a:pt x="1858" y="958"/>
                  </a:lnTo>
                  <a:lnTo>
                    <a:pt x="1829" y="987"/>
                  </a:lnTo>
                  <a:lnTo>
                    <a:pt x="1821" y="999"/>
                  </a:lnTo>
                  <a:lnTo>
                    <a:pt x="1790" y="1016"/>
                  </a:lnTo>
                  <a:lnTo>
                    <a:pt x="1759" y="1030"/>
                  </a:lnTo>
                  <a:lnTo>
                    <a:pt x="1728" y="1042"/>
                  </a:lnTo>
                  <a:lnTo>
                    <a:pt x="1699" y="1049"/>
                  </a:lnTo>
                  <a:lnTo>
                    <a:pt x="1668" y="1051"/>
                  </a:lnTo>
                  <a:lnTo>
                    <a:pt x="1639" y="1051"/>
                  </a:lnTo>
                  <a:lnTo>
                    <a:pt x="1608" y="1047"/>
                  </a:lnTo>
                  <a:lnTo>
                    <a:pt x="1579" y="1044"/>
                  </a:lnTo>
                  <a:lnTo>
                    <a:pt x="1538" y="1028"/>
                  </a:lnTo>
                  <a:lnTo>
                    <a:pt x="1497" y="1013"/>
                  </a:lnTo>
                  <a:lnTo>
                    <a:pt x="1458" y="997"/>
                  </a:lnTo>
                  <a:lnTo>
                    <a:pt x="1420" y="983"/>
                  </a:lnTo>
                  <a:lnTo>
                    <a:pt x="1379" y="970"/>
                  </a:lnTo>
                  <a:lnTo>
                    <a:pt x="1340" y="960"/>
                  </a:lnTo>
                  <a:lnTo>
                    <a:pt x="1301" y="950"/>
                  </a:lnTo>
                  <a:lnTo>
                    <a:pt x="1263" y="949"/>
                  </a:lnTo>
                  <a:lnTo>
                    <a:pt x="1245" y="949"/>
                  </a:lnTo>
                  <a:lnTo>
                    <a:pt x="1228" y="950"/>
                  </a:lnTo>
                  <a:lnTo>
                    <a:pt x="1210" y="954"/>
                  </a:lnTo>
                  <a:lnTo>
                    <a:pt x="1193" y="960"/>
                  </a:lnTo>
                  <a:lnTo>
                    <a:pt x="1175" y="966"/>
                  </a:lnTo>
                  <a:lnTo>
                    <a:pt x="1158" y="976"/>
                  </a:lnTo>
                  <a:lnTo>
                    <a:pt x="1140" y="985"/>
                  </a:lnTo>
                  <a:lnTo>
                    <a:pt x="1123" y="999"/>
                  </a:lnTo>
                  <a:lnTo>
                    <a:pt x="1107" y="1007"/>
                  </a:lnTo>
                  <a:lnTo>
                    <a:pt x="1092" y="1020"/>
                  </a:lnTo>
                  <a:lnTo>
                    <a:pt x="1078" y="1034"/>
                  </a:lnTo>
                  <a:lnTo>
                    <a:pt x="1067" y="1049"/>
                  </a:lnTo>
                  <a:lnTo>
                    <a:pt x="1061" y="1053"/>
                  </a:lnTo>
                  <a:lnTo>
                    <a:pt x="1047" y="1055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rot="2109000">
              <a:off x="5020200" y="8656920"/>
              <a:ext cx="119520" cy="11592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58" y="145"/>
                  </a:moveTo>
                  <a:lnTo>
                    <a:pt x="17" y="124"/>
                  </a:lnTo>
                  <a:lnTo>
                    <a:pt x="9" y="116"/>
                  </a:lnTo>
                  <a:lnTo>
                    <a:pt x="4" y="105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0" y="60"/>
                  </a:lnTo>
                  <a:lnTo>
                    <a:pt x="2" y="46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38" y="6"/>
                  </a:lnTo>
                  <a:lnTo>
                    <a:pt x="15" y="44"/>
                  </a:lnTo>
                  <a:lnTo>
                    <a:pt x="9" y="62"/>
                  </a:lnTo>
                  <a:lnTo>
                    <a:pt x="13" y="91"/>
                  </a:lnTo>
                  <a:lnTo>
                    <a:pt x="17" y="103"/>
                  </a:lnTo>
                  <a:lnTo>
                    <a:pt x="27" y="116"/>
                  </a:lnTo>
                  <a:lnTo>
                    <a:pt x="37" y="122"/>
                  </a:lnTo>
                  <a:lnTo>
                    <a:pt x="77" y="130"/>
                  </a:lnTo>
                  <a:lnTo>
                    <a:pt x="102" y="116"/>
                  </a:lnTo>
                  <a:lnTo>
                    <a:pt x="133" y="91"/>
                  </a:lnTo>
                  <a:lnTo>
                    <a:pt x="137" y="89"/>
                  </a:lnTo>
                  <a:lnTo>
                    <a:pt x="151" y="83"/>
                  </a:lnTo>
                  <a:lnTo>
                    <a:pt x="139" y="108"/>
                  </a:lnTo>
                  <a:lnTo>
                    <a:pt x="128" y="116"/>
                  </a:lnTo>
                  <a:lnTo>
                    <a:pt x="89" y="143"/>
                  </a:lnTo>
                  <a:lnTo>
                    <a:pt x="5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2109000">
              <a:off x="2697120" y="7169760"/>
              <a:ext cx="346320" cy="34560"/>
            </a:xfrm>
            <a:custGeom>
              <a:avLst/>
              <a:gdLst/>
              <a:ahLst/>
              <a:rect l="l" t="t" r="r" b="b"/>
              <a:pathLst>
                <a:path w="437" h="45">
                  <a:moveTo>
                    <a:pt x="237" y="43"/>
                  </a:moveTo>
                  <a:lnTo>
                    <a:pt x="208" y="41"/>
                  </a:lnTo>
                  <a:lnTo>
                    <a:pt x="181" y="39"/>
                  </a:lnTo>
                  <a:lnTo>
                    <a:pt x="152" y="33"/>
                  </a:lnTo>
                  <a:lnTo>
                    <a:pt x="124" y="28"/>
                  </a:lnTo>
                  <a:lnTo>
                    <a:pt x="95" y="22"/>
                  </a:lnTo>
                  <a:lnTo>
                    <a:pt x="68" y="16"/>
                  </a:lnTo>
                  <a:lnTo>
                    <a:pt x="39" y="14"/>
                  </a:lnTo>
                  <a:lnTo>
                    <a:pt x="12" y="16"/>
                  </a:lnTo>
                  <a:lnTo>
                    <a:pt x="0" y="16"/>
                  </a:lnTo>
                  <a:lnTo>
                    <a:pt x="8" y="6"/>
                  </a:lnTo>
                  <a:lnTo>
                    <a:pt x="57" y="4"/>
                  </a:lnTo>
                  <a:lnTo>
                    <a:pt x="107" y="10"/>
                  </a:lnTo>
                  <a:lnTo>
                    <a:pt x="155" y="16"/>
                  </a:lnTo>
                  <a:lnTo>
                    <a:pt x="206" y="24"/>
                  </a:lnTo>
                  <a:lnTo>
                    <a:pt x="254" y="28"/>
                  </a:lnTo>
                  <a:lnTo>
                    <a:pt x="305" y="28"/>
                  </a:lnTo>
                  <a:lnTo>
                    <a:pt x="355" y="22"/>
                  </a:lnTo>
                  <a:lnTo>
                    <a:pt x="406" y="12"/>
                  </a:lnTo>
                  <a:lnTo>
                    <a:pt x="417" y="8"/>
                  </a:lnTo>
                  <a:lnTo>
                    <a:pt x="437" y="0"/>
                  </a:lnTo>
                  <a:lnTo>
                    <a:pt x="425" y="16"/>
                  </a:lnTo>
                  <a:lnTo>
                    <a:pt x="413" y="24"/>
                  </a:lnTo>
                  <a:lnTo>
                    <a:pt x="404" y="26"/>
                  </a:lnTo>
                  <a:lnTo>
                    <a:pt x="382" y="29"/>
                  </a:lnTo>
                  <a:lnTo>
                    <a:pt x="363" y="35"/>
                  </a:lnTo>
                  <a:lnTo>
                    <a:pt x="342" y="37"/>
                  </a:lnTo>
                  <a:lnTo>
                    <a:pt x="322" y="41"/>
                  </a:lnTo>
                  <a:lnTo>
                    <a:pt x="301" y="41"/>
                  </a:lnTo>
                  <a:lnTo>
                    <a:pt x="282" y="43"/>
                  </a:lnTo>
                  <a:lnTo>
                    <a:pt x="260" y="43"/>
                  </a:lnTo>
                  <a:lnTo>
                    <a:pt x="241" y="45"/>
                  </a:lnTo>
                  <a:lnTo>
                    <a:pt x="23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2109000">
              <a:off x="5294880" y="8636040"/>
              <a:ext cx="131760" cy="276120"/>
            </a:xfrm>
            <a:custGeom>
              <a:avLst/>
              <a:gdLst/>
              <a:ahLst/>
              <a:rect l="l" t="t" r="r" b="b"/>
              <a:pathLst>
                <a:path w="165" h="349">
                  <a:moveTo>
                    <a:pt x="117" y="349"/>
                  </a:moveTo>
                  <a:lnTo>
                    <a:pt x="95" y="335"/>
                  </a:lnTo>
                  <a:lnTo>
                    <a:pt x="95" y="331"/>
                  </a:lnTo>
                  <a:lnTo>
                    <a:pt x="89" y="318"/>
                  </a:lnTo>
                  <a:lnTo>
                    <a:pt x="89" y="306"/>
                  </a:lnTo>
                  <a:lnTo>
                    <a:pt x="93" y="294"/>
                  </a:lnTo>
                  <a:lnTo>
                    <a:pt x="99" y="283"/>
                  </a:lnTo>
                  <a:lnTo>
                    <a:pt x="78" y="279"/>
                  </a:lnTo>
                  <a:lnTo>
                    <a:pt x="64" y="265"/>
                  </a:lnTo>
                  <a:lnTo>
                    <a:pt x="58" y="236"/>
                  </a:lnTo>
                  <a:lnTo>
                    <a:pt x="72" y="221"/>
                  </a:lnTo>
                  <a:lnTo>
                    <a:pt x="60" y="215"/>
                  </a:lnTo>
                  <a:lnTo>
                    <a:pt x="47" y="215"/>
                  </a:lnTo>
                  <a:lnTo>
                    <a:pt x="33" y="205"/>
                  </a:lnTo>
                  <a:lnTo>
                    <a:pt x="31" y="172"/>
                  </a:lnTo>
                  <a:lnTo>
                    <a:pt x="41" y="159"/>
                  </a:lnTo>
                  <a:lnTo>
                    <a:pt x="41" y="153"/>
                  </a:lnTo>
                  <a:lnTo>
                    <a:pt x="8" y="139"/>
                  </a:lnTo>
                  <a:lnTo>
                    <a:pt x="4" y="131"/>
                  </a:lnTo>
                  <a:lnTo>
                    <a:pt x="2" y="118"/>
                  </a:lnTo>
                  <a:lnTo>
                    <a:pt x="4" y="106"/>
                  </a:lnTo>
                  <a:lnTo>
                    <a:pt x="8" y="93"/>
                  </a:lnTo>
                  <a:lnTo>
                    <a:pt x="16" y="81"/>
                  </a:lnTo>
                  <a:lnTo>
                    <a:pt x="22" y="71"/>
                  </a:lnTo>
                  <a:lnTo>
                    <a:pt x="14" y="69"/>
                  </a:lnTo>
                  <a:lnTo>
                    <a:pt x="4" y="50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6" y="17"/>
                  </a:lnTo>
                  <a:lnTo>
                    <a:pt x="16" y="7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47" y="21"/>
                  </a:lnTo>
                  <a:lnTo>
                    <a:pt x="47" y="31"/>
                  </a:lnTo>
                  <a:lnTo>
                    <a:pt x="51" y="40"/>
                  </a:lnTo>
                  <a:lnTo>
                    <a:pt x="53" y="50"/>
                  </a:lnTo>
                  <a:lnTo>
                    <a:pt x="58" y="60"/>
                  </a:lnTo>
                  <a:lnTo>
                    <a:pt x="62" y="71"/>
                  </a:lnTo>
                  <a:lnTo>
                    <a:pt x="72" y="83"/>
                  </a:lnTo>
                  <a:lnTo>
                    <a:pt x="109" y="129"/>
                  </a:lnTo>
                  <a:lnTo>
                    <a:pt x="150" y="209"/>
                  </a:lnTo>
                  <a:lnTo>
                    <a:pt x="152" y="221"/>
                  </a:lnTo>
                  <a:lnTo>
                    <a:pt x="163" y="248"/>
                  </a:lnTo>
                  <a:lnTo>
                    <a:pt x="165" y="250"/>
                  </a:lnTo>
                  <a:lnTo>
                    <a:pt x="157" y="261"/>
                  </a:lnTo>
                  <a:lnTo>
                    <a:pt x="152" y="273"/>
                  </a:lnTo>
                  <a:lnTo>
                    <a:pt x="148" y="285"/>
                  </a:lnTo>
                  <a:lnTo>
                    <a:pt x="144" y="298"/>
                  </a:lnTo>
                  <a:lnTo>
                    <a:pt x="138" y="310"/>
                  </a:lnTo>
                  <a:lnTo>
                    <a:pt x="136" y="323"/>
                  </a:lnTo>
                  <a:lnTo>
                    <a:pt x="132" y="335"/>
                  </a:lnTo>
                  <a:lnTo>
                    <a:pt x="130" y="349"/>
                  </a:lnTo>
                  <a:lnTo>
                    <a:pt x="117" y="34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rot="2109000">
              <a:off x="2898720" y="7239600"/>
              <a:ext cx="352440" cy="85680"/>
            </a:xfrm>
            <a:custGeom>
              <a:avLst/>
              <a:gdLst/>
              <a:ahLst/>
              <a:rect l="l" t="t" r="r" b="b"/>
              <a:pathLst>
                <a:path w="444" h="109">
                  <a:moveTo>
                    <a:pt x="0" y="107"/>
                  </a:moveTo>
                  <a:lnTo>
                    <a:pt x="12" y="87"/>
                  </a:lnTo>
                  <a:lnTo>
                    <a:pt x="27" y="72"/>
                  </a:lnTo>
                  <a:lnTo>
                    <a:pt x="43" y="56"/>
                  </a:lnTo>
                  <a:lnTo>
                    <a:pt x="60" y="45"/>
                  </a:lnTo>
                  <a:lnTo>
                    <a:pt x="78" y="33"/>
                  </a:lnTo>
                  <a:lnTo>
                    <a:pt x="97" y="23"/>
                  </a:lnTo>
                  <a:lnTo>
                    <a:pt x="115" y="15"/>
                  </a:lnTo>
                  <a:lnTo>
                    <a:pt x="134" y="10"/>
                  </a:lnTo>
                  <a:lnTo>
                    <a:pt x="171" y="2"/>
                  </a:lnTo>
                  <a:lnTo>
                    <a:pt x="210" y="0"/>
                  </a:lnTo>
                  <a:lnTo>
                    <a:pt x="248" y="0"/>
                  </a:lnTo>
                  <a:lnTo>
                    <a:pt x="287" y="4"/>
                  </a:lnTo>
                  <a:lnTo>
                    <a:pt x="324" y="8"/>
                  </a:lnTo>
                  <a:lnTo>
                    <a:pt x="363" y="13"/>
                  </a:lnTo>
                  <a:lnTo>
                    <a:pt x="402" y="21"/>
                  </a:lnTo>
                  <a:lnTo>
                    <a:pt x="440" y="31"/>
                  </a:lnTo>
                  <a:lnTo>
                    <a:pt x="444" y="41"/>
                  </a:lnTo>
                  <a:lnTo>
                    <a:pt x="404" y="35"/>
                  </a:lnTo>
                  <a:lnTo>
                    <a:pt x="365" y="29"/>
                  </a:lnTo>
                  <a:lnTo>
                    <a:pt x="326" y="23"/>
                  </a:lnTo>
                  <a:lnTo>
                    <a:pt x="289" y="21"/>
                  </a:lnTo>
                  <a:lnTo>
                    <a:pt x="248" y="15"/>
                  </a:lnTo>
                  <a:lnTo>
                    <a:pt x="210" y="15"/>
                  </a:lnTo>
                  <a:lnTo>
                    <a:pt x="171" y="17"/>
                  </a:lnTo>
                  <a:lnTo>
                    <a:pt x="134" y="25"/>
                  </a:lnTo>
                  <a:lnTo>
                    <a:pt x="70" y="56"/>
                  </a:lnTo>
                  <a:lnTo>
                    <a:pt x="8" y="109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rot="2109000">
              <a:off x="3148920" y="7252560"/>
              <a:ext cx="191880" cy="168120"/>
            </a:xfrm>
            <a:custGeom>
              <a:avLst/>
              <a:gdLst/>
              <a:ahLst/>
              <a:rect l="l" t="t" r="r" b="b"/>
              <a:pathLst>
                <a:path w="240" h="211">
                  <a:moveTo>
                    <a:pt x="0" y="211"/>
                  </a:moveTo>
                  <a:lnTo>
                    <a:pt x="6" y="184"/>
                  </a:lnTo>
                  <a:lnTo>
                    <a:pt x="19" y="157"/>
                  </a:lnTo>
                  <a:lnTo>
                    <a:pt x="35" y="128"/>
                  </a:lnTo>
                  <a:lnTo>
                    <a:pt x="56" y="102"/>
                  </a:lnTo>
                  <a:lnTo>
                    <a:pt x="77" y="75"/>
                  </a:lnTo>
                  <a:lnTo>
                    <a:pt x="103" y="54"/>
                  </a:lnTo>
                  <a:lnTo>
                    <a:pt x="128" y="35"/>
                  </a:lnTo>
                  <a:lnTo>
                    <a:pt x="157" y="21"/>
                  </a:lnTo>
                  <a:lnTo>
                    <a:pt x="229" y="0"/>
                  </a:lnTo>
                  <a:lnTo>
                    <a:pt x="240" y="2"/>
                  </a:lnTo>
                  <a:lnTo>
                    <a:pt x="234" y="9"/>
                  </a:lnTo>
                  <a:lnTo>
                    <a:pt x="213" y="17"/>
                  </a:lnTo>
                  <a:lnTo>
                    <a:pt x="143" y="42"/>
                  </a:lnTo>
                  <a:lnTo>
                    <a:pt x="135" y="50"/>
                  </a:lnTo>
                  <a:lnTo>
                    <a:pt x="114" y="64"/>
                  </a:lnTo>
                  <a:lnTo>
                    <a:pt x="106" y="75"/>
                  </a:lnTo>
                  <a:lnTo>
                    <a:pt x="87" y="91"/>
                  </a:lnTo>
                  <a:lnTo>
                    <a:pt x="71" y="106"/>
                  </a:lnTo>
                  <a:lnTo>
                    <a:pt x="58" y="122"/>
                  </a:lnTo>
                  <a:lnTo>
                    <a:pt x="46" y="139"/>
                  </a:lnTo>
                  <a:lnTo>
                    <a:pt x="35" y="157"/>
                  </a:lnTo>
                  <a:lnTo>
                    <a:pt x="25" y="174"/>
                  </a:lnTo>
                  <a:lnTo>
                    <a:pt x="15" y="192"/>
                  </a:lnTo>
                  <a:lnTo>
                    <a:pt x="9" y="209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rot="2109000">
              <a:off x="5192640" y="8746200"/>
              <a:ext cx="22320" cy="3024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1" y="37"/>
                  </a:moveTo>
                  <a:lnTo>
                    <a:pt x="9" y="18"/>
                  </a:lnTo>
                  <a:lnTo>
                    <a:pt x="0" y="4"/>
                  </a:lnTo>
                  <a:lnTo>
                    <a:pt x="6" y="0"/>
                  </a:lnTo>
                  <a:lnTo>
                    <a:pt x="27" y="39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rot="2109000">
              <a:off x="3358440" y="7304760"/>
              <a:ext cx="44280" cy="163440"/>
            </a:xfrm>
            <a:custGeom>
              <a:avLst/>
              <a:gdLst/>
              <a:ahLst/>
              <a:rect l="l" t="t" r="r" b="b"/>
              <a:pathLst>
                <a:path w="57" h="208">
                  <a:moveTo>
                    <a:pt x="0" y="208"/>
                  </a:moveTo>
                  <a:lnTo>
                    <a:pt x="0" y="180"/>
                  </a:lnTo>
                  <a:lnTo>
                    <a:pt x="4" y="155"/>
                  </a:lnTo>
                  <a:lnTo>
                    <a:pt x="8" y="128"/>
                  </a:lnTo>
                  <a:lnTo>
                    <a:pt x="16" y="103"/>
                  </a:lnTo>
                  <a:lnTo>
                    <a:pt x="22" y="76"/>
                  </a:lnTo>
                  <a:lnTo>
                    <a:pt x="31" y="50"/>
                  </a:lnTo>
                  <a:lnTo>
                    <a:pt x="41" y="25"/>
                  </a:lnTo>
                  <a:lnTo>
                    <a:pt x="57" y="0"/>
                  </a:lnTo>
                  <a:lnTo>
                    <a:pt x="55" y="29"/>
                  </a:lnTo>
                  <a:lnTo>
                    <a:pt x="43" y="50"/>
                  </a:lnTo>
                  <a:lnTo>
                    <a:pt x="37" y="72"/>
                  </a:lnTo>
                  <a:lnTo>
                    <a:pt x="31" y="95"/>
                  </a:lnTo>
                  <a:lnTo>
                    <a:pt x="27" y="118"/>
                  </a:lnTo>
                  <a:lnTo>
                    <a:pt x="22" y="140"/>
                  </a:lnTo>
                  <a:lnTo>
                    <a:pt x="16" y="163"/>
                  </a:lnTo>
                  <a:lnTo>
                    <a:pt x="10" y="184"/>
                  </a:lnTo>
                  <a:lnTo>
                    <a:pt x="4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rot="2109000">
              <a:off x="5004360" y="8302320"/>
              <a:ext cx="470160" cy="436320"/>
            </a:xfrm>
            <a:custGeom>
              <a:avLst/>
              <a:gdLst/>
              <a:ahLst/>
              <a:rect l="l" t="t" r="r" b="b"/>
              <a:pathLst>
                <a:path w="594" h="551">
                  <a:moveTo>
                    <a:pt x="313" y="549"/>
                  </a:moveTo>
                  <a:lnTo>
                    <a:pt x="311" y="547"/>
                  </a:lnTo>
                  <a:lnTo>
                    <a:pt x="311" y="541"/>
                  </a:lnTo>
                  <a:lnTo>
                    <a:pt x="342" y="524"/>
                  </a:lnTo>
                  <a:lnTo>
                    <a:pt x="332" y="497"/>
                  </a:lnTo>
                  <a:lnTo>
                    <a:pt x="326" y="477"/>
                  </a:lnTo>
                  <a:lnTo>
                    <a:pt x="320" y="458"/>
                  </a:lnTo>
                  <a:lnTo>
                    <a:pt x="316" y="438"/>
                  </a:lnTo>
                  <a:lnTo>
                    <a:pt x="320" y="421"/>
                  </a:lnTo>
                  <a:lnTo>
                    <a:pt x="311" y="419"/>
                  </a:lnTo>
                  <a:lnTo>
                    <a:pt x="293" y="413"/>
                  </a:lnTo>
                  <a:lnTo>
                    <a:pt x="278" y="409"/>
                  </a:lnTo>
                  <a:lnTo>
                    <a:pt x="262" y="400"/>
                  </a:lnTo>
                  <a:lnTo>
                    <a:pt x="247" y="390"/>
                  </a:lnTo>
                  <a:lnTo>
                    <a:pt x="231" y="378"/>
                  </a:lnTo>
                  <a:lnTo>
                    <a:pt x="216" y="369"/>
                  </a:lnTo>
                  <a:lnTo>
                    <a:pt x="200" y="359"/>
                  </a:lnTo>
                  <a:lnTo>
                    <a:pt x="186" y="355"/>
                  </a:lnTo>
                  <a:lnTo>
                    <a:pt x="175" y="359"/>
                  </a:lnTo>
                  <a:lnTo>
                    <a:pt x="163" y="363"/>
                  </a:lnTo>
                  <a:lnTo>
                    <a:pt x="152" y="363"/>
                  </a:lnTo>
                  <a:lnTo>
                    <a:pt x="142" y="365"/>
                  </a:lnTo>
                  <a:lnTo>
                    <a:pt x="130" y="361"/>
                  </a:lnTo>
                  <a:lnTo>
                    <a:pt x="119" y="359"/>
                  </a:lnTo>
                  <a:lnTo>
                    <a:pt x="109" y="353"/>
                  </a:lnTo>
                  <a:lnTo>
                    <a:pt x="99" y="349"/>
                  </a:lnTo>
                  <a:lnTo>
                    <a:pt x="76" y="326"/>
                  </a:lnTo>
                  <a:lnTo>
                    <a:pt x="70" y="326"/>
                  </a:lnTo>
                  <a:lnTo>
                    <a:pt x="51" y="339"/>
                  </a:lnTo>
                  <a:lnTo>
                    <a:pt x="35" y="345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39" y="332"/>
                  </a:lnTo>
                  <a:lnTo>
                    <a:pt x="76" y="301"/>
                  </a:lnTo>
                  <a:lnTo>
                    <a:pt x="88" y="295"/>
                  </a:lnTo>
                  <a:lnTo>
                    <a:pt x="103" y="295"/>
                  </a:lnTo>
                  <a:lnTo>
                    <a:pt x="113" y="299"/>
                  </a:lnTo>
                  <a:lnTo>
                    <a:pt x="109" y="308"/>
                  </a:lnTo>
                  <a:lnTo>
                    <a:pt x="86" y="314"/>
                  </a:lnTo>
                  <a:lnTo>
                    <a:pt x="91" y="322"/>
                  </a:lnTo>
                  <a:lnTo>
                    <a:pt x="101" y="328"/>
                  </a:lnTo>
                  <a:lnTo>
                    <a:pt x="113" y="336"/>
                  </a:lnTo>
                  <a:lnTo>
                    <a:pt x="122" y="341"/>
                  </a:lnTo>
                  <a:lnTo>
                    <a:pt x="134" y="347"/>
                  </a:lnTo>
                  <a:lnTo>
                    <a:pt x="146" y="347"/>
                  </a:lnTo>
                  <a:lnTo>
                    <a:pt x="157" y="349"/>
                  </a:lnTo>
                  <a:lnTo>
                    <a:pt x="169" y="345"/>
                  </a:lnTo>
                  <a:lnTo>
                    <a:pt x="181" y="339"/>
                  </a:lnTo>
                  <a:lnTo>
                    <a:pt x="249" y="272"/>
                  </a:lnTo>
                  <a:lnTo>
                    <a:pt x="280" y="258"/>
                  </a:lnTo>
                  <a:lnTo>
                    <a:pt x="297" y="254"/>
                  </a:lnTo>
                  <a:lnTo>
                    <a:pt x="347" y="229"/>
                  </a:lnTo>
                  <a:lnTo>
                    <a:pt x="363" y="211"/>
                  </a:lnTo>
                  <a:lnTo>
                    <a:pt x="378" y="194"/>
                  </a:lnTo>
                  <a:lnTo>
                    <a:pt x="390" y="177"/>
                  </a:lnTo>
                  <a:lnTo>
                    <a:pt x="404" y="159"/>
                  </a:lnTo>
                  <a:lnTo>
                    <a:pt x="410" y="140"/>
                  </a:lnTo>
                  <a:lnTo>
                    <a:pt x="417" y="122"/>
                  </a:lnTo>
                  <a:lnTo>
                    <a:pt x="419" y="105"/>
                  </a:lnTo>
                  <a:lnTo>
                    <a:pt x="421" y="87"/>
                  </a:lnTo>
                  <a:lnTo>
                    <a:pt x="419" y="76"/>
                  </a:lnTo>
                  <a:lnTo>
                    <a:pt x="417" y="72"/>
                  </a:lnTo>
                  <a:lnTo>
                    <a:pt x="382" y="80"/>
                  </a:lnTo>
                  <a:lnTo>
                    <a:pt x="378" y="82"/>
                  </a:lnTo>
                  <a:lnTo>
                    <a:pt x="365" y="105"/>
                  </a:lnTo>
                  <a:lnTo>
                    <a:pt x="359" y="97"/>
                  </a:lnTo>
                  <a:lnTo>
                    <a:pt x="365" y="76"/>
                  </a:lnTo>
                  <a:lnTo>
                    <a:pt x="392" y="58"/>
                  </a:lnTo>
                  <a:lnTo>
                    <a:pt x="421" y="49"/>
                  </a:lnTo>
                  <a:lnTo>
                    <a:pt x="442" y="31"/>
                  </a:lnTo>
                  <a:lnTo>
                    <a:pt x="444" y="6"/>
                  </a:lnTo>
                  <a:lnTo>
                    <a:pt x="448" y="0"/>
                  </a:lnTo>
                  <a:lnTo>
                    <a:pt x="458" y="6"/>
                  </a:lnTo>
                  <a:lnTo>
                    <a:pt x="458" y="25"/>
                  </a:lnTo>
                  <a:lnTo>
                    <a:pt x="448" y="47"/>
                  </a:lnTo>
                  <a:lnTo>
                    <a:pt x="433" y="62"/>
                  </a:lnTo>
                  <a:lnTo>
                    <a:pt x="429" y="64"/>
                  </a:lnTo>
                  <a:lnTo>
                    <a:pt x="468" y="105"/>
                  </a:lnTo>
                  <a:lnTo>
                    <a:pt x="475" y="111"/>
                  </a:lnTo>
                  <a:lnTo>
                    <a:pt x="483" y="120"/>
                  </a:lnTo>
                  <a:lnTo>
                    <a:pt x="487" y="128"/>
                  </a:lnTo>
                  <a:lnTo>
                    <a:pt x="506" y="155"/>
                  </a:lnTo>
                  <a:lnTo>
                    <a:pt x="514" y="163"/>
                  </a:lnTo>
                  <a:lnTo>
                    <a:pt x="534" y="196"/>
                  </a:lnTo>
                  <a:lnTo>
                    <a:pt x="545" y="208"/>
                  </a:lnTo>
                  <a:lnTo>
                    <a:pt x="547" y="211"/>
                  </a:lnTo>
                  <a:lnTo>
                    <a:pt x="563" y="235"/>
                  </a:lnTo>
                  <a:lnTo>
                    <a:pt x="569" y="252"/>
                  </a:lnTo>
                  <a:lnTo>
                    <a:pt x="578" y="272"/>
                  </a:lnTo>
                  <a:lnTo>
                    <a:pt x="584" y="289"/>
                  </a:lnTo>
                  <a:lnTo>
                    <a:pt x="590" y="308"/>
                  </a:lnTo>
                  <a:lnTo>
                    <a:pt x="592" y="324"/>
                  </a:lnTo>
                  <a:lnTo>
                    <a:pt x="594" y="339"/>
                  </a:lnTo>
                  <a:lnTo>
                    <a:pt x="592" y="355"/>
                  </a:lnTo>
                  <a:lnTo>
                    <a:pt x="592" y="372"/>
                  </a:lnTo>
                  <a:lnTo>
                    <a:pt x="584" y="386"/>
                  </a:lnTo>
                  <a:lnTo>
                    <a:pt x="578" y="401"/>
                  </a:lnTo>
                  <a:lnTo>
                    <a:pt x="570" y="419"/>
                  </a:lnTo>
                  <a:lnTo>
                    <a:pt x="561" y="436"/>
                  </a:lnTo>
                  <a:lnTo>
                    <a:pt x="503" y="489"/>
                  </a:lnTo>
                  <a:lnTo>
                    <a:pt x="464" y="508"/>
                  </a:lnTo>
                  <a:lnTo>
                    <a:pt x="456" y="510"/>
                  </a:lnTo>
                  <a:lnTo>
                    <a:pt x="433" y="522"/>
                  </a:lnTo>
                  <a:lnTo>
                    <a:pt x="363" y="537"/>
                  </a:lnTo>
                  <a:lnTo>
                    <a:pt x="338" y="545"/>
                  </a:lnTo>
                  <a:lnTo>
                    <a:pt x="328" y="547"/>
                  </a:lnTo>
                  <a:lnTo>
                    <a:pt x="316" y="551"/>
                  </a:lnTo>
                  <a:lnTo>
                    <a:pt x="313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rot="2109000">
              <a:off x="2794320" y="7054560"/>
              <a:ext cx="81000" cy="270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10" y="33"/>
                  </a:moveTo>
                  <a:lnTo>
                    <a:pt x="0" y="31"/>
                  </a:lnTo>
                  <a:lnTo>
                    <a:pt x="89" y="0"/>
                  </a:lnTo>
                  <a:lnTo>
                    <a:pt x="103" y="0"/>
                  </a:lnTo>
                  <a:lnTo>
                    <a:pt x="91" y="14"/>
                  </a:lnTo>
                  <a:lnTo>
                    <a:pt x="60" y="27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rot="2109000">
              <a:off x="5013000" y="8332560"/>
              <a:ext cx="300240" cy="338040"/>
            </a:xfrm>
            <a:custGeom>
              <a:avLst/>
              <a:gdLst/>
              <a:ahLst/>
              <a:rect l="l" t="t" r="r" b="b"/>
              <a:pathLst>
                <a:path w="378" h="427">
                  <a:moveTo>
                    <a:pt x="153" y="425"/>
                  </a:moveTo>
                  <a:lnTo>
                    <a:pt x="151" y="423"/>
                  </a:lnTo>
                  <a:lnTo>
                    <a:pt x="147" y="411"/>
                  </a:lnTo>
                  <a:lnTo>
                    <a:pt x="144" y="407"/>
                  </a:lnTo>
                  <a:lnTo>
                    <a:pt x="138" y="372"/>
                  </a:lnTo>
                  <a:lnTo>
                    <a:pt x="132" y="330"/>
                  </a:lnTo>
                  <a:lnTo>
                    <a:pt x="142" y="312"/>
                  </a:lnTo>
                  <a:lnTo>
                    <a:pt x="155" y="306"/>
                  </a:lnTo>
                  <a:lnTo>
                    <a:pt x="128" y="306"/>
                  </a:lnTo>
                  <a:lnTo>
                    <a:pt x="91" y="303"/>
                  </a:lnTo>
                  <a:lnTo>
                    <a:pt x="72" y="293"/>
                  </a:lnTo>
                  <a:lnTo>
                    <a:pt x="52" y="277"/>
                  </a:lnTo>
                  <a:lnTo>
                    <a:pt x="35" y="268"/>
                  </a:lnTo>
                  <a:lnTo>
                    <a:pt x="18" y="256"/>
                  </a:lnTo>
                  <a:lnTo>
                    <a:pt x="0" y="248"/>
                  </a:lnTo>
                  <a:lnTo>
                    <a:pt x="31" y="213"/>
                  </a:lnTo>
                  <a:lnTo>
                    <a:pt x="68" y="186"/>
                  </a:lnTo>
                  <a:lnTo>
                    <a:pt x="107" y="163"/>
                  </a:lnTo>
                  <a:lnTo>
                    <a:pt x="146" y="142"/>
                  </a:lnTo>
                  <a:lnTo>
                    <a:pt x="178" y="116"/>
                  </a:lnTo>
                  <a:lnTo>
                    <a:pt x="208" y="91"/>
                  </a:lnTo>
                  <a:lnTo>
                    <a:pt x="229" y="54"/>
                  </a:lnTo>
                  <a:lnTo>
                    <a:pt x="239" y="12"/>
                  </a:lnTo>
                  <a:lnTo>
                    <a:pt x="241" y="0"/>
                  </a:lnTo>
                  <a:lnTo>
                    <a:pt x="305" y="78"/>
                  </a:lnTo>
                  <a:lnTo>
                    <a:pt x="312" y="89"/>
                  </a:lnTo>
                  <a:lnTo>
                    <a:pt x="322" y="105"/>
                  </a:lnTo>
                  <a:lnTo>
                    <a:pt x="330" y="116"/>
                  </a:lnTo>
                  <a:lnTo>
                    <a:pt x="339" y="132"/>
                  </a:lnTo>
                  <a:lnTo>
                    <a:pt x="347" y="145"/>
                  </a:lnTo>
                  <a:lnTo>
                    <a:pt x="355" y="161"/>
                  </a:lnTo>
                  <a:lnTo>
                    <a:pt x="361" y="175"/>
                  </a:lnTo>
                  <a:lnTo>
                    <a:pt x="367" y="190"/>
                  </a:lnTo>
                  <a:lnTo>
                    <a:pt x="378" y="250"/>
                  </a:lnTo>
                  <a:lnTo>
                    <a:pt x="376" y="264"/>
                  </a:lnTo>
                  <a:lnTo>
                    <a:pt x="372" y="279"/>
                  </a:lnTo>
                  <a:lnTo>
                    <a:pt x="365" y="295"/>
                  </a:lnTo>
                  <a:lnTo>
                    <a:pt x="359" y="310"/>
                  </a:lnTo>
                  <a:lnTo>
                    <a:pt x="347" y="324"/>
                  </a:lnTo>
                  <a:lnTo>
                    <a:pt x="336" y="339"/>
                  </a:lnTo>
                  <a:lnTo>
                    <a:pt x="322" y="353"/>
                  </a:lnTo>
                  <a:lnTo>
                    <a:pt x="308" y="368"/>
                  </a:lnTo>
                  <a:lnTo>
                    <a:pt x="293" y="380"/>
                  </a:lnTo>
                  <a:lnTo>
                    <a:pt x="275" y="390"/>
                  </a:lnTo>
                  <a:lnTo>
                    <a:pt x="258" y="398"/>
                  </a:lnTo>
                  <a:lnTo>
                    <a:pt x="241" y="403"/>
                  </a:lnTo>
                  <a:lnTo>
                    <a:pt x="225" y="409"/>
                  </a:lnTo>
                  <a:lnTo>
                    <a:pt x="208" y="411"/>
                  </a:lnTo>
                  <a:lnTo>
                    <a:pt x="190" y="417"/>
                  </a:lnTo>
                  <a:lnTo>
                    <a:pt x="173" y="421"/>
                  </a:lnTo>
                  <a:lnTo>
                    <a:pt x="157" y="427"/>
                  </a:lnTo>
                  <a:lnTo>
                    <a:pt x="153" y="4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 rot="2109000">
              <a:off x="4477320" y="8200080"/>
              <a:ext cx="87480" cy="47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110" y="60"/>
                  </a:moveTo>
                  <a:lnTo>
                    <a:pt x="93" y="50"/>
                  </a:lnTo>
                  <a:lnTo>
                    <a:pt x="74" y="33"/>
                  </a:lnTo>
                  <a:lnTo>
                    <a:pt x="54" y="25"/>
                  </a:lnTo>
                  <a:lnTo>
                    <a:pt x="37" y="17"/>
                  </a:lnTo>
                  <a:lnTo>
                    <a:pt x="17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2"/>
                  </a:lnTo>
                  <a:lnTo>
                    <a:pt x="109" y="50"/>
                  </a:lnTo>
                  <a:lnTo>
                    <a:pt x="11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rot="2109000">
              <a:off x="3501720" y="7264080"/>
              <a:ext cx="75960" cy="199440"/>
            </a:xfrm>
            <a:custGeom>
              <a:avLst/>
              <a:gdLst/>
              <a:ahLst/>
              <a:rect l="l" t="t" r="r" b="b"/>
              <a:pathLst>
                <a:path w="95" h="252">
                  <a:moveTo>
                    <a:pt x="89" y="252"/>
                  </a:moveTo>
                  <a:lnTo>
                    <a:pt x="75" y="221"/>
                  </a:lnTo>
                  <a:lnTo>
                    <a:pt x="65" y="192"/>
                  </a:lnTo>
                  <a:lnTo>
                    <a:pt x="54" y="163"/>
                  </a:lnTo>
                  <a:lnTo>
                    <a:pt x="46" y="134"/>
                  </a:lnTo>
                  <a:lnTo>
                    <a:pt x="36" y="103"/>
                  </a:lnTo>
                  <a:lnTo>
                    <a:pt x="27" y="74"/>
                  </a:lnTo>
                  <a:lnTo>
                    <a:pt x="13" y="43"/>
                  </a:lnTo>
                  <a:lnTo>
                    <a:pt x="1" y="14"/>
                  </a:lnTo>
                  <a:lnTo>
                    <a:pt x="0" y="2"/>
                  </a:lnTo>
                  <a:lnTo>
                    <a:pt x="3" y="0"/>
                  </a:lnTo>
                  <a:lnTo>
                    <a:pt x="13" y="4"/>
                  </a:lnTo>
                  <a:lnTo>
                    <a:pt x="56" y="105"/>
                  </a:lnTo>
                  <a:lnTo>
                    <a:pt x="87" y="213"/>
                  </a:lnTo>
                  <a:lnTo>
                    <a:pt x="89" y="223"/>
                  </a:lnTo>
                  <a:lnTo>
                    <a:pt x="95" y="252"/>
                  </a:lnTo>
                  <a:lnTo>
                    <a:pt x="89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rot="2109000">
              <a:off x="3691080" y="7423920"/>
              <a:ext cx="255960" cy="225720"/>
            </a:xfrm>
            <a:custGeom>
              <a:avLst/>
              <a:gdLst/>
              <a:ahLst/>
              <a:rect l="l" t="t" r="r" b="b"/>
              <a:pathLst>
                <a:path w="324" h="285">
                  <a:moveTo>
                    <a:pt x="322" y="285"/>
                  </a:moveTo>
                  <a:lnTo>
                    <a:pt x="283" y="247"/>
                  </a:lnTo>
                  <a:lnTo>
                    <a:pt x="246" y="214"/>
                  </a:lnTo>
                  <a:lnTo>
                    <a:pt x="208" y="185"/>
                  </a:lnTo>
                  <a:lnTo>
                    <a:pt x="171" y="159"/>
                  </a:lnTo>
                  <a:lnTo>
                    <a:pt x="132" y="130"/>
                  </a:lnTo>
                  <a:lnTo>
                    <a:pt x="95" y="103"/>
                  </a:lnTo>
                  <a:lnTo>
                    <a:pt x="58" y="72"/>
                  </a:lnTo>
                  <a:lnTo>
                    <a:pt x="21" y="39"/>
                  </a:lnTo>
                  <a:lnTo>
                    <a:pt x="12" y="29"/>
                  </a:lnTo>
                  <a:lnTo>
                    <a:pt x="6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1" y="37"/>
                  </a:lnTo>
                  <a:lnTo>
                    <a:pt x="82" y="72"/>
                  </a:lnTo>
                  <a:lnTo>
                    <a:pt x="122" y="103"/>
                  </a:lnTo>
                  <a:lnTo>
                    <a:pt x="165" y="134"/>
                  </a:lnTo>
                  <a:lnTo>
                    <a:pt x="204" y="163"/>
                  </a:lnTo>
                  <a:lnTo>
                    <a:pt x="244" y="194"/>
                  </a:lnTo>
                  <a:lnTo>
                    <a:pt x="283" y="229"/>
                  </a:lnTo>
                  <a:lnTo>
                    <a:pt x="324" y="272"/>
                  </a:lnTo>
                  <a:lnTo>
                    <a:pt x="322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 rot="2109000">
              <a:off x="3629880" y="7271280"/>
              <a:ext cx="237960" cy="292320"/>
            </a:xfrm>
            <a:custGeom>
              <a:avLst/>
              <a:gdLst/>
              <a:ahLst/>
              <a:rect l="l" t="t" r="r" b="b"/>
              <a:pathLst>
                <a:path w="300" h="366">
                  <a:moveTo>
                    <a:pt x="294" y="364"/>
                  </a:moveTo>
                  <a:lnTo>
                    <a:pt x="234" y="262"/>
                  </a:lnTo>
                  <a:lnTo>
                    <a:pt x="219" y="23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94" y="180"/>
                  </a:lnTo>
                  <a:lnTo>
                    <a:pt x="234" y="235"/>
                  </a:lnTo>
                  <a:lnTo>
                    <a:pt x="246" y="250"/>
                  </a:lnTo>
                  <a:lnTo>
                    <a:pt x="289" y="330"/>
                  </a:lnTo>
                  <a:lnTo>
                    <a:pt x="293" y="339"/>
                  </a:lnTo>
                  <a:lnTo>
                    <a:pt x="298" y="351"/>
                  </a:lnTo>
                  <a:lnTo>
                    <a:pt x="300" y="366"/>
                  </a:lnTo>
                  <a:lnTo>
                    <a:pt x="29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rot="2109000">
              <a:off x="5050440" y="8447040"/>
              <a:ext cx="85680" cy="6012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73"/>
                  </a:moveTo>
                  <a:lnTo>
                    <a:pt x="0" y="68"/>
                  </a:lnTo>
                  <a:lnTo>
                    <a:pt x="8" y="66"/>
                  </a:lnTo>
                  <a:lnTo>
                    <a:pt x="19" y="58"/>
                  </a:lnTo>
                  <a:lnTo>
                    <a:pt x="39" y="44"/>
                  </a:lnTo>
                  <a:lnTo>
                    <a:pt x="58" y="31"/>
                  </a:lnTo>
                  <a:lnTo>
                    <a:pt x="97" y="0"/>
                  </a:lnTo>
                  <a:lnTo>
                    <a:pt x="109" y="2"/>
                  </a:lnTo>
                  <a:lnTo>
                    <a:pt x="97" y="25"/>
                  </a:lnTo>
                  <a:lnTo>
                    <a:pt x="76" y="40"/>
                  </a:lnTo>
                  <a:lnTo>
                    <a:pt x="56" y="50"/>
                  </a:lnTo>
                  <a:lnTo>
                    <a:pt x="39" y="62"/>
                  </a:lnTo>
                  <a:lnTo>
                    <a:pt x="21" y="70"/>
                  </a:lnTo>
                  <a:lnTo>
                    <a:pt x="4" y="7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rot="2109000">
              <a:off x="4874760" y="8260560"/>
              <a:ext cx="20520" cy="2088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" y="23"/>
                  </a:moveTo>
                  <a:lnTo>
                    <a:pt x="0" y="21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10" y="25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rot="2109000">
              <a:off x="5284800" y="8485560"/>
              <a:ext cx="88920" cy="5256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24" y="66"/>
                  </a:moveTo>
                  <a:lnTo>
                    <a:pt x="12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22" y="50"/>
                  </a:lnTo>
                  <a:lnTo>
                    <a:pt x="59" y="42"/>
                  </a:lnTo>
                  <a:lnTo>
                    <a:pt x="68" y="37"/>
                  </a:lnTo>
                  <a:lnTo>
                    <a:pt x="76" y="27"/>
                  </a:lnTo>
                  <a:lnTo>
                    <a:pt x="86" y="17"/>
                  </a:lnTo>
                  <a:lnTo>
                    <a:pt x="94" y="8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09" y="21"/>
                  </a:lnTo>
                  <a:lnTo>
                    <a:pt x="99" y="33"/>
                  </a:lnTo>
                  <a:lnTo>
                    <a:pt x="90" y="42"/>
                  </a:lnTo>
                  <a:lnTo>
                    <a:pt x="80" y="48"/>
                  </a:lnTo>
                  <a:lnTo>
                    <a:pt x="70" y="56"/>
                  </a:lnTo>
                  <a:lnTo>
                    <a:pt x="59" y="58"/>
                  </a:lnTo>
                  <a:lnTo>
                    <a:pt x="47" y="62"/>
                  </a:lnTo>
                  <a:lnTo>
                    <a:pt x="37" y="64"/>
                  </a:lnTo>
                  <a:lnTo>
                    <a:pt x="28" y="66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 rot="2109000">
              <a:off x="5497920" y="8605080"/>
              <a:ext cx="60480" cy="59040"/>
            </a:xfrm>
            <a:custGeom>
              <a:avLst/>
              <a:gdLst/>
              <a:ahLst/>
              <a:rect l="l" t="t" r="r" b="b"/>
              <a:pathLst>
                <a:path w="78" h="73">
                  <a:moveTo>
                    <a:pt x="35" y="73"/>
                  </a:moveTo>
                  <a:lnTo>
                    <a:pt x="35" y="71"/>
                  </a:lnTo>
                  <a:lnTo>
                    <a:pt x="35" y="50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4" y="15"/>
                  </a:lnTo>
                  <a:lnTo>
                    <a:pt x="78" y="31"/>
                  </a:lnTo>
                  <a:lnTo>
                    <a:pt x="78" y="44"/>
                  </a:lnTo>
                  <a:lnTo>
                    <a:pt x="60" y="46"/>
                  </a:lnTo>
                  <a:lnTo>
                    <a:pt x="56" y="56"/>
                  </a:lnTo>
                  <a:lnTo>
                    <a:pt x="49" y="56"/>
                  </a:lnTo>
                  <a:lnTo>
                    <a:pt x="45" y="65"/>
                  </a:lnTo>
                  <a:lnTo>
                    <a:pt x="3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rot="2109000">
              <a:off x="5438880" y="8376120"/>
              <a:ext cx="136800" cy="228240"/>
            </a:xfrm>
            <a:custGeom>
              <a:avLst/>
              <a:gdLst/>
              <a:ahLst/>
              <a:rect l="l" t="t" r="r" b="b"/>
              <a:pathLst>
                <a:path w="170" h="289">
                  <a:moveTo>
                    <a:pt x="110" y="289"/>
                  </a:moveTo>
                  <a:lnTo>
                    <a:pt x="73" y="285"/>
                  </a:lnTo>
                  <a:lnTo>
                    <a:pt x="69" y="273"/>
                  </a:lnTo>
                  <a:lnTo>
                    <a:pt x="81" y="272"/>
                  </a:lnTo>
                  <a:lnTo>
                    <a:pt x="64" y="248"/>
                  </a:lnTo>
                  <a:lnTo>
                    <a:pt x="25" y="149"/>
                  </a:lnTo>
                  <a:lnTo>
                    <a:pt x="13" y="103"/>
                  </a:lnTo>
                  <a:lnTo>
                    <a:pt x="11" y="114"/>
                  </a:lnTo>
                  <a:lnTo>
                    <a:pt x="13" y="132"/>
                  </a:lnTo>
                  <a:lnTo>
                    <a:pt x="4" y="142"/>
                  </a:lnTo>
                  <a:lnTo>
                    <a:pt x="0" y="89"/>
                  </a:lnTo>
                  <a:lnTo>
                    <a:pt x="35" y="37"/>
                  </a:lnTo>
                  <a:lnTo>
                    <a:pt x="35" y="27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64" y="2"/>
                  </a:lnTo>
                  <a:lnTo>
                    <a:pt x="64" y="14"/>
                  </a:lnTo>
                  <a:lnTo>
                    <a:pt x="56" y="16"/>
                  </a:lnTo>
                  <a:lnTo>
                    <a:pt x="54" y="18"/>
                  </a:lnTo>
                  <a:lnTo>
                    <a:pt x="60" y="23"/>
                  </a:lnTo>
                  <a:lnTo>
                    <a:pt x="106" y="74"/>
                  </a:lnTo>
                  <a:lnTo>
                    <a:pt x="108" y="78"/>
                  </a:lnTo>
                  <a:lnTo>
                    <a:pt x="139" y="116"/>
                  </a:lnTo>
                  <a:lnTo>
                    <a:pt x="157" y="146"/>
                  </a:lnTo>
                  <a:lnTo>
                    <a:pt x="163" y="161"/>
                  </a:lnTo>
                  <a:lnTo>
                    <a:pt x="166" y="178"/>
                  </a:lnTo>
                  <a:lnTo>
                    <a:pt x="168" y="194"/>
                  </a:lnTo>
                  <a:lnTo>
                    <a:pt x="170" y="211"/>
                  </a:lnTo>
                  <a:lnTo>
                    <a:pt x="168" y="227"/>
                  </a:lnTo>
                  <a:lnTo>
                    <a:pt x="168" y="244"/>
                  </a:lnTo>
                  <a:lnTo>
                    <a:pt x="161" y="262"/>
                  </a:lnTo>
                  <a:lnTo>
                    <a:pt x="149" y="279"/>
                  </a:lnTo>
                  <a:lnTo>
                    <a:pt x="137" y="287"/>
                  </a:lnTo>
                  <a:lnTo>
                    <a:pt x="110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rot="2109000">
              <a:off x="5517720" y="8616600"/>
              <a:ext cx="22320" cy="172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0" y="21"/>
                  </a:moveTo>
                  <a:lnTo>
                    <a:pt x="4" y="21"/>
                  </a:lnTo>
                  <a:lnTo>
                    <a:pt x="0" y="0"/>
                  </a:lnTo>
                  <a:lnTo>
                    <a:pt x="27" y="14"/>
                  </a:lnTo>
                  <a:lnTo>
                    <a:pt x="23" y="1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rot="2109000">
              <a:off x="5415840" y="8502840"/>
              <a:ext cx="65160" cy="633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81"/>
                  </a:moveTo>
                  <a:lnTo>
                    <a:pt x="27" y="81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20" y="0"/>
                  </a:lnTo>
                  <a:lnTo>
                    <a:pt x="47" y="21"/>
                  </a:lnTo>
                  <a:lnTo>
                    <a:pt x="82" y="25"/>
                  </a:lnTo>
                  <a:lnTo>
                    <a:pt x="82" y="52"/>
                  </a:lnTo>
                  <a:lnTo>
                    <a:pt x="64" y="80"/>
                  </a:lnTo>
                  <a:lnTo>
                    <a:pt x="57" y="81"/>
                  </a:lnTo>
                  <a:lnTo>
                    <a:pt x="4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rot="2109000">
              <a:off x="4988520" y="8091360"/>
              <a:ext cx="258480" cy="220680"/>
            </a:xfrm>
            <a:custGeom>
              <a:avLst/>
              <a:gdLst/>
              <a:ahLst/>
              <a:rect l="l" t="t" r="r" b="b"/>
              <a:pathLst>
                <a:path w="326" h="280">
                  <a:moveTo>
                    <a:pt x="299" y="280"/>
                  </a:moveTo>
                  <a:lnTo>
                    <a:pt x="264" y="274"/>
                  </a:lnTo>
                  <a:lnTo>
                    <a:pt x="240" y="274"/>
                  </a:lnTo>
                  <a:lnTo>
                    <a:pt x="167" y="229"/>
                  </a:lnTo>
                  <a:lnTo>
                    <a:pt x="155" y="219"/>
                  </a:lnTo>
                  <a:lnTo>
                    <a:pt x="109" y="167"/>
                  </a:lnTo>
                  <a:lnTo>
                    <a:pt x="74" y="101"/>
                  </a:lnTo>
                  <a:lnTo>
                    <a:pt x="56" y="80"/>
                  </a:lnTo>
                  <a:lnTo>
                    <a:pt x="39" y="64"/>
                  </a:lnTo>
                  <a:lnTo>
                    <a:pt x="17" y="53"/>
                  </a:lnTo>
                  <a:lnTo>
                    <a:pt x="0" y="47"/>
                  </a:lnTo>
                  <a:lnTo>
                    <a:pt x="6" y="28"/>
                  </a:lnTo>
                  <a:lnTo>
                    <a:pt x="6" y="14"/>
                  </a:lnTo>
                  <a:lnTo>
                    <a:pt x="17" y="12"/>
                  </a:lnTo>
                  <a:lnTo>
                    <a:pt x="60" y="0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8" y="22"/>
                  </a:lnTo>
                  <a:lnTo>
                    <a:pt x="83" y="26"/>
                  </a:lnTo>
                  <a:lnTo>
                    <a:pt x="99" y="20"/>
                  </a:lnTo>
                  <a:lnTo>
                    <a:pt x="114" y="22"/>
                  </a:lnTo>
                  <a:lnTo>
                    <a:pt x="132" y="28"/>
                  </a:lnTo>
                  <a:lnTo>
                    <a:pt x="149" y="41"/>
                  </a:lnTo>
                  <a:lnTo>
                    <a:pt x="159" y="55"/>
                  </a:lnTo>
                  <a:lnTo>
                    <a:pt x="161" y="68"/>
                  </a:lnTo>
                  <a:lnTo>
                    <a:pt x="173" y="70"/>
                  </a:lnTo>
                  <a:lnTo>
                    <a:pt x="178" y="66"/>
                  </a:lnTo>
                  <a:lnTo>
                    <a:pt x="190" y="62"/>
                  </a:lnTo>
                  <a:lnTo>
                    <a:pt x="206" y="66"/>
                  </a:lnTo>
                  <a:lnTo>
                    <a:pt x="219" y="72"/>
                  </a:lnTo>
                  <a:lnTo>
                    <a:pt x="235" y="84"/>
                  </a:lnTo>
                  <a:lnTo>
                    <a:pt x="240" y="93"/>
                  </a:lnTo>
                  <a:lnTo>
                    <a:pt x="242" y="130"/>
                  </a:lnTo>
                  <a:lnTo>
                    <a:pt x="281" y="150"/>
                  </a:lnTo>
                  <a:lnTo>
                    <a:pt x="285" y="163"/>
                  </a:lnTo>
                  <a:lnTo>
                    <a:pt x="277" y="202"/>
                  </a:lnTo>
                  <a:lnTo>
                    <a:pt x="285" y="204"/>
                  </a:lnTo>
                  <a:lnTo>
                    <a:pt x="301" y="206"/>
                  </a:lnTo>
                  <a:lnTo>
                    <a:pt x="324" y="231"/>
                  </a:lnTo>
                  <a:lnTo>
                    <a:pt x="326" y="235"/>
                  </a:lnTo>
                  <a:lnTo>
                    <a:pt x="306" y="280"/>
                  </a:lnTo>
                  <a:lnTo>
                    <a:pt x="299" y="28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rot="2109000">
              <a:off x="5518080" y="8581680"/>
              <a:ext cx="11160" cy="176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6" y="19"/>
                  </a:moveTo>
                  <a:lnTo>
                    <a:pt x="6" y="1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4" y="21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rot="2109000">
              <a:off x="5482080" y="8409960"/>
              <a:ext cx="83880" cy="144360"/>
            </a:xfrm>
            <a:custGeom>
              <a:avLst/>
              <a:gdLst/>
              <a:ahLst/>
              <a:rect l="l" t="t" r="r" b="b"/>
              <a:pathLst>
                <a:path w="107" h="182">
                  <a:moveTo>
                    <a:pt x="43" y="182"/>
                  </a:moveTo>
                  <a:lnTo>
                    <a:pt x="21" y="132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39" y="12"/>
                  </a:lnTo>
                  <a:lnTo>
                    <a:pt x="56" y="29"/>
                  </a:lnTo>
                  <a:lnTo>
                    <a:pt x="72" y="47"/>
                  </a:lnTo>
                  <a:lnTo>
                    <a:pt x="87" y="68"/>
                  </a:lnTo>
                  <a:lnTo>
                    <a:pt x="107" y="99"/>
                  </a:lnTo>
                  <a:lnTo>
                    <a:pt x="99" y="99"/>
                  </a:lnTo>
                  <a:lnTo>
                    <a:pt x="79" y="118"/>
                  </a:lnTo>
                  <a:lnTo>
                    <a:pt x="66" y="140"/>
                  </a:lnTo>
                  <a:lnTo>
                    <a:pt x="60" y="149"/>
                  </a:lnTo>
                  <a:lnTo>
                    <a:pt x="54" y="159"/>
                  </a:lnTo>
                  <a:lnTo>
                    <a:pt x="50" y="171"/>
                  </a:lnTo>
                  <a:lnTo>
                    <a:pt x="47" y="182"/>
                  </a:lnTo>
                  <a:lnTo>
                    <a:pt x="43" y="1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rot="2109000">
              <a:off x="5327640" y="8268120"/>
              <a:ext cx="192240" cy="199440"/>
            </a:xfrm>
            <a:custGeom>
              <a:avLst/>
              <a:gdLst/>
              <a:ahLst/>
              <a:rect l="l" t="t" r="r" b="b"/>
              <a:pathLst>
                <a:path w="243" h="252">
                  <a:moveTo>
                    <a:pt x="128" y="252"/>
                  </a:moveTo>
                  <a:lnTo>
                    <a:pt x="117" y="248"/>
                  </a:lnTo>
                  <a:lnTo>
                    <a:pt x="105" y="242"/>
                  </a:lnTo>
                  <a:lnTo>
                    <a:pt x="93" y="232"/>
                  </a:lnTo>
                  <a:lnTo>
                    <a:pt x="84" y="223"/>
                  </a:lnTo>
                  <a:lnTo>
                    <a:pt x="76" y="207"/>
                  </a:lnTo>
                  <a:lnTo>
                    <a:pt x="68" y="197"/>
                  </a:lnTo>
                  <a:lnTo>
                    <a:pt x="49" y="149"/>
                  </a:lnTo>
                  <a:lnTo>
                    <a:pt x="47" y="139"/>
                  </a:lnTo>
                  <a:lnTo>
                    <a:pt x="41" y="122"/>
                  </a:lnTo>
                  <a:lnTo>
                    <a:pt x="37" y="108"/>
                  </a:lnTo>
                  <a:lnTo>
                    <a:pt x="33" y="91"/>
                  </a:lnTo>
                  <a:lnTo>
                    <a:pt x="31" y="77"/>
                  </a:lnTo>
                  <a:lnTo>
                    <a:pt x="27" y="62"/>
                  </a:lnTo>
                  <a:lnTo>
                    <a:pt x="27" y="46"/>
                  </a:lnTo>
                  <a:lnTo>
                    <a:pt x="25" y="31"/>
                  </a:lnTo>
                  <a:lnTo>
                    <a:pt x="29" y="17"/>
                  </a:lnTo>
                  <a:lnTo>
                    <a:pt x="18" y="17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60" y="7"/>
                  </a:lnTo>
                  <a:lnTo>
                    <a:pt x="72" y="5"/>
                  </a:lnTo>
                  <a:lnTo>
                    <a:pt x="86" y="5"/>
                  </a:lnTo>
                  <a:lnTo>
                    <a:pt x="99" y="3"/>
                  </a:lnTo>
                  <a:lnTo>
                    <a:pt x="113" y="3"/>
                  </a:lnTo>
                  <a:lnTo>
                    <a:pt x="126" y="3"/>
                  </a:lnTo>
                  <a:lnTo>
                    <a:pt x="140" y="5"/>
                  </a:lnTo>
                  <a:lnTo>
                    <a:pt x="153" y="9"/>
                  </a:lnTo>
                  <a:lnTo>
                    <a:pt x="167" y="19"/>
                  </a:lnTo>
                  <a:lnTo>
                    <a:pt x="173" y="34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65" y="62"/>
                  </a:lnTo>
                  <a:lnTo>
                    <a:pt x="175" y="77"/>
                  </a:lnTo>
                  <a:lnTo>
                    <a:pt x="177" y="87"/>
                  </a:lnTo>
                  <a:lnTo>
                    <a:pt x="181" y="98"/>
                  </a:lnTo>
                  <a:lnTo>
                    <a:pt x="186" y="110"/>
                  </a:lnTo>
                  <a:lnTo>
                    <a:pt x="192" y="122"/>
                  </a:lnTo>
                  <a:lnTo>
                    <a:pt x="198" y="135"/>
                  </a:lnTo>
                  <a:lnTo>
                    <a:pt x="200" y="147"/>
                  </a:lnTo>
                  <a:lnTo>
                    <a:pt x="204" y="159"/>
                  </a:lnTo>
                  <a:lnTo>
                    <a:pt x="206" y="170"/>
                  </a:lnTo>
                  <a:lnTo>
                    <a:pt x="208" y="184"/>
                  </a:lnTo>
                  <a:lnTo>
                    <a:pt x="233" y="162"/>
                  </a:lnTo>
                  <a:lnTo>
                    <a:pt x="239" y="162"/>
                  </a:lnTo>
                  <a:lnTo>
                    <a:pt x="243" y="166"/>
                  </a:lnTo>
                  <a:lnTo>
                    <a:pt x="196" y="224"/>
                  </a:lnTo>
                  <a:lnTo>
                    <a:pt x="175" y="240"/>
                  </a:lnTo>
                  <a:lnTo>
                    <a:pt x="152" y="252"/>
                  </a:lnTo>
                  <a:lnTo>
                    <a:pt x="128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rot="2109000">
              <a:off x="5337000" y="8362080"/>
              <a:ext cx="108000" cy="84600"/>
            </a:xfrm>
            <a:custGeom>
              <a:avLst/>
              <a:gdLst/>
              <a:ahLst/>
              <a:rect l="l" t="t" r="r" b="b"/>
              <a:pathLst>
                <a:path w="136" h="105">
                  <a:moveTo>
                    <a:pt x="74" y="105"/>
                  </a:moveTo>
                  <a:lnTo>
                    <a:pt x="62" y="99"/>
                  </a:lnTo>
                  <a:lnTo>
                    <a:pt x="53" y="95"/>
                  </a:lnTo>
                  <a:lnTo>
                    <a:pt x="41" y="88"/>
                  </a:lnTo>
                  <a:lnTo>
                    <a:pt x="33" y="80"/>
                  </a:lnTo>
                  <a:lnTo>
                    <a:pt x="0" y="4"/>
                  </a:lnTo>
                  <a:lnTo>
                    <a:pt x="24" y="0"/>
                  </a:lnTo>
                  <a:lnTo>
                    <a:pt x="37" y="2"/>
                  </a:lnTo>
                  <a:lnTo>
                    <a:pt x="45" y="24"/>
                  </a:lnTo>
                  <a:lnTo>
                    <a:pt x="61" y="39"/>
                  </a:lnTo>
                  <a:lnTo>
                    <a:pt x="78" y="49"/>
                  </a:lnTo>
                  <a:lnTo>
                    <a:pt x="95" y="53"/>
                  </a:lnTo>
                  <a:lnTo>
                    <a:pt x="115" y="57"/>
                  </a:lnTo>
                  <a:lnTo>
                    <a:pt x="125" y="53"/>
                  </a:lnTo>
                  <a:lnTo>
                    <a:pt x="128" y="51"/>
                  </a:lnTo>
                  <a:lnTo>
                    <a:pt x="136" y="55"/>
                  </a:lnTo>
                  <a:lnTo>
                    <a:pt x="136" y="70"/>
                  </a:lnTo>
                  <a:lnTo>
                    <a:pt x="107" y="95"/>
                  </a:lnTo>
                  <a:lnTo>
                    <a:pt x="7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rot="2109000">
              <a:off x="5452200" y="846180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3" y="38"/>
                  </a:moveTo>
                  <a:lnTo>
                    <a:pt x="11" y="3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5" y="25"/>
                  </a:lnTo>
                  <a:lnTo>
                    <a:pt x="29" y="40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rot="2109000">
              <a:off x="5370120" y="8162280"/>
              <a:ext cx="417600" cy="366840"/>
            </a:xfrm>
            <a:custGeom>
              <a:avLst/>
              <a:gdLst/>
              <a:ahLst/>
              <a:rect l="l" t="t" r="r" b="b"/>
              <a:pathLst>
                <a:path w="528" h="462">
                  <a:moveTo>
                    <a:pt x="41" y="462"/>
                  </a:moveTo>
                  <a:lnTo>
                    <a:pt x="45" y="454"/>
                  </a:lnTo>
                  <a:lnTo>
                    <a:pt x="41" y="444"/>
                  </a:lnTo>
                  <a:lnTo>
                    <a:pt x="35" y="444"/>
                  </a:lnTo>
                  <a:lnTo>
                    <a:pt x="22" y="434"/>
                  </a:lnTo>
                  <a:lnTo>
                    <a:pt x="20" y="431"/>
                  </a:lnTo>
                  <a:lnTo>
                    <a:pt x="18" y="413"/>
                  </a:lnTo>
                  <a:lnTo>
                    <a:pt x="37" y="384"/>
                  </a:lnTo>
                  <a:lnTo>
                    <a:pt x="12" y="370"/>
                  </a:lnTo>
                  <a:lnTo>
                    <a:pt x="16" y="326"/>
                  </a:lnTo>
                  <a:lnTo>
                    <a:pt x="20" y="326"/>
                  </a:lnTo>
                  <a:lnTo>
                    <a:pt x="22" y="320"/>
                  </a:lnTo>
                  <a:lnTo>
                    <a:pt x="6" y="310"/>
                  </a:lnTo>
                  <a:lnTo>
                    <a:pt x="2" y="301"/>
                  </a:lnTo>
                  <a:lnTo>
                    <a:pt x="0" y="285"/>
                  </a:lnTo>
                  <a:lnTo>
                    <a:pt x="20" y="258"/>
                  </a:lnTo>
                  <a:lnTo>
                    <a:pt x="24" y="258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4" y="237"/>
                  </a:lnTo>
                  <a:lnTo>
                    <a:pt x="2" y="233"/>
                  </a:lnTo>
                  <a:lnTo>
                    <a:pt x="0" y="231"/>
                  </a:lnTo>
                  <a:lnTo>
                    <a:pt x="0" y="215"/>
                  </a:lnTo>
                  <a:lnTo>
                    <a:pt x="4" y="204"/>
                  </a:lnTo>
                  <a:lnTo>
                    <a:pt x="10" y="190"/>
                  </a:lnTo>
                  <a:lnTo>
                    <a:pt x="24" y="177"/>
                  </a:lnTo>
                  <a:lnTo>
                    <a:pt x="6" y="142"/>
                  </a:lnTo>
                  <a:lnTo>
                    <a:pt x="18" y="114"/>
                  </a:lnTo>
                  <a:lnTo>
                    <a:pt x="62" y="97"/>
                  </a:lnTo>
                  <a:lnTo>
                    <a:pt x="68" y="93"/>
                  </a:lnTo>
                  <a:lnTo>
                    <a:pt x="68" y="82"/>
                  </a:lnTo>
                  <a:lnTo>
                    <a:pt x="82" y="62"/>
                  </a:lnTo>
                  <a:lnTo>
                    <a:pt x="91" y="54"/>
                  </a:lnTo>
                  <a:lnTo>
                    <a:pt x="109" y="52"/>
                  </a:lnTo>
                  <a:lnTo>
                    <a:pt x="130" y="70"/>
                  </a:lnTo>
                  <a:lnTo>
                    <a:pt x="136" y="70"/>
                  </a:lnTo>
                  <a:lnTo>
                    <a:pt x="146" y="23"/>
                  </a:lnTo>
                  <a:lnTo>
                    <a:pt x="155" y="18"/>
                  </a:lnTo>
                  <a:lnTo>
                    <a:pt x="167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4" y="19"/>
                  </a:lnTo>
                  <a:lnTo>
                    <a:pt x="217" y="29"/>
                  </a:lnTo>
                  <a:lnTo>
                    <a:pt x="227" y="37"/>
                  </a:lnTo>
                  <a:lnTo>
                    <a:pt x="247" y="8"/>
                  </a:lnTo>
                  <a:lnTo>
                    <a:pt x="258" y="2"/>
                  </a:lnTo>
                  <a:lnTo>
                    <a:pt x="283" y="0"/>
                  </a:lnTo>
                  <a:lnTo>
                    <a:pt x="324" y="29"/>
                  </a:lnTo>
                  <a:lnTo>
                    <a:pt x="332" y="33"/>
                  </a:lnTo>
                  <a:lnTo>
                    <a:pt x="338" y="19"/>
                  </a:lnTo>
                  <a:lnTo>
                    <a:pt x="369" y="18"/>
                  </a:lnTo>
                  <a:lnTo>
                    <a:pt x="392" y="35"/>
                  </a:lnTo>
                  <a:lnTo>
                    <a:pt x="406" y="70"/>
                  </a:lnTo>
                  <a:lnTo>
                    <a:pt x="419" y="56"/>
                  </a:lnTo>
                  <a:lnTo>
                    <a:pt x="437" y="52"/>
                  </a:lnTo>
                  <a:lnTo>
                    <a:pt x="466" y="64"/>
                  </a:lnTo>
                  <a:lnTo>
                    <a:pt x="477" y="89"/>
                  </a:lnTo>
                  <a:lnTo>
                    <a:pt x="487" y="85"/>
                  </a:lnTo>
                  <a:lnTo>
                    <a:pt x="503" y="87"/>
                  </a:lnTo>
                  <a:lnTo>
                    <a:pt x="524" y="107"/>
                  </a:lnTo>
                  <a:lnTo>
                    <a:pt x="528" y="111"/>
                  </a:lnTo>
                  <a:lnTo>
                    <a:pt x="524" y="120"/>
                  </a:lnTo>
                  <a:lnTo>
                    <a:pt x="512" y="132"/>
                  </a:lnTo>
                  <a:lnTo>
                    <a:pt x="504" y="146"/>
                  </a:lnTo>
                  <a:lnTo>
                    <a:pt x="497" y="157"/>
                  </a:lnTo>
                  <a:lnTo>
                    <a:pt x="493" y="173"/>
                  </a:lnTo>
                  <a:lnTo>
                    <a:pt x="483" y="178"/>
                  </a:lnTo>
                  <a:lnTo>
                    <a:pt x="487" y="206"/>
                  </a:lnTo>
                  <a:lnTo>
                    <a:pt x="489" y="213"/>
                  </a:lnTo>
                  <a:lnTo>
                    <a:pt x="477" y="229"/>
                  </a:lnTo>
                  <a:lnTo>
                    <a:pt x="454" y="209"/>
                  </a:lnTo>
                  <a:lnTo>
                    <a:pt x="450" y="186"/>
                  </a:lnTo>
                  <a:lnTo>
                    <a:pt x="444" y="180"/>
                  </a:lnTo>
                  <a:lnTo>
                    <a:pt x="439" y="184"/>
                  </a:lnTo>
                  <a:lnTo>
                    <a:pt x="439" y="200"/>
                  </a:lnTo>
                  <a:lnTo>
                    <a:pt x="425" y="204"/>
                  </a:lnTo>
                  <a:lnTo>
                    <a:pt x="419" y="194"/>
                  </a:lnTo>
                  <a:lnTo>
                    <a:pt x="413" y="178"/>
                  </a:lnTo>
                  <a:lnTo>
                    <a:pt x="388" y="196"/>
                  </a:lnTo>
                  <a:lnTo>
                    <a:pt x="367" y="180"/>
                  </a:lnTo>
                  <a:lnTo>
                    <a:pt x="365" y="171"/>
                  </a:lnTo>
                  <a:lnTo>
                    <a:pt x="369" y="159"/>
                  </a:lnTo>
                  <a:lnTo>
                    <a:pt x="369" y="153"/>
                  </a:lnTo>
                  <a:lnTo>
                    <a:pt x="357" y="153"/>
                  </a:lnTo>
                  <a:lnTo>
                    <a:pt x="340" y="171"/>
                  </a:lnTo>
                  <a:lnTo>
                    <a:pt x="328" y="173"/>
                  </a:lnTo>
                  <a:lnTo>
                    <a:pt x="311" y="157"/>
                  </a:lnTo>
                  <a:lnTo>
                    <a:pt x="307" y="138"/>
                  </a:lnTo>
                  <a:lnTo>
                    <a:pt x="299" y="128"/>
                  </a:lnTo>
                  <a:lnTo>
                    <a:pt x="293" y="149"/>
                  </a:lnTo>
                  <a:lnTo>
                    <a:pt x="283" y="165"/>
                  </a:lnTo>
                  <a:lnTo>
                    <a:pt x="280" y="167"/>
                  </a:lnTo>
                  <a:lnTo>
                    <a:pt x="262" y="169"/>
                  </a:lnTo>
                  <a:lnTo>
                    <a:pt x="235" y="159"/>
                  </a:lnTo>
                  <a:lnTo>
                    <a:pt x="248" y="198"/>
                  </a:lnTo>
                  <a:lnTo>
                    <a:pt x="247" y="209"/>
                  </a:lnTo>
                  <a:lnTo>
                    <a:pt x="241" y="209"/>
                  </a:lnTo>
                  <a:lnTo>
                    <a:pt x="237" y="219"/>
                  </a:lnTo>
                  <a:lnTo>
                    <a:pt x="245" y="225"/>
                  </a:lnTo>
                  <a:lnTo>
                    <a:pt x="252" y="237"/>
                  </a:lnTo>
                  <a:lnTo>
                    <a:pt x="256" y="246"/>
                  </a:lnTo>
                  <a:lnTo>
                    <a:pt x="254" y="258"/>
                  </a:lnTo>
                  <a:lnTo>
                    <a:pt x="247" y="260"/>
                  </a:lnTo>
                  <a:lnTo>
                    <a:pt x="254" y="303"/>
                  </a:lnTo>
                  <a:lnTo>
                    <a:pt x="237" y="283"/>
                  </a:lnTo>
                  <a:lnTo>
                    <a:pt x="233" y="262"/>
                  </a:lnTo>
                  <a:lnTo>
                    <a:pt x="227" y="254"/>
                  </a:lnTo>
                  <a:lnTo>
                    <a:pt x="212" y="258"/>
                  </a:lnTo>
                  <a:lnTo>
                    <a:pt x="202" y="248"/>
                  </a:lnTo>
                  <a:lnTo>
                    <a:pt x="196" y="229"/>
                  </a:lnTo>
                  <a:lnTo>
                    <a:pt x="200" y="211"/>
                  </a:lnTo>
                  <a:lnTo>
                    <a:pt x="198" y="206"/>
                  </a:lnTo>
                  <a:lnTo>
                    <a:pt x="190" y="206"/>
                  </a:lnTo>
                  <a:lnTo>
                    <a:pt x="181" y="213"/>
                  </a:lnTo>
                  <a:lnTo>
                    <a:pt x="171" y="209"/>
                  </a:lnTo>
                  <a:lnTo>
                    <a:pt x="169" y="198"/>
                  </a:lnTo>
                  <a:lnTo>
                    <a:pt x="167" y="171"/>
                  </a:lnTo>
                  <a:lnTo>
                    <a:pt x="152" y="188"/>
                  </a:lnTo>
                  <a:lnTo>
                    <a:pt x="136" y="192"/>
                  </a:lnTo>
                  <a:lnTo>
                    <a:pt x="122" y="198"/>
                  </a:lnTo>
                  <a:lnTo>
                    <a:pt x="122" y="206"/>
                  </a:lnTo>
                  <a:lnTo>
                    <a:pt x="136" y="225"/>
                  </a:lnTo>
                  <a:lnTo>
                    <a:pt x="136" y="237"/>
                  </a:lnTo>
                  <a:lnTo>
                    <a:pt x="126" y="250"/>
                  </a:lnTo>
                  <a:lnTo>
                    <a:pt x="122" y="254"/>
                  </a:lnTo>
                  <a:lnTo>
                    <a:pt x="113" y="254"/>
                  </a:lnTo>
                  <a:lnTo>
                    <a:pt x="113" y="266"/>
                  </a:lnTo>
                  <a:lnTo>
                    <a:pt x="122" y="272"/>
                  </a:lnTo>
                  <a:lnTo>
                    <a:pt x="124" y="287"/>
                  </a:lnTo>
                  <a:lnTo>
                    <a:pt x="111" y="308"/>
                  </a:lnTo>
                  <a:lnTo>
                    <a:pt x="103" y="314"/>
                  </a:lnTo>
                  <a:lnTo>
                    <a:pt x="117" y="328"/>
                  </a:lnTo>
                  <a:lnTo>
                    <a:pt x="117" y="353"/>
                  </a:lnTo>
                  <a:lnTo>
                    <a:pt x="103" y="361"/>
                  </a:lnTo>
                  <a:lnTo>
                    <a:pt x="99" y="363"/>
                  </a:lnTo>
                  <a:lnTo>
                    <a:pt x="99" y="370"/>
                  </a:lnTo>
                  <a:lnTo>
                    <a:pt x="109" y="378"/>
                  </a:lnTo>
                  <a:lnTo>
                    <a:pt x="111" y="388"/>
                  </a:lnTo>
                  <a:lnTo>
                    <a:pt x="115" y="401"/>
                  </a:lnTo>
                  <a:lnTo>
                    <a:pt x="115" y="407"/>
                  </a:lnTo>
                  <a:lnTo>
                    <a:pt x="109" y="419"/>
                  </a:lnTo>
                  <a:lnTo>
                    <a:pt x="97" y="423"/>
                  </a:lnTo>
                  <a:lnTo>
                    <a:pt x="84" y="431"/>
                  </a:lnTo>
                  <a:lnTo>
                    <a:pt x="84" y="438"/>
                  </a:lnTo>
                  <a:lnTo>
                    <a:pt x="86" y="436"/>
                  </a:lnTo>
                  <a:lnTo>
                    <a:pt x="91" y="434"/>
                  </a:lnTo>
                  <a:lnTo>
                    <a:pt x="99" y="438"/>
                  </a:lnTo>
                  <a:lnTo>
                    <a:pt x="97" y="456"/>
                  </a:lnTo>
                  <a:lnTo>
                    <a:pt x="55" y="462"/>
                  </a:lnTo>
                  <a:lnTo>
                    <a:pt x="41" y="46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rot="2109000">
              <a:off x="5364720" y="8346960"/>
              <a:ext cx="39600" cy="2700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31" y="33"/>
                  </a:moveTo>
                  <a:lnTo>
                    <a:pt x="4" y="18"/>
                  </a:lnTo>
                  <a:lnTo>
                    <a:pt x="0" y="6"/>
                  </a:lnTo>
                  <a:lnTo>
                    <a:pt x="4" y="0"/>
                  </a:lnTo>
                  <a:lnTo>
                    <a:pt x="21" y="0"/>
                  </a:lnTo>
                  <a:lnTo>
                    <a:pt x="37" y="8"/>
                  </a:lnTo>
                  <a:lnTo>
                    <a:pt x="44" y="8"/>
                  </a:lnTo>
                  <a:lnTo>
                    <a:pt x="50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 rot="2109000">
              <a:off x="4132800" y="7390800"/>
              <a:ext cx="17280" cy="8568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16" y="10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2" y="78"/>
                  </a:lnTo>
                  <a:lnTo>
                    <a:pt x="22" y="109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rot="2109000">
              <a:off x="5403600" y="8299440"/>
              <a:ext cx="108000" cy="8100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18" y="103"/>
                  </a:moveTo>
                  <a:lnTo>
                    <a:pt x="14" y="89"/>
                  </a:lnTo>
                  <a:lnTo>
                    <a:pt x="10" y="75"/>
                  </a:lnTo>
                  <a:lnTo>
                    <a:pt x="6" y="62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20" y="2"/>
                  </a:lnTo>
                  <a:lnTo>
                    <a:pt x="37" y="2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2" y="10"/>
                  </a:lnTo>
                  <a:lnTo>
                    <a:pt x="93" y="21"/>
                  </a:lnTo>
                  <a:lnTo>
                    <a:pt x="101" y="33"/>
                  </a:lnTo>
                  <a:lnTo>
                    <a:pt x="111" y="44"/>
                  </a:lnTo>
                  <a:lnTo>
                    <a:pt x="116" y="54"/>
                  </a:lnTo>
                  <a:lnTo>
                    <a:pt x="124" y="66"/>
                  </a:lnTo>
                  <a:lnTo>
                    <a:pt x="130" y="77"/>
                  </a:lnTo>
                  <a:lnTo>
                    <a:pt x="138" y="89"/>
                  </a:lnTo>
                  <a:lnTo>
                    <a:pt x="97" y="89"/>
                  </a:lnTo>
                  <a:lnTo>
                    <a:pt x="18" y="1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rot="2109000">
              <a:off x="4576320" y="7572600"/>
              <a:ext cx="163800" cy="176400"/>
            </a:xfrm>
            <a:custGeom>
              <a:avLst/>
              <a:gdLst/>
              <a:ahLst/>
              <a:rect l="l" t="t" r="r" b="b"/>
              <a:pathLst>
                <a:path w="208" h="223">
                  <a:moveTo>
                    <a:pt x="49" y="221"/>
                  </a:moveTo>
                  <a:lnTo>
                    <a:pt x="18" y="176"/>
                  </a:lnTo>
                  <a:lnTo>
                    <a:pt x="16" y="164"/>
                  </a:lnTo>
                  <a:lnTo>
                    <a:pt x="10" y="153"/>
                  </a:lnTo>
                  <a:lnTo>
                    <a:pt x="4" y="135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2" y="69"/>
                  </a:lnTo>
                  <a:lnTo>
                    <a:pt x="8" y="54"/>
                  </a:lnTo>
                  <a:lnTo>
                    <a:pt x="16" y="38"/>
                  </a:lnTo>
                  <a:lnTo>
                    <a:pt x="27" y="23"/>
                  </a:lnTo>
                  <a:lnTo>
                    <a:pt x="54" y="5"/>
                  </a:lnTo>
                  <a:lnTo>
                    <a:pt x="74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20" y="0"/>
                  </a:lnTo>
                  <a:lnTo>
                    <a:pt x="132" y="1"/>
                  </a:lnTo>
                  <a:lnTo>
                    <a:pt x="147" y="7"/>
                  </a:lnTo>
                  <a:lnTo>
                    <a:pt x="159" y="13"/>
                  </a:lnTo>
                  <a:lnTo>
                    <a:pt x="173" y="21"/>
                  </a:lnTo>
                  <a:lnTo>
                    <a:pt x="184" y="32"/>
                  </a:lnTo>
                  <a:lnTo>
                    <a:pt x="198" y="46"/>
                  </a:lnTo>
                  <a:lnTo>
                    <a:pt x="208" y="67"/>
                  </a:lnTo>
                  <a:lnTo>
                    <a:pt x="177" y="67"/>
                  </a:lnTo>
                  <a:lnTo>
                    <a:pt x="163" y="65"/>
                  </a:lnTo>
                  <a:lnTo>
                    <a:pt x="151" y="65"/>
                  </a:lnTo>
                  <a:lnTo>
                    <a:pt x="140" y="64"/>
                  </a:lnTo>
                  <a:lnTo>
                    <a:pt x="128" y="64"/>
                  </a:lnTo>
                  <a:lnTo>
                    <a:pt x="116" y="64"/>
                  </a:lnTo>
                  <a:lnTo>
                    <a:pt x="105" y="64"/>
                  </a:lnTo>
                  <a:lnTo>
                    <a:pt x="93" y="64"/>
                  </a:lnTo>
                  <a:lnTo>
                    <a:pt x="82" y="67"/>
                  </a:lnTo>
                  <a:lnTo>
                    <a:pt x="62" y="77"/>
                  </a:lnTo>
                  <a:lnTo>
                    <a:pt x="54" y="67"/>
                  </a:lnTo>
                  <a:lnTo>
                    <a:pt x="50" y="58"/>
                  </a:lnTo>
                  <a:lnTo>
                    <a:pt x="45" y="75"/>
                  </a:lnTo>
                  <a:lnTo>
                    <a:pt x="49" y="83"/>
                  </a:lnTo>
                  <a:lnTo>
                    <a:pt x="50" y="87"/>
                  </a:lnTo>
                  <a:lnTo>
                    <a:pt x="41" y="98"/>
                  </a:lnTo>
                  <a:lnTo>
                    <a:pt x="39" y="112"/>
                  </a:lnTo>
                  <a:lnTo>
                    <a:pt x="37" y="124"/>
                  </a:lnTo>
                  <a:lnTo>
                    <a:pt x="35" y="137"/>
                  </a:lnTo>
                  <a:lnTo>
                    <a:pt x="52" y="223"/>
                  </a:lnTo>
                  <a:lnTo>
                    <a:pt x="49" y="22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rot="2109000">
              <a:off x="4474080" y="7615080"/>
              <a:ext cx="6480" cy="219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2" y="30"/>
                  </a:moveTo>
                  <a:lnTo>
                    <a:pt x="2" y="22"/>
                  </a:lnTo>
                  <a:lnTo>
                    <a:pt x="0" y="0"/>
                  </a:lnTo>
                  <a:lnTo>
                    <a:pt x="6" y="4"/>
                  </a:lnTo>
                  <a:lnTo>
                    <a:pt x="8" y="26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rot="2109000">
              <a:off x="5366520" y="8244000"/>
              <a:ext cx="172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9" y="1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1" y="21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rot="2109000">
              <a:off x="5352480" y="8149320"/>
              <a:ext cx="46080" cy="8748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17" y="108"/>
                  </a:moveTo>
                  <a:lnTo>
                    <a:pt x="6" y="83"/>
                  </a:lnTo>
                  <a:lnTo>
                    <a:pt x="0" y="66"/>
                  </a:lnTo>
                  <a:lnTo>
                    <a:pt x="0" y="48"/>
                  </a:lnTo>
                  <a:lnTo>
                    <a:pt x="2" y="31"/>
                  </a:lnTo>
                  <a:lnTo>
                    <a:pt x="12" y="13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15" y="29"/>
                  </a:lnTo>
                  <a:lnTo>
                    <a:pt x="15" y="37"/>
                  </a:lnTo>
                  <a:lnTo>
                    <a:pt x="39" y="56"/>
                  </a:lnTo>
                  <a:lnTo>
                    <a:pt x="58" y="56"/>
                  </a:lnTo>
                  <a:lnTo>
                    <a:pt x="58" y="66"/>
                  </a:lnTo>
                  <a:lnTo>
                    <a:pt x="27" y="87"/>
                  </a:lnTo>
                  <a:lnTo>
                    <a:pt x="27" y="105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rot="2109000">
              <a:off x="4520520" y="7485480"/>
              <a:ext cx="141480" cy="165240"/>
            </a:xfrm>
            <a:custGeom>
              <a:avLst/>
              <a:gdLst/>
              <a:ahLst/>
              <a:rect l="l" t="t" r="r" b="b"/>
              <a:pathLst>
                <a:path w="179" h="207">
                  <a:moveTo>
                    <a:pt x="132" y="205"/>
                  </a:moveTo>
                  <a:lnTo>
                    <a:pt x="140" y="194"/>
                  </a:lnTo>
                  <a:lnTo>
                    <a:pt x="148" y="182"/>
                  </a:lnTo>
                  <a:lnTo>
                    <a:pt x="154" y="170"/>
                  </a:lnTo>
                  <a:lnTo>
                    <a:pt x="159" y="161"/>
                  </a:lnTo>
                  <a:lnTo>
                    <a:pt x="159" y="149"/>
                  </a:lnTo>
                  <a:lnTo>
                    <a:pt x="159" y="137"/>
                  </a:lnTo>
                  <a:lnTo>
                    <a:pt x="157" y="126"/>
                  </a:lnTo>
                  <a:lnTo>
                    <a:pt x="154" y="114"/>
                  </a:lnTo>
                  <a:lnTo>
                    <a:pt x="132" y="89"/>
                  </a:lnTo>
                  <a:lnTo>
                    <a:pt x="70" y="99"/>
                  </a:lnTo>
                  <a:lnTo>
                    <a:pt x="68" y="91"/>
                  </a:lnTo>
                  <a:lnTo>
                    <a:pt x="62" y="83"/>
                  </a:lnTo>
                  <a:lnTo>
                    <a:pt x="22" y="42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18" y="11"/>
                  </a:lnTo>
                  <a:lnTo>
                    <a:pt x="35" y="4"/>
                  </a:lnTo>
                  <a:lnTo>
                    <a:pt x="53" y="0"/>
                  </a:lnTo>
                  <a:lnTo>
                    <a:pt x="74" y="2"/>
                  </a:lnTo>
                  <a:lnTo>
                    <a:pt x="93" y="6"/>
                  </a:lnTo>
                  <a:lnTo>
                    <a:pt x="115" y="17"/>
                  </a:lnTo>
                  <a:lnTo>
                    <a:pt x="140" y="46"/>
                  </a:lnTo>
                  <a:lnTo>
                    <a:pt x="148" y="60"/>
                  </a:lnTo>
                  <a:lnTo>
                    <a:pt x="155" y="75"/>
                  </a:lnTo>
                  <a:lnTo>
                    <a:pt x="161" y="91"/>
                  </a:lnTo>
                  <a:lnTo>
                    <a:pt x="169" y="106"/>
                  </a:lnTo>
                  <a:lnTo>
                    <a:pt x="173" y="122"/>
                  </a:lnTo>
                  <a:lnTo>
                    <a:pt x="177" y="137"/>
                  </a:lnTo>
                  <a:lnTo>
                    <a:pt x="177" y="153"/>
                  </a:lnTo>
                  <a:lnTo>
                    <a:pt x="179" y="170"/>
                  </a:lnTo>
                  <a:lnTo>
                    <a:pt x="169" y="182"/>
                  </a:lnTo>
                  <a:lnTo>
                    <a:pt x="159" y="194"/>
                  </a:lnTo>
                  <a:lnTo>
                    <a:pt x="146" y="201"/>
                  </a:lnTo>
                  <a:lnTo>
                    <a:pt x="136" y="207"/>
                  </a:lnTo>
                  <a:lnTo>
                    <a:pt x="132" y="20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rot="2109000">
              <a:off x="5370120" y="8191440"/>
              <a:ext cx="12600" cy="21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2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rot="2109000">
              <a:off x="4457880" y="7425720"/>
              <a:ext cx="122400" cy="158760"/>
            </a:xfrm>
            <a:custGeom>
              <a:avLst/>
              <a:gdLst/>
              <a:ahLst/>
              <a:rect l="l" t="t" r="r" b="b"/>
              <a:pathLst>
                <a:path w="153" h="200">
                  <a:moveTo>
                    <a:pt x="87" y="200"/>
                  </a:moveTo>
                  <a:lnTo>
                    <a:pt x="60" y="188"/>
                  </a:lnTo>
                  <a:lnTo>
                    <a:pt x="62" y="171"/>
                  </a:lnTo>
                  <a:lnTo>
                    <a:pt x="62" y="155"/>
                  </a:lnTo>
                  <a:lnTo>
                    <a:pt x="58" y="138"/>
                  </a:lnTo>
                  <a:lnTo>
                    <a:pt x="56" y="122"/>
                  </a:lnTo>
                  <a:lnTo>
                    <a:pt x="51" y="109"/>
                  </a:lnTo>
                  <a:lnTo>
                    <a:pt x="47" y="95"/>
                  </a:lnTo>
                  <a:lnTo>
                    <a:pt x="41" y="81"/>
                  </a:lnTo>
                  <a:lnTo>
                    <a:pt x="35" y="70"/>
                  </a:lnTo>
                  <a:lnTo>
                    <a:pt x="25" y="56"/>
                  </a:lnTo>
                  <a:lnTo>
                    <a:pt x="18" y="43"/>
                  </a:lnTo>
                  <a:lnTo>
                    <a:pt x="8" y="29"/>
                  </a:lnTo>
                  <a:lnTo>
                    <a:pt x="0" y="17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5" y="2"/>
                  </a:lnTo>
                  <a:lnTo>
                    <a:pt x="74" y="12"/>
                  </a:lnTo>
                  <a:lnTo>
                    <a:pt x="95" y="27"/>
                  </a:lnTo>
                  <a:lnTo>
                    <a:pt x="111" y="43"/>
                  </a:lnTo>
                  <a:lnTo>
                    <a:pt x="126" y="64"/>
                  </a:lnTo>
                  <a:lnTo>
                    <a:pt x="134" y="79"/>
                  </a:lnTo>
                  <a:lnTo>
                    <a:pt x="144" y="97"/>
                  </a:lnTo>
                  <a:lnTo>
                    <a:pt x="148" y="112"/>
                  </a:lnTo>
                  <a:lnTo>
                    <a:pt x="151" y="130"/>
                  </a:lnTo>
                  <a:lnTo>
                    <a:pt x="153" y="142"/>
                  </a:lnTo>
                  <a:lnTo>
                    <a:pt x="150" y="153"/>
                  </a:lnTo>
                  <a:lnTo>
                    <a:pt x="146" y="167"/>
                  </a:lnTo>
                  <a:lnTo>
                    <a:pt x="138" y="180"/>
                  </a:lnTo>
                  <a:lnTo>
                    <a:pt x="126" y="194"/>
                  </a:lnTo>
                  <a:lnTo>
                    <a:pt x="87" y="2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-10515600" y="-776160"/>
            <a:ext cx="19659600" cy="7634160"/>
            <a:chOff x="-10515600" y="-776160"/>
            <a:chExt cx="19659600" cy="7634160"/>
          </a:xfrm>
        </p:grpSpPr>
        <p:sp>
          <p:nvSpPr>
            <p:cNvPr id="986" name=""/>
            <p:cNvSpPr/>
            <p:nvPr/>
          </p:nvSpPr>
          <p:spPr>
            <a:xfrm>
              <a:off x="-10515600" y="0"/>
              <a:ext cx="19659600" cy="685800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-7020000" y="-776160"/>
              <a:ext cx="13331880" cy="7527960"/>
              <a:chOff x="-7020000" y="-776160"/>
              <a:chExt cx="13331880" cy="752796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-55800" y="4276800"/>
                <a:ext cx="6367680" cy="2475000"/>
                <a:chOff x="-55800" y="4276800"/>
                <a:chExt cx="6367680" cy="2475000"/>
              </a:xfrm>
            </p:grpSpPr>
            <p:grpSp>
              <p:nvGrpSpPr>
                <p:cNvPr id="989" name=""/>
                <p:cNvGrpSpPr/>
                <p:nvPr/>
              </p:nvGrpSpPr>
              <p:grpSpPr>
                <a:xfrm>
                  <a:off x="1666800" y="4276800"/>
                  <a:ext cx="4645080" cy="1909800"/>
                  <a:chOff x="1666800" y="4276800"/>
                  <a:chExt cx="4645080" cy="190980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>
                    <a:off x="2786040" y="559620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7b8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4019760" y="5083560"/>
                    <a:ext cx="1595160" cy="11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11" h="1391">
                        <a:moveTo>
                          <a:pt x="731" y="1389"/>
                        </a:moveTo>
                        <a:lnTo>
                          <a:pt x="667" y="1377"/>
                        </a:lnTo>
                        <a:lnTo>
                          <a:pt x="605" y="1367"/>
                        </a:lnTo>
                        <a:lnTo>
                          <a:pt x="543" y="1354"/>
                        </a:lnTo>
                        <a:lnTo>
                          <a:pt x="481" y="1338"/>
                        </a:lnTo>
                        <a:lnTo>
                          <a:pt x="419" y="1315"/>
                        </a:lnTo>
                        <a:lnTo>
                          <a:pt x="357" y="1286"/>
                        </a:lnTo>
                        <a:lnTo>
                          <a:pt x="295" y="1249"/>
                        </a:lnTo>
                        <a:lnTo>
                          <a:pt x="233" y="1206"/>
                        </a:lnTo>
                        <a:lnTo>
                          <a:pt x="204" y="1175"/>
                        </a:lnTo>
                        <a:lnTo>
                          <a:pt x="177" y="1144"/>
                        </a:lnTo>
                        <a:lnTo>
                          <a:pt x="149" y="1111"/>
                        </a:lnTo>
                        <a:lnTo>
                          <a:pt x="122" y="1082"/>
                        </a:lnTo>
                        <a:lnTo>
                          <a:pt x="93" y="1049"/>
                        </a:lnTo>
                        <a:lnTo>
                          <a:pt x="64" y="1020"/>
                        </a:lnTo>
                        <a:lnTo>
                          <a:pt x="31" y="993"/>
                        </a:lnTo>
                        <a:lnTo>
                          <a:pt x="0" y="972"/>
                        </a:lnTo>
                        <a:lnTo>
                          <a:pt x="4" y="968"/>
                        </a:lnTo>
                        <a:lnTo>
                          <a:pt x="124" y="950"/>
                        </a:lnTo>
                        <a:lnTo>
                          <a:pt x="144" y="941"/>
                        </a:lnTo>
                        <a:lnTo>
                          <a:pt x="194" y="921"/>
                        </a:lnTo>
                        <a:lnTo>
                          <a:pt x="204" y="919"/>
                        </a:lnTo>
                        <a:lnTo>
                          <a:pt x="233" y="906"/>
                        </a:lnTo>
                        <a:lnTo>
                          <a:pt x="266" y="888"/>
                        </a:lnTo>
                        <a:lnTo>
                          <a:pt x="299" y="865"/>
                        </a:lnTo>
                        <a:lnTo>
                          <a:pt x="334" y="838"/>
                        </a:lnTo>
                        <a:lnTo>
                          <a:pt x="363" y="807"/>
                        </a:lnTo>
                        <a:lnTo>
                          <a:pt x="390" y="776"/>
                        </a:lnTo>
                        <a:lnTo>
                          <a:pt x="411" y="743"/>
                        </a:lnTo>
                        <a:lnTo>
                          <a:pt x="427" y="712"/>
                        </a:lnTo>
                        <a:lnTo>
                          <a:pt x="435" y="667"/>
                        </a:lnTo>
                        <a:lnTo>
                          <a:pt x="431" y="640"/>
                        </a:lnTo>
                        <a:lnTo>
                          <a:pt x="421" y="615"/>
                        </a:lnTo>
                        <a:lnTo>
                          <a:pt x="409" y="601"/>
                        </a:lnTo>
                        <a:lnTo>
                          <a:pt x="559" y="564"/>
                        </a:lnTo>
                        <a:lnTo>
                          <a:pt x="691" y="539"/>
                        </a:lnTo>
                        <a:lnTo>
                          <a:pt x="700" y="541"/>
                        </a:lnTo>
                        <a:lnTo>
                          <a:pt x="733" y="535"/>
                        </a:lnTo>
                        <a:lnTo>
                          <a:pt x="914" y="528"/>
                        </a:lnTo>
                        <a:lnTo>
                          <a:pt x="943" y="524"/>
                        </a:lnTo>
                        <a:lnTo>
                          <a:pt x="981" y="524"/>
                        </a:lnTo>
                        <a:lnTo>
                          <a:pt x="983" y="528"/>
                        </a:lnTo>
                        <a:lnTo>
                          <a:pt x="1024" y="520"/>
                        </a:lnTo>
                        <a:lnTo>
                          <a:pt x="1034" y="520"/>
                        </a:lnTo>
                        <a:lnTo>
                          <a:pt x="1119" y="518"/>
                        </a:lnTo>
                        <a:lnTo>
                          <a:pt x="1129" y="518"/>
                        </a:lnTo>
                        <a:lnTo>
                          <a:pt x="1152" y="514"/>
                        </a:lnTo>
                        <a:lnTo>
                          <a:pt x="1179" y="512"/>
                        </a:lnTo>
                        <a:lnTo>
                          <a:pt x="1203" y="508"/>
                        </a:lnTo>
                        <a:lnTo>
                          <a:pt x="1230" y="506"/>
                        </a:lnTo>
                        <a:lnTo>
                          <a:pt x="1255" y="501"/>
                        </a:lnTo>
                        <a:lnTo>
                          <a:pt x="1282" y="495"/>
                        </a:lnTo>
                        <a:lnTo>
                          <a:pt x="1307" y="489"/>
                        </a:lnTo>
                        <a:lnTo>
                          <a:pt x="1334" y="485"/>
                        </a:lnTo>
                        <a:lnTo>
                          <a:pt x="1350" y="479"/>
                        </a:lnTo>
                        <a:lnTo>
                          <a:pt x="1367" y="473"/>
                        </a:lnTo>
                        <a:lnTo>
                          <a:pt x="1385" y="468"/>
                        </a:lnTo>
                        <a:lnTo>
                          <a:pt x="1402" y="462"/>
                        </a:lnTo>
                        <a:lnTo>
                          <a:pt x="1420" y="454"/>
                        </a:lnTo>
                        <a:lnTo>
                          <a:pt x="1437" y="446"/>
                        </a:lnTo>
                        <a:lnTo>
                          <a:pt x="1455" y="437"/>
                        </a:lnTo>
                        <a:lnTo>
                          <a:pt x="1472" y="429"/>
                        </a:lnTo>
                        <a:lnTo>
                          <a:pt x="1486" y="419"/>
                        </a:lnTo>
                        <a:lnTo>
                          <a:pt x="1552" y="355"/>
                        </a:lnTo>
                        <a:lnTo>
                          <a:pt x="1567" y="326"/>
                        </a:lnTo>
                        <a:lnTo>
                          <a:pt x="1581" y="297"/>
                        </a:lnTo>
                        <a:lnTo>
                          <a:pt x="1592" y="266"/>
                        </a:lnTo>
                        <a:lnTo>
                          <a:pt x="1604" y="235"/>
                        </a:lnTo>
                        <a:lnTo>
                          <a:pt x="1610" y="202"/>
                        </a:lnTo>
                        <a:lnTo>
                          <a:pt x="1616" y="173"/>
                        </a:lnTo>
                        <a:lnTo>
                          <a:pt x="1618" y="142"/>
                        </a:lnTo>
                        <a:lnTo>
                          <a:pt x="1619" y="113"/>
                        </a:lnTo>
                        <a:lnTo>
                          <a:pt x="1616" y="101"/>
                        </a:lnTo>
                        <a:lnTo>
                          <a:pt x="1614" y="89"/>
                        </a:lnTo>
                        <a:lnTo>
                          <a:pt x="1610" y="78"/>
                        </a:lnTo>
                        <a:lnTo>
                          <a:pt x="1608" y="68"/>
                        </a:lnTo>
                        <a:lnTo>
                          <a:pt x="1602" y="56"/>
                        </a:lnTo>
                        <a:lnTo>
                          <a:pt x="1598" y="45"/>
                        </a:lnTo>
                        <a:lnTo>
                          <a:pt x="1594" y="33"/>
                        </a:lnTo>
                        <a:lnTo>
                          <a:pt x="1590" y="23"/>
                        </a:lnTo>
                        <a:lnTo>
                          <a:pt x="1606" y="20"/>
                        </a:lnTo>
                        <a:lnTo>
                          <a:pt x="1610" y="18"/>
                        </a:lnTo>
                        <a:lnTo>
                          <a:pt x="1614" y="14"/>
                        </a:lnTo>
                        <a:lnTo>
                          <a:pt x="1619" y="0"/>
                        </a:lnTo>
                        <a:lnTo>
                          <a:pt x="1649" y="22"/>
                        </a:lnTo>
                        <a:lnTo>
                          <a:pt x="1672" y="23"/>
                        </a:lnTo>
                        <a:lnTo>
                          <a:pt x="1685" y="18"/>
                        </a:lnTo>
                        <a:lnTo>
                          <a:pt x="1687" y="25"/>
                        </a:lnTo>
                        <a:lnTo>
                          <a:pt x="1703" y="39"/>
                        </a:lnTo>
                        <a:lnTo>
                          <a:pt x="1724" y="41"/>
                        </a:lnTo>
                        <a:lnTo>
                          <a:pt x="1751" y="18"/>
                        </a:lnTo>
                        <a:lnTo>
                          <a:pt x="1757" y="60"/>
                        </a:lnTo>
                        <a:lnTo>
                          <a:pt x="1759" y="62"/>
                        </a:lnTo>
                        <a:lnTo>
                          <a:pt x="1777" y="82"/>
                        </a:lnTo>
                        <a:lnTo>
                          <a:pt x="1804" y="82"/>
                        </a:lnTo>
                        <a:lnTo>
                          <a:pt x="1829" y="68"/>
                        </a:lnTo>
                        <a:lnTo>
                          <a:pt x="1833" y="82"/>
                        </a:lnTo>
                        <a:lnTo>
                          <a:pt x="1839" y="89"/>
                        </a:lnTo>
                        <a:lnTo>
                          <a:pt x="1868" y="103"/>
                        </a:lnTo>
                        <a:lnTo>
                          <a:pt x="1877" y="101"/>
                        </a:lnTo>
                        <a:lnTo>
                          <a:pt x="1897" y="87"/>
                        </a:lnTo>
                        <a:lnTo>
                          <a:pt x="1903" y="82"/>
                        </a:lnTo>
                        <a:lnTo>
                          <a:pt x="1916" y="72"/>
                        </a:lnTo>
                        <a:lnTo>
                          <a:pt x="1918" y="89"/>
                        </a:lnTo>
                        <a:lnTo>
                          <a:pt x="1932" y="105"/>
                        </a:lnTo>
                        <a:lnTo>
                          <a:pt x="1955" y="107"/>
                        </a:lnTo>
                        <a:lnTo>
                          <a:pt x="1967" y="103"/>
                        </a:lnTo>
                        <a:lnTo>
                          <a:pt x="1971" y="124"/>
                        </a:lnTo>
                        <a:lnTo>
                          <a:pt x="1984" y="140"/>
                        </a:lnTo>
                        <a:lnTo>
                          <a:pt x="2011" y="144"/>
                        </a:lnTo>
                        <a:lnTo>
                          <a:pt x="1978" y="200"/>
                        </a:lnTo>
                        <a:lnTo>
                          <a:pt x="1953" y="258"/>
                        </a:lnTo>
                        <a:lnTo>
                          <a:pt x="1930" y="314"/>
                        </a:lnTo>
                        <a:lnTo>
                          <a:pt x="1910" y="373"/>
                        </a:lnTo>
                        <a:lnTo>
                          <a:pt x="1887" y="429"/>
                        </a:lnTo>
                        <a:lnTo>
                          <a:pt x="1866" y="485"/>
                        </a:lnTo>
                        <a:lnTo>
                          <a:pt x="1843" y="543"/>
                        </a:lnTo>
                        <a:lnTo>
                          <a:pt x="1817" y="601"/>
                        </a:lnTo>
                        <a:lnTo>
                          <a:pt x="1811" y="605"/>
                        </a:lnTo>
                        <a:lnTo>
                          <a:pt x="1794" y="642"/>
                        </a:lnTo>
                        <a:lnTo>
                          <a:pt x="1777" y="679"/>
                        </a:lnTo>
                        <a:lnTo>
                          <a:pt x="1757" y="716"/>
                        </a:lnTo>
                        <a:lnTo>
                          <a:pt x="1738" y="755"/>
                        </a:lnTo>
                        <a:lnTo>
                          <a:pt x="1715" y="791"/>
                        </a:lnTo>
                        <a:lnTo>
                          <a:pt x="1693" y="830"/>
                        </a:lnTo>
                        <a:lnTo>
                          <a:pt x="1670" y="867"/>
                        </a:lnTo>
                        <a:lnTo>
                          <a:pt x="1647" y="906"/>
                        </a:lnTo>
                        <a:lnTo>
                          <a:pt x="1633" y="919"/>
                        </a:lnTo>
                        <a:lnTo>
                          <a:pt x="1621" y="935"/>
                        </a:lnTo>
                        <a:lnTo>
                          <a:pt x="1610" y="950"/>
                        </a:lnTo>
                        <a:lnTo>
                          <a:pt x="1598" y="966"/>
                        </a:lnTo>
                        <a:lnTo>
                          <a:pt x="1585" y="979"/>
                        </a:lnTo>
                        <a:lnTo>
                          <a:pt x="1573" y="993"/>
                        </a:lnTo>
                        <a:lnTo>
                          <a:pt x="1559" y="1007"/>
                        </a:lnTo>
                        <a:lnTo>
                          <a:pt x="1548" y="1020"/>
                        </a:lnTo>
                        <a:lnTo>
                          <a:pt x="1513" y="1059"/>
                        </a:lnTo>
                        <a:lnTo>
                          <a:pt x="1493" y="1076"/>
                        </a:lnTo>
                        <a:lnTo>
                          <a:pt x="1474" y="1096"/>
                        </a:lnTo>
                        <a:lnTo>
                          <a:pt x="1455" y="1113"/>
                        </a:lnTo>
                        <a:lnTo>
                          <a:pt x="1435" y="1131"/>
                        </a:lnTo>
                        <a:lnTo>
                          <a:pt x="1416" y="1146"/>
                        </a:lnTo>
                        <a:lnTo>
                          <a:pt x="1396" y="1162"/>
                        </a:lnTo>
                        <a:lnTo>
                          <a:pt x="1377" y="1177"/>
                        </a:lnTo>
                        <a:lnTo>
                          <a:pt x="1360" y="1193"/>
                        </a:lnTo>
                        <a:lnTo>
                          <a:pt x="1331" y="1214"/>
                        </a:lnTo>
                        <a:lnTo>
                          <a:pt x="1309" y="1228"/>
                        </a:lnTo>
                        <a:lnTo>
                          <a:pt x="1282" y="1243"/>
                        </a:lnTo>
                        <a:lnTo>
                          <a:pt x="1272" y="1251"/>
                        </a:lnTo>
                        <a:lnTo>
                          <a:pt x="1247" y="1263"/>
                        </a:lnTo>
                        <a:lnTo>
                          <a:pt x="1224" y="1274"/>
                        </a:lnTo>
                        <a:lnTo>
                          <a:pt x="1201" y="1286"/>
                        </a:lnTo>
                        <a:lnTo>
                          <a:pt x="1177" y="1298"/>
                        </a:lnTo>
                        <a:lnTo>
                          <a:pt x="1154" y="1307"/>
                        </a:lnTo>
                        <a:lnTo>
                          <a:pt x="1131" y="1319"/>
                        </a:lnTo>
                        <a:lnTo>
                          <a:pt x="1108" y="1327"/>
                        </a:lnTo>
                        <a:lnTo>
                          <a:pt x="1086" y="1336"/>
                        </a:lnTo>
                        <a:lnTo>
                          <a:pt x="999" y="1358"/>
                        </a:lnTo>
                        <a:lnTo>
                          <a:pt x="966" y="1362"/>
                        </a:lnTo>
                        <a:lnTo>
                          <a:pt x="933" y="1367"/>
                        </a:lnTo>
                        <a:lnTo>
                          <a:pt x="900" y="1373"/>
                        </a:lnTo>
                        <a:lnTo>
                          <a:pt x="867" y="1379"/>
                        </a:lnTo>
                        <a:lnTo>
                          <a:pt x="834" y="1383"/>
                        </a:lnTo>
                        <a:lnTo>
                          <a:pt x="801" y="1387"/>
                        </a:lnTo>
                        <a:lnTo>
                          <a:pt x="768" y="1389"/>
                        </a:lnTo>
                        <a:lnTo>
                          <a:pt x="737" y="1391"/>
                        </a:lnTo>
                        <a:lnTo>
                          <a:pt x="731" y="1389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4783320" y="5942160"/>
                    <a:ext cx="17604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0">
                        <a:moveTo>
                          <a:pt x="31" y="150"/>
                        </a:moveTo>
                        <a:lnTo>
                          <a:pt x="0" y="144"/>
                        </a:lnTo>
                        <a:lnTo>
                          <a:pt x="0" y="138"/>
                        </a:lnTo>
                        <a:lnTo>
                          <a:pt x="78" y="136"/>
                        </a:lnTo>
                        <a:lnTo>
                          <a:pt x="89" y="132"/>
                        </a:lnTo>
                        <a:lnTo>
                          <a:pt x="93" y="128"/>
                        </a:lnTo>
                        <a:lnTo>
                          <a:pt x="97" y="128"/>
                        </a:lnTo>
                        <a:lnTo>
                          <a:pt x="101" y="124"/>
                        </a:lnTo>
                        <a:lnTo>
                          <a:pt x="101" y="120"/>
                        </a:lnTo>
                        <a:lnTo>
                          <a:pt x="99" y="117"/>
                        </a:lnTo>
                        <a:lnTo>
                          <a:pt x="89" y="109"/>
                        </a:lnTo>
                        <a:lnTo>
                          <a:pt x="35" y="109"/>
                        </a:lnTo>
                        <a:lnTo>
                          <a:pt x="29" y="103"/>
                        </a:lnTo>
                        <a:lnTo>
                          <a:pt x="31" y="97"/>
                        </a:lnTo>
                        <a:lnTo>
                          <a:pt x="35" y="89"/>
                        </a:lnTo>
                        <a:lnTo>
                          <a:pt x="72" y="88"/>
                        </a:lnTo>
                        <a:lnTo>
                          <a:pt x="89" y="80"/>
                        </a:lnTo>
                        <a:lnTo>
                          <a:pt x="93" y="78"/>
                        </a:lnTo>
                        <a:lnTo>
                          <a:pt x="95" y="74"/>
                        </a:lnTo>
                        <a:lnTo>
                          <a:pt x="93" y="70"/>
                        </a:lnTo>
                        <a:lnTo>
                          <a:pt x="85" y="64"/>
                        </a:lnTo>
                        <a:lnTo>
                          <a:pt x="29" y="64"/>
                        </a:lnTo>
                        <a:lnTo>
                          <a:pt x="27" y="55"/>
                        </a:lnTo>
                        <a:lnTo>
                          <a:pt x="31" y="47"/>
                        </a:lnTo>
                        <a:lnTo>
                          <a:pt x="50" y="45"/>
                        </a:lnTo>
                        <a:lnTo>
                          <a:pt x="76" y="35"/>
                        </a:lnTo>
                        <a:lnTo>
                          <a:pt x="76" y="25"/>
                        </a:lnTo>
                        <a:lnTo>
                          <a:pt x="68" y="20"/>
                        </a:lnTo>
                        <a:lnTo>
                          <a:pt x="45" y="20"/>
                        </a:lnTo>
                        <a:lnTo>
                          <a:pt x="31" y="18"/>
                        </a:lnTo>
                        <a:lnTo>
                          <a:pt x="39" y="10"/>
                        </a:lnTo>
                        <a:lnTo>
                          <a:pt x="45" y="4"/>
                        </a:lnTo>
                        <a:lnTo>
                          <a:pt x="54" y="0"/>
                        </a:lnTo>
                        <a:lnTo>
                          <a:pt x="66" y="2"/>
                        </a:lnTo>
                        <a:lnTo>
                          <a:pt x="78" y="6"/>
                        </a:lnTo>
                        <a:lnTo>
                          <a:pt x="91" y="14"/>
                        </a:lnTo>
                        <a:lnTo>
                          <a:pt x="134" y="4"/>
                        </a:lnTo>
                        <a:lnTo>
                          <a:pt x="153" y="18"/>
                        </a:lnTo>
                        <a:lnTo>
                          <a:pt x="210" y="12"/>
                        </a:lnTo>
                        <a:lnTo>
                          <a:pt x="223" y="24"/>
                        </a:lnTo>
                        <a:lnTo>
                          <a:pt x="223" y="35"/>
                        </a:lnTo>
                        <a:lnTo>
                          <a:pt x="217" y="49"/>
                        </a:lnTo>
                        <a:lnTo>
                          <a:pt x="175" y="68"/>
                        </a:lnTo>
                        <a:lnTo>
                          <a:pt x="173" y="88"/>
                        </a:lnTo>
                        <a:lnTo>
                          <a:pt x="161" y="101"/>
                        </a:lnTo>
                        <a:lnTo>
                          <a:pt x="147" y="109"/>
                        </a:lnTo>
                        <a:lnTo>
                          <a:pt x="132" y="113"/>
                        </a:lnTo>
                        <a:lnTo>
                          <a:pt x="118" y="117"/>
                        </a:lnTo>
                        <a:lnTo>
                          <a:pt x="105" y="138"/>
                        </a:lnTo>
                        <a:lnTo>
                          <a:pt x="87" y="144"/>
                        </a:lnTo>
                        <a:lnTo>
                          <a:pt x="70" y="146"/>
                        </a:lnTo>
                        <a:lnTo>
                          <a:pt x="52" y="148"/>
                        </a:lnTo>
                        <a:lnTo>
                          <a:pt x="35" y="150"/>
                        </a:lnTo>
                        <a:lnTo>
                          <a:pt x="31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4254480" y="5953320"/>
                    <a:ext cx="169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128">
                        <a:moveTo>
                          <a:pt x="83" y="128"/>
                        </a:moveTo>
                        <a:lnTo>
                          <a:pt x="0" y="103"/>
                        </a:lnTo>
                        <a:lnTo>
                          <a:pt x="2" y="97"/>
                        </a:lnTo>
                        <a:lnTo>
                          <a:pt x="11" y="97"/>
                        </a:lnTo>
                        <a:lnTo>
                          <a:pt x="23" y="101"/>
                        </a:lnTo>
                        <a:lnTo>
                          <a:pt x="33" y="103"/>
                        </a:lnTo>
                        <a:lnTo>
                          <a:pt x="44" y="106"/>
                        </a:lnTo>
                        <a:lnTo>
                          <a:pt x="54" y="108"/>
                        </a:lnTo>
                        <a:lnTo>
                          <a:pt x="66" y="110"/>
                        </a:lnTo>
                        <a:lnTo>
                          <a:pt x="77" y="112"/>
                        </a:lnTo>
                        <a:lnTo>
                          <a:pt x="89" y="114"/>
                        </a:lnTo>
                        <a:lnTo>
                          <a:pt x="85" y="108"/>
                        </a:lnTo>
                        <a:lnTo>
                          <a:pt x="85" y="103"/>
                        </a:lnTo>
                        <a:lnTo>
                          <a:pt x="50" y="83"/>
                        </a:lnTo>
                        <a:lnTo>
                          <a:pt x="52" y="72"/>
                        </a:lnTo>
                        <a:lnTo>
                          <a:pt x="89" y="75"/>
                        </a:lnTo>
                        <a:lnTo>
                          <a:pt x="101" y="75"/>
                        </a:lnTo>
                        <a:lnTo>
                          <a:pt x="107" y="72"/>
                        </a:lnTo>
                        <a:lnTo>
                          <a:pt x="97" y="60"/>
                        </a:lnTo>
                        <a:lnTo>
                          <a:pt x="87" y="54"/>
                        </a:lnTo>
                        <a:lnTo>
                          <a:pt x="75" y="48"/>
                        </a:lnTo>
                        <a:lnTo>
                          <a:pt x="68" y="46"/>
                        </a:lnTo>
                        <a:lnTo>
                          <a:pt x="70" y="37"/>
                        </a:lnTo>
                        <a:lnTo>
                          <a:pt x="75" y="35"/>
                        </a:lnTo>
                        <a:lnTo>
                          <a:pt x="103" y="42"/>
                        </a:lnTo>
                        <a:lnTo>
                          <a:pt x="110" y="41"/>
                        </a:lnTo>
                        <a:lnTo>
                          <a:pt x="116" y="41"/>
                        </a:lnTo>
                        <a:lnTo>
                          <a:pt x="118" y="29"/>
                        </a:lnTo>
                        <a:lnTo>
                          <a:pt x="105" y="19"/>
                        </a:lnTo>
                        <a:lnTo>
                          <a:pt x="75" y="11"/>
                        </a:lnTo>
                        <a:lnTo>
                          <a:pt x="79" y="2"/>
                        </a:lnTo>
                        <a:lnTo>
                          <a:pt x="89" y="0"/>
                        </a:lnTo>
                        <a:lnTo>
                          <a:pt x="101" y="2"/>
                        </a:lnTo>
                        <a:lnTo>
                          <a:pt x="112" y="6"/>
                        </a:lnTo>
                        <a:lnTo>
                          <a:pt x="124" y="13"/>
                        </a:lnTo>
                        <a:lnTo>
                          <a:pt x="132" y="21"/>
                        </a:lnTo>
                        <a:lnTo>
                          <a:pt x="134" y="41"/>
                        </a:lnTo>
                        <a:lnTo>
                          <a:pt x="147" y="41"/>
                        </a:lnTo>
                        <a:lnTo>
                          <a:pt x="169" y="54"/>
                        </a:lnTo>
                        <a:lnTo>
                          <a:pt x="172" y="62"/>
                        </a:lnTo>
                        <a:lnTo>
                          <a:pt x="178" y="62"/>
                        </a:lnTo>
                        <a:lnTo>
                          <a:pt x="209" y="72"/>
                        </a:lnTo>
                        <a:lnTo>
                          <a:pt x="211" y="75"/>
                        </a:lnTo>
                        <a:lnTo>
                          <a:pt x="213" y="91"/>
                        </a:lnTo>
                        <a:lnTo>
                          <a:pt x="207" y="101"/>
                        </a:lnTo>
                        <a:lnTo>
                          <a:pt x="159" y="103"/>
                        </a:lnTo>
                        <a:lnTo>
                          <a:pt x="155" y="114"/>
                        </a:lnTo>
                        <a:lnTo>
                          <a:pt x="145" y="118"/>
                        </a:lnTo>
                        <a:lnTo>
                          <a:pt x="107" y="118"/>
                        </a:lnTo>
                        <a:lnTo>
                          <a:pt x="97" y="128"/>
                        </a:lnTo>
                        <a:lnTo>
                          <a:pt x="83" y="1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4324320" y="6018480"/>
                    <a:ext cx="47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27" y="25"/>
                        </a:moveTo>
                        <a:lnTo>
                          <a:pt x="20" y="25"/>
                        </a:lnTo>
                        <a:lnTo>
                          <a:pt x="0" y="10"/>
                        </a:lnTo>
                        <a:lnTo>
                          <a:pt x="23" y="6"/>
                        </a:lnTo>
                        <a:lnTo>
                          <a:pt x="27" y="4"/>
                        </a:lnTo>
                        <a:lnTo>
                          <a:pt x="31" y="0"/>
                        </a:lnTo>
                        <a:lnTo>
                          <a:pt x="60" y="14"/>
                        </a:lnTo>
                        <a:lnTo>
                          <a:pt x="56" y="27"/>
                        </a:lnTo>
                        <a:lnTo>
                          <a:pt x="27" y="25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4376880" y="6012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1">
                        <a:moveTo>
                          <a:pt x="16" y="19"/>
                        </a:moveTo>
                        <a:lnTo>
                          <a:pt x="0" y="13"/>
                        </a:lnTo>
                        <a:lnTo>
                          <a:pt x="8" y="9"/>
                        </a:lnTo>
                        <a:lnTo>
                          <a:pt x="16" y="0"/>
                        </a:lnTo>
                        <a:lnTo>
                          <a:pt x="25" y="0"/>
                        </a:lnTo>
                        <a:lnTo>
                          <a:pt x="45" y="11"/>
                        </a:lnTo>
                        <a:lnTo>
                          <a:pt x="35" y="21"/>
                        </a:lnTo>
                        <a:lnTo>
                          <a:pt x="16" y="19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853160" y="5992920"/>
                    <a:ext cx="586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3">
                        <a:moveTo>
                          <a:pt x="20" y="43"/>
                        </a:moveTo>
                        <a:lnTo>
                          <a:pt x="0" y="31"/>
                        </a:lnTo>
                        <a:lnTo>
                          <a:pt x="4" y="25"/>
                        </a:lnTo>
                        <a:lnTo>
                          <a:pt x="20" y="10"/>
                        </a:lnTo>
                        <a:lnTo>
                          <a:pt x="24" y="0"/>
                        </a:lnTo>
                        <a:lnTo>
                          <a:pt x="74" y="8"/>
                        </a:lnTo>
                        <a:lnTo>
                          <a:pt x="74" y="22"/>
                        </a:lnTo>
                        <a:lnTo>
                          <a:pt x="64" y="33"/>
                        </a:lnTo>
                        <a:lnTo>
                          <a:pt x="20" y="43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4345200" y="599472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33" y="20"/>
                        </a:moveTo>
                        <a:lnTo>
                          <a:pt x="14" y="16"/>
                        </a:lnTo>
                        <a:lnTo>
                          <a:pt x="2" y="10"/>
                        </a:lnTo>
                        <a:lnTo>
                          <a:pt x="0" y="0"/>
                        </a:lnTo>
                        <a:lnTo>
                          <a:pt x="45" y="16"/>
                        </a:lnTo>
                        <a:lnTo>
                          <a:pt x="33" y="20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4900680" y="5964480"/>
                    <a:ext cx="47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9">
                        <a:moveTo>
                          <a:pt x="18" y="29"/>
                        </a:moveTo>
                        <a:lnTo>
                          <a:pt x="0" y="24"/>
                        </a:lnTo>
                        <a:lnTo>
                          <a:pt x="6" y="4"/>
                        </a:lnTo>
                        <a:lnTo>
                          <a:pt x="55" y="0"/>
                        </a:lnTo>
                        <a:lnTo>
                          <a:pt x="61" y="4"/>
                        </a:lnTo>
                        <a:lnTo>
                          <a:pt x="55" y="16"/>
                        </a:lnTo>
                        <a:lnTo>
                          <a:pt x="47" y="22"/>
                        </a:lnTo>
                        <a:lnTo>
                          <a:pt x="18" y="29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4848120" y="596124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31">
                        <a:moveTo>
                          <a:pt x="16" y="31"/>
                        </a:moveTo>
                        <a:lnTo>
                          <a:pt x="0" y="25"/>
                        </a:lnTo>
                        <a:lnTo>
                          <a:pt x="8" y="13"/>
                        </a:lnTo>
                        <a:lnTo>
                          <a:pt x="14" y="1"/>
                        </a:lnTo>
                        <a:lnTo>
                          <a:pt x="57" y="0"/>
                        </a:lnTo>
                        <a:lnTo>
                          <a:pt x="61" y="5"/>
                        </a:lnTo>
                        <a:lnTo>
                          <a:pt x="57" y="21"/>
                        </a:lnTo>
                        <a:lnTo>
                          <a:pt x="51" y="23"/>
                        </a:lnTo>
                        <a:lnTo>
                          <a:pt x="28" y="27"/>
                        </a:lnTo>
                        <a:lnTo>
                          <a:pt x="16" y="31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3651120" y="5339160"/>
                    <a:ext cx="70200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4" h="632">
                        <a:moveTo>
                          <a:pt x="457" y="630"/>
                        </a:moveTo>
                        <a:lnTo>
                          <a:pt x="442" y="628"/>
                        </a:lnTo>
                        <a:lnTo>
                          <a:pt x="426" y="626"/>
                        </a:lnTo>
                        <a:lnTo>
                          <a:pt x="411" y="621"/>
                        </a:lnTo>
                        <a:lnTo>
                          <a:pt x="397" y="613"/>
                        </a:lnTo>
                        <a:lnTo>
                          <a:pt x="403" y="605"/>
                        </a:lnTo>
                        <a:lnTo>
                          <a:pt x="484" y="582"/>
                        </a:lnTo>
                        <a:lnTo>
                          <a:pt x="494" y="578"/>
                        </a:lnTo>
                        <a:lnTo>
                          <a:pt x="496" y="574"/>
                        </a:lnTo>
                        <a:lnTo>
                          <a:pt x="500" y="570"/>
                        </a:lnTo>
                        <a:lnTo>
                          <a:pt x="500" y="568"/>
                        </a:lnTo>
                        <a:lnTo>
                          <a:pt x="448" y="578"/>
                        </a:lnTo>
                        <a:lnTo>
                          <a:pt x="386" y="593"/>
                        </a:lnTo>
                        <a:lnTo>
                          <a:pt x="374" y="592"/>
                        </a:lnTo>
                        <a:lnTo>
                          <a:pt x="362" y="592"/>
                        </a:lnTo>
                        <a:lnTo>
                          <a:pt x="351" y="588"/>
                        </a:lnTo>
                        <a:lnTo>
                          <a:pt x="339" y="586"/>
                        </a:lnTo>
                        <a:lnTo>
                          <a:pt x="327" y="580"/>
                        </a:lnTo>
                        <a:lnTo>
                          <a:pt x="316" y="574"/>
                        </a:lnTo>
                        <a:lnTo>
                          <a:pt x="304" y="566"/>
                        </a:lnTo>
                        <a:lnTo>
                          <a:pt x="294" y="561"/>
                        </a:lnTo>
                        <a:lnTo>
                          <a:pt x="343" y="533"/>
                        </a:lnTo>
                        <a:lnTo>
                          <a:pt x="349" y="529"/>
                        </a:lnTo>
                        <a:lnTo>
                          <a:pt x="349" y="526"/>
                        </a:lnTo>
                        <a:lnTo>
                          <a:pt x="341" y="526"/>
                        </a:lnTo>
                        <a:lnTo>
                          <a:pt x="320" y="531"/>
                        </a:lnTo>
                        <a:lnTo>
                          <a:pt x="302" y="535"/>
                        </a:lnTo>
                        <a:lnTo>
                          <a:pt x="285" y="543"/>
                        </a:lnTo>
                        <a:lnTo>
                          <a:pt x="269" y="549"/>
                        </a:lnTo>
                        <a:lnTo>
                          <a:pt x="254" y="557"/>
                        </a:lnTo>
                        <a:lnTo>
                          <a:pt x="236" y="559"/>
                        </a:lnTo>
                        <a:lnTo>
                          <a:pt x="221" y="561"/>
                        </a:lnTo>
                        <a:lnTo>
                          <a:pt x="205" y="555"/>
                        </a:lnTo>
                        <a:lnTo>
                          <a:pt x="190" y="547"/>
                        </a:lnTo>
                        <a:lnTo>
                          <a:pt x="168" y="528"/>
                        </a:lnTo>
                        <a:lnTo>
                          <a:pt x="184" y="514"/>
                        </a:lnTo>
                        <a:lnTo>
                          <a:pt x="205" y="498"/>
                        </a:lnTo>
                        <a:lnTo>
                          <a:pt x="225" y="479"/>
                        </a:lnTo>
                        <a:lnTo>
                          <a:pt x="225" y="477"/>
                        </a:lnTo>
                        <a:lnTo>
                          <a:pt x="207" y="483"/>
                        </a:lnTo>
                        <a:lnTo>
                          <a:pt x="197" y="491"/>
                        </a:lnTo>
                        <a:lnTo>
                          <a:pt x="137" y="524"/>
                        </a:lnTo>
                        <a:lnTo>
                          <a:pt x="126" y="526"/>
                        </a:lnTo>
                        <a:lnTo>
                          <a:pt x="114" y="528"/>
                        </a:lnTo>
                        <a:lnTo>
                          <a:pt x="102" y="529"/>
                        </a:lnTo>
                        <a:lnTo>
                          <a:pt x="93" y="531"/>
                        </a:lnTo>
                        <a:lnTo>
                          <a:pt x="81" y="529"/>
                        </a:lnTo>
                        <a:lnTo>
                          <a:pt x="71" y="529"/>
                        </a:lnTo>
                        <a:lnTo>
                          <a:pt x="60" y="524"/>
                        </a:lnTo>
                        <a:lnTo>
                          <a:pt x="50" y="520"/>
                        </a:lnTo>
                        <a:lnTo>
                          <a:pt x="7" y="493"/>
                        </a:lnTo>
                        <a:lnTo>
                          <a:pt x="0" y="485"/>
                        </a:lnTo>
                        <a:lnTo>
                          <a:pt x="48" y="462"/>
                        </a:lnTo>
                        <a:lnTo>
                          <a:pt x="110" y="409"/>
                        </a:lnTo>
                        <a:lnTo>
                          <a:pt x="137" y="380"/>
                        </a:lnTo>
                        <a:lnTo>
                          <a:pt x="161" y="349"/>
                        </a:lnTo>
                        <a:lnTo>
                          <a:pt x="180" y="320"/>
                        </a:lnTo>
                        <a:lnTo>
                          <a:pt x="194" y="289"/>
                        </a:lnTo>
                        <a:lnTo>
                          <a:pt x="205" y="260"/>
                        </a:lnTo>
                        <a:lnTo>
                          <a:pt x="209" y="229"/>
                        </a:lnTo>
                        <a:lnTo>
                          <a:pt x="211" y="200"/>
                        </a:lnTo>
                        <a:lnTo>
                          <a:pt x="209" y="169"/>
                        </a:lnTo>
                        <a:lnTo>
                          <a:pt x="205" y="140"/>
                        </a:lnTo>
                        <a:lnTo>
                          <a:pt x="197" y="120"/>
                        </a:lnTo>
                        <a:lnTo>
                          <a:pt x="215" y="132"/>
                        </a:lnTo>
                        <a:lnTo>
                          <a:pt x="236" y="142"/>
                        </a:lnTo>
                        <a:lnTo>
                          <a:pt x="254" y="147"/>
                        </a:lnTo>
                        <a:lnTo>
                          <a:pt x="275" y="153"/>
                        </a:lnTo>
                        <a:lnTo>
                          <a:pt x="292" y="153"/>
                        </a:lnTo>
                        <a:lnTo>
                          <a:pt x="314" y="155"/>
                        </a:lnTo>
                        <a:lnTo>
                          <a:pt x="331" y="155"/>
                        </a:lnTo>
                        <a:lnTo>
                          <a:pt x="353" y="157"/>
                        </a:lnTo>
                        <a:lnTo>
                          <a:pt x="465" y="134"/>
                        </a:lnTo>
                        <a:lnTo>
                          <a:pt x="473" y="132"/>
                        </a:lnTo>
                        <a:lnTo>
                          <a:pt x="562" y="89"/>
                        </a:lnTo>
                        <a:lnTo>
                          <a:pt x="572" y="82"/>
                        </a:lnTo>
                        <a:lnTo>
                          <a:pt x="576" y="80"/>
                        </a:lnTo>
                        <a:lnTo>
                          <a:pt x="587" y="72"/>
                        </a:lnTo>
                        <a:lnTo>
                          <a:pt x="607" y="56"/>
                        </a:lnTo>
                        <a:lnTo>
                          <a:pt x="628" y="39"/>
                        </a:lnTo>
                        <a:lnTo>
                          <a:pt x="638" y="29"/>
                        </a:lnTo>
                        <a:lnTo>
                          <a:pt x="649" y="19"/>
                        </a:lnTo>
                        <a:lnTo>
                          <a:pt x="659" y="10"/>
                        </a:lnTo>
                        <a:lnTo>
                          <a:pt x="669" y="0"/>
                        </a:lnTo>
                        <a:lnTo>
                          <a:pt x="694" y="19"/>
                        </a:lnTo>
                        <a:lnTo>
                          <a:pt x="700" y="31"/>
                        </a:lnTo>
                        <a:lnTo>
                          <a:pt x="702" y="43"/>
                        </a:lnTo>
                        <a:lnTo>
                          <a:pt x="702" y="54"/>
                        </a:lnTo>
                        <a:lnTo>
                          <a:pt x="700" y="68"/>
                        </a:lnTo>
                        <a:lnTo>
                          <a:pt x="694" y="82"/>
                        </a:lnTo>
                        <a:lnTo>
                          <a:pt x="659" y="126"/>
                        </a:lnTo>
                        <a:lnTo>
                          <a:pt x="671" y="124"/>
                        </a:lnTo>
                        <a:lnTo>
                          <a:pt x="673" y="124"/>
                        </a:lnTo>
                        <a:lnTo>
                          <a:pt x="700" y="93"/>
                        </a:lnTo>
                        <a:lnTo>
                          <a:pt x="723" y="115"/>
                        </a:lnTo>
                        <a:lnTo>
                          <a:pt x="729" y="128"/>
                        </a:lnTo>
                        <a:lnTo>
                          <a:pt x="739" y="144"/>
                        </a:lnTo>
                        <a:lnTo>
                          <a:pt x="742" y="155"/>
                        </a:lnTo>
                        <a:lnTo>
                          <a:pt x="748" y="173"/>
                        </a:lnTo>
                        <a:lnTo>
                          <a:pt x="744" y="184"/>
                        </a:lnTo>
                        <a:lnTo>
                          <a:pt x="740" y="198"/>
                        </a:lnTo>
                        <a:lnTo>
                          <a:pt x="733" y="210"/>
                        </a:lnTo>
                        <a:lnTo>
                          <a:pt x="727" y="223"/>
                        </a:lnTo>
                        <a:lnTo>
                          <a:pt x="717" y="235"/>
                        </a:lnTo>
                        <a:lnTo>
                          <a:pt x="707" y="248"/>
                        </a:lnTo>
                        <a:lnTo>
                          <a:pt x="698" y="260"/>
                        </a:lnTo>
                        <a:lnTo>
                          <a:pt x="688" y="274"/>
                        </a:lnTo>
                        <a:lnTo>
                          <a:pt x="684" y="283"/>
                        </a:lnTo>
                        <a:lnTo>
                          <a:pt x="688" y="285"/>
                        </a:lnTo>
                        <a:lnTo>
                          <a:pt x="702" y="270"/>
                        </a:lnTo>
                        <a:lnTo>
                          <a:pt x="715" y="254"/>
                        </a:lnTo>
                        <a:lnTo>
                          <a:pt x="729" y="239"/>
                        </a:lnTo>
                        <a:lnTo>
                          <a:pt x="742" y="225"/>
                        </a:lnTo>
                        <a:lnTo>
                          <a:pt x="752" y="225"/>
                        </a:lnTo>
                        <a:lnTo>
                          <a:pt x="764" y="229"/>
                        </a:lnTo>
                        <a:lnTo>
                          <a:pt x="775" y="235"/>
                        </a:lnTo>
                        <a:lnTo>
                          <a:pt x="789" y="241"/>
                        </a:lnTo>
                        <a:lnTo>
                          <a:pt x="799" y="246"/>
                        </a:lnTo>
                        <a:lnTo>
                          <a:pt x="810" y="254"/>
                        </a:lnTo>
                        <a:lnTo>
                          <a:pt x="818" y="264"/>
                        </a:lnTo>
                        <a:lnTo>
                          <a:pt x="826" y="277"/>
                        </a:lnTo>
                        <a:lnTo>
                          <a:pt x="824" y="287"/>
                        </a:lnTo>
                        <a:lnTo>
                          <a:pt x="822" y="299"/>
                        </a:lnTo>
                        <a:lnTo>
                          <a:pt x="818" y="308"/>
                        </a:lnTo>
                        <a:lnTo>
                          <a:pt x="814" y="320"/>
                        </a:lnTo>
                        <a:lnTo>
                          <a:pt x="806" y="330"/>
                        </a:lnTo>
                        <a:lnTo>
                          <a:pt x="801" y="341"/>
                        </a:lnTo>
                        <a:lnTo>
                          <a:pt x="793" y="353"/>
                        </a:lnTo>
                        <a:lnTo>
                          <a:pt x="785" y="365"/>
                        </a:lnTo>
                        <a:lnTo>
                          <a:pt x="783" y="372"/>
                        </a:lnTo>
                        <a:lnTo>
                          <a:pt x="787" y="372"/>
                        </a:lnTo>
                        <a:lnTo>
                          <a:pt x="797" y="361"/>
                        </a:lnTo>
                        <a:lnTo>
                          <a:pt x="806" y="351"/>
                        </a:lnTo>
                        <a:lnTo>
                          <a:pt x="814" y="339"/>
                        </a:lnTo>
                        <a:lnTo>
                          <a:pt x="824" y="330"/>
                        </a:lnTo>
                        <a:lnTo>
                          <a:pt x="830" y="316"/>
                        </a:lnTo>
                        <a:lnTo>
                          <a:pt x="835" y="305"/>
                        </a:lnTo>
                        <a:lnTo>
                          <a:pt x="839" y="293"/>
                        </a:lnTo>
                        <a:lnTo>
                          <a:pt x="843" y="283"/>
                        </a:lnTo>
                        <a:lnTo>
                          <a:pt x="861" y="291"/>
                        </a:lnTo>
                        <a:lnTo>
                          <a:pt x="872" y="306"/>
                        </a:lnTo>
                        <a:lnTo>
                          <a:pt x="880" y="322"/>
                        </a:lnTo>
                        <a:lnTo>
                          <a:pt x="884" y="339"/>
                        </a:lnTo>
                        <a:lnTo>
                          <a:pt x="876" y="392"/>
                        </a:lnTo>
                        <a:lnTo>
                          <a:pt x="867" y="413"/>
                        </a:lnTo>
                        <a:lnTo>
                          <a:pt x="835" y="454"/>
                        </a:lnTo>
                        <a:lnTo>
                          <a:pt x="803" y="491"/>
                        </a:lnTo>
                        <a:lnTo>
                          <a:pt x="766" y="520"/>
                        </a:lnTo>
                        <a:lnTo>
                          <a:pt x="729" y="549"/>
                        </a:lnTo>
                        <a:lnTo>
                          <a:pt x="688" y="570"/>
                        </a:lnTo>
                        <a:lnTo>
                          <a:pt x="649" y="590"/>
                        </a:lnTo>
                        <a:lnTo>
                          <a:pt x="611" y="603"/>
                        </a:lnTo>
                        <a:lnTo>
                          <a:pt x="576" y="617"/>
                        </a:lnTo>
                        <a:lnTo>
                          <a:pt x="558" y="619"/>
                        </a:lnTo>
                        <a:lnTo>
                          <a:pt x="545" y="621"/>
                        </a:lnTo>
                        <a:lnTo>
                          <a:pt x="529" y="623"/>
                        </a:lnTo>
                        <a:lnTo>
                          <a:pt x="515" y="626"/>
                        </a:lnTo>
                        <a:lnTo>
                          <a:pt x="500" y="626"/>
                        </a:lnTo>
                        <a:lnTo>
                          <a:pt x="486" y="628"/>
                        </a:lnTo>
                        <a:lnTo>
                          <a:pt x="473" y="630"/>
                        </a:lnTo>
                        <a:lnTo>
                          <a:pt x="459" y="632"/>
                        </a:lnTo>
                        <a:lnTo>
                          <a:pt x="457" y="63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4116600" y="5702400"/>
                    <a:ext cx="1015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73">
                        <a:moveTo>
                          <a:pt x="111" y="71"/>
                        </a:moveTo>
                        <a:lnTo>
                          <a:pt x="97" y="66"/>
                        </a:lnTo>
                        <a:lnTo>
                          <a:pt x="84" y="64"/>
                        </a:lnTo>
                        <a:lnTo>
                          <a:pt x="70" y="60"/>
                        </a:lnTo>
                        <a:lnTo>
                          <a:pt x="58" y="60"/>
                        </a:lnTo>
                        <a:lnTo>
                          <a:pt x="45" y="58"/>
                        </a:lnTo>
                        <a:lnTo>
                          <a:pt x="31" y="58"/>
                        </a:lnTo>
                        <a:lnTo>
                          <a:pt x="18" y="58"/>
                        </a:lnTo>
                        <a:lnTo>
                          <a:pt x="6" y="64"/>
                        </a:lnTo>
                        <a:lnTo>
                          <a:pt x="0" y="60"/>
                        </a:lnTo>
                        <a:lnTo>
                          <a:pt x="4" y="50"/>
                        </a:lnTo>
                        <a:lnTo>
                          <a:pt x="26" y="44"/>
                        </a:lnTo>
                        <a:lnTo>
                          <a:pt x="33" y="37"/>
                        </a:lnTo>
                        <a:lnTo>
                          <a:pt x="26" y="29"/>
                        </a:lnTo>
                        <a:lnTo>
                          <a:pt x="10" y="21"/>
                        </a:lnTo>
                        <a:lnTo>
                          <a:pt x="8" y="19"/>
                        </a:lnTo>
                        <a:lnTo>
                          <a:pt x="14" y="9"/>
                        </a:lnTo>
                        <a:lnTo>
                          <a:pt x="53" y="19"/>
                        </a:lnTo>
                        <a:lnTo>
                          <a:pt x="72" y="9"/>
                        </a:lnTo>
                        <a:lnTo>
                          <a:pt x="84" y="8"/>
                        </a:lnTo>
                        <a:lnTo>
                          <a:pt x="107" y="0"/>
                        </a:lnTo>
                        <a:lnTo>
                          <a:pt x="121" y="6"/>
                        </a:lnTo>
                        <a:lnTo>
                          <a:pt x="109" y="15"/>
                        </a:lnTo>
                        <a:lnTo>
                          <a:pt x="103" y="19"/>
                        </a:lnTo>
                        <a:lnTo>
                          <a:pt x="105" y="44"/>
                        </a:lnTo>
                        <a:lnTo>
                          <a:pt x="128" y="66"/>
                        </a:lnTo>
                        <a:lnTo>
                          <a:pt x="122" y="73"/>
                        </a:lnTo>
                        <a:lnTo>
                          <a:pt x="111" y="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666800" y="4395960"/>
                    <a:ext cx="3067200" cy="135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65" h="1707">
                        <a:moveTo>
                          <a:pt x="2292" y="1705"/>
                        </a:moveTo>
                        <a:lnTo>
                          <a:pt x="2265" y="1701"/>
                        </a:lnTo>
                        <a:lnTo>
                          <a:pt x="2238" y="1697"/>
                        </a:lnTo>
                        <a:lnTo>
                          <a:pt x="2211" y="1691"/>
                        </a:lnTo>
                        <a:lnTo>
                          <a:pt x="2183" y="1684"/>
                        </a:lnTo>
                        <a:lnTo>
                          <a:pt x="2154" y="1670"/>
                        </a:lnTo>
                        <a:lnTo>
                          <a:pt x="2129" y="1655"/>
                        </a:lnTo>
                        <a:lnTo>
                          <a:pt x="2102" y="1635"/>
                        </a:lnTo>
                        <a:lnTo>
                          <a:pt x="2079" y="1612"/>
                        </a:lnTo>
                        <a:lnTo>
                          <a:pt x="2065" y="1600"/>
                        </a:lnTo>
                        <a:lnTo>
                          <a:pt x="2048" y="1579"/>
                        </a:lnTo>
                        <a:lnTo>
                          <a:pt x="2040" y="1565"/>
                        </a:lnTo>
                        <a:lnTo>
                          <a:pt x="2038" y="1561"/>
                        </a:lnTo>
                        <a:lnTo>
                          <a:pt x="2024" y="1544"/>
                        </a:lnTo>
                        <a:lnTo>
                          <a:pt x="1995" y="1478"/>
                        </a:lnTo>
                        <a:lnTo>
                          <a:pt x="1991" y="1466"/>
                        </a:lnTo>
                        <a:lnTo>
                          <a:pt x="1988" y="1455"/>
                        </a:lnTo>
                        <a:lnTo>
                          <a:pt x="1984" y="1443"/>
                        </a:lnTo>
                        <a:lnTo>
                          <a:pt x="1984" y="1431"/>
                        </a:lnTo>
                        <a:lnTo>
                          <a:pt x="1982" y="1420"/>
                        </a:lnTo>
                        <a:lnTo>
                          <a:pt x="1980" y="1408"/>
                        </a:lnTo>
                        <a:lnTo>
                          <a:pt x="1980" y="1397"/>
                        </a:lnTo>
                        <a:lnTo>
                          <a:pt x="1984" y="1387"/>
                        </a:lnTo>
                        <a:lnTo>
                          <a:pt x="1980" y="1383"/>
                        </a:lnTo>
                        <a:lnTo>
                          <a:pt x="1974" y="1395"/>
                        </a:lnTo>
                        <a:lnTo>
                          <a:pt x="1974" y="1410"/>
                        </a:lnTo>
                        <a:lnTo>
                          <a:pt x="1974" y="1424"/>
                        </a:lnTo>
                        <a:lnTo>
                          <a:pt x="1976" y="1439"/>
                        </a:lnTo>
                        <a:lnTo>
                          <a:pt x="1976" y="1453"/>
                        </a:lnTo>
                        <a:lnTo>
                          <a:pt x="1980" y="1468"/>
                        </a:lnTo>
                        <a:lnTo>
                          <a:pt x="1986" y="1484"/>
                        </a:lnTo>
                        <a:lnTo>
                          <a:pt x="1991" y="1499"/>
                        </a:lnTo>
                        <a:lnTo>
                          <a:pt x="2023" y="1559"/>
                        </a:lnTo>
                        <a:lnTo>
                          <a:pt x="2057" y="1608"/>
                        </a:lnTo>
                        <a:lnTo>
                          <a:pt x="2083" y="1639"/>
                        </a:lnTo>
                        <a:lnTo>
                          <a:pt x="1896" y="1561"/>
                        </a:lnTo>
                        <a:lnTo>
                          <a:pt x="1873" y="1550"/>
                        </a:lnTo>
                        <a:lnTo>
                          <a:pt x="1850" y="1538"/>
                        </a:lnTo>
                        <a:lnTo>
                          <a:pt x="1827" y="1527"/>
                        </a:lnTo>
                        <a:lnTo>
                          <a:pt x="1805" y="1519"/>
                        </a:lnTo>
                        <a:lnTo>
                          <a:pt x="1782" y="1511"/>
                        </a:lnTo>
                        <a:lnTo>
                          <a:pt x="1759" y="1503"/>
                        </a:lnTo>
                        <a:lnTo>
                          <a:pt x="1735" y="1497"/>
                        </a:lnTo>
                        <a:lnTo>
                          <a:pt x="1714" y="1495"/>
                        </a:lnTo>
                        <a:lnTo>
                          <a:pt x="1732" y="1484"/>
                        </a:lnTo>
                        <a:lnTo>
                          <a:pt x="1749" y="1472"/>
                        </a:lnTo>
                        <a:lnTo>
                          <a:pt x="1767" y="1457"/>
                        </a:lnTo>
                        <a:lnTo>
                          <a:pt x="1786" y="1441"/>
                        </a:lnTo>
                        <a:lnTo>
                          <a:pt x="1798" y="1441"/>
                        </a:lnTo>
                        <a:lnTo>
                          <a:pt x="1809" y="1441"/>
                        </a:lnTo>
                        <a:lnTo>
                          <a:pt x="1821" y="1441"/>
                        </a:lnTo>
                        <a:lnTo>
                          <a:pt x="1832" y="1445"/>
                        </a:lnTo>
                        <a:lnTo>
                          <a:pt x="1844" y="1445"/>
                        </a:lnTo>
                        <a:lnTo>
                          <a:pt x="1856" y="1451"/>
                        </a:lnTo>
                        <a:lnTo>
                          <a:pt x="1867" y="1455"/>
                        </a:lnTo>
                        <a:lnTo>
                          <a:pt x="1879" y="1463"/>
                        </a:lnTo>
                        <a:lnTo>
                          <a:pt x="1887" y="1463"/>
                        </a:lnTo>
                        <a:lnTo>
                          <a:pt x="1887" y="1455"/>
                        </a:lnTo>
                        <a:lnTo>
                          <a:pt x="1871" y="1443"/>
                        </a:lnTo>
                        <a:lnTo>
                          <a:pt x="1819" y="1428"/>
                        </a:lnTo>
                        <a:lnTo>
                          <a:pt x="1829" y="1418"/>
                        </a:lnTo>
                        <a:lnTo>
                          <a:pt x="1831" y="1416"/>
                        </a:lnTo>
                        <a:lnTo>
                          <a:pt x="1831" y="1412"/>
                        </a:lnTo>
                        <a:lnTo>
                          <a:pt x="1831" y="1408"/>
                        </a:lnTo>
                        <a:lnTo>
                          <a:pt x="1817" y="1406"/>
                        </a:lnTo>
                        <a:lnTo>
                          <a:pt x="1786" y="1424"/>
                        </a:lnTo>
                        <a:lnTo>
                          <a:pt x="1776" y="1426"/>
                        </a:lnTo>
                        <a:lnTo>
                          <a:pt x="1770" y="1430"/>
                        </a:lnTo>
                        <a:lnTo>
                          <a:pt x="1654" y="1449"/>
                        </a:lnTo>
                        <a:lnTo>
                          <a:pt x="1650" y="1451"/>
                        </a:lnTo>
                        <a:lnTo>
                          <a:pt x="1648" y="1457"/>
                        </a:lnTo>
                        <a:lnTo>
                          <a:pt x="1749" y="1455"/>
                        </a:lnTo>
                        <a:lnTo>
                          <a:pt x="1735" y="1461"/>
                        </a:lnTo>
                        <a:lnTo>
                          <a:pt x="1722" y="1468"/>
                        </a:lnTo>
                        <a:lnTo>
                          <a:pt x="1708" y="1474"/>
                        </a:lnTo>
                        <a:lnTo>
                          <a:pt x="1697" y="1480"/>
                        </a:lnTo>
                        <a:lnTo>
                          <a:pt x="1683" y="1484"/>
                        </a:lnTo>
                        <a:lnTo>
                          <a:pt x="1670" y="1488"/>
                        </a:lnTo>
                        <a:lnTo>
                          <a:pt x="1656" y="1494"/>
                        </a:lnTo>
                        <a:lnTo>
                          <a:pt x="1644" y="1499"/>
                        </a:lnTo>
                        <a:lnTo>
                          <a:pt x="1623" y="1501"/>
                        </a:lnTo>
                        <a:lnTo>
                          <a:pt x="1604" y="1505"/>
                        </a:lnTo>
                        <a:lnTo>
                          <a:pt x="1584" y="1507"/>
                        </a:lnTo>
                        <a:lnTo>
                          <a:pt x="1565" y="1509"/>
                        </a:lnTo>
                        <a:lnTo>
                          <a:pt x="1545" y="1509"/>
                        </a:lnTo>
                        <a:lnTo>
                          <a:pt x="1526" y="1509"/>
                        </a:lnTo>
                        <a:lnTo>
                          <a:pt x="1507" y="1509"/>
                        </a:lnTo>
                        <a:lnTo>
                          <a:pt x="1489" y="1509"/>
                        </a:lnTo>
                        <a:lnTo>
                          <a:pt x="1375" y="1492"/>
                        </a:lnTo>
                        <a:lnTo>
                          <a:pt x="1371" y="1495"/>
                        </a:lnTo>
                        <a:lnTo>
                          <a:pt x="1371" y="1501"/>
                        </a:lnTo>
                        <a:lnTo>
                          <a:pt x="1384" y="1511"/>
                        </a:lnTo>
                        <a:lnTo>
                          <a:pt x="1367" y="1513"/>
                        </a:lnTo>
                        <a:lnTo>
                          <a:pt x="1352" y="1515"/>
                        </a:lnTo>
                        <a:lnTo>
                          <a:pt x="1336" y="1515"/>
                        </a:lnTo>
                        <a:lnTo>
                          <a:pt x="1322" y="1515"/>
                        </a:lnTo>
                        <a:lnTo>
                          <a:pt x="1305" y="1511"/>
                        </a:lnTo>
                        <a:lnTo>
                          <a:pt x="1291" y="1509"/>
                        </a:lnTo>
                        <a:lnTo>
                          <a:pt x="1274" y="1505"/>
                        </a:lnTo>
                        <a:lnTo>
                          <a:pt x="1260" y="1503"/>
                        </a:lnTo>
                        <a:lnTo>
                          <a:pt x="1245" y="1495"/>
                        </a:lnTo>
                        <a:lnTo>
                          <a:pt x="1227" y="1488"/>
                        </a:lnTo>
                        <a:lnTo>
                          <a:pt x="1262" y="1480"/>
                        </a:lnTo>
                        <a:lnTo>
                          <a:pt x="1262" y="1474"/>
                        </a:lnTo>
                        <a:lnTo>
                          <a:pt x="1134" y="1461"/>
                        </a:lnTo>
                        <a:lnTo>
                          <a:pt x="1084" y="1441"/>
                        </a:lnTo>
                        <a:lnTo>
                          <a:pt x="1035" y="1420"/>
                        </a:lnTo>
                        <a:lnTo>
                          <a:pt x="989" y="1393"/>
                        </a:lnTo>
                        <a:lnTo>
                          <a:pt x="942" y="1368"/>
                        </a:lnTo>
                        <a:lnTo>
                          <a:pt x="894" y="1338"/>
                        </a:lnTo>
                        <a:lnTo>
                          <a:pt x="847" y="1311"/>
                        </a:lnTo>
                        <a:lnTo>
                          <a:pt x="799" y="1282"/>
                        </a:lnTo>
                        <a:lnTo>
                          <a:pt x="752" y="1257"/>
                        </a:lnTo>
                        <a:lnTo>
                          <a:pt x="741" y="1245"/>
                        </a:lnTo>
                        <a:lnTo>
                          <a:pt x="752" y="1241"/>
                        </a:lnTo>
                        <a:lnTo>
                          <a:pt x="760" y="1234"/>
                        </a:lnTo>
                        <a:lnTo>
                          <a:pt x="756" y="1230"/>
                        </a:lnTo>
                        <a:lnTo>
                          <a:pt x="744" y="1232"/>
                        </a:lnTo>
                        <a:lnTo>
                          <a:pt x="733" y="1236"/>
                        </a:lnTo>
                        <a:lnTo>
                          <a:pt x="723" y="1238"/>
                        </a:lnTo>
                        <a:lnTo>
                          <a:pt x="713" y="1238"/>
                        </a:lnTo>
                        <a:lnTo>
                          <a:pt x="684" y="1241"/>
                        </a:lnTo>
                        <a:lnTo>
                          <a:pt x="692" y="1226"/>
                        </a:lnTo>
                        <a:lnTo>
                          <a:pt x="692" y="1220"/>
                        </a:lnTo>
                        <a:lnTo>
                          <a:pt x="690" y="1216"/>
                        </a:lnTo>
                        <a:lnTo>
                          <a:pt x="684" y="1214"/>
                        </a:lnTo>
                        <a:lnTo>
                          <a:pt x="646" y="1261"/>
                        </a:lnTo>
                        <a:lnTo>
                          <a:pt x="636" y="1267"/>
                        </a:lnTo>
                        <a:lnTo>
                          <a:pt x="622" y="1274"/>
                        </a:lnTo>
                        <a:lnTo>
                          <a:pt x="613" y="1276"/>
                        </a:lnTo>
                        <a:lnTo>
                          <a:pt x="589" y="1280"/>
                        </a:lnTo>
                        <a:lnTo>
                          <a:pt x="570" y="1286"/>
                        </a:lnTo>
                        <a:lnTo>
                          <a:pt x="549" y="1290"/>
                        </a:lnTo>
                        <a:lnTo>
                          <a:pt x="531" y="1296"/>
                        </a:lnTo>
                        <a:lnTo>
                          <a:pt x="510" y="1298"/>
                        </a:lnTo>
                        <a:lnTo>
                          <a:pt x="490" y="1302"/>
                        </a:lnTo>
                        <a:lnTo>
                          <a:pt x="469" y="1304"/>
                        </a:lnTo>
                        <a:lnTo>
                          <a:pt x="450" y="1309"/>
                        </a:lnTo>
                        <a:lnTo>
                          <a:pt x="409" y="1315"/>
                        </a:lnTo>
                        <a:lnTo>
                          <a:pt x="393" y="1317"/>
                        </a:lnTo>
                        <a:lnTo>
                          <a:pt x="382" y="1321"/>
                        </a:lnTo>
                        <a:lnTo>
                          <a:pt x="366" y="1325"/>
                        </a:lnTo>
                        <a:lnTo>
                          <a:pt x="355" y="1329"/>
                        </a:lnTo>
                        <a:lnTo>
                          <a:pt x="341" y="1331"/>
                        </a:lnTo>
                        <a:lnTo>
                          <a:pt x="328" y="1333"/>
                        </a:lnTo>
                        <a:lnTo>
                          <a:pt x="314" y="1335"/>
                        </a:lnTo>
                        <a:lnTo>
                          <a:pt x="302" y="1336"/>
                        </a:lnTo>
                        <a:lnTo>
                          <a:pt x="285" y="1336"/>
                        </a:lnTo>
                        <a:lnTo>
                          <a:pt x="265" y="1336"/>
                        </a:lnTo>
                        <a:lnTo>
                          <a:pt x="246" y="1338"/>
                        </a:lnTo>
                        <a:lnTo>
                          <a:pt x="227" y="1333"/>
                        </a:lnTo>
                        <a:lnTo>
                          <a:pt x="209" y="1325"/>
                        </a:lnTo>
                        <a:lnTo>
                          <a:pt x="209" y="1309"/>
                        </a:lnTo>
                        <a:lnTo>
                          <a:pt x="248" y="1294"/>
                        </a:lnTo>
                        <a:lnTo>
                          <a:pt x="269" y="1290"/>
                        </a:lnTo>
                        <a:lnTo>
                          <a:pt x="393" y="1259"/>
                        </a:lnTo>
                        <a:lnTo>
                          <a:pt x="448" y="1226"/>
                        </a:lnTo>
                        <a:lnTo>
                          <a:pt x="465" y="1232"/>
                        </a:lnTo>
                        <a:lnTo>
                          <a:pt x="459" y="1224"/>
                        </a:lnTo>
                        <a:lnTo>
                          <a:pt x="456" y="1222"/>
                        </a:lnTo>
                        <a:lnTo>
                          <a:pt x="456" y="1214"/>
                        </a:lnTo>
                        <a:lnTo>
                          <a:pt x="465" y="1205"/>
                        </a:lnTo>
                        <a:lnTo>
                          <a:pt x="457" y="1197"/>
                        </a:lnTo>
                        <a:lnTo>
                          <a:pt x="450" y="1197"/>
                        </a:lnTo>
                        <a:lnTo>
                          <a:pt x="409" y="1207"/>
                        </a:lnTo>
                        <a:lnTo>
                          <a:pt x="397" y="1208"/>
                        </a:lnTo>
                        <a:lnTo>
                          <a:pt x="341" y="1208"/>
                        </a:lnTo>
                        <a:lnTo>
                          <a:pt x="308" y="1205"/>
                        </a:lnTo>
                        <a:lnTo>
                          <a:pt x="277" y="1201"/>
                        </a:lnTo>
                        <a:lnTo>
                          <a:pt x="244" y="1197"/>
                        </a:lnTo>
                        <a:lnTo>
                          <a:pt x="213" y="1193"/>
                        </a:lnTo>
                        <a:lnTo>
                          <a:pt x="180" y="1185"/>
                        </a:lnTo>
                        <a:lnTo>
                          <a:pt x="149" y="1179"/>
                        </a:lnTo>
                        <a:lnTo>
                          <a:pt x="118" y="1172"/>
                        </a:lnTo>
                        <a:lnTo>
                          <a:pt x="87" y="1164"/>
                        </a:lnTo>
                        <a:lnTo>
                          <a:pt x="75" y="1160"/>
                        </a:lnTo>
                        <a:lnTo>
                          <a:pt x="64" y="1156"/>
                        </a:lnTo>
                        <a:lnTo>
                          <a:pt x="54" y="1150"/>
                        </a:lnTo>
                        <a:lnTo>
                          <a:pt x="44" y="1146"/>
                        </a:lnTo>
                        <a:lnTo>
                          <a:pt x="25" y="1133"/>
                        </a:lnTo>
                        <a:lnTo>
                          <a:pt x="6" y="1115"/>
                        </a:lnTo>
                        <a:lnTo>
                          <a:pt x="2" y="1112"/>
                        </a:lnTo>
                        <a:lnTo>
                          <a:pt x="0" y="1106"/>
                        </a:lnTo>
                        <a:lnTo>
                          <a:pt x="2" y="1092"/>
                        </a:lnTo>
                        <a:lnTo>
                          <a:pt x="33" y="1090"/>
                        </a:lnTo>
                        <a:lnTo>
                          <a:pt x="66" y="1094"/>
                        </a:lnTo>
                        <a:lnTo>
                          <a:pt x="99" y="1100"/>
                        </a:lnTo>
                        <a:lnTo>
                          <a:pt x="132" y="1108"/>
                        </a:lnTo>
                        <a:lnTo>
                          <a:pt x="163" y="1113"/>
                        </a:lnTo>
                        <a:lnTo>
                          <a:pt x="196" y="1119"/>
                        </a:lnTo>
                        <a:lnTo>
                          <a:pt x="227" y="1123"/>
                        </a:lnTo>
                        <a:lnTo>
                          <a:pt x="262" y="1127"/>
                        </a:lnTo>
                        <a:lnTo>
                          <a:pt x="409" y="1115"/>
                        </a:lnTo>
                        <a:lnTo>
                          <a:pt x="423" y="1113"/>
                        </a:lnTo>
                        <a:lnTo>
                          <a:pt x="436" y="1106"/>
                        </a:lnTo>
                        <a:lnTo>
                          <a:pt x="436" y="1117"/>
                        </a:lnTo>
                        <a:lnTo>
                          <a:pt x="444" y="1131"/>
                        </a:lnTo>
                        <a:lnTo>
                          <a:pt x="454" y="1139"/>
                        </a:lnTo>
                        <a:lnTo>
                          <a:pt x="454" y="1125"/>
                        </a:lnTo>
                        <a:lnTo>
                          <a:pt x="450" y="1119"/>
                        </a:lnTo>
                        <a:lnTo>
                          <a:pt x="446" y="1115"/>
                        </a:lnTo>
                        <a:lnTo>
                          <a:pt x="452" y="1106"/>
                        </a:lnTo>
                        <a:lnTo>
                          <a:pt x="483" y="1137"/>
                        </a:lnTo>
                        <a:lnTo>
                          <a:pt x="485" y="1125"/>
                        </a:lnTo>
                        <a:lnTo>
                          <a:pt x="463" y="1102"/>
                        </a:lnTo>
                        <a:lnTo>
                          <a:pt x="461" y="1090"/>
                        </a:lnTo>
                        <a:lnTo>
                          <a:pt x="463" y="1077"/>
                        </a:lnTo>
                        <a:lnTo>
                          <a:pt x="461" y="1063"/>
                        </a:lnTo>
                        <a:lnTo>
                          <a:pt x="392" y="1046"/>
                        </a:lnTo>
                        <a:lnTo>
                          <a:pt x="392" y="1040"/>
                        </a:lnTo>
                        <a:lnTo>
                          <a:pt x="273" y="966"/>
                        </a:lnTo>
                        <a:lnTo>
                          <a:pt x="250" y="953"/>
                        </a:lnTo>
                        <a:lnTo>
                          <a:pt x="229" y="937"/>
                        </a:lnTo>
                        <a:lnTo>
                          <a:pt x="207" y="920"/>
                        </a:lnTo>
                        <a:lnTo>
                          <a:pt x="190" y="904"/>
                        </a:lnTo>
                        <a:lnTo>
                          <a:pt x="168" y="883"/>
                        </a:lnTo>
                        <a:lnTo>
                          <a:pt x="149" y="863"/>
                        </a:lnTo>
                        <a:lnTo>
                          <a:pt x="130" y="844"/>
                        </a:lnTo>
                        <a:lnTo>
                          <a:pt x="112" y="825"/>
                        </a:lnTo>
                        <a:lnTo>
                          <a:pt x="103" y="792"/>
                        </a:lnTo>
                        <a:lnTo>
                          <a:pt x="103" y="786"/>
                        </a:lnTo>
                        <a:lnTo>
                          <a:pt x="110" y="770"/>
                        </a:lnTo>
                        <a:lnTo>
                          <a:pt x="124" y="774"/>
                        </a:lnTo>
                        <a:lnTo>
                          <a:pt x="139" y="782"/>
                        </a:lnTo>
                        <a:lnTo>
                          <a:pt x="153" y="792"/>
                        </a:lnTo>
                        <a:lnTo>
                          <a:pt x="168" y="807"/>
                        </a:lnTo>
                        <a:lnTo>
                          <a:pt x="186" y="821"/>
                        </a:lnTo>
                        <a:lnTo>
                          <a:pt x="203" y="836"/>
                        </a:lnTo>
                        <a:lnTo>
                          <a:pt x="221" y="852"/>
                        </a:lnTo>
                        <a:lnTo>
                          <a:pt x="238" y="867"/>
                        </a:lnTo>
                        <a:lnTo>
                          <a:pt x="256" y="879"/>
                        </a:lnTo>
                        <a:lnTo>
                          <a:pt x="273" y="892"/>
                        </a:lnTo>
                        <a:lnTo>
                          <a:pt x="291" y="904"/>
                        </a:lnTo>
                        <a:lnTo>
                          <a:pt x="310" y="916"/>
                        </a:lnTo>
                        <a:lnTo>
                          <a:pt x="444" y="982"/>
                        </a:lnTo>
                        <a:lnTo>
                          <a:pt x="461" y="985"/>
                        </a:lnTo>
                        <a:lnTo>
                          <a:pt x="481" y="991"/>
                        </a:lnTo>
                        <a:lnTo>
                          <a:pt x="498" y="995"/>
                        </a:lnTo>
                        <a:lnTo>
                          <a:pt x="518" y="1001"/>
                        </a:lnTo>
                        <a:lnTo>
                          <a:pt x="535" y="1003"/>
                        </a:lnTo>
                        <a:lnTo>
                          <a:pt x="554" y="1007"/>
                        </a:lnTo>
                        <a:lnTo>
                          <a:pt x="574" y="1009"/>
                        </a:lnTo>
                        <a:lnTo>
                          <a:pt x="593" y="1011"/>
                        </a:lnTo>
                        <a:lnTo>
                          <a:pt x="607" y="1011"/>
                        </a:lnTo>
                        <a:lnTo>
                          <a:pt x="634" y="1011"/>
                        </a:lnTo>
                        <a:lnTo>
                          <a:pt x="684" y="985"/>
                        </a:lnTo>
                        <a:lnTo>
                          <a:pt x="694" y="978"/>
                        </a:lnTo>
                        <a:lnTo>
                          <a:pt x="700" y="976"/>
                        </a:lnTo>
                        <a:lnTo>
                          <a:pt x="712" y="966"/>
                        </a:lnTo>
                        <a:lnTo>
                          <a:pt x="717" y="964"/>
                        </a:lnTo>
                        <a:lnTo>
                          <a:pt x="723" y="958"/>
                        </a:lnTo>
                        <a:lnTo>
                          <a:pt x="743" y="941"/>
                        </a:lnTo>
                        <a:lnTo>
                          <a:pt x="764" y="925"/>
                        </a:lnTo>
                        <a:lnTo>
                          <a:pt x="774" y="918"/>
                        </a:lnTo>
                        <a:lnTo>
                          <a:pt x="785" y="912"/>
                        </a:lnTo>
                        <a:lnTo>
                          <a:pt x="797" y="906"/>
                        </a:lnTo>
                        <a:lnTo>
                          <a:pt x="808" y="904"/>
                        </a:lnTo>
                        <a:lnTo>
                          <a:pt x="828" y="896"/>
                        </a:lnTo>
                        <a:lnTo>
                          <a:pt x="847" y="896"/>
                        </a:lnTo>
                        <a:lnTo>
                          <a:pt x="867" y="900"/>
                        </a:lnTo>
                        <a:lnTo>
                          <a:pt x="888" y="912"/>
                        </a:lnTo>
                        <a:lnTo>
                          <a:pt x="907" y="929"/>
                        </a:lnTo>
                        <a:lnTo>
                          <a:pt x="907" y="943"/>
                        </a:lnTo>
                        <a:lnTo>
                          <a:pt x="888" y="964"/>
                        </a:lnTo>
                        <a:lnTo>
                          <a:pt x="878" y="966"/>
                        </a:lnTo>
                        <a:lnTo>
                          <a:pt x="855" y="974"/>
                        </a:lnTo>
                        <a:lnTo>
                          <a:pt x="836" y="978"/>
                        </a:lnTo>
                        <a:lnTo>
                          <a:pt x="816" y="985"/>
                        </a:lnTo>
                        <a:lnTo>
                          <a:pt x="797" y="995"/>
                        </a:lnTo>
                        <a:lnTo>
                          <a:pt x="779" y="1009"/>
                        </a:lnTo>
                        <a:lnTo>
                          <a:pt x="760" y="1022"/>
                        </a:lnTo>
                        <a:lnTo>
                          <a:pt x="746" y="1040"/>
                        </a:lnTo>
                        <a:lnTo>
                          <a:pt x="735" y="1057"/>
                        </a:lnTo>
                        <a:lnTo>
                          <a:pt x="731" y="1079"/>
                        </a:lnTo>
                        <a:lnTo>
                          <a:pt x="729" y="1088"/>
                        </a:lnTo>
                        <a:lnTo>
                          <a:pt x="729" y="1100"/>
                        </a:lnTo>
                        <a:lnTo>
                          <a:pt x="729" y="1110"/>
                        </a:lnTo>
                        <a:lnTo>
                          <a:pt x="729" y="1121"/>
                        </a:lnTo>
                        <a:lnTo>
                          <a:pt x="725" y="1131"/>
                        </a:lnTo>
                        <a:lnTo>
                          <a:pt x="721" y="1143"/>
                        </a:lnTo>
                        <a:lnTo>
                          <a:pt x="715" y="1154"/>
                        </a:lnTo>
                        <a:lnTo>
                          <a:pt x="708" y="1166"/>
                        </a:lnTo>
                        <a:lnTo>
                          <a:pt x="694" y="1174"/>
                        </a:lnTo>
                        <a:lnTo>
                          <a:pt x="680" y="1176"/>
                        </a:lnTo>
                        <a:lnTo>
                          <a:pt x="679" y="1185"/>
                        </a:lnTo>
                        <a:lnTo>
                          <a:pt x="706" y="1183"/>
                        </a:lnTo>
                        <a:lnTo>
                          <a:pt x="710" y="1181"/>
                        </a:lnTo>
                        <a:lnTo>
                          <a:pt x="737" y="1150"/>
                        </a:lnTo>
                        <a:lnTo>
                          <a:pt x="744" y="1108"/>
                        </a:lnTo>
                        <a:lnTo>
                          <a:pt x="789" y="1117"/>
                        </a:lnTo>
                        <a:lnTo>
                          <a:pt x="836" y="1129"/>
                        </a:lnTo>
                        <a:lnTo>
                          <a:pt x="882" y="1141"/>
                        </a:lnTo>
                        <a:lnTo>
                          <a:pt x="929" y="1152"/>
                        </a:lnTo>
                        <a:lnTo>
                          <a:pt x="973" y="1162"/>
                        </a:lnTo>
                        <a:lnTo>
                          <a:pt x="1020" y="1174"/>
                        </a:lnTo>
                        <a:lnTo>
                          <a:pt x="1066" y="1181"/>
                        </a:lnTo>
                        <a:lnTo>
                          <a:pt x="1113" y="1191"/>
                        </a:lnTo>
                        <a:lnTo>
                          <a:pt x="1165" y="1193"/>
                        </a:lnTo>
                        <a:lnTo>
                          <a:pt x="1160" y="1201"/>
                        </a:lnTo>
                        <a:lnTo>
                          <a:pt x="1148" y="1205"/>
                        </a:lnTo>
                        <a:lnTo>
                          <a:pt x="1134" y="1212"/>
                        </a:lnTo>
                        <a:lnTo>
                          <a:pt x="1123" y="1214"/>
                        </a:lnTo>
                        <a:lnTo>
                          <a:pt x="1119" y="1216"/>
                        </a:lnTo>
                        <a:lnTo>
                          <a:pt x="1115" y="1218"/>
                        </a:lnTo>
                        <a:lnTo>
                          <a:pt x="1115" y="1226"/>
                        </a:lnTo>
                        <a:lnTo>
                          <a:pt x="1181" y="1208"/>
                        </a:lnTo>
                        <a:lnTo>
                          <a:pt x="1346" y="1119"/>
                        </a:lnTo>
                        <a:lnTo>
                          <a:pt x="1355" y="1115"/>
                        </a:lnTo>
                        <a:lnTo>
                          <a:pt x="1367" y="1112"/>
                        </a:lnTo>
                        <a:lnTo>
                          <a:pt x="1377" y="1108"/>
                        </a:lnTo>
                        <a:lnTo>
                          <a:pt x="1419" y="1094"/>
                        </a:lnTo>
                        <a:lnTo>
                          <a:pt x="1437" y="1086"/>
                        </a:lnTo>
                        <a:lnTo>
                          <a:pt x="1456" y="1081"/>
                        </a:lnTo>
                        <a:lnTo>
                          <a:pt x="1476" y="1077"/>
                        </a:lnTo>
                        <a:lnTo>
                          <a:pt x="1495" y="1075"/>
                        </a:lnTo>
                        <a:lnTo>
                          <a:pt x="1514" y="1069"/>
                        </a:lnTo>
                        <a:lnTo>
                          <a:pt x="1534" y="1067"/>
                        </a:lnTo>
                        <a:lnTo>
                          <a:pt x="1553" y="1067"/>
                        </a:lnTo>
                        <a:lnTo>
                          <a:pt x="1573" y="1067"/>
                        </a:lnTo>
                        <a:lnTo>
                          <a:pt x="1689" y="1077"/>
                        </a:lnTo>
                        <a:lnTo>
                          <a:pt x="1703" y="1081"/>
                        </a:lnTo>
                        <a:lnTo>
                          <a:pt x="1718" y="1086"/>
                        </a:lnTo>
                        <a:lnTo>
                          <a:pt x="1732" y="1092"/>
                        </a:lnTo>
                        <a:lnTo>
                          <a:pt x="1747" y="1100"/>
                        </a:lnTo>
                        <a:lnTo>
                          <a:pt x="1761" y="1104"/>
                        </a:lnTo>
                        <a:lnTo>
                          <a:pt x="1778" y="1110"/>
                        </a:lnTo>
                        <a:lnTo>
                          <a:pt x="1792" y="1112"/>
                        </a:lnTo>
                        <a:lnTo>
                          <a:pt x="1809" y="1113"/>
                        </a:lnTo>
                        <a:lnTo>
                          <a:pt x="1811" y="1115"/>
                        </a:lnTo>
                        <a:lnTo>
                          <a:pt x="1836" y="1115"/>
                        </a:lnTo>
                        <a:lnTo>
                          <a:pt x="1834" y="1106"/>
                        </a:lnTo>
                        <a:lnTo>
                          <a:pt x="1743" y="1084"/>
                        </a:lnTo>
                        <a:lnTo>
                          <a:pt x="1778" y="1038"/>
                        </a:lnTo>
                        <a:lnTo>
                          <a:pt x="1813" y="1011"/>
                        </a:lnTo>
                        <a:lnTo>
                          <a:pt x="1856" y="991"/>
                        </a:lnTo>
                        <a:lnTo>
                          <a:pt x="1871" y="987"/>
                        </a:lnTo>
                        <a:lnTo>
                          <a:pt x="1893" y="989"/>
                        </a:lnTo>
                        <a:lnTo>
                          <a:pt x="1896" y="985"/>
                        </a:lnTo>
                        <a:lnTo>
                          <a:pt x="1879" y="974"/>
                        </a:lnTo>
                        <a:lnTo>
                          <a:pt x="1856" y="974"/>
                        </a:lnTo>
                        <a:lnTo>
                          <a:pt x="1848" y="949"/>
                        </a:lnTo>
                        <a:lnTo>
                          <a:pt x="1846" y="925"/>
                        </a:lnTo>
                        <a:lnTo>
                          <a:pt x="1844" y="900"/>
                        </a:lnTo>
                        <a:lnTo>
                          <a:pt x="1848" y="877"/>
                        </a:lnTo>
                        <a:lnTo>
                          <a:pt x="1852" y="852"/>
                        </a:lnTo>
                        <a:lnTo>
                          <a:pt x="1860" y="828"/>
                        </a:lnTo>
                        <a:lnTo>
                          <a:pt x="1865" y="805"/>
                        </a:lnTo>
                        <a:lnTo>
                          <a:pt x="1877" y="782"/>
                        </a:lnTo>
                        <a:lnTo>
                          <a:pt x="1945" y="890"/>
                        </a:lnTo>
                        <a:lnTo>
                          <a:pt x="1947" y="896"/>
                        </a:lnTo>
                        <a:lnTo>
                          <a:pt x="1955" y="904"/>
                        </a:lnTo>
                        <a:lnTo>
                          <a:pt x="1964" y="916"/>
                        </a:lnTo>
                        <a:lnTo>
                          <a:pt x="1976" y="927"/>
                        </a:lnTo>
                        <a:lnTo>
                          <a:pt x="1988" y="937"/>
                        </a:lnTo>
                        <a:lnTo>
                          <a:pt x="2001" y="947"/>
                        </a:lnTo>
                        <a:lnTo>
                          <a:pt x="2013" y="953"/>
                        </a:lnTo>
                        <a:lnTo>
                          <a:pt x="2026" y="960"/>
                        </a:lnTo>
                        <a:lnTo>
                          <a:pt x="2040" y="964"/>
                        </a:lnTo>
                        <a:lnTo>
                          <a:pt x="2054" y="966"/>
                        </a:lnTo>
                        <a:lnTo>
                          <a:pt x="2077" y="991"/>
                        </a:lnTo>
                        <a:lnTo>
                          <a:pt x="2100" y="1011"/>
                        </a:lnTo>
                        <a:lnTo>
                          <a:pt x="2125" y="1022"/>
                        </a:lnTo>
                        <a:lnTo>
                          <a:pt x="2151" y="1034"/>
                        </a:lnTo>
                        <a:lnTo>
                          <a:pt x="2174" y="1038"/>
                        </a:lnTo>
                        <a:lnTo>
                          <a:pt x="2199" y="1042"/>
                        </a:lnTo>
                        <a:lnTo>
                          <a:pt x="2224" y="1044"/>
                        </a:lnTo>
                        <a:lnTo>
                          <a:pt x="2249" y="1046"/>
                        </a:lnTo>
                        <a:lnTo>
                          <a:pt x="2277" y="1042"/>
                        </a:lnTo>
                        <a:lnTo>
                          <a:pt x="2306" y="1034"/>
                        </a:lnTo>
                        <a:lnTo>
                          <a:pt x="2420" y="982"/>
                        </a:lnTo>
                        <a:lnTo>
                          <a:pt x="2430" y="974"/>
                        </a:lnTo>
                        <a:lnTo>
                          <a:pt x="2453" y="954"/>
                        </a:lnTo>
                        <a:lnTo>
                          <a:pt x="2480" y="935"/>
                        </a:lnTo>
                        <a:lnTo>
                          <a:pt x="2507" y="912"/>
                        </a:lnTo>
                        <a:lnTo>
                          <a:pt x="2535" y="890"/>
                        </a:lnTo>
                        <a:lnTo>
                          <a:pt x="2558" y="863"/>
                        </a:lnTo>
                        <a:lnTo>
                          <a:pt x="2583" y="838"/>
                        </a:lnTo>
                        <a:lnTo>
                          <a:pt x="2602" y="811"/>
                        </a:lnTo>
                        <a:lnTo>
                          <a:pt x="2620" y="786"/>
                        </a:lnTo>
                        <a:lnTo>
                          <a:pt x="2622" y="768"/>
                        </a:lnTo>
                        <a:lnTo>
                          <a:pt x="2626" y="753"/>
                        </a:lnTo>
                        <a:lnTo>
                          <a:pt x="2626" y="737"/>
                        </a:lnTo>
                        <a:lnTo>
                          <a:pt x="2626" y="724"/>
                        </a:lnTo>
                        <a:lnTo>
                          <a:pt x="2622" y="706"/>
                        </a:lnTo>
                        <a:lnTo>
                          <a:pt x="2620" y="693"/>
                        </a:lnTo>
                        <a:lnTo>
                          <a:pt x="2616" y="677"/>
                        </a:lnTo>
                        <a:lnTo>
                          <a:pt x="2612" y="664"/>
                        </a:lnTo>
                        <a:lnTo>
                          <a:pt x="2608" y="658"/>
                        </a:lnTo>
                        <a:lnTo>
                          <a:pt x="2610" y="636"/>
                        </a:lnTo>
                        <a:lnTo>
                          <a:pt x="2612" y="617"/>
                        </a:lnTo>
                        <a:lnTo>
                          <a:pt x="2612" y="596"/>
                        </a:lnTo>
                        <a:lnTo>
                          <a:pt x="2612" y="578"/>
                        </a:lnTo>
                        <a:lnTo>
                          <a:pt x="2610" y="557"/>
                        </a:lnTo>
                        <a:lnTo>
                          <a:pt x="2608" y="538"/>
                        </a:lnTo>
                        <a:lnTo>
                          <a:pt x="2606" y="516"/>
                        </a:lnTo>
                        <a:lnTo>
                          <a:pt x="2604" y="499"/>
                        </a:lnTo>
                        <a:lnTo>
                          <a:pt x="2600" y="487"/>
                        </a:lnTo>
                        <a:lnTo>
                          <a:pt x="2569" y="441"/>
                        </a:lnTo>
                        <a:lnTo>
                          <a:pt x="2548" y="417"/>
                        </a:lnTo>
                        <a:lnTo>
                          <a:pt x="2567" y="417"/>
                        </a:lnTo>
                        <a:lnTo>
                          <a:pt x="2587" y="419"/>
                        </a:lnTo>
                        <a:lnTo>
                          <a:pt x="2606" y="421"/>
                        </a:lnTo>
                        <a:lnTo>
                          <a:pt x="2626" y="427"/>
                        </a:lnTo>
                        <a:lnTo>
                          <a:pt x="2645" y="431"/>
                        </a:lnTo>
                        <a:lnTo>
                          <a:pt x="2664" y="437"/>
                        </a:lnTo>
                        <a:lnTo>
                          <a:pt x="2684" y="444"/>
                        </a:lnTo>
                        <a:lnTo>
                          <a:pt x="2705" y="458"/>
                        </a:lnTo>
                        <a:lnTo>
                          <a:pt x="2690" y="468"/>
                        </a:lnTo>
                        <a:lnTo>
                          <a:pt x="2674" y="479"/>
                        </a:lnTo>
                        <a:lnTo>
                          <a:pt x="2670" y="483"/>
                        </a:lnTo>
                        <a:lnTo>
                          <a:pt x="2670" y="489"/>
                        </a:lnTo>
                        <a:lnTo>
                          <a:pt x="2711" y="472"/>
                        </a:lnTo>
                        <a:lnTo>
                          <a:pt x="2723" y="470"/>
                        </a:lnTo>
                        <a:lnTo>
                          <a:pt x="2744" y="462"/>
                        </a:lnTo>
                        <a:lnTo>
                          <a:pt x="2767" y="458"/>
                        </a:lnTo>
                        <a:lnTo>
                          <a:pt x="2789" y="452"/>
                        </a:lnTo>
                        <a:lnTo>
                          <a:pt x="2812" y="452"/>
                        </a:lnTo>
                        <a:lnTo>
                          <a:pt x="2833" y="452"/>
                        </a:lnTo>
                        <a:lnTo>
                          <a:pt x="2856" y="454"/>
                        </a:lnTo>
                        <a:lnTo>
                          <a:pt x="2880" y="458"/>
                        </a:lnTo>
                        <a:lnTo>
                          <a:pt x="2903" y="466"/>
                        </a:lnTo>
                        <a:lnTo>
                          <a:pt x="2911" y="464"/>
                        </a:lnTo>
                        <a:lnTo>
                          <a:pt x="2911" y="462"/>
                        </a:lnTo>
                        <a:lnTo>
                          <a:pt x="2909" y="454"/>
                        </a:lnTo>
                        <a:lnTo>
                          <a:pt x="2891" y="444"/>
                        </a:lnTo>
                        <a:lnTo>
                          <a:pt x="2868" y="441"/>
                        </a:lnTo>
                        <a:lnTo>
                          <a:pt x="2874" y="435"/>
                        </a:lnTo>
                        <a:lnTo>
                          <a:pt x="2930" y="423"/>
                        </a:lnTo>
                        <a:lnTo>
                          <a:pt x="2948" y="423"/>
                        </a:lnTo>
                        <a:lnTo>
                          <a:pt x="2965" y="427"/>
                        </a:lnTo>
                        <a:lnTo>
                          <a:pt x="2983" y="429"/>
                        </a:lnTo>
                        <a:lnTo>
                          <a:pt x="3002" y="435"/>
                        </a:lnTo>
                        <a:lnTo>
                          <a:pt x="3019" y="441"/>
                        </a:lnTo>
                        <a:lnTo>
                          <a:pt x="3037" y="446"/>
                        </a:lnTo>
                        <a:lnTo>
                          <a:pt x="3054" y="454"/>
                        </a:lnTo>
                        <a:lnTo>
                          <a:pt x="3074" y="466"/>
                        </a:lnTo>
                        <a:lnTo>
                          <a:pt x="3043" y="477"/>
                        </a:lnTo>
                        <a:lnTo>
                          <a:pt x="3008" y="491"/>
                        </a:lnTo>
                        <a:lnTo>
                          <a:pt x="3000" y="501"/>
                        </a:lnTo>
                        <a:lnTo>
                          <a:pt x="3002" y="505"/>
                        </a:lnTo>
                        <a:lnTo>
                          <a:pt x="3021" y="499"/>
                        </a:lnTo>
                        <a:lnTo>
                          <a:pt x="3041" y="493"/>
                        </a:lnTo>
                        <a:lnTo>
                          <a:pt x="3060" y="489"/>
                        </a:lnTo>
                        <a:lnTo>
                          <a:pt x="3081" y="487"/>
                        </a:lnTo>
                        <a:lnTo>
                          <a:pt x="3099" y="483"/>
                        </a:lnTo>
                        <a:lnTo>
                          <a:pt x="3120" y="481"/>
                        </a:lnTo>
                        <a:lnTo>
                          <a:pt x="3140" y="481"/>
                        </a:lnTo>
                        <a:lnTo>
                          <a:pt x="3161" y="483"/>
                        </a:lnTo>
                        <a:lnTo>
                          <a:pt x="3173" y="483"/>
                        </a:lnTo>
                        <a:lnTo>
                          <a:pt x="3207" y="483"/>
                        </a:lnTo>
                        <a:lnTo>
                          <a:pt x="3242" y="487"/>
                        </a:lnTo>
                        <a:lnTo>
                          <a:pt x="3277" y="493"/>
                        </a:lnTo>
                        <a:lnTo>
                          <a:pt x="3314" y="501"/>
                        </a:lnTo>
                        <a:lnTo>
                          <a:pt x="3349" y="508"/>
                        </a:lnTo>
                        <a:lnTo>
                          <a:pt x="3386" y="520"/>
                        </a:lnTo>
                        <a:lnTo>
                          <a:pt x="3421" y="536"/>
                        </a:lnTo>
                        <a:lnTo>
                          <a:pt x="3458" y="555"/>
                        </a:lnTo>
                        <a:lnTo>
                          <a:pt x="3452" y="596"/>
                        </a:lnTo>
                        <a:lnTo>
                          <a:pt x="3462" y="594"/>
                        </a:lnTo>
                        <a:lnTo>
                          <a:pt x="3469" y="578"/>
                        </a:lnTo>
                        <a:lnTo>
                          <a:pt x="3477" y="633"/>
                        </a:lnTo>
                        <a:lnTo>
                          <a:pt x="3487" y="634"/>
                        </a:lnTo>
                        <a:lnTo>
                          <a:pt x="3489" y="609"/>
                        </a:lnTo>
                        <a:lnTo>
                          <a:pt x="3487" y="586"/>
                        </a:lnTo>
                        <a:lnTo>
                          <a:pt x="3487" y="565"/>
                        </a:lnTo>
                        <a:lnTo>
                          <a:pt x="3489" y="543"/>
                        </a:lnTo>
                        <a:lnTo>
                          <a:pt x="3495" y="522"/>
                        </a:lnTo>
                        <a:lnTo>
                          <a:pt x="3496" y="499"/>
                        </a:lnTo>
                        <a:lnTo>
                          <a:pt x="3502" y="479"/>
                        </a:lnTo>
                        <a:lnTo>
                          <a:pt x="3506" y="456"/>
                        </a:lnTo>
                        <a:lnTo>
                          <a:pt x="3512" y="437"/>
                        </a:lnTo>
                        <a:lnTo>
                          <a:pt x="3512" y="419"/>
                        </a:lnTo>
                        <a:lnTo>
                          <a:pt x="3512" y="404"/>
                        </a:lnTo>
                        <a:lnTo>
                          <a:pt x="3512" y="388"/>
                        </a:lnTo>
                        <a:lnTo>
                          <a:pt x="3512" y="373"/>
                        </a:lnTo>
                        <a:lnTo>
                          <a:pt x="3510" y="357"/>
                        </a:lnTo>
                        <a:lnTo>
                          <a:pt x="3508" y="342"/>
                        </a:lnTo>
                        <a:lnTo>
                          <a:pt x="3506" y="326"/>
                        </a:lnTo>
                        <a:lnTo>
                          <a:pt x="3506" y="313"/>
                        </a:lnTo>
                        <a:lnTo>
                          <a:pt x="3502" y="301"/>
                        </a:lnTo>
                        <a:lnTo>
                          <a:pt x="3498" y="289"/>
                        </a:lnTo>
                        <a:lnTo>
                          <a:pt x="3514" y="278"/>
                        </a:lnTo>
                        <a:lnTo>
                          <a:pt x="3543" y="239"/>
                        </a:lnTo>
                        <a:lnTo>
                          <a:pt x="3549" y="212"/>
                        </a:lnTo>
                        <a:lnTo>
                          <a:pt x="3547" y="200"/>
                        </a:lnTo>
                        <a:lnTo>
                          <a:pt x="3543" y="196"/>
                        </a:lnTo>
                        <a:lnTo>
                          <a:pt x="3539" y="208"/>
                        </a:lnTo>
                        <a:lnTo>
                          <a:pt x="3533" y="221"/>
                        </a:lnTo>
                        <a:lnTo>
                          <a:pt x="3526" y="235"/>
                        </a:lnTo>
                        <a:lnTo>
                          <a:pt x="3518" y="251"/>
                        </a:lnTo>
                        <a:lnTo>
                          <a:pt x="3506" y="262"/>
                        </a:lnTo>
                        <a:lnTo>
                          <a:pt x="3495" y="274"/>
                        </a:lnTo>
                        <a:lnTo>
                          <a:pt x="3481" y="282"/>
                        </a:lnTo>
                        <a:lnTo>
                          <a:pt x="3467" y="287"/>
                        </a:lnTo>
                        <a:lnTo>
                          <a:pt x="3454" y="289"/>
                        </a:lnTo>
                        <a:lnTo>
                          <a:pt x="3442" y="291"/>
                        </a:lnTo>
                        <a:lnTo>
                          <a:pt x="3431" y="291"/>
                        </a:lnTo>
                        <a:lnTo>
                          <a:pt x="3421" y="291"/>
                        </a:lnTo>
                        <a:lnTo>
                          <a:pt x="3409" y="287"/>
                        </a:lnTo>
                        <a:lnTo>
                          <a:pt x="3398" y="284"/>
                        </a:lnTo>
                        <a:lnTo>
                          <a:pt x="3386" y="278"/>
                        </a:lnTo>
                        <a:lnTo>
                          <a:pt x="3376" y="272"/>
                        </a:lnTo>
                        <a:lnTo>
                          <a:pt x="3359" y="256"/>
                        </a:lnTo>
                        <a:lnTo>
                          <a:pt x="3343" y="243"/>
                        </a:lnTo>
                        <a:lnTo>
                          <a:pt x="3330" y="227"/>
                        </a:lnTo>
                        <a:lnTo>
                          <a:pt x="3318" y="214"/>
                        </a:lnTo>
                        <a:lnTo>
                          <a:pt x="3287" y="148"/>
                        </a:lnTo>
                        <a:lnTo>
                          <a:pt x="3285" y="138"/>
                        </a:lnTo>
                        <a:lnTo>
                          <a:pt x="3279" y="123"/>
                        </a:lnTo>
                        <a:lnTo>
                          <a:pt x="3275" y="109"/>
                        </a:lnTo>
                        <a:lnTo>
                          <a:pt x="3270" y="95"/>
                        </a:lnTo>
                        <a:lnTo>
                          <a:pt x="3270" y="84"/>
                        </a:lnTo>
                        <a:lnTo>
                          <a:pt x="3268" y="70"/>
                        </a:lnTo>
                        <a:lnTo>
                          <a:pt x="3270" y="57"/>
                        </a:lnTo>
                        <a:lnTo>
                          <a:pt x="3275" y="43"/>
                        </a:lnTo>
                        <a:lnTo>
                          <a:pt x="3283" y="31"/>
                        </a:lnTo>
                        <a:lnTo>
                          <a:pt x="3308" y="20"/>
                        </a:lnTo>
                        <a:lnTo>
                          <a:pt x="3335" y="14"/>
                        </a:lnTo>
                        <a:lnTo>
                          <a:pt x="3361" y="12"/>
                        </a:lnTo>
                        <a:lnTo>
                          <a:pt x="3388" y="12"/>
                        </a:lnTo>
                        <a:lnTo>
                          <a:pt x="3413" y="12"/>
                        </a:lnTo>
                        <a:lnTo>
                          <a:pt x="3440" y="12"/>
                        </a:lnTo>
                        <a:lnTo>
                          <a:pt x="3465" y="8"/>
                        </a:lnTo>
                        <a:lnTo>
                          <a:pt x="3495" y="0"/>
                        </a:lnTo>
                        <a:lnTo>
                          <a:pt x="3512" y="10"/>
                        </a:lnTo>
                        <a:lnTo>
                          <a:pt x="3512" y="14"/>
                        </a:lnTo>
                        <a:lnTo>
                          <a:pt x="3514" y="24"/>
                        </a:lnTo>
                        <a:lnTo>
                          <a:pt x="3522" y="41"/>
                        </a:lnTo>
                        <a:lnTo>
                          <a:pt x="3514" y="60"/>
                        </a:lnTo>
                        <a:lnTo>
                          <a:pt x="3500" y="80"/>
                        </a:lnTo>
                        <a:lnTo>
                          <a:pt x="3481" y="95"/>
                        </a:lnTo>
                        <a:lnTo>
                          <a:pt x="3463" y="109"/>
                        </a:lnTo>
                        <a:lnTo>
                          <a:pt x="3456" y="113"/>
                        </a:lnTo>
                        <a:lnTo>
                          <a:pt x="3444" y="115"/>
                        </a:lnTo>
                        <a:lnTo>
                          <a:pt x="3434" y="117"/>
                        </a:lnTo>
                        <a:lnTo>
                          <a:pt x="3423" y="119"/>
                        </a:lnTo>
                        <a:lnTo>
                          <a:pt x="3413" y="121"/>
                        </a:lnTo>
                        <a:lnTo>
                          <a:pt x="3392" y="119"/>
                        </a:lnTo>
                        <a:lnTo>
                          <a:pt x="3372" y="119"/>
                        </a:lnTo>
                        <a:lnTo>
                          <a:pt x="3351" y="109"/>
                        </a:lnTo>
                        <a:lnTo>
                          <a:pt x="3345" y="109"/>
                        </a:lnTo>
                        <a:lnTo>
                          <a:pt x="3347" y="117"/>
                        </a:lnTo>
                        <a:lnTo>
                          <a:pt x="3386" y="134"/>
                        </a:lnTo>
                        <a:lnTo>
                          <a:pt x="3378" y="146"/>
                        </a:lnTo>
                        <a:lnTo>
                          <a:pt x="3370" y="152"/>
                        </a:lnTo>
                        <a:lnTo>
                          <a:pt x="3372" y="157"/>
                        </a:lnTo>
                        <a:lnTo>
                          <a:pt x="3386" y="156"/>
                        </a:lnTo>
                        <a:lnTo>
                          <a:pt x="3394" y="148"/>
                        </a:lnTo>
                        <a:lnTo>
                          <a:pt x="3401" y="136"/>
                        </a:lnTo>
                        <a:lnTo>
                          <a:pt x="3469" y="124"/>
                        </a:lnTo>
                        <a:lnTo>
                          <a:pt x="3481" y="117"/>
                        </a:lnTo>
                        <a:lnTo>
                          <a:pt x="3485" y="113"/>
                        </a:lnTo>
                        <a:lnTo>
                          <a:pt x="3524" y="111"/>
                        </a:lnTo>
                        <a:lnTo>
                          <a:pt x="3531" y="109"/>
                        </a:lnTo>
                        <a:lnTo>
                          <a:pt x="3553" y="88"/>
                        </a:lnTo>
                        <a:lnTo>
                          <a:pt x="3557" y="86"/>
                        </a:lnTo>
                        <a:lnTo>
                          <a:pt x="3570" y="93"/>
                        </a:lnTo>
                        <a:lnTo>
                          <a:pt x="3586" y="99"/>
                        </a:lnTo>
                        <a:lnTo>
                          <a:pt x="3601" y="99"/>
                        </a:lnTo>
                        <a:lnTo>
                          <a:pt x="3617" y="97"/>
                        </a:lnTo>
                        <a:lnTo>
                          <a:pt x="3632" y="101"/>
                        </a:lnTo>
                        <a:lnTo>
                          <a:pt x="3638" y="115"/>
                        </a:lnTo>
                        <a:lnTo>
                          <a:pt x="3644" y="128"/>
                        </a:lnTo>
                        <a:lnTo>
                          <a:pt x="3646" y="142"/>
                        </a:lnTo>
                        <a:lnTo>
                          <a:pt x="3644" y="157"/>
                        </a:lnTo>
                        <a:lnTo>
                          <a:pt x="3628" y="187"/>
                        </a:lnTo>
                        <a:lnTo>
                          <a:pt x="3624" y="190"/>
                        </a:lnTo>
                        <a:lnTo>
                          <a:pt x="3613" y="194"/>
                        </a:lnTo>
                        <a:lnTo>
                          <a:pt x="3601" y="196"/>
                        </a:lnTo>
                        <a:lnTo>
                          <a:pt x="3590" y="194"/>
                        </a:lnTo>
                        <a:lnTo>
                          <a:pt x="3580" y="190"/>
                        </a:lnTo>
                        <a:lnTo>
                          <a:pt x="3568" y="190"/>
                        </a:lnTo>
                        <a:lnTo>
                          <a:pt x="3564" y="198"/>
                        </a:lnTo>
                        <a:lnTo>
                          <a:pt x="3566" y="202"/>
                        </a:lnTo>
                        <a:lnTo>
                          <a:pt x="3578" y="206"/>
                        </a:lnTo>
                        <a:lnTo>
                          <a:pt x="3591" y="210"/>
                        </a:lnTo>
                        <a:lnTo>
                          <a:pt x="3605" y="210"/>
                        </a:lnTo>
                        <a:lnTo>
                          <a:pt x="3619" y="212"/>
                        </a:lnTo>
                        <a:lnTo>
                          <a:pt x="3630" y="237"/>
                        </a:lnTo>
                        <a:lnTo>
                          <a:pt x="3644" y="264"/>
                        </a:lnTo>
                        <a:lnTo>
                          <a:pt x="3655" y="291"/>
                        </a:lnTo>
                        <a:lnTo>
                          <a:pt x="3671" y="318"/>
                        </a:lnTo>
                        <a:lnTo>
                          <a:pt x="3683" y="344"/>
                        </a:lnTo>
                        <a:lnTo>
                          <a:pt x="3698" y="371"/>
                        </a:lnTo>
                        <a:lnTo>
                          <a:pt x="3716" y="396"/>
                        </a:lnTo>
                        <a:lnTo>
                          <a:pt x="3733" y="425"/>
                        </a:lnTo>
                        <a:lnTo>
                          <a:pt x="3760" y="475"/>
                        </a:lnTo>
                        <a:lnTo>
                          <a:pt x="3789" y="526"/>
                        </a:lnTo>
                        <a:lnTo>
                          <a:pt x="3816" y="576"/>
                        </a:lnTo>
                        <a:lnTo>
                          <a:pt x="3840" y="629"/>
                        </a:lnTo>
                        <a:lnTo>
                          <a:pt x="3855" y="679"/>
                        </a:lnTo>
                        <a:lnTo>
                          <a:pt x="3865" y="731"/>
                        </a:lnTo>
                        <a:lnTo>
                          <a:pt x="3863" y="782"/>
                        </a:lnTo>
                        <a:lnTo>
                          <a:pt x="3851" y="834"/>
                        </a:lnTo>
                        <a:lnTo>
                          <a:pt x="3838" y="852"/>
                        </a:lnTo>
                        <a:lnTo>
                          <a:pt x="3822" y="871"/>
                        </a:lnTo>
                        <a:lnTo>
                          <a:pt x="3801" y="887"/>
                        </a:lnTo>
                        <a:lnTo>
                          <a:pt x="3782" y="900"/>
                        </a:lnTo>
                        <a:lnTo>
                          <a:pt x="3772" y="910"/>
                        </a:lnTo>
                        <a:lnTo>
                          <a:pt x="3756" y="916"/>
                        </a:lnTo>
                        <a:lnTo>
                          <a:pt x="3747" y="923"/>
                        </a:lnTo>
                        <a:lnTo>
                          <a:pt x="3735" y="925"/>
                        </a:lnTo>
                        <a:lnTo>
                          <a:pt x="3731" y="929"/>
                        </a:lnTo>
                        <a:lnTo>
                          <a:pt x="3721" y="929"/>
                        </a:lnTo>
                        <a:lnTo>
                          <a:pt x="3617" y="953"/>
                        </a:lnTo>
                        <a:lnTo>
                          <a:pt x="3572" y="958"/>
                        </a:lnTo>
                        <a:lnTo>
                          <a:pt x="3529" y="964"/>
                        </a:lnTo>
                        <a:lnTo>
                          <a:pt x="3487" y="968"/>
                        </a:lnTo>
                        <a:lnTo>
                          <a:pt x="3444" y="970"/>
                        </a:lnTo>
                        <a:lnTo>
                          <a:pt x="3399" y="968"/>
                        </a:lnTo>
                        <a:lnTo>
                          <a:pt x="3357" y="964"/>
                        </a:lnTo>
                        <a:lnTo>
                          <a:pt x="3314" y="958"/>
                        </a:lnTo>
                        <a:lnTo>
                          <a:pt x="3271" y="951"/>
                        </a:lnTo>
                        <a:lnTo>
                          <a:pt x="3246" y="945"/>
                        </a:lnTo>
                        <a:lnTo>
                          <a:pt x="3242" y="953"/>
                        </a:lnTo>
                        <a:lnTo>
                          <a:pt x="3254" y="960"/>
                        </a:lnTo>
                        <a:lnTo>
                          <a:pt x="3271" y="964"/>
                        </a:lnTo>
                        <a:lnTo>
                          <a:pt x="3289" y="968"/>
                        </a:lnTo>
                        <a:lnTo>
                          <a:pt x="3306" y="972"/>
                        </a:lnTo>
                        <a:lnTo>
                          <a:pt x="3326" y="976"/>
                        </a:lnTo>
                        <a:lnTo>
                          <a:pt x="3343" y="978"/>
                        </a:lnTo>
                        <a:lnTo>
                          <a:pt x="3361" y="982"/>
                        </a:lnTo>
                        <a:lnTo>
                          <a:pt x="3378" y="984"/>
                        </a:lnTo>
                        <a:lnTo>
                          <a:pt x="3398" y="987"/>
                        </a:lnTo>
                        <a:lnTo>
                          <a:pt x="3382" y="1017"/>
                        </a:lnTo>
                        <a:lnTo>
                          <a:pt x="3353" y="1051"/>
                        </a:lnTo>
                        <a:lnTo>
                          <a:pt x="3330" y="1090"/>
                        </a:lnTo>
                        <a:lnTo>
                          <a:pt x="3310" y="1127"/>
                        </a:lnTo>
                        <a:lnTo>
                          <a:pt x="3297" y="1168"/>
                        </a:lnTo>
                        <a:lnTo>
                          <a:pt x="3283" y="1205"/>
                        </a:lnTo>
                        <a:lnTo>
                          <a:pt x="3273" y="1243"/>
                        </a:lnTo>
                        <a:lnTo>
                          <a:pt x="3262" y="1282"/>
                        </a:lnTo>
                        <a:lnTo>
                          <a:pt x="3254" y="1321"/>
                        </a:lnTo>
                        <a:lnTo>
                          <a:pt x="3219" y="1276"/>
                        </a:lnTo>
                        <a:lnTo>
                          <a:pt x="3209" y="1271"/>
                        </a:lnTo>
                        <a:lnTo>
                          <a:pt x="3219" y="1238"/>
                        </a:lnTo>
                        <a:lnTo>
                          <a:pt x="3207" y="1201"/>
                        </a:lnTo>
                        <a:lnTo>
                          <a:pt x="3184" y="1174"/>
                        </a:lnTo>
                        <a:lnTo>
                          <a:pt x="3194" y="1154"/>
                        </a:lnTo>
                        <a:lnTo>
                          <a:pt x="3204" y="1137"/>
                        </a:lnTo>
                        <a:lnTo>
                          <a:pt x="3209" y="1119"/>
                        </a:lnTo>
                        <a:lnTo>
                          <a:pt x="3217" y="1102"/>
                        </a:lnTo>
                        <a:lnTo>
                          <a:pt x="3219" y="1084"/>
                        </a:lnTo>
                        <a:lnTo>
                          <a:pt x="3223" y="1067"/>
                        </a:lnTo>
                        <a:lnTo>
                          <a:pt x="3225" y="1049"/>
                        </a:lnTo>
                        <a:lnTo>
                          <a:pt x="3227" y="1032"/>
                        </a:lnTo>
                        <a:lnTo>
                          <a:pt x="3207" y="887"/>
                        </a:lnTo>
                        <a:lnTo>
                          <a:pt x="3196" y="858"/>
                        </a:lnTo>
                        <a:lnTo>
                          <a:pt x="3188" y="848"/>
                        </a:lnTo>
                        <a:lnTo>
                          <a:pt x="3180" y="842"/>
                        </a:lnTo>
                        <a:lnTo>
                          <a:pt x="3180" y="848"/>
                        </a:lnTo>
                        <a:lnTo>
                          <a:pt x="3188" y="867"/>
                        </a:lnTo>
                        <a:lnTo>
                          <a:pt x="3194" y="902"/>
                        </a:lnTo>
                        <a:lnTo>
                          <a:pt x="3202" y="939"/>
                        </a:lnTo>
                        <a:lnTo>
                          <a:pt x="3206" y="974"/>
                        </a:lnTo>
                        <a:lnTo>
                          <a:pt x="3211" y="1011"/>
                        </a:lnTo>
                        <a:lnTo>
                          <a:pt x="3209" y="1046"/>
                        </a:lnTo>
                        <a:lnTo>
                          <a:pt x="3204" y="1082"/>
                        </a:lnTo>
                        <a:lnTo>
                          <a:pt x="3190" y="1119"/>
                        </a:lnTo>
                        <a:lnTo>
                          <a:pt x="3173" y="1158"/>
                        </a:lnTo>
                        <a:lnTo>
                          <a:pt x="3132" y="1210"/>
                        </a:lnTo>
                        <a:lnTo>
                          <a:pt x="3112" y="1224"/>
                        </a:lnTo>
                        <a:lnTo>
                          <a:pt x="3111" y="1222"/>
                        </a:lnTo>
                        <a:lnTo>
                          <a:pt x="3093" y="1234"/>
                        </a:lnTo>
                        <a:lnTo>
                          <a:pt x="3076" y="1247"/>
                        </a:lnTo>
                        <a:lnTo>
                          <a:pt x="3058" y="1257"/>
                        </a:lnTo>
                        <a:lnTo>
                          <a:pt x="3041" y="1269"/>
                        </a:lnTo>
                        <a:lnTo>
                          <a:pt x="3023" y="1276"/>
                        </a:lnTo>
                        <a:lnTo>
                          <a:pt x="3006" y="1286"/>
                        </a:lnTo>
                        <a:lnTo>
                          <a:pt x="2988" y="1294"/>
                        </a:lnTo>
                        <a:lnTo>
                          <a:pt x="2971" y="1304"/>
                        </a:lnTo>
                        <a:lnTo>
                          <a:pt x="2924" y="1319"/>
                        </a:lnTo>
                        <a:lnTo>
                          <a:pt x="2907" y="1321"/>
                        </a:lnTo>
                        <a:lnTo>
                          <a:pt x="2891" y="1323"/>
                        </a:lnTo>
                        <a:lnTo>
                          <a:pt x="2876" y="1325"/>
                        </a:lnTo>
                        <a:lnTo>
                          <a:pt x="2860" y="1329"/>
                        </a:lnTo>
                        <a:lnTo>
                          <a:pt x="2845" y="1329"/>
                        </a:lnTo>
                        <a:lnTo>
                          <a:pt x="2829" y="1331"/>
                        </a:lnTo>
                        <a:lnTo>
                          <a:pt x="2814" y="1331"/>
                        </a:lnTo>
                        <a:lnTo>
                          <a:pt x="2800" y="1333"/>
                        </a:lnTo>
                        <a:lnTo>
                          <a:pt x="2717" y="1309"/>
                        </a:lnTo>
                        <a:lnTo>
                          <a:pt x="2674" y="1267"/>
                        </a:lnTo>
                        <a:lnTo>
                          <a:pt x="2661" y="1251"/>
                        </a:lnTo>
                        <a:lnTo>
                          <a:pt x="2653" y="1236"/>
                        </a:lnTo>
                        <a:lnTo>
                          <a:pt x="2643" y="1230"/>
                        </a:lnTo>
                        <a:lnTo>
                          <a:pt x="2600" y="1174"/>
                        </a:lnTo>
                        <a:lnTo>
                          <a:pt x="2595" y="1160"/>
                        </a:lnTo>
                        <a:lnTo>
                          <a:pt x="2591" y="1148"/>
                        </a:lnTo>
                        <a:lnTo>
                          <a:pt x="2587" y="1137"/>
                        </a:lnTo>
                        <a:lnTo>
                          <a:pt x="2585" y="1125"/>
                        </a:lnTo>
                        <a:lnTo>
                          <a:pt x="2583" y="1113"/>
                        </a:lnTo>
                        <a:lnTo>
                          <a:pt x="2581" y="1102"/>
                        </a:lnTo>
                        <a:lnTo>
                          <a:pt x="2579" y="1090"/>
                        </a:lnTo>
                        <a:lnTo>
                          <a:pt x="2579" y="1079"/>
                        </a:lnTo>
                        <a:lnTo>
                          <a:pt x="2571" y="1075"/>
                        </a:lnTo>
                        <a:lnTo>
                          <a:pt x="2581" y="1150"/>
                        </a:lnTo>
                        <a:lnTo>
                          <a:pt x="2542" y="1125"/>
                        </a:lnTo>
                        <a:lnTo>
                          <a:pt x="2492" y="1112"/>
                        </a:lnTo>
                        <a:lnTo>
                          <a:pt x="2490" y="1121"/>
                        </a:lnTo>
                        <a:lnTo>
                          <a:pt x="2511" y="1125"/>
                        </a:lnTo>
                        <a:lnTo>
                          <a:pt x="2535" y="1135"/>
                        </a:lnTo>
                        <a:lnTo>
                          <a:pt x="2556" y="1148"/>
                        </a:lnTo>
                        <a:lnTo>
                          <a:pt x="2579" y="1168"/>
                        </a:lnTo>
                        <a:lnTo>
                          <a:pt x="2599" y="1185"/>
                        </a:lnTo>
                        <a:lnTo>
                          <a:pt x="2620" y="1208"/>
                        </a:lnTo>
                        <a:lnTo>
                          <a:pt x="2637" y="1232"/>
                        </a:lnTo>
                        <a:lnTo>
                          <a:pt x="2657" y="1255"/>
                        </a:lnTo>
                        <a:lnTo>
                          <a:pt x="2680" y="1300"/>
                        </a:lnTo>
                        <a:lnTo>
                          <a:pt x="2682" y="1309"/>
                        </a:lnTo>
                        <a:lnTo>
                          <a:pt x="2688" y="1338"/>
                        </a:lnTo>
                        <a:lnTo>
                          <a:pt x="2694" y="1368"/>
                        </a:lnTo>
                        <a:lnTo>
                          <a:pt x="2694" y="1397"/>
                        </a:lnTo>
                        <a:lnTo>
                          <a:pt x="2694" y="1428"/>
                        </a:lnTo>
                        <a:lnTo>
                          <a:pt x="2684" y="1457"/>
                        </a:lnTo>
                        <a:lnTo>
                          <a:pt x="2674" y="1486"/>
                        </a:lnTo>
                        <a:lnTo>
                          <a:pt x="2657" y="1517"/>
                        </a:lnTo>
                        <a:lnTo>
                          <a:pt x="2639" y="1548"/>
                        </a:lnTo>
                        <a:lnTo>
                          <a:pt x="2599" y="1587"/>
                        </a:lnTo>
                        <a:lnTo>
                          <a:pt x="2560" y="1620"/>
                        </a:lnTo>
                        <a:lnTo>
                          <a:pt x="2517" y="1647"/>
                        </a:lnTo>
                        <a:lnTo>
                          <a:pt x="2476" y="1668"/>
                        </a:lnTo>
                        <a:lnTo>
                          <a:pt x="2434" y="1684"/>
                        </a:lnTo>
                        <a:lnTo>
                          <a:pt x="2391" y="1695"/>
                        </a:lnTo>
                        <a:lnTo>
                          <a:pt x="2350" y="1701"/>
                        </a:lnTo>
                        <a:lnTo>
                          <a:pt x="2310" y="1707"/>
                        </a:lnTo>
                        <a:lnTo>
                          <a:pt x="2292" y="170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4524480" y="5637600"/>
                    <a:ext cx="1587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38">
                        <a:moveTo>
                          <a:pt x="66" y="138"/>
                        </a:moveTo>
                        <a:lnTo>
                          <a:pt x="10" y="136"/>
                        </a:lnTo>
                        <a:lnTo>
                          <a:pt x="0" y="130"/>
                        </a:lnTo>
                        <a:lnTo>
                          <a:pt x="55" y="122"/>
                        </a:lnTo>
                        <a:lnTo>
                          <a:pt x="105" y="119"/>
                        </a:lnTo>
                        <a:lnTo>
                          <a:pt x="88" y="103"/>
                        </a:lnTo>
                        <a:lnTo>
                          <a:pt x="45" y="93"/>
                        </a:lnTo>
                        <a:lnTo>
                          <a:pt x="53" y="88"/>
                        </a:lnTo>
                        <a:lnTo>
                          <a:pt x="60" y="88"/>
                        </a:lnTo>
                        <a:lnTo>
                          <a:pt x="86" y="78"/>
                        </a:lnTo>
                        <a:lnTo>
                          <a:pt x="91" y="66"/>
                        </a:lnTo>
                        <a:lnTo>
                          <a:pt x="72" y="62"/>
                        </a:lnTo>
                        <a:lnTo>
                          <a:pt x="33" y="66"/>
                        </a:lnTo>
                        <a:lnTo>
                          <a:pt x="29" y="58"/>
                        </a:lnTo>
                        <a:lnTo>
                          <a:pt x="64" y="39"/>
                        </a:lnTo>
                        <a:lnTo>
                          <a:pt x="68" y="39"/>
                        </a:lnTo>
                        <a:lnTo>
                          <a:pt x="76" y="31"/>
                        </a:lnTo>
                        <a:lnTo>
                          <a:pt x="76" y="26"/>
                        </a:lnTo>
                        <a:lnTo>
                          <a:pt x="41" y="26"/>
                        </a:lnTo>
                        <a:lnTo>
                          <a:pt x="24" y="29"/>
                        </a:lnTo>
                        <a:lnTo>
                          <a:pt x="29" y="16"/>
                        </a:lnTo>
                        <a:lnTo>
                          <a:pt x="41" y="12"/>
                        </a:lnTo>
                        <a:lnTo>
                          <a:pt x="51" y="6"/>
                        </a:lnTo>
                        <a:lnTo>
                          <a:pt x="62" y="4"/>
                        </a:lnTo>
                        <a:lnTo>
                          <a:pt x="74" y="4"/>
                        </a:lnTo>
                        <a:lnTo>
                          <a:pt x="88" y="12"/>
                        </a:lnTo>
                        <a:lnTo>
                          <a:pt x="99" y="6"/>
                        </a:lnTo>
                        <a:lnTo>
                          <a:pt x="111" y="4"/>
                        </a:lnTo>
                        <a:lnTo>
                          <a:pt x="122" y="0"/>
                        </a:lnTo>
                        <a:lnTo>
                          <a:pt x="136" y="2"/>
                        </a:lnTo>
                        <a:lnTo>
                          <a:pt x="153" y="14"/>
                        </a:lnTo>
                        <a:lnTo>
                          <a:pt x="163" y="12"/>
                        </a:lnTo>
                        <a:lnTo>
                          <a:pt x="181" y="10"/>
                        </a:lnTo>
                        <a:lnTo>
                          <a:pt x="200" y="20"/>
                        </a:lnTo>
                        <a:lnTo>
                          <a:pt x="202" y="37"/>
                        </a:lnTo>
                        <a:lnTo>
                          <a:pt x="177" y="62"/>
                        </a:lnTo>
                        <a:lnTo>
                          <a:pt x="169" y="74"/>
                        </a:lnTo>
                        <a:lnTo>
                          <a:pt x="159" y="84"/>
                        </a:lnTo>
                        <a:lnTo>
                          <a:pt x="150" y="91"/>
                        </a:lnTo>
                        <a:lnTo>
                          <a:pt x="138" y="97"/>
                        </a:lnTo>
                        <a:lnTo>
                          <a:pt x="128" y="103"/>
                        </a:lnTo>
                        <a:lnTo>
                          <a:pt x="120" y="105"/>
                        </a:lnTo>
                        <a:lnTo>
                          <a:pt x="120" y="111"/>
                        </a:lnTo>
                        <a:lnTo>
                          <a:pt x="122" y="119"/>
                        </a:lnTo>
                        <a:lnTo>
                          <a:pt x="115" y="132"/>
                        </a:lnTo>
                        <a:lnTo>
                          <a:pt x="109" y="134"/>
                        </a:lnTo>
                        <a:lnTo>
                          <a:pt x="66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4152960" y="5720040"/>
                    <a:ext cx="363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33" y="27"/>
                        </a:moveTo>
                        <a:lnTo>
                          <a:pt x="0" y="21"/>
                        </a:lnTo>
                        <a:lnTo>
                          <a:pt x="4" y="12"/>
                        </a:lnTo>
                        <a:lnTo>
                          <a:pt x="44" y="0"/>
                        </a:lnTo>
                        <a:lnTo>
                          <a:pt x="46" y="29"/>
                        </a:lnTo>
                        <a:lnTo>
                          <a:pt x="33" y="27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969080" y="5583600"/>
                    <a:ext cx="14436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65">
                        <a:moveTo>
                          <a:pt x="37" y="165"/>
                        </a:moveTo>
                        <a:lnTo>
                          <a:pt x="37" y="158"/>
                        </a:lnTo>
                        <a:lnTo>
                          <a:pt x="52" y="152"/>
                        </a:lnTo>
                        <a:lnTo>
                          <a:pt x="68" y="146"/>
                        </a:lnTo>
                        <a:lnTo>
                          <a:pt x="81" y="136"/>
                        </a:lnTo>
                        <a:lnTo>
                          <a:pt x="99" y="125"/>
                        </a:lnTo>
                        <a:lnTo>
                          <a:pt x="101" y="115"/>
                        </a:lnTo>
                        <a:lnTo>
                          <a:pt x="87" y="109"/>
                        </a:lnTo>
                        <a:lnTo>
                          <a:pt x="60" y="119"/>
                        </a:lnTo>
                        <a:lnTo>
                          <a:pt x="50" y="123"/>
                        </a:lnTo>
                        <a:lnTo>
                          <a:pt x="37" y="123"/>
                        </a:lnTo>
                        <a:lnTo>
                          <a:pt x="42" y="105"/>
                        </a:lnTo>
                        <a:lnTo>
                          <a:pt x="81" y="90"/>
                        </a:lnTo>
                        <a:lnTo>
                          <a:pt x="85" y="74"/>
                        </a:lnTo>
                        <a:lnTo>
                          <a:pt x="83" y="70"/>
                        </a:lnTo>
                        <a:lnTo>
                          <a:pt x="39" y="80"/>
                        </a:lnTo>
                        <a:lnTo>
                          <a:pt x="35" y="82"/>
                        </a:lnTo>
                        <a:lnTo>
                          <a:pt x="23" y="78"/>
                        </a:lnTo>
                        <a:lnTo>
                          <a:pt x="31" y="64"/>
                        </a:lnTo>
                        <a:lnTo>
                          <a:pt x="39" y="62"/>
                        </a:lnTo>
                        <a:lnTo>
                          <a:pt x="58" y="39"/>
                        </a:lnTo>
                        <a:lnTo>
                          <a:pt x="48" y="28"/>
                        </a:lnTo>
                        <a:lnTo>
                          <a:pt x="29" y="35"/>
                        </a:lnTo>
                        <a:lnTo>
                          <a:pt x="21" y="39"/>
                        </a:lnTo>
                        <a:lnTo>
                          <a:pt x="9" y="47"/>
                        </a:lnTo>
                        <a:lnTo>
                          <a:pt x="7" y="49"/>
                        </a:lnTo>
                        <a:lnTo>
                          <a:pt x="0" y="49"/>
                        </a:lnTo>
                        <a:lnTo>
                          <a:pt x="4" y="33"/>
                        </a:lnTo>
                        <a:lnTo>
                          <a:pt x="15" y="22"/>
                        </a:lnTo>
                        <a:lnTo>
                          <a:pt x="29" y="16"/>
                        </a:lnTo>
                        <a:lnTo>
                          <a:pt x="42" y="12"/>
                        </a:lnTo>
                        <a:lnTo>
                          <a:pt x="56" y="14"/>
                        </a:lnTo>
                        <a:lnTo>
                          <a:pt x="64" y="18"/>
                        </a:lnTo>
                        <a:lnTo>
                          <a:pt x="101" y="2"/>
                        </a:lnTo>
                        <a:lnTo>
                          <a:pt x="112" y="0"/>
                        </a:lnTo>
                        <a:lnTo>
                          <a:pt x="134" y="8"/>
                        </a:lnTo>
                        <a:lnTo>
                          <a:pt x="143" y="2"/>
                        </a:lnTo>
                        <a:lnTo>
                          <a:pt x="165" y="0"/>
                        </a:lnTo>
                        <a:lnTo>
                          <a:pt x="180" y="12"/>
                        </a:lnTo>
                        <a:lnTo>
                          <a:pt x="182" y="16"/>
                        </a:lnTo>
                        <a:lnTo>
                          <a:pt x="161" y="57"/>
                        </a:lnTo>
                        <a:lnTo>
                          <a:pt x="155" y="62"/>
                        </a:lnTo>
                        <a:lnTo>
                          <a:pt x="155" y="70"/>
                        </a:lnTo>
                        <a:lnTo>
                          <a:pt x="118" y="113"/>
                        </a:lnTo>
                        <a:lnTo>
                          <a:pt x="114" y="121"/>
                        </a:lnTo>
                        <a:lnTo>
                          <a:pt x="103" y="132"/>
                        </a:lnTo>
                        <a:lnTo>
                          <a:pt x="91" y="144"/>
                        </a:lnTo>
                        <a:lnTo>
                          <a:pt x="79" y="152"/>
                        </a:lnTo>
                        <a:lnTo>
                          <a:pt x="68" y="158"/>
                        </a:lnTo>
                        <a:lnTo>
                          <a:pt x="37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595760" y="5685120"/>
                    <a:ext cx="52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3">
                        <a:moveTo>
                          <a:pt x="16" y="33"/>
                        </a:moveTo>
                        <a:lnTo>
                          <a:pt x="0" y="30"/>
                        </a:lnTo>
                        <a:lnTo>
                          <a:pt x="10" y="18"/>
                        </a:lnTo>
                        <a:lnTo>
                          <a:pt x="18" y="0"/>
                        </a:lnTo>
                        <a:lnTo>
                          <a:pt x="57" y="0"/>
                        </a:lnTo>
                        <a:lnTo>
                          <a:pt x="66" y="6"/>
                        </a:lnTo>
                        <a:lnTo>
                          <a:pt x="66" y="14"/>
                        </a:lnTo>
                        <a:lnTo>
                          <a:pt x="57" y="26"/>
                        </a:lnTo>
                        <a:lnTo>
                          <a:pt x="16" y="33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005360" y="5639040"/>
                    <a:ext cx="1000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78">
                        <a:moveTo>
                          <a:pt x="2" y="78"/>
                        </a:moveTo>
                        <a:lnTo>
                          <a:pt x="0" y="76"/>
                        </a:lnTo>
                        <a:lnTo>
                          <a:pt x="9" y="66"/>
                        </a:lnTo>
                        <a:lnTo>
                          <a:pt x="25" y="51"/>
                        </a:lnTo>
                        <a:lnTo>
                          <a:pt x="23" y="35"/>
                        </a:lnTo>
                        <a:lnTo>
                          <a:pt x="7" y="16"/>
                        </a:lnTo>
                        <a:lnTo>
                          <a:pt x="5" y="8"/>
                        </a:lnTo>
                        <a:lnTo>
                          <a:pt x="17" y="8"/>
                        </a:lnTo>
                        <a:lnTo>
                          <a:pt x="35" y="12"/>
                        </a:lnTo>
                        <a:lnTo>
                          <a:pt x="54" y="14"/>
                        </a:lnTo>
                        <a:lnTo>
                          <a:pt x="71" y="10"/>
                        </a:lnTo>
                        <a:lnTo>
                          <a:pt x="91" y="8"/>
                        </a:lnTo>
                        <a:lnTo>
                          <a:pt x="116" y="0"/>
                        </a:lnTo>
                        <a:lnTo>
                          <a:pt x="126" y="8"/>
                        </a:lnTo>
                        <a:lnTo>
                          <a:pt x="118" y="14"/>
                        </a:lnTo>
                        <a:lnTo>
                          <a:pt x="114" y="16"/>
                        </a:lnTo>
                        <a:lnTo>
                          <a:pt x="104" y="24"/>
                        </a:lnTo>
                        <a:lnTo>
                          <a:pt x="102" y="37"/>
                        </a:lnTo>
                        <a:lnTo>
                          <a:pt x="104" y="41"/>
                        </a:lnTo>
                        <a:lnTo>
                          <a:pt x="118" y="55"/>
                        </a:lnTo>
                        <a:lnTo>
                          <a:pt x="112" y="64"/>
                        </a:lnTo>
                        <a:lnTo>
                          <a:pt x="104" y="74"/>
                        </a:lnTo>
                        <a:lnTo>
                          <a:pt x="38" y="62"/>
                        </a:lnTo>
                        <a:lnTo>
                          <a:pt x="17" y="78"/>
                        </a:lnTo>
                        <a:lnTo>
                          <a:pt x="2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4035600" y="5658120"/>
                    <a:ext cx="42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1">
                        <a:moveTo>
                          <a:pt x="47" y="29"/>
                        </a:moveTo>
                        <a:lnTo>
                          <a:pt x="2" y="23"/>
                        </a:lnTo>
                        <a:lnTo>
                          <a:pt x="0" y="5"/>
                        </a:lnTo>
                        <a:lnTo>
                          <a:pt x="53" y="0"/>
                        </a:lnTo>
                        <a:lnTo>
                          <a:pt x="51" y="15"/>
                        </a:lnTo>
                        <a:lnTo>
                          <a:pt x="55" y="31"/>
                        </a:lnTo>
                        <a:lnTo>
                          <a:pt x="47" y="29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4592520" y="5651640"/>
                    <a:ext cx="41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5">
                        <a:moveTo>
                          <a:pt x="13" y="35"/>
                        </a:moveTo>
                        <a:lnTo>
                          <a:pt x="0" y="27"/>
                        </a:lnTo>
                        <a:lnTo>
                          <a:pt x="5" y="8"/>
                        </a:lnTo>
                        <a:lnTo>
                          <a:pt x="44" y="0"/>
                        </a:lnTo>
                        <a:lnTo>
                          <a:pt x="52" y="6"/>
                        </a:lnTo>
                        <a:lnTo>
                          <a:pt x="52" y="11"/>
                        </a:lnTo>
                        <a:lnTo>
                          <a:pt x="42" y="27"/>
                        </a:lnTo>
                        <a:lnTo>
                          <a:pt x="34" y="27"/>
                        </a:lnTo>
                        <a:lnTo>
                          <a:pt x="13" y="35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4640400" y="5656320"/>
                    <a:ext cx="33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15" y="29"/>
                        </a:moveTo>
                        <a:lnTo>
                          <a:pt x="0" y="17"/>
                        </a:lnTo>
                        <a:lnTo>
                          <a:pt x="5" y="2"/>
                        </a:lnTo>
                        <a:lnTo>
                          <a:pt x="29" y="0"/>
                        </a:lnTo>
                        <a:lnTo>
                          <a:pt x="40" y="7"/>
                        </a:lnTo>
                        <a:lnTo>
                          <a:pt x="38" y="13"/>
                        </a:lnTo>
                        <a:lnTo>
                          <a:pt x="15" y="29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5041800" y="5631120"/>
                    <a:ext cx="399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0">
                        <a:moveTo>
                          <a:pt x="15" y="40"/>
                        </a:moveTo>
                        <a:lnTo>
                          <a:pt x="0" y="33"/>
                        </a:lnTo>
                        <a:lnTo>
                          <a:pt x="10" y="5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8" y="3"/>
                        </a:lnTo>
                        <a:lnTo>
                          <a:pt x="48" y="11"/>
                        </a:lnTo>
                        <a:lnTo>
                          <a:pt x="31" y="38"/>
                        </a:lnTo>
                        <a:lnTo>
                          <a:pt x="15" y="40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905280" y="5535720"/>
                    <a:ext cx="903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8">
                        <a:moveTo>
                          <a:pt x="9" y="126"/>
                        </a:moveTo>
                        <a:lnTo>
                          <a:pt x="9" y="124"/>
                        </a:lnTo>
                        <a:lnTo>
                          <a:pt x="9" y="122"/>
                        </a:lnTo>
                        <a:lnTo>
                          <a:pt x="33" y="84"/>
                        </a:lnTo>
                        <a:lnTo>
                          <a:pt x="33" y="60"/>
                        </a:lnTo>
                        <a:lnTo>
                          <a:pt x="0" y="10"/>
                        </a:lnTo>
                        <a:lnTo>
                          <a:pt x="5" y="4"/>
                        </a:lnTo>
                        <a:lnTo>
                          <a:pt x="17" y="6"/>
                        </a:lnTo>
                        <a:lnTo>
                          <a:pt x="29" y="14"/>
                        </a:lnTo>
                        <a:lnTo>
                          <a:pt x="42" y="22"/>
                        </a:lnTo>
                        <a:lnTo>
                          <a:pt x="91" y="14"/>
                        </a:lnTo>
                        <a:lnTo>
                          <a:pt x="104" y="0"/>
                        </a:lnTo>
                        <a:lnTo>
                          <a:pt x="114" y="0"/>
                        </a:lnTo>
                        <a:lnTo>
                          <a:pt x="99" y="29"/>
                        </a:lnTo>
                        <a:lnTo>
                          <a:pt x="93" y="31"/>
                        </a:lnTo>
                        <a:lnTo>
                          <a:pt x="87" y="41"/>
                        </a:lnTo>
                        <a:lnTo>
                          <a:pt x="102" y="91"/>
                        </a:lnTo>
                        <a:lnTo>
                          <a:pt x="114" y="111"/>
                        </a:lnTo>
                        <a:lnTo>
                          <a:pt x="104" y="122"/>
                        </a:lnTo>
                        <a:lnTo>
                          <a:pt x="44" y="101"/>
                        </a:lnTo>
                        <a:lnTo>
                          <a:pt x="17" y="128"/>
                        </a:lnTo>
                        <a:lnTo>
                          <a:pt x="9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538440" y="5600880"/>
                    <a:ext cx="32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2">
                        <a:moveTo>
                          <a:pt x="10" y="42"/>
                        </a:moveTo>
                        <a:lnTo>
                          <a:pt x="0" y="35"/>
                        </a:lnTo>
                        <a:lnTo>
                          <a:pt x="0" y="31"/>
                        </a:lnTo>
                        <a:lnTo>
                          <a:pt x="2" y="6"/>
                        </a:lnTo>
                        <a:lnTo>
                          <a:pt x="8" y="4"/>
                        </a:lnTo>
                        <a:lnTo>
                          <a:pt x="27" y="0"/>
                        </a:lnTo>
                        <a:lnTo>
                          <a:pt x="39" y="6"/>
                        </a:lnTo>
                        <a:lnTo>
                          <a:pt x="41" y="21"/>
                        </a:lnTo>
                        <a:lnTo>
                          <a:pt x="25" y="42"/>
                        </a:lnTo>
                        <a:lnTo>
                          <a:pt x="1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5022720" y="5594400"/>
                    <a:ext cx="4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3">
                        <a:moveTo>
                          <a:pt x="25" y="43"/>
                        </a:moveTo>
                        <a:lnTo>
                          <a:pt x="0" y="39"/>
                        </a:lnTo>
                        <a:lnTo>
                          <a:pt x="3" y="19"/>
                        </a:lnTo>
                        <a:lnTo>
                          <a:pt x="44" y="0"/>
                        </a:lnTo>
                        <a:lnTo>
                          <a:pt x="58" y="4"/>
                        </a:lnTo>
                        <a:lnTo>
                          <a:pt x="58" y="12"/>
                        </a:lnTo>
                        <a:lnTo>
                          <a:pt x="44" y="35"/>
                        </a:lnTo>
                        <a:lnTo>
                          <a:pt x="35" y="39"/>
                        </a:lnTo>
                        <a:lnTo>
                          <a:pt x="25" y="43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5070600" y="559620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7">
                        <a:moveTo>
                          <a:pt x="21" y="37"/>
                        </a:moveTo>
                        <a:lnTo>
                          <a:pt x="13" y="33"/>
                        </a:lnTo>
                        <a:lnTo>
                          <a:pt x="0" y="31"/>
                        </a:lnTo>
                        <a:lnTo>
                          <a:pt x="11" y="6"/>
                        </a:lnTo>
                        <a:lnTo>
                          <a:pt x="25" y="0"/>
                        </a:lnTo>
                        <a:lnTo>
                          <a:pt x="33" y="0"/>
                        </a:lnTo>
                        <a:lnTo>
                          <a:pt x="40" y="6"/>
                        </a:lnTo>
                        <a:lnTo>
                          <a:pt x="40" y="15"/>
                        </a:lnTo>
                        <a:lnTo>
                          <a:pt x="21" y="37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544920" y="561348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">
                        <a:moveTo>
                          <a:pt x="0" y="14"/>
                        </a:moveTo>
                        <a:lnTo>
                          <a:pt x="0" y="2"/>
                        </a:lnTo>
                        <a:lnTo>
                          <a:pt x="17" y="0"/>
                        </a:lnTo>
                        <a:lnTo>
                          <a:pt x="11" y="16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938760" y="5565960"/>
                    <a:ext cx="349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0">
                        <a:moveTo>
                          <a:pt x="41" y="58"/>
                        </a:moveTo>
                        <a:lnTo>
                          <a:pt x="6" y="51"/>
                        </a:lnTo>
                        <a:lnTo>
                          <a:pt x="0" y="2"/>
                        </a:lnTo>
                        <a:lnTo>
                          <a:pt x="12" y="4"/>
                        </a:lnTo>
                        <a:lnTo>
                          <a:pt x="31" y="0"/>
                        </a:lnTo>
                        <a:lnTo>
                          <a:pt x="35" y="37"/>
                        </a:lnTo>
                        <a:lnTo>
                          <a:pt x="45" y="60"/>
                        </a:lnTo>
                        <a:lnTo>
                          <a:pt x="41" y="58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413240" y="481680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">
                        <a:moveTo>
                          <a:pt x="17" y="0"/>
                        </a:moveTo>
                        <a:lnTo>
                          <a:pt x="15" y="2"/>
                        </a:lnTo>
                        <a:lnTo>
                          <a:pt x="15" y="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3b59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049560" y="5367600"/>
                    <a:ext cx="160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20">
                        <a:moveTo>
                          <a:pt x="161" y="120"/>
                        </a:moveTo>
                        <a:lnTo>
                          <a:pt x="144" y="114"/>
                        </a:lnTo>
                        <a:lnTo>
                          <a:pt x="150" y="110"/>
                        </a:lnTo>
                        <a:lnTo>
                          <a:pt x="183" y="110"/>
                        </a:lnTo>
                        <a:lnTo>
                          <a:pt x="183" y="87"/>
                        </a:lnTo>
                        <a:lnTo>
                          <a:pt x="165" y="68"/>
                        </a:lnTo>
                        <a:lnTo>
                          <a:pt x="150" y="54"/>
                        </a:lnTo>
                        <a:lnTo>
                          <a:pt x="132" y="41"/>
                        </a:lnTo>
                        <a:lnTo>
                          <a:pt x="117" y="33"/>
                        </a:lnTo>
                        <a:lnTo>
                          <a:pt x="99" y="25"/>
                        </a:lnTo>
                        <a:lnTo>
                          <a:pt x="82" y="21"/>
                        </a:lnTo>
                        <a:lnTo>
                          <a:pt x="64" y="17"/>
                        </a:lnTo>
                        <a:lnTo>
                          <a:pt x="49" y="15"/>
                        </a:lnTo>
                        <a:lnTo>
                          <a:pt x="10" y="21"/>
                        </a:lnTo>
                        <a:lnTo>
                          <a:pt x="0" y="15"/>
                        </a:lnTo>
                        <a:lnTo>
                          <a:pt x="16" y="6"/>
                        </a:lnTo>
                        <a:lnTo>
                          <a:pt x="31" y="0"/>
                        </a:lnTo>
                        <a:lnTo>
                          <a:pt x="47" y="0"/>
                        </a:lnTo>
                        <a:lnTo>
                          <a:pt x="62" y="0"/>
                        </a:lnTo>
                        <a:lnTo>
                          <a:pt x="78" y="4"/>
                        </a:lnTo>
                        <a:lnTo>
                          <a:pt x="93" y="6"/>
                        </a:lnTo>
                        <a:lnTo>
                          <a:pt x="109" y="14"/>
                        </a:lnTo>
                        <a:lnTo>
                          <a:pt x="124" y="19"/>
                        </a:lnTo>
                        <a:lnTo>
                          <a:pt x="142" y="29"/>
                        </a:lnTo>
                        <a:lnTo>
                          <a:pt x="173" y="48"/>
                        </a:lnTo>
                        <a:lnTo>
                          <a:pt x="194" y="81"/>
                        </a:lnTo>
                        <a:lnTo>
                          <a:pt x="202" y="103"/>
                        </a:lnTo>
                        <a:lnTo>
                          <a:pt x="194" y="116"/>
                        </a:lnTo>
                        <a:lnTo>
                          <a:pt x="161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238560" y="5389920"/>
                    <a:ext cx="126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5">
                        <a:moveTo>
                          <a:pt x="0" y="43"/>
                        </a:moveTo>
                        <a:lnTo>
                          <a:pt x="0" y="41"/>
                        </a:lnTo>
                        <a:lnTo>
                          <a:pt x="8" y="0"/>
                        </a:lnTo>
                        <a:lnTo>
                          <a:pt x="15" y="4"/>
                        </a:lnTo>
                        <a:lnTo>
                          <a:pt x="4" y="45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127240" y="5337360"/>
                    <a:ext cx="2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4">
                        <a:moveTo>
                          <a:pt x="11" y="14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35" y="2"/>
                        </a:lnTo>
                        <a:lnTo>
                          <a:pt x="36" y="14"/>
                        </a:lnTo>
                        <a:lnTo>
                          <a:pt x="1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054680" y="5224680"/>
                    <a:ext cx="37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8">
                        <a:moveTo>
                          <a:pt x="9" y="38"/>
                        </a:moveTo>
                        <a:lnTo>
                          <a:pt x="0" y="33"/>
                        </a:lnTo>
                        <a:lnTo>
                          <a:pt x="0" y="19"/>
                        </a:lnTo>
                        <a:lnTo>
                          <a:pt x="11" y="2"/>
                        </a:lnTo>
                        <a:lnTo>
                          <a:pt x="19" y="2"/>
                        </a:lnTo>
                        <a:lnTo>
                          <a:pt x="23" y="0"/>
                        </a:lnTo>
                        <a:lnTo>
                          <a:pt x="33" y="0"/>
                        </a:lnTo>
                        <a:lnTo>
                          <a:pt x="48" y="9"/>
                        </a:lnTo>
                        <a:lnTo>
                          <a:pt x="48" y="19"/>
                        </a:lnTo>
                        <a:lnTo>
                          <a:pt x="35" y="35"/>
                        </a:lnTo>
                        <a:lnTo>
                          <a:pt x="9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065480" y="523584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0" y="1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20" y="2"/>
                        </a:lnTo>
                        <a:lnTo>
                          <a:pt x="14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987640" y="4375440"/>
                    <a:ext cx="750960" cy="8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057">
                        <a:moveTo>
                          <a:pt x="545" y="1055"/>
                        </a:moveTo>
                        <a:lnTo>
                          <a:pt x="525" y="1053"/>
                        </a:lnTo>
                        <a:lnTo>
                          <a:pt x="506" y="1049"/>
                        </a:lnTo>
                        <a:lnTo>
                          <a:pt x="487" y="1043"/>
                        </a:lnTo>
                        <a:lnTo>
                          <a:pt x="469" y="1038"/>
                        </a:lnTo>
                        <a:lnTo>
                          <a:pt x="450" y="1026"/>
                        </a:lnTo>
                        <a:lnTo>
                          <a:pt x="432" y="1012"/>
                        </a:lnTo>
                        <a:lnTo>
                          <a:pt x="415" y="995"/>
                        </a:lnTo>
                        <a:lnTo>
                          <a:pt x="401" y="978"/>
                        </a:lnTo>
                        <a:lnTo>
                          <a:pt x="357" y="892"/>
                        </a:lnTo>
                        <a:lnTo>
                          <a:pt x="335" y="873"/>
                        </a:lnTo>
                        <a:lnTo>
                          <a:pt x="384" y="976"/>
                        </a:lnTo>
                        <a:lnTo>
                          <a:pt x="368" y="970"/>
                        </a:lnTo>
                        <a:lnTo>
                          <a:pt x="357" y="964"/>
                        </a:lnTo>
                        <a:lnTo>
                          <a:pt x="341" y="956"/>
                        </a:lnTo>
                        <a:lnTo>
                          <a:pt x="329" y="948"/>
                        </a:lnTo>
                        <a:lnTo>
                          <a:pt x="316" y="935"/>
                        </a:lnTo>
                        <a:lnTo>
                          <a:pt x="304" y="923"/>
                        </a:lnTo>
                        <a:lnTo>
                          <a:pt x="293" y="910"/>
                        </a:lnTo>
                        <a:lnTo>
                          <a:pt x="285" y="898"/>
                        </a:lnTo>
                        <a:lnTo>
                          <a:pt x="258" y="851"/>
                        </a:lnTo>
                        <a:lnTo>
                          <a:pt x="256" y="842"/>
                        </a:lnTo>
                        <a:lnTo>
                          <a:pt x="248" y="832"/>
                        </a:lnTo>
                        <a:lnTo>
                          <a:pt x="240" y="815"/>
                        </a:lnTo>
                        <a:lnTo>
                          <a:pt x="238" y="805"/>
                        </a:lnTo>
                        <a:lnTo>
                          <a:pt x="231" y="791"/>
                        </a:lnTo>
                        <a:lnTo>
                          <a:pt x="229" y="782"/>
                        </a:lnTo>
                        <a:lnTo>
                          <a:pt x="217" y="760"/>
                        </a:lnTo>
                        <a:lnTo>
                          <a:pt x="180" y="683"/>
                        </a:lnTo>
                        <a:lnTo>
                          <a:pt x="250" y="735"/>
                        </a:lnTo>
                        <a:lnTo>
                          <a:pt x="256" y="735"/>
                        </a:lnTo>
                        <a:lnTo>
                          <a:pt x="256" y="723"/>
                        </a:lnTo>
                        <a:lnTo>
                          <a:pt x="236" y="704"/>
                        </a:lnTo>
                        <a:lnTo>
                          <a:pt x="215" y="687"/>
                        </a:lnTo>
                        <a:lnTo>
                          <a:pt x="194" y="671"/>
                        </a:lnTo>
                        <a:lnTo>
                          <a:pt x="172" y="658"/>
                        </a:lnTo>
                        <a:lnTo>
                          <a:pt x="151" y="640"/>
                        </a:lnTo>
                        <a:lnTo>
                          <a:pt x="134" y="623"/>
                        </a:lnTo>
                        <a:lnTo>
                          <a:pt x="120" y="601"/>
                        </a:lnTo>
                        <a:lnTo>
                          <a:pt x="112" y="580"/>
                        </a:lnTo>
                        <a:lnTo>
                          <a:pt x="103" y="561"/>
                        </a:lnTo>
                        <a:lnTo>
                          <a:pt x="101" y="543"/>
                        </a:lnTo>
                        <a:lnTo>
                          <a:pt x="101" y="524"/>
                        </a:lnTo>
                        <a:lnTo>
                          <a:pt x="104" y="506"/>
                        </a:lnTo>
                        <a:lnTo>
                          <a:pt x="108" y="489"/>
                        </a:lnTo>
                        <a:lnTo>
                          <a:pt x="112" y="471"/>
                        </a:lnTo>
                        <a:lnTo>
                          <a:pt x="114" y="454"/>
                        </a:lnTo>
                        <a:lnTo>
                          <a:pt x="116" y="436"/>
                        </a:lnTo>
                        <a:lnTo>
                          <a:pt x="112" y="435"/>
                        </a:lnTo>
                        <a:lnTo>
                          <a:pt x="93" y="518"/>
                        </a:lnTo>
                        <a:lnTo>
                          <a:pt x="81" y="518"/>
                        </a:lnTo>
                        <a:lnTo>
                          <a:pt x="70" y="518"/>
                        </a:lnTo>
                        <a:lnTo>
                          <a:pt x="60" y="512"/>
                        </a:lnTo>
                        <a:lnTo>
                          <a:pt x="50" y="508"/>
                        </a:lnTo>
                        <a:lnTo>
                          <a:pt x="35" y="489"/>
                        </a:lnTo>
                        <a:lnTo>
                          <a:pt x="25" y="475"/>
                        </a:lnTo>
                        <a:lnTo>
                          <a:pt x="19" y="464"/>
                        </a:lnTo>
                        <a:lnTo>
                          <a:pt x="13" y="452"/>
                        </a:lnTo>
                        <a:lnTo>
                          <a:pt x="9" y="440"/>
                        </a:lnTo>
                        <a:lnTo>
                          <a:pt x="4" y="429"/>
                        </a:lnTo>
                        <a:lnTo>
                          <a:pt x="2" y="417"/>
                        </a:lnTo>
                        <a:lnTo>
                          <a:pt x="0" y="405"/>
                        </a:lnTo>
                        <a:lnTo>
                          <a:pt x="0" y="396"/>
                        </a:lnTo>
                        <a:lnTo>
                          <a:pt x="9" y="347"/>
                        </a:lnTo>
                        <a:lnTo>
                          <a:pt x="37" y="343"/>
                        </a:lnTo>
                        <a:lnTo>
                          <a:pt x="50" y="349"/>
                        </a:lnTo>
                        <a:lnTo>
                          <a:pt x="58" y="349"/>
                        </a:lnTo>
                        <a:lnTo>
                          <a:pt x="60" y="341"/>
                        </a:lnTo>
                        <a:lnTo>
                          <a:pt x="54" y="330"/>
                        </a:lnTo>
                        <a:lnTo>
                          <a:pt x="62" y="316"/>
                        </a:lnTo>
                        <a:lnTo>
                          <a:pt x="62" y="310"/>
                        </a:lnTo>
                        <a:lnTo>
                          <a:pt x="75" y="291"/>
                        </a:lnTo>
                        <a:lnTo>
                          <a:pt x="75" y="260"/>
                        </a:lnTo>
                        <a:lnTo>
                          <a:pt x="71" y="246"/>
                        </a:lnTo>
                        <a:lnTo>
                          <a:pt x="81" y="229"/>
                        </a:lnTo>
                        <a:lnTo>
                          <a:pt x="75" y="188"/>
                        </a:lnTo>
                        <a:lnTo>
                          <a:pt x="81" y="175"/>
                        </a:lnTo>
                        <a:lnTo>
                          <a:pt x="85" y="163"/>
                        </a:lnTo>
                        <a:lnTo>
                          <a:pt x="85" y="151"/>
                        </a:lnTo>
                        <a:lnTo>
                          <a:pt x="85" y="142"/>
                        </a:lnTo>
                        <a:lnTo>
                          <a:pt x="97" y="122"/>
                        </a:lnTo>
                        <a:lnTo>
                          <a:pt x="97" y="103"/>
                        </a:lnTo>
                        <a:lnTo>
                          <a:pt x="89" y="84"/>
                        </a:lnTo>
                        <a:lnTo>
                          <a:pt x="108" y="76"/>
                        </a:lnTo>
                        <a:lnTo>
                          <a:pt x="112" y="93"/>
                        </a:lnTo>
                        <a:lnTo>
                          <a:pt x="114" y="97"/>
                        </a:lnTo>
                        <a:lnTo>
                          <a:pt x="120" y="103"/>
                        </a:lnTo>
                        <a:lnTo>
                          <a:pt x="130" y="103"/>
                        </a:lnTo>
                        <a:lnTo>
                          <a:pt x="145" y="138"/>
                        </a:lnTo>
                        <a:lnTo>
                          <a:pt x="155" y="148"/>
                        </a:lnTo>
                        <a:lnTo>
                          <a:pt x="172" y="148"/>
                        </a:lnTo>
                        <a:lnTo>
                          <a:pt x="178" y="167"/>
                        </a:lnTo>
                        <a:lnTo>
                          <a:pt x="180" y="175"/>
                        </a:lnTo>
                        <a:lnTo>
                          <a:pt x="192" y="186"/>
                        </a:lnTo>
                        <a:lnTo>
                          <a:pt x="201" y="194"/>
                        </a:lnTo>
                        <a:lnTo>
                          <a:pt x="211" y="190"/>
                        </a:lnTo>
                        <a:lnTo>
                          <a:pt x="215" y="186"/>
                        </a:lnTo>
                        <a:lnTo>
                          <a:pt x="219" y="159"/>
                        </a:lnTo>
                        <a:lnTo>
                          <a:pt x="211" y="149"/>
                        </a:lnTo>
                        <a:lnTo>
                          <a:pt x="215" y="134"/>
                        </a:lnTo>
                        <a:lnTo>
                          <a:pt x="217" y="122"/>
                        </a:lnTo>
                        <a:lnTo>
                          <a:pt x="217" y="111"/>
                        </a:lnTo>
                        <a:lnTo>
                          <a:pt x="213" y="99"/>
                        </a:lnTo>
                        <a:lnTo>
                          <a:pt x="215" y="80"/>
                        </a:lnTo>
                        <a:lnTo>
                          <a:pt x="211" y="58"/>
                        </a:lnTo>
                        <a:lnTo>
                          <a:pt x="231" y="58"/>
                        </a:lnTo>
                        <a:lnTo>
                          <a:pt x="234" y="56"/>
                        </a:lnTo>
                        <a:lnTo>
                          <a:pt x="250" y="43"/>
                        </a:lnTo>
                        <a:lnTo>
                          <a:pt x="262" y="53"/>
                        </a:lnTo>
                        <a:lnTo>
                          <a:pt x="271" y="62"/>
                        </a:lnTo>
                        <a:lnTo>
                          <a:pt x="283" y="64"/>
                        </a:lnTo>
                        <a:lnTo>
                          <a:pt x="289" y="62"/>
                        </a:lnTo>
                        <a:lnTo>
                          <a:pt x="304" y="54"/>
                        </a:lnTo>
                        <a:lnTo>
                          <a:pt x="306" y="60"/>
                        </a:lnTo>
                        <a:lnTo>
                          <a:pt x="326" y="84"/>
                        </a:lnTo>
                        <a:lnTo>
                          <a:pt x="341" y="85"/>
                        </a:lnTo>
                        <a:lnTo>
                          <a:pt x="345" y="84"/>
                        </a:lnTo>
                        <a:lnTo>
                          <a:pt x="349" y="82"/>
                        </a:lnTo>
                        <a:lnTo>
                          <a:pt x="355" y="76"/>
                        </a:lnTo>
                        <a:lnTo>
                          <a:pt x="378" y="95"/>
                        </a:lnTo>
                        <a:lnTo>
                          <a:pt x="393" y="91"/>
                        </a:lnTo>
                        <a:lnTo>
                          <a:pt x="421" y="118"/>
                        </a:lnTo>
                        <a:lnTo>
                          <a:pt x="428" y="118"/>
                        </a:lnTo>
                        <a:lnTo>
                          <a:pt x="432" y="117"/>
                        </a:lnTo>
                        <a:lnTo>
                          <a:pt x="452" y="95"/>
                        </a:lnTo>
                        <a:lnTo>
                          <a:pt x="450" y="84"/>
                        </a:lnTo>
                        <a:lnTo>
                          <a:pt x="450" y="72"/>
                        </a:lnTo>
                        <a:lnTo>
                          <a:pt x="452" y="60"/>
                        </a:lnTo>
                        <a:lnTo>
                          <a:pt x="455" y="51"/>
                        </a:lnTo>
                        <a:lnTo>
                          <a:pt x="459" y="39"/>
                        </a:lnTo>
                        <a:lnTo>
                          <a:pt x="465" y="29"/>
                        </a:lnTo>
                        <a:lnTo>
                          <a:pt x="471" y="18"/>
                        </a:lnTo>
                        <a:lnTo>
                          <a:pt x="479" y="8"/>
                        </a:lnTo>
                        <a:lnTo>
                          <a:pt x="496" y="0"/>
                        </a:lnTo>
                        <a:lnTo>
                          <a:pt x="516" y="2"/>
                        </a:lnTo>
                        <a:lnTo>
                          <a:pt x="535" y="6"/>
                        </a:lnTo>
                        <a:lnTo>
                          <a:pt x="554" y="18"/>
                        </a:lnTo>
                        <a:lnTo>
                          <a:pt x="580" y="37"/>
                        </a:lnTo>
                        <a:lnTo>
                          <a:pt x="603" y="70"/>
                        </a:lnTo>
                        <a:lnTo>
                          <a:pt x="609" y="82"/>
                        </a:lnTo>
                        <a:lnTo>
                          <a:pt x="615" y="95"/>
                        </a:lnTo>
                        <a:lnTo>
                          <a:pt x="618" y="109"/>
                        </a:lnTo>
                        <a:lnTo>
                          <a:pt x="624" y="124"/>
                        </a:lnTo>
                        <a:lnTo>
                          <a:pt x="624" y="136"/>
                        </a:lnTo>
                        <a:lnTo>
                          <a:pt x="626" y="149"/>
                        </a:lnTo>
                        <a:lnTo>
                          <a:pt x="624" y="163"/>
                        </a:lnTo>
                        <a:lnTo>
                          <a:pt x="624" y="179"/>
                        </a:lnTo>
                        <a:lnTo>
                          <a:pt x="613" y="196"/>
                        </a:lnTo>
                        <a:lnTo>
                          <a:pt x="514" y="175"/>
                        </a:lnTo>
                        <a:lnTo>
                          <a:pt x="512" y="181"/>
                        </a:lnTo>
                        <a:lnTo>
                          <a:pt x="531" y="190"/>
                        </a:lnTo>
                        <a:lnTo>
                          <a:pt x="551" y="198"/>
                        </a:lnTo>
                        <a:lnTo>
                          <a:pt x="570" y="202"/>
                        </a:lnTo>
                        <a:lnTo>
                          <a:pt x="591" y="208"/>
                        </a:lnTo>
                        <a:lnTo>
                          <a:pt x="611" y="212"/>
                        </a:lnTo>
                        <a:lnTo>
                          <a:pt x="632" y="217"/>
                        </a:lnTo>
                        <a:lnTo>
                          <a:pt x="651" y="229"/>
                        </a:lnTo>
                        <a:lnTo>
                          <a:pt x="675" y="246"/>
                        </a:lnTo>
                        <a:lnTo>
                          <a:pt x="688" y="262"/>
                        </a:lnTo>
                        <a:lnTo>
                          <a:pt x="700" y="279"/>
                        </a:lnTo>
                        <a:lnTo>
                          <a:pt x="706" y="297"/>
                        </a:lnTo>
                        <a:lnTo>
                          <a:pt x="713" y="314"/>
                        </a:lnTo>
                        <a:lnTo>
                          <a:pt x="731" y="372"/>
                        </a:lnTo>
                        <a:lnTo>
                          <a:pt x="748" y="413"/>
                        </a:lnTo>
                        <a:lnTo>
                          <a:pt x="758" y="413"/>
                        </a:lnTo>
                        <a:lnTo>
                          <a:pt x="756" y="402"/>
                        </a:lnTo>
                        <a:lnTo>
                          <a:pt x="744" y="376"/>
                        </a:lnTo>
                        <a:lnTo>
                          <a:pt x="744" y="369"/>
                        </a:lnTo>
                        <a:lnTo>
                          <a:pt x="739" y="347"/>
                        </a:lnTo>
                        <a:lnTo>
                          <a:pt x="775" y="378"/>
                        </a:lnTo>
                        <a:lnTo>
                          <a:pt x="812" y="402"/>
                        </a:lnTo>
                        <a:lnTo>
                          <a:pt x="847" y="431"/>
                        </a:lnTo>
                        <a:lnTo>
                          <a:pt x="876" y="462"/>
                        </a:lnTo>
                        <a:lnTo>
                          <a:pt x="903" y="497"/>
                        </a:lnTo>
                        <a:lnTo>
                          <a:pt x="921" y="530"/>
                        </a:lnTo>
                        <a:lnTo>
                          <a:pt x="935" y="566"/>
                        </a:lnTo>
                        <a:lnTo>
                          <a:pt x="938" y="601"/>
                        </a:lnTo>
                        <a:lnTo>
                          <a:pt x="938" y="638"/>
                        </a:lnTo>
                        <a:lnTo>
                          <a:pt x="936" y="658"/>
                        </a:lnTo>
                        <a:lnTo>
                          <a:pt x="931" y="650"/>
                        </a:lnTo>
                        <a:lnTo>
                          <a:pt x="921" y="646"/>
                        </a:lnTo>
                        <a:lnTo>
                          <a:pt x="917" y="632"/>
                        </a:lnTo>
                        <a:lnTo>
                          <a:pt x="909" y="623"/>
                        </a:lnTo>
                        <a:lnTo>
                          <a:pt x="894" y="611"/>
                        </a:lnTo>
                        <a:lnTo>
                          <a:pt x="892" y="605"/>
                        </a:lnTo>
                        <a:lnTo>
                          <a:pt x="839" y="545"/>
                        </a:lnTo>
                        <a:lnTo>
                          <a:pt x="822" y="530"/>
                        </a:lnTo>
                        <a:lnTo>
                          <a:pt x="808" y="508"/>
                        </a:lnTo>
                        <a:lnTo>
                          <a:pt x="801" y="493"/>
                        </a:lnTo>
                        <a:lnTo>
                          <a:pt x="797" y="487"/>
                        </a:lnTo>
                        <a:lnTo>
                          <a:pt x="789" y="487"/>
                        </a:lnTo>
                        <a:lnTo>
                          <a:pt x="793" y="495"/>
                        </a:lnTo>
                        <a:lnTo>
                          <a:pt x="801" y="504"/>
                        </a:lnTo>
                        <a:lnTo>
                          <a:pt x="805" y="516"/>
                        </a:lnTo>
                        <a:lnTo>
                          <a:pt x="826" y="537"/>
                        </a:lnTo>
                        <a:lnTo>
                          <a:pt x="878" y="603"/>
                        </a:lnTo>
                        <a:lnTo>
                          <a:pt x="903" y="638"/>
                        </a:lnTo>
                        <a:lnTo>
                          <a:pt x="940" y="700"/>
                        </a:lnTo>
                        <a:lnTo>
                          <a:pt x="942" y="718"/>
                        </a:lnTo>
                        <a:lnTo>
                          <a:pt x="946" y="735"/>
                        </a:lnTo>
                        <a:lnTo>
                          <a:pt x="946" y="753"/>
                        </a:lnTo>
                        <a:lnTo>
                          <a:pt x="946" y="772"/>
                        </a:lnTo>
                        <a:lnTo>
                          <a:pt x="942" y="789"/>
                        </a:lnTo>
                        <a:lnTo>
                          <a:pt x="936" y="807"/>
                        </a:lnTo>
                        <a:lnTo>
                          <a:pt x="929" y="824"/>
                        </a:lnTo>
                        <a:lnTo>
                          <a:pt x="917" y="844"/>
                        </a:lnTo>
                        <a:lnTo>
                          <a:pt x="886" y="883"/>
                        </a:lnTo>
                        <a:lnTo>
                          <a:pt x="826" y="937"/>
                        </a:lnTo>
                        <a:lnTo>
                          <a:pt x="772" y="979"/>
                        </a:lnTo>
                        <a:lnTo>
                          <a:pt x="743" y="993"/>
                        </a:lnTo>
                        <a:lnTo>
                          <a:pt x="717" y="1009"/>
                        </a:lnTo>
                        <a:lnTo>
                          <a:pt x="688" y="1020"/>
                        </a:lnTo>
                        <a:lnTo>
                          <a:pt x="663" y="1034"/>
                        </a:lnTo>
                        <a:lnTo>
                          <a:pt x="634" y="1042"/>
                        </a:lnTo>
                        <a:lnTo>
                          <a:pt x="609" y="1049"/>
                        </a:lnTo>
                        <a:lnTo>
                          <a:pt x="580" y="1053"/>
                        </a:lnTo>
                        <a:lnTo>
                          <a:pt x="554" y="1057"/>
                        </a:lnTo>
                        <a:lnTo>
                          <a:pt x="545" y="105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783320" y="4348440"/>
                    <a:ext cx="1528560" cy="83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26" h="1055">
                        <a:moveTo>
                          <a:pt x="1047" y="1055"/>
                        </a:moveTo>
                        <a:lnTo>
                          <a:pt x="1028" y="1053"/>
                        </a:lnTo>
                        <a:lnTo>
                          <a:pt x="1018" y="1047"/>
                        </a:lnTo>
                        <a:lnTo>
                          <a:pt x="1014" y="1030"/>
                        </a:lnTo>
                        <a:lnTo>
                          <a:pt x="1024" y="989"/>
                        </a:lnTo>
                        <a:lnTo>
                          <a:pt x="1018" y="989"/>
                        </a:lnTo>
                        <a:lnTo>
                          <a:pt x="993" y="1016"/>
                        </a:lnTo>
                        <a:lnTo>
                          <a:pt x="983" y="1020"/>
                        </a:lnTo>
                        <a:lnTo>
                          <a:pt x="970" y="1014"/>
                        </a:lnTo>
                        <a:lnTo>
                          <a:pt x="966" y="1011"/>
                        </a:lnTo>
                        <a:lnTo>
                          <a:pt x="964" y="995"/>
                        </a:lnTo>
                        <a:lnTo>
                          <a:pt x="966" y="978"/>
                        </a:lnTo>
                        <a:lnTo>
                          <a:pt x="974" y="962"/>
                        </a:lnTo>
                        <a:lnTo>
                          <a:pt x="975" y="949"/>
                        </a:lnTo>
                        <a:lnTo>
                          <a:pt x="968" y="949"/>
                        </a:lnTo>
                        <a:lnTo>
                          <a:pt x="935" y="997"/>
                        </a:lnTo>
                        <a:lnTo>
                          <a:pt x="917" y="1011"/>
                        </a:lnTo>
                        <a:lnTo>
                          <a:pt x="896" y="1014"/>
                        </a:lnTo>
                        <a:lnTo>
                          <a:pt x="884" y="1009"/>
                        </a:lnTo>
                        <a:lnTo>
                          <a:pt x="879" y="995"/>
                        </a:lnTo>
                        <a:lnTo>
                          <a:pt x="879" y="962"/>
                        </a:lnTo>
                        <a:lnTo>
                          <a:pt x="871" y="960"/>
                        </a:lnTo>
                        <a:lnTo>
                          <a:pt x="846" y="989"/>
                        </a:lnTo>
                        <a:lnTo>
                          <a:pt x="816" y="995"/>
                        </a:lnTo>
                        <a:lnTo>
                          <a:pt x="807" y="987"/>
                        </a:lnTo>
                        <a:lnTo>
                          <a:pt x="805" y="978"/>
                        </a:lnTo>
                        <a:lnTo>
                          <a:pt x="797" y="894"/>
                        </a:lnTo>
                        <a:lnTo>
                          <a:pt x="793" y="896"/>
                        </a:lnTo>
                        <a:lnTo>
                          <a:pt x="760" y="950"/>
                        </a:lnTo>
                        <a:lnTo>
                          <a:pt x="743" y="952"/>
                        </a:lnTo>
                        <a:lnTo>
                          <a:pt x="731" y="939"/>
                        </a:lnTo>
                        <a:lnTo>
                          <a:pt x="723" y="914"/>
                        </a:lnTo>
                        <a:lnTo>
                          <a:pt x="716" y="906"/>
                        </a:lnTo>
                        <a:lnTo>
                          <a:pt x="702" y="939"/>
                        </a:lnTo>
                        <a:lnTo>
                          <a:pt x="692" y="939"/>
                        </a:lnTo>
                        <a:lnTo>
                          <a:pt x="669" y="919"/>
                        </a:lnTo>
                        <a:lnTo>
                          <a:pt x="634" y="857"/>
                        </a:lnTo>
                        <a:lnTo>
                          <a:pt x="630" y="857"/>
                        </a:lnTo>
                        <a:lnTo>
                          <a:pt x="638" y="927"/>
                        </a:lnTo>
                        <a:lnTo>
                          <a:pt x="634" y="933"/>
                        </a:lnTo>
                        <a:lnTo>
                          <a:pt x="613" y="923"/>
                        </a:lnTo>
                        <a:lnTo>
                          <a:pt x="591" y="886"/>
                        </a:lnTo>
                        <a:lnTo>
                          <a:pt x="566" y="855"/>
                        </a:lnTo>
                        <a:lnTo>
                          <a:pt x="539" y="832"/>
                        </a:lnTo>
                        <a:lnTo>
                          <a:pt x="510" y="811"/>
                        </a:lnTo>
                        <a:lnTo>
                          <a:pt x="481" y="795"/>
                        </a:lnTo>
                        <a:lnTo>
                          <a:pt x="450" y="778"/>
                        </a:lnTo>
                        <a:lnTo>
                          <a:pt x="419" y="766"/>
                        </a:lnTo>
                        <a:lnTo>
                          <a:pt x="390" y="755"/>
                        </a:lnTo>
                        <a:lnTo>
                          <a:pt x="361" y="745"/>
                        </a:lnTo>
                        <a:lnTo>
                          <a:pt x="324" y="726"/>
                        </a:lnTo>
                        <a:lnTo>
                          <a:pt x="287" y="710"/>
                        </a:lnTo>
                        <a:lnTo>
                          <a:pt x="250" y="693"/>
                        </a:lnTo>
                        <a:lnTo>
                          <a:pt x="215" y="677"/>
                        </a:lnTo>
                        <a:lnTo>
                          <a:pt x="180" y="658"/>
                        </a:lnTo>
                        <a:lnTo>
                          <a:pt x="147" y="636"/>
                        </a:lnTo>
                        <a:lnTo>
                          <a:pt x="116" y="609"/>
                        </a:lnTo>
                        <a:lnTo>
                          <a:pt x="91" y="580"/>
                        </a:lnTo>
                        <a:lnTo>
                          <a:pt x="66" y="543"/>
                        </a:lnTo>
                        <a:lnTo>
                          <a:pt x="56" y="532"/>
                        </a:lnTo>
                        <a:lnTo>
                          <a:pt x="37" y="489"/>
                        </a:lnTo>
                        <a:lnTo>
                          <a:pt x="33" y="481"/>
                        </a:lnTo>
                        <a:lnTo>
                          <a:pt x="29" y="470"/>
                        </a:lnTo>
                        <a:lnTo>
                          <a:pt x="25" y="452"/>
                        </a:lnTo>
                        <a:lnTo>
                          <a:pt x="23" y="448"/>
                        </a:lnTo>
                        <a:lnTo>
                          <a:pt x="16" y="423"/>
                        </a:lnTo>
                        <a:lnTo>
                          <a:pt x="8" y="392"/>
                        </a:lnTo>
                        <a:lnTo>
                          <a:pt x="2" y="361"/>
                        </a:lnTo>
                        <a:lnTo>
                          <a:pt x="0" y="330"/>
                        </a:lnTo>
                        <a:lnTo>
                          <a:pt x="0" y="299"/>
                        </a:lnTo>
                        <a:lnTo>
                          <a:pt x="0" y="268"/>
                        </a:lnTo>
                        <a:lnTo>
                          <a:pt x="4" y="237"/>
                        </a:lnTo>
                        <a:lnTo>
                          <a:pt x="8" y="206"/>
                        </a:lnTo>
                        <a:lnTo>
                          <a:pt x="16" y="177"/>
                        </a:lnTo>
                        <a:lnTo>
                          <a:pt x="37" y="124"/>
                        </a:lnTo>
                        <a:lnTo>
                          <a:pt x="97" y="0"/>
                        </a:lnTo>
                        <a:lnTo>
                          <a:pt x="95" y="14"/>
                        </a:lnTo>
                        <a:lnTo>
                          <a:pt x="95" y="29"/>
                        </a:lnTo>
                        <a:lnTo>
                          <a:pt x="95" y="43"/>
                        </a:lnTo>
                        <a:lnTo>
                          <a:pt x="97" y="58"/>
                        </a:lnTo>
                        <a:lnTo>
                          <a:pt x="99" y="72"/>
                        </a:lnTo>
                        <a:lnTo>
                          <a:pt x="103" y="88"/>
                        </a:lnTo>
                        <a:lnTo>
                          <a:pt x="105" y="101"/>
                        </a:lnTo>
                        <a:lnTo>
                          <a:pt x="111" y="119"/>
                        </a:lnTo>
                        <a:lnTo>
                          <a:pt x="120" y="136"/>
                        </a:lnTo>
                        <a:lnTo>
                          <a:pt x="153" y="165"/>
                        </a:lnTo>
                        <a:lnTo>
                          <a:pt x="227" y="165"/>
                        </a:lnTo>
                        <a:lnTo>
                          <a:pt x="237" y="165"/>
                        </a:lnTo>
                        <a:lnTo>
                          <a:pt x="254" y="163"/>
                        </a:lnTo>
                        <a:lnTo>
                          <a:pt x="272" y="163"/>
                        </a:lnTo>
                        <a:lnTo>
                          <a:pt x="291" y="163"/>
                        </a:lnTo>
                        <a:lnTo>
                          <a:pt x="310" y="167"/>
                        </a:lnTo>
                        <a:lnTo>
                          <a:pt x="328" y="171"/>
                        </a:lnTo>
                        <a:lnTo>
                          <a:pt x="347" y="181"/>
                        </a:lnTo>
                        <a:lnTo>
                          <a:pt x="367" y="194"/>
                        </a:lnTo>
                        <a:lnTo>
                          <a:pt x="386" y="214"/>
                        </a:lnTo>
                        <a:lnTo>
                          <a:pt x="398" y="225"/>
                        </a:lnTo>
                        <a:lnTo>
                          <a:pt x="411" y="241"/>
                        </a:lnTo>
                        <a:lnTo>
                          <a:pt x="423" y="254"/>
                        </a:lnTo>
                        <a:lnTo>
                          <a:pt x="434" y="272"/>
                        </a:lnTo>
                        <a:lnTo>
                          <a:pt x="444" y="285"/>
                        </a:lnTo>
                        <a:lnTo>
                          <a:pt x="454" y="301"/>
                        </a:lnTo>
                        <a:lnTo>
                          <a:pt x="465" y="316"/>
                        </a:lnTo>
                        <a:lnTo>
                          <a:pt x="479" y="334"/>
                        </a:lnTo>
                        <a:lnTo>
                          <a:pt x="491" y="344"/>
                        </a:lnTo>
                        <a:lnTo>
                          <a:pt x="506" y="365"/>
                        </a:lnTo>
                        <a:lnTo>
                          <a:pt x="557" y="390"/>
                        </a:lnTo>
                        <a:lnTo>
                          <a:pt x="609" y="402"/>
                        </a:lnTo>
                        <a:lnTo>
                          <a:pt x="663" y="406"/>
                        </a:lnTo>
                        <a:lnTo>
                          <a:pt x="719" y="411"/>
                        </a:lnTo>
                        <a:lnTo>
                          <a:pt x="774" y="419"/>
                        </a:lnTo>
                        <a:lnTo>
                          <a:pt x="828" y="437"/>
                        </a:lnTo>
                        <a:lnTo>
                          <a:pt x="880" y="468"/>
                        </a:lnTo>
                        <a:lnTo>
                          <a:pt x="933" y="524"/>
                        </a:lnTo>
                        <a:lnTo>
                          <a:pt x="989" y="545"/>
                        </a:lnTo>
                        <a:lnTo>
                          <a:pt x="1047" y="559"/>
                        </a:lnTo>
                        <a:lnTo>
                          <a:pt x="1103" y="568"/>
                        </a:lnTo>
                        <a:lnTo>
                          <a:pt x="1162" y="578"/>
                        </a:lnTo>
                        <a:lnTo>
                          <a:pt x="1218" y="588"/>
                        </a:lnTo>
                        <a:lnTo>
                          <a:pt x="1274" y="609"/>
                        </a:lnTo>
                        <a:lnTo>
                          <a:pt x="1330" y="642"/>
                        </a:lnTo>
                        <a:lnTo>
                          <a:pt x="1389" y="696"/>
                        </a:lnTo>
                        <a:lnTo>
                          <a:pt x="1422" y="708"/>
                        </a:lnTo>
                        <a:lnTo>
                          <a:pt x="1456" y="714"/>
                        </a:lnTo>
                        <a:lnTo>
                          <a:pt x="1489" y="714"/>
                        </a:lnTo>
                        <a:lnTo>
                          <a:pt x="1524" y="710"/>
                        </a:lnTo>
                        <a:lnTo>
                          <a:pt x="1557" y="704"/>
                        </a:lnTo>
                        <a:lnTo>
                          <a:pt x="1590" y="698"/>
                        </a:lnTo>
                        <a:lnTo>
                          <a:pt x="1623" y="694"/>
                        </a:lnTo>
                        <a:lnTo>
                          <a:pt x="1658" y="696"/>
                        </a:lnTo>
                        <a:lnTo>
                          <a:pt x="1720" y="706"/>
                        </a:lnTo>
                        <a:lnTo>
                          <a:pt x="1718" y="706"/>
                        </a:lnTo>
                        <a:lnTo>
                          <a:pt x="1742" y="712"/>
                        </a:lnTo>
                        <a:lnTo>
                          <a:pt x="1765" y="718"/>
                        </a:lnTo>
                        <a:lnTo>
                          <a:pt x="1788" y="724"/>
                        </a:lnTo>
                        <a:lnTo>
                          <a:pt x="1813" y="729"/>
                        </a:lnTo>
                        <a:lnTo>
                          <a:pt x="1837" y="733"/>
                        </a:lnTo>
                        <a:lnTo>
                          <a:pt x="1860" y="735"/>
                        </a:lnTo>
                        <a:lnTo>
                          <a:pt x="1883" y="735"/>
                        </a:lnTo>
                        <a:lnTo>
                          <a:pt x="1908" y="733"/>
                        </a:lnTo>
                        <a:lnTo>
                          <a:pt x="1914" y="729"/>
                        </a:lnTo>
                        <a:lnTo>
                          <a:pt x="1926" y="727"/>
                        </a:lnTo>
                        <a:lnTo>
                          <a:pt x="1926" y="741"/>
                        </a:lnTo>
                        <a:lnTo>
                          <a:pt x="1922" y="766"/>
                        </a:lnTo>
                        <a:lnTo>
                          <a:pt x="1920" y="795"/>
                        </a:lnTo>
                        <a:lnTo>
                          <a:pt x="1914" y="821"/>
                        </a:lnTo>
                        <a:lnTo>
                          <a:pt x="1910" y="850"/>
                        </a:lnTo>
                        <a:lnTo>
                          <a:pt x="1903" y="875"/>
                        </a:lnTo>
                        <a:lnTo>
                          <a:pt x="1891" y="904"/>
                        </a:lnTo>
                        <a:lnTo>
                          <a:pt x="1875" y="929"/>
                        </a:lnTo>
                        <a:lnTo>
                          <a:pt x="1858" y="958"/>
                        </a:lnTo>
                        <a:lnTo>
                          <a:pt x="1829" y="987"/>
                        </a:lnTo>
                        <a:lnTo>
                          <a:pt x="1821" y="999"/>
                        </a:lnTo>
                        <a:lnTo>
                          <a:pt x="1790" y="1016"/>
                        </a:lnTo>
                        <a:lnTo>
                          <a:pt x="1759" y="1030"/>
                        </a:lnTo>
                        <a:lnTo>
                          <a:pt x="1728" y="1042"/>
                        </a:lnTo>
                        <a:lnTo>
                          <a:pt x="1699" y="1049"/>
                        </a:lnTo>
                        <a:lnTo>
                          <a:pt x="1668" y="1051"/>
                        </a:lnTo>
                        <a:lnTo>
                          <a:pt x="1639" y="1051"/>
                        </a:lnTo>
                        <a:lnTo>
                          <a:pt x="1608" y="1047"/>
                        </a:lnTo>
                        <a:lnTo>
                          <a:pt x="1579" y="1044"/>
                        </a:lnTo>
                        <a:lnTo>
                          <a:pt x="1538" y="1028"/>
                        </a:lnTo>
                        <a:lnTo>
                          <a:pt x="1497" y="1013"/>
                        </a:lnTo>
                        <a:lnTo>
                          <a:pt x="1458" y="997"/>
                        </a:lnTo>
                        <a:lnTo>
                          <a:pt x="1420" y="983"/>
                        </a:lnTo>
                        <a:lnTo>
                          <a:pt x="1379" y="970"/>
                        </a:lnTo>
                        <a:lnTo>
                          <a:pt x="1340" y="960"/>
                        </a:lnTo>
                        <a:lnTo>
                          <a:pt x="1301" y="950"/>
                        </a:lnTo>
                        <a:lnTo>
                          <a:pt x="1263" y="949"/>
                        </a:lnTo>
                        <a:lnTo>
                          <a:pt x="1245" y="949"/>
                        </a:lnTo>
                        <a:lnTo>
                          <a:pt x="1228" y="950"/>
                        </a:lnTo>
                        <a:lnTo>
                          <a:pt x="1210" y="954"/>
                        </a:lnTo>
                        <a:lnTo>
                          <a:pt x="1193" y="960"/>
                        </a:lnTo>
                        <a:lnTo>
                          <a:pt x="1175" y="966"/>
                        </a:lnTo>
                        <a:lnTo>
                          <a:pt x="1158" y="976"/>
                        </a:lnTo>
                        <a:lnTo>
                          <a:pt x="1140" y="985"/>
                        </a:lnTo>
                        <a:lnTo>
                          <a:pt x="1123" y="999"/>
                        </a:lnTo>
                        <a:lnTo>
                          <a:pt x="1107" y="1007"/>
                        </a:lnTo>
                        <a:lnTo>
                          <a:pt x="1092" y="1020"/>
                        </a:lnTo>
                        <a:lnTo>
                          <a:pt x="1078" y="1034"/>
                        </a:lnTo>
                        <a:lnTo>
                          <a:pt x="1067" y="1049"/>
                        </a:lnTo>
                        <a:lnTo>
                          <a:pt x="1061" y="1053"/>
                        </a:lnTo>
                        <a:lnTo>
                          <a:pt x="1047" y="1055"/>
                        </a:lnTo>
                        <a:close/>
                      </a:path>
                    </a:pathLst>
                  </a:custGeom>
                  <a:solidFill>
                    <a:srgbClr val="6699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294000" y="4991400"/>
                    <a:ext cx="11916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45">
                        <a:moveTo>
                          <a:pt x="58" y="145"/>
                        </a:moveTo>
                        <a:lnTo>
                          <a:pt x="17" y="124"/>
                        </a:lnTo>
                        <a:lnTo>
                          <a:pt x="9" y="116"/>
                        </a:lnTo>
                        <a:lnTo>
                          <a:pt x="4" y="105"/>
                        </a:lnTo>
                        <a:lnTo>
                          <a:pt x="0" y="89"/>
                        </a:lnTo>
                        <a:lnTo>
                          <a:pt x="0" y="75"/>
                        </a:lnTo>
                        <a:lnTo>
                          <a:pt x="0" y="60"/>
                        </a:lnTo>
                        <a:lnTo>
                          <a:pt x="2" y="46"/>
                        </a:lnTo>
                        <a:lnTo>
                          <a:pt x="17" y="11"/>
                        </a:lnTo>
                        <a:lnTo>
                          <a:pt x="35" y="0"/>
                        </a:lnTo>
                        <a:lnTo>
                          <a:pt x="42" y="2"/>
                        </a:lnTo>
                        <a:lnTo>
                          <a:pt x="38" y="6"/>
                        </a:lnTo>
                        <a:lnTo>
                          <a:pt x="15" y="44"/>
                        </a:lnTo>
                        <a:lnTo>
                          <a:pt x="9" y="62"/>
                        </a:lnTo>
                        <a:lnTo>
                          <a:pt x="13" y="91"/>
                        </a:lnTo>
                        <a:lnTo>
                          <a:pt x="17" y="103"/>
                        </a:lnTo>
                        <a:lnTo>
                          <a:pt x="27" y="116"/>
                        </a:lnTo>
                        <a:lnTo>
                          <a:pt x="37" y="122"/>
                        </a:lnTo>
                        <a:lnTo>
                          <a:pt x="77" y="130"/>
                        </a:lnTo>
                        <a:lnTo>
                          <a:pt x="102" y="116"/>
                        </a:lnTo>
                        <a:lnTo>
                          <a:pt x="133" y="91"/>
                        </a:lnTo>
                        <a:lnTo>
                          <a:pt x="137" y="89"/>
                        </a:lnTo>
                        <a:lnTo>
                          <a:pt x="151" y="83"/>
                        </a:lnTo>
                        <a:lnTo>
                          <a:pt x="139" y="108"/>
                        </a:lnTo>
                        <a:lnTo>
                          <a:pt x="128" y="116"/>
                        </a:lnTo>
                        <a:lnTo>
                          <a:pt x="89" y="143"/>
                        </a:lnTo>
                        <a:lnTo>
                          <a:pt x="58" y="1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867280" y="5054760"/>
                    <a:ext cx="3463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45">
                        <a:moveTo>
                          <a:pt x="237" y="43"/>
                        </a:moveTo>
                        <a:lnTo>
                          <a:pt x="208" y="41"/>
                        </a:lnTo>
                        <a:lnTo>
                          <a:pt x="181" y="39"/>
                        </a:lnTo>
                        <a:lnTo>
                          <a:pt x="152" y="33"/>
                        </a:lnTo>
                        <a:lnTo>
                          <a:pt x="124" y="28"/>
                        </a:lnTo>
                        <a:lnTo>
                          <a:pt x="95" y="22"/>
                        </a:lnTo>
                        <a:lnTo>
                          <a:pt x="68" y="16"/>
                        </a:lnTo>
                        <a:lnTo>
                          <a:pt x="39" y="14"/>
                        </a:lnTo>
                        <a:lnTo>
                          <a:pt x="12" y="16"/>
                        </a:lnTo>
                        <a:lnTo>
                          <a:pt x="0" y="16"/>
                        </a:lnTo>
                        <a:lnTo>
                          <a:pt x="8" y="6"/>
                        </a:lnTo>
                        <a:lnTo>
                          <a:pt x="57" y="4"/>
                        </a:lnTo>
                        <a:lnTo>
                          <a:pt x="107" y="10"/>
                        </a:lnTo>
                        <a:lnTo>
                          <a:pt x="155" y="16"/>
                        </a:lnTo>
                        <a:lnTo>
                          <a:pt x="206" y="24"/>
                        </a:lnTo>
                        <a:lnTo>
                          <a:pt x="254" y="28"/>
                        </a:lnTo>
                        <a:lnTo>
                          <a:pt x="305" y="28"/>
                        </a:lnTo>
                        <a:lnTo>
                          <a:pt x="355" y="22"/>
                        </a:lnTo>
                        <a:lnTo>
                          <a:pt x="406" y="12"/>
                        </a:lnTo>
                        <a:lnTo>
                          <a:pt x="417" y="8"/>
                        </a:lnTo>
                        <a:lnTo>
                          <a:pt x="437" y="0"/>
                        </a:lnTo>
                        <a:lnTo>
                          <a:pt x="425" y="16"/>
                        </a:lnTo>
                        <a:lnTo>
                          <a:pt x="413" y="24"/>
                        </a:lnTo>
                        <a:lnTo>
                          <a:pt x="404" y="26"/>
                        </a:lnTo>
                        <a:lnTo>
                          <a:pt x="382" y="29"/>
                        </a:lnTo>
                        <a:lnTo>
                          <a:pt x="363" y="35"/>
                        </a:lnTo>
                        <a:lnTo>
                          <a:pt x="342" y="37"/>
                        </a:lnTo>
                        <a:lnTo>
                          <a:pt x="322" y="41"/>
                        </a:lnTo>
                        <a:lnTo>
                          <a:pt x="301" y="41"/>
                        </a:lnTo>
                        <a:lnTo>
                          <a:pt x="282" y="43"/>
                        </a:lnTo>
                        <a:lnTo>
                          <a:pt x="260" y="43"/>
                        </a:lnTo>
                        <a:lnTo>
                          <a:pt x="241" y="45"/>
                        </a:lnTo>
                        <a:lnTo>
                          <a:pt x="237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024360" y="4797720"/>
                    <a:ext cx="13176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49">
                        <a:moveTo>
                          <a:pt x="117" y="349"/>
                        </a:moveTo>
                        <a:lnTo>
                          <a:pt x="95" y="335"/>
                        </a:lnTo>
                        <a:lnTo>
                          <a:pt x="95" y="331"/>
                        </a:lnTo>
                        <a:lnTo>
                          <a:pt x="89" y="318"/>
                        </a:lnTo>
                        <a:lnTo>
                          <a:pt x="89" y="306"/>
                        </a:lnTo>
                        <a:lnTo>
                          <a:pt x="93" y="294"/>
                        </a:lnTo>
                        <a:lnTo>
                          <a:pt x="99" y="283"/>
                        </a:lnTo>
                        <a:lnTo>
                          <a:pt x="78" y="279"/>
                        </a:lnTo>
                        <a:lnTo>
                          <a:pt x="64" y="265"/>
                        </a:lnTo>
                        <a:lnTo>
                          <a:pt x="58" y="236"/>
                        </a:lnTo>
                        <a:lnTo>
                          <a:pt x="72" y="221"/>
                        </a:lnTo>
                        <a:lnTo>
                          <a:pt x="60" y="215"/>
                        </a:lnTo>
                        <a:lnTo>
                          <a:pt x="47" y="215"/>
                        </a:lnTo>
                        <a:lnTo>
                          <a:pt x="33" y="205"/>
                        </a:lnTo>
                        <a:lnTo>
                          <a:pt x="31" y="172"/>
                        </a:lnTo>
                        <a:lnTo>
                          <a:pt x="41" y="159"/>
                        </a:lnTo>
                        <a:lnTo>
                          <a:pt x="41" y="153"/>
                        </a:lnTo>
                        <a:lnTo>
                          <a:pt x="8" y="139"/>
                        </a:lnTo>
                        <a:lnTo>
                          <a:pt x="4" y="131"/>
                        </a:lnTo>
                        <a:lnTo>
                          <a:pt x="2" y="118"/>
                        </a:lnTo>
                        <a:lnTo>
                          <a:pt x="4" y="106"/>
                        </a:lnTo>
                        <a:lnTo>
                          <a:pt x="8" y="93"/>
                        </a:lnTo>
                        <a:lnTo>
                          <a:pt x="16" y="81"/>
                        </a:lnTo>
                        <a:lnTo>
                          <a:pt x="22" y="71"/>
                        </a:lnTo>
                        <a:lnTo>
                          <a:pt x="14" y="69"/>
                        </a:lnTo>
                        <a:lnTo>
                          <a:pt x="4" y="50"/>
                        </a:lnTo>
                        <a:lnTo>
                          <a:pt x="0" y="38"/>
                        </a:lnTo>
                        <a:lnTo>
                          <a:pt x="2" y="27"/>
                        </a:lnTo>
                        <a:lnTo>
                          <a:pt x="6" y="17"/>
                        </a:lnTo>
                        <a:lnTo>
                          <a:pt x="16" y="7"/>
                        </a:lnTo>
                        <a:lnTo>
                          <a:pt x="45" y="0"/>
                        </a:lnTo>
                        <a:lnTo>
                          <a:pt x="45" y="9"/>
                        </a:lnTo>
                        <a:lnTo>
                          <a:pt x="47" y="21"/>
                        </a:lnTo>
                        <a:lnTo>
                          <a:pt x="47" y="31"/>
                        </a:lnTo>
                        <a:lnTo>
                          <a:pt x="51" y="40"/>
                        </a:lnTo>
                        <a:lnTo>
                          <a:pt x="53" y="50"/>
                        </a:lnTo>
                        <a:lnTo>
                          <a:pt x="58" y="60"/>
                        </a:lnTo>
                        <a:lnTo>
                          <a:pt x="62" y="71"/>
                        </a:lnTo>
                        <a:lnTo>
                          <a:pt x="72" y="83"/>
                        </a:lnTo>
                        <a:lnTo>
                          <a:pt x="109" y="129"/>
                        </a:lnTo>
                        <a:lnTo>
                          <a:pt x="150" y="209"/>
                        </a:lnTo>
                        <a:lnTo>
                          <a:pt x="152" y="221"/>
                        </a:lnTo>
                        <a:lnTo>
                          <a:pt x="163" y="248"/>
                        </a:lnTo>
                        <a:lnTo>
                          <a:pt x="165" y="250"/>
                        </a:lnTo>
                        <a:lnTo>
                          <a:pt x="157" y="261"/>
                        </a:lnTo>
                        <a:lnTo>
                          <a:pt x="152" y="273"/>
                        </a:lnTo>
                        <a:lnTo>
                          <a:pt x="148" y="285"/>
                        </a:lnTo>
                        <a:lnTo>
                          <a:pt x="144" y="298"/>
                        </a:lnTo>
                        <a:lnTo>
                          <a:pt x="138" y="310"/>
                        </a:lnTo>
                        <a:lnTo>
                          <a:pt x="136" y="323"/>
                        </a:lnTo>
                        <a:lnTo>
                          <a:pt x="132" y="335"/>
                        </a:lnTo>
                        <a:lnTo>
                          <a:pt x="130" y="349"/>
                        </a:lnTo>
                        <a:lnTo>
                          <a:pt x="117" y="349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641920" y="4989600"/>
                    <a:ext cx="352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09">
                        <a:moveTo>
                          <a:pt x="0" y="107"/>
                        </a:moveTo>
                        <a:lnTo>
                          <a:pt x="12" y="87"/>
                        </a:lnTo>
                        <a:lnTo>
                          <a:pt x="27" y="72"/>
                        </a:lnTo>
                        <a:lnTo>
                          <a:pt x="43" y="56"/>
                        </a:lnTo>
                        <a:lnTo>
                          <a:pt x="60" y="45"/>
                        </a:lnTo>
                        <a:lnTo>
                          <a:pt x="78" y="33"/>
                        </a:lnTo>
                        <a:lnTo>
                          <a:pt x="97" y="23"/>
                        </a:lnTo>
                        <a:lnTo>
                          <a:pt x="115" y="15"/>
                        </a:lnTo>
                        <a:lnTo>
                          <a:pt x="134" y="10"/>
                        </a:lnTo>
                        <a:lnTo>
                          <a:pt x="171" y="2"/>
                        </a:lnTo>
                        <a:lnTo>
                          <a:pt x="210" y="0"/>
                        </a:lnTo>
                        <a:lnTo>
                          <a:pt x="248" y="0"/>
                        </a:lnTo>
                        <a:lnTo>
                          <a:pt x="287" y="4"/>
                        </a:lnTo>
                        <a:lnTo>
                          <a:pt x="324" y="8"/>
                        </a:lnTo>
                        <a:lnTo>
                          <a:pt x="363" y="13"/>
                        </a:lnTo>
                        <a:lnTo>
                          <a:pt x="402" y="21"/>
                        </a:lnTo>
                        <a:lnTo>
                          <a:pt x="440" y="31"/>
                        </a:lnTo>
                        <a:lnTo>
                          <a:pt x="444" y="41"/>
                        </a:lnTo>
                        <a:lnTo>
                          <a:pt x="404" y="35"/>
                        </a:lnTo>
                        <a:lnTo>
                          <a:pt x="365" y="29"/>
                        </a:lnTo>
                        <a:lnTo>
                          <a:pt x="326" y="23"/>
                        </a:lnTo>
                        <a:lnTo>
                          <a:pt x="289" y="21"/>
                        </a:lnTo>
                        <a:lnTo>
                          <a:pt x="248" y="15"/>
                        </a:lnTo>
                        <a:lnTo>
                          <a:pt x="210" y="15"/>
                        </a:lnTo>
                        <a:lnTo>
                          <a:pt x="171" y="17"/>
                        </a:lnTo>
                        <a:lnTo>
                          <a:pt x="134" y="25"/>
                        </a:lnTo>
                        <a:lnTo>
                          <a:pt x="70" y="56"/>
                        </a:lnTo>
                        <a:lnTo>
                          <a:pt x="8" y="109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551560" y="4894560"/>
                    <a:ext cx="1918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11">
                        <a:moveTo>
                          <a:pt x="0" y="211"/>
                        </a:moveTo>
                        <a:lnTo>
                          <a:pt x="6" y="184"/>
                        </a:lnTo>
                        <a:lnTo>
                          <a:pt x="19" y="157"/>
                        </a:lnTo>
                        <a:lnTo>
                          <a:pt x="35" y="128"/>
                        </a:lnTo>
                        <a:lnTo>
                          <a:pt x="56" y="102"/>
                        </a:lnTo>
                        <a:lnTo>
                          <a:pt x="77" y="75"/>
                        </a:lnTo>
                        <a:lnTo>
                          <a:pt x="103" y="54"/>
                        </a:lnTo>
                        <a:lnTo>
                          <a:pt x="128" y="35"/>
                        </a:lnTo>
                        <a:lnTo>
                          <a:pt x="157" y="21"/>
                        </a:lnTo>
                        <a:lnTo>
                          <a:pt x="229" y="0"/>
                        </a:lnTo>
                        <a:lnTo>
                          <a:pt x="240" y="2"/>
                        </a:lnTo>
                        <a:lnTo>
                          <a:pt x="234" y="9"/>
                        </a:lnTo>
                        <a:lnTo>
                          <a:pt x="213" y="17"/>
                        </a:lnTo>
                        <a:lnTo>
                          <a:pt x="143" y="42"/>
                        </a:lnTo>
                        <a:lnTo>
                          <a:pt x="135" y="50"/>
                        </a:lnTo>
                        <a:lnTo>
                          <a:pt x="114" y="64"/>
                        </a:lnTo>
                        <a:lnTo>
                          <a:pt x="106" y="75"/>
                        </a:lnTo>
                        <a:lnTo>
                          <a:pt x="87" y="91"/>
                        </a:lnTo>
                        <a:lnTo>
                          <a:pt x="71" y="106"/>
                        </a:lnTo>
                        <a:lnTo>
                          <a:pt x="58" y="122"/>
                        </a:lnTo>
                        <a:lnTo>
                          <a:pt x="46" y="139"/>
                        </a:lnTo>
                        <a:lnTo>
                          <a:pt x="35" y="157"/>
                        </a:lnTo>
                        <a:lnTo>
                          <a:pt x="25" y="174"/>
                        </a:lnTo>
                        <a:lnTo>
                          <a:pt x="15" y="192"/>
                        </a:lnTo>
                        <a:lnTo>
                          <a:pt x="9" y="209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214800" y="500076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9">
                        <a:moveTo>
                          <a:pt x="21" y="37"/>
                        </a:moveTo>
                        <a:lnTo>
                          <a:pt x="9" y="18"/>
                        </a:lnTo>
                        <a:lnTo>
                          <a:pt x="0" y="4"/>
                        </a:lnTo>
                        <a:lnTo>
                          <a:pt x="6" y="0"/>
                        </a:lnTo>
                        <a:lnTo>
                          <a:pt x="27" y="39"/>
                        </a:lnTo>
                        <a:lnTo>
                          <a:pt x="21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5486400" y="4859640"/>
                    <a:ext cx="446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8">
                        <a:moveTo>
                          <a:pt x="0" y="208"/>
                        </a:moveTo>
                        <a:lnTo>
                          <a:pt x="0" y="180"/>
                        </a:lnTo>
                        <a:lnTo>
                          <a:pt x="4" y="155"/>
                        </a:lnTo>
                        <a:lnTo>
                          <a:pt x="8" y="128"/>
                        </a:lnTo>
                        <a:lnTo>
                          <a:pt x="16" y="103"/>
                        </a:lnTo>
                        <a:lnTo>
                          <a:pt x="22" y="76"/>
                        </a:lnTo>
                        <a:lnTo>
                          <a:pt x="31" y="50"/>
                        </a:lnTo>
                        <a:lnTo>
                          <a:pt x="41" y="25"/>
                        </a:lnTo>
                        <a:lnTo>
                          <a:pt x="57" y="0"/>
                        </a:lnTo>
                        <a:lnTo>
                          <a:pt x="55" y="29"/>
                        </a:lnTo>
                        <a:lnTo>
                          <a:pt x="43" y="50"/>
                        </a:lnTo>
                        <a:lnTo>
                          <a:pt x="37" y="72"/>
                        </a:lnTo>
                        <a:lnTo>
                          <a:pt x="31" y="95"/>
                        </a:lnTo>
                        <a:lnTo>
                          <a:pt x="27" y="118"/>
                        </a:lnTo>
                        <a:lnTo>
                          <a:pt x="22" y="140"/>
                        </a:lnTo>
                        <a:lnTo>
                          <a:pt x="16" y="163"/>
                        </a:lnTo>
                        <a:lnTo>
                          <a:pt x="10" y="184"/>
                        </a:lnTo>
                        <a:lnTo>
                          <a:pt x="4" y="208"/>
                        </a:lnTo>
                        <a:lnTo>
                          <a:pt x="0" y="2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100320" y="4580280"/>
                    <a:ext cx="47016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551">
                        <a:moveTo>
                          <a:pt x="313" y="549"/>
                        </a:moveTo>
                        <a:lnTo>
                          <a:pt x="311" y="547"/>
                        </a:lnTo>
                        <a:lnTo>
                          <a:pt x="311" y="541"/>
                        </a:lnTo>
                        <a:lnTo>
                          <a:pt x="342" y="524"/>
                        </a:lnTo>
                        <a:lnTo>
                          <a:pt x="332" y="497"/>
                        </a:lnTo>
                        <a:lnTo>
                          <a:pt x="326" y="477"/>
                        </a:lnTo>
                        <a:lnTo>
                          <a:pt x="320" y="458"/>
                        </a:lnTo>
                        <a:lnTo>
                          <a:pt x="316" y="438"/>
                        </a:lnTo>
                        <a:lnTo>
                          <a:pt x="320" y="421"/>
                        </a:lnTo>
                        <a:lnTo>
                          <a:pt x="311" y="419"/>
                        </a:lnTo>
                        <a:lnTo>
                          <a:pt x="293" y="413"/>
                        </a:lnTo>
                        <a:lnTo>
                          <a:pt x="278" y="409"/>
                        </a:lnTo>
                        <a:lnTo>
                          <a:pt x="262" y="400"/>
                        </a:lnTo>
                        <a:lnTo>
                          <a:pt x="247" y="390"/>
                        </a:lnTo>
                        <a:lnTo>
                          <a:pt x="231" y="378"/>
                        </a:lnTo>
                        <a:lnTo>
                          <a:pt x="216" y="369"/>
                        </a:lnTo>
                        <a:lnTo>
                          <a:pt x="200" y="359"/>
                        </a:lnTo>
                        <a:lnTo>
                          <a:pt x="186" y="355"/>
                        </a:lnTo>
                        <a:lnTo>
                          <a:pt x="175" y="359"/>
                        </a:lnTo>
                        <a:lnTo>
                          <a:pt x="163" y="363"/>
                        </a:lnTo>
                        <a:lnTo>
                          <a:pt x="152" y="363"/>
                        </a:lnTo>
                        <a:lnTo>
                          <a:pt x="142" y="365"/>
                        </a:lnTo>
                        <a:lnTo>
                          <a:pt x="130" y="361"/>
                        </a:lnTo>
                        <a:lnTo>
                          <a:pt x="119" y="359"/>
                        </a:lnTo>
                        <a:lnTo>
                          <a:pt x="109" y="353"/>
                        </a:lnTo>
                        <a:lnTo>
                          <a:pt x="99" y="349"/>
                        </a:lnTo>
                        <a:lnTo>
                          <a:pt x="76" y="326"/>
                        </a:lnTo>
                        <a:lnTo>
                          <a:pt x="70" y="326"/>
                        </a:lnTo>
                        <a:lnTo>
                          <a:pt x="51" y="339"/>
                        </a:lnTo>
                        <a:lnTo>
                          <a:pt x="35" y="345"/>
                        </a:lnTo>
                        <a:lnTo>
                          <a:pt x="0" y="324"/>
                        </a:lnTo>
                        <a:lnTo>
                          <a:pt x="0" y="316"/>
                        </a:lnTo>
                        <a:lnTo>
                          <a:pt x="39" y="332"/>
                        </a:lnTo>
                        <a:lnTo>
                          <a:pt x="76" y="301"/>
                        </a:lnTo>
                        <a:lnTo>
                          <a:pt x="88" y="295"/>
                        </a:lnTo>
                        <a:lnTo>
                          <a:pt x="103" y="295"/>
                        </a:lnTo>
                        <a:lnTo>
                          <a:pt x="113" y="299"/>
                        </a:lnTo>
                        <a:lnTo>
                          <a:pt x="109" y="308"/>
                        </a:lnTo>
                        <a:lnTo>
                          <a:pt x="86" y="314"/>
                        </a:lnTo>
                        <a:lnTo>
                          <a:pt x="91" y="322"/>
                        </a:lnTo>
                        <a:lnTo>
                          <a:pt x="101" y="328"/>
                        </a:lnTo>
                        <a:lnTo>
                          <a:pt x="113" y="336"/>
                        </a:lnTo>
                        <a:lnTo>
                          <a:pt x="122" y="341"/>
                        </a:lnTo>
                        <a:lnTo>
                          <a:pt x="134" y="347"/>
                        </a:lnTo>
                        <a:lnTo>
                          <a:pt x="146" y="347"/>
                        </a:lnTo>
                        <a:lnTo>
                          <a:pt x="157" y="349"/>
                        </a:lnTo>
                        <a:lnTo>
                          <a:pt x="169" y="345"/>
                        </a:lnTo>
                        <a:lnTo>
                          <a:pt x="181" y="339"/>
                        </a:lnTo>
                        <a:lnTo>
                          <a:pt x="249" y="272"/>
                        </a:lnTo>
                        <a:lnTo>
                          <a:pt x="280" y="258"/>
                        </a:lnTo>
                        <a:lnTo>
                          <a:pt x="297" y="254"/>
                        </a:lnTo>
                        <a:lnTo>
                          <a:pt x="347" y="229"/>
                        </a:lnTo>
                        <a:lnTo>
                          <a:pt x="363" y="211"/>
                        </a:lnTo>
                        <a:lnTo>
                          <a:pt x="378" y="194"/>
                        </a:lnTo>
                        <a:lnTo>
                          <a:pt x="390" y="177"/>
                        </a:lnTo>
                        <a:lnTo>
                          <a:pt x="404" y="159"/>
                        </a:lnTo>
                        <a:lnTo>
                          <a:pt x="410" y="140"/>
                        </a:lnTo>
                        <a:lnTo>
                          <a:pt x="417" y="122"/>
                        </a:lnTo>
                        <a:lnTo>
                          <a:pt x="419" y="105"/>
                        </a:lnTo>
                        <a:lnTo>
                          <a:pt x="421" y="87"/>
                        </a:lnTo>
                        <a:lnTo>
                          <a:pt x="419" y="76"/>
                        </a:lnTo>
                        <a:lnTo>
                          <a:pt x="417" y="72"/>
                        </a:lnTo>
                        <a:lnTo>
                          <a:pt x="382" y="80"/>
                        </a:lnTo>
                        <a:lnTo>
                          <a:pt x="378" y="82"/>
                        </a:lnTo>
                        <a:lnTo>
                          <a:pt x="365" y="105"/>
                        </a:lnTo>
                        <a:lnTo>
                          <a:pt x="359" y="97"/>
                        </a:lnTo>
                        <a:lnTo>
                          <a:pt x="365" y="76"/>
                        </a:lnTo>
                        <a:lnTo>
                          <a:pt x="392" y="58"/>
                        </a:lnTo>
                        <a:lnTo>
                          <a:pt x="421" y="49"/>
                        </a:lnTo>
                        <a:lnTo>
                          <a:pt x="442" y="31"/>
                        </a:lnTo>
                        <a:lnTo>
                          <a:pt x="444" y="6"/>
                        </a:lnTo>
                        <a:lnTo>
                          <a:pt x="448" y="0"/>
                        </a:lnTo>
                        <a:lnTo>
                          <a:pt x="458" y="6"/>
                        </a:lnTo>
                        <a:lnTo>
                          <a:pt x="458" y="25"/>
                        </a:lnTo>
                        <a:lnTo>
                          <a:pt x="448" y="47"/>
                        </a:lnTo>
                        <a:lnTo>
                          <a:pt x="433" y="62"/>
                        </a:lnTo>
                        <a:lnTo>
                          <a:pt x="429" y="64"/>
                        </a:lnTo>
                        <a:lnTo>
                          <a:pt x="468" y="105"/>
                        </a:lnTo>
                        <a:lnTo>
                          <a:pt x="475" y="111"/>
                        </a:lnTo>
                        <a:lnTo>
                          <a:pt x="483" y="120"/>
                        </a:lnTo>
                        <a:lnTo>
                          <a:pt x="487" y="128"/>
                        </a:lnTo>
                        <a:lnTo>
                          <a:pt x="506" y="155"/>
                        </a:lnTo>
                        <a:lnTo>
                          <a:pt x="514" y="163"/>
                        </a:lnTo>
                        <a:lnTo>
                          <a:pt x="534" y="196"/>
                        </a:lnTo>
                        <a:lnTo>
                          <a:pt x="545" y="208"/>
                        </a:lnTo>
                        <a:lnTo>
                          <a:pt x="547" y="211"/>
                        </a:lnTo>
                        <a:lnTo>
                          <a:pt x="563" y="235"/>
                        </a:lnTo>
                        <a:lnTo>
                          <a:pt x="569" y="252"/>
                        </a:lnTo>
                        <a:lnTo>
                          <a:pt x="578" y="272"/>
                        </a:lnTo>
                        <a:lnTo>
                          <a:pt x="584" y="289"/>
                        </a:lnTo>
                        <a:lnTo>
                          <a:pt x="590" y="308"/>
                        </a:lnTo>
                        <a:lnTo>
                          <a:pt x="592" y="324"/>
                        </a:lnTo>
                        <a:lnTo>
                          <a:pt x="594" y="339"/>
                        </a:lnTo>
                        <a:lnTo>
                          <a:pt x="592" y="355"/>
                        </a:lnTo>
                        <a:lnTo>
                          <a:pt x="592" y="372"/>
                        </a:lnTo>
                        <a:lnTo>
                          <a:pt x="584" y="386"/>
                        </a:lnTo>
                        <a:lnTo>
                          <a:pt x="578" y="401"/>
                        </a:lnTo>
                        <a:lnTo>
                          <a:pt x="570" y="419"/>
                        </a:lnTo>
                        <a:lnTo>
                          <a:pt x="561" y="436"/>
                        </a:lnTo>
                        <a:lnTo>
                          <a:pt x="503" y="489"/>
                        </a:lnTo>
                        <a:lnTo>
                          <a:pt x="464" y="508"/>
                        </a:lnTo>
                        <a:lnTo>
                          <a:pt x="456" y="510"/>
                        </a:lnTo>
                        <a:lnTo>
                          <a:pt x="433" y="522"/>
                        </a:lnTo>
                        <a:lnTo>
                          <a:pt x="363" y="537"/>
                        </a:lnTo>
                        <a:lnTo>
                          <a:pt x="338" y="545"/>
                        </a:lnTo>
                        <a:lnTo>
                          <a:pt x="328" y="547"/>
                        </a:lnTo>
                        <a:lnTo>
                          <a:pt x="316" y="551"/>
                        </a:lnTo>
                        <a:lnTo>
                          <a:pt x="313" y="5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6097680" y="4981680"/>
                    <a:ext cx="81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33">
                        <a:moveTo>
                          <a:pt x="10" y="33"/>
                        </a:moveTo>
                        <a:lnTo>
                          <a:pt x="0" y="31"/>
                        </a:lnTo>
                        <a:lnTo>
                          <a:pt x="89" y="0"/>
                        </a:lnTo>
                        <a:lnTo>
                          <a:pt x="103" y="0"/>
                        </a:lnTo>
                        <a:lnTo>
                          <a:pt x="91" y="14"/>
                        </a:lnTo>
                        <a:lnTo>
                          <a:pt x="60" y="27"/>
                        </a:lnTo>
                        <a:lnTo>
                          <a:pt x="1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259080" y="4658040"/>
                    <a:ext cx="3002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427">
                        <a:moveTo>
                          <a:pt x="153" y="425"/>
                        </a:moveTo>
                        <a:lnTo>
                          <a:pt x="151" y="423"/>
                        </a:lnTo>
                        <a:lnTo>
                          <a:pt x="147" y="411"/>
                        </a:lnTo>
                        <a:lnTo>
                          <a:pt x="144" y="407"/>
                        </a:lnTo>
                        <a:lnTo>
                          <a:pt x="138" y="372"/>
                        </a:lnTo>
                        <a:lnTo>
                          <a:pt x="132" y="330"/>
                        </a:lnTo>
                        <a:lnTo>
                          <a:pt x="142" y="312"/>
                        </a:lnTo>
                        <a:lnTo>
                          <a:pt x="155" y="306"/>
                        </a:lnTo>
                        <a:lnTo>
                          <a:pt x="128" y="306"/>
                        </a:lnTo>
                        <a:lnTo>
                          <a:pt x="91" y="303"/>
                        </a:lnTo>
                        <a:lnTo>
                          <a:pt x="72" y="293"/>
                        </a:lnTo>
                        <a:lnTo>
                          <a:pt x="52" y="277"/>
                        </a:lnTo>
                        <a:lnTo>
                          <a:pt x="35" y="268"/>
                        </a:lnTo>
                        <a:lnTo>
                          <a:pt x="18" y="256"/>
                        </a:lnTo>
                        <a:lnTo>
                          <a:pt x="0" y="248"/>
                        </a:lnTo>
                        <a:lnTo>
                          <a:pt x="31" y="213"/>
                        </a:lnTo>
                        <a:lnTo>
                          <a:pt x="68" y="186"/>
                        </a:lnTo>
                        <a:lnTo>
                          <a:pt x="107" y="163"/>
                        </a:lnTo>
                        <a:lnTo>
                          <a:pt x="146" y="142"/>
                        </a:lnTo>
                        <a:lnTo>
                          <a:pt x="178" y="116"/>
                        </a:lnTo>
                        <a:lnTo>
                          <a:pt x="208" y="91"/>
                        </a:lnTo>
                        <a:lnTo>
                          <a:pt x="229" y="54"/>
                        </a:lnTo>
                        <a:lnTo>
                          <a:pt x="239" y="12"/>
                        </a:lnTo>
                        <a:lnTo>
                          <a:pt x="241" y="0"/>
                        </a:lnTo>
                        <a:lnTo>
                          <a:pt x="305" y="78"/>
                        </a:lnTo>
                        <a:lnTo>
                          <a:pt x="312" y="89"/>
                        </a:lnTo>
                        <a:lnTo>
                          <a:pt x="322" y="105"/>
                        </a:lnTo>
                        <a:lnTo>
                          <a:pt x="330" y="116"/>
                        </a:lnTo>
                        <a:lnTo>
                          <a:pt x="339" y="132"/>
                        </a:lnTo>
                        <a:lnTo>
                          <a:pt x="347" y="145"/>
                        </a:lnTo>
                        <a:lnTo>
                          <a:pt x="355" y="161"/>
                        </a:lnTo>
                        <a:lnTo>
                          <a:pt x="361" y="175"/>
                        </a:lnTo>
                        <a:lnTo>
                          <a:pt x="367" y="190"/>
                        </a:lnTo>
                        <a:lnTo>
                          <a:pt x="378" y="250"/>
                        </a:lnTo>
                        <a:lnTo>
                          <a:pt x="376" y="264"/>
                        </a:lnTo>
                        <a:lnTo>
                          <a:pt x="372" y="279"/>
                        </a:lnTo>
                        <a:lnTo>
                          <a:pt x="365" y="295"/>
                        </a:lnTo>
                        <a:lnTo>
                          <a:pt x="359" y="310"/>
                        </a:lnTo>
                        <a:lnTo>
                          <a:pt x="347" y="324"/>
                        </a:lnTo>
                        <a:lnTo>
                          <a:pt x="336" y="339"/>
                        </a:lnTo>
                        <a:lnTo>
                          <a:pt x="322" y="353"/>
                        </a:lnTo>
                        <a:lnTo>
                          <a:pt x="308" y="368"/>
                        </a:lnTo>
                        <a:lnTo>
                          <a:pt x="293" y="380"/>
                        </a:lnTo>
                        <a:lnTo>
                          <a:pt x="275" y="390"/>
                        </a:lnTo>
                        <a:lnTo>
                          <a:pt x="258" y="398"/>
                        </a:lnTo>
                        <a:lnTo>
                          <a:pt x="241" y="403"/>
                        </a:lnTo>
                        <a:lnTo>
                          <a:pt x="225" y="409"/>
                        </a:lnTo>
                        <a:lnTo>
                          <a:pt x="208" y="411"/>
                        </a:lnTo>
                        <a:lnTo>
                          <a:pt x="190" y="417"/>
                        </a:lnTo>
                        <a:lnTo>
                          <a:pt x="173" y="421"/>
                        </a:lnTo>
                        <a:lnTo>
                          <a:pt x="157" y="427"/>
                        </a:lnTo>
                        <a:lnTo>
                          <a:pt x="153" y="42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4049640" y="4945320"/>
                    <a:ext cx="874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0">
                        <a:moveTo>
                          <a:pt x="110" y="60"/>
                        </a:moveTo>
                        <a:lnTo>
                          <a:pt x="93" y="50"/>
                        </a:lnTo>
                        <a:lnTo>
                          <a:pt x="74" y="33"/>
                        </a:lnTo>
                        <a:lnTo>
                          <a:pt x="54" y="25"/>
                        </a:lnTo>
                        <a:lnTo>
                          <a:pt x="37" y="17"/>
                        </a:lnTo>
                        <a:lnTo>
                          <a:pt x="17" y="11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29" y="2"/>
                        </a:lnTo>
                        <a:lnTo>
                          <a:pt x="109" y="50"/>
                        </a:lnTo>
                        <a:lnTo>
                          <a:pt x="110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353200" y="4731120"/>
                    <a:ext cx="7596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252">
                        <a:moveTo>
                          <a:pt x="89" y="252"/>
                        </a:moveTo>
                        <a:lnTo>
                          <a:pt x="75" y="221"/>
                        </a:lnTo>
                        <a:lnTo>
                          <a:pt x="65" y="192"/>
                        </a:lnTo>
                        <a:lnTo>
                          <a:pt x="54" y="163"/>
                        </a:lnTo>
                        <a:lnTo>
                          <a:pt x="46" y="134"/>
                        </a:lnTo>
                        <a:lnTo>
                          <a:pt x="36" y="103"/>
                        </a:lnTo>
                        <a:lnTo>
                          <a:pt x="27" y="74"/>
                        </a:lnTo>
                        <a:lnTo>
                          <a:pt x="13" y="43"/>
                        </a:lnTo>
                        <a:lnTo>
                          <a:pt x="1" y="14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13" y="4"/>
                        </a:lnTo>
                        <a:lnTo>
                          <a:pt x="56" y="105"/>
                        </a:lnTo>
                        <a:lnTo>
                          <a:pt x="87" y="213"/>
                        </a:lnTo>
                        <a:lnTo>
                          <a:pt x="89" y="223"/>
                        </a:lnTo>
                        <a:lnTo>
                          <a:pt x="95" y="252"/>
                        </a:lnTo>
                        <a:lnTo>
                          <a:pt x="89" y="2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4935600" y="4699080"/>
                    <a:ext cx="25560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285">
                        <a:moveTo>
                          <a:pt x="322" y="285"/>
                        </a:moveTo>
                        <a:lnTo>
                          <a:pt x="283" y="247"/>
                        </a:lnTo>
                        <a:lnTo>
                          <a:pt x="246" y="214"/>
                        </a:lnTo>
                        <a:lnTo>
                          <a:pt x="208" y="185"/>
                        </a:lnTo>
                        <a:lnTo>
                          <a:pt x="171" y="159"/>
                        </a:lnTo>
                        <a:lnTo>
                          <a:pt x="132" y="130"/>
                        </a:lnTo>
                        <a:lnTo>
                          <a:pt x="95" y="103"/>
                        </a:lnTo>
                        <a:lnTo>
                          <a:pt x="58" y="72"/>
                        </a:lnTo>
                        <a:lnTo>
                          <a:pt x="21" y="39"/>
                        </a:lnTo>
                        <a:lnTo>
                          <a:pt x="12" y="29"/>
                        </a:lnTo>
                        <a:lnTo>
                          <a:pt x="6" y="20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41" y="37"/>
                        </a:lnTo>
                        <a:lnTo>
                          <a:pt x="82" y="72"/>
                        </a:lnTo>
                        <a:lnTo>
                          <a:pt x="122" y="103"/>
                        </a:lnTo>
                        <a:lnTo>
                          <a:pt x="165" y="134"/>
                        </a:lnTo>
                        <a:lnTo>
                          <a:pt x="204" y="163"/>
                        </a:lnTo>
                        <a:lnTo>
                          <a:pt x="244" y="194"/>
                        </a:lnTo>
                        <a:lnTo>
                          <a:pt x="283" y="229"/>
                        </a:lnTo>
                        <a:lnTo>
                          <a:pt x="324" y="272"/>
                        </a:lnTo>
                        <a:lnTo>
                          <a:pt x="322" y="2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070600" y="4608720"/>
                    <a:ext cx="2379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66">
                        <a:moveTo>
                          <a:pt x="294" y="364"/>
                        </a:moveTo>
                        <a:lnTo>
                          <a:pt x="234" y="262"/>
                        </a:lnTo>
                        <a:lnTo>
                          <a:pt x="219" y="238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94" y="180"/>
                        </a:lnTo>
                        <a:lnTo>
                          <a:pt x="234" y="235"/>
                        </a:lnTo>
                        <a:lnTo>
                          <a:pt x="246" y="250"/>
                        </a:lnTo>
                        <a:lnTo>
                          <a:pt x="289" y="330"/>
                        </a:lnTo>
                        <a:lnTo>
                          <a:pt x="293" y="339"/>
                        </a:lnTo>
                        <a:lnTo>
                          <a:pt x="298" y="351"/>
                        </a:lnTo>
                        <a:lnTo>
                          <a:pt x="300" y="366"/>
                        </a:lnTo>
                        <a:lnTo>
                          <a:pt x="294" y="3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436920" y="4816800"/>
                    <a:ext cx="856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75">
                        <a:moveTo>
                          <a:pt x="0" y="73"/>
                        </a:moveTo>
                        <a:lnTo>
                          <a:pt x="0" y="68"/>
                        </a:lnTo>
                        <a:lnTo>
                          <a:pt x="8" y="66"/>
                        </a:lnTo>
                        <a:lnTo>
                          <a:pt x="19" y="58"/>
                        </a:lnTo>
                        <a:lnTo>
                          <a:pt x="39" y="44"/>
                        </a:lnTo>
                        <a:lnTo>
                          <a:pt x="58" y="31"/>
                        </a:lnTo>
                        <a:lnTo>
                          <a:pt x="97" y="0"/>
                        </a:lnTo>
                        <a:lnTo>
                          <a:pt x="109" y="2"/>
                        </a:lnTo>
                        <a:lnTo>
                          <a:pt x="97" y="25"/>
                        </a:lnTo>
                        <a:lnTo>
                          <a:pt x="76" y="40"/>
                        </a:lnTo>
                        <a:lnTo>
                          <a:pt x="56" y="50"/>
                        </a:lnTo>
                        <a:lnTo>
                          <a:pt x="39" y="62"/>
                        </a:lnTo>
                        <a:lnTo>
                          <a:pt x="21" y="70"/>
                        </a:lnTo>
                        <a:lnTo>
                          <a:pt x="4" y="75"/>
                        </a:lnTo>
                        <a:lnTo>
                          <a:pt x="0" y="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759120" y="4788000"/>
                    <a:ext cx="20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2" y="23"/>
                        </a:moveTo>
                        <a:lnTo>
                          <a:pt x="0" y="21"/>
                        </a:lnTo>
                        <a:lnTo>
                          <a:pt x="10" y="6"/>
                        </a:lnTo>
                        <a:lnTo>
                          <a:pt x="16" y="2"/>
                        </a:lnTo>
                        <a:lnTo>
                          <a:pt x="28" y="0"/>
                        </a:lnTo>
                        <a:lnTo>
                          <a:pt x="28" y="10"/>
                        </a:lnTo>
                        <a:lnTo>
                          <a:pt x="10" y="25"/>
                        </a:lnTo>
                        <a:lnTo>
                          <a:pt x="2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3222720" y="4713480"/>
                    <a:ext cx="889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6">
                        <a:moveTo>
                          <a:pt x="24" y="66"/>
                        </a:moveTo>
                        <a:lnTo>
                          <a:pt x="12" y="64"/>
                        </a:lnTo>
                        <a:lnTo>
                          <a:pt x="0" y="54"/>
                        </a:lnTo>
                        <a:lnTo>
                          <a:pt x="0" y="44"/>
                        </a:lnTo>
                        <a:lnTo>
                          <a:pt x="22" y="50"/>
                        </a:lnTo>
                        <a:lnTo>
                          <a:pt x="59" y="42"/>
                        </a:lnTo>
                        <a:lnTo>
                          <a:pt x="68" y="37"/>
                        </a:lnTo>
                        <a:lnTo>
                          <a:pt x="76" y="27"/>
                        </a:lnTo>
                        <a:lnTo>
                          <a:pt x="86" y="17"/>
                        </a:lnTo>
                        <a:lnTo>
                          <a:pt x="94" y="8"/>
                        </a:lnTo>
                        <a:lnTo>
                          <a:pt x="103" y="0"/>
                        </a:lnTo>
                        <a:lnTo>
                          <a:pt x="111" y="0"/>
                        </a:lnTo>
                        <a:lnTo>
                          <a:pt x="109" y="21"/>
                        </a:lnTo>
                        <a:lnTo>
                          <a:pt x="99" y="33"/>
                        </a:lnTo>
                        <a:lnTo>
                          <a:pt x="90" y="42"/>
                        </a:lnTo>
                        <a:lnTo>
                          <a:pt x="80" y="48"/>
                        </a:lnTo>
                        <a:lnTo>
                          <a:pt x="70" y="56"/>
                        </a:lnTo>
                        <a:lnTo>
                          <a:pt x="59" y="58"/>
                        </a:lnTo>
                        <a:lnTo>
                          <a:pt x="47" y="62"/>
                        </a:lnTo>
                        <a:lnTo>
                          <a:pt x="37" y="64"/>
                        </a:lnTo>
                        <a:lnTo>
                          <a:pt x="28" y="66"/>
                        </a:lnTo>
                        <a:lnTo>
                          <a:pt x="24" y="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3003480" y="4696200"/>
                    <a:ext cx="604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3">
                        <a:moveTo>
                          <a:pt x="35" y="73"/>
                        </a:moveTo>
                        <a:lnTo>
                          <a:pt x="35" y="71"/>
                        </a:lnTo>
                        <a:lnTo>
                          <a:pt x="35" y="50"/>
                        </a:lnTo>
                        <a:lnTo>
                          <a:pt x="18" y="19"/>
                        </a:lnTo>
                        <a:lnTo>
                          <a:pt x="0" y="19"/>
                        </a:lnTo>
                        <a:lnTo>
                          <a:pt x="0" y="5"/>
                        </a:lnTo>
                        <a:lnTo>
                          <a:pt x="23" y="0"/>
                        </a:lnTo>
                        <a:lnTo>
                          <a:pt x="37" y="0"/>
                        </a:lnTo>
                        <a:lnTo>
                          <a:pt x="51" y="5"/>
                        </a:lnTo>
                        <a:lnTo>
                          <a:pt x="64" y="15"/>
                        </a:lnTo>
                        <a:lnTo>
                          <a:pt x="78" y="31"/>
                        </a:lnTo>
                        <a:lnTo>
                          <a:pt x="78" y="44"/>
                        </a:lnTo>
                        <a:lnTo>
                          <a:pt x="60" y="46"/>
                        </a:lnTo>
                        <a:lnTo>
                          <a:pt x="56" y="56"/>
                        </a:lnTo>
                        <a:lnTo>
                          <a:pt x="49" y="56"/>
                        </a:lnTo>
                        <a:lnTo>
                          <a:pt x="45" y="65"/>
                        </a:lnTo>
                        <a:lnTo>
                          <a:pt x="35" y="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065400" y="4505400"/>
                    <a:ext cx="13680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289">
                        <a:moveTo>
                          <a:pt x="110" y="289"/>
                        </a:moveTo>
                        <a:lnTo>
                          <a:pt x="73" y="285"/>
                        </a:lnTo>
                        <a:lnTo>
                          <a:pt x="69" y="273"/>
                        </a:lnTo>
                        <a:lnTo>
                          <a:pt x="81" y="272"/>
                        </a:lnTo>
                        <a:lnTo>
                          <a:pt x="64" y="248"/>
                        </a:lnTo>
                        <a:lnTo>
                          <a:pt x="25" y="149"/>
                        </a:lnTo>
                        <a:lnTo>
                          <a:pt x="13" y="103"/>
                        </a:lnTo>
                        <a:lnTo>
                          <a:pt x="11" y="114"/>
                        </a:lnTo>
                        <a:lnTo>
                          <a:pt x="13" y="132"/>
                        </a:lnTo>
                        <a:lnTo>
                          <a:pt x="4" y="142"/>
                        </a:lnTo>
                        <a:lnTo>
                          <a:pt x="0" y="89"/>
                        </a:lnTo>
                        <a:lnTo>
                          <a:pt x="35" y="37"/>
                        </a:lnTo>
                        <a:lnTo>
                          <a:pt x="35" y="27"/>
                        </a:lnTo>
                        <a:lnTo>
                          <a:pt x="42" y="4"/>
                        </a:lnTo>
                        <a:lnTo>
                          <a:pt x="50" y="0"/>
                        </a:lnTo>
                        <a:lnTo>
                          <a:pt x="64" y="2"/>
                        </a:lnTo>
                        <a:lnTo>
                          <a:pt x="64" y="14"/>
                        </a:lnTo>
                        <a:lnTo>
                          <a:pt x="56" y="16"/>
                        </a:lnTo>
                        <a:lnTo>
                          <a:pt x="54" y="18"/>
                        </a:lnTo>
                        <a:lnTo>
                          <a:pt x="60" y="23"/>
                        </a:lnTo>
                        <a:lnTo>
                          <a:pt x="106" y="74"/>
                        </a:lnTo>
                        <a:lnTo>
                          <a:pt x="108" y="78"/>
                        </a:lnTo>
                        <a:lnTo>
                          <a:pt x="139" y="116"/>
                        </a:lnTo>
                        <a:lnTo>
                          <a:pt x="157" y="146"/>
                        </a:lnTo>
                        <a:lnTo>
                          <a:pt x="163" y="161"/>
                        </a:lnTo>
                        <a:lnTo>
                          <a:pt x="166" y="178"/>
                        </a:lnTo>
                        <a:lnTo>
                          <a:pt x="168" y="194"/>
                        </a:lnTo>
                        <a:lnTo>
                          <a:pt x="170" y="211"/>
                        </a:lnTo>
                        <a:lnTo>
                          <a:pt x="168" y="227"/>
                        </a:lnTo>
                        <a:lnTo>
                          <a:pt x="168" y="244"/>
                        </a:lnTo>
                        <a:lnTo>
                          <a:pt x="161" y="262"/>
                        </a:lnTo>
                        <a:lnTo>
                          <a:pt x="149" y="279"/>
                        </a:lnTo>
                        <a:lnTo>
                          <a:pt x="137" y="287"/>
                        </a:lnTo>
                        <a:lnTo>
                          <a:pt x="110" y="2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027240" y="4708800"/>
                    <a:ext cx="22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10" y="21"/>
                        </a:moveTo>
                        <a:lnTo>
                          <a:pt x="4" y="21"/>
                        </a:lnTo>
                        <a:lnTo>
                          <a:pt x="0" y="0"/>
                        </a:lnTo>
                        <a:lnTo>
                          <a:pt x="27" y="14"/>
                        </a:lnTo>
                        <a:lnTo>
                          <a:pt x="23" y="15"/>
                        </a:lnTo>
                        <a:lnTo>
                          <a:pt x="10" y="21"/>
                        </a:lnTo>
                        <a:close/>
                      </a:path>
                    </a:pathLst>
                  </a:custGeom>
                  <a:solidFill>
                    <a:srgbClr val="ff996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3124080" y="4658040"/>
                    <a:ext cx="651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81">
                        <a:moveTo>
                          <a:pt x="41" y="81"/>
                        </a:moveTo>
                        <a:lnTo>
                          <a:pt x="27" y="81"/>
                        </a:lnTo>
                        <a:lnTo>
                          <a:pt x="6" y="52"/>
                        </a:lnTo>
                        <a:lnTo>
                          <a:pt x="0" y="49"/>
                        </a:lnTo>
                        <a:lnTo>
                          <a:pt x="20" y="0"/>
                        </a:lnTo>
                        <a:lnTo>
                          <a:pt x="47" y="21"/>
                        </a:lnTo>
                        <a:lnTo>
                          <a:pt x="82" y="25"/>
                        </a:lnTo>
                        <a:lnTo>
                          <a:pt x="82" y="52"/>
                        </a:lnTo>
                        <a:lnTo>
                          <a:pt x="64" y="80"/>
                        </a:lnTo>
                        <a:lnTo>
                          <a:pt x="57" y="81"/>
                        </a:lnTo>
                        <a:lnTo>
                          <a:pt x="41" y="8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489480" y="4497480"/>
                    <a:ext cx="25848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280">
                        <a:moveTo>
                          <a:pt x="299" y="280"/>
                        </a:moveTo>
                        <a:lnTo>
                          <a:pt x="264" y="274"/>
                        </a:lnTo>
                        <a:lnTo>
                          <a:pt x="240" y="274"/>
                        </a:lnTo>
                        <a:lnTo>
                          <a:pt x="167" y="229"/>
                        </a:lnTo>
                        <a:lnTo>
                          <a:pt x="155" y="219"/>
                        </a:lnTo>
                        <a:lnTo>
                          <a:pt x="109" y="167"/>
                        </a:lnTo>
                        <a:lnTo>
                          <a:pt x="74" y="101"/>
                        </a:lnTo>
                        <a:lnTo>
                          <a:pt x="56" y="80"/>
                        </a:lnTo>
                        <a:lnTo>
                          <a:pt x="39" y="64"/>
                        </a:lnTo>
                        <a:lnTo>
                          <a:pt x="17" y="53"/>
                        </a:lnTo>
                        <a:lnTo>
                          <a:pt x="0" y="47"/>
                        </a:lnTo>
                        <a:lnTo>
                          <a:pt x="6" y="28"/>
                        </a:lnTo>
                        <a:lnTo>
                          <a:pt x="6" y="14"/>
                        </a:lnTo>
                        <a:lnTo>
                          <a:pt x="17" y="12"/>
                        </a:lnTo>
                        <a:lnTo>
                          <a:pt x="60" y="0"/>
                        </a:lnTo>
                        <a:lnTo>
                          <a:pt x="76" y="12"/>
                        </a:lnTo>
                        <a:lnTo>
                          <a:pt x="78" y="18"/>
                        </a:lnTo>
                        <a:lnTo>
                          <a:pt x="78" y="22"/>
                        </a:lnTo>
                        <a:lnTo>
                          <a:pt x="83" y="26"/>
                        </a:lnTo>
                        <a:lnTo>
                          <a:pt x="99" y="20"/>
                        </a:lnTo>
                        <a:lnTo>
                          <a:pt x="114" y="22"/>
                        </a:lnTo>
                        <a:lnTo>
                          <a:pt x="132" y="28"/>
                        </a:lnTo>
                        <a:lnTo>
                          <a:pt x="149" y="41"/>
                        </a:lnTo>
                        <a:lnTo>
                          <a:pt x="159" y="55"/>
                        </a:lnTo>
                        <a:lnTo>
                          <a:pt x="161" y="68"/>
                        </a:lnTo>
                        <a:lnTo>
                          <a:pt x="173" y="70"/>
                        </a:lnTo>
                        <a:lnTo>
                          <a:pt x="178" y="66"/>
                        </a:lnTo>
                        <a:lnTo>
                          <a:pt x="190" y="62"/>
                        </a:lnTo>
                        <a:lnTo>
                          <a:pt x="206" y="66"/>
                        </a:lnTo>
                        <a:lnTo>
                          <a:pt x="219" y="72"/>
                        </a:lnTo>
                        <a:lnTo>
                          <a:pt x="235" y="84"/>
                        </a:lnTo>
                        <a:lnTo>
                          <a:pt x="240" y="93"/>
                        </a:lnTo>
                        <a:lnTo>
                          <a:pt x="242" y="130"/>
                        </a:lnTo>
                        <a:lnTo>
                          <a:pt x="281" y="150"/>
                        </a:lnTo>
                        <a:lnTo>
                          <a:pt x="285" y="163"/>
                        </a:lnTo>
                        <a:lnTo>
                          <a:pt x="277" y="202"/>
                        </a:lnTo>
                        <a:lnTo>
                          <a:pt x="285" y="204"/>
                        </a:lnTo>
                        <a:lnTo>
                          <a:pt x="301" y="206"/>
                        </a:lnTo>
                        <a:lnTo>
                          <a:pt x="324" y="231"/>
                        </a:lnTo>
                        <a:lnTo>
                          <a:pt x="326" y="235"/>
                        </a:lnTo>
                        <a:lnTo>
                          <a:pt x="306" y="280"/>
                        </a:lnTo>
                        <a:lnTo>
                          <a:pt x="299" y="28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3057480" y="4683240"/>
                    <a:ext cx="11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1">
                        <a:moveTo>
                          <a:pt x="6" y="19"/>
                        </a:moveTo>
                        <a:lnTo>
                          <a:pt x="6" y="17"/>
                        </a:lnTo>
                        <a:lnTo>
                          <a:pt x="0" y="6"/>
                        </a:lnTo>
                        <a:lnTo>
                          <a:pt x="8" y="0"/>
                        </a:lnTo>
                        <a:lnTo>
                          <a:pt x="14" y="21"/>
                        </a:lnTo>
                        <a:lnTo>
                          <a:pt x="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3083040" y="4530960"/>
                    <a:ext cx="838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82">
                        <a:moveTo>
                          <a:pt x="43" y="182"/>
                        </a:moveTo>
                        <a:lnTo>
                          <a:pt x="21" y="132"/>
                        </a:lnTo>
                        <a:lnTo>
                          <a:pt x="0" y="50"/>
                        </a:lnTo>
                        <a:lnTo>
                          <a:pt x="21" y="0"/>
                        </a:lnTo>
                        <a:lnTo>
                          <a:pt x="39" y="12"/>
                        </a:lnTo>
                        <a:lnTo>
                          <a:pt x="56" y="29"/>
                        </a:lnTo>
                        <a:lnTo>
                          <a:pt x="72" y="47"/>
                        </a:lnTo>
                        <a:lnTo>
                          <a:pt x="87" y="68"/>
                        </a:lnTo>
                        <a:lnTo>
                          <a:pt x="107" y="99"/>
                        </a:lnTo>
                        <a:lnTo>
                          <a:pt x="99" y="99"/>
                        </a:lnTo>
                        <a:lnTo>
                          <a:pt x="79" y="118"/>
                        </a:lnTo>
                        <a:lnTo>
                          <a:pt x="66" y="140"/>
                        </a:lnTo>
                        <a:lnTo>
                          <a:pt x="60" y="149"/>
                        </a:lnTo>
                        <a:lnTo>
                          <a:pt x="54" y="159"/>
                        </a:lnTo>
                        <a:lnTo>
                          <a:pt x="50" y="171"/>
                        </a:lnTo>
                        <a:lnTo>
                          <a:pt x="47" y="182"/>
                        </a:lnTo>
                        <a:lnTo>
                          <a:pt x="43" y="182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176640" y="4467600"/>
                    <a:ext cx="19224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52">
                        <a:moveTo>
                          <a:pt x="128" y="252"/>
                        </a:moveTo>
                        <a:lnTo>
                          <a:pt x="117" y="248"/>
                        </a:lnTo>
                        <a:lnTo>
                          <a:pt x="105" y="242"/>
                        </a:lnTo>
                        <a:lnTo>
                          <a:pt x="93" y="232"/>
                        </a:lnTo>
                        <a:lnTo>
                          <a:pt x="84" y="223"/>
                        </a:lnTo>
                        <a:lnTo>
                          <a:pt x="76" y="207"/>
                        </a:lnTo>
                        <a:lnTo>
                          <a:pt x="68" y="197"/>
                        </a:lnTo>
                        <a:lnTo>
                          <a:pt x="49" y="149"/>
                        </a:lnTo>
                        <a:lnTo>
                          <a:pt x="47" y="139"/>
                        </a:lnTo>
                        <a:lnTo>
                          <a:pt x="41" y="122"/>
                        </a:lnTo>
                        <a:lnTo>
                          <a:pt x="37" y="108"/>
                        </a:lnTo>
                        <a:lnTo>
                          <a:pt x="33" y="91"/>
                        </a:lnTo>
                        <a:lnTo>
                          <a:pt x="31" y="77"/>
                        </a:lnTo>
                        <a:lnTo>
                          <a:pt x="27" y="62"/>
                        </a:lnTo>
                        <a:lnTo>
                          <a:pt x="27" y="46"/>
                        </a:lnTo>
                        <a:lnTo>
                          <a:pt x="25" y="31"/>
                        </a:lnTo>
                        <a:lnTo>
                          <a:pt x="29" y="17"/>
                        </a:lnTo>
                        <a:lnTo>
                          <a:pt x="18" y="17"/>
                        </a:lnTo>
                        <a:lnTo>
                          <a:pt x="14" y="19"/>
                        </a:lnTo>
                        <a:lnTo>
                          <a:pt x="10" y="21"/>
                        </a:lnTo>
                        <a:lnTo>
                          <a:pt x="0" y="17"/>
                        </a:lnTo>
                        <a:lnTo>
                          <a:pt x="8" y="5"/>
                        </a:lnTo>
                        <a:lnTo>
                          <a:pt x="29" y="0"/>
                        </a:lnTo>
                        <a:lnTo>
                          <a:pt x="60" y="7"/>
                        </a:lnTo>
                        <a:lnTo>
                          <a:pt x="72" y="5"/>
                        </a:lnTo>
                        <a:lnTo>
                          <a:pt x="86" y="5"/>
                        </a:lnTo>
                        <a:lnTo>
                          <a:pt x="99" y="3"/>
                        </a:lnTo>
                        <a:lnTo>
                          <a:pt x="113" y="3"/>
                        </a:lnTo>
                        <a:lnTo>
                          <a:pt x="126" y="3"/>
                        </a:lnTo>
                        <a:lnTo>
                          <a:pt x="140" y="5"/>
                        </a:lnTo>
                        <a:lnTo>
                          <a:pt x="153" y="9"/>
                        </a:lnTo>
                        <a:lnTo>
                          <a:pt x="167" y="19"/>
                        </a:lnTo>
                        <a:lnTo>
                          <a:pt x="173" y="34"/>
                        </a:lnTo>
                        <a:lnTo>
                          <a:pt x="146" y="25"/>
                        </a:lnTo>
                        <a:lnTo>
                          <a:pt x="140" y="25"/>
                        </a:lnTo>
                        <a:lnTo>
                          <a:pt x="165" y="62"/>
                        </a:lnTo>
                        <a:lnTo>
                          <a:pt x="175" y="77"/>
                        </a:lnTo>
                        <a:lnTo>
                          <a:pt x="177" y="87"/>
                        </a:lnTo>
                        <a:lnTo>
                          <a:pt x="181" y="98"/>
                        </a:lnTo>
                        <a:lnTo>
                          <a:pt x="186" y="110"/>
                        </a:lnTo>
                        <a:lnTo>
                          <a:pt x="192" y="122"/>
                        </a:lnTo>
                        <a:lnTo>
                          <a:pt x="198" y="135"/>
                        </a:lnTo>
                        <a:lnTo>
                          <a:pt x="200" y="147"/>
                        </a:lnTo>
                        <a:lnTo>
                          <a:pt x="204" y="159"/>
                        </a:lnTo>
                        <a:lnTo>
                          <a:pt x="206" y="170"/>
                        </a:lnTo>
                        <a:lnTo>
                          <a:pt x="208" y="184"/>
                        </a:lnTo>
                        <a:lnTo>
                          <a:pt x="233" y="162"/>
                        </a:lnTo>
                        <a:lnTo>
                          <a:pt x="239" y="162"/>
                        </a:lnTo>
                        <a:lnTo>
                          <a:pt x="243" y="166"/>
                        </a:lnTo>
                        <a:lnTo>
                          <a:pt x="196" y="224"/>
                        </a:lnTo>
                        <a:lnTo>
                          <a:pt x="175" y="240"/>
                        </a:lnTo>
                        <a:lnTo>
                          <a:pt x="152" y="252"/>
                        </a:lnTo>
                        <a:lnTo>
                          <a:pt x="128" y="2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3224160" y="4573800"/>
                    <a:ext cx="1080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05">
                        <a:moveTo>
                          <a:pt x="74" y="105"/>
                        </a:moveTo>
                        <a:lnTo>
                          <a:pt x="62" y="99"/>
                        </a:lnTo>
                        <a:lnTo>
                          <a:pt x="53" y="95"/>
                        </a:lnTo>
                        <a:lnTo>
                          <a:pt x="41" y="88"/>
                        </a:lnTo>
                        <a:lnTo>
                          <a:pt x="33" y="80"/>
                        </a:lnTo>
                        <a:lnTo>
                          <a:pt x="0" y="4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  <a:lnTo>
                          <a:pt x="45" y="24"/>
                        </a:lnTo>
                        <a:lnTo>
                          <a:pt x="61" y="39"/>
                        </a:lnTo>
                        <a:lnTo>
                          <a:pt x="78" y="49"/>
                        </a:lnTo>
                        <a:lnTo>
                          <a:pt x="95" y="53"/>
                        </a:lnTo>
                        <a:lnTo>
                          <a:pt x="115" y="57"/>
                        </a:lnTo>
                        <a:lnTo>
                          <a:pt x="125" y="53"/>
                        </a:lnTo>
                        <a:lnTo>
                          <a:pt x="128" y="51"/>
                        </a:lnTo>
                        <a:lnTo>
                          <a:pt x="136" y="55"/>
                        </a:lnTo>
                        <a:lnTo>
                          <a:pt x="136" y="70"/>
                        </a:lnTo>
                        <a:lnTo>
                          <a:pt x="107" y="95"/>
                        </a:lnTo>
                        <a:lnTo>
                          <a:pt x="74" y="1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3164040" y="4618080"/>
                    <a:ext cx="23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0">
                        <a:moveTo>
                          <a:pt x="23" y="38"/>
                        </a:moveTo>
                        <a:lnTo>
                          <a:pt x="11" y="33"/>
                        </a:lnTo>
                        <a:lnTo>
                          <a:pt x="2" y="19"/>
                        </a:lnTo>
                        <a:lnTo>
                          <a:pt x="0" y="15"/>
                        </a:lnTo>
                        <a:lnTo>
                          <a:pt x="9" y="0"/>
                        </a:lnTo>
                        <a:lnTo>
                          <a:pt x="25" y="25"/>
                        </a:lnTo>
                        <a:lnTo>
                          <a:pt x="29" y="40"/>
                        </a:lnTo>
                        <a:lnTo>
                          <a:pt x="23" y="3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949480" y="4276800"/>
                    <a:ext cx="417600" cy="36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62">
                        <a:moveTo>
                          <a:pt x="41" y="462"/>
                        </a:moveTo>
                        <a:lnTo>
                          <a:pt x="45" y="454"/>
                        </a:lnTo>
                        <a:lnTo>
                          <a:pt x="41" y="444"/>
                        </a:lnTo>
                        <a:lnTo>
                          <a:pt x="35" y="444"/>
                        </a:lnTo>
                        <a:lnTo>
                          <a:pt x="22" y="434"/>
                        </a:lnTo>
                        <a:lnTo>
                          <a:pt x="20" y="431"/>
                        </a:lnTo>
                        <a:lnTo>
                          <a:pt x="18" y="413"/>
                        </a:lnTo>
                        <a:lnTo>
                          <a:pt x="37" y="384"/>
                        </a:lnTo>
                        <a:lnTo>
                          <a:pt x="12" y="370"/>
                        </a:lnTo>
                        <a:lnTo>
                          <a:pt x="16" y="326"/>
                        </a:lnTo>
                        <a:lnTo>
                          <a:pt x="20" y="326"/>
                        </a:lnTo>
                        <a:lnTo>
                          <a:pt x="22" y="320"/>
                        </a:lnTo>
                        <a:lnTo>
                          <a:pt x="6" y="310"/>
                        </a:lnTo>
                        <a:lnTo>
                          <a:pt x="2" y="301"/>
                        </a:lnTo>
                        <a:lnTo>
                          <a:pt x="0" y="285"/>
                        </a:lnTo>
                        <a:lnTo>
                          <a:pt x="20" y="258"/>
                        </a:lnTo>
                        <a:lnTo>
                          <a:pt x="24" y="258"/>
                        </a:lnTo>
                        <a:lnTo>
                          <a:pt x="25" y="250"/>
                        </a:lnTo>
                        <a:lnTo>
                          <a:pt x="18" y="246"/>
                        </a:lnTo>
                        <a:lnTo>
                          <a:pt x="4" y="237"/>
                        </a:lnTo>
                        <a:lnTo>
                          <a:pt x="2" y="233"/>
                        </a:lnTo>
                        <a:lnTo>
                          <a:pt x="0" y="231"/>
                        </a:lnTo>
                        <a:lnTo>
                          <a:pt x="0" y="215"/>
                        </a:lnTo>
                        <a:lnTo>
                          <a:pt x="4" y="204"/>
                        </a:lnTo>
                        <a:lnTo>
                          <a:pt x="10" y="190"/>
                        </a:lnTo>
                        <a:lnTo>
                          <a:pt x="24" y="177"/>
                        </a:lnTo>
                        <a:lnTo>
                          <a:pt x="6" y="142"/>
                        </a:lnTo>
                        <a:lnTo>
                          <a:pt x="18" y="114"/>
                        </a:lnTo>
                        <a:lnTo>
                          <a:pt x="62" y="97"/>
                        </a:lnTo>
                        <a:lnTo>
                          <a:pt x="68" y="93"/>
                        </a:lnTo>
                        <a:lnTo>
                          <a:pt x="68" y="82"/>
                        </a:lnTo>
                        <a:lnTo>
                          <a:pt x="82" y="62"/>
                        </a:lnTo>
                        <a:lnTo>
                          <a:pt x="91" y="54"/>
                        </a:lnTo>
                        <a:lnTo>
                          <a:pt x="109" y="52"/>
                        </a:lnTo>
                        <a:lnTo>
                          <a:pt x="130" y="70"/>
                        </a:lnTo>
                        <a:lnTo>
                          <a:pt x="136" y="70"/>
                        </a:lnTo>
                        <a:lnTo>
                          <a:pt x="146" y="23"/>
                        </a:lnTo>
                        <a:lnTo>
                          <a:pt x="155" y="18"/>
                        </a:lnTo>
                        <a:lnTo>
                          <a:pt x="167" y="10"/>
                        </a:lnTo>
                        <a:lnTo>
                          <a:pt x="179" y="10"/>
                        </a:lnTo>
                        <a:lnTo>
                          <a:pt x="190" y="12"/>
                        </a:lnTo>
                        <a:lnTo>
                          <a:pt x="204" y="19"/>
                        </a:lnTo>
                        <a:lnTo>
                          <a:pt x="217" y="29"/>
                        </a:lnTo>
                        <a:lnTo>
                          <a:pt x="227" y="37"/>
                        </a:lnTo>
                        <a:lnTo>
                          <a:pt x="247" y="8"/>
                        </a:lnTo>
                        <a:lnTo>
                          <a:pt x="258" y="2"/>
                        </a:lnTo>
                        <a:lnTo>
                          <a:pt x="283" y="0"/>
                        </a:lnTo>
                        <a:lnTo>
                          <a:pt x="324" y="29"/>
                        </a:lnTo>
                        <a:lnTo>
                          <a:pt x="332" y="33"/>
                        </a:lnTo>
                        <a:lnTo>
                          <a:pt x="338" y="19"/>
                        </a:lnTo>
                        <a:lnTo>
                          <a:pt x="369" y="18"/>
                        </a:lnTo>
                        <a:lnTo>
                          <a:pt x="392" y="35"/>
                        </a:lnTo>
                        <a:lnTo>
                          <a:pt x="406" y="70"/>
                        </a:lnTo>
                        <a:lnTo>
                          <a:pt x="419" y="56"/>
                        </a:lnTo>
                        <a:lnTo>
                          <a:pt x="437" y="52"/>
                        </a:lnTo>
                        <a:lnTo>
                          <a:pt x="466" y="64"/>
                        </a:lnTo>
                        <a:lnTo>
                          <a:pt x="477" y="89"/>
                        </a:lnTo>
                        <a:lnTo>
                          <a:pt x="487" y="85"/>
                        </a:lnTo>
                        <a:lnTo>
                          <a:pt x="503" y="87"/>
                        </a:lnTo>
                        <a:lnTo>
                          <a:pt x="524" y="107"/>
                        </a:lnTo>
                        <a:lnTo>
                          <a:pt x="528" y="111"/>
                        </a:lnTo>
                        <a:lnTo>
                          <a:pt x="524" y="120"/>
                        </a:lnTo>
                        <a:lnTo>
                          <a:pt x="512" y="132"/>
                        </a:lnTo>
                        <a:lnTo>
                          <a:pt x="504" y="146"/>
                        </a:lnTo>
                        <a:lnTo>
                          <a:pt x="497" y="157"/>
                        </a:lnTo>
                        <a:lnTo>
                          <a:pt x="493" y="173"/>
                        </a:lnTo>
                        <a:lnTo>
                          <a:pt x="483" y="178"/>
                        </a:lnTo>
                        <a:lnTo>
                          <a:pt x="487" y="206"/>
                        </a:lnTo>
                        <a:lnTo>
                          <a:pt x="489" y="213"/>
                        </a:lnTo>
                        <a:lnTo>
                          <a:pt x="477" y="229"/>
                        </a:lnTo>
                        <a:lnTo>
                          <a:pt x="454" y="209"/>
                        </a:lnTo>
                        <a:lnTo>
                          <a:pt x="450" y="186"/>
                        </a:lnTo>
                        <a:lnTo>
                          <a:pt x="444" y="180"/>
                        </a:lnTo>
                        <a:lnTo>
                          <a:pt x="439" y="184"/>
                        </a:lnTo>
                        <a:lnTo>
                          <a:pt x="439" y="200"/>
                        </a:lnTo>
                        <a:lnTo>
                          <a:pt x="425" y="204"/>
                        </a:lnTo>
                        <a:lnTo>
                          <a:pt x="419" y="194"/>
                        </a:lnTo>
                        <a:lnTo>
                          <a:pt x="413" y="178"/>
                        </a:lnTo>
                        <a:lnTo>
                          <a:pt x="388" y="196"/>
                        </a:lnTo>
                        <a:lnTo>
                          <a:pt x="367" y="180"/>
                        </a:lnTo>
                        <a:lnTo>
                          <a:pt x="365" y="171"/>
                        </a:lnTo>
                        <a:lnTo>
                          <a:pt x="369" y="159"/>
                        </a:lnTo>
                        <a:lnTo>
                          <a:pt x="369" y="153"/>
                        </a:lnTo>
                        <a:lnTo>
                          <a:pt x="357" y="153"/>
                        </a:lnTo>
                        <a:lnTo>
                          <a:pt x="340" y="171"/>
                        </a:lnTo>
                        <a:lnTo>
                          <a:pt x="328" y="173"/>
                        </a:lnTo>
                        <a:lnTo>
                          <a:pt x="311" y="157"/>
                        </a:lnTo>
                        <a:lnTo>
                          <a:pt x="307" y="138"/>
                        </a:lnTo>
                        <a:lnTo>
                          <a:pt x="299" y="128"/>
                        </a:lnTo>
                        <a:lnTo>
                          <a:pt x="293" y="149"/>
                        </a:lnTo>
                        <a:lnTo>
                          <a:pt x="283" y="165"/>
                        </a:lnTo>
                        <a:lnTo>
                          <a:pt x="280" y="167"/>
                        </a:lnTo>
                        <a:lnTo>
                          <a:pt x="262" y="169"/>
                        </a:lnTo>
                        <a:lnTo>
                          <a:pt x="235" y="159"/>
                        </a:lnTo>
                        <a:lnTo>
                          <a:pt x="248" y="198"/>
                        </a:lnTo>
                        <a:lnTo>
                          <a:pt x="247" y="209"/>
                        </a:lnTo>
                        <a:lnTo>
                          <a:pt x="241" y="209"/>
                        </a:lnTo>
                        <a:lnTo>
                          <a:pt x="237" y="219"/>
                        </a:lnTo>
                        <a:lnTo>
                          <a:pt x="245" y="225"/>
                        </a:lnTo>
                        <a:lnTo>
                          <a:pt x="252" y="237"/>
                        </a:lnTo>
                        <a:lnTo>
                          <a:pt x="256" y="246"/>
                        </a:lnTo>
                        <a:lnTo>
                          <a:pt x="254" y="258"/>
                        </a:lnTo>
                        <a:lnTo>
                          <a:pt x="247" y="260"/>
                        </a:lnTo>
                        <a:lnTo>
                          <a:pt x="254" y="303"/>
                        </a:lnTo>
                        <a:lnTo>
                          <a:pt x="237" y="283"/>
                        </a:lnTo>
                        <a:lnTo>
                          <a:pt x="233" y="262"/>
                        </a:lnTo>
                        <a:lnTo>
                          <a:pt x="227" y="254"/>
                        </a:lnTo>
                        <a:lnTo>
                          <a:pt x="212" y="258"/>
                        </a:lnTo>
                        <a:lnTo>
                          <a:pt x="202" y="248"/>
                        </a:lnTo>
                        <a:lnTo>
                          <a:pt x="196" y="229"/>
                        </a:lnTo>
                        <a:lnTo>
                          <a:pt x="200" y="211"/>
                        </a:lnTo>
                        <a:lnTo>
                          <a:pt x="198" y="206"/>
                        </a:lnTo>
                        <a:lnTo>
                          <a:pt x="190" y="206"/>
                        </a:lnTo>
                        <a:lnTo>
                          <a:pt x="181" y="213"/>
                        </a:lnTo>
                        <a:lnTo>
                          <a:pt x="171" y="209"/>
                        </a:lnTo>
                        <a:lnTo>
                          <a:pt x="169" y="198"/>
                        </a:lnTo>
                        <a:lnTo>
                          <a:pt x="167" y="171"/>
                        </a:lnTo>
                        <a:lnTo>
                          <a:pt x="152" y="188"/>
                        </a:lnTo>
                        <a:lnTo>
                          <a:pt x="136" y="192"/>
                        </a:lnTo>
                        <a:lnTo>
                          <a:pt x="122" y="198"/>
                        </a:lnTo>
                        <a:lnTo>
                          <a:pt x="122" y="206"/>
                        </a:lnTo>
                        <a:lnTo>
                          <a:pt x="136" y="225"/>
                        </a:lnTo>
                        <a:lnTo>
                          <a:pt x="136" y="237"/>
                        </a:lnTo>
                        <a:lnTo>
                          <a:pt x="126" y="250"/>
                        </a:lnTo>
                        <a:lnTo>
                          <a:pt x="122" y="254"/>
                        </a:lnTo>
                        <a:lnTo>
                          <a:pt x="113" y="254"/>
                        </a:lnTo>
                        <a:lnTo>
                          <a:pt x="113" y="266"/>
                        </a:lnTo>
                        <a:lnTo>
                          <a:pt x="122" y="272"/>
                        </a:lnTo>
                        <a:lnTo>
                          <a:pt x="124" y="287"/>
                        </a:lnTo>
                        <a:lnTo>
                          <a:pt x="111" y="308"/>
                        </a:lnTo>
                        <a:lnTo>
                          <a:pt x="103" y="314"/>
                        </a:lnTo>
                        <a:lnTo>
                          <a:pt x="117" y="328"/>
                        </a:lnTo>
                        <a:lnTo>
                          <a:pt x="117" y="353"/>
                        </a:lnTo>
                        <a:lnTo>
                          <a:pt x="103" y="361"/>
                        </a:lnTo>
                        <a:lnTo>
                          <a:pt x="99" y="363"/>
                        </a:lnTo>
                        <a:lnTo>
                          <a:pt x="99" y="370"/>
                        </a:lnTo>
                        <a:lnTo>
                          <a:pt x="109" y="378"/>
                        </a:lnTo>
                        <a:lnTo>
                          <a:pt x="111" y="388"/>
                        </a:lnTo>
                        <a:lnTo>
                          <a:pt x="115" y="401"/>
                        </a:lnTo>
                        <a:lnTo>
                          <a:pt x="115" y="407"/>
                        </a:lnTo>
                        <a:lnTo>
                          <a:pt x="109" y="419"/>
                        </a:lnTo>
                        <a:lnTo>
                          <a:pt x="97" y="423"/>
                        </a:lnTo>
                        <a:lnTo>
                          <a:pt x="84" y="431"/>
                        </a:lnTo>
                        <a:lnTo>
                          <a:pt x="84" y="438"/>
                        </a:lnTo>
                        <a:lnTo>
                          <a:pt x="86" y="436"/>
                        </a:lnTo>
                        <a:lnTo>
                          <a:pt x="91" y="434"/>
                        </a:lnTo>
                        <a:lnTo>
                          <a:pt x="99" y="438"/>
                        </a:lnTo>
                        <a:lnTo>
                          <a:pt x="97" y="456"/>
                        </a:lnTo>
                        <a:lnTo>
                          <a:pt x="55" y="462"/>
                        </a:lnTo>
                        <a:lnTo>
                          <a:pt x="41" y="462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3289320" y="4570560"/>
                    <a:ext cx="39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31" y="33"/>
                        </a:moveTo>
                        <a:lnTo>
                          <a:pt x="4" y="18"/>
                        </a:lnTo>
                        <a:lnTo>
                          <a:pt x="0" y="6"/>
                        </a:lnTo>
                        <a:lnTo>
                          <a:pt x="4" y="0"/>
                        </a:lnTo>
                        <a:lnTo>
                          <a:pt x="21" y="0"/>
                        </a:lnTo>
                        <a:lnTo>
                          <a:pt x="37" y="8"/>
                        </a:lnTo>
                        <a:lnTo>
                          <a:pt x="44" y="8"/>
                        </a:lnTo>
                        <a:lnTo>
                          <a:pt x="50" y="33"/>
                        </a:lnTo>
                        <a:lnTo>
                          <a:pt x="31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4849920" y="4499280"/>
                    <a:ext cx="172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9">
                        <a:moveTo>
                          <a:pt x="16" y="109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22" y="78"/>
                        </a:lnTo>
                        <a:lnTo>
                          <a:pt x="22" y="109"/>
                        </a:lnTo>
                        <a:lnTo>
                          <a:pt x="16" y="1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206880" y="4484880"/>
                    <a:ext cx="1080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18" y="103"/>
                        </a:moveTo>
                        <a:lnTo>
                          <a:pt x="14" y="89"/>
                        </a:lnTo>
                        <a:lnTo>
                          <a:pt x="10" y="75"/>
                        </a:lnTo>
                        <a:lnTo>
                          <a:pt x="6" y="62"/>
                        </a:lnTo>
                        <a:lnTo>
                          <a:pt x="4" y="50"/>
                        </a:lnTo>
                        <a:lnTo>
                          <a:pt x="0" y="37"/>
                        </a:lnTo>
                        <a:lnTo>
                          <a:pt x="0" y="25"/>
                        </a:lnTo>
                        <a:lnTo>
                          <a:pt x="0" y="11"/>
                        </a:lnTo>
                        <a:lnTo>
                          <a:pt x="4" y="0"/>
                        </a:lnTo>
                        <a:lnTo>
                          <a:pt x="20" y="2"/>
                        </a:lnTo>
                        <a:lnTo>
                          <a:pt x="37" y="2"/>
                        </a:lnTo>
                        <a:lnTo>
                          <a:pt x="54" y="0"/>
                        </a:lnTo>
                        <a:lnTo>
                          <a:pt x="72" y="0"/>
                        </a:lnTo>
                        <a:lnTo>
                          <a:pt x="82" y="10"/>
                        </a:lnTo>
                        <a:lnTo>
                          <a:pt x="93" y="21"/>
                        </a:lnTo>
                        <a:lnTo>
                          <a:pt x="101" y="33"/>
                        </a:lnTo>
                        <a:lnTo>
                          <a:pt x="111" y="44"/>
                        </a:lnTo>
                        <a:lnTo>
                          <a:pt x="116" y="54"/>
                        </a:lnTo>
                        <a:lnTo>
                          <a:pt x="124" y="66"/>
                        </a:lnTo>
                        <a:lnTo>
                          <a:pt x="130" y="77"/>
                        </a:lnTo>
                        <a:lnTo>
                          <a:pt x="138" y="89"/>
                        </a:lnTo>
                        <a:lnTo>
                          <a:pt x="97" y="89"/>
                        </a:lnTo>
                        <a:lnTo>
                          <a:pt x="18" y="103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4224240" y="4341960"/>
                    <a:ext cx="1638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23">
                        <a:moveTo>
                          <a:pt x="49" y="221"/>
                        </a:moveTo>
                        <a:lnTo>
                          <a:pt x="18" y="176"/>
                        </a:lnTo>
                        <a:lnTo>
                          <a:pt x="16" y="164"/>
                        </a:lnTo>
                        <a:lnTo>
                          <a:pt x="10" y="153"/>
                        </a:lnTo>
                        <a:lnTo>
                          <a:pt x="4" y="135"/>
                        </a:lnTo>
                        <a:lnTo>
                          <a:pt x="2" y="120"/>
                        </a:lnTo>
                        <a:lnTo>
                          <a:pt x="0" y="102"/>
                        </a:lnTo>
                        <a:lnTo>
                          <a:pt x="2" y="87"/>
                        </a:lnTo>
                        <a:lnTo>
                          <a:pt x="2" y="69"/>
                        </a:lnTo>
                        <a:lnTo>
                          <a:pt x="8" y="54"/>
                        </a:lnTo>
                        <a:lnTo>
                          <a:pt x="16" y="38"/>
                        </a:lnTo>
                        <a:lnTo>
                          <a:pt x="27" y="23"/>
                        </a:lnTo>
                        <a:lnTo>
                          <a:pt x="54" y="5"/>
                        </a:lnTo>
                        <a:lnTo>
                          <a:pt x="74" y="0"/>
                        </a:lnTo>
                        <a:lnTo>
                          <a:pt x="93" y="0"/>
                        </a:lnTo>
                        <a:lnTo>
                          <a:pt x="105" y="0"/>
                        </a:lnTo>
                        <a:lnTo>
                          <a:pt x="120" y="0"/>
                        </a:lnTo>
                        <a:lnTo>
                          <a:pt x="132" y="1"/>
                        </a:lnTo>
                        <a:lnTo>
                          <a:pt x="147" y="7"/>
                        </a:lnTo>
                        <a:lnTo>
                          <a:pt x="159" y="13"/>
                        </a:lnTo>
                        <a:lnTo>
                          <a:pt x="173" y="21"/>
                        </a:lnTo>
                        <a:lnTo>
                          <a:pt x="184" y="32"/>
                        </a:lnTo>
                        <a:lnTo>
                          <a:pt x="198" y="46"/>
                        </a:lnTo>
                        <a:lnTo>
                          <a:pt x="208" y="67"/>
                        </a:lnTo>
                        <a:lnTo>
                          <a:pt x="177" y="67"/>
                        </a:lnTo>
                        <a:lnTo>
                          <a:pt x="163" y="65"/>
                        </a:lnTo>
                        <a:lnTo>
                          <a:pt x="151" y="65"/>
                        </a:lnTo>
                        <a:lnTo>
                          <a:pt x="140" y="64"/>
                        </a:lnTo>
                        <a:lnTo>
                          <a:pt x="128" y="64"/>
                        </a:lnTo>
                        <a:lnTo>
                          <a:pt x="116" y="64"/>
                        </a:lnTo>
                        <a:lnTo>
                          <a:pt x="105" y="64"/>
                        </a:lnTo>
                        <a:lnTo>
                          <a:pt x="93" y="64"/>
                        </a:lnTo>
                        <a:lnTo>
                          <a:pt x="82" y="67"/>
                        </a:lnTo>
                        <a:lnTo>
                          <a:pt x="62" y="77"/>
                        </a:lnTo>
                        <a:lnTo>
                          <a:pt x="54" y="67"/>
                        </a:lnTo>
                        <a:lnTo>
                          <a:pt x="50" y="58"/>
                        </a:lnTo>
                        <a:lnTo>
                          <a:pt x="45" y="75"/>
                        </a:lnTo>
                        <a:lnTo>
                          <a:pt x="49" y="83"/>
                        </a:lnTo>
                        <a:lnTo>
                          <a:pt x="50" y="87"/>
                        </a:lnTo>
                        <a:lnTo>
                          <a:pt x="41" y="98"/>
                        </a:lnTo>
                        <a:lnTo>
                          <a:pt x="39" y="112"/>
                        </a:lnTo>
                        <a:lnTo>
                          <a:pt x="37" y="124"/>
                        </a:lnTo>
                        <a:lnTo>
                          <a:pt x="35" y="137"/>
                        </a:lnTo>
                        <a:lnTo>
                          <a:pt x="52" y="223"/>
                        </a:lnTo>
                        <a:lnTo>
                          <a:pt x="49" y="221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4470480" y="4494600"/>
                    <a:ext cx="64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0">
                        <a:moveTo>
                          <a:pt x="2" y="30"/>
                        </a:moveTo>
                        <a:lnTo>
                          <a:pt x="2" y="22"/>
                        </a:lnTo>
                        <a:lnTo>
                          <a:pt x="0" y="0"/>
                        </a:lnTo>
                        <a:lnTo>
                          <a:pt x="6" y="4"/>
                        </a:lnTo>
                        <a:lnTo>
                          <a:pt x="8" y="26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370320" y="449280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1">
                        <a:moveTo>
                          <a:pt x="9" y="19"/>
                        </a:move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21" y="21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3389400" y="4408560"/>
                    <a:ext cx="460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8">
                        <a:moveTo>
                          <a:pt x="17" y="108"/>
                        </a:moveTo>
                        <a:lnTo>
                          <a:pt x="6" y="83"/>
                        </a:lnTo>
                        <a:lnTo>
                          <a:pt x="0" y="66"/>
                        </a:lnTo>
                        <a:lnTo>
                          <a:pt x="0" y="48"/>
                        </a:lnTo>
                        <a:lnTo>
                          <a:pt x="2" y="31"/>
                        </a:lnTo>
                        <a:lnTo>
                          <a:pt x="12" y="13"/>
                        </a:lnTo>
                        <a:lnTo>
                          <a:pt x="17" y="8"/>
                        </a:lnTo>
                        <a:lnTo>
                          <a:pt x="25" y="0"/>
                        </a:lnTo>
                        <a:lnTo>
                          <a:pt x="35" y="2"/>
                        </a:lnTo>
                        <a:lnTo>
                          <a:pt x="35" y="10"/>
                        </a:lnTo>
                        <a:lnTo>
                          <a:pt x="15" y="29"/>
                        </a:lnTo>
                        <a:lnTo>
                          <a:pt x="15" y="37"/>
                        </a:lnTo>
                        <a:lnTo>
                          <a:pt x="39" y="56"/>
                        </a:lnTo>
                        <a:lnTo>
                          <a:pt x="58" y="56"/>
                        </a:lnTo>
                        <a:lnTo>
                          <a:pt x="58" y="66"/>
                        </a:lnTo>
                        <a:lnTo>
                          <a:pt x="27" y="87"/>
                        </a:lnTo>
                        <a:lnTo>
                          <a:pt x="27" y="105"/>
                        </a:lnTo>
                        <a:lnTo>
                          <a:pt x="17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4343400" y="4310280"/>
                    <a:ext cx="14148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207">
                        <a:moveTo>
                          <a:pt x="132" y="205"/>
                        </a:moveTo>
                        <a:lnTo>
                          <a:pt x="140" y="194"/>
                        </a:lnTo>
                        <a:lnTo>
                          <a:pt x="148" y="182"/>
                        </a:lnTo>
                        <a:lnTo>
                          <a:pt x="154" y="170"/>
                        </a:lnTo>
                        <a:lnTo>
                          <a:pt x="159" y="161"/>
                        </a:lnTo>
                        <a:lnTo>
                          <a:pt x="159" y="149"/>
                        </a:lnTo>
                        <a:lnTo>
                          <a:pt x="159" y="137"/>
                        </a:lnTo>
                        <a:lnTo>
                          <a:pt x="157" y="126"/>
                        </a:lnTo>
                        <a:lnTo>
                          <a:pt x="154" y="114"/>
                        </a:lnTo>
                        <a:lnTo>
                          <a:pt x="132" y="89"/>
                        </a:lnTo>
                        <a:lnTo>
                          <a:pt x="70" y="99"/>
                        </a:lnTo>
                        <a:lnTo>
                          <a:pt x="68" y="91"/>
                        </a:lnTo>
                        <a:lnTo>
                          <a:pt x="62" y="83"/>
                        </a:lnTo>
                        <a:lnTo>
                          <a:pt x="22" y="42"/>
                        </a:lnTo>
                        <a:lnTo>
                          <a:pt x="8" y="33"/>
                        </a:lnTo>
                        <a:lnTo>
                          <a:pt x="0" y="33"/>
                        </a:lnTo>
                        <a:lnTo>
                          <a:pt x="18" y="11"/>
                        </a:lnTo>
                        <a:lnTo>
                          <a:pt x="35" y="4"/>
                        </a:lnTo>
                        <a:lnTo>
                          <a:pt x="53" y="0"/>
                        </a:lnTo>
                        <a:lnTo>
                          <a:pt x="74" y="2"/>
                        </a:lnTo>
                        <a:lnTo>
                          <a:pt x="93" y="6"/>
                        </a:lnTo>
                        <a:lnTo>
                          <a:pt x="115" y="17"/>
                        </a:lnTo>
                        <a:lnTo>
                          <a:pt x="140" y="46"/>
                        </a:lnTo>
                        <a:lnTo>
                          <a:pt x="148" y="60"/>
                        </a:lnTo>
                        <a:lnTo>
                          <a:pt x="155" y="75"/>
                        </a:lnTo>
                        <a:lnTo>
                          <a:pt x="161" y="91"/>
                        </a:lnTo>
                        <a:lnTo>
                          <a:pt x="169" y="106"/>
                        </a:lnTo>
                        <a:lnTo>
                          <a:pt x="173" y="122"/>
                        </a:lnTo>
                        <a:lnTo>
                          <a:pt x="177" y="137"/>
                        </a:lnTo>
                        <a:lnTo>
                          <a:pt x="177" y="153"/>
                        </a:lnTo>
                        <a:lnTo>
                          <a:pt x="179" y="170"/>
                        </a:lnTo>
                        <a:lnTo>
                          <a:pt x="169" y="182"/>
                        </a:lnTo>
                        <a:lnTo>
                          <a:pt x="159" y="194"/>
                        </a:lnTo>
                        <a:lnTo>
                          <a:pt x="146" y="201"/>
                        </a:lnTo>
                        <a:lnTo>
                          <a:pt x="136" y="207"/>
                        </a:lnTo>
                        <a:lnTo>
                          <a:pt x="132" y="20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400560" y="4448520"/>
                    <a:ext cx="126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9">
                        <a:moveTo>
                          <a:pt x="0" y="29"/>
                        </a:moveTo>
                        <a:lnTo>
                          <a:pt x="0" y="0"/>
                        </a:lnTo>
                        <a:lnTo>
                          <a:pt x="16" y="16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ff996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4448160" y="4303800"/>
                    <a:ext cx="1224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200">
                        <a:moveTo>
                          <a:pt x="87" y="200"/>
                        </a:moveTo>
                        <a:lnTo>
                          <a:pt x="60" y="188"/>
                        </a:lnTo>
                        <a:lnTo>
                          <a:pt x="62" y="171"/>
                        </a:lnTo>
                        <a:lnTo>
                          <a:pt x="62" y="155"/>
                        </a:lnTo>
                        <a:lnTo>
                          <a:pt x="58" y="138"/>
                        </a:lnTo>
                        <a:lnTo>
                          <a:pt x="56" y="122"/>
                        </a:lnTo>
                        <a:lnTo>
                          <a:pt x="51" y="109"/>
                        </a:lnTo>
                        <a:lnTo>
                          <a:pt x="47" y="95"/>
                        </a:lnTo>
                        <a:lnTo>
                          <a:pt x="41" y="81"/>
                        </a:lnTo>
                        <a:lnTo>
                          <a:pt x="35" y="70"/>
                        </a:lnTo>
                        <a:lnTo>
                          <a:pt x="25" y="56"/>
                        </a:lnTo>
                        <a:lnTo>
                          <a:pt x="18" y="43"/>
                        </a:lnTo>
                        <a:lnTo>
                          <a:pt x="8" y="29"/>
                        </a:lnTo>
                        <a:lnTo>
                          <a:pt x="0" y="17"/>
                        </a:lnTo>
                        <a:lnTo>
                          <a:pt x="14" y="4"/>
                        </a:lnTo>
                        <a:lnTo>
                          <a:pt x="23" y="0"/>
                        </a:lnTo>
                        <a:lnTo>
                          <a:pt x="33" y="0"/>
                        </a:lnTo>
                        <a:lnTo>
                          <a:pt x="43" y="0"/>
                        </a:lnTo>
                        <a:lnTo>
                          <a:pt x="55" y="2"/>
                        </a:lnTo>
                        <a:lnTo>
                          <a:pt x="74" y="12"/>
                        </a:lnTo>
                        <a:lnTo>
                          <a:pt x="95" y="27"/>
                        </a:lnTo>
                        <a:lnTo>
                          <a:pt x="111" y="43"/>
                        </a:lnTo>
                        <a:lnTo>
                          <a:pt x="126" y="64"/>
                        </a:lnTo>
                        <a:lnTo>
                          <a:pt x="134" y="79"/>
                        </a:lnTo>
                        <a:lnTo>
                          <a:pt x="144" y="97"/>
                        </a:lnTo>
                        <a:lnTo>
                          <a:pt x="148" y="112"/>
                        </a:lnTo>
                        <a:lnTo>
                          <a:pt x="151" y="130"/>
                        </a:lnTo>
                        <a:lnTo>
                          <a:pt x="153" y="142"/>
                        </a:lnTo>
                        <a:lnTo>
                          <a:pt x="150" y="153"/>
                        </a:lnTo>
                        <a:lnTo>
                          <a:pt x="146" y="167"/>
                        </a:lnTo>
                        <a:lnTo>
                          <a:pt x="138" y="180"/>
                        </a:lnTo>
                        <a:lnTo>
                          <a:pt x="126" y="194"/>
                        </a:lnTo>
                        <a:lnTo>
                          <a:pt x="87" y="2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4" name=""/>
                <p:cNvGrpSpPr/>
                <p:nvPr/>
              </p:nvGrpSpPr>
              <p:grpSpPr>
                <a:xfrm>
                  <a:off x="-55800" y="4510440"/>
                  <a:ext cx="2546640" cy="2241360"/>
                  <a:chOff x="-55800" y="4510440"/>
                  <a:chExt cx="2546640" cy="2241360"/>
                </a:xfrm>
              </p:grpSpPr>
              <p:grpSp>
                <p:nvGrpSpPr>
                  <p:cNvPr id="1065" name=""/>
                  <p:cNvGrpSpPr/>
                  <p:nvPr/>
                </p:nvGrpSpPr>
                <p:grpSpPr>
                  <a:xfrm>
                    <a:off x="-55800" y="4510440"/>
                    <a:ext cx="2546640" cy="2238120"/>
                    <a:chOff x="-55800" y="4510440"/>
                    <a:chExt cx="2546640" cy="2238120"/>
                  </a:xfrm>
                </p:grpSpPr>
                <p:sp>
                  <p:nvSpPr>
                    <p:cNvPr id="1066" name=""/>
                    <p:cNvSpPr/>
                    <p:nvPr/>
                  </p:nvSpPr>
                  <p:spPr>
                    <a:xfrm flipH="1">
                      <a:off x="180720" y="6343920"/>
                      <a:ext cx="819360" cy="40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4" h="508">
                          <a:moveTo>
                            <a:pt x="265" y="118"/>
                          </a:moveTo>
                          <a:lnTo>
                            <a:pt x="246" y="132"/>
                          </a:lnTo>
                          <a:lnTo>
                            <a:pt x="232" y="148"/>
                          </a:lnTo>
                          <a:lnTo>
                            <a:pt x="219" y="164"/>
                          </a:lnTo>
                          <a:lnTo>
                            <a:pt x="209" y="182"/>
                          </a:lnTo>
                          <a:lnTo>
                            <a:pt x="198" y="199"/>
                          </a:lnTo>
                          <a:lnTo>
                            <a:pt x="189" y="218"/>
                          </a:lnTo>
                          <a:lnTo>
                            <a:pt x="178" y="236"/>
                          </a:lnTo>
                          <a:lnTo>
                            <a:pt x="165" y="257"/>
                          </a:lnTo>
                          <a:lnTo>
                            <a:pt x="185" y="266"/>
                          </a:lnTo>
                          <a:lnTo>
                            <a:pt x="199" y="275"/>
                          </a:lnTo>
                          <a:lnTo>
                            <a:pt x="207" y="279"/>
                          </a:lnTo>
                          <a:lnTo>
                            <a:pt x="214" y="281"/>
                          </a:lnTo>
                          <a:lnTo>
                            <a:pt x="220" y="279"/>
                          </a:lnTo>
                          <a:lnTo>
                            <a:pt x="229" y="275"/>
                          </a:lnTo>
                          <a:lnTo>
                            <a:pt x="243" y="266"/>
                          </a:lnTo>
                          <a:lnTo>
                            <a:pt x="265" y="257"/>
                          </a:lnTo>
                          <a:lnTo>
                            <a:pt x="265" y="332"/>
                          </a:lnTo>
                          <a:lnTo>
                            <a:pt x="239" y="344"/>
                          </a:lnTo>
                          <a:lnTo>
                            <a:pt x="217" y="355"/>
                          </a:lnTo>
                          <a:lnTo>
                            <a:pt x="194" y="366"/>
                          </a:lnTo>
                          <a:lnTo>
                            <a:pt x="174" y="376"/>
                          </a:lnTo>
                          <a:lnTo>
                            <a:pt x="151" y="383"/>
                          </a:lnTo>
                          <a:lnTo>
                            <a:pt x="128" y="390"/>
                          </a:lnTo>
                          <a:lnTo>
                            <a:pt x="103" y="393"/>
                          </a:lnTo>
                          <a:lnTo>
                            <a:pt x="77" y="395"/>
                          </a:lnTo>
                          <a:lnTo>
                            <a:pt x="61" y="395"/>
                          </a:lnTo>
                          <a:lnTo>
                            <a:pt x="46" y="398"/>
                          </a:lnTo>
                          <a:lnTo>
                            <a:pt x="33" y="404"/>
                          </a:lnTo>
                          <a:lnTo>
                            <a:pt x="22" y="411"/>
                          </a:lnTo>
                          <a:lnTo>
                            <a:pt x="12" y="420"/>
                          </a:lnTo>
                          <a:lnTo>
                            <a:pt x="6" y="431"/>
                          </a:lnTo>
                          <a:lnTo>
                            <a:pt x="1" y="444"/>
                          </a:lnTo>
                          <a:lnTo>
                            <a:pt x="0" y="458"/>
                          </a:lnTo>
                          <a:lnTo>
                            <a:pt x="0" y="476"/>
                          </a:lnTo>
                          <a:lnTo>
                            <a:pt x="4" y="490"/>
                          </a:lnTo>
                          <a:lnTo>
                            <a:pt x="9" y="498"/>
                          </a:lnTo>
                          <a:lnTo>
                            <a:pt x="18" y="505"/>
                          </a:lnTo>
                          <a:lnTo>
                            <a:pt x="27" y="507"/>
                          </a:lnTo>
                          <a:lnTo>
                            <a:pt x="41" y="508"/>
                          </a:lnTo>
                          <a:lnTo>
                            <a:pt x="57" y="508"/>
                          </a:lnTo>
                          <a:lnTo>
                            <a:pt x="77" y="508"/>
                          </a:lnTo>
                          <a:lnTo>
                            <a:pt x="98" y="506"/>
                          </a:lnTo>
                          <a:lnTo>
                            <a:pt x="113" y="500"/>
                          </a:lnTo>
                          <a:lnTo>
                            <a:pt x="122" y="492"/>
                          </a:lnTo>
                          <a:lnTo>
                            <a:pt x="127" y="482"/>
                          </a:lnTo>
                          <a:lnTo>
                            <a:pt x="129" y="469"/>
                          </a:lnTo>
                          <a:lnTo>
                            <a:pt x="134" y="458"/>
                          </a:lnTo>
                          <a:lnTo>
                            <a:pt x="140" y="445"/>
                          </a:lnTo>
                          <a:lnTo>
                            <a:pt x="152" y="433"/>
                          </a:lnTo>
                          <a:lnTo>
                            <a:pt x="170" y="418"/>
                          </a:lnTo>
                          <a:lnTo>
                            <a:pt x="203" y="401"/>
                          </a:lnTo>
                          <a:lnTo>
                            <a:pt x="241" y="379"/>
                          </a:lnTo>
                          <a:lnTo>
                            <a:pt x="286" y="359"/>
                          </a:lnTo>
                          <a:lnTo>
                            <a:pt x="332" y="338"/>
                          </a:lnTo>
                          <a:lnTo>
                            <a:pt x="376" y="322"/>
                          </a:lnTo>
                          <a:lnTo>
                            <a:pt x="412" y="310"/>
                          </a:lnTo>
                          <a:lnTo>
                            <a:pt x="441" y="307"/>
                          </a:lnTo>
                          <a:lnTo>
                            <a:pt x="470" y="308"/>
                          </a:lnTo>
                          <a:lnTo>
                            <a:pt x="486" y="314"/>
                          </a:lnTo>
                          <a:lnTo>
                            <a:pt x="492" y="322"/>
                          </a:lnTo>
                          <a:lnTo>
                            <a:pt x="491" y="333"/>
                          </a:lnTo>
                          <a:lnTo>
                            <a:pt x="485" y="345"/>
                          </a:lnTo>
                          <a:lnTo>
                            <a:pt x="481" y="358"/>
                          </a:lnTo>
                          <a:lnTo>
                            <a:pt x="481" y="369"/>
                          </a:lnTo>
                          <a:lnTo>
                            <a:pt x="492" y="382"/>
                          </a:lnTo>
                          <a:lnTo>
                            <a:pt x="514" y="397"/>
                          </a:lnTo>
                          <a:lnTo>
                            <a:pt x="539" y="409"/>
                          </a:lnTo>
                          <a:lnTo>
                            <a:pt x="563" y="418"/>
                          </a:lnTo>
                          <a:lnTo>
                            <a:pt x="588" y="425"/>
                          </a:lnTo>
                          <a:lnTo>
                            <a:pt x="611" y="429"/>
                          </a:lnTo>
                          <a:lnTo>
                            <a:pt x="635" y="431"/>
                          </a:lnTo>
                          <a:lnTo>
                            <a:pt x="657" y="432"/>
                          </a:lnTo>
                          <a:lnTo>
                            <a:pt x="681" y="433"/>
                          </a:lnTo>
                          <a:lnTo>
                            <a:pt x="681" y="434"/>
                          </a:lnTo>
                          <a:lnTo>
                            <a:pt x="684" y="440"/>
                          </a:lnTo>
                          <a:lnTo>
                            <a:pt x="689" y="448"/>
                          </a:lnTo>
                          <a:lnTo>
                            <a:pt x="696" y="458"/>
                          </a:lnTo>
                          <a:lnTo>
                            <a:pt x="705" y="466"/>
                          </a:lnTo>
                          <a:lnTo>
                            <a:pt x="716" y="475"/>
                          </a:lnTo>
                          <a:lnTo>
                            <a:pt x="727" y="480"/>
                          </a:lnTo>
                          <a:lnTo>
                            <a:pt x="744" y="483"/>
                          </a:lnTo>
                          <a:lnTo>
                            <a:pt x="767" y="481"/>
                          </a:lnTo>
                          <a:lnTo>
                            <a:pt x="782" y="477"/>
                          </a:lnTo>
                          <a:lnTo>
                            <a:pt x="791" y="470"/>
                          </a:lnTo>
                          <a:lnTo>
                            <a:pt x="797" y="464"/>
                          </a:lnTo>
                          <a:lnTo>
                            <a:pt x="802" y="456"/>
                          </a:lnTo>
                          <a:lnTo>
                            <a:pt x="809" y="451"/>
                          </a:lnTo>
                          <a:lnTo>
                            <a:pt x="822" y="447"/>
                          </a:lnTo>
                          <a:lnTo>
                            <a:pt x="845" y="446"/>
                          </a:lnTo>
                          <a:lnTo>
                            <a:pt x="858" y="447"/>
                          </a:lnTo>
                          <a:lnTo>
                            <a:pt x="873" y="453"/>
                          </a:lnTo>
                          <a:lnTo>
                            <a:pt x="887" y="461"/>
                          </a:lnTo>
                          <a:lnTo>
                            <a:pt x="904" y="470"/>
                          </a:lnTo>
                          <a:lnTo>
                            <a:pt x="922" y="479"/>
                          </a:lnTo>
                          <a:lnTo>
                            <a:pt x="944" y="488"/>
                          </a:lnTo>
                          <a:lnTo>
                            <a:pt x="967" y="493"/>
                          </a:lnTo>
                          <a:lnTo>
                            <a:pt x="996" y="496"/>
                          </a:lnTo>
                          <a:lnTo>
                            <a:pt x="1004" y="494"/>
                          </a:lnTo>
                          <a:lnTo>
                            <a:pt x="1011" y="491"/>
                          </a:lnTo>
                          <a:lnTo>
                            <a:pt x="1017" y="484"/>
                          </a:lnTo>
                          <a:lnTo>
                            <a:pt x="1023" y="479"/>
                          </a:lnTo>
                          <a:lnTo>
                            <a:pt x="1026" y="470"/>
                          </a:lnTo>
                          <a:lnTo>
                            <a:pt x="1031" y="463"/>
                          </a:lnTo>
                          <a:lnTo>
                            <a:pt x="1033" y="454"/>
                          </a:lnTo>
                          <a:lnTo>
                            <a:pt x="1034" y="446"/>
                          </a:lnTo>
                          <a:lnTo>
                            <a:pt x="1031" y="419"/>
                          </a:lnTo>
                          <a:lnTo>
                            <a:pt x="1024" y="403"/>
                          </a:lnTo>
                          <a:lnTo>
                            <a:pt x="1015" y="395"/>
                          </a:lnTo>
                          <a:lnTo>
                            <a:pt x="1003" y="394"/>
                          </a:lnTo>
                          <a:lnTo>
                            <a:pt x="989" y="395"/>
                          </a:lnTo>
                          <a:lnTo>
                            <a:pt x="974" y="401"/>
                          </a:lnTo>
                          <a:lnTo>
                            <a:pt x="959" y="405"/>
                          </a:lnTo>
                          <a:lnTo>
                            <a:pt x="946" y="407"/>
                          </a:lnTo>
                          <a:lnTo>
                            <a:pt x="926" y="405"/>
                          </a:lnTo>
                          <a:lnTo>
                            <a:pt x="910" y="399"/>
                          </a:lnTo>
                          <a:lnTo>
                            <a:pt x="894" y="392"/>
                          </a:lnTo>
                          <a:lnTo>
                            <a:pt x="880" y="383"/>
                          </a:lnTo>
                          <a:lnTo>
                            <a:pt x="866" y="373"/>
                          </a:lnTo>
                          <a:lnTo>
                            <a:pt x="854" y="363"/>
                          </a:lnTo>
                          <a:lnTo>
                            <a:pt x="841" y="353"/>
                          </a:lnTo>
                          <a:lnTo>
                            <a:pt x="832" y="345"/>
                          </a:lnTo>
                          <a:lnTo>
                            <a:pt x="841" y="332"/>
                          </a:lnTo>
                          <a:lnTo>
                            <a:pt x="851" y="321"/>
                          </a:lnTo>
                          <a:lnTo>
                            <a:pt x="859" y="309"/>
                          </a:lnTo>
                          <a:lnTo>
                            <a:pt x="866" y="298"/>
                          </a:lnTo>
                          <a:lnTo>
                            <a:pt x="873" y="286"/>
                          </a:lnTo>
                          <a:lnTo>
                            <a:pt x="879" y="274"/>
                          </a:lnTo>
                          <a:lnTo>
                            <a:pt x="887" y="259"/>
                          </a:lnTo>
                          <a:lnTo>
                            <a:pt x="895" y="244"/>
                          </a:lnTo>
                          <a:lnTo>
                            <a:pt x="877" y="232"/>
                          </a:lnTo>
                          <a:lnTo>
                            <a:pt x="863" y="218"/>
                          </a:lnTo>
                          <a:lnTo>
                            <a:pt x="848" y="202"/>
                          </a:lnTo>
                          <a:lnTo>
                            <a:pt x="834" y="186"/>
                          </a:lnTo>
                          <a:lnTo>
                            <a:pt x="817" y="168"/>
                          </a:lnTo>
                          <a:lnTo>
                            <a:pt x="796" y="153"/>
                          </a:lnTo>
                          <a:lnTo>
                            <a:pt x="773" y="141"/>
                          </a:lnTo>
                          <a:lnTo>
                            <a:pt x="744" y="131"/>
                          </a:lnTo>
                          <a:lnTo>
                            <a:pt x="763" y="116"/>
                          </a:lnTo>
                          <a:lnTo>
                            <a:pt x="783" y="103"/>
                          </a:lnTo>
                          <a:lnTo>
                            <a:pt x="804" y="91"/>
                          </a:lnTo>
                          <a:lnTo>
                            <a:pt x="825" y="80"/>
                          </a:lnTo>
                          <a:lnTo>
                            <a:pt x="845" y="69"/>
                          </a:lnTo>
                          <a:lnTo>
                            <a:pt x="866" y="57"/>
                          </a:lnTo>
                          <a:lnTo>
                            <a:pt x="887" y="43"/>
                          </a:lnTo>
                          <a:lnTo>
                            <a:pt x="908" y="30"/>
                          </a:lnTo>
                          <a:lnTo>
                            <a:pt x="863" y="15"/>
                          </a:lnTo>
                          <a:lnTo>
                            <a:pt x="819" y="5"/>
                          </a:lnTo>
                          <a:lnTo>
                            <a:pt x="774" y="1"/>
                          </a:lnTo>
                          <a:lnTo>
                            <a:pt x="730" y="0"/>
                          </a:lnTo>
                          <a:lnTo>
                            <a:pt x="683" y="0"/>
                          </a:lnTo>
                          <a:lnTo>
                            <a:pt x="637" y="2"/>
                          </a:lnTo>
                          <a:lnTo>
                            <a:pt x="590" y="3"/>
                          </a:lnTo>
                          <a:lnTo>
                            <a:pt x="542" y="5"/>
                          </a:lnTo>
                          <a:lnTo>
                            <a:pt x="514" y="16"/>
                          </a:lnTo>
                          <a:lnTo>
                            <a:pt x="489" y="26"/>
                          </a:lnTo>
                          <a:lnTo>
                            <a:pt x="463" y="31"/>
                          </a:lnTo>
                          <a:lnTo>
                            <a:pt x="438" y="37"/>
                          </a:lnTo>
                          <a:lnTo>
                            <a:pt x="412" y="42"/>
                          </a:lnTo>
                          <a:lnTo>
                            <a:pt x="389" y="49"/>
                          </a:lnTo>
                          <a:lnTo>
                            <a:pt x="365" y="57"/>
                          </a:lnTo>
                          <a:lnTo>
                            <a:pt x="341" y="67"/>
                          </a:lnTo>
                          <a:lnTo>
                            <a:pt x="265" y="118"/>
                          </a:lnTo>
                          <a:close/>
                        </a:path>
                      </a:pathLst>
                    </a:custGeom>
                    <a:solidFill>
                      <a:srgbClr val="ffffb3"/>
                    </a:solidFill>
                    <a:ln w="1440">
                      <a:solidFill>
                        <a:srgbClr val="e6ff1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 flipH="1">
                      <a:off x="-55800" y="5285160"/>
                      <a:ext cx="2154240" cy="80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5" h="1014">
                          <a:moveTo>
                            <a:pt x="0" y="432"/>
                          </a:moveTo>
                          <a:lnTo>
                            <a:pt x="1860" y="0"/>
                          </a:lnTo>
                          <a:lnTo>
                            <a:pt x="2715" y="382"/>
                          </a:lnTo>
                          <a:lnTo>
                            <a:pt x="985" y="1014"/>
                          </a:lnTo>
                          <a:lnTo>
                            <a:pt x="0" y="432"/>
                          </a:lnTo>
                          <a:close/>
                        </a:path>
                      </a:pathLst>
                    </a:custGeom>
                    <a:solidFill>
                      <a:srgbClr val="e6cc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 flipH="1">
                      <a:off x="1315800" y="5627880"/>
                      <a:ext cx="782640" cy="10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5" h="1355">
                          <a:moveTo>
                            <a:pt x="0" y="0"/>
                          </a:moveTo>
                          <a:lnTo>
                            <a:pt x="91" y="813"/>
                          </a:lnTo>
                          <a:lnTo>
                            <a:pt x="946" y="1355"/>
                          </a:lnTo>
                          <a:lnTo>
                            <a:pt x="985" y="58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 flipH="1">
                      <a:off x="-56160" y="5586480"/>
                      <a:ext cx="1403640" cy="11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1405">
                          <a:moveTo>
                            <a:pt x="39" y="632"/>
                          </a:moveTo>
                          <a:lnTo>
                            <a:pt x="1769" y="0"/>
                          </a:lnTo>
                          <a:lnTo>
                            <a:pt x="1628" y="652"/>
                          </a:lnTo>
                          <a:lnTo>
                            <a:pt x="0" y="1405"/>
                          </a:lnTo>
                          <a:lnTo>
                            <a:pt x="39" y="632"/>
                          </a:lnTo>
                          <a:close/>
                        </a:path>
                      </a:pathLst>
                    </a:custGeom>
                    <a:solidFill>
                      <a:srgbClr val="e6cc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flipH="1">
                      <a:off x="653400" y="4646880"/>
                      <a:ext cx="1597320" cy="9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1" h="1165">
                          <a:moveTo>
                            <a:pt x="2011" y="763"/>
                          </a:moveTo>
                          <a:lnTo>
                            <a:pt x="1840" y="0"/>
                          </a:lnTo>
                          <a:lnTo>
                            <a:pt x="0" y="181"/>
                          </a:lnTo>
                          <a:lnTo>
                            <a:pt x="182" y="1165"/>
                          </a:lnTo>
                          <a:lnTo>
                            <a:pt x="2011" y="763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 flipH="1">
                      <a:off x="2106360" y="4789800"/>
                      <a:ext cx="271440" cy="78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2" h="995">
                          <a:moveTo>
                            <a:pt x="160" y="0"/>
                          </a:moveTo>
                          <a:lnTo>
                            <a:pt x="0" y="71"/>
                          </a:lnTo>
                          <a:lnTo>
                            <a:pt x="160" y="995"/>
                          </a:lnTo>
                          <a:lnTo>
                            <a:pt x="342" y="984"/>
                          </a:lnTo>
                          <a:lnTo>
                            <a:pt x="160" y="0"/>
                          </a:lnTo>
                          <a:close/>
                        </a:path>
                      </a:pathLst>
                    </a:custGeom>
                    <a:solidFill>
                      <a:srgbClr val="e6cc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 flipH="1">
                      <a:off x="2264760" y="4932720"/>
                      <a:ext cx="225720" cy="57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3" h="724">
                          <a:moveTo>
                            <a:pt x="151" y="0"/>
                          </a:moveTo>
                          <a:lnTo>
                            <a:pt x="134" y="48"/>
                          </a:lnTo>
                          <a:lnTo>
                            <a:pt x="108" y="82"/>
                          </a:lnTo>
                          <a:lnTo>
                            <a:pt x="79" y="109"/>
                          </a:lnTo>
                          <a:lnTo>
                            <a:pt x="50" y="136"/>
                          </a:lnTo>
                          <a:lnTo>
                            <a:pt x="23" y="168"/>
                          </a:lnTo>
                          <a:lnTo>
                            <a:pt x="6" y="212"/>
                          </a:lnTo>
                          <a:lnTo>
                            <a:pt x="0" y="274"/>
                          </a:lnTo>
                          <a:lnTo>
                            <a:pt x="10" y="362"/>
                          </a:lnTo>
                          <a:lnTo>
                            <a:pt x="33" y="446"/>
                          </a:lnTo>
                          <a:lnTo>
                            <a:pt x="65" y="504"/>
                          </a:lnTo>
                          <a:lnTo>
                            <a:pt x="102" y="542"/>
                          </a:lnTo>
                          <a:lnTo>
                            <a:pt x="143" y="569"/>
                          </a:lnTo>
                          <a:lnTo>
                            <a:pt x="183" y="591"/>
                          </a:lnTo>
                          <a:lnTo>
                            <a:pt x="221" y="619"/>
                          </a:lnTo>
                          <a:lnTo>
                            <a:pt x="255" y="660"/>
                          </a:lnTo>
                          <a:lnTo>
                            <a:pt x="283" y="724"/>
                          </a:lnTo>
                          <a:lnTo>
                            <a:pt x="271" y="633"/>
                          </a:lnTo>
                          <a:lnTo>
                            <a:pt x="252" y="525"/>
                          </a:lnTo>
                          <a:lnTo>
                            <a:pt x="231" y="405"/>
                          </a:lnTo>
                          <a:lnTo>
                            <a:pt x="208" y="286"/>
                          </a:lnTo>
                          <a:lnTo>
                            <a:pt x="186" y="176"/>
                          </a:lnTo>
                          <a:lnTo>
                            <a:pt x="169" y="84"/>
                          </a:lnTo>
                          <a:lnTo>
                            <a:pt x="156" y="23"/>
                          </a:lnTo>
                          <a:lnTo>
                            <a:pt x="151" y="0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flipH="1">
                      <a:off x="860040" y="5980320"/>
                      <a:ext cx="34740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" h="739">
                          <a:moveTo>
                            <a:pt x="419" y="555"/>
                          </a:moveTo>
                          <a:lnTo>
                            <a:pt x="0" y="739"/>
                          </a:lnTo>
                          <a:lnTo>
                            <a:pt x="24" y="147"/>
                          </a:lnTo>
                          <a:lnTo>
                            <a:pt x="438" y="0"/>
                          </a:lnTo>
                          <a:lnTo>
                            <a:pt x="419" y="555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 flipH="1">
                      <a:off x="463320" y="5826240"/>
                      <a:ext cx="317520" cy="55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1" h="697">
                          <a:moveTo>
                            <a:pt x="38" y="132"/>
                          </a:moveTo>
                          <a:lnTo>
                            <a:pt x="401" y="0"/>
                          </a:lnTo>
                          <a:lnTo>
                            <a:pt x="359" y="530"/>
                          </a:lnTo>
                          <a:lnTo>
                            <a:pt x="0" y="697"/>
                          </a:lnTo>
                          <a:lnTo>
                            <a:pt x="38" y="132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 flipH="1">
                      <a:off x="866160" y="5985000"/>
                      <a:ext cx="327240" cy="44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557">
                          <a:moveTo>
                            <a:pt x="0" y="148"/>
                          </a:moveTo>
                          <a:lnTo>
                            <a:pt x="413" y="0"/>
                          </a:lnTo>
                          <a:lnTo>
                            <a:pt x="395" y="557"/>
                          </a:lnTo>
                        </a:path>
                      </a:pathLst>
                    </a:custGeom>
                    <a:noFill/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 flipH="1">
                      <a:off x="463320" y="5826240"/>
                      <a:ext cx="28728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530">
                          <a:moveTo>
                            <a:pt x="0" y="132"/>
                          </a:moveTo>
                          <a:lnTo>
                            <a:pt x="363" y="0"/>
                          </a:lnTo>
                          <a:lnTo>
                            <a:pt x="321" y="530"/>
                          </a:lnTo>
                        </a:path>
                      </a:pathLst>
                    </a:custGeom>
                    <a:noFill/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 flipH="1">
                      <a:off x="496440" y="5929560"/>
                      <a:ext cx="284040" cy="44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565">
                          <a:moveTo>
                            <a:pt x="359" y="398"/>
                          </a:moveTo>
                          <a:lnTo>
                            <a:pt x="0" y="565"/>
                          </a:lnTo>
                          <a:lnTo>
                            <a:pt x="38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 flipH="1">
                      <a:off x="80640" y="5696280"/>
                      <a:ext cx="277560" cy="39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503">
                          <a:moveTo>
                            <a:pt x="0" y="115"/>
                          </a:moveTo>
                          <a:lnTo>
                            <a:pt x="350" y="0"/>
                          </a:lnTo>
                          <a:lnTo>
                            <a:pt x="289" y="503"/>
                          </a:lnTo>
                        </a:path>
                      </a:pathLst>
                    </a:custGeom>
                    <a:noFill/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 flipH="1">
                      <a:off x="128160" y="5786640"/>
                      <a:ext cx="26820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521">
                          <a:moveTo>
                            <a:pt x="336" y="388"/>
                          </a:moveTo>
                          <a:lnTo>
                            <a:pt x="0" y="521"/>
                          </a:lnTo>
                          <a:lnTo>
                            <a:pt x="47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 flipH="1">
                      <a:off x="1437840" y="5780160"/>
                      <a:ext cx="547560" cy="44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558">
                          <a:moveTo>
                            <a:pt x="690" y="409"/>
                          </a:moveTo>
                          <a:lnTo>
                            <a:pt x="0" y="0"/>
                          </a:lnTo>
                          <a:lnTo>
                            <a:pt x="62" y="558"/>
                          </a:lnTo>
                        </a:path>
                      </a:pathLst>
                    </a:custGeom>
                    <a:noFill/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 flipH="1">
                      <a:off x="1437840" y="5847120"/>
                      <a:ext cx="5144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8" h="864">
                          <a:moveTo>
                            <a:pt x="20" y="473"/>
                          </a:moveTo>
                          <a:lnTo>
                            <a:pt x="22" y="485"/>
                          </a:lnTo>
                          <a:lnTo>
                            <a:pt x="620" y="864"/>
                          </a:lnTo>
                          <a:lnTo>
                            <a:pt x="648" y="324"/>
                          </a:lnTo>
                          <a:lnTo>
                            <a:pt x="0" y="0"/>
                          </a:lnTo>
                          <a:lnTo>
                            <a:pt x="20" y="473"/>
                          </a:lnTo>
                          <a:close/>
                        </a:path>
                      </a:pathLst>
                    </a:custGeom>
                    <a:solidFill>
                      <a:srgbClr val="803333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 flipH="1">
                      <a:off x="48600" y="5321520"/>
                      <a:ext cx="1938600" cy="72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3" h="913">
                          <a:moveTo>
                            <a:pt x="0" y="388"/>
                          </a:moveTo>
                          <a:lnTo>
                            <a:pt x="1674" y="0"/>
                          </a:lnTo>
                          <a:lnTo>
                            <a:pt x="2443" y="343"/>
                          </a:lnTo>
                          <a:lnTo>
                            <a:pt x="886" y="913"/>
                          </a:lnTo>
                          <a:lnTo>
                            <a:pt x="0" y="3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80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 flipH="1">
                      <a:off x="750240" y="4689720"/>
                      <a:ext cx="1420920" cy="82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9" h="1037">
                          <a:moveTo>
                            <a:pt x="1789" y="680"/>
                          </a:moveTo>
                          <a:lnTo>
                            <a:pt x="1637" y="0"/>
                          </a:lnTo>
                          <a:lnTo>
                            <a:pt x="0" y="161"/>
                          </a:lnTo>
                          <a:lnTo>
                            <a:pt x="161" y="1037"/>
                          </a:lnTo>
                          <a:lnTo>
                            <a:pt x="1789" y="680"/>
                          </a:lnTo>
                          <a:close/>
                        </a:path>
                      </a:pathLst>
                    </a:custGeom>
                    <a:solidFill>
                      <a:srgbClr val="803333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 flipH="1">
                      <a:off x="750240" y="4689720"/>
                      <a:ext cx="327240" cy="55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0" h="703">
                          <a:moveTo>
                            <a:pt x="150" y="6"/>
                          </a:moveTo>
                          <a:lnTo>
                            <a:pt x="133" y="54"/>
                          </a:lnTo>
                          <a:lnTo>
                            <a:pt x="107" y="88"/>
                          </a:lnTo>
                          <a:lnTo>
                            <a:pt x="78" y="115"/>
                          </a:lnTo>
                          <a:lnTo>
                            <a:pt x="49" y="142"/>
                          </a:lnTo>
                          <a:lnTo>
                            <a:pt x="23" y="173"/>
                          </a:lnTo>
                          <a:lnTo>
                            <a:pt x="6" y="218"/>
                          </a:lnTo>
                          <a:lnTo>
                            <a:pt x="0" y="280"/>
                          </a:lnTo>
                          <a:lnTo>
                            <a:pt x="10" y="369"/>
                          </a:lnTo>
                          <a:lnTo>
                            <a:pt x="33" y="451"/>
                          </a:lnTo>
                          <a:lnTo>
                            <a:pt x="64" y="506"/>
                          </a:lnTo>
                          <a:lnTo>
                            <a:pt x="101" y="539"/>
                          </a:lnTo>
                          <a:lnTo>
                            <a:pt x="142" y="561"/>
                          </a:lnTo>
                          <a:lnTo>
                            <a:pt x="181" y="578"/>
                          </a:lnTo>
                          <a:lnTo>
                            <a:pt x="221" y="603"/>
                          </a:lnTo>
                          <a:lnTo>
                            <a:pt x="254" y="640"/>
                          </a:lnTo>
                          <a:lnTo>
                            <a:pt x="282" y="703"/>
                          </a:lnTo>
                          <a:lnTo>
                            <a:pt x="410" y="680"/>
                          </a:lnTo>
                          <a:lnTo>
                            <a:pt x="396" y="614"/>
                          </a:lnTo>
                          <a:lnTo>
                            <a:pt x="378" y="529"/>
                          </a:lnTo>
                          <a:lnTo>
                            <a:pt x="356" y="430"/>
                          </a:lnTo>
                          <a:lnTo>
                            <a:pt x="332" y="327"/>
                          </a:lnTo>
                          <a:lnTo>
                            <a:pt x="307" y="224"/>
                          </a:lnTo>
                          <a:lnTo>
                            <a:pt x="287" y="130"/>
                          </a:lnTo>
                          <a:lnTo>
                            <a:pt x="268" y="53"/>
                          </a:lnTo>
                          <a:lnTo>
                            <a:pt x="258" y="0"/>
                          </a:lnTo>
                          <a:lnTo>
                            <a:pt x="150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 flipH="1">
                      <a:off x="2285640" y="5018400"/>
                      <a:ext cx="153720" cy="39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498">
                          <a:moveTo>
                            <a:pt x="104" y="0"/>
                          </a:moveTo>
                          <a:lnTo>
                            <a:pt x="93" y="32"/>
                          </a:lnTo>
                          <a:lnTo>
                            <a:pt x="75" y="56"/>
                          </a:lnTo>
                          <a:lnTo>
                            <a:pt x="55" y="74"/>
                          </a:lnTo>
                          <a:lnTo>
                            <a:pt x="35" y="93"/>
                          </a:lnTo>
                          <a:lnTo>
                            <a:pt x="16" y="115"/>
                          </a:lnTo>
                          <a:lnTo>
                            <a:pt x="4" y="145"/>
                          </a:lnTo>
                          <a:lnTo>
                            <a:pt x="0" y="188"/>
                          </a:lnTo>
                          <a:lnTo>
                            <a:pt x="8" y="249"/>
                          </a:lnTo>
                          <a:lnTo>
                            <a:pt x="23" y="307"/>
                          </a:lnTo>
                          <a:lnTo>
                            <a:pt x="45" y="347"/>
                          </a:lnTo>
                          <a:lnTo>
                            <a:pt x="70" y="372"/>
                          </a:lnTo>
                          <a:lnTo>
                            <a:pt x="98" y="391"/>
                          </a:lnTo>
                          <a:lnTo>
                            <a:pt x="125" y="407"/>
                          </a:lnTo>
                          <a:lnTo>
                            <a:pt x="153" y="426"/>
                          </a:lnTo>
                          <a:lnTo>
                            <a:pt x="175" y="454"/>
                          </a:lnTo>
                          <a:lnTo>
                            <a:pt x="195" y="498"/>
                          </a:lnTo>
                          <a:lnTo>
                            <a:pt x="186" y="436"/>
                          </a:lnTo>
                          <a:lnTo>
                            <a:pt x="174" y="361"/>
                          </a:lnTo>
                          <a:lnTo>
                            <a:pt x="159" y="278"/>
                          </a:lnTo>
                          <a:lnTo>
                            <a:pt x="144" y="197"/>
                          </a:lnTo>
                          <a:lnTo>
                            <a:pt x="128" y="120"/>
                          </a:lnTo>
                          <a:lnTo>
                            <a:pt x="116" y="58"/>
                          </a:lnTo>
                          <a:lnTo>
                            <a:pt x="107" y="15"/>
                          </a:lnTo>
                          <a:lnTo>
                            <a:pt x="10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060560" y="4959720"/>
                      <a:ext cx="1049400" cy="1490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060560" y="4899240"/>
                      <a:ext cx="1049400" cy="150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1060560" y="4837320"/>
                      <a:ext cx="1049400" cy="138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990360" y="4770720"/>
                      <a:ext cx="1160640" cy="1490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939960" y="4719960"/>
                      <a:ext cx="1220760" cy="1602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939960" y="5089680"/>
                      <a:ext cx="1141560" cy="1890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890640" y="5178600"/>
                      <a:ext cx="1170000" cy="2318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 flipH="1">
                      <a:off x="1492200" y="4510440"/>
                      <a:ext cx="35856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3" h="252">
                          <a:moveTo>
                            <a:pt x="453" y="239"/>
                          </a:moveTo>
                          <a:lnTo>
                            <a:pt x="265" y="51"/>
                          </a:lnTo>
                          <a:lnTo>
                            <a:pt x="113" y="0"/>
                          </a:lnTo>
                          <a:lnTo>
                            <a:pt x="0" y="12"/>
                          </a:lnTo>
                          <a:lnTo>
                            <a:pt x="113" y="89"/>
                          </a:lnTo>
                          <a:lnTo>
                            <a:pt x="252" y="252"/>
                          </a:lnTo>
                          <a:lnTo>
                            <a:pt x="453" y="2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cc99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 flipH="1">
                      <a:off x="1690560" y="4540320"/>
                      <a:ext cx="60480" cy="30240"/>
                    </a:xfrm>
                    <a:prstGeom prst="line">
                      <a:avLst/>
                    </a:prstGeom>
                    <a:ln w="7920">
                      <a:solidFill>
                        <a:srgbClr val="ffffb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 flipH="1">
                      <a:off x="2280600" y="487548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1" y="7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4"/>
                          </a:lnTo>
                          <a:lnTo>
                            <a:pt x="41" y="41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1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flipH="1">
                      <a:off x="2265120" y="499140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2"/>
                          </a:lnTo>
                          <a:lnTo>
                            <a:pt x="25" y="0"/>
                          </a:lnTo>
                          <a:lnTo>
                            <a:pt x="34" y="2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 flipH="1">
                      <a:off x="2241360" y="50914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51" y="26"/>
                          </a:lnTo>
                          <a:lnTo>
                            <a:pt x="47" y="35"/>
                          </a:lnTo>
                          <a:lnTo>
                            <a:pt x="42" y="43"/>
                          </a:lnTo>
                          <a:lnTo>
                            <a:pt x="33" y="49"/>
                          </a:lnTo>
                          <a:lnTo>
                            <a:pt x="25" y="51"/>
                          </a:lnTo>
                          <a:lnTo>
                            <a:pt x="14" y="49"/>
                          </a:lnTo>
                          <a:lnTo>
                            <a:pt x="7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 flipH="1">
                      <a:off x="2225520" y="5189760"/>
                      <a:ext cx="396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50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 flipH="1">
                      <a:off x="2202840" y="530712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3" y="6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3" y="42"/>
                          </a:lnTo>
                          <a:lnTo>
                            <a:pt x="34" y="47"/>
                          </a:lnTo>
                          <a:lnTo>
                            <a:pt x="25" y="51"/>
                          </a:lnTo>
                          <a:lnTo>
                            <a:pt x="15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H="1">
                      <a:off x="2193840" y="5394600"/>
                      <a:ext cx="3816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6" y="7"/>
                          </a:lnTo>
                          <a:lnTo>
                            <a:pt x="13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1" y="7"/>
                          </a:lnTo>
                          <a:lnTo>
                            <a:pt x="47" y="15"/>
                          </a:lnTo>
                          <a:lnTo>
                            <a:pt x="49" y="26"/>
                          </a:lnTo>
                          <a:lnTo>
                            <a:pt x="47" y="34"/>
                          </a:lnTo>
                          <a:lnTo>
                            <a:pt x="41" y="43"/>
                          </a:lnTo>
                          <a:lnTo>
                            <a:pt x="33" y="48"/>
                          </a:lnTo>
                          <a:lnTo>
                            <a:pt x="24" y="50"/>
                          </a:lnTo>
                          <a:lnTo>
                            <a:pt x="13" y="48"/>
                          </a:lnTo>
                          <a:lnTo>
                            <a:pt x="6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 flipH="1">
                      <a:off x="2175840" y="5488200"/>
                      <a:ext cx="399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7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7"/>
                          </a:lnTo>
                          <a:lnTo>
                            <a:pt x="48" y="15"/>
                          </a:lnTo>
                          <a:lnTo>
                            <a:pt x="50" y="26"/>
                          </a:lnTo>
                          <a:lnTo>
                            <a:pt x="48" y="34"/>
                          </a:lnTo>
                          <a:lnTo>
                            <a:pt x="43" y="43"/>
                          </a:lnTo>
                          <a:lnTo>
                            <a:pt x="34" y="48"/>
                          </a:lnTo>
                          <a:lnTo>
                            <a:pt x="26" y="50"/>
                          </a:lnTo>
                          <a:lnTo>
                            <a:pt x="15" y="48"/>
                          </a:lnTo>
                          <a:lnTo>
                            <a:pt x="7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 flipH="1">
                      <a:off x="2380680" y="499752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8" y="24"/>
                          </a:lnTo>
                          <a:lnTo>
                            <a:pt x="46" y="32"/>
                          </a:lnTo>
                          <a:lnTo>
                            <a:pt x="41" y="41"/>
                          </a:lnTo>
                          <a:lnTo>
                            <a:pt x="33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6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flipH="1">
                      <a:off x="2425680" y="5053320"/>
                      <a:ext cx="396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8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3"/>
                          </a:lnTo>
                          <a:lnTo>
                            <a:pt x="41" y="41"/>
                          </a:lnTo>
                          <a:lnTo>
                            <a:pt x="33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6" y="41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 flipH="1">
                      <a:off x="2442960" y="513576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0" y="7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3"/>
                          </a:lnTo>
                          <a:lnTo>
                            <a:pt x="40" y="42"/>
                          </a:lnTo>
                          <a:lnTo>
                            <a:pt x="33" y="47"/>
                          </a:lnTo>
                          <a:lnTo>
                            <a:pt x="24" y="50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 flipH="1">
                      <a:off x="2431800" y="525168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2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flipH="1">
                      <a:off x="2380680" y="532944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 flipH="1">
                      <a:off x="2027160" y="570564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9" y="24"/>
                          </a:lnTo>
                          <a:lnTo>
                            <a:pt x="46" y="32"/>
                          </a:lnTo>
                          <a:lnTo>
                            <a:pt x="41" y="41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 flipH="1">
                      <a:off x="2027160" y="580572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 flipH="1">
                      <a:off x="2004840" y="588816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 flipH="1">
                      <a:off x="1993680" y="5965920"/>
                      <a:ext cx="38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4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 flipH="1">
                      <a:off x="1987560" y="607068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flipH="1">
                      <a:off x="1987560" y="61534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6" y="8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 flipH="1">
                      <a:off x="1976400" y="6215400"/>
                      <a:ext cx="396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5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3" y="48"/>
                          </a:lnTo>
                          <a:lnTo>
                            <a:pt x="24" y="50"/>
                          </a:lnTo>
                          <a:lnTo>
                            <a:pt x="15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 flipH="1">
                      <a:off x="1915920" y="627552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7">
                          <a:moveTo>
                            <a:pt x="0" y="23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2" y="1"/>
                          </a:lnTo>
                          <a:lnTo>
                            <a:pt x="40" y="6"/>
                          </a:lnTo>
                          <a:lnTo>
                            <a:pt x="45" y="14"/>
                          </a:lnTo>
                          <a:lnTo>
                            <a:pt x="47" y="23"/>
                          </a:lnTo>
                          <a:lnTo>
                            <a:pt x="45" y="32"/>
                          </a:lnTo>
                          <a:lnTo>
                            <a:pt x="40" y="40"/>
                          </a:lnTo>
                          <a:lnTo>
                            <a:pt x="32" y="45"/>
                          </a:lnTo>
                          <a:lnTo>
                            <a:pt x="24" y="47"/>
                          </a:lnTo>
                          <a:lnTo>
                            <a:pt x="14" y="45"/>
                          </a:lnTo>
                          <a:lnTo>
                            <a:pt x="7" y="40"/>
                          </a:lnTo>
                          <a:lnTo>
                            <a:pt x="1" y="32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 flipH="1">
                      <a:off x="1826640" y="634212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8">
                          <a:moveTo>
                            <a:pt x="0" y="23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2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8" y="23"/>
                          </a:lnTo>
                          <a:lnTo>
                            <a:pt x="46" y="32"/>
                          </a:lnTo>
                          <a:lnTo>
                            <a:pt x="41" y="40"/>
                          </a:lnTo>
                          <a:lnTo>
                            <a:pt x="32" y="46"/>
                          </a:lnTo>
                          <a:lnTo>
                            <a:pt x="24" y="48"/>
                          </a:lnTo>
                          <a:lnTo>
                            <a:pt x="14" y="46"/>
                          </a:lnTo>
                          <a:lnTo>
                            <a:pt x="6" y="40"/>
                          </a:lnTo>
                          <a:lnTo>
                            <a:pt x="1" y="32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 flipH="1">
                      <a:off x="1744560" y="63867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8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H="1">
                      <a:off x="1628640" y="64533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1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2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flipH="1">
                      <a:off x="1550880" y="650268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5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5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2" y="41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 flipH="1">
                      <a:off x="1455120" y="6551640"/>
                      <a:ext cx="399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 flipH="1">
                      <a:off x="1388880" y="65962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3" y="6"/>
                          </a:lnTo>
                          <a:lnTo>
                            <a:pt x="48" y="14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3" y="42"/>
                          </a:lnTo>
                          <a:lnTo>
                            <a:pt x="34" y="47"/>
                          </a:lnTo>
                          <a:lnTo>
                            <a:pt x="25" y="50"/>
                          </a:lnTo>
                          <a:lnTo>
                            <a:pt x="15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 flipH="1">
                      <a:off x="1384200" y="6498000"/>
                      <a:ext cx="396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5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 flipH="1">
                      <a:off x="1379520" y="639144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2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flipH="1">
                      <a:off x="1373040" y="62931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 flipH="1">
                      <a:off x="1368360" y="620424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8" y="7"/>
                          </a:lnTo>
                          <a:lnTo>
                            <a:pt x="16" y="2"/>
                          </a:lnTo>
                          <a:lnTo>
                            <a:pt x="25" y="0"/>
                          </a:lnTo>
                          <a:lnTo>
                            <a:pt x="34" y="2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6" y="48"/>
                          </a:lnTo>
                          <a:lnTo>
                            <a:pt x="8" y="42"/>
                          </a:lnTo>
                          <a:lnTo>
                            <a:pt x="2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 flipH="1">
                      <a:off x="1361880" y="6121440"/>
                      <a:ext cx="396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7"/>
                          </a:lnTo>
                          <a:lnTo>
                            <a:pt x="46" y="14"/>
                          </a:lnTo>
                          <a:lnTo>
                            <a:pt x="48" y="24"/>
                          </a:lnTo>
                          <a:lnTo>
                            <a:pt x="46" y="32"/>
                          </a:lnTo>
                          <a:lnTo>
                            <a:pt x="41" y="41"/>
                          </a:lnTo>
                          <a:lnTo>
                            <a:pt x="33" y="46"/>
                          </a:lnTo>
                          <a:lnTo>
                            <a:pt x="25" y="49"/>
                          </a:lnTo>
                          <a:lnTo>
                            <a:pt x="14" y="46"/>
                          </a:lnTo>
                          <a:lnTo>
                            <a:pt x="6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 flipH="1">
                      <a:off x="1417320" y="6037560"/>
                      <a:ext cx="37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7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8" y="24"/>
                          </a:lnTo>
                          <a:lnTo>
                            <a:pt x="46" y="32"/>
                          </a:lnTo>
                          <a:lnTo>
                            <a:pt x="41" y="40"/>
                          </a:lnTo>
                          <a:lnTo>
                            <a:pt x="33" y="45"/>
                          </a:lnTo>
                          <a:lnTo>
                            <a:pt x="25" y="47"/>
                          </a:lnTo>
                          <a:lnTo>
                            <a:pt x="14" y="45"/>
                          </a:lnTo>
                          <a:lnTo>
                            <a:pt x="7" y="40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 flipH="1">
                      <a:off x="1528560" y="59547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2" y="41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 flipH="1">
                      <a:off x="1655640" y="588204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6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50" y="26"/>
                          </a:lnTo>
                          <a:lnTo>
                            <a:pt x="47" y="35"/>
                          </a:lnTo>
                          <a:lnTo>
                            <a:pt x="42" y="43"/>
                          </a:lnTo>
                          <a:lnTo>
                            <a:pt x="33" y="49"/>
                          </a:lnTo>
                          <a:lnTo>
                            <a:pt x="25" y="51"/>
                          </a:lnTo>
                          <a:lnTo>
                            <a:pt x="14" y="49"/>
                          </a:lnTo>
                          <a:lnTo>
                            <a:pt x="6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 flipH="1">
                      <a:off x="1771560" y="5828040"/>
                      <a:ext cx="396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4"/>
                          </a:lnTo>
                          <a:lnTo>
                            <a:pt x="47" y="33"/>
                          </a:lnTo>
                          <a:lnTo>
                            <a:pt x="42" y="41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5" y="47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 flipH="1">
                      <a:off x="1871640" y="576108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4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5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flipH="1">
                      <a:off x="1938240" y="573264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8" y="8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8"/>
                          </a:lnTo>
                          <a:lnTo>
                            <a:pt x="48" y="15"/>
                          </a:lnTo>
                          <a:lnTo>
                            <a:pt x="51" y="26"/>
                          </a:lnTo>
                          <a:lnTo>
                            <a:pt x="48" y="35"/>
                          </a:lnTo>
                          <a:lnTo>
                            <a:pt x="43" y="43"/>
                          </a:lnTo>
                          <a:lnTo>
                            <a:pt x="34" y="49"/>
                          </a:lnTo>
                          <a:lnTo>
                            <a:pt x="26" y="51"/>
                          </a:lnTo>
                          <a:lnTo>
                            <a:pt x="15" y="49"/>
                          </a:lnTo>
                          <a:lnTo>
                            <a:pt x="8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 flipH="1">
                      <a:off x="1234800" y="612144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0" y="7"/>
                          </a:lnTo>
                          <a:lnTo>
                            <a:pt x="45" y="14"/>
                          </a:lnTo>
                          <a:lnTo>
                            <a:pt x="48" y="24"/>
                          </a:lnTo>
                          <a:lnTo>
                            <a:pt x="45" y="32"/>
                          </a:lnTo>
                          <a:lnTo>
                            <a:pt x="40" y="41"/>
                          </a:lnTo>
                          <a:lnTo>
                            <a:pt x="33" y="46"/>
                          </a:lnTo>
                          <a:lnTo>
                            <a:pt x="24" y="49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>
                      <a:off x="1234800" y="6226200"/>
                      <a:ext cx="38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1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flipH="1">
                      <a:off x="1239840" y="6331320"/>
                      <a:ext cx="396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6"/>
                          </a:lnTo>
                          <a:lnTo>
                            <a:pt x="48" y="14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3" y="41"/>
                          </a:lnTo>
                          <a:lnTo>
                            <a:pt x="34" y="47"/>
                          </a:lnTo>
                          <a:lnTo>
                            <a:pt x="26" y="49"/>
                          </a:lnTo>
                          <a:lnTo>
                            <a:pt x="15" y="47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1245960" y="643104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8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 flipH="1">
                      <a:off x="1257120" y="6498000"/>
                      <a:ext cx="38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1" y="41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 flipH="1">
                      <a:off x="1261440" y="658044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5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3" y="48"/>
                          </a:lnTo>
                          <a:lnTo>
                            <a:pt x="24" y="50"/>
                          </a:lnTo>
                          <a:lnTo>
                            <a:pt x="15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 flipH="1">
                      <a:off x="1152360" y="65739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7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3" y="0"/>
                          </a:lnTo>
                          <a:lnTo>
                            <a:pt x="32" y="1"/>
                          </a:lnTo>
                          <a:lnTo>
                            <a:pt x="39" y="6"/>
                          </a:lnTo>
                          <a:lnTo>
                            <a:pt x="45" y="14"/>
                          </a:lnTo>
                          <a:lnTo>
                            <a:pt x="47" y="24"/>
                          </a:lnTo>
                          <a:lnTo>
                            <a:pt x="45" y="32"/>
                          </a:lnTo>
                          <a:lnTo>
                            <a:pt x="39" y="40"/>
                          </a:lnTo>
                          <a:lnTo>
                            <a:pt x="32" y="45"/>
                          </a:lnTo>
                          <a:lnTo>
                            <a:pt x="23" y="47"/>
                          </a:lnTo>
                          <a:lnTo>
                            <a:pt x="14" y="45"/>
                          </a:lnTo>
                          <a:lnTo>
                            <a:pt x="6" y="40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 flipH="1">
                      <a:off x="1029960" y="6513840"/>
                      <a:ext cx="378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1" y="6"/>
                          </a:lnTo>
                          <a:lnTo>
                            <a:pt x="47" y="14"/>
                          </a:lnTo>
                          <a:lnTo>
                            <a:pt x="49" y="24"/>
                          </a:lnTo>
                          <a:lnTo>
                            <a:pt x="47" y="33"/>
                          </a:lnTo>
                          <a:lnTo>
                            <a:pt x="41" y="40"/>
                          </a:lnTo>
                          <a:lnTo>
                            <a:pt x="33" y="46"/>
                          </a:lnTo>
                          <a:lnTo>
                            <a:pt x="24" y="48"/>
                          </a:lnTo>
                          <a:lnTo>
                            <a:pt x="14" y="46"/>
                          </a:lnTo>
                          <a:lnTo>
                            <a:pt x="7" y="40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 flipH="1">
                      <a:off x="957240" y="647388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5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49" y="26"/>
                          </a:lnTo>
                          <a:lnTo>
                            <a:pt x="47" y="34"/>
                          </a:lnTo>
                          <a:lnTo>
                            <a:pt x="42" y="43"/>
                          </a:lnTo>
                          <a:lnTo>
                            <a:pt x="33" y="48"/>
                          </a:lnTo>
                          <a:lnTo>
                            <a:pt x="24" y="51"/>
                          </a:lnTo>
                          <a:lnTo>
                            <a:pt x="15" y="48"/>
                          </a:lnTo>
                          <a:lnTo>
                            <a:pt x="7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 flipH="1">
                      <a:off x="885240" y="643608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8" y="6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6"/>
                          </a:lnTo>
                          <a:lnTo>
                            <a:pt x="48" y="14"/>
                          </a:lnTo>
                          <a:lnTo>
                            <a:pt x="51" y="24"/>
                          </a:lnTo>
                          <a:lnTo>
                            <a:pt x="48" y="33"/>
                          </a:lnTo>
                          <a:lnTo>
                            <a:pt x="43" y="42"/>
                          </a:lnTo>
                          <a:lnTo>
                            <a:pt x="34" y="47"/>
                          </a:lnTo>
                          <a:lnTo>
                            <a:pt x="26" y="50"/>
                          </a:lnTo>
                          <a:lnTo>
                            <a:pt x="15" y="47"/>
                          </a:lnTo>
                          <a:lnTo>
                            <a:pt x="8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 flipH="1">
                      <a:off x="825480" y="641376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8" y="7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5" y="1"/>
                          </a:lnTo>
                          <a:lnTo>
                            <a:pt x="43" y="7"/>
                          </a:lnTo>
                          <a:lnTo>
                            <a:pt x="49" y="15"/>
                          </a:lnTo>
                          <a:lnTo>
                            <a:pt x="51" y="26"/>
                          </a:lnTo>
                          <a:lnTo>
                            <a:pt x="49" y="34"/>
                          </a:lnTo>
                          <a:lnTo>
                            <a:pt x="43" y="43"/>
                          </a:lnTo>
                          <a:lnTo>
                            <a:pt x="35" y="48"/>
                          </a:lnTo>
                          <a:lnTo>
                            <a:pt x="26" y="50"/>
                          </a:lnTo>
                          <a:lnTo>
                            <a:pt x="15" y="48"/>
                          </a:lnTo>
                          <a:lnTo>
                            <a:pt x="8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flipH="1">
                      <a:off x="807840" y="633132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4"/>
                          </a:lnTo>
                          <a:lnTo>
                            <a:pt x="47" y="33"/>
                          </a:lnTo>
                          <a:lnTo>
                            <a:pt x="42" y="41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6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flipH="1">
                      <a:off x="803160" y="6242400"/>
                      <a:ext cx="38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7">
                          <a:moveTo>
                            <a:pt x="0" y="24"/>
                          </a:moveTo>
                          <a:lnTo>
                            <a:pt x="2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0" y="6"/>
                          </a:lnTo>
                          <a:lnTo>
                            <a:pt x="46" y="14"/>
                          </a:lnTo>
                          <a:lnTo>
                            <a:pt x="48" y="24"/>
                          </a:lnTo>
                          <a:lnTo>
                            <a:pt x="46" y="32"/>
                          </a:lnTo>
                          <a:lnTo>
                            <a:pt x="40" y="40"/>
                          </a:lnTo>
                          <a:lnTo>
                            <a:pt x="33" y="45"/>
                          </a:lnTo>
                          <a:lnTo>
                            <a:pt x="24" y="47"/>
                          </a:lnTo>
                          <a:lnTo>
                            <a:pt x="14" y="45"/>
                          </a:lnTo>
                          <a:lnTo>
                            <a:pt x="7" y="40"/>
                          </a:lnTo>
                          <a:lnTo>
                            <a:pt x="2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 flipH="1">
                      <a:off x="803160" y="615348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8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flipH="1">
                      <a:off x="809280" y="6062760"/>
                      <a:ext cx="349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4">
                          <a:moveTo>
                            <a:pt x="0" y="22"/>
                          </a:moveTo>
                          <a:lnTo>
                            <a:pt x="1" y="12"/>
                          </a:lnTo>
                          <a:lnTo>
                            <a:pt x="5" y="5"/>
                          </a:lnTo>
                          <a:lnTo>
                            <a:pt x="12" y="1"/>
                          </a:lnTo>
                          <a:lnTo>
                            <a:pt x="22" y="0"/>
                          </a:lnTo>
                          <a:lnTo>
                            <a:pt x="30" y="1"/>
                          </a:lnTo>
                          <a:lnTo>
                            <a:pt x="38" y="5"/>
                          </a:lnTo>
                          <a:lnTo>
                            <a:pt x="42" y="12"/>
                          </a:lnTo>
                          <a:lnTo>
                            <a:pt x="44" y="22"/>
                          </a:lnTo>
                          <a:lnTo>
                            <a:pt x="42" y="30"/>
                          </a:lnTo>
                          <a:lnTo>
                            <a:pt x="38" y="38"/>
                          </a:lnTo>
                          <a:lnTo>
                            <a:pt x="30" y="42"/>
                          </a:lnTo>
                          <a:lnTo>
                            <a:pt x="22" y="44"/>
                          </a:lnTo>
                          <a:lnTo>
                            <a:pt x="12" y="42"/>
                          </a:lnTo>
                          <a:lnTo>
                            <a:pt x="5" y="38"/>
                          </a:lnTo>
                          <a:lnTo>
                            <a:pt x="1" y="3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flipH="1">
                      <a:off x="798120" y="5978880"/>
                      <a:ext cx="349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5">
                          <a:moveTo>
                            <a:pt x="0" y="22"/>
                          </a:moveTo>
                          <a:lnTo>
                            <a:pt x="1" y="13"/>
                          </a:lnTo>
                          <a:lnTo>
                            <a:pt x="7" y="6"/>
                          </a:lnTo>
                          <a:lnTo>
                            <a:pt x="13" y="1"/>
                          </a:lnTo>
                          <a:lnTo>
                            <a:pt x="23" y="0"/>
                          </a:lnTo>
                          <a:lnTo>
                            <a:pt x="30" y="1"/>
                          </a:lnTo>
                          <a:lnTo>
                            <a:pt x="38" y="6"/>
                          </a:lnTo>
                          <a:lnTo>
                            <a:pt x="42" y="13"/>
                          </a:lnTo>
                          <a:lnTo>
                            <a:pt x="44" y="22"/>
                          </a:lnTo>
                          <a:lnTo>
                            <a:pt x="42" y="30"/>
                          </a:lnTo>
                          <a:lnTo>
                            <a:pt x="38" y="37"/>
                          </a:lnTo>
                          <a:lnTo>
                            <a:pt x="30" y="43"/>
                          </a:lnTo>
                          <a:lnTo>
                            <a:pt x="23" y="45"/>
                          </a:lnTo>
                          <a:lnTo>
                            <a:pt x="13" y="43"/>
                          </a:lnTo>
                          <a:lnTo>
                            <a:pt x="7" y="37"/>
                          </a:lnTo>
                          <a:lnTo>
                            <a:pt x="1" y="3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 flipH="1">
                      <a:off x="803160" y="591516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8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flipH="1">
                      <a:off x="890640" y="594396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4"/>
                          </a:moveTo>
                          <a:lnTo>
                            <a:pt x="1" y="15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5"/>
                          </a:lnTo>
                          <a:lnTo>
                            <a:pt x="49" y="24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flipH="1">
                      <a:off x="985680" y="59770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8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1" y="24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5" y="47"/>
                          </a:lnTo>
                          <a:lnTo>
                            <a:pt x="8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 flipH="1">
                      <a:off x="1074600" y="601524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flipH="1">
                      <a:off x="674640" y="5861160"/>
                      <a:ext cx="396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2"/>
                          </a:lnTo>
                          <a:lnTo>
                            <a:pt x="23" y="0"/>
                          </a:lnTo>
                          <a:lnTo>
                            <a:pt x="32" y="2"/>
                          </a:lnTo>
                          <a:lnTo>
                            <a:pt x="41" y="7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4"/>
                          </a:lnTo>
                          <a:lnTo>
                            <a:pt x="41" y="42"/>
                          </a:lnTo>
                          <a:lnTo>
                            <a:pt x="32" y="48"/>
                          </a:lnTo>
                          <a:lnTo>
                            <a:pt x="23" y="50"/>
                          </a:lnTo>
                          <a:lnTo>
                            <a:pt x="14" y="48"/>
                          </a:lnTo>
                          <a:lnTo>
                            <a:pt x="6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 flipH="1">
                      <a:off x="576000" y="583272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2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 flipH="1">
                      <a:off x="469800" y="579924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51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flipH="1">
                      <a:off x="392040" y="57772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6" y="8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49" y="26"/>
                          </a:lnTo>
                          <a:lnTo>
                            <a:pt x="47" y="35"/>
                          </a:lnTo>
                          <a:lnTo>
                            <a:pt x="42" y="43"/>
                          </a:lnTo>
                          <a:lnTo>
                            <a:pt x="33" y="49"/>
                          </a:lnTo>
                          <a:lnTo>
                            <a:pt x="24" y="51"/>
                          </a:lnTo>
                          <a:lnTo>
                            <a:pt x="14" y="49"/>
                          </a:lnTo>
                          <a:lnTo>
                            <a:pt x="6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 flipH="1">
                      <a:off x="403200" y="58708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1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3" y="48"/>
                          </a:lnTo>
                          <a:lnTo>
                            <a:pt x="24" y="51"/>
                          </a:lnTo>
                          <a:lnTo>
                            <a:pt x="14" y="48"/>
                          </a:lnTo>
                          <a:lnTo>
                            <a:pt x="6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flipH="1">
                      <a:off x="398520" y="5964480"/>
                      <a:ext cx="396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8" y="7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5" y="1"/>
                          </a:lnTo>
                          <a:lnTo>
                            <a:pt x="43" y="7"/>
                          </a:lnTo>
                          <a:lnTo>
                            <a:pt x="49" y="15"/>
                          </a:lnTo>
                          <a:lnTo>
                            <a:pt x="51" y="25"/>
                          </a:lnTo>
                          <a:lnTo>
                            <a:pt x="49" y="34"/>
                          </a:lnTo>
                          <a:lnTo>
                            <a:pt x="43" y="43"/>
                          </a:lnTo>
                          <a:lnTo>
                            <a:pt x="35" y="48"/>
                          </a:lnTo>
                          <a:lnTo>
                            <a:pt x="26" y="50"/>
                          </a:lnTo>
                          <a:lnTo>
                            <a:pt x="15" y="48"/>
                          </a:lnTo>
                          <a:lnTo>
                            <a:pt x="8" y="43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 flipH="1">
                      <a:off x="408960" y="604224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51" y="26"/>
                          </a:lnTo>
                          <a:lnTo>
                            <a:pt x="47" y="35"/>
                          </a:lnTo>
                          <a:lnTo>
                            <a:pt x="42" y="43"/>
                          </a:lnTo>
                          <a:lnTo>
                            <a:pt x="33" y="49"/>
                          </a:lnTo>
                          <a:lnTo>
                            <a:pt x="25" y="51"/>
                          </a:lnTo>
                          <a:lnTo>
                            <a:pt x="14" y="49"/>
                          </a:lnTo>
                          <a:lnTo>
                            <a:pt x="7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 flipH="1">
                      <a:off x="414360" y="6142320"/>
                      <a:ext cx="410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3" y="8"/>
                          </a:lnTo>
                          <a:lnTo>
                            <a:pt x="48" y="15"/>
                          </a:lnTo>
                          <a:lnTo>
                            <a:pt x="50" y="26"/>
                          </a:lnTo>
                          <a:lnTo>
                            <a:pt x="48" y="34"/>
                          </a:lnTo>
                          <a:lnTo>
                            <a:pt x="43" y="43"/>
                          </a:lnTo>
                          <a:lnTo>
                            <a:pt x="34" y="48"/>
                          </a:lnTo>
                          <a:lnTo>
                            <a:pt x="25" y="51"/>
                          </a:lnTo>
                          <a:lnTo>
                            <a:pt x="15" y="48"/>
                          </a:lnTo>
                          <a:lnTo>
                            <a:pt x="7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flipH="1">
                      <a:off x="414360" y="62200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flipH="1">
                      <a:off x="476280" y="625320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8" y="6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5" y="1"/>
                          </a:lnTo>
                          <a:lnTo>
                            <a:pt x="43" y="6"/>
                          </a:lnTo>
                          <a:lnTo>
                            <a:pt x="49" y="14"/>
                          </a:lnTo>
                          <a:lnTo>
                            <a:pt x="51" y="24"/>
                          </a:lnTo>
                          <a:lnTo>
                            <a:pt x="49" y="33"/>
                          </a:lnTo>
                          <a:lnTo>
                            <a:pt x="43" y="42"/>
                          </a:lnTo>
                          <a:lnTo>
                            <a:pt x="35" y="47"/>
                          </a:lnTo>
                          <a:lnTo>
                            <a:pt x="26" y="50"/>
                          </a:lnTo>
                          <a:lnTo>
                            <a:pt x="15" y="47"/>
                          </a:lnTo>
                          <a:lnTo>
                            <a:pt x="8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 flipH="1">
                      <a:off x="576000" y="62931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2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 flipH="1">
                      <a:off x="636480" y="6331320"/>
                      <a:ext cx="38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4"/>
                          </a:moveTo>
                          <a:lnTo>
                            <a:pt x="1" y="15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7"/>
                          </a:lnTo>
                          <a:lnTo>
                            <a:pt x="46" y="15"/>
                          </a:lnTo>
                          <a:lnTo>
                            <a:pt x="49" y="24"/>
                          </a:lnTo>
                          <a:lnTo>
                            <a:pt x="46" y="33"/>
                          </a:lnTo>
                          <a:lnTo>
                            <a:pt x="41" y="41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>
                      <a:off x="718560" y="636444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2"/>
                          </a:lnTo>
                          <a:lnTo>
                            <a:pt x="23" y="0"/>
                          </a:lnTo>
                          <a:lnTo>
                            <a:pt x="32" y="2"/>
                          </a:lnTo>
                          <a:lnTo>
                            <a:pt x="41" y="7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4"/>
                          </a:lnTo>
                          <a:lnTo>
                            <a:pt x="41" y="42"/>
                          </a:lnTo>
                          <a:lnTo>
                            <a:pt x="32" y="48"/>
                          </a:lnTo>
                          <a:lnTo>
                            <a:pt x="23" y="50"/>
                          </a:lnTo>
                          <a:lnTo>
                            <a:pt x="14" y="48"/>
                          </a:lnTo>
                          <a:lnTo>
                            <a:pt x="6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 flipH="1">
                      <a:off x="331200" y="619308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3"/>
                          </a:moveTo>
                          <a:lnTo>
                            <a:pt x="1" y="14"/>
                          </a:lnTo>
                          <a:lnTo>
                            <a:pt x="8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3"/>
                          </a:lnTo>
                          <a:lnTo>
                            <a:pt x="47" y="32"/>
                          </a:lnTo>
                          <a:lnTo>
                            <a:pt x="42" y="40"/>
                          </a:lnTo>
                          <a:lnTo>
                            <a:pt x="33" y="46"/>
                          </a:lnTo>
                          <a:lnTo>
                            <a:pt x="25" y="48"/>
                          </a:lnTo>
                          <a:lnTo>
                            <a:pt x="15" y="46"/>
                          </a:lnTo>
                          <a:lnTo>
                            <a:pt x="8" y="40"/>
                          </a:lnTo>
                          <a:lnTo>
                            <a:pt x="1" y="32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 flipH="1">
                      <a:off x="249120" y="615492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7"/>
                          </a:lnTo>
                          <a:lnTo>
                            <a:pt x="47" y="14"/>
                          </a:lnTo>
                          <a:lnTo>
                            <a:pt x="49" y="24"/>
                          </a:lnTo>
                          <a:lnTo>
                            <a:pt x="47" y="32"/>
                          </a:lnTo>
                          <a:lnTo>
                            <a:pt x="41" y="41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153360" y="6113520"/>
                      <a:ext cx="399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5"/>
                          </a:lnTo>
                          <a:lnTo>
                            <a:pt x="50" y="25"/>
                          </a:lnTo>
                          <a:lnTo>
                            <a:pt x="47" y="34"/>
                          </a:lnTo>
                          <a:lnTo>
                            <a:pt x="42" y="43"/>
                          </a:lnTo>
                          <a:lnTo>
                            <a:pt x="33" y="48"/>
                          </a:lnTo>
                          <a:lnTo>
                            <a:pt x="24" y="50"/>
                          </a:lnTo>
                          <a:lnTo>
                            <a:pt x="14" y="48"/>
                          </a:lnTo>
                          <a:lnTo>
                            <a:pt x="6" y="43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flipH="1">
                      <a:off x="71280" y="608184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1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 flipH="1">
                      <a:off x="48600" y="598824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1" y="24"/>
                          </a:lnTo>
                          <a:lnTo>
                            <a:pt x="47" y="33"/>
                          </a:lnTo>
                          <a:lnTo>
                            <a:pt x="42" y="41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6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flipH="1">
                      <a:off x="27000" y="589284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6" y="8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8"/>
                          </a:lnTo>
                          <a:lnTo>
                            <a:pt x="48" y="15"/>
                          </a:lnTo>
                          <a:lnTo>
                            <a:pt x="50" y="26"/>
                          </a:lnTo>
                          <a:lnTo>
                            <a:pt x="48" y="35"/>
                          </a:lnTo>
                          <a:lnTo>
                            <a:pt x="43" y="43"/>
                          </a:lnTo>
                          <a:lnTo>
                            <a:pt x="34" y="49"/>
                          </a:lnTo>
                          <a:lnTo>
                            <a:pt x="26" y="51"/>
                          </a:lnTo>
                          <a:lnTo>
                            <a:pt x="15" y="49"/>
                          </a:lnTo>
                          <a:lnTo>
                            <a:pt x="6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 flipH="1">
                      <a:off x="20520" y="581040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1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51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2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 flipH="1">
                      <a:off x="12240" y="5729400"/>
                      <a:ext cx="349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4">
                          <a:moveTo>
                            <a:pt x="0" y="23"/>
                          </a:moveTo>
                          <a:lnTo>
                            <a:pt x="1" y="13"/>
                          </a:lnTo>
                          <a:lnTo>
                            <a:pt x="5" y="6"/>
                          </a:lnTo>
                          <a:lnTo>
                            <a:pt x="11" y="1"/>
                          </a:lnTo>
                          <a:lnTo>
                            <a:pt x="21" y="0"/>
                          </a:lnTo>
                          <a:lnTo>
                            <a:pt x="30" y="1"/>
                          </a:lnTo>
                          <a:lnTo>
                            <a:pt x="37" y="6"/>
                          </a:lnTo>
                          <a:lnTo>
                            <a:pt x="42" y="13"/>
                          </a:lnTo>
                          <a:lnTo>
                            <a:pt x="44" y="23"/>
                          </a:lnTo>
                          <a:lnTo>
                            <a:pt x="42" y="30"/>
                          </a:lnTo>
                          <a:lnTo>
                            <a:pt x="37" y="38"/>
                          </a:lnTo>
                          <a:lnTo>
                            <a:pt x="30" y="42"/>
                          </a:lnTo>
                          <a:lnTo>
                            <a:pt x="21" y="44"/>
                          </a:lnTo>
                          <a:lnTo>
                            <a:pt x="11" y="42"/>
                          </a:lnTo>
                          <a:lnTo>
                            <a:pt x="5" y="38"/>
                          </a:lnTo>
                          <a:lnTo>
                            <a:pt x="1" y="3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H="1">
                      <a:off x="-5400" y="5653440"/>
                      <a:ext cx="349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4">
                          <a:moveTo>
                            <a:pt x="0" y="22"/>
                          </a:moveTo>
                          <a:lnTo>
                            <a:pt x="1" y="12"/>
                          </a:lnTo>
                          <a:lnTo>
                            <a:pt x="5" y="6"/>
                          </a:lnTo>
                          <a:lnTo>
                            <a:pt x="12" y="1"/>
                          </a:lnTo>
                          <a:lnTo>
                            <a:pt x="22" y="0"/>
                          </a:lnTo>
                          <a:lnTo>
                            <a:pt x="30" y="1"/>
                          </a:lnTo>
                          <a:lnTo>
                            <a:pt x="38" y="6"/>
                          </a:lnTo>
                          <a:lnTo>
                            <a:pt x="42" y="12"/>
                          </a:lnTo>
                          <a:lnTo>
                            <a:pt x="44" y="22"/>
                          </a:lnTo>
                          <a:lnTo>
                            <a:pt x="42" y="29"/>
                          </a:lnTo>
                          <a:lnTo>
                            <a:pt x="38" y="37"/>
                          </a:lnTo>
                          <a:lnTo>
                            <a:pt x="30" y="42"/>
                          </a:lnTo>
                          <a:lnTo>
                            <a:pt x="22" y="44"/>
                          </a:lnTo>
                          <a:lnTo>
                            <a:pt x="12" y="42"/>
                          </a:lnTo>
                          <a:lnTo>
                            <a:pt x="5" y="37"/>
                          </a:lnTo>
                          <a:lnTo>
                            <a:pt x="1" y="29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flipH="1">
                      <a:off x="44280" y="5645520"/>
                      <a:ext cx="38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4"/>
                          </a:moveTo>
                          <a:lnTo>
                            <a:pt x="2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6"/>
                          </a:lnTo>
                          <a:lnTo>
                            <a:pt x="47" y="14"/>
                          </a:lnTo>
                          <a:lnTo>
                            <a:pt x="49" y="24"/>
                          </a:lnTo>
                          <a:lnTo>
                            <a:pt x="47" y="33"/>
                          </a:lnTo>
                          <a:lnTo>
                            <a:pt x="41" y="40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0"/>
                          </a:lnTo>
                          <a:lnTo>
                            <a:pt x="2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flipH="1">
                      <a:off x="155520" y="567864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8">
                          <a:moveTo>
                            <a:pt x="0" y="23"/>
                          </a:moveTo>
                          <a:lnTo>
                            <a:pt x="1" y="13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3" y="0"/>
                          </a:lnTo>
                          <a:lnTo>
                            <a:pt x="32" y="1"/>
                          </a:lnTo>
                          <a:lnTo>
                            <a:pt x="40" y="6"/>
                          </a:lnTo>
                          <a:lnTo>
                            <a:pt x="45" y="13"/>
                          </a:lnTo>
                          <a:lnTo>
                            <a:pt x="47" y="23"/>
                          </a:lnTo>
                          <a:lnTo>
                            <a:pt x="45" y="32"/>
                          </a:lnTo>
                          <a:lnTo>
                            <a:pt x="40" y="40"/>
                          </a:lnTo>
                          <a:lnTo>
                            <a:pt x="32" y="46"/>
                          </a:lnTo>
                          <a:lnTo>
                            <a:pt x="23" y="48"/>
                          </a:lnTo>
                          <a:lnTo>
                            <a:pt x="14" y="46"/>
                          </a:lnTo>
                          <a:lnTo>
                            <a:pt x="6" y="40"/>
                          </a:lnTo>
                          <a:lnTo>
                            <a:pt x="1" y="32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>
                      <a:off x="253800" y="570564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5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H="1">
                      <a:off x="315720" y="57279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7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3" y="0"/>
                          </a:lnTo>
                          <a:lnTo>
                            <a:pt x="32" y="1"/>
                          </a:lnTo>
                          <a:lnTo>
                            <a:pt x="39" y="6"/>
                          </a:lnTo>
                          <a:lnTo>
                            <a:pt x="45" y="14"/>
                          </a:lnTo>
                          <a:lnTo>
                            <a:pt x="47" y="24"/>
                          </a:lnTo>
                          <a:lnTo>
                            <a:pt x="45" y="32"/>
                          </a:lnTo>
                          <a:lnTo>
                            <a:pt x="39" y="40"/>
                          </a:lnTo>
                          <a:lnTo>
                            <a:pt x="32" y="45"/>
                          </a:lnTo>
                          <a:lnTo>
                            <a:pt x="23" y="47"/>
                          </a:lnTo>
                          <a:lnTo>
                            <a:pt x="14" y="45"/>
                          </a:lnTo>
                          <a:lnTo>
                            <a:pt x="6" y="40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flipH="1">
                      <a:off x="1190520" y="6059520"/>
                      <a:ext cx="38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H="1" flipV="1">
                      <a:off x="911160" y="6390000"/>
                      <a:ext cx="293760" cy="1317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flipH="1" flipV="1">
                      <a:off x="517320" y="6216480"/>
                      <a:ext cx="249480" cy="1112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 flipH="1" flipV="1">
                      <a:off x="147600" y="6062400"/>
                      <a:ext cx="242640" cy="889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136800" y="6007320"/>
                      <a:ext cx="237960" cy="1000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>
                      <a:off x="512640" y="6162840"/>
                      <a:ext cx="264960" cy="109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>
                      <a:off x="900360" y="6334200"/>
                      <a:ext cx="298440" cy="1206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flipH="1" flipV="1">
                      <a:off x="904680" y="6278400"/>
                      <a:ext cx="282600" cy="1112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 flipH="1" flipV="1">
                      <a:off x="512640" y="6118560"/>
                      <a:ext cx="243000" cy="936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 flipH="1" flipV="1">
                      <a:off x="152280" y="5969160"/>
                      <a:ext cx="222120" cy="936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136800" y="5913720"/>
                      <a:ext cx="220680" cy="871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513000" y="6062760"/>
                      <a:ext cx="220680" cy="889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904680" y="6216840"/>
                      <a:ext cx="162000" cy="554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flipH="1" flipV="1">
                      <a:off x="888840" y="6162480"/>
                      <a:ext cx="77760" cy="270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 flipH="1" flipV="1">
                      <a:off x="484200" y="6007320"/>
                      <a:ext cx="55440" cy="22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 flipV="1">
                      <a:off x="114120" y="5862600"/>
                      <a:ext cx="66600" cy="28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 flipH="1">
                      <a:off x="475920" y="5812200"/>
                      <a:ext cx="212760" cy="43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7" h="548">
                          <a:moveTo>
                            <a:pt x="208" y="168"/>
                          </a:moveTo>
                          <a:lnTo>
                            <a:pt x="208" y="245"/>
                          </a:lnTo>
                          <a:lnTo>
                            <a:pt x="245" y="245"/>
                          </a:lnTo>
                          <a:lnTo>
                            <a:pt x="247" y="239"/>
                          </a:lnTo>
                          <a:lnTo>
                            <a:pt x="251" y="232"/>
                          </a:lnTo>
                          <a:lnTo>
                            <a:pt x="254" y="227"/>
                          </a:lnTo>
                          <a:lnTo>
                            <a:pt x="258" y="222"/>
                          </a:lnTo>
                          <a:lnTo>
                            <a:pt x="260" y="215"/>
                          </a:lnTo>
                          <a:lnTo>
                            <a:pt x="263" y="209"/>
                          </a:lnTo>
                          <a:lnTo>
                            <a:pt x="266" y="201"/>
                          </a:lnTo>
                          <a:lnTo>
                            <a:pt x="267" y="194"/>
                          </a:lnTo>
                          <a:lnTo>
                            <a:pt x="262" y="165"/>
                          </a:lnTo>
                          <a:lnTo>
                            <a:pt x="252" y="137"/>
                          </a:lnTo>
                          <a:lnTo>
                            <a:pt x="234" y="108"/>
                          </a:lnTo>
                          <a:lnTo>
                            <a:pt x="215" y="80"/>
                          </a:lnTo>
                          <a:lnTo>
                            <a:pt x="191" y="53"/>
                          </a:lnTo>
                          <a:lnTo>
                            <a:pt x="167" y="30"/>
                          </a:lnTo>
                          <a:lnTo>
                            <a:pt x="142" y="12"/>
                          </a:lnTo>
                          <a:lnTo>
                            <a:pt x="119" y="0"/>
                          </a:lnTo>
                          <a:lnTo>
                            <a:pt x="124" y="15"/>
                          </a:lnTo>
                          <a:lnTo>
                            <a:pt x="130" y="30"/>
                          </a:lnTo>
                          <a:lnTo>
                            <a:pt x="137" y="43"/>
                          </a:lnTo>
                          <a:lnTo>
                            <a:pt x="145" y="57"/>
                          </a:lnTo>
                          <a:lnTo>
                            <a:pt x="151" y="70"/>
                          </a:lnTo>
                          <a:lnTo>
                            <a:pt x="157" y="84"/>
                          </a:lnTo>
                          <a:lnTo>
                            <a:pt x="161" y="99"/>
                          </a:lnTo>
                          <a:lnTo>
                            <a:pt x="163" y="116"/>
                          </a:lnTo>
                          <a:lnTo>
                            <a:pt x="161" y="129"/>
                          </a:lnTo>
                          <a:lnTo>
                            <a:pt x="159" y="137"/>
                          </a:lnTo>
                          <a:lnTo>
                            <a:pt x="155" y="141"/>
                          </a:lnTo>
                          <a:lnTo>
                            <a:pt x="151" y="142"/>
                          </a:lnTo>
                          <a:lnTo>
                            <a:pt x="143" y="140"/>
                          </a:lnTo>
                          <a:lnTo>
                            <a:pt x="136" y="138"/>
                          </a:lnTo>
                          <a:lnTo>
                            <a:pt x="127" y="136"/>
                          </a:lnTo>
                          <a:lnTo>
                            <a:pt x="119" y="136"/>
                          </a:lnTo>
                          <a:lnTo>
                            <a:pt x="99" y="140"/>
                          </a:lnTo>
                          <a:lnTo>
                            <a:pt x="79" y="154"/>
                          </a:lnTo>
                          <a:lnTo>
                            <a:pt x="58" y="174"/>
                          </a:lnTo>
                          <a:lnTo>
                            <a:pt x="40" y="200"/>
                          </a:lnTo>
                          <a:lnTo>
                            <a:pt x="24" y="227"/>
                          </a:lnTo>
                          <a:lnTo>
                            <a:pt x="11" y="255"/>
                          </a:lnTo>
                          <a:lnTo>
                            <a:pt x="2" y="281"/>
                          </a:lnTo>
                          <a:lnTo>
                            <a:pt x="0" y="303"/>
                          </a:lnTo>
                          <a:lnTo>
                            <a:pt x="1" y="337"/>
                          </a:lnTo>
                          <a:lnTo>
                            <a:pt x="8" y="375"/>
                          </a:lnTo>
                          <a:lnTo>
                            <a:pt x="17" y="415"/>
                          </a:lnTo>
                          <a:lnTo>
                            <a:pt x="33" y="456"/>
                          </a:lnTo>
                          <a:lnTo>
                            <a:pt x="53" y="491"/>
                          </a:lnTo>
                          <a:lnTo>
                            <a:pt x="77" y="521"/>
                          </a:lnTo>
                          <a:lnTo>
                            <a:pt x="106" y="541"/>
                          </a:lnTo>
                          <a:lnTo>
                            <a:pt x="141" y="548"/>
                          </a:lnTo>
                          <a:lnTo>
                            <a:pt x="157" y="541"/>
                          </a:lnTo>
                          <a:lnTo>
                            <a:pt x="173" y="520"/>
                          </a:lnTo>
                          <a:lnTo>
                            <a:pt x="186" y="490"/>
                          </a:lnTo>
                          <a:lnTo>
                            <a:pt x="199" y="455"/>
                          </a:lnTo>
                          <a:lnTo>
                            <a:pt x="209" y="415"/>
                          </a:lnTo>
                          <a:lnTo>
                            <a:pt x="216" y="377"/>
                          </a:lnTo>
                          <a:lnTo>
                            <a:pt x="220" y="343"/>
                          </a:lnTo>
                          <a:lnTo>
                            <a:pt x="223" y="316"/>
                          </a:lnTo>
                          <a:lnTo>
                            <a:pt x="219" y="310"/>
                          </a:lnTo>
                          <a:lnTo>
                            <a:pt x="214" y="303"/>
                          </a:lnTo>
                          <a:lnTo>
                            <a:pt x="205" y="297"/>
                          </a:lnTo>
                          <a:lnTo>
                            <a:pt x="197" y="291"/>
                          </a:lnTo>
                          <a:lnTo>
                            <a:pt x="187" y="284"/>
                          </a:lnTo>
                          <a:lnTo>
                            <a:pt x="179" y="276"/>
                          </a:lnTo>
                          <a:lnTo>
                            <a:pt x="173" y="268"/>
                          </a:lnTo>
                          <a:lnTo>
                            <a:pt x="171" y="258"/>
                          </a:lnTo>
                          <a:lnTo>
                            <a:pt x="168" y="250"/>
                          </a:lnTo>
                          <a:lnTo>
                            <a:pt x="162" y="246"/>
                          </a:lnTo>
                          <a:lnTo>
                            <a:pt x="153" y="245"/>
                          </a:lnTo>
                          <a:lnTo>
                            <a:pt x="141" y="247"/>
                          </a:lnTo>
                          <a:lnTo>
                            <a:pt x="127" y="250"/>
                          </a:lnTo>
                          <a:lnTo>
                            <a:pt x="114" y="254"/>
                          </a:lnTo>
                          <a:lnTo>
                            <a:pt x="101" y="256"/>
                          </a:lnTo>
                          <a:lnTo>
                            <a:pt x="89" y="258"/>
                          </a:lnTo>
                          <a:lnTo>
                            <a:pt x="95" y="241"/>
                          </a:lnTo>
                          <a:lnTo>
                            <a:pt x="101" y="228"/>
                          </a:lnTo>
                          <a:lnTo>
                            <a:pt x="108" y="216"/>
                          </a:lnTo>
                          <a:lnTo>
                            <a:pt x="114" y="208"/>
                          </a:lnTo>
                          <a:lnTo>
                            <a:pt x="120" y="198"/>
                          </a:lnTo>
                          <a:lnTo>
                            <a:pt x="129" y="189"/>
                          </a:lnTo>
                          <a:lnTo>
                            <a:pt x="138" y="179"/>
                          </a:lnTo>
                          <a:lnTo>
                            <a:pt x="148" y="168"/>
                          </a:lnTo>
                          <a:lnTo>
                            <a:pt x="148" y="219"/>
                          </a:lnTo>
                          <a:lnTo>
                            <a:pt x="155" y="214"/>
                          </a:lnTo>
                          <a:lnTo>
                            <a:pt x="162" y="209"/>
                          </a:lnTo>
                          <a:lnTo>
                            <a:pt x="168" y="203"/>
                          </a:lnTo>
                          <a:lnTo>
                            <a:pt x="173" y="198"/>
                          </a:lnTo>
                          <a:lnTo>
                            <a:pt x="177" y="191"/>
                          </a:lnTo>
                          <a:lnTo>
                            <a:pt x="182" y="186"/>
                          </a:lnTo>
                          <a:lnTo>
                            <a:pt x="186" y="180"/>
                          </a:lnTo>
                          <a:lnTo>
                            <a:pt x="193" y="174"/>
                          </a:lnTo>
                          <a:lnTo>
                            <a:pt x="208" y="16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 flipH="1">
                      <a:off x="493200" y="5828040"/>
                      <a:ext cx="158760" cy="31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393">
                          <a:moveTo>
                            <a:pt x="97" y="0"/>
                          </a:moveTo>
                          <a:lnTo>
                            <a:pt x="115" y="15"/>
                          </a:lnTo>
                          <a:lnTo>
                            <a:pt x="132" y="34"/>
                          </a:lnTo>
                          <a:lnTo>
                            <a:pt x="149" y="55"/>
                          </a:lnTo>
                          <a:lnTo>
                            <a:pt x="164" y="81"/>
                          </a:lnTo>
                          <a:lnTo>
                            <a:pt x="175" y="107"/>
                          </a:lnTo>
                          <a:lnTo>
                            <a:pt x="186" y="134"/>
                          </a:lnTo>
                          <a:lnTo>
                            <a:pt x="195" y="160"/>
                          </a:lnTo>
                          <a:lnTo>
                            <a:pt x="201" y="187"/>
                          </a:lnTo>
                          <a:lnTo>
                            <a:pt x="195" y="177"/>
                          </a:lnTo>
                          <a:lnTo>
                            <a:pt x="190" y="168"/>
                          </a:lnTo>
                          <a:lnTo>
                            <a:pt x="186" y="161"/>
                          </a:lnTo>
                          <a:lnTo>
                            <a:pt x="182" y="154"/>
                          </a:lnTo>
                          <a:lnTo>
                            <a:pt x="175" y="147"/>
                          </a:lnTo>
                          <a:lnTo>
                            <a:pt x="170" y="140"/>
                          </a:lnTo>
                          <a:lnTo>
                            <a:pt x="164" y="134"/>
                          </a:lnTo>
                          <a:lnTo>
                            <a:pt x="156" y="129"/>
                          </a:lnTo>
                          <a:lnTo>
                            <a:pt x="146" y="138"/>
                          </a:lnTo>
                          <a:lnTo>
                            <a:pt x="140" y="146"/>
                          </a:lnTo>
                          <a:lnTo>
                            <a:pt x="136" y="150"/>
                          </a:lnTo>
                          <a:lnTo>
                            <a:pt x="135" y="153"/>
                          </a:lnTo>
                          <a:lnTo>
                            <a:pt x="132" y="155"/>
                          </a:lnTo>
                          <a:lnTo>
                            <a:pt x="130" y="160"/>
                          </a:lnTo>
                          <a:lnTo>
                            <a:pt x="126" y="167"/>
                          </a:lnTo>
                          <a:lnTo>
                            <a:pt x="119" y="180"/>
                          </a:lnTo>
                          <a:lnTo>
                            <a:pt x="115" y="174"/>
                          </a:lnTo>
                          <a:lnTo>
                            <a:pt x="113" y="168"/>
                          </a:lnTo>
                          <a:lnTo>
                            <a:pt x="111" y="162"/>
                          </a:lnTo>
                          <a:lnTo>
                            <a:pt x="110" y="158"/>
                          </a:lnTo>
                          <a:lnTo>
                            <a:pt x="105" y="153"/>
                          </a:lnTo>
                          <a:lnTo>
                            <a:pt x="101" y="150"/>
                          </a:lnTo>
                          <a:lnTo>
                            <a:pt x="94" y="148"/>
                          </a:lnTo>
                          <a:lnTo>
                            <a:pt x="83" y="148"/>
                          </a:lnTo>
                          <a:lnTo>
                            <a:pt x="71" y="150"/>
                          </a:lnTo>
                          <a:lnTo>
                            <a:pt x="59" y="158"/>
                          </a:lnTo>
                          <a:lnTo>
                            <a:pt x="47" y="168"/>
                          </a:lnTo>
                          <a:lnTo>
                            <a:pt x="38" y="183"/>
                          </a:lnTo>
                          <a:lnTo>
                            <a:pt x="27" y="198"/>
                          </a:lnTo>
                          <a:lnTo>
                            <a:pt x="21" y="214"/>
                          </a:lnTo>
                          <a:lnTo>
                            <a:pt x="16" y="230"/>
                          </a:lnTo>
                          <a:lnTo>
                            <a:pt x="15" y="245"/>
                          </a:lnTo>
                          <a:lnTo>
                            <a:pt x="17" y="259"/>
                          </a:lnTo>
                          <a:lnTo>
                            <a:pt x="24" y="266"/>
                          </a:lnTo>
                          <a:lnTo>
                            <a:pt x="33" y="266"/>
                          </a:lnTo>
                          <a:lnTo>
                            <a:pt x="45" y="264"/>
                          </a:lnTo>
                          <a:lnTo>
                            <a:pt x="56" y="257"/>
                          </a:lnTo>
                          <a:lnTo>
                            <a:pt x="66" y="251"/>
                          </a:lnTo>
                          <a:lnTo>
                            <a:pt x="72" y="246"/>
                          </a:lnTo>
                          <a:lnTo>
                            <a:pt x="75" y="245"/>
                          </a:lnTo>
                          <a:lnTo>
                            <a:pt x="81" y="246"/>
                          </a:lnTo>
                          <a:lnTo>
                            <a:pt x="90" y="251"/>
                          </a:lnTo>
                          <a:lnTo>
                            <a:pt x="102" y="259"/>
                          </a:lnTo>
                          <a:lnTo>
                            <a:pt x="115" y="268"/>
                          </a:lnTo>
                          <a:lnTo>
                            <a:pt x="127" y="278"/>
                          </a:lnTo>
                          <a:lnTo>
                            <a:pt x="138" y="288"/>
                          </a:lnTo>
                          <a:lnTo>
                            <a:pt x="145" y="296"/>
                          </a:lnTo>
                          <a:lnTo>
                            <a:pt x="149" y="303"/>
                          </a:lnTo>
                          <a:lnTo>
                            <a:pt x="147" y="313"/>
                          </a:lnTo>
                          <a:lnTo>
                            <a:pt x="145" y="327"/>
                          </a:lnTo>
                          <a:lnTo>
                            <a:pt x="141" y="342"/>
                          </a:lnTo>
                          <a:lnTo>
                            <a:pt x="136" y="357"/>
                          </a:lnTo>
                          <a:lnTo>
                            <a:pt x="128" y="370"/>
                          </a:lnTo>
                          <a:lnTo>
                            <a:pt x="119" y="382"/>
                          </a:lnTo>
                          <a:lnTo>
                            <a:pt x="109" y="390"/>
                          </a:lnTo>
                          <a:lnTo>
                            <a:pt x="97" y="393"/>
                          </a:lnTo>
                          <a:lnTo>
                            <a:pt x="75" y="387"/>
                          </a:lnTo>
                          <a:lnTo>
                            <a:pt x="57" y="377"/>
                          </a:lnTo>
                          <a:lnTo>
                            <a:pt x="40" y="360"/>
                          </a:lnTo>
                          <a:lnTo>
                            <a:pt x="27" y="339"/>
                          </a:lnTo>
                          <a:lnTo>
                            <a:pt x="15" y="314"/>
                          </a:lnTo>
                          <a:lnTo>
                            <a:pt x="7" y="290"/>
                          </a:lnTo>
                          <a:lnTo>
                            <a:pt x="1" y="265"/>
                          </a:lnTo>
                          <a:lnTo>
                            <a:pt x="0" y="245"/>
                          </a:lnTo>
                          <a:lnTo>
                            <a:pt x="1" y="216"/>
                          </a:lnTo>
                          <a:lnTo>
                            <a:pt x="8" y="192"/>
                          </a:lnTo>
                          <a:lnTo>
                            <a:pt x="18" y="173"/>
                          </a:lnTo>
                          <a:lnTo>
                            <a:pt x="35" y="159"/>
                          </a:lnTo>
                          <a:lnTo>
                            <a:pt x="53" y="147"/>
                          </a:lnTo>
                          <a:lnTo>
                            <a:pt x="78" y="140"/>
                          </a:lnTo>
                          <a:lnTo>
                            <a:pt x="107" y="136"/>
                          </a:lnTo>
                          <a:lnTo>
                            <a:pt x="141" y="135"/>
                          </a:lnTo>
                          <a:lnTo>
                            <a:pt x="97" y="0"/>
                          </a:lnTo>
                          <a:close/>
                        </a:path>
                      </a:pathLst>
                    </a:custGeom>
                    <a:solidFill>
                      <a:srgbClr val="e6cc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 flipH="1">
                      <a:off x="577800" y="6042240"/>
                      <a:ext cx="93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52">
                          <a:moveTo>
                            <a:pt x="0" y="0"/>
                          </a:moveTo>
                          <a:lnTo>
                            <a:pt x="0" y="52"/>
                          </a:lnTo>
                          <a:lnTo>
                            <a:pt x="5" y="41"/>
                          </a:lnTo>
                          <a:lnTo>
                            <a:pt x="10" y="34"/>
                          </a:lnTo>
                          <a:lnTo>
                            <a:pt x="12" y="28"/>
                          </a:lnTo>
                          <a:lnTo>
                            <a:pt x="13" y="25"/>
                          </a:lnTo>
                          <a:lnTo>
                            <a:pt x="11" y="20"/>
                          </a:lnTo>
                          <a:lnTo>
                            <a:pt x="9" y="15"/>
                          </a:lnTo>
                          <a:lnTo>
                            <a:pt x="4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flipH="1">
                      <a:off x="220320" y="5224680"/>
                      <a:ext cx="1755720" cy="78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1" h="987">
                          <a:moveTo>
                            <a:pt x="0" y="330"/>
                          </a:moveTo>
                          <a:lnTo>
                            <a:pt x="22" y="307"/>
                          </a:lnTo>
                          <a:lnTo>
                            <a:pt x="41" y="283"/>
                          </a:lnTo>
                          <a:lnTo>
                            <a:pt x="58" y="256"/>
                          </a:lnTo>
                          <a:lnTo>
                            <a:pt x="76" y="231"/>
                          </a:lnTo>
                          <a:lnTo>
                            <a:pt x="96" y="207"/>
                          </a:lnTo>
                          <a:lnTo>
                            <a:pt x="121" y="189"/>
                          </a:lnTo>
                          <a:lnTo>
                            <a:pt x="150" y="176"/>
                          </a:lnTo>
                          <a:lnTo>
                            <a:pt x="188" y="172"/>
                          </a:lnTo>
                          <a:lnTo>
                            <a:pt x="207" y="168"/>
                          </a:lnTo>
                          <a:lnTo>
                            <a:pt x="229" y="158"/>
                          </a:lnTo>
                          <a:lnTo>
                            <a:pt x="253" y="144"/>
                          </a:lnTo>
                          <a:lnTo>
                            <a:pt x="279" y="129"/>
                          </a:lnTo>
                          <a:lnTo>
                            <a:pt x="304" y="113"/>
                          </a:lnTo>
                          <a:lnTo>
                            <a:pt x="331" y="99"/>
                          </a:lnTo>
                          <a:lnTo>
                            <a:pt x="357" y="89"/>
                          </a:lnTo>
                          <a:lnTo>
                            <a:pt x="384" y="86"/>
                          </a:lnTo>
                          <a:lnTo>
                            <a:pt x="393" y="83"/>
                          </a:lnTo>
                          <a:lnTo>
                            <a:pt x="403" y="77"/>
                          </a:lnTo>
                          <a:lnTo>
                            <a:pt x="413" y="68"/>
                          </a:lnTo>
                          <a:lnTo>
                            <a:pt x="426" y="59"/>
                          </a:lnTo>
                          <a:lnTo>
                            <a:pt x="438" y="47"/>
                          </a:lnTo>
                          <a:lnTo>
                            <a:pt x="451" y="38"/>
                          </a:lnTo>
                          <a:lnTo>
                            <a:pt x="464" y="29"/>
                          </a:lnTo>
                          <a:lnTo>
                            <a:pt x="478" y="24"/>
                          </a:lnTo>
                          <a:lnTo>
                            <a:pt x="481" y="30"/>
                          </a:lnTo>
                          <a:lnTo>
                            <a:pt x="484" y="38"/>
                          </a:lnTo>
                          <a:lnTo>
                            <a:pt x="487" y="45"/>
                          </a:lnTo>
                          <a:lnTo>
                            <a:pt x="491" y="54"/>
                          </a:lnTo>
                          <a:lnTo>
                            <a:pt x="493" y="60"/>
                          </a:lnTo>
                          <a:lnTo>
                            <a:pt x="495" y="69"/>
                          </a:lnTo>
                          <a:lnTo>
                            <a:pt x="498" y="76"/>
                          </a:lnTo>
                          <a:lnTo>
                            <a:pt x="501" y="86"/>
                          </a:lnTo>
                          <a:lnTo>
                            <a:pt x="521" y="64"/>
                          </a:lnTo>
                          <a:lnTo>
                            <a:pt x="548" y="47"/>
                          </a:lnTo>
                          <a:lnTo>
                            <a:pt x="579" y="32"/>
                          </a:lnTo>
                          <a:lnTo>
                            <a:pt x="613" y="20"/>
                          </a:lnTo>
                          <a:lnTo>
                            <a:pt x="648" y="11"/>
                          </a:lnTo>
                          <a:lnTo>
                            <a:pt x="682" y="4"/>
                          </a:lnTo>
                          <a:lnTo>
                            <a:pt x="714" y="0"/>
                          </a:lnTo>
                          <a:lnTo>
                            <a:pt x="744" y="0"/>
                          </a:lnTo>
                          <a:lnTo>
                            <a:pt x="762" y="1"/>
                          </a:lnTo>
                          <a:lnTo>
                            <a:pt x="785" y="5"/>
                          </a:lnTo>
                          <a:lnTo>
                            <a:pt x="812" y="12"/>
                          </a:lnTo>
                          <a:lnTo>
                            <a:pt x="840" y="21"/>
                          </a:lnTo>
                          <a:lnTo>
                            <a:pt x="866" y="30"/>
                          </a:lnTo>
                          <a:lnTo>
                            <a:pt x="891" y="41"/>
                          </a:lnTo>
                          <a:lnTo>
                            <a:pt x="910" y="52"/>
                          </a:lnTo>
                          <a:lnTo>
                            <a:pt x="925" y="62"/>
                          </a:lnTo>
                          <a:lnTo>
                            <a:pt x="930" y="55"/>
                          </a:lnTo>
                          <a:lnTo>
                            <a:pt x="938" y="47"/>
                          </a:lnTo>
                          <a:lnTo>
                            <a:pt x="944" y="39"/>
                          </a:lnTo>
                          <a:lnTo>
                            <a:pt x="954" y="32"/>
                          </a:lnTo>
                          <a:lnTo>
                            <a:pt x="963" y="25"/>
                          </a:lnTo>
                          <a:lnTo>
                            <a:pt x="973" y="19"/>
                          </a:lnTo>
                          <a:lnTo>
                            <a:pt x="983" y="15"/>
                          </a:lnTo>
                          <a:lnTo>
                            <a:pt x="996" y="15"/>
                          </a:lnTo>
                          <a:lnTo>
                            <a:pt x="1009" y="15"/>
                          </a:lnTo>
                          <a:lnTo>
                            <a:pt x="1020" y="19"/>
                          </a:lnTo>
                          <a:lnTo>
                            <a:pt x="1028" y="25"/>
                          </a:lnTo>
                          <a:lnTo>
                            <a:pt x="1037" y="31"/>
                          </a:lnTo>
                          <a:lnTo>
                            <a:pt x="1044" y="36"/>
                          </a:lnTo>
                          <a:lnTo>
                            <a:pt x="1053" y="42"/>
                          </a:lnTo>
                          <a:lnTo>
                            <a:pt x="1062" y="45"/>
                          </a:lnTo>
                          <a:lnTo>
                            <a:pt x="1073" y="47"/>
                          </a:lnTo>
                          <a:lnTo>
                            <a:pt x="1082" y="45"/>
                          </a:lnTo>
                          <a:lnTo>
                            <a:pt x="1091" y="40"/>
                          </a:lnTo>
                          <a:lnTo>
                            <a:pt x="1097" y="33"/>
                          </a:lnTo>
                          <a:lnTo>
                            <a:pt x="1105" y="27"/>
                          </a:lnTo>
                          <a:lnTo>
                            <a:pt x="1111" y="19"/>
                          </a:lnTo>
                          <a:lnTo>
                            <a:pt x="1119" y="13"/>
                          </a:lnTo>
                          <a:lnTo>
                            <a:pt x="1126" y="9"/>
                          </a:lnTo>
                          <a:lnTo>
                            <a:pt x="1137" y="7"/>
                          </a:lnTo>
                          <a:lnTo>
                            <a:pt x="1150" y="7"/>
                          </a:lnTo>
                          <a:lnTo>
                            <a:pt x="1164" y="11"/>
                          </a:lnTo>
                          <a:lnTo>
                            <a:pt x="1177" y="14"/>
                          </a:lnTo>
                          <a:lnTo>
                            <a:pt x="1190" y="20"/>
                          </a:lnTo>
                          <a:lnTo>
                            <a:pt x="1199" y="28"/>
                          </a:lnTo>
                          <a:lnTo>
                            <a:pt x="1208" y="38"/>
                          </a:lnTo>
                          <a:lnTo>
                            <a:pt x="1213" y="48"/>
                          </a:lnTo>
                          <a:lnTo>
                            <a:pt x="1215" y="62"/>
                          </a:lnTo>
                          <a:lnTo>
                            <a:pt x="1214" y="68"/>
                          </a:lnTo>
                          <a:lnTo>
                            <a:pt x="1213" y="74"/>
                          </a:lnTo>
                          <a:lnTo>
                            <a:pt x="1211" y="81"/>
                          </a:lnTo>
                          <a:lnTo>
                            <a:pt x="1211" y="87"/>
                          </a:lnTo>
                          <a:lnTo>
                            <a:pt x="1210" y="92"/>
                          </a:lnTo>
                          <a:lnTo>
                            <a:pt x="1210" y="99"/>
                          </a:lnTo>
                          <a:lnTo>
                            <a:pt x="1211" y="104"/>
                          </a:lnTo>
                          <a:lnTo>
                            <a:pt x="1215" y="110"/>
                          </a:lnTo>
                          <a:lnTo>
                            <a:pt x="1222" y="115"/>
                          </a:lnTo>
                          <a:lnTo>
                            <a:pt x="1230" y="119"/>
                          </a:lnTo>
                          <a:lnTo>
                            <a:pt x="1239" y="120"/>
                          </a:lnTo>
                          <a:lnTo>
                            <a:pt x="1249" y="122"/>
                          </a:lnTo>
                          <a:lnTo>
                            <a:pt x="1257" y="122"/>
                          </a:lnTo>
                          <a:lnTo>
                            <a:pt x="1267" y="125"/>
                          </a:lnTo>
                          <a:lnTo>
                            <a:pt x="1276" y="127"/>
                          </a:lnTo>
                          <a:lnTo>
                            <a:pt x="1285" y="133"/>
                          </a:lnTo>
                          <a:lnTo>
                            <a:pt x="1295" y="141"/>
                          </a:lnTo>
                          <a:lnTo>
                            <a:pt x="1312" y="155"/>
                          </a:lnTo>
                          <a:lnTo>
                            <a:pt x="1332" y="171"/>
                          </a:lnTo>
                          <a:lnTo>
                            <a:pt x="1355" y="189"/>
                          </a:lnTo>
                          <a:lnTo>
                            <a:pt x="1377" y="205"/>
                          </a:lnTo>
                          <a:lnTo>
                            <a:pt x="1397" y="220"/>
                          </a:lnTo>
                          <a:lnTo>
                            <a:pt x="1411" y="231"/>
                          </a:lnTo>
                          <a:lnTo>
                            <a:pt x="1420" y="235"/>
                          </a:lnTo>
                          <a:lnTo>
                            <a:pt x="1426" y="235"/>
                          </a:lnTo>
                          <a:lnTo>
                            <a:pt x="1436" y="235"/>
                          </a:lnTo>
                          <a:lnTo>
                            <a:pt x="1444" y="235"/>
                          </a:lnTo>
                          <a:lnTo>
                            <a:pt x="1456" y="235"/>
                          </a:lnTo>
                          <a:lnTo>
                            <a:pt x="1468" y="235"/>
                          </a:lnTo>
                          <a:lnTo>
                            <a:pt x="1482" y="235"/>
                          </a:lnTo>
                          <a:lnTo>
                            <a:pt x="1496" y="235"/>
                          </a:lnTo>
                          <a:lnTo>
                            <a:pt x="1513" y="235"/>
                          </a:lnTo>
                          <a:lnTo>
                            <a:pt x="1515" y="233"/>
                          </a:lnTo>
                          <a:lnTo>
                            <a:pt x="1522" y="231"/>
                          </a:lnTo>
                          <a:lnTo>
                            <a:pt x="1531" y="227"/>
                          </a:lnTo>
                          <a:lnTo>
                            <a:pt x="1543" y="223"/>
                          </a:lnTo>
                          <a:lnTo>
                            <a:pt x="1555" y="218"/>
                          </a:lnTo>
                          <a:lnTo>
                            <a:pt x="1569" y="215"/>
                          </a:lnTo>
                          <a:lnTo>
                            <a:pt x="1581" y="212"/>
                          </a:lnTo>
                          <a:lnTo>
                            <a:pt x="1592" y="212"/>
                          </a:lnTo>
                          <a:lnTo>
                            <a:pt x="1599" y="215"/>
                          </a:lnTo>
                          <a:lnTo>
                            <a:pt x="1604" y="225"/>
                          </a:lnTo>
                          <a:lnTo>
                            <a:pt x="1605" y="229"/>
                          </a:lnTo>
                          <a:lnTo>
                            <a:pt x="1608" y="234"/>
                          </a:lnTo>
                          <a:lnTo>
                            <a:pt x="1611" y="238"/>
                          </a:lnTo>
                          <a:lnTo>
                            <a:pt x="1615" y="243"/>
                          </a:lnTo>
                          <a:lnTo>
                            <a:pt x="1625" y="245"/>
                          </a:lnTo>
                          <a:lnTo>
                            <a:pt x="1638" y="248"/>
                          </a:lnTo>
                          <a:lnTo>
                            <a:pt x="1653" y="249"/>
                          </a:lnTo>
                          <a:lnTo>
                            <a:pt x="1670" y="251"/>
                          </a:lnTo>
                          <a:lnTo>
                            <a:pt x="1685" y="251"/>
                          </a:lnTo>
                          <a:lnTo>
                            <a:pt x="1702" y="254"/>
                          </a:lnTo>
                          <a:lnTo>
                            <a:pt x="1714" y="255"/>
                          </a:lnTo>
                          <a:lnTo>
                            <a:pt x="1725" y="259"/>
                          </a:lnTo>
                          <a:lnTo>
                            <a:pt x="1747" y="270"/>
                          </a:lnTo>
                          <a:lnTo>
                            <a:pt x="1772" y="286"/>
                          </a:lnTo>
                          <a:lnTo>
                            <a:pt x="1799" y="304"/>
                          </a:lnTo>
                          <a:lnTo>
                            <a:pt x="1828" y="322"/>
                          </a:lnTo>
                          <a:lnTo>
                            <a:pt x="1856" y="339"/>
                          </a:lnTo>
                          <a:lnTo>
                            <a:pt x="1884" y="355"/>
                          </a:lnTo>
                          <a:lnTo>
                            <a:pt x="1911" y="364"/>
                          </a:lnTo>
                          <a:lnTo>
                            <a:pt x="1937" y="369"/>
                          </a:lnTo>
                          <a:lnTo>
                            <a:pt x="1946" y="367"/>
                          </a:lnTo>
                          <a:lnTo>
                            <a:pt x="1954" y="366"/>
                          </a:lnTo>
                          <a:lnTo>
                            <a:pt x="1962" y="365"/>
                          </a:lnTo>
                          <a:lnTo>
                            <a:pt x="1970" y="364"/>
                          </a:lnTo>
                          <a:lnTo>
                            <a:pt x="1977" y="362"/>
                          </a:lnTo>
                          <a:lnTo>
                            <a:pt x="1985" y="361"/>
                          </a:lnTo>
                          <a:lnTo>
                            <a:pt x="1994" y="360"/>
                          </a:lnTo>
                          <a:lnTo>
                            <a:pt x="2004" y="360"/>
                          </a:lnTo>
                          <a:lnTo>
                            <a:pt x="2013" y="362"/>
                          </a:lnTo>
                          <a:lnTo>
                            <a:pt x="2023" y="365"/>
                          </a:lnTo>
                          <a:lnTo>
                            <a:pt x="2030" y="367"/>
                          </a:lnTo>
                          <a:lnTo>
                            <a:pt x="2037" y="371"/>
                          </a:lnTo>
                          <a:lnTo>
                            <a:pt x="2043" y="373"/>
                          </a:lnTo>
                          <a:lnTo>
                            <a:pt x="2050" y="375"/>
                          </a:lnTo>
                          <a:lnTo>
                            <a:pt x="2059" y="378"/>
                          </a:lnTo>
                          <a:lnTo>
                            <a:pt x="2069" y="384"/>
                          </a:lnTo>
                          <a:lnTo>
                            <a:pt x="2156" y="384"/>
                          </a:lnTo>
                          <a:lnTo>
                            <a:pt x="2163" y="391"/>
                          </a:lnTo>
                          <a:lnTo>
                            <a:pt x="2171" y="400"/>
                          </a:lnTo>
                          <a:lnTo>
                            <a:pt x="2180" y="407"/>
                          </a:lnTo>
                          <a:lnTo>
                            <a:pt x="2190" y="417"/>
                          </a:lnTo>
                          <a:lnTo>
                            <a:pt x="2197" y="427"/>
                          </a:lnTo>
                          <a:lnTo>
                            <a:pt x="2205" y="438"/>
                          </a:lnTo>
                          <a:lnTo>
                            <a:pt x="2209" y="452"/>
                          </a:lnTo>
                          <a:lnTo>
                            <a:pt x="2211" y="471"/>
                          </a:lnTo>
                          <a:lnTo>
                            <a:pt x="2209" y="485"/>
                          </a:lnTo>
                          <a:lnTo>
                            <a:pt x="2205" y="492"/>
                          </a:lnTo>
                          <a:lnTo>
                            <a:pt x="2199" y="496"/>
                          </a:lnTo>
                          <a:lnTo>
                            <a:pt x="2195" y="499"/>
                          </a:lnTo>
                          <a:lnTo>
                            <a:pt x="2192" y="501"/>
                          </a:lnTo>
                          <a:lnTo>
                            <a:pt x="2193" y="506"/>
                          </a:lnTo>
                          <a:lnTo>
                            <a:pt x="2198" y="516"/>
                          </a:lnTo>
                          <a:lnTo>
                            <a:pt x="2211" y="533"/>
                          </a:lnTo>
                          <a:lnTo>
                            <a:pt x="1623" y="776"/>
                          </a:lnTo>
                          <a:lnTo>
                            <a:pt x="1623" y="838"/>
                          </a:lnTo>
                          <a:lnTo>
                            <a:pt x="1617" y="854"/>
                          </a:lnTo>
                          <a:lnTo>
                            <a:pt x="1613" y="869"/>
                          </a:lnTo>
                          <a:lnTo>
                            <a:pt x="1608" y="881"/>
                          </a:lnTo>
                          <a:lnTo>
                            <a:pt x="1604" y="891"/>
                          </a:lnTo>
                          <a:lnTo>
                            <a:pt x="1595" y="897"/>
                          </a:lnTo>
                          <a:lnTo>
                            <a:pt x="1583" y="904"/>
                          </a:lnTo>
                          <a:lnTo>
                            <a:pt x="1567" y="907"/>
                          </a:lnTo>
                          <a:lnTo>
                            <a:pt x="1544" y="909"/>
                          </a:lnTo>
                          <a:lnTo>
                            <a:pt x="1535" y="911"/>
                          </a:lnTo>
                          <a:lnTo>
                            <a:pt x="1523" y="919"/>
                          </a:lnTo>
                          <a:lnTo>
                            <a:pt x="1508" y="929"/>
                          </a:lnTo>
                          <a:lnTo>
                            <a:pt x="1493" y="943"/>
                          </a:lnTo>
                          <a:lnTo>
                            <a:pt x="1475" y="956"/>
                          </a:lnTo>
                          <a:lnTo>
                            <a:pt x="1460" y="969"/>
                          </a:lnTo>
                          <a:lnTo>
                            <a:pt x="1444" y="980"/>
                          </a:lnTo>
                          <a:lnTo>
                            <a:pt x="1435" y="987"/>
                          </a:lnTo>
                          <a:lnTo>
                            <a:pt x="1372" y="925"/>
                          </a:lnTo>
                          <a:lnTo>
                            <a:pt x="1357" y="925"/>
                          </a:lnTo>
                          <a:lnTo>
                            <a:pt x="1343" y="925"/>
                          </a:lnTo>
                          <a:lnTo>
                            <a:pt x="1328" y="925"/>
                          </a:lnTo>
                          <a:lnTo>
                            <a:pt x="1314" y="925"/>
                          </a:lnTo>
                          <a:lnTo>
                            <a:pt x="1298" y="925"/>
                          </a:lnTo>
                          <a:lnTo>
                            <a:pt x="1282" y="925"/>
                          </a:lnTo>
                          <a:lnTo>
                            <a:pt x="1265" y="925"/>
                          </a:lnTo>
                          <a:lnTo>
                            <a:pt x="1247" y="925"/>
                          </a:lnTo>
                          <a:lnTo>
                            <a:pt x="1238" y="930"/>
                          </a:lnTo>
                          <a:lnTo>
                            <a:pt x="1232" y="939"/>
                          </a:lnTo>
                          <a:lnTo>
                            <a:pt x="1224" y="944"/>
                          </a:lnTo>
                          <a:lnTo>
                            <a:pt x="1215" y="948"/>
                          </a:lnTo>
                          <a:lnTo>
                            <a:pt x="1189" y="944"/>
                          </a:lnTo>
                          <a:lnTo>
                            <a:pt x="1166" y="938"/>
                          </a:lnTo>
                          <a:lnTo>
                            <a:pt x="1145" y="929"/>
                          </a:lnTo>
                          <a:lnTo>
                            <a:pt x="1128" y="920"/>
                          </a:lnTo>
                          <a:lnTo>
                            <a:pt x="1110" y="909"/>
                          </a:lnTo>
                          <a:lnTo>
                            <a:pt x="1092" y="900"/>
                          </a:lnTo>
                          <a:lnTo>
                            <a:pt x="1072" y="895"/>
                          </a:lnTo>
                          <a:lnTo>
                            <a:pt x="1051" y="893"/>
                          </a:lnTo>
                          <a:lnTo>
                            <a:pt x="1025" y="895"/>
                          </a:lnTo>
                          <a:lnTo>
                            <a:pt x="997" y="905"/>
                          </a:lnTo>
                          <a:lnTo>
                            <a:pt x="966" y="917"/>
                          </a:lnTo>
                          <a:lnTo>
                            <a:pt x="933" y="932"/>
                          </a:lnTo>
                          <a:lnTo>
                            <a:pt x="897" y="946"/>
                          </a:lnTo>
                          <a:lnTo>
                            <a:pt x="862" y="958"/>
                          </a:lnTo>
                          <a:lnTo>
                            <a:pt x="826" y="967"/>
                          </a:lnTo>
                          <a:lnTo>
                            <a:pt x="792" y="971"/>
                          </a:lnTo>
                          <a:lnTo>
                            <a:pt x="776" y="969"/>
                          </a:lnTo>
                          <a:lnTo>
                            <a:pt x="762" y="964"/>
                          </a:lnTo>
                          <a:lnTo>
                            <a:pt x="748" y="955"/>
                          </a:lnTo>
                          <a:lnTo>
                            <a:pt x="737" y="947"/>
                          </a:lnTo>
                          <a:lnTo>
                            <a:pt x="725" y="935"/>
                          </a:lnTo>
                          <a:lnTo>
                            <a:pt x="715" y="925"/>
                          </a:lnTo>
                          <a:lnTo>
                            <a:pt x="706" y="915"/>
                          </a:lnTo>
                          <a:lnTo>
                            <a:pt x="697" y="909"/>
                          </a:lnTo>
                          <a:lnTo>
                            <a:pt x="664" y="886"/>
                          </a:lnTo>
                          <a:lnTo>
                            <a:pt x="631" y="867"/>
                          </a:lnTo>
                          <a:lnTo>
                            <a:pt x="600" y="850"/>
                          </a:lnTo>
                          <a:lnTo>
                            <a:pt x="570" y="835"/>
                          </a:lnTo>
                          <a:lnTo>
                            <a:pt x="539" y="819"/>
                          </a:lnTo>
                          <a:lnTo>
                            <a:pt x="509" y="803"/>
                          </a:lnTo>
                          <a:lnTo>
                            <a:pt x="478" y="785"/>
                          </a:lnTo>
                          <a:lnTo>
                            <a:pt x="448" y="767"/>
                          </a:lnTo>
                          <a:lnTo>
                            <a:pt x="440" y="763"/>
                          </a:lnTo>
                          <a:lnTo>
                            <a:pt x="432" y="761"/>
                          </a:lnTo>
                          <a:lnTo>
                            <a:pt x="424" y="757"/>
                          </a:lnTo>
                          <a:lnTo>
                            <a:pt x="417" y="755"/>
                          </a:lnTo>
                          <a:lnTo>
                            <a:pt x="410" y="751"/>
                          </a:lnTo>
                          <a:lnTo>
                            <a:pt x="405" y="746"/>
                          </a:lnTo>
                          <a:lnTo>
                            <a:pt x="400" y="739"/>
                          </a:lnTo>
                          <a:lnTo>
                            <a:pt x="400" y="730"/>
                          </a:lnTo>
                          <a:lnTo>
                            <a:pt x="400" y="715"/>
                          </a:lnTo>
                          <a:lnTo>
                            <a:pt x="405" y="705"/>
                          </a:lnTo>
                          <a:lnTo>
                            <a:pt x="410" y="699"/>
                          </a:lnTo>
                          <a:lnTo>
                            <a:pt x="417" y="697"/>
                          </a:lnTo>
                          <a:lnTo>
                            <a:pt x="424" y="695"/>
                          </a:lnTo>
                          <a:lnTo>
                            <a:pt x="432" y="693"/>
                          </a:lnTo>
                          <a:lnTo>
                            <a:pt x="440" y="689"/>
                          </a:lnTo>
                          <a:lnTo>
                            <a:pt x="448" y="682"/>
                          </a:lnTo>
                          <a:lnTo>
                            <a:pt x="459" y="660"/>
                          </a:lnTo>
                          <a:lnTo>
                            <a:pt x="472" y="633"/>
                          </a:lnTo>
                          <a:lnTo>
                            <a:pt x="485" y="603"/>
                          </a:lnTo>
                          <a:lnTo>
                            <a:pt x="498" y="573"/>
                          </a:lnTo>
                          <a:lnTo>
                            <a:pt x="508" y="542"/>
                          </a:lnTo>
                          <a:lnTo>
                            <a:pt x="516" y="514"/>
                          </a:lnTo>
                          <a:lnTo>
                            <a:pt x="522" y="489"/>
                          </a:lnTo>
                          <a:lnTo>
                            <a:pt x="525" y="471"/>
                          </a:lnTo>
                          <a:lnTo>
                            <a:pt x="529" y="453"/>
                          </a:lnTo>
                          <a:lnTo>
                            <a:pt x="544" y="434"/>
                          </a:lnTo>
                          <a:lnTo>
                            <a:pt x="565" y="414"/>
                          </a:lnTo>
                          <a:lnTo>
                            <a:pt x="589" y="393"/>
                          </a:lnTo>
                          <a:lnTo>
                            <a:pt x="614" y="373"/>
                          </a:lnTo>
                          <a:lnTo>
                            <a:pt x="639" y="357"/>
                          </a:lnTo>
                          <a:lnTo>
                            <a:pt x="659" y="344"/>
                          </a:lnTo>
                          <a:lnTo>
                            <a:pt x="673" y="336"/>
                          </a:lnTo>
                          <a:lnTo>
                            <a:pt x="657" y="321"/>
                          </a:lnTo>
                          <a:lnTo>
                            <a:pt x="639" y="302"/>
                          </a:lnTo>
                          <a:lnTo>
                            <a:pt x="620" y="278"/>
                          </a:lnTo>
                          <a:lnTo>
                            <a:pt x="600" y="255"/>
                          </a:lnTo>
                          <a:lnTo>
                            <a:pt x="579" y="231"/>
                          </a:lnTo>
                          <a:lnTo>
                            <a:pt x="559" y="213"/>
                          </a:lnTo>
                          <a:lnTo>
                            <a:pt x="540" y="200"/>
                          </a:lnTo>
                          <a:lnTo>
                            <a:pt x="525" y="195"/>
                          </a:lnTo>
                          <a:lnTo>
                            <a:pt x="510" y="195"/>
                          </a:lnTo>
                          <a:lnTo>
                            <a:pt x="498" y="200"/>
                          </a:lnTo>
                          <a:lnTo>
                            <a:pt x="487" y="205"/>
                          </a:lnTo>
                          <a:lnTo>
                            <a:pt x="478" y="212"/>
                          </a:lnTo>
                          <a:lnTo>
                            <a:pt x="467" y="218"/>
                          </a:lnTo>
                          <a:lnTo>
                            <a:pt x="456" y="225"/>
                          </a:lnTo>
                          <a:lnTo>
                            <a:pt x="444" y="230"/>
                          </a:lnTo>
                          <a:lnTo>
                            <a:pt x="431" y="235"/>
                          </a:lnTo>
                          <a:lnTo>
                            <a:pt x="378" y="246"/>
                          </a:lnTo>
                          <a:lnTo>
                            <a:pt x="325" y="260"/>
                          </a:lnTo>
                          <a:lnTo>
                            <a:pt x="271" y="276"/>
                          </a:lnTo>
                          <a:lnTo>
                            <a:pt x="218" y="292"/>
                          </a:lnTo>
                          <a:lnTo>
                            <a:pt x="164" y="306"/>
                          </a:lnTo>
                          <a:lnTo>
                            <a:pt x="109" y="318"/>
                          </a:lnTo>
                          <a:lnTo>
                            <a:pt x="54" y="327"/>
                          </a:lnTo>
                          <a:lnTo>
                            <a:pt x="0" y="330"/>
                          </a:lnTo>
                          <a:close/>
                        </a:path>
                      </a:pathLst>
                    </a:custGeom>
                    <a:solidFill>
                      <a:srgbClr val="ffffb3"/>
                    </a:solidFill>
                    <a:ln w="1440">
                      <a:solidFill>
                        <a:srgbClr val="e6ff1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flipH="1">
                      <a:off x="1863360" y="5418360"/>
                      <a:ext cx="10620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92">
                          <a:moveTo>
                            <a:pt x="49" y="23"/>
                          </a:moveTo>
                          <a:lnTo>
                            <a:pt x="41" y="28"/>
                          </a:lnTo>
                          <a:lnTo>
                            <a:pt x="35" y="32"/>
                          </a:lnTo>
                          <a:lnTo>
                            <a:pt x="31" y="35"/>
                          </a:lnTo>
                          <a:lnTo>
                            <a:pt x="30" y="42"/>
                          </a:lnTo>
                          <a:lnTo>
                            <a:pt x="28" y="48"/>
                          </a:lnTo>
                          <a:lnTo>
                            <a:pt x="29" y="56"/>
                          </a:lnTo>
                          <a:lnTo>
                            <a:pt x="29" y="64"/>
                          </a:lnTo>
                          <a:lnTo>
                            <a:pt x="31" y="77"/>
                          </a:lnTo>
                          <a:lnTo>
                            <a:pt x="28" y="77"/>
                          </a:lnTo>
                          <a:lnTo>
                            <a:pt x="21" y="73"/>
                          </a:lnTo>
                          <a:lnTo>
                            <a:pt x="16" y="66"/>
                          </a:lnTo>
                          <a:lnTo>
                            <a:pt x="18" y="64"/>
                          </a:lnTo>
                          <a:lnTo>
                            <a:pt x="35" y="65"/>
                          </a:lnTo>
                          <a:lnTo>
                            <a:pt x="50" y="66"/>
                          </a:lnTo>
                          <a:lnTo>
                            <a:pt x="63" y="66"/>
                          </a:lnTo>
                          <a:lnTo>
                            <a:pt x="75" y="66"/>
                          </a:lnTo>
                          <a:lnTo>
                            <a:pt x="85" y="64"/>
                          </a:lnTo>
                          <a:lnTo>
                            <a:pt x="97" y="62"/>
                          </a:lnTo>
                          <a:lnTo>
                            <a:pt x="109" y="59"/>
                          </a:lnTo>
                          <a:lnTo>
                            <a:pt x="126" y="55"/>
                          </a:lnTo>
                          <a:lnTo>
                            <a:pt x="130" y="55"/>
                          </a:lnTo>
                          <a:lnTo>
                            <a:pt x="133" y="59"/>
                          </a:lnTo>
                          <a:lnTo>
                            <a:pt x="132" y="62"/>
                          </a:lnTo>
                          <a:lnTo>
                            <a:pt x="129" y="66"/>
                          </a:lnTo>
                          <a:lnTo>
                            <a:pt x="112" y="72"/>
                          </a:lnTo>
                          <a:lnTo>
                            <a:pt x="99" y="77"/>
                          </a:lnTo>
                          <a:lnTo>
                            <a:pt x="87" y="81"/>
                          </a:lnTo>
                          <a:lnTo>
                            <a:pt x="76" y="87"/>
                          </a:lnTo>
                          <a:lnTo>
                            <a:pt x="64" y="89"/>
                          </a:lnTo>
                          <a:lnTo>
                            <a:pt x="51" y="91"/>
                          </a:lnTo>
                          <a:lnTo>
                            <a:pt x="35" y="92"/>
                          </a:lnTo>
                          <a:lnTo>
                            <a:pt x="16" y="92"/>
                          </a:lnTo>
                          <a:lnTo>
                            <a:pt x="6" y="89"/>
                          </a:lnTo>
                          <a:lnTo>
                            <a:pt x="3" y="80"/>
                          </a:lnTo>
                          <a:lnTo>
                            <a:pt x="0" y="62"/>
                          </a:lnTo>
                          <a:lnTo>
                            <a:pt x="1" y="48"/>
                          </a:lnTo>
                          <a:lnTo>
                            <a:pt x="1" y="37"/>
                          </a:lnTo>
                          <a:lnTo>
                            <a:pt x="5" y="29"/>
                          </a:lnTo>
                          <a:lnTo>
                            <a:pt x="8" y="21"/>
                          </a:lnTo>
                          <a:lnTo>
                            <a:pt x="16" y="15"/>
                          </a:lnTo>
                          <a:lnTo>
                            <a:pt x="24" y="8"/>
                          </a:lnTo>
                          <a:lnTo>
                            <a:pt x="37" y="2"/>
                          </a:lnTo>
                          <a:lnTo>
                            <a:pt x="46" y="0"/>
                          </a:lnTo>
                          <a:lnTo>
                            <a:pt x="54" y="6"/>
                          </a:lnTo>
                          <a:lnTo>
                            <a:pt x="55" y="15"/>
                          </a:lnTo>
                          <a:lnTo>
                            <a:pt x="49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 flipH="1">
                      <a:off x="1828440" y="5372280"/>
                      <a:ext cx="8892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99">
                          <a:moveTo>
                            <a:pt x="67" y="15"/>
                          </a:moveTo>
                          <a:lnTo>
                            <a:pt x="54" y="21"/>
                          </a:lnTo>
                          <a:lnTo>
                            <a:pt x="42" y="30"/>
                          </a:lnTo>
                          <a:lnTo>
                            <a:pt x="30" y="38"/>
                          </a:lnTo>
                          <a:lnTo>
                            <a:pt x="24" y="47"/>
                          </a:lnTo>
                          <a:lnTo>
                            <a:pt x="20" y="55"/>
                          </a:lnTo>
                          <a:lnTo>
                            <a:pt x="22" y="63"/>
                          </a:lnTo>
                          <a:lnTo>
                            <a:pt x="30" y="70"/>
                          </a:lnTo>
                          <a:lnTo>
                            <a:pt x="49" y="76"/>
                          </a:lnTo>
                          <a:lnTo>
                            <a:pt x="55" y="73"/>
                          </a:lnTo>
                          <a:lnTo>
                            <a:pt x="63" y="71"/>
                          </a:lnTo>
                          <a:lnTo>
                            <a:pt x="69" y="69"/>
                          </a:lnTo>
                          <a:lnTo>
                            <a:pt x="77" y="67"/>
                          </a:lnTo>
                          <a:lnTo>
                            <a:pt x="83" y="65"/>
                          </a:lnTo>
                          <a:lnTo>
                            <a:pt x="90" y="63"/>
                          </a:lnTo>
                          <a:lnTo>
                            <a:pt x="96" y="61"/>
                          </a:lnTo>
                          <a:lnTo>
                            <a:pt x="106" y="60"/>
                          </a:lnTo>
                          <a:lnTo>
                            <a:pt x="110" y="59"/>
                          </a:lnTo>
                          <a:lnTo>
                            <a:pt x="113" y="63"/>
                          </a:lnTo>
                          <a:lnTo>
                            <a:pt x="112" y="67"/>
                          </a:lnTo>
                          <a:lnTo>
                            <a:pt x="109" y="72"/>
                          </a:lnTo>
                          <a:lnTo>
                            <a:pt x="100" y="74"/>
                          </a:lnTo>
                          <a:lnTo>
                            <a:pt x="93" y="77"/>
                          </a:lnTo>
                          <a:lnTo>
                            <a:pt x="86" y="80"/>
                          </a:lnTo>
                          <a:lnTo>
                            <a:pt x="80" y="85"/>
                          </a:lnTo>
                          <a:lnTo>
                            <a:pt x="72" y="88"/>
                          </a:lnTo>
                          <a:lnTo>
                            <a:pt x="65" y="91"/>
                          </a:lnTo>
                          <a:lnTo>
                            <a:pt x="57" y="94"/>
                          </a:lnTo>
                          <a:lnTo>
                            <a:pt x="51" y="99"/>
                          </a:lnTo>
                          <a:lnTo>
                            <a:pt x="23" y="89"/>
                          </a:lnTo>
                          <a:lnTo>
                            <a:pt x="7" y="78"/>
                          </a:lnTo>
                          <a:lnTo>
                            <a:pt x="0" y="65"/>
                          </a:lnTo>
                          <a:lnTo>
                            <a:pt x="2" y="53"/>
                          </a:lnTo>
                          <a:lnTo>
                            <a:pt x="10" y="40"/>
                          </a:lnTo>
                          <a:lnTo>
                            <a:pt x="24" y="27"/>
                          </a:lnTo>
                          <a:lnTo>
                            <a:pt x="40" y="14"/>
                          </a:lnTo>
                          <a:lnTo>
                            <a:pt x="59" y="2"/>
                          </a:lnTo>
                          <a:lnTo>
                            <a:pt x="65" y="0"/>
                          </a:lnTo>
                          <a:lnTo>
                            <a:pt x="69" y="4"/>
                          </a:lnTo>
                          <a:lnTo>
                            <a:pt x="70" y="9"/>
                          </a:lnTo>
                          <a:lnTo>
                            <a:pt x="67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 flipH="1">
                      <a:off x="1735200" y="5337360"/>
                      <a:ext cx="10152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72">
                          <a:moveTo>
                            <a:pt x="119" y="22"/>
                          </a:moveTo>
                          <a:lnTo>
                            <a:pt x="103" y="19"/>
                          </a:lnTo>
                          <a:lnTo>
                            <a:pt x="89" y="19"/>
                          </a:lnTo>
                          <a:lnTo>
                            <a:pt x="75" y="20"/>
                          </a:lnTo>
                          <a:lnTo>
                            <a:pt x="62" y="24"/>
                          </a:lnTo>
                          <a:lnTo>
                            <a:pt x="49" y="28"/>
                          </a:lnTo>
                          <a:lnTo>
                            <a:pt x="39" y="34"/>
                          </a:lnTo>
                          <a:lnTo>
                            <a:pt x="28" y="41"/>
                          </a:lnTo>
                          <a:lnTo>
                            <a:pt x="21" y="48"/>
                          </a:lnTo>
                          <a:lnTo>
                            <a:pt x="17" y="46"/>
                          </a:lnTo>
                          <a:lnTo>
                            <a:pt x="15" y="38"/>
                          </a:lnTo>
                          <a:lnTo>
                            <a:pt x="17" y="31"/>
                          </a:lnTo>
                          <a:lnTo>
                            <a:pt x="21" y="30"/>
                          </a:lnTo>
                          <a:lnTo>
                            <a:pt x="45" y="50"/>
                          </a:lnTo>
                          <a:lnTo>
                            <a:pt x="57" y="49"/>
                          </a:lnTo>
                          <a:lnTo>
                            <a:pt x="67" y="49"/>
                          </a:lnTo>
                          <a:lnTo>
                            <a:pt x="76" y="48"/>
                          </a:lnTo>
                          <a:lnTo>
                            <a:pt x="84" y="47"/>
                          </a:lnTo>
                          <a:lnTo>
                            <a:pt x="91" y="45"/>
                          </a:lnTo>
                          <a:lnTo>
                            <a:pt x="98" y="43"/>
                          </a:lnTo>
                          <a:lnTo>
                            <a:pt x="107" y="39"/>
                          </a:lnTo>
                          <a:lnTo>
                            <a:pt x="118" y="37"/>
                          </a:lnTo>
                          <a:lnTo>
                            <a:pt x="123" y="36"/>
                          </a:lnTo>
                          <a:lnTo>
                            <a:pt x="126" y="41"/>
                          </a:lnTo>
                          <a:lnTo>
                            <a:pt x="125" y="45"/>
                          </a:lnTo>
                          <a:lnTo>
                            <a:pt x="122" y="50"/>
                          </a:lnTo>
                          <a:lnTo>
                            <a:pt x="110" y="53"/>
                          </a:lnTo>
                          <a:lnTo>
                            <a:pt x="100" y="58"/>
                          </a:lnTo>
                          <a:lnTo>
                            <a:pt x="91" y="61"/>
                          </a:lnTo>
                          <a:lnTo>
                            <a:pt x="83" y="64"/>
                          </a:lnTo>
                          <a:lnTo>
                            <a:pt x="72" y="66"/>
                          </a:lnTo>
                          <a:lnTo>
                            <a:pt x="63" y="70"/>
                          </a:lnTo>
                          <a:lnTo>
                            <a:pt x="51" y="71"/>
                          </a:lnTo>
                          <a:lnTo>
                            <a:pt x="37" y="72"/>
                          </a:lnTo>
                          <a:lnTo>
                            <a:pt x="7" y="48"/>
                          </a:lnTo>
                          <a:lnTo>
                            <a:pt x="0" y="38"/>
                          </a:lnTo>
                          <a:lnTo>
                            <a:pt x="7" y="30"/>
                          </a:lnTo>
                          <a:lnTo>
                            <a:pt x="17" y="21"/>
                          </a:lnTo>
                          <a:lnTo>
                            <a:pt x="28" y="15"/>
                          </a:lnTo>
                          <a:lnTo>
                            <a:pt x="41" y="8"/>
                          </a:lnTo>
                          <a:lnTo>
                            <a:pt x="56" y="4"/>
                          </a:lnTo>
                          <a:lnTo>
                            <a:pt x="70" y="1"/>
                          </a:lnTo>
                          <a:lnTo>
                            <a:pt x="86" y="0"/>
                          </a:lnTo>
                          <a:lnTo>
                            <a:pt x="103" y="0"/>
                          </a:lnTo>
                          <a:lnTo>
                            <a:pt x="122" y="4"/>
                          </a:lnTo>
                          <a:lnTo>
                            <a:pt x="128" y="7"/>
                          </a:lnTo>
                          <a:lnTo>
                            <a:pt x="129" y="15"/>
                          </a:lnTo>
                          <a:lnTo>
                            <a:pt x="125" y="20"/>
                          </a:lnTo>
                          <a:lnTo>
                            <a:pt x="119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H="1">
                      <a:off x="1747800" y="5394600"/>
                      <a:ext cx="9216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80">
                          <a:moveTo>
                            <a:pt x="85" y="14"/>
                          </a:moveTo>
                          <a:lnTo>
                            <a:pt x="68" y="16"/>
                          </a:lnTo>
                          <a:lnTo>
                            <a:pt x="53" y="19"/>
                          </a:lnTo>
                          <a:lnTo>
                            <a:pt x="40" y="22"/>
                          </a:lnTo>
                          <a:lnTo>
                            <a:pt x="30" y="28"/>
                          </a:lnTo>
                          <a:lnTo>
                            <a:pt x="24" y="32"/>
                          </a:lnTo>
                          <a:lnTo>
                            <a:pt x="21" y="38"/>
                          </a:lnTo>
                          <a:lnTo>
                            <a:pt x="23" y="45"/>
                          </a:lnTo>
                          <a:lnTo>
                            <a:pt x="31" y="54"/>
                          </a:lnTo>
                          <a:lnTo>
                            <a:pt x="41" y="52"/>
                          </a:lnTo>
                          <a:lnTo>
                            <a:pt x="50" y="51"/>
                          </a:lnTo>
                          <a:lnTo>
                            <a:pt x="57" y="50"/>
                          </a:lnTo>
                          <a:lnTo>
                            <a:pt x="66" y="49"/>
                          </a:lnTo>
                          <a:lnTo>
                            <a:pt x="73" y="47"/>
                          </a:lnTo>
                          <a:lnTo>
                            <a:pt x="82" y="45"/>
                          </a:lnTo>
                          <a:lnTo>
                            <a:pt x="92" y="43"/>
                          </a:lnTo>
                          <a:lnTo>
                            <a:pt x="103" y="41"/>
                          </a:lnTo>
                          <a:lnTo>
                            <a:pt x="111" y="41"/>
                          </a:lnTo>
                          <a:lnTo>
                            <a:pt x="116" y="48"/>
                          </a:lnTo>
                          <a:lnTo>
                            <a:pt x="115" y="56"/>
                          </a:lnTo>
                          <a:lnTo>
                            <a:pt x="109" y="62"/>
                          </a:lnTo>
                          <a:lnTo>
                            <a:pt x="96" y="64"/>
                          </a:lnTo>
                          <a:lnTo>
                            <a:pt x="86" y="67"/>
                          </a:lnTo>
                          <a:lnTo>
                            <a:pt x="75" y="70"/>
                          </a:lnTo>
                          <a:lnTo>
                            <a:pt x="67" y="73"/>
                          </a:lnTo>
                          <a:lnTo>
                            <a:pt x="57" y="74"/>
                          </a:lnTo>
                          <a:lnTo>
                            <a:pt x="47" y="76"/>
                          </a:lnTo>
                          <a:lnTo>
                            <a:pt x="36" y="78"/>
                          </a:lnTo>
                          <a:lnTo>
                            <a:pt x="24" y="80"/>
                          </a:lnTo>
                          <a:lnTo>
                            <a:pt x="7" y="64"/>
                          </a:lnTo>
                          <a:lnTo>
                            <a:pt x="0" y="51"/>
                          </a:lnTo>
                          <a:lnTo>
                            <a:pt x="0" y="38"/>
                          </a:lnTo>
                          <a:lnTo>
                            <a:pt x="8" y="28"/>
                          </a:lnTo>
                          <a:lnTo>
                            <a:pt x="19" y="17"/>
                          </a:lnTo>
                          <a:lnTo>
                            <a:pt x="37" y="9"/>
                          </a:lnTo>
                          <a:lnTo>
                            <a:pt x="58" y="3"/>
                          </a:lnTo>
                          <a:lnTo>
                            <a:pt x="83" y="0"/>
                          </a:lnTo>
                          <a:lnTo>
                            <a:pt x="88" y="1"/>
                          </a:lnTo>
                          <a:lnTo>
                            <a:pt x="90" y="5"/>
                          </a:lnTo>
                          <a:lnTo>
                            <a:pt x="89" y="10"/>
                          </a:lnTo>
                          <a:lnTo>
                            <a:pt x="85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1607760" y="5373720"/>
                      <a:ext cx="1285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77">
                          <a:moveTo>
                            <a:pt x="76" y="13"/>
                          </a:moveTo>
                          <a:lnTo>
                            <a:pt x="65" y="16"/>
                          </a:lnTo>
                          <a:lnTo>
                            <a:pt x="57" y="20"/>
                          </a:lnTo>
                          <a:lnTo>
                            <a:pt x="50" y="25"/>
                          </a:lnTo>
                          <a:lnTo>
                            <a:pt x="43" y="31"/>
                          </a:lnTo>
                          <a:lnTo>
                            <a:pt x="37" y="36"/>
                          </a:lnTo>
                          <a:lnTo>
                            <a:pt x="30" y="43"/>
                          </a:lnTo>
                          <a:lnTo>
                            <a:pt x="25" y="49"/>
                          </a:lnTo>
                          <a:lnTo>
                            <a:pt x="21" y="57"/>
                          </a:lnTo>
                          <a:lnTo>
                            <a:pt x="19" y="55"/>
                          </a:lnTo>
                          <a:lnTo>
                            <a:pt x="19" y="50"/>
                          </a:lnTo>
                          <a:lnTo>
                            <a:pt x="20" y="46"/>
                          </a:lnTo>
                          <a:lnTo>
                            <a:pt x="22" y="46"/>
                          </a:lnTo>
                          <a:lnTo>
                            <a:pt x="26" y="54"/>
                          </a:lnTo>
                          <a:lnTo>
                            <a:pt x="33" y="58"/>
                          </a:lnTo>
                          <a:lnTo>
                            <a:pt x="39" y="58"/>
                          </a:lnTo>
                          <a:lnTo>
                            <a:pt x="48" y="57"/>
                          </a:lnTo>
                          <a:lnTo>
                            <a:pt x="55" y="53"/>
                          </a:lnTo>
                          <a:lnTo>
                            <a:pt x="64" y="48"/>
                          </a:lnTo>
                          <a:lnTo>
                            <a:pt x="72" y="43"/>
                          </a:lnTo>
                          <a:lnTo>
                            <a:pt x="82" y="40"/>
                          </a:lnTo>
                          <a:lnTo>
                            <a:pt x="91" y="35"/>
                          </a:lnTo>
                          <a:lnTo>
                            <a:pt x="100" y="32"/>
                          </a:lnTo>
                          <a:lnTo>
                            <a:pt x="109" y="29"/>
                          </a:lnTo>
                          <a:lnTo>
                            <a:pt x="119" y="26"/>
                          </a:lnTo>
                          <a:lnTo>
                            <a:pt x="126" y="21"/>
                          </a:lnTo>
                          <a:lnTo>
                            <a:pt x="135" y="18"/>
                          </a:lnTo>
                          <a:lnTo>
                            <a:pt x="144" y="14"/>
                          </a:lnTo>
                          <a:lnTo>
                            <a:pt x="154" y="10"/>
                          </a:lnTo>
                          <a:lnTo>
                            <a:pt x="158" y="8"/>
                          </a:lnTo>
                          <a:lnTo>
                            <a:pt x="162" y="12"/>
                          </a:lnTo>
                          <a:lnTo>
                            <a:pt x="163" y="16"/>
                          </a:lnTo>
                          <a:lnTo>
                            <a:pt x="161" y="20"/>
                          </a:lnTo>
                          <a:lnTo>
                            <a:pt x="150" y="25"/>
                          </a:lnTo>
                          <a:lnTo>
                            <a:pt x="141" y="31"/>
                          </a:lnTo>
                          <a:lnTo>
                            <a:pt x="133" y="35"/>
                          </a:lnTo>
                          <a:lnTo>
                            <a:pt x="125" y="42"/>
                          </a:lnTo>
                          <a:lnTo>
                            <a:pt x="116" y="46"/>
                          </a:lnTo>
                          <a:lnTo>
                            <a:pt x="109" y="51"/>
                          </a:lnTo>
                          <a:lnTo>
                            <a:pt x="99" y="56"/>
                          </a:lnTo>
                          <a:lnTo>
                            <a:pt x="91" y="61"/>
                          </a:lnTo>
                          <a:lnTo>
                            <a:pt x="78" y="64"/>
                          </a:lnTo>
                          <a:lnTo>
                            <a:pt x="65" y="70"/>
                          </a:lnTo>
                          <a:lnTo>
                            <a:pt x="52" y="74"/>
                          </a:lnTo>
                          <a:lnTo>
                            <a:pt x="40" y="77"/>
                          </a:lnTo>
                          <a:lnTo>
                            <a:pt x="28" y="77"/>
                          </a:lnTo>
                          <a:lnTo>
                            <a:pt x="19" y="74"/>
                          </a:lnTo>
                          <a:lnTo>
                            <a:pt x="9" y="67"/>
                          </a:lnTo>
                          <a:lnTo>
                            <a:pt x="1" y="55"/>
                          </a:lnTo>
                          <a:lnTo>
                            <a:pt x="0" y="49"/>
                          </a:lnTo>
                          <a:lnTo>
                            <a:pt x="2" y="44"/>
                          </a:lnTo>
                          <a:lnTo>
                            <a:pt x="9" y="34"/>
                          </a:lnTo>
                          <a:lnTo>
                            <a:pt x="15" y="28"/>
                          </a:lnTo>
                          <a:lnTo>
                            <a:pt x="23" y="21"/>
                          </a:lnTo>
                          <a:lnTo>
                            <a:pt x="31" y="17"/>
                          </a:lnTo>
                          <a:lnTo>
                            <a:pt x="40" y="11"/>
                          </a:lnTo>
                          <a:lnTo>
                            <a:pt x="50" y="6"/>
                          </a:lnTo>
                          <a:lnTo>
                            <a:pt x="59" y="3"/>
                          </a:lnTo>
                          <a:lnTo>
                            <a:pt x="72" y="0"/>
                          </a:lnTo>
                          <a:lnTo>
                            <a:pt x="77" y="0"/>
                          </a:lnTo>
                          <a:lnTo>
                            <a:pt x="80" y="4"/>
                          </a:lnTo>
                          <a:lnTo>
                            <a:pt x="79" y="8"/>
                          </a:lnTo>
                          <a:lnTo>
                            <a:pt x="76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flipH="1">
                      <a:off x="1611000" y="5293080"/>
                      <a:ext cx="1141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86">
                          <a:moveTo>
                            <a:pt x="102" y="14"/>
                          </a:moveTo>
                          <a:lnTo>
                            <a:pt x="83" y="16"/>
                          </a:lnTo>
                          <a:lnTo>
                            <a:pt x="68" y="19"/>
                          </a:lnTo>
                          <a:lnTo>
                            <a:pt x="55" y="22"/>
                          </a:lnTo>
                          <a:lnTo>
                            <a:pt x="47" y="29"/>
                          </a:lnTo>
                          <a:lnTo>
                            <a:pt x="38" y="35"/>
                          </a:lnTo>
                          <a:lnTo>
                            <a:pt x="30" y="45"/>
                          </a:lnTo>
                          <a:lnTo>
                            <a:pt x="24" y="57"/>
                          </a:lnTo>
                          <a:lnTo>
                            <a:pt x="19" y="73"/>
                          </a:lnTo>
                          <a:lnTo>
                            <a:pt x="15" y="73"/>
                          </a:lnTo>
                          <a:lnTo>
                            <a:pt x="12" y="68"/>
                          </a:lnTo>
                          <a:lnTo>
                            <a:pt x="10" y="61"/>
                          </a:lnTo>
                          <a:lnTo>
                            <a:pt x="13" y="60"/>
                          </a:lnTo>
                          <a:lnTo>
                            <a:pt x="30" y="63"/>
                          </a:lnTo>
                          <a:lnTo>
                            <a:pt x="47" y="66"/>
                          </a:lnTo>
                          <a:lnTo>
                            <a:pt x="62" y="65"/>
                          </a:lnTo>
                          <a:lnTo>
                            <a:pt x="77" y="63"/>
                          </a:lnTo>
                          <a:lnTo>
                            <a:pt x="90" y="57"/>
                          </a:lnTo>
                          <a:lnTo>
                            <a:pt x="104" y="50"/>
                          </a:lnTo>
                          <a:lnTo>
                            <a:pt x="118" y="40"/>
                          </a:lnTo>
                          <a:lnTo>
                            <a:pt x="132" y="28"/>
                          </a:lnTo>
                          <a:lnTo>
                            <a:pt x="137" y="25"/>
                          </a:lnTo>
                          <a:lnTo>
                            <a:pt x="142" y="28"/>
                          </a:lnTo>
                          <a:lnTo>
                            <a:pt x="144" y="33"/>
                          </a:lnTo>
                          <a:lnTo>
                            <a:pt x="143" y="40"/>
                          </a:lnTo>
                          <a:lnTo>
                            <a:pt x="127" y="52"/>
                          </a:lnTo>
                          <a:lnTo>
                            <a:pt x="111" y="65"/>
                          </a:lnTo>
                          <a:lnTo>
                            <a:pt x="95" y="75"/>
                          </a:lnTo>
                          <a:lnTo>
                            <a:pt x="80" y="81"/>
                          </a:lnTo>
                          <a:lnTo>
                            <a:pt x="63" y="85"/>
                          </a:lnTo>
                          <a:lnTo>
                            <a:pt x="45" y="86"/>
                          </a:lnTo>
                          <a:lnTo>
                            <a:pt x="26" y="83"/>
                          </a:lnTo>
                          <a:lnTo>
                            <a:pt x="7" y="78"/>
                          </a:lnTo>
                          <a:lnTo>
                            <a:pt x="0" y="73"/>
                          </a:lnTo>
                          <a:lnTo>
                            <a:pt x="0" y="65"/>
                          </a:lnTo>
                          <a:lnTo>
                            <a:pt x="7" y="47"/>
                          </a:lnTo>
                          <a:lnTo>
                            <a:pt x="15" y="34"/>
                          </a:lnTo>
                          <a:lnTo>
                            <a:pt x="24" y="23"/>
                          </a:lnTo>
                          <a:lnTo>
                            <a:pt x="35" y="16"/>
                          </a:lnTo>
                          <a:lnTo>
                            <a:pt x="45" y="9"/>
                          </a:lnTo>
                          <a:lnTo>
                            <a:pt x="61" y="6"/>
                          </a:lnTo>
                          <a:lnTo>
                            <a:pt x="79" y="2"/>
                          </a:lnTo>
                          <a:lnTo>
                            <a:pt x="101" y="0"/>
                          </a:lnTo>
                          <a:lnTo>
                            <a:pt x="106" y="1"/>
                          </a:lnTo>
                          <a:lnTo>
                            <a:pt x="108" y="5"/>
                          </a:lnTo>
                          <a:lnTo>
                            <a:pt x="107" y="11"/>
                          </a:lnTo>
                          <a:lnTo>
                            <a:pt x="102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 flipH="1">
                      <a:off x="1549080" y="5326200"/>
                      <a:ext cx="8244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80">
                          <a:moveTo>
                            <a:pt x="66" y="15"/>
                          </a:moveTo>
                          <a:lnTo>
                            <a:pt x="53" y="20"/>
                          </a:lnTo>
                          <a:lnTo>
                            <a:pt x="46" y="25"/>
                          </a:lnTo>
                          <a:lnTo>
                            <a:pt x="40" y="28"/>
                          </a:lnTo>
                          <a:lnTo>
                            <a:pt x="37" y="32"/>
                          </a:lnTo>
                          <a:lnTo>
                            <a:pt x="33" y="35"/>
                          </a:lnTo>
                          <a:lnTo>
                            <a:pt x="30" y="40"/>
                          </a:lnTo>
                          <a:lnTo>
                            <a:pt x="24" y="45"/>
                          </a:lnTo>
                          <a:lnTo>
                            <a:pt x="17" y="55"/>
                          </a:lnTo>
                          <a:lnTo>
                            <a:pt x="13" y="52"/>
                          </a:lnTo>
                          <a:lnTo>
                            <a:pt x="13" y="47"/>
                          </a:lnTo>
                          <a:lnTo>
                            <a:pt x="13" y="41"/>
                          </a:lnTo>
                          <a:lnTo>
                            <a:pt x="17" y="42"/>
                          </a:lnTo>
                          <a:lnTo>
                            <a:pt x="22" y="46"/>
                          </a:lnTo>
                          <a:lnTo>
                            <a:pt x="29" y="51"/>
                          </a:lnTo>
                          <a:lnTo>
                            <a:pt x="35" y="55"/>
                          </a:lnTo>
                          <a:lnTo>
                            <a:pt x="45" y="58"/>
                          </a:lnTo>
                          <a:lnTo>
                            <a:pt x="53" y="59"/>
                          </a:lnTo>
                          <a:lnTo>
                            <a:pt x="65" y="60"/>
                          </a:lnTo>
                          <a:lnTo>
                            <a:pt x="77" y="60"/>
                          </a:lnTo>
                          <a:lnTo>
                            <a:pt x="92" y="60"/>
                          </a:lnTo>
                          <a:lnTo>
                            <a:pt x="99" y="61"/>
                          </a:lnTo>
                          <a:lnTo>
                            <a:pt x="103" y="69"/>
                          </a:lnTo>
                          <a:lnTo>
                            <a:pt x="101" y="76"/>
                          </a:lnTo>
                          <a:lnTo>
                            <a:pt x="94" y="80"/>
                          </a:lnTo>
                          <a:lnTo>
                            <a:pt x="76" y="80"/>
                          </a:lnTo>
                          <a:lnTo>
                            <a:pt x="61" y="80"/>
                          </a:lnTo>
                          <a:lnTo>
                            <a:pt x="48" y="78"/>
                          </a:lnTo>
                          <a:lnTo>
                            <a:pt x="37" y="76"/>
                          </a:lnTo>
                          <a:lnTo>
                            <a:pt x="27" y="72"/>
                          </a:lnTo>
                          <a:lnTo>
                            <a:pt x="18" y="66"/>
                          </a:lnTo>
                          <a:lnTo>
                            <a:pt x="9" y="60"/>
                          </a:lnTo>
                          <a:lnTo>
                            <a:pt x="3" y="55"/>
                          </a:lnTo>
                          <a:lnTo>
                            <a:pt x="0" y="48"/>
                          </a:lnTo>
                          <a:lnTo>
                            <a:pt x="3" y="42"/>
                          </a:lnTo>
                          <a:lnTo>
                            <a:pt x="10" y="32"/>
                          </a:lnTo>
                          <a:lnTo>
                            <a:pt x="18" y="26"/>
                          </a:lnTo>
                          <a:lnTo>
                            <a:pt x="22" y="21"/>
                          </a:lnTo>
                          <a:lnTo>
                            <a:pt x="27" y="19"/>
                          </a:lnTo>
                          <a:lnTo>
                            <a:pt x="30" y="16"/>
                          </a:lnTo>
                          <a:lnTo>
                            <a:pt x="37" y="13"/>
                          </a:lnTo>
                          <a:lnTo>
                            <a:pt x="46" y="8"/>
                          </a:lnTo>
                          <a:lnTo>
                            <a:pt x="59" y="2"/>
                          </a:lnTo>
                          <a:lnTo>
                            <a:pt x="64" y="0"/>
                          </a:lnTo>
                          <a:lnTo>
                            <a:pt x="68" y="4"/>
                          </a:lnTo>
                          <a:lnTo>
                            <a:pt x="70" y="9"/>
                          </a:lnTo>
                          <a:lnTo>
                            <a:pt x="66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 flipH="1">
                      <a:off x="1480680" y="5256360"/>
                      <a:ext cx="1141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59">
                          <a:moveTo>
                            <a:pt x="87" y="43"/>
                          </a:moveTo>
                          <a:lnTo>
                            <a:pt x="94" y="39"/>
                          </a:lnTo>
                          <a:lnTo>
                            <a:pt x="102" y="37"/>
                          </a:lnTo>
                          <a:lnTo>
                            <a:pt x="107" y="34"/>
                          </a:lnTo>
                          <a:lnTo>
                            <a:pt x="113" y="32"/>
                          </a:lnTo>
                          <a:lnTo>
                            <a:pt x="121" y="23"/>
                          </a:lnTo>
                          <a:lnTo>
                            <a:pt x="130" y="14"/>
                          </a:lnTo>
                          <a:lnTo>
                            <a:pt x="132" y="13"/>
                          </a:lnTo>
                          <a:lnTo>
                            <a:pt x="135" y="18"/>
                          </a:lnTo>
                          <a:lnTo>
                            <a:pt x="135" y="23"/>
                          </a:lnTo>
                          <a:lnTo>
                            <a:pt x="133" y="26"/>
                          </a:lnTo>
                          <a:lnTo>
                            <a:pt x="119" y="21"/>
                          </a:lnTo>
                          <a:lnTo>
                            <a:pt x="107" y="18"/>
                          </a:lnTo>
                          <a:lnTo>
                            <a:pt x="96" y="16"/>
                          </a:lnTo>
                          <a:lnTo>
                            <a:pt x="86" y="16"/>
                          </a:lnTo>
                          <a:lnTo>
                            <a:pt x="75" y="16"/>
                          </a:lnTo>
                          <a:lnTo>
                            <a:pt x="64" y="19"/>
                          </a:lnTo>
                          <a:lnTo>
                            <a:pt x="51" y="21"/>
                          </a:lnTo>
                          <a:lnTo>
                            <a:pt x="40" y="25"/>
                          </a:lnTo>
                          <a:lnTo>
                            <a:pt x="14" y="46"/>
                          </a:lnTo>
                          <a:lnTo>
                            <a:pt x="9" y="45"/>
                          </a:lnTo>
                          <a:lnTo>
                            <a:pt x="8" y="39"/>
                          </a:lnTo>
                          <a:lnTo>
                            <a:pt x="8" y="34"/>
                          </a:lnTo>
                          <a:lnTo>
                            <a:pt x="13" y="34"/>
                          </a:lnTo>
                          <a:lnTo>
                            <a:pt x="34" y="48"/>
                          </a:lnTo>
                          <a:lnTo>
                            <a:pt x="36" y="51"/>
                          </a:lnTo>
                          <a:lnTo>
                            <a:pt x="35" y="55"/>
                          </a:lnTo>
                          <a:lnTo>
                            <a:pt x="32" y="59"/>
                          </a:lnTo>
                          <a:lnTo>
                            <a:pt x="28" y="59"/>
                          </a:lnTo>
                          <a:lnTo>
                            <a:pt x="5" y="47"/>
                          </a:lnTo>
                          <a:lnTo>
                            <a:pt x="0" y="40"/>
                          </a:lnTo>
                          <a:lnTo>
                            <a:pt x="4" y="34"/>
                          </a:lnTo>
                          <a:lnTo>
                            <a:pt x="32" y="10"/>
                          </a:lnTo>
                          <a:lnTo>
                            <a:pt x="46" y="5"/>
                          </a:lnTo>
                          <a:lnTo>
                            <a:pt x="60" y="3"/>
                          </a:lnTo>
                          <a:lnTo>
                            <a:pt x="72" y="0"/>
                          </a:lnTo>
                          <a:lnTo>
                            <a:pt x="85" y="0"/>
                          </a:lnTo>
                          <a:lnTo>
                            <a:pt x="97" y="0"/>
                          </a:lnTo>
                          <a:lnTo>
                            <a:pt x="109" y="2"/>
                          </a:lnTo>
                          <a:lnTo>
                            <a:pt x="123" y="5"/>
                          </a:lnTo>
                          <a:lnTo>
                            <a:pt x="140" y="10"/>
                          </a:lnTo>
                          <a:lnTo>
                            <a:pt x="145" y="15"/>
                          </a:lnTo>
                          <a:lnTo>
                            <a:pt x="144" y="23"/>
                          </a:lnTo>
                          <a:lnTo>
                            <a:pt x="137" y="29"/>
                          </a:lnTo>
                          <a:lnTo>
                            <a:pt x="132" y="35"/>
                          </a:lnTo>
                          <a:lnTo>
                            <a:pt x="127" y="39"/>
                          </a:lnTo>
                          <a:lnTo>
                            <a:pt x="122" y="44"/>
                          </a:lnTo>
                          <a:lnTo>
                            <a:pt x="115" y="47"/>
                          </a:lnTo>
                          <a:lnTo>
                            <a:pt x="108" y="50"/>
                          </a:lnTo>
                          <a:lnTo>
                            <a:pt x="99" y="52"/>
                          </a:lnTo>
                          <a:lnTo>
                            <a:pt x="89" y="55"/>
                          </a:lnTo>
                          <a:lnTo>
                            <a:pt x="84" y="54"/>
                          </a:lnTo>
                          <a:lnTo>
                            <a:pt x="82" y="50"/>
                          </a:lnTo>
                          <a:lnTo>
                            <a:pt x="82" y="45"/>
                          </a:lnTo>
                          <a:lnTo>
                            <a:pt x="87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flipH="1">
                      <a:off x="1371600" y="5243760"/>
                      <a:ext cx="1000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76">
                          <a:moveTo>
                            <a:pt x="5" y="64"/>
                          </a:moveTo>
                          <a:lnTo>
                            <a:pt x="22" y="59"/>
                          </a:lnTo>
                          <a:lnTo>
                            <a:pt x="37" y="54"/>
                          </a:lnTo>
                          <a:lnTo>
                            <a:pt x="50" y="49"/>
                          </a:lnTo>
                          <a:lnTo>
                            <a:pt x="64" y="43"/>
                          </a:lnTo>
                          <a:lnTo>
                            <a:pt x="75" y="37"/>
                          </a:lnTo>
                          <a:lnTo>
                            <a:pt x="87" y="31"/>
                          </a:lnTo>
                          <a:lnTo>
                            <a:pt x="99" y="24"/>
                          </a:lnTo>
                          <a:lnTo>
                            <a:pt x="113" y="18"/>
                          </a:lnTo>
                          <a:lnTo>
                            <a:pt x="115" y="19"/>
                          </a:lnTo>
                          <a:lnTo>
                            <a:pt x="115" y="25"/>
                          </a:lnTo>
                          <a:lnTo>
                            <a:pt x="112" y="31"/>
                          </a:lnTo>
                          <a:lnTo>
                            <a:pt x="110" y="32"/>
                          </a:lnTo>
                          <a:lnTo>
                            <a:pt x="100" y="23"/>
                          </a:lnTo>
                          <a:lnTo>
                            <a:pt x="90" y="19"/>
                          </a:lnTo>
                          <a:lnTo>
                            <a:pt x="78" y="16"/>
                          </a:lnTo>
                          <a:lnTo>
                            <a:pt x="68" y="17"/>
                          </a:lnTo>
                          <a:lnTo>
                            <a:pt x="54" y="18"/>
                          </a:lnTo>
                          <a:lnTo>
                            <a:pt x="41" y="21"/>
                          </a:lnTo>
                          <a:lnTo>
                            <a:pt x="28" y="25"/>
                          </a:lnTo>
                          <a:lnTo>
                            <a:pt x="17" y="32"/>
                          </a:lnTo>
                          <a:lnTo>
                            <a:pt x="11" y="31"/>
                          </a:lnTo>
                          <a:lnTo>
                            <a:pt x="8" y="28"/>
                          </a:lnTo>
                          <a:lnTo>
                            <a:pt x="7" y="23"/>
                          </a:lnTo>
                          <a:lnTo>
                            <a:pt x="12" y="20"/>
                          </a:lnTo>
                          <a:lnTo>
                            <a:pt x="26" y="13"/>
                          </a:lnTo>
                          <a:lnTo>
                            <a:pt x="41" y="8"/>
                          </a:lnTo>
                          <a:lnTo>
                            <a:pt x="56" y="4"/>
                          </a:lnTo>
                          <a:lnTo>
                            <a:pt x="72" y="2"/>
                          </a:lnTo>
                          <a:lnTo>
                            <a:pt x="86" y="0"/>
                          </a:lnTo>
                          <a:lnTo>
                            <a:pt x="101" y="4"/>
                          </a:lnTo>
                          <a:lnTo>
                            <a:pt x="113" y="10"/>
                          </a:lnTo>
                          <a:lnTo>
                            <a:pt x="123" y="20"/>
                          </a:lnTo>
                          <a:lnTo>
                            <a:pt x="126" y="27"/>
                          </a:lnTo>
                          <a:lnTo>
                            <a:pt x="120" y="34"/>
                          </a:lnTo>
                          <a:lnTo>
                            <a:pt x="106" y="39"/>
                          </a:lnTo>
                          <a:lnTo>
                            <a:pt x="94" y="46"/>
                          </a:lnTo>
                          <a:lnTo>
                            <a:pt x="82" y="51"/>
                          </a:lnTo>
                          <a:lnTo>
                            <a:pt x="70" y="57"/>
                          </a:lnTo>
                          <a:lnTo>
                            <a:pt x="56" y="62"/>
                          </a:lnTo>
                          <a:lnTo>
                            <a:pt x="42" y="66"/>
                          </a:lnTo>
                          <a:lnTo>
                            <a:pt x="26" y="70"/>
                          </a:lnTo>
                          <a:lnTo>
                            <a:pt x="7" y="76"/>
                          </a:lnTo>
                          <a:lnTo>
                            <a:pt x="2" y="75"/>
                          </a:lnTo>
                          <a:lnTo>
                            <a:pt x="0" y="70"/>
                          </a:lnTo>
                          <a:lnTo>
                            <a:pt x="0" y="65"/>
                          </a:lnTo>
                          <a:lnTo>
                            <a:pt x="5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 flipH="1">
                      <a:off x="1265040" y="5240520"/>
                      <a:ext cx="1159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83">
                          <a:moveTo>
                            <a:pt x="9" y="65"/>
                          </a:moveTo>
                          <a:lnTo>
                            <a:pt x="28" y="66"/>
                          </a:lnTo>
                          <a:lnTo>
                            <a:pt x="46" y="65"/>
                          </a:lnTo>
                          <a:lnTo>
                            <a:pt x="63" y="62"/>
                          </a:lnTo>
                          <a:lnTo>
                            <a:pt x="79" y="56"/>
                          </a:lnTo>
                          <a:lnTo>
                            <a:pt x="93" y="48"/>
                          </a:lnTo>
                          <a:lnTo>
                            <a:pt x="106" y="39"/>
                          </a:lnTo>
                          <a:lnTo>
                            <a:pt x="116" y="27"/>
                          </a:lnTo>
                          <a:lnTo>
                            <a:pt x="126" y="15"/>
                          </a:lnTo>
                          <a:lnTo>
                            <a:pt x="129" y="14"/>
                          </a:lnTo>
                          <a:lnTo>
                            <a:pt x="133" y="21"/>
                          </a:lnTo>
                          <a:lnTo>
                            <a:pt x="134" y="27"/>
                          </a:lnTo>
                          <a:lnTo>
                            <a:pt x="132" y="30"/>
                          </a:lnTo>
                          <a:lnTo>
                            <a:pt x="126" y="28"/>
                          </a:lnTo>
                          <a:lnTo>
                            <a:pt x="120" y="27"/>
                          </a:lnTo>
                          <a:lnTo>
                            <a:pt x="113" y="25"/>
                          </a:lnTo>
                          <a:lnTo>
                            <a:pt x="106" y="25"/>
                          </a:lnTo>
                          <a:lnTo>
                            <a:pt x="99" y="23"/>
                          </a:lnTo>
                          <a:lnTo>
                            <a:pt x="91" y="23"/>
                          </a:lnTo>
                          <a:lnTo>
                            <a:pt x="85" y="23"/>
                          </a:lnTo>
                          <a:lnTo>
                            <a:pt x="78" y="23"/>
                          </a:lnTo>
                          <a:lnTo>
                            <a:pt x="69" y="19"/>
                          </a:lnTo>
                          <a:lnTo>
                            <a:pt x="66" y="11"/>
                          </a:lnTo>
                          <a:lnTo>
                            <a:pt x="69" y="3"/>
                          </a:lnTo>
                          <a:lnTo>
                            <a:pt x="78" y="0"/>
                          </a:lnTo>
                          <a:lnTo>
                            <a:pt x="85" y="0"/>
                          </a:lnTo>
                          <a:lnTo>
                            <a:pt x="93" y="0"/>
                          </a:lnTo>
                          <a:lnTo>
                            <a:pt x="102" y="1"/>
                          </a:lnTo>
                          <a:lnTo>
                            <a:pt x="111" y="2"/>
                          </a:lnTo>
                          <a:lnTo>
                            <a:pt x="118" y="3"/>
                          </a:lnTo>
                          <a:lnTo>
                            <a:pt x="127" y="6"/>
                          </a:lnTo>
                          <a:lnTo>
                            <a:pt x="133" y="7"/>
                          </a:lnTo>
                          <a:lnTo>
                            <a:pt x="140" y="10"/>
                          </a:lnTo>
                          <a:lnTo>
                            <a:pt x="146" y="15"/>
                          </a:lnTo>
                          <a:lnTo>
                            <a:pt x="145" y="25"/>
                          </a:lnTo>
                          <a:lnTo>
                            <a:pt x="134" y="39"/>
                          </a:lnTo>
                          <a:lnTo>
                            <a:pt x="121" y="53"/>
                          </a:lnTo>
                          <a:lnTo>
                            <a:pt x="106" y="64"/>
                          </a:lnTo>
                          <a:lnTo>
                            <a:pt x="90" y="73"/>
                          </a:lnTo>
                          <a:lnTo>
                            <a:pt x="70" y="79"/>
                          </a:lnTo>
                          <a:lnTo>
                            <a:pt x="49" y="83"/>
                          </a:lnTo>
                          <a:lnTo>
                            <a:pt x="28" y="83"/>
                          </a:lnTo>
                          <a:lnTo>
                            <a:pt x="6" y="82"/>
                          </a:lnTo>
                          <a:lnTo>
                            <a:pt x="0" y="78"/>
                          </a:lnTo>
                          <a:lnTo>
                            <a:pt x="0" y="71"/>
                          </a:lnTo>
                          <a:lnTo>
                            <a:pt x="2" y="66"/>
                          </a:lnTo>
                          <a:lnTo>
                            <a:pt x="9" y="6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1139400" y="5251680"/>
                      <a:ext cx="1126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6">
                          <a:moveTo>
                            <a:pt x="13" y="65"/>
                          </a:moveTo>
                          <a:lnTo>
                            <a:pt x="25" y="66"/>
                          </a:lnTo>
                          <a:lnTo>
                            <a:pt x="41" y="68"/>
                          </a:lnTo>
                          <a:lnTo>
                            <a:pt x="56" y="67"/>
                          </a:lnTo>
                          <a:lnTo>
                            <a:pt x="73" y="67"/>
                          </a:lnTo>
                          <a:lnTo>
                            <a:pt x="88" y="64"/>
                          </a:lnTo>
                          <a:lnTo>
                            <a:pt x="101" y="59"/>
                          </a:lnTo>
                          <a:lnTo>
                            <a:pt x="112" y="52"/>
                          </a:lnTo>
                          <a:lnTo>
                            <a:pt x="120" y="43"/>
                          </a:lnTo>
                          <a:lnTo>
                            <a:pt x="124" y="27"/>
                          </a:lnTo>
                          <a:lnTo>
                            <a:pt x="120" y="17"/>
                          </a:lnTo>
                          <a:lnTo>
                            <a:pt x="111" y="12"/>
                          </a:lnTo>
                          <a:lnTo>
                            <a:pt x="99" y="11"/>
                          </a:lnTo>
                          <a:lnTo>
                            <a:pt x="83" y="10"/>
                          </a:lnTo>
                          <a:lnTo>
                            <a:pt x="66" y="13"/>
                          </a:lnTo>
                          <a:lnTo>
                            <a:pt x="50" y="15"/>
                          </a:lnTo>
                          <a:lnTo>
                            <a:pt x="37" y="18"/>
                          </a:lnTo>
                          <a:lnTo>
                            <a:pt x="31" y="16"/>
                          </a:lnTo>
                          <a:lnTo>
                            <a:pt x="29" y="12"/>
                          </a:lnTo>
                          <a:lnTo>
                            <a:pt x="30" y="7"/>
                          </a:lnTo>
                          <a:lnTo>
                            <a:pt x="36" y="6"/>
                          </a:lnTo>
                          <a:lnTo>
                            <a:pt x="53" y="2"/>
                          </a:lnTo>
                          <a:lnTo>
                            <a:pt x="73" y="0"/>
                          </a:lnTo>
                          <a:lnTo>
                            <a:pt x="94" y="0"/>
                          </a:lnTo>
                          <a:lnTo>
                            <a:pt x="113" y="2"/>
                          </a:lnTo>
                          <a:lnTo>
                            <a:pt x="128" y="7"/>
                          </a:lnTo>
                          <a:lnTo>
                            <a:pt x="139" y="17"/>
                          </a:lnTo>
                          <a:lnTo>
                            <a:pt x="142" y="31"/>
                          </a:lnTo>
                          <a:lnTo>
                            <a:pt x="138" y="52"/>
                          </a:lnTo>
                          <a:lnTo>
                            <a:pt x="128" y="62"/>
                          </a:lnTo>
                          <a:lnTo>
                            <a:pt x="115" y="72"/>
                          </a:lnTo>
                          <a:lnTo>
                            <a:pt x="99" y="79"/>
                          </a:lnTo>
                          <a:lnTo>
                            <a:pt x="81" y="84"/>
                          </a:lnTo>
                          <a:lnTo>
                            <a:pt x="61" y="85"/>
                          </a:lnTo>
                          <a:lnTo>
                            <a:pt x="42" y="86"/>
                          </a:lnTo>
                          <a:lnTo>
                            <a:pt x="23" y="85"/>
                          </a:lnTo>
                          <a:lnTo>
                            <a:pt x="8" y="83"/>
                          </a:lnTo>
                          <a:lnTo>
                            <a:pt x="0" y="78"/>
                          </a:lnTo>
                          <a:lnTo>
                            <a:pt x="0" y="71"/>
                          </a:lnTo>
                          <a:lnTo>
                            <a:pt x="4" y="65"/>
                          </a:lnTo>
                          <a:lnTo>
                            <a:pt x="13" y="6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flipH="1">
                      <a:off x="1014480" y="5261040"/>
                      <a:ext cx="1173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67">
                          <a:moveTo>
                            <a:pt x="5" y="15"/>
                          </a:moveTo>
                          <a:lnTo>
                            <a:pt x="18" y="11"/>
                          </a:lnTo>
                          <a:lnTo>
                            <a:pt x="35" y="8"/>
                          </a:lnTo>
                          <a:lnTo>
                            <a:pt x="52" y="4"/>
                          </a:lnTo>
                          <a:lnTo>
                            <a:pt x="72" y="2"/>
                          </a:lnTo>
                          <a:lnTo>
                            <a:pt x="90" y="0"/>
                          </a:lnTo>
                          <a:lnTo>
                            <a:pt x="108" y="1"/>
                          </a:lnTo>
                          <a:lnTo>
                            <a:pt x="126" y="2"/>
                          </a:lnTo>
                          <a:lnTo>
                            <a:pt x="142" y="7"/>
                          </a:lnTo>
                          <a:lnTo>
                            <a:pt x="148" y="11"/>
                          </a:lnTo>
                          <a:lnTo>
                            <a:pt x="148" y="20"/>
                          </a:lnTo>
                          <a:lnTo>
                            <a:pt x="145" y="26"/>
                          </a:lnTo>
                          <a:lnTo>
                            <a:pt x="142" y="32"/>
                          </a:lnTo>
                          <a:lnTo>
                            <a:pt x="138" y="38"/>
                          </a:lnTo>
                          <a:lnTo>
                            <a:pt x="136" y="44"/>
                          </a:lnTo>
                          <a:lnTo>
                            <a:pt x="132" y="49"/>
                          </a:lnTo>
                          <a:lnTo>
                            <a:pt x="129" y="55"/>
                          </a:lnTo>
                          <a:lnTo>
                            <a:pt x="123" y="60"/>
                          </a:lnTo>
                          <a:lnTo>
                            <a:pt x="119" y="66"/>
                          </a:lnTo>
                          <a:lnTo>
                            <a:pt x="111" y="67"/>
                          </a:lnTo>
                          <a:lnTo>
                            <a:pt x="104" y="62"/>
                          </a:lnTo>
                          <a:lnTo>
                            <a:pt x="101" y="55"/>
                          </a:lnTo>
                          <a:lnTo>
                            <a:pt x="106" y="47"/>
                          </a:lnTo>
                          <a:lnTo>
                            <a:pt x="113" y="40"/>
                          </a:lnTo>
                          <a:lnTo>
                            <a:pt x="119" y="31"/>
                          </a:lnTo>
                          <a:lnTo>
                            <a:pt x="125" y="22"/>
                          </a:lnTo>
                          <a:lnTo>
                            <a:pt x="130" y="12"/>
                          </a:lnTo>
                          <a:lnTo>
                            <a:pt x="132" y="11"/>
                          </a:lnTo>
                          <a:lnTo>
                            <a:pt x="136" y="17"/>
                          </a:lnTo>
                          <a:lnTo>
                            <a:pt x="137" y="23"/>
                          </a:lnTo>
                          <a:lnTo>
                            <a:pt x="136" y="26"/>
                          </a:lnTo>
                          <a:lnTo>
                            <a:pt x="120" y="22"/>
                          </a:lnTo>
                          <a:lnTo>
                            <a:pt x="105" y="19"/>
                          </a:lnTo>
                          <a:lnTo>
                            <a:pt x="88" y="18"/>
                          </a:lnTo>
                          <a:lnTo>
                            <a:pt x="71" y="19"/>
                          </a:lnTo>
                          <a:lnTo>
                            <a:pt x="52" y="19"/>
                          </a:lnTo>
                          <a:lnTo>
                            <a:pt x="36" y="22"/>
                          </a:lnTo>
                          <a:lnTo>
                            <a:pt x="20" y="24"/>
                          </a:lnTo>
                          <a:lnTo>
                            <a:pt x="8" y="27"/>
                          </a:lnTo>
                          <a:lnTo>
                            <a:pt x="2" y="26"/>
                          </a:lnTo>
                          <a:lnTo>
                            <a:pt x="0" y="23"/>
                          </a:lnTo>
                          <a:lnTo>
                            <a:pt x="0" y="17"/>
                          </a:lnTo>
                          <a:lnTo>
                            <a:pt x="5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 flipH="1">
                      <a:off x="1164960" y="5330880"/>
                      <a:ext cx="11304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67">
                          <a:moveTo>
                            <a:pt x="64" y="16"/>
                          </a:moveTo>
                          <a:lnTo>
                            <a:pt x="16" y="34"/>
                          </a:lnTo>
                          <a:lnTo>
                            <a:pt x="15" y="32"/>
                          </a:lnTo>
                          <a:lnTo>
                            <a:pt x="18" y="30"/>
                          </a:lnTo>
                          <a:lnTo>
                            <a:pt x="20" y="27"/>
                          </a:lnTo>
                          <a:lnTo>
                            <a:pt x="23" y="28"/>
                          </a:lnTo>
                          <a:lnTo>
                            <a:pt x="19" y="46"/>
                          </a:lnTo>
                          <a:lnTo>
                            <a:pt x="16" y="45"/>
                          </a:lnTo>
                          <a:lnTo>
                            <a:pt x="14" y="41"/>
                          </a:lnTo>
                          <a:lnTo>
                            <a:pt x="12" y="37"/>
                          </a:lnTo>
                          <a:lnTo>
                            <a:pt x="14" y="36"/>
                          </a:lnTo>
                          <a:lnTo>
                            <a:pt x="38" y="47"/>
                          </a:lnTo>
                          <a:lnTo>
                            <a:pt x="55" y="46"/>
                          </a:lnTo>
                          <a:lnTo>
                            <a:pt x="70" y="45"/>
                          </a:lnTo>
                          <a:lnTo>
                            <a:pt x="83" y="43"/>
                          </a:lnTo>
                          <a:lnTo>
                            <a:pt x="93" y="41"/>
                          </a:lnTo>
                          <a:lnTo>
                            <a:pt x="103" y="38"/>
                          </a:lnTo>
                          <a:lnTo>
                            <a:pt x="113" y="34"/>
                          </a:lnTo>
                          <a:lnTo>
                            <a:pt x="123" y="29"/>
                          </a:lnTo>
                          <a:lnTo>
                            <a:pt x="134" y="25"/>
                          </a:lnTo>
                          <a:lnTo>
                            <a:pt x="139" y="24"/>
                          </a:lnTo>
                          <a:lnTo>
                            <a:pt x="142" y="27"/>
                          </a:lnTo>
                          <a:lnTo>
                            <a:pt x="142" y="31"/>
                          </a:lnTo>
                          <a:lnTo>
                            <a:pt x="140" y="37"/>
                          </a:lnTo>
                          <a:lnTo>
                            <a:pt x="127" y="42"/>
                          </a:lnTo>
                          <a:lnTo>
                            <a:pt x="116" y="47"/>
                          </a:lnTo>
                          <a:lnTo>
                            <a:pt x="105" y="52"/>
                          </a:lnTo>
                          <a:lnTo>
                            <a:pt x="95" y="57"/>
                          </a:lnTo>
                          <a:lnTo>
                            <a:pt x="82" y="60"/>
                          </a:lnTo>
                          <a:lnTo>
                            <a:pt x="69" y="63"/>
                          </a:lnTo>
                          <a:lnTo>
                            <a:pt x="52" y="66"/>
                          </a:lnTo>
                          <a:lnTo>
                            <a:pt x="33" y="67"/>
                          </a:lnTo>
                          <a:lnTo>
                            <a:pt x="5" y="53"/>
                          </a:lnTo>
                          <a:lnTo>
                            <a:pt x="0" y="47"/>
                          </a:lnTo>
                          <a:lnTo>
                            <a:pt x="0" y="42"/>
                          </a:lnTo>
                          <a:lnTo>
                            <a:pt x="4" y="24"/>
                          </a:lnTo>
                          <a:lnTo>
                            <a:pt x="6" y="19"/>
                          </a:lnTo>
                          <a:lnTo>
                            <a:pt x="10" y="17"/>
                          </a:lnTo>
                          <a:lnTo>
                            <a:pt x="59" y="1"/>
                          </a:lnTo>
                          <a:lnTo>
                            <a:pt x="66" y="0"/>
                          </a:lnTo>
                          <a:lnTo>
                            <a:pt x="70" y="5"/>
                          </a:lnTo>
                          <a:lnTo>
                            <a:pt x="69" y="11"/>
                          </a:lnTo>
                          <a:lnTo>
                            <a:pt x="64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 flipH="1">
                      <a:off x="1317240" y="5342040"/>
                      <a:ext cx="759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79">
                          <a:moveTo>
                            <a:pt x="91" y="14"/>
                          </a:moveTo>
                          <a:lnTo>
                            <a:pt x="74" y="17"/>
                          </a:lnTo>
                          <a:lnTo>
                            <a:pt x="61" y="22"/>
                          </a:lnTo>
                          <a:lnTo>
                            <a:pt x="49" y="25"/>
                          </a:lnTo>
                          <a:lnTo>
                            <a:pt x="41" y="30"/>
                          </a:lnTo>
                          <a:lnTo>
                            <a:pt x="33" y="36"/>
                          </a:lnTo>
                          <a:lnTo>
                            <a:pt x="28" y="44"/>
                          </a:lnTo>
                          <a:lnTo>
                            <a:pt x="23" y="55"/>
                          </a:lnTo>
                          <a:lnTo>
                            <a:pt x="20" y="71"/>
                          </a:lnTo>
                          <a:lnTo>
                            <a:pt x="16" y="71"/>
                          </a:lnTo>
                          <a:lnTo>
                            <a:pt x="12" y="67"/>
                          </a:lnTo>
                          <a:lnTo>
                            <a:pt x="7" y="60"/>
                          </a:lnTo>
                          <a:lnTo>
                            <a:pt x="10" y="58"/>
                          </a:lnTo>
                          <a:lnTo>
                            <a:pt x="20" y="58"/>
                          </a:lnTo>
                          <a:lnTo>
                            <a:pt x="31" y="59"/>
                          </a:lnTo>
                          <a:lnTo>
                            <a:pt x="39" y="60"/>
                          </a:lnTo>
                          <a:lnTo>
                            <a:pt x="49" y="61"/>
                          </a:lnTo>
                          <a:lnTo>
                            <a:pt x="58" y="60"/>
                          </a:lnTo>
                          <a:lnTo>
                            <a:pt x="66" y="60"/>
                          </a:lnTo>
                          <a:lnTo>
                            <a:pt x="76" y="59"/>
                          </a:lnTo>
                          <a:lnTo>
                            <a:pt x="88" y="58"/>
                          </a:lnTo>
                          <a:lnTo>
                            <a:pt x="92" y="58"/>
                          </a:lnTo>
                          <a:lnTo>
                            <a:pt x="95" y="62"/>
                          </a:lnTo>
                          <a:lnTo>
                            <a:pt x="94" y="67"/>
                          </a:lnTo>
                          <a:lnTo>
                            <a:pt x="91" y="70"/>
                          </a:lnTo>
                          <a:lnTo>
                            <a:pt x="78" y="72"/>
                          </a:lnTo>
                          <a:lnTo>
                            <a:pt x="69" y="74"/>
                          </a:lnTo>
                          <a:lnTo>
                            <a:pt x="59" y="75"/>
                          </a:lnTo>
                          <a:lnTo>
                            <a:pt x="49" y="78"/>
                          </a:lnTo>
                          <a:lnTo>
                            <a:pt x="39" y="78"/>
                          </a:lnTo>
                          <a:lnTo>
                            <a:pt x="30" y="79"/>
                          </a:lnTo>
                          <a:lnTo>
                            <a:pt x="19" y="79"/>
                          </a:lnTo>
                          <a:lnTo>
                            <a:pt x="8" y="79"/>
                          </a:lnTo>
                          <a:lnTo>
                            <a:pt x="0" y="74"/>
                          </a:lnTo>
                          <a:lnTo>
                            <a:pt x="0" y="66"/>
                          </a:lnTo>
                          <a:lnTo>
                            <a:pt x="3" y="48"/>
                          </a:lnTo>
                          <a:lnTo>
                            <a:pt x="9" y="36"/>
                          </a:lnTo>
                          <a:lnTo>
                            <a:pt x="16" y="25"/>
                          </a:lnTo>
                          <a:lnTo>
                            <a:pt x="25" y="18"/>
                          </a:lnTo>
                          <a:lnTo>
                            <a:pt x="36" y="13"/>
                          </a:lnTo>
                          <a:lnTo>
                            <a:pt x="50" y="9"/>
                          </a:lnTo>
                          <a:lnTo>
                            <a:pt x="67" y="4"/>
                          </a:lnTo>
                          <a:lnTo>
                            <a:pt x="88" y="0"/>
                          </a:lnTo>
                          <a:lnTo>
                            <a:pt x="93" y="0"/>
                          </a:lnTo>
                          <a:lnTo>
                            <a:pt x="95" y="4"/>
                          </a:lnTo>
                          <a:lnTo>
                            <a:pt x="94" y="10"/>
                          </a:lnTo>
                          <a:lnTo>
                            <a:pt x="9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flipH="1">
                      <a:off x="1404720" y="5330880"/>
                      <a:ext cx="763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76">
                          <a:moveTo>
                            <a:pt x="70" y="15"/>
                          </a:moveTo>
                          <a:lnTo>
                            <a:pt x="55" y="20"/>
                          </a:lnTo>
                          <a:lnTo>
                            <a:pt x="43" y="25"/>
                          </a:lnTo>
                          <a:lnTo>
                            <a:pt x="33" y="30"/>
                          </a:lnTo>
                          <a:lnTo>
                            <a:pt x="27" y="36"/>
                          </a:lnTo>
                          <a:lnTo>
                            <a:pt x="24" y="40"/>
                          </a:lnTo>
                          <a:lnTo>
                            <a:pt x="26" y="45"/>
                          </a:lnTo>
                          <a:lnTo>
                            <a:pt x="32" y="50"/>
                          </a:lnTo>
                          <a:lnTo>
                            <a:pt x="45" y="54"/>
                          </a:lnTo>
                          <a:lnTo>
                            <a:pt x="88" y="54"/>
                          </a:lnTo>
                          <a:lnTo>
                            <a:pt x="92" y="55"/>
                          </a:lnTo>
                          <a:lnTo>
                            <a:pt x="95" y="59"/>
                          </a:lnTo>
                          <a:lnTo>
                            <a:pt x="94" y="64"/>
                          </a:lnTo>
                          <a:lnTo>
                            <a:pt x="89" y="67"/>
                          </a:lnTo>
                          <a:lnTo>
                            <a:pt x="44" y="76"/>
                          </a:lnTo>
                          <a:lnTo>
                            <a:pt x="20" y="69"/>
                          </a:lnTo>
                          <a:lnTo>
                            <a:pt x="6" y="60"/>
                          </a:lnTo>
                          <a:lnTo>
                            <a:pt x="0" y="51"/>
                          </a:lnTo>
                          <a:lnTo>
                            <a:pt x="0" y="41"/>
                          </a:lnTo>
                          <a:lnTo>
                            <a:pt x="6" y="30"/>
                          </a:lnTo>
                          <a:lnTo>
                            <a:pt x="20" y="21"/>
                          </a:lnTo>
                          <a:lnTo>
                            <a:pt x="39" y="10"/>
                          </a:lnTo>
                          <a:lnTo>
                            <a:pt x="65" y="0"/>
                          </a:lnTo>
                          <a:lnTo>
                            <a:pt x="70" y="0"/>
                          </a:lnTo>
                          <a:lnTo>
                            <a:pt x="74" y="4"/>
                          </a:lnTo>
                          <a:lnTo>
                            <a:pt x="73" y="10"/>
                          </a:lnTo>
                          <a:lnTo>
                            <a:pt x="7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 flipH="1">
                      <a:off x="1460160" y="5364360"/>
                      <a:ext cx="10620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83">
                          <a:moveTo>
                            <a:pt x="64" y="18"/>
                          </a:moveTo>
                          <a:lnTo>
                            <a:pt x="50" y="23"/>
                          </a:lnTo>
                          <a:lnTo>
                            <a:pt x="41" y="28"/>
                          </a:lnTo>
                          <a:lnTo>
                            <a:pt x="37" y="32"/>
                          </a:lnTo>
                          <a:lnTo>
                            <a:pt x="37" y="38"/>
                          </a:lnTo>
                          <a:lnTo>
                            <a:pt x="39" y="42"/>
                          </a:lnTo>
                          <a:lnTo>
                            <a:pt x="46" y="47"/>
                          </a:lnTo>
                          <a:lnTo>
                            <a:pt x="54" y="53"/>
                          </a:lnTo>
                          <a:lnTo>
                            <a:pt x="66" y="59"/>
                          </a:lnTo>
                          <a:lnTo>
                            <a:pt x="65" y="59"/>
                          </a:lnTo>
                          <a:lnTo>
                            <a:pt x="61" y="59"/>
                          </a:lnTo>
                          <a:lnTo>
                            <a:pt x="57" y="59"/>
                          </a:lnTo>
                          <a:lnTo>
                            <a:pt x="65" y="56"/>
                          </a:lnTo>
                          <a:lnTo>
                            <a:pt x="73" y="53"/>
                          </a:lnTo>
                          <a:lnTo>
                            <a:pt x="82" y="51"/>
                          </a:lnTo>
                          <a:lnTo>
                            <a:pt x="91" y="50"/>
                          </a:lnTo>
                          <a:lnTo>
                            <a:pt x="97" y="46"/>
                          </a:lnTo>
                          <a:lnTo>
                            <a:pt x="106" y="45"/>
                          </a:lnTo>
                          <a:lnTo>
                            <a:pt x="114" y="42"/>
                          </a:lnTo>
                          <a:lnTo>
                            <a:pt x="124" y="41"/>
                          </a:lnTo>
                          <a:lnTo>
                            <a:pt x="130" y="41"/>
                          </a:lnTo>
                          <a:lnTo>
                            <a:pt x="135" y="46"/>
                          </a:lnTo>
                          <a:lnTo>
                            <a:pt x="135" y="52"/>
                          </a:lnTo>
                          <a:lnTo>
                            <a:pt x="129" y="57"/>
                          </a:lnTo>
                          <a:lnTo>
                            <a:pt x="120" y="60"/>
                          </a:lnTo>
                          <a:lnTo>
                            <a:pt x="111" y="63"/>
                          </a:lnTo>
                          <a:lnTo>
                            <a:pt x="104" y="67"/>
                          </a:lnTo>
                          <a:lnTo>
                            <a:pt x="97" y="70"/>
                          </a:lnTo>
                          <a:lnTo>
                            <a:pt x="90" y="73"/>
                          </a:lnTo>
                          <a:lnTo>
                            <a:pt x="82" y="76"/>
                          </a:lnTo>
                          <a:lnTo>
                            <a:pt x="73" y="80"/>
                          </a:lnTo>
                          <a:lnTo>
                            <a:pt x="65" y="83"/>
                          </a:lnTo>
                          <a:lnTo>
                            <a:pt x="60" y="83"/>
                          </a:lnTo>
                          <a:lnTo>
                            <a:pt x="55" y="83"/>
                          </a:lnTo>
                          <a:lnTo>
                            <a:pt x="32" y="70"/>
                          </a:lnTo>
                          <a:lnTo>
                            <a:pt x="15" y="59"/>
                          </a:lnTo>
                          <a:lnTo>
                            <a:pt x="5" y="48"/>
                          </a:lnTo>
                          <a:lnTo>
                            <a:pt x="0" y="39"/>
                          </a:lnTo>
                          <a:lnTo>
                            <a:pt x="3" y="29"/>
                          </a:lnTo>
                          <a:lnTo>
                            <a:pt x="13" y="19"/>
                          </a:lnTo>
                          <a:lnTo>
                            <a:pt x="30" y="10"/>
                          </a:lnTo>
                          <a:lnTo>
                            <a:pt x="58" y="0"/>
                          </a:lnTo>
                          <a:lnTo>
                            <a:pt x="65" y="0"/>
                          </a:lnTo>
                          <a:lnTo>
                            <a:pt x="69" y="7"/>
                          </a:lnTo>
                          <a:lnTo>
                            <a:pt x="69" y="13"/>
                          </a:lnTo>
                          <a:lnTo>
                            <a:pt x="64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flipH="1">
                      <a:off x="1425240" y="5403960"/>
                      <a:ext cx="74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76">
                          <a:moveTo>
                            <a:pt x="65" y="15"/>
                          </a:moveTo>
                          <a:lnTo>
                            <a:pt x="53" y="18"/>
                          </a:lnTo>
                          <a:lnTo>
                            <a:pt x="46" y="21"/>
                          </a:lnTo>
                          <a:lnTo>
                            <a:pt x="41" y="24"/>
                          </a:lnTo>
                          <a:lnTo>
                            <a:pt x="38" y="28"/>
                          </a:lnTo>
                          <a:lnTo>
                            <a:pt x="35" y="31"/>
                          </a:lnTo>
                          <a:lnTo>
                            <a:pt x="32" y="35"/>
                          </a:lnTo>
                          <a:lnTo>
                            <a:pt x="28" y="40"/>
                          </a:lnTo>
                          <a:lnTo>
                            <a:pt x="24" y="50"/>
                          </a:lnTo>
                          <a:lnTo>
                            <a:pt x="20" y="48"/>
                          </a:lnTo>
                          <a:lnTo>
                            <a:pt x="18" y="41"/>
                          </a:lnTo>
                          <a:lnTo>
                            <a:pt x="18" y="33"/>
                          </a:lnTo>
                          <a:lnTo>
                            <a:pt x="22" y="33"/>
                          </a:lnTo>
                          <a:lnTo>
                            <a:pt x="43" y="52"/>
                          </a:lnTo>
                          <a:lnTo>
                            <a:pt x="50" y="51"/>
                          </a:lnTo>
                          <a:lnTo>
                            <a:pt x="55" y="51"/>
                          </a:lnTo>
                          <a:lnTo>
                            <a:pt x="59" y="51"/>
                          </a:lnTo>
                          <a:lnTo>
                            <a:pt x="65" y="51"/>
                          </a:lnTo>
                          <a:lnTo>
                            <a:pt x="72" y="50"/>
                          </a:lnTo>
                          <a:lnTo>
                            <a:pt x="82" y="49"/>
                          </a:lnTo>
                          <a:lnTo>
                            <a:pt x="91" y="50"/>
                          </a:lnTo>
                          <a:lnTo>
                            <a:pt x="95" y="58"/>
                          </a:lnTo>
                          <a:lnTo>
                            <a:pt x="93" y="66"/>
                          </a:lnTo>
                          <a:lnTo>
                            <a:pt x="85" y="72"/>
                          </a:lnTo>
                          <a:lnTo>
                            <a:pt x="79" y="72"/>
                          </a:lnTo>
                          <a:lnTo>
                            <a:pt x="73" y="73"/>
                          </a:lnTo>
                          <a:lnTo>
                            <a:pt x="67" y="73"/>
                          </a:lnTo>
                          <a:lnTo>
                            <a:pt x="63" y="74"/>
                          </a:lnTo>
                          <a:lnTo>
                            <a:pt x="56" y="74"/>
                          </a:lnTo>
                          <a:lnTo>
                            <a:pt x="50" y="75"/>
                          </a:lnTo>
                          <a:lnTo>
                            <a:pt x="42" y="75"/>
                          </a:lnTo>
                          <a:lnTo>
                            <a:pt x="36" y="76"/>
                          </a:lnTo>
                          <a:lnTo>
                            <a:pt x="6" y="52"/>
                          </a:lnTo>
                          <a:lnTo>
                            <a:pt x="0" y="43"/>
                          </a:lnTo>
                          <a:lnTo>
                            <a:pt x="3" y="34"/>
                          </a:lnTo>
                          <a:lnTo>
                            <a:pt x="10" y="24"/>
                          </a:lnTo>
                          <a:lnTo>
                            <a:pt x="15" y="18"/>
                          </a:lnTo>
                          <a:lnTo>
                            <a:pt x="20" y="14"/>
                          </a:lnTo>
                          <a:lnTo>
                            <a:pt x="24" y="11"/>
                          </a:lnTo>
                          <a:lnTo>
                            <a:pt x="28" y="9"/>
                          </a:lnTo>
                          <a:lnTo>
                            <a:pt x="36" y="7"/>
                          </a:lnTo>
                          <a:lnTo>
                            <a:pt x="45" y="4"/>
                          </a:lnTo>
                          <a:lnTo>
                            <a:pt x="58" y="1"/>
                          </a:lnTo>
                          <a:lnTo>
                            <a:pt x="64" y="0"/>
                          </a:lnTo>
                          <a:lnTo>
                            <a:pt x="68" y="4"/>
                          </a:lnTo>
                          <a:lnTo>
                            <a:pt x="68" y="9"/>
                          </a:lnTo>
                          <a:lnTo>
                            <a:pt x="65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flipH="1">
                      <a:off x="1349280" y="5388120"/>
                      <a:ext cx="936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87">
                          <a:moveTo>
                            <a:pt x="57" y="29"/>
                          </a:moveTo>
                          <a:lnTo>
                            <a:pt x="47" y="30"/>
                          </a:lnTo>
                          <a:lnTo>
                            <a:pt x="39" y="32"/>
                          </a:lnTo>
                          <a:lnTo>
                            <a:pt x="33" y="33"/>
                          </a:lnTo>
                          <a:lnTo>
                            <a:pt x="30" y="37"/>
                          </a:lnTo>
                          <a:lnTo>
                            <a:pt x="28" y="40"/>
                          </a:lnTo>
                          <a:lnTo>
                            <a:pt x="29" y="44"/>
                          </a:lnTo>
                          <a:lnTo>
                            <a:pt x="31" y="50"/>
                          </a:lnTo>
                          <a:lnTo>
                            <a:pt x="37" y="58"/>
                          </a:lnTo>
                          <a:lnTo>
                            <a:pt x="45" y="60"/>
                          </a:lnTo>
                          <a:lnTo>
                            <a:pt x="52" y="62"/>
                          </a:lnTo>
                          <a:lnTo>
                            <a:pt x="55" y="63"/>
                          </a:lnTo>
                          <a:lnTo>
                            <a:pt x="59" y="65"/>
                          </a:lnTo>
                          <a:lnTo>
                            <a:pt x="63" y="62"/>
                          </a:lnTo>
                          <a:lnTo>
                            <a:pt x="67" y="61"/>
                          </a:lnTo>
                          <a:lnTo>
                            <a:pt x="75" y="58"/>
                          </a:lnTo>
                          <a:lnTo>
                            <a:pt x="87" y="55"/>
                          </a:lnTo>
                          <a:lnTo>
                            <a:pt x="91" y="48"/>
                          </a:lnTo>
                          <a:lnTo>
                            <a:pt x="95" y="42"/>
                          </a:lnTo>
                          <a:lnTo>
                            <a:pt x="98" y="37"/>
                          </a:lnTo>
                          <a:lnTo>
                            <a:pt x="102" y="32"/>
                          </a:lnTo>
                          <a:lnTo>
                            <a:pt x="106" y="22"/>
                          </a:lnTo>
                          <a:lnTo>
                            <a:pt x="104" y="11"/>
                          </a:lnTo>
                          <a:lnTo>
                            <a:pt x="101" y="5"/>
                          </a:lnTo>
                          <a:lnTo>
                            <a:pt x="104" y="2"/>
                          </a:lnTo>
                          <a:lnTo>
                            <a:pt x="108" y="0"/>
                          </a:lnTo>
                          <a:lnTo>
                            <a:pt x="113" y="3"/>
                          </a:lnTo>
                          <a:lnTo>
                            <a:pt x="116" y="10"/>
                          </a:lnTo>
                          <a:lnTo>
                            <a:pt x="119" y="19"/>
                          </a:lnTo>
                          <a:lnTo>
                            <a:pt x="119" y="28"/>
                          </a:lnTo>
                          <a:lnTo>
                            <a:pt x="119" y="38"/>
                          </a:lnTo>
                          <a:lnTo>
                            <a:pt x="114" y="46"/>
                          </a:lnTo>
                          <a:lnTo>
                            <a:pt x="111" y="56"/>
                          </a:lnTo>
                          <a:lnTo>
                            <a:pt x="107" y="65"/>
                          </a:lnTo>
                          <a:lnTo>
                            <a:pt x="102" y="74"/>
                          </a:lnTo>
                          <a:lnTo>
                            <a:pt x="86" y="80"/>
                          </a:lnTo>
                          <a:lnTo>
                            <a:pt x="76" y="84"/>
                          </a:lnTo>
                          <a:lnTo>
                            <a:pt x="68" y="86"/>
                          </a:lnTo>
                          <a:lnTo>
                            <a:pt x="62" y="87"/>
                          </a:lnTo>
                          <a:lnTo>
                            <a:pt x="54" y="86"/>
                          </a:lnTo>
                          <a:lnTo>
                            <a:pt x="47" y="85"/>
                          </a:lnTo>
                          <a:lnTo>
                            <a:pt x="36" y="82"/>
                          </a:lnTo>
                          <a:lnTo>
                            <a:pt x="22" y="79"/>
                          </a:lnTo>
                          <a:lnTo>
                            <a:pt x="10" y="59"/>
                          </a:lnTo>
                          <a:lnTo>
                            <a:pt x="4" y="45"/>
                          </a:lnTo>
                          <a:lnTo>
                            <a:pt x="0" y="36"/>
                          </a:lnTo>
                          <a:lnTo>
                            <a:pt x="2" y="29"/>
                          </a:lnTo>
                          <a:lnTo>
                            <a:pt x="7" y="23"/>
                          </a:lnTo>
                          <a:lnTo>
                            <a:pt x="18" y="19"/>
                          </a:lnTo>
                          <a:lnTo>
                            <a:pt x="31" y="15"/>
                          </a:lnTo>
                          <a:lnTo>
                            <a:pt x="52" y="11"/>
                          </a:lnTo>
                          <a:lnTo>
                            <a:pt x="59" y="11"/>
                          </a:lnTo>
                          <a:lnTo>
                            <a:pt x="64" y="17"/>
                          </a:lnTo>
                          <a:lnTo>
                            <a:pt x="63" y="24"/>
                          </a:lnTo>
                          <a:lnTo>
                            <a:pt x="57" y="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 flipH="1">
                      <a:off x="1274400" y="5396040"/>
                      <a:ext cx="889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74">
                          <a:moveTo>
                            <a:pt x="87" y="17"/>
                          </a:moveTo>
                          <a:lnTo>
                            <a:pt x="74" y="21"/>
                          </a:lnTo>
                          <a:lnTo>
                            <a:pt x="65" y="26"/>
                          </a:lnTo>
                          <a:lnTo>
                            <a:pt x="55" y="30"/>
                          </a:lnTo>
                          <a:lnTo>
                            <a:pt x="49" y="34"/>
                          </a:lnTo>
                          <a:lnTo>
                            <a:pt x="41" y="39"/>
                          </a:lnTo>
                          <a:lnTo>
                            <a:pt x="35" y="45"/>
                          </a:lnTo>
                          <a:lnTo>
                            <a:pt x="28" y="51"/>
                          </a:lnTo>
                          <a:lnTo>
                            <a:pt x="22" y="60"/>
                          </a:lnTo>
                          <a:lnTo>
                            <a:pt x="16" y="59"/>
                          </a:lnTo>
                          <a:lnTo>
                            <a:pt x="13" y="52"/>
                          </a:lnTo>
                          <a:lnTo>
                            <a:pt x="12" y="44"/>
                          </a:lnTo>
                          <a:lnTo>
                            <a:pt x="17" y="43"/>
                          </a:lnTo>
                          <a:lnTo>
                            <a:pt x="27" y="45"/>
                          </a:lnTo>
                          <a:lnTo>
                            <a:pt x="37" y="48"/>
                          </a:lnTo>
                          <a:lnTo>
                            <a:pt x="46" y="49"/>
                          </a:lnTo>
                          <a:lnTo>
                            <a:pt x="57" y="51"/>
                          </a:lnTo>
                          <a:lnTo>
                            <a:pt x="67" y="50"/>
                          </a:lnTo>
                          <a:lnTo>
                            <a:pt x="77" y="49"/>
                          </a:lnTo>
                          <a:lnTo>
                            <a:pt x="86" y="46"/>
                          </a:lnTo>
                          <a:lnTo>
                            <a:pt x="96" y="43"/>
                          </a:lnTo>
                          <a:lnTo>
                            <a:pt x="105" y="41"/>
                          </a:lnTo>
                          <a:lnTo>
                            <a:pt x="111" y="47"/>
                          </a:lnTo>
                          <a:lnTo>
                            <a:pt x="112" y="55"/>
                          </a:lnTo>
                          <a:lnTo>
                            <a:pt x="107" y="63"/>
                          </a:lnTo>
                          <a:lnTo>
                            <a:pt x="94" y="68"/>
                          </a:lnTo>
                          <a:lnTo>
                            <a:pt x="82" y="72"/>
                          </a:lnTo>
                          <a:lnTo>
                            <a:pt x="70" y="73"/>
                          </a:lnTo>
                          <a:lnTo>
                            <a:pt x="58" y="74"/>
                          </a:lnTo>
                          <a:lnTo>
                            <a:pt x="45" y="73"/>
                          </a:lnTo>
                          <a:lnTo>
                            <a:pt x="34" y="71"/>
                          </a:lnTo>
                          <a:lnTo>
                            <a:pt x="21" y="66"/>
                          </a:lnTo>
                          <a:lnTo>
                            <a:pt x="9" y="63"/>
                          </a:lnTo>
                          <a:lnTo>
                            <a:pt x="2" y="59"/>
                          </a:lnTo>
                          <a:lnTo>
                            <a:pt x="0" y="56"/>
                          </a:lnTo>
                          <a:lnTo>
                            <a:pt x="0" y="50"/>
                          </a:lnTo>
                          <a:lnTo>
                            <a:pt x="5" y="46"/>
                          </a:lnTo>
                          <a:lnTo>
                            <a:pt x="12" y="35"/>
                          </a:lnTo>
                          <a:lnTo>
                            <a:pt x="20" y="29"/>
                          </a:lnTo>
                          <a:lnTo>
                            <a:pt x="26" y="22"/>
                          </a:lnTo>
                          <a:lnTo>
                            <a:pt x="36" y="19"/>
                          </a:lnTo>
                          <a:lnTo>
                            <a:pt x="43" y="14"/>
                          </a:lnTo>
                          <a:lnTo>
                            <a:pt x="54" y="10"/>
                          </a:lnTo>
                          <a:lnTo>
                            <a:pt x="66" y="5"/>
                          </a:lnTo>
                          <a:lnTo>
                            <a:pt x="81" y="1"/>
                          </a:lnTo>
                          <a:lnTo>
                            <a:pt x="87" y="0"/>
                          </a:lnTo>
                          <a:lnTo>
                            <a:pt x="92" y="5"/>
                          </a:lnTo>
                          <a:lnTo>
                            <a:pt x="92" y="12"/>
                          </a:lnTo>
                          <a:lnTo>
                            <a:pt x="87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flipH="1">
                      <a:off x="1485720" y="5330880"/>
                      <a:ext cx="604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70">
                          <a:moveTo>
                            <a:pt x="43" y="14"/>
                          </a:moveTo>
                          <a:lnTo>
                            <a:pt x="34" y="18"/>
                          </a:lnTo>
                          <a:lnTo>
                            <a:pt x="27" y="23"/>
                          </a:lnTo>
                          <a:lnTo>
                            <a:pt x="23" y="27"/>
                          </a:lnTo>
                          <a:lnTo>
                            <a:pt x="21" y="31"/>
                          </a:lnTo>
                          <a:lnTo>
                            <a:pt x="20" y="35"/>
                          </a:lnTo>
                          <a:lnTo>
                            <a:pt x="23" y="40"/>
                          </a:lnTo>
                          <a:lnTo>
                            <a:pt x="26" y="44"/>
                          </a:lnTo>
                          <a:lnTo>
                            <a:pt x="34" y="50"/>
                          </a:lnTo>
                          <a:lnTo>
                            <a:pt x="65" y="47"/>
                          </a:lnTo>
                          <a:lnTo>
                            <a:pt x="71" y="49"/>
                          </a:lnTo>
                          <a:lnTo>
                            <a:pt x="75" y="55"/>
                          </a:lnTo>
                          <a:lnTo>
                            <a:pt x="73" y="61"/>
                          </a:lnTo>
                          <a:lnTo>
                            <a:pt x="67" y="66"/>
                          </a:lnTo>
                          <a:lnTo>
                            <a:pt x="27" y="70"/>
                          </a:lnTo>
                          <a:lnTo>
                            <a:pt x="15" y="60"/>
                          </a:lnTo>
                          <a:lnTo>
                            <a:pt x="7" y="52"/>
                          </a:lnTo>
                          <a:lnTo>
                            <a:pt x="1" y="42"/>
                          </a:lnTo>
                          <a:lnTo>
                            <a:pt x="0" y="35"/>
                          </a:lnTo>
                          <a:lnTo>
                            <a:pt x="1" y="26"/>
                          </a:lnTo>
                          <a:lnTo>
                            <a:pt x="9" y="17"/>
                          </a:lnTo>
                          <a:lnTo>
                            <a:pt x="20" y="9"/>
                          </a:lnTo>
                          <a:lnTo>
                            <a:pt x="37" y="1"/>
                          </a:lnTo>
                          <a:lnTo>
                            <a:pt x="42" y="0"/>
                          </a:lnTo>
                          <a:lnTo>
                            <a:pt x="46" y="4"/>
                          </a:lnTo>
                          <a:lnTo>
                            <a:pt x="46" y="9"/>
                          </a:lnTo>
                          <a:lnTo>
                            <a:pt x="43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flipH="1">
                      <a:off x="1355400" y="5469120"/>
                      <a:ext cx="1062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57">
                          <a:moveTo>
                            <a:pt x="46" y="20"/>
                          </a:moveTo>
                          <a:lnTo>
                            <a:pt x="36" y="22"/>
                          </a:lnTo>
                          <a:lnTo>
                            <a:pt x="32" y="25"/>
                          </a:lnTo>
                          <a:lnTo>
                            <a:pt x="31" y="27"/>
                          </a:lnTo>
                          <a:lnTo>
                            <a:pt x="37" y="34"/>
                          </a:lnTo>
                          <a:lnTo>
                            <a:pt x="50" y="31"/>
                          </a:lnTo>
                          <a:lnTo>
                            <a:pt x="62" y="29"/>
                          </a:lnTo>
                          <a:lnTo>
                            <a:pt x="72" y="27"/>
                          </a:lnTo>
                          <a:lnTo>
                            <a:pt x="81" y="26"/>
                          </a:lnTo>
                          <a:lnTo>
                            <a:pt x="89" y="23"/>
                          </a:lnTo>
                          <a:lnTo>
                            <a:pt x="98" y="21"/>
                          </a:lnTo>
                          <a:lnTo>
                            <a:pt x="106" y="17"/>
                          </a:lnTo>
                          <a:lnTo>
                            <a:pt x="117" y="15"/>
                          </a:lnTo>
                          <a:lnTo>
                            <a:pt x="127" y="15"/>
                          </a:lnTo>
                          <a:lnTo>
                            <a:pt x="133" y="22"/>
                          </a:lnTo>
                          <a:lnTo>
                            <a:pt x="133" y="31"/>
                          </a:lnTo>
                          <a:lnTo>
                            <a:pt x="127" y="39"/>
                          </a:lnTo>
                          <a:lnTo>
                            <a:pt x="114" y="42"/>
                          </a:lnTo>
                          <a:lnTo>
                            <a:pt x="104" y="45"/>
                          </a:lnTo>
                          <a:lnTo>
                            <a:pt x="93" y="48"/>
                          </a:lnTo>
                          <a:lnTo>
                            <a:pt x="82" y="51"/>
                          </a:lnTo>
                          <a:lnTo>
                            <a:pt x="70" y="52"/>
                          </a:lnTo>
                          <a:lnTo>
                            <a:pt x="58" y="54"/>
                          </a:lnTo>
                          <a:lnTo>
                            <a:pt x="44" y="55"/>
                          </a:lnTo>
                          <a:lnTo>
                            <a:pt x="30" y="57"/>
                          </a:lnTo>
                          <a:lnTo>
                            <a:pt x="17" y="45"/>
                          </a:lnTo>
                          <a:lnTo>
                            <a:pt x="7" y="37"/>
                          </a:lnTo>
                          <a:lnTo>
                            <a:pt x="1" y="29"/>
                          </a:lnTo>
                          <a:lnTo>
                            <a:pt x="0" y="23"/>
                          </a:lnTo>
                          <a:lnTo>
                            <a:pt x="2" y="16"/>
                          </a:lnTo>
                          <a:lnTo>
                            <a:pt x="9" y="11"/>
                          </a:lnTo>
                          <a:lnTo>
                            <a:pt x="21" y="5"/>
                          </a:lnTo>
                          <a:lnTo>
                            <a:pt x="39" y="0"/>
                          </a:lnTo>
                          <a:lnTo>
                            <a:pt x="47" y="0"/>
                          </a:lnTo>
                          <a:lnTo>
                            <a:pt x="52" y="7"/>
                          </a:lnTo>
                          <a:lnTo>
                            <a:pt x="51" y="13"/>
                          </a:lnTo>
                          <a:lnTo>
                            <a:pt x="46" y="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 flipH="1">
                      <a:off x="1431720" y="5496120"/>
                      <a:ext cx="777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81">
                          <a:moveTo>
                            <a:pt x="68" y="21"/>
                          </a:moveTo>
                          <a:lnTo>
                            <a:pt x="55" y="24"/>
                          </a:lnTo>
                          <a:lnTo>
                            <a:pt x="47" y="28"/>
                          </a:lnTo>
                          <a:lnTo>
                            <a:pt x="38" y="32"/>
                          </a:lnTo>
                          <a:lnTo>
                            <a:pt x="33" y="36"/>
                          </a:lnTo>
                          <a:lnTo>
                            <a:pt x="29" y="40"/>
                          </a:lnTo>
                          <a:lnTo>
                            <a:pt x="29" y="45"/>
                          </a:lnTo>
                          <a:lnTo>
                            <a:pt x="33" y="49"/>
                          </a:lnTo>
                          <a:lnTo>
                            <a:pt x="40" y="53"/>
                          </a:lnTo>
                          <a:lnTo>
                            <a:pt x="47" y="52"/>
                          </a:lnTo>
                          <a:lnTo>
                            <a:pt x="53" y="52"/>
                          </a:lnTo>
                          <a:lnTo>
                            <a:pt x="58" y="52"/>
                          </a:lnTo>
                          <a:lnTo>
                            <a:pt x="65" y="53"/>
                          </a:lnTo>
                          <a:lnTo>
                            <a:pt x="70" y="53"/>
                          </a:lnTo>
                          <a:lnTo>
                            <a:pt x="77" y="54"/>
                          </a:lnTo>
                          <a:lnTo>
                            <a:pt x="83" y="54"/>
                          </a:lnTo>
                          <a:lnTo>
                            <a:pt x="92" y="56"/>
                          </a:lnTo>
                          <a:lnTo>
                            <a:pt x="97" y="58"/>
                          </a:lnTo>
                          <a:lnTo>
                            <a:pt x="99" y="63"/>
                          </a:lnTo>
                          <a:lnTo>
                            <a:pt x="97" y="67"/>
                          </a:lnTo>
                          <a:lnTo>
                            <a:pt x="92" y="71"/>
                          </a:lnTo>
                          <a:lnTo>
                            <a:pt x="83" y="71"/>
                          </a:lnTo>
                          <a:lnTo>
                            <a:pt x="77" y="71"/>
                          </a:lnTo>
                          <a:lnTo>
                            <a:pt x="70" y="72"/>
                          </a:lnTo>
                          <a:lnTo>
                            <a:pt x="64" y="74"/>
                          </a:lnTo>
                          <a:lnTo>
                            <a:pt x="57" y="75"/>
                          </a:lnTo>
                          <a:lnTo>
                            <a:pt x="51" y="77"/>
                          </a:lnTo>
                          <a:lnTo>
                            <a:pt x="44" y="79"/>
                          </a:lnTo>
                          <a:lnTo>
                            <a:pt x="38" y="81"/>
                          </a:lnTo>
                          <a:lnTo>
                            <a:pt x="19" y="72"/>
                          </a:lnTo>
                          <a:lnTo>
                            <a:pt x="7" y="62"/>
                          </a:lnTo>
                          <a:lnTo>
                            <a:pt x="0" y="50"/>
                          </a:lnTo>
                          <a:lnTo>
                            <a:pt x="2" y="39"/>
                          </a:lnTo>
                          <a:lnTo>
                            <a:pt x="8" y="27"/>
                          </a:lnTo>
                          <a:lnTo>
                            <a:pt x="21" y="16"/>
                          </a:lnTo>
                          <a:lnTo>
                            <a:pt x="38" y="6"/>
                          </a:lnTo>
                          <a:lnTo>
                            <a:pt x="62" y="0"/>
                          </a:lnTo>
                          <a:lnTo>
                            <a:pt x="70" y="0"/>
                          </a:lnTo>
                          <a:lnTo>
                            <a:pt x="76" y="7"/>
                          </a:lnTo>
                          <a:lnTo>
                            <a:pt x="75" y="15"/>
                          </a:lnTo>
                          <a:lnTo>
                            <a:pt x="68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flipH="1">
                      <a:off x="1433520" y="5527800"/>
                      <a:ext cx="1159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86">
                          <a:moveTo>
                            <a:pt x="73" y="20"/>
                          </a:moveTo>
                          <a:lnTo>
                            <a:pt x="60" y="25"/>
                          </a:lnTo>
                          <a:lnTo>
                            <a:pt x="52" y="30"/>
                          </a:lnTo>
                          <a:lnTo>
                            <a:pt x="43" y="36"/>
                          </a:lnTo>
                          <a:lnTo>
                            <a:pt x="40" y="42"/>
                          </a:lnTo>
                          <a:lnTo>
                            <a:pt x="39" y="47"/>
                          </a:lnTo>
                          <a:lnTo>
                            <a:pt x="43" y="52"/>
                          </a:lnTo>
                          <a:lnTo>
                            <a:pt x="52" y="55"/>
                          </a:lnTo>
                          <a:lnTo>
                            <a:pt x="68" y="59"/>
                          </a:lnTo>
                          <a:lnTo>
                            <a:pt x="75" y="57"/>
                          </a:lnTo>
                          <a:lnTo>
                            <a:pt x="84" y="56"/>
                          </a:lnTo>
                          <a:lnTo>
                            <a:pt x="91" y="54"/>
                          </a:lnTo>
                          <a:lnTo>
                            <a:pt x="100" y="54"/>
                          </a:lnTo>
                          <a:lnTo>
                            <a:pt x="107" y="53"/>
                          </a:lnTo>
                          <a:lnTo>
                            <a:pt x="116" y="52"/>
                          </a:lnTo>
                          <a:lnTo>
                            <a:pt x="124" y="51"/>
                          </a:lnTo>
                          <a:lnTo>
                            <a:pt x="133" y="50"/>
                          </a:lnTo>
                          <a:lnTo>
                            <a:pt x="140" y="51"/>
                          </a:lnTo>
                          <a:lnTo>
                            <a:pt x="144" y="57"/>
                          </a:lnTo>
                          <a:lnTo>
                            <a:pt x="142" y="65"/>
                          </a:lnTo>
                          <a:lnTo>
                            <a:pt x="137" y="69"/>
                          </a:lnTo>
                          <a:lnTo>
                            <a:pt x="127" y="69"/>
                          </a:lnTo>
                          <a:lnTo>
                            <a:pt x="118" y="71"/>
                          </a:lnTo>
                          <a:lnTo>
                            <a:pt x="110" y="73"/>
                          </a:lnTo>
                          <a:lnTo>
                            <a:pt x="102" y="77"/>
                          </a:lnTo>
                          <a:lnTo>
                            <a:pt x="94" y="79"/>
                          </a:lnTo>
                          <a:lnTo>
                            <a:pt x="85" y="81"/>
                          </a:lnTo>
                          <a:lnTo>
                            <a:pt x="76" y="83"/>
                          </a:lnTo>
                          <a:lnTo>
                            <a:pt x="69" y="86"/>
                          </a:lnTo>
                          <a:lnTo>
                            <a:pt x="34" y="80"/>
                          </a:lnTo>
                          <a:lnTo>
                            <a:pt x="13" y="71"/>
                          </a:lnTo>
                          <a:lnTo>
                            <a:pt x="1" y="61"/>
                          </a:lnTo>
                          <a:lnTo>
                            <a:pt x="0" y="51"/>
                          </a:lnTo>
                          <a:lnTo>
                            <a:pt x="6" y="38"/>
                          </a:lnTo>
                          <a:lnTo>
                            <a:pt x="20" y="26"/>
                          </a:lnTo>
                          <a:lnTo>
                            <a:pt x="40" y="13"/>
                          </a:lnTo>
                          <a:lnTo>
                            <a:pt x="64" y="1"/>
                          </a:lnTo>
                          <a:lnTo>
                            <a:pt x="73" y="0"/>
                          </a:lnTo>
                          <a:lnTo>
                            <a:pt x="78" y="6"/>
                          </a:lnTo>
                          <a:lnTo>
                            <a:pt x="78" y="12"/>
                          </a:lnTo>
                          <a:lnTo>
                            <a:pt x="73" y="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flipH="1">
                      <a:off x="1444320" y="5562720"/>
                      <a:ext cx="1206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95">
                          <a:moveTo>
                            <a:pt x="62" y="21"/>
                          </a:moveTo>
                          <a:lnTo>
                            <a:pt x="49" y="24"/>
                          </a:lnTo>
                          <a:lnTo>
                            <a:pt x="40" y="31"/>
                          </a:lnTo>
                          <a:lnTo>
                            <a:pt x="34" y="38"/>
                          </a:lnTo>
                          <a:lnTo>
                            <a:pt x="32" y="47"/>
                          </a:lnTo>
                          <a:lnTo>
                            <a:pt x="33" y="54"/>
                          </a:lnTo>
                          <a:lnTo>
                            <a:pt x="39" y="61"/>
                          </a:lnTo>
                          <a:lnTo>
                            <a:pt x="49" y="66"/>
                          </a:lnTo>
                          <a:lnTo>
                            <a:pt x="64" y="68"/>
                          </a:lnTo>
                          <a:lnTo>
                            <a:pt x="75" y="65"/>
                          </a:lnTo>
                          <a:lnTo>
                            <a:pt x="85" y="64"/>
                          </a:lnTo>
                          <a:lnTo>
                            <a:pt x="94" y="63"/>
                          </a:lnTo>
                          <a:lnTo>
                            <a:pt x="103" y="62"/>
                          </a:lnTo>
                          <a:lnTo>
                            <a:pt x="110" y="60"/>
                          </a:lnTo>
                          <a:lnTo>
                            <a:pt x="120" y="58"/>
                          </a:lnTo>
                          <a:lnTo>
                            <a:pt x="129" y="56"/>
                          </a:lnTo>
                          <a:lnTo>
                            <a:pt x="141" y="54"/>
                          </a:lnTo>
                          <a:lnTo>
                            <a:pt x="148" y="54"/>
                          </a:lnTo>
                          <a:lnTo>
                            <a:pt x="152" y="61"/>
                          </a:lnTo>
                          <a:lnTo>
                            <a:pt x="151" y="67"/>
                          </a:lnTo>
                          <a:lnTo>
                            <a:pt x="146" y="72"/>
                          </a:lnTo>
                          <a:lnTo>
                            <a:pt x="134" y="76"/>
                          </a:lnTo>
                          <a:lnTo>
                            <a:pt x="124" y="79"/>
                          </a:lnTo>
                          <a:lnTo>
                            <a:pt x="114" y="82"/>
                          </a:lnTo>
                          <a:lnTo>
                            <a:pt x="107" y="85"/>
                          </a:lnTo>
                          <a:lnTo>
                            <a:pt x="97" y="87"/>
                          </a:lnTo>
                          <a:lnTo>
                            <a:pt x="88" y="90"/>
                          </a:lnTo>
                          <a:lnTo>
                            <a:pt x="77" y="92"/>
                          </a:lnTo>
                          <a:lnTo>
                            <a:pt x="66" y="95"/>
                          </a:lnTo>
                          <a:lnTo>
                            <a:pt x="36" y="91"/>
                          </a:lnTo>
                          <a:lnTo>
                            <a:pt x="15" y="82"/>
                          </a:lnTo>
                          <a:lnTo>
                            <a:pt x="3" y="68"/>
                          </a:lnTo>
                          <a:lnTo>
                            <a:pt x="0" y="53"/>
                          </a:lnTo>
                          <a:lnTo>
                            <a:pt x="4" y="36"/>
                          </a:lnTo>
                          <a:lnTo>
                            <a:pt x="15" y="21"/>
                          </a:lnTo>
                          <a:lnTo>
                            <a:pt x="34" y="8"/>
                          </a:lnTo>
                          <a:lnTo>
                            <a:pt x="59" y="0"/>
                          </a:lnTo>
                          <a:lnTo>
                            <a:pt x="66" y="2"/>
                          </a:lnTo>
                          <a:lnTo>
                            <a:pt x="69" y="8"/>
                          </a:lnTo>
                          <a:lnTo>
                            <a:pt x="68" y="15"/>
                          </a:lnTo>
                          <a:lnTo>
                            <a:pt x="62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 flipH="1">
                      <a:off x="1390320" y="5556600"/>
                      <a:ext cx="8100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" h="102">
                          <a:moveTo>
                            <a:pt x="73" y="16"/>
                          </a:moveTo>
                          <a:lnTo>
                            <a:pt x="64" y="21"/>
                          </a:lnTo>
                          <a:lnTo>
                            <a:pt x="58" y="28"/>
                          </a:lnTo>
                          <a:lnTo>
                            <a:pt x="51" y="34"/>
                          </a:lnTo>
                          <a:lnTo>
                            <a:pt x="46" y="43"/>
                          </a:lnTo>
                          <a:lnTo>
                            <a:pt x="40" y="52"/>
                          </a:lnTo>
                          <a:lnTo>
                            <a:pt x="35" y="61"/>
                          </a:lnTo>
                          <a:lnTo>
                            <a:pt x="31" y="71"/>
                          </a:lnTo>
                          <a:lnTo>
                            <a:pt x="28" y="84"/>
                          </a:lnTo>
                          <a:lnTo>
                            <a:pt x="22" y="84"/>
                          </a:lnTo>
                          <a:lnTo>
                            <a:pt x="17" y="77"/>
                          </a:lnTo>
                          <a:lnTo>
                            <a:pt x="13" y="69"/>
                          </a:lnTo>
                          <a:lnTo>
                            <a:pt x="17" y="67"/>
                          </a:lnTo>
                          <a:lnTo>
                            <a:pt x="35" y="69"/>
                          </a:lnTo>
                          <a:lnTo>
                            <a:pt x="47" y="72"/>
                          </a:lnTo>
                          <a:lnTo>
                            <a:pt x="54" y="74"/>
                          </a:lnTo>
                          <a:lnTo>
                            <a:pt x="59" y="75"/>
                          </a:lnTo>
                          <a:lnTo>
                            <a:pt x="61" y="74"/>
                          </a:lnTo>
                          <a:lnTo>
                            <a:pt x="65" y="74"/>
                          </a:lnTo>
                          <a:lnTo>
                            <a:pt x="73" y="72"/>
                          </a:lnTo>
                          <a:lnTo>
                            <a:pt x="86" y="69"/>
                          </a:lnTo>
                          <a:lnTo>
                            <a:pt x="94" y="69"/>
                          </a:lnTo>
                          <a:lnTo>
                            <a:pt x="101" y="75"/>
                          </a:lnTo>
                          <a:lnTo>
                            <a:pt x="100" y="84"/>
                          </a:lnTo>
                          <a:lnTo>
                            <a:pt x="93" y="91"/>
                          </a:lnTo>
                          <a:lnTo>
                            <a:pt x="78" y="96"/>
                          </a:lnTo>
                          <a:lnTo>
                            <a:pt x="70" y="99"/>
                          </a:lnTo>
                          <a:lnTo>
                            <a:pt x="64" y="101"/>
                          </a:lnTo>
                          <a:lnTo>
                            <a:pt x="61" y="102"/>
                          </a:lnTo>
                          <a:lnTo>
                            <a:pt x="56" y="101"/>
                          </a:lnTo>
                          <a:lnTo>
                            <a:pt x="47" y="99"/>
                          </a:lnTo>
                          <a:lnTo>
                            <a:pt x="33" y="96"/>
                          </a:lnTo>
                          <a:lnTo>
                            <a:pt x="13" y="93"/>
                          </a:lnTo>
                          <a:lnTo>
                            <a:pt x="5" y="90"/>
                          </a:lnTo>
                          <a:lnTo>
                            <a:pt x="2" y="87"/>
                          </a:lnTo>
                          <a:lnTo>
                            <a:pt x="0" y="82"/>
                          </a:lnTo>
                          <a:lnTo>
                            <a:pt x="2" y="75"/>
                          </a:lnTo>
                          <a:lnTo>
                            <a:pt x="6" y="61"/>
                          </a:lnTo>
                          <a:lnTo>
                            <a:pt x="13" y="50"/>
                          </a:lnTo>
                          <a:lnTo>
                            <a:pt x="19" y="40"/>
                          </a:lnTo>
                          <a:lnTo>
                            <a:pt x="27" y="31"/>
                          </a:lnTo>
                          <a:lnTo>
                            <a:pt x="34" y="21"/>
                          </a:lnTo>
                          <a:lnTo>
                            <a:pt x="44" y="15"/>
                          </a:lnTo>
                          <a:lnTo>
                            <a:pt x="53" y="9"/>
                          </a:lnTo>
                          <a:lnTo>
                            <a:pt x="62" y="2"/>
                          </a:lnTo>
                          <a:lnTo>
                            <a:pt x="69" y="0"/>
                          </a:lnTo>
                          <a:lnTo>
                            <a:pt x="74" y="4"/>
                          </a:lnTo>
                          <a:lnTo>
                            <a:pt x="75" y="10"/>
                          </a:lnTo>
                          <a:lnTo>
                            <a:pt x="73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 flipH="1">
                      <a:off x="1310760" y="5523120"/>
                      <a:ext cx="954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96">
                          <a:moveTo>
                            <a:pt x="60" y="16"/>
                          </a:moveTo>
                          <a:lnTo>
                            <a:pt x="42" y="20"/>
                          </a:lnTo>
                          <a:lnTo>
                            <a:pt x="33" y="27"/>
                          </a:lnTo>
                          <a:lnTo>
                            <a:pt x="27" y="33"/>
                          </a:lnTo>
                          <a:lnTo>
                            <a:pt x="27" y="42"/>
                          </a:lnTo>
                          <a:lnTo>
                            <a:pt x="31" y="49"/>
                          </a:lnTo>
                          <a:lnTo>
                            <a:pt x="38" y="57"/>
                          </a:lnTo>
                          <a:lnTo>
                            <a:pt x="50" y="63"/>
                          </a:lnTo>
                          <a:lnTo>
                            <a:pt x="66" y="70"/>
                          </a:lnTo>
                          <a:lnTo>
                            <a:pt x="107" y="54"/>
                          </a:lnTo>
                          <a:lnTo>
                            <a:pt x="116" y="54"/>
                          </a:lnTo>
                          <a:lnTo>
                            <a:pt x="122" y="60"/>
                          </a:lnTo>
                          <a:lnTo>
                            <a:pt x="122" y="69"/>
                          </a:lnTo>
                          <a:lnTo>
                            <a:pt x="116" y="76"/>
                          </a:lnTo>
                          <a:lnTo>
                            <a:pt x="68" y="96"/>
                          </a:lnTo>
                          <a:lnTo>
                            <a:pt x="41" y="86"/>
                          </a:lnTo>
                          <a:lnTo>
                            <a:pt x="21" y="74"/>
                          </a:lnTo>
                          <a:lnTo>
                            <a:pt x="7" y="60"/>
                          </a:lnTo>
                          <a:lnTo>
                            <a:pt x="0" y="46"/>
                          </a:lnTo>
                          <a:lnTo>
                            <a:pt x="0" y="31"/>
                          </a:lnTo>
                          <a:lnTo>
                            <a:pt x="10" y="18"/>
                          </a:lnTo>
                          <a:lnTo>
                            <a:pt x="27" y="7"/>
                          </a:lnTo>
                          <a:lnTo>
                            <a:pt x="56" y="0"/>
                          </a:lnTo>
                          <a:lnTo>
                            <a:pt x="63" y="1"/>
                          </a:lnTo>
                          <a:lnTo>
                            <a:pt x="66" y="6"/>
                          </a:lnTo>
                          <a:lnTo>
                            <a:pt x="65" y="12"/>
                          </a:lnTo>
                          <a:lnTo>
                            <a:pt x="6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flipH="1">
                      <a:off x="1461960" y="5605560"/>
                      <a:ext cx="1303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03">
                          <a:moveTo>
                            <a:pt x="84" y="31"/>
                          </a:moveTo>
                          <a:lnTo>
                            <a:pt x="75" y="29"/>
                          </a:lnTo>
                          <a:lnTo>
                            <a:pt x="67" y="28"/>
                          </a:lnTo>
                          <a:lnTo>
                            <a:pt x="57" y="28"/>
                          </a:lnTo>
                          <a:lnTo>
                            <a:pt x="48" y="28"/>
                          </a:lnTo>
                          <a:lnTo>
                            <a:pt x="39" y="28"/>
                          </a:lnTo>
                          <a:lnTo>
                            <a:pt x="30" y="28"/>
                          </a:lnTo>
                          <a:lnTo>
                            <a:pt x="22" y="28"/>
                          </a:lnTo>
                          <a:lnTo>
                            <a:pt x="14" y="28"/>
                          </a:lnTo>
                          <a:lnTo>
                            <a:pt x="12" y="24"/>
                          </a:lnTo>
                          <a:lnTo>
                            <a:pt x="17" y="17"/>
                          </a:lnTo>
                          <a:lnTo>
                            <a:pt x="24" y="11"/>
                          </a:lnTo>
                          <a:lnTo>
                            <a:pt x="28" y="14"/>
                          </a:lnTo>
                          <a:lnTo>
                            <a:pt x="28" y="23"/>
                          </a:lnTo>
                          <a:lnTo>
                            <a:pt x="28" y="32"/>
                          </a:lnTo>
                          <a:lnTo>
                            <a:pt x="28" y="41"/>
                          </a:lnTo>
                          <a:lnTo>
                            <a:pt x="28" y="50"/>
                          </a:lnTo>
                          <a:lnTo>
                            <a:pt x="28" y="58"/>
                          </a:lnTo>
                          <a:lnTo>
                            <a:pt x="28" y="67"/>
                          </a:lnTo>
                          <a:lnTo>
                            <a:pt x="28" y="76"/>
                          </a:lnTo>
                          <a:lnTo>
                            <a:pt x="29" y="88"/>
                          </a:lnTo>
                          <a:lnTo>
                            <a:pt x="25" y="89"/>
                          </a:lnTo>
                          <a:lnTo>
                            <a:pt x="18" y="84"/>
                          </a:lnTo>
                          <a:lnTo>
                            <a:pt x="12" y="78"/>
                          </a:lnTo>
                          <a:lnTo>
                            <a:pt x="14" y="74"/>
                          </a:lnTo>
                          <a:lnTo>
                            <a:pt x="36" y="73"/>
                          </a:lnTo>
                          <a:lnTo>
                            <a:pt x="56" y="72"/>
                          </a:lnTo>
                          <a:lnTo>
                            <a:pt x="73" y="70"/>
                          </a:lnTo>
                          <a:lnTo>
                            <a:pt x="90" y="69"/>
                          </a:lnTo>
                          <a:lnTo>
                            <a:pt x="104" y="65"/>
                          </a:lnTo>
                          <a:lnTo>
                            <a:pt x="120" y="61"/>
                          </a:lnTo>
                          <a:lnTo>
                            <a:pt x="136" y="57"/>
                          </a:lnTo>
                          <a:lnTo>
                            <a:pt x="153" y="54"/>
                          </a:lnTo>
                          <a:lnTo>
                            <a:pt x="160" y="54"/>
                          </a:lnTo>
                          <a:lnTo>
                            <a:pt x="165" y="59"/>
                          </a:lnTo>
                          <a:lnTo>
                            <a:pt x="163" y="66"/>
                          </a:lnTo>
                          <a:lnTo>
                            <a:pt x="158" y="72"/>
                          </a:lnTo>
                          <a:lnTo>
                            <a:pt x="141" y="78"/>
                          </a:lnTo>
                          <a:lnTo>
                            <a:pt x="125" y="83"/>
                          </a:lnTo>
                          <a:lnTo>
                            <a:pt x="109" y="87"/>
                          </a:lnTo>
                          <a:lnTo>
                            <a:pt x="94" y="93"/>
                          </a:lnTo>
                          <a:lnTo>
                            <a:pt x="76" y="96"/>
                          </a:lnTo>
                          <a:lnTo>
                            <a:pt x="58" y="100"/>
                          </a:lnTo>
                          <a:lnTo>
                            <a:pt x="37" y="102"/>
                          </a:lnTo>
                          <a:lnTo>
                            <a:pt x="14" y="103"/>
                          </a:lnTo>
                          <a:lnTo>
                            <a:pt x="8" y="101"/>
                          </a:lnTo>
                          <a:lnTo>
                            <a:pt x="3" y="99"/>
                          </a:lnTo>
                          <a:lnTo>
                            <a:pt x="0" y="94"/>
                          </a:lnTo>
                          <a:lnTo>
                            <a:pt x="0" y="88"/>
                          </a:lnTo>
                          <a:lnTo>
                            <a:pt x="0" y="76"/>
                          </a:lnTo>
                          <a:lnTo>
                            <a:pt x="0" y="67"/>
                          </a:lnTo>
                          <a:lnTo>
                            <a:pt x="0" y="58"/>
                          </a:lnTo>
                          <a:lnTo>
                            <a:pt x="0" y="50"/>
                          </a:lnTo>
                          <a:lnTo>
                            <a:pt x="0" y="41"/>
                          </a:lnTo>
                          <a:lnTo>
                            <a:pt x="0" y="32"/>
                          </a:lnTo>
                          <a:lnTo>
                            <a:pt x="0" y="23"/>
                          </a:lnTo>
                          <a:lnTo>
                            <a:pt x="1" y="14"/>
                          </a:lnTo>
                          <a:lnTo>
                            <a:pt x="1" y="7"/>
                          </a:lnTo>
                          <a:lnTo>
                            <a:pt x="4" y="3"/>
                          </a:lnTo>
                          <a:lnTo>
                            <a:pt x="8" y="0"/>
                          </a:lnTo>
                          <a:lnTo>
                            <a:pt x="14" y="0"/>
                          </a:lnTo>
                          <a:lnTo>
                            <a:pt x="23" y="0"/>
                          </a:lnTo>
                          <a:lnTo>
                            <a:pt x="32" y="0"/>
                          </a:lnTo>
                          <a:lnTo>
                            <a:pt x="41" y="0"/>
                          </a:lnTo>
                          <a:lnTo>
                            <a:pt x="51" y="1"/>
                          </a:lnTo>
                          <a:lnTo>
                            <a:pt x="59" y="1"/>
                          </a:lnTo>
                          <a:lnTo>
                            <a:pt x="69" y="2"/>
                          </a:lnTo>
                          <a:lnTo>
                            <a:pt x="77" y="3"/>
                          </a:lnTo>
                          <a:lnTo>
                            <a:pt x="87" y="6"/>
                          </a:lnTo>
                          <a:lnTo>
                            <a:pt x="91" y="7"/>
                          </a:lnTo>
                          <a:lnTo>
                            <a:pt x="96" y="11"/>
                          </a:lnTo>
                          <a:lnTo>
                            <a:pt x="97" y="15"/>
                          </a:lnTo>
                          <a:lnTo>
                            <a:pt x="98" y="21"/>
                          </a:lnTo>
                          <a:lnTo>
                            <a:pt x="93" y="28"/>
                          </a:lnTo>
                          <a:lnTo>
                            <a:pt x="84" y="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 flipH="1">
                      <a:off x="1492200" y="5634360"/>
                      <a:ext cx="936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111">
                          <a:moveTo>
                            <a:pt x="86" y="18"/>
                          </a:moveTo>
                          <a:lnTo>
                            <a:pt x="66" y="22"/>
                          </a:lnTo>
                          <a:lnTo>
                            <a:pt x="50" y="29"/>
                          </a:lnTo>
                          <a:lnTo>
                            <a:pt x="36" y="35"/>
                          </a:lnTo>
                          <a:lnTo>
                            <a:pt x="28" y="45"/>
                          </a:lnTo>
                          <a:lnTo>
                            <a:pt x="22" y="53"/>
                          </a:lnTo>
                          <a:lnTo>
                            <a:pt x="23" y="63"/>
                          </a:lnTo>
                          <a:lnTo>
                            <a:pt x="30" y="73"/>
                          </a:lnTo>
                          <a:lnTo>
                            <a:pt x="43" y="82"/>
                          </a:lnTo>
                          <a:lnTo>
                            <a:pt x="50" y="81"/>
                          </a:lnTo>
                          <a:lnTo>
                            <a:pt x="59" y="81"/>
                          </a:lnTo>
                          <a:lnTo>
                            <a:pt x="65" y="80"/>
                          </a:lnTo>
                          <a:lnTo>
                            <a:pt x="73" y="80"/>
                          </a:lnTo>
                          <a:lnTo>
                            <a:pt x="79" y="79"/>
                          </a:lnTo>
                          <a:lnTo>
                            <a:pt x="87" y="78"/>
                          </a:lnTo>
                          <a:lnTo>
                            <a:pt x="94" y="77"/>
                          </a:lnTo>
                          <a:lnTo>
                            <a:pt x="104" y="76"/>
                          </a:lnTo>
                          <a:lnTo>
                            <a:pt x="113" y="77"/>
                          </a:lnTo>
                          <a:lnTo>
                            <a:pt x="118" y="86"/>
                          </a:lnTo>
                          <a:lnTo>
                            <a:pt x="116" y="94"/>
                          </a:lnTo>
                          <a:lnTo>
                            <a:pt x="108" y="100"/>
                          </a:lnTo>
                          <a:lnTo>
                            <a:pt x="99" y="101"/>
                          </a:lnTo>
                          <a:lnTo>
                            <a:pt x="90" y="103"/>
                          </a:lnTo>
                          <a:lnTo>
                            <a:pt x="80" y="104"/>
                          </a:lnTo>
                          <a:lnTo>
                            <a:pt x="73" y="106"/>
                          </a:lnTo>
                          <a:lnTo>
                            <a:pt x="63" y="107"/>
                          </a:lnTo>
                          <a:lnTo>
                            <a:pt x="55" y="108"/>
                          </a:lnTo>
                          <a:lnTo>
                            <a:pt x="46" y="109"/>
                          </a:lnTo>
                          <a:lnTo>
                            <a:pt x="37" y="111"/>
                          </a:lnTo>
                          <a:lnTo>
                            <a:pt x="16" y="95"/>
                          </a:lnTo>
                          <a:lnTo>
                            <a:pt x="4" y="79"/>
                          </a:lnTo>
                          <a:lnTo>
                            <a:pt x="0" y="63"/>
                          </a:lnTo>
                          <a:lnTo>
                            <a:pt x="3" y="47"/>
                          </a:lnTo>
                          <a:lnTo>
                            <a:pt x="13" y="31"/>
                          </a:lnTo>
                          <a:lnTo>
                            <a:pt x="30" y="18"/>
                          </a:lnTo>
                          <a:lnTo>
                            <a:pt x="52" y="7"/>
                          </a:lnTo>
                          <a:lnTo>
                            <a:pt x="83" y="0"/>
                          </a:lnTo>
                          <a:lnTo>
                            <a:pt x="89" y="1"/>
                          </a:lnTo>
                          <a:lnTo>
                            <a:pt x="92" y="6"/>
                          </a:lnTo>
                          <a:lnTo>
                            <a:pt x="91" y="13"/>
                          </a:lnTo>
                          <a:lnTo>
                            <a:pt x="86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 flipH="1">
                      <a:off x="1542600" y="5696280"/>
                      <a:ext cx="6660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76">
                          <a:moveTo>
                            <a:pt x="61" y="21"/>
                          </a:moveTo>
                          <a:lnTo>
                            <a:pt x="50" y="23"/>
                          </a:lnTo>
                          <a:lnTo>
                            <a:pt x="43" y="26"/>
                          </a:lnTo>
                          <a:lnTo>
                            <a:pt x="37" y="29"/>
                          </a:lnTo>
                          <a:lnTo>
                            <a:pt x="34" y="32"/>
                          </a:lnTo>
                          <a:lnTo>
                            <a:pt x="31" y="36"/>
                          </a:lnTo>
                          <a:lnTo>
                            <a:pt x="30" y="42"/>
                          </a:lnTo>
                          <a:lnTo>
                            <a:pt x="27" y="48"/>
                          </a:lnTo>
                          <a:lnTo>
                            <a:pt x="26" y="58"/>
                          </a:lnTo>
                          <a:lnTo>
                            <a:pt x="22" y="58"/>
                          </a:lnTo>
                          <a:lnTo>
                            <a:pt x="17" y="52"/>
                          </a:lnTo>
                          <a:lnTo>
                            <a:pt x="13" y="43"/>
                          </a:lnTo>
                          <a:lnTo>
                            <a:pt x="17" y="41"/>
                          </a:lnTo>
                          <a:lnTo>
                            <a:pt x="22" y="42"/>
                          </a:lnTo>
                          <a:lnTo>
                            <a:pt x="29" y="43"/>
                          </a:lnTo>
                          <a:lnTo>
                            <a:pt x="35" y="44"/>
                          </a:lnTo>
                          <a:lnTo>
                            <a:pt x="43" y="46"/>
                          </a:lnTo>
                          <a:lnTo>
                            <a:pt x="49" y="47"/>
                          </a:lnTo>
                          <a:lnTo>
                            <a:pt x="55" y="48"/>
                          </a:lnTo>
                          <a:lnTo>
                            <a:pt x="63" y="48"/>
                          </a:lnTo>
                          <a:lnTo>
                            <a:pt x="70" y="50"/>
                          </a:lnTo>
                          <a:lnTo>
                            <a:pt x="76" y="50"/>
                          </a:lnTo>
                          <a:lnTo>
                            <a:pt x="80" y="53"/>
                          </a:lnTo>
                          <a:lnTo>
                            <a:pt x="82" y="57"/>
                          </a:lnTo>
                          <a:lnTo>
                            <a:pt x="83" y="62"/>
                          </a:lnTo>
                          <a:lnTo>
                            <a:pt x="82" y="67"/>
                          </a:lnTo>
                          <a:lnTo>
                            <a:pt x="80" y="71"/>
                          </a:lnTo>
                          <a:lnTo>
                            <a:pt x="76" y="74"/>
                          </a:lnTo>
                          <a:lnTo>
                            <a:pt x="70" y="76"/>
                          </a:lnTo>
                          <a:lnTo>
                            <a:pt x="62" y="75"/>
                          </a:lnTo>
                          <a:lnTo>
                            <a:pt x="54" y="75"/>
                          </a:lnTo>
                          <a:lnTo>
                            <a:pt x="46" y="74"/>
                          </a:lnTo>
                          <a:lnTo>
                            <a:pt x="38" y="73"/>
                          </a:lnTo>
                          <a:lnTo>
                            <a:pt x="31" y="71"/>
                          </a:lnTo>
                          <a:lnTo>
                            <a:pt x="23" y="70"/>
                          </a:lnTo>
                          <a:lnTo>
                            <a:pt x="17" y="68"/>
                          </a:lnTo>
                          <a:lnTo>
                            <a:pt x="10" y="67"/>
                          </a:lnTo>
                          <a:lnTo>
                            <a:pt x="4" y="63"/>
                          </a:lnTo>
                          <a:lnTo>
                            <a:pt x="1" y="60"/>
                          </a:lnTo>
                          <a:lnTo>
                            <a:pt x="0" y="56"/>
                          </a:lnTo>
                          <a:lnTo>
                            <a:pt x="1" y="51"/>
                          </a:lnTo>
                          <a:lnTo>
                            <a:pt x="3" y="37"/>
                          </a:lnTo>
                          <a:lnTo>
                            <a:pt x="6" y="27"/>
                          </a:lnTo>
                          <a:lnTo>
                            <a:pt x="9" y="19"/>
                          </a:lnTo>
                          <a:lnTo>
                            <a:pt x="13" y="15"/>
                          </a:lnTo>
                          <a:lnTo>
                            <a:pt x="19" y="11"/>
                          </a:lnTo>
                          <a:lnTo>
                            <a:pt x="27" y="8"/>
                          </a:lnTo>
                          <a:lnTo>
                            <a:pt x="38" y="3"/>
                          </a:lnTo>
                          <a:lnTo>
                            <a:pt x="54" y="0"/>
                          </a:lnTo>
                          <a:lnTo>
                            <a:pt x="62" y="0"/>
                          </a:lnTo>
                          <a:lnTo>
                            <a:pt x="67" y="7"/>
                          </a:lnTo>
                          <a:lnTo>
                            <a:pt x="67" y="14"/>
                          </a:lnTo>
                          <a:lnTo>
                            <a:pt x="61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 flipH="1">
                      <a:off x="1401120" y="5677200"/>
                      <a:ext cx="10332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87">
                          <a:moveTo>
                            <a:pt x="76" y="22"/>
                          </a:moveTo>
                          <a:lnTo>
                            <a:pt x="64" y="26"/>
                          </a:lnTo>
                          <a:lnTo>
                            <a:pt x="54" y="32"/>
                          </a:lnTo>
                          <a:lnTo>
                            <a:pt x="43" y="37"/>
                          </a:lnTo>
                          <a:lnTo>
                            <a:pt x="35" y="42"/>
                          </a:lnTo>
                          <a:lnTo>
                            <a:pt x="29" y="46"/>
                          </a:lnTo>
                          <a:lnTo>
                            <a:pt x="29" y="51"/>
                          </a:lnTo>
                          <a:lnTo>
                            <a:pt x="35" y="54"/>
                          </a:lnTo>
                          <a:lnTo>
                            <a:pt x="49" y="60"/>
                          </a:lnTo>
                          <a:lnTo>
                            <a:pt x="61" y="56"/>
                          </a:lnTo>
                          <a:lnTo>
                            <a:pt x="72" y="54"/>
                          </a:lnTo>
                          <a:lnTo>
                            <a:pt x="80" y="51"/>
                          </a:lnTo>
                          <a:lnTo>
                            <a:pt x="90" y="49"/>
                          </a:lnTo>
                          <a:lnTo>
                            <a:pt x="97" y="45"/>
                          </a:lnTo>
                          <a:lnTo>
                            <a:pt x="104" y="41"/>
                          </a:lnTo>
                          <a:lnTo>
                            <a:pt x="111" y="36"/>
                          </a:lnTo>
                          <a:lnTo>
                            <a:pt x="119" y="29"/>
                          </a:lnTo>
                          <a:lnTo>
                            <a:pt x="123" y="27"/>
                          </a:lnTo>
                          <a:lnTo>
                            <a:pt x="128" y="29"/>
                          </a:lnTo>
                          <a:lnTo>
                            <a:pt x="130" y="33"/>
                          </a:lnTo>
                          <a:lnTo>
                            <a:pt x="129" y="38"/>
                          </a:lnTo>
                          <a:lnTo>
                            <a:pt x="119" y="46"/>
                          </a:lnTo>
                          <a:lnTo>
                            <a:pt x="112" y="54"/>
                          </a:lnTo>
                          <a:lnTo>
                            <a:pt x="103" y="61"/>
                          </a:lnTo>
                          <a:lnTo>
                            <a:pt x="96" y="67"/>
                          </a:lnTo>
                          <a:lnTo>
                            <a:pt x="85" y="72"/>
                          </a:lnTo>
                          <a:lnTo>
                            <a:pt x="75" y="78"/>
                          </a:lnTo>
                          <a:lnTo>
                            <a:pt x="62" y="82"/>
                          </a:lnTo>
                          <a:lnTo>
                            <a:pt x="49" y="87"/>
                          </a:lnTo>
                          <a:lnTo>
                            <a:pt x="20" y="78"/>
                          </a:lnTo>
                          <a:lnTo>
                            <a:pt x="5" y="68"/>
                          </a:lnTo>
                          <a:lnTo>
                            <a:pt x="0" y="57"/>
                          </a:lnTo>
                          <a:lnTo>
                            <a:pt x="3" y="47"/>
                          </a:lnTo>
                          <a:lnTo>
                            <a:pt x="12" y="35"/>
                          </a:lnTo>
                          <a:lnTo>
                            <a:pt x="27" y="24"/>
                          </a:lnTo>
                          <a:lnTo>
                            <a:pt x="45" y="12"/>
                          </a:lnTo>
                          <a:lnTo>
                            <a:pt x="65" y="3"/>
                          </a:lnTo>
                          <a:lnTo>
                            <a:pt x="74" y="0"/>
                          </a:lnTo>
                          <a:lnTo>
                            <a:pt x="80" y="6"/>
                          </a:lnTo>
                          <a:lnTo>
                            <a:pt x="82" y="13"/>
                          </a:lnTo>
                          <a:lnTo>
                            <a:pt x="76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 flipH="1">
                      <a:off x="1549080" y="5735880"/>
                      <a:ext cx="9036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100">
                          <a:moveTo>
                            <a:pt x="99" y="15"/>
                          </a:moveTo>
                          <a:lnTo>
                            <a:pt x="87" y="19"/>
                          </a:lnTo>
                          <a:lnTo>
                            <a:pt x="75" y="23"/>
                          </a:lnTo>
                          <a:lnTo>
                            <a:pt x="60" y="28"/>
                          </a:lnTo>
                          <a:lnTo>
                            <a:pt x="48" y="33"/>
                          </a:lnTo>
                          <a:lnTo>
                            <a:pt x="37" y="39"/>
                          </a:lnTo>
                          <a:lnTo>
                            <a:pt x="30" y="49"/>
                          </a:lnTo>
                          <a:lnTo>
                            <a:pt x="28" y="62"/>
                          </a:lnTo>
                          <a:lnTo>
                            <a:pt x="33" y="81"/>
                          </a:lnTo>
                          <a:lnTo>
                            <a:pt x="30" y="83"/>
                          </a:lnTo>
                          <a:lnTo>
                            <a:pt x="23" y="81"/>
                          </a:lnTo>
                          <a:lnTo>
                            <a:pt x="14" y="76"/>
                          </a:lnTo>
                          <a:lnTo>
                            <a:pt x="15" y="73"/>
                          </a:lnTo>
                          <a:lnTo>
                            <a:pt x="26" y="68"/>
                          </a:lnTo>
                          <a:lnTo>
                            <a:pt x="37" y="65"/>
                          </a:lnTo>
                          <a:lnTo>
                            <a:pt x="46" y="62"/>
                          </a:lnTo>
                          <a:lnTo>
                            <a:pt x="57" y="59"/>
                          </a:lnTo>
                          <a:lnTo>
                            <a:pt x="67" y="54"/>
                          </a:lnTo>
                          <a:lnTo>
                            <a:pt x="76" y="51"/>
                          </a:lnTo>
                          <a:lnTo>
                            <a:pt x="86" y="48"/>
                          </a:lnTo>
                          <a:lnTo>
                            <a:pt x="99" y="45"/>
                          </a:lnTo>
                          <a:lnTo>
                            <a:pt x="107" y="45"/>
                          </a:lnTo>
                          <a:lnTo>
                            <a:pt x="114" y="51"/>
                          </a:lnTo>
                          <a:lnTo>
                            <a:pt x="114" y="60"/>
                          </a:lnTo>
                          <a:lnTo>
                            <a:pt x="107" y="67"/>
                          </a:lnTo>
                          <a:lnTo>
                            <a:pt x="95" y="71"/>
                          </a:lnTo>
                          <a:lnTo>
                            <a:pt x="85" y="75"/>
                          </a:lnTo>
                          <a:lnTo>
                            <a:pt x="75" y="79"/>
                          </a:lnTo>
                          <a:lnTo>
                            <a:pt x="66" y="83"/>
                          </a:lnTo>
                          <a:lnTo>
                            <a:pt x="55" y="87"/>
                          </a:lnTo>
                          <a:lnTo>
                            <a:pt x="45" y="91"/>
                          </a:lnTo>
                          <a:lnTo>
                            <a:pt x="34" y="95"/>
                          </a:lnTo>
                          <a:lnTo>
                            <a:pt x="24" y="100"/>
                          </a:lnTo>
                          <a:lnTo>
                            <a:pt x="17" y="100"/>
                          </a:lnTo>
                          <a:lnTo>
                            <a:pt x="13" y="100"/>
                          </a:lnTo>
                          <a:lnTo>
                            <a:pt x="9" y="96"/>
                          </a:lnTo>
                          <a:lnTo>
                            <a:pt x="6" y="92"/>
                          </a:lnTo>
                          <a:lnTo>
                            <a:pt x="0" y="67"/>
                          </a:lnTo>
                          <a:lnTo>
                            <a:pt x="2" y="50"/>
                          </a:lnTo>
                          <a:lnTo>
                            <a:pt x="11" y="36"/>
                          </a:lnTo>
                          <a:lnTo>
                            <a:pt x="25" y="28"/>
                          </a:lnTo>
                          <a:lnTo>
                            <a:pt x="40" y="20"/>
                          </a:lnTo>
                          <a:lnTo>
                            <a:pt x="58" y="15"/>
                          </a:lnTo>
                          <a:lnTo>
                            <a:pt x="74" y="8"/>
                          </a:lnTo>
                          <a:lnTo>
                            <a:pt x="89" y="2"/>
                          </a:lnTo>
                          <a:lnTo>
                            <a:pt x="96" y="0"/>
                          </a:lnTo>
                          <a:lnTo>
                            <a:pt x="101" y="3"/>
                          </a:lnTo>
                          <a:lnTo>
                            <a:pt x="102" y="8"/>
                          </a:lnTo>
                          <a:lnTo>
                            <a:pt x="99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 flipH="1">
                      <a:off x="1496520" y="5786640"/>
                      <a:ext cx="1270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76">
                          <a:moveTo>
                            <a:pt x="51" y="18"/>
                          </a:moveTo>
                          <a:lnTo>
                            <a:pt x="42" y="24"/>
                          </a:lnTo>
                          <a:lnTo>
                            <a:pt x="36" y="28"/>
                          </a:lnTo>
                          <a:lnTo>
                            <a:pt x="31" y="31"/>
                          </a:lnTo>
                          <a:lnTo>
                            <a:pt x="31" y="35"/>
                          </a:lnTo>
                          <a:lnTo>
                            <a:pt x="31" y="38"/>
                          </a:lnTo>
                          <a:lnTo>
                            <a:pt x="36" y="41"/>
                          </a:lnTo>
                          <a:lnTo>
                            <a:pt x="42" y="45"/>
                          </a:lnTo>
                          <a:lnTo>
                            <a:pt x="53" y="50"/>
                          </a:lnTo>
                          <a:lnTo>
                            <a:pt x="71" y="49"/>
                          </a:lnTo>
                          <a:lnTo>
                            <a:pt x="87" y="49"/>
                          </a:lnTo>
                          <a:lnTo>
                            <a:pt x="100" y="48"/>
                          </a:lnTo>
                          <a:lnTo>
                            <a:pt x="112" y="47"/>
                          </a:lnTo>
                          <a:lnTo>
                            <a:pt x="121" y="43"/>
                          </a:lnTo>
                          <a:lnTo>
                            <a:pt x="130" y="40"/>
                          </a:lnTo>
                          <a:lnTo>
                            <a:pt x="139" y="34"/>
                          </a:lnTo>
                          <a:lnTo>
                            <a:pt x="152" y="28"/>
                          </a:lnTo>
                          <a:lnTo>
                            <a:pt x="156" y="26"/>
                          </a:lnTo>
                          <a:lnTo>
                            <a:pt x="159" y="29"/>
                          </a:lnTo>
                          <a:lnTo>
                            <a:pt x="161" y="33"/>
                          </a:lnTo>
                          <a:lnTo>
                            <a:pt x="158" y="39"/>
                          </a:lnTo>
                          <a:lnTo>
                            <a:pt x="144" y="46"/>
                          </a:lnTo>
                          <a:lnTo>
                            <a:pt x="134" y="54"/>
                          </a:lnTo>
                          <a:lnTo>
                            <a:pt x="123" y="60"/>
                          </a:lnTo>
                          <a:lnTo>
                            <a:pt x="113" y="67"/>
                          </a:lnTo>
                          <a:lnTo>
                            <a:pt x="100" y="70"/>
                          </a:lnTo>
                          <a:lnTo>
                            <a:pt x="86" y="73"/>
                          </a:lnTo>
                          <a:lnTo>
                            <a:pt x="68" y="75"/>
                          </a:lnTo>
                          <a:lnTo>
                            <a:pt x="47" y="76"/>
                          </a:lnTo>
                          <a:lnTo>
                            <a:pt x="26" y="66"/>
                          </a:lnTo>
                          <a:lnTo>
                            <a:pt x="12" y="57"/>
                          </a:lnTo>
                          <a:lnTo>
                            <a:pt x="2" y="49"/>
                          </a:lnTo>
                          <a:lnTo>
                            <a:pt x="0" y="43"/>
                          </a:lnTo>
                          <a:lnTo>
                            <a:pt x="2" y="34"/>
                          </a:lnTo>
                          <a:lnTo>
                            <a:pt x="10" y="26"/>
                          </a:lnTo>
                          <a:lnTo>
                            <a:pt x="22" y="16"/>
                          </a:lnTo>
                          <a:lnTo>
                            <a:pt x="39" y="3"/>
                          </a:lnTo>
                          <a:lnTo>
                            <a:pt x="45" y="0"/>
                          </a:lnTo>
                          <a:lnTo>
                            <a:pt x="52" y="4"/>
                          </a:lnTo>
                          <a:lnTo>
                            <a:pt x="54" y="11"/>
                          </a:lnTo>
                          <a:lnTo>
                            <a:pt x="51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flipH="1">
                      <a:off x="1497960" y="5828040"/>
                      <a:ext cx="795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77">
                          <a:moveTo>
                            <a:pt x="39" y="17"/>
                          </a:moveTo>
                          <a:lnTo>
                            <a:pt x="33" y="22"/>
                          </a:lnTo>
                          <a:lnTo>
                            <a:pt x="30" y="28"/>
                          </a:lnTo>
                          <a:lnTo>
                            <a:pt x="27" y="32"/>
                          </a:lnTo>
                          <a:lnTo>
                            <a:pt x="28" y="36"/>
                          </a:lnTo>
                          <a:lnTo>
                            <a:pt x="30" y="44"/>
                          </a:lnTo>
                          <a:lnTo>
                            <a:pt x="40" y="53"/>
                          </a:lnTo>
                          <a:lnTo>
                            <a:pt x="38" y="53"/>
                          </a:lnTo>
                          <a:lnTo>
                            <a:pt x="34" y="52"/>
                          </a:lnTo>
                          <a:lnTo>
                            <a:pt x="29" y="50"/>
                          </a:lnTo>
                          <a:lnTo>
                            <a:pt x="41" y="47"/>
                          </a:lnTo>
                          <a:lnTo>
                            <a:pt x="50" y="47"/>
                          </a:lnTo>
                          <a:lnTo>
                            <a:pt x="55" y="47"/>
                          </a:lnTo>
                          <a:lnTo>
                            <a:pt x="61" y="47"/>
                          </a:lnTo>
                          <a:lnTo>
                            <a:pt x="64" y="45"/>
                          </a:lnTo>
                          <a:lnTo>
                            <a:pt x="68" y="44"/>
                          </a:lnTo>
                          <a:lnTo>
                            <a:pt x="76" y="40"/>
                          </a:lnTo>
                          <a:lnTo>
                            <a:pt x="89" y="37"/>
                          </a:lnTo>
                          <a:lnTo>
                            <a:pt x="96" y="36"/>
                          </a:lnTo>
                          <a:lnTo>
                            <a:pt x="100" y="42"/>
                          </a:lnTo>
                          <a:lnTo>
                            <a:pt x="100" y="49"/>
                          </a:lnTo>
                          <a:lnTo>
                            <a:pt x="96" y="56"/>
                          </a:lnTo>
                          <a:lnTo>
                            <a:pt x="82" y="60"/>
                          </a:lnTo>
                          <a:lnTo>
                            <a:pt x="75" y="64"/>
                          </a:lnTo>
                          <a:lnTo>
                            <a:pt x="69" y="66"/>
                          </a:lnTo>
                          <a:lnTo>
                            <a:pt x="66" y="69"/>
                          </a:lnTo>
                          <a:lnTo>
                            <a:pt x="61" y="71"/>
                          </a:lnTo>
                          <a:lnTo>
                            <a:pt x="55" y="73"/>
                          </a:lnTo>
                          <a:lnTo>
                            <a:pt x="46" y="74"/>
                          </a:lnTo>
                          <a:lnTo>
                            <a:pt x="33" y="77"/>
                          </a:lnTo>
                          <a:lnTo>
                            <a:pt x="26" y="76"/>
                          </a:lnTo>
                          <a:lnTo>
                            <a:pt x="21" y="73"/>
                          </a:lnTo>
                          <a:lnTo>
                            <a:pt x="11" y="62"/>
                          </a:lnTo>
                          <a:lnTo>
                            <a:pt x="5" y="54"/>
                          </a:lnTo>
                          <a:lnTo>
                            <a:pt x="0" y="48"/>
                          </a:lnTo>
                          <a:lnTo>
                            <a:pt x="0" y="42"/>
                          </a:lnTo>
                          <a:lnTo>
                            <a:pt x="1" y="33"/>
                          </a:lnTo>
                          <a:lnTo>
                            <a:pt x="7" y="25"/>
                          </a:lnTo>
                          <a:lnTo>
                            <a:pt x="13" y="16"/>
                          </a:lnTo>
                          <a:lnTo>
                            <a:pt x="23" y="4"/>
                          </a:lnTo>
                          <a:lnTo>
                            <a:pt x="29" y="0"/>
                          </a:lnTo>
                          <a:lnTo>
                            <a:pt x="37" y="2"/>
                          </a:lnTo>
                          <a:lnTo>
                            <a:pt x="41" y="8"/>
                          </a:lnTo>
                          <a:lnTo>
                            <a:pt x="39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 flipH="1">
                      <a:off x="1439640" y="5874120"/>
                      <a:ext cx="7488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52">
                          <a:moveTo>
                            <a:pt x="21" y="18"/>
                          </a:moveTo>
                          <a:lnTo>
                            <a:pt x="33" y="20"/>
                          </a:lnTo>
                          <a:lnTo>
                            <a:pt x="44" y="22"/>
                          </a:lnTo>
                          <a:lnTo>
                            <a:pt x="51" y="22"/>
                          </a:lnTo>
                          <a:lnTo>
                            <a:pt x="58" y="22"/>
                          </a:lnTo>
                          <a:lnTo>
                            <a:pt x="62" y="19"/>
                          </a:lnTo>
                          <a:lnTo>
                            <a:pt x="69" y="15"/>
                          </a:lnTo>
                          <a:lnTo>
                            <a:pt x="74" y="8"/>
                          </a:lnTo>
                          <a:lnTo>
                            <a:pt x="84" y="2"/>
                          </a:lnTo>
                          <a:lnTo>
                            <a:pt x="87" y="0"/>
                          </a:lnTo>
                          <a:lnTo>
                            <a:pt x="91" y="2"/>
                          </a:lnTo>
                          <a:lnTo>
                            <a:pt x="94" y="6"/>
                          </a:lnTo>
                          <a:lnTo>
                            <a:pt x="92" y="11"/>
                          </a:lnTo>
                          <a:lnTo>
                            <a:pt x="81" y="21"/>
                          </a:lnTo>
                          <a:lnTo>
                            <a:pt x="73" y="32"/>
                          </a:lnTo>
                          <a:lnTo>
                            <a:pt x="66" y="39"/>
                          </a:lnTo>
                          <a:lnTo>
                            <a:pt x="60" y="47"/>
                          </a:lnTo>
                          <a:lnTo>
                            <a:pt x="53" y="50"/>
                          </a:lnTo>
                          <a:lnTo>
                            <a:pt x="43" y="52"/>
                          </a:lnTo>
                          <a:lnTo>
                            <a:pt x="29" y="51"/>
                          </a:lnTo>
                          <a:lnTo>
                            <a:pt x="13" y="48"/>
                          </a:lnTo>
                          <a:lnTo>
                            <a:pt x="5" y="44"/>
                          </a:lnTo>
                          <a:lnTo>
                            <a:pt x="2" y="39"/>
                          </a:lnTo>
                          <a:lnTo>
                            <a:pt x="0" y="34"/>
                          </a:lnTo>
                          <a:lnTo>
                            <a:pt x="1" y="29"/>
                          </a:lnTo>
                          <a:lnTo>
                            <a:pt x="3" y="22"/>
                          </a:lnTo>
                          <a:lnTo>
                            <a:pt x="7" y="19"/>
                          </a:lnTo>
                          <a:lnTo>
                            <a:pt x="13" y="17"/>
                          </a:lnTo>
                          <a:lnTo>
                            <a:pt x="21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 flipH="1">
                      <a:off x="1385640" y="5910480"/>
                      <a:ext cx="669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46">
                          <a:moveTo>
                            <a:pt x="23" y="3"/>
                          </a:moveTo>
                          <a:lnTo>
                            <a:pt x="47" y="19"/>
                          </a:lnTo>
                          <a:lnTo>
                            <a:pt x="44" y="19"/>
                          </a:lnTo>
                          <a:lnTo>
                            <a:pt x="39" y="19"/>
                          </a:lnTo>
                          <a:lnTo>
                            <a:pt x="33" y="17"/>
                          </a:lnTo>
                          <a:lnTo>
                            <a:pt x="69" y="9"/>
                          </a:lnTo>
                          <a:lnTo>
                            <a:pt x="78" y="11"/>
                          </a:lnTo>
                          <a:lnTo>
                            <a:pt x="84" y="18"/>
                          </a:lnTo>
                          <a:lnTo>
                            <a:pt x="83" y="27"/>
                          </a:lnTo>
                          <a:lnTo>
                            <a:pt x="76" y="34"/>
                          </a:lnTo>
                          <a:lnTo>
                            <a:pt x="40" y="46"/>
                          </a:lnTo>
                          <a:lnTo>
                            <a:pt x="33" y="46"/>
                          </a:lnTo>
                          <a:lnTo>
                            <a:pt x="27" y="43"/>
                          </a:lnTo>
                          <a:lnTo>
                            <a:pt x="7" y="23"/>
                          </a:lnTo>
                          <a:lnTo>
                            <a:pt x="0" y="13"/>
                          </a:lnTo>
                          <a:lnTo>
                            <a:pt x="4" y="4"/>
                          </a:lnTo>
                          <a:lnTo>
                            <a:pt x="11" y="0"/>
                          </a:lnTo>
                          <a:lnTo>
                            <a:pt x="2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flipH="1">
                      <a:off x="1338120" y="5824800"/>
                      <a:ext cx="1224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81">
                          <a:moveTo>
                            <a:pt x="30" y="16"/>
                          </a:moveTo>
                          <a:lnTo>
                            <a:pt x="26" y="25"/>
                          </a:lnTo>
                          <a:lnTo>
                            <a:pt x="26" y="34"/>
                          </a:lnTo>
                          <a:lnTo>
                            <a:pt x="26" y="43"/>
                          </a:lnTo>
                          <a:lnTo>
                            <a:pt x="29" y="54"/>
                          </a:lnTo>
                          <a:lnTo>
                            <a:pt x="27" y="53"/>
                          </a:lnTo>
                          <a:lnTo>
                            <a:pt x="23" y="49"/>
                          </a:lnTo>
                          <a:lnTo>
                            <a:pt x="20" y="44"/>
                          </a:lnTo>
                          <a:lnTo>
                            <a:pt x="21" y="44"/>
                          </a:lnTo>
                          <a:lnTo>
                            <a:pt x="38" y="51"/>
                          </a:lnTo>
                          <a:lnTo>
                            <a:pt x="53" y="54"/>
                          </a:lnTo>
                          <a:lnTo>
                            <a:pt x="66" y="54"/>
                          </a:lnTo>
                          <a:lnTo>
                            <a:pt x="79" y="52"/>
                          </a:lnTo>
                          <a:lnTo>
                            <a:pt x="91" y="45"/>
                          </a:lnTo>
                          <a:lnTo>
                            <a:pt x="104" y="38"/>
                          </a:lnTo>
                          <a:lnTo>
                            <a:pt x="119" y="28"/>
                          </a:lnTo>
                          <a:lnTo>
                            <a:pt x="137" y="20"/>
                          </a:lnTo>
                          <a:lnTo>
                            <a:pt x="146" y="17"/>
                          </a:lnTo>
                          <a:lnTo>
                            <a:pt x="152" y="24"/>
                          </a:lnTo>
                          <a:lnTo>
                            <a:pt x="154" y="31"/>
                          </a:lnTo>
                          <a:lnTo>
                            <a:pt x="148" y="40"/>
                          </a:lnTo>
                          <a:lnTo>
                            <a:pt x="126" y="51"/>
                          </a:lnTo>
                          <a:lnTo>
                            <a:pt x="108" y="62"/>
                          </a:lnTo>
                          <a:lnTo>
                            <a:pt x="92" y="71"/>
                          </a:lnTo>
                          <a:lnTo>
                            <a:pt x="78" y="78"/>
                          </a:lnTo>
                          <a:lnTo>
                            <a:pt x="63" y="81"/>
                          </a:lnTo>
                          <a:lnTo>
                            <a:pt x="47" y="81"/>
                          </a:lnTo>
                          <a:lnTo>
                            <a:pt x="30" y="75"/>
                          </a:lnTo>
                          <a:lnTo>
                            <a:pt x="9" y="68"/>
                          </a:lnTo>
                          <a:lnTo>
                            <a:pt x="4" y="63"/>
                          </a:lnTo>
                          <a:lnTo>
                            <a:pt x="2" y="58"/>
                          </a:lnTo>
                          <a:lnTo>
                            <a:pt x="0" y="50"/>
                          </a:lnTo>
                          <a:lnTo>
                            <a:pt x="0" y="43"/>
                          </a:lnTo>
                          <a:lnTo>
                            <a:pt x="0" y="37"/>
                          </a:lnTo>
                          <a:lnTo>
                            <a:pt x="1" y="30"/>
                          </a:lnTo>
                          <a:lnTo>
                            <a:pt x="2" y="24"/>
                          </a:lnTo>
                          <a:lnTo>
                            <a:pt x="4" y="19"/>
                          </a:lnTo>
                          <a:lnTo>
                            <a:pt x="7" y="12"/>
                          </a:lnTo>
                          <a:lnTo>
                            <a:pt x="10" y="7"/>
                          </a:lnTo>
                          <a:lnTo>
                            <a:pt x="17" y="0"/>
                          </a:lnTo>
                          <a:lnTo>
                            <a:pt x="24" y="1"/>
                          </a:lnTo>
                          <a:lnTo>
                            <a:pt x="30" y="7"/>
                          </a:lnTo>
                          <a:lnTo>
                            <a:pt x="3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 flipH="1">
                      <a:off x="1376280" y="5774040"/>
                      <a:ext cx="10800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85">
                          <a:moveTo>
                            <a:pt x="41" y="13"/>
                          </a:moveTo>
                          <a:lnTo>
                            <a:pt x="31" y="21"/>
                          </a:lnTo>
                          <a:lnTo>
                            <a:pt x="24" y="30"/>
                          </a:lnTo>
                          <a:lnTo>
                            <a:pt x="20" y="36"/>
                          </a:lnTo>
                          <a:lnTo>
                            <a:pt x="19" y="44"/>
                          </a:lnTo>
                          <a:lnTo>
                            <a:pt x="20" y="49"/>
                          </a:lnTo>
                          <a:lnTo>
                            <a:pt x="27" y="55"/>
                          </a:lnTo>
                          <a:lnTo>
                            <a:pt x="35" y="59"/>
                          </a:lnTo>
                          <a:lnTo>
                            <a:pt x="49" y="63"/>
                          </a:lnTo>
                          <a:lnTo>
                            <a:pt x="60" y="60"/>
                          </a:lnTo>
                          <a:lnTo>
                            <a:pt x="71" y="57"/>
                          </a:lnTo>
                          <a:lnTo>
                            <a:pt x="79" y="55"/>
                          </a:lnTo>
                          <a:lnTo>
                            <a:pt x="89" y="53"/>
                          </a:lnTo>
                          <a:lnTo>
                            <a:pt x="96" y="49"/>
                          </a:lnTo>
                          <a:lnTo>
                            <a:pt x="105" y="47"/>
                          </a:lnTo>
                          <a:lnTo>
                            <a:pt x="114" y="44"/>
                          </a:lnTo>
                          <a:lnTo>
                            <a:pt x="123" y="41"/>
                          </a:lnTo>
                          <a:lnTo>
                            <a:pt x="130" y="39"/>
                          </a:lnTo>
                          <a:lnTo>
                            <a:pt x="135" y="44"/>
                          </a:lnTo>
                          <a:lnTo>
                            <a:pt x="135" y="49"/>
                          </a:lnTo>
                          <a:lnTo>
                            <a:pt x="132" y="56"/>
                          </a:lnTo>
                          <a:lnTo>
                            <a:pt x="121" y="59"/>
                          </a:lnTo>
                          <a:lnTo>
                            <a:pt x="113" y="63"/>
                          </a:lnTo>
                          <a:lnTo>
                            <a:pt x="103" y="68"/>
                          </a:lnTo>
                          <a:lnTo>
                            <a:pt x="94" y="72"/>
                          </a:lnTo>
                          <a:lnTo>
                            <a:pt x="84" y="75"/>
                          </a:lnTo>
                          <a:lnTo>
                            <a:pt x="73" y="78"/>
                          </a:lnTo>
                          <a:lnTo>
                            <a:pt x="61" y="82"/>
                          </a:lnTo>
                          <a:lnTo>
                            <a:pt x="49" y="85"/>
                          </a:lnTo>
                          <a:lnTo>
                            <a:pt x="27" y="78"/>
                          </a:lnTo>
                          <a:lnTo>
                            <a:pt x="12" y="72"/>
                          </a:lnTo>
                          <a:lnTo>
                            <a:pt x="2" y="63"/>
                          </a:lnTo>
                          <a:lnTo>
                            <a:pt x="0" y="55"/>
                          </a:lnTo>
                          <a:lnTo>
                            <a:pt x="0" y="43"/>
                          </a:lnTo>
                          <a:lnTo>
                            <a:pt x="6" y="31"/>
                          </a:lnTo>
                          <a:lnTo>
                            <a:pt x="16" y="17"/>
                          </a:lnTo>
                          <a:lnTo>
                            <a:pt x="31" y="3"/>
                          </a:lnTo>
                          <a:lnTo>
                            <a:pt x="35" y="0"/>
                          </a:lnTo>
                          <a:lnTo>
                            <a:pt x="41" y="3"/>
                          </a:lnTo>
                          <a:lnTo>
                            <a:pt x="42" y="7"/>
                          </a:lnTo>
                          <a:lnTo>
                            <a:pt x="41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1326600" y="5748480"/>
                      <a:ext cx="810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87">
                          <a:moveTo>
                            <a:pt x="31" y="13"/>
                          </a:moveTo>
                          <a:lnTo>
                            <a:pt x="26" y="31"/>
                          </a:lnTo>
                          <a:lnTo>
                            <a:pt x="25" y="44"/>
                          </a:lnTo>
                          <a:lnTo>
                            <a:pt x="27" y="51"/>
                          </a:lnTo>
                          <a:lnTo>
                            <a:pt x="33" y="57"/>
                          </a:lnTo>
                          <a:lnTo>
                            <a:pt x="40" y="58"/>
                          </a:lnTo>
                          <a:lnTo>
                            <a:pt x="53" y="56"/>
                          </a:lnTo>
                          <a:lnTo>
                            <a:pt x="67" y="51"/>
                          </a:lnTo>
                          <a:lnTo>
                            <a:pt x="86" y="47"/>
                          </a:lnTo>
                          <a:lnTo>
                            <a:pt x="96" y="47"/>
                          </a:lnTo>
                          <a:lnTo>
                            <a:pt x="103" y="54"/>
                          </a:lnTo>
                          <a:lnTo>
                            <a:pt x="103" y="59"/>
                          </a:lnTo>
                          <a:lnTo>
                            <a:pt x="101" y="64"/>
                          </a:lnTo>
                          <a:lnTo>
                            <a:pt x="98" y="67"/>
                          </a:lnTo>
                          <a:lnTo>
                            <a:pt x="94" y="72"/>
                          </a:lnTo>
                          <a:lnTo>
                            <a:pt x="64" y="79"/>
                          </a:lnTo>
                          <a:lnTo>
                            <a:pt x="41" y="86"/>
                          </a:lnTo>
                          <a:lnTo>
                            <a:pt x="23" y="87"/>
                          </a:lnTo>
                          <a:lnTo>
                            <a:pt x="11" y="85"/>
                          </a:lnTo>
                          <a:lnTo>
                            <a:pt x="4" y="75"/>
                          </a:lnTo>
                          <a:lnTo>
                            <a:pt x="0" y="61"/>
                          </a:lnTo>
                          <a:lnTo>
                            <a:pt x="3" y="37"/>
                          </a:lnTo>
                          <a:lnTo>
                            <a:pt x="10" y="8"/>
                          </a:lnTo>
                          <a:lnTo>
                            <a:pt x="14" y="1"/>
                          </a:lnTo>
                          <a:lnTo>
                            <a:pt x="22" y="0"/>
                          </a:lnTo>
                          <a:lnTo>
                            <a:pt x="28" y="4"/>
                          </a:lnTo>
                          <a:lnTo>
                            <a:pt x="31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 flipH="1">
                      <a:off x="1307880" y="5686560"/>
                      <a:ext cx="10008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84">
                          <a:moveTo>
                            <a:pt x="52" y="17"/>
                          </a:moveTo>
                          <a:lnTo>
                            <a:pt x="45" y="21"/>
                          </a:lnTo>
                          <a:lnTo>
                            <a:pt x="40" y="26"/>
                          </a:lnTo>
                          <a:lnTo>
                            <a:pt x="35" y="31"/>
                          </a:lnTo>
                          <a:lnTo>
                            <a:pt x="32" y="38"/>
                          </a:lnTo>
                          <a:lnTo>
                            <a:pt x="28" y="43"/>
                          </a:lnTo>
                          <a:lnTo>
                            <a:pt x="25" y="51"/>
                          </a:lnTo>
                          <a:lnTo>
                            <a:pt x="23" y="59"/>
                          </a:lnTo>
                          <a:lnTo>
                            <a:pt x="23" y="69"/>
                          </a:lnTo>
                          <a:lnTo>
                            <a:pt x="21" y="68"/>
                          </a:lnTo>
                          <a:lnTo>
                            <a:pt x="16" y="64"/>
                          </a:lnTo>
                          <a:lnTo>
                            <a:pt x="13" y="57"/>
                          </a:lnTo>
                          <a:lnTo>
                            <a:pt x="15" y="56"/>
                          </a:lnTo>
                          <a:lnTo>
                            <a:pt x="27" y="59"/>
                          </a:lnTo>
                          <a:lnTo>
                            <a:pt x="40" y="61"/>
                          </a:lnTo>
                          <a:lnTo>
                            <a:pt x="52" y="61"/>
                          </a:lnTo>
                          <a:lnTo>
                            <a:pt x="65" y="63"/>
                          </a:lnTo>
                          <a:lnTo>
                            <a:pt x="76" y="60"/>
                          </a:lnTo>
                          <a:lnTo>
                            <a:pt x="89" y="59"/>
                          </a:lnTo>
                          <a:lnTo>
                            <a:pt x="100" y="56"/>
                          </a:lnTo>
                          <a:lnTo>
                            <a:pt x="115" y="54"/>
                          </a:lnTo>
                          <a:lnTo>
                            <a:pt x="122" y="55"/>
                          </a:lnTo>
                          <a:lnTo>
                            <a:pt x="126" y="60"/>
                          </a:lnTo>
                          <a:lnTo>
                            <a:pt x="125" y="66"/>
                          </a:lnTo>
                          <a:lnTo>
                            <a:pt x="120" y="71"/>
                          </a:lnTo>
                          <a:lnTo>
                            <a:pt x="104" y="74"/>
                          </a:lnTo>
                          <a:lnTo>
                            <a:pt x="90" y="78"/>
                          </a:lnTo>
                          <a:lnTo>
                            <a:pt x="76" y="81"/>
                          </a:lnTo>
                          <a:lnTo>
                            <a:pt x="63" y="84"/>
                          </a:lnTo>
                          <a:lnTo>
                            <a:pt x="49" y="84"/>
                          </a:lnTo>
                          <a:lnTo>
                            <a:pt x="35" y="84"/>
                          </a:lnTo>
                          <a:lnTo>
                            <a:pt x="21" y="82"/>
                          </a:lnTo>
                          <a:lnTo>
                            <a:pt x="8" y="79"/>
                          </a:lnTo>
                          <a:lnTo>
                            <a:pt x="0" y="73"/>
                          </a:lnTo>
                          <a:lnTo>
                            <a:pt x="0" y="66"/>
                          </a:lnTo>
                          <a:lnTo>
                            <a:pt x="1" y="53"/>
                          </a:lnTo>
                          <a:lnTo>
                            <a:pt x="5" y="43"/>
                          </a:lnTo>
                          <a:lnTo>
                            <a:pt x="8" y="34"/>
                          </a:lnTo>
                          <a:lnTo>
                            <a:pt x="13" y="27"/>
                          </a:lnTo>
                          <a:lnTo>
                            <a:pt x="19" y="20"/>
                          </a:lnTo>
                          <a:lnTo>
                            <a:pt x="26" y="13"/>
                          </a:lnTo>
                          <a:lnTo>
                            <a:pt x="33" y="8"/>
                          </a:lnTo>
                          <a:lnTo>
                            <a:pt x="42" y="2"/>
                          </a:lnTo>
                          <a:lnTo>
                            <a:pt x="49" y="0"/>
                          </a:lnTo>
                          <a:lnTo>
                            <a:pt x="54" y="4"/>
                          </a:lnTo>
                          <a:lnTo>
                            <a:pt x="55" y="11"/>
                          </a:lnTo>
                          <a:lnTo>
                            <a:pt x="52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 flipH="1">
                      <a:off x="1428480" y="5739120"/>
                      <a:ext cx="1000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83">
                          <a:moveTo>
                            <a:pt x="40" y="15"/>
                          </a:moveTo>
                          <a:lnTo>
                            <a:pt x="31" y="22"/>
                          </a:lnTo>
                          <a:lnTo>
                            <a:pt x="26" y="28"/>
                          </a:lnTo>
                          <a:lnTo>
                            <a:pt x="21" y="31"/>
                          </a:lnTo>
                          <a:lnTo>
                            <a:pt x="21" y="34"/>
                          </a:lnTo>
                          <a:lnTo>
                            <a:pt x="20" y="37"/>
                          </a:lnTo>
                          <a:lnTo>
                            <a:pt x="21" y="45"/>
                          </a:lnTo>
                          <a:lnTo>
                            <a:pt x="22" y="55"/>
                          </a:lnTo>
                          <a:lnTo>
                            <a:pt x="23" y="71"/>
                          </a:lnTo>
                          <a:lnTo>
                            <a:pt x="20" y="72"/>
                          </a:lnTo>
                          <a:lnTo>
                            <a:pt x="14" y="68"/>
                          </a:lnTo>
                          <a:lnTo>
                            <a:pt x="9" y="62"/>
                          </a:lnTo>
                          <a:lnTo>
                            <a:pt x="12" y="60"/>
                          </a:lnTo>
                          <a:lnTo>
                            <a:pt x="28" y="59"/>
                          </a:lnTo>
                          <a:lnTo>
                            <a:pt x="43" y="59"/>
                          </a:lnTo>
                          <a:lnTo>
                            <a:pt x="56" y="59"/>
                          </a:lnTo>
                          <a:lnTo>
                            <a:pt x="69" y="59"/>
                          </a:lnTo>
                          <a:lnTo>
                            <a:pt x="79" y="56"/>
                          </a:lnTo>
                          <a:lnTo>
                            <a:pt x="90" y="54"/>
                          </a:lnTo>
                          <a:lnTo>
                            <a:pt x="101" y="49"/>
                          </a:lnTo>
                          <a:lnTo>
                            <a:pt x="114" y="45"/>
                          </a:lnTo>
                          <a:lnTo>
                            <a:pt x="119" y="44"/>
                          </a:lnTo>
                          <a:lnTo>
                            <a:pt x="125" y="48"/>
                          </a:lnTo>
                          <a:lnTo>
                            <a:pt x="126" y="55"/>
                          </a:lnTo>
                          <a:lnTo>
                            <a:pt x="121" y="61"/>
                          </a:lnTo>
                          <a:lnTo>
                            <a:pt x="107" y="66"/>
                          </a:lnTo>
                          <a:lnTo>
                            <a:pt x="95" y="71"/>
                          </a:lnTo>
                          <a:lnTo>
                            <a:pt x="84" y="74"/>
                          </a:lnTo>
                          <a:lnTo>
                            <a:pt x="73" y="78"/>
                          </a:lnTo>
                          <a:lnTo>
                            <a:pt x="59" y="79"/>
                          </a:lnTo>
                          <a:lnTo>
                            <a:pt x="46" y="81"/>
                          </a:lnTo>
                          <a:lnTo>
                            <a:pt x="30" y="81"/>
                          </a:lnTo>
                          <a:lnTo>
                            <a:pt x="12" y="83"/>
                          </a:lnTo>
                          <a:lnTo>
                            <a:pt x="3" y="79"/>
                          </a:lnTo>
                          <a:lnTo>
                            <a:pt x="1" y="71"/>
                          </a:lnTo>
                          <a:lnTo>
                            <a:pt x="0" y="51"/>
                          </a:lnTo>
                          <a:lnTo>
                            <a:pt x="0" y="38"/>
                          </a:lnTo>
                          <a:lnTo>
                            <a:pt x="0" y="31"/>
                          </a:lnTo>
                          <a:lnTo>
                            <a:pt x="2" y="27"/>
                          </a:lnTo>
                          <a:lnTo>
                            <a:pt x="4" y="22"/>
                          </a:lnTo>
                          <a:lnTo>
                            <a:pt x="9" y="18"/>
                          </a:lnTo>
                          <a:lnTo>
                            <a:pt x="17" y="12"/>
                          </a:lnTo>
                          <a:lnTo>
                            <a:pt x="28" y="3"/>
                          </a:lnTo>
                          <a:lnTo>
                            <a:pt x="33" y="0"/>
                          </a:lnTo>
                          <a:lnTo>
                            <a:pt x="40" y="3"/>
                          </a:lnTo>
                          <a:lnTo>
                            <a:pt x="42" y="8"/>
                          </a:lnTo>
                          <a:lnTo>
                            <a:pt x="4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 flipH="1">
                      <a:off x="1307880" y="5884920"/>
                      <a:ext cx="9864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84">
                          <a:moveTo>
                            <a:pt x="45" y="16"/>
                          </a:moveTo>
                          <a:lnTo>
                            <a:pt x="39" y="22"/>
                          </a:lnTo>
                          <a:lnTo>
                            <a:pt x="37" y="29"/>
                          </a:lnTo>
                          <a:lnTo>
                            <a:pt x="34" y="35"/>
                          </a:lnTo>
                          <a:lnTo>
                            <a:pt x="33" y="41"/>
                          </a:lnTo>
                          <a:lnTo>
                            <a:pt x="31" y="48"/>
                          </a:lnTo>
                          <a:lnTo>
                            <a:pt x="30" y="54"/>
                          </a:lnTo>
                          <a:lnTo>
                            <a:pt x="28" y="62"/>
                          </a:lnTo>
                          <a:lnTo>
                            <a:pt x="27" y="70"/>
                          </a:lnTo>
                          <a:lnTo>
                            <a:pt x="23" y="70"/>
                          </a:lnTo>
                          <a:lnTo>
                            <a:pt x="18" y="64"/>
                          </a:lnTo>
                          <a:lnTo>
                            <a:pt x="13" y="57"/>
                          </a:lnTo>
                          <a:lnTo>
                            <a:pt x="17" y="54"/>
                          </a:lnTo>
                          <a:lnTo>
                            <a:pt x="26" y="55"/>
                          </a:lnTo>
                          <a:lnTo>
                            <a:pt x="36" y="58"/>
                          </a:lnTo>
                          <a:lnTo>
                            <a:pt x="45" y="58"/>
                          </a:lnTo>
                          <a:lnTo>
                            <a:pt x="54" y="59"/>
                          </a:lnTo>
                          <a:lnTo>
                            <a:pt x="63" y="58"/>
                          </a:lnTo>
                          <a:lnTo>
                            <a:pt x="71" y="58"/>
                          </a:lnTo>
                          <a:lnTo>
                            <a:pt x="81" y="55"/>
                          </a:lnTo>
                          <a:lnTo>
                            <a:pt x="92" y="54"/>
                          </a:lnTo>
                          <a:lnTo>
                            <a:pt x="119" y="58"/>
                          </a:lnTo>
                          <a:lnTo>
                            <a:pt x="123" y="59"/>
                          </a:lnTo>
                          <a:lnTo>
                            <a:pt x="125" y="62"/>
                          </a:lnTo>
                          <a:lnTo>
                            <a:pt x="124" y="65"/>
                          </a:lnTo>
                          <a:lnTo>
                            <a:pt x="121" y="69"/>
                          </a:lnTo>
                          <a:lnTo>
                            <a:pt x="96" y="80"/>
                          </a:lnTo>
                          <a:lnTo>
                            <a:pt x="83" y="81"/>
                          </a:lnTo>
                          <a:lnTo>
                            <a:pt x="73" y="83"/>
                          </a:lnTo>
                          <a:lnTo>
                            <a:pt x="63" y="83"/>
                          </a:lnTo>
                          <a:lnTo>
                            <a:pt x="53" y="84"/>
                          </a:lnTo>
                          <a:lnTo>
                            <a:pt x="42" y="83"/>
                          </a:lnTo>
                          <a:lnTo>
                            <a:pt x="33" y="83"/>
                          </a:lnTo>
                          <a:lnTo>
                            <a:pt x="22" y="81"/>
                          </a:lnTo>
                          <a:lnTo>
                            <a:pt x="11" y="80"/>
                          </a:lnTo>
                          <a:lnTo>
                            <a:pt x="5" y="77"/>
                          </a:lnTo>
                          <a:lnTo>
                            <a:pt x="2" y="74"/>
                          </a:lnTo>
                          <a:lnTo>
                            <a:pt x="0" y="69"/>
                          </a:lnTo>
                          <a:lnTo>
                            <a:pt x="2" y="64"/>
                          </a:lnTo>
                          <a:lnTo>
                            <a:pt x="3" y="54"/>
                          </a:lnTo>
                          <a:lnTo>
                            <a:pt x="6" y="47"/>
                          </a:lnTo>
                          <a:lnTo>
                            <a:pt x="8" y="39"/>
                          </a:lnTo>
                          <a:lnTo>
                            <a:pt x="11" y="33"/>
                          </a:lnTo>
                          <a:lnTo>
                            <a:pt x="14" y="25"/>
                          </a:lnTo>
                          <a:lnTo>
                            <a:pt x="18" y="18"/>
                          </a:lnTo>
                          <a:lnTo>
                            <a:pt x="22" y="10"/>
                          </a:lnTo>
                          <a:lnTo>
                            <a:pt x="28" y="4"/>
                          </a:lnTo>
                          <a:lnTo>
                            <a:pt x="35" y="0"/>
                          </a:lnTo>
                          <a:lnTo>
                            <a:pt x="41" y="2"/>
                          </a:lnTo>
                          <a:lnTo>
                            <a:pt x="46" y="7"/>
                          </a:lnTo>
                          <a:lnTo>
                            <a:pt x="45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 flipH="1">
                      <a:off x="1274760" y="5942160"/>
                      <a:ext cx="1000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75">
                          <a:moveTo>
                            <a:pt x="45" y="15"/>
                          </a:moveTo>
                          <a:lnTo>
                            <a:pt x="39" y="18"/>
                          </a:lnTo>
                          <a:lnTo>
                            <a:pt x="35" y="23"/>
                          </a:lnTo>
                          <a:lnTo>
                            <a:pt x="31" y="29"/>
                          </a:lnTo>
                          <a:lnTo>
                            <a:pt x="30" y="35"/>
                          </a:lnTo>
                          <a:lnTo>
                            <a:pt x="28" y="40"/>
                          </a:lnTo>
                          <a:lnTo>
                            <a:pt x="27" y="47"/>
                          </a:lnTo>
                          <a:lnTo>
                            <a:pt x="27" y="54"/>
                          </a:lnTo>
                          <a:lnTo>
                            <a:pt x="27" y="62"/>
                          </a:lnTo>
                          <a:lnTo>
                            <a:pt x="23" y="63"/>
                          </a:lnTo>
                          <a:lnTo>
                            <a:pt x="17" y="58"/>
                          </a:lnTo>
                          <a:lnTo>
                            <a:pt x="13" y="51"/>
                          </a:lnTo>
                          <a:lnTo>
                            <a:pt x="15" y="48"/>
                          </a:lnTo>
                          <a:lnTo>
                            <a:pt x="33" y="49"/>
                          </a:lnTo>
                          <a:lnTo>
                            <a:pt x="48" y="50"/>
                          </a:lnTo>
                          <a:lnTo>
                            <a:pt x="59" y="50"/>
                          </a:lnTo>
                          <a:lnTo>
                            <a:pt x="71" y="50"/>
                          </a:lnTo>
                          <a:lnTo>
                            <a:pt x="81" y="47"/>
                          </a:lnTo>
                          <a:lnTo>
                            <a:pt x="92" y="44"/>
                          </a:lnTo>
                          <a:lnTo>
                            <a:pt x="102" y="37"/>
                          </a:lnTo>
                          <a:lnTo>
                            <a:pt x="116" y="30"/>
                          </a:lnTo>
                          <a:lnTo>
                            <a:pt x="121" y="29"/>
                          </a:lnTo>
                          <a:lnTo>
                            <a:pt x="125" y="32"/>
                          </a:lnTo>
                          <a:lnTo>
                            <a:pt x="126" y="36"/>
                          </a:lnTo>
                          <a:lnTo>
                            <a:pt x="124" y="40"/>
                          </a:lnTo>
                          <a:lnTo>
                            <a:pt x="109" y="49"/>
                          </a:lnTo>
                          <a:lnTo>
                            <a:pt x="96" y="58"/>
                          </a:lnTo>
                          <a:lnTo>
                            <a:pt x="85" y="64"/>
                          </a:lnTo>
                          <a:lnTo>
                            <a:pt x="74" y="69"/>
                          </a:lnTo>
                          <a:lnTo>
                            <a:pt x="62" y="73"/>
                          </a:lnTo>
                          <a:lnTo>
                            <a:pt x="49" y="75"/>
                          </a:lnTo>
                          <a:lnTo>
                            <a:pt x="31" y="75"/>
                          </a:lnTo>
                          <a:lnTo>
                            <a:pt x="12" y="74"/>
                          </a:lnTo>
                          <a:lnTo>
                            <a:pt x="2" y="69"/>
                          </a:lnTo>
                          <a:lnTo>
                            <a:pt x="0" y="61"/>
                          </a:lnTo>
                          <a:lnTo>
                            <a:pt x="0" y="50"/>
                          </a:lnTo>
                          <a:lnTo>
                            <a:pt x="3" y="41"/>
                          </a:lnTo>
                          <a:lnTo>
                            <a:pt x="6" y="33"/>
                          </a:lnTo>
                          <a:lnTo>
                            <a:pt x="10" y="26"/>
                          </a:lnTo>
                          <a:lnTo>
                            <a:pt x="14" y="20"/>
                          </a:lnTo>
                          <a:lnTo>
                            <a:pt x="21" y="14"/>
                          </a:lnTo>
                          <a:lnTo>
                            <a:pt x="27" y="7"/>
                          </a:lnTo>
                          <a:lnTo>
                            <a:pt x="36" y="2"/>
                          </a:lnTo>
                          <a:lnTo>
                            <a:pt x="41" y="0"/>
                          </a:lnTo>
                          <a:lnTo>
                            <a:pt x="47" y="3"/>
                          </a:lnTo>
                          <a:lnTo>
                            <a:pt x="48" y="8"/>
                          </a:lnTo>
                          <a:lnTo>
                            <a:pt x="45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 flipH="1">
                      <a:off x="1224000" y="5884920"/>
                      <a:ext cx="1015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96">
                          <a:moveTo>
                            <a:pt x="47" y="15"/>
                          </a:moveTo>
                          <a:lnTo>
                            <a:pt x="23" y="57"/>
                          </a:lnTo>
                          <a:lnTo>
                            <a:pt x="21" y="55"/>
                          </a:lnTo>
                          <a:lnTo>
                            <a:pt x="21" y="50"/>
                          </a:lnTo>
                          <a:lnTo>
                            <a:pt x="21" y="44"/>
                          </a:lnTo>
                          <a:lnTo>
                            <a:pt x="23" y="44"/>
                          </a:lnTo>
                          <a:lnTo>
                            <a:pt x="28" y="52"/>
                          </a:lnTo>
                          <a:lnTo>
                            <a:pt x="31" y="60"/>
                          </a:lnTo>
                          <a:lnTo>
                            <a:pt x="33" y="64"/>
                          </a:lnTo>
                          <a:lnTo>
                            <a:pt x="36" y="67"/>
                          </a:lnTo>
                          <a:lnTo>
                            <a:pt x="37" y="68"/>
                          </a:lnTo>
                          <a:lnTo>
                            <a:pt x="41" y="68"/>
                          </a:lnTo>
                          <a:lnTo>
                            <a:pt x="45" y="67"/>
                          </a:lnTo>
                          <a:lnTo>
                            <a:pt x="52" y="65"/>
                          </a:lnTo>
                          <a:lnTo>
                            <a:pt x="70" y="57"/>
                          </a:lnTo>
                          <a:lnTo>
                            <a:pt x="80" y="52"/>
                          </a:lnTo>
                          <a:lnTo>
                            <a:pt x="87" y="50"/>
                          </a:lnTo>
                          <a:lnTo>
                            <a:pt x="91" y="50"/>
                          </a:lnTo>
                          <a:lnTo>
                            <a:pt x="93" y="49"/>
                          </a:lnTo>
                          <a:lnTo>
                            <a:pt x="99" y="48"/>
                          </a:lnTo>
                          <a:lnTo>
                            <a:pt x="106" y="44"/>
                          </a:lnTo>
                          <a:lnTo>
                            <a:pt x="119" y="36"/>
                          </a:lnTo>
                          <a:lnTo>
                            <a:pt x="123" y="34"/>
                          </a:lnTo>
                          <a:lnTo>
                            <a:pt x="128" y="37"/>
                          </a:lnTo>
                          <a:lnTo>
                            <a:pt x="129" y="41"/>
                          </a:lnTo>
                          <a:lnTo>
                            <a:pt x="127" y="47"/>
                          </a:lnTo>
                          <a:lnTo>
                            <a:pt x="113" y="54"/>
                          </a:lnTo>
                          <a:lnTo>
                            <a:pt x="106" y="61"/>
                          </a:lnTo>
                          <a:lnTo>
                            <a:pt x="101" y="64"/>
                          </a:lnTo>
                          <a:lnTo>
                            <a:pt x="100" y="67"/>
                          </a:lnTo>
                          <a:lnTo>
                            <a:pt x="95" y="69"/>
                          </a:lnTo>
                          <a:lnTo>
                            <a:pt x="90" y="73"/>
                          </a:lnTo>
                          <a:lnTo>
                            <a:pt x="79" y="78"/>
                          </a:lnTo>
                          <a:lnTo>
                            <a:pt x="62" y="87"/>
                          </a:lnTo>
                          <a:lnTo>
                            <a:pt x="48" y="92"/>
                          </a:lnTo>
                          <a:lnTo>
                            <a:pt x="39" y="95"/>
                          </a:lnTo>
                          <a:lnTo>
                            <a:pt x="32" y="96"/>
                          </a:lnTo>
                          <a:lnTo>
                            <a:pt x="29" y="96"/>
                          </a:lnTo>
                          <a:lnTo>
                            <a:pt x="23" y="92"/>
                          </a:lnTo>
                          <a:lnTo>
                            <a:pt x="19" y="84"/>
                          </a:lnTo>
                          <a:lnTo>
                            <a:pt x="11" y="72"/>
                          </a:lnTo>
                          <a:lnTo>
                            <a:pt x="3" y="57"/>
                          </a:lnTo>
                          <a:lnTo>
                            <a:pt x="0" y="49"/>
                          </a:lnTo>
                          <a:lnTo>
                            <a:pt x="3" y="44"/>
                          </a:lnTo>
                          <a:lnTo>
                            <a:pt x="31" y="5"/>
                          </a:lnTo>
                          <a:lnTo>
                            <a:pt x="36" y="0"/>
                          </a:lnTo>
                          <a:lnTo>
                            <a:pt x="44" y="2"/>
                          </a:lnTo>
                          <a:lnTo>
                            <a:pt x="48" y="6"/>
                          </a:lnTo>
                          <a:lnTo>
                            <a:pt x="47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 flipH="1">
                      <a:off x="1149120" y="5877000"/>
                      <a:ext cx="9216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92">
                          <a:moveTo>
                            <a:pt x="61" y="12"/>
                          </a:moveTo>
                          <a:lnTo>
                            <a:pt x="54" y="16"/>
                          </a:lnTo>
                          <a:lnTo>
                            <a:pt x="48" y="21"/>
                          </a:lnTo>
                          <a:lnTo>
                            <a:pt x="43" y="28"/>
                          </a:lnTo>
                          <a:lnTo>
                            <a:pt x="40" y="34"/>
                          </a:lnTo>
                          <a:lnTo>
                            <a:pt x="36" y="41"/>
                          </a:lnTo>
                          <a:lnTo>
                            <a:pt x="31" y="47"/>
                          </a:lnTo>
                          <a:lnTo>
                            <a:pt x="27" y="54"/>
                          </a:lnTo>
                          <a:lnTo>
                            <a:pt x="24" y="61"/>
                          </a:lnTo>
                          <a:lnTo>
                            <a:pt x="19" y="60"/>
                          </a:lnTo>
                          <a:lnTo>
                            <a:pt x="18" y="53"/>
                          </a:lnTo>
                          <a:lnTo>
                            <a:pt x="18" y="45"/>
                          </a:lnTo>
                          <a:lnTo>
                            <a:pt x="22" y="45"/>
                          </a:lnTo>
                          <a:lnTo>
                            <a:pt x="29" y="52"/>
                          </a:lnTo>
                          <a:lnTo>
                            <a:pt x="34" y="58"/>
                          </a:lnTo>
                          <a:lnTo>
                            <a:pt x="38" y="61"/>
                          </a:lnTo>
                          <a:lnTo>
                            <a:pt x="41" y="64"/>
                          </a:lnTo>
                          <a:lnTo>
                            <a:pt x="43" y="64"/>
                          </a:lnTo>
                          <a:lnTo>
                            <a:pt x="46" y="66"/>
                          </a:lnTo>
                          <a:lnTo>
                            <a:pt x="52" y="63"/>
                          </a:lnTo>
                          <a:lnTo>
                            <a:pt x="61" y="61"/>
                          </a:lnTo>
                          <a:lnTo>
                            <a:pt x="67" y="58"/>
                          </a:lnTo>
                          <a:lnTo>
                            <a:pt x="73" y="55"/>
                          </a:lnTo>
                          <a:lnTo>
                            <a:pt x="79" y="52"/>
                          </a:lnTo>
                          <a:lnTo>
                            <a:pt x="84" y="49"/>
                          </a:lnTo>
                          <a:lnTo>
                            <a:pt x="95" y="43"/>
                          </a:lnTo>
                          <a:lnTo>
                            <a:pt x="106" y="35"/>
                          </a:lnTo>
                          <a:lnTo>
                            <a:pt x="111" y="34"/>
                          </a:lnTo>
                          <a:lnTo>
                            <a:pt x="115" y="37"/>
                          </a:lnTo>
                          <a:lnTo>
                            <a:pt x="116" y="40"/>
                          </a:lnTo>
                          <a:lnTo>
                            <a:pt x="114" y="45"/>
                          </a:lnTo>
                          <a:lnTo>
                            <a:pt x="103" y="55"/>
                          </a:lnTo>
                          <a:lnTo>
                            <a:pt x="94" y="66"/>
                          </a:lnTo>
                          <a:lnTo>
                            <a:pt x="88" y="70"/>
                          </a:lnTo>
                          <a:lnTo>
                            <a:pt x="83" y="74"/>
                          </a:lnTo>
                          <a:lnTo>
                            <a:pt x="76" y="78"/>
                          </a:lnTo>
                          <a:lnTo>
                            <a:pt x="71" y="84"/>
                          </a:lnTo>
                          <a:lnTo>
                            <a:pt x="57" y="88"/>
                          </a:lnTo>
                          <a:lnTo>
                            <a:pt x="47" y="91"/>
                          </a:lnTo>
                          <a:lnTo>
                            <a:pt x="41" y="92"/>
                          </a:lnTo>
                          <a:lnTo>
                            <a:pt x="38" y="92"/>
                          </a:lnTo>
                          <a:lnTo>
                            <a:pt x="32" y="89"/>
                          </a:lnTo>
                          <a:lnTo>
                            <a:pt x="26" y="83"/>
                          </a:lnTo>
                          <a:lnTo>
                            <a:pt x="17" y="74"/>
                          </a:lnTo>
                          <a:lnTo>
                            <a:pt x="5" y="63"/>
                          </a:lnTo>
                          <a:lnTo>
                            <a:pt x="0" y="55"/>
                          </a:lnTo>
                          <a:lnTo>
                            <a:pt x="3" y="47"/>
                          </a:lnTo>
                          <a:lnTo>
                            <a:pt x="9" y="39"/>
                          </a:lnTo>
                          <a:lnTo>
                            <a:pt x="14" y="32"/>
                          </a:lnTo>
                          <a:lnTo>
                            <a:pt x="19" y="27"/>
                          </a:lnTo>
                          <a:lnTo>
                            <a:pt x="26" y="21"/>
                          </a:lnTo>
                          <a:lnTo>
                            <a:pt x="32" y="16"/>
                          </a:lnTo>
                          <a:lnTo>
                            <a:pt x="39" y="11"/>
                          </a:lnTo>
                          <a:lnTo>
                            <a:pt x="45" y="5"/>
                          </a:lnTo>
                          <a:lnTo>
                            <a:pt x="54" y="1"/>
                          </a:lnTo>
                          <a:lnTo>
                            <a:pt x="58" y="0"/>
                          </a:lnTo>
                          <a:lnTo>
                            <a:pt x="62" y="2"/>
                          </a:lnTo>
                          <a:lnTo>
                            <a:pt x="63" y="6"/>
                          </a:lnTo>
                          <a:lnTo>
                            <a:pt x="61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 flipH="1">
                      <a:off x="1224000" y="5830920"/>
                      <a:ext cx="77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89">
                          <a:moveTo>
                            <a:pt x="51" y="14"/>
                          </a:moveTo>
                          <a:lnTo>
                            <a:pt x="40" y="19"/>
                          </a:lnTo>
                          <a:lnTo>
                            <a:pt x="32" y="26"/>
                          </a:lnTo>
                          <a:lnTo>
                            <a:pt x="27" y="32"/>
                          </a:lnTo>
                          <a:lnTo>
                            <a:pt x="25" y="39"/>
                          </a:lnTo>
                          <a:lnTo>
                            <a:pt x="22" y="45"/>
                          </a:lnTo>
                          <a:lnTo>
                            <a:pt x="23" y="53"/>
                          </a:lnTo>
                          <a:lnTo>
                            <a:pt x="27" y="62"/>
                          </a:lnTo>
                          <a:lnTo>
                            <a:pt x="32" y="73"/>
                          </a:lnTo>
                          <a:lnTo>
                            <a:pt x="30" y="73"/>
                          </a:lnTo>
                          <a:lnTo>
                            <a:pt x="25" y="71"/>
                          </a:lnTo>
                          <a:lnTo>
                            <a:pt x="20" y="68"/>
                          </a:lnTo>
                          <a:lnTo>
                            <a:pt x="21" y="66"/>
                          </a:lnTo>
                          <a:lnTo>
                            <a:pt x="32" y="65"/>
                          </a:lnTo>
                          <a:lnTo>
                            <a:pt x="43" y="64"/>
                          </a:lnTo>
                          <a:lnTo>
                            <a:pt x="51" y="62"/>
                          </a:lnTo>
                          <a:lnTo>
                            <a:pt x="60" y="61"/>
                          </a:lnTo>
                          <a:lnTo>
                            <a:pt x="67" y="58"/>
                          </a:lnTo>
                          <a:lnTo>
                            <a:pt x="74" y="55"/>
                          </a:lnTo>
                          <a:lnTo>
                            <a:pt x="80" y="50"/>
                          </a:lnTo>
                          <a:lnTo>
                            <a:pt x="88" y="46"/>
                          </a:lnTo>
                          <a:lnTo>
                            <a:pt x="92" y="45"/>
                          </a:lnTo>
                          <a:lnTo>
                            <a:pt x="97" y="48"/>
                          </a:lnTo>
                          <a:lnTo>
                            <a:pt x="98" y="53"/>
                          </a:lnTo>
                          <a:lnTo>
                            <a:pt x="96" y="57"/>
                          </a:lnTo>
                          <a:lnTo>
                            <a:pt x="86" y="62"/>
                          </a:lnTo>
                          <a:lnTo>
                            <a:pt x="79" y="68"/>
                          </a:lnTo>
                          <a:lnTo>
                            <a:pt x="72" y="73"/>
                          </a:lnTo>
                          <a:lnTo>
                            <a:pt x="64" y="78"/>
                          </a:lnTo>
                          <a:lnTo>
                            <a:pt x="56" y="82"/>
                          </a:lnTo>
                          <a:lnTo>
                            <a:pt x="46" y="86"/>
                          </a:lnTo>
                          <a:lnTo>
                            <a:pt x="34" y="88"/>
                          </a:lnTo>
                          <a:lnTo>
                            <a:pt x="21" y="89"/>
                          </a:lnTo>
                          <a:lnTo>
                            <a:pt x="15" y="87"/>
                          </a:lnTo>
                          <a:lnTo>
                            <a:pt x="11" y="83"/>
                          </a:lnTo>
                          <a:lnTo>
                            <a:pt x="4" y="66"/>
                          </a:lnTo>
                          <a:lnTo>
                            <a:pt x="1" y="55"/>
                          </a:lnTo>
                          <a:lnTo>
                            <a:pt x="0" y="44"/>
                          </a:lnTo>
                          <a:lnTo>
                            <a:pt x="3" y="35"/>
                          </a:lnTo>
                          <a:lnTo>
                            <a:pt x="7" y="26"/>
                          </a:lnTo>
                          <a:lnTo>
                            <a:pt x="17" y="18"/>
                          </a:lnTo>
                          <a:lnTo>
                            <a:pt x="28" y="10"/>
                          </a:lnTo>
                          <a:lnTo>
                            <a:pt x="44" y="1"/>
                          </a:lnTo>
                          <a:lnTo>
                            <a:pt x="49" y="0"/>
                          </a:lnTo>
                          <a:lnTo>
                            <a:pt x="54" y="3"/>
                          </a:lnTo>
                          <a:lnTo>
                            <a:pt x="55" y="8"/>
                          </a:lnTo>
                          <a:lnTo>
                            <a:pt x="5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 flipH="1">
                      <a:off x="1160280" y="5762880"/>
                      <a:ext cx="8424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64">
                          <a:moveTo>
                            <a:pt x="37" y="16"/>
                          </a:moveTo>
                          <a:lnTo>
                            <a:pt x="29" y="18"/>
                          </a:lnTo>
                          <a:lnTo>
                            <a:pt x="25" y="20"/>
                          </a:lnTo>
                          <a:lnTo>
                            <a:pt x="21" y="21"/>
                          </a:lnTo>
                          <a:lnTo>
                            <a:pt x="21" y="25"/>
                          </a:lnTo>
                          <a:lnTo>
                            <a:pt x="20" y="28"/>
                          </a:lnTo>
                          <a:lnTo>
                            <a:pt x="21" y="33"/>
                          </a:lnTo>
                          <a:lnTo>
                            <a:pt x="22" y="41"/>
                          </a:lnTo>
                          <a:lnTo>
                            <a:pt x="23" y="53"/>
                          </a:lnTo>
                          <a:lnTo>
                            <a:pt x="20" y="54"/>
                          </a:lnTo>
                          <a:lnTo>
                            <a:pt x="14" y="49"/>
                          </a:lnTo>
                          <a:lnTo>
                            <a:pt x="9" y="43"/>
                          </a:lnTo>
                          <a:lnTo>
                            <a:pt x="12" y="41"/>
                          </a:lnTo>
                          <a:lnTo>
                            <a:pt x="25" y="39"/>
                          </a:lnTo>
                          <a:lnTo>
                            <a:pt x="36" y="38"/>
                          </a:lnTo>
                          <a:lnTo>
                            <a:pt x="46" y="35"/>
                          </a:lnTo>
                          <a:lnTo>
                            <a:pt x="57" y="33"/>
                          </a:lnTo>
                          <a:lnTo>
                            <a:pt x="64" y="29"/>
                          </a:lnTo>
                          <a:lnTo>
                            <a:pt x="74" y="26"/>
                          </a:lnTo>
                          <a:lnTo>
                            <a:pt x="82" y="21"/>
                          </a:lnTo>
                          <a:lnTo>
                            <a:pt x="91" y="17"/>
                          </a:lnTo>
                          <a:lnTo>
                            <a:pt x="100" y="15"/>
                          </a:lnTo>
                          <a:lnTo>
                            <a:pt x="105" y="20"/>
                          </a:lnTo>
                          <a:lnTo>
                            <a:pt x="106" y="28"/>
                          </a:lnTo>
                          <a:lnTo>
                            <a:pt x="101" y="37"/>
                          </a:lnTo>
                          <a:lnTo>
                            <a:pt x="90" y="41"/>
                          </a:lnTo>
                          <a:lnTo>
                            <a:pt x="82" y="45"/>
                          </a:lnTo>
                          <a:lnTo>
                            <a:pt x="72" y="49"/>
                          </a:lnTo>
                          <a:lnTo>
                            <a:pt x="62" y="55"/>
                          </a:lnTo>
                          <a:lnTo>
                            <a:pt x="51" y="57"/>
                          </a:lnTo>
                          <a:lnTo>
                            <a:pt x="41" y="60"/>
                          </a:lnTo>
                          <a:lnTo>
                            <a:pt x="27" y="62"/>
                          </a:lnTo>
                          <a:lnTo>
                            <a:pt x="13" y="64"/>
                          </a:lnTo>
                          <a:lnTo>
                            <a:pt x="3" y="61"/>
                          </a:lnTo>
                          <a:lnTo>
                            <a:pt x="1" y="53"/>
                          </a:lnTo>
                          <a:lnTo>
                            <a:pt x="0" y="34"/>
                          </a:lnTo>
                          <a:lnTo>
                            <a:pt x="0" y="24"/>
                          </a:lnTo>
                          <a:lnTo>
                            <a:pt x="0" y="16"/>
                          </a:lnTo>
                          <a:lnTo>
                            <a:pt x="2" y="12"/>
                          </a:lnTo>
                          <a:lnTo>
                            <a:pt x="4" y="9"/>
                          </a:lnTo>
                          <a:lnTo>
                            <a:pt x="11" y="7"/>
                          </a:lnTo>
                          <a:lnTo>
                            <a:pt x="18" y="4"/>
                          </a:lnTo>
                          <a:lnTo>
                            <a:pt x="31" y="1"/>
                          </a:lnTo>
                          <a:lnTo>
                            <a:pt x="37" y="0"/>
                          </a:lnTo>
                          <a:lnTo>
                            <a:pt x="42" y="4"/>
                          </a:lnTo>
                          <a:lnTo>
                            <a:pt x="42" y="11"/>
                          </a:lnTo>
                          <a:lnTo>
                            <a:pt x="37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 flipH="1">
                      <a:off x="1033200" y="5865840"/>
                      <a:ext cx="1224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8">
                          <a:moveTo>
                            <a:pt x="19" y="44"/>
                          </a:moveTo>
                          <a:lnTo>
                            <a:pt x="25" y="52"/>
                          </a:lnTo>
                          <a:lnTo>
                            <a:pt x="33" y="58"/>
                          </a:lnTo>
                          <a:lnTo>
                            <a:pt x="36" y="60"/>
                          </a:lnTo>
                          <a:lnTo>
                            <a:pt x="42" y="62"/>
                          </a:lnTo>
                          <a:lnTo>
                            <a:pt x="47" y="63"/>
                          </a:lnTo>
                          <a:lnTo>
                            <a:pt x="53" y="66"/>
                          </a:lnTo>
                          <a:lnTo>
                            <a:pt x="70" y="59"/>
                          </a:lnTo>
                          <a:lnTo>
                            <a:pt x="79" y="56"/>
                          </a:lnTo>
                          <a:lnTo>
                            <a:pt x="85" y="54"/>
                          </a:lnTo>
                          <a:lnTo>
                            <a:pt x="87" y="54"/>
                          </a:lnTo>
                          <a:lnTo>
                            <a:pt x="87" y="52"/>
                          </a:lnTo>
                          <a:lnTo>
                            <a:pt x="90" y="49"/>
                          </a:lnTo>
                          <a:lnTo>
                            <a:pt x="96" y="44"/>
                          </a:lnTo>
                          <a:lnTo>
                            <a:pt x="110" y="37"/>
                          </a:lnTo>
                          <a:lnTo>
                            <a:pt x="136" y="19"/>
                          </a:lnTo>
                          <a:lnTo>
                            <a:pt x="134" y="24"/>
                          </a:lnTo>
                          <a:lnTo>
                            <a:pt x="132" y="28"/>
                          </a:lnTo>
                          <a:lnTo>
                            <a:pt x="131" y="29"/>
                          </a:lnTo>
                          <a:lnTo>
                            <a:pt x="132" y="11"/>
                          </a:lnTo>
                          <a:lnTo>
                            <a:pt x="135" y="2"/>
                          </a:lnTo>
                          <a:lnTo>
                            <a:pt x="143" y="0"/>
                          </a:lnTo>
                          <a:lnTo>
                            <a:pt x="149" y="2"/>
                          </a:lnTo>
                          <a:lnTo>
                            <a:pt x="153" y="11"/>
                          </a:lnTo>
                          <a:lnTo>
                            <a:pt x="155" y="29"/>
                          </a:lnTo>
                          <a:lnTo>
                            <a:pt x="152" y="33"/>
                          </a:lnTo>
                          <a:lnTo>
                            <a:pt x="149" y="39"/>
                          </a:lnTo>
                          <a:lnTo>
                            <a:pt x="122" y="56"/>
                          </a:lnTo>
                          <a:lnTo>
                            <a:pt x="107" y="64"/>
                          </a:lnTo>
                          <a:lnTo>
                            <a:pt x="100" y="71"/>
                          </a:lnTo>
                          <a:lnTo>
                            <a:pt x="95" y="73"/>
                          </a:lnTo>
                          <a:lnTo>
                            <a:pt x="94" y="75"/>
                          </a:lnTo>
                          <a:lnTo>
                            <a:pt x="91" y="75"/>
                          </a:lnTo>
                          <a:lnTo>
                            <a:pt x="86" y="77"/>
                          </a:lnTo>
                          <a:lnTo>
                            <a:pt x="74" y="81"/>
                          </a:lnTo>
                          <a:lnTo>
                            <a:pt x="57" y="88"/>
                          </a:lnTo>
                          <a:lnTo>
                            <a:pt x="47" y="86"/>
                          </a:lnTo>
                          <a:lnTo>
                            <a:pt x="39" y="84"/>
                          </a:lnTo>
                          <a:lnTo>
                            <a:pt x="32" y="81"/>
                          </a:lnTo>
                          <a:lnTo>
                            <a:pt x="25" y="78"/>
                          </a:lnTo>
                          <a:lnTo>
                            <a:pt x="18" y="73"/>
                          </a:lnTo>
                          <a:lnTo>
                            <a:pt x="11" y="69"/>
                          </a:lnTo>
                          <a:lnTo>
                            <a:pt x="6" y="62"/>
                          </a:lnTo>
                          <a:lnTo>
                            <a:pt x="2" y="57"/>
                          </a:lnTo>
                          <a:lnTo>
                            <a:pt x="0" y="48"/>
                          </a:lnTo>
                          <a:lnTo>
                            <a:pt x="4" y="42"/>
                          </a:lnTo>
                          <a:lnTo>
                            <a:pt x="11" y="40"/>
                          </a:lnTo>
                          <a:lnTo>
                            <a:pt x="19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 flipH="1">
                      <a:off x="977760" y="5870880"/>
                      <a:ext cx="9216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115">
                          <a:moveTo>
                            <a:pt x="20" y="35"/>
                          </a:moveTo>
                          <a:lnTo>
                            <a:pt x="14" y="58"/>
                          </a:lnTo>
                          <a:lnTo>
                            <a:pt x="17" y="77"/>
                          </a:lnTo>
                          <a:lnTo>
                            <a:pt x="27" y="88"/>
                          </a:lnTo>
                          <a:lnTo>
                            <a:pt x="42" y="94"/>
                          </a:lnTo>
                          <a:lnTo>
                            <a:pt x="57" y="92"/>
                          </a:lnTo>
                          <a:lnTo>
                            <a:pt x="73" y="84"/>
                          </a:lnTo>
                          <a:lnTo>
                            <a:pt x="86" y="69"/>
                          </a:lnTo>
                          <a:lnTo>
                            <a:pt x="96" y="49"/>
                          </a:lnTo>
                          <a:lnTo>
                            <a:pt x="92" y="11"/>
                          </a:lnTo>
                          <a:lnTo>
                            <a:pt x="93" y="9"/>
                          </a:lnTo>
                          <a:lnTo>
                            <a:pt x="98" y="13"/>
                          </a:lnTo>
                          <a:lnTo>
                            <a:pt x="102" y="18"/>
                          </a:lnTo>
                          <a:lnTo>
                            <a:pt x="102" y="21"/>
                          </a:lnTo>
                          <a:lnTo>
                            <a:pt x="95" y="20"/>
                          </a:lnTo>
                          <a:lnTo>
                            <a:pt x="88" y="20"/>
                          </a:lnTo>
                          <a:lnTo>
                            <a:pt x="83" y="19"/>
                          </a:lnTo>
                          <a:lnTo>
                            <a:pt x="78" y="19"/>
                          </a:lnTo>
                          <a:lnTo>
                            <a:pt x="71" y="18"/>
                          </a:lnTo>
                          <a:lnTo>
                            <a:pt x="66" y="16"/>
                          </a:lnTo>
                          <a:lnTo>
                            <a:pt x="59" y="16"/>
                          </a:lnTo>
                          <a:lnTo>
                            <a:pt x="53" y="16"/>
                          </a:lnTo>
                          <a:lnTo>
                            <a:pt x="48" y="14"/>
                          </a:lnTo>
                          <a:lnTo>
                            <a:pt x="46" y="10"/>
                          </a:lnTo>
                          <a:lnTo>
                            <a:pt x="48" y="5"/>
                          </a:lnTo>
                          <a:lnTo>
                            <a:pt x="53" y="4"/>
                          </a:lnTo>
                          <a:lnTo>
                            <a:pt x="59" y="3"/>
                          </a:lnTo>
                          <a:lnTo>
                            <a:pt x="66" y="3"/>
                          </a:lnTo>
                          <a:lnTo>
                            <a:pt x="71" y="1"/>
                          </a:lnTo>
                          <a:lnTo>
                            <a:pt x="78" y="1"/>
                          </a:lnTo>
                          <a:lnTo>
                            <a:pt x="83" y="0"/>
                          </a:lnTo>
                          <a:lnTo>
                            <a:pt x="88" y="0"/>
                          </a:lnTo>
                          <a:lnTo>
                            <a:pt x="95" y="0"/>
                          </a:lnTo>
                          <a:lnTo>
                            <a:pt x="102" y="0"/>
                          </a:lnTo>
                          <a:lnTo>
                            <a:pt x="109" y="3"/>
                          </a:lnTo>
                          <a:lnTo>
                            <a:pt x="112" y="9"/>
                          </a:lnTo>
                          <a:lnTo>
                            <a:pt x="116" y="51"/>
                          </a:lnTo>
                          <a:lnTo>
                            <a:pt x="102" y="81"/>
                          </a:lnTo>
                          <a:lnTo>
                            <a:pt x="84" y="102"/>
                          </a:lnTo>
                          <a:lnTo>
                            <a:pt x="60" y="113"/>
                          </a:lnTo>
                          <a:lnTo>
                            <a:pt x="39" y="115"/>
                          </a:lnTo>
                          <a:lnTo>
                            <a:pt x="18" y="107"/>
                          </a:lnTo>
                          <a:lnTo>
                            <a:pt x="6" y="91"/>
                          </a:lnTo>
                          <a:lnTo>
                            <a:pt x="0" y="64"/>
                          </a:lnTo>
                          <a:lnTo>
                            <a:pt x="8" y="30"/>
                          </a:lnTo>
                          <a:lnTo>
                            <a:pt x="11" y="26"/>
                          </a:lnTo>
                          <a:lnTo>
                            <a:pt x="15" y="26"/>
                          </a:lnTo>
                          <a:lnTo>
                            <a:pt x="18" y="28"/>
                          </a:lnTo>
                          <a:lnTo>
                            <a:pt x="20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 flipH="1">
                      <a:off x="952200" y="5910480"/>
                      <a:ext cx="10476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94">
                          <a:moveTo>
                            <a:pt x="17" y="44"/>
                          </a:moveTo>
                          <a:lnTo>
                            <a:pt x="21" y="51"/>
                          </a:lnTo>
                          <a:lnTo>
                            <a:pt x="25" y="59"/>
                          </a:lnTo>
                          <a:lnTo>
                            <a:pt x="28" y="63"/>
                          </a:lnTo>
                          <a:lnTo>
                            <a:pt x="34" y="68"/>
                          </a:lnTo>
                          <a:lnTo>
                            <a:pt x="38" y="70"/>
                          </a:lnTo>
                          <a:lnTo>
                            <a:pt x="46" y="71"/>
                          </a:lnTo>
                          <a:lnTo>
                            <a:pt x="53" y="71"/>
                          </a:lnTo>
                          <a:lnTo>
                            <a:pt x="64" y="72"/>
                          </a:lnTo>
                          <a:lnTo>
                            <a:pt x="71" y="68"/>
                          </a:lnTo>
                          <a:lnTo>
                            <a:pt x="79" y="63"/>
                          </a:lnTo>
                          <a:lnTo>
                            <a:pt x="85" y="59"/>
                          </a:lnTo>
                          <a:lnTo>
                            <a:pt x="92" y="55"/>
                          </a:lnTo>
                          <a:lnTo>
                            <a:pt x="96" y="48"/>
                          </a:lnTo>
                          <a:lnTo>
                            <a:pt x="101" y="42"/>
                          </a:lnTo>
                          <a:lnTo>
                            <a:pt x="105" y="34"/>
                          </a:lnTo>
                          <a:lnTo>
                            <a:pt x="109" y="27"/>
                          </a:lnTo>
                          <a:lnTo>
                            <a:pt x="117" y="6"/>
                          </a:lnTo>
                          <a:lnTo>
                            <a:pt x="120" y="0"/>
                          </a:lnTo>
                          <a:lnTo>
                            <a:pt x="126" y="0"/>
                          </a:lnTo>
                          <a:lnTo>
                            <a:pt x="131" y="3"/>
                          </a:lnTo>
                          <a:lnTo>
                            <a:pt x="133" y="10"/>
                          </a:lnTo>
                          <a:lnTo>
                            <a:pt x="131" y="33"/>
                          </a:lnTo>
                          <a:lnTo>
                            <a:pt x="125" y="43"/>
                          </a:lnTo>
                          <a:lnTo>
                            <a:pt x="120" y="53"/>
                          </a:lnTo>
                          <a:lnTo>
                            <a:pt x="113" y="61"/>
                          </a:lnTo>
                          <a:lnTo>
                            <a:pt x="108" y="70"/>
                          </a:lnTo>
                          <a:lnTo>
                            <a:pt x="99" y="76"/>
                          </a:lnTo>
                          <a:lnTo>
                            <a:pt x="91" y="84"/>
                          </a:lnTo>
                          <a:lnTo>
                            <a:pt x="80" y="89"/>
                          </a:lnTo>
                          <a:lnTo>
                            <a:pt x="69" y="94"/>
                          </a:lnTo>
                          <a:lnTo>
                            <a:pt x="54" y="93"/>
                          </a:lnTo>
                          <a:lnTo>
                            <a:pt x="42" y="93"/>
                          </a:lnTo>
                          <a:lnTo>
                            <a:pt x="33" y="90"/>
                          </a:lnTo>
                          <a:lnTo>
                            <a:pt x="26" y="87"/>
                          </a:lnTo>
                          <a:lnTo>
                            <a:pt x="20" y="80"/>
                          </a:lnTo>
                          <a:lnTo>
                            <a:pt x="14" y="73"/>
                          </a:lnTo>
                          <a:lnTo>
                            <a:pt x="8" y="63"/>
                          </a:lnTo>
                          <a:lnTo>
                            <a:pt x="3" y="51"/>
                          </a:lnTo>
                          <a:lnTo>
                            <a:pt x="0" y="44"/>
                          </a:lnTo>
                          <a:lnTo>
                            <a:pt x="6" y="40"/>
                          </a:lnTo>
                          <a:lnTo>
                            <a:pt x="11" y="39"/>
                          </a:lnTo>
                          <a:lnTo>
                            <a:pt x="17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flipH="1">
                      <a:off x="874080" y="5862960"/>
                      <a:ext cx="889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31">
                          <a:moveTo>
                            <a:pt x="14" y="71"/>
                          </a:moveTo>
                          <a:lnTo>
                            <a:pt x="16" y="80"/>
                          </a:lnTo>
                          <a:lnTo>
                            <a:pt x="20" y="89"/>
                          </a:lnTo>
                          <a:lnTo>
                            <a:pt x="23" y="94"/>
                          </a:lnTo>
                          <a:lnTo>
                            <a:pt x="30" y="99"/>
                          </a:lnTo>
                          <a:lnTo>
                            <a:pt x="35" y="101"/>
                          </a:lnTo>
                          <a:lnTo>
                            <a:pt x="43" y="104"/>
                          </a:lnTo>
                          <a:lnTo>
                            <a:pt x="50" y="106"/>
                          </a:lnTo>
                          <a:lnTo>
                            <a:pt x="60" y="109"/>
                          </a:lnTo>
                          <a:lnTo>
                            <a:pt x="67" y="106"/>
                          </a:lnTo>
                          <a:lnTo>
                            <a:pt x="73" y="105"/>
                          </a:lnTo>
                          <a:lnTo>
                            <a:pt x="76" y="104"/>
                          </a:lnTo>
                          <a:lnTo>
                            <a:pt x="80" y="103"/>
                          </a:lnTo>
                          <a:lnTo>
                            <a:pt x="81" y="101"/>
                          </a:lnTo>
                          <a:lnTo>
                            <a:pt x="85" y="97"/>
                          </a:lnTo>
                          <a:lnTo>
                            <a:pt x="88" y="92"/>
                          </a:lnTo>
                          <a:lnTo>
                            <a:pt x="94" y="85"/>
                          </a:lnTo>
                          <a:lnTo>
                            <a:pt x="88" y="68"/>
                          </a:lnTo>
                          <a:lnTo>
                            <a:pt x="82" y="57"/>
                          </a:lnTo>
                          <a:lnTo>
                            <a:pt x="75" y="46"/>
                          </a:lnTo>
                          <a:lnTo>
                            <a:pt x="67" y="38"/>
                          </a:lnTo>
                          <a:lnTo>
                            <a:pt x="58" y="31"/>
                          </a:lnTo>
                          <a:lnTo>
                            <a:pt x="48" y="24"/>
                          </a:lnTo>
                          <a:lnTo>
                            <a:pt x="36" y="18"/>
                          </a:lnTo>
                          <a:lnTo>
                            <a:pt x="25" y="12"/>
                          </a:lnTo>
                          <a:lnTo>
                            <a:pt x="21" y="7"/>
                          </a:lnTo>
                          <a:lnTo>
                            <a:pt x="22" y="3"/>
                          </a:lnTo>
                          <a:lnTo>
                            <a:pt x="25" y="0"/>
                          </a:lnTo>
                          <a:lnTo>
                            <a:pt x="32" y="1"/>
                          </a:lnTo>
                          <a:lnTo>
                            <a:pt x="45" y="8"/>
                          </a:lnTo>
                          <a:lnTo>
                            <a:pt x="58" y="16"/>
                          </a:lnTo>
                          <a:lnTo>
                            <a:pt x="70" y="23"/>
                          </a:lnTo>
                          <a:lnTo>
                            <a:pt x="81" y="33"/>
                          </a:lnTo>
                          <a:lnTo>
                            <a:pt x="90" y="43"/>
                          </a:lnTo>
                          <a:lnTo>
                            <a:pt x="100" y="55"/>
                          </a:lnTo>
                          <a:lnTo>
                            <a:pt x="106" y="68"/>
                          </a:lnTo>
                          <a:lnTo>
                            <a:pt x="113" y="87"/>
                          </a:lnTo>
                          <a:lnTo>
                            <a:pt x="105" y="97"/>
                          </a:lnTo>
                          <a:lnTo>
                            <a:pt x="101" y="106"/>
                          </a:lnTo>
                          <a:lnTo>
                            <a:pt x="96" y="113"/>
                          </a:lnTo>
                          <a:lnTo>
                            <a:pt x="92" y="117"/>
                          </a:lnTo>
                          <a:lnTo>
                            <a:pt x="87" y="120"/>
                          </a:lnTo>
                          <a:lnTo>
                            <a:pt x="80" y="123"/>
                          </a:lnTo>
                          <a:lnTo>
                            <a:pt x="71" y="126"/>
                          </a:lnTo>
                          <a:lnTo>
                            <a:pt x="59" y="131"/>
                          </a:lnTo>
                          <a:lnTo>
                            <a:pt x="46" y="125"/>
                          </a:lnTo>
                          <a:lnTo>
                            <a:pt x="35" y="121"/>
                          </a:lnTo>
                          <a:lnTo>
                            <a:pt x="25" y="117"/>
                          </a:lnTo>
                          <a:lnTo>
                            <a:pt x="19" y="113"/>
                          </a:lnTo>
                          <a:lnTo>
                            <a:pt x="13" y="105"/>
                          </a:lnTo>
                          <a:lnTo>
                            <a:pt x="7" y="97"/>
                          </a:lnTo>
                          <a:lnTo>
                            <a:pt x="3" y="87"/>
                          </a:lnTo>
                          <a:lnTo>
                            <a:pt x="0" y="74"/>
                          </a:lnTo>
                          <a:lnTo>
                            <a:pt x="0" y="67"/>
                          </a:lnTo>
                          <a:lnTo>
                            <a:pt x="5" y="64"/>
                          </a:lnTo>
                          <a:lnTo>
                            <a:pt x="9" y="65"/>
                          </a:lnTo>
                          <a:lnTo>
                            <a:pt x="14" y="7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 flipH="1">
                      <a:off x="793440" y="5865840"/>
                      <a:ext cx="918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161">
                          <a:moveTo>
                            <a:pt x="17" y="96"/>
                          </a:moveTo>
                          <a:lnTo>
                            <a:pt x="22" y="105"/>
                          </a:lnTo>
                          <a:lnTo>
                            <a:pt x="31" y="117"/>
                          </a:lnTo>
                          <a:lnTo>
                            <a:pt x="42" y="128"/>
                          </a:lnTo>
                          <a:lnTo>
                            <a:pt x="53" y="138"/>
                          </a:lnTo>
                          <a:lnTo>
                            <a:pt x="64" y="143"/>
                          </a:lnTo>
                          <a:lnTo>
                            <a:pt x="75" y="143"/>
                          </a:lnTo>
                          <a:lnTo>
                            <a:pt x="85" y="135"/>
                          </a:lnTo>
                          <a:lnTo>
                            <a:pt x="91" y="119"/>
                          </a:lnTo>
                          <a:lnTo>
                            <a:pt x="93" y="92"/>
                          </a:lnTo>
                          <a:lnTo>
                            <a:pt x="92" y="72"/>
                          </a:lnTo>
                          <a:lnTo>
                            <a:pt x="87" y="57"/>
                          </a:lnTo>
                          <a:lnTo>
                            <a:pt x="78" y="46"/>
                          </a:lnTo>
                          <a:lnTo>
                            <a:pt x="65" y="38"/>
                          </a:lnTo>
                          <a:lnTo>
                            <a:pt x="50" y="32"/>
                          </a:lnTo>
                          <a:lnTo>
                            <a:pt x="31" y="26"/>
                          </a:lnTo>
                          <a:lnTo>
                            <a:pt x="10" y="21"/>
                          </a:lnTo>
                          <a:lnTo>
                            <a:pt x="3" y="15"/>
                          </a:lnTo>
                          <a:lnTo>
                            <a:pt x="2" y="8"/>
                          </a:lnTo>
                          <a:lnTo>
                            <a:pt x="6" y="0"/>
                          </a:lnTo>
                          <a:lnTo>
                            <a:pt x="16" y="0"/>
                          </a:lnTo>
                          <a:lnTo>
                            <a:pt x="42" y="6"/>
                          </a:lnTo>
                          <a:lnTo>
                            <a:pt x="64" y="13"/>
                          </a:lnTo>
                          <a:lnTo>
                            <a:pt x="82" y="20"/>
                          </a:lnTo>
                          <a:lnTo>
                            <a:pt x="97" y="32"/>
                          </a:lnTo>
                          <a:lnTo>
                            <a:pt x="107" y="45"/>
                          </a:lnTo>
                          <a:lnTo>
                            <a:pt x="114" y="64"/>
                          </a:lnTo>
                          <a:lnTo>
                            <a:pt x="115" y="89"/>
                          </a:lnTo>
                          <a:lnTo>
                            <a:pt x="111" y="122"/>
                          </a:lnTo>
                          <a:lnTo>
                            <a:pt x="102" y="146"/>
                          </a:lnTo>
                          <a:lnTo>
                            <a:pt x="89" y="159"/>
                          </a:lnTo>
                          <a:lnTo>
                            <a:pt x="73" y="161"/>
                          </a:lnTo>
                          <a:lnTo>
                            <a:pt x="57" y="157"/>
                          </a:lnTo>
                          <a:lnTo>
                            <a:pt x="38" y="146"/>
                          </a:lnTo>
                          <a:lnTo>
                            <a:pt x="23" y="132"/>
                          </a:lnTo>
                          <a:lnTo>
                            <a:pt x="10" y="116"/>
                          </a:lnTo>
                          <a:lnTo>
                            <a:pt x="2" y="102"/>
                          </a:lnTo>
                          <a:lnTo>
                            <a:pt x="0" y="95"/>
                          </a:lnTo>
                          <a:lnTo>
                            <a:pt x="5" y="90"/>
                          </a:lnTo>
                          <a:lnTo>
                            <a:pt x="10" y="90"/>
                          </a:lnTo>
                          <a:lnTo>
                            <a:pt x="17" y="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 flipH="1">
                      <a:off x="703080" y="5864400"/>
                      <a:ext cx="11448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08">
                          <a:moveTo>
                            <a:pt x="19" y="71"/>
                          </a:moveTo>
                          <a:lnTo>
                            <a:pt x="58" y="88"/>
                          </a:lnTo>
                          <a:lnTo>
                            <a:pt x="77" y="85"/>
                          </a:lnTo>
                          <a:lnTo>
                            <a:pt x="94" y="81"/>
                          </a:lnTo>
                          <a:lnTo>
                            <a:pt x="106" y="75"/>
                          </a:lnTo>
                          <a:lnTo>
                            <a:pt x="115" y="70"/>
                          </a:lnTo>
                          <a:lnTo>
                            <a:pt x="117" y="61"/>
                          </a:lnTo>
                          <a:lnTo>
                            <a:pt x="115" y="52"/>
                          </a:lnTo>
                          <a:lnTo>
                            <a:pt x="107" y="41"/>
                          </a:lnTo>
                          <a:lnTo>
                            <a:pt x="94" y="29"/>
                          </a:lnTo>
                          <a:lnTo>
                            <a:pt x="81" y="26"/>
                          </a:lnTo>
                          <a:lnTo>
                            <a:pt x="71" y="22"/>
                          </a:lnTo>
                          <a:lnTo>
                            <a:pt x="60" y="19"/>
                          </a:lnTo>
                          <a:lnTo>
                            <a:pt x="50" y="17"/>
                          </a:lnTo>
                          <a:lnTo>
                            <a:pt x="39" y="14"/>
                          </a:lnTo>
                          <a:lnTo>
                            <a:pt x="30" y="14"/>
                          </a:lnTo>
                          <a:lnTo>
                            <a:pt x="19" y="14"/>
                          </a:lnTo>
                          <a:lnTo>
                            <a:pt x="7" y="16"/>
                          </a:lnTo>
                          <a:lnTo>
                            <a:pt x="2" y="14"/>
                          </a:lnTo>
                          <a:lnTo>
                            <a:pt x="0" y="11"/>
                          </a:lnTo>
                          <a:lnTo>
                            <a:pt x="1" y="5"/>
                          </a:lnTo>
                          <a:lnTo>
                            <a:pt x="6" y="4"/>
                          </a:lnTo>
                          <a:lnTo>
                            <a:pt x="18" y="1"/>
                          </a:lnTo>
                          <a:lnTo>
                            <a:pt x="31" y="1"/>
                          </a:lnTo>
                          <a:lnTo>
                            <a:pt x="43" y="0"/>
                          </a:lnTo>
                          <a:lnTo>
                            <a:pt x="54" y="1"/>
                          </a:lnTo>
                          <a:lnTo>
                            <a:pt x="65" y="1"/>
                          </a:lnTo>
                          <a:lnTo>
                            <a:pt x="77" y="3"/>
                          </a:lnTo>
                          <a:lnTo>
                            <a:pt x="90" y="5"/>
                          </a:lnTo>
                          <a:lnTo>
                            <a:pt x="104" y="8"/>
                          </a:lnTo>
                          <a:lnTo>
                            <a:pt x="124" y="28"/>
                          </a:lnTo>
                          <a:lnTo>
                            <a:pt x="137" y="47"/>
                          </a:lnTo>
                          <a:lnTo>
                            <a:pt x="143" y="63"/>
                          </a:lnTo>
                          <a:lnTo>
                            <a:pt x="140" y="78"/>
                          </a:lnTo>
                          <a:lnTo>
                            <a:pt x="130" y="89"/>
                          </a:lnTo>
                          <a:lnTo>
                            <a:pt x="111" y="98"/>
                          </a:lnTo>
                          <a:lnTo>
                            <a:pt x="86" y="104"/>
                          </a:lnTo>
                          <a:lnTo>
                            <a:pt x="53" y="108"/>
                          </a:lnTo>
                          <a:lnTo>
                            <a:pt x="11" y="89"/>
                          </a:lnTo>
                          <a:lnTo>
                            <a:pt x="5" y="83"/>
                          </a:lnTo>
                          <a:lnTo>
                            <a:pt x="5" y="75"/>
                          </a:lnTo>
                          <a:lnTo>
                            <a:pt x="10" y="70"/>
                          </a:lnTo>
                          <a:lnTo>
                            <a:pt x="19" y="7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 flipH="1">
                      <a:off x="680760" y="5816880"/>
                      <a:ext cx="13824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106">
                          <a:moveTo>
                            <a:pt x="107" y="78"/>
                          </a:moveTo>
                          <a:lnTo>
                            <a:pt x="111" y="79"/>
                          </a:lnTo>
                          <a:lnTo>
                            <a:pt x="118" y="80"/>
                          </a:lnTo>
                          <a:lnTo>
                            <a:pt x="124" y="81"/>
                          </a:lnTo>
                          <a:lnTo>
                            <a:pt x="133" y="83"/>
                          </a:lnTo>
                          <a:lnTo>
                            <a:pt x="140" y="83"/>
                          </a:lnTo>
                          <a:lnTo>
                            <a:pt x="149" y="84"/>
                          </a:lnTo>
                          <a:lnTo>
                            <a:pt x="156" y="84"/>
                          </a:lnTo>
                          <a:lnTo>
                            <a:pt x="165" y="86"/>
                          </a:lnTo>
                          <a:lnTo>
                            <a:pt x="165" y="88"/>
                          </a:lnTo>
                          <a:lnTo>
                            <a:pt x="162" y="93"/>
                          </a:lnTo>
                          <a:lnTo>
                            <a:pt x="156" y="96"/>
                          </a:lnTo>
                          <a:lnTo>
                            <a:pt x="154" y="95"/>
                          </a:lnTo>
                          <a:lnTo>
                            <a:pt x="152" y="75"/>
                          </a:lnTo>
                          <a:lnTo>
                            <a:pt x="150" y="60"/>
                          </a:lnTo>
                          <a:lnTo>
                            <a:pt x="144" y="49"/>
                          </a:lnTo>
                          <a:lnTo>
                            <a:pt x="138" y="42"/>
                          </a:lnTo>
                          <a:lnTo>
                            <a:pt x="128" y="34"/>
                          </a:lnTo>
                          <a:lnTo>
                            <a:pt x="118" y="31"/>
                          </a:lnTo>
                          <a:lnTo>
                            <a:pt x="104" y="26"/>
                          </a:lnTo>
                          <a:lnTo>
                            <a:pt x="87" y="23"/>
                          </a:lnTo>
                          <a:lnTo>
                            <a:pt x="79" y="21"/>
                          </a:lnTo>
                          <a:lnTo>
                            <a:pt x="70" y="20"/>
                          </a:lnTo>
                          <a:lnTo>
                            <a:pt x="60" y="18"/>
                          </a:lnTo>
                          <a:lnTo>
                            <a:pt x="49" y="17"/>
                          </a:lnTo>
                          <a:lnTo>
                            <a:pt x="37" y="15"/>
                          </a:lnTo>
                          <a:lnTo>
                            <a:pt x="26" y="14"/>
                          </a:lnTo>
                          <a:lnTo>
                            <a:pt x="15" y="14"/>
                          </a:lnTo>
                          <a:lnTo>
                            <a:pt x="7" y="14"/>
                          </a:lnTo>
                          <a:lnTo>
                            <a:pt x="1" y="11"/>
                          </a:lnTo>
                          <a:lnTo>
                            <a:pt x="0" y="7"/>
                          </a:lnTo>
                          <a:lnTo>
                            <a:pt x="1" y="3"/>
                          </a:lnTo>
                          <a:lnTo>
                            <a:pt x="7" y="2"/>
                          </a:lnTo>
                          <a:lnTo>
                            <a:pt x="15" y="1"/>
                          </a:lnTo>
                          <a:lnTo>
                            <a:pt x="27" y="1"/>
                          </a:lnTo>
                          <a:lnTo>
                            <a:pt x="39" y="0"/>
                          </a:lnTo>
                          <a:lnTo>
                            <a:pt x="51" y="0"/>
                          </a:lnTo>
                          <a:lnTo>
                            <a:pt x="62" y="0"/>
                          </a:lnTo>
                          <a:lnTo>
                            <a:pt x="74" y="0"/>
                          </a:lnTo>
                          <a:lnTo>
                            <a:pt x="82" y="0"/>
                          </a:lnTo>
                          <a:lnTo>
                            <a:pt x="92" y="1"/>
                          </a:lnTo>
                          <a:lnTo>
                            <a:pt x="112" y="6"/>
                          </a:lnTo>
                          <a:lnTo>
                            <a:pt x="131" y="11"/>
                          </a:lnTo>
                          <a:lnTo>
                            <a:pt x="144" y="17"/>
                          </a:lnTo>
                          <a:lnTo>
                            <a:pt x="156" y="25"/>
                          </a:lnTo>
                          <a:lnTo>
                            <a:pt x="165" y="35"/>
                          </a:lnTo>
                          <a:lnTo>
                            <a:pt x="170" y="50"/>
                          </a:lnTo>
                          <a:lnTo>
                            <a:pt x="174" y="69"/>
                          </a:lnTo>
                          <a:lnTo>
                            <a:pt x="176" y="95"/>
                          </a:lnTo>
                          <a:lnTo>
                            <a:pt x="172" y="103"/>
                          </a:lnTo>
                          <a:lnTo>
                            <a:pt x="165" y="106"/>
                          </a:lnTo>
                          <a:lnTo>
                            <a:pt x="155" y="105"/>
                          </a:lnTo>
                          <a:lnTo>
                            <a:pt x="147" y="104"/>
                          </a:lnTo>
                          <a:lnTo>
                            <a:pt x="138" y="103"/>
                          </a:lnTo>
                          <a:lnTo>
                            <a:pt x="129" y="102"/>
                          </a:lnTo>
                          <a:lnTo>
                            <a:pt x="120" y="100"/>
                          </a:lnTo>
                          <a:lnTo>
                            <a:pt x="112" y="98"/>
                          </a:lnTo>
                          <a:lnTo>
                            <a:pt x="106" y="96"/>
                          </a:lnTo>
                          <a:lnTo>
                            <a:pt x="100" y="95"/>
                          </a:lnTo>
                          <a:lnTo>
                            <a:pt x="94" y="90"/>
                          </a:lnTo>
                          <a:lnTo>
                            <a:pt x="94" y="83"/>
                          </a:lnTo>
                          <a:lnTo>
                            <a:pt x="98" y="78"/>
                          </a:lnTo>
                          <a:lnTo>
                            <a:pt x="107" y="7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 flipH="1">
                      <a:off x="779400" y="5818320"/>
                      <a:ext cx="10944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" h="86">
                          <a:moveTo>
                            <a:pt x="10" y="67"/>
                          </a:moveTo>
                          <a:lnTo>
                            <a:pt x="28" y="67"/>
                          </a:lnTo>
                          <a:lnTo>
                            <a:pt x="48" y="67"/>
                          </a:lnTo>
                          <a:lnTo>
                            <a:pt x="63" y="66"/>
                          </a:lnTo>
                          <a:lnTo>
                            <a:pt x="79" y="65"/>
                          </a:lnTo>
                          <a:lnTo>
                            <a:pt x="92" y="61"/>
                          </a:lnTo>
                          <a:lnTo>
                            <a:pt x="102" y="56"/>
                          </a:lnTo>
                          <a:lnTo>
                            <a:pt x="111" y="46"/>
                          </a:lnTo>
                          <a:lnTo>
                            <a:pt x="118" y="33"/>
                          </a:lnTo>
                          <a:lnTo>
                            <a:pt x="120" y="33"/>
                          </a:lnTo>
                          <a:lnTo>
                            <a:pt x="122" y="38"/>
                          </a:lnTo>
                          <a:lnTo>
                            <a:pt x="123" y="44"/>
                          </a:lnTo>
                          <a:lnTo>
                            <a:pt x="123" y="46"/>
                          </a:lnTo>
                          <a:lnTo>
                            <a:pt x="115" y="41"/>
                          </a:lnTo>
                          <a:lnTo>
                            <a:pt x="108" y="36"/>
                          </a:lnTo>
                          <a:lnTo>
                            <a:pt x="100" y="32"/>
                          </a:lnTo>
                          <a:lnTo>
                            <a:pt x="94" y="29"/>
                          </a:lnTo>
                          <a:lnTo>
                            <a:pt x="84" y="24"/>
                          </a:lnTo>
                          <a:lnTo>
                            <a:pt x="75" y="22"/>
                          </a:lnTo>
                          <a:lnTo>
                            <a:pt x="65" y="21"/>
                          </a:lnTo>
                          <a:lnTo>
                            <a:pt x="54" y="21"/>
                          </a:lnTo>
                          <a:lnTo>
                            <a:pt x="45" y="17"/>
                          </a:lnTo>
                          <a:lnTo>
                            <a:pt x="43" y="10"/>
                          </a:lnTo>
                          <a:lnTo>
                            <a:pt x="45" y="3"/>
                          </a:lnTo>
                          <a:lnTo>
                            <a:pt x="54" y="0"/>
                          </a:lnTo>
                          <a:lnTo>
                            <a:pt x="67" y="0"/>
                          </a:lnTo>
                          <a:lnTo>
                            <a:pt x="81" y="1"/>
                          </a:lnTo>
                          <a:lnTo>
                            <a:pt x="92" y="3"/>
                          </a:lnTo>
                          <a:lnTo>
                            <a:pt x="102" y="7"/>
                          </a:lnTo>
                          <a:lnTo>
                            <a:pt x="111" y="10"/>
                          </a:lnTo>
                          <a:lnTo>
                            <a:pt x="120" y="16"/>
                          </a:lnTo>
                          <a:lnTo>
                            <a:pt x="127" y="21"/>
                          </a:lnTo>
                          <a:lnTo>
                            <a:pt x="136" y="28"/>
                          </a:lnTo>
                          <a:lnTo>
                            <a:pt x="139" y="33"/>
                          </a:lnTo>
                          <a:lnTo>
                            <a:pt x="140" y="41"/>
                          </a:lnTo>
                          <a:lnTo>
                            <a:pt x="131" y="56"/>
                          </a:lnTo>
                          <a:lnTo>
                            <a:pt x="122" y="67"/>
                          </a:lnTo>
                          <a:lnTo>
                            <a:pt x="108" y="75"/>
                          </a:lnTo>
                          <a:lnTo>
                            <a:pt x="94" y="81"/>
                          </a:lnTo>
                          <a:lnTo>
                            <a:pt x="74" y="84"/>
                          </a:lnTo>
                          <a:lnTo>
                            <a:pt x="55" y="85"/>
                          </a:lnTo>
                          <a:lnTo>
                            <a:pt x="32" y="85"/>
                          </a:lnTo>
                          <a:lnTo>
                            <a:pt x="10" y="86"/>
                          </a:lnTo>
                          <a:lnTo>
                            <a:pt x="2" y="82"/>
                          </a:lnTo>
                          <a:lnTo>
                            <a:pt x="0" y="76"/>
                          </a:lnTo>
                          <a:lnTo>
                            <a:pt x="2" y="70"/>
                          </a:lnTo>
                          <a:lnTo>
                            <a:pt x="10" y="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 flipH="1">
                      <a:off x="844200" y="5828040"/>
                      <a:ext cx="1126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80">
                          <a:moveTo>
                            <a:pt x="75" y="13"/>
                          </a:moveTo>
                          <a:lnTo>
                            <a:pt x="61" y="15"/>
                          </a:lnTo>
                          <a:lnTo>
                            <a:pt x="52" y="17"/>
                          </a:lnTo>
                          <a:lnTo>
                            <a:pt x="44" y="19"/>
                          </a:lnTo>
                          <a:lnTo>
                            <a:pt x="41" y="22"/>
                          </a:lnTo>
                          <a:lnTo>
                            <a:pt x="37" y="25"/>
                          </a:lnTo>
                          <a:lnTo>
                            <a:pt x="33" y="32"/>
                          </a:lnTo>
                          <a:lnTo>
                            <a:pt x="28" y="38"/>
                          </a:lnTo>
                          <a:lnTo>
                            <a:pt x="22" y="49"/>
                          </a:lnTo>
                          <a:lnTo>
                            <a:pt x="17" y="48"/>
                          </a:lnTo>
                          <a:lnTo>
                            <a:pt x="15" y="40"/>
                          </a:lnTo>
                          <a:lnTo>
                            <a:pt x="14" y="32"/>
                          </a:lnTo>
                          <a:lnTo>
                            <a:pt x="18" y="31"/>
                          </a:lnTo>
                          <a:lnTo>
                            <a:pt x="25" y="34"/>
                          </a:lnTo>
                          <a:lnTo>
                            <a:pt x="32" y="37"/>
                          </a:lnTo>
                          <a:lnTo>
                            <a:pt x="39" y="40"/>
                          </a:lnTo>
                          <a:lnTo>
                            <a:pt x="46" y="45"/>
                          </a:lnTo>
                          <a:lnTo>
                            <a:pt x="53" y="47"/>
                          </a:lnTo>
                          <a:lnTo>
                            <a:pt x="61" y="50"/>
                          </a:lnTo>
                          <a:lnTo>
                            <a:pt x="69" y="53"/>
                          </a:lnTo>
                          <a:lnTo>
                            <a:pt x="80" y="57"/>
                          </a:lnTo>
                          <a:lnTo>
                            <a:pt x="92" y="53"/>
                          </a:lnTo>
                          <a:lnTo>
                            <a:pt x="101" y="50"/>
                          </a:lnTo>
                          <a:lnTo>
                            <a:pt x="108" y="47"/>
                          </a:lnTo>
                          <a:lnTo>
                            <a:pt x="113" y="44"/>
                          </a:lnTo>
                          <a:lnTo>
                            <a:pt x="116" y="38"/>
                          </a:lnTo>
                          <a:lnTo>
                            <a:pt x="121" y="33"/>
                          </a:lnTo>
                          <a:lnTo>
                            <a:pt x="124" y="25"/>
                          </a:lnTo>
                          <a:lnTo>
                            <a:pt x="129" y="16"/>
                          </a:lnTo>
                          <a:lnTo>
                            <a:pt x="134" y="10"/>
                          </a:lnTo>
                          <a:lnTo>
                            <a:pt x="139" y="11"/>
                          </a:lnTo>
                          <a:lnTo>
                            <a:pt x="142" y="16"/>
                          </a:lnTo>
                          <a:lnTo>
                            <a:pt x="143" y="23"/>
                          </a:lnTo>
                          <a:lnTo>
                            <a:pt x="137" y="35"/>
                          </a:lnTo>
                          <a:lnTo>
                            <a:pt x="132" y="46"/>
                          </a:lnTo>
                          <a:lnTo>
                            <a:pt x="127" y="54"/>
                          </a:lnTo>
                          <a:lnTo>
                            <a:pt x="123" y="62"/>
                          </a:lnTo>
                          <a:lnTo>
                            <a:pt x="115" y="67"/>
                          </a:lnTo>
                          <a:lnTo>
                            <a:pt x="107" y="72"/>
                          </a:lnTo>
                          <a:lnTo>
                            <a:pt x="94" y="76"/>
                          </a:lnTo>
                          <a:lnTo>
                            <a:pt x="79" y="80"/>
                          </a:lnTo>
                          <a:lnTo>
                            <a:pt x="67" y="76"/>
                          </a:lnTo>
                          <a:lnTo>
                            <a:pt x="57" y="73"/>
                          </a:lnTo>
                          <a:lnTo>
                            <a:pt x="49" y="69"/>
                          </a:lnTo>
                          <a:lnTo>
                            <a:pt x="40" y="67"/>
                          </a:lnTo>
                          <a:lnTo>
                            <a:pt x="31" y="63"/>
                          </a:lnTo>
                          <a:lnTo>
                            <a:pt x="24" y="60"/>
                          </a:lnTo>
                          <a:lnTo>
                            <a:pt x="15" y="56"/>
                          </a:lnTo>
                          <a:lnTo>
                            <a:pt x="8" y="52"/>
                          </a:lnTo>
                          <a:lnTo>
                            <a:pt x="2" y="48"/>
                          </a:lnTo>
                          <a:lnTo>
                            <a:pt x="0" y="44"/>
                          </a:lnTo>
                          <a:lnTo>
                            <a:pt x="0" y="38"/>
                          </a:lnTo>
                          <a:lnTo>
                            <a:pt x="3" y="34"/>
                          </a:lnTo>
                          <a:lnTo>
                            <a:pt x="11" y="22"/>
                          </a:lnTo>
                          <a:lnTo>
                            <a:pt x="18" y="15"/>
                          </a:lnTo>
                          <a:lnTo>
                            <a:pt x="23" y="9"/>
                          </a:lnTo>
                          <a:lnTo>
                            <a:pt x="29" y="7"/>
                          </a:lnTo>
                          <a:lnTo>
                            <a:pt x="35" y="4"/>
                          </a:lnTo>
                          <a:lnTo>
                            <a:pt x="44" y="3"/>
                          </a:lnTo>
                          <a:lnTo>
                            <a:pt x="56" y="2"/>
                          </a:lnTo>
                          <a:lnTo>
                            <a:pt x="73" y="0"/>
                          </a:lnTo>
                          <a:lnTo>
                            <a:pt x="78" y="0"/>
                          </a:lnTo>
                          <a:lnTo>
                            <a:pt x="81" y="4"/>
                          </a:lnTo>
                          <a:lnTo>
                            <a:pt x="80" y="9"/>
                          </a:lnTo>
                          <a:lnTo>
                            <a:pt x="75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 flipH="1">
                      <a:off x="931680" y="5824800"/>
                      <a:ext cx="1065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80">
                          <a:moveTo>
                            <a:pt x="54" y="20"/>
                          </a:moveTo>
                          <a:lnTo>
                            <a:pt x="44" y="28"/>
                          </a:lnTo>
                          <a:lnTo>
                            <a:pt x="38" y="36"/>
                          </a:lnTo>
                          <a:lnTo>
                            <a:pt x="34" y="42"/>
                          </a:lnTo>
                          <a:lnTo>
                            <a:pt x="37" y="49"/>
                          </a:lnTo>
                          <a:lnTo>
                            <a:pt x="41" y="52"/>
                          </a:lnTo>
                          <a:lnTo>
                            <a:pt x="50" y="54"/>
                          </a:lnTo>
                          <a:lnTo>
                            <a:pt x="62" y="54"/>
                          </a:lnTo>
                          <a:lnTo>
                            <a:pt x="80" y="53"/>
                          </a:lnTo>
                          <a:lnTo>
                            <a:pt x="117" y="37"/>
                          </a:lnTo>
                          <a:lnTo>
                            <a:pt x="127" y="36"/>
                          </a:lnTo>
                          <a:lnTo>
                            <a:pt x="133" y="42"/>
                          </a:lnTo>
                          <a:lnTo>
                            <a:pt x="133" y="51"/>
                          </a:lnTo>
                          <a:lnTo>
                            <a:pt x="128" y="58"/>
                          </a:lnTo>
                          <a:lnTo>
                            <a:pt x="87" y="77"/>
                          </a:lnTo>
                          <a:lnTo>
                            <a:pt x="53" y="80"/>
                          </a:lnTo>
                          <a:lnTo>
                            <a:pt x="28" y="79"/>
                          </a:lnTo>
                          <a:lnTo>
                            <a:pt x="11" y="73"/>
                          </a:lnTo>
                          <a:lnTo>
                            <a:pt x="2" y="66"/>
                          </a:lnTo>
                          <a:lnTo>
                            <a:pt x="0" y="53"/>
                          </a:lnTo>
                          <a:lnTo>
                            <a:pt x="7" y="39"/>
                          </a:lnTo>
                          <a:lnTo>
                            <a:pt x="20" y="22"/>
                          </a:lnTo>
                          <a:lnTo>
                            <a:pt x="41" y="3"/>
                          </a:lnTo>
                          <a:lnTo>
                            <a:pt x="48" y="0"/>
                          </a:lnTo>
                          <a:lnTo>
                            <a:pt x="55" y="5"/>
                          </a:lnTo>
                          <a:lnTo>
                            <a:pt x="57" y="12"/>
                          </a:lnTo>
                          <a:lnTo>
                            <a:pt x="54" y="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flipH="1">
                      <a:off x="1012320" y="5699160"/>
                      <a:ext cx="1126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5">
                          <a:moveTo>
                            <a:pt x="63" y="20"/>
                          </a:moveTo>
                          <a:lnTo>
                            <a:pt x="54" y="24"/>
                          </a:lnTo>
                          <a:lnTo>
                            <a:pt x="48" y="29"/>
                          </a:lnTo>
                          <a:lnTo>
                            <a:pt x="41" y="35"/>
                          </a:lnTo>
                          <a:lnTo>
                            <a:pt x="36" y="41"/>
                          </a:lnTo>
                          <a:lnTo>
                            <a:pt x="30" y="48"/>
                          </a:lnTo>
                          <a:lnTo>
                            <a:pt x="28" y="55"/>
                          </a:lnTo>
                          <a:lnTo>
                            <a:pt x="26" y="63"/>
                          </a:lnTo>
                          <a:lnTo>
                            <a:pt x="26" y="72"/>
                          </a:lnTo>
                          <a:lnTo>
                            <a:pt x="23" y="73"/>
                          </a:lnTo>
                          <a:lnTo>
                            <a:pt x="16" y="69"/>
                          </a:lnTo>
                          <a:lnTo>
                            <a:pt x="11" y="63"/>
                          </a:lnTo>
                          <a:lnTo>
                            <a:pt x="13" y="59"/>
                          </a:lnTo>
                          <a:lnTo>
                            <a:pt x="30" y="58"/>
                          </a:lnTo>
                          <a:lnTo>
                            <a:pt x="47" y="56"/>
                          </a:lnTo>
                          <a:lnTo>
                            <a:pt x="62" y="53"/>
                          </a:lnTo>
                          <a:lnTo>
                            <a:pt x="77" y="50"/>
                          </a:lnTo>
                          <a:lnTo>
                            <a:pt x="90" y="44"/>
                          </a:lnTo>
                          <a:lnTo>
                            <a:pt x="102" y="40"/>
                          </a:lnTo>
                          <a:lnTo>
                            <a:pt x="115" y="35"/>
                          </a:lnTo>
                          <a:lnTo>
                            <a:pt x="128" y="30"/>
                          </a:lnTo>
                          <a:lnTo>
                            <a:pt x="137" y="30"/>
                          </a:lnTo>
                          <a:lnTo>
                            <a:pt x="142" y="38"/>
                          </a:lnTo>
                          <a:lnTo>
                            <a:pt x="142" y="46"/>
                          </a:lnTo>
                          <a:lnTo>
                            <a:pt x="136" y="52"/>
                          </a:lnTo>
                          <a:lnTo>
                            <a:pt x="122" y="56"/>
                          </a:lnTo>
                          <a:lnTo>
                            <a:pt x="108" y="62"/>
                          </a:lnTo>
                          <a:lnTo>
                            <a:pt x="94" y="67"/>
                          </a:lnTo>
                          <a:lnTo>
                            <a:pt x="81" y="73"/>
                          </a:lnTo>
                          <a:lnTo>
                            <a:pt x="65" y="77"/>
                          </a:lnTo>
                          <a:lnTo>
                            <a:pt x="50" y="81"/>
                          </a:lnTo>
                          <a:lnTo>
                            <a:pt x="31" y="83"/>
                          </a:lnTo>
                          <a:lnTo>
                            <a:pt x="13" y="85"/>
                          </a:lnTo>
                          <a:lnTo>
                            <a:pt x="7" y="84"/>
                          </a:lnTo>
                          <a:lnTo>
                            <a:pt x="4" y="82"/>
                          </a:lnTo>
                          <a:lnTo>
                            <a:pt x="0" y="78"/>
                          </a:lnTo>
                          <a:lnTo>
                            <a:pt x="0" y="72"/>
                          </a:lnTo>
                          <a:lnTo>
                            <a:pt x="0" y="59"/>
                          </a:lnTo>
                          <a:lnTo>
                            <a:pt x="4" y="49"/>
                          </a:lnTo>
                          <a:lnTo>
                            <a:pt x="8" y="39"/>
                          </a:lnTo>
                          <a:lnTo>
                            <a:pt x="14" y="30"/>
                          </a:lnTo>
                          <a:lnTo>
                            <a:pt x="21" y="22"/>
                          </a:lnTo>
                          <a:lnTo>
                            <a:pt x="30" y="15"/>
                          </a:lnTo>
                          <a:lnTo>
                            <a:pt x="40" y="9"/>
                          </a:lnTo>
                          <a:lnTo>
                            <a:pt x="52" y="3"/>
                          </a:lnTo>
                          <a:lnTo>
                            <a:pt x="59" y="0"/>
                          </a:lnTo>
                          <a:lnTo>
                            <a:pt x="66" y="5"/>
                          </a:lnTo>
                          <a:lnTo>
                            <a:pt x="67" y="12"/>
                          </a:lnTo>
                          <a:lnTo>
                            <a:pt x="63" y="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flipH="1">
                      <a:off x="1166400" y="5666040"/>
                      <a:ext cx="982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59">
                          <a:moveTo>
                            <a:pt x="45" y="17"/>
                          </a:moveTo>
                          <a:lnTo>
                            <a:pt x="35" y="19"/>
                          </a:lnTo>
                          <a:lnTo>
                            <a:pt x="29" y="21"/>
                          </a:lnTo>
                          <a:lnTo>
                            <a:pt x="24" y="22"/>
                          </a:lnTo>
                          <a:lnTo>
                            <a:pt x="23" y="25"/>
                          </a:lnTo>
                          <a:lnTo>
                            <a:pt x="22" y="26"/>
                          </a:lnTo>
                          <a:lnTo>
                            <a:pt x="23" y="31"/>
                          </a:lnTo>
                          <a:lnTo>
                            <a:pt x="24" y="37"/>
                          </a:lnTo>
                          <a:lnTo>
                            <a:pt x="27" y="47"/>
                          </a:lnTo>
                          <a:lnTo>
                            <a:pt x="24" y="48"/>
                          </a:lnTo>
                          <a:lnTo>
                            <a:pt x="17" y="46"/>
                          </a:lnTo>
                          <a:lnTo>
                            <a:pt x="12" y="41"/>
                          </a:lnTo>
                          <a:lnTo>
                            <a:pt x="13" y="38"/>
                          </a:lnTo>
                          <a:lnTo>
                            <a:pt x="83" y="17"/>
                          </a:lnTo>
                          <a:lnTo>
                            <a:pt x="114" y="6"/>
                          </a:lnTo>
                          <a:lnTo>
                            <a:pt x="119" y="6"/>
                          </a:lnTo>
                          <a:lnTo>
                            <a:pt x="124" y="9"/>
                          </a:lnTo>
                          <a:lnTo>
                            <a:pt x="124" y="14"/>
                          </a:lnTo>
                          <a:lnTo>
                            <a:pt x="120" y="20"/>
                          </a:lnTo>
                          <a:lnTo>
                            <a:pt x="90" y="36"/>
                          </a:lnTo>
                          <a:lnTo>
                            <a:pt x="19" y="59"/>
                          </a:lnTo>
                          <a:lnTo>
                            <a:pt x="10" y="57"/>
                          </a:lnTo>
                          <a:lnTo>
                            <a:pt x="6" y="50"/>
                          </a:lnTo>
                          <a:lnTo>
                            <a:pt x="3" y="34"/>
                          </a:lnTo>
                          <a:lnTo>
                            <a:pt x="1" y="24"/>
                          </a:lnTo>
                          <a:lnTo>
                            <a:pt x="0" y="18"/>
                          </a:lnTo>
                          <a:lnTo>
                            <a:pt x="2" y="14"/>
                          </a:lnTo>
                          <a:lnTo>
                            <a:pt x="5" y="11"/>
                          </a:lnTo>
                          <a:lnTo>
                            <a:pt x="13" y="10"/>
                          </a:lnTo>
                          <a:lnTo>
                            <a:pt x="23" y="6"/>
                          </a:lnTo>
                          <a:lnTo>
                            <a:pt x="40" y="2"/>
                          </a:lnTo>
                          <a:lnTo>
                            <a:pt x="45" y="0"/>
                          </a:lnTo>
                          <a:lnTo>
                            <a:pt x="49" y="6"/>
                          </a:lnTo>
                          <a:lnTo>
                            <a:pt x="48" y="11"/>
                          </a:lnTo>
                          <a:lnTo>
                            <a:pt x="45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 flipH="1">
                      <a:off x="825120" y="5705640"/>
                      <a:ext cx="1062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87">
                          <a:moveTo>
                            <a:pt x="57" y="2"/>
                          </a:moveTo>
                          <a:lnTo>
                            <a:pt x="67" y="0"/>
                          </a:lnTo>
                          <a:lnTo>
                            <a:pt x="80" y="0"/>
                          </a:lnTo>
                          <a:lnTo>
                            <a:pt x="94" y="1"/>
                          </a:lnTo>
                          <a:lnTo>
                            <a:pt x="108" y="4"/>
                          </a:lnTo>
                          <a:lnTo>
                            <a:pt x="120" y="7"/>
                          </a:lnTo>
                          <a:lnTo>
                            <a:pt x="128" y="14"/>
                          </a:lnTo>
                          <a:lnTo>
                            <a:pt x="134" y="22"/>
                          </a:lnTo>
                          <a:lnTo>
                            <a:pt x="135" y="35"/>
                          </a:lnTo>
                          <a:lnTo>
                            <a:pt x="128" y="51"/>
                          </a:lnTo>
                          <a:lnTo>
                            <a:pt x="120" y="63"/>
                          </a:lnTo>
                          <a:lnTo>
                            <a:pt x="109" y="72"/>
                          </a:lnTo>
                          <a:lnTo>
                            <a:pt x="96" y="78"/>
                          </a:lnTo>
                          <a:lnTo>
                            <a:pt x="80" y="80"/>
                          </a:lnTo>
                          <a:lnTo>
                            <a:pt x="65" y="83"/>
                          </a:lnTo>
                          <a:lnTo>
                            <a:pt x="46" y="84"/>
                          </a:lnTo>
                          <a:lnTo>
                            <a:pt x="27" y="87"/>
                          </a:lnTo>
                          <a:lnTo>
                            <a:pt x="8" y="82"/>
                          </a:lnTo>
                          <a:lnTo>
                            <a:pt x="0" y="76"/>
                          </a:lnTo>
                          <a:lnTo>
                            <a:pt x="0" y="70"/>
                          </a:lnTo>
                          <a:lnTo>
                            <a:pt x="5" y="63"/>
                          </a:lnTo>
                          <a:lnTo>
                            <a:pt x="13" y="63"/>
                          </a:lnTo>
                          <a:lnTo>
                            <a:pt x="28" y="68"/>
                          </a:lnTo>
                          <a:lnTo>
                            <a:pt x="44" y="65"/>
                          </a:lnTo>
                          <a:lnTo>
                            <a:pt x="59" y="65"/>
                          </a:lnTo>
                          <a:lnTo>
                            <a:pt x="71" y="64"/>
                          </a:lnTo>
                          <a:lnTo>
                            <a:pt x="85" y="63"/>
                          </a:lnTo>
                          <a:lnTo>
                            <a:pt x="95" y="59"/>
                          </a:lnTo>
                          <a:lnTo>
                            <a:pt x="104" y="54"/>
                          </a:lnTo>
                          <a:lnTo>
                            <a:pt x="110" y="44"/>
                          </a:lnTo>
                          <a:lnTo>
                            <a:pt x="117" y="32"/>
                          </a:lnTo>
                          <a:lnTo>
                            <a:pt x="116" y="24"/>
                          </a:lnTo>
                          <a:lnTo>
                            <a:pt x="111" y="19"/>
                          </a:lnTo>
                          <a:lnTo>
                            <a:pt x="105" y="16"/>
                          </a:lnTo>
                          <a:lnTo>
                            <a:pt x="96" y="16"/>
                          </a:lnTo>
                          <a:lnTo>
                            <a:pt x="87" y="16"/>
                          </a:lnTo>
                          <a:lnTo>
                            <a:pt x="77" y="17"/>
                          </a:lnTo>
                          <a:lnTo>
                            <a:pt x="67" y="18"/>
                          </a:lnTo>
                          <a:lnTo>
                            <a:pt x="61" y="20"/>
                          </a:lnTo>
                          <a:lnTo>
                            <a:pt x="53" y="18"/>
                          </a:lnTo>
                          <a:lnTo>
                            <a:pt x="50" y="13"/>
                          </a:lnTo>
                          <a:lnTo>
                            <a:pt x="50" y="5"/>
                          </a:lnTo>
                          <a:lnTo>
                            <a:pt x="57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 flipH="1">
                      <a:off x="631440" y="5778720"/>
                      <a:ext cx="112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74">
                          <a:moveTo>
                            <a:pt x="2" y="42"/>
                          </a:moveTo>
                          <a:lnTo>
                            <a:pt x="22" y="22"/>
                          </a:lnTo>
                          <a:lnTo>
                            <a:pt x="45" y="8"/>
                          </a:lnTo>
                          <a:lnTo>
                            <a:pt x="69" y="0"/>
                          </a:lnTo>
                          <a:lnTo>
                            <a:pt x="93" y="0"/>
                          </a:lnTo>
                          <a:lnTo>
                            <a:pt x="113" y="5"/>
                          </a:lnTo>
                          <a:lnTo>
                            <a:pt x="129" y="18"/>
                          </a:lnTo>
                          <a:lnTo>
                            <a:pt x="139" y="37"/>
                          </a:lnTo>
                          <a:lnTo>
                            <a:pt x="142" y="66"/>
                          </a:lnTo>
                          <a:lnTo>
                            <a:pt x="139" y="72"/>
                          </a:lnTo>
                          <a:lnTo>
                            <a:pt x="132" y="74"/>
                          </a:lnTo>
                          <a:lnTo>
                            <a:pt x="119" y="73"/>
                          </a:lnTo>
                          <a:lnTo>
                            <a:pt x="109" y="73"/>
                          </a:lnTo>
                          <a:lnTo>
                            <a:pt x="98" y="72"/>
                          </a:lnTo>
                          <a:lnTo>
                            <a:pt x="88" y="72"/>
                          </a:lnTo>
                          <a:lnTo>
                            <a:pt x="77" y="71"/>
                          </a:lnTo>
                          <a:lnTo>
                            <a:pt x="68" y="71"/>
                          </a:lnTo>
                          <a:lnTo>
                            <a:pt x="57" y="71"/>
                          </a:lnTo>
                          <a:lnTo>
                            <a:pt x="47" y="71"/>
                          </a:lnTo>
                          <a:lnTo>
                            <a:pt x="42" y="69"/>
                          </a:lnTo>
                          <a:lnTo>
                            <a:pt x="41" y="65"/>
                          </a:lnTo>
                          <a:lnTo>
                            <a:pt x="42" y="59"/>
                          </a:lnTo>
                          <a:lnTo>
                            <a:pt x="47" y="58"/>
                          </a:lnTo>
                          <a:lnTo>
                            <a:pt x="57" y="57"/>
                          </a:lnTo>
                          <a:lnTo>
                            <a:pt x="68" y="57"/>
                          </a:lnTo>
                          <a:lnTo>
                            <a:pt x="77" y="56"/>
                          </a:lnTo>
                          <a:lnTo>
                            <a:pt x="88" y="56"/>
                          </a:lnTo>
                          <a:lnTo>
                            <a:pt x="98" y="55"/>
                          </a:lnTo>
                          <a:lnTo>
                            <a:pt x="109" y="55"/>
                          </a:lnTo>
                          <a:lnTo>
                            <a:pt x="119" y="55"/>
                          </a:lnTo>
                          <a:lnTo>
                            <a:pt x="132" y="55"/>
                          </a:lnTo>
                          <a:lnTo>
                            <a:pt x="132" y="56"/>
                          </a:lnTo>
                          <a:lnTo>
                            <a:pt x="129" y="62"/>
                          </a:lnTo>
                          <a:lnTo>
                            <a:pt x="124" y="65"/>
                          </a:lnTo>
                          <a:lnTo>
                            <a:pt x="123" y="64"/>
                          </a:lnTo>
                          <a:lnTo>
                            <a:pt x="120" y="42"/>
                          </a:lnTo>
                          <a:lnTo>
                            <a:pt x="113" y="28"/>
                          </a:lnTo>
                          <a:lnTo>
                            <a:pt x="100" y="19"/>
                          </a:lnTo>
                          <a:lnTo>
                            <a:pt x="84" y="16"/>
                          </a:lnTo>
                          <a:lnTo>
                            <a:pt x="66" y="18"/>
                          </a:lnTo>
                          <a:lnTo>
                            <a:pt x="47" y="24"/>
                          </a:lnTo>
                          <a:lnTo>
                            <a:pt x="29" y="36"/>
                          </a:lnTo>
                          <a:lnTo>
                            <a:pt x="14" y="52"/>
                          </a:lnTo>
                          <a:lnTo>
                            <a:pt x="8" y="54"/>
                          </a:lnTo>
                          <a:lnTo>
                            <a:pt x="3" y="52"/>
                          </a:lnTo>
                          <a:lnTo>
                            <a:pt x="0" y="47"/>
                          </a:lnTo>
                          <a:lnTo>
                            <a:pt x="2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 flipH="1">
                      <a:off x="557280" y="5750280"/>
                      <a:ext cx="936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80">
                          <a:moveTo>
                            <a:pt x="5" y="46"/>
                          </a:moveTo>
                          <a:lnTo>
                            <a:pt x="14" y="36"/>
                          </a:lnTo>
                          <a:lnTo>
                            <a:pt x="24" y="28"/>
                          </a:lnTo>
                          <a:lnTo>
                            <a:pt x="35" y="18"/>
                          </a:lnTo>
                          <a:lnTo>
                            <a:pt x="48" y="11"/>
                          </a:lnTo>
                          <a:lnTo>
                            <a:pt x="59" y="3"/>
                          </a:lnTo>
                          <a:lnTo>
                            <a:pt x="73" y="0"/>
                          </a:lnTo>
                          <a:lnTo>
                            <a:pt x="86" y="0"/>
                          </a:lnTo>
                          <a:lnTo>
                            <a:pt x="102" y="4"/>
                          </a:lnTo>
                          <a:lnTo>
                            <a:pt x="115" y="13"/>
                          </a:lnTo>
                          <a:lnTo>
                            <a:pt x="120" y="23"/>
                          </a:lnTo>
                          <a:lnTo>
                            <a:pt x="116" y="35"/>
                          </a:lnTo>
                          <a:lnTo>
                            <a:pt x="109" y="47"/>
                          </a:lnTo>
                          <a:lnTo>
                            <a:pt x="96" y="58"/>
                          </a:lnTo>
                          <a:lnTo>
                            <a:pt x="83" y="67"/>
                          </a:lnTo>
                          <a:lnTo>
                            <a:pt x="70" y="75"/>
                          </a:lnTo>
                          <a:lnTo>
                            <a:pt x="60" y="80"/>
                          </a:lnTo>
                          <a:lnTo>
                            <a:pt x="41" y="78"/>
                          </a:lnTo>
                          <a:lnTo>
                            <a:pt x="34" y="74"/>
                          </a:lnTo>
                          <a:lnTo>
                            <a:pt x="31" y="70"/>
                          </a:lnTo>
                          <a:lnTo>
                            <a:pt x="34" y="63"/>
                          </a:lnTo>
                          <a:lnTo>
                            <a:pt x="41" y="61"/>
                          </a:lnTo>
                          <a:lnTo>
                            <a:pt x="57" y="59"/>
                          </a:lnTo>
                          <a:lnTo>
                            <a:pt x="64" y="56"/>
                          </a:lnTo>
                          <a:lnTo>
                            <a:pt x="73" y="52"/>
                          </a:lnTo>
                          <a:lnTo>
                            <a:pt x="83" y="47"/>
                          </a:lnTo>
                          <a:lnTo>
                            <a:pt x="94" y="43"/>
                          </a:lnTo>
                          <a:lnTo>
                            <a:pt x="100" y="37"/>
                          </a:lnTo>
                          <a:lnTo>
                            <a:pt x="105" y="32"/>
                          </a:lnTo>
                          <a:lnTo>
                            <a:pt x="102" y="27"/>
                          </a:lnTo>
                          <a:lnTo>
                            <a:pt x="95" y="21"/>
                          </a:lnTo>
                          <a:lnTo>
                            <a:pt x="82" y="17"/>
                          </a:lnTo>
                          <a:lnTo>
                            <a:pt x="70" y="18"/>
                          </a:lnTo>
                          <a:lnTo>
                            <a:pt x="59" y="21"/>
                          </a:lnTo>
                          <a:lnTo>
                            <a:pt x="50" y="29"/>
                          </a:lnTo>
                          <a:lnTo>
                            <a:pt x="40" y="35"/>
                          </a:lnTo>
                          <a:lnTo>
                            <a:pt x="31" y="44"/>
                          </a:lnTo>
                          <a:lnTo>
                            <a:pt x="23" y="51"/>
                          </a:lnTo>
                          <a:lnTo>
                            <a:pt x="15" y="59"/>
                          </a:lnTo>
                          <a:lnTo>
                            <a:pt x="8" y="60"/>
                          </a:lnTo>
                          <a:lnTo>
                            <a:pt x="3" y="57"/>
                          </a:lnTo>
                          <a:lnTo>
                            <a:pt x="0" y="51"/>
                          </a:lnTo>
                          <a:lnTo>
                            <a:pt x="5" y="4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 flipH="1">
                      <a:off x="657000" y="5735880"/>
                      <a:ext cx="10800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94">
                          <a:moveTo>
                            <a:pt x="9" y="90"/>
                          </a:moveTo>
                          <a:lnTo>
                            <a:pt x="1" y="66"/>
                          </a:lnTo>
                          <a:lnTo>
                            <a:pt x="0" y="50"/>
                          </a:lnTo>
                          <a:lnTo>
                            <a:pt x="3" y="36"/>
                          </a:lnTo>
                          <a:lnTo>
                            <a:pt x="11" y="26"/>
                          </a:lnTo>
                          <a:lnTo>
                            <a:pt x="22" y="18"/>
                          </a:lnTo>
                          <a:lnTo>
                            <a:pt x="38" y="11"/>
                          </a:lnTo>
                          <a:lnTo>
                            <a:pt x="56" y="5"/>
                          </a:lnTo>
                          <a:lnTo>
                            <a:pt x="79" y="0"/>
                          </a:lnTo>
                          <a:lnTo>
                            <a:pt x="86" y="2"/>
                          </a:lnTo>
                          <a:lnTo>
                            <a:pt x="94" y="5"/>
                          </a:lnTo>
                          <a:lnTo>
                            <a:pt x="100" y="7"/>
                          </a:lnTo>
                          <a:lnTo>
                            <a:pt x="107" y="10"/>
                          </a:lnTo>
                          <a:lnTo>
                            <a:pt x="112" y="12"/>
                          </a:lnTo>
                          <a:lnTo>
                            <a:pt x="117" y="17"/>
                          </a:lnTo>
                          <a:lnTo>
                            <a:pt x="124" y="21"/>
                          </a:lnTo>
                          <a:lnTo>
                            <a:pt x="132" y="27"/>
                          </a:lnTo>
                          <a:lnTo>
                            <a:pt x="137" y="34"/>
                          </a:lnTo>
                          <a:lnTo>
                            <a:pt x="135" y="41"/>
                          </a:lnTo>
                          <a:lnTo>
                            <a:pt x="114" y="65"/>
                          </a:lnTo>
                          <a:lnTo>
                            <a:pt x="95" y="70"/>
                          </a:lnTo>
                          <a:lnTo>
                            <a:pt x="86" y="68"/>
                          </a:lnTo>
                          <a:lnTo>
                            <a:pt x="82" y="63"/>
                          </a:lnTo>
                          <a:lnTo>
                            <a:pt x="82" y="55"/>
                          </a:lnTo>
                          <a:lnTo>
                            <a:pt x="89" y="52"/>
                          </a:lnTo>
                          <a:lnTo>
                            <a:pt x="105" y="49"/>
                          </a:lnTo>
                          <a:lnTo>
                            <a:pt x="119" y="29"/>
                          </a:lnTo>
                          <a:lnTo>
                            <a:pt x="121" y="29"/>
                          </a:lnTo>
                          <a:lnTo>
                            <a:pt x="123" y="35"/>
                          </a:lnTo>
                          <a:lnTo>
                            <a:pt x="122" y="40"/>
                          </a:lnTo>
                          <a:lnTo>
                            <a:pt x="121" y="42"/>
                          </a:lnTo>
                          <a:lnTo>
                            <a:pt x="113" y="36"/>
                          </a:lnTo>
                          <a:lnTo>
                            <a:pt x="108" y="33"/>
                          </a:lnTo>
                          <a:lnTo>
                            <a:pt x="103" y="30"/>
                          </a:lnTo>
                          <a:lnTo>
                            <a:pt x="99" y="27"/>
                          </a:lnTo>
                          <a:lnTo>
                            <a:pt x="94" y="24"/>
                          </a:lnTo>
                          <a:lnTo>
                            <a:pt x="89" y="22"/>
                          </a:lnTo>
                          <a:lnTo>
                            <a:pt x="84" y="20"/>
                          </a:lnTo>
                          <a:lnTo>
                            <a:pt x="78" y="18"/>
                          </a:lnTo>
                          <a:lnTo>
                            <a:pt x="59" y="22"/>
                          </a:lnTo>
                          <a:lnTo>
                            <a:pt x="45" y="26"/>
                          </a:lnTo>
                          <a:lnTo>
                            <a:pt x="34" y="31"/>
                          </a:lnTo>
                          <a:lnTo>
                            <a:pt x="25" y="37"/>
                          </a:lnTo>
                          <a:lnTo>
                            <a:pt x="18" y="44"/>
                          </a:lnTo>
                          <a:lnTo>
                            <a:pt x="16" y="54"/>
                          </a:lnTo>
                          <a:lnTo>
                            <a:pt x="16" y="67"/>
                          </a:lnTo>
                          <a:lnTo>
                            <a:pt x="23" y="85"/>
                          </a:lnTo>
                          <a:lnTo>
                            <a:pt x="22" y="91"/>
                          </a:lnTo>
                          <a:lnTo>
                            <a:pt x="18" y="94"/>
                          </a:lnTo>
                          <a:lnTo>
                            <a:pt x="12" y="93"/>
                          </a:lnTo>
                          <a:lnTo>
                            <a:pt x="9" y="9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 flipH="1">
                      <a:off x="573120" y="5720040"/>
                      <a:ext cx="1173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5">
                          <a:moveTo>
                            <a:pt x="12" y="37"/>
                          </a:moveTo>
                          <a:lnTo>
                            <a:pt x="25" y="28"/>
                          </a:lnTo>
                          <a:lnTo>
                            <a:pt x="38" y="21"/>
                          </a:lnTo>
                          <a:lnTo>
                            <a:pt x="52" y="14"/>
                          </a:lnTo>
                          <a:lnTo>
                            <a:pt x="69" y="9"/>
                          </a:lnTo>
                          <a:lnTo>
                            <a:pt x="85" y="3"/>
                          </a:lnTo>
                          <a:lnTo>
                            <a:pt x="102" y="1"/>
                          </a:lnTo>
                          <a:lnTo>
                            <a:pt x="120" y="0"/>
                          </a:lnTo>
                          <a:lnTo>
                            <a:pt x="140" y="2"/>
                          </a:lnTo>
                          <a:lnTo>
                            <a:pt x="144" y="2"/>
                          </a:lnTo>
                          <a:lnTo>
                            <a:pt x="147" y="6"/>
                          </a:lnTo>
                          <a:lnTo>
                            <a:pt x="147" y="9"/>
                          </a:lnTo>
                          <a:lnTo>
                            <a:pt x="146" y="15"/>
                          </a:lnTo>
                          <a:lnTo>
                            <a:pt x="140" y="24"/>
                          </a:lnTo>
                          <a:lnTo>
                            <a:pt x="136" y="32"/>
                          </a:lnTo>
                          <a:lnTo>
                            <a:pt x="132" y="38"/>
                          </a:lnTo>
                          <a:lnTo>
                            <a:pt x="129" y="44"/>
                          </a:lnTo>
                          <a:lnTo>
                            <a:pt x="123" y="49"/>
                          </a:lnTo>
                          <a:lnTo>
                            <a:pt x="119" y="53"/>
                          </a:lnTo>
                          <a:lnTo>
                            <a:pt x="113" y="56"/>
                          </a:lnTo>
                          <a:lnTo>
                            <a:pt x="106" y="61"/>
                          </a:lnTo>
                          <a:lnTo>
                            <a:pt x="92" y="62"/>
                          </a:lnTo>
                          <a:lnTo>
                            <a:pt x="79" y="64"/>
                          </a:lnTo>
                          <a:lnTo>
                            <a:pt x="66" y="64"/>
                          </a:lnTo>
                          <a:lnTo>
                            <a:pt x="56" y="65"/>
                          </a:lnTo>
                          <a:lnTo>
                            <a:pt x="43" y="64"/>
                          </a:lnTo>
                          <a:lnTo>
                            <a:pt x="31" y="64"/>
                          </a:lnTo>
                          <a:lnTo>
                            <a:pt x="18" y="62"/>
                          </a:lnTo>
                          <a:lnTo>
                            <a:pt x="5" y="61"/>
                          </a:lnTo>
                          <a:lnTo>
                            <a:pt x="1" y="58"/>
                          </a:lnTo>
                          <a:lnTo>
                            <a:pt x="0" y="54"/>
                          </a:lnTo>
                          <a:lnTo>
                            <a:pt x="2" y="50"/>
                          </a:lnTo>
                          <a:lnTo>
                            <a:pt x="7" y="49"/>
                          </a:lnTo>
                          <a:lnTo>
                            <a:pt x="19" y="49"/>
                          </a:lnTo>
                          <a:lnTo>
                            <a:pt x="32" y="50"/>
                          </a:lnTo>
                          <a:lnTo>
                            <a:pt x="43" y="49"/>
                          </a:lnTo>
                          <a:lnTo>
                            <a:pt x="54" y="47"/>
                          </a:lnTo>
                          <a:lnTo>
                            <a:pt x="63" y="45"/>
                          </a:lnTo>
                          <a:lnTo>
                            <a:pt x="75" y="44"/>
                          </a:lnTo>
                          <a:lnTo>
                            <a:pt x="86" y="42"/>
                          </a:lnTo>
                          <a:lnTo>
                            <a:pt x="100" y="41"/>
                          </a:lnTo>
                          <a:lnTo>
                            <a:pt x="105" y="37"/>
                          </a:lnTo>
                          <a:lnTo>
                            <a:pt x="111" y="33"/>
                          </a:lnTo>
                          <a:lnTo>
                            <a:pt x="114" y="30"/>
                          </a:lnTo>
                          <a:lnTo>
                            <a:pt x="118" y="28"/>
                          </a:lnTo>
                          <a:lnTo>
                            <a:pt x="120" y="24"/>
                          </a:lnTo>
                          <a:lnTo>
                            <a:pt x="122" y="20"/>
                          </a:lnTo>
                          <a:lnTo>
                            <a:pt x="126" y="13"/>
                          </a:lnTo>
                          <a:lnTo>
                            <a:pt x="131" y="7"/>
                          </a:lnTo>
                          <a:lnTo>
                            <a:pt x="134" y="6"/>
                          </a:lnTo>
                          <a:lnTo>
                            <a:pt x="139" y="11"/>
                          </a:lnTo>
                          <a:lnTo>
                            <a:pt x="140" y="16"/>
                          </a:lnTo>
                          <a:lnTo>
                            <a:pt x="137" y="20"/>
                          </a:lnTo>
                          <a:lnTo>
                            <a:pt x="119" y="17"/>
                          </a:lnTo>
                          <a:lnTo>
                            <a:pt x="103" y="17"/>
                          </a:lnTo>
                          <a:lnTo>
                            <a:pt x="87" y="18"/>
                          </a:lnTo>
                          <a:lnTo>
                            <a:pt x="72" y="23"/>
                          </a:lnTo>
                          <a:lnTo>
                            <a:pt x="57" y="26"/>
                          </a:lnTo>
                          <a:lnTo>
                            <a:pt x="43" y="32"/>
                          </a:lnTo>
                          <a:lnTo>
                            <a:pt x="30" y="39"/>
                          </a:lnTo>
                          <a:lnTo>
                            <a:pt x="18" y="46"/>
                          </a:lnTo>
                          <a:lnTo>
                            <a:pt x="13" y="46"/>
                          </a:lnTo>
                          <a:lnTo>
                            <a:pt x="9" y="44"/>
                          </a:lnTo>
                          <a:lnTo>
                            <a:pt x="8" y="40"/>
                          </a:lnTo>
                          <a:lnTo>
                            <a:pt x="12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 flipH="1">
                      <a:off x="764640" y="5756400"/>
                      <a:ext cx="968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73">
                          <a:moveTo>
                            <a:pt x="61" y="6"/>
                          </a:moveTo>
                          <a:lnTo>
                            <a:pt x="92" y="0"/>
                          </a:lnTo>
                          <a:lnTo>
                            <a:pt x="112" y="3"/>
                          </a:lnTo>
                          <a:lnTo>
                            <a:pt x="121" y="9"/>
                          </a:lnTo>
                          <a:lnTo>
                            <a:pt x="121" y="20"/>
                          </a:lnTo>
                          <a:lnTo>
                            <a:pt x="112" y="32"/>
                          </a:lnTo>
                          <a:lnTo>
                            <a:pt x="96" y="47"/>
                          </a:lnTo>
                          <a:lnTo>
                            <a:pt x="74" y="59"/>
                          </a:lnTo>
                          <a:lnTo>
                            <a:pt x="47" y="73"/>
                          </a:lnTo>
                          <a:lnTo>
                            <a:pt x="34" y="72"/>
                          </a:lnTo>
                          <a:lnTo>
                            <a:pt x="29" y="71"/>
                          </a:lnTo>
                          <a:lnTo>
                            <a:pt x="27" y="71"/>
                          </a:lnTo>
                          <a:lnTo>
                            <a:pt x="25" y="70"/>
                          </a:lnTo>
                          <a:lnTo>
                            <a:pt x="24" y="69"/>
                          </a:lnTo>
                          <a:lnTo>
                            <a:pt x="19" y="68"/>
                          </a:lnTo>
                          <a:lnTo>
                            <a:pt x="8" y="67"/>
                          </a:lnTo>
                          <a:lnTo>
                            <a:pt x="1" y="63"/>
                          </a:lnTo>
                          <a:lnTo>
                            <a:pt x="0" y="56"/>
                          </a:lnTo>
                          <a:lnTo>
                            <a:pt x="3" y="50"/>
                          </a:lnTo>
                          <a:lnTo>
                            <a:pt x="12" y="49"/>
                          </a:lnTo>
                          <a:lnTo>
                            <a:pt x="20" y="49"/>
                          </a:lnTo>
                          <a:lnTo>
                            <a:pt x="25" y="50"/>
                          </a:lnTo>
                          <a:lnTo>
                            <a:pt x="27" y="50"/>
                          </a:lnTo>
                          <a:lnTo>
                            <a:pt x="27" y="51"/>
                          </a:lnTo>
                          <a:lnTo>
                            <a:pt x="25" y="50"/>
                          </a:lnTo>
                          <a:lnTo>
                            <a:pt x="27" y="49"/>
                          </a:lnTo>
                          <a:lnTo>
                            <a:pt x="31" y="49"/>
                          </a:lnTo>
                          <a:lnTo>
                            <a:pt x="43" y="50"/>
                          </a:lnTo>
                          <a:lnTo>
                            <a:pt x="58" y="42"/>
                          </a:lnTo>
                          <a:lnTo>
                            <a:pt x="72" y="36"/>
                          </a:lnTo>
                          <a:lnTo>
                            <a:pt x="82" y="29"/>
                          </a:lnTo>
                          <a:lnTo>
                            <a:pt x="90" y="25"/>
                          </a:lnTo>
                          <a:lnTo>
                            <a:pt x="92" y="20"/>
                          </a:lnTo>
                          <a:lnTo>
                            <a:pt x="90" y="18"/>
                          </a:lnTo>
                          <a:lnTo>
                            <a:pt x="80" y="18"/>
                          </a:lnTo>
                          <a:lnTo>
                            <a:pt x="64" y="21"/>
                          </a:lnTo>
                          <a:lnTo>
                            <a:pt x="57" y="19"/>
                          </a:lnTo>
                          <a:lnTo>
                            <a:pt x="55" y="14"/>
                          </a:lnTo>
                          <a:lnTo>
                            <a:pt x="55" y="9"/>
                          </a:lnTo>
                          <a:lnTo>
                            <a:pt x="61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 flipH="1">
                      <a:off x="488520" y="5710320"/>
                      <a:ext cx="903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89">
                          <a:moveTo>
                            <a:pt x="44" y="12"/>
                          </a:moveTo>
                          <a:lnTo>
                            <a:pt x="48" y="10"/>
                          </a:lnTo>
                          <a:lnTo>
                            <a:pt x="56" y="8"/>
                          </a:lnTo>
                          <a:lnTo>
                            <a:pt x="62" y="6"/>
                          </a:lnTo>
                          <a:lnTo>
                            <a:pt x="71" y="5"/>
                          </a:lnTo>
                          <a:lnTo>
                            <a:pt x="78" y="1"/>
                          </a:lnTo>
                          <a:lnTo>
                            <a:pt x="87" y="0"/>
                          </a:lnTo>
                          <a:lnTo>
                            <a:pt x="94" y="0"/>
                          </a:lnTo>
                          <a:lnTo>
                            <a:pt x="103" y="0"/>
                          </a:lnTo>
                          <a:lnTo>
                            <a:pt x="108" y="0"/>
                          </a:lnTo>
                          <a:lnTo>
                            <a:pt x="113" y="4"/>
                          </a:lnTo>
                          <a:lnTo>
                            <a:pt x="114" y="7"/>
                          </a:lnTo>
                          <a:lnTo>
                            <a:pt x="114" y="13"/>
                          </a:lnTo>
                          <a:lnTo>
                            <a:pt x="105" y="34"/>
                          </a:lnTo>
                          <a:lnTo>
                            <a:pt x="99" y="51"/>
                          </a:lnTo>
                          <a:lnTo>
                            <a:pt x="90" y="65"/>
                          </a:lnTo>
                          <a:lnTo>
                            <a:pt x="80" y="77"/>
                          </a:lnTo>
                          <a:lnTo>
                            <a:pt x="67" y="84"/>
                          </a:lnTo>
                          <a:lnTo>
                            <a:pt x="52" y="88"/>
                          </a:lnTo>
                          <a:lnTo>
                            <a:pt x="32" y="89"/>
                          </a:lnTo>
                          <a:lnTo>
                            <a:pt x="9" y="87"/>
                          </a:lnTo>
                          <a:lnTo>
                            <a:pt x="1" y="82"/>
                          </a:lnTo>
                          <a:lnTo>
                            <a:pt x="0" y="74"/>
                          </a:lnTo>
                          <a:lnTo>
                            <a:pt x="3" y="67"/>
                          </a:lnTo>
                          <a:lnTo>
                            <a:pt x="13" y="66"/>
                          </a:lnTo>
                          <a:lnTo>
                            <a:pt x="31" y="66"/>
                          </a:lnTo>
                          <a:lnTo>
                            <a:pt x="46" y="66"/>
                          </a:lnTo>
                          <a:lnTo>
                            <a:pt x="58" y="63"/>
                          </a:lnTo>
                          <a:lnTo>
                            <a:pt x="67" y="57"/>
                          </a:lnTo>
                          <a:lnTo>
                            <a:pt x="74" y="48"/>
                          </a:lnTo>
                          <a:lnTo>
                            <a:pt x="81" y="37"/>
                          </a:lnTo>
                          <a:lnTo>
                            <a:pt x="87" y="24"/>
                          </a:lnTo>
                          <a:lnTo>
                            <a:pt x="93" y="8"/>
                          </a:lnTo>
                          <a:lnTo>
                            <a:pt x="96" y="6"/>
                          </a:lnTo>
                          <a:lnTo>
                            <a:pt x="103" y="11"/>
                          </a:lnTo>
                          <a:lnTo>
                            <a:pt x="105" y="17"/>
                          </a:lnTo>
                          <a:lnTo>
                            <a:pt x="103" y="21"/>
                          </a:lnTo>
                          <a:lnTo>
                            <a:pt x="95" y="21"/>
                          </a:lnTo>
                          <a:lnTo>
                            <a:pt x="88" y="21"/>
                          </a:lnTo>
                          <a:lnTo>
                            <a:pt x="80" y="21"/>
                          </a:lnTo>
                          <a:lnTo>
                            <a:pt x="74" y="22"/>
                          </a:lnTo>
                          <a:lnTo>
                            <a:pt x="65" y="22"/>
                          </a:lnTo>
                          <a:lnTo>
                            <a:pt x="59" y="24"/>
                          </a:lnTo>
                          <a:lnTo>
                            <a:pt x="52" y="25"/>
                          </a:lnTo>
                          <a:lnTo>
                            <a:pt x="48" y="27"/>
                          </a:lnTo>
                          <a:lnTo>
                            <a:pt x="41" y="26"/>
                          </a:lnTo>
                          <a:lnTo>
                            <a:pt x="37" y="22"/>
                          </a:lnTo>
                          <a:lnTo>
                            <a:pt x="37" y="16"/>
                          </a:lnTo>
                          <a:lnTo>
                            <a:pt x="44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 flipH="1">
                      <a:off x="401400" y="5691240"/>
                      <a:ext cx="1224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82">
                          <a:moveTo>
                            <a:pt x="68" y="0"/>
                          </a:moveTo>
                          <a:lnTo>
                            <a:pt x="104" y="2"/>
                          </a:lnTo>
                          <a:lnTo>
                            <a:pt x="131" y="8"/>
                          </a:lnTo>
                          <a:lnTo>
                            <a:pt x="147" y="18"/>
                          </a:lnTo>
                          <a:lnTo>
                            <a:pt x="153" y="31"/>
                          </a:lnTo>
                          <a:lnTo>
                            <a:pt x="150" y="44"/>
                          </a:lnTo>
                          <a:lnTo>
                            <a:pt x="137" y="58"/>
                          </a:lnTo>
                          <a:lnTo>
                            <a:pt x="115" y="70"/>
                          </a:lnTo>
                          <a:lnTo>
                            <a:pt x="83" y="82"/>
                          </a:lnTo>
                          <a:lnTo>
                            <a:pt x="66" y="81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4" y="78"/>
                          </a:lnTo>
                          <a:lnTo>
                            <a:pt x="25" y="76"/>
                          </a:lnTo>
                          <a:lnTo>
                            <a:pt x="18" y="74"/>
                          </a:lnTo>
                          <a:lnTo>
                            <a:pt x="11" y="72"/>
                          </a:lnTo>
                          <a:lnTo>
                            <a:pt x="6" y="72"/>
                          </a:lnTo>
                          <a:lnTo>
                            <a:pt x="0" y="67"/>
                          </a:lnTo>
                          <a:lnTo>
                            <a:pt x="0" y="62"/>
                          </a:lnTo>
                          <a:lnTo>
                            <a:pt x="2" y="58"/>
                          </a:lnTo>
                          <a:lnTo>
                            <a:pt x="9" y="57"/>
                          </a:lnTo>
                          <a:lnTo>
                            <a:pt x="15" y="57"/>
                          </a:lnTo>
                          <a:lnTo>
                            <a:pt x="21" y="58"/>
                          </a:lnTo>
                          <a:lnTo>
                            <a:pt x="28" y="59"/>
                          </a:lnTo>
                          <a:lnTo>
                            <a:pt x="35" y="60"/>
                          </a:lnTo>
                          <a:lnTo>
                            <a:pt x="43" y="61"/>
                          </a:lnTo>
                          <a:lnTo>
                            <a:pt x="52" y="62"/>
                          </a:lnTo>
                          <a:lnTo>
                            <a:pt x="64" y="62"/>
                          </a:lnTo>
                          <a:lnTo>
                            <a:pt x="80" y="63"/>
                          </a:lnTo>
                          <a:lnTo>
                            <a:pt x="99" y="56"/>
                          </a:lnTo>
                          <a:lnTo>
                            <a:pt x="111" y="48"/>
                          </a:lnTo>
                          <a:lnTo>
                            <a:pt x="118" y="39"/>
                          </a:lnTo>
                          <a:lnTo>
                            <a:pt x="121" y="32"/>
                          </a:lnTo>
                          <a:lnTo>
                            <a:pt x="116" y="23"/>
                          </a:lnTo>
                          <a:lnTo>
                            <a:pt x="106" y="18"/>
                          </a:lnTo>
                          <a:lnTo>
                            <a:pt x="90" y="14"/>
                          </a:lnTo>
                          <a:lnTo>
                            <a:pt x="68" y="14"/>
                          </a:lnTo>
                          <a:lnTo>
                            <a:pt x="62" y="10"/>
                          </a:lnTo>
                          <a:lnTo>
                            <a:pt x="61" y="6"/>
                          </a:lnTo>
                          <a:lnTo>
                            <a:pt x="62" y="1"/>
                          </a:lnTo>
                          <a:lnTo>
                            <a:pt x="6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 flipH="1">
                      <a:off x="339480" y="5658120"/>
                      <a:ext cx="1065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90">
                          <a:moveTo>
                            <a:pt x="28" y="6"/>
                          </a:moveTo>
                          <a:lnTo>
                            <a:pt x="34" y="4"/>
                          </a:lnTo>
                          <a:lnTo>
                            <a:pt x="50" y="3"/>
                          </a:lnTo>
                          <a:lnTo>
                            <a:pt x="70" y="0"/>
                          </a:lnTo>
                          <a:lnTo>
                            <a:pt x="95" y="1"/>
                          </a:lnTo>
                          <a:lnTo>
                            <a:pt x="115" y="3"/>
                          </a:lnTo>
                          <a:lnTo>
                            <a:pt x="130" y="12"/>
                          </a:lnTo>
                          <a:lnTo>
                            <a:pt x="135" y="25"/>
                          </a:lnTo>
                          <a:lnTo>
                            <a:pt x="127" y="46"/>
                          </a:lnTo>
                          <a:lnTo>
                            <a:pt x="116" y="56"/>
                          </a:lnTo>
                          <a:lnTo>
                            <a:pt x="105" y="65"/>
                          </a:lnTo>
                          <a:lnTo>
                            <a:pt x="91" y="72"/>
                          </a:lnTo>
                          <a:lnTo>
                            <a:pt x="78" y="77"/>
                          </a:lnTo>
                          <a:lnTo>
                            <a:pt x="62" y="80"/>
                          </a:lnTo>
                          <a:lnTo>
                            <a:pt x="46" y="85"/>
                          </a:lnTo>
                          <a:lnTo>
                            <a:pt x="29" y="87"/>
                          </a:lnTo>
                          <a:lnTo>
                            <a:pt x="14" y="90"/>
                          </a:lnTo>
                          <a:lnTo>
                            <a:pt x="8" y="89"/>
                          </a:lnTo>
                          <a:lnTo>
                            <a:pt x="4" y="87"/>
                          </a:lnTo>
                          <a:lnTo>
                            <a:pt x="0" y="84"/>
                          </a:lnTo>
                          <a:lnTo>
                            <a:pt x="0" y="80"/>
                          </a:lnTo>
                          <a:lnTo>
                            <a:pt x="1" y="72"/>
                          </a:lnTo>
                          <a:lnTo>
                            <a:pt x="10" y="68"/>
                          </a:lnTo>
                          <a:lnTo>
                            <a:pt x="24" y="64"/>
                          </a:lnTo>
                          <a:lnTo>
                            <a:pt x="38" y="63"/>
                          </a:lnTo>
                          <a:lnTo>
                            <a:pt x="52" y="61"/>
                          </a:lnTo>
                          <a:lnTo>
                            <a:pt x="66" y="59"/>
                          </a:lnTo>
                          <a:lnTo>
                            <a:pt x="78" y="55"/>
                          </a:lnTo>
                          <a:lnTo>
                            <a:pt x="91" y="49"/>
                          </a:lnTo>
                          <a:lnTo>
                            <a:pt x="100" y="43"/>
                          </a:lnTo>
                          <a:lnTo>
                            <a:pt x="110" y="34"/>
                          </a:lnTo>
                          <a:lnTo>
                            <a:pt x="115" y="18"/>
                          </a:lnTo>
                          <a:lnTo>
                            <a:pt x="111" y="11"/>
                          </a:lnTo>
                          <a:lnTo>
                            <a:pt x="99" y="6"/>
                          </a:lnTo>
                          <a:lnTo>
                            <a:pt x="83" y="8"/>
                          </a:lnTo>
                          <a:lnTo>
                            <a:pt x="65" y="11"/>
                          </a:lnTo>
                          <a:lnTo>
                            <a:pt x="48" y="15"/>
                          </a:lnTo>
                          <a:lnTo>
                            <a:pt x="36" y="18"/>
                          </a:lnTo>
                          <a:lnTo>
                            <a:pt x="32" y="20"/>
                          </a:lnTo>
                          <a:lnTo>
                            <a:pt x="25" y="19"/>
                          </a:lnTo>
                          <a:lnTo>
                            <a:pt x="22" y="15"/>
                          </a:lnTo>
                          <a:lnTo>
                            <a:pt x="23" y="8"/>
                          </a:lnTo>
                          <a:lnTo>
                            <a:pt x="28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 flipH="1">
                      <a:off x="474480" y="5634360"/>
                      <a:ext cx="10656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80">
                          <a:moveTo>
                            <a:pt x="60" y="6"/>
                          </a:moveTo>
                          <a:lnTo>
                            <a:pt x="81" y="2"/>
                          </a:lnTo>
                          <a:lnTo>
                            <a:pt x="98" y="0"/>
                          </a:lnTo>
                          <a:lnTo>
                            <a:pt x="111" y="1"/>
                          </a:lnTo>
                          <a:lnTo>
                            <a:pt x="121" y="6"/>
                          </a:lnTo>
                          <a:lnTo>
                            <a:pt x="126" y="14"/>
                          </a:lnTo>
                          <a:lnTo>
                            <a:pt x="130" y="28"/>
                          </a:lnTo>
                          <a:lnTo>
                            <a:pt x="132" y="46"/>
                          </a:lnTo>
                          <a:lnTo>
                            <a:pt x="133" y="71"/>
                          </a:lnTo>
                          <a:lnTo>
                            <a:pt x="130" y="77"/>
                          </a:lnTo>
                          <a:lnTo>
                            <a:pt x="123" y="80"/>
                          </a:lnTo>
                          <a:lnTo>
                            <a:pt x="104" y="80"/>
                          </a:lnTo>
                          <a:lnTo>
                            <a:pt x="87" y="80"/>
                          </a:lnTo>
                          <a:lnTo>
                            <a:pt x="69" y="80"/>
                          </a:lnTo>
                          <a:lnTo>
                            <a:pt x="53" y="80"/>
                          </a:lnTo>
                          <a:lnTo>
                            <a:pt x="37" y="78"/>
                          </a:lnTo>
                          <a:lnTo>
                            <a:pt x="24" y="75"/>
                          </a:lnTo>
                          <a:lnTo>
                            <a:pt x="11" y="69"/>
                          </a:lnTo>
                          <a:lnTo>
                            <a:pt x="3" y="63"/>
                          </a:lnTo>
                          <a:lnTo>
                            <a:pt x="0" y="57"/>
                          </a:lnTo>
                          <a:lnTo>
                            <a:pt x="2" y="51"/>
                          </a:lnTo>
                          <a:lnTo>
                            <a:pt x="7" y="48"/>
                          </a:lnTo>
                          <a:lnTo>
                            <a:pt x="15" y="51"/>
                          </a:lnTo>
                          <a:lnTo>
                            <a:pt x="23" y="58"/>
                          </a:lnTo>
                          <a:lnTo>
                            <a:pt x="34" y="62"/>
                          </a:lnTo>
                          <a:lnTo>
                            <a:pt x="46" y="63"/>
                          </a:lnTo>
                          <a:lnTo>
                            <a:pt x="61" y="64"/>
                          </a:lnTo>
                          <a:lnTo>
                            <a:pt x="75" y="63"/>
                          </a:lnTo>
                          <a:lnTo>
                            <a:pt x="90" y="63"/>
                          </a:lnTo>
                          <a:lnTo>
                            <a:pt x="106" y="62"/>
                          </a:lnTo>
                          <a:lnTo>
                            <a:pt x="123" y="62"/>
                          </a:lnTo>
                          <a:lnTo>
                            <a:pt x="124" y="63"/>
                          </a:lnTo>
                          <a:lnTo>
                            <a:pt x="121" y="68"/>
                          </a:lnTo>
                          <a:lnTo>
                            <a:pt x="116" y="72"/>
                          </a:lnTo>
                          <a:lnTo>
                            <a:pt x="115" y="71"/>
                          </a:lnTo>
                          <a:lnTo>
                            <a:pt x="114" y="51"/>
                          </a:lnTo>
                          <a:lnTo>
                            <a:pt x="112" y="38"/>
                          </a:lnTo>
                          <a:lnTo>
                            <a:pt x="110" y="29"/>
                          </a:lnTo>
                          <a:lnTo>
                            <a:pt x="107" y="22"/>
                          </a:lnTo>
                          <a:lnTo>
                            <a:pt x="100" y="18"/>
                          </a:lnTo>
                          <a:lnTo>
                            <a:pt x="91" y="17"/>
                          </a:lnTo>
                          <a:lnTo>
                            <a:pt x="78" y="18"/>
                          </a:lnTo>
                          <a:lnTo>
                            <a:pt x="62" y="21"/>
                          </a:lnTo>
                          <a:lnTo>
                            <a:pt x="55" y="19"/>
                          </a:lnTo>
                          <a:lnTo>
                            <a:pt x="53" y="15"/>
                          </a:lnTo>
                          <a:lnTo>
                            <a:pt x="53" y="8"/>
                          </a:lnTo>
                          <a:lnTo>
                            <a:pt x="60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6" name=""/>
                  <p:cNvSpPr/>
                  <p:nvPr/>
                </p:nvSpPr>
                <p:spPr>
                  <a:xfrm flipH="1">
                    <a:off x="385200" y="5608800"/>
                    <a:ext cx="10476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69">
                        <a:moveTo>
                          <a:pt x="47" y="3"/>
                        </a:moveTo>
                        <a:lnTo>
                          <a:pt x="54" y="0"/>
                        </a:lnTo>
                        <a:lnTo>
                          <a:pt x="68" y="0"/>
                        </a:lnTo>
                        <a:lnTo>
                          <a:pt x="86" y="0"/>
                        </a:lnTo>
                        <a:lnTo>
                          <a:pt x="105" y="5"/>
                        </a:lnTo>
                        <a:lnTo>
                          <a:pt x="119" y="9"/>
                        </a:lnTo>
                        <a:lnTo>
                          <a:pt x="130" y="17"/>
                        </a:lnTo>
                        <a:lnTo>
                          <a:pt x="131" y="27"/>
                        </a:lnTo>
                        <a:lnTo>
                          <a:pt x="122" y="43"/>
                        </a:lnTo>
                        <a:lnTo>
                          <a:pt x="115" y="48"/>
                        </a:lnTo>
                        <a:lnTo>
                          <a:pt x="105" y="52"/>
                        </a:lnTo>
                        <a:lnTo>
                          <a:pt x="92" y="55"/>
                        </a:lnTo>
                        <a:lnTo>
                          <a:pt x="78" y="60"/>
                        </a:lnTo>
                        <a:lnTo>
                          <a:pt x="63" y="62"/>
                        </a:lnTo>
                        <a:lnTo>
                          <a:pt x="48" y="65"/>
                        </a:lnTo>
                        <a:lnTo>
                          <a:pt x="35" y="67"/>
                        </a:lnTo>
                        <a:lnTo>
                          <a:pt x="24" y="69"/>
                        </a:lnTo>
                        <a:lnTo>
                          <a:pt x="5" y="57"/>
                        </a:lnTo>
                        <a:lnTo>
                          <a:pt x="0" y="51"/>
                        </a:lnTo>
                        <a:lnTo>
                          <a:pt x="1" y="45"/>
                        </a:lnTo>
                        <a:lnTo>
                          <a:pt x="5" y="39"/>
                        </a:lnTo>
                        <a:lnTo>
                          <a:pt x="13" y="41"/>
                        </a:lnTo>
                        <a:lnTo>
                          <a:pt x="29" y="49"/>
                        </a:lnTo>
                        <a:lnTo>
                          <a:pt x="37" y="47"/>
                        </a:lnTo>
                        <a:lnTo>
                          <a:pt x="48" y="46"/>
                        </a:lnTo>
                        <a:lnTo>
                          <a:pt x="60" y="43"/>
                        </a:lnTo>
                        <a:lnTo>
                          <a:pt x="73" y="42"/>
                        </a:lnTo>
                        <a:lnTo>
                          <a:pt x="83" y="39"/>
                        </a:lnTo>
                        <a:lnTo>
                          <a:pt x="93" y="36"/>
                        </a:lnTo>
                        <a:lnTo>
                          <a:pt x="102" y="33"/>
                        </a:lnTo>
                        <a:lnTo>
                          <a:pt x="108" y="29"/>
                        </a:lnTo>
                        <a:lnTo>
                          <a:pt x="114" y="20"/>
                        </a:lnTo>
                        <a:lnTo>
                          <a:pt x="111" y="13"/>
                        </a:lnTo>
                        <a:lnTo>
                          <a:pt x="104" y="10"/>
                        </a:lnTo>
                        <a:lnTo>
                          <a:pt x="93" y="10"/>
                        </a:lnTo>
                        <a:lnTo>
                          <a:pt x="79" y="10"/>
                        </a:lnTo>
                        <a:lnTo>
                          <a:pt x="66" y="13"/>
                        </a:lnTo>
                        <a:lnTo>
                          <a:pt x="55" y="14"/>
                        </a:lnTo>
                        <a:lnTo>
                          <a:pt x="51" y="17"/>
                        </a:lnTo>
                        <a:lnTo>
                          <a:pt x="45" y="16"/>
                        </a:lnTo>
                        <a:lnTo>
                          <a:pt x="41" y="11"/>
                        </a:lnTo>
                        <a:lnTo>
                          <a:pt x="41" y="6"/>
                        </a:lnTo>
                        <a:lnTo>
                          <a:pt x="4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 flipH="1">
                    <a:off x="296640" y="5589720"/>
                    <a:ext cx="936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6">
                        <a:moveTo>
                          <a:pt x="50" y="2"/>
                        </a:moveTo>
                        <a:lnTo>
                          <a:pt x="86" y="0"/>
                        </a:lnTo>
                        <a:lnTo>
                          <a:pt x="109" y="7"/>
                        </a:lnTo>
                        <a:lnTo>
                          <a:pt x="119" y="21"/>
                        </a:lnTo>
                        <a:lnTo>
                          <a:pt x="116" y="39"/>
                        </a:lnTo>
                        <a:lnTo>
                          <a:pt x="102" y="55"/>
                        </a:lnTo>
                        <a:lnTo>
                          <a:pt x="80" y="69"/>
                        </a:lnTo>
                        <a:lnTo>
                          <a:pt x="48" y="76"/>
                        </a:lnTo>
                        <a:lnTo>
                          <a:pt x="10" y="75"/>
                        </a:lnTo>
                        <a:lnTo>
                          <a:pt x="1" y="70"/>
                        </a:lnTo>
                        <a:lnTo>
                          <a:pt x="0" y="61"/>
                        </a:lnTo>
                        <a:lnTo>
                          <a:pt x="0" y="57"/>
                        </a:lnTo>
                        <a:lnTo>
                          <a:pt x="4" y="54"/>
                        </a:lnTo>
                        <a:lnTo>
                          <a:pt x="8" y="51"/>
                        </a:lnTo>
                        <a:lnTo>
                          <a:pt x="14" y="52"/>
                        </a:lnTo>
                        <a:lnTo>
                          <a:pt x="37" y="52"/>
                        </a:lnTo>
                        <a:lnTo>
                          <a:pt x="57" y="50"/>
                        </a:lnTo>
                        <a:lnTo>
                          <a:pt x="73" y="44"/>
                        </a:lnTo>
                        <a:lnTo>
                          <a:pt x="85" y="36"/>
                        </a:lnTo>
                        <a:lnTo>
                          <a:pt x="89" y="28"/>
                        </a:lnTo>
                        <a:lnTo>
                          <a:pt x="86" y="21"/>
                        </a:lnTo>
                        <a:lnTo>
                          <a:pt x="73" y="18"/>
                        </a:lnTo>
                        <a:lnTo>
                          <a:pt x="53" y="20"/>
                        </a:lnTo>
                        <a:lnTo>
                          <a:pt x="44" y="18"/>
                        </a:lnTo>
                        <a:lnTo>
                          <a:pt x="41" y="12"/>
                        </a:lnTo>
                        <a:lnTo>
                          <a:pt x="42" y="5"/>
                        </a:lnTo>
                        <a:lnTo>
                          <a:pt x="5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flipH="1">
                    <a:off x="276120" y="5624640"/>
                    <a:ext cx="84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4">
                        <a:moveTo>
                          <a:pt x="51" y="12"/>
                        </a:moveTo>
                        <a:lnTo>
                          <a:pt x="60" y="6"/>
                        </a:lnTo>
                        <a:lnTo>
                          <a:pt x="68" y="3"/>
                        </a:lnTo>
                        <a:lnTo>
                          <a:pt x="71" y="1"/>
                        </a:lnTo>
                        <a:lnTo>
                          <a:pt x="74" y="1"/>
                        </a:lnTo>
                        <a:lnTo>
                          <a:pt x="75" y="0"/>
                        </a:lnTo>
                        <a:lnTo>
                          <a:pt x="80" y="1"/>
                        </a:lnTo>
                        <a:lnTo>
                          <a:pt x="87" y="3"/>
                        </a:lnTo>
                        <a:lnTo>
                          <a:pt x="100" y="6"/>
                        </a:lnTo>
                        <a:lnTo>
                          <a:pt x="106" y="11"/>
                        </a:lnTo>
                        <a:lnTo>
                          <a:pt x="105" y="20"/>
                        </a:lnTo>
                        <a:lnTo>
                          <a:pt x="97" y="33"/>
                        </a:lnTo>
                        <a:lnTo>
                          <a:pt x="90" y="44"/>
                        </a:lnTo>
                        <a:lnTo>
                          <a:pt x="83" y="53"/>
                        </a:lnTo>
                        <a:lnTo>
                          <a:pt x="76" y="60"/>
                        </a:lnTo>
                        <a:lnTo>
                          <a:pt x="67" y="65"/>
                        </a:lnTo>
                        <a:lnTo>
                          <a:pt x="57" y="71"/>
                        </a:lnTo>
                        <a:lnTo>
                          <a:pt x="44" y="76"/>
                        </a:lnTo>
                        <a:lnTo>
                          <a:pt x="29" y="84"/>
                        </a:lnTo>
                        <a:lnTo>
                          <a:pt x="10" y="83"/>
                        </a:lnTo>
                        <a:lnTo>
                          <a:pt x="2" y="78"/>
                        </a:lnTo>
                        <a:lnTo>
                          <a:pt x="0" y="72"/>
                        </a:lnTo>
                        <a:lnTo>
                          <a:pt x="2" y="65"/>
                        </a:lnTo>
                        <a:lnTo>
                          <a:pt x="10" y="62"/>
                        </a:lnTo>
                        <a:lnTo>
                          <a:pt x="25" y="61"/>
                        </a:lnTo>
                        <a:lnTo>
                          <a:pt x="37" y="55"/>
                        </a:lnTo>
                        <a:lnTo>
                          <a:pt x="47" y="50"/>
                        </a:lnTo>
                        <a:lnTo>
                          <a:pt x="56" y="46"/>
                        </a:lnTo>
                        <a:lnTo>
                          <a:pt x="63" y="43"/>
                        </a:lnTo>
                        <a:lnTo>
                          <a:pt x="70" y="38"/>
                        </a:lnTo>
                        <a:lnTo>
                          <a:pt x="76" y="31"/>
                        </a:lnTo>
                        <a:lnTo>
                          <a:pt x="82" y="22"/>
                        </a:lnTo>
                        <a:lnTo>
                          <a:pt x="89" y="12"/>
                        </a:lnTo>
                        <a:lnTo>
                          <a:pt x="91" y="11"/>
                        </a:lnTo>
                        <a:lnTo>
                          <a:pt x="96" y="16"/>
                        </a:lnTo>
                        <a:lnTo>
                          <a:pt x="97" y="21"/>
                        </a:lnTo>
                        <a:lnTo>
                          <a:pt x="96" y="25"/>
                        </a:lnTo>
                        <a:lnTo>
                          <a:pt x="85" y="21"/>
                        </a:lnTo>
                        <a:lnTo>
                          <a:pt x="80" y="20"/>
                        </a:lnTo>
                        <a:lnTo>
                          <a:pt x="76" y="19"/>
                        </a:lnTo>
                        <a:lnTo>
                          <a:pt x="75" y="19"/>
                        </a:lnTo>
                        <a:lnTo>
                          <a:pt x="73" y="19"/>
                        </a:lnTo>
                        <a:lnTo>
                          <a:pt x="70" y="20"/>
                        </a:lnTo>
                        <a:lnTo>
                          <a:pt x="64" y="24"/>
                        </a:lnTo>
                        <a:lnTo>
                          <a:pt x="56" y="28"/>
                        </a:lnTo>
                        <a:lnTo>
                          <a:pt x="48" y="27"/>
                        </a:lnTo>
                        <a:lnTo>
                          <a:pt x="45" y="22"/>
                        </a:lnTo>
                        <a:lnTo>
                          <a:pt x="45" y="16"/>
                        </a:lnTo>
                        <a:lnTo>
                          <a:pt x="51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flipH="1">
                    <a:off x="245880" y="5559480"/>
                    <a:ext cx="1015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3">
                        <a:moveTo>
                          <a:pt x="31" y="9"/>
                        </a:moveTo>
                        <a:lnTo>
                          <a:pt x="41" y="7"/>
                        </a:lnTo>
                        <a:lnTo>
                          <a:pt x="52" y="6"/>
                        </a:lnTo>
                        <a:lnTo>
                          <a:pt x="62" y="3"/>
                        </a:lnTo>
                        <a:lnTo>
                          <a:pt x="73" y="2"/>
                        </a:lnTo>
                        <a:lnTo>
                          <a:pt x="83" y="1"/>
                        </a:lnTo>
                        <a:lnTo>
                          <a:pt x="95" y="0"/>
                        </a:lnTo>
                        <a:lnTo>
                          <a:pt x="105" y="0"/>
                        </a:lnTo>
                        <a:lnTo>
                          <a:pt x="117" y="0"/>
                        </a:lnTo>
                        <a:lnTo>
                          <a:pt x="123" y="0"/>
                        </a:lnTo>
                        <a:lnTo>
                          <a:pt x="126" y="3"/>
                        </a:lnTo>
                        <a:lnTo>
                          <a:pt x="127" y="8"/>
                        </a:lnTo>
                        <a:lnTo>
                          <a:pt x="127" y="14"/>
                        </a:lnTo>
                        <a:lnTo>
                          <a:pt x="111" y="53"/>
                        </a:lnTo>
                        <a:lnTo>
                          <a:pt x="88" y="61"/>
                        </a:lnTo>
                        <a:lnTo>
                          <a:pt x="74" y="68"/>
                        </a:lnTo>
                        <a:lnTo>
                          <a:pt x="65" y="71"/>
                        </a:lnTo>
                        <a:lnTo>
                          <a:pt x="58" y="73"/>
                        </a:lnTo>
                        <a:lnTo>
                          <a:pt x="51" y="72"/>
                        </a:lnTo>
                        <a:lnTo>
                          <a:pt x="41" y="71"/>
                        </a:lnTo>
                        <a:lnTo>
                          <a:pt x="26" y="68"/>
                        </a:lnTo>
                        <a:lnTo>
                          <a:pt x="5" y="65"/>
                        </a:lnTo>
                        <a:lnTo>
                          <a:pt x="0" y="61"/>
                        </a:lnTo>
                        <a:lnTo>
                          <a:pt x="0" y="57"/>
                        </a:lnTo>
                        <a:lnTo>
                          <a:pt x="2" y="53"/>
                        </a:lnTo>
                        <a:lnTo>
                          <a:pt x="8" y="53"/>
                        </a:lnTo>
                        <a:lnTo>
                          <a:pt x="27" y="55"/>
                        </a:lnTo>
                        <a:lnTo>
                          <a:pt x="40" y="58"/>
                        </a:lnTo>
                        <a:lnTo>
                          <a:pt x="47" y="59"/>
                        </a:lnTo>
                        <a:lnTo>
                          <a:pt x="53" y="59"/>
                        </a:lnTo>
                        <a:lnTo>
                          <a:pt x="57" y="56"/>
                        </a:lnTo>
                        <a:lnTo>
                          <a:pt x="65" y="52"/>
                        </a:lnTo>
                        <a:lnTo>
                          <a:pt x="76" y="45"/>
                        </a:lnTo>
                        <a:lnTo>
                          <a:pt x="96" y="38"/>
                        </a:lnTo>
                        <a:lnTo>
                          <a:pt x="108" y="7"/>
                        </a:lnTo>
                        <a:lnTo>
                          <a:pt x="111" y="4"/>
                        </a:lnTo>
                        <a:lnTo>
                          <a:pt x="116" y="10"/>
                        </a:lnTo>
                        <a:lnTo>
                          <a:pt x="119" y="16"/>
                        </a:lnTo>
                        <a:lnTo>
                          <a:pt x="117" y="21"/>
                        </a:lnTo>
                        <a:lnTo>
                          <a:pt x="105" y="21"/>
                        </a:lnTo>
                        <a:lnTo>
                          <a:pt x="95" y="21"/>
                        </a:lnTo>
                        <a:lnTo>
                          <a:pt x="84" y="22"/>
                        </a:lnTo>
                        <a:lnTo>
                          <a:pt x="74" y="23"/>
                        </a:lnTo>
                        <a:lnTo>
                          <a:pt x="64" y="24"/>
                        </a:lnTo>
                        <a:lnTo>
                          <a:pt x="54" y="26"/>
                        </a:lnTo>
                        <a:lnTo>
                          <a:pt x="44" y="27"/>
                        </a:lnTo>
                        <a:lnTo>
                          <a:pt x="35" y="29"/>
                        </a:lnTo>
                        <a:lnTo>
                          <a:pt x="26" y="27"/>
                        </a:lnTo>
                        <a:lnTo>
                          <a:pt x="23" y="21"/>
                        </a:lnTo>
                        <a:lnTo>
                          <a:pt x="24" y="13"/>
                        </a:lnTo>
                        <a:lnTo>
                          <a:pt x="31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H="1">
                    <a:off x="250560" y="5527800"/>
                    <a:ext cx="828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6">
                        <a:moveTo>
                          <a:pt x="8" y="0"/>
                        </a:moveTo>
                        <a:lnTo>
                          <a:pt x="24" y="0"/>
                        </a:lnTo>
                        <a:lnTo>
                          <a:pt x="40" y="1"/>
                        </a:lnTo>
                        <a:lnTo>
                          <a:pt x="53" y="1"/>
                        </a:lnTo>
                        <a:lnTo>
                          <a:pt x="65" y="4"/>
                        </a:lnTo>
                        <a:lnTo>
                          <a:pt x="73" y="5"/>
                        </a:lnTo>
                        <a:lnTo>
                          <a:pt x="83" y="9"/>
                        </a:lnTo>
                        <a:lnTo>
                          <a:pt x="92" y="14"/>
                        </a:lnTo>
                        <a:lnTo>
                          <a:pt x="101" y="23"/>
                        </a:lnTo>
                        <a:lnTo>
                          <a:pt x="105" y="29"/>
                        </a:lnTo>
                        <a:lnTo>
                          <a:pt x="100" y="36"/>
                        </a:lnTo>
                        <a:lnTo>
                          <a:pt x="93" y="40"/>
                        </a:lnTo>
                        <a:lnTo>
                          <a:pt x="86" y="44"/>
                        </a:lnTo>
                        <a:lnTo>
                          <a:pt x="79" y="49"/>
                        </a:lnTo>
                        <a:lnTo>
                          <a:pt x="72" y="53"/>
                        </a:lnTo>
                        <a:lnTo>
                          <a:pt x="64" y="56"/>
                        </a:lnTo>
                        <a:lnTo>
                          <a:pt x="56" y="59"/>
                        </a:lnTo>
                        <a:lnTo>
                          <a:pt x="48" y="63"/>
                        </a:lnTo>
                        <a:lnTo>
                          <a:pt x="39" y="66"/>
                        </a:lnTo>
                        <a:lnTo>
                          <a:pt x="33" y="65"/>
                        </a:lnTo>
                        <a:lnTo>
                          <a:pt x="30" y="61"/>
                        </a:lnTo>
                        <a:lnTo>
                          <a:pt x="31" y="55"/>
                        </a:lnTo>
                        <a:lnTo>
                          <a:pt x="37" y="53"/>
                        </a:lnTo>
                        <a:lnTo>
                          <a:pt x="44" y="50"/>
                        </a:lnTo>
                        <a:lnTo>
                          <a:pt x="52" y="47"/>
                        </a:lnTo>
                        <a:lnTo>
                          <a:pt x="58" y="42"/>
                        </a:lnTo>
                        <a:lnTo>
                          <a:pt x="66" y="39"/>
                        </a:lnTo>
                        <a:lnTo>
                          <a:pt x="71" y="34"/>
                        </a:lnTo>
                        <a:lnTo>
                          <a:pt x="77" y="29"/>
                        </a:lnTo>
                        <a:lnTo>
                          <a:pt x="83" y="25"/>
                        </a:lnTo>
                        <a:lnTo>
                          <a:pt x="90" y="21"/>
                        </a:lnTo>
                        <a:lnTo>
                          <a:pt x="92" y="22"/>
                        </a:lnTo>
                        <a:lnTo>
                          <a:pt x="93" y="28"/>
                        </a:lnTo>
                        <a:lnTo>
                          <a:pt x="91" y="34"/>
                        </a:lnTo>
                        <a:lnTo>
                          <a:pt x="88" y="35"/>
                        </a:lnTo>
                        <a:lnTo>
                          <a:pt x="81" y="27"/>
                        </a:lnTo>
                        <a:lnTo>
                          <a:pt x="73" y="22"/>
                        </a:lnTo>
                        <a:lnTo>
                          <a:pt x="65" y="18"/>
                        </a:lnTo>
                        <a:lnTo>
                          <a:pt x="56" y="17"/>
                        </a:lnTo>
                        <a:lnTo>
                          <a:pt x="45" y="14"/>
                        </a:lnTo>
                        <a:lnTo>
                          <a:pt x="35" y="14"/>
                        </a:lnTo>
                        <a:lnTo>
                          <a:pt x="21" y="13"/>
                        </a:lnTo>
                        <a:lnTo>
                          <a:pt x="7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flipH="1">
                    <a:off x="218880" y="5586480"/>
                    <a:ext cx="907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70">
                        <a:moveTo>
                          <a:pt x="42" y="4"/>
                        </a:moveTo>
                        <a:lnTo>
                          <a:pt x="71" y="0"/>
                        </a:lnTo>
                        <a:lnTo>
                          <a:pt x="94" y="3"/>
                        </a:lnTo>
                        <a:lnTo>
                          <a:pt x="108" y="9"/>
                        </a:lnTo>
                        <a:lnTo>
                          <a:pt x="115" y="19"/>
                        </a:lnTo>
                        <a:lnTo>
                          <a:pt x="113" y="30"/>
                        </a:lnTo>
                        <a:lnTo>
                          <a:pt x="104" y="43"/>
                        </a:lnTo>
                        <a:lnTo>
                          <a:pt x="85" y="54"/>
                        </a:lnTo>
                        <a:lnTo>
                          <a:pt x="60" y="66"/>
                        </a:lnTo>
                        <a:lnTo>
                          <a:pt x="53" y="66"/>
                        </a:lnTo>
                        <a:lnTo>
                          <a:pt x="48" y="67"/>
                        </a:lnTo>
                        <a:lnTo>
                          <a:pt x="41" y="67"/>
                        </a:lnTo>
                        <a:lnTo>
                          <a:pt x="37" y="68"/>
                        </a:lnTo>
                        <a:lnTo>
                          <a:pt x="31" y="68"/>
                        </a:lnTo>
                        <a:lnTo>
                          <a:pt x="25" y="69"/>
                        </a:lnTo>
                        <a:lnTo>
                          <a:pt x="19" y="69"/>
                        </a:lnTo>
                        <a:lnTo>
                          <a:pt x="13" y="70"/>
                        </a:lnTo>
                        <a:lnTo>
                          <a:pt x="7" y="68"/>
                        </a:lnTo>
                        <a:lnTo>
                          <a:pt x="4" y="66"/>
                        </a:lnTo>
                        <a:lnTo>
                          <a:pt x="0" y="62"/>
                        </a:lnTo>
                        <a:lnTo>
                          <a:pt x="0" y="59"/>
                        </a:lnTo>
                        <a:lnTo>
                          <a:pt x="3" y="51"/>
                        </a:lnTo>
                        <a:lnTo>
                          <a:pt x="12" y="48"/>
                        </a:lnTo>
                        <a:lnTo>
                          <a:pt x="18" y="47"/>
                        </a:lnTo>
                        <a:lnTo>
                          <a:pt x="23" y="47"/>
                        </a:lnTo>
                        <a:lnTo>
                          <a:pt x="27" y="46"/>
                        </a:lnTo>
                        <a:lnTo>
                          <a:pt x="33" y="46"/>
                        </a:lnTo>
                        <a:lnTo>
                          <a:pt x="37" y="45"/>
                        </a:lnTo>
                        <a:lnTo>
                          <a:pt x="42" y="44"/>
                        </a:lnTo>
                        <a:lnTo>
                          <a:pt x="48" y="43"/>
                        </a:lnTo>
                        <a:lnTo>
                          <a:pt x="54" y="43"/>
                        </a:lnTo>
                        <a:lnTo>
                          <a:pt x="64" y="37"/>
                        </a:lnTo>
                        <a:lnTo>
                          <a:pt x="71" y="33"/>
                        </a:lnTo>
                        <a:lnTo>
                          <a:pt x="75" y="26"/>
                        </a:lnTo>
                        <a:lnTo>
                          <a:pt x="76" y="23"/>
                        </a:lnTo>
                        <a:lnTo>
                          <a:pt x="72" y="19"/>
                        </a:lnTo>
                        <a:lnTo>
                          <a:pt x="66" y="17"/>
                        </a:lnTo>
                        <a:lnTo>
                          <a:pt x="56" y="16"/>
                        </a:lnTo>
                        <a:lnTo>
                          <a:pt x="45" y="18"/>
                        </a:lnTo>
                        <a:lnTo>
                          <a:pt x="38" y="16"/>
                        </a:lnTo>
                        <a:lnTo>
                          <a:pt x="36" y="11"/>
                        </a:lnTo>
                        <a:lnTo>
                          <a:pt x="36" y="6"/>
                        </a:lnTo>
                        <a:lnTo>
                          <a:pt x="4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 flipH="1">
                    <a:off x="233280" y="5623200"/>
                    <a:ext cx="684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60">
                        <a:moveTo>
                          <a:pt x="10" y="13"/>
                        </a:moveTo>
                        <a:lnTo>
                          <a:pt x="24" y="6"/>
                        </a:lnTo>
                        <a:lnTo>
                          <a:pt x="35" y="3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51" y="3"/>
                        </a:lnTo>
                        <a:lnTo>
                          <a:pt x="58" y="8"/>
                        </a:lnTo>
                        <a:lnTo>
                          <a:pt x="68" y="16"/>
                        </a:lnTo>
                        <a:lnTo>
                          <a:pt x="83" y="29"/>
                        </a:lnTo>
                        <a:lnTo>
                          <a:pt x="86" y="32"/>
                        </a:lnTo>
                        <a:lnTo>
                          <a:pt x="87" y="37"/>
                        </a:lnTo>
                        <a:lnTo>
                          <a:pt x="85" y="41"/>
                        </a:lnTo>
                        <a:lnTo>
                          <a:pt x="81" y="45"/>
                        </a:lnTo>
                        <a:lnTo>
                          <a:pt x="71" y="47"/>
                        </a:lnTo>
                        <a:lnTo>
                          <a:pt x="62" y="49"/>
                        </a:lnTo>
                        <a:lnTo>
                          <a:pt x="53" y="51"/>
                        </a:lnTo>
                        <a:lnTo>
                          <a:pt x="44" y="53"/>
                        </a:lnTo>
                        <a:lnTo>
                          <a:pt x="35" y="54"/>
                        </a:lnTo>
                        <a:lnTo>
                          <a:pt x="25" y="57"/>
                        </a:lnTo>
                        <a:lnTo>
                          <a:pt x="15" y="58"/>
                        </a:lnTo>
                        <a:lnTo>
                          <a:pt x="8" y="60"/>
                        </a:lnTo>
                        <a:lnTo>
                          <a:pt x="2" y="58"/>
                        </a:lnTo>
                        <a:lnTo>
                          <a:pt x="0" y="53"/>
                        </a:lnTo>
                        <a:lnTo>
                          <a:pt x="0" y="48"/>
                        </a:lnTo>
                        <a:lnTo>
                          <a:pt x="5" y="47"/>
                        </a:lnTo>
                        <a:lnTo>
                          <a:pt x="12" y="45"/>
                        </a:lnTo>
                        <a:lnTo>
                          <a:pt x="21" y="43"/>
                        </a:lnTo>
                        <a:lnTo>
                          <a:pt x="29" y="41"/>
                        </a:lnTo>
                        <a:lnTo>
                          <a:pt x="39" y="38"/>
                        </a:lnTo>
                        <a:lnTo>
                          <a:pt x="47" y="35"/>
                        </a:lnTo>
                        <a:lnTo>
                          <a:pt x="56" y="33"/>
                        </a:lnTo>
                        <a:lnTo>
                          <a:pt x="65" y="30"/>
                        </a:lnTo>
                        <a:lnTo>
                          <a:pt x="74" y="28"/>
                        </a:lnTo>
                        <a:lnTo>
                          <a:pt x="78" y="29"/>
                        </a:lnTo>
                        <a:lnTo>
                          <a:pt x="79" y="36"/>
                        </a:lnTo>
                        <a:lnTo>
                          <a:pt x="76" y="43"/>
                        </a:lnTo>
                        <a:lnTo>
                          <a:pt x="72" y="44"/>
                        </a:lnTo>
                        <a:lnTo>
                          <a:pt x="58" y="33"/>
                        </a:lnTo>
                        <a:lnTo>
                          <a:pt x="51" y="25"/>
                        </a:lnTo>
                        <a:lnTo>
                          <a:pt x="45" y="20"/>
                        </a:lnTo>
                        <a:lnTo>
                          <a:pt x="42" y="18"/>
                        </a:lnTo>
                        <a:lnTo>
                          <a:pt x="38" y="17"/>
                        </a:lnTo>
                        <a:lnTo>
                          <a:pt x="33" y="18"/>
                        </a:lnTo>
                        <a:lnTo>
                          <a:pt x="25" y="20"/>
                        </a:lnTo>
                        <a:lnTo>
                          <a:pt x="13" y="24"/>
                        </a:lnTo>
                        <a:lnTo>
                          <a:pt x="7" y="23"/>
                        </a:lnTo>
                        <a:lnTo>
                          <a:pt x="4" y="20"/>
                        </a:lnTo>
                        <a:lnTo>
                          <a:pt x="4" y="15"/>
                        </a:lnTo>
                        <a:lnTo>
                          <a:pt x="1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H="1">
                    <a:off x="326880" y="5513760"/>
                    <a:ext cx="936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79">
                        <a:moveTo>
                          <a:pt x="9" y="2"/>
                        </a:moveTo>
                        <a:lnTo>
                          <a:pt x="34" y="1"/>
                        </a:lnTo>
                        <a:lnTo>
                          <a:pt x="51" y="0"/>
                        </a:lnTo>
                        <a:lnTo>
                          <a:pt x="61" y="0"/>
                        </a:lnTo>
                        <a:lnTo>
                          <a:pt x="67" y="1"/>
                        </a:lnTo>
                        <a:lnTo>
                          <a:pt x="72" y="2"/>
                        </a:lnTo>
                        <a:lnTo>
                          <a:pt x="79" y="7"/>
                        </a:lnTo>
                        <a:lnTo>
                          <a:pt x="90" y="13"/>
                        </a:lnTo>
                        <a:lnTo>
                          <a:pt x="110" y="24"/>
                        </a:lnTo>
                        <a:lnTo>
                          <a:pt x="115" y="27"/>
                        </a:lnTo>
                        <a:lnTo>
                          <a:pt x="117" y="31"/>
                        </a:lnTo>
                        <a:lnTo>
                          <a:pt x="116" y="36"/>
                        </a:lnTo>
                        <a:lnTo>
                          <a:pt x="113" y="41"/>
                        </a:lnTo>
                        <a:lnTo>
                          <a:pt x="103" y="47"/>
                        </a:lnTo>
                        <a:lnTo>
                          <a:pt x="93" y="54"/>
                        </a:lnTo>
                        <a:lnTo>
                          <a:pt x="82" y="59"/>
                        </a:lnTo>
                        <a:lnTo>
                          <a:pt x="72" y="66"/>
                        </a:lnTo>
                        <a:lnTo>
                          <a:pt x="58" y="69"/>
                        </a:lnTo>
                        <a:lnTo>
                          <a:pt x="44" y="73"/>
                        </a:lnTo>
                        <a:lnTo>
                          <a:pt x="28" y="75"/>
                        </a:lnTo>
                        <a:lnTo>
                          <a:pt x="10" y="79"/>
                        </a:lnTo>
                        <a:lnTo>
                          <a:pt x="5" y="76"/>
                        </a:lnTo>
                        <a:lnTo>
                          <a:pt x="3" y="72"/>
                        </a:lnTo>
                        <a:lnTo>
                          <a:pt x="4" y="68"/>
                        </a:lnTo>
                        <a:lnTo>
                          <a:pt x="9" y="67"/>
                        </a:lnTo>
                        <a:lnTo>
                          <a:pt x="26" y="64"/>
                        </a:lnTo>
                        <a:lnTo>
                          <a:pt x="39" y="60"/>
                        </a:lnTo>
                        <a:lnTo>
                          <a:pt x="52" y="56"/>
                        </a:lnTo>
                        <a:lnTo>
                          <a:pt x="64" y="52"/>
                        </a:lnTo>
                        <a:lnTo>
                          <a:pt x="73" y="45"/>
                        </a:lnTo>
                        <a:lnTo>
                          <a:pt x="82" y="39"/>
                        </a:lnTo>
                        <a:lnTo>
                          <a:pt x="91" y="32"/>
                        </a:lnTo>
                        <a:lnTo>
                          <a:pt x="100" y="26"/>
                        </a:lnTo>
                        <a:lnTo>
                          <a:pt x="104" y="26"/>
                        </a:lnTo>
                        <a:lnTo>
                          <a:pt x="106" y="32"/>
                        </a:lnTo>
                        <a:lnTo>
                          <a:pt x="105" y="40"/>
                        </a:lnTo>
                        <a:lnTo>
                          <a:pt x="102" y="42"/>
                        </a:lnTo>
                        <a:lnTo>
                          <a:pt x="84" y="32"/>
                        </a:lnTo>
                        <a:lnTo>
                          <a:pt x="73" y="26"/>
                        </a:lnTo>
                        <a:lnTo>
                          <a:pt x="66" y="21"/>
                        </a:lnTo>
                        <a:lnTo>
                          <a:pt x="62" y="19"/>
                        </a:lnTo>
                        <a:lnTo>
                          <a:pt x="56" y="18"/>
                        </a:lnTo>
                        <a:lnTo>
                          <a:pt x="47" y="18"/>
                        </a:lnTo>
                        <a:lnTo>
                          <a:pt x="32" y="18"/>
                        </a:lnTo>
                        <a:lnTo>
                          <a:pt x="9" y="19"/>
                        </a:lnTo>
                        <a:lnTo>
                          <a:pt x="2" y="16"/>
                        </a:lnTo>
                        <a:lnTo>
                          <a:pt x="0" y="11"/>
                        </a:lnTo>
                        <a:lnTo>
                          <a:pt x="2" y="4"/>
                        </a:lnTo>
                        <a:lnTo>
                          <a:pt x="9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flipH="1">
                    <a:off x="409320" y="5551560"/>
                    <a:ext cx="1159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75">
                        <a:moveTo>
                          <a:pt x="81" y="0"/>
                        </a:moveTo>
                        <a:lnTo>
                          <a:pt x="87" y="0"/>
                        </a:lnTo>
                        <a:lnTo>
                          <a:pt x="96" y="0"/>
                        </a:lnTo>
                        <a:lnTo>
                          <a:pt x="103" y="0"/>
                        </a:lnTo>
                        <a:lnTo>
                          <a:pt x="111" y="0"/>
                        </a:lnTo>
                        <a:lnTo>
                          <a:pt x="119" y="0"/>
                        </a:lnTo>
                        <a:lnTo>
                          <a:pt x="126" y="1"/>
                        </a:lnTo>
                        <a:lnTo>
                          <a:pt x="133" y="3"/>
                        </a:lnTo>
                        <a:lnTo>
                          <a:pt x="140" y="4"/>
                        </a:lnTo>
                        <a:lnTo>
                          <a:pt x="147" y="6"/>
                        </a:lnTo>
                        <a:lnTo>
                          <a:pt x="148" y="14"/>
                        </a:lnTo>
                        <a:lnTo>
                          <a:pt x="143" y="27"/>
                        </a:lnTo>
                        <a:lnTo>
                          <a:pt x="141" y="37"/>
                        </a:lnTo>
                        <a:lnTo>
                          <a:pt x="139" y="44"/>
                        </a:lnTo>
                        <a:lnTo>
                          <a:pt x="138" y="50"/>
                        </a:lnTo>
                        <a:lnTo>
                          <a:pt x="134" y="53"/>
                        </a:lnTo>
                        <a:lnTo>
                          <a:pt x="130" y="57"/>
                        </a:lnTo>
                        <a:lnTo>
                          <a:pt x="124" y="61"/>
                        </a:lnTo>
                        <a:lnTo>
                          <a:pt x="115" y="66"/>
                        </a:lnTo>
                        <a:lnTo>
                          <a:pt x="99" y="68"/>
                        </a:lnTo>
                        <a:lnTo>
                          <a:pt x="85" y="71"/>
                        </a:lnTo>
                        <a:lnTo>
                          <a:pt x="72" y="73"/>
                        </a:lnTo>
                        <a:lnTo>
                          <a:pt x="59" y="75"/>
                        </a:lnTo>
                        <a:lnTo>
                          <a:pt x="46" y="73"/>
                        </a:lnTo>
                        <a:lnTo>
                          <a:pt x="33" y="73"/>
                        </a:lnTo>
                        <a:lnTo>
                          <a:pt x="19" y="70"/>
                        </a:lnTo>
                        <a:lnTo>
                          <a:pt x="5" y="67"/>
                        </a:lnTo>
                        <a:lnTo>
                          <a:pt x="0" y="63"/>
                        </a:lnTo>
                        <a:lnTo>
                          <a:pt x="0" y="58"/>
                        </a:lnTo>
                        <a:lnTo>
                          <a:pt x="2" y="54"/>
                        </a:lnTo>
                        <a:lnTo>
                          <a:pt x="9" y="55"/>
                        </a:lnTo>
                        <a:lnTo>
                          <a:pt x="22" y="58"/>
                        </a:lnTo>
                        <a:lnTo>
                          <a:pt x="35" y="61"/>
                        </a:lnTo>
                        <a:lnTo>
                          <a:pt x="47" y="60"/>
                        </a:lnTo>
                        <a:lnTo>
                          <a:pt x="58" y="60"/>
                        </a:lnTo>
                        <a:lnTo>
                          <a:pt x="69" y="56"/>
                        </a:lnTo>
                        <a:lnTo>
                          <a:pt x="82" y="54"/>
                        </a:lnTo>
                        <a:lnTo>
                          <a:pt x="95" y="50"/>
                        </a:lnTo>
                        <a:lnTo>
                          <a:pt x="109" y="47"/>
                        </a:lnTo>
                        <a:lnTo>
                          <a:pt x="114" y="43"/>
                        </a:lnTo>
                        <a:lnTo>
                          <a:pt x="119" y="41"/>
                        </a:lnTo>
                        <a:lnTo>
                          <a:pt x="121" y="38"/>
                        </a:lnTo>
                        <a:lnTo>
                          <a:pt x="124" y="36"/>
                        </a:lnTo>
                        <a:lnTo>
                          <a:pt x="125" y="32"/>
                        </a:lnTo>
                        <a:lnTo>
                          <a:pt x="126" y="26"/>
                        </a:lnTo>
                        <a:lnTo>
                          <a:pt x="127" y="20"/>
                        </a:lnTo>
                        <a:lnTo>
                          <a:pt x="130" y="10"/>
                        </a:lnTo>
                        <a:lnTo>
                          <a:pt x="132" y="8"/>
                        </a:lnTo>
                        <a:lnTo>
                          <a:pt x="137" y="13"/>
                        </a:lnTo>
                        <a:lnTo>
                          <a:pt x="139" y="18"/>
                        </a:lnTo>
                        <a:lnTo>
                          <a:pt x="138" y="21"/>
                        </a:lnTo>
                        <a:lnTo>
                          <a:pt x="130" y="20"/>
                        </a:lnTo>
                        <a:lnTo>
                          <a:pt x="124" y="19"/>
                        </a:lnTo>
                        <a:lnTo>
                          <a:pt x="116" y="18"/>
                        </a:lnTo>
                        <a:lnTo>
                          <a:pt x="110" y="18"/>
                        </a:lnTo>
                        <a:lnTo>
                          <a:pt x="103" y="17"/>
                        </a:lnTo>
                        <a:lnTo>
                          <a:pt x="95" y="15"/>
                        </a:lnTo>
                        <a:lnTo>
                          <a:pt x="87" y="15"/>
                        </a:lnTo>
                        <a:lnTo>
                          <a:pt x="81" y="15"/>
                        </a:lnTo>
                        <a:lnTo>
                          <a:pt x="75" y="12"/>
                        </a:lnTo>
                        <a:lnTo>
                          <a:pt x="73" y="8"/>
                        </a:lnTo>
                        <a:lnTo>
                          <a:pt x="75" y="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flipH="1">
                    <a:off x="434880" y="5500800"/>
                    <a:ext cx="76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6">
                        <a:moveTo>
                          <a:pt x="9" y="0"/>
                        </a:moveTo>
                        <a:lnTo>
                          <a:pt x="30" y="0"/>
                        </a:lnTo>
                        <a:lnTo>
                          <a:pt x="49" y="2"/>
                        </a:lnTo>
                        <a:lnTo>
                          <a:pt x="65" y="5"/>
                        </a:lnTo>
                        <a:lnTo>
                          <a:pt x="78" y="12"/>
                        </a:lnTo>
                        <a:lnTo>
                          <a:pt x="87" y="19"/>
                        </a:lnTo>
                        <a:lnTo>
                          <a:pt x="93" y="31"/>
                        </a:lnTo>
                        <a:lnTo>
                          <a:pt x="95" y="45"/>
                        </a:lnTo>
                        <a:lnTo>
                          <a:pt x="95" y="64"/>
                        </a:lnTo>
                        <a:lnTo>
                          <a:pt x="93" y="69"/>
                        </a:lnTo>
                        <a:lnTo>
                          <a:pt x="89" y="73"/>
                        </a:lnTo>
                        <a:lnTo>
                          <a:pt x="81" y="75"/>
                        </a:lnTo>
                        <a:lnTo>
                          <a:pt x="74" y="77"/>
                        </a:lnTo>
                        <a:lnTo>
                          <a:pt x="64" y="80"/>
                        </a:lnTo>
                        <a:lnTo>
                          <a:pt x="56" y="82"/>
                        </a:lnTo>
                        <a:lnTo>
                          <a:pt x="45" y="83"/>
                        </a:lnTo>
                        <a:lnTo>
                          <a:pt x="34" y="84"/>
                        </a:lnTo>
                        <a:lnTo>
                          <a:pt x="24" y="85"/>
                        </a:lnTo>
                        <a:lnTo>
                          <a:pt x="15" y="86"/>
                        </a:lnTo>
                        <a:lnTo>
                          <a:pt x="6" y="82"/>
                        </a:lnTo>
                        <a:lnTo>
                          <a:pt x="4" y="75"/>
                        </a:lnTo>
                        <a:lnTo>
                          <a:pt x="6" y="68"/>
                        </a:lnTo>
                        <a:lnTo>
                          <a:pt x="15" y="64"/>
                        </a:lnTo>
                        <a:lnTo>
                          <a:pt x="22" y="63"/>
                        </a:lnTo>
                        <a:lnTo>
                          <a:pt x="32" y="62"/>
                        </a:lnTo>
                        <a:lnTo>
                          <a:pt x="40" y="61"/>
                        </a:lnTo>
                        <a:lnTo>
                          <a:pt x="50" y="60"/>
                        </a:lnTo>
                        <a:lnTo>
                          <a:pt x="58" y="58"/>
                        </a:lnTo>
                        <a:lnTo>
                          <a:pt x="65" y="56"/>
                        </a:lnTo>
                        <a:lnTo>
                          <a:pt x="72" y="54"/>
                        </a:lnTo>
                        <a:lnTo>
                          <a:pt x="79" y="53"/>
                        </a:lnTo>
                        <a:lnTo>
                          <a:pt x="77" y="56"/>
                        </a:lnTo>
                        <a:lnTo>
                          <a:pt x="74" y="59"/>
                        </a:lnTo>
                        <a:lnTo>
                          <a:pt x="73" y="60"/>
                        </a:lnTo>
                        <a:lnTo>
                          <a:pt x="73" y="47"/>
                        </a:lnTo>
                        <a:lnTo>
                          <a:pt x="71" y="38"/>
                        </a:lnTo>
                        <a:lnTo>
                          <a:pt x="65" y="30"/>
                        </a:lnTo>
                        <a:lnTo>
                          <a:pt x="59" y="25"/>
                        </a:lnTo>
                        <a:lnTo>
                          <a:pt x="49" y="20"/>
                        </a:lnTo>
                        <a:lnTo>
                          <a:pt x="37" y="19"/>
                        </a:lnTo>
                        <a:lnTo>
                          <a:pt x="24" y="18"/>
                        </a:lnTo>
                        <a:lnTo>
                          <a:pt x="9" y="18"/>
                        </a:lnTo>
                        <a:lnTo>
                          <a:pt x="2" y="15"/>
                        </a:lnTo>
                        <a:lnTo>
                          <a:pt x="0" y="9"/>
                        </a:lnTo>
                        <a:lnTo>
                          <a:pt x="2" y="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 flipH="1">
                    <a:off x="512280" y="5559480"/>
                    <a:ext cx="8748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73">
                        <a:moveTo>
                          <a:pt x="11" y="4"/>
                        </a:moveTo>
                        <a:lnTo>
                          <a:pt x="19" y="2"/>
                        </a:lnTo>
                        <a:lnTo>
                          <a:pt x="32" y="1"/>
                        </a:lnTo>
                        <a:lnTo>
                          <a:pt x="47" y="0"/>
                        </a:lnTo>
                        <a:lnTo>
                          <a:pt x="64" y="1"/>
                        </a:lnTo>
                        <a:lnTo>
                          <a:pt x="78" y="2"/>
                        </a:lnTo>
                        <a:lnTo>
                          <a:pt x="92" y="7"/>
                        </a:lnTo>
                        <a:lnTo>
                          <a:pt x="102" y="12"/>
                        </a:lnTo>
                        <a:lnTo>
                          <a:pt x="108" y="22"/>
                        </a:lnTo>
                        <a:lnTo>
                          <a:pt x="109" y="38"/>
                        </a:lnTo>
                        <a:lnTo>
                          <a:pt x="106" y="52"/>
                        </a:lnTo>
                        <a:lnTo>
                          <a:pt x="99" y="61"/>
                        </a:lnTo>
                        <a:lnTo>
                          <a:pt x="89" y="68"/>
                        </a:lnTo>
                        <a:lnTo>
                          <a:pt x="75" y="71"/>
                        </a:lnTo>
                        <a:lnTo>
                          <a:pt x="61" y="73"/>
                        </a:lnTo>
                        <a:lnTo>
                          <a:pt x="45" y="73"/>
                        </a:lnTo>
                        <a:lnTo>
                          <a:pt x="31" y="73"/>
                        </a:lnTo>
                        <a:lnTo>
                          <a:pt x="5" y="61"/>
                        </a:lnTo>
                        <a:lnTo>
                          <a:pt x="0" y="56"/>
                        </a:lnTo>
                        <a:lnTo>
                          <a:pt x="0" y="52"/>
                        </a:lnTo>
                        <a:lnTo>
                          <a:pt x="2" y="49"/>
                        </a:lnTo>
                        <a:lnTo>
                          <a:pt x="8" y="49"/>
                        </a:lnTo>
                        <a:lnTo>
                          <a:pt x="35" y="54"/>
                        </a:lnTo>
                        <a:lnTo>
                          <a:pt x="45" y="54"/>
                        </a:lnTo>
                        <a:lnTo>
                          <a:pt x="56" y="55"/>
                        </a:lnTo>
                        <a:lnTo>
                          <a:pt x="65" y="54"/>
                        </a:lnTo>
                        <a:lnTo>
                          <a:pt x="76" y="54"/>
                        </a:lnTo>
                        <a:lnTo>
                          <a:pt x="84" y="50"/>
                        </a:lnTo>
                        <a:lnTo>
                          <a:pt x="89" y="44"/>
                        </a:lnTo>
                        <a:lnTo>
                          <a:pt x="91" y="36"/>
                        </a:lnTo>
                        <a:lnTo>
                          <a:pt x="91" y="25"/>
                        </a:lnTo>
                        <a:lnTo>
                          <a:pt x="86" y="17"/>
                        </a:lnTo>
                        <a:lnTo>
                          <a:pt x="78" y="13"/>
                        </a:lnTo>
                        <a:lnTo>
                          <a:pt x="68" y="11"/>
                        </a:lnTo>
                        <a:lnTo>
                          <a:pt x="56" y="11"/>
                        </a:lnTo>
                        <a:lnTo>
                          <a:pt x="42" y="11"/>
                        </a:lnTo>
                        <a:lnTo>
                          <a:pt x="30" y="13"/>
                        </a:lnTo>
                        <a:lnTo>
                          <a:pt x="19" y="15"/>
                        </a:lnTo>
                        <a:lnTo>
                          <a:pt x="13" y="17"/>
                        </a:lnTo>
                        <a:lnTo>
                          <a:pt x="7" y="15"/>
                        </a:lnTo>
                        <a:lnTo>
                          <a:pt x="5" y="11"/>
                        </a:lnTo>
                        <a:lnTo>
                          <a:pt x="5" y="6"/>
                        </a:lnTo>
                        <a:lnTo>
                          <a:pt x="1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 flipH="1">
                    <a:off x="570960" y="5481720"/>
                    <a:ext cx="968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80">
                        <a:moveTo>
                          <a:pt x="30" y="2"/>
                        </a:moveTo>
                        <a:lnTo>
                          <a:pt x="59" y="0"/>
                        </a:lnTo>
                        <a:lnTo>
                          <a:pt x="85" y="5"/>
                        </a:lnTo>
                        <a:lnTo>
                          <a:pt x="104" y="11"/>
                        </a:lnTo>
                        <a:lnTo>
                          <a:pt x="117" y="23"/>
                        </a:lnTo>
                        <a:lnTo>
                          <a:pt x="121" y="35"/>
                        </a:lnTo>
                        <a:lnTo>
                          <a:pt x="119" y="50"/>
                        </a:lnTo>
                        <a:lnTo>
                          <a:pt x="107" y="65"/>
                        </a:lnTo>
                        <a:lnTo>
                          <a:pt x="87" y="80"/>
                        </a:lnTo>
                        <a:lnTo>
                          <a:pt x="75" y="79"/>
                        </a:lnTo>
                        <a:lnTo>
                          <a:pt x="64" y="79"/>
                        </a:lnTo>
                        <a:lnTo>
                          <a:pt x="55" y="78"/>
                        </a:lnTo>
                        <a:lnTo>
                          <a:pt x="45" y="78"/>
                        </a:lnTo>
                        <a:lnTo>
                          <a:pt x="35" y="77"/>
                        </a:lnTo>
                        <a:lnTo>
                          <a:pt x="26" y="76"/>
                        </a:lnTo>
                        <a:lnTo>
                          <a:pt x="17" y="76"/>
                        </a:lnTo>
                        <a:lnTo>
                          <a:pt x="8" y="76"/>
                        </a:lnTo>
                        <a:lnTo>
                          <a:pt x="1" y="71"/>
                        </a:lnTo>
                        <a:lnTo>
                          <a:pt x="0" y="65"/>
                        </a:lnTo>
                        <a:lnTo>
                          <a:pt x="2" y="57"/>
                        </a:lnTo>
                        <a:lnTo>
                          <a:pt x="9" y="56"/>
                        </a:lnTo>
                        <a:lnTo>
                          <a:pt x="17" y="56"/>
                        </a:lnTo>
                        <a:lnTo>
                          <a:pt x="26" y="56"/>
                        </a:lnTo>
                        <a:lnTo>
                          <a:pt x="34" y="56"/>
                        </a:lnTo>
                        <a:lnTo>
                          <a:pt x="43" y="57"/>
                        </a:lnTo>
                        <a:lnTo>
                          <a:pt x="51" y="57"/>
                        </a:lnTo>
                        <a:lnTo>
                          <a:pt x="60" y="57"/>
                        </a:lnTo>
                        <a:lnTo>
                          <a:pt x="70" y="57"/>
                        </a:lnTo>
                        <a:lnTo>
                          <a:pt x="81" y="58"/>
                        </a:lnTo>
                        <a:lnTo>
                          <a:pt x="92" y="49"/>
                        </a:lnTo>
                        <a:lnTo>
                          <a:pt x="98" y="41"/>
                        </a:lnTo>
                        <a:lnTo>
                          <a:pt x="98" y="35"/>
                        </a:lnTo>
                        <a:lnTo>
                          <a:pt x="92" y="29"/>
                        </a:lnTo>
                        <a:lnTo>
                          <a:pt x="80" y="24"/>
                        </a:lnTo>
                        <a:lnTo>
                          <a:pt x="66" y="22"/>
                        </a:lnTo>
                        <a:lnTo>
                          <a:pt x="50" y="21"/>
                        </a:lnTo>
                        <a:lnTo>
                          <a:pt x="32" y="23"/>
                        </a:lnTo>
                        <a:lnTo>
                          <a:pt x="23" y="20"/>
                        </a:lnTo>
                        <a:lnTo>
                          <a:pt x="21" y="13"/>
                        </a:lnTo>
                        <a:lnTo>
                          <a:pt x="22" y="6"/>
                        </a:ln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 flipH="1">
                    <a:off x="498240" y="5457960"/>
                    <a:ext cx="907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89">
                        <a:moveTo>
                          <a:pt x="9" y="6"/>
                        </a:moveTo>
                        <a:lnTo>
                          <a:pt x="32" y="1"/>
                        </a:lnTo>
                        <a:lnTo>
                          <a:pt x="54" y="0"/>
                        </a:lnTo>
                        <a:lnTo>
                          <a:pt x="72" y="1"/>
                        </a:lnTo>
                        <a:lnTo>
                          <a:pt x="87" y="7"/>
                        </a:lnTo>
                        <a:lnTo>
                          <a:pt x="99" y="14"/>
                        </a:lnTo>
                        <a:lnTo>
                          <a:pt x="107" y="28"/>
                        </a:lnTo>
                        <a:lnTo>
                          <a:pt x="113" y="45"/>
                        </a:lnTo>
                        <a:lnTo>
                          <a:pt x="115" y="69"/>
                        </a:lnTo>
                        <a:lnTo>
                          <a:pt x="113" y="74"/>
                        </a:lnTo>
                        <a:lnTo>
                          <a:pt x="108" y="80"/>
                        </a:lnTo>
                        <a:lnTo>
                          <a:pt x="98" y="83"/>
                        </a:lnTo>
                        <a:lnTo>
                          <a:pt x="88" y="87"/>
                        </a:lnTo>
                        <a:lnTo>
                          <a:pt x="78" y="88"/>
                        </a:lnTo>
                        <a:lnTo>
                          <a:pt x="69" y="89"/>
                        </a:lnTo>
                        <a:lnTo>
                          <a:pt x="58" y="88"/>
                        </a:lnTo>
                        <a:lnTo>
                          <a:pt x="48" y="87"/>
                        </a:lnTo>
                        <a:lnTo>
                          <a:pt x="37" y="85"/>
                        </a:lnTo>
                        <a:lnTo>
                          <a:pt x="27" y="84"/>
                        </a:lnTo>
                        <a:lnTo>
                          <a:pt x="18" y="79"/>
                        </a:lnTo>
                        <a:lnTo>
                          <a:pt x="17" y="71"/>
                        </a:lnTo>
                        <a:lnTo>
                          <a:pt x="20" y="64"/>
                        </a:lnTo>
                        <a:lnTo>
                          <a:pt x="30" y="63"/>
                        </a:lnTo>
                        <a:lnTo>
                          <a:pt x="38" y="64"/>
                        </a:lnTo>
                        <a:lnTo>
                          <a:pt x="47" y="65"/>
                        </a:lnTo>
                        <a:lnTo>
                          <a:pt x="56" y="65"/>
                        </a:lnTo>
                        <a:lnTo>
                          <a:pt x="64" y="66"/>
                        </a:lnTo>
                        <a:lnTo>
                          <a:pt x="72" y="65"/>
                        </a:lnTo>
                        <a:lnTo>
                          <a:pt x="80" y="64"/>
                        </a:lnTo>
                        <a:lnTo>
                          <a:pt x="88" y="60"/>
                        </a:lnTo>
                        <a:lnTo>
                          <a:pt x="98" y="58"/>
                        </a:lnTo>
                        <a:lnTo>
                          <a:pt x="98" y="59"/>
                        </a:lnTo>
                        <a:lnTo>
                          <a:pt x="95" y="64"/>
                        </a:lnTo>
                        <a:lnTo>
                          <a:pt x="92" y="68"/>
                        </a:lnTo>
                        <a:lnTo>
                          <a:pt x="91" y="69"/>
                        </a:lnTo>
                        <a:lnTo>
                          <a:pt x="89" y="52"/>
                        </a:lnTo>
                        <a:lnTo>
                          <a:pt x="85" y="40"/>
                        </a:lnTo>
                        <a:lnTo>
                          <a:pt x="78" y="30"/>
                        </a:lnTo>
                        <a:lnTo>
                          <a:pt x="70" y="26"/>
                        </a:lnTo>
                        <a:lnTo>
                          <a:pt x="57" y="23"/>
                        </a:lnTo>
                        <a:lnTo>
                          <a:pt x="44" y="23"/>
                        </a:lnTo>
                        <a:lnTo>
                          <a:pt x="29" y="24"/>
                        </a:lnTo>
                        <a:lnTo>
                          <a:pt x="13" y="27"/>
                        </a:lnTo>
                        <a:lnTo>
                          <a:pt x="3" y="24"/>
                        </a:lnTo>
                        <a:lnTo>
                          <a:pt x="0" y="17"/>
                        </a:lnTo>
                        <a:lnTo>
                          <a:pt x="1" y="10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 flipH="1">
                    <a:off x="582480" y="5416920"/>
                    <a:ext cx="109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53">
                        <a:moveTo>
                          <a:pt x="7" y="18"/>
                        </a:moveTo>
                        <a:lnTo>
                          <a:pt x="23" y="14"/>
                        </a:lnTo>
                        <a:lnTo>
                          <a:pt x="38" y="9"/>
                        </a:lnTo>
                        <a:lnTo>
                          <a:pt x="52" y="6"/>
                        </a:lnTo>
                        <a:lnTo>
                          <a:pt x="67" y="4"/>
                        </a:lnTo>
                        <a:lnTo>
                          <a:pt x="80" y="1"/>
                        </a:lnTo>
                        <a:lnTo>
                          <a:pt x="95" y="0"/>
                        </a:lnTo>
                        <a:lnTo>
                          <a:pt x="110" y="0"/>
                        </a:lnTo>
                        <a:lnTo>
                          <a:pt x="129" y="3"/>
                        </a:lnTo>
                        <a:lnTo>
                          <a:pt x="135" y="5"/>
                        </a:lnTo>
                        <a:lnTo>
                          <a:pt x="138" y="8"/>
                        </a:lnTo>
                        <a:lnTo>
                          <a:pt x="138" y="14"/>
                        </a:lnTo>
                        <a:lnTo>
                          <a:pt x="136" y="20"/>
                        </a:lnTo>
                        <a:lnTo>
                          <a:pt x="110" y="53"/>
                        </a:lnTo>
                        <a:lnTo>
                          <a:pt x="101" y="53"/>
                        </a:lnTo>
                        <a:lnTo>
                          <a:pt x="93" y="53"/>
                        </a:lnTo>
                        <a:lnTo>
                          <a:pt x="86" y="53"/>
                        </a:lnTo>
                        <a:lnTo>
                          <a:pt x="78" y="53"/>
                        </a:lnTo>
                        <a:lnTo>
                          <a:pt x="71" y="52"/>
                        </a:lnTo>
                        <a:lnTo>
                          <a:pt x="63" y="51"/>
                        </a:lnTo>
                        <a:lnTo>
                          <a:pt x="54" y="50"/>
                        </a:lnTo>
                        <a:lnTo>
                          <a:pt x="47" y="50"/>
                        </a:lnTo>
                        <a:lnTo>
                          <a:pt x="42" y="47"/>
                        </a:lnTo>
                        <a:lnTo>
                          <a:pt x="42" y="43"/>
                        </a:lnTo>
                        <a:lnTo>
                          <a:pt x="44" y="38"/>
                        </a:lnTo>
                        <a:lnTo>
                          <a:pt x="49" y="37"/>
                        </a:lnTo>
                        <a:lnTo>
                          <a:pt x="56" y="37"/>
                        </a:lnTo>
                        <a:lnTo>
                          <a:pt x="62" y="37"/>
                        </a:lnTo>
                        <a:lnTo>
                          <a:pt x="67" y="37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5" y="36"/>
                        </a:lnTo>
                        <a:lnTo>
                          <a:pt x="91" y="35"/>
                        </a:lnTo>
                        <a:lnTo>
                          <a:pt x="100" y="35"/>
                        </a:lnTo>
                        <a:lnTo>
                          <a:pt x="119" y="7"/>
                        </a:lnTo>
                        <a:lnTo>
                          <a:pt x="123" y="6"/>
                        </a:lnTo>
                        <a:lnTo>
                          <a:pt x="129" y="13"/>
                        </a:lnTo>
                        <a:lnTo>
                          <a:pt x="130" y="20"/>
                        </a:lnTo>
                        <a:lnTo>
                          <a:pt x="125" y="24"/>
                        </a:lnTo>
                        <a:lnTo>
                          <a:pt x="108" y="21"/>
                        </a:lnTo>
                        <a:lnTo>
                          <a:pt x="93" y="20"/>
                        </a:lnTo>
                        <a:lnTo>
                          <a:pt x="80" y="20"/>
                        </a:lnTo>
                        <a:lnTo>
                          <a:pt x="67" y="22"/>
                        </a:lnTo>
                        <a:lnTo>
                          <a:pt x="53" y="24"/>
                        </a:lnTo>
                        <a:lnTo>
                          <a:pt x="40" y="28"/>
                        </a:lnTo>
                        <a:lnTo>
                          <a:pt x="25" y="31"/>
                        </a:lnTo>
                        <a:lnTo>
                          <a:pt x="10" y="34"/>
                        </a:lnTo>
                        <a:lnTo>
                          <a:pt x="3" y="32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 flipH="1">
                    <a:off x="598320" y="5450040"/>
                    <a:ext cx="986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57">
                        <a:moveTo>
                          <a:pt x="26" y="14"/>
                        </a:moveTo>
                        <a:lnTo>
                          <a:pt x="42" y="7"/>
                        </a:lnTo>
                        <a:lnTo>
                          <a:pt x="57" y="3"/>
                        </a:lnTo>
                        <a:lnTo>
                          <a:pt x="70" y="0"/>
                        </a:lnTo>
                        <a:lnTo>
                          <a:pt x="84" y="0"/>
                        </a:lnTo>
                        <a:lnTo>
                          <a:pt x="95" y="2"/>
                        </a:lnTo>
                        <a:lnTo>
                          <a:pt x="106" y="8"/>
                        </a:lnTo>
                        <a:lnTo>
                          <a:pt x="115" y="18"/>
                        </a:lnTo>
                        <a:lnTo>
                          <a:pt x="125" y="33"/>
                        </a:lnTo>
                        <a:lnTo>
                          <a:pt x="125" y="42"/>
                        </a:lnTo>
                        <a:lnTo>
                          <a:pt x="120" y="47"/>
                        </a:lnTo>
                        <a:lnTo>
                          <a:pt x="91" y="57"/>
                        </a:lnTo>
                        <a:lnTo>
                          <a:pt x="79" y="55"/>
                        </a:lnTo>
                        <a:lnTo>
                          <a:pt x="68" y="55"/>
                        </a:lnTo>
                        <a:lnTo>
                          <a:pt x="58" y="54"/>
                        </a:lnTo>
                        <a:lnTo>
                          <a:pt x="49" y="54"/>
                        </a:lnTo>
                        <a:lnTo>
                          <a:pt x="38" y="52"/>
                        </a:lnTo>
                        <a:lnTo>
                          <a:pt x="28" y="52"/>
                        </a:lnTo>
                        <a:lnTo>
                          <a:pt x="19" y="50"/>
                        </a:lnTo>
                        <a:lnTo>
                          <a:pt x="9" y="50"/>
                        </a:lnTo>
                        <a:lnTo>
                          <a:pt x="1" y="46"/>
                        </a:lnTo>
                        <a:lnTo>
                          <a:pt x="0" y="40"/>
                        </a:lnTo>
                        <a:lnTo>
                          <a:pt x="2" y="34"/>
                        </a:lnTo>
                        <a:lnTo>
                          <a:pt x="11" y="33"/>
                        </a:lnTo>
                        <a:lnTo>
                          <a:pt x="20" y="33"/>
                        </a:lnTo>
                        <a:lnTo>
                          <a:pt x="29" y="34"/>
                        </a:lnTo>
                        <a:lnTo>
                          <a:pt x="38" y="34"/>
                        </a:lnTo>
                        <a:lnTo>
                          <a:pt x="48" y="35"/>
                        </a:lnTo>
                        <a:lnTo>
                          <a:pt x="56" y="35"/>
                        </a:lnTo>
                        <a:lnTo>
                          <a:pt x="66" y="35"/>
                        </a:lnTo>
                        <a:lnTo>
                          <a:pt x="76" y="35"/>
                        </a:lnTo>
                        <a:lnTo>
                          <a:pt x="87" y="36"/>
                        </a:lnTo>
                        <a:lnTo>
                          <a:pt x="113" y="29"/>
                        </a:lnTo>
                        <a:lnTo>
                          <a:pt x="115" y="30"/>
                        </a:lnTo>
                        <a:lnTo>
                          <a:pt x="114" y="36"/>
                        </a:lnTo>
                        <a:lnTo>
                          <a:pt x="110" y="42"/>
                        </a:lnTo>
                        <a:lnTo>
                          <a:pt x="107" y="42"/>
                        </a:lnTo>
                        <a:lnTo>
                          <a:pt x="99" y="29"/>
                        </a:lnTo>
                        <a:lnTo>
                          <a:pt x="92" y="21"/>
                        </a:lnTo>
                        <a:lnTo>
                          <a:pt x="83" y="16"/>
                        </a:lnTo>
                        <a:lnTo>
                          <a:pt x="76" y="15"/>
                        </a:lnTo>
                        <a:lnTo>
                          <a:pt x="65" y="14"/>
                        </a:lnTo>
                        <a:lnTo>
                          <a:pt x="54" y="17"/>
                        </a:lnTo>
                        <a:lnTo>
                          <a:pt x="42" y="20"/>
                        </a:lnTo>
                        <a:lnTo>
                          <a:pt x="30" y="25"/>
                        </a:lnTo>
                        <a:lnTo>
                          <a:pt x="24" y="24"/>
                        </a:lnTo>
                        <a:lnTo>
                          <a:pt x="22" y="21"/>
                        </a:lnTo>
                        <a:lnTo>
                          <a:pt x="22" y="16"/>
                        </a:lnTo>
                        <a:lnTo>
                          <a:pt x="2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 flipH="1">
                    <a:off x="688680" y="5389920"/>
                    <a:ext cx="1047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84">
                        <a:moveTo>
                          <a:pt x="5" y="34"/>
                        </a:moveTo>
                        <a:lnTo>
                          <a:pt x="17" y="25"/>
                        </a:lnTo>
                        <a:lnTo>
                          <a:pt x="35" y="16"/>
                        </a:lnTo>
                        <a:lnTo>
                          <a:pt x="56" y="8"/>
                        </a:lnTo>
                        <a:lnTo>
                          <a:pt x="78" y="2"/>
                        </a:lnTo>
                        <a:lnTo>
                          <a:pt x="99" y="0"/>
                        </a:lnTo>
                        <a:lnTo>
                          <a:pt x="116" y="6"/>
                        </a:lnTo>
                        <a:lnTo>
                          <a:pt x="128" y="20"/>
                        </a:lnTo>
                        <a:lnTo>
                          <a:pt x="133" y="44"/>
                        </a:lnTo>
                        <a:lnTo>
                          <a:pt x="132" y="49"/>
                        </a:lnTo>
                        <a:lnTo>
                          <a:pt x="130" y="53"/>
                        </a:lnTo>
                        <a:lnTo>
                          <a:pt x="122" y="57"/>
                        </a:lnTo>
                        <a:lnTo>
                          <a:pt x="116" y="61"/>
                        </a:lnTo>
                        <a:lnTo>
                          <a:pt x="110" y="65"/>
                        </a:lnTo>
                        <a:lnTo>
                          <a:pt x="106" y="69"/>
                        </a:lnTo>
                        <a:lnTo>
                          <a:pt x="101" y="72"/>
                        </a:lnTo>
                        <a:lnTo>
                          <a:pt x="95" y="75"/>
                        </a:lnTo>
                        <a:lnTo>
                          <a:pt x="89" y="79"/>
                        </a:lnTo>
                        <a:lnTo>
                          <a:pt x="84" y="84"/>
                        </a:lnTo>
                        <a:lnTo>
                          <a:pt x="75" y="84"/>
                        </a:lnTo>
                        <a:lnTo>
                          <a:pt x="71" y="80"/>
                        </a:lnTo>
                        <a:lnTo>
                          <a:pt x="68" y="72"/>
                        </a:lnTo>
                        <a:lnTo>
                          <a:pt x="74" y="67"/>
                        </a:lnTo>
                        <a:lnTo>
                          <a:pt x="79" y="63"/>
                        </a:lnTo>
                        <a:lnTo>
                          <a:pt x="86" y="59"/>
                        </a:lnTo>
                        <a:lnTo>
                          <a:pt x="90" y="56"/>
                        </a:lnTo>
                        <a:lnTo>
                          <a:pt x="95" y="53"/>
                        </a:lnTo>
                        <a:lnTo>
                          <a:pt x="100" y="49"/>
                        </a:lnTo>
                        <a:lnTo>
                          <a:pt x="105" y="45"/>
                        </a:lnTo>
                        <a:lnTo>
                          <a:pt x="110" y="41"/>
                        </a:lnTo>
                        <a:lnTo>
                          <a:pt x="117" y="37"/>
                        </a:lnTo>
                        <a:lnTo>
                          <a:pt x="115" y="40"/>
                        </a:lnTo>
                        <a:lnTo>
                          <a:pt x="113" y="43"/>
                        </a:lnTo>
                        <a:lnTo>
                          <a:pt x="113" y="44"/>
                        </a:lnTo>
                        <a:lnTo>
                          <a:pt x="108" y="25"/>
                        </a:lnTo>
                        <a:lnTo>
                          <a:pt x="99" y="15"/>
                        </a:lnTo>
                        <a:lnTo>
                          <a:pt x="85" y="13"/>
                        </a:lnTo>
                        <a:lnTo>
                          <a:pt x="70" y="17"/>
                        </a:lnTo>
                        <a:lnTo>
                          <a:pt x="51" y="24"/>
                        </a:lnTo>
                        <a:lnTo>
                          <a:pt x="35" y="32"/>
                        </a:lnTo>
                        <a:lnTo>
                          <a:pt x="21" y="40"/>
                        </a:lnTo>
                        <a:lnTo>
                          <a:pt x="11" y="48"/>
                        </a:lnTo>
                        <a:lnTo>
                          <a:pt x="5" y="46"/>
                        </a:lnTo>
                        <a:lnTo>
                          <a:pt x="1" y="43"/>
                        </a:lnTo>
                        <a:lnTo>
                          <a:pt x="0" y="38"/>
                        </a:lnTo>
                        <a:lnTo>
                          <a:pt x="5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 flipH="1">
                    <a:off x="733320" y="5445360"/>
                    <a:ext cx="763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1">
                        <a:moveTo>
                          <a:pt x="6" y="17"/>
                        </a:moveTo>
                        <a:lnTo>
                          <a:pt x="30" y="9"/>
                        </a:lnTo>
                        <a:lnTo>
                          <a:pt x="53" y="3"/>
                        </a:lnTo>
                        <a:lnTo>
                          <a:pt x="70" y="0"/>
                        </a:lnTo>
                        <a:lnTo>
                          <a:pt x="84" y="1"/>
                        </a:lnTo>
                        <a:lnTo>
                          <a:pt x="93" y="4"/>
                        </a:lnTo>
                        <a:lnTo>
                          <a:pt x="97" y="15"/>
                        </a:lnTo>
                        <a:lnTo>
                          <a:pt x="96" y="30"/>
                        </a:lnTo>
                        <a:lnTo>
                          <a:pt x="92" y="53"/>
                        </a:lnTo>
                        <a:lnTo>
                          <a:pt x="88" y="56"/>
                        </a:lnTo>
                        <a:lnTo>
                          <a:pt x="84" y="59"/>
                        </a:lnTo>
                        <a:lnTo>
                          <a:pt x="74" y="59"/>
                        </a:lnTo>
                        <a:lnTo>
                          <a:pt x="66" y="60"/>
                        </a:lnTo>
                        <a:lnTo>
                          <a:pt x="57" y="60"/>
                        </a:lnTo>
                        <a:lnTo>
                          <a:pt x="50" y="61"/>
                        </a:lnTo>
                        <a:lnTo>
                          <a:pt x="41" y="61"/>
                        </a:lnTo>
                        <a:lnTo>
                          <a:pt x="34" y="61"/>
                        </a:lnTo>
                        <a:lnTo>
                          <a:pt x="25" y="61"/>
                        </a:lnTo>
                        <a:lnTo>
                          <a:pt x="16" y="61"/>
                        </a:lnTo>
                        <a:lnTo>
                          <a:pt x="10" y="58"/>
                        </a:lnTo>
                        <a:lnTo>
                          <a:pt x="9" y="54"/>
                        </a:lnTo>
                        <a:lnTo>
                          <a:pt x="10" y="48"/>
                        </a:lnTo>
                        <a:lnTo>
                          <a:pt x="16" y="46"/>
                        </a:lnTo>
                        <a:lnTo>
                          <a:pt x="24" y="45"/>
                        </a:lnTo>
                        <a:lnTo>
                          <a:pt x="32" y="45"/>
                        </a:lnTo>
                        <a:lnTo>
                          <a:pt x="40" y="44"/>
                        </a:lnTo>
                        <a:lnTo>
                          <a:pt x="49" y="44"/>
                        </a:lnTo>
                        <a:lnTo>
                          <a:pt x="55" y="43"/>
                        </a:lnTo>
                        <a:lnTo>
                          <a:pt x="64" y="42"/>
                        </a:lnTo>
                        <a:lnTo>
                          <a:pt x="71" y="41"/>
                        </a:lnTo>
                        <a:lnTo>
                          <a:pt x="81" y="40"/>
                        </a:lnTo>
                        <a:lnTo>
                          <a:pt x="80" y="41"/>
                        </a:lnTo>
                        <a:lnTo>
                          <a:pt x="78" y="44"/>
                        </a:lnTo>
                        <a:lnTo>
                          <a:pt x="74" y="46"/>
                        </a:lnTo>
                        <a:lnTo>
                          <a:pt x="78" y="30"/>
                        </a:lnTo>
                        <a:lnTo>
                          <a:pt x="78" y="21"/>
                        </a:lnTo>
                        <a:lnTo>
                          <a:pt x="73" y="15"/>
                        </a:lnTo>
                        <a:lnTo>
                          <a:pt x="67" y="14"/>
                        </a:lnTo>
                        <a:lnTo>
                          <a:pt x="56" y="14"/>
                        </a:lnTo>
                        <a:lnTo>
                          <a:pt x="42" y="18"/>
                        </a:lnTo>
                        <a:lnTo>
                          <a:pt x="26" y="24"/>
                        </a:lnTo>
                        <a:lnTo>
                          <a:pt x="9" y="30"/>
                        </a:lnTo>
                        <a:lnTo>
                          <a:pt x="2" y="29"/>
                        </a:lnTo>
                        <a:lnTo>
                          <a:pt x="0" y="25"/>
                        </a:lnTo>
                        <a:lnTo>
                          <a:pt x="0" y="19"/>
                        </a:lnTo>
                        <a:lnTo>
                          <a:pt x="6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 flipH="1">
                    <a:off x="666720" y="5524560"/>
                    <a:ext cx="950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0">
                        <a:moveTo>
                          <a:pt x="8" y="0"/>
                        </a:moveTo>
                        <a:lnTo>
                          <a:pt x="37" y="1"/>
                        </a:lnTo>
                        <a:lnTo>
                          <a:pt x="58" y="3"/>
                        </a:lnTo>
                        <a:lnTo>
                          <a:pt x="70" y="4"/>
                        </a:lnTo>
                        <a:lnTo>
                          <a:pt x="81" y="6"/>
                        </a:lnTo>
                        <a:lnTo>
                          <a:pt x="88" y="9"/>
                        </a:lnTo>
                        <a:lnTo>
                          <a:pt x="94" y="14"/>
                        </a:lnTo>
                        <a:lnTo>
                          <a:pt x="103" y="22"/>
                        </a:lnTo>
                        <a:lnTo>
                          <a:pt x="116" y="35"/>
                        </a:lnTo>
                        <a:lnTo>
                          <a:pt x="119" y="42"/>
                        </a:lnTo>
                        <a:lnTo>
                          <a:pt x="116" y="49"/>
                        </a:lnTo>
                        <a:lnTo>
                          <a:pt x="95" y="68"/>
                        </a:lnTo>
                        <a:lnTo>
                          <a:pt x="84" y="69"/>
                        </a:lnTo>
                        <a:lnTo>
                          <a:pt x="75" y="70"/>
                        </a:lnTo>
                        <a:lnTo>
                          <a:pt x="65" y="70"/>
                        </a:lnTo>
                        <a:lnTo>
                          <a:pt x="57" y="70"/>
                        </a:lnTo>
                        <a:lnTo>
                          <a:pt x="47" y="68"/>
                        </a:lnTo>
                        <a:lnTo>
                          <a:pt x="38" y="67"/>
                        </a:lnTo>
                        <a:lnTo>
                          <a:pt x="29" y="66"/>
                        </a:lnTo>
                        <a:lnTo>
                          <a:pt x="19" y="64"/>
                        </a:lnTo>
                        <a:lnTo>
                          <a:pt x="12" y="60"/>
                        </a:lnTo>
                        <a:lnTo>
                          <a:pt x="12" y="54"/>
                        </a:lnTo>
                        <a:lnTo>
                          <a:pt x="15" y="48"/>
                        </a:lnTo>
                        <a:lnTo>
                          <a:pt x="22" y="47"/>
                        </a:lnTo>
                        <a:lnTo>
                          <a:pt x="31" y="48"/>
                        </a:lnTo>
                        <a:lnTo>
                          <a:pt x="39" y="49"/>
                        </a:lnTo>
                        <a:lnTo>
                          <a:pt x="47" y="51"/>
                        </a:lnTo>
                        <a:lnTo>
                          <a:pt x="54" y="53"/>
                        </a:lnTo>
                        <a:lnTo>
                          <a:pt x="61" y="53"/>
                        </a:lnTo>
                        <a:lnTo>
                          <a:pt x="68" y="53"/>
                        </a:lnTo>
                        <a:lnTo>
                          <a:pt x="77" y="52"/>
                        </a:lnTo>
                        <a:lnTo>
                          <a:pt x="87" y="52"/>
                        </a:lnTo>
                        <a:lnTo>
                          <a:pt x="103" y="35"/>
                        </a:lnTo>
                        <a:lnTo>
                          <a:pt x="105" y="35"/>
                        </a:lnTo>
                        <a:lnTo>
                          <a:pt x="105" y="42"/>
                        </a:lnTo>
                        <a:lnTo>
                          <a:pt x="104" y="47"/>
                        </a:lnTo>
                        <a:lnTo>
                          <a:pt x="102" y="49"/>
                        </a:lnTo>
                        <a:lnTo>
                          <a:pt x="90" y="37"/>
                        </a:lnTo>
                        <a:lnTo>
                          <a:pt x="82" y="29"/>
                        </a:lnTo>
                        <a:lnTo>
                          <a:pt x="77" y="24"/>
                        </a:lnTo>
                        <a:lnTo>
                          <a:pt x="72" y="22"/>
                        </a:lnTo>
                        <a:lnTo>
                          <a:pt x="62" y="18"/>
                        </a:lnTo>
                        <a:lnTo>
                          <a:pt x="50" y="17"/>
                        </a:lnTo>
                        <a:lnTo>
                          <a:pt x="32" y="16"/>
                        </a:lnTo>
                        <a:lnTo>
                          <a:pt x="7" y="14"/>
                        </a:lnTo>
                        <a:lnTo>
                          <a:pt x="1" y="10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flipH="1">
                    <a:off x="653760" y="5604120"/>
                    <a:ext cx="108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3">
                        <a:moveTo>
                          <a:pt x="15" y="10"/>
                        </a:moveTo>
                        <a:lnTo>
                          <a:pt x="29" y="6"/>
                        </a:lnTo>
                        <a:lnTo>
                          <a:pt x="49" y="3"/>
                        </a:lnTo>
                        <a:lnTo>
                          <a:pt x="70" y="0"/>
                        </a:lnTo>
                        <a:lnTo>
                          <a:pt x="93" y="0"/>
                        </a:lnTo>
                        <a:lnTo>
                          <a:pt x="111" y="2"/>
                        </a:lnTo>
                        <a:lnTo>
                          <a:pt x="127" y="12"/>
                        </a:lnTo>
                        <a:lnTo>
                          <a:pt x="135" y="28"/>
                        </a:lnTo>
                        <a:lnTo>
                          <a:pt x="135" y="54"/>
                        </a:lnTo>
                        <a:lnTo>
                          <a:pt x="127" y="63"/>
                        </a:lnTo>
                        <a:lnTo>
                          <a:pt x="116" y="72"/>
                        </a:lnTo>
                        <a:lnTo>
                          <a:pt x="100" y="77"/>
                        </a:lnTo>
                        <a:lnTo>
                          <a:pt x="81" y="82"/>
                        </a:lnTo>
                        <a:lnTo>
                          <a:pt x="60" y="82"/>
                        </a:lnTo>
                        <a:lnTo>
                          <a:pt x="41" y="83"/>
                        </a:lnTo>
                        <a:lnTo>
                          <a:pt x="24" y="80"/>
                        </a:lnTo>
                        <a:lnTo>
                          <a:pt x="12" y="77"/>
                        </a:lnTo>
                        <a:lnTo>
                          <a:pt x="8" y="75"/>
                        </a:lnTo>
                        <a:lnTo>
                          <a:pt x="7" y="71"/>
                        </a:lnTo>
                        <a:lnTo>
                          <a:pt x="0" y="40"/>
                        </a:lnTo>
                        <a:lnTo>
                          <a:pt x="1" y="32"/>
                        </a:lnTo>
                        <a:lnTo>
                          <a:pt x="5" y="29"/>
                        </a:lnTo>
                        <a:lnTo>
                          <a:pt x="10" y="30"/>
                        </a:lnTo>
                        <a:lnTo>
                          <a:pt x="16" y="35"/>
                        </a:lnTo>
                        <a:lnTo>
                          <a:pt x="25" y="67"/>
                        </a:lnTo>
                        <a:lnTo>
                          <a:pt x="23" y="66"/>
                        </a:lnTo>
                        <a:lnTo>
                          <a:pt x="21" y="63"/>
                        </a:lnTo>
                        <a:lnTo>
                          <a:pt x="19" y="60"/>
                        </a:lnTo>
                        <a:lnTo>
                          <a:pt x="20" y="59"/>
                        </a:lnTo>
                        <a:lnTo>
                          <a:pt x="30" y="61"/>
                        </a:lnTo>
                        <a:lnTo>
                          <a:pt x="43" y="65"/>
                        </a:lnTo>
                        <a:lnTo>
                          <a:pt x="58" y="66"/>
                        </a:lnTo>
                        <a:lnTo>
                          <a:pt x="75" y="67"/>
                        </a:lnTo>
                        <a:lnTo>
                          <a:pt x="89" y="66"/>
                        </a:lnTo>
                        <a:lnTo>
                          <a:pt x="103" y="62"/>
                        </a:lnTo>
                        <a:lnTo>
                          <a:pt x="111" y="57"/>
                        </a:lnTo>
                        <a:lnTo>
                          <a:pt x="118" y="49"/>
                        </a:lnTo>
                        <a:lnTo>
                          <a:pt x="118" y="29"/>
                        </a:lnTo>
                        <a:lnTo>
                          <a:pt x="111" y="16"/>
                        </a:lnTo>
                        <a:lnTo>
                          <a:pt x="98" y="10"/>
                        </a:lnTo>
                        <a:lnTo>
                          <a:pt x="82" y="10"/>
                        </a:lnTo>
                        <a:lnTo>
                          <a:pt x="63" y="11"/>
                        </a:lnTo>
                        <a:lnTo>
                          <a:pt x="45" y="15"/>
                        </a:lnTo>
                        <a:lnTo>
                          <a:pt x="29" y="19"/>
                        </a:lnTo>
                        <a:lnTo>
                          <a:pt x="17" y="23"/>
                        </a:lnTo>
                        <a:lnTo>
                          <a:pt x="11" y="20"/>
                        </a:lnTo>
                        <a:lnTo>
                          <a:pt x="9" y="16"/>
                        </a:lnTo>
                        <a:lnTo>
                          <a:pt x="10" y="11"/>
                        </a:lnTo>
                        <a:lnTo>
                          <a:pt x="1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 flipH="1">
                    <a:off x="779040" y="5634360"/>
                    <a:ext cx="111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89">
                        <a:moveTo>
                          <a:pt x="69" y="16"/>
                        </a:moveTo>
                        <a:lnTo>
                          <a:pt x="50" y="23"/>
                        </a:lnTo>
                        <a:lnTo>
                          <a:pt x="37" y="30"/>
                        </a:lnTo>
                        <a:lnTo>
                          <a:pt x="28" y="33"/>
                        </a:lnTo>
                        <a:lnTo>
                          <a:pt x="25" y="37"/>
                        </a:lnTo>
                        <a:lnTo>
                          <a:pt x="23" y="42"/>
                        </a:lnTo>
                        <a:lnTo>
                          <a:pt x="25" y="49"/>
                        </a:lnTo>
                        <a:lnTo>
                          <a:pt x="29" y="60"/>
                        </a:lnTo>
                        <a:lnTo>
                          <a:pt x="36" y="77"/>
                        </a:lnTo>
                        <a:lnTo>
                          <a:pt x="32" y="77"/>
                        </a:lnTo>
                        <a:lnTo>
                          <a:pt x="28" y="75"/>
                        </a:lnTo>
                        <a:lnTo>
                          <a:pt x="24" y="71"/>
                        </a:lnTo>
                        <a:lnTo>
                          <a:pt x="25" y="69"/>
                        </a:lnTo>
                        <a:lnTo>
                          <a:pt x="42" y="66"/>
                        </a:lnTo>
                        <a:lnTo>
                          <a:pt x="58" y="64"/>
                        </a:lnTo>
                        <a:lnTo>
                          <a:pt x="71" y="61"/>
                        </a:lnTo>
                        <a:lnTo>
                          <a:pt x="83" y="59"/>
                        </a:lnTo>
                        <a:lnTo>
                          <a:pt x="93" y="53"/>
                        </a:lnTo>
                        <a:lnTo>
                          <a:pt x="103" y="49"/>
                        </a:lnTo>
                        <a:lnTo>
                          <a:pt x="114" y="43"/>
                        </a:lnTo>
                        <a:lnTo>
                          <a:pt x="126" y="36"/>
                        </a:lnTo>
                        <a:lnTo>
                          <a:pt x="128" y="36"/>
                        </a:lnTo>
                        <a:lnTo>
                          <a:pt x="129" y="44"/>
                        </a:lnTo>
                        <a:lnTo>
                          <a:pt x="127" y="50"/>
                        </a:lnTo>
                        <a:lnTo>
                          <a:pt x="125" y="51"/>
                        </a:lnTo>
                        <a:lnTo>
                          <a:pt x="95" y="19"/>
                        </a:lnTo>
                        <a:lnTo>
                          <a:pt x="91" y="13"/>
                        </a:lnTo>
                        <a:lnTo>
                          <a:pt x="94" y="7"/>
                        </a:lnTo>
                        <a:lnTo>
                          <a:pt x="99" y="4"/>
                        </a:lnTo>
                        <a:lnTo>
                          <a:pt x="107" y="7"/>
                        </a:lnTo>
                        <a:lnTo>
                          <a:pt x="138" y="37"/>
                        </a:lnTo>
                        <a:lnTo>
                          <a:pt x="141" y="45"/>
                        </a:lnTo>
                        <a:lnTo>
                          <a:pt x="137" y="52"/>
                        </a:lnTo>
                        <a:lnTo>
                          <a:pt x="123" y="59"/>
                        </a:lnTo>
                        <a:lnTo>
                          <a:pt x="112" y="66"/>
                        </a:lnTo>
                        <a:lnTo>
                          <a:pt x="101" y="72"/>
                        </a:lnTo>
                        <a:lnTo>
                          <a:pt x="90" y="77"/>
                        </a:lnTo>
                        <a:lnTo>
                          <a:pt x="76" y="80"/>
                        </a:lnTo>
                        <a:lnTo>
                          <a:pt x="63" y="83"/>
                        </a:lnTo>
                        <a:lnTo>
                          <a:pt x="46" y="86"/>
                        </a:lnTo>
                        <a:lnTo>
                          <a:pt x="27" y="89"/>
                        </a:lnTo>
                        <a:lnTo>
                          <a:pt x="19" y="88"/>
                        </a:lnTo>
                        <a:lnTo>
                          <a:pt x="16" y="82"/>
                        </a:lnTo>
                        <a:lnTo>
                          <a:pt x="8" y="59"/>
                        </a:lnTo>
                        <a:lnTo>
                          <a:pt x="3" y="45"/>
                        </a:lnTo>
                        <a:lnTo>
                          <a:pt x="0" y="35"/>
                        </a:lnTo>
                        <a:lnTo>
                          <a:pt x="2" y="30"/>
                        </a:lnTo>
                        <a:lnTo>
                          <a:pt x="8" y="24"/>
                        </a:lnTo>
                        <a:lnTo>
                          <a:pt x="18" y="20"/>
                        </a:lnTo>
                        <a:lnTo>
                          <a:pt x="36" y="13"/>
                        </a:lnTo>
                        <a:lnTo>
                          <a:pt x="61" y="2"/>
                        </a:lnTo>
                        <a:lnTo>
                          <a:pt x="67" y="0"/>
                        </a:lnTo>
                        <a:lnTo>
                          <a:pt x="72" y="5"/>
                        </a:lnTo>
                        <a:lnTo>
                          <a:pt x="72" y="10"/>
                        </a:lnTo>
                        <a:lnTo>
                          <a:pt x="69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 flipH="1">
                    <a:off x="933120" y="5621400"/>
                    <a:ext cx="91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95">
                        <a:moveTo>
                          <a:pt x="70" y="12"/>
                        </a:moveTo>
                        <a:lnTo>
                          <a:pt x="57" y="19"/>
                        </a:lnTo>
                        <a:lnTo>
                          <a:pt x="44" y="25"/>
                        </a:lnTo>
                        <a:lnTo>
                          <a:pt x="31" y="33"/>
                        </a:lnTo>
                        <a:lnTo>
                          <a:pt x="22" y="42"/>
                        </a:lnTo>
                        <a:lnTo>
                          <a:pt x="14" y="49"/>
                        </a:lnTo>
                        <a:lnTo>
                          <a:pt x="12" y="58"/>
                        </a:lnTo>
                        <a:lnTo>
                          <a:pt x="14" y="67"/>
                        </a:lnTo>
                        <a:lnTo>
                          <a:pt x="25" y="77"/>
                        </a:lnTo>
                        <a:lnTo>
                          <a:pt x="42" y="72"/>
                        </a:lnTo>
                        <a:lnTo>
                          <a:pt x="57" y="67"/>
                        </a:lnTo>
                        <a:lnTo>
                          <a:pt x="67" y="62"/>
                        </a:lnTo>
                        <a:lnTo>
                          <a:pt x="77" y="57"/>
                        </a:lnTo>
                        <a:lnTo>
                          <a:pt x="82" y="49"/>
                        </a:lnTo>
                        <a:lnTo>
                          <a:pt x="88" y="42"/>
                        </a:lnTo>
                        <a:lnTo>
                          <a:pt x="93" y="30"/>
                        </a:lnTo>
                        <a:lnTo>
                          <a:pt x="98" y="17"/>
                        </a:lnTo>
                        <a:lnTo>
                          <a:pt x="101" y="10"/>
                        </a:lnTo>
                        <a:lnTo>
                          <a:pt x="109" y="11"/>
                        </a:lnTo>
                        <a:lnTo>
                          <a:pt x="113" y="15"/>
                        </a:lnTo>
                        <a:lnTo>
                          <a:pt x="115" y="22"/>
                        </a:lnTo>
                        <a:lnTo>
                          <a:pt x="109" y="37"/>
                        </a:lnTo>
                        <a:lnTo>
                          <a:pt x="102" y="51"/>
                        </a:lnTo>
                        <a:lnTo>
                          <a:pt x="95" y="61"/>
                        </a:lnTo>
                        <a:lnTo>
                          <a:pt x="86" y="71"/>
                        </a:lnTo>
                        <a:lnTo>
                          <a:pt x="74" y="76"/>
                        </a:lnTo>
                        <a:lnTo>
                          <a:pt x="60" y="82"/>
                        </a:lnTo>
                        <a:lnTo>
                          <a:pt x="43" y="89"/>
                        </a:lnTo>
                        <a:lnTo>
                          <a:pt x="22" y="95"/>
                        </a:lnTo>
                        <a:lnTo>
                          <a:pt x="7" y="81"/>
                        </a:lnTo>
                        <a:lnTo>
                          <a:pt x="0" y="68"/>
                        </a:lnTo>
                        <a:lnTo>
                          <a:pt x="0" y="55"/>
                        </a:lnTo>
                        <a:lnTo>
                          <a:pt x="7" y="44"/>
                        </a:lnTo>
                        <a:lnTo>
                          <a:pt x="16" y="31"/>
                        </a:lnTo>
                        <a:lnTo>
                          <a:pt x="30" y="20"/>
                        </a:lnTo>
                        <a:lnTo>
                          <a:pt x="46" y="9"/>
                        </a:lnTo>
                        <a:lnTo>
                          <a:pt x="64" y="1"/>
                        </a:lnTo>
                        <a:lnTo>
                          <a:pt x="68" y="0"/>
                        </a:lnTo>
                        <a:lnTo>
                          <a:pt x="72" y="3"/>
                        </a:lnTo>
                        <a:lnTo>
                          <a:pt x="73" y="7"/>
                        </a:lnTo>
                        <a:lnTo>
                          <a:pt x="7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flipH="1">
                    <a:off x="769320" y="5499360"/>
                    <a:ext cx="1098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69">
                        <a:moveTo>
                          <a:pt x="6" y="14"/>
                        </a:moveTo>
                        <a:lnTo>
                          <a:pt x="22" y="11"/>
                        </a:lnTo>
                        <a:lnTo>
                          <a:pt x="38" y="8"/>
                        </a:lnTo>
                        <a:lnTo>
                          <a:pt x="52" y="6"/>
                        </a:lnTo>
                        <a:lnTo>
                          <a:pt x="66" y="5"/>
                        </a:lnTo>
                        <a:lnTo>
                          <a:pt x="79" y="3"/>
                        </a:lnTo>
                        <a:lnTo>
                          <a:pt x="94" y="2"/>
                        </a:lnTo>
                        <a:lnTo>
                          <a:pt x="109" y="0"/>
                        </a:lnTo>
                        <a:lnTo>
                          <a:pt x="126" y="0"/>
                        </a:lnTo>
                        <a:lnTo>
                          <a:pt x="131" y="0"/>
                        </a:lnTo>
                        <a:lnTo>
                          <a:pt x="134" y="6"/>
                        </a:lnTo>
                        <a:lnTo>
                          <a:pt x="134" y="15"/>
                        </a:lnTo>
                        <a:lnTo>
                          <a:pt x="137" y="24"/>
                        </a:lnTo>
                        <a:lnTo>
                          <a:pt x="137" y="32"/>
                        </a:lnTo>
                        <a:lnTo>
                          <a:pt x="139" y="42"/>
                        </a:lnTo>
                        <a:lnTo>
                          <a:pt x="138" y="47"/>
                        </a:lnTo>
                        <a:lnTo>
                          <a:pt x="133" y="51"/>
                        </a:lnTo>
                        <a:lnTo>
                          <a:pt x="79" y="69"/>
                        </a:lnTo>
                        <a:lnTo>
                          <a:pt x="33" y="61"/>
                        </a:lnTo>
                        <a:lnTo>
                          <a:pt x="28" y="58"/>
                        </a:lnTo>
                        <a:lnTo>
                          <a:pt x="27" y="54"/>
                        </a:lnTo>
                        <a:lnTo>
                          <a:pt x="29" y="49"/>
                        </a:lnTo>
                        <a:lnTo>
                          <a:pt x="34" y="49"/>
                        </a:lnTo>
                        <a:lnTo>
                          <a:pt x="76" y="51"/>
                        </a:lnTo>
                        <a:lnTo>
                          <a:pt x="128" y="34"/>
                        </a:lnTo>
                        <a:lnTo>
                          <a:pt x="128" y="35"/>
                        </a:lnTo>
                        <a:lnTo>
                          <a:pt x="126" y="40"/>
                        </a:lnTo>
                        <a:lnTo>
                          <a:pt x="123" y="43"/>
                        </a:lnTo>
                        <a:lnTo>
                          <a:pt x="122" y="44"/>
                        </a:lnTo>
                        <a:lnTo>
                          <a:pt x="120" y="33"/>
                        </a:lnTo>
                        <a:lnTo>
                          <a:pt x="119" y="26"/>
                        </a:lnTo>
                        <a:lnTo>
                          <a:pt x="118" y="16"/>
                        </a:lnTo>
                        <a:lnTo>
                          <a:pt x="118" y="7"/>
                        </a:lnTo>
                        <a:lnTo>
                          <a:pt x="119" y="5"/>
                        </a:lnTo>
                        <a:lnTo>
                          <a:pt x="124" y="8"/>
                        </a:lnTo>
                        <a:lnTo>
                          <a:pt x="127" y="13"/>
                        </a:lnTo>
                        <a:lnTo>
                          <a:pt x="127" y="15"/>
                        </a:lnTo>
                        <a:lnTo>
                          <a:pt x="110" y="15"/>
                        </a:lnTo>
                        <a:lnTo>
                          <a:pt x="95" y="17"/>
                        </a:lnTo>
                        <a:lnTo>
                          <a:pt x="80" y="17"/>
                        </a:lnTo>
                        <a:lnTo>
                          <a:pt x="67" y="19"/>
                        </a:lnTo>
                        <a:lnTo>
                          <a:pt x="53" y="20"/>
                        </a:lnTo>
                        <a:lnTo>
                          <a:pt x="39" y="22"/>
                        </a:lnTo>
                        <a:lnTo>
                          <a:pt x="23" y="25"/>
                        </a:lnTo>
                        <a:lnTo>
                          <a:pt x="8" y="28"/>
                        </a:lnTo>
                        <a:lnTo>
                          <a:pt x="2" y="26"/>
                        </a:lnTo>
                        <a:lnTo>
                          <a:pt x="0" y="21"/>
                        </a:lnTo>
                        <a:lnTo>
                          <a:pt x="0" y="16"/>
                        </a:lnTo>
                        <a:lnTo>
                          <a:pt x="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H="1">
                    <a:off x="780840" y="5419800"/>
                    <a:ext cx="11448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81">
                        <a:moveTo>
                          <a:pt x="7" y="3"/>
                        </a:moveTo>
                        <a:lnTo>
                          <a:pt x="26" y="1"/>
                        </a:lnTo>
                        <a:lnTo>
                          <a:pt x="44" y="0"/>
                        </a:lnTo>
                        <a:lnTo>
                          <a:pt x="61" y="0"/>
                        </a:lnTo>
                        <a:lnTo>
                          <a:pt x="78" y="1"/>
                        </a:lnTo>
                        <a:lnTo>
                          <a:pt x="93" y="1"/>
                        </a:lnTo>
                        <a:lnTo>
                          <a:pt x="109" y="4"/>
                        </a:lnTo>
                        <a:lnTo>
                          <a:pt x="124" y="6"/>
                        </a:lnTo>
                        <a:lnTo>
                          <a:pt x="138" y="12"/>
                        </a:lnTo>
                        <a:lnTo>
                          <a:pt x="143" y="15"/>
                        </a:lnTo>
                        <a:lnTo>
                          <a:pt x="143" y="21"/>
                        </a:lnTo>
                        <a:lnTo>
                          <a:pt x="134" y="50"/>
                        </a:lnTo>
                        <a:lnTo>
                          <a:pt x="124" y="55"/>
                        </a:lnTo>
                        <a:lnTo>
                          <a:pt x="118" y="60"/>
                        </a:lnTo>
                        <a:lnTo>
                          <a:pt x="111" y="64"/>
                        </a:lnTo>
                        <a:lnTo>
                          <a:pt x="104" y="70"/>
                        </a:lnTo>
                        <a:lnTo>
                          <a:pt x="97" y="72"/>
                        </a:lnTo>
                        <a:lnTo>
                          <a:pt x="89" y="75"/>
                        </a:lnTo>
                        <a:lnTo>
                          <a:pt x="79" y="77"/>
                        </a:lnTo>
                        <a:lnTo>
                          <a:pt x="71" y="81"/>
                        </a:lnTo>
                        <a:lnTo>
                          <a:pt x="63" y="78"/>
                        </a:lnTo>
                        <a:lnTo>
                          <a:pt x="60" y="73"/>
                        </a:lnTo>
                        <a:lnTo>
                          <a:pt x="60" y="67"/>
                        </a:lnTo>
                        <a:lnTo>
                          <a:pt x="67" y="63"/>
                        </a:lnTo>
                        <a:lnTo>
                          <a:pt x="75" y="61"/>
                        </a:lnTo>
                        <a:lnTo>
                          <a:pt x="83" y="59"/>
                        </a:lnTo>
                        <a:lnTo>
                          <a:pt x="88" y="57"/>
                        </a:lnTo>
                        <a:lnTo>
                          <a:pt x="94" y="55"/>
                        </a:lnTo>
                        <a:lnTo>
                          <a:pt x="99" y="52"/>
                        </a:lnTo>
                        <a:lnTo>
                          <a:pt x="105" y="48"/>
                        </a:lnTo>
                        <a:lnTo>
                          <a:pt x="112" y="44"/>
                        </a:lnTo>
                        <a:lnTo>
                          <a:pt x="119" y="40"/>
                        </a:lnTo>
                        <a:lnTo>
                          <a:pt x="128" y="16"/>
                        </a:lnTo>
                        <a:lnTo>
                          <a:pt x="129" y="16"/>
                        </a:lnTo>
                        <a:lnTo>
                          <a:pt x="132" y="20"/>
                        </a:lnTo>
                        <a:lnTo>
                          <a:pt x="133" y="25"/>
                        </a:lnTo>
                        <a:lnTo>
                          <a:pt x="132" y="27"/>
                        </a:lnTo>
                        <a:lnTo>
                          <a:pt x="118" y="21"/>
                        </a:lnTo>
                        <a:lnTo>
                          <a:pt x="105" y="19"/>
                        </a:lnTo>
                        <a:lnTo>
                          <a:pt x="90" y="16"/>
                        </a:lnTo>
                        <a:lnTo>
                          <a:pt x="76" y="16"/>
                        </a:lnTo>
                        <a:lnTo>
                          <a:pt x="59" y="15"/>
                        </a:lnTo>
                        <a:lnTo>
                          <a:pt x="43" y="15"/>
                        </a:lnTo>
                        <a:lnTo>
                          <a:pt x="26" y="15"/>
                        </a:lnTo>
                        <a:lnTo>
                          <a:pt x="8" y="17"/>
                        </a:lnTo>
                        <a:lnTo>
                          <a:pt x="2" y="15"/>
                        </a:lnTo>
                        <a:lnTo>
                          <a:pt x="0" y="11"/>
                        </a:lnTo>
                        <a:lnTo>
                          <a:pt x="1" y="5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 flipH="1">
                    <a:off x="860040" y="5378760"/>
                    <a:ext cx="968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9">
                        <a:moveTo>
                          <a:pt x="31" y="7"/>
                        </a:moveTo>
                        <a:lnTo>
                          <a:pt x="44" y="2"/>
                        </a:lnTo>
                        <a:lnTo>
                          <a:pt x="59" y="1"/>
                        </a:lnTo>
                        <a:lnTo>
                          <a:pt x="73" y="0"/>
                        </a:lnTo>
                        <a:lnTo>
                          <a:pt x="87" y="2"/>
                        </a:lnTo>
                        <a:lnTo>
                          <a:pt x="99" y="6"/>
                        </a:lnTo>
                        <a:lnTo>
                          <a:pt x="109" y="12"/>
                        </a:lnTo>
                        <a:lnTo>
                          <a:pt x="116" y="21"/>
                        </a:lnTo>
                        <a:lnTo>
                          <a:pt x="122" y="34"/>
                        </a:lnTo>
                        <a:lnTo>
                          <a:pt x="121" y="39"/>
                        </a:lnTo>
                        <a:lnTo>
                          <a:pt x="117" y="43"/>
                        </a:lnTo>
                        <a:lnTo>
                          <a:pt x="106" y="49"/>
                        </a:lnTo>
                        <a:lnTo>
                          <a:pt x="95" y="54"/>
                        </a:lnTo>
                        <a:lnTo>
                          <a:pt x="82" y="58"/>
                        </a:lnTo>
                        <a:lnTo>
                          <a:pt x="70" y="63"/>
                        </a:lnTo>
                        <a:lnTo>
                          <a:pt x="56" y="65"/>
                        </a:lnTo>
                        <a:lnTo>
                          <a:pt x="41" y="67"/>
                        </a:lnTo>
                        <a:lnTo>
                          <a:pt x="24" y="68"/>
                        </a:lnTo>
                        <a:lnTo>
                          <a:pt x="7" y="69"/>
                        </a:lnTo>
                        <a:lnTo>
                          <a:pt x="1" y="67"/>
                        </a:lnTo>
                        <a:lnTo>
                          <a:pt x="0" y="63"/>
                        </a:lnTo>
                        <a:lnTo>
                          <a:pt x="1" y="57"/>
                        </a:lnTo>
                        <a:lnTo>
                          <a:pt x="7" y="56"/>
                        </a:lnTo>
                        <a:lnTo>
                          <a:pt x="22" y="55"/>
                        </a:lnTo>
                        <a:lnTo>
                          <a:pt x="38" y="53"/>
                        </a:lnTo>
                        <a:lnTo>
                          <a:pt x="51" y="50"/>
                        </a:lnTo>
                        <a:lnTo>
                          <a:pt x="65" y="48"/>
                        </a:lnTo>
                        <a:lnTo>
                          <a:pt x="77" y="43"/>
                        </a:lnTo>
                        <a:lnTo>
                          <a:pt x="88" y="39"/>
                        </a:lnTo>
                        <a:lnTo>
                          <a:pt x="98" y="34"/>
                        </a:lnTo>
                        <a:lnTo>
                          <a:pt x="109" y="28"/>
                        </a:lnTo>
                        <a:lnTo>
                          <a:pt x="108" y="33"/>
                        </a:lnTo>
                        <a:lnTo>
                          <a:pt x="106" y="36"/>
                        </a:lnTo>
                        <a:lnTo>
                          <a:pt x="105" y="37"/>
                        </a:lnTo>
                        <a:lnTo>
                          <a:pt x="100" y="27"/>
                        </a:lnTo>
                        <a:lnTo>
                          <a:pt x="94" y="21"/>
                        </a:lnTo>
                        <a:lnTo>
                          <a:pt x="86" y="16"/>
                        </a:lnTo>
                        <a:lnTo>
                          <a:pt x="78" y="14"/>
                        </a:lnTo>
                        <a:lnTo>
                          <a:pt x="67" y="13"/>
                        </a:lnTo>
                        <a:lnTo>
                          <a:pt x="56" y="14"/>
                        </a:lnTo>
                        <a:lnTo>
                          <a:pt x="45" y="16"/>
                        </a:lnTo>
                        <a:lnTo>
                          <a:pt x="36" y="20"/>
                        </a:lnTo>
                        <a:lnTo>
                          <a:pt x="29" y="19"/>
                        </a:lnTo>
                        <a:lnTo>
                          <a:pt x="27" y="15"/>
                        </a:lnTo>
                        <a:lnTo>
                          <a:pt x="27" y="10"/>
                        </a:lnTo>
                        <a:lnTo>
                          <a:pt x="3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 flipH="1">
                    <a:off x="898200" y="5348520"/>
                    <a:ext cx="997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2">
                        <a:moveTo>
                          <a:pt x="5" y="14"/>
                        </a:moveTo>
                        <a:lnTo>
                          <a:pt x="18" y="10"/>
                        </a:lnTo>
                        <a:lnTo>
                          <a:pt x="32" y="7"/>
                        </a:lnTo>
                        <a:lnTo>
                          <a:pt x="46" y="4"/>
                        </a:lnTo>
                        <a:lnTo>
                          <a:pt x="60" y="2"/>
                        </a:lnTo>
                        <a:lnTo>
                          <a:pt x="73" y="0"/>
                        </a:lnTo>
                        <a:lnTo>
                          <a:pt x="88" y="0"/>
                        </a:lnTo>
                        <a:lnTo>
                          <a:pt x="102" y="0"/>
                        </a:lnTo>
                        <a:lnTo>
                          <a:pt x="118" y="3"/>
                        </a:lnTo>
                        <a:lnTo>
                          <a:pt x="123" y="6"/>
                        </a:lnTo>
                        <a:lnTo>
                          <a:pt x="125" y="13"/>
                        </a:lnTo>
                        <a:lnTo>
                          <a:pt x="120" y="47"/>
                        </a:lnTo>
                        <a:lnTo>
                          <a:pt x="114" y="50"/>
                        </a:lnTo>
                        <a:lnTo>
                          <a:pt x="107" y="53"/>
                        </a:lnTo>
                        <a:lnTo>
                          <a:pt x="100" y="56"/>
                        </a:lnTo>
                        <a:lnTo>
                          <a:pt x="92" y="58"/>
                        </a:lnTo>
                        <a:lnTo>
                          <a:pt x="83" y="59"/>
                        </a:lnTo>
                        <a:lnTo>
                          <a:pt x="75" y="61"/>
                        </a:lnTo>
                        <a:lnTo>
                          <a:pt x="65" y="61"/>
                        </a:lnTo>
                        <a:lnTo>
                          <a:pt x="55" y="62"/>
                        </a:lnTo>
                        <a:lnTo>
                          <a:pt x="50" y="60"/>
                        </a:lnTo>
                        <a:lnTo>
                          <a:pt x="49" y="56"/>
                        </a:lnTo>
                        <a:lnTo>
                          <a:pt x="50" y="50"/>
                        </a:lnTo>
                        <a:lnTo>
                          <a:pt x="55" y="49"/>
                        </a:lnTo>
                        <a:lnTo>
                          <a:pt x="63" y="48"/>
                        </a:lnTo>
                        <a:lnTo>
                          <a:pt x="71" y="48"/>
                        </a:lnTo>
                        <a:lnTo>
                          <a:pt x="77" y="47"/>
                        </a:lnTo>
                        <a:lnTo>
                          <a:pt x="83" y="46"/>
                        </a:lnTo>
                        <a:lnTo>
                          <a:pt x="93" y="43"/>
                        </a:lnTo>
                        <a:lnTo>
                          <a:pt x="104" y="37"/>
                        </a:lnTo>
                        <a:lnTo>
                          <a:pt x="108" y="10"/>
                        </a:lnTo>
                        <a:lnTo>
                          <a:pt x="109" y="8"/>
                        </a:lnTo>
                        <a:lnTo>
                          <a:pt x="114" y="13"/>
                        </a:lnTo>
                        <a:lnTo>
                          <a:pt x="116" y="17"/>
                        </a:lnTo>
                        <a:lnTo>
                          <a:pt x="115" y="20"/>
                        </a:lnTo>
                        <a:lnTo>
                          <a:pt x="100" y="17"/>
                        </a:lnTo>
                        <a:lnTo>
                          <a:pt x="86" y="16"/>
                        </a:lnTo>
                        <a:lnTo>
                          <a:pt x="73" y="16"/>
                        </a:lnTo>
                        <a:lnTo>
                          <a:pt x="60" y="17"/>
                        </a:lnTo>
                        <a:lnTo>
                          <a:pt x="46" y="17"/>
                        </a:lnTo>
                        <a:lnTo>
                          <a:pt x="33" y="20"/>
                        </a:lnTo>
                        <a:lnTo>
                          <a:pt x="20" y="23"/>
                        </a:lnTo>
                        <a:lnTo>
                          <a:pt x="7" y="27"/>
                        </a:lnTo>
                        <a:lnTo>
                          <a:pt x="2" y="24"/>
                        </a:lnTo>
                        <a:lnTo>
                          <a:pt x="0" y="21"/>
                        </a:lnTo>
                        <a:lnTo>
                          <a:pt x="0" y="16"/>
                        </a:lnTo>
                        <a:lnTo>
                          <a:pt x="5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flipH="1">
                    <a:off x="950760" y="5391360"/>
                    <a:ext cx="698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68">
                        <a:moveTo>
                          <a:pt x="11" y="0"/>
                        </a:moveTo>
                        <a:lnTo>
                          <a:pt x="32" y="2"/>
                        </a:lnTo>
                        <a:lnTo>
                          <a:pt x="52" y="6"/>
                        </a:lnTo>
                        <a:lnTo>
                          <a:pt x="70" y="11"/>
                        </a:lnTo>
                        <a:lnTo>
                          <a:pt x="82" y="21"/>
                        </a:lnTo>
                        <a:lnTo>
                          <a:pt x="88" y="31"/>
                        </a:lnTo>
                        <a:lnTo>
                          <a:pt x="87" y="42"/>
                        </a:lnTo>
                        <a:lnTo>
                          <a:pt x="76" y="55"/>
                        </a:lnTo>
                        <a:lnTo>
                          <a:pt x="57" y="68"/>
                        </a:lnTo>
                        <a:lnTo>
                          <a:pt x="5" y="53"/>
                        </a:lnTo>
                        <a:lnTo>
                          <a:pt x="0" y="49"/>
                        </a:lnTo>
                        <a:lnTo>
                          <a:pt x="0" y="45"/>
                        </a:lnTo>
                        <a:lnTo>
                          <a:pt x="2" y="40"/>
                        </a:lnTo>
                        <a:lnTo>
                          <a:pt x="8" y="39"/>
                        </a:lnTo>
                        <a:lnTo>
                          <a:pt x="54" y="50"/>
                        </a:lnTo>
                        <a:lnTo>
                          <a:pt x="67" y="41"/>
                        </a:lnTo>
                        <a:lnTo>
                          <a:pt x="73" y="35"/>
                        </a:lnTo>
                        <a:lnTo>
                          <a:pt x="71" y="27"/>
                        </a:lnTo>
                        <a:lnTo>
                          <a:pt x="65" y="23"/>
                        </a:lnTo>
                        <a:lnTo>
                          <a:pt x="53" y="18"/>
                        </a:lnTo>
                        <a:lnTo>
                          <a:pt x="41" y="14"/>
                        </a:lnTo>
                        <a:lnTo>
                          <a:pt x="25" y="12"/>
                        </a:lnTo>
                        <a:lnTo>
                          <a:pt x="11" y="12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6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flipH="1">
                    <a:off x="950400" y="5313600"/>
                    <a:ext cx="968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66">
                        <a:moveTo>
                          <a:pt x="7" y="9"/>
                        </a:moveTo>
                        <a:lnTo>
                          <a:pt x="26" y="6"/>
                        </a:lnTo>
                        <a:lnTo>
                          <a:pt x="41" y="3"/>
                        </a:lnTo>
                        <a:lnTo>
                          <a:pt x="52" y="1"/>
                        </a:lnTo>
                        <a:lnTo>
                          <a:pt x="63" y="1"/>
                        </a:lnTo>
                        <a:lnTo>
                          <a:pt x="71" y="0"/>
                        </a:lnTo>
                        <a:lnTo>
                          <a:pt x="82" y="0"/>
                        </a:lnTo>
                        <a:lnTo>
                          <a:pt x="95" y="0"/>
                        </a:lnTo>
                        <a:lnTo>
                          <a:pt x="114" y="3"/>
                        </a:lnTo>
                        <a:lnTo>
                          <a:pt x="120" y="4"/>
                        </a:lnTo>
                        <a:lnTo>
                          <a:pt x="123" y="7"/>
                        </a:lnTo>
                        <a:lnTo>
                          <a:pt x="123" y="11"/>
                        </a:lnTo>
                        <a:lnTo>
                          <a:pt x="122" y="18"/>
                        </a:lnTo>
                        <a:lnTo>
                          <a:pt x="114" y="25"/>
                        </a:lnTo>
                        <a:lnTo>
                          <a:pt x="107" y="34"/>
                        </a:lnTo>
                        <a:lnTo>
                          <a:pt x="97" y="40"/>
                        </a:lnTo>
                        <a:lnTo>
                          <a:pt x="87" y="48"/>
                        </a:lnTo>
                        <a:lnTo>
                          <a:pt x="75" y="53"/>
                        </a:lnTo>
                        <a:lnTo>
                          <a:pt x="63" y="59"/>
                        </a:lnTo>
                        <a:lnTo>
                          <a:pt x="47" y="62"/>
                        </a:lnTo>
                        <a:lnTo>
                          <a:pt x="31" y="66"/>
                        </a:lnTo>
                        <a:lnTo>
                          <a:pt x="26" y="64"/>
                        </a:lnTo>
                        <a:lnTo>
                          <a:pt x="24" y="61"/>
                        </a:lnTo>
                        <a:lnTo>
                          <a:pt x="24" y="55"/>
                        </a:lnTo>
                        <a:lnTo>
                          <a:pt x="29" y="54"/>
                        </a:lnTo>
                        <a:lnTo>
                          <a:pt x="43" y="50"/>
                        </a:lnTo>
                        <a:lnTo>
                          <a:pt x="56" y="47"/>
                        </a:lnTo>
                        <a:lnTo>
                          <a:pt x="67" y="42"/>
                        </a:lnTo>
                        <a:lnTo>
                          <a:pt x="78" y="36"/>
                        </a:lnTo>
                        <a:lnTo>
                          <a:pt x="85" y="29"/>
                        </a:lnTo>
                        <a:lnTo>
                          <a:pt x="93" y="22"/>
                        </a:lnTo>
                        <a:lnTo>
                          <a:pt x="99" y="15"/>
                        </a:lnTo>
                        <a:lnTo>
                          <a:pt x="106" y="7"/>
                        </a:lnTo>
                        <a:lnTo>
                          <a:pt x="110" y="6"/>
                        </a:lnTo>
                        <a:lnTo>
                          <a:pt x="114" y="11"/>
                        </a:lnTo>
                        <a:lnTo>
                          <a:pt x="115" y="18"/>
                        </a:lnTo>
                        <a:lnTo>
                          <a:pt x="112" y="22"/>
                        </a:lnTo>
                        <a:lnTo>
                          <a:pt x="94" y="19"/>
                        </a:lnTo>
                        <a:lnTo>
                          <a:pt x="81" y="18"/>
                        </a:lnTo>
                        <a:lnTo>
                          <a:pt x="70" y="17"/>
                        </a:lnTo>
                        <a:lnTo>
                          <a:pt x="63" y="17"/>
                        </a:lnTo>
                        <a:lnTo>
                          <a:pt x="53" y="17"/>
                        </a:lnTo>
                        <a:lnTo>
                          <a:pt x="42" y="18"/>
                        </a:lnTo>
                        <a:lnTo>
                          <a:pt x="28" y="20"/>
                        </a:lnTo>
                        <a:lnTo>
                          <a:pt x="9" y="23"/>
                        </a:lnTo>
                        <a:lnTo>
                          <a:pt x="2" y="21"/>
                        </a:lnTo>
                        <a:lnTo>
                          <a:pt x="0" y="17"/>
                        </a:lnTo>
                        <a:lnTo>
                          <a:pt x="1" y="11"/>
                        </a:lnTo>
                        <a:lnTo>
                          <a:pt x="7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>
                    <a:off x="1030320" y="5345280"/>
                    <a:ext cx="727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58">
                        <a:moveTo>
                          <a:pt x="21" y="1"/>
                        </a:moveTo>
                        <a:lnTo>
                          <a:pt x="41" y="0"/>
                        </a:lnTo>
                        <a:lnTo>
                          <a:pt x="58" y="0"/>
                        </a:lnTo>
                        <a:lnTo>
                          <a:pt x="72" y="0"/>
                        </a:lnTo>
                        <a:lnTo>
                          <a:pt x="83" y="5"/>
                        </a:lnTo>
                        <a:lnTo>
                          <a:pt x="90" y="9"/>
                        </a:lnTo>
                        <a:lnTo>
                          <a:pt x="93" y="18"/>
                        </a:lnTo>
                        <a:lnTo>
                          <a:pt x="93" y="30"/>
                        </a:lnTo>
                        <a:lnTo>
                          <a:pt x="91" y="50"/>
                        </a:lnTo>
                        <a:lnTo>
                          <a:pt x="87" y="54"/>
                        </a:lnTo>
                        <a:lnTo>
                          <a:pt x="83" y="56"/>
                        </a:lnTo>
                        <a:lnTo>
                          <a:pt x="64" y="57"/>
                        </a:lnTo>
                        <a:lnTo>
                          <a:pt x="51" y="58"/>
                        </a:lnTo>
                        <a:lnTo>
                          <a:pt x="41" y="58"/>
                        </a:lnTo>
                        <a:lnTo>
                          <a:pt x="36" y="58"/>
                        </a:lnTo>
                        <a:lnTo>
                          <a:pt x="29" y="56"/>
                        </a:lnTo>
                        <a:lnTo>
                          <a:pt x="23" y="54"/>
                        </a:lnTo>
                        <a:lnTo>
                          <a:pt x="15" y="50"/>
                        </a:lnTo>
                        <a:lnTo>
                          <a:pt x="5" y="45"/>
                        </a:lnTo>
                        <a:lnTo>
                          <a:pt x="0" y="40"/>
                        </a:lnTo>
                        <a:lnTo>
                          <a:pt x="1" y="36"/>
                        </a:lnTo>
                        <a:lnTo>
                          <a:pt x="3" y="33"/>
                        </a:lnTo>
                        <a:lnTo>
                          <a:pt x="10" y="34"/>
                        </a:lnTo>
                        <a:lnTo>
                          <a:pt x="20" y="37"/>
                        </a:lnTo>
                        <a:lnTo>
                          <a:pt x="27" y="41"/>
                        </a:lnTo>
                        <a:lnTo>
                          <a:pt x="33" y="42"/>
                        </a:lnTo>
                        <a:lnTo>
                          <a:pt x="38" y="43"/>
                        </a:lnTo>
                        <a:lnTo>
                          <a:pt x="43" y="42"/>
                        </a:lnTo>
                        <a:lnTo>
                          <a:pt x="52" y="41"/>
                        </a:lnTo>
                        <a:lnTo>
                          <a:pt x="64" y="40"/>
                        </a:lnTo>
                        <a:lnTo>
                          <a:pt x="81" y="39"/>
                        </a:lnTo>
                        <a:lnTo>
                          <a:pt x="81" y="40"/>
                        </a:lnTo>
                        <a:lnTo>
                          <a:pt x="78" y="43"/>
                        </a:lnTo>
                        <a:lnTo>
                          <a:pt x="73" y="45"/>
                        </a:lnTo>
                        <a:lnTo>
                          <a:pt x="73" y="47"/>
                        </a:lnTo>
                        <a:lnTo>
                          <a:pt x="74" y="33"/>
                        </a:lnTo>
                        <a:lnTo>
                          <a:pt x="74" y="24"/>
                        </a:lnTo>
                        <a:lnTo>
                          <a:pt x="71" y="18"/>
                        </a:lnTo>
                        <a:lnTo>
                          <a:pt x="67" y="14"/>
                        </a:lnTo>
                        <a:lnTo>
                          <a:pt x="58" y="13"/>
                        </a:lnTo>
                        <a:lnTo>
                          <a:pt x="49" y="13"/>
                        </a:lnTo>
                        <a:lnTo>
                          <a:pt x="36" y="13"/>
                        </a:lnTo>
                        <a:lnTo>
                          <a:pt x="21" y="14"/>
                        </a:lnTo>
                        <a:lnTo>
                          <a:pt x="15" y="12"/>
                        </a:lnTo>
                        <a:lnTo>
                          <a:pt x="14" y="8"/>
                        </a:lnTo>
                        <a:lnTo>
                          <a:pt x="15" y="3"/>
                        </a:lnTo>
                        <a:lnTo>
                          <a:pt x="2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flipH="1">
                    <a:off x="1045800" y="5415120"/>
                    <a:ext cx="889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8">
                        <a:moveTo>
                          <a:pt x="31" y="6"/>
                        </a:moveTo>
                        <a:lnTo>
                          <a:pt x="49" y="3"/>
                        </a:lnTo>
                        <a:lnTo>
                          <a:pt x="65" y="2"/>
                        </a:lnTo>
                        <a:lnTo>
                          <a:pt x="78" y="0"/>
                        </a:lnTo>
                        <a:lnTo>
                          <a:pt x="89" y="3"/>
                        </a:lnTo>
                        <a:lnTo>
                          <a:pt x="95" y="5"/>
                        </a:lnTo>
                        <a:lnTo>
                          <a:pt x="103" y="12"/>
                        </a:lnTo>
                        <a:lnTo>
                          <a:pt x="107" y="22"/>
                        </a:lnTo>
                        <a:lnTo>
                          <a:pt x="111" y="38"/>
                        </a:lnTo>
                        <a:lnTo>
                          <a:pt x="110" y="42"/>
                        </a:lnTo>
                        <a:lnTo>
                          <a:pt x="107" y="47"/>
                        </a:lnTo>
                        <a:lnTo>
                          <a:pt x="98" y="50"/>
                        </a:lnTo>
                        <a:lnTo>
                          <a:pt x="91" y="54"/>
                        </a:lnTo>
                        <a:lnTo>
                          <a:pt x="82" y="57"/>
                        </a:lnTo>
                        <a:lnTo>
                          <a:pt x="74" y="61"/>
                        </a:lnTo>
                        <a:lnTo>
                          <a:pt x="63" y="63"/>
                        </a:lnTo>
                        <a:lnTo>
                          <a:pt x="52" y="66"/>
                        </a:lnTo>
                        <a:lnTo>
                          <a:pt x="40" y="67"/>
                        </a:lnTo>
                        <a:lnTo>
                          <a:pt x="29" y="68"/>
                        </a:lnTo>
                        <a:lnTo>
                          <a:pt x="1" y="34"/>
                        </a:lnTo>
                        <a:lnTo>
                          <a:pt x="0" y="28"/>
                        </a:lnTo>
                        <a:lnTo>
                          <a:pt x="2" y="25"/>
                        </a:lnTo>
                        <a:lnTo>
                          <a:pt x="5" y="23"/>
                        </a:lnTo>
                        <a:lnTo>
                          <a:pt x="10" y="26"/>
                        </a:lnTo>
                        <a:lnTo>
                          <a:pt x="35" y="54"/>
                        </a:lnTo>
                        <a:lnTo>
                          <a:pt x="45" y="53"/>
                        </a:lnTo>
                        <a:lnTo>
                          <a:pt x="54" y="51"/>
                        </a:lnTo>
                        <a:lnTo>
                          <a:pt x="63" y="48"/>
                        </a:lnTo>
                        <a:lnTo>
                          <a:pt x="72" y="46"/>
                        </a:lnTo>
                        <a:lnTo>
                          <a:pt x="78" y="41"/>
                        </a:lnTo>
                        <a:lnTo>
                          <a:pt x="84" y="38"/>
                        </a:lnTo>
                        <a:lnTo>
                          <a:pt x="91" y="35"/>
                        </a:lnTo>
                        <a:lnTo>
                          <a:pt x="98" y="32"/>
                        </a:lnTo>
                        <a:lnTo>
                          <a:pt x="98" y="33"/>
                        </a:lnTo>
                        <a:lnTo>
                          <a:pt x="97" y="37"/>
                        </a:lnTo>
                        <a:lnTo>
                          <a:pt x="94" y="40"/>
                        </a:lnTo>
                        <a:lnTo>
                          <a:pt x="94" y="41"/>
                        </a:lnTo>
                        <a:lnTo>
                          <a:pt x="90" y="29"/>
                        </a:lnTo>
                        <a:lnTo>
                          <a:pt x="87" y="22"/>
                        </a:lnTo>
                        <a:lnTo>
                          <a:pt x="81" y="18"/>
                        </a:lnTo>
                        <a:lnTo>
                          <a:pt x="76" y="16"/>
                        </a:lnTo>
                        <a:lnTo>
                          <a:pt x="67" y="14"/>
                        </a:lnTo>
                        <a:lnTo>
                          <a:pt x="59" y="16"/>
                        </a:lnTo>
                        <a:lnTo>
                          <a:pt x="46" y="18"/>
                        </a:lnTo>
                        <a:lnTo>
                          <a:pt x="32" y="20"/>
                        </a:lnTo>
                        <a:lnTo>
                          <a:pt x="26" y="18"/>
                        </a:lnTo>
                        <a:lnTo>
                          <a:pt x="24" y="13"/>
                        </a:lnTo>
                        <a:lnTo>
                          <a:pt x="24" y="8"/>
                        </a:lnTo>
                        <a:lnTo>
                          <a:pt x="31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flipH="1">
                    <a:off x="921960" y="5451840"/>
                    <a:ext cx="7596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7">
                        <a:moveTo>
                          <a:pt x="8" y="12"/>
                        </a:moveTo>
                        <a:lnTo>
                          <a:pt x="20" y="5"/>
                        </a:lnTo>
                        <a:lnTo>
                          <a:pt x="31" y="2"/>
                        </a:lnTo>
                        <a:lnTo>
                          <a:pt x="39" y="0"/>
                        </a:lnTo>
                        <a:lnTo>
                          <a:pt x="48" y="1"/>
                        </a:lnTo>
                        <a:lnTo>
                          <a:pt x="55" y="3"/>
                        </a:lnTo>
                        <a:lnTo>
                          <a:pt x="65" y="6"/>
                        </a:lnTo>
                        <a:lnTo>
                          <a:pt x="76" y="12"/>
                        </a:lnTo>
                        <a:lnTo>
                          <a:pt x="90" y="18"/>
                        </a:lnTo>
                        <a:lnTo>
                          <a:pt x="96" y="23"/>
                        </a:lnTo>
                        <a:lnTo>
                          <a:pt x="93" y="33"/>
                        </a:lnTo>
                        <a:lnTo>
                          <a:pt x="72" y="57"/>
                        </a:lnTo>
                        <a:lnTo>
                          <a:pt x="59" y="56"/>
                        </a:lnTo>
                        <a:lnTo>
                          <a:pt x="49" y="56"/>
                        </a:lnTo>
                        <a:lnTo>
                          <a:pt x="41" y="55"/>
                        </a:lnTo>
                        <a:lnTo>
                          <a:pt x="35" y="55"/>
                        </a:lnTo>
                        <a:lnTo>
                          <a:pt x="29" y="53"/>
                        </a:lnTo>
                        <a:lnTo>
                          <a:pt x="22" y="52"/>
                        </a:lnTo>
                        <a:lnTo>
                          <a:pt x="15" y="51"/>
                        </a:lnTo>
                        <a:lnTo>
                          <a:pt x="6" y="50"/>
                        </a:lnTo>
                        <a:lnTo>
                          <a:pt x="1" y="47"/>
                        </a:lnTo>
                        <a:lnTo>
                          <a:pt x="0" y="43"/>
                        </a:lnTo>
                        <a:lnTo>
                          <a:pt x="2" y="38"/>
                        </a:lnTo>
                        <a:lnTo>
                          <a:pt x="7" y="38"/>
                        </a:lnTo>
                        <a:lnTo>
                          <a:pt x="16" y="38"/>
                        </a:lnTo>
                        <a:lnTo>
                          <a:pt x="22" y="38"/>
                        </a:lnTo>
                        <a:lnTo>
                          <a:pt x="26" y="38"/>
                        </a:lnTo>
                        <a:lnTo>
                          <a:pt x="32" y="40"/>
                        </a:lnTo>
                        <a:lnTo>
                          <a:pt x="36" y="40"/>
                        </a:lnTo>
                        <a:lnTo>
                          <a:pt x="43" y="40"/>
                        </a:lnTo>
                        <a:lnTo>
                          <a:pt x="51" y="40"/>
                        </a:lnTo>
                        <a:lnTo>
                          <a:pt x="64" y="40"/>
                        </a:lnTo>
                        <a:lnTo>
                          <a:pt x="79" y="21"/>
                        </a:lnTo>
                        <a:lnTo>
                          <a:pt x="81" y="20"/>
                        </a:lnTo>
                        <a:lnTo>
                          <a:pt x="84" y="27"/>
                        </a:lnTo>
                        <a:lnTo>
                          <a:pt x="84" y="32"/>
                        </a:lnTo>
                        <a:lnTo>
                          <a:pt x="82" y="35"/>
                        </a:lnTo>
                        <a:lnTo>
                          <a:pt x="71" y="29"/>
                        </a:lnTo>
                        <a:lnTo>
                          <a:pt x="61" y="24"/>
                        </a:lnTo>
                        <a:lnTo>
                          <a:pt x="53" y="19"/>
                        </a:lnTo>
                        <a:lnTo>
                          <a:pt x="47" y="17"/>
                        </a:lnTo>
                        <a:lnTo>
                          <a:pt x="39" y="15"/>
                        </a:lnTo>
                        <a:lnTo>
                          <a:pt x="33" y="15"/>
                        </a:lnTo>
                        <a:lnTo>
                          <a:pt x="23" y="17"/>
                        </a:lnTo>
                        <a:lnTo>
                          <a:pt x="14" y="23"/>
                        </a:lnTo>
                        <a:lnTo>
                          <a:pt x="7" y="22"/>
                        </a:lnTo>
                        <a:lnTo>
                          <a:pt x="5" y="20"/>
                        </a:lnTo>
                        <a:lnTo>
                          <a:pt x="4" y="15"/>
                        </a:lnTo>
                        <a:lnTo>
                          <a:pt x="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H="1">
                    <a:off x="944280" y="5488200"/>
                    <a:ext cx="1209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65">
                        <a:moveTo>
                          <a:pt x="73" y="6"/>
                        </a:moveTo>
                        <a:lnTo>
                          <a:pt x="81" y="4"/>
                        </a:lnTo>
                        <a:lnTo>
                          <a:pt x="90" y="3"/>
                        </a:lnTo>
                        <a:lnTo>
                          <a:pt x="99" y="2"/>
                        </a:lnTo>
                        <a:lnTo>
                          <a:pt x="107" y="1"/>
                        </a:lnTo>
                        <a:lnTo>
                          <a:pt x="115" y="0"/>
                        </a:lnTo>
                        <a:lnTo>
                          <a:pt x="123" y="0"/>
                        </a:lnTo>
                        <a:lnTo>
                          <a:pt x="132" y="0"/>
                        </a:lnTo>
                        <a:lnTo>
                          <a:pt x="143" y="0"/>
                        </a:lnTo>
                        <a:lnTo>
                          <a:pt x="149" y="1"/>
                        </a:lnTo>
                        <a:lnTo>
                          <a:pt x="151" y="7"/>
                        </a:lnTo>
                        <a:lnTo>
                          <a:pt x="149" y="27"/>
                        </a:lnTo>
                        <a:lnTo>
                          <a:pt x="145" y="42"/>
                        </a:lnTo>
                        <a:lnTo>
                          <a:pt x="137" y="51"/>
                        </a:lnTo>
                        <a:lnTo>
                          <a:pt x="128" y="58"/>
                        </a:lnTo>
                        <a:lnTo>
                          <a:pt x="114" y="61"/>
                        </a:lnTo>
                        <a:lnTo>
                          <a:pt x="99" y="63"/>
                        </a:lnTo>
                        <a:lnTo>
                          <a:pt x="81" y="63"/>
                        </a:lnTo>
                        <a:lnTo>
                          <a:pt x="62" y="65"/>
                        </a:lnTo>
                        <a:lnTo>
                          <a:pt x="53" y="62"/>
                        </a:lnTo>
                        <a:lnTo>
                          <a:pt x="47" y="59"/>
                        </a:lnTo>
                        <a:lnTo>
                          <a:pt x="39" y="56"/>
                        </a:lnTo>
                        <a:lnTo>
                          <a:pt x="33" y="53"/>
                        </a:lnTo>
                        <a:lnTo>
                          <a:pt x="25" y="49"/>
                        </a:lnTo>
                        <a:lnTo>
                          <a:pt x="18" y="46"/>
                        </a:lnTo>
                        <a:lnTo>
                          <a:pt x="10" y="44"/>
                        </a:lnTo>
                        <a:lnTo>
                          <a:pt x="4" y="42"/>
                        </a:lnTo>
                        <a:lnTo>
                          <a:pt x="0" y="36"/>
                        </a:lnTo>
                        <a:lnTo>
                          <a:pt x="0" y="32"/>
                        </a:lnTo>
                        <a:lnTo>
                          <a:pt x="3" y="28"/>
                        </a:lnTo>
                        <a:lnTo>
                          <a:pt x="9" y="28"/>
                        </a:lnTo>
                        <a:lnTo>
                          <a:pt x="16" y="29"/>
                        </a:lnTo>
                        <a:lnTo>
                          <a:pt x="23" y="32"/>
                        </a:lnTo>
                        <a:lnTo>
                          <a:pt x="30" y="33"/>
                        </a:lnTo>
                        <a:lnTo>
                          <a:pt x="37" y="36"/>
                        </a:lnTo>
                        <a:lnTo>
                          <a:pt x="44" y="39"/>
                        </a:lnTo>
                        <a:lnTo>
                          <a:pt x="50" y="42"/>
                        </a:lnTo>
                        <a:lnTo>
                          <a:pt x="57" y="45"/>
                        </a:lnTo>
                        <a:lnTo>
                          <a:pt x="65" y="48"/>
                        </a:lnTo>
                        <a:lnTo>
                          <a:pt x="80" y="47"/>
                        </a:lnTo>
                        <a:lnTo>
                          <a:pt x="93" y="46"/>
                        </a:lnTo>
                        <a:lnTo>
                          <a:pt x="105" y="45"/>
                        </a:lnTo>
                        <a:lnTo>
                          <a:pt x="116" y="45"/>
                        </a:lnTo>
                        <a:lnTo>
                          <a:pt x="123" y="41"/>
                        </a:lnTo>
                        <a:lnTo>
                          <a:pt x="130" y="34"/>
                        </a:lnTo>
                        <a:lnTo>
                          <a:pt x="133" y="22"/>
                        </a:lnTo>
                        <a:lnTo>
                          <a:pt x="135" y="7"/>
                        </a:lnTo>
                        <a:lnTo>
                          <a:pt x="136" y="5"/>
                        </a:lnTo>
                        <a:lnTo>
                          <a:pt x="141" y="10"/>
                        </a:lnTo>
                        <a:lnTo>
                          <a:pt x="144" y="13"/>
                        </a:lnTo>
                        <a:lnTo>
                          <a:pt x="143" y="16"/>
                        </a:lnTo>
                        <a:lnTo>
                          <a:pt x="133" y="16"/>
                        </a:lnTo>
                        <a:lnTo>
                          <a:pt x="124" y="16"/>
                        </a:lnTo>
                        <a:lnTo>
                          <a:pt x="116" y="16"/>
                        </a:lnTo>
                        <a:lnTo>
                          <a:pt x="108" y="16"/>
                        </a:lnTo>
                        <a:lnTo>
                          <a:pt x="100" y="16"/>
                        </a:lnTo>
                        <a:lnTo>
                          <a:pt x="91" y="16"/>
                        </a:lnTo>
                        <a:lnTo>
                          <a:pt x="82" y="17"/>
                        </a:lnTo>
                        <a:lnTo>
                          <a:pt x="74" y="19"/>
                        </a:lnTo>
                        <a:lnTo>
                          <a:pt x="68" y="17"/>
                        </a:lnTo>
                        <a:lnTo>
                          <a:pt x="66" y="13"/>
                        </a:lnTo>
                        <a:lnTo>
                          <a:pt x="67" y="7"/>
                        </a:lnTo>
                        <a:lnTo>
                          <a:pt x="73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H="1">
                    <a:off x="858600" y="5516640"/>
                    <a:ext cx="85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75">
                        <a:moveTo>
                          <a:pt x="15" y="23"/>
                        </a:moveTo>
                        <a:lnTo>
                          <a:pt x="23" y="17"/>
                        </a:lnTo>
                        <a:lnTo>
                          <a:pt x="30" y="11"/>
                        </a:lnTo>
                        <a:lnTo>
                          <a:pt x="37" y="5"/>
                        </a:lnTo>
                        <a:lnTo>
                          <a:pt x="48" y="3"/>
                        </a:lnTo>
                        <a:lnTo>
                          <a:pt x="65" y="0"/>
                        </a:lnTo>
                        <a:lnTo>
                          <a:pt x="81" y="5"/>
                        </a:lnTo>
                        <a:lnTo>
                          <a:pt x="94" y="11"/>
                        </a:lnTo>
                        <a:lnTo>
                          <a:pt x="104" y="22"/>
                        </a:lnTo>
                        <a:lnTo>
                          <a:pt x="108" y="34"/>
                        </a:lnTo>
                        <a:lnTo>
                          <a:pt x="109" y="46"/>
                        </a:lnTo>
                        <a:lnTo>
                          <a:pt x="104" y="57"/>
                        </a:lnTo>
                        <a:lnTo>
                          <a:pt x="94" y="68"/>
                        </a:lnTo>
                        <a:lnTo>
                          <a:pt x="85" y="70"/>
                        </a:lnTo>
                        <a:lnTo>
                          <a:pt x="76" y="72"/>
                        </a:lnTo>
                        <a:lnTo>
                          <a:pt x="64" y="73"/>
                        </a:lnTo>
                        <a:lnTo>
                          <a:pt x="52" y="75"/>
                        </a:lnTo>
                        <a:lnTo>
                          <a:pt x="39" y="75"/>
                        </a:lnTo>
                        <a:lnTo>
                          <a:pt x="27" y="75"/>
                        </a:lnTo>
                        <a:lnTo>
                          <a:pt x="16" y="75"/>
                        </a:lnTo>
                        <a:lnTo>
                          <a:pt x="9" y="75"/>
                        </a:lnTo>
                        <a:lnTo>
                          <a:pt x="1" y="70"/>
                        </a:lnTo>
                        <a:lnTo>
                          <a:pt x="0" y="64"/>
                        </a:lnTo>
                        <a:lnTo>
                          <a:pt x="2" y="56"/>
                        </a:lnTo>
                        <a:lnTo>
                          <a:pt x="11" y="55"/>
                        </a:lnTo>
                        <a:lnTo>
                          <a:pt x="16" y="55"/>
                        </a:lnTo>
                        <a:lnTo>
                          <a:pt x="26" y="55"/>
                        </a:lnTo>
                        <a:lnTo>
                          <a:pt x="36" y="55"/>
                        </a:lnTo>
                        <a:lnTo>
                          <a:pt x="48" y="56"/>
                        </a:lnTo>
                        <a:lnTo>
                          <a:pt x="57" y="55"/>
                        </a:lnTo>
                        <a:lnTo>
                          <a:pt x="68" y="55"/>
                        </a:lnTo>
                        <a:lnTo>
                          <a:pt x="77" y="53"/>
                        </a:lnTo>
                        <a:lnTo>
                          <a:pt x="84" y="52"/>
                        </a:lnTo>
                        <a:lnTo>
                          <a:pt x="90" y="46"/>
                        </a:lnTo>
                        <a:lnTo>
                          <a:pt x="92" y="40"/>
                        </a:lnTo>
                        <a:lnTo>
                          <a:pt x="90" y="34"/>
                        </a:lnTo>
                        <a:lnTo>
                          <a:pt x="86" y="29"/>
                        </a:lnTo>
                        <a:lnTo>
                          <a:pt x="79" y="23"/>
                        </a:lnTo>
                        <a:lnTo>
                          <a:pt x="70" y="21"/>
                        </a:lnTo>
                        <a:lnTo>
                          <a:pt x="61" y="19"/>
                        </a:lnTo>
                        <a:lnTo>
                          <a:pt x="51" y="20"/>
                        </a:lnTo>
                        <a:lnTo>
                          <a:pt x="42" y="22"/>
                        </a:lnTo>
                        <a:lnTo>
                          <a:pt x="36" y="26"/>
                        </a:lnTo>
                        <a:lnTo>
                          <a:pt x="29" y="31"/>
                        </a:lnTo>
                        <a:lnTo>
                          <a:pt x="23" y="36"/>
                        </a:lnTo>
                        <a:lnTo>
                          <a:pt x="16" y="36"/>
                        </a:lnTo>
                        <a:lnTo>
                          <a:pt x="12" y="33"/>
                        </a:lnTo>
                        <a:lnTo>
                          <a:pt x="11" y="27"/>
                        </a:lnTo>
                        <a:lnTo>
                          <a:pt x="15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flipH="1">
                    <a:off x="752040" y="5597640"/>
                    <a:ext cx="1047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64">
                        <a:moveTo>
                          <a:pt x="57" y="2"/>
                        </a:moveTo>
                        <a:lnTo>
                          <a:pt x="65" y="0"/>
                        </a:lnTo>
                        <a:lnTo>
                          <a:pt x="80" y="3"/>
                        </a:lnTo>
                        <a:lnTo>
                          <a:pt x="95" y="6"/>
                        </a:lnTo>
                        <a:lnTo>
                          <a:pt x="112" y="11"/>
                        </a:lnTo>
                        <a:lnTo>
                          <a:pt x="124" y="18"/>
                        </a:lnTo>
                        <a:lnTo>
                          <a:pt x="132" y="27"/>
                        </a:lnTo>
                        <a:lnTo>
                          <a:pt x="131" y="37"/>
                        </a:lnTo>
                        <a:lnTo>
                          <a:pt x="121" y="50"/>
                        </a:lnTo>
                        <a:lnTo>
                          <a:pt x="104" y="57"/>
                        </a:lnTo>
                        <a:lnTo>
                          <a:pt x="91" y="62"/>
                        </a:lnTo>
                        <a:lnTo>
                          <a:pt x="79" y="64"/>
                        </a:lnTo>
                        <a:lnTo>
                          <a:pt x="66" y="64"/>
                        </a:lnTo>
                        <a:lnTo>
                          <a:pt x="52" y="61"/>
                        </a:lnTo>
                        <a:lnTo>
                          <a:pt x="38" y="57"/>
                        </a:lnTo>
                        <a:lnTo>
                          <a:pt x="23" y="54"/>
                        </a:lnTo>
                        <a:lnTo>
                          <a:pt x="8" y="51"/>
                        </a:lnTo>
                        <a:lnTo>
                          <a:pt x="0" y="47"/>
                        </a:lnTo>
                        <a:lnTo>
                          <a:pt x="0" y="40"/>
                        </a:lnTo>
                        <a:lnTo>
                          <a:pt x="3" y="34"/>
                        </a:lnTo>
                        <a:lnTo>
                          <a:pt x="11" y="34"/>
                        </a:lnTo>
                        <a:lnTo>
                          <a:pt x="24" y="36"/>
                        </a:lnTo>
                        <a:lnTo>
                          <a:pt x="38" y="39"/>
                        </a:lnTo>
                        <a:lnTo>
                          <a:pt x="50" y="42"/>
                        </a:lnTo>
                        <a:lnTo>
                          <a:pt x="61" y="46"/>
                        </a:lnTo>
                        <a:lnTo>
                          <a:pt x="72" y="46"/>
                        </a:lnTo>
                        <a:lnTo>
                          <a:pt x="85" y="46"/>
                        </a:lnTo>
                        <a:lnTo>
                          <a:pt x="97" y="41"/>
                        </a:lnTo>
                        <a:lnTo>
                          <a:pt x="110" y="35"/>
                        </a:lnTo>
                        <a:lnTo>
                          <a:pt x="116" y="26"/>
                        </a:lnTo>
                        <a:lnTo>
                          <a:pt x="116" y="21"/>
                        </a:lnTo>
                        <a:lnTo>
                          <a:pt x="110" y="17"/>
                        </a:lnTo>
                        <a:lnTo>
                          <a:pt x="100" y="14"/>
                        </a:lnTo>
                        <a:lnTo>
                          <a:pt x="87" y="12"/>
                        </a:lnTo>
                        <a:lnTo>
                          <a:pt x="74" y="12"/>
                        </a:lnTo>
                        <a:lnTo>
                          <a:pt x="64" y="13"/>
                        </a:lnTo>
                        <a:lnTo>
                          <a:pt x="58" y="14"/>
                        </a:lnTo>
                        <a:lnTo>
                          <a:pt x="53" y="12"/>
                        </a:lnTo>
                        <a:lnTo>
                          <a:pt x="51" y="8"/>
                        </a:lnTo>
                        <a:lnTo>
                          <a:pt x="52" y="3"/>
                        </a:lnTo>
                        <a:lnTo>
                          <a:pt x="5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H="1">
                    <a:off x="1181160" y="5580360"/>
                    <a:ext cx="85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4">
                        <a:moveTo>
                          <a:pt x="46" y="18"/>
                        </a:moveTo>
                        <a:lnTo>
                          <a:pt x="36" y="25"/>
                        </a:lnTo>
                        <a:lnTo>
                          <a:pt x="30" y="31"/>
                        </a:lnTo>
                        <a:lnTo>
                          <a:pt x="25" y="36"/>
                        </a:lnTo>
                        <a:lnTo>
                          <a:pt x="22" y="42"/>
                        </a:lnTo>
                        <a:lnTo>
                          <a:pt x="21" y="46"/>
                        </a:lnTo>
                        <a:lnTo>
                          <a:pt x="25" y="52"/>
                        </a:lnTo>
                        <a:lnTo>
                          <a:pt x="31" y="56"/>
                        </a:lnTo>
                        <a:lnTo>
                          <a:pt x="41" y="62"/>
                        </a:lnTo>
                        <a:lnTo>
                          <a:pt x="93" y="44"/>
                        </a:lnTo>
                        <a:lnTo>
                          <a:pt x="102" y="44"/>
                        </a:lnTo>
                        <a:lnTo>
                          <a:pt x="107" y="52"/>
                        </a:lnTo>
                        <a:lnTo>
                          <a:pt x="107" y="59"/>
                        </a:lnTo>
                        <a:lnTo>
                          <a:pt x="101" y="65"/>
                        </a:lnTo>
                        <a:lnTo>
                          <a:pt x="40" y="84"/>
                        </a:lnTo>
                        <a:lnTo>
                          <a:pt x="21" y="74"/>
                        </a:lnTo>
                        <a:lnTo>
                          <a:pt x="10" y="65"/>
                        </a:lnTo>
                        <a:lnTo>
                          <a:pt x="2" y="56"/>
                        </a:lnTo>
                        <a:lnTo>
                          <a:pt x="0" y="47"/>
                        </a:lnTo>
                        <a:lnTo>
                          <a:pt x="1" y="36"/>
                        </a:lnTo>
                        <a:lnTo>
                          <a:pt x="7" y="27"/>
                        </a:lnTo>
                        <a:lnTo>
                          <a:pt x="18" y="15"/>
                        </a:lnTo>
                        <a:lnTo>
                          <a:pt x="34" y="3"/>
                        </a:lnTo>
                        <a:lnTo>
                          <a:pt x="41" y="0"/>
                        </a:lnTo>
                        <a:lnTo>
                          <a:pt x="47" y="4"/>
                        </a:lnTo>
                        <a:lnTo>
                          <a:pt x="49" y="11"/>
                        </a:lnTo>
                        <a:lnTo>
                          <a:pt x="4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 flipH="1" flipV="1">
                    <a:off x="1201680" y="5298840"/>
                    <a:ext cx="1440" cy="198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flipH="1" flipV="1">
                    <a:off x="1116000" y="5446800"/>
                    <a:ext cx="6336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H="1">
                    <a:off x="1031760" y="5532480"/>
                    <a:ext cx="1364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H="1">
                    <a:off x="1116000" y="5558040"/>
                    <a:ext cx="6336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H="1">
                    <a:off x="1201680" y="5567400"/>
                    <a:ext cx="1440" cy="168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1228680" y="555804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1238400" y="5532480"/>
                    <a:ext cx="1335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 flipV="1">
                    <a:off x="1228680" y="544680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 flipV="1">
                    <a:off x="1608120" y="5033880"/>
                    <a:ext cx="1440" cy="199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 flipH="1" flipV="1">
                    <a:off x="1522440" y="518184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flipH="1">
                    <a:off x="1438200" y="5267520"/>
                    <a:ext cx="1364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H="1">
                    <a:off x="1522440" y="529308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H="1">
                    <a:off x="1608120" y="5302440"/>
                    <a:ext cx="1440" cy="168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1633320" y="529308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644840" y="5267520"/>
                    <a:ext cx="1335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V="1">
                    <a:off x="1633320" y="518184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 flipV="1">
                    <a:off x="291960" y="5292720"/>
                    <a:ext cx="1440" cy="199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 flipV="1">
                    <a:off x="206280" y="5440680"/>
                    <a:ext cx="61920" cy="63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 flipH="1">
                    <a:off x="120600" y="5527800"/>
                    <a:ext cx="1364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H="1">
                    <a:off x="206280" y="5553360"/>
                    <a:ext cx="61920" cy="60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flipH="1">
                    <a:off x="291960" y="5562720"/>
                    <a:ext cx="1440" cy="168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17520" y="5553360"/>
                    <a:ext cx="61920" cy="60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28680" y="5527800"/>
                    <a:ext cx="1317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flipV="1">
                    <a:off x="317520" y="5440680"/>
                    <a:ext cx="61920" cy="63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flipH="1" flipV="1">
                    <a:off x="1411200" y="5437080"/>
                    <a:ext cx="1440" cy="198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H="1" flipV="1">
                    <a:off x="1325520" y="558504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 flipH="1">
                    <a:off x="1241280" y="5670720"/>
                    <a:ext cx="1364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 flipH="1">
                    <a:off x="1325520" y="569628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H="1">
                    <a:off x="1411200" y="5705640"/>
                    <a:ext cx="1440" cy="168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1438560" y="5696280"/>
                    <a:ext cx="601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1447920" y="5670720"/>
                    <a:ext cx="1335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 flipV="1">
                    <a:off x="1438560" y="5585040"/>
                    <a:ext cx="601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 flipH="1">
                    <a:off x="632880" y="6450120"/>
                    <a:ext cx="1285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122">
                        <a:moveTo>
                          <a:pt x="123" y="12"/>
                        </a:moveTo>
                        <a:lnTo>
                          <a:pt x="100" y="14"/>
                        </a:lnTo>
                        <a:lnTo>
                          <a:pt x="79" y="19"/>
                        </a:lnTo>
                        <a:lnTo>
                          <a:pt x="61" y="27"/>
                        </a:lnTo>
                        <a:lnTo>
                          <a:pt x="47" y="38"/>
                        </a:lnTo>
                        <a:lnTo>
                          <a:pt x="35" y="51"/>
                        </a:lnTo>
                        <a:lnTo>
                          <a:pt x="27" y="67"/>
                        </a:lnTo>
                        <a:lnTo>
                          <a:pt x="23" y="86"/>
                        </a:lnTo>
                        <a:lnTo>
                          <a:pt x="24" y="110"/>
                        </a:lnTo>
                        <a:lnTo>
                          <a:pt x="21" y="111"/>
                        </a:lnTo>
                        <a:lnTo>
                          <a:pt x="16" y="106"/>
                        </a:lnTo>
                        <a:lnTo>
                          <a:pt x="11" y="101"/>
                        </a:lnTo>
                        <a:lnTo>
                          <a:pt x="12" y="99"/>
                        </a:lnTo>
                        <a:lnTo>
                          <a:pt x="20" y="98"/>
                        </a:lnTo>
                        <a:lnTo>
                          <a:pt x="29" y="98"/>
                        </a:lnTo>
                        <a:lnTo>
                          <a:pt x="35" y="97"/>
                        </a:lnTo>
                        <a:lnTo>
                          <a:pt x="43" y="97"/>
                        </a:lnTo>
                        <a:lnTo>
                          <a:pt x="49" y="96"/>
                        </a:lnTo>
                        <a:lnTo>
                          <a:pt x="57" y="96"/>
                        </a:lnTo>
                        <a:lnTo>
                          <a:pt x="64" y="96"/>
                        </a:lnTo>
                        <a:lnTo>
                          <a:pt x="73" y="96"/>
                        </a:lnTo>
                        <a:lnTo>
                          <a:pt x="84" y="92"/>
                        </a:lnTo>
                        <a:lnTo>
                          <a:pt x="96" y="91"/>
                        </a:lnTo>
                        <a:lnTo>
                          <a:pt x="107" y="89"/>
                        </a:lnTo>
                        <a:lnTo>
                          <a:pt x="118" y="87"/>
                        </a:lnTo>
                        <a:lnTo>
                          <a:pt x="125" y="83"/>
                        </a:lnTo>
                        <a:lnTo>
                          <a:pt x="132" y="76"/>
                        </a:lnTo>
                        <a:lnTo>
                          <a:pt x="135" y="67"/>
                        </a:lnTo>
                        <a:lnTo>
                          <a:pt x="135" y="55"/>
                        </a:lnTo>
                        <a:lnTo>
                          <a:pt x="134" y="48"/>
                        </a:lnTo>
                        <a:lnTo>
                          <a:pt x="136" y="44"/>
                        </a:lnTo>
                        <a:lnTo>
                          <a:pt x="139" y="41"/>
                        </a:lnTo>
                        <a:lnTo>
                          <a:pt x="145" y="40"/>
                        </a:lnTo>
                        <a:lnTo>
                          <a:pt x="149" y="39"/>
                        </a:lnTo>
                        <a:lnTo>
                          <a:pt x="154" y="42"/>
                        </a:lnTo>
                        <a:lnTo>
                          <a:pt x="158" y="45"/>
                        </a:lnTo>
                        <a:lnTo>
                          <a:pt x="161" y="52"/>
                        </a:lnTo>
                        <a:lnTo>
                          <a:pt x="160" y="70"/>
                        </a:lnTo>
                        <a:lnTo>
                          <a:pt x="157" y="85"/>
                        </a:lnTo>
                        <a:lnTo>
                          <a:pt x="149" y="95"/>
                        </a:lnTo>
                        <a:lnTo>
                          <a:pt x="139" y="102"/>
                        </a:lnTo>
                        <a:lnTo>
                          <a:pt x="125" y="106"/>
                        </a:lnTo>
                        <a:lnTo>
                          <a:pt x="110" y="112"/>
                        </a:lnTo>
                        <a:lnTo>
                          <a:pt x="93" y="115"/>
                        </a:lnTo>
                        <a:lnTo>
                          <a:pt x="77" y="120"/>
                        </a:lnTo>
                        <a:lnTo>
                          <a:pt x="67" y="120"/>
                        </a:lnTo>
                        <a:lnTo>
                          <a:pt x="60" y="120"/>
                        </a:lnTo>
                        <a:lnTo>
                          <a:pt x="52" y="120"/>
                        </a:lnTo>
                        <a:lnTo>
                          <a:pt x="45" y="121"/>
                        </a:lnTo>
                        <a:lnTo>
                          <a:pt x="36" y="121"/>
                        </a:lnTo>
                        <a:lnTo>
                          <a:pt x="29" y="121"/>
                        </a:lnTo>
                        <a:lnTo>
                          <a:pt x="20" y="121"/>
                        </a:lnTo>
                        <a:lnTo>
                          <a:pt x="12" y="122"/>
                        </a:lnTo>
                        <a:lnTo>
                          <a:pt x="4" y="119"/>
                        </a:lnTo>
                        <a:lnTo>
                          <a:pt x="1" y="112"/>
                        </a:lnTo>
                        <a:lnTo>
                          <a:pt x="0" y="84"/>
                        </a:lnTo>
                        <a:lnTo>
                          <a:pt x="5" y="62"/>
                        </a:lnTo>
                        <a:lnTo>
                          <a:pt x="13" y="43"/>
                        </a:lnTo>
                        <a:lnTo>
                          <a:pt x="29" y="29"/>
                        </a:lnTo>
                        <a:lnTo>
                          <a:pt x="47" y="16"/>
                        </a:lnTo>
                        <a:lnTo>
                          <a:pt x="68" y="8"/>
                        </a:lnTo>
                        <a:lnTo>
                          <a:pt x="93" y="2"/>
                        </a:lnTo>
                        <a:lnTo>
                          <a:pt x="122" y="0"/>
                        </a:lnTo>
                        <a:lnTo>
                          <a:pt x="125" y="1"/>
                        </a:lnTo>
                        <a:lnTo>
                          <a:pt x="127" y="5"/>
                        </a:lnTo>
                        <a:lnTo>
                          <a:pt x="126" y="10"/>
                        </a:lnTo>
                        <a:lnTo>
                          <a:pt x="123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 flipH="1">
                    <a:off x="487080" y="6477120"/>
                    <a:ext cx="130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97">
                        <a:moveTo>
                          <a:pt x="92" y="16"/>
                        </a:moveTo>
                        <a:lnTo>
                          <a:pt x="75" y="23"/>
                        </a:lnTo>
                        <a:lnTo>
                          <a:pt x="59" y="29"/>
                        </a:lnTo>
                        <a:lnTo>
                          <a:pt x="43" y="37"/>
                        </a:lnTo>
                        <a:lnTo>
                          <a:pt x="30" y="44"/>
                        </a:lnTo>
                        <a:lnTo>
                          <a:pt x="22" y="52"/>
                        </a:lnTo>
                        <a:lnTo>
                          <a:pt x="21" y="59"/>
                        </a:lnTo>
                        <a:lnTo>
                          <a:pt x="28" y="66"/>
                        </a:lnTo>
                        <a:lnTo>
                          <a:pt x="46" y="73"/>
                        </a:lnTo>
                        <a:lnTo>
                          <a:pt x="55" y="72"/>
                        </a:lnTo>
                        <a:lnTo>
                          <a:pt x="65" y="72"/>
                        </a:lnTo>
                        <a:lnTo>
                          <a:pt x="73" y="71"/>
                        </a:lnTo>
                        <a:lnTo>
                          <a:pt x="83" y="71"/>
                        </a:lnTo>
                        <a:lnTo>
                          <a:pt x="91" y="70"/>
                        </a:lnTo>
                        <a:lnTo>
                          <a:pt x="99" y="69"/>
                        </a:lnTo>
                        <a:lnTo>
                          <a:pt x="107" y="68"/>
                        </a:lnTo>
                        <a:lnTo>
                          <a:pt x="114" y="68"/>
                        </a:lnTo>
                        <a:lnTo>
                          <a:pt x="123" y="63"/>
                        </a:lnTo>
                        <a:lnTo>
                          <a:pt x="130" y="58"/>
                        </a:lnTo>
                        <a:lnTo>
                          <a:pt x="137" y="52"/>
                        </a:lnTo>
                        <a:lnTo>
                          <a:pt x="143" y="43"/>
                        </a:lnTo>
                        <a:lnTo>
                          <a:pt x="145" y="43"/>
                        </a:lnTo>
                        <a:lnTo>
                          <a:pt x="149" y="50"/>
                        </a:lnTo>
                        <a:lnTo>
                          <a:pt x="149" y="56"/>
                        </a:lnTo>
                        <a:lnTo>
                          <a:pt x="148" y="58"/>
                        </a:lnTo>
                        <a:lnTo>
                          <a:pt x="121" y="37"/>
                        </a:lnTo>
                        <a:lnTo>
                          <a:pt x="117" y="31"/>
                        </a:lnTo>
                        <a:lnTo>
                          <a:pt x="118" y="27"/>
                        </a:lnTo>
                        <a:lnTo>
                          <a:pt x="121" y="25"/>
                        </a:lnTo>
                        <a:lnTo>
                          <a:pt x="127" y="26"/>
                        </a:lnTo>
                        <a:lnTo>
                          <a:pt x="159" y="40"/>
                        </a:lnTo>
                        <a:lnTo>
                          <a:pt x="165" y="45"/>
                        </a:lnTo>
                        <a:lnTo>
                          <a:pt x="163" y="54"/>
                        </a:lnTo>
                        <a:lnTo>
                          <a:pt x="158" y="59"/>
                        </a:lnTo>
                        <a:lnTo>
                          <a:pt x="154" y="65"/>
                        </a:lnTo>
                        <a:lnTo>
                          <a:pt x="149" y="69"/>
                        </a:lnTo>
                        <a:lnTo>
                          <a:pt x="144" y="74"/>
                        </a:lnTo>
                        <a:lnTo>
                          <a:pt x="138" y="78"/>
                        </a:lnTo>
                        <a:lnTo>
                          <a:pt x="132" y="81"/>
                        </a:lnTo>
                        <a:lnTo>
                          <a:pt x="126" y="84"/>
                        </a:lnTo>
                        <a:lnTo>
                          <a:pt x="120" y="88"/>
                        </a:lnTo>
                        <a:lnTo>
                          <a:pt x="112" y="88"/>
                        </a:lnTo>
                        <a:lnTo>
                          <a:pt x="103" y="91"/>
                        </a:lnTo>
                        <a:lnTo>
                          <a:pt x="94" y="91"/>
                        </a:lnTo>
                        <a:lnTo>
                          <a:pt x="84" y="93"/>
                        </a:lnTo>
                        <a:lnTo>
                          <a:pt x="72" y="94"/>
                        </a:lnTo>
                        <a:lnTo>
                          <a:pt x="63" y="95"/>
                        </a:lnTo>
                        <a:lnTo>
                          <a:pt x="52" y="96"/>
                        </a:lnTo>
                        <a:lnTo>
                          <a:pt x="43" y="97"/>
                        </a:lnTo>
                        <a:lnTo>
                          <a:pt x="15" y="85"/>
                        </a:lnTo>
                        <a:lnTo>
                          <a:pt x="2" y="74"/>
                        </a:lnTo>
                        <a:lnTo>
                          <a:pt x="0" y="62"/>
                        </a:lnTo>
                        <a:lnTo>
                          <a:pt x="9" y="49"/>
                        </a:lnTo>
                        <a:lnTo>
                          <a:pt x="23" y="36"/>
                        </a:lnTo>
                        <a:lnTo>
                          <a:pt x="41" y="23"/>
                        </a:lnTo>
                        <a:lnTo>
                          <a:pt x="63" y="11"/>
                        </a:lnTo>
                        <a:lnTo>
                          <a:pt x="84" y="1"/>
                        </a:lnTo>
                        <a:lnTo>
                          <a:pt x="89" y="0"/>
                        </a:lnTo>
                        <a:lnTo>
                          <a:pt x="95" y="5"/>
                        </a:lnTo>
                        <a:lnTo>
                          <a:pt x="95" y="10"/>
                        </a:lnTo>
                        <a:lnTo>
                          <a:pt x="9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H="1">
                    <a:off x="605880" y="6546960"/>
                    <a:ext cx="1206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00">
                        <a:moveTo>
                          <a:pt x="83" y="14"/>
                        </a:moveTo>
                        <a:lnTo>
                          <a:pt x="73" y="14"/>
                        </a:lnTo>
                        <a:lnTo>
                          <a:pt x="62" y="18"/>
                        </a:lnTo>
                        <a:lnTo>
                          <a:pt x="50" y="21"/>
                        </a:lnTo>
                        <a:lnTo>
                          <a:pt x="39" y="27"/>
                        </a:lnTo>
                        <a:lnTo>
                          <a:pt x="30" y="33"/>
                        </a:lnTo>
                        <a:lnTo>
                          <a:pt x="23" y="40"/>
                        </a:lnTo>
                        <a:lnTo>
                          <a:pt x="20" y="48"/>
                        </a:lnTo>
                        <a:lnTo>
                          <a:pt x="22" y="57"/>
                        </a:lnTo>
                        <a:lnTo>
                          <a:pt x="25" y="64"/>
                        </a:lnTo>
                        <a:lnTo>
                          <a:pt x="32" y="70"/>
                        </a:lnTo>
                        <a:lnTo>
                          <a:pt x="38" y="74"/>
                        </a:lnTo>
                        <a:lnTo>
                          <a:pt x="47" y="77"/>
                        </a:lnTo>
                        <a:lnTo>
                          <a:pt x="54" y="78"/>
                        </a:lnTo>
                        <a:lnTo>
                          <a:pt x="64" y="78"/>
                        </a:lnTo>
                        <a:lnTo>
                          <a:pt x="73" y="77"/>
                        </a:lnTo>
                        <a:lnTo>
                          <a:pt x="82" y="77"/>
                        </a:lnTo>
                        <a:lnTo>
                          <a:pt x="94" y="71"/>
                        </a:lnTo>
                        <a:lnTo>
                          <a:pt x="105" y="68"/>
                        </a:lnTo>
                        <a:lnTo>
                          <a:pt x="113" y="64"/>
                        </a:lnTo>
                        <a:lnTo>
                          <a:pt x="120" y="60"/>
                        </a:lnTo>
                        <a:lnTo>
                          <a:pt x="124" y="52"/>
                        </a:lnTo>
                        <a:lnTo>
                          <a:pt x="128" y="43"/>
                        </a:lnTo>
                        <a:lnTo>
                          <a:pt x="129" y="33"/>
                        </a:lnTo>
                        <a:lnTo>
                          <a:pt x="130" y="19"/>
                        </a:lnTo>
                        <a:lnTo>
                          <a:pt x="132" y="17"/>
                        </a:lnTo>
                        <a:lnTo>
                          <a:pt x="137" y="21"/>
                        </a:lnTo>
                        <a:lnTo>
                          <a:pt x="140" y="25"/>
                        </a:lnTo>
                        <a:lnTo>
                          <a:pt x="140" y="28"/>
                        </a:lnTo>
                        <a:lnTo>
                          <a:pt x="96" y="27"/>
                        </a:lnTo>
                        <a:lnTo>
                          <a:pt x="89" y="23"/>
                        </a:lnTo>
                        <a:lnTo>
                          <a:pt x="87" y="18"/>
                        </a:lnTo>
                        <a:lnTo>
                          <a:pt x="89" y="11"/>
                        </a:lnTo>
                        <a:lnTo>
                          <a:pt x="96" y="9"/>
                        </a:lnTo>
                        <a:lnTo>
                          <a:pt x="140" y="8"/>
                        </a:lnTo>
                        <a:lnTo>
                          <a:pt x="147" y="9"/>
                        </a:lnTo>
                        <a:lnTo>
                          <a:pt x="151" y="18"/>
                        </a:lnTo>
                        <a:lnTo>
                          <a:pt x="151" y="36"/>
                        </a:lnTo>
                        <a:lnTo>
                          <a:pt x="149" y="51"/>
                        </a:lnTo>
                        <a:lnTo>
                          <a:pt x="145" y="63"/>
                        </a:lnTo>
                        <a:lnTo>
                          <a:pt x="139" y="72"/>
                        </a:lnTo>
                        <a:lnTo>
                          <a:pt x="130" y="79"/>
                        </a:lnTo>
                        <a:lnTo>
                          <a:pt x="118" y="85"/>
                        </a:lnTo>
                        <a:lnTo>
                          <a:pt x="104" y="92"/>
                        </a:lnTo>
                        <a:lnTo>
                          <a:pt x="88" y="98"/>
                        </a:lnTo>
                        <a:lnTo>
                          <a:pt x="75" y="99"/>
                        </a:lnTo>
                        <a:lnTo>
                          <a:pt x="62" y="100"/>
                        </a:lnTo>
                        <a:lnTo>
                          <a:pt x="49" y="99"/>
                        </a:lnTo>
                        <a:lnTo>
                          <a:pt x="38" y="97"/>
                        </a:lnTo>
                        <a:lnTo>
                          <a:pt x="26" y="92"/>
                        </a:lnTo>
                        <a:lnTo>
                          <a:pt x="17" y="85"/>
                        </a:lnTo>
                        <a:lnTo>
                          <a:pt x="8" y="77"/>
                        </a:lnTo>
                        <a:lnTo>
                          <a:pt x="3" y="67"/>
                        </a:lnTo>
                        <a:lnTo>
                          <a:pt x="0" y="54"/>
                        </a:lnTo>
                        <a:lnTo>
                          <a:pt x="4" y="42"/>
                        </a:lnTo>
                        <a:lnTo>
                          <a:pt x="13" y="31"/>
                        </a:lnTo>
                        <a:lnTo>
                          <a:pt x="24" y="22"/>
                        </a:lnTo>
                        <a:lnTo>
                          <a:pt x="38" y="13"/>
                        </a:lnTo>
                        <a:lnTo>
                          <a:pt x="53" y="7"/>
                        </a:lnTo>
                        <a:lnTo>
                          <a:pt x="68" y="3"/>
                        </a:lnTo>
                        <a:lnTo>
                          <a:pt x="81" y="0"/>
                        </a:lnTo>
                        <a:lnTo>
                          <a:pt x="87" y="0"/>
                        </a:lnTo>
                        <a:lnTo>
                          <a:pt x="89" y="6"/>
                        </a:lnTo>
                        <a:lnTo>
                          <a:pt x="88" y="10"/>
                        </a:lnTo>
                        <a:lnTo>
                          <a:pt x="83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H="1">
                    <a:off x="766440" y="6485040"/>
                    <a:ext cx="968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91">
                        <a:moveTo>
                          <a:pt x="119" y="12"/>
                        </a:moveTo>
                        <a:lnTo>
                          <a:pt x="106" y="14"/>
                        </a:lnTo>
                        <a:lnTo>
                          <a:pt x="91" y="19"/>
                        </a:lnTo>
                        <a:lnTo>
                          <a:pt x="75" y="25"/>
                        </a:lnTo>
                        <a:lnTo>
                          <a:pt x="60" y="32"/>
                        </a:lnTo>
                        <a:lnTo>
                          <a:pt x="45" y="40"/>
                        </a:lnTo>
                        <a:lnTo>
                          <a:pt x="33" y="49"/>
                        </a:lnTo>
                        <a:lnTo>
                          <a:pt x="25" y="60"/>
                        </a:lnTo>
                        <a:lnTo>
                          <a:pt x="24" y="73"/>
                        </a:lnTo>
                        <a:lnTo>
                          <a:pt x="25" y="77"/>
                        </a:lnTo>
                        <a:lnTo>
                          <a:pt x="29" y="78"/>
                        </a:lnTo>
                        <a:lnTo>
                          <a:pt x="36" y="77"/>
                        </a:lnTo>
                        <a:lnTo>
                          <a:pt x="45" y="76"/>
                        </a:lnTo>
                        <a:lnTo>
                          <a:pt x="51" y="72"/>
                        </a:lnTo>
                        <a:lnTo>
                          <a:pt x="57" y="70"/>
                        </a:lnTo>
                        <a:lnTo>
                          <a:pt x="62" y="67"/>
                        </a:lnTo>
                        <a:lnTo>
                          <a:pt x="65" y="67"/>
                        </a:lnTo>
                        <a:lnTo>
                          <a:pt x="98" y="65"/>
                        </a:lnTo>
                        <a:lnTo>
                          <a:pt x="103" y="66"/>
                        </a:lnTo>
                        <a:lnTo>
                          <a:pt x="106" y="69"/>
                        </a:lnTo>
                        <a:lnTo>
                          <a:pt x="105" y="73"/>
                        </a:lnTo>
                        <a:lnTo>
                          <a:pt x="100" y="77"/>
                        </a:lnTo>
                        <a:lnTo>
                          <a:pt x="68" y="89"/>
                        </a:lnTo>
                        <a:lnTo>
                          <a:pt x="64" y="89"/>
                        </a:lnTo>
                        <a:lnTo>
                          <a:pt x="56" y="90"/>
                        </a:lnTo>
                        <a:lnTo>
                          <a:pt x="45" y="90"/>
                        </a:lnTo>
                        <a:lnTo>
                          <a:pt x="34" y="91"/>
                        </a:lnTo>
                        <a:lnTo>
                          <a:pt x="21" y="90"/>
                        </a:lnTo>
                        <a:lnTo>
                          <a:pt x="11" y="88"/>
                        </a:lnTo>
                        <a:lnTo>
                          <a:pt x="3" y="83"/>
                        </a:lnTo>
                        <a:lnTo>
                          <a:pt x="0" y="75"/>
                        </a:lnTo>
                        <a:lnTo>
                          <a:pt x="3" y="59"/>
                        </a:lnTo>
                        <a:lnTo>
                          <a:pt x="11" y="46"/>
                        </a:lnTo>
                        <a:lnTo>
                          <a:pt x="25" y="34"/>
                        </a:lnTo>
                        <a:lnTo>
                          <a:pt x="43" y="25"/>
                        </a:lnTo>
                        <a:lnTo>
                          <a:pt x="62" y="15"/>
                        </a:lnTo>
                        <a:lnTo>
                          <a:pt x="82" y="9"/>
                        </a:lnTo>
                        <a:lnTo>
                          <a:pt x="100" y="3"/>
                        </a:lnTo>
                        <a:lnTo>
                          <a:pt x="117" y="0"/>
                        </a:lnTo>
                        <a:lnTo>
                          <a:pt x="121" y="0"/>
                        </a:lnTo>
                        <a:lnTo>
                          <a:pt x="123" y="4"/>
                        </a:lnTo>
                        <a:lnTo>
                          <a:pt x="122" y="8"/>
                        </a:lnTo>
                        <a:lnTo>
                          <a:pt x="119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82480" y="6384960"/>
                    <a:ext cx="1540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07">
                        <a:moveTo>
                          <a:pt x="131" y="15"/>
                        </a:moveTo>
                        <a:lnTo>
                          <a:pt x="114" y="15"/>
                        </a:lnTo>
                        <a:lnTo>
                          <a:pt x="100" y="18"/>
                        </a:lnTo>
                        <a:lnTo>
                          <a:pt x="86" y="20"/>
                        </a:lnTo>
                        <a:lnTo>
                          <a:pt x="75" y="24"/>
                        </a:lnTo>
                        <a:lnTo>
                          <a:pt x="63" y="27"/>
                        </a:lnTo>
                        <a:lnTo>
                          <a:pt x="54" y="34"/>
                        </a:lnTo>
                        <a:lnTo>
                          <a:pt x="43" y="40"/>
                        </a:lnTo>
                        <a:lnTo>
                          <a:pt x="33" y="50"/>
                        </a:lnTo>
                        <a:lnTo>
                          <a:pt x="25" y="58"/>
                        </a:lnTo>
                        <a:lnTo>
                          <a:pt x="23" y="68"/>
                        </a:lnTo>
                        <a:lnTo>
                          <a:pt x="27" y="76"/>
                        </a:lnTo>
                        <a:lnTo>
                          <a:pt x="35" y="83"/>
                        </a:lnTo>
                        <a:lnTo>
                          <a:pt x="47" y="82"/>
                        </a:lnTo>
                        <a:lnTo>
                          <a:pt x="58" y="82"/>
                        </a:lnTo>
                        <a:lnTo>
                          <a:pt x="66" y="81"/>
                        </a:lnTo>
                        <a:lnTo>
                          <a:pt x="76" y="81"/>
                        </a:lnTo>
                        <a:lnTo>
                          <a:pt x="84" y="79"/>
                        </a:lnTo>
                        <a:lnTo>
                          <a:pt x="91" y="78"/>
                        </a:lnTo>
                        <a:lnTo>
                          <a:pt x="99" y="77"/>
                        </a:lnTo>
                        <a:lnTo>
                          <a:pt x="109" y="76"/>
                        </a:lnTo>
                        <a:lnTo>
                          <a:pt x="120" y="70"/>
                        </a:lnTo>
                        <a:lnTo>
                          <a:pt x="130" y="67"/>
                        </a:lnTo>
                        <a:lnTo>
                          <a:pt x="136" y="63"/>
                        </a:lnTo>
                        <a:lnTo>
                          <a:pt x="144" y="59"/>
                        </a:lnTo>
                        <a:lnTo>
                          <a:pt x="149" y="54"/>
                        </a:lnTo>
                        <a:lnTo>
                          <a:pt x="157" y="50"/>
                        </a:lnTo>
                        <a:lnTo>
                          <a:pt x="163" y="42"/>
                        </a:lnTo>
                        <a:lnTo>
                          <a:pt x="174" y="36"/>
                        </a:lnTo>
                        <a:lnTo>
                          <a:pt x="177" y="36"/>
                        </a:lnTo>
                        <a:lnTo>
                          <a:pt x="178" y="44"/>
                        </a:lnTo>
                        <a:lnTo>
                          <a:pt x="177" y="51"/>
                        </a:lnTo>
                        <a:lnTo>
                          <a:pt x="174" y="53"/>
                        </a:lnTo>
                        <a:lnTo>
                          <a:pt x="165" y="45"/>
                        </a:lnTo>
                        <a:lnTo>
                          <a:pt x="160" y="40"/>
                        </a:lnTo>
                        <a:lnTo>
                          <a:pt x="156" y="36"/>
                        </a:lnTo>
                        <a:lnTo>
                          <a:pt x="154" y="33"/>
                        </a:lnTo>
                        <a:lnTo>
                          <a:pt x="149" y="29"/>
                        </a:lnTo>
                        <a:lnTo>
                          <a:pt x="144" y="27"/>
                        </a:lnTo>
                        <a:lnTo>
                          <a:pt x="136" y="26"/>
                        </a:lnTo>
                        <a:lnTo>
                          <a:pt x="126" y="25"/>
                        </a:lnTo>
                        <a:lnTo>
                          <a:pt x="120" y="22"/>
                        </a:lnTo>
                        <a:lnTo>
                          <a:pt x="120" y="18"/>
                        </a:lnTo>
                        <a:lnTo>
                          <a:pt x="122" y="13"/>
                        </a:lnTo>
                        <a:lnTo>
                          <a:pt x="128" y="12"/>
                        </a:lnTo>
                        <a:lnTo>
                          <a:pt x="140" y="13"/>
                        </a:lnTo>
                        <a:lnTo>
                          <a:pt x="149" y="14"/>
                        </a:lnTo>
                        <a:lnTo>
                          <a:pt x="156" y="14"/>
                        </a:lnTo>
                        <a:lnTo>
                          <a:pt x="162" y="16"/>
                        </a:lnTo>
                        <a:lnTo>
                          <a:pt x="166" y="18"/>
                        </a:lnTo>
                        <a:lnTo>
                          <a:pt x="172" y="22"/>
                        </a:lnTo>
                        <a:lnTo>
                          <a:pt x="178" y="27"/>
                        </a:lnTo>
                        <a:lnTo>
                          <a:pt x="189" y="36"/>
                        </a:lnTo>
                        <a:lnTo>
                          <a:pt x="193" y="44"/>
                        </a:lnTo>
                        <a:lnTo>
                          <a:pt x="189" y="53"/>
                        </a:lnTo>
                        <a:lnTo>
                          <a:pt x="178" y="62"/>
                        </a:lnTo>
                        <a:lnTo>
                          <a:pt x="170" y="69"/>
                        </a:lnTo>
                        <a:lnTo>
                          <a:pt x="162" y="74"/>
                        </a:lnTo>
                        <a:lnTo>
                          <a:pt x="156" y="81"/>
                        </a:lnTo>
                        <a:lnTo>
                          <a:pt x="147" y="85"/>
                        </a:lnTo>
                        <a:lnTo>
                          <a:pt x="139" y="91"/>
                        </a:lnTo>
                        <a:lnTo>
                          <a:pt x="129" y="95"/>
                        </a:lnTo>
                        <a:lnTo>
                          <a:pt x="116" y="100"/>
                        </a:lnTo>
                        <a:lnTo>
                          <a:pt x="105" y="101"/>
                        </a:lnTo>
                        <a:lnTo>
                          <a:pt x="95" y="103"/>
                        </a:lnTo>
                        <a:lnTo>
                          <a:pt x="86" y="105"/>
                        </a:lnTo>
                        <a:lnTo>
                          <a:pt x="77" y="106"/>
                        </a:lnTo>
                        <a:lnTo>
                          <a:pt x="65" y="106"/>
                        </a:lnTo>
                        <a:lnTo>
                          <a:pt x="55" y="106"/>
                        </a:lnTo>
                        <a:lnTo>
                          <a:pt x="42" y="106"/>
                        </a:lnTo>
                        <a:lnTo>
                          <a:pt x="29" y="107"/>
                        </a:lnTo>
                        <a:lnTo>
                          <a:pt x="19" y="99"/>
                        </a:lnTo>
                        <a:lnTo>
                          <a:pt x="12" y="92"/>
                        </a:lnTo>
                        <a:lnTo>
                          <a:pt x="5" y="82"/>
                        </a:lnTo>
                        <a:lnTo>
                          <a:pt x="2" y="73"/>
                        </a:lnTo>
                        <a:lnTo>
                          <a:pt x="0" y="63"/>
                        </a:lnTo>
                        <a:lnTo>
                          <a:pt x="1" y="52"/>
                        </a:lnTo>
                        <a:lnTo>
                          <a:pt x="6" y="41"/>
                        </a:lnTo>
                        <a:lnTo>
                          <a:pt x="17" y="31"/>
                        </a:lnTo>
                        <a:lnTo>
                          <a:pt x="28" y="21"/>
                        </a:lnTo>
                        <a:lnTo>
                          <a:pt x="41" y="14"/>
                        </a:lnTo>
                        <a:lnTo>
                          <a:pt x="52" y="9"/>
                        </a:lnTo>
                        <a:lnTo>
                          <a:pt x="66" y="7"/>
                        </a:lnTo>
                        <a:lnTo>
                          <a:pt x="79" y="4"/>
                        </a:lnTo>
                        <a:lnTo>
                          <a:pt x="94" y="2"/>
                        </a:lnTo>
                        <a:lnTo>
                          <a:pt x="111" y="1"/>
                        </a:lnTo>
                        <a:lnTo>
                          <a:pt x="130" y="0"/>
                        </a:lnTo>
                        <a:lnTo>
                          <a:pt x="135" y="1"/>
                        </a:lnTo>
                        <a:lnTo>
                          <a:pt x="137" y="7"/>
                        </a:lnTo>
                        <a:lnTo>
                          <a:pt x="135" y="11"/>
                        </a:lnTo>
                        <a:lnTo>
                          <a:pt x="131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flipH="1">
                    <a:off x="866160" y="6659640"/>
                    <a:ext cx="142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115">
                        <a:moveTo>
                          <a:pt x="171" y="22"/>
                        </a:moveTo>
                        <a:lnTo>
                          <a:pt x="150" y="18"/>
                        </a:lnTo>
                        <a:lnTo>
                          <a:pt x="125" y="15"/>
                        </a:lnTo>
                        <a:lnTo>
                          <a:pt x="99" y="14"/>
                        </a:lnTo>
                        <a:lnTo>
                          <a:pt x="72" y="18"/>
                        </a:lnTo>
                        <a:lnTo>
                          <a:pt x="47" y="23"/>
                        </a:lnTo>
                        <a:lnTo>
                          <a:pt x="29" y="35"/>
                        </a:lnTo>
                        <a:lnTo>
                          <a:pt x="19" y="52"/>
                        </a:lnTo>
                        <a:lnTo>
                          <a:pt x="21" y="78"/>
                        </a:lnTo>
                        <a:lnTo>
                          <a:pt x="29" y="93"/>
                        </a:lnTo>
                        <a:lnTo>
                          <a:pt x="43" y="100"/>
                        </a:lnTo>
                        <a:lnTo>
                          <a:pt x="60" y="100"/>
                        </a:lnTo>
                        <a:lnTo>
                          <a:pt x="79" y="97"/>
                        </a:lnTo>
                        <a:lnTo>
                          <a:pt x="97" y="88"/>
                        </a:lnTo>
                        <a:lnTo>
                          <a:pt x="116" y="80"/>
                        </a:lnTo>
                        <a:lnTo>
                          <a:pt x="131" y="70"/>
                        </a:lnTo>
                        <a:lnTo>
                          <a:pt x="143" y="63"/>
                        </a:lnTo>
                        <a:lnTo>
                          <a:pt x="145" y="53"/>
                        </a:lnTo>
                        <a:lnTo>
                          <a:pt x="148" y="48"/>
                        </a:lnTo>
                        <a:lnTo>
                          <a:pt x="150" y="43"/>
                        </a:lnTo>
                        <a:lnTo>
                          <a:pt x="152" y="40"/>
                        </a:lnTo>
                        <a:lnTo>
                          <a:pt x="151" y="36"/>
                        </a:lnTo>
                        <a:lnTo>
                          <a:pt x="150" y="33"/>
                        </a:lnTo>
                        <a:lnTo>
                          <a:pt x="147" y="28"/>
                        </a:lnTo>
                        <a:lnTo>
                          <a:pt x="143" y="23"/>
                        </a:lnTo>
                        <a:lnTo>
                          <a:pt x="139" y="18"/>
                        </a:lnTo>
                        <a:lnTo>
                          <a:pt x="142" y="13"/>
                        </a:lnTo>
                        <a:lnTo>
                          <a:pt x="146" y="11"/>
                        </a:lnTo>
                        <a:lnTo>
                          <a:pt x="151" y="14"/>
                        </a:lnTo>
                        <a:lnTo>
                          <a:pt x="159" y="22"/>
                        </a:lnTo>
                        <a:lnTo>
                          <a:pt x="165" y="28"/>
                        </a:lnTo>
                        <a:lnTo>
                          <a:pt x="170" y="34"/>
                        </a:lnTo>
                        <a:lnTo>
                          <a:pt x="173" y="39"/>
                        </a:lnTo>
                        <a:lnTo>
                          <a:pt x="173" y="44"/>
                        </a:lnTo>
                        <a:lnTo>
                          <a:pt x="172" y="52"/>
                        </a:lnTo>
                        <a:lnTo>
                          <a:pt x="168" y="63"/>
                        </a:lnTo>
                        <a:lnTo>
                          <a:pt x="165" y="77"/>
                        </a:lnTo>
                        <a:lnTo>
                          <a:pt x="151" y="85"/>
                        </a:lnTo>
                        <a:lnTo>
                          <a:pt x="132" y="96"/>
                        </a:lnTo>
                        <a:lnTo>
                          <a:pt x="107" y="105"/>
                        </a:lnTo>
                        <a:lnTo>
                          <a:pt x="81" y="113"/>
                        </a:lnTo>
                        <a:lnTo>
                          <a:pt x="54" y="115"/>
                        </a:lnTo>
                        <a:lnTo>
                          <a:pt x="32" y="113"/>
                        </a:lnTo>
                        <a:lnTo>
                          <a:pt x="13" y="102"/>
                        </a:lnTo>
                        <a:lnTo>
                          <a:pt x="2" y="82"/>
                        </a:lnTo>
                        <a:lnTo>
                          <a:pt x="0" y="52"/>
                        </a:lnTo>
                        <a:lnTo>
                          <a:pt x="10" y="30"/>
                        </a:lnTo>
                        <a:lnTo>
                          <a:pt x="32" y="15"/>
                        </a:lnTo>
                        <a:lnTo>
                          <a:pt x="60" y="7"/>
                        </a:lnTo>
                        <a:lnTo>
                          <a:pt x="90" y="1"/>
                        </a:lnTo>
                        <a:lnTo>
                          <a:pt x="122" y="0"/>
                        </a:lnTo>
                        <a:lnTo>
                          <a:pt x="150" y="2"/>
                        </a:lnTo>
                        <a:lnTo>
                          <a:pt x="174" y="7"/>
                        </a:lnTo>
                        <a:lnTo>
                          <a:pt x="178" y="10"/>
                        </a:lnTo>
                        <a:lnTo>
                          <a:pt x="179" y="15"/>
                        </a:lnTo>
                        <a:lnTo>
                          <a:pt x="176" y="20"/>
                        </a:lnTo>
                        <a:lnTo>
                          <a:pt x="17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 flipH="1">
                    <a:off x="717480" y="6577200"/>
                    <a:ext cx="101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97">
                        <a:moveTo>
                          <a:pt x="87" y="17"/>
                        </a:moveTo>
                        <a:lnTo>
                          <a:pt x="71" y="19"/>
                        </a:lnTo>
                        <a:lnTo>
                          <a:pt x="56" y="26"/>
                        </a:lnTo>
                        <a:lnTo>
                          <a:pt x="40" y="32"/>
                        </a:lnTo>
                        <a:lnTo>
                          <a:pt x="28" y="42"/>
                        </a:lnTo>
                        <a:lnTo>
                          <a:pt x="18" y="51"/>
                        </a:lnTo>
                        <a:lnTo>
                          <a:pt x="12" y="60"/>
                        </a:lnTo>
                        <a:lnTo>
                          <a:pt x="13" y="69"/>
                        </a:lnTo>
                        <a:lnTo>
                          <a:pt x="22" y="76"/>
                        </a:lnTo>
                        <a:lnTo>
                          <a:pt x="67" y="58"/>
                        </a:lnTo>
                        <a:lnTo>
                          <a:pt x="79" y="48"/>
                        </a:lnTo>
                        <a:lnTo>
                          <a:pt x="90" y="44"/>
                        </a:lnTo>
                        <a:lnTo>
                          <a:pt x="98" y="40"/>
                        </a:lnTo>
                        <a:lnTo>
                          <a:pt x="106" y="39"/>
                        </a:lnTo>
                        <a:lnTo>
                          <a:pt x="110" y="34"/>
                        </a:lnTo>
                        <a:lnTo>
                          <a:pt x="114" y="29"/>
                        </a:lnTo>
                        <a:lnTo>
                          <a:pt x="114" y="20"/>
                        </a:lnTo>
                        <a:lnTo>
                          <a:pt x="113" y="9"/>
                        </a:lnTo>
                        <a:lnTo>
                          <a:pt x="114" y="2"/>
                        </a:lnTo>
                        <a:lnTo>
                          <a:pt x="119" y="0"/>
                        </a:lnTo>
                        <a:lnTo>
                          <a:pt x="123" y="1"/>
                        </a:lnTo>
                        <a:lnTo>
                          <a:pt x="126" y="5"/>
                        </a:lnTo>
                        <a:lnTo>
                          <a:pt x="127" y="22"/>
                        </a:lnTo>
                        <a:lnTo>
                          <a:pt x="128" y="33"/>
                        </a:lnTo>
                        <a:lnTo>
                          <a:pt x="125" y="41"/>
                        </a:lnTo>
                        <a:lnTo>
                          <a:pt x="121" y="48"/>
                        </a:lnTo>
                        <a:lnTo>
                          <a:pt x="113" y="53"/>
                        </a:lnTo>
                        <a:lnTo>
                          <a:pt x="104" y="59"/>
                        </a:lnTo>
                        <a:lnTo>
                          <a:pt x="92" y="67"/>
                        </a:lnTo>
                        <a:lnTo>
                          <a:pt x="78" y="78"/>
                        </a:lnTo>
                        <a:lnTo>
                          <a:pt x="25" y="97"/>
                        </a:lnTo>
                        <a:lnTo>
                          <a:pt x="21" y="97"/>
                        </a:lnTo>
                        <a:lnTo>
                          <a:pt x="17" y="97"/>
                        </a:lnTo>
                        <a:lnTo>
                          <a:pt x="4" y="86"/>
                        </a:lnTo>
                        <a:lnTo>
                          <a:pt x="0" y="73"/>
                        </a:lnTo>
                        <a:lnTo>
                          <a:pt x="4" y="58"/>
                        </a:lnTo>
                        <a:lnTo>
                          <a:pt x="14" y="44"/>
                        </a:lnTo>
                        <a:lnTo>
                          <a:pt x="28" y="28"/>
                        </a:lnTo>
                        <a:lnTo>
                          <a:pt x="46" y="16"/>
                        </a:lnTo>
                        <a:lnTo>
                          <a:pt x="65" y="6"/>
                        </a:lnTo>
                        <a:lnTo>
                          <a:pt x="86" y="3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92" y="14"/>
                        </a:lnTo>
                        <a:lnTo>
                          <a:pt x="87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H="1">
                    <a:off x="389880" y="6413760"/>
                    <a:ext cx="1350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90">
                        <a:moveTo>
                          <a:pt x="17" y="33"/>
                        </a:moveTo>
                        <a:lnTo>
                          <a:pt x="28" y="19"/>
                        </a:lnTo>
                        <a:lnTo>
                          <a:pt x="47" y="10"/>
                        </a:lnTo>
                        <a:lnTo>
                          <a:pt x="67" y="3"/>
                        </a:lnTo>
                        <a:lnTo>
                          <a:pt x="90" y="0"/>
                        </a:lnTo>
                        <a:lnTo>
                          <a:pt x="111" y="0"/>
                        </a:lnTo>
                        <a:lnTo>
                          <a:pt x="132" y="5"/>
                        </a:lnTo>
                        <a:lnTo>
                          <a:pt x="149" y="14"/>
                        </a:lnTo>
                        <a:lnTo>
                          <a:pt x="162" y="28"/>
                        </a:lnTo>
                        <a:lnTo>
                          <a:pt x="169" y="54"/>
                        </a:lnTo>
                        <a:lnTo>
                          <a:pt x="162" y="72"/>
                        </a:lnTo>
                        <a:lnTo>
                          <a:pt x="140" y="83"/>
                        </a:lnTo>
                        <a:lnTo>
                          <a:pt x="113" y="89"/>
                        </a:lnTo>
                        <a:lnTo>
                          <a:pt x="81" y="90"/>
                        </a:lnTo>
                        <a:lnTo>
                          <a:pt x="51" y="89"/>
                        </a:lnTo>
                        <a:lnTo>
                          <a:pt x="24" y="86"/>
                        </a:lnTo>
                        <a:lnTo>
                          <a:pt x="8" y="83"/>
                        </a:lnTo>
                        <a:lnTo>
                          <a:pt x="0" y="76"/>
                        </a:lnTo>
                        <a:lnTo>
                          <a:pt x="0" y="69"/>
                        </a:lnTo>
                        <a:lnTo>
                          <a:pt x="6" y="62"/>
                        </a:lnTo>
                        <a:lnTo>
                          <a:pt x="14" y="63"/>
                        </a:lnTo>
                        <a:lnTo>
                          <a:pt x="27" y="65"/>
                        </a:lnTo>
                        <a:lnTo>
                          <a:pt x="50" y="71"/>
                        </a:lnTo>
                        <a:lnTo>
                          <a:pt x="77" y="75"/>
                        </a:lnTo>
                        <a:lnTo>
                          <a:pt x="104" y="77"/>
                        </a:lnTo>
                        <a:lnTo>
                          <a:pt x="127" y="75"/>
                        </a:lnTo>
                        <a:lnTo>
                          <a:pt x="145" y="70"/>
                        </a:lnTo>
                        <a:lnTo>
                          <a:pt x="151" y="57"/>
                        </a:lnTo>
                        <a:lnTo>
                          <a:pt x="146" y="37"/>
                        </a:lnTo>
                        <a:lnTo>
                          <a:pt x="135" y="26"/>
                        </a:lnTo>
                        <a:lnTo>
                          <a:pt x="121" y="18"/>
                        </a:lnTo>
                        <a:lnTo>
                          <a:pt x="104" y="14"/>
                        </a:lnTo>
                        <a:lnTo>
                          <a:pt x="86" y="14"/>
                        </a:lnTo>
                        <a:lnTo>
                          <a:pt x="67" y="16"/>
                        </a:lnTo>
                        <a:lnTo>
                          <a:pt x="51" y="21"/>
                        </a:lnTo>
                        <a:lnTo>
                          <a:pt x="37" y="29"/>
                        </a:lnTo>
                        <a:lnTo>
                          <a:pt x="27" y="41"/>
                        </a:lnTo>
                        <a:lnTo>
                          <a:pt x="22" y="43"/>
                        </a:lnTo>
                        <a:lnTo>
                          <a:pt x="18" y="42"/>
                        </a:lnTo>
                        <a:lnTo>
                          <a:pt x="15" y="37"/>
                        </a:lnTo>
                        <a:lnTo>
                          <a:pt x="17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H="1">
                    <a:off x="466560" y="6364440"/>
                    <a:ext cx="101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71">
                        <a:moveTo>
                          <a:pt x="4" y="33"/>
                        </a:moveTo>
                        <a:lnTo>
                          <a:pt x="14" y="25"/>
                        </a:lnTo>
                        <a:lnTo>
                          <a:pt x="26" y="20"/>
                        </a:lnTo>
                        <a:lnTo>
                          <a:pt x="38" y="13"/>
                        </a:lnTo>
                        <a:lnTo>
                          <a:pt x="52" y="10"/>
                        </a:lnTo>
                        <a:lnTo>
                          <a:pt x="65" y="6"/>
                        </a:lnTo>
                        <a:lnTo>
                          <a:pt x="82" y="4"/>
                        </a:lnTo>
                        <a:lnTo>
                          <a:pt x="99" y="0"/>
                        </a:lnTo>
                        <a:lnTo>
                          <a:pt x="119" y="0"/>
                        </a:lnTo>
                        <a:lnTo>
                          <a:pt x="125" y="2"/>
                        </a:lnTo>
                        <a:lnTo>
                          <a:pt x="129" y="10"/>
                        </a:lnTo>
                        <a:lnTo>
                          <a:pt x="125" y="39"/>
                        </a:lnTo>
                        <a:lnTo>
                          <a:pt x="123" y="42"/>
                        </a:lnTo>
                        <a:lnTo>
                          <a:pt x="121" y="47"/>
                        </a:lnTo>
                        <a:lnTo>
                          <a:pt x="115" y="50"/>
                        </a:lnTo>
                        <a:lnTo>
                          <a:pt x="108" y="53"/>
                        </a:lnTo>
                        <a:lnTo>
                          <a:pt x="103" y="56"/>
                        </a:lnTo>
                        <a:lnTo>
                          <a:pt x="97" y="60"/>
                        </a:lnTo>
                        <a:lnTo>
                          <a:pt x="91" y="62"/>
                        </a:lnTo>
                        <a:lnTo>
                          <a:pt x="86" y="65"/>
                        </a:lnTo>
                        <a:lnTo>
                          <a:pt x="79" y="68"/>
                        </a:lnTo>
                        <a:lnTo>
                          <a:pt x="73" y="71"/>
                        </a:lnTo>
                        <a:lnTo>
                          <a:pt x="65" y="71"/>
                        </a:lnTo>
                        <a:lnTo>
                          <a:pt x="61" y="67"/>
                        </a:lnTo>
                        <a:lnTo>
                          <a:pt x="60" y="60"/>
                        </a:lnTo>
                        <a:lnTo>
                          <a:pt x="65" y="55"/>
                        </a:lnTo>
                        <a:lnTo>
                          <a:pt x="71" y="52"/>
                        </a:lnTo>
                        <a:lnTo>
                          <a:pt x="77" y="49"/>
                        </a:lnTo>
                        <a:lnTo>
                          <a:pt x="82" y="46"/>
                        </a:lnTo>
                        <a:lnTo>
                          <a:pt x="89" y="43"/>
                        </a:lnTo>
                        <a:lnTo>
                          <a:pt x="93" y="40"/>
                        </a:lnTo>
                        <a:lnTo>
                          <a:pt x="100" y="37"/>
                        </a:lnTo>
                        <a:lnTo>
                          <a:pt x="105" y="34"/>
                        </a:lnTo>
                        <a:lnTo>
                          <a:pt x="111" y="31"/>
                        </a:lnTo>
                        <a:lnTo>
                          <a:pt x="110" y="31"/>
                        </a:lnTo>
                        <a:lnTo>
                          <a:pt x="109" y="34"/>
                        </a:lnTo>
                        <a:lnTo>
                          <a:pt x="106" y="36"/>
                        </a:lnTo>
                        <a:lnTo>
                          <a:pt x="107" y="37"/>
                        </a:lnTo>
                        <a:lnTo>
                          <a:pt x="110" y="8"/>
                        </a:lnTo>
                        <a:lnTo>
                          <a:pt x="112" y="6"/>
                        </a:lnTo>
                        <a:lnTo>
                          <a:pt x="118" y="10"/>
                        </a:lnTo>
                        <a:lnTo>
                          <a:pt x="121" y="14"/>
                        </a:lnTo>
                        <a:lnTo>
                          <a:pt x="120" y="19"/>
                        </a:lnTo>
                        <a:lnTo>
                          <a:pt x="102" y="19"/>
                        </a:lnTo>
                        <a:lnTo>
                          <a:pt x="86" y="20"/>
                        </a:lnTo>
                        <a:lnTo>
                          <a:pt x="69" y="22"/>
                        </a:lnTo>
                        <a:lnTo>
                          <a:pt x="57" y="25"/>
                        </a:lnTo>
                        <a:lnTo>
                          <a:pt x="44" y="28"/>
                        </a:lnTo>
                        <a:lnTo>
                          <a:pt x="32" y="33"/>
                        </a:lnTo>
                        <a:lnTo>
                          <a:pt x="20" y="37"/>
                        </a:lnTo>
                        <a:lnTo>
                          <a:pt x="10" y="45"/>
                        </a:lnTo>
                        <a:lnTo>
                          <a:pt x="4" y="45"/>
                        </a:lnTo>
                        <a:lnTo>
                          <a:pt x="1" y="41"/>
                        </a:lnTo>
                        <a:lnTo>
                          <a:pt x="0" y="36"/>
                        </a:lnTo>
                        <a:lnTo>
                          <a:pt x="4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H="1">
                    <a:off x="311040" y="6374160"/>
                    <a:ext cx="1224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92">
                        <a:moveTo>
                          <a:pt x="10" y="0"/>
                        </a:moveTo>
                        <a:lnTo>
                          <a:pt x="145" y="10"/>
                        </a:lnTo>
                        <a:lnTo>
                          <a:pt x="150" y="10"/>
                        </a:lnTo>
                        <a:lnTo>
                          <a:pt x="153" y="13"/>
                        </a:lnTo>
                        <a:lnTo>
                          <a:pt x="154" y="17"/>
                        </a:lnTo>
                        <a:lnTo>
                          <a:pt x="152" y="24"/>
                        </a:lnTo>
                        <a:lnTo>
                          <a:pt x="140" y="40"/>
                        </a:lnTo>
                        <a:lnTo>
                          <a:pt x="128" y="53"/>
                        </a:lnTo>
                        <a:lnTo>
                          <a:pt x="114" y="64"/>
                        </a:lnTo>
                        <a:lnTo>
                          <a:pt x="100" y="73"/>
                        </a:lnTo>
                        <a:lnTo>
                          <a:pt x="82" y="80"/>
                        </a:lnTo>
                        <a:lnTo>
                          <a:pt x="64" y="85"/>
                        </a:lnTo>
                        <a:lnTo>
                          <a:pt x="41" y="88"/>
                        </a:lnTo>
                        <a:lnTo>
                          <a:pt x="18" y="92"/>
                        </a:lnTo>
                        <a:lnTo>
                          <a:pt x="11" y="89"/>
                        </a:lnTo>
                        <a:lnTo>
                          <a:pt x="8" y="87"/>
                        </a:lnTo>
                        <a:lnTo>
                          <a:pt x="5" y="84"/>
                        </a:lnTo>
                        <a:lnTo>
                          <a:pt x="5" y="81"/>
                        </a:lnTo>
                        <a:lnTo>
                          <a:pt x="7" y="72"/>
                        </a:lnTo>
                        <a:lnTo>
                          <a:pt x="16" y="69"/>
                        </a:lnTo>
                        <a:lnTo>
                          <a:pt x="36" y="66"/>
                        </a:lnTo>
                        <a:lnTo>
                          <a:pt x="55" y="64"/>
                        </a:lnTo>
                        <a:lnTo>
                          <a:pt x="73" y="59"/>
                        </a:lnTo>
                        <a:lnTo>
                          <a:pt x="89" y="55"/>
                        </a:lnTo>
                        <a:lnTo>
                          <a:pt x="102" y="48"/>
                        </a:lnTo>
                        <a:lnTo>
                          <a:pt x="114" y="39"/>
                        </a:lnTo>
                        <a:lnTo>
                          <a:pt x="125" y="27"/>
                        </a:lnTo>
                        <a:lnTo>
                          <a:pt x="136" y="14"/>
                        </a:lnTo>
                        <a:lnTo>
                          <a:pt x="139" y="13"/>
                        </a:lnTo>
                        <a:lnTo>
                          <a:pt x="145" y="19"/>
                        </a:lnTo>
                        <a:lnTo>
                          <a:pt x="146" y="25"/>
                        </a:lnTo>
                        <a:lnTo>
                          <a:pt x="144" y="29"/>
                        </a:lnTo>
                        <a:lnTo>
                          <a:pt x="9" y="17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3" y="1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H="1">
                    <a:off x="299880" y="6429600"/>
                    <a:ext cx="1144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05">
                        <a:moveTo>
                          <a:pt x="70" y="0"/>
                        </a:moveTo>
                        <a:lnTo>
                          <a:pt x="90" y="2"/>
                        </a:lnTo>
                        <a:lnTo>
                          <a:pt x="109" y="8"/>
                        </a:lnTo>
                        <a:lnTo>
                          <a:pt x="123" y="14"/>
                        </a:lnTo>
                        <a:lnTo>
                          <a:pt x="135" y="24"/>
                        </a:lnTo>
                        <a:lnTo>
                          <a:pt x="141" y="33"/>
                        </a:lnTo>
                        <a:lnTo>
                          <a:pt x="145" y="46"/>
                        </a:lnTo>
                        <a:lnTo>
                          <a:pt x="144" y="59"/>
                        </a:lnTo>
                        <a:lnTo>
                          <a:pt x="141" y="76"/>
                        </a:lnTo>
                        <a:lnTo>
                          <a:pt x="139" y="81"/>
                        </a:lnTo>
                        <a:lnTo>
                          <a:pt x="135" y="83"/>
                        </a:lnTo>
                        <a:lnTo>
                          <a:pt x="124" y="86"/>
                        </a:lnTo>
                        <a:lnTo>
                          <a:pt x="113" y="89"/>
                        </a:lnTo>
                        <a:lnTo>
                          <a:pt x="101" y="93"/>
                        </a:lnTo>
                        <a:lnTo>
                          <a:pt x="89" y="96"/>
                        </a:lnTo>
                        <a:lnTo>
                          <a:pt x="76" y="98"/>
                        </a:lnTo>
                        <a:lnTo>
                          <a:pt x="65" y="101"/>
                        </a:lnTo>
                        <a:lnTo>
                          <a:pt x="52" y="103"/>
                        </a:lnTo>
                        <a:lnTo>
                          <a:pt x="42" y="105"/>
                        </a:lnTo>
                        <a:lnTo>
                          <a:pt x="4" y="86"/>
                        </a:lnTo>
                        <a:lnTo>
                          <a:pt x="0" y="82"/>
                        </a:lnTo>
                        <a:lnTo>
                          <a:pt x="0" y="78"/>
                        </a:lnTo>
                        <a:lnTo>
                          <a:pt x="2" y="74"/>
                        </a:lnTo>
                        <a:lnTo>
                          <a:pt x="9" y="74"/>
                        </a:lnTo>
                        <a:lnTo>
                          <a:pt x="45" y="84"/>
                        </a:lnTo>
                        <a:lnTo>
                          <a:pt x="55" y="82"/>
                        </a:lnTo>
                        <a:lnTo>
                          <a:pt x="66" y="80"/>
                        </a:lnTo>
                        <a:lnTo>
                          <a:pt x="75" y="76"/>
                        </a:lnTo>
                        <a:lnTo>
                          <a:pt x="87" y="74"/>
                        </a:lnTo>
                        <a:lnTo>
                          <a:pt x="97" y="71"/>
                        </a:lnTo>
                        <a:lnTo>
                          <a:pt x="108" y="68"/>
                        </a:lnTo>
                        <a:lnTo>
                          <a:pt x="117" y="65"/>
                        </a:lnTo>
                        <a:lnTo>
                          <a:pt x="127" y="62"/>
                        </a:lnTo>
                        <a:lnTo>
                          <a:pt x="126" y="62"/>
                        </a:lnTo>
                        <a:lnTo>
                          <a:pt x="124" y="66"/>
                        </a:lnTo>
                        <a:lnTo>
                          <a:pt x="121" y="68"/>
                        </a:lnTo>
                        <a:lnTo>
                          <a:pt x="121" y="69"/>
                        </a:lnTo>
                        <a:lnTo>
                          <a:pt x="123" y="57"/>
                        </a:lnTo>
                        <a:lnTo>
                          <a:pt x="123" y="47"/>
                        </a:lnTo>
                        <a:lnTo>
                          <a:pt x="120" y="38"/>
                        </a:lnTo>
                        <a:lnTo>
                          <a:pt x="115" y="31"/>
                        </a:lnTo>
                        <a:lnTo>
                          <a:pt x="106" y="25"/>
                        </a:lnTo>
                        <a:lnTo>
                          <a:pt x="96" y="21"/>
                        </a:lnTo>
                        <a:lnTo>
                          <a:pt x="82" y="16"/>
                        </a:lnTo>
                        <a:lnTo>
                          <a:pt x="68" y="15"/>
                        </a:lnTo>
                        <a:lnTo>
                          <a:pt x="61" y="11"/>
                        </a:lnTo>
                        <a:lnTo>
                          <a:pt x="60" y="7"/>
                        </a:lnTo>
                        <a:lnTo>
                          <a:pt x="64" y="1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flipH="1">
                    <a:off x="230040" y="6328080"/>
                    <a:ext cx="1000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76">
                        <a:moveTo>
                          <a:pt x="6" y="6"/>
                        </a:moveTo>
                        <a:lnTo>
                          <a:pt x="37" y="0"/>
                        </a:lnTo>
                        <a:lnTo>
                          <a:pt x="67" y="0"/>
                        </a:lnTo>
                        <a:lnTo>
                          <a:pt x="93" y="5"/>
                        </a:lnTo>
                        <a:lnTo>
                          <a:pt x="114" y="12"/>
                        </a:lnTo>
                        <a:lnTo>
                          <a:pt x="124" y="23"/>
                        </a:lnTo>
                        <a:lnTo>
                          <a:pt x="124" y="37"/>
                        </a:lnTo>
                        <a:lnTo>
                          <a:pt x="112" y="54"/>
                        </a:lnTo>
                        <a:lnTo>
                          <a:pt x="84" y="76"/>
                        </a:lnTo>
                        <a:lnTo>
                          <a:pt x="74" y="74"/>
                        </a:lnTo>
                        <a:lnTo>
                          <a:pt x="65" y="73"/>
                        </a:lnTo>
                        <a:lnTo>
                          <a:pt x="56" y="72"/>
                        </a:lnTo>
                        <a:lnTo>
                          <a:pt x="47" y="71"/>
                        </a:lnTo>
                        <a:lnTo>
                          <a:pt x="38" y="69"/>
                        </a:lnTo>
                        <a:lnTo>
                          <a:pt x="31" y="67"/>
                        </a:lnTo>
                        <a:lnTo>
                          <a:pt x="23" y="65"/>
                        </a:lnTo>
                        <a:lnTo>
                          <a:pt x="17" y="64"/>
                        </a:lnTo>
                        <a:lnTo>
                          <a:pt x="13" y="59"/>
                        </a:lnTo>
                        <a:lnTo>
                          <a:pt x="13" y="55"/>
                        </a:lnTo>
                        <a:lnTo>
                          <a:pt x="15" y="51"/>
                        </a:lnTo>
                        <a:lnTo>
                          <a:pt x="21" y="52"/>
                        </a:lnTo>
                        <a:lnTo>
                          <a:pt x="27" y="53"/>
                        </a:lnTo>
                        <a:lnTo>
                          <a:pt x="33" y="54"/>
                        </a:lnTo>
                        <a:lnTo>
                          <a:pt x="39" y="54"/>
                        </a:lnTo>
                        <a:lnTo>
                          <a:pt x="47" y="55"/>
                        </a:lnTo>
                        <a:lnTo>
                          <a:pt x="53" y="55"/>
                        </a:lnTo>
                        <a:lnTo>
                          <a:pt x="61" y="55"/>
                        </a:lnTo>
                        <a:lnTo>
                          <a:pt x="69" y="55"/>
                        </a:lnTo>
                        <a:lnTo>
                          <a:pt x="78" y="55"/>
                        </a:lnTo>
                        <a:lnTo>
                          <a:pt x="96" y="41"/>
                        </a:lnTo>
                        <a:lnTo>
                          <a:pt x="104" y="30"/>
                        </a:lnTo>
                        <a:lnTo>
                          <a:pt x="102" y="23"/>
                        </a:lnTo>
                        <a:lnTo>
                          <a:pt x="92" y="19"/>
                        </a:lnTo>
                        <a:lnTo>
                          <a:pt x="75" y="15"/>
                        </a:lnTo>
                        <a:lnTo>
                          <a:pt x="55" y="16"/>
                        </a:lnTo>
                        <a:lnTo>
                          <a:pt x="32" y="18"/>
                        </a:lnTo>
                        <a:lnTo>
                          <a:pt x="9" y="22"/>
                        </a:lnTo>
                        <a:lnTo>
                          <a:pt x="2" y="20"/>
                        </a:lnTo>
                        <a:lnTo>
                          <a:pt x="0" y="15"/>
                        </a:lnTo>
                        <a:lnTo>
                          <a:pt x="0" y="9"/>
                        </a:lnTo>
                        <a:lnTo>
                          <a:pt x="6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 flipH="1">
                    <a:off x="426600" y="6539040"/>
                    <a:ext cx="104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81">
                        <a:moveTo>
                          <a:pt x="28" y="15"/>
                        </a:moveTo>
                        <a:lnTo>
                          <a:pt x="25" y="27"/>
                        </a:lnTo>
                        <a:lnTo>
                          <a:pt x="22" y="35"/>
                        </a:lnTo>
                        <a:lnTo>
                          <a:pt x="20" y="40"/>
                        </a:lnTo>
                        <a:lnTo>
                          <a:pt x="20" y="44"/>
                        </a:lnTo>
                        <a:lnTo>
                          <a:pt x="21" y="46"/>
                        </a:lnTo>
                        <a:lnTo>
                          <a:pt x="25" y="50"/>
                        </a:lnTo>
                        <a:lnTo>
                          <a:pt x="30" y="55"/>
                        </a:lnTo>
                        <a:lnTo>
                          <a:pt x="39" y="64"/>
                        </a:lnTo>
                        <a:lnTo>
                          <a:pt x="36" y="64"/>
                        </a:lnTo>
                        <a:lnTo>
                          <a:pt x="33" y="62"/>
                        </a:lnTo>
                        <a:lnTo>
                          <a:pt x="30" y="60"/>
                        </a:lnTo>
                        <a:lnTo>
                          <a:pt x="31" y="61"/>
                        </a:lnTo>
                        <a:lnTo>
                          <a:pt x="53" y="61"/>
                        </a:lnTo>
                        <a:lnTo>
                          <a:pt x="72" y="62"/>
                        </a:lnTo>
                        <a:lnTo>
                          <a:pt x="87" y="61"/>
                        </a:lnTo>
                        <a:lnTo>
                          <a:pt x="100" y="59"/>
                        </a:lnTo>
                        <a:lnTo>
                          <a:pt x="107" y="52"/>
                        </a:lnTo>
                        <a:lnTo>
                          <a:pt x="113" y="43"/>
                        </a:lnTo>
                        <a:lnTo>
                          <a:pt x="114" y="29"/>
                        </a:lnTo>
                        <a:lnTo>
                          <a:pt x="113" y="11"/>
                        </a:lnTo>
                        <a:lnTo>
                          <a:pt x="114" y="3"/>
                        </a:lnTo>
                        <a:lnTo>
                          <a:pt x="119" y="0"/>
                        </a:lnTo>
                        <a:lnTo>
                          <a:pt x="126" y="0"/>
                        </a:lnTo>
                        <a:lnTo>
                          <a:pt x="130" y="7"/>
                        </a:lnTo>
                        <a:lnTo>
                          <a:pt x="132" y="31"/>
                        </a:lnTo>
                        <a:lnTo>
                          <a:pt x="131" y="50"/>
                        </a:lnTo>
                        <a:lnTo>
                          <a:pt x="126" y="63"/>
                        </a:lnTo>
                        <a:lnTo>
                          <a:pt x="117" y="74"/>
                        </a:lnTo>
                        <a:lnTo>
                          <a:pt x="102" y="78"/>
                        </a:lnTo>
                        <a:lnTo>
                          <a:pt x="83" y="81"/>
                        </a:lnTo>
                        <a:lnTo>
                          <a:pt x="58" y="81"/>
                        </a:lnTo>
                        <a:lnTo>
                          <a:pt x="30" y="81"/>
                        </a:lnTo>
                        <a:lnTo>
                          <a:pt x="26" y="79"/>
                        </a:lnTo>
                        <a:lnTo>
                          <a:pt x="21" y="78"/>
                        </a:lnTo>
                        <a:lnTo>
                          <a:pt x="12" y="65"/>
                        </a:lnTo>
                        <a:lnTo>
                          <a:pt x="5" y="59"/>
                        </a:lnTo>
                        <a:lnTo>
                          <a:pt x="1" y="54"/>
                        </a:lnTo>
                        <a:lnTo>
                          <a:pt x="0" y="51"/>
                        </a:lnTo>
                        <a:lnTo>
                          <a:pt x="0" y="46"/>
                        </a:lnTo>
                        <a:lnTo>
                          <a:pt x="3" y="40"/>
                        </a:lnTo>
                        <a:lnTo>
                          <a:pt x="6" y="28"/>
                        </a:lnTo>
                        <a:lnTo>
                          <a:pt x="11" y="12"/>
                        </a:lnTo>
                        <a:lnTo>
                          <a:pt x="14" y="5"/>
                        </a:lnTo>
                        <a:lnTo>
                          <a:pt x="20" y="5"/>
                        </a:lnTo>
                        <a:lnTo>
                          <a:pt x="26" y="7"/>
                        </a:lnTo>
                        <a:lnTo>
                          <a:pt x="2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 flipH="1">
                    <a:off x="269640" y="6543720"/>
                    <a:ext cx="1476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89">
                        <a:moveTo>
                          <a:pt x="12" y="52"/>
                        </a:moveTo>
                        <a:lnTo>
                          <a:pt x="55" y="71"/>
                        </a:lnTo>
                        <a:lnTo>
                          <a:pt x="116" y="68"/>
                        </a:lnTo>
                        <a:lnTo>
                          <a:pt x="130" y="59"/>
                        </a:lnTo>
                        <a:lnTo>
                          <a:pt x="142" y="53"/>
                        </a:lnTo>
                        <a:lnTo>
                          <a:pt x="147" y="45"/>
                        </a:lnTo>
                        <a:lnTo>
                          <a:pt x="151" y="39"/>
                        </a:lnTo>
                        <a:lnTo>
                          <a:pt x="147" y="32"/>
                        </a:lnTo>
                        <a:lnTo>
                          <a:pt x="141" y="27"/>
                        </a:lnTo>
                        <a:lnTo>
                          <a:pt x="128" y="24"/>
                        </a:lnTo>
                        <a:lnTo>
                          <a:pt x="112" y="22"/>
                        </a:lnTo>
                        <a:lnTo>
                          <a:pt x="80" y="25"/>
                        </a:lnTo>
                        <a:lnTo>
                          <a:pt x="70" y="22"/>
                        </a:lnTo>
                        <a:lnTo>
                          <a:pt x="68" y="16"/>
                        </a:lnTo>
                        <a:lnTo>
                          <a:pt x="69" y="9"/>
                        </a:lnTo>
                        <a:lnTo>
                          <a:pt x="76" y="4"/>
                        </a:lnTo>
                        <a:lnTo>
                          <a:pt x="111" y="0"/>
                        </a:lnTo>
                        <a:lnTo>
                          <a:pt x="143" y="3"/>
                        </a:lnTo>
                        <a:lnTo>
                          <a:pt x="166" y="11"/>
                        </a:lnTo>
                        <a:lnTo>
                          <a:pt x="180" y="20"/>
                        </a:lnTo>
                        <a:lnTo>
                          <a:pt x="185" y="32"/>
                        </a:lnTo>
                        <a:lnTo>
                          <a:pt x="181" y="44"/>
                        </a:lnTo>
                        <a:lnTo>
                          <a:pt x="169" y="58"/>
                        </a:lnTo>
                        <a:lnTo>
                          <a:pt x="148" y="72"/>
                        </a:lnTo>
                        <a:lnTo>
                          <a:pt x="120" y="86"/>
                        </a:lnTo>
                        <a:lnTo>
                          <a:pt x="51" y="89"/>
                        </a:lnTo>
                        <a:lnTo>
                          <a:pt x="5" y="67"/>
                        </a:lnTo>
                        <a:lnTo>
                          <a:pt x="0" y="60"/>
                        </a:lnTo>
                        <a:lnTo>
                          <a:pt x="1" y="55"/>
                        </a:lnTo>
                        <a:lnTo>
                          <a:pt x="4" y="51"/>
                        </a:lnTo>
                        <a:lnTo>
                          <a:pt x="12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H="1">
                    <a:off x="495000" y="6608880"/>
                    <a:ext cx="128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04">
                        <a:moveTo>
                          <a:pt x="101" y="16"/>
                        </a:moveTo>
                        <a:lnTo>
                          <a:pt x="76" y="19"/>
                        </a:lnTo>
                        <a:lnTo>
                          <a:pt x="58" y="23"/>
                        </a:lnTo>
                        <a:lnTo>
                          <a:pt x="44" y="24"/>
                        </a:lnTo>
                        <a:lnTo>
                          <a:pt x="34" y="28"/>
                        </a:lnTo>
                        <a:lnTo>
                          <a:pt x="28" y="32"/>
                        </a:lnTo>
                        <a:lnTo>
                          <a:pt x="24" y="43"/>
                        </a:lnTo>
                        <a:lnTo>
                          <a:pt x="23" y="58"/>
                        </a:lnTo>
                        <a:lnTo>
                          <a:pt x="23" y="82"/>
                        </a:lnTo>
                        <a:lnTo>
                          <a:pt x="21" y="81"/>
                        </a:lnTo>
                        <a:lnTo>
                          <a:pt x="18" y="77"/>
                        </a:lnTo>
                        <a:lnTo>
                          <a:pt x="15" y="71"/>
                        </a:lnTo>
                        <a:lnTo>
                          <a:pt x="16" y="70"/>
                        </a:lnTo>
                        <a:lnTo>
                          <a:pt x="25" y="73"/>
                        </a:lnTo>
                        <a:lnTo>
                          <a:pt x="35" y="76"/>
                        </a:lnTo>
                        <a:lnTo>
                          <a:pt x="43" y="77"/>
                        </a:lnTo>
                        <a:lnTo>
                          <a:pt x="52" y="79"/>
                        </a:lnTo>
                        <a:lnTo>
                          <a:pt x="61" y="79"/>
                        </a:lnTo>
                        <a:lnTo>
                          <a:pt x="73" y="79"/>
                        </a:lnTo>
                        <a:lnTo>
                          <a:pt x="86" y="77"/>
                        </a:lnTo>
                        <a:lnTo>
                          <a:pt x="103" y="76"/>
                        </a:lnTo>
                        <a:lnTo>
                          <a:pt x="112" y="72"/>
                        </a:lnTo>
                        <a:lnTo>
                          <a:pt x="121" y="68"/>
                        </a:lnTo>
                        <a:lnTo>
                          <a:pt x="130" y="62"/>
                        </a:lnTo>
                        <a:lnTo>
                          <a:pt x="137" y="58"/>
                        </a:lnTo>
                        <a:lnTo>
                          <a:pt x="142" y="52"/>
                        </a:lnTo>
                        <a:lnTo>
                          <a:pt x="143" y="45"/>
                        </a:lnTo>
                        <a:lnTo>
                          <a:pt x="138" y="39"/>
                        </a:lnTo>
                        <a:lnTo>
                          <a:pt x="131" y="33"/>
                        </a:lnTo>
                        <a:lnTo>
                          <a:pt x="127" y="27"/>
                        </a:lnTo>
                        <a:lnTo>
                          <a:pt x="128" y="21"/>
                        </a:lnTo>
                        <a:lnTo>
                          <a:pt x="132" y="17"/>
                        </a:lnTo>
                        <a:lnTo>
                          <a:pt x="139" y="19"/>
                        </a:lnTo>
                        <a:lnTo>
                          <a:pt x="153" y="30"/>
                        </a:lnTo>
                        <a:lnTo>
                          <a:pt x="161" y="42"/>
                        </a:lnTo>
                        <a:lnTo>
                          <a:pt x="162" y="54"/>
                        </a:lnTo>
                        <a:lnTo>
                          <a:pt x="158" y="65"/>
                        </a:lnTo>
                        <a:lnTo>
                          <a:pt x="149" y="75"/>
                        </a:lnTo>
                        <a:lnTo>
                          <a:pt x="137" y="86"/>
                        </a:lnTo>
                        <a:lnTo>
                          <a:pt x="122" y="93"/>
                        </a:lnTo>
                        <a:lnTo>
                          <a:pt x="108" y="100"/>
                        </a:lnTo>
                        <a:lnTo>
                          <a:pt x="89" y="101"/>
                        </a:lnTo>
                        <a:lnTo>
                          <a:pt x="74" y="103"/>
                        </a:lnTo>
                        <a:lnTo>
                          <a:pt x="60" y="103"/>
                        </a:lnTo>
                        <a:lnTo>
                          <a:pt x="49" y="104"/>
                        </a:lnTo>
                        <a:lnTo>
                          <a:pt x="38" y="102"/>
                        </a:lnTo>
                        <a:lnTo>
                          <a:pt x="29" y="100"/>
                        </a:lnTo>
                        <a:lnTo>
                          <a:pt x="18" y="96"/>
                        </a:lnTo>
                        <a:lnTo>
                          <a:pt x="7" y="92"/>
                        </a:lnTo>
                        <a:lnTo>
                          <a:pt x="1" y="88"/>
                        </a:lnTo>
                        <a:lnTo>
                          <a:pt x="0" y="82"/>
                        </a:lnTo>
                        <a:lnTo>
                          <a:pt x="0" y="53"/>
                        </a:lnTo>
                        <a:lnTo>
                          <a:pt x="2" y="33"/>
                        </a:lnTo>
                        <a:lnTo>
                          <a:pt x="5" y="20"/>
                        </a:lnTo>
                        <a:lnTo>
                          <a:pt x="14" y="14"/>
                        </a:lnTo>
                        <a:lnTo>
                          <a:pt x="24" y="9"/>
                        </a:lnTo>
                        <a:lnTo>
                          <a:pt x="43" y="6"/>
                        </a:lnTo>
                        <a:lnTo>
                          <a:pt x="66" y="4"/>
                        </a:lnTo>
                        <a:lnTo>
                          <a:pt x="98" y="0"/>
                        </a:lnTo>
                        <a:lnTo>
                          <a:pt x="104" y="1"/>
                        </a:lnTo>
                        <a:lnTo>
                          <a:pt x="107" y="6"/>
                        </a:lnTo>
                        <a:lnTo>
                          <a:pt x="105" y="12"/>
                        </a:lnTo>
                        <a:lnTo>
                          <a:pt x="101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 flipH="1">
                    <a:off x="360360" y="6650280"/>
                    <a:ext cx="1332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16">
                        <a:moveTo>
                          <a:pt x="63" y="12"/>
                        </a:moveTo>
                        <a:lnTo>
                          <a:pt x="26" y="46"/>
                        </a:lnTo>
                        <a:lnTo>
                          <a:pt x="22" y="55"/>
                        </a:lnTo>
                        <a:lnTo>
                          <a:pt x="21" y="63"/>
                        </a:lnTo>
                        <a:lnTo>
                          <a:pt x="20" y="68"/>
                        </a:lnTo>
                        <a:lnTo>
                          <a:pt x="22" y="74"/>
                        </a:lnTo>
                        <a:lnTo>
                          <a:pt x="24" y="77"/>
                        </a:lnTo>
                        <a:lnTo>
                          <a:pt x="30" y="80"/>
                        </a:lnTo>
                        <a:lnTo>
                          <a:pt x="38" y="83"/>
                        </a:lnTo>
                        <a:lnTo>
                          <a:pt x="50" y="88"/>
                        </a:lnTo>
                        <a:lnTo>
                          <a:pt x="68" y="90"/>
                        </a:lnTo>
                        <a:lnTo>
                          <a:pt x="81" y="92"/>
                        </a:lnTo>
                        <a:lnTo>
                          <a:pt x="89" y="93"/>
                        </a:lnTo>
                        <a:lnTo>
                          <a:pt x="96" y="94"/>
                        </a:lnTo>
                        <a:lnTo>
                          <a:pt x="100" y="93"/>
                        </a:lnTo>
                        <a:lnTo>
                          <a:pt x="109" y="91"/>
                        </a:lnTo>
                        <a:lnTo>
                          <a:pt x="121" y="87"/>
                        </a:lnTo>
                        <a:lnTo>
                          <a:pt x="140" y="82"/>
                        </a:lnTo>
                        <a:lnTo>
                          <a:pt x="139" y="82"/>
                        </a:lnTo>
                        <a:lnTo>
                          <a:pt x="137" y="84"/>
                        </a:lnTo>
                        <a:lnTo>
                          <a:pt x="135" y="85"/>
                        </a:lnTo>
                        <a:lnTo>
                          <a:pt x="134" y="87"/>
                        </a:lnTo>
                        <a:lnTo>
                          <a:pt x="139" y="73"/>
                        </a:lnTo>
                        <a:lnTo>
                          <a:pt x="143" y="65"/>
                        </a:lnTo>
                        <a:lnTo>
                          <a:pt x="145" y="60"/>
                        </a:lnTo>
                        <a:lnTo>
                          <a:pt x="146" y="59"/>
                        </a:lnTo>
                        <a:lnTo>
                          <a:pt x="144" y="55"/>
                        </a:lnTo>
                        <a:lnTo>
                          <a:pt x="141" y="52"/>
                        </a:lnTo>
                        <a:lnTo>
                          <a:pt x="135" y="46"/>
                        </a:lnTo>
                        <a:lnTo>
                          <a:pt x="128" y="37"/>
                        </a:lnTo>
                        <a:lnTo>
                          <a:pt x="102" y="20"/>
                        </a:lnTo>
                        <a:lnTo>
                          <a:pt x="98" y="15"/>
                        </a:lnTo>
                        <a:lnTo>
                          <a:pt x="99" y="10"/>
                        </a:lnTo>
                        <a:lnTo>
                          <a:pt x="102" y="7"/>
                        </a:lnTo>
                        <a:lnTo>
                          <a:pt x="109" y="8"/>
                        </a:lnTo>
                        <a:lnTo>
                          <a:pt x="141" y="21"/>
                        </a:lnTo>
                        <a:lnTo>
                          <a:pt x="152" y="34"/>
                        </a:lnTo>
                        <a:lnTo>
                          <a:pt x="160" y="43"/>
                        </a:lnTo>
                        <a:lnTo>
                          <a:pt x="165" y="47"/>
                        </a:lnTo>
                        <a:lnTo>
                          <a:pt x="168" y="52"/>
                        </a:lnTo>
                        <a:lnTo>
                          <a:pt x="168" y="55"/>
                        </a:lnTo>
                        <a:lnTo>
                          <a:pt x="165" y="63"/>
                        </a:lnTo>
                        <a:lnTo>
                          <a:pt x="158" y="75"/>
                        </a:lnTo>
                        <a:lnTo>
                          <a:pt x="152" y="94"/>
                        </a:lnTo>
                        <a:lnTo>
                          <a:pt x="149" y="97"/>
                        </a:lnTo>
                        <a:lnTo>
                          <a:pt x="145" y="99"/>
                        </a:lnTo>
                        <a:lnTo>
                          <a:pt x="124" y="105"/>
                        </a:lnTo>
                        <a:lnTo>
                          <a:pt x="111" y="110"/>
                        </a:lnTo>
                        <a:lnTo>
                          <a:pt x="101" y="113"/>
                        </a:lnTo>
                        <a:lnTo>
                          <a:pt x="96" y="116"/>
                        </a:lnTo>
                        <a:lnTo>
                          <a:pt x="88" y="114"/>
                        </a:lnTo>
                        <a:lnTo>
                          <a:pt x="80" y="113"/>
                        </a:lnTo>
                        <a:lnTo>
                          <a:pt x="66" y="111"/>
                        </a:lnTo>
                        <a:lnTo>
                          <a:pt x="45" y="109"/>
                        </a:lnTo>
                        <a:lnTo>
                          <a:pt x="28" y="103"/>
                        </a:lnTo>
                        <a:lnTo>
                          <a:pt x="16" y="96"/>
                        </a:lnTo>
                        <a:lnTo>
                          <a:pt x="7" y="90"/>
                        </a:lnTo>
                        <a:lnTo>
                          <a:pt x="2" y="83"/>
                        </a:lnTo>
                        <a:lnTo>
                          <a:pt x="0" y="74"/>
                        </a:lnTo>
                        <a:lnTo>
                          <a:pt x="1" y="64"/>
                        </a:lnTo>
                        <a:lnTo>
                          <a:pt x="5" y="50"/>
                        </a:lnTo>
                        <a:lnTo>
                          <a:pt x="11" y="35"/>
                        </a:lnTo>
                        <a:lnTo>
                          <a:pt x="54" y="2"/>
                        </a:lnTo>
                        <a:lnTo>
                          <a:pt x="58" y="0"/>
                        </a:lnTo>
                        <a:lnTo>
                          <a:pt x="64" y="3"/>
                        </a:lnTo>
                        <a:lnTo>
                          <a:pt x="65" y="7"/>
                        </a:lnTo>
                        <a:lnTo>
                          <a:pt x="63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 flipH="1">
                    <a:off x="307440" y="6618600"/>
                    <a:ext cx="73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68">
                        <a:moveTo>
                          <a:pt x="23" y="0"/>
                        </a:moveTo>
                        <a:lnTo>
                          <a:pt x="30" y="0"/>
                        </a:lnTo>
                        <a:lnTo>
                          <a:pt x="42" y="1"/>
                        </a:lnTo>
                        <a:lnTo>
                          <a:pt x="56" y="4"/>
                        </a:lnTo>
                        <a:lnTo>
                          <a:pt x="70" y="9"/>
                        </a:lnTo>
                        <a:lnTo>
                          <a:pt x="81" y="15"/>
                        </a:lnTo>
                        <a:lnTo>
                          <a:pt x="89" y="23"/>
                        </a:lnTo>
                        <a:lnTo>
                          <a:pt x="92" y="34"/>
                        </a:lnTo>
                        <a:lnTo>
                          <a:pt x="88" y="49"/>
                        </a:lnTo>
                        <a:lnTo>
                          <a:pt x="81" y="57"/>
                        </a:lnTo>
                        <a:lnTo>
                          <a:pt x="73" y="63"/>
                        </a:lnTo>
                        <a:lnTo>
                          <a:pt x="64" y="66"/>
                        </a:lnTo>
                        <a:lnTo>
                          <a:pt x="55" y="68"/>
                        </a:lnTo>
                        <a:lnTo>
                          <a:pt x="43" y="67"/>
                        </a:lnTo>
                        <a:lnTo>
                          <a:pt x="32" y="67"/>
                        </a:lnTo>
                        <a:lnTo>
                          <a:pt x="21" y="66"/>
                        </a:lnTo>
                        <a:lnTo>
                          <a:pt x="10" y="66"/>
                        </a:lnTo>
                        <a:lnTo>
                          <a:pt x="1" y="62"/>
                        </a:lnTo>
                        <a:lnTo>
                          <a:pt x="0" y="54"/>
                        </a:lnTo>
                        <a:lnTo>
                          <a:pt x="2" y="47"/>
                        </a:lnTo>
                        <a:lnTo>
                          <a:pt x="12" y="45"/>
                        </a:lnTo>
                        <a:lnTo>
                          <a:pt x="20" y="45"/>
                        </a:lnTo>
                        <a:lnTo>
                          <a:pt x="28" y="47"/>
                        </a:lnTo>
                        <a:lnTo>
                          <a:pt x="37" y="48"/>
                        </a:lnTo>
                        <a:lnTo>
                          <a:pt x="45" y="50"/>
                        </a:lnTo>
                        <a:lnTo>
                          <a:pt x="53" y="49"/>
                        </a:lnTo>
                        <a:lnTo>
                          <a:pt x="60" y="48"/>
                        </a:lnTo>
                        <a:lnTo>
                          <a:pt x="66" y="45"/>
                        </a:lnTo>
                        <a:lnTo>
                          <a:pt x="72" y="39"/>
                        </a:lnTo>
                        <a:lnTo>
                          <a:pt x="74" y="30"/>
                        </a:lnTo>
                        <a:lnTo>
                          <a:pt x="72" y="23"/>
                        </a:lnTo>
                        <a:lnTo>
                          <a:pt x="65" y="19"/>
                        </a:lnTo>
                        <a:lnTo>
                          <a:pt x="56" y="18"/>
                        </a:lnTo>
                        <a:lnTo>
                          <a:pt x="45" y="16"/>
                        </a:lnTo>
                        <a:lnTo>
                          <a:pt x="36" y="16"/>
                        </a:lnTo>
                        <a:lnTo>
                          <a:pt x="27" y="16"/>
                        </a:lnTo>
                        <a:lnTo>
                          <a:pt x="22" y="17"/>
                        </a:lnTo>
                        <a:lnTo>
                          <a:pt x="14" y="13"/>
                        </a:lnTo>
                        <a:lnTo>
                          <a:pt x="13" y="7"/>
                        </a:lnTo>
                        <a:lnTo>
                          <a:pt x="15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flipH="1">
                    <a:off x="152280" y="6662880"/>
                    <a:ext cx="1382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11">
                        <a:moveTo>
                          <a:pt x="65" y="8"/>
                        </a:moveTo>
                        <a:lnTo>
                          <a:pt x="79" y="2"/>
                        </a:lnTo>
                        <a:lnTo>
                          <a:pt x="96" y="0"/>
                        </a:lnTo>
                        <a:lnTo>
                          <a:pt x="114" y="1"/>
                        </a:lnTo>
                        <a:lnTo>
                          <a:pt x="134" y="5"/>
                        </a:lnTo>
                        <a:lnTo>
                          <a:pt x="149" y="13"/>
                        </a:lnTo>
                        <a:lnTo>
                          <a:pt x="161" y="23"/>
                        </a:lnTo>
                        <a:lnTo>
                          <a:pt x="170" y="38"/>
                        </a:lnTo>
                        <a:lnTo>
                          <a:pt x="173" y="58"/>
                        </a:lnTo>
                        <a:lnTo>
                          <a:pt x="168" y="74"/>
                        </a:lnTo>
                        <a:lnTo>
                          <a:pt x="159" y="87"/>
                        </a:lnTo>
                        <a:lnTo>
                          <a:pt x="145" y="96"/>
                        </a:lnTo>
                        <a:lnTo>
                          <a:pt x="129" y="103"/>
                        </a:lnTo>
                        <a:lnTo>
                          <a:pt x="110" y="106"/>
                        </a:lnTo>
                        <a:lnTo>
                          <a:pt x="89" y="109"/>
                        </a:lnTo>
                        <a:lnTo>
                          <a:pt x="69" y="110"/>
                        </a:lnTo>
                        <a:lnTo>
                          <a:pt x="50" y="111"/>
                        </a:lnTo>
                        <a:lnTo>
                          <a:pt x="7" y="81"/>
                        </a:lnTo>
                        <a:lnTo>
                          <a:pt x="3" y="78"/>
                        </a:lnTo>
                        <a:lnTo>
                          <a:pt x="2" y="74"/>
                        </a:lnTo>
                        <a:lnTo>
                          <a:pt x="0" y="56"/>
                        </a:lnTo>
                        <a:lnTo>
                          <a:pt x="1" y="47"/>
                        </a:lnTo>
                        <a:lnTo>
                          <a:pt x="9" y="44"/>
                        </a:lnTo>
                        <a:lnTo>
                          <a:pt x="15" y="44"/>
                        </a:lnTo>
                        <a:lnTo>
                          <a:pt x="21" y="51"/>
                        </a:lnTo>
                        <a:lnTo>
                          <a:pt x="24" y="65"/>
                        </a:lnTo>
                        <a:lnTo>
                          <a:pt x="57" y="90"/>
                        </a:lnTo>
                        <a:lnTo>
                          <a:pt x="72" y="90"/>
                        </a:lnTo>
                        <a:lnTo>
                          <a:pt x="88" y="90"/>
                        </a:lnTo>
                        <a:lnTo>
                          <a:pt x="103" y="89"/>
                        </a:lnTo>
                        <a:lnTo>
                          <a:pt x="120" y="88"/>
                        </a:lnTo>
                        <a:lnTo>
                          <a:pt x="131" y="83"/>
                        </a:lnTo>
                        <a:lnTo>
                          <a:pt x="142" y="78"/>
                        </a:lnTo>
                        <a:lnTo>
                          <a:pt x="149" y="68"/>
                        </a:lnTo>
                        <a:lnTo>
                          <a:pt x="153" y="57"/>
                        </a:lnTo>
                        <a:lnTo>
                          <a:pt x="150" y="43"/>
                        </a:lnTo>
                        <a:lnTo>
                          <a:pt x="144" y="33"/>
                        </a:lnTo>
                        <a:lnTo>
                          <a:pt x="135" y="25"/>
                        </a:lnTo>
                        <a:lnTo>
                          <a:pt x="123" y="21"/>
                        </a:lnTo>
                        <a:lnTo>
                          <a:pt x="109" y="18"/>
                        </a:lnTo>
                        <a:lnTo>
                          <a:pt x="96" y="19"/>
                        </a:lnTo>
                        <a:lnTo>
                          <a:pt x="82" y="21"/>
                        </a:lnTo>
                        <a:lnTo>
                          <a:pt x="72" y="25"/>
                        </a:lnTo>
                        <a:lnTo>
                          <a:pt x="64" y="24"/>
                        </a:lnTo>
                        <a:lnTo>
                          <a:pt x="59" y="20"/>
                        </a:lnTo>
                        <a:lnTo>
                          <a:pt x="58" y="13"/>
                        </a:lnTo>
                        <a:lnTo>
                          <a:pt x="65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 flipH="1" flipV="1">
                    <a:off x="253800" y="6292800"/>
                    <a:ext cx="1800" cy="198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 flipH="1" flipV="1">
                    <a:off x="169920" y="6440400"/>
                    <a:ext cx="60120" cy="60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H="1">
                    <a:off x="83880" y="6526440"/>
                    <a:ext cx="136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 flipH="1">
                    <a:off x="169920" y="6550200"/>
                    <a:ext cx="601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 flipH="1">
                    <a:off x="253800" y="6561360"/>
                    <a:ext cx="1800" cy="168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279360" y="655020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290520" y="6526440"/>
                    <a:ext cx="1332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V="1">
                    <a:off x="279360" y="6440400"/>
                    <a:ext cx="61920" cy="60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8" name=""/>
              <p:cNvGrpSpPr/>
              <p:nvPr/>
            </p:nvGrpSpPr>
            <p:grpSpPr>
              <a:xfrm>
                <a:off x="134280" y="4476240"/>
                <a:ext cx="2138040" cy="1778400"/>
                <a:chOff x="134280" y="4476240"/>
                <a:chExt cx="2138040" cy="1778400"/>
              </a:xfrm>
            </p:grpSpPr>
            <p:sp>
              <p:nvSpPr>
                <p:cNvPr id="1359" name=""/>
                <p:cNvSpPr/>
                <p:nvPr/>
              </p:nvSpPr>
              <p:spPr>
                <a:xfrm rot="12077400">
                  <a:off x="610920" y="476892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79" h="2331">
                      <a:moveTo>
                        <a:pt x="4336" y="245"/>
                      </a:moveTo>
                      <a:lnTo>
                        <a:pt x="4255" y="183"/>
                      </a:lnTo>
                      <a:lnTo>
                        <a:pt x="4173" y="167"/>
                      </a:lnTo>
                      <a:lnTo>
                        <a:pt x="4092" y="187"/>
                      </a:lnTo>
                      <a:lnTo>
                        <a:pt x="4005" y="245"/>
                      </a:lnTo>
                      <a:lnTo>
                        <a:pt x="3991" y="297"/>
                      </a:lnTo>
                      <a:lnTo>
                        <a:pt x="4009" y="311"/>
                      </a:lnTo>
                      <a:lnTo>
                        <a:pt x="4030" y="317"/>
                      </a:lnTo>
                      <a:lnTo>
                        <a:pt x="4131" y="392"/>
                      </a:lnTo>
                      <a:lnTo>
                        <a:pt x="4158" y="458"/>
                      </a:lnTo>
                      <a:lnTo>
                        <a:pt x="4243" y="448"/>
                      </a:lnTo>
                      <a:lnTo>
                        <a:pt x="4323" y="406"/>
                      </a:lnTo>
                      <a:lnTo>
                        <a:pt x="4365" y="336"/>
                      </a:lnTo>
                      <a:lnTo>
                        <a:pt x="4336" y="245"/>
                      </a:lnTo>
                      <a:close/>
                      <a:moveTo>
                        <a:pt x="4462" y="125"/>
                      </a:moveTo>
                      <a:lnTo>
                        <a:pt x="4567" y="245"/>
                      </a:lnTo>
                      <a:lnTo>
                        <a:pt x="4579" y="388"/>
                      </a:lnTo>
                      <a:lnTo>
                        <a:pt x="4538" y="472"/>
                      </a:lnTo>
                      <a:lnTo>
                        <a:pt x="4428" y="555"/>
                      </a:lnTo>
                      <a:lnTo>
                        <a:pt x="4317" y="600"/>
                      </a:lnTo>
                      <a:lnTo>
                        <a:pt x="4173" y="607"/>
                      </a:lnTo>
                      <a:lnTo>
                        <a:pt x="4158" y="607"/>
                      </a:lnTo>
                      <a:lnTo>
                        <a:pt x="4102" y="774"/>
                      </a:lnTo>
                      <a:lnTo>
                        <a:pt x="3987" y="891"/>
                      </a:lnTo>
                      <a:lnTo>
                        <a:pt x="3848" y="941"/>
                      </a:lnTo>
                      <a:lnTo>
                        <a:pt x="3743" y="947"/>
                      </a:lnTo>
                      <a:lnTo>
                        <a:pt x="3863" y="1162"/>
                      </a:lnTo>
                      <a:lnTo>
                        <a:pt x="3863" y="1176"/>
                      </a:lnTo>
                      <a:lnTo>
                        <a:pt x="3669" y="1267"/>
                      </a:lnTo>
                      <a:lnTo>
                        <a:pt x="3625" y="1259"/>
                      </a:lnTo>
                      <a:lnTo>
                        <a:pt x="3074" y="988"/>
                      </a:lnTo>
                      <a:lnTo>
                        <a:pt x="2655" y="1220"/>
                      </a:lnTo>
                      <a:lnTo>
                        <a:pt x="2170" y="1490"/>
                      </a:lnTo>
                      <a:lnTo>
                        <a:pt x="2157" y="1713"/>
                      </a:lnTo>
                      <a:lnTo>
                        <a:pt x="2125" y="1796"/>
                      </a:lnTo>
                      <a:lnTo>
                        <a:pt x="2025" y="1887"/>
                      </a:lnTo>
                      <a:lnTo>
                        <a:pt x="1910" y="1949"/>
                      </a:lnTo>
                      <a:lnTo>
                        <a:pt x="1648" y="1986"/>
                      </a:lnTo>
                      <a:lnTo>
                        <a:pt x="1532" y="1967"/>
                      </a:lnTo>
                      <a:lnTo>
                        <a:pt x="1416" y="1953"/>
                      </a:lnTo>
                      <a:lnTo>
                        <a:pt x="1445" y="1977"/>
                      </a:lnTo>
                      <a:lnTo>
                        <a:pt x="1681" y="2062"/>
                      </a:lnTo>
                      <a:lnTo>
                        <a:pt x="2046" y="2116"/>
                      </a:lnTo>
                      <a:lnTo>
                        <a:pt x="2292" y="2106"/>
                      </a:lnTo>
                      <a:lnTo>
                        <a:pt x="2467" y="2062"/>
                      </a:lnTo>
                      <a:lnTo>
                        <a:pt x="2484" y="2046"/>
                      </a:lnTo>
                      <a:lnTo>
                        <a:pt x="2414" y="2010"/>
                      </a:lnTo>
                      <a:lnTo>
                        <a:pt x="2277" y="1967"/>
                      </a:lnTo>
                      <a:lnTo>
                        <a:pt x="2261" y="1942"/>
                      </a:lnTo>
                      <a:lnTo>
                        <a:pt x="2292" y="1926"/>
                      </a:lnTo>
                      <a:lnTo>
                        <a:pt x="2473" y="1891"/>
                      </a:lnTo>
                      <a:lnTo>
                        <a:pt x="2874" y="1738"/>
                      </a:lnTo>
                      <a:lnTo>
                        <a:pt x="3070" y="1633"/>
                      </a:lnTo>
                      <a:lnTo>
                        <a:pt x="3089" y="1633"/>
                      </a:lnTo>
                      <a:lnTo>
                        <a:pt x="3070" y="1690"/>
                      </a:lnTo>
                      <a:lnTo>
                        <a:pt x="2839" y="2231"/>
                      </a:lnTo>
                      <a:lnTo>
                        <a:pt x="2797" y="2316"/>
                      </a:lnTo>
                      <a:lnTo>
                        <a:pt x="2777" y="2331"/>
                      </a:lnTo>
                      <a:lnTo>
                        <a:pt x="2647" y="2169"/>
                      </a:lnTo>
                      <a:lnTo>
                        <a:pt x="2647" y="2165"/>
                      </a:lnTo>
                      <a:lnTo>
                        <a:pt x="2587" y="2178"/>
                      </a:lnTo>
                      <a:lnTo>
                        <a:pt x="2430" y="2225"/>
                      </a:lnTo>
                      <a:lnTo>
                        <a:pt x="2083" y="2304"/>
                      </a:lnTo>
                      <a:lnTo>
                        <a:pt x="1864" y="2310"/>
                      </a:lnTo>
                      <a:lnTo>
                        <a:pt x="1319" y="2248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43" y="1982"/>
                      </a:lnTo>
                      <a:lnTo>
                        <a:pt x="725" y="1949"/>
                      </a:lnTo>
                      <a:lnTo>
                        <a:pt x="688" y="1926"/>
                      </a:lnTo>
                      <a:lnTo>
                        <a:pt x="481" y="1914"/>
                      </a:lnTo>
                      <a:lnTo>
                        <a:pt x="219" y="1986"/>
                      </a:lnTo>
                      <a:lnTo>
                        <a:pt x="114" y="2031"/>
                      </a:lnTo>
                      <a:lnTo>
                        <a:pt x="83" y="2046"/>
                      </a:lnTo>
                      <a:lnTo>
                        <a:pt x="78" y="2044"/>
                      </a:lnTo>
                      <a:lnTo>
                        <a:pt x="78" y="2033"/>
                      </a:lnTo>
                      <a:lnTo>
                        <a:pt x="97" y="2019"/>
                      </a:lnTo>
                      <a:lnTo>
                        <a:pt x="48" y="2015"/>
                      </a:lnTo>
                      <a:lnTo>
                        <a:pt x="72" y="1986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68" y="1967"/>
                      </a:lnTo>
                      <a:lnTo>
                        <a:pt x="78" y="1957"/>
                      </a:lnTo>
                      <a:lnTo>
                        <a:pt x="10" y="1963"/>
                      </a:lnTo>
                      <a:lnTo>
                        <a:pt x="6" y="1967"/>
                      </a:lnTo>
                      <a:lnTo>
                        <a:pt x="0" y="1957"/>
                      </a:lnTo>
                      <a:lnTo>
                        <a:pt x="10" y="1949"/>
                      </a:lnTo>
                      <a:lnTo>
                        <a:pt x="60" y="1942"/>
                      </a:lnTo>
                      <a:lnTo>
                        <a:pt x="78" y="1926"/>
                      </a:lnTo>
                      <a:lnTo>
                        <a:pt x="72" y="1911"/>
                      </a:lnTo>
                      <a:lnTo>
                        <a:pt x="35" y="1901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207" y="1891"/>
                      </a:lnTo>
                      <a:lnTo>
                        <a:pt x="384" y="1843"/>
                      </a:lnTo>
                      <a:lnTo>
                        <a:pt x="537" y="1804"/>
                      </a:lnTo>
                      <a:lnTo>
                        <a:pt x="659" y="1810"/>
                      </a:lnTo>
                      <a:lnTo>
                        <a:pt x="634" y="1633"/>
                      </a:lnTo>
                      <a:lnTo>
                        <a:pt x="712" y="1401"/>
                      </a:lnTo>
                      <a:lnTo>
                        <a:pt x="865" y="1168"/>
                      </a:lnTo>
                      <a:lnTo>
                        <a:pt x="1100" y="939"/>
                      </a:lnTo>
                      <a:lnTo>
                        <a:pt x="1319" y="780"/>
                      </a:lnTo>
                      <a:lnTo>
                        <a:pt x="1233" y="732"/>
                      </a:lnTo>
                      <a:lnTo>
                        <a:pt x="1090" y="685"/>
                      </a:lnTo>
                      <a:lnTo>
                        <a:pt x="1032" y="654"/>
                      </a:lnTo>
                      <a:lnTo>
                        <a:pt x="1039" y="623"/>
                      </a:lnTo>
                      <a:lnTo>
                        <a:pt x="1057" y="613"/>
                      </a:lnTo>
                      <a:lnTo>
                        <a:pt x="1276" y="613"/>
                      </a:lnTo>
                      <a:lnTo>
                        <a:pt x="1557" y="586"/>
                      </a:lnTo>
                      <a:lnTo>
                        <a:pt x="1722" y="582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668" y="863"/>
                      </a:lnTo>
                      <a:lnTo>
                        <a:pt x="1515" y="1032"/>
                      </a:lnTo>
                      <a:lnTo>
                        <a:pt x="1484" y="1081"/>
                      </a:lnTo>
                      <a:lnTo>
                        <a:pt x="1466" y="1092"/>
                      </a:lnTo>
                      <a:lnTo>
                        <a:pt x="1441" y="1071"/>
                      </a:lnTo>
                      <a:lnTo>
                        <a:pt x="1416" y="910"/>
                      </a:lnTo>
                      <a:lnTo>
                        <a:pt x="1412" y="904"/>
                      </a:lnTo>
                      <a:lnTo>
                        <a:pt x="1319" y="988"/>
                      </a:lnTo>
                      <a:lnTo>
                        <a:pt x="1191" y="1181"/>
                      </a:lnTo>
                      <a:lnTo>
                        <a:pt x="1109" y="1364"/>
                      </a:lnTo>
                      <a:lnTo>
                        <a:pt x="1080" y="1593"/>
                      </a:lnTo>
                      <a:lnTo>
                        <a:pt x="1109" y="1728"/>
                      </a:lnTo>
                      <a:lnTo>
                        <a:pt x="1162" y="1775"/>
                      </a:lnTo>
                      <a:lnTo>
                        <a:pt x="1245" y="1744"/>
                      </a:lnTo>
                      <a:lnTo>
                        <a:pt x="1416" y="1649"/>
                      </a:lnTo>
                      <a:lnTo>
                        <a:pt x="2017" y="1329"/>
                      </a:lnTo>
                      <a:lnTo>
                        <a:pt x="1984" y="1176"/>
                      </a:lnTo>
                      <a:lnTo>
                        <a:pt x="2007" y="1019"/>
                      </a:lnTo>
                      <a:lnTo>
                        <a:pt x="2083" y="900"/>
                      </a:lnTo>
                      <a:lnTo>
                        <a:pt x="2240" y="796"/>
                      </a:lnTo>
                      <a:lnTo>
                        <a:pt x="2387" y="751"/>
                      </a:lnTo>
                      <a:lnTo>
                        <a:pt x="2606" y="737"/>
                      </a:lnTo>
                      <a:lnTo>
                        <a:pt x="2820" y="772"/>
                      </a:lnTo>
                      <a:lnTo>
                        <a:pt x="2878" y="790"/>
                      </a:lnTo>
                      <a:lnTo>
                        <a:pt x="2862" y="710"/>
                      </a:lnTo>
                      <a:lnTo>
                        <a:pt x="2754" y="412"/>
                      </a:lnTo>
                      <a:lnTo>
                        <a:pt x="2812" y="357"/>
                      </a:lnTo>
                      <a:lnTo>
                        <a:pt x="2917" y="305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7"/>
                      </a:lnTo>
                      <a:lnTo>
                        <a:pt x="3689" y="429"/>
                      </a:lnTo>
                      <a:lnTo>
                        <a:pt x="3673" y="367"/>
                      </a:lnTo>
                      <a:lnTo>
                        <a:pt x="3698" y="330"/>
                      </a:lnTo>
                      <a:lnTo>
                        <a:pt x="3786" y="287"/>
                      </a:lnTo>
                      <a:lnTo>
                        <a:pt x="3786" y="204"/>
                      </a:lnTo>
                      <a:lnTo>
                        <a:pt x="3826" y="128"/>
                      </a:lnTo>
                      <a:lnTo>
                        <a:pt x="3939" y="45"/>
                      </a:lnTo>
                      <a:lnTo>
                        <a:pt x="4059" y="10"/>
                      </a:lnTo>
                      <a:lnTo>
                        <a:pt x="4144" y="0"/>
                      </a:lnTo>
                      <a:lnTo>
                        <a:pt x="4309" y="37"/>
                      </a:lnTo>
                      <a:lnTo>
                        <a:pt x="4462" y="125"/>
                      </a:lnTo>
                      <a:close/>
                      <a:moveTo>
                        <a:pt x="1941" y="1786"/>
                      </a:moveTo>
                      <a:lnTo>
                        <a:pt x="1992" y="1705"/>
                      </a:lnTo>
                      <a:lnTo>
                        <a:pt x="2003" y="1581"/>
                      </a:lnTo>
                      <a:lnTo>
                        <a:pt x="1520" y="1849"/>
                      </a:lnTo>
                      <a:lnTo>
                        <a:pt x="1546" y="1849"/>
                      </a:lnTo>
                      <a:lnTo>
                        <a:pt x="1598" y="1866"/>
                      </a:lnTo>
                      <a:lnTo>
                        <a:pt x="1685" y="1878"/>
                      </a:lnTo>
                      <a:lnTo>
                        <a:pt x="1825" y="1852"/>
                      </a:lnTo>
                      <a:lnTo>
                        <a:pt x="1941" y="1786"/>
                      </a:lnTo>
                      <a:close/>
                      <a:moveTo>
                        <a:pt x="2787" y="887"/>
                      </a:moveTo>
                      <a:lnTo>
                        <a:pt x="2771" y="877"/>
                      </a:lnTo>
                      <a:lnTo>
                        <a:pt x="2473" y="842"/>
                      </a:lnTo>
                      <a:lnTo>
                        <a:pt x="2362" y="865"/>
                      </a:lnTo>
                      <a:lnTo>
                        <a:pt x="2261" y="918"/>
                      </a:lnTo>
                      <a:lnTo>
                        <a:pt x="2193" y="982"/>
                      </a:lnTo>
                      <a:lnTo>
                        <a:pt x="2125" y="1108"/>
                      </a:lnTo>
                      <a:lnTo>
                        <a:pt x="2149" y="1251"/>
                      </a:lnTo>
                      <a:lnTo>
                        <a:pt x="2787" y="887"/>
                      </a:lnTo>
                      <a:close/>
                      <a:moveTo>
                        <a:pt x="3972" y="732"/>
                      </a:moveTo>
                      <a:lnTo>
                        <a:pt x="4036" y="594"/>
                      </a:lnTo>
                      <a:lnTo>
                        <a:pt x="3906" y="526"/>
                      </a:lnTo>
                      <a:lnTo>
                        <a:pt x="3632" y="681"/>
                      </a:lnTo>
                      <a:lnTo>
                        <a:pt x="3698" y="842"/>
                      </a:lnTo>
                      <a:lnTo>
                        <a:pt x="3795" y="846"/>
                      </a:lnTo>
                      <a:lnTo>
                        <a:pt x="3906" y="797"/>
                      </a:lnTo>
                      <a:lnTo>
                        <a:pt x="3972" y="732"/>
                      </a:lnTo>
                      <a:close/>
                    </a:path>
                  </a:pathLst>
                </a:custGeom>
                <a:solidFill>
                  <a:srgbClr val="7c54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rot="12077400">
                  <a:off x="621000" y="5128920"/>
                  <a:ext cx="121320" cy="94680"/>
                </a:xfrm>
                <a:custGeom>
                  <a:avLst/>
                  <a:gdLst/>
                  <a:ahLst/>
                  <a:rect l="l" t="t" r="r" b="b"/>
                  <a:pathLst>
                    <a:path w="378" h="293">
                      <a:moveTo>
                        <a:pt x="349" y="78"/>
                      </a:moveTo>
                      <a:lnTo>
                        <a:pt x="266" y="14"/>
                      </a:lnTo>
                      <a:lnTo>
                        <a:pt x="184" y="0"/>
                      </a:lnTo>
                      <a:lnTo>
                        <a:pt x="101" y="18"/>
                      </a:lnTo>
                      <a:lnTo>
                        <a:pt x="14" y="78"/>
                      </a:lnTo>
                      <a:lnTo>
                        <a:pt x="0" y="130"/>
                      </a:lnTo>
                      <a:lnTo>
                        <a:pt x="20" y="144"/>
                      </a:lnTo>
                      <a:lnTo>
                        <a:pt x="41" y="151"/>
                      </a:lnTo>
                      <a:lnTo>
                        <a:pt x="142" y="227"/>
                      </a:lnTo>
                      <a:lnTo>
                        <a:pt x="140" y="225"/>
                      </a:lnTo>
                      <a:lnTo>
                        <a:pt x="169" y="293"/>
                      </a:lnTo>
                      <a:lnTo>
                        <a:pt x="254" y="283"/>
                      </a:lnTo>
                      <a:lnTo>
                        <a:pt x="334" y="239"/>
                      </a:lnTo>
                      <a:lnTo>
                        <a:pt x="378" y="169"/>
                      </a:lnTo>
                      <a:lnTo>
                        <a:pt x="349" y="78"/>
                      </a:lnTo>
                      <a:lnTo>
                        <a:pt x="345" y="80"/>
                      </a:lnTo>
                      <a:lnTo>
                        <a:pt x="375" y="169"/>
                      </a:lnTo>
                      <a:lnTo>
                        <a:pt x="375" y="167"/>
                      </a:lnTo>
                      <a:lnTo>
                        <a:pt x="332" y="237"/>
                      </a:lnTo>
                      <a:lnTo>
                        <a:pt x="334" y="237"/>
                      </a:lnTo>
                      <a:lnTo>
                        <a:pt x="252" y="281"/>
                      </a:lnTo>
                      <a:lnTo>
                        <a:pt x="254" y="281"/>
                      </a:lnTo>
                      <a:lnTo>
                        <a:pt x="169" y="289"/>
                      </a:lnTo>
                      <a:lnTo>
                        <a:pt x="171" y="291"/>
                      </a:lnTo>
                      <a:lnTo>
                        <a:pt x="144" y="225"/>
                      </a:lnTo>
                      <a:lnTo>
                        <a:pt x="43" y="148"/>
                      </a:lnTo>
                      <a:lnTo>
                        <a:pt x="22" y="142"/>
                      </a:lnTo>
                      <a:lnTo>
                        <a:pt x="2" y="128"/>
                      </a:lnTo>
                      <a:lnTo>
                        <a:pt x="4" y="130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03" y="22"/>
                      </a:lnTo>
                      <a:lnTo>
                        <a:pt x="103" y="22"/>
                      </a:lnTo>
                      <a:lnTo>
                        <a:pt x="184" y="2"/>
                      </a:lnTo>
                      <a:lnTo>
                        <a:pt x="266" y="16"/>
                      </a:lnTo>
                      <a:lnTo>
                        <a:pt x="264" y="16"/>
                      </a:lnTo>
                      <a:lnTo>
                        <a:pt x="345" y="80"/>
                      </a:lnTo>
                      <a:lnTo>
                        <a:pt x="345" y="80"/>
                      </a:lnTo>
                      <a:lnTo>
                        <a:pt x="349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rot="12077400">
                  <a:off x="610920" y="476892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81" h="2331">
                      <a:moveTo>
                        <a:pt x="4460" y="126"/>
                      </a:moveTo>
                      <a:lnTo>
                        <a:pt x="4460" y="125"/>
                      </a:lnTo>
                      <a:lnTo>
                        <a:pt x="4565" y="247"/>
                      </a:lnTo>
                      <a:lnTo>
                        <a:pt x="4565" y="245"/>
                      </a:lnTo>
                      <a:lnTo>
                        <a:pt x="4577" y="388"/>
                      </a:lnTo>
                      <a:lnTo>
                        <a:pt x="4577" y="386"/>
                      </a:lnTo>
                      <a:lnTo>
                        <a:pt x="4536" y="472"/>
                      </a:lnTo>
                      <a:lnTo>
                        <a:pt x="4536" y="470"/>
                      </a:lnTo>
                      <a:lnTo>
                        <a:pt x="4428" y="553"/>
                      </a:lnTo>
                      <a:lnTo>
                        <a:pt x="4315" y="600"/>
                      </a:lnTo>
                      <a:lnTo>
                        <a:pt x="4317" y="600"/>
                      </a:lnTo>
                      <a:lnTo>
                        <a:pt x="4173" y="605"/>
                      </a:lnTo>
                      <a:lnTo>
                        <a:pt x="4158" y="605"/>
                      </a:lnTo>
                      <a:lnTo>
                        <a:pt x="4100" y="772"/>
                      </a:lnTo>
                      <a:lnTo>
                        <a:pt x="4100" y="772"/>
                      </a:lnTo>
                      <a:lnTo>
                        <a:pt x="3985" y="891"/>
                      </a:lnTo>
                      <a:lnTo>
                        <a:pt x="3985" y="889"/>
                      </a:lnTo>
                      <a:lnTo>
                        <a:pt x="3848" y="939"/>
                      </a:lnTo>
                      <a:lnTo>
                        <a:pt x="3848" y="939"/>
                      </a:lnTo>
                      <a:lnTo>
                        <a:pt x="3739" y="947"/>
                      </a:lnTo>
                      <a:lnTo>
                        <a:pt x="3861" y="1164"/>
                      </a:lnTo>
                      <a:lnTo>
                        <a:pt x="3861" y="1162"/>
                      </a:lnTo>
                      <a:lnTo>
                        <a:pt x="3861" y="1176"/>
                      </a:lnTo>
                      <a:lnTo>
                        <a:pt x="3861" y="1176"/>
                      </a:lnTo>
                      <a:lnTo>
                        <a:pt x="3669" y="1267"/>
                      </a:lnTo>
                      <a:lnTo>
                        <a:pt x="3669" y="1267"/>
                      </a:lnTo>
                      <a:lnTo>
                        <a:pt x="3625" y="1257"/>
                      </a:lnTo>
                      <a:lnTo>
                        <a:pt x="3627" y="1257"/>
                      </a:lnTo>
                      <a:lnTo>
                        <a:pt x="3074" y="986"/>
                      </a:lnTo>
                      <a:lnTo>
                        <a:pt x="2653" y="1218"/>
                      </a:lnTo>
                      <a:lnTo>
                        <a:pt x="2168" y="1488"/>
                      </a:lnTo>
                      <a:lnTo>
                        <a:pt x="2155" y="1713"/>
                      </a:lnTo>
                      <a:lnTo>
                        <a:pt x="2155" y="1713"/>
                      </a:lnTo>
                      <a:lnTo>
                        <a:pt x="2125" y="1794"/>
                      </a:lnTo>
                      <a:lnTo>
                        <a:pt x="2125" y="1794"/>
                      </a:lnTo>
                      <a:lnTo>
                        <a:pt x="2025" y="1887"/>
                      </a:lnTo>
                      <a:lnTo>
                        <a:pt x="2025" y="1885"/>
                      </a:lnTo>
                      <a:lnTo>
                        <a:pt x="1910" y="1947"/>
                      </a:lnTo>
                      <a:lnTo>
                        <a:pt x="1910" y="1947"/>
                      </a:lnTo>
                      <a:lnTo>
                        <a:pt x="1648" y="1984"/>
                      </a:lnTo>
                      <a:lnTo>
                        <a:pt x="1532" y="1965"/>
                      </a:lnTo>
                      <a:lnTo>
                        <a:pt x="1412" y="1951"/>
                      </a:lnTo>
                      <a:lnTo>
                        <a:pt x="1445" y="1977"/>
                      </a:lnTo>
                      <a:lnTo>
                        <a:pt x="1681" y="2064"/>
                      </a:lnTo>
                      <a:lnTo>
                        <a:pt x="2046" y="2116"/>
                      </a:lnTo>
                      <a:lnTo>
                        <a:pt x="2292" y="2108"/>
                      </a:lnTo>
                      <a:lnTo>
                        <a:pt x="2467" y="2064"/>
                      </a:lnTo>
                      <a:lnTo>
                        <a:pt x="2486" y="2046"/>
                      </a:lnTo>
                      <a:lnTo>
                        <a:pt x="2414" y="2010"/>
                      </a:lnTo>
                      <a:lnTo>
                        <a:pt x="2279" y="1965"/>
                      </a:lnTo>
                      <a:lnTo>
                        <a:pt x="2279" y="1967"/>
                      </a:lnTo>
                      <a:lnTo>
                        <a:pt x="2263" y="1942"/>
                      </a:lnTo>
                      <a:lnTo>
                        <a:pt x="2261" y="1944"/>
                      </a:lnTo>
                      <a:lnTo>
                        <a:pt x="2292" y="1928"/>
                      </a:lnTo>
                      <a:lnTo>
                        <a:pt x="2292" y="1928"/>
                      </a:lnTo>
                      <a:lnTo>
                        <a:pt x="2475" y="1893"/>
                      </a:lnTo>
                      <a:lnTo>
                        <a:pt x="2874" y="1740"/>
                      </a:lnTo>
                      <a:lnTo>
                        <a:pt x="3070" y="1635"/>
                      </a:lnTo>
                      <a:lnTo>
                        <a:pt x="3070" y="1635"/>
                      </a:lnTo>
                      <a:lnTo>
                        <a:pt x="3089" y="1635"/>
                      </a:lnTo>
                      <a:lnTo>
                        <a:pt x="3087" y="1633"/>
                      </a:lnTo>
                      <a:lnTo>
                        <a:pt x="3068" y="1690"/>
                      </a:lnTo>
                      <a:lnTo>
                        <a:pt x="2837" y="2229"/>
                      </a:lnTo>
                      <a:lnTo>
                        <a:pt x="2795" y="2316"/>
                      </a:lnTo>
                      <a:lnTo>
                        <a:pt x="2795" y="2316"/>
                      </a:lnTo>
                      <a:lnTo>
                        <a:pt x="2777" y="2329"/>
                      </a:lnTo>
                      <a:lnTo>
                        <a:pt x="2779" y="2329"/>
                      </a:lnTo>
                      <a:lnTo>
                        <a:pt x="2649" y="2167"/>
                      </a:lnTo>
                      <a:lnTo>
                        <a:pt x="2649" y="2169"/>
                      </a:lnTo>
                      <a:lnTo>
                        <a:pt x="2649" y="2163"/>
                      </a:lnTo>
                      <a:lnTo>
                        <a:pt x="2587" y="2176"/>
                      </a:lnTo>
                      <a:lnTo>
                        <a:pt x="2587" y="2176"/>
                      </a:lnTo>
                      <a:lnTo>
                        <a:pt x="2430" y="2223"/>
                      </a:lnTo>
                      <a:lnTo>
                        <a:pt x="2430" y="2223"/>
                      </a:lnTo>
                      <a:lnTo>
                        <a:pt x="2083" y="2304"/>
                      </a:lnTo>
                      <a:lnTo>
                        <a:pt x="1864" y="2308"/>
                      </a:lnTo>
                      <a:lnTo>
                        <a:pt x="1319" y="2246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52" y="2124"/>
                      </a:lnTo>
                      <a:lnTo>
                        <a:pt x="745" y="1982"/>
                      </a:lnTo>
                      <a:lnTo>
                        <a:pt x="725" y="1947"/>
                      </a:lnTo>
                      <a:lnTo>
                        <a:pt x="688" y="1924"/>
                      </a:lnTo>
                      <a:lnTo>
                        <a:pt x="481" y="1913"/>
                      </a:lnTo>
                      <a:lnTo>
                        <a:pt x="217" y="1984"/>
                      </a:lnTo>
                      <a:lnTo>
                        <a:pt x="114" y="2029"/>
                      </a:lnTo>
                      <a:lnTo>
                        <a:pt x="81" y="2046"/>
                      </a:lnTo>
                      <a:lnTo>
                        <a:pt x="83" y="2046"/>
                      </a:lnTo>
                      <a:lnTo>
                        <a:pt x="79" y="2042"/>
                      </a:lnTo>
                      <a:lnTo>
                        <a:pt x="79" y="2044"/>
                      </a:lnTo>
                      <a:lnTo>
                        <a:pt x="79" y="2033"/>
                      </a:lnTo>
                      <a:lnTo>
                        <a:pt x="79" y="2035"/>
                      </a:lnTo>
                      <a:lnTo>
                        <a:pt x="101" y="2019"/>
                      </a:lnTo>
                      <a:lnTo>
                        <a:pt x="48" y="2013"/>
                      </a:lnTo>
                      <a:lnTo>
                        <a:pt x="50" y="2015"/>
                      </a:lnTo>
                      <a:lnTo>
                        <a:pt x="74" y="1984"/>
                      </a:lnTo>
                      <a:lnTo>
                        <a:pt x="41" y="1984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41" y="1973"/>
                      </a:lnTo>
                      <a:lnTo>
                        <a:pt x="68" y="1969"/>
                      </a:lnTo>
                      <a:lnTo>
                        <a:pt x="83" y="1957"/>
                      </a:lnTo>
                      <a:lnTo>
                        <a:pt x="10" y="1961"/>
                      </a:lnTo>
                      <a:lnTo>
                        <a:pt x="4" y="1967"/>
                      </a:lnTo>
                      <a:lnTo>
                        <a:pt x="8" y="1967"/>
                      </a:lnTo>
                      <a:lnTo>
                        <a:pt x="2" y="1957"/>
                      </a:lnTo>
                      <a:lnTo>
                        <a:pt x="2" y="1959"/>
                      </a:lnTo>
                      <a:lnTo>
                        <a:pt x="12" y="1949"/>
                      </a:lnTo>
                      <a:lnTo>
                        <a:pt x="10" y="1949"/>
                      </a:lnTo>
                      <a:lnTo>
                        <a:pt x="60" y="1944"/>
                      </a:lnTo>
                      <a:lnTo>
                        <a:pt x="79" y="1926"/>
                      </a:lnTo>
                      <a:lnTo>
                        <a:pt x="72" y="1909"/>
                      </a:lnTo>
                      <a:lnTo>
                        <a:pt x="35" y="1899"/>
                      </a:lnTo>
                      <a:lnTo>
                        <a:pt x="35" y="1899"/>
                      </a:lnTo>
                      <a:lnTo>
                        <a:pt x="31" y="1895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31" y="1889"/>
                      </a:lnTo>
                      <a:lnTo>
                        <a:pt x="207" y="1893"/>
                      </a:lnTo>
                      <a:lnTo>
                        <a:pt x="386" y="1845"/>
                      </a:lnTo>
                      <a:lnTo>
                        <a:pt x="384" y="1845"/>
                      </a:lnTo>
                      <a:lnTo>
                        <a:pt x="537" y="1806"/>
                      </a:lnTo>
                      <a:lnTo>
                        <a:pt x="661" y="1810"/>
                      </a:lnTo>
                      <a:lnTo>
                        <a:pt x="636" y="1633"/>
                      </a:lnTo>
                      <a:lnTo>
                        <a:pt x="636" y="1633"/>
                      </a:lnTo>
                      <a:lnTo>
                        <a:pt x="714" y="1401"/>
                      </a:lnTo>
                      <a:lnTo>
                        <a:pt x="867" y="1168"/>
                      </a:lnTo>
                      <a:lnTo>
                        <a:pt x="865" y="1168"/>
                      </a:lnTo>
                      <a:lnTo>
                        <a:pt x="1101" y="939"/>
                      </a:lnTo>
                      <a:lnTo>
                        <a:pt x="1101" y="939"/>
                      </a:lnTo>
                      <a:lnTo>
                        <a:pt x="1323" y="780"/>
                      </a:lnTo>
                      <a:lnTo>
                        <a:pt x="1233" y="732"/>
                      </a:lnTo>
                      <a:lnTo>
                        <a:pt x="1092" y="683"/>
                      </a:lnTo>
                      <a:lnTo>
                        <a:pt x="1032" y="654"/>
                      </a:lnTo>
                      <a:lnTo>
                        <a:pt x="1034" y="654"/>
                      </a:lnTo>
                      <a:lnTo>
                        <a:pt x="1039" y="623"/>
                      </a:lnTo>
                      <a:lnTo>
                        <a:pt x="1039" y="625"/>
                      </a:lnTo>
                      <a:lnTo>
                        <a:pt x="1057" y="615"/>
                      </a:lnTo>
                      <a:lnTo>
                        <a:pt x="1057" y="615"/>
                      </a:lnTo>
                      <a:lnTo>
                        <a:pt x="1276" y="615"/>
                      </a:lnTo>
                      <a:lnTo>
                        <a:pt x="1557" y="588"/>
                      </a:lnTo>
                      <a:lnTo>
                        <a:pt x="1722" y="584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881" y="578"/>
                      </a:lnTo>
                      <a:lnTo>
                        <a:pt x="1666" y="861"/>
                      </a:lnTo>
                      <a:lnTo>
                        <a:pt x="1666" y="861"/>
                      </a:lnTo>
                      <a:lnTo>
                        <a:pt x="1513" y="1030"/>
                      </a:lnTo>
                      <a:lnTo>
                        <a:pt x="1482" y="1079"/>
                      </a:lnTo>
                      <a:lnTo>
                        <a:pt x="1484" y="1079"/>
                      </a:lnTo>
                      <a:lnTo>
                        <a:pt x="1464" y="1090"/>
                      </a:lnTo>
                      <a:lnTo>
                        <a:pt x="1466" y="1090"/>
                      </a:lnTo>
                      <a:lnTo>
                        <a:pt x="1441" y="1069"/>
                      </a:lnTo>
                      <a:lnTo>
                        <a:pt x="1443" y="1071"/>
                      </a:lnTo>
                      <a:lnTo>
                        <a:pt x="1418" y="910"/>
                      </a:lnTo>
                      <a:lnTo>
                        <a:pt x="1412" y="902"/>
                      </a:lnTo>
                      <a:lnTo>
                        <a:pt x="1319" y="986"/>
                      </a:lnTo>
                      <a:lnTo>
                        <a:pt x="1191" y="1180"/>
                      </a:lnTo>
                      <a:lnTo>
                        <a:pt x="1107" y="1364"/>
                      </a:lnTo>
                      <a:lnTo>
                        <a:pt x="1078" y="1593"/>
                      </a:lnTo>
                      <a:lnTo>
                        <a:pt x="1107" y="1730"/>
                      </a:lnTo>
                      <a:lnTo>
                        <a:pt x="1162" y="1777"/>
                      </a:lnTo>
                      <a:lnTo>
                        <a:pt x="1245" y="1744"/>
                      </a:lnTo>
                      <a:lnTo>
                        <a:pt x="1416" y="1651"/>
                      </a:lnTo>
                      <a:lnTo>
                        <a:pt x="2019" y="1331"/>
                      </a:lnTo>
                      <a:lnTo>
                        <a:pt x="1986" y="1176"/>
                      </a:lnTo>
                      <a:lnTo>
                        <a:pt x="2009" y="1019"/>
                      </a:lnTo>
                      <a:lnTo>
                        <a:pt x="2009" y="1019"/>
                      </a:lnTo>
                      <a:lnTo>
                        <a:pt x="2085" y="900"/>
                      </a:lnTo>
                      <a:lnTo>
                        <a:pt x="2085" y="902"/>
                      </a:lnTo>
                      <a:lnTo>
                        <a:pt x="2242" y="796"/>
                      </a:lnTo>
                      <a:lnTo>
                        <a:pt x="2387" y="753"/>
                      </a:lnTo>
                      <a:lnTo>
                        <a:pt x="2387" y="753"/>
                      </a:lnTo>
                      <a:lnTo>
                        <a:pt x="2606" y="739"/>
                      </a:lnTo>
                      <a:lnTo>
                        <a:pt x="2820" y="772"/>
                      </a:lnTo>
                      <a:lnTo>
                        <a:pt x="2818" y="772"/>
                      </a:lnTo>
                      <a:lnTo>
                        <a:pt x="2880" y="792"/>
                      </a:lnTo>
                      <a:lnTo>
                        <a:pt x="2864" y="710"/>
                      </a:lnTo>
                      <a:lnTo>
                        <a:pt x="2864" y="710"/>
                      </a:lnTo>
                      <a:lnTo>
                        <a:pt x="2754" y="412"/>
                      </a:lnTo>
                      <a:lnTo>
                        <a:pt x="2754" y="413"/>
                      </a:lnTo>
                      <a:lnTo>
                        <a:pt x="2812" y="359"/>
                      </a:lnTo>
                      <a:lnTo>
                        <a:pt x="2812" y="359"/>
                      </a:lnTo>
                      <a:lnTo>
                        <a:pt x="2919" y="307"/>
                      </a:lnTo>
                      <a:lnTo>
                        <a:pt x="2917" y="307"/>
                      </a:lnTo>
                      <a:lnTo>
                        <a:pt x="2971" y="297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9"/>
                      </a:lnTo>
                      <a:lnTo>
                        <a:pt x="3689" y="429"/>
                      </a:lnTo>
                      <a:lnTo>
                        <a:pt x="3675" y="367"/>
                      </a:lnTo>
                      <a:lnTo>
                        <a:pt x="3675" y="367"/>
                      </a:lnTo>
                      <a:lnTo>
                        <a:pt x="3700" y="332"/>
                      </a:lnTo>
                      <a:lnTo>
                        <a:pt x="3698" y="332"/>
                      </a:lnTo>
                      <a:lnTo>
                        <a:pt x="3788" y="287"/>
                      </a:lnTo>
                      <a:lnTo>
                        <a:pt x="3788" y="204"/>
                      </a:lnTo>
                      <a:lnTo>
                        <a:pt x="3788" y="206"/>
                      </a:lnTo>
                      <a:lnTo>
                        <a:pt x="3828" y="130"/>
                      </a:lnTo>
                      <a:lnTo>
                        <a:pt x="3828" y="130"/>
                      </a:lnTo>
                      <a:lnTo>
                        <a:pt x="3939" y="45"/>
                      </a:lnTo>
                      <a:lnTo>
                        <a:pt x="4061" y="12"/>
                      </a:lnTo>
                      <a:lnTo>
                        <a:pt x="4059" y="12"/>
                      </a:lnTo>
                      <a:lnTo>
                        <a:pt x="4144" y="2"/>
                      </a:lnTo>
                      <a:lnTo>
                        <a:pt x="4309" y="39"/>
                      </a:lnTo>
                      <a:lnTo>
                        <a:pt x="4309" y="39"/>
                      </a:lnTo>
                      <a:lnTo>
                        <a:pt x="4460" y="126"/>
                      </a:lnTo>
                      <a:lnTo>
                        <a:pt x="4462" y="123"/>
                      </a:lnTo>
                      <a:lnTo>
                        <a:pt x="4309" y="35"/>
                      </a:lnTo>
                      <a:lnTo>
                        <a:pt x="4144" y="0"/>
                      </a:lnTo>
                      <a:lnTo>
                        <a:pt x="4059" y="8"/>
                      </a:lnTo>
                      <a:lnTo>
                        <a:pt x="4059" y="8"/>
                      </a:lnTo>
                      <a:lnTo>
                        <a:pt x="3939" y="43"/>
                      </a:lnTo>
                      <a:lnTo>
                        <a:pt x="3824" y="128"/>
                      </a:lnTo>
                      <a:lnTo>
                        <a:pt x="3784" y="204"/>
                      </a:lnTo>
                      <a:lnTo>
                        <a:pt x="3784" y="287"/>
                      </a:lnTo>
                      <a:lnTo>
                        <a:pt x="3786" y="285"/>
                      </a:lnTo>
                      <a:lnTo>
                        <a:pt x="3698" y="330"/>
                      </a:lnTo>
                      <a:lnTo>
                        <a:pt x="3673" y="367"/>
                      </a:lnTo>
                      <a:lnTo>
                        <a:pt x="3687" y="429"/>
                      </a:lnTo>
                      <a:lnTo>
                        <a:pt x="3687" y="427"/>
                      </a:lnTo>
                      <a:lnTo>
                        <a:pt x="3479" y="545"/>
                      </a:lnTo>
                      <a:lnTo>
                        <a:pt x="3481" y="545"/>
                      </a:lnTo>
                      <a:lnTo>
                        <a:pt x="3338" y="489"/>
                      </a:lnTo>
                      <a:lnTo>
                        <a:pt x="2971" y="295"/>
                      </a:lnTo>
                      <a:lnTo>
                        <a:pt x="2917" y="303"/>
                      </a:lnTo>
                      <a:lnTo>
                        <a:pt x="2812" y="355"/>
                      </a:lnTo>
                      <a:lnTo>
                        <a:pt x="2752" y="412"/>
                      </a:lnTo>
                      <a:lnTo>
                        <a:pt x="2861" y="710"/>
                      </a:lnTo>
                      <a:lnTo>
                        <a:pt x="2861" y="710"/>
                      </a:lnTo>
                      <a:lnTo>
                        <a:pt x="2876" y="790"/>
                      </a:lnTo>
                      <a:lnTo>
                        <a:pt x="2878" y="788"/>
                      </a:lnTo>
                      <a:lnTo>
                        <a:pt x="2820" y="770"/>
                      </a:lnTo>
                      <a:lnTo>
                        <a:pt x="2820" y="770"/>
                      </a:lnTo>
                      <a:lnTo>
                        <a:pt x="2606" y="735"/>
                      </a:lnTo>
                      <a:lnTo>
                        <a:pt x="2387" y="749"/>
                      </a:lnTo>
                      <a:lnTo>
                        <a:pt x="2240" y="794"/>
                      </a:lnTo>
                      <a:lnTo>
                        <a:pt x="2083" y="898"/>
                      </a:lnTo>
                      <a:lnTo>
                        <a:pt x="2007" y="1017"/>
                      </a:lnTo>
                      <a:lnTo>
                        <a:pt x="1984" y="1176"/>
                      </a:lnTo>
                      <a:lnTo>
                        <a:pt x="2015" y="1329"/>
                      </a:lnTo>
                      <a:lnTo>
                        <a:pt x="2015" y="1327"/>
                      </a:lnTo>
                      <a:lnTo>
                        <a:pt x="1416" y="1647"/>
                      </a:lnTo>
                      <a:lnTo>
                        <a:pt x="1243" y="1742"/>
                      </a:lnTo>
                      <a:lnTo>
                        <a:pt x="1162" y="1773"/>
                      </a:lnTo>
                      <a:lnTo>
                        <a:pt x="1162" y="1773"/>
                      </a:lnTo>
                      <a:lnTo>
                        <a:pt x="1109" y="1728"/>
                      </a:lnTo>
                      <a:lnTo>
                        <a:pt x="1111" y="1728"/>
                      </a:lnTo>
                      <a:lnTo>
                        <a:pt x="1080" y="1593"/>
                      </a:lnTo>
                      <a:lnTo>
                        <a:pt x="1111" y="1364"/>
                      </a:lnTo>
                      <a:lnTo>
                        <a:pt x="1111" y="1364"/>
                      </a:lnTo>
                      <a:lnTo>
                        <a:pt x="1193" y="1181"/>
                      </a:lnTo>
                      <a:lnTo>
                        <a:pt x="1321" y="988"/>
                      </a:lnTo>
                      <a:lnTo>
                        <a:pt x="1321" y="988"/>
                      </a:lnTo>
                      <a:lnTo>
                        <a:pt x="1412" y="904"/>
                      </a:lnTo>
                      <a:lnTo>
                        <a:pt x="1410" y="904"/>
                      </a:lnTo>
                      <a:lnTo>
                        <a:pt x="1414" y="912"/>
                      </a:lnTo>
                      <a:lnTo>
                        <a:pt x="1414" y="910"/>
                      </a:lnTo>
                      <a:lnTo>
                        <a:pt x="1439" y="1071"/>
                      </a:lnTo>
                      <a:lnTo>
                        <a:pt x="1466" y="1094"/>
                      </a:lnTo>
                      <a:lnTo>
                        <a:pt x="1485" y="1081"/>
                      </a:lnTo>
                      <a:lnTo>
                        <a:pt x="1515" y="1032"/>
                      </a:lnTo>
                      <a:lnTo>
                        <a:pt x="1515" y="1032"/>
                      </a:lnTo>
                      <a:lnTo>
                        <a:pt x="1668" y="863"/>
                      </a:lnTo>
                      <a:lnTo>
                        <a:pt x="1668" y="863"/>
                      </a:lnTo>
                      <a:lnTo>
                        <a:pt x="1883" y="580"/>
                      </a:lnTo>
                      <a:lnTo>
                        <a:pt x="1869" y="567"/>
                      </a:lnTo>
                      <a:lnTo>
                        <a:pt x="1850" y="567"/>
                      </a:lnTo>
                      <a:lnTo>
                        <a:pt x="1722" y="580"/>
                      </a:lnTo>
                      <a:lnTo>
                        <a:pt x="1557" y="584"/>
                      </a:lnTo>
                      <a:lnTo>
                        <a:pt x="1276" y="611"/>
                      </a:lnTo>
                      <a:lnTo>
                        <a:pt x="1055" y="611"/>
                      </a:lnTo>
                      <a:lnTo>
                        <a:pt x="1037" y="623"/>
                      </a:lnTo>
                      <a:lnTo>
                        <a:pt x="1030" y="656"/>
                      </a:lnTo>
                      <a:lnTo>
                        <a:pt x="1090" y="687"/>
                      </a:lnTo>
                      <a:lnTo>
                        <a:pt x="1231" y="733"/>
                      </a:lnTo>
                      <a:lnTo>
                        <a:pt x="1319" y="782"/>
                      </a:lnTo>
                      <a:lnTo>
                        <a:pt x="1319" y="780"/>
                      </a:lnTo>
                      <a:lnTo>
                        <a:pt x="1100" y="937"/>
                      </a:lnTo>
                      <a:lnTo>
                        <a:pt x="1100" y="937"/>
                      </a:lnTo>
                      <a:lnTo>
                        <a:pt x="863" y="1166"/>
                      </a:lnTo>
                      <a:lnTo>
                        <a:pt x="710" y="1399"/>
                      </a:lnTo>
                      <a:lnTo>
                        <a:pt x="632" y="1633"/>
                      </a:lnTo>
                      <a:lnTo>
                        <a:pt x="657" y="1810"/>
                      </a:lnTo>
                      <a:lnTo>
                        <a:pt x="659" y="1808"/>
                      </a:lnTo>
                      <a:lnTo>
                        <a:pt x="537" y="1802"/>
                      </a:lnTo>
                      <a:lnTo>
                        <a:pt x="384" y="1843"/>
                      </a:lnTo>
                      <a:lnTo>
                        <a:pt x="384" y="1843"/>
                      </a:lnTo>
                      <a:lnTo>
                        <a:pt x="206" y="1889"/>
                      </a:lnTo>
                      <a:lnTo>
                        <a:pt x="207" y="1889"/>
                      </a:lnTo>
                      <a:lnTo>
                        <a:pt x="29" y="1887"/>
                      </a:lnTo>
                      <a:lnTo>
                        <a:pt x="29" y="1897"/>
                      </a:lnTo>
                      <a:lnTo>
                        <a:pt x="33" y="1903"/>
                      </a:lnTo>
                      <a:lnTo>
                        <a:pt x="72" y="1911"/>
                      </a:lnTo>
                      <a:lnTo>
                        <a:pt x="70" y="1911"/>
                      </a:lnTo>
                      <a:lnTo>
                        <a:pt x="78" y="1926"/>
                      </a:lnTo>
                      <a:lnTo>
                        <a:pt x="78" y="1924"/>
                      </a:lnTo>
                      <a:lnTo>
                        <a:pt x="60" y="1940"/>
                      </a:lnTo>
                      <a:lnTo>
                        <a:pt x="60" y="1940"/>
                      </a:lnTo>
                      <a:lnTo>
                        <a:pt x="10" y="1947"/>
                      </a:lnTo>
                      <a:lnTo>
                        <a:pt x="0" y="1957"/>
                      </a:lnTo>
                      <a:lnTo>
                        <a:pt x="6" y="1969"/>
                      </a:lnTo>
                      <a:lnTo>
                        <a:pt x="12" y="1963"/>
                      </a:lnTo>
                      <a:lnTo>
                        <a:pt x="10" y="1965"/>
                      </a:lnTo>
                      <a:lnTo>
                        <a:pt x="78" y="1959"/>
                      </a:lnTo>
                      <a:lnTo>
                        <a:pt x="78" y="1957"/>
                      </a:lnTo>
                      <a:lnTo>
                        <a:pt x="66" y="1965"/>
                      </a:lnTo>
                      <a:lnTo>
                        <a:pt x="68" y="1965"/>
                      </a:lnTo>
                      <a:lnTo>
                        <a:pt x="39" y="1971"/>
                      </a:lnTo>
                      <a:lnTo>
                        <a:pt x="39" y="1986"/>
                      </a:lnTo>
                      <a:lnTo>
                        <a:pt x="72" y="1986"/>
                      </a:lnTo>
                      <a:lnTo>
                        <a:pt x="70" y="1984"/>
                      </a:lnTo>
                      <a:lnTo>
                        <a:pt x="45" y="2017"/>
                      </a:lnTo>
                      <a:lnTo>
                        <a:pt x="97" y="2021"/>
                      </a:lnTo>
                      <a:lnTo>
                        <a:pt x="97" y="2017"/>
                      </a:lnTo>
                      <a:lnTo>
                        <a:pt x="78" y="2033"/>
                      </a:lnTo>
                      <a:lnTo>
                        <a:pt x="78" y="2046"/>
                      </a:lnTo>
                      <a:lnTo>
                        <a:pt x="83" y="2048"/>
                      </a:lnTo>
                      <a:lnTo>
                        <a:pt x="116" y="2033"/>
                      </a:lnTo>
                      <a:lnTo>
                        <a:pt x="219" y="1986"/>
                      </a:lnTo>
                      <a:lnTo>
                        <a:pt x="481" y="1916"/>
                      </a:lnTo>
                      <a:lnTo>
                        <a:pt x="481" y="1916"/>
                      </a:lnTo>
                      <a:lnTo>
                        <a:pt x="688" y="1928"/>
                      </a:lnTo>
                      <a:lnTo>
                        <a:pt x="688" y="1928"/>
                      </a:lnTo>
                      <a:lnTo>
                        <a:pt x="725" y="1949"/>
                      </a:lnTo>
                      <a:lnTo>
                        <a:pt x="723" y="1949"/>
                      </a:lnTo>
                      <a:lnTo>
                        <a:pt x="743" y="1984"/>
                      </a:lnTo>
                      <a:lnTo>
                        <a:pt x="743" y="1982"/>
                      </a:lnTo>
                      <a:lnTo>
                        <a:pt x="750" y="2126"/>
                      </a:lnTo>
                      <a:lnTo>
                        <a:pt x="908" y="2151"/>
                      </a:lnTo>
                      <a:lnTo>
                        <a:pt x="1319" y="2250"/>
                      </a:lnTo>
                      <a:lnTo>
                        <a:pt x="1864" y="2312"/>
                      </a:lnTo>
                      <a:lnTo>
                        <a:pt x="2083" y="2306"/>
                      </a:lnTo>
                      <a:lnTo>
                        <a:pt x="2430" y="2227"/>
                      </a:lnTo>
                      <a:lnTo>
                        <a:pt x="2432" y="2227"/>
                      </a:lnTo>
                      <a:lnTo>
                        <a:pt x="2589" y="2178"/>
                      </a:lnTo>
                      <a:lnTo>
                        <a:pt x="2587" y="2178"/>
                      </a:lnTo>
                      <a:lnTo>
                        <a:pt x="2647" y="2165"/>
                      </a:lnTo>
                      <a:lnTo>
                        <a:pt x="2645" y="2165"/>
                      </a:lnTo>
                      <a:lnTo>
                        <a:pt x="2645" y="2169"/>
                      </a:lnTo>
                      <a:lnTo>
                        <a:pt x="2777" y="2331"/>
                      </a:lnTo>
                      <a:lnTo>
                        <a:pt x="2798" y="2318"/>
                      </a:lnTo>
                      <a:lnTo>
                        <a:pt x="2841" y="2231"/>
                      </a:lnTo>
                      <a:lnTo>
                        <a:pt x="3072" y="1691"/>
                      </a:lnTo>
                      <a:lnTo>
                        <a:pt x="3089" y="1631"/>
                      </a:lnTo>
                      <a:lnTo>
                        <a:pt x="3070" y="1631"/>
                      </a:lnTo>
                      <a:lnTo>
                        <a:pt x="2872" y="1736"/>
                      </a:lnTo>
                      <a:lnTo>
                        <a:pt x="2473" y="1889"/>
                      </a:lnTo>
                      <a:lnTo>
                        <a:pt x="2473" y="1889"/>
                      </a:lnTo>
                      <a:lnTo>
                        <a:pt x="2290" y="1924"/>
                      </a:lnTo>
                      <a:lnTo>
                        <a:pt x="2259" y="1942"/>
                      </a:lnTo>
                      <a:lnTo>
                        <a:pt x="2277" y="1969"/>
                      </a:lnTo>
                      <a:lnTo>
                        <a:pt x="2413" y="2011"/>
                      </a:lnTo>
                      <a:lnTo>
                        <a:pt x="2484" y="2048"/>
                      </a:lnTo>
                      <a:lnTo>
                        <a:pt x="2484" y="2046"/>
                      </a:lnTo>
                      <a:lnTo>
                        <a:pt x="2465" y="2062"/>
                      </a:lnTo>
                      <a:lnTo>
                        <a:pt x="2467" y="2062"/>
                      </a:lnTo>
                      <a:lnTo>
                        <a:pt x="2292" y="2105"/>
                      </a:lnTo>
                      <a:lnTo>
                        <a:pt x="2046" y="2114"/>
                      </a:lnTo>
                      <a:lnTo>
                        <a:pt x="1681" y="2062"/>
                      </a:lnTo>
                      <a:lnTo>
                        <a:pt x="1681" y="2062"/>
                      </a:lnTo>
                      <a:lnTo>
                        <a:pt x="1445" y="1975"/>
                      </a:lnTo>
                      <a:lnTo>
                        <a:pt x="1416" y="1951"/>
                      </a:lnTo>
                      <a:lnTo>
                        <a:pt x="1416" y="1955"/>
                      </a:lnTo>
                      <a:lnTo>
                        <a:pt x="1532" y="1969"/>
                      </a:lnTo>
                      <a:lnTo>
                        <a:pt x="1648" y="1986"/>
                      </a:lnTo>
                      <a:lnTo>
                        <a:pt x="1912" y="1949"/>
                      </a:lnTo>
                      <a:lnTo>
                        <a:pt x="2027" y="1889"/>
                      </a:lnTo>
                      <a:lnTo>
                        <a:pt x="2127" y="1796"/>
                      </a:lnTo>
                      <a:lnTo>
                        <a:pt x="2158" y="1713"/>
                      </a:lnTo>
                      <a:lnTo>
                        <a:pt x="2172" y="1490"/>
                      </a:lnTo>
                      <a:lnTo>
                        <a:pt x="2170" y="1492"/>
                      </a:lnTo>
                      <a:lnTo>
                        <a:pt x="2655" y="1220"/>
                      </a:lnTo>
                      <a:lnTo>
                        <a:pt x="3076" y="988"/>
                      </a:lnTo>
                      <a:lnTo>
                        <a:pt x="3074" y="988"/>
                      </a:lnTo>
                      <a:lnTo>
                        <a:pt x="3625" y="1259"/>
                      </a:lnTo>
                      <a:lnTo>
                        <a:pt x="3669" y="1269"/>
                      </a:lnTo>
                      <a:lnTo>
                        <a:pt x="3865" y="1178"/>
                      </a:lnTo>
                      <a:lnTo>
                        <a:pt x="3865" y="1162"/>
                      </a:lnTo>
                      <a:lnTo>
                        <a:pt x="3743" y="947"/>
                      </a:lnTo>
                      <a:lnTo>
                        <a:pt x="3743" y="949"/>
                      </a:lnTo>
                      <a:lnTo>
                        <a:pt x="3848" y="943"/>
                      </a:lnTo>
                      <a:lnTo>
                        <a:pt x="3987" y="892"/>
                      </a:lnTo>
                      <a:lnTo>
                        <a:pt x="4102" y="774"/>
                      </a:lnTo>
                      <a:lnTo>
                        <a:pt x="4160" y="607"/>
                      </a:lnTo>
                      <a:lnTo>
                        <a:pt x="4158" y="609"/>
                      </a:lnTo>
                      <a:lnTo>
                        <a:pt x="4173" y="609"/>
                      </a:lnTo>
                      <a:lnTo>
                        <a:pt x="4317" y="602"/>
                      </a:lnTo>
                      <a:lnTo>
                        <a:pt x="4428" y="555"/>
                      </a:lnTo>
                      <a:lnTo>
                        <a:pt x="4538" y="474"/>
                      </a:lnTo>
                      <a:lnTo>
                        <a:pt x="4581" y="388"/>
                      </a:lnTo>
                      <a:lnTo>
                        <a:pt x="4569" y="245"/>
                      </a:lnTo>
                      <a:lnTo>
                        <a:pt x="4462" y="123"/>
                      </a:lnTo>
                      <a:lnTo>
                        <a:pt x="446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rot="12077400">
                  <a:off x="1489320" y="4987080"/>
                  <a:ext cx="156960" cy="95760"/>
                </a:xfrm>
                <a:custGeom>
                  <a:avLst/>
                  <a:gdLst/>
                  <a:ahLst/>
                  <a:rect l="l" t="t" r="r" b="b"/>
                  <a:pathLst>
                    <a:path w="488" h="301">
                      <a:moveTo>
                        <a:pt x="426" y="207"/>
                      </a:moveTo>
                      <a:lnTo>
                        <a:pt x="477" y="126"/>
                      </a:lnTo>
                      <a:lnTo>
                        <a:pt x="488" y="0"/>
                      </a:lnTo>
                      <a:lnTo>
                        <a:pt x="0" y="271"/>
                      </a:lnTo>
                      <a:lnTo>
                        <a:pt x="31" y="271"/>
                      </a:lnTo>
                      <a:lnTo>
                        <a:pt x="31" y="271"/>
                      </a:lnTo>
                      <a:lnTo>
                        <a:pt x="83" y="289"/>
                      </a:lnTo>
                      <a:lnTo>
                        <a:pt x="170" y="301"/>
                      </a:lnTo>
                      <a:lnTo>
                        <a:pt x="310" y="275"/>
                      </a:lnTo>
                      <a:lnTo>
                        <a:pt x="426" y="207"/>
                      </a:lnTo>
                      <a:lnTo>
                        <a:pt x="426" y="206"/>
                      </a:lnTo>
                      <a:lnTo>
                        <a:pt x="308" y="271"/>
                      </a:lnTo>
                      <a:lnTo>
                        <a:pt x="310" y="271"/>
                      </a:lnTo>
                      <a:lnTo>
                        <a:pt x="170" y="297"/>
                      </a:lnTo>
                      <a:lnTo>
                        <a:pt x="83" y="285"/>
                      </a:lnTo>
                      <a:lnTo>
                        <a:pt x="85" y="285"/>
                      </a:lnTo>
                      <a:lnTo>
                        <a:pt x="31" y="268"/>
                      </a:lnTo>
                      <a:lnTo>
                        <a:pt x="5" y="268"/>
                      </a:lnTo>
                      <a:lnTo>
                        <a:pt x="7" y="271"/>
                      </a:lnTo>
                      <a:lnTo>
                        <a:pt x="488" y="4"/>
                      </a:lnTo>
                      <a:lnTo>
                        <a:pt x="486" y="2"/>
                      </a:lnTo>
                      <a:lnTo>
                        <a:pt x="475" y="126"/>
                      </a:lnTo>
                      <a:lnTo>
                        <a:pt x="475" y="124"/>
                      </a:lnTo>
                      <a:lnTo>
                        <a:pt x="424" y="206"/>
                      </a:lnTo>
                      <a:lnTo>
                        <a:pt x="426" y="206"/>
                      </a:lnTo>
                      <a:lnTo>
                        <a:pt x="426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rot="12077400">
                  <a:off x="1173600" y="5092200"/>
                  <a:ext cx="213120" cy="131760"/>
                </a:xfrm>
                <a:custGeom>
                  <a:avLst/>
                  <a:gdLst/>
                  <a:ahLst/>
                  <a:rect l="l" t="t" r="r" b="b"/>
                  <a:pathLst>
                    <a:path w="666" h="413">
                      <a:moveTo>
                        <a:pt x="666" y="47"/>
                      </a:moveTo>
                      <a:lnTo>
                        <a:pt x="646" y="35"/>
                      </a:lnTo>
                      <a:lnTo>
                        <a:pt x="348" y="0"/>
                      </a:lnTo>
                      <a:lnTo>
                        <a:pt x="235" y="23"/>
                      </a:lnTo>
                      <a:lnTo>
                        <a:pt x="136" y="76"/>
                      </a:lnTo>
                      <a:lnTo>
                        <a:pt x="66" y="142"/>
                      </a:lnTo>
                      <a:lnTo>
                        <a:pt x="0" y="268"/>
                      </a:lnTo>
                      <a:lnTo>
                        <a:pt x="24" y="413"/>
                      </a:lnTo>
                      <a:lnTo>
                        <a:pt x="666" y="47"/>
                      </a:lnTo>
                      <a:lnTo>
                        <a:pt x="662" y="45"/>
                      </a:lnTo>
                      <a:lnTo>
                        <a:pt x="24" y="409"/>
                      </a:lnTo>
                      <a:lnTo>
                        <a:pt x="26" y="411"/>
                      </a:lnTo>
                      <a:lnTo>
                        <a:pt x="2" y="268"/>
                      </a:lnTo>
                      <a:lnTo>
                        <a:pt x="2" y="268"/>
                      </a:lnTo>
                      <a:lnTo>
                        <a:pt x="70" y="144"/>
                      </a:lnTo>
                      <a:lnTo>
                        <a:pt x="68" y="144"/>
                      </a:lnTo>
                      <a:lnTo>
                        <a:pt x="136" y="80"/>
                      </a:lnTo>
                      <a:lnTo>
                        <a:pt x="136" y="80"/>
                      </a:lnTo>
                      <a:lnTo>
                        <a:pt x="237" y="27"/>
                      </a:lnTo>
                      <a:lnTo>
                        <a:pt x="237" y="27"/>
                      </a:lnTo>
                      <a:lnTo>
                        <a:pt x="348" y="4"/>
                      </a:lnTo>
                      <a:lnTo>
                        <a:pt x="646" y="39"/>
                      </a:lnTo>
                      <a:lnTo>
                        <a:pt x="644" y="39"/>
                      </a:lnTo>
                      <a:lnTo>
                        <a:pt x="662" y="47"/>
                      </a:lnTo>
                      <a:lnTo>
                        <a:pt x="662" y="45"/>
                      </a:lnTo>
                      <a:lnTo>
                        <a:pt x="66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rot="12077400">
                  <a:off x="762840" y="5053680"/>
                  <a:ext cx="130320" cy="103320"/>
                </a:xfrm>
                <a:custGeom>
                  <a:avLst/>
                  <a:gdLst/>
                  <a:ahLst/>
                  <a:rect l="l" t="t" r="r" b="b"/>
                  <a:pathLst>
                    <a:path w="406" h="324">
                      <a:moveTo>
                        <a:pt x="344" y="209"/>
                      </a:moveTo>
                      <a:lnTo>
                        <a:pt x="406" y="68"/>
                      </a:lnTo>
                      <a:lnTo>
                        <a:pt x="276" y="0"/>
                      </a:lnTo>
                      <a:lnTo>
                        <a:pt x="0" y="155"/>
                      </a:lnTo>
                      <a:lnTo>
                        <a:pt x="68" y="320"/>
                      </a:lnTo>
                      <a:lnTo>
                        <a:pt x="165" y="324"/>
                      </a:lnTo>
                      <a:lnTo>
                        <a:pt x="278" y="275"/>
                      </a:lnTo>
                      <a:lnTo>
                        <a:pt x="344" y="209"/>
                      </a:lnTo>
                      <a:lnTo>
                        <a:pt x="342" y="208"/>
                      </a:lnTo>
                      <a:lnTo>
                        <a:pt x="276" y="273"/>
                      </a:lnTo>
                      <a:lnTo>
                        <a:pt x="276" y="273"/>
                      </a:lnTo>
                      <a:lnTo>
                        <a:pt x="163" y="322"/>
                      </a:lnTo>
                      <a:lnTo>
                        <a:pt x="165" y="322"/>
                      </a:lnTo>
                      <a:lnTo>
                        <a:pt x="68" y="316"/>
                      </a:lnTo>
                      <a:lnTo>
                        <a:pt x="70" y="318"/>
                      </a:lnTo>
                      <a:lnTo>
                        <a:pt x="4" y="155"/>
                      </a:lnTo>
                      <a:lnTo>
                        <a:pt x="2" y="157"/>
                      </a:lnTo>
                      <a:lnTo>
                        <a:pt x="278" y="2"/>
                      </a:lnTo>
                      <a:lnTo>
                        <a:pt x="276" y="2"/>
                      </a:lnTo>
                      <a:lnTo>
                        <a:pt x="404" y="72"/>
                      </a:lnTo>
                      <a:lnTo>
                        <a:pt x="404" y="68"/>
                      </a:lnTo>
                      <a:lnTo>
                        <a:pt x="342" y="208"/>
                      </a:lnTo>
                      <a:lnTo>
                        <a:pt x="342" y="208"/>
                      </a:lnTo>
                      <a:lnTo>
                        <a:pt x="344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rot="12077400">
                  <a:off x="288360" y="4768560"/>
                  <a:ext cx="1828800" cy="1194840"/>
                </a:xfrm>
                <a:custGeom>
                  <a:avLst/>
                  <a:gdLst/>
                  <a:ahLst/>
                  <a:rect l="l" t="t" r="r" b="b"/>
                  <a:pathLst>
                    <a:path w="5711" h="3727">
                      <a:moveTo>
                        <a:pt x="5405" y="391"/>
                      </a:moveTo>
                      <a:lnTo>
                        <a:pt x="5306" y="289"/>
                      </a:lnTo>
                      <a:lnTo>
                        <a:pt x="5207" y="269"/>
                      </a:lnTo>
                      <a:lnTo>
                        <a:pt x="5102" y="300"/>
                      </a:lnTo>
                      <a:lnTo>
                        <a:pt x="4996" y="391"/>
                      </a:lnTo>
                      <a:lnTo>
                        <a:pt x="4978" y="475"/>
                      </a:lnTo>
                      <a:lnTo>
                        <a:pt x="4999" y="496"/>
                      </a:lnTo>
                      <a:lnTo>
                        <a:pt x="5027" y="506"/>
                      </a:lnTo>
                      <a:lnTo>
                        <a:pt x="5153" y="626"/>
                      </a:lnTo>
                      <a:lnTo>
                        <a:pt x="5184" y="735"/>
                      </a:lnTo>
                      <a:lnTo>
                        <a:pt x="5292" y="719"/>
                      </a:lnTo>
                      <a:lnTo>
                        <a:pt x="5389" y="647"/>
                      </a:lnTo>
                      <a:lnTo>
                        <a:pt x="5445" y="533"/>
                      </a:lnTo>
                      <a:lnTo>
                        <a:pt x="5405" y="391"/>
                      </a:lnTo>
                      <a:close/>
                      <a:moveTo>
                        <a:pt x="5566" y="201"/>
                      </a:moveTo>
                      <a:lnTo>
                        <a:pt x="5696" y="391"/>
                      </a:lnTo>
                      <a:lnTo>
                        <a:pt x="5711" y="620"/>
                      </a:lnTo>
                      <a:lnTo>
                        <a:pt x="5657" y="758"/>
                      </a:lnTo>
                      <a:lnTo>
                        <a:pt x="5519" y="888"/>
                      </a:lnTo>
                      <a:lnTo>
                        <a:pt x="5381" y="963"/>
                      </a:lnTo>
                      <a:lnTo>
                        <a:pt x="5207" y="973"/>
                      </a:lnTo>
                      <a:lnTo>
                        <a:pt x="5184" y="973"/>
                      </a:lnTo>
                      <a:lnTo>
                        <a:pt x="5114" y="1243"/>
                      </a:lnTo>
                      <a:lnTo>
                        <a:pt x="4972" y="1427"/>
                      </a:lnTo>
                      <a:lnTo>
                        <a:pt x="4798" y="1508"/>
                      </a:lnTo>
                      <a:lnTo>
                        <a:pt x="4668" y="1518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573" y="2030"/>
                      </a:lnTo>
                      <a:lnTo>
                        <a:pt x="4522" y="2015"/>
                      </a:lnTo>
                      <a:lnTo>
                        <a:pt x="3836" y="1578"/>
                      </a:lnTo>
                      <a:lnTo>
                        <a:pt x="3312" y="1953"/>
                      </a:lnTo>
                      <a:lnTo>
                        <a:pt x="2703" y="2383"/>
                      </a:lnTo>
                      <a:lnTo>
                        <a:pt x="2690" y="2742"/>
                      </a:lnTo>
                      <a:lnTo>
                        <a:pt x="2649" y="2872"/>
                      </a:lnTo>
                      <a:lnTo>
                        <a:pt x="2527" y="3017"/>
                      </a:lnTo>
                      <a:lnTo>
                        <a:pt x="2385" y="3116"/>
                      </a:lnTo>
                      <a:lnTo>
                        <a:pt x="2055" y="3176"/>
                      </a:lnTo>
                      <a:lnTo>
                        <a:pt x="1912" y="3143"/>
                      </a:lnTo>
                      <a:lnTo>
                        <a:pt x="1765" y="3122"/>
                      </a:lnTo>
                      <a:lnTo>
                        <a:pt x="1801" y="3159"/>
                      </a:lnTo>
                      <a:lnTo>
                        <a:pt x="2094" y="3296"/>
                      </a:lnTo>
                      <a:lnTo>
                        <a:pt x="2552" y="3384"/>
                      </a:lnTo>
                      <a:lnTo>
                        <a:pt x="2856" y="3368"/>
                      </a:lnTo>
                      <a:lnTo>
                        <a:pt x="3072" y="3296"/>
                      </a:lnTo>
                      <a:lnTo>
                        <a:pt x="3095" y="3273"/>
                      </a:lnTo>
                      <a:lnTo>
                        <a:pt x="3008" y="3215"/>
                      </a:lnTo>
                      <a:lnTo>
                        <a:pt x="2841" y="3143"/>
                      </a:lnTo>
                      <a:lnTo>
                        <a:pt x="2818" y="3108"/>
                      </a:lnTo>
                      <a:lnTo>
                        <a:pt x="2856" y="3077"/>
                      </a:lnTo>
                      <a:lnTo>
                        <a:pt x="3083" y="3025"/>
                      </a:lnTo>
                      <a:lnTo>
                        <a:pt x="3584" y="2781"/>
                      </a:lnTo>
                      <a:lnTo>
                        <a:pt x="3828" y="2612"/>
                      </a:lnTo>
                      <a:lnTo>
                        <a:pt x="3851" y="2612"/>
                      </a:lnTo>
                      <a:lnTo>
                        <a:pt x="3828" y="2703"/>
                      </a:lnTo>
                      <a:lnTo>
                        <a:pt x="3541" y="3564"/>
                      </a:lnTo>
                      <a:lnTo>
                        <a:pt x="3487" y="3704"/>
                      </a:lnTo>
                      <a:lnTo>
                        <a:pt x="3463" y="3727"/>
                      </a:lnTo>
                      <a:lnTo>
                        <a:pt x="3301" y="3465"/>
                      </a:lnTo>
                      <a:lnTo>
                        <a:pt x="3301" y="3459"/>
                      </a:lnTo>
                      <a:lnTo>
                        <a:pt x="3225" y="3483"/>
                      </a:lnTo>
                      <a:lnTo>
                        <a:pt x="3029" y="3558"/>
                      </a:lnTo>
                      <a:lnTo>
                        <a:pt x="2597" y="3686"/>
                      </a:lnTo>
                      <a:lnTo>
                        <a:pt x="2323" y="3694"/>
                      </a:lnTo>
                      <a:lnTo>
                        <a:pt x="1644" y="3595"/>
                      </a:lnTo>
                      <a:lnTo>
                        <a:pt x="1132" y="3436"/>
                      </a:lnTo>
                      <a:lnTo>
                        <a:pt x="935" y="3399"/>
                      </a:lnTo>
                      <a:lnTo>
                        <a:pt x="927" y="3170"/>
                      </a:lnTo>
                      <a:lnTo>
                        <a:pt x="903" y="3116"/>
                      </a:lnTo>
                      <a:lnTo>
                        <a:pt x="861" y="3077"/>
                      </a:lnTo>
                      <a:lnTo>
                        <a:pt x="599" y="3062"/>
                      </a:lnTo>
                      <a:lnTo>
                        <a:pt x="273" y="3176"/>
                      </a:lnTo>
                      <a:lnTo>
                        <a:pt x="143" y="3246"/>
                      </a:lnTo>
                      <a:lnTo>
                        <a:pt x="103" y="3273"/>
                      </a:lnTo>
                      <a:lnTo>
                        <a:pt x="99" y="3269"/>
                      </a:lnTo>
                      <a:lnTo>
                        <a:pt x="99" y="3254"/>
                      </a:lnTo>
                      <a:lnTo>
                        <a:pt x="120" y="3231"/>
                      </a:lnTo>
                      <a:lnTo>
                        <a:pt x="60" y="3221"/>
                      </a:lnTo>
                      <a:lnTo>
                        <a:pt x="87" y="3176"/>
                      </a:lnTo>
                      <a:lnTo>
                        <a:pt x="50" y="3176"/>
                      </a:lnTo>
                      <a:lnTo>
                        <a:pt x="50" y="3155"/>
                      </a:lnTo>
                      <a:lnTo>
                        <a:pt x="83" y="3143"/>
                      </a:lnTo>
                      <a:lnTo>
                        <a:pt x="99" y="3132"/>
                      </a:lnTo>
                      <a:lnTo>
                        <a:pt x="11" y="3139"/>
                      </a:lnTo>
                      <a:lnTo>
                        <a:pt x="6" y="3143"/>
                      </a:lnTo>
                      <a:lnTo>
                        <a:pt x="0" y="3132"/>
                      </a:lnTo>
                      <a:lnTo>
                        <a:pt x="11" y="3116"/>
                      </a:lnTo>
                      <a:lnTo>
                        <a:pt x="75" y="3108"/>
                      </a:lnTo>
                      <a:lnTo>
                        <a:pt x="99" y="3077"/>
                      </a:lnTo>
                      <a:lnTo>
                        <a:pt x="87" y="3056"/>
                      </a:lnTo>
                      <a:lnTo>
                        <a:pt x="44" y="3040"/>
                      </a:lnTo>
                      <a:lnTo>
                        <a:pt x="37" y="3029"/>
                      </a:lnTo>
                      <a:lnTo>
                        <a:pt x="37" y="3017"/>
                      </a:lnTo>
                      <a:lnTo>
                        <a:pt x="258" y="3025"/>
                      </a:lnTo>
                      <a:lnTo>
                        <a:pt x="479" y="2947"/>
                      </a:lnTo>
                      <a:lnTo>
                        <a:pt x="671" y="2887"/>
                      </a:lnTo>
                      <a:lnTo>
                        <a:pt x="820" y="2895"/>
                      </a:lnTo>
                      <a:lnTo>
                        <a:pt x="789" y="2612"/>
                      </a:lnTo>
                      <a:lnTo>
                        <a:pt x="888" y="2240"/>
                      </a:lnTo>
                      <a:lnTo>
                        <a:pt x="1080" y="1867"/>
                      </a:lnTo>
                      <a:lnTo>
                        <a:pt x="1371" y="1503"/>
                      </a:lnTo>
                      <a:lnTo>
                        <a:pt x="1644" y="1250"/>
                      </a:lnTo>
                      <a:lnTo>
                        <a:pt x="1536" y="1175"/>
                      </a:lnTo>
                      <a:lnTo>
                        <a:pt x="1361" y="1099"/>
                      </a:lnTo>
                      <a:lnTo>
                        <a:pt x="1286" y="1053"/>
                      </a:lnTo>
                      <a:lnTo>
                        <a:pt x="1293" y="1002"/>
                      </a:lnTo>
                      <a:lnTo>
                        <a:pt x="1317" y="985"/>
                      </a:lnTo>
                      <a:lnTo>
                        <a:pt x="1588" y="985"/>
                      </a:lnTo>
                      <a:lnTo>
                        <a:pt x="1941" y="938"/>
                      </a:lnTo>
                      <a:lnTo>
                        <a:pt x="2145" y="931"/>
                      </a:lnTo>
                      <a:lnTo>
                        <a:pt x="2308" y="907"/>
                      </a:lnTo>
                      <a:lnTo>
                        <a:pt x="2329" y="907"/>
                      </a:lnTo>
                      <a:lnTo>
                        <a:pt x="2346" y="925"/>
                      </a:lnTo>
                      <a:lnTo>
                        <a:pt x="2079" y="1380"/>
                      </a:lnTo>
                      <a:lnTo>
                        <a:pt x="1889" y="1656"/>
                      </a:lnTo>
                      <a:lnTo>
                        <a:pt x="1850" y="1729"/>
                      </a:lnTo>
                      <a:lnTo>
                        <a:pt x="1827" y="1747"/>
                      </a:lnTo>
                      <a:lnTo>
                        <a:pt x="1798" y="1716"/>
                      </a:lnTo>
                      <a:lnTo>
                        <a:pt x="1765" y="1458"/>
                      </a:lnTo>
                      <a:lnTo>
                        <a:pt x="1759" y="1446"/>
                      </a:lnTo>
                      <a:lnTo>
                        <a:pt x="1644" y="1578"/>
                      </a:lnTo>
                      <a:lnTo>
                        <a:pt x="1483" y="1889"/>
                      </a:lnTo>
                      <a:lnTo>
                        <a:pt x="1384" y="2179"/>
                      </a:lnTo>
                      <a:lnTo>
                        <a:pt x="1344" y="2544"/>
                      </a:lnTo>
                      <a:lnTo>
                        <a:pt x="1384" y="2765"/>
                      </a:lnTo>
                      <a:lnTo>
                        <a:pt x="1448" y="2839"/>
                      </a:lnTo>
                      <a:lnTo>
                        <a:pt x="1551" y="2790"/>
                      </a:lnTo>
                      <a:lnTo>
                        <a:pt x="1765" y="2635"/>
                      </a:lnTo>
                      <a:lnTo>
                        <a:pt x="2511" y="2127"/>
                      </a:lnTo>
                      <a:lnTo>
                        <a:pt x="2476" y="1885"/>
                      </a:lnTo>
                      <a:lnTo>
                        <a:pt x="2503" y="1633"/>
                      </a:lnTo>
                      <a:lnTo>
                        <a:pt x="2597" y="1442"/>
                      </a:lnTo>
                      <a:lnTo>
                        <a:pt x="2792" y="1274"/>
                      </a:lnTo>
                      <a:lnTo>
                        <a:pt x="2977" y="1202"/>
                      </a:lnTo>
                      <a:lnTo>
                        <a:pt x="3248" y="1183"/>
                      </a:lnTo>
                      <a:lnTo>
                        <a:pt x="3514" y="1235"/>
                      </a:lnTo>
                      <a:lnTo>
                        <a:pt x="3591" y="1268"/>
                      </a:lnTo>
                      <a:lnTo>
                        <a:pt x="3568" y="1136"/>
                      </a:lnTo>
                      <a:lnTo>
                        <a:pt x="3432" y="659"/>
                      </a:lnTo>
                      <a:lnTo>
                        <a:pt x="3510" y="572"/>
                      </a:lnTo>
                      <a:lnTo>
                        <a:pt x="3638" y="490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0" y="876"/>
                      </a:lnTo>
                      <a:lnTo>
                        <a:pt x="4596" y="686"/>
                      </a:lnTo>
                      <a:lnTo>
                        <a:pt x="4581" y="587"/>
                      </a:lnTo>
                      <a:lnTo>
                        <a:pt x="4613" y="529"/>
                      </a:lnTo>
                      <a:lnTo>
                        <a:pt x="4720" y="457"/>
                      </a:lnTo>
                      <a:lnTo>
                        <a:pt x="4720" y="327"/>
                      </a:lnTo>
                      <a:lnTo>
                        <a:pt x="4771" y="205"/>
                      </a:lnTo>
                      <a:lnTo>
                        <a:pt x="4912" y="71"/>
                      </a:lnTo>
                      <a:lnTo>
                        <a:pt x="5063" y="17"/>
                      </a:lnTo>
                      <a:lnTo>
                        <a:pt x="5168" y="0"/>
                      </a:lnTo>
                      <a:lnTo>
                        <a:pt x="5374" y="60"/>
                      </a:lnTo>
                      <a:lnTo>
                        <a:pt x="5566" y="201"/>
                      </a:lnTo>
                      <a:close/>
                      <a:moveTo>
                        <a:pt x="2420" y="2856"/>
                      </a:moveTo>
                      <a:lnTo>
                        <a:pt x="2482" y="2724"/>
                      </a:lnTo>
                      <a:lnTo>
                        <a:pt x="2498" y="2528"/>
                      </a:lnTo>
                      <a:lnTo>
                        <a:pt x="1894" y="2953"/>
                      </a:lnTo>
                      <a:lnTo>
                        <a:pt x="1927" y="2953"/>
                      </a:lnTo>
                      <a:lnTo>
                        <a:pt x="1993" y="2986"/>
                      </a:lnTo>
                      <a:lnTo>
                        <a:pt x="2102" y="3002"/>
                      </a:lnTo>
                      <a:lnTo>
                        <a:pt x="2275" y="2963"/>
                      </a:lnTo>
                      <a:lnTo>
                        <a:pt x="2420" y="2856"/>
                      </a:lnTo>
                      <a:close/>
                      <a:moveTo>
                        <a:pt x="3477" y="1421"/>
                      </a:moveTo>
                      <a:lnTo>
                        <a:pt x="3454" y="1404"/>
                      </a:lnTo>
                      <a:lnTo>
                        <a:pt x="3083" y="1349"/>
                      </a:lnTo>
                      <a:lnTo>
                        <a:pt x="2944" y="1388"/>
                      </a:lnTo>
                      <a:lnTo>
                        <a:pt x="2818" y="1470"/>
                      </a:lnTo>
                      <a:lnTo>
                        <a:pt x="2732" y="1572"/>
                      </a:lnTo>
                      <a:lnTo>
                        <a:pt x="2649" y="1774"/>
                      </a:lnTo>
                      <a:lnTo>
                        <a:pt x="2680" y="2003"/>
                      </a:lnTo>
                      <a:lnTo>
                        <a:pt x="3477" y="1421"/>
                      </a:lnTo>
                      <a:close/>
                      <a:moveTo>
                        <a:pt x="4955" y="1175"/>
                      </a:moveTo>
                      <a:lnTo>
                        <a:pt x="5032" y="954"/>
                      </a:lnTo>
                      <a:lnTo>
                        <a:pt x="4873" y="839"/>
                      </a:lnTo>
                      <a:lnTo>
                        <a:pt x="4530" y="1088"/>
                      </a:lnTo>
                      <a:lnTo>
                        <a:pt x="4613" y="1349"/>
                      </a:lnTo>
                      <a:lnTo>
                        <a:pt x="4734" y="1355"/>
                      </a:lnTo>
                      <a:lnTo>
                        <a:pt x="4873" y="1280"/>
                      </a:lnTo>
                      <a:lnTo>
                        <a:pt x="4955" y="11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rot="12077400">
                  <a:off x="267840" y="5423040"/>
                  <a:ext cx="149400" cy="150840"/>
                </a:xfrm>
                <a:custGeom>
                  <a:avLst/>
                  <a:gdLst/>
                  <a:ahLst/>
                  <a:rect l="l" t="t" r="r" b="b"/>
                  <a:pathLst>
                    <a:path w="469" h="470">
                      <a:moveTo>
                        <a:pt x="431" y="122"/>
                      </a:moveTo>
                      <a:lnTo>
                        <a:pt x="330" y="20"/>
                      </a:lnTo>
                      <a:lnTo>
                        <a:pt x="231" y="0"/>
                      </a:lnTo>
                      <a:lnTo>
                        <a:pt x="126" y="31"/>
                      </a:lnTo>
                      <a:lnTo>
                        <a:pt x="18" y="122"/>
                      </a:lnTo>
                      <a:lnTo>
                        <a:pt x="0" y="208"/>
                      </a:lnTo>
                      <a:lnTo>
                        <a:pt x="23" y="231"/>
                      </a:lnTo>
                      <a:lnTo>
                        <a:pt x="51" y="241"/>
                      </a:lnTo>
                      <a:lnTo>
                        <a:pt x="51" y="239"/>
                      </a:lnTo>
                      <a:lnTo>
                        <a:pt x="175" y="361"/>
                      </a:lnTo>
                      <a:lnTo>
                        <a:pt x="175" y="361"/>
                      </a:lnTo>
                      <a:lnTo>
                        <a:pt x="208" y="470"/>
                      </a:lnTo>
                      <a:lnTo>
                        <a:pt x="316" y="452"/>
                      </a:lnTo>
                      <a:lnTo>
                        <a:pt x="415" y="382"/>
                      </a:lnTo>
                      <a:lnTo>
                        <a:pt x="469" y="266"/>
                      </a:lnTo>
                      <a:lnTo>
                        <a:pt x="431" y="122"/>
                      </a:lnTo>
                      <a:lnTo>
                        <a:pt x="429" y="124"/>
                      </a:lnTo>
                      <a:lnTo>
                        <a:pt x="468" y="268"/>
                      </a:lnTo>
                      <a:lnTo>
                        <a:pt x="468" y="266"/>
                      </a:lnTo>
                      <a:lnTo>
                        <a:pt x="413" y="380"/>
                      </a:lnTo>
                      <a:lnTo>
                        <a:pt x="413" y="378"/>
                      </a:lnTo>
                      <a:lnTo>
                        <a:pt x="314" y="450"/>
                      </a:lnTo>
                      <a:lnTo>
                        <a:pt x="316" y="450"/>
                      </a:lnTo>
                      <a:lnTo>
                        <a:pt x="208" y="466"/>
                      </a:lnTo>
                      <a:lnTo>
                        <a:pt x="210" y="466"/>
                      </a:lnTo>
                      <a:lnTo>
                        <a:pt x="179" y="359"/>
                      </a:lnTo>
                      <a:lnTo>
                        <a:pt x="53" y="237"/>
                      </a:lnTo>
                      <a:lnTo>
                        <a:pt x="23" y="227"/>
                      </a:lnTo>
                      <a:lnTo>
                        <a:pt x="23" y="229"/>
                      </a:lnTo>
                      <a:lnTo>
                        <a:pt x="4" y="206"/>
                      </a:lnTo>
                      <a:lnTo>
                        <a:pt x="4" y="208"/>
                      </a:lnTo>
                      <a:lnTo>
                        <a:pt x="20" y="124"/>
                      </a:lnTo>
                      <a:lnTo>
                        <a:pt x="20" y="126"/>
                      </a:lnTo>
                      <a:lnTo>
                        <a:pt x="126" y="35"/>
                      </a:lnTo>
                      <a:lnTo>
                        <a:pt x="231" y="2"/>
                      </a:lnTo>
                      <a:lnTo>
                        <a:pt x="231" y="2"/>
                      </a:lnTo>
                      <a:lnTo>
                        <a:pt x="330" y="24"/>
                      </a:lnTo>
                      <a:lnTo>
                        <a:pt x="328" y="22"/>
                      </a:lnTo>
                      <a:lnTo>
                        <a:pt x="429" y="124"/>
                      </a:lnTo>
                      <a:lnTo>
                        <a:pt x="429" y="124"/>
                      </a:lnTo>
                      <a:lnTo>
                        <a:pt x="431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rot="12077400">
                  <a:off x="288720" y="4767480"/>
                  <a:ext cx="1828800" cy="1195920"/>
                </a:xfrm>
                <a:custGeom>
                  <a:avLst/>
                  <a:gdLst/>
                  <a:ahLst/>
                  <a:rect l="l" t="t" r="r" b="b"/>
                  <a:pathLst>
                    <a:path w="5715" h="3729">
                      <a:moveTo>
                        <a:pt x="5568" y="203"/>
                      </a:moveTo>
                      <a:lnTo>
                        <a:pt x="5566" y="201"/>
                      </a:lnTo>
                      <a:lnTo>
                        <a:pt x="5696" y="391"/>
                      </a:lnTo>
                      <a:lnTo>
                        <a:pt x="5696" y="391"/>
                      </a:lnTo>
                      <a:lnTo>
                        <a:pt x="5713" y="620"/>
                      </a:lnTo>
                      <a:lnTo>
                        <a:pt x="5713" y="618"/>
                      </a:lnTo>
                      <a:lnTo>
                        <a:pt x="5659" y="756"/>
                      </a:lnTo>
                      <a:lnTo>
                        <a:pt x="5659" y="756"/>
                      </a:lnTo>
                      <a:lnTo>
                        <a:pt x="5521" y="886"/>
                      </a:lnTo>
                      <a:lnTo>
                        <a:pt x="5521" y="886"/>
                      </a:lnTo>
                      <a:lnTo>
                        <a:pt x="5382" y="962"/>
                      </a:lnTo>
                      <a:lnTo>
                        <a:pt x="5383" y="962"/>
                      </a:lnTo>
                      <a:lnTo>
                        <a:pt x="5209" y="973"/>
                      </a:lnTo>
                      <a:lnTo>
                        <a:pt x="5186" y="973"/>
                      </a:lnTo>
                      <a:lnTo>
                        <a:pt x="5114" y="1241"/>
                      </a:lnTo>
                      <a:lnTo>
                        <a:pt x="4972" y="1427"/>
                      </a:lnTo>
                      <a:lnTo>
                        <a:pt x="4972" y="1425"/>
                      </a:lnTo>
                      <a:lnTo>
                        <a:pt x="4800" y="1508"/>
                      </a:lnTo>
                      <a:lnTo>
                        <a:pt x="4800" y="1508"/>
                      </a:lnTo>
                      <a:lnTo>
                        <a:pt x="4668" y="1516"/>
                      </a:lnTo>
                      <a:lnTo>
                        <a:pt x="4819" y="1861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819" y="1883"/>
                      </a:lnTo>
                      <a:lnTo>
                        <a:pt x="4575" y="2028"/>
                      </a:lnTo>
                      <a:lnTo>
                        <a:pt x="4577" y="2028"/>
                      </a:lnTo>
                      <a:lnTo>
                        <a:pt x="4524" y="2013"/>
                      </a:lnTo>
                      <a:lnTo>
                        <a:pt x="3838" y="1576"/>
                      </a:lnTo>
                      <a:lnTo>
                        <a:pt x="3314" y="1951"/>
                      </a:lnTo>
                      <a:lnTo>
                        <a:pt x="2705" y="2381"/>
                      </a:lnTo>
                      <a:lnTo>
                        <a:pt x="2690" y="2742"/>
                      </a:lnTo>
                      <a:lnTo>
                        <a:pt x="2690" y="2740"/>
                      </a:lnTo>
                      <a:lnTo>
                        <a:pt x="2651" y="2872"/>
                      </a:lnTo>
                      <a:lnTo>
                        <a:pt x="2527" y="3017"/>
                      </a:lnTo>
                      <a:lnTo>
                        <a:pt x="2527" y="3015"/>
                      </a:lnTo>
                      <a:lnTo>
                        <a:pt x="2385" y="3114"/>
                      </a:lnTo>
                      <a:lnTo>
                        <a:pt x="2387" y="3114"/>
                      </a:lnTo>
                      <a:lnTo>
                        <a:pt x="2057" y="3174"/>
                      </a:lnTo>
                      <a:lnTo>
                        <a:pt x="1914" y="3141"/>
                      </a:lnTo>
                      <a:lnTo>
                        <a:pt x="1765" y="3120"/>
                      </a:lnTo>
                      <a:lnTo>
                        <a:pt x="1803" y="3161"/>
                      </a:lnTo>
                      <a:lnTo>
                        <a:pt x="2096" y="3298"/>
                      </a:lnTo>
                      <a:lnTo>
                        <a:pt x="2554" y="3386"/>
                      </a:lnTo>
                      <a:lnTo>
                        <a:pt x="2858" y="3370"/>
                      </a:lnTo>
                      <a:lnTo>
                        <a:pt x="3076" y="3298"/>
                      </a:lnTo>
                      <a:lnTo>
                        <a:pt x="3099" y="3273"/>
                      </a:lnTo>
                      <a:lnTo>
                        <a:pt x="3012" y="3213"/>
                      </a:lnTo>
                      <a:lnTo>
                        <a:pt x="2845" y="3141"/>
                      </a:lnTo>
                      <a:lnTo>
                        <a:pt x="2845" y="3143"/>
                      </a:lnTo>
                      <a:lnTo>
                        <a:pt x="2822" y="3106"/>
                      </a:lnTo>
                      <a:lnTo>
                        <a:pt x="2822" y="3108"/>
                      </a:lnTo>
                      <a:lnTo>
                        <a:pt x="2858" y="3079"/>
                      </a:lnTo>
                      <a:lnTo>
                        <a:pt x="2858" y="3079"/>
                      </a:lnTo>
                      <a:lnTo>
                        <a:pt x="3087" y="3027"/>
                      </a:lnTo>
                      <a:lnTo>
                        <a:pt x="3588" y="2783"/>
                      </a:lnTo>
                      <a:lnTo>
                        <a:pt x="3832" y="2612"/>
                      </a:lnTo>
                      <a:lnTo>
                        <a:pt x="3830" y="2612"/>
                      </a:lnTo>
                      <a:lnTo>
                        <a:pt x="3853" y="2612"/>
                      </a:lnTo>
                      <a:lnTo>
                        <a:pt x="3851" y="2612"/>
                      </a:lnTo>
                      <a:lnTo>
                        <a:pt x="3830" y="2703"/>
                      </a:lnTo>
                      <a:lnTo>
                        <a:pt x="3830" y="2701"/>
                      </a:lnTo>
                      <a:lnTo>
                        <a:pt x="3541" y="3564"/>
                      </a:lnTo>
                      <a:lnTo>
                        <a:pt x="3487" y="3702"/>
                      </a:lnTo>
                      <a:lnTo>
                        <a:pt x="3487" y="3702"/>
                      </a:lnTo>
                      <a:lnTo>
                        <a:pt x="3464" y="3725"/>
                      </a:lnTo>
                      <a:lnTo>
                        <a:pt x="3467" y="3725"/>
                      </a:lnTo>
                      <a:lnTo>
                        <a:pt x="3304" y="3465"/>
                      </a:lnTo>
                      <a:lnTo>
                        <a:pt x="3304" y="3465"/>
                      </a:lnTo>
                      <a:lnTo>
                        <a:pt x="3304" y="3457"/>
                      </a:lnTo>
                      <a:lnTo>
                        <a:pt x="3227" y="3481"/>
                      </a:lnTo>
                      <a:lnTo>
                        <a:pt x="3031" y="3556"/>
                      </a:lnTo>
                      <a:lnTo>
                        <a:pt x="2599" y="3686"/>
                      </a:lnTo>
                      <a:lnTo>
                        <a:pt x="2599" y="3686"/>
                      </a:lnTo>
                      <a:lnTo>
                        <a:pt x="2325" y="3692"/>
                      </a:lnTo>
                      <a:lnTo>
                        <a:pt x="1646" y="3595"/>
                      </a:lnTo>
                      <a:lnTo>
                        <a:pt x="1646" y="3595"/>
                      </a:lnTo>
                      <a:lnTo>
                        <a:pt x="1134" y="3434"/>
                      </a:lnTo>
                      <a:lnTo>
                        <a:pt x="1134" y="3434"/>
                      </a:lnTo>
                      <a:lnTo>
                        <a:pt x="937" y="3397"/>
                      </a:lnTo>
                      <a:lnTo>
                        <a:pt x="938" y="3399"/>
                      </a:lnTo>
                      <a:lnTo>
                        <a:pt x="929" y="3170"/>
                      </a:lnTo>
                      <a:lnTo>
                        <a:pt x="907" y="3114"/>
                      </a:lnTo>
                      <a:lnTo>
                        <a:pt x="863" y="3075"/>
                      </a:lnTo>
                      <a:lnTo>
                        <a:pt x="601" y="3060"/>
                      </a:lnTo>
                      <a:lnTo>
                        <a:pt x="273" y="3174"/>
                      </a:lnTo>
                      <a:lnTo>
                        <a:pt x="143" y="3244"/>
                      </a:lnTo>
                      <a:lnTo>
                        <a:pt x="105" y="3273"/>
                      </a:lnTo>
                      <a:lnTo>
                        <a:pt x="106" y="3273"/>
                      </a:lnTo>
                      <a:lnTo>
                        <a:pt x="101" y="3269"/>
                      </a:lnTo>
                      <a:lnTo>
                        <a:pt x="103" y="3269"/>
                      </a:lnTo>
                      <a:lnTo>
                        <a:pt x="103" y="3254"/>
                      </a:lnTo>
                      <a:lnTo>
                        <a:pt x="101" y="3254"/>
                      </a:lnTo>
                      <a:lnTo>
                        <a:pt x="124" y="3229"/>
                      </a:lnTo>
                      <a:lnTo>
                        <a:pt x="62" y="3219"/>
                      </a:lnTo>
                      <a:lnTo>
                        <a:pt x="64" y="3223"/>
                      </a:lnTo>
                      <a:lnTo>
                        <a:pt x="91" y="3174"/>
                      </a:lnTo>
                      <a:lnTo>
                        <a:pt x="52" y="3174"/>
                      </a:lnTo>
                      <a:lnTo>
                        <a:pt x="54" y="3176"/>
                      </a:lnTo>
                      <a:lnTo>
                        <a:pt x="54" y="3155"/>
                      </a:lnTo>
                      <a:lnTo>
                        <a:pt x="54" y="3157"/>
                      </a:lnTo>
                      <a:lnTo>
                        <a:pt x="85" y="3145"/>
                      </a:lnTo>
                      <a:lnTo>
                        <a:pt x="106" y="3130"/>
                      </a:lnTo>
                      <a:lnTo>
                        <a:pt x="13" y="3137"/>
                      </a:lnTo>
                      <a:lnTo>
                        <a:pt x="6" y="3141"/>
                      </a:lnTo>
                      <a:lnTo>
                        <a:pt x="9" y="3143"/>
                      </a:lnTo>
                      <a:lnTo>
                        <a:pt x="2" y="3132"/>
                      </a:lnTo>
                      <a:lnTo>
                        <a:pt x="2" y="3134"/>
                      </a:lnTo>
                      <a:lnTo>
                        <a:pt x="15" y="3116"/>
                      </a:lnTo>
                      <a:lnTo>
                        <a:pt x="13" y="3118"/>
                      </a:lnTo>
                      <a:lnTo>
                        <a:pt x="79" y="3108"/>
                      </a:lnTo>
                      <a:lnTo>
                        <a:pt x="103" y="3077"/>
                      </a:lnTo>
                      <a:lnTo>
                        <a:pt x="91" y="3056"/>
                      </a:lnTo>
                      <a:lnTo>
                        <a:pt x="46" y="3039"/>
                      </a:lnTo>
                      <a:lnTo>
                        <a:pt x="48" y="3040"/>
                      </a:lnTo>
                      <a:lnTo>
                        <a:pt x="41" y="3029"/>
                      </a:lnTo>
                      <a:lnTo>
                        <a:pt x="41" y="3029"/>
                      </a:lnTo>
                      <a:lnTo>
                        <a:pt x="41" y="3017"/>
                      </a:lnTo>
                      <a:lnTo>
                        <a:pt x="39" y="3019"/>
                      </a:lnTo>
                      <a:lnTo>
                        <a:pt x="260" y="3027"/>
                      </a:lnTo>
                      <a:lnTo>
                        <a:pt x="481" y="2949"/>
                      </a:lnTo>
                      <a:lnTo>
                        <a:pt x="673" y="2889"/>
                      </a:lnTo>
                      <a:lnTo>
                        <a:pt x="673" y="2889"/>
                      </a:lnTo>
                      <a:lnTo>
                        <a:pt x="824" y="2897"/>
                      </a:lnTo>
                      <a:lnTo>
                        <a:pt x="793" y="2612"/>
                      </a:lnTo>
                      <a:lnTo>
                        <a:pt x="793" y="2612"/>
                      </a:lnTo>
                      <a:lnTo>
                        <a:pt x="892" y="2241"/>
                      </a:lnTo>
                      <a:lnTo>
                        <a:pt x="1084" y="1869"/>
                      </a:lnTo>
                      <a:lnTo>
                        <a:pt x="1373" y="1503"/>
                      </a:lnTo>
                      <a:lnTo>
                        <a:pt x="1373" y="1503"/>
                      </a:lnTo>
                      <a:lnTo>
                        <a:pt x="1648" y="1250"/>
                      </a:lnTo>
                      <a:lnTo>
                        <a:pt x="1540" y="1173"/>
                      </a:lnTo>
                      <a:lnTo>
                        <a:pt x="1363" y="1099"/>
                      </a:lnTo>
                      <a:lnTo>
                        <a:pt x="1288" y="1051"/>
                      </a:lnTo>
                      <a:lnTo>
                        <a:pt x="1289" y="1053"/>
                      </a:lnTo>
                      <a:lnTo>
                        <a:pt x="1297" y="1002"/>
                      </a:lnTo>
                      <a:lnTo>
                        <a:pt x="1297" y="1002"/>
                      </a:lnTo>
                      <a:lnTo>
                        <a:pt x="1321" y="987"/>
                      </a:lnTo>
                      <a:lnTo>
                        <a:pt x="1319" y="987"/>
                      </a:lnTo>
                      <a:lnTo>
                        <a:pt x="1590" y="987"/>
                      </a:lnTo>
                      <a:lnTo>
                        <a:pt x="1943" y="940"/>
                      </a:lnTo>
                      <a:lnTo>
                        <a:pt x="2147" y="932"/>
                      </a:lnTo>
                      <a:lnTo>
                        <a:pt x="2310" y="909"/>
                      </a:lnTo>
                      <a:lnTo>
                        <a:pt x="2331" y="909"/>
                      </a:lnTo>
                      <a:lnTo>
                        <a:pt x="2331" y="909"/>
                      </a:lnTo>
                      <a:lnTo>
                        <a:pt x="2346" y="925"/>
                      </a:lnTo>
                      <a:lnTo>
                        <a:pt x="2346" y="923"/>
                      </a:lnTo>
                      <a:lnTo>
                        <a:pt x="2079" y="1380"/>
                      </a:lnTo>
                      <a:lnTo>
                        <a:pt x="1889" y="1654"/>
                      </a:lnTo>
                      <a:lnTo>
                        <a:pt x="1850" y="1729"/>
                      </a:lnTo>
                      <a:lnTo>
                        <a:pt x="1852" y="1729"/>
                      </a:lnTo>
                      <a:lnTo>
                        <a:pt x="1829" y="1745"/>
                      </a:lnTo>
                      <a:lnTo>
                        <a:pt x="1831" y="1745"/>
                      </a:lnTo>
                      <a:lnTo>
                        <a:pt x="1800" y="1714"/>
                      </a:lnTo>
                      <a:lnTo>
                        <a:pt x="1801" y="1716"/>
                      </a:lnTo>
                      <a:lnTo>
                        <a:pt x="1768" y="1458"/>
                      </a:lnTo>
                      <a:lnTo>
                        <a:pt x="1761" y="1444"/>
                      </a:lnTo>
                      <a:lnTo>
                        <a:pt x="1644" y="1576"/>
                      </a:lnTo>
                      <a:lnTo>
                        <a:pt x="1483" y="1889"/>
                      </a:lnTo>
                      <a:lnTo>
                        <a:pt x="1385" y="2179"/>
                      </a:lnTo>
                      <a:lnTo>
                        <a:pt x="1346" y="2544"/>
                      </a:lnTo>
                      <a:lnTo>
                        <a:pt x="1385" y="2765"/>
                      </a:lnTo>
                      <a:lnTo>
                        <a:pt x="1450" y="2841"/>
                      </a:lnTo>
                      <a:lnTo>
                        <a:pt x="1555" y="2790"/>
                      </a:lnTo>
                      <a:lnTo>
                        <a:pt x="1768" y="2637"/>
                      </a:lnTo>
                      <a:lnTo>
                        <a:pt x="2515" y="2127"/>
                      </a:lnTo>
                      <a:lnTo>
                        <a:pt x="2480" y="1885"/>
                      </a:lnTo>
                      <a:lnTo>
                        <a:pt x="2507" y="1633"/>
                      </a:lnTo>
                      <a:lnTo>
                        <a:pt x="2507" y="1633"/>
                      </a:lnTo>
                      <a:lnTo>
                        <a:pt x="2600" y="1442"/>
                      </a:lnTo>
                      <a:lnTo>
                        <a:pt x="2599" y="1444"/>
                      </a:lnTo>
                      <a:lnTo>
                        <a:pt x="2796" y="1276"/>
                      </a:lnTo>
                      <a:lnTo>
                        <a:pt x="2979" y="1204"/>
                      </a:lnTo>
                      <a:lnTo>
                        <a:pt x="2979" y="1204"/>
                      </a:lnTo>
                      <a:lnTo>
                        <a:pt x="3250" y="1185"/>
                      </a:lnTo>
                      <a:lnTo>
                        <a:pt x="3516" y="1237"/>
                      </a:lnTo>
                      <a:lnTo>
                        <a:pt x="3516" y="1237"/>
                      </a:lnTo>
                      <a:lnTo>
                        <a:pt x="3595" y="1270"/>
                      </a:lnTo>
                      <a:lnTo>
                        <a:pt x="3572" y="1136"/>
                      </a:lnTo>
                      <a:lnTo>
                        <a:pt x="3572" y="1136"/>
                      </a:lnTo>
                      <a:lnTo>
                        <a:pt x="3434" y="659"/>
                      </a:lnTo>
                      <a:lnTo>
                        <a:pt x="3434" y="659"/>
                      </a:lnTo>
                      <a:lnTo>
                        <a:pt x="3512" y="574"/>
                      </a:lnTo>
                      <a:lnTo>
                        <a:pt x="3512" y="574"/>
                      </a:lnTo>
                      <a:lnTo>
                        <a:pt x="3642" y="490"/>
                      </a:lnTo>
                      <a:lnTo>
                        <a:pt x="3640" y="490"/>
                      </a:lnTo>
                      <a:lnTo>
                        <a:pt x="3708" y="475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2" y="878"/>
                      </a:lnTo>
                      <a:lnTo>
                        <a:pt x="4600" y="686"/>
                      </a:lnTo>
                      <a:lnTo>
                        <a:pt x="4584" y="587"/>
                      </a:lnTo>
                      <a:lnTo>
                        <a:pt x="4584" y="589"/>
                      </a:lnTo>
                      <a:lnTo>
                        <a:pt x="4615" y="529"/>
                      </a:lnTo>
                      <a:lnTo>
                        <a:pt x="4615" y="531"/>
                      </a:lnTo>
                      <a:lnTo>
                        <a:pt x="4724" y="459"/>
                      </a:lnTo>
                      <a:lnTo>
                        <a:pt x="4724" y="327"/>
                      </a:lnTo>
                      <a:lnTo>
                        <a:pt x="4724" y="327"/>
                      </a:lnTo>
                      <a:lnTo>
                        <a:pt x="4775" y="207"/>
                      </a:lnTo>
                      <a:lnTo>
                        <a:pt x="4773" y="207"/>
                      </a:lnTo>
                      <a:lnTo>
                        <a:pt x="4914" y="73"/>
                      </a:lnTo>
                      <a:lnTo>
                        <a:pt x="4914" y="73"/>
                      </a:lnTo>
                      <a:lnTo>
                        <a:pt x="5065" y="17"/>
                      </a:lnTo>
                      <a:lnTo>
                        <a:pt x="5065" y="17"/>
                      </a:lnTo>
                      <a:lnTo>
                        <a:pt x="5170" y="2"/>
                      </a:lnTo>
                      <a:lnTo>
                        <a:pt x="5170" y="2"/>
                      </a:lnTo>
                      <a:lnTo>
                        <a:pt x="5376" y="62"/>
                      </a:lnTo>
                      <a:lnTo>
                        <a:pt x="5568" y="203"/>
                      </a:lnTo>
                      <a:lnTo>
                        <a:pt x="5570" y="201"/>
                      </a:lnTo>
                      <a:lnTo>
                        <a:pt x="5378" y="58"/>
                      </a:lnTo>
                      <a:lnTo>
                        <a:pt x="5170" y="0"/>
                      </a:lnTo>
                      <a:lnTo>
                        <a:pt x="5065" y="15"/>
                      </a:lnTo>
                      <a:lnTo>
                        <a:pt x="4912" y="69"/>
                      </a:lnTo>
                      <a:lnTo>
                        <a:pt x="4771" y="205"/>
                      </a:lnTo>
                      <a:lnTo>
                        <a:pt x="4720" y="327"/>
                      </a:lnTo>
                      <a:lnTo>
                        <a:pt x="4720" y="457"/>
                      </a:lnTo>
                      <a:lnTo>
                        <a:pt x="4722" y="457"/>
                      </a:lnTo>
                      <a:lnTo>
                        <a:pt x="4614" y="527"/>
                      </a:lnTo>
                      <a:lnTo>
                        <a:pt x="4581" y="587"/>
                      </a:lnTo>
                      <a:lnTo>
                        <a:pt x="4598" y="686"/>
                      </a:lnTo>
                      <a:lnTo>
                        <a:pt x="4598" y="684"/>
                      </a:lnTo>
                      <a:lnTo>
                        <a:pt x="4342" y="874"/>
                      </a:lnTo>
                      <a:lnTo>
                        <a:pt x="4344" y="874"/>
                      </a:lnTo>
                      <a:lnTo>
                        <a:pt x="4166" y="783"/>
                      </a:lnTo>
                      <a:lnTo>
                        <a:pt x="3708" y="473"/>
                      </a:lnTo>
                      <a:lnTo>
                        <a:pt x="3640" y="488"/>
                      </a:lnTo>
                      <a:lnTo>
                        <a:pt x="3510" y="572"/>
                      </a:lnTo>
                      <a:lnTo>
                        <a:pt x="3432" y="659"/>
                      </a:lnTo>
                      <a:lnTo>
                        <a:pt x="3568" y="1138"/>
                      </a:lnTo>
                      <a:lnTo>
                        <a:pt x="3568" y="1136"/>
                      </a:lnTo>
                      <a:lnTo>
                        <a:pt x="3592" y="1268"/>
                      </a:lnTo>
                      <a:lnTo>
                        <a:pt x="3593" y="1266"/>
                      </a:lnTo>
                      <a:lnTo>
                        <a:pt x="3516" y="1233"/>
                      </a:lnTo>
                      <a:lnTo>
                        <a:pt x="3250" y="1181"/>
                      </a:lnTo>
                      <a:lnTo>
                        <a:pt x="2979" y="1202"/>
                      </a:lnTo>
                      <a:lnTo>
                        <a:pt x="2794" y="1272"/>
                      </a:lnTo>
                      <a:lnTo>
                        <a:pt x="2597" y="1442"/>
                      </a:lnTo>
                      <a:lnTo>
                        <a:pt x="2504" y="1631"/>
                      </a:lnTo>
                      <a:lnTo>
                        <a:pt x="2476" y="1885"/>
                      </a:lnTo>
                      <a:lnTo>
                        <a:pt x="2513" y="2127"/>
                      </a:lnTo>
                      <a:lnTo>
                        <a:pt x="2513" y="2125"/>
                      </a:lnTo>
                      <a:lnTo>
                        <a:pt x="1767" y="2635"/>
                      </a:lnTo>
                      <a:lnTo>
                        <a:pt x="1553" y="2788"/>
                      </a:lnTo>
                      <a:lnTo>
                        <a:pt x="1448" y="2839"/>
                      </a:lnTo>
                      <a:lnTo>
                        <a:pt x="1450" y="2839"/>
                      </a:lnTo>
                      <a:lnTo>
                        <a:pt x="1386" y="2763"/>
                      </a:lnTo>
                      <a:lnTo>
                        <a:pt x="1386" y="2765"/>
                      </a:lnTo>
                      <a:lnTo>
                        <a:pt x="1348" y="2544"/>
                      </a:lnTo>
                      <a:lnTo>
                        <a:pt x="1386" y="2179"/>
                      </a:lnTo>
                      <a:lnTo>
                        <a:pt x="1386" y="2179"/>
                      </a:lnTo>
                      <a:lnTo>
                        <a:pt x="1487" y="1889"/>
                      </a:lnTo>
                      <a:lnTo>
                        <a:pt x="1648" y="1578"/>
                      </a:lnTo>
                      <a:lnTo>
                        <a:pt x="1763" y="1448"/>
                      </a:lnTo>
                      <a:lnTo>
                        <a:pt x="1759" y="1448"/>
                      </a:lnTo>
                      <a:lnTo>
                        <a:pt x="1767" y="1460"/>
                      </a:lnTo>
                      <a:lnTo>
                        <a:pt x="1767" y="1458"/>
                      </a:lnTo>
                      <a:lnTo>
                        <a:pt x="1798" y="1716"/>
                      </a:lnTo>
                      <a:lnTo>
                        <a:pt x="1829" y="1749"/>
                      </a:lnTo>
                      <a:lnTo>
                        <a:pt x="1854" y="1731"/>
                      </a:lnTo>
                      <a:lnTo>
                        <a:pt x="1893" y="1656"/>
                      </a:lnTo>
                      <a:lnTo>
                        <a:pt x="2081" y="1382"/>
                      </a:lnTo>
                      <a:lnTo>
                        <a:pt x="2348" y="925"/>
                      </a:lnTo>
                      <a:lnTo>
                        <a:pt x="2333" y="907"/>
                      </a:lnTo>
                      <a:lnTo>
                        <a:pt x="2310" y="907"/>
                      </a:lnTo>
                      <a:lnTo>
                        <a:pt x="2147" y="929"/>
                      </a:lnTo>
                      <a:lnTo>
                        <a:pt x="1943" y="936"/>
                      </a:lnTo>
                      <a:lnTo>
                        <a:pt x="1590" y="985"/>
                      </a:lnTo>
                      <a:lnTo>
                        <a:pt x="1319" y="985"/>
                      </a:lnTo>
                      <a:lnTo>
                        <a:pt x="1295" y="1000"/>
                      </a:lnTo>
                      <a:lnTo>
                        <a:pt x="1286" y="1053"/>
                      </a:lnTo>
                      <a:lnTo>
                        <a:pt x="1361" y="1101"/>
                      </a:lnTo>
                      <a:lnTo>
                        <a:pt x="1538" y="1177"/>
                      </a:lnTo>
                      <a:lnTo>
                        <a:pt x="1646" y="1252"/>
                      </a:lnTo>
                      <a:lnTo>
                        <a:pt x="1646" y="1250"/>
                      </a:lnTo>
                      <a:lnTo>
                        <a:pt x="1371" y="1501"/>
                      </a:lnTo>
                      <a:lnTo>
                        <a:pt x="1371" y="1501"/>
                      </a:lnTo>
                      <a:lnTo>
                        <a:pt x="1080" y="1867"/>
                      </a:lnTo>
                      <a:lnTo>
                        <a:pt x="888" y="2240"/>
                      </a:lnTo>
                      <a:lnTo>
                        <a:pt x="789" y="2612"/>
                      </a:lnTo>
                      <a:lnTo>
                        <a:pt x="822" y="2895"/>
                      </a:lnTo>
                      <a:lnTo>
                        <a:pt x="822" y="2893"/>
                      </a:lnTo>
                      <a:lnTo>
                        <a:pt x="673" y="2885"/>
                      </a:lnTo>
                      <a:lnTo>
                        <a:pt x="479" y="2945"/>
                      </a:lnTo>
                      <a:lnTo>
                        <a:pt x="258" y="3023"/>
                      </a:lnTo>
                      <a:lnTo>
                        <a:pt x="260" y="3023"/>
                      </a:lnTo>
                      <a:lnTo>
                        <a:pt x="39" y="3017"/>
                      </a:lnTo>
                      <a:lnTo>
                        <a:pt x="39" y="3031"/>
                      </a:lnTo>
                      <a:lnTo>
                        <a:pt x="46" y="3042"/>
                      </a:lnTo>
                      <a:lnTo>
                        <a:pt x="89" y="3058"/>
                      </a:lnTo>
                      <a:lnTo>
                        <a:pt x="87" y="3058"/>
                      </a:lnTo>
                      <a:lnTo>
                        <a:pt x="99" y="3077"/>
                      </a:lnTo>
                      <a:lnTo>
                        <a:pt x="99" y="3077"/>
                      </a:lnTo>
                      <a:lnTo>
                        <a:pt x="75" y="3106"/>
                      </a:lnTo>
                      <a:lnTo>
                        <a:pt x="77" y="3106"/>
                      </a:lnTo>
                      <a:lnTo>
                        <a:pt x="13" y="3114"/>
                      </a:lnTo>
                      <a:lnTo>
                        <a:pt x="0" y="3132"/>
                      </a:lnTo>
                      <a:lnTo>
                        <a:pt x="8" y="3145"/>
                      </a:lnTo>
                      <a:lnTo>
                        <a:pt x="15" y="3141"/>
                      </a:lnTo>
                      <a:lnTo>
                        <a:pt x="13" y="3141"/>
                      </a:lnTo>
                      <a:lnTo>
                        <a:pt x="101" y="3134"/>
                      </a:lnTo>
                      <a:lnTo>
                        <a:pt x="101" y="3130"/>
                      </a:lnTo>
                      <a:lnTo>
                        <a:pt x="83" y="3141"/>
                      </a:lnTo>
                      <a:lnTo>
                        <a:pt x="52" y="3155"/>
                      </a:lnTo>
                      <a:lnTo>
                        <a:pt x="52" y="3176"/>
                      </a:lnTo>
                      <a:lnTo>
                        <a:pt x="89" y="3178"/>
                      </a:lnTo>
                      <a:lnTo>
                        <a:pt x="87" y="3174"/>
                      </a:lnTo>
                      <a:lnTo>
                        <a:pt x="60" y="3223"/>
                      </a:lnTo>
                      <a:lnTo>
                        <a:pt x="122" y="3232"/>
                      </a:lnTo>
                      <a:lnTo>
                        <a:pt x="120" y="3229"/>
                      </a:lnTo>
                      <a:lnTo>
                        <a:pt x="99" y="3252"/>
                      </a:lnTo>
                      <a:lnTo>
                        <a:pt x="99" y="3269"/>
                      </a:lnTo>
                      <a:lnTo>
                        <a:pt x="105" y="3275"/>
                      </a:lnTo>
                      <a:lnTo>
                        <a:pt x="145" y="3248"/>
                      </a:lnTo>
                      <a:lnTo>
                        <a:pt x="275" y="3178"/>
                      </a:lnTo>
                      <a:lnTo>
                        <a:pt x="603" y="3064"/>
                      </a:lnTo>
                      <a:lnTo>
                        <a:pt x="601" y="3064"/>
                      </a:lnTo>
                      <a:lnTo>
                        <a:pt x="863" y="3079"/>
                      </a:lnTo>
                      <a:lnTo>
                        <a:pt x="861" y="3079"/>
                      </a:lnTo>
                      <a:lnTo>
                        <a:pt x="905" y="3118"/>
                      </a:lnTo>
                      <a:lnTo>
                        <a:pt x="904" y="3116"/>
                      </a:lnTo>
                      <a:lnTo>
                        <a:pt x="927" y="3172"/>
                      </a:lnTo>
                      <a:lnTo>
                        <a:pt x="927" y="3170"/>
                      </a:lnTo>
                      <a:lnTo>
                        <a:pt x="937" y="3399"/>
                      </a:lnTo>
                      <a:lnTo>
                        <a:pt x="1134" y="3438"/>
                      </a:lnTo>
                      <a:lnTo>
                        <a:pt x="1132" y="3438"/>
                      </a:lnTo>
                      <a:lnTo>
                        <a:pt x="1646" y="3597"/>
                      </a:lnTo>
                      <a:lnTo>
                        <a:pt x="1646" y="3597"/>
                      </a:lnTo>
                      <a:lnTo>
                        <a:pt x="2325" y="3696"/>
                      </a:lnTo>
                      <a:lnTo>
                        <a:pt x="2599" y="3688"/>
                      </a:lnTo>
                      <a:lnTo>
                        <a:pt x="3031" y="3558"/>
                      </a:lnTo>
                      <a:lnTo>
                        <a:pt x="3229" y="3485"/>
                      </a:lnTo>
                      <a:lnTo>
                        <a:pt x="3304" y="3461"/>
                      </a:lnTo>
                      <a:lnTo>
                        <a:pt x="3301" y="3459"/>
                      </a:lnTo>
                      <a:lnTo>
                        <a:pt x="3301" y="3467"/>
                      </a:lnTo>
                      <a:lnTo>
                        <a:pt x="3465" y="3729"/>
                      </a:lnTo>
                      <a:lnTo>
                        <a:pt x="3489" y="3704"/>
                      </a:lnTo>
                      <a:lnTo>
                        <a:pt x="3545" y="3566"/>
                      </a:lnTo>
                      <a:lnTo>
                        <a:pt x="3832" y="2703"/>
                      </a:lnTo>
                      <a:lnTo>
                        <a:pt x="3832" y="2703"/>
                      </a:lnTo>
                      <a:lnTo>
                        <a:pt x="3855" y="2610"/>
                      </a:lnTo>
                      <a:lnTo>
                        <a:pt x="3830" y="2610"/>
                      </a:lnTo>
                      <a:lnTo>
                        <a:pt x="3586" y="2779"/>
                      </a:lnTo>
                      <a:lnTo>
                        <a:pt x="3085" y="3023"/>
                      </a:lnTo>
                      <a:lnTo>
                        <a:pt x="3085" y="3023"/>
                      </a:lnTo>
                      <a:lnTo>
                        <a:pt x="2856" y="3075"/>
                      </a:lnTo>
                      <a:lnTo>
                        <a:pt x="2820" y="3108"/>
                      </a:lnTo>
                      <a:lnTo>
                        <a:pt x="2843" y="3145"/>
                      </a:lnTo>
                      <a:lnTo>
                        <a:pt x="3010" y="3215"/>
                      </a:lnTo>
                      <a:lnTo>
                        <a:pt x="3097" y="3275"/>
                      </a:lnTo>
                      <a:lnTo>
                        <a:pt x="3097" y="3273"/>
                      </a:lnTo>
                      <a:lnTo>
                        <a:pt x="3074" y="3296"/>
                      </a:lnTo>
                      <a:lnTo>
                        <a:pt x="3074" y="3294"/>
                      </a:lnTo>
                      <a:lnTo>
                        <a:pt x="2856" y="3366"/>
                      </a:lnTo>
                      <a:lnTo>
                        <a:pt x="2858" y="3366"/>
                      </a:lnTo>
                      <a:lnTo>
                        <a:pt x="2554" y="3382"/>
                      </a:lnTo>
                      <a:lnTo>
                        <a:pt x="2096" y="3294"/>
                      </a:lnTo>
                      <a:lnTo>
                        <a:pt x="2096" y="3294"/>
                      </a:lnTo>
                      <a:lnTo>
                        <a:pt x="1805" y="3159"/>
                      </a:lnTo>
                      <a:lnTo>
                        <a:pt x="1805" y="3159"/>
                      </a:lnTo>
                      <a:lnTo>
                        <a:pt x="1768" y="3122"/>
                      </a:lnTo>
                      <a:lnTo>
                        <a:pt x="1767" y="3124"/>
                      </a:lnTo>
                      <a:lnTo>
                        <a:pt x="1914" y="3145"/>
                      </a:lnTo>
                      <a:lnTo>
                        <a:pt x="2057" y="3178"/>
                      </a:lnTo>
                      <a:lnTo>
                        <a:pt x="2387" y="3118"/>
                      </a:lnTo>
                      <a:lnTo>
                        <a:pt x="2529" y="3019"/>
                      </a:lnTo>
                      <a:lnTo>
                        <a:pt x="2653" y="2872"/>
                      </a:lnTo>
                      <a:lnTo>
                        <a:pt x="2692" y="2742"/>
                      </a:lnTo>
                      <a:lnTo>
                        <a:pt x="2707" y="2383"/>
                      </a:lnTo>
                      <a:lnTo>
                        <a:pt x="2707" y="2383"/>
                      </a:lnTo>
                      <a:lnTo>
                        <a:pt x="3316" y="1954"/>
                      </a:lnTo>
                      <a:lnTo>
                        <a:pt x="3838" y="1578"/>
                      </a:lnTo>
                      <a:lnTo>
                        <a:pt x="3836" y="1578"/>
                      </a:lnTo>
                      <a:lnTo>
                        <a:pt x="4522" y="2017"/>
                      </a:lnTo>
                      <a:lnTo>
                        <a:pt x="4575" y="2032"/>
                      </a:lnTo>
                      <a:lnTo>
                        <a:pt x="4823" y="1885"/>
                      </a:lnTo>
                      <a:lnTo>
                        <a:pt x="4823" y="1861"/>
                      </a:lnTo>
                      <a:lnTo>
                        <a:pt x="4672" y="1518"/>
                      </a:lnTo>
                      <a:lnTo>
                        <a:pt x="4670" y="1520"/>
                      </a:lnTo>
                      <a:lnTo>
                        <a:pt x="4802" y="1510"/>
                      </a:lnTo>
                      <a:lnTo>
                        <a:pt x="4974" y="1429"/>
                      </a:lnTo>
                      <a:lnTo>
                        <a:pt x="5118" y="1243"/>
                      </a:lnTo>
                      <a:lnTo>
                        <a:pt x="5188" y="975"/>
                      </a:lnTo>
                      <a:lnTo>
                        <a:pt x="5186" y="975"/>
                      </a:lnTo>
                      <a:lnTo>
                        <a:pt x="5209" y="975"/>
                      </a:lnTo>
                      <a:lnTo>
                        <a:pt x="5383" y="963"/>
                      </a:lnTo>
                      <a:lnTo>
                        <a:pt x="5523" y="888"/>
                      </a:lnTo>
                      <a:lnTo>
                        <a:pt x="5661" y="758"/>
                      </a:lnTo>
                      <a:lnTo>
                        <a:pt x="5715" y="620"/>
                      </a:lnTo>
                      <a:lnTo>
                        <a:pt x="5700" y="389"/>
                      </a:lnTo>
                      <a:lnTo>
                        <a:pt x="5570" y="201"/>
                      </a:lnTo>
                      <a:lnTo>
                        <a:pt x="5568" y="2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rot="12077400">
                  <a:off x="1408320" y="5096160"/>
                  <a:ext cx="194040" cy="152280"/>
                </a:xfrm>
                <a:custGeom>
                  <a:avLst/>
                  <a:gdLst/>
                  <a:ahLst/>
                  <a:rect l="l" t="t" r="r" b="b"/>
                  <a:pathLst>
                    <a:path w="609" h="477">
                      <a:moveTo>
                        <a:pt x="531" y="329"/>
                      </a:moveTo>
                      <a:lnTo>
                        <a:pt x="593" y="199"/>
                      </a:lnTo>
                      <a:lnTo>
                        <a:pt x="609" y="0"/>
                      </a:lnTo>
                      <a:lnTo>
                        <a:pt x="0" y="428"/>
                      </a:lnTo>
                      <a:lnTo>
                        <a:pt x="36" y="428"/>
                      </a:lnTo>
                      <a:lnTo>
                        <a:pt x="35" y="428"/>
                      </a:lnTo>
                      <a:lnTo>
                        <a:pt x="102" y="461"/>
                      </a:lnTo>
                      <a:lnTo>
                        <a:pt x="211" y="477"/>
                      </a:lnTo>
                      <a:lnTo>
                        <a:pt x="384" y="438"/>
                      </a:lnTo>
                      <a:lnTo>
                        <a:pt x="531" y="329"/>
                      </a:lnTo>
                      <a:lnTo>
                        <a:pt x="529" y="327"/>
                      </a:lnTo>
                      <a:lnTo>
                        <a:pt x="384" y="434"/>
                      </a:lnTo>
                      <a:lnTo>
                        <a:pt x="384" y="434"/>
                      </a:lnTo>
                      <a:lnTo>
                        <a:pt x="211" y="473"/>
                      </a:lnTo>
                      <a:lnTo>
                        <a:pt x="102" y="457"/>
                      </a:lnTo>
                      <a:lnTo>
                        <a:pt x="104" y="457"/>
                      </a:lnTo>
                      <a:lnTo>
                        <a:pt x="36" y="426"/>
                      </a:lnTo>
                      <a:lnTo>
                        <a:pt x="3" y="426"/>
                      </a:lnTo>
                      <a:lnTo>
                        <a:pt x="5" y="428"/>
                      </a:lnTo>
                      <a:lnTo>
                        <a:pt x="609" y="3"/>
                      </a:lnTo>
                      <a:lnTo>
                        <a:pt x="607" y="1"/>
                      </a:lnTo>
                      <a:lnTo>
                        <a:pt x="591" y="197"/>
                      </a:lnTo>
                      <a:lnTo>
                        <a:pt x="591" y="197"/>
                      </a:lnTo>
                      <a:lnTo>
                        <a:pt x="529" y="327"/>
                      </a:lnTo>
                      <a:lnTo>
                        <a:pt x="529" y="327"/>
                      </a:lnTo>
                      <a:lnTo>
                        <a:pt x="531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rot="12077400">
                  <a:off x="986400" y="5291640"/>
                  <a:ext cx="265680" cy="210600"/>
                </a:xfrm>
                <a:custGeom>
                  <a:avLst/>
                  <a:gdLst/>
                  <a:ahLst/>
                  <a:rect l="l" t="t" r="r" b="b"/>
                  <a:pathLst>
                    <a:path w="830" h="658">
                      <a:moveTo>
                        <a:pt x="830" y="74"/>
                      </a:moveTo>
                      <a:lnTo>
                        <a:pt x="805" y="55"/>
                      </a:lnTo>
                      <a:lnTo>
                        <a:pt x="434" y="0"/>
                      </a:lnTo>
                      <a:lnTo>
                        <a:pt x="295" y="39"/>
                      </a:lnTo>
                      <a:lnTo>
                        <a:pt x="169" y="123"/>
                      </a:lnTo>
                      <a:lnTo>
                        <a:pt x="81" y="225"/>
                      </a:lnTo>
                      <a:lnTo>
                        <a:pt x="0" y="427"/>
                      </a:lnTo>
                      <a:lnTo>
                        <a:pt x="29" y="658"/>
                      </a:lnTo>
                      <a:lnTo>
                        <a:pt x="830" y="74"/>
                      </a:lnTo>
                      <a:lnTo>
                        <a:pt x="828" y="72"/>
                      </a:lnTo>
                      <a:lnTo>
                        <a:pt x="29" y="654"/>
                      </a:lnTo>
                      <a:lnTo>
                        <a:pt x="33" y="656"/>
                      </a:lnTo>
                      <a:lnTo>
                        <a:pt x="2" y="427"/>
                      </a:lnTo>
                      <a:lnTo>
                        <a:pt x="2" y="427"/>
                      </a:lnTo>
                      <a:lnTo>
                        <a:pt x="85" y="227"/>
                      </a:lnTo>
                      <a:lnTo>
                        <a:pt x="171" y="125"/>
                      </a:lnTo>
                      <a:lnTo>
                        <a:pt x="171" y="125"/>
                      </a:lnTo>
                      <a:lnTo>
                        <a:pt x="297" y="43"/>
                      </a:lnTo>
                      <a:lnTo>
                        <a:pt x="436" y="2"/>
                      </a:lnTo>
                      <a:lnTo>
                        <a:pt x="434" y="2"/>
                      </a:lnTo>
                      <a:lnTo>
                        <a:pt x="805" y="59"/>
                      </a:lnTo>
                      <a:lnTo>
                        <a:pt x="805" y="59"/>
                      </a:lnTo>
                      <a:lnTo>
                        <a:pt x="828" y="74"/>
                      </a:lnTo>
                      <a:lnTo>
                        <a:pt x="828" y="72"/>
                      </a:lnTo>
                      <a:lnTo>
                        <a:pt x="83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rot="12077400">
                  <a:off x="459000" y="5288040"/>
                  <a:ext cx="160920" cy="165960"/>
                </a:xfrm>
                <a:custGeom>
                  <a:avLst/>
                  <a:gdLst/>
                  <a:ahLst/>
                  <a:rect l="l" t="t" r="r" b="b"/>
                  <a:pathLst>
                    <a:path w="502" h="520">
                      <a:moveTo>
                        <a:pt x="427" y="340"/>
                      </a:moveTo>
                      <a:lnTo>
                        <a:pt x="502" y="117"/>
                      </a:lnTo>
                      <a:lnTo>
                        <a:pt x="343" y="0"/>
                      </a:lnTo>
                      <a:lnTo>
                        <a:pt x="0" y="251"/>
                      </a:lnTo>
                      <a:lnTo>
                        <a:pt x="82" y="512"/>
                      </a:lnTo>
                      <a:lnTo>
                        <a:pt x="204" y="520"/>
                      </a:lnTo>
                      <a:lnTo>
                        <a:pt x="343" y="445"/>
                      </a:lnTo>
                      <a:lnTo>
                        <a:pt x="427" y="340"/>
                      </a:lnTo>
                      <a:lnTo>
                        <a:pt x="425" y="338"/>
                      </a:lnTo>
                      <a:lnTo>
                        <a:pt x="341" y="443"/>
                      </a:lnTo>
                      <a:lnTo>
                        <a:pt x="343" y="443"/>
                      </a:lnTo>
                      <a:lnTo>
                        <a:pt x="202" y="516"/>
                      </a:lnTo>
                      <a:lnTo>
                        <a:pt x="204" y="516"/>
                      </a:lnTo>
                      <a:lnTo>
                        <a:pt x="83" y="510"/>
                      </a:lnTo>
                      <a:lnTo>
                        <a:pt x="83" y="510"/>
                      </a:lnTo>
                      <a:lnTo>
                        <a:pt x="2" y="251"/>
                      </a:lnTo>
                      <a:lnTo>
                        <a:pt x="2" y="253"/>
                      </a:lnTo>
                      <a:lnTo>
                        <a:pt x="343" y="4"/>
                      </a:lnTo>
                      <a:lnTo>
                        <a:pt x="343" y="4"/>
                      </a:lnTo>
                      <a:lnTo>
                        <a:pt x="500" y="119"/>
                      </a:lnTo>
                      <a:lnTo>
                        <a:pt x="500" y="117"/>
                      </a:lnTo>
                      <a:lnTo>
                        <a:pt x="425" y="338"/>
                      </a:lnTo>
                      <a:lnTo>
                        <a:pt x="427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rot="12077400">
                  <a:off x="192960" y="5356800"/>
                  <a:ext cx="290880" cy="287640"/>
                </a:xfrm>
                <a:custGeom>
                  <a:avLst/>
                  <a:gdLst/>
                  <a:ahLst/>
                  <a:rect l="l" t="t" r="r" b="b"/>
                  <a:pathLst>
                    <a:path w="909" h="898">
                      <a:moveTo>
                        <a:pt x="801" y="229"/>
                      </a:moveTo>
                      <a:lnTo>
                        <a:pt x="876" y="336"/>
                      </a:lnTo>
                      <a:lnTo>
                        <a:pt x="909" y="524"/>
                      </a:lnTo>
                      <a:lnTo>
                        <a:pt x="861" y="695"/>
                      </a:lnTo>
                      <a:lnTo>
                        <a:pt x="729" y="815"/>
                      </a:lnTo>
                      <a:lnTo>
                        <a:pt x="541" y="898"/>
                      </a:lnTo>
                      <a:lnTo>
                        <a:pt x="395" y="898"/>
                      </a:lnTo>
                      <a:lnTo>
                        <a:pt x="223" y="836"/>
                      </a:lnTo>
                      <a:lnTo>
                        <a:pt x="153" y="776"/>
                      </a:lnTo>
                      <a:lnTo>
                        <a:pt x="136" y="631"/>
                      </a:lnTo>
                      <a:lnTo>
                        <a:pt x="120" y="619"/>
                      </a:lnTo>
                      <a:lnTo>
                        <a:pt x="231" y="669"/>
                      </a:lnTo>
                      <a:lnTo>
                        <a:pt x="343" y="733"/>
                      </a:lnTo>
                      <a:lnTo>
                        <a:pt x="533" y="722"/>
                      </a:lnTo>
                      <a:lnTo>
                        <a:pt x="624" y="669"/>
                      </a:lnTo>
                      <a:lnTo>
                        <a:pt x="706" y="547"/>
                      </a:lnTo>
                      <a:lnTo>
                        <a:pt x="706" y="402"/>
                      </a:lnTo>
                      <a:lnTo>
                        <a:pt x="648" y="287"/>
                      </a:lnTo>
                      <a:lnTo>
                        <a:pt x="551" y="206"/>
                      </a:lnTo>
                      <a:lnTo>
                        <a:pt x="479" y="198"/>
                      </a:lnTo>
                      <a:lnTo>
                        <a:pt x="388" y="198"/>
                      </a:lnTo>
                      <a:lnTo>
                        <a:pt x="250" y="260"/>
                      </a:lnTo>
                      <a:lnTo>
                        <a:pt x="174" y="351"/>
                      </a:lnTo>
                      <a:lnTo>
                        <a:pt x="168" y="402"/>
                      </a:lnTo>
                      <a:lnTo>
                        <a:pt x="0" y="394"/>
                      </a:lnTo>
                      <a:lnTo>
                        <a:pt x="0" y="264"/>
                      </a:lnTo>
                      <a:lnTo>
                        <a:pt x="54" y="173"/>
                      </a:lnTo>
                      <a:lnTo>
                        <a:pt x="120" y="92"/>
                      </a:lnTo>
                      <a:lnTo>
                        <a:pt x="213" y="37"/>
                      </a:lnTo>
                      <a:lnTo>
                        <a:pt x="403" y="0"/>
                      </a:lnTo>
                      <a:lnTo>
                        <a:pt x="616" y="74"/>
                      </a:lnTo>
                      <a:lnTo>
                        <a:pt x="801" y="22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rot="12077400">
                  <a:off x="369720" y="5465160"/>
                  <a:ext cx="127440" cy="75240"/>
                </a:xfrm>
                <a:custGeom>
                  <a:avLst/>
                  <a:gdLst/>
                  <a:ahLst/>
                  <a:rect l="l" t="t" r="r" b="b"/>
                  <a:pathLst>
                    <a:path w="398" h="234">
                      <a:moveTo>
                        <a:pt x="326" y="120"/>
                      </a:moveTo>
                      <a:lnTo>
                        <a:pt x="398" y="234"/>
                      </a:lnTo>
                      <a:lnTo>
                        <a:pt x="350" y="203"/>
                      </a:lnTo>
                      <a:lnTo>
                        <a:pt x="284" y="203"/>
                      </a:lnTo>
                      <a:lnTo>
                        <a:pt x="272" y="196"/>
                      </a:lnTo>
                      <a:lnTo>
                        <a:pt x="311" y="168"/>
                      </a:lnTo>
                      <a:lnTo>
                        <a:pt x="326" y="184"/>
                      </a:lnTo>
                      <a:lnTo>
                        <a:pt x="334" y="184"/>
                      </a:lnTo>
                      <a:lnTo>
                        <a:pt x="344" y="172"/>
                      </a:lnTo>
                      <a:lnTo>
                        <a:pt x="344" y="151"/>
                      </a:lnTo>
                      <a:lnTo>
                        <a:pt x="311" y="130"/>
                      </a:lnTo>
                      <a:lnTo>
                        <a:pt x="253" y="157"/>
                      </a:lnTo>
                      <a:lnTo>
                        <a:pt x="235" y="172"/>
                      </a:lnTo>
                      <a:lnTo>
                        <a:pt x="196" y="145"/>
                      </a:lnTo>
                      <a:lnTo>
                        <a:pt x="272" y="89"/>
                      </a:lnTo>
                      <a:lnTo>
                        <a:pt x="245" y="70"/>
                      </a:lnTo>
                      <a:lnTo>
                        <a:pt x="154" y="130"/>
                      </a:lnTo>
                      <a:lnTo>
                        <a:pt x="138" y="130"/>
                      </a:lnTo>
                      <a:lnTo>
                        <a:pt x="138" y="89"/>
                      </a:lnTo>
                      <a:lnTo>
                        <a:pt x="181" y="58"/>
                      </a:lnTo>
                      <a:lnTo>
                        <a:pt x="181" y="42"/>
                      </a:lnTo>
                      <a:lnTo>
                        <a:pt x="130" y="54"/>
                      </a:lnTo>
                      <a:lnTo>
                        <a:pt x="99" y="81"/>
                      </a:lnTo>
                      <a:lnTo>
                        <a:pt x="99" y="112"/>
                      </a:lnTo>
                      <a:lnTo>
                        <a:pt x="66" y="106"/>
                      </a:lnTo>
                      <a:lnTo>
                        <a:pt x="66" y="70"/>
                      </a:lnTo>
                      <a:lnTo>
                        <a:pt x="115" y="31"/>
                      </a:lnTo>
                      <a:lnTo>
                        <a:pt x="115" y="21"/>
                      </a:lnTo>
                      <a:lnTo>
                        <a:pt x="99" y="6"/>
                      </a:lnTo>
                      <a:lnTo>
                        <a:pt x="28" y="81"/>
                      </a:lnTo>
                      <a:lnTo>
                        <a:pt x="0" y="112"/>
                      </a:lnTo>
                      <a:lnTo>
                        <a:pt x="22" y="21"/>
                      </a:lnTo>
                      <a:lnTo>
                        <a:pt x="55" y="0"/>
                      </a:lnTo>
                      <a:lnTo>
                        <a:pt x="220" y="42"/>
                      </a:lnTo>
                      <a:lnTo>
                        <a:pt x="326" y="12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rot="12077400">
                  <a:off x="490320" y="5519880"/>
                  <a:ext cx="16200" cy="42120"/>
                </a:xfrm>
                <a:custGeom>
                  <a:avLst/>
                  <a:gdLst/>
                  <a:ahLst/>
                  <a:rect l="l" t="t" r="r" b="b"/>
                  <a:pathLst>
                    <a:path w="51" h="130">
                      <a:moveTo>
                        <a:pt x="27" y="115"/>
                      </a:moveTo>
                      <a:lnTo>
                        <a:pt x="0" y="130"/>
                      </a:lnTo>
                      <a:lnTo>
                        <a:pt x="0" y="43"/>
                      </a:lnTo>
                      <a:lnTo>
                        <a:pt x="37" y="6"/>
                      </a:lnTo>
                      <a:lnTo>
                        <a:pt x="51" y="0"/>
                      </a:lnTo>
                      <a:lnTo>
                        <a:pt x="22" y="66"/>
                      </a:lnTo>
                      <a:lnTo>
                        <a:pt x="27" y="11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12077400">
                  <a:off x="544680" y="5182200"/>
                  <a:ext cx="367920" cy="447480"/>
                </a:xfrm>
                <a:custGeom>
                  <a:avLst/>
                  <a:gdLst/>
                  <a:ahLst/>
                  <a:rect l="l" t="t" r="r" b="b"/>
                  <a:pathLst>
                    <a:path w="1148" h="1392">
                      <a:moveTo>
                        <a:pt x="810" y="461"/>
                      </a:moveTo>
                      <a:lnTo>
                        <a:pt x="1148" y="1355"/>
                      </a:lnTo>
                      <a:lnTo>
                        <a:pt x="1078" y="1392"/>
                      </a:lnTo>
                      <a:lnTo>
                        <a:pt x="735" y="1181"/>
                      </a:lnTo>
                      <a:lnTo>
                        <a:pt x="267" y="822"/>
                      </a:lnTo>
                      <a:lnTo>
                        <a:pt x="0" y="36"/>
                      </a:lnTo>
                      <a:lnTo>
                        <a:pt x="81" y="0"/>
                      </a:lnTo>
                      <a:lnTo>
                        <a:pt x="581" y="343"/>
                      </a:lnTo>
                      <a:lnTo>
                        <a:pt x="810" y="4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12077400">
                  <a:off x="519120" y="5520600"/>
                  <a:ext cx="11520" cy="33120"/>
                </a:xfrm>
                <a:custGeom>
                  <a:avLst/>
                  <a:gdLst/>
                  <a:ahLst/>
                  <a:rect l="l" t="t" r="r" b="b"/>
                  <a:pathLst>
                    <a:path w="33" h="102">
                      <a:moveTo>
                        <a:pt x="33" y="98"/>
                      </a:moveTo>
                      <a:lnTo>
                        <a:pt x="26" y="98"/>
                      </a:lnTo>
                      <a:lnTo>
                        <a:pt x="16" y="102"/>
                      </a:lnTo>
                      <a:lnTo>
                        <a:pt x="0" y="75"/>
                      </a:lnTo>
                      <a:lnTo>
                        <a:pt x="10" y="19"/>
                      </a:lnTo>
                      <a:lnTo>
                        <a:pt x="33" y="0"/>
                      </a:lnTo>
                      <a:lnTo>
                        <a:pt x="33" y="98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rot="12077400">
                  <a:off x="586440" y="5174640"/>
                  <a:ext cx="379440" cy="447840"/>
                </a:xfrm>
                <a:custGeom>
                  <a:avLst/>
                  <a:gdLst/>
                  <a:ahLst/>
                  <a:rect l="l" t="t" r="r" b="b"/>
                  <a:pathLst>
                    <a:path w="1183" h="1395">
                      <a:moveTo>
                        <a:pt x="1036" y="1259"/>
                      </a:moveTo>
                      <a:lnTo>
                        <a:pt x="1160" y="1317"/>
                      </a:lnTo>
                      <a:lnTo>
                        <a:pt x="1183" y="1340"/>
                      </a:lnTo>
                      <a:lnTo>
                        <a:pt x="1100" y="1395"/>
                      </a:lnTo>
                      <a:lnTo>
                        <a:pt x="801" y="1226"/>
                      </a:lnTo>
                      <a:lnTo>
                        <a:pt x="549" y="1061"/>
                      </a:lnTo>
                      <a:lnTo>
                        <a:pt x="442" y="997"/>
                      </a:lnTo>
                      <a:lnTo>
                        <a:pt x="415" y="970"/>
                      </a:lnTo>
                      <a:lnTo>
                        <a:pt x="415" y="871"/>
                      </a:lnTo>
                      <a:lnTo>
                        <a:pt x="338" y="768"/>
                      </a:lnTo>
                      <a:lnTo>
                        <a:pt x="252" y="702"/>
                      </a:lnTo>
                      <a:lnTo>
                        <a:pt x="175" y="693"/>
                      </a:lnTo>
                      <a:lnTo>
                        <a:pt x="0" y="84"/>
                      </a:lnTo>
                      <a:lnTo>
                        <a:pt x="41" y="33"/>
                      </a:lnTo>
                      <a:lnTo>
                        <a:pt x="60" y="18"/>
                      </a:lnTo>
                      <a:lnTo>
                        <a:pt x="109" y="0"/>
                      </a:lnTo>
                      <a:lnTo>
                        <a:pt x="377" y="778"/>
                      </a:lnTo>
                      <a:lnTo>
                        <a:pt x="1036" y="125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rot="12077400">
                  <a:off x="475920" y="5400000"/>
                  <a:ext cx="158400" cy="135360"/>
                </a:xfrm>
                <a:custGeom>
                  <a:avLst/>
                  <a:gdLst/>
                  <a:ahLst/>
                  <a:rect l="l" t="t" r="r" b="b"/>
                  <a:pathLst>
                    <a:path w="496" h="425">
                      <a:moveTo>
                        <a:pt x="496" y="89"/>
                      </a:moveTo>
                      <a:lnTo>
                        <a:pt x="487" y="173"/>
                      </a:lnTo>
                      <a:lnTo>
                        <a:pt x="138" y="425"/>
                      </a:lnTo>
                      <a:lnTo>
                        <a:pt x="99" y="328"/>
                      </a:lnTo>
                      <a:lnTo>
                        <a:pt x="8" y="279"/>
                      </a:lnTo>
                      <a:lnTo>
                        <a:pt x="0" y="272"/>
                      </a:lnTo>
                      <a:lnTo>
                        <a:pt x="242" y="89"/>
                      </a:lnTo>
                      <a:lnTo>
                        <a:pt x="374" y="6"/>
                      </a:lnTo>
                      <a:lnTo>
                        <a:pt x="409" y="0"/>
                      </a:lnTo>
                      <a:lnTo>
                        <a:pt x="448" y="12"/>
                      </a:lnTo>
                      <a:lnTo>
                        <a:pt x="496" y="8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12077400">
                  <a:off x="1279440" y="5691600"/>
                  <a:ext cx="293760" cy="71640"/>
                </a:xfrm>
                <a:custGeom>
                  <a:avLst/>
                  <a:gdLst/>
                  <a:ahLst/>
                  <a:rect l="l" t="t" r="r" b="b"/>
                  <a:pathLst>
                    <a:path w="919" h="221">
                      <a:moveTo>
                        <a:pt x="721" y="124"/>
                      </a:moveTo>
                      <a:lnTo>
                        <a:pt x="582" y="182"/>
                      </a:lnTo>
                      <a:lnTo>
                        <a:pt x="539" y="221"/>
                      </a:lnTo>
                      <a:lnTo>
                        <a:pt x="0" y="75"/>
                      </a:lnTo>
                      <a:lnTo>
                        <a:pt x="326" y="52"/>
                      </a:lnTo>
                      <a:lnTo>
                        <a:pt x="675" y="19"/>
                      </a:lnTo>
                      <a:lnTo>
                        <a:pt x="859" y="9"/>
                      </a:lnTo>
                      <a:lnTo>
                        <a:pt x="865" y="0"/>
                      </a:lnTo>
                      <a:lnTo>
                        <a:pt x="919" y="0"/>
                      </a:lnTo>
                      <a:lnTo>
                        <a:pt x="721" y="124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12077400">
                  <a:off x="438120" y="5280120"/>
                  <a:ext cx="41040" cy="101160"/>
                </a:xfrm>
                <a:custGeom>
                  <a:avLst/>
                  <a:gdLst/>
                  <a:ahLst/>
                  <a:rect l="l" t="t" r="r" b="b"/>
                  <a:pathLst>
                    <a:path w="129" h="317">
                      <a:moveTo>
                        <a:pt x="129" y="125"/>
                      </a:moveTo>
                      <a:lnTo>
                        <a:pt x="81" y="268"/>
                      </a:lnTo>
                      <a:lnTo>
                        <a:pt x="42" y="317"/>
                      </a:lnTo>
                      <a:lnTo>
                        <a:pt x="0" y="239"/>
                      </a:lnTo>
                      <a:lnTo>
                        <a:pt x="13" y="189"/>
                      </a:lnTo>
                      <a:lnTo>
                        <a:pt x="58" y="220"/>
                      </a:lnTo>
                      <a:lnTo>
                        <a:pt x="67" y="229"/>
                      </a:lnTo>
                      <a:lnTo>
                        <a:pt x="81" y="229"/>
                      </a:lnTo>
                      <a:lnTo>
                        <a:pt x="91" y="220"/>
                      </a:lnTo>
                      <a:lnTo>
                        <a:pt x="36" y="142"/>
                      </a:lnTo>
                      <a:lnTo>
                        <a:pt x="42" y="121"/>
                      </a:lnTo>
                      <a:lnTo>
                        <a:pt x="50" y="115"/>
                      </a:lnTo>
                      <a:lnTo>
                        <a:pt x="73" y="115"/>
                      </a:lnTo>
                      <a:lnTo>
                        <a:pt x="97" y="142"/>
                      </a:lnTo>
                      <a:lnTo>
                        <a:pt x="112" y="142"/>
                      </a:lnTo>
                      <a:lnTo>
                        <a:pt x="129" y="125"/>
                      </a:lnTo>
                      <a:lnTo>
                        <a:pt x="67" y="66"/>
                      </a:lnTo>
                      <a:lnTo>
                        <a:pt x="97" y="76"/>
                      </a:lnTo>
                      <a:lnTo>
                        <a:pt x="112" y="90"/>
                      </a:lnTo>
                      <a:lnTo>
                        <a:pt x="129" y="76"/>
                      </a:lnTo>
                      <a:lnTo>
                        <a:pt x="73" y="6"/>
                      </a:lnTo>
                      <a:lnTo>
                        <a:pt x="73" y="0"/>
                      </a:lnTo>
                      <a:lnTo>
                        <a:pt x="129" y="6"/>
                      </a:lnTo>
                      <a:lnTo>
                        <a:pt x="129" y="12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rot="12077400">
                  <a:off x="1315080" y="5518800"/>
                  <a:ext cx="127440" cy="203040"/>
                </a:xfrm>
                <a:custGeom>
                  <a:avLst/>
                  <a:gdLst/>
                  <a:ahLst/>
                  <a:rect l="l" t="t" r="r" b="b"/>
                  <a:pathLst>
                    <a:path w="395" h="636">
                      <a:moveTo>
                        <a:pt x="0" y="636"/>
                      </a:moveTo>
                      <a:lnTo>
                        <a:pt x="46" y="229"/>
                      </a:lnTo>
                      <a:lnTo>
                        <a:pt x="46" y="200"/>
                      </a:lnTo>
                      <a:lnTo>
                        <a:pt x="197" y="115"/>
                      </a:lnTo>
                      <a:lnTo>
                        <a:pt x="325" y="51"/>
                      </a:lnTo>
                      <a:lnTo>
                        <a:pt x="395" y="0"/>
                      </a:lnTo>
                      <a:lnTo>
                        <a:pt x="211" y="326"/>
                      </a:lnTo>
                      <a:lnTo>
                        <a:pt x="0" y="63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rot="12077400">
                  <a:off x="1443240" y="5575320"/>
                  <a:ext cx="129960" cy="164520"/>
                </a:xfrm>
                <a:custGeom>
                  <a:avLst/>
                  <a:gdLst/>
                  <a:ahLst/>
                  <a:rect l="l" t="t" r="r" b="b"/>
                  <a:pathLst>
                    <a:path w="409" h="512">
                      <a:moveTo>
                        <a:pt x="403" y="429"/>
                      </a:moveTo>
                      <a:lnTo>
                        <a:pt x="386" y="489"/>
                      </a:lnTo>
                      <a:lnTo>
                        <a:pt x="386" y="512"/>
                      </a:lnTo>
                      <a:lnTo>
                        <a:pt x="367" y="306"/>
                      </a:lnTo>
                      <a:lnTo>
                        <a:pt x="396" y="283"/>
                      </a:lnTo>
                      <a:lnTo>
                        <a:pt x="396" y="192"/>
                      </a:lnTo>
                      <a:lnTo>
                        <a:pt x="343" y="114"/>
                      </a:lnTo>
                      <a:lnTo>
                        <a:pt x="295" y="87"/>
                      </a:lnTo>
                      <a:lnTo>
                        <a:pt x="256" y="97"/>
                      </a:lnTo>
                      <a:lnTo>
                        <a:pt x="0" y="0"/>
                      </a:lnTo>
                      <a:lnTo>
                        <a:pt x="409" y="114"/>
                      </a:lnTo>
                      <a:lnTo>
                        <a:pt x="403" y="42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rot="12077400">
                  <a:off x="907560" y="5453280"/>
                  <a:ext cx="163440" cy="48600"/>
                </a:xfrm>
                <a:custGeom>
                  <a:avLst/>
                  <a:gdLst/>
                  <a:ahLst/>
                  <a:rect l="l" t="t" r="r" b="b"/>
                  <a:pathLst>
                    <a:path w="512" h="154">
                      <a:moveTo>
                        <a:pt x="512" y="97"/>
                      </a:moveTo>
                      <a:lnTo>
                        <a:pt x="473" y="136"/>
                      </a:lnTo>
                      <a:lnTo>
                        <a:pt x="465" y="88"/>
                      </a:lnTo>
                      <a:lnTo>
                        <a:pt x="446" y="94"/>
                      </a:lnTo>
                      <a:lnTo>
                        <a:pt x="419" y="136"/>
                      </a:lnTo>
                      <a:lnTo>
                        <a:pt x="419" y="154"/>
                      </a:lnTo>
                      <a:lnTo>
                        <a:pt x="392" y="146"/>
                      </a:lnTo>
                      <a:lnTo>
                        <a:pt x="368" y="146"/>
                      </a:lnTo>
                      <a:lnTo>
                        <a:pt x="368" y="70"/>
                      </a:lnTo>
                      <a:lnTo>
                        <a:pt x="351" y="55"/>
                      </a:lnTo>
                      <a:lnTo>
                        <a:pt x="337" y="55"/>
                      </a:lnTo>
                      <a:lnTo>
                        <a:pt x="332" y="109"/>
                      </a:lnTo>
                      <a:lnTo>
                        <a:pt x="332" y="130"/>
                      </a:lnTo>
                      <a:lnTo>
                        <a:pt x="301" y="130"/>
                      </a:lnTo>
                      <a:lnTo>
                        <a:pt x="283" y="115"/>
                      </a:lnTo>
                      <a:lnTo>
                        <a:pt x="283" y="49"/>
                      </a:lnTo>
                      <a:lnTo>
                        <a:pt x="268" y="31"/>
                      </a:lnTo>
                      <a:lnTo>
                        <a:pt x="244" y="49"/>
                      </a:lnTo>
                      <a:lnTo>
                        <a:pt x="254" y="125"/>
                      </a:lnTo>
                      <a:lnTo>
                        <a:pt x="186" y="109"/>
                      </a:lnTo>
                      <a:lnTo>
                        <a:pt x="178" y="39"/>
                      </a:lnTo>
                      <a:lnTo>
                        <a:pt x="163" y="24"/>
                      </a:lnTo>
                      <a:lnTo>
                        <a:pt x="147" y="31"/>
                      </a:lnTo>
                      <a:lnTo>
                        <a:pt x="140" y="78"/>
                      </a:lnTo>
                      <a:lnTo>
                        <a:pt x="140" y="97"/>
                      </a:lnTo>
                      <a:lnTo>
                        <a:pt x="91" y="97"/>
                      </a:lnTo>
                      <a:lnTo>
                        <a:pt x="91" y="31"/>
                      </a:lnTo>
                      <a:lnTo>
                        <a:pt x="72" y="12"/>
                      </a:lnTo>
                      <a:lnTo>
                        <a:pt x="56" y="24"/>
                      </a:lnTo>
                      <a:lnTo>
                        <a:pt x="56" y="94"/>
                      </a:lnTo>
                      <a:lnTo>
                        <a:pt x="15" y="88"/>
                      </a:lnTo>
                      <a:lnTo>
                        <a:pt x="0" y="88"/>
                      </a:lnTo>
                      <a:lnTo>
                        <a:pt x="10" y="12"/>
                      </a:lnTo>
                      <a:lnTo>
                        <a:pt x="48" y="0"/>
                      </a:lnTo>
                      <a:lnTo>
                        <a:pt x="283" y="16"/>
                      </a:lnTo>
                      <a:lnTo>
                        <a:pt x="512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12077400">
                  <a:off x="1069920" y="550836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60" h="82">
                      <a:moveTo>
                        <a:pt x="48" y="82"/>
                      </a:moveTo>
                      <a:lnTo>
                        <a:pt x="21" y="82"/>
                      </a:lnTo>
                      <a:lnTo>
                        <a:pt x="0" y="19"/>
                      </a:lnTo>
                      <a:lnTo>
                        <a:pt x="60" y="0"/>
                      </a:lnTo>
                      <a:lnTo>
                        <a:pt x="48" y="58"/>
                      </a:lnTo>
                      <a:lnTo>
                        <a:pt x="48" y="82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rot="12077400">
                  <a:off x="492480" y="5243400"/>
                  <a:ext cx="79200" cy="74160"/>
                </a:xfrm>
                <a:custGeom>
                  <a:avLst/>
                  <a:gdLst/>
                  <a:ahLst/>
                  <a:rect l="l" t="t" r="r" b="b"/>
                  <a:pathLst>
                    <a:path w="245" h="235">
                      <a:moveTo>
                        <a:pt x="115" y="196"/>
                      </a:moveTo>
                      <a:lnTo>
                        <a:pt x="4" y="235"/>
                      </a:lnTo>
                      <a:lnTo>
                        <a:pt x="0" y="169"/>
                      </a:lnTo>
                      <a:lnTo>
                        <a:pt x="0" y="153"/>
                      </a:lnTo>
                      <a:lnTo>
                        <a:pt x="22" y="138"/>
                      </a:lnTo>
                      <a:lnTo>
                        <a:pt x="37" y="138"/>
                      </a:lnTo>
                      <a:lnTo>
                        <a:pt x="43" y="186"/>
                      </a:lnTo>
                      <a:lnTo>
                        <a:pt x="60" y="196"/>
                      </a:lnTo>
                      <a:lnTo>
                        <a:pt x="66" y="196"/>
                      </a:lnTo>
                      <a:lnTo>
                        <a:pt x="82" y="186"/>
                      </a:lnTo>
                      <a:lnTo>
                        <a:pt x="66" y="109"/>
                      </a:lnTo>
                      <a:lnTo>
                        <a:pt x="103" y="81"/>
                      </a:lnTo>
                      <a:lnTo>
                        <a:pt x="157" y="145"/>
                      </a:lnTo>
                      <a:lnTo>
                        <a:pt x="173" y="130"/>
                      </a:lnTo>
                      <a:lnTo>
                        <a:pt x="142" y="62"/>
                      </a:lnTo>
                      <a:lnTo>
                        <a:pt x="181" y="0"/>
                      </a:lnTo>
                      <a:lnTo>
                        <a:pt x="245" y="72"/>
                      </a:lnTo>
                      <a:lnTo>
                        <a:pt x="115" y="19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rot="12077400">
                  <a:off x="1574640" y="5085360"/>
                  <a:ext cx="289800" cy="670320"/>
                </a:xfrm>
                <a:custGeom>
                  <a:avLst/>
                  <a:gdLst/>
                  <a:ahLst/>
                  <a:rect l="l" t="t" r="r" b="b"/>
                  <a:pathLst>
                    <a:path w="905" h="2092">
                      <a:moveTo>
                        <a:pt x="905" y="15"/>
                      </a:moveTo>
                      <a:lnTo>
                        <a:pt x="523" y="444"/>
                      </a:lnTo>
                      <a:lnTo>
                        <a:pt x="289" y="884"/>
                      </a:lnTo>
                      <a:lnTo>
                        <a:pt x="242" y="1156"/>
                      </a:lnTo>
                      <a:lnTo>
                        <a:pt x="242" y="1423"/>
                      </a:lnTo>
                      <a:lnTo>
                        <a:pt x="289" y="1621"/>
                      </a:lnTo>
                      <a:lnTo>
                        <a:pt x="372" y="1842"/>
                      </a:lnTo>
                      <a:lnTo>
                        <a:pt x="203" y="2063"/>
                      </a:lnTo>
                      <a:lnTo>
                        <a:pt x="159" y="2092"/>
                      </a:lnTo>
                      <a:lnTo>
                        <a:pt x="104" y="1858"/>
                      </a:lnTo>
                      <a:lnTo>
                        <a:pt x="23" y="1584"/>
                      </a:lnTo>
                      <a:lnTo>
                        <a:pt x="0" y="1472"/>
                      </a:lnTo>
                      <a:lnTo>
                        <a:pt x="5" y="1318"/>
                      </a:lnTo>
                      <a:lnTo>
                        <a:pt x="104" y="975"/>
                      </a:lnTo>
                      <a:lnTo>
                        <a:pt x="273" y="657"/>
                      </a:lnTo>
                      <a:lnTo>
                        <a:pt x="506" y="341"/>
                      </a:lnTo>
                      <a:lnTo>
                        <a:pt x="864" y="7"/>
                      </a:lnTo>
                      <a:lnTo>
                        <a:pt x="882" y="0"/>
                      </a:lnTo>
                      <a:lnTo>
                        <a:pt x="888" y="0"/>
                      </a:lnTo>
                      <a:lnTo>
                        <a:pt x="905" y="1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rot="12077400">
                  <a:off x="1094760" y="5511600"/>
                  <a:ext cx="21600" cy="2520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68" y="66"/>
                      </a:moveTo>
                      <a:lnTo>
                        <a:pt x="37" y="84"/>
                      </a:lnTo>
                      <a:lnTo>
                        <a:pt x="10" y="57"/>
                      </a:lnTo>
                      <a:lnTo>
                        <a:pt x="0" y="8"/>
                      </a:lnTo>
                      <a:lnTo>
                        <a:pt x="31" y="0"/>
                      </a:lnTo>
                      <a:lnTo>
                        <a:pt x="60" y="3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rot="12077400">
                  <a:off x="1126800" y="5491800"/>
                  <a:ext cx="68760" cy="58680"/>
                </a:xfrm>
                <a:custGeom>
                  <a:avLst/>
                  <a:gdLst/>
                  <a:ahLst/>
                  <a:rect l="l" t="t" r="r" b="b"/>
                  <a:pathLst>
                    <a:path w="212" h="184">
                      <a:moveTo>
                        <a:pt x="212" y="75"/>
                      </a:moveTo>
                      <a:lnTo>
                        <a:pt x="183" y="99"/>
                      </a:lnTo>
                      <a:lnTo>
                        <a:pt x="161" y="75"/>
                      </a:lnTo>
                      <a:lnTo>
                        <a:pt x="152" y="42"/>
                      </a:lnTo>
                      <a:lnTo>
                        <a:pt x="146" y="39"/>
                      </a:lnTo>
                      <a:lnTo>
                        <a:pt x="130" y="39"/>
                      </a:lnTo>
                      <a:lnTo>
                        <a:pt x="130" y="91"/>
                      </a:lnTo>
                      <a:lnTo>
                        <a:pt x="146" y="114"/>
                      </a:lnTo>
                      <a:lnTo>
                        <a:pt x="123" y="137"/>
                      </a:lnTo>
                      <a:lnTo>
                        <a:pt x="68" y="81"/>
                      </a:lnTo>
                      <a:lnTo>
                        <a:pt x="61" y="81"/>
                      </a:lnTo>
                      <a:lnTo>
                        <a:pt x="53" y="91"/>
                      </a:lnTo>
                      <a:lnTo>
                        <a:pt x="86" y="168"/>
                      </a:lnTo>
                      <a:lnTo>
                        <a:pt x="68" y="184"/>
                      </a:lnTo>
                      <a:lnTo>
                        <a:pt x="20" y="153"/>
                      </a:lnTo>
                      <a:lnTo>
                        <a:pt x="0" y="130"/>
                      </a:lnTo>
                      <a:lnTo>
                        <a:pt x="123" y="39"/>
                      </a:lnTo>
                      <a:lnTo>
                        <a:pt x="183" y="0"/>
                      </a:lnTo>
                      <a:lnTo>
                        <a:pt x="198" y="0"/>
                      </a:lnTo>
                      <a:lnTo>
                        <a:pt x="212" y="7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rot="12077400">
                  <a:off x="1554120" y="5155560"/>
                  <a:ext cx="218160" cy="560160"/>
                </a:xfrm>
                <a:custGeom>
                  <a:avLst/>
                  <a:gdLst/>
                  <a:ahLst/>
                  <a:rect l="l" t="t" r="r" b="b"/>
                  <a:pathLst>
                    <a:path w="685" h="1749">
                      <a:moveTo>
                        <a:pt x="685" y="48"/>
                      </a:moveTo>
                      <a:lnTo>
                        <a:pt x="503" y="265"/>
                      </a:lnTo>
                      <a:lnTo>
                        <a:pt x="353" y="570"/>
                      </a:lnTo>
                      <a:lnTo>
                        <a:pt x="245" y="878"/>
                      </a:lnTo>
                      <a:lnTo>
                        <a:pt x="212" y="1229"/>
                      </a:lnTo>
                      <a:lnTo>
                        <a:pt x="229" y="1375"/>
                      </a:lnTo>
                      <a:lnTo>
                        <a:pt x="266" y="1505"/>
                      </a:lnTo>
                      <a:lnTo>
                        <a:pt x="336" y="1580"/>
                      </a:lnTo>
                      <a:lnTo>
                        <a:pt x="353" y="1679"/>
                      </a:lnTo>
                      <a:lnTo>
                        <a:pt x="134" y="1749"/>
                      </a:lnTo>
                      <a:lnTo>
                        <a:pt x="68" y="1572"/>
                      </a:lnTo>
                      <a:lnTo>
                        <a:pt x="0" y="1282"/>
                      </a:lnTo>
                      <a:lnTo>
                        <a:pt x="37" y="938"/>
                      </a:lnTo>
                      <a:lnTo>
                        <a:pt x="107" y="727"/>
                      </a:lnTo>
                      <a:lnTo>
                        <a:pt x="363" y="310"/>
                      </a:lnTo>
                      <a:lnTo>
                        <a:pt x="679" y="0"/>
                      </a:lnTo>
                      <a:lnTo>
                        <a:pt x="685" y="27"/>
                      </a:lnTo>
                      <a:lnTo>
                        <a:pt x="685" y="4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12077400">
                  <a:off x="924120" y="5012640"/>
                  <a:ext cx="752400" cy="554760"/>
                </a:xfrm>
                <a:custGeom>
                  <a:avLst/>
                  <a:gdLst/>
                  <a:ahLst/>
                  <a:rect l="l" t="t" r="r" b="b"/>
                  <a:pathLst>
                    <a:path w="2353" h="1734">
                      <a:moveTo>
                        <a:pt x="2353" y="142"/>
                      </a:moveTo>
                      <a:lnTo>
                        <a:pt x="2353" y="206"/>
                      </a:lnTo>
                      <a:lnTo>
                        <a:pt x="891" y="1233"/>
                      </a:lnTo>
                      <a:lnTo>
                        <a:pt x="167" y="1734"/>
                      </a:lnTo>
                      <a:lnTo>
                        <a:pt x="86" y="1712"/>
                      </a:lnTo>
                      <a:lnTo>
                        <a:pt x="0" y="1602"/>
                      </a:lnTo>
                      <a:lnTo>
                        <a:pt x="0" y="1551"/>
                      </a:lnTo>
                      <a:lnTo>
                        <a:pt x="297" y="1348"/>
                      </a:lnTo>
                      <a:lnTo>
                        <a:pt x="726" y="1055"/>
                      </a:lnTo>
                      <a:lnTo>
                        <a:pt x="1424" y="572"/>
                      </a:lnTo>
                      <a:lnTo>
                        <a:pt x="2070" y="99"/>
                      </a:lnTo>
                      <a:lnTo>
                        <a:pt x="2215" y="0"/>
                      </a:lnTo>
                      <a:lnTo>
                        <a:pt x="2291" y="60"/>
                      </a:lnTo>
                      <a:lnTo>
                        <a:pt x="2353" y="14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rot="12077400">
                  <a:off x="582480" y="5262840"/>
                  <a:ext cx="43200" cy="30600"/>
                </a:xfrm>
                <a:custGeom>
                  <a:avLst/>
                  <a:gdLst/>
                  <a:ahLst/>
                  <a:rect l="l" t="t" r="r" b="b"/>
                  <a:pathLst>
                    <a:path w="136" h="93">
                      <a:moveTo>
                        <a:pt x="136" y="76"/>
                      </a:moveTo>
                      <a:lnTo>
                        <a:pt x="76" y="93"/>
                      </a:lnTo>
                      <a:lnTo>
                        <a:pt x="43" y="64"/>
                      </a:lnTo>
                      <a:lnTo>
                        <a:pt x="23" y="64"/>
                      </a:lnTo>
                      <a:lnTo>
                        <a:pt x="0" y="10"/>
                      </a:lnTo>
                      <a:lnTo>
                        <a:pt x="27" y="10"/>
                      </a:lnTo>
                      <a:lnTo>
                        <a:pt x="54" y="48"/>
                      </a:lnTo>
                      <a:lnTo>
                        <a:pt x="58" y="52"/>
                      </a:lnTo>
                      <a:lnTo>
                        <a:pt x="81" y="10"/>
                      </a:lnTo>
                      <a:lnTo>
                        <a:pt x="105" y="0"/>
                      </a:lnTo>
                      <a:lnTo>
                        <a:pt x="130" y="70"/>
                      </a:lnTo>
                      <a:lnTo>
                        <a:pt x="136" y="7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rot="12077400">
                  <a:off x="1224360" y="5317200"/>
                  <a:ext cx="68760" cy="214920"/>
                </a:xfrm>
                <a:custGeom>
                  <a:avLst/>
                  <a:gdLst/>
                  <a:ahLst/>
                  <a:rect l="l" t="t" r="r" b="b"/>
                  <a:pathLst>
                    <a:path w="213" h="669">
                      <a:moveTo>
                        <a:pt x="196" y="97"/>
                      </a:moveTo>
                      <a:lnTo>
                        <a:pt x="171" y="97"/>
                      </a:lnTo>
                      <a:lnTo>
                        <a:pt x="161" y="74"/>
                      </a:lnTo>
                      <a:lnTo>
                        <a:pt x="147" y="58"/>
                      </a:lnTo>
                      <a:lnTo>
                        <a:pt x="130" y="58"/>
                      </a:lnTo>
                      <a:lnTo>
                        <a:pt x="114" y="74"/>
                      </a:lnTo>
                      <a:lnTo>
                        <a:pt x="161" y="151"/>
                      </a:lnTo>
                      <a:lnTo>
                        <a:pt x="114" y="140"/>
                      </a:lnTo>
                      <a:lnTo>
                        <a:pt x="83" y="120"/>
                      </a:lnTo>
                      <a:lnTo>
                        <a:pt x="62" y="136"/>
                      </a:lnTo>
                      <a:lnTo>
                        <a:pt x="130" y="196"/>
                      </a:lnTo>
                      <a:lnTo>
                        <a:pt x="114" y="227"/>
                      </a:lnTo>
                      <a:lnTo>
                        <a:pt x="83" y="212"/>
                      </a:lnTo>
                      <a:lnTo>
                        <a:pt x="62" y="212"/>
                      </a:lnTo>
                      <a:lnTo>
                        <a:pt x="47" y="227"/>
                      </a:lnTo>
                      <a:lnTo>
                        <a:pt x="83" y="254"/>
                      </a:lnTo>
                      <a:lnTo>
                        <a:pt x="93" y="250"/>
                      </a:lnTo>
                      <a:lnTo>
                        <a:pt x="114" y="272"/>
                      </a:lnTo>
                      <a:lnTo>
                        <a:pt x="107" y="287"/>
                      </a:lnTo>
                      <a:lnTo>
                        <a:pt x="93" y="303"/>
                      </a:lnTo>
                      <a:lnTo>
                        <a:pt x="39" y="287"/>
                      </a:lnTo>
                      <a:lnTo>
                        <a:pt x="23" y="303"/>
                      </a:lnTo>
                      <a:lnTo>
                        <a:pt x="33" y="326"/>
                      </a:lnTo>
                      <a:lnTo>
                        <a:pt x="83" y="349"/>
                      </a:lnTo>
                      <a:lnTo>
                        <a:pt x="8" y="369"/>
                      </a:lnTo>
                      <a:lnTo>
                        <a:pt x="8" y="386"/>
                      </a:lnTo>
                      <a:lnTo>
                        <a:pt x="33" y="402"/>
                      </a:lnTo>
                      <a:lnTo>
                        <a:pt x="56" y="392"/>
                      </a:lnTo>
                      <a:lnTo>
                        <a:pt x="78" y="392"/>
                      </a:lnTo>
                      <a:lnTo>
                        <a:pt x="83" y="417"/>
                      </a:lnTo>
                      <a:lnTo>
                        <a:pt x="83" y="440"/>
                      </a:lnTo>
                      <a:lnTo>
                        <a:pt x="39" y="446"/>
                      </a:lnTo>
                      <a:lnTo>
                        <a:pt x="15" y="446"/>
                      </a:lnTo>
                      <a:lnTo>
                        <a:pt x="8" y="456"/>
                      </a:lnTo>
                      <a:lnTo>
                        <a:pt x="8" y="468"/>
                      </a:lnTo>
                      <a:lnTo>
                        <a:pt x="33" y="483"/>
                      </a:lnTo>
                      <a:lnTo>
                        <a:pt x="83" y="479"/>
                      </a:lnTo>
                      <a:lnTo>
                        <a:pt x="93" y="499"/>
                      </a:lnTo>
                      <a:lnTo>
                        <a:pt x="93" y="522"/>
                      </a:lnTo>
                      <a:lnTo>
                        <a:pt x="33" y="545"/>
                      </a:lnTo>
                      <a:lnTo>
                        <a:pt x="23" y="555"/>
                      </a:lnTo>
                      <a:lnTo>
                        <a:pt x="23" y="570"/>
                      </a:lnTo>
                      <a:lnTo>
                        <a:pt x="83" y="570"/>
                      </a:lnTo>
                      <a:lnTo>
                        <a:pt x="99" y="555"/>
                      </a:lnTo>
                      <a:lnTo>
                        <a:pt x="114" y="594"/>
                      </a:lnTo>
                      <a:lnTo>
                        <a:pt x="114" y="621"/>
                      </a:lnTo>
                      <a:lnTo>
                        <a:pt x="39" y="669"/>
                      </a:lnTo>
                      <a:lnTo>
                        <a:pt x="0" y="417"/>
                      </a:lnTo>
                      <a:lnTo>
                        <a:pt x="39" y="173"/>
                      </a:lnTo>
                      <a:lnTo>
                        <a:pt x="122" y="25"/>
                      </a:lnTo>
                      <a:lnTo>
                        <a:pt x="153" y="0"/>
                      </a:lnTo>
                      <a:lnTo>
                        <a:pt x="213" y="74"/>
                      </a:lnTo>
                      <a:lnTo>
                        <a:pt x="196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rot="12077400">
                  <a:off x="1290240" y="5342400"/>
                  <a:ext cx="19080" cy="864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60" y="15"/>
                      </a:moveTo>
                      <a:lnTo>
                        <a:pt x="15" y="27"/>
                      </a:lnTo>
                      <a:lnTo>
                        <a:pt x="0" y="27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6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rot="12077400">
                  <a:off x="1333800" y="5184360"/>
                  <a:ext cx="34200" cy="35640"/>
                </a:xfrm>
                <a:custGeom>
                  <a:avLst/>
                  <a:gdLst/>
                  <a:ahLst/>
                  <a:rect l="l" t="t" r="r" b="b"/>
                  <a:pathLst>
                    <a:path w="108" h="114">
                      <a:moveTo>
                        <a:pt x="17" y="50"/>
                      </a:moveTo>
                      <a:lnTo>
                        <a:pt x="8" y="58"/>
                      </a:lnTo>
                      <a:lnTo>
                        <a:pt x="23" y="74"/>
                      </a:lnTo>
                      <a:lnTo>
                        <a:pt x="83" y="66"/>
                      </a:lnTo>
                      <a:lnTo>
                        <a:pt x="91" y="66"/>
                      </a:lnTo>
                      <a:lnTo>
                        <a:pt x="91" y="114"/>
                      </a:lnTo>
                      <a:lnTo>
                        <a:pt x="0" y="114"/>
                      </a:lnTo>
                      <a:lnTo>
                        <a:pt x="0" y="43"/>
                      </a:lnTo>
                      <a:lnTo>
                        <a:pt x="83" y="0"/>
                      </a:lnTo>
                      <a:lnTo>
                        <a:pt x="108" y="21"/>
                      </a:lnTo>
                      <a:lnTo>
                        <a:pt x="17" y="5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rot="12077400">
                  <a:off x="1368720" y="5052960"/>
                  <a:ext cx="282240" cy="177480"/>
                </a:xfrm>
                <a:custGeom>
                  <a:avLst/>
                  <a:gdLst/>
                  <a:ahLst/>
                  <a:rect l="l" t="t" r="r" b="b"/>
                  <a:pathLst>
                    <a:path w="883" h="556">
                      <a:moveTo>
                        <a:pt x="883" y="44"/>
                      </a:moveTo>
                      <a:lnTo>
                        <a:pt x="784" y="52"/>
                      </a:lnTo>
                      <a:lnTo>
                        <a:pt x="792" y="68"/>
                      </a:lnTo>
                      <a:lnTo>
                        <a:pt x="867" y="93"/>
                      </a:lnTo>
                      <a:lnTo>
                        <a:pt x="875" y="83"/>
                      </a:lnTo>
                      <a:lnTo>
                        <a:pt x="875" y="120"/>
                      </a:lnTo>
                      <a:lnTo>
                        <a:pt x="784" y="132"/>
                      </a:lnTo>
                      <a:lnTo>
                        <a:pt x="778" y="136"/>
                      </a:lnTo>
                      <a:lnTo>
                        <a:pt x="778" y="141"/>
                      </a:lnTo>
                      <a:lnTo>
                        <a:pt x="792" y="159"/>
                      </a:lnTo>
                      <a:lnTo>
                        <a:pt x="867" y="159"/>
                      </a:lnTo>
                      <a:lnTo>
                        <a:pt x="823" y="296"/>
                      </a:lnTo>
                      <a:lnTo>
                        <a:pt x="737" y="265"/>
                      </a:lnTo>
                      <a:lnTo>
                        <a:pt x="724" y="281"/>
                      </a:lnTo>
                      <a:lnTo>
                        <a:pt x="778" y="320"/>
                      </a:lnTo>
                      <a:lnTo>
                        <a:pt x="801" y="320"/>
                      </a:lnTo>
                      <a:lnTo>
                        <a:pt x="778" y="347"/>
                      </a:lnTo>
                      <a:lnTo>
                        <a:pt x="753" y="370"/>
                      </a:lnTo>
                      <a:lnTo>
                        <a:pt x="702" y="331"/>
                      </a:lnTo>
                      <a:lnTo>
                        <a:pt x="687" y="331"/>
                      </a:lnTo>
                      <a:lnTo>
                        <a:pt x="677" y="343"/>
                      </a:lnTo>
                      <a:lnTo>
                        <a:pt x="724" y="395"/>
                      </a:lnTo>
                      <a:lnTo>
                        <a:pt x="724" y="411"/>
                      </a:lnTo>
                      <a:lnTo>
                        <a:pt x="693" y="426"/>
                      </a:lnTo>
                      <a:lnTo>
                        <a:pt x="631" y="388"/>
                      </a:lnTo>
                      <a:lnTo>
                        <a:pt x="615" y="388"/>
                      </a:lnTo>
                      <a:lnTo>
                        <a:pt x="611" y="395"/>
                      </a:lnTo>
                      <a:lnTo>
                        <a:pt x="664" y="457"/>
                      </a:lnTo>
                      <a:lnTo>
                        <a:pt x="611" y="485"/>
                      </a:lnTo>
                      <a:lnTo>
                        <a:pt x="572" y="419"/>
                      </a:lnTo>
                      <a:lnTo>
                        <a:pt x="563" y="411"/>
                      </a:lnTo>
                      <a:lnTo>
                        <a:pt x="555" y="411"/>
                      </a:lnTo>
                      <a:lnTo>
                        <a:pt x="539" y="426"/>
                      </a:lnTo>
                      <a:lnTo>
                        <a:pt x="572" y="502"/>
                      </a:lnTo>
                      <a:lnTo>
                        <a:pt x="524" y="518"/>
                      </a:lnTo>
                      <a:lnTo>
                        <a:pt x="479" y="457"/>
                      </a:lnTo>
                      <a:lnTo>
                        <a:pt x="464" y="473"/>
                      </a:lnTo>
                      <a:lnTo>
                        <a:pt x="479" y="533"/>
                      </a:lnTo>
                      <a:lnTo>
                        <a:pt x="442" y="533"/>
                      </a:lnTo>
                      <a:lnTo>
                        <a:pt x="419" y="494"/>
                      </a:lnTo>
                      <a:lnTo>
                        <a:pt x="409" y="485"/>
                      </a:lnTo>
                      <a:lnTo>
                        <a:pt x="396" y="494"/>
                      </a:lnTo>
                      <a:lnTo>
                        <a:pt x="402" y="539"/>
                      </a:lnTo>
                      <a:lnTo>
                        <a:pt x="349" y="549"/>
                      </a:lnTo>
                      <a:lnTo>
                        <a:pt x="344" y="479"/>
                      </a:lnTo>
                      <a:lnTo>
                        <a:pt x="328" y="461"/>
                      </a:lnTo>
                      <a:lnTo>
                        <a:pt x="311" y="479"/>
                      </a:lnTo>
                      <a:lnTo>
                        <a:pt x="320" y="549"/>
                      </a:lnTo>
                      <a:lnTo>
                        <a:pt x="287" y="556"/>
                      </a:lnTo>
                      <a:lnTo>
                        <a:pt x="268" y="556"/>
                      </a:lnTo>
                      <a:lnTo>
                        <a:pt x="250" y="479"/>
                      </a:lnTo>
                      <a:lnTo>
                        <a:pt x="245" y="473"/>
                      </a:lnTo>
                      <a:lnTo>
                        <a:pt x="229" y="485"/>
                      </a:lnTo>
                      <a:lnTo>
                        <a:pt x="235" y="549"/>
                      </a:lnTo>
                      <a:lnTo>
                        <a:pt x="173" y="533"/>
                      </a:lnTo>
                      <a:lnTo>
                        <a:pt x="167" y="473"/>
                      </a:lnTo>
                      <a:lnTo>
                        <a:pt x="153" y="457"/>
                      </a:lnTo>
                      <a:lnTo>
                        <a:pt x="138" y="461"/>
                      </a:lnTo>
                      <a:lnTo>
                        <a:pt x="142" y="533"/>
                      </a:lnTo>
                      <a:lnTo>
                        <a:pt x="76" y="518"/>
                      </a:lnTo>
                      <a:lnTo>
                        <a:pt x="66" y="461"/>
                      </a:lnTo>
                      <a:lnTo>
                        <a:pt x="66" y="446"/>
                      </a:lnTo>
                      <a:lnTo>
                        <a:pt x="60" y="442"/>
                      </a:lnTo>
                      <a:lnTo>
                        <a:pt x="43" y="442"/>
                      </a:lnTo>
                      <a:lnTo>
                        <a:pt x="39" y="510"/>
                      </a:lnTo>
                      <a:lnTo>
                        <a:pt x="16" y="502"/>
                      </a:lnTo>
                      <a:lnTo>
                        <a:pt x="0" y="461"/>
                      </a:lnTo>
                      <a:lnTo>
                        <a:pt x="53" y="411"/>
                      </a:lnTo>
                      <a:lnTo>
                        <a:pt x="367" y="461"/>
                      </a:lnTo>
                      <a:lnTo>
                        <a:pt x="534" y="419"/>
                      </a:lnTo>
                      <a:lnTo>
                        <a:pt x="677" y="312"/>
                      </a:lnTo>
                      <a:lnTo>
                        <a:pt x="745" y="182"/>
                      </a:lnTo>
                      <a:lnTo>
                        <a:pt x="768" y="0"/>
                      </a:lnTo>
                      <a:lnTo>
                        <a:pt x="883" y="17"/>
                      </a:lnTo>
                      <a:lnTo>
                        <a:pt x="883" y="44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12077400">
                  <a:off x="1060200" y="4901760"/>
                  <a:ext cx="261720" cy="156960"/>
                </a:xfrm>
                <a:custGeom>
                  <a:avLst/>
                  <a:gdLst/>
                  <a:ahLst/>
                  <a:rect l="l" t="t" r="r" b="b"/>
                  <a:pathLst>
                    <a:path w="820" h="491">
                      <a:moveTo>
                        <a:pt x="455" y="491"/>
                      </a:moveTo>
                      <a:lnTo>
                        <a:pt x="128" y="419"/>
                      </a:lnTo>
                      <a:lnTo>
                        <a:pt x="0" y="384"/>
                      </a:lnTo>
                      <a:lnTo>
                        <a:pt x="211" y="320"/>
                      </a:lnTo>
                      <a:lnTo>
                        <a:pt x="789" y="26"/>
                      </a:lnTo>
                      <a:lnTo>
                        <a:pt x="820" y="0"/>
                      </a:lnTo>
                      <a:lnTo>
                        <a:pt x="546" y="384"/>
                      </a:lnTo>
                      <a:lnTo>
                        <a:pt x="455" y="49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rot="12077400">
                  <a:off x="1078920" y="4743360"/>
                  <a:ext cx="118800" cy="286560"/>
                </a:xfrm>
                <a:custGeom>
                  <a:avLst/>
                  <a:gdLst/>
                  <a:ahLst/>
                  <a:rect l="l" t="t" r="r" b="b"/>
                  <a:pathLst>
                    <a:path w="375" h="898">
                      <a:moveTo>
                        <a:pt x="70" y="898"/>
                      </a:moveTo>
                      <a:lnTo>
                        <a:pt x="28" y="588"/>
                      </a:lnTo>
                      <a:lnTo>
                        <a:pt x="0" y="524"/>
                      </a:lnTo>
                      <a:lnTo>
                        <a:pt x="33" y="448"/>
                      </a:lnTo>
                      <a:lnTo>
                        <a:pt x="268" y="145"/>
                      </a:lnTo>
                      <a:lnTo>
                        <a:pt x="375" y="0"/>
                      </a:lnTo>
                      <a:lnTo>
                        <a:pt x="115" y="791"/>
                      </a:lnTo>
                      <a:lnTo>
                        <a:pt x="70" y="89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rot="12077400">
                  <a:off x="1382040" y="511344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60" y="31"/>
                      </a:moveTo>
                      <a:lnTo>
                        <a:pt x="14" y="31"/>
                      </a:lnTo>
                      <a:lnTo>
                        <a:pt x="0" y="0"/>
                      </a:lnTo>
                      <a:lnTo>
                        <a:pt x="66" y="21"/>
                      </a:lnTo>
                      <a:lnTo>
                        <a:pt x="6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rot="12077400">
                  <a:off x="1927800" y="5240880"/>
                  <a:ext cx="238680" cy="84240"/>
                </a:xfrm>
                <a:custGeom>
                  <a:avLst/>
                  <a:gdLst/>
                  <a:ahLst/>
                  <a:rect l="l" t="t" r="r" b="b"/>
                  <a:pathLst>
                    <a:path w="747" h="266">
                      <a:moveTo>
                        <a:pt x="723" y="60"/>
                      </a:moveTo>
                      <a:lnTo>
                        <a:pt x="747" y="114"/>
                      </a:lnTo>
                      <a:lnTo>
                        <a:pt x="723" y="114"/>
                      </a:lnTo>
                      <a:lnTo>
                        <a:pt x="718" y="68"/>
                      </a:lnTo>
                      <a:lnTo>
                        <a:pt x="708" y="60"/>
                      </a:lnTo>
                      <a:lnTo>
                        <a:pt x="692" y="76"/>
                      </a:lnTo>
                      <a:lnTo>
                        <a:pt x="692" y="114"/>
                      </a:lnTo>
                      <a:lnTo>
                        <a:pt x="654" y="103"/>
                      </a:lnTo>
                      <a:lnTo>
                        <a:pt x="665" y="37"/>
                      </a:lnTo>
                      <a:lnTo>
                        <a:pt x="648" y="21"/>
                      </a:lnTo>
                      <a:lnTo>
                        <a:pt x="626" y="45"/>
                      </a:lnTo>
                      <a:lnTo>
                        <a:pt x="617" y="103"/>
                      </a:lnTo>
                      <a:lnTo>
                        <a:pt x="603" y="99"/>
                      </a:lnTo>
                      <a:lnTo>
                        <a:pt x="578" y="99"/>
                      </a:lnTo>
                      <a:lnTo>
                        <a:pt x="555" y="21"/>
                      </a:lnTo>
                      <a:lnTo>
                        <a:pt x="533" y="52"/>
                      </a:lnTo>
                      <a:lnTo>
                        <a:pt x="539" y="83"/>
                      </a:lnTo>
                      <a:lnTo>
                        <a:pt x="551" y="91"/>
                      </a:lnTo>
                      <a:lnTo>
                        <a:pt x="502" y="103"/>
                      </a:lnTo>
                      <a:lnTo>
                        <a:pt x="463" y="37"/>
                      </a:lnTo>
                      <a:lnTo>
                        <a:pt x="450" y="52"/>
                      </a:lnTo>
                      <a:lnTo>
                        <a:pt x="450" y="91"/>
                      </a:lnTo>
                      <a:lnTo>
                        <a:pt x="421" y="118"/>
                      </a:lnTo>
                      <a:lnTo>
                        <a:pt x="365" y="83"/>
                      </a:lnTo>
                      <a:lnTo>
                        <a:pt x="365" y="136"/>
                      </a:lnTo>
                      <a:lnTo>
                        <a:pt x="322" y="159"/>
                      </a:lnTo>
                      <a:lnTo>
                        <a:pt x="306" y="159"/>
                      </a:lnTo>
                      <a:lnTo>
                        <a:pt x="299" y="114"/>
                      </a:lnTo>
                      <a:lnTo>
                        <a:pt x="283" y="99"/>
                      </a:lnTo>
                      <a:lnTo>
                        <a:pt x="268" y="103"/>
                      </a:lnTo>
                      <a:lnTo>
                        <a:pt x="273" y="159"/>
                      </a:lnTo>
                      <a:lnTo>
                        <a:pt x="283" y="167"/>
                      </a:lnTo>
                      <a:lnTo>
                        <a:pt x="244" y="182"/>
                      </a:lnTo>
                      <a:lnTo>
                        <a:pt x="184" y="130"/>
                      </a:lnTo>
                      <a:lnTo>
                        <a:pt x="175" y="142"/>
                      </a:lnTo>
                      <a:lnTo>
                        <a:pt x="196" y="190"/>
                      </a:lnTo>
                      <a:lnTo>
                        <a:pt x="169" y="206"/>
                      </a:lnTo>
                      <a:lnTo>
                        <a:pt x="145" y="206"/>
                      </a:lnTo>
                      <a:lnTo>
                        <a:pt x="120" y="159"/>
                      </a:lnTo>
                      <a:lnTo>
                        <a:pt x="114" y="151"/>
                      </a:lnTo>
                      <a:lnTo>
                        <a:pt x="97" y="151"/>
                      </a:lnTo>
                      <a:lnTo>
                        <a:pt x="107" y="206"/>
                      </a:lnTo>
                      <a:lnTo>
                        <a:pt x="114" y="213"/>
                      </a:lnTo>
                      <a:lnTo>
                        <a:pt x="97" y="233"/>
                      </a:lnTo>
                      <a:lnTo>
                        <a:pt x="81" y="250"/>
                      </a:lnTo>
                      <a:lnTo>
                        <a:pt x="39" y="182"/>
                      </a:lnTo>
                      <a:lnTo>
                        <a:pt x="23" y="196"/>
                      </a:lnTo>
                      <a:lnTo>
                        <a:pt x="47" y="266"/>
                      </a:lnTo>
                      <a:lnTo>
                        <a:pt x="0" y="266"/>
                      </a:lnTo>
                      <a:lnTo>
                        <a:pt x="15" y="159"/>
                      </a:lnTo>
                      <a:lnTo>
                        <a:pt x="23" y="136"/>
                      </a:lnTo>
                      <a:lnTo>
                        <a:pt x="268" y="103"/>
                      </a:lnTo>
                      <a:lnTo>
                        <a:pt x="463" y="16"/>
                      </a:lnTo>
                      <a:lnTo>
                        <a:pt x="533" y="0"/>
                      </a:lnTo>
                      <a:lnTo>
                        <a:pt x="679" y="16"/>
                      </a:lnTo>
                      <a:lnTo>
                        <a:pt x="723" y="6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rot="12077400">
                  <a:off x="1235520" y="4937760"/>
                  <a:ext cx="623160" cy="156960"/>
                </a:xfrm>
                <a:custGeom>
                  <a:avLst/>
                  <a:gdLst/>
                  <a:ahLst/>
                  <a:rect l="l" t="t" r="r" b="b"/>
                  <a:pathLst>
                    <a:path w="1947" h="489">
                      <a:moveTo>
                        <a:pt x="320" y="83"/>
                      </a:moveTo>
                      <a:lnTo>
                        <a:pt x="382" y="91"/>
                      </a:lnTo>
                      <a:lnTo>
                        <a:pt x="601" y="221"/>
                      </a:lnTo>
                      <a:lnTo>
                        <a:pt x="801" y="310"/>
                      </a:lnTo>
                      <a:lnTo>
                        <a:pt x="1208" y="386"/>
                      </a:lnTo>
                      <a:lnTo>
                        <a:pt x="1470" y="386"/>
                      </a:lnTo>
                      <a:lnTo>
                        <a:pt x="1730" y="335"/>
                      </a:lnTo>
                      <a:lnTo>
                        <a:pt x="1908" y="248"/>
                      </a:lnTo>
                      <a:lnTo>
                        <a:pt x="1947" y="260"/>
                      </a:lnTo>
                      <a:lnTo>
                        <a:pt x="1893" y="310"/>
                      </a:lnTo>
                      <a:lnTo>
                        <a:pt x="1730" y="386"/>
                      </a:lnTo>
                      <a:lnTo>
                        <a:pt x="1470" y="461"/>
                      </a:lnTo>
                      <a:lnTo>
                        <a:pt x="1111" y="489"/>
                      </a:lnTo>
                      <a:lnTo>
                        <a:pt x="807" y="425"/>
                      </a:lnTo>
                      <a:lnTo>
                        <a:pt x="539" y="347"/>
                      </a:lnTo>
                      <a:lnTo>
                        <a:pt x="448" y="304"/>
                      </a:lnTo>
                      <a:lnTo>
                        <a:pt x="205" y="211"/>
                      </a:lnTo>
                      <a:lnTo>
                        <a:pt x="0" y="60"/>
                      </a:lnTo>
                      <a:lnTo>
                        <a:pt x="153" y="0"/>
                      </a:lnTo>
                      <a:lnTo>
                        <a:pt x="213" y="4"/>
                      </a:lnTo>
                      <a:lnTo>
                        <a:pt x="320" y="8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rot="12077400">
                  <a:off x="2186280" y="533664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21" y="24"/>
                      </a:move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21" y="12"/>
                      </a:lnTo>
                      <a:lnTo>
                        <a:pt x="2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rot="12077400">
                  <a:off x="1670400" y="513036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21"/>
                      </a:moveTo>
                      <a:lnTo>
                        <a:pt x="8" y="0"/>
                      </a:lnTo>
                      <a:lnTo>
                        <a:pt x="24" y="29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rot="12077400">
                  <a:off x="1223640" y="4906080"/>
                  <a:ext cx="726840" cy="174960"/>
                </a:xfrm>
                <a:custGeom>
                  <a:avLst/>
                  <a:gdLst/>
                  <a:ahLst/>
                  <a:rect l="l" t="t" r="r" b="b"/>
                  <a:pathLst>
                    <a:path w="2271" h="547">
                      <a:moveTo>
                        <a:pt x="772" y="291"/>
                      </a:moveTo>
                      <a:lnTo>
                        <a:pt x="791" y="313"/>
                      </a:lnTo>
                      <a:lnTo>
                        <a:pt x="1264" y="433"/>
                      </a:lnTo>
                      <a:lnTo>
                        <a:pt x="1600" y="433"/>
                      </a:lnTo>
                      <a:lnTo>
                        <a:pt x="1842" y="390"/>
                      </a:lnTo>
                      <a:lnTo>
                        <a:pt x="2145" y="264"/>
                      </a:lnTo>
                      <a:lnTo>
                        <a:pt x="2238" y="221"/>
                      </a:lnTo>
                      <a:lnTo>
                        <a:pt x="2255" y="227"/>
                      </a:lnTo>
                      <a:lnTo>
                        <a:pt x="2271" y="243"/>
                      </a:lnTo>
                      <a:lnTo>
                        <a:pt x="2259" y="295"/>
                      </a:lnTo>
                      <a:lnTo>
                        <a:pt x="2042" y="406"/>
                      </a:lnTo>
                      <a:lnTo>
                        <a:pt x="1586" y="541"/>
                      </a:lnTo>
                      <a:lnTo>
                        <a:pt x="1287" y="547"/>
                      </a:lnTo>
                      <a:lnTo>
                        <a:pt x="686" y="466"/>
                      </a:lnTo>
                      <a:lnTo>
                        <a:pt x="0" y="260"/>
                      </a:lnTo>
                      <a:lnTo>
                        <a:pt x="137" y="123"/>
                      </a:lnTo>
                      <a:lnTo>
                        <a:pt x="221" y="0"/>
                      </a:lnTo>
                      <a:lnTo>
                        <a:pt x="481" y="177"/>
                      </a:lnTo>
                      <a:lnTo>
                        <a:pt x="772" y="29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rot="12077400">
                  <a:off x="1251360" y="4926240"/>
                  <a:ext cx="74160" cy="21600"/>
                </a:xfrm>
                <a:custGeom>
                  <a:avLst/>
                  <a:gdLst/>
                  <a:ahLst/>
                  <a:rect l="l" t="t" r="r" b="b"/>
                  <a:pathLst>
                    <a:path w="232" h="66">
                      <a:moveTo>
                        <a:pt x="151" y="66"/>
                      </a:moveTo>
                      <a:lnTo>
                        <a:pt x="0" y="0"/>
                      </a:lnTo>
                      <a:lnTo>
                        <a:pt x="232" y="51"/>
                      </a:lnTo>
                      <a:lnTo>
                        <a:pt x="151" y="6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12077400">
                  <a:off x="1214280" y="4791600"/>
                  <a:ext cx="57240" cy="114840"/>
                </a:xfrm>
                <a:custGeom>
                  <a:avLst/>
                  <a:gdLst/>
                  <a:ahLst/>
                  <a:rect l="l" t="t" r="r" b="b"/>
                  <a:pathLst>
                    <a:path w="180" h="358">
                      <a:moveTo>
                        <a:pt x="164" y="190"/>
                      </a:moveTo>
                      <a:lnTo>
                        <a:pt x="180" y="358"/>
                      </a:lnTo>
                      <a:lnTo>
                        <a:pt x="89" y="195"/>
                      </a:lnTo>
                      <a:lnTo>
                        <a:pt x="120" y="180"/>
                      </a:lnTo>
                      <a:lnTo>
                        <a:pt x="99" y="98"/>
                      </a:lnTo>
                      <a:lnTo>
                        <a:pt x="0" y="0"/>
                      </a:lnTo>
                      <a:lnTo>
                        <a:pt x="114" y="38"/>
                      </a:lnTo>
                      <a:lnTo>
                        <a:pt x="164" y="19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rot="12077400">
                  <a:off x="930600" y="5010840"/>
                  <a:ext cx="735840" cy="534600"/>
                </a:xfrm>
                <a:custGeom>
                  <a:avLst/>
                  <a:gdLst/>
                  <a:ahLst/>
                  <a:rect l="l" t="t" r="r" b="b"/>
                  <a:pathLst>
                    <a:path w="2302" h="1668">
                      <a:moveTo>
                        <a:pt x="2302" y="146"/>
                      </a:moveTo>
                      <a:lnTo>
                        <a:pt x="128" y="1668"/>
                      </a:lnTo>
                      <a:lnTo>
                        <a:pt x="35" y="1647"/>
                      </a:lnTo>
                      <a:lnTo>
                        <a:pt x="0" y="1612"/>
                      </a:lnTo>
                      <a:lnTo>
                        <a:pt x="2236" y="0"/>
                      </a:lnTo>
                      <a:lnTo>
                        <a:pt x="2302" y="72"/>
                      </a:lnTo>
                      <a:lnTo>
                        <a:pt x="2302" y="14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rot="12077400">
                  <a:off x="1560240" y="5173200"/>
                  <a:ext cx="146880" cy="110880"/>
                </a:xfrm>
                <a:custGeom>
                  <a:avLst/>
                  <a:gdLst/>
                  <a:ahLst/>
                  <a:rect l="l" t="t" r="r" b="b"/>
                  <a:pathLst>
                    <a:path w="460" h="347">
                      <a:moveTo>
                        <a:pt x="0" y="297"/>
                      </a:moveTo>
                      <a:lnTo>
                        <a:pt x="337" y="70"/>
                      </a:lnTo>
                      <a:lnTo>
                        <a:pt x="429" y="0"/>
                      </a:lnTo>
                      <a:lnTo>
                        <a:pt x="460" y="0"/>
                      </a:lnTo>
                      <a:lnTo>
                        <a:pt x="19" y="347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12077400">
                  <a:off x="1414080" y="5733000"/>
                  <a:ext cx="72720" cy="17640"/>
                </a:xfrm>
                <a:custGeom>
                  <a:avLst/>
                  <a:gdLst/>
                  <a:ahLst/>
                  <a:rect l="l" t="t" r="r" b="b"/>
                  <a:pathLst>
                    <a:path w="227" h="56">
                      <a:moveTo>
                        <a:pt x="93" y="56"/>
                      </a:moveTo>
                      <a:lnTo>
                        <a:pt x="0" y="15"/>
                      </a:lnTo>
                      <a:lnTo>
                        <a:pt x="227" y="0"/>
                      </a:lnTo>
                      <a:lnTo>
                        <a:pt x="93" y="56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rot="12077400">
                  <a:off x="1212840" y="4952520"/>
                  <a:ext cx="71280" cy="39600"/>
                </a:xfrm>
                <a:custGeom>
                  <a:avLst/>
                  <a:gdLst/>
                  <a:ahLst/>
                  <a:rect l="l" t="t" r="r" b="b"/>
                  <a:pathLst>
                    <a:path w="225" h="122">
                      <a:moveTo>
                        <a:pt x="87" y="122"/>
                      </a:moveTo>
                      <a:lnTo>
                        <a:pt x="0" y="103"/>
                      </a:lnTo>
                      <a:lnTo>
                        <a:pt x="225" y="0"/>
                      </a:lnTo>
                      <a:lnTo>
                        <a:pt x="87" y="12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rot="12077400">
                  <a:off x="480240" y="5392440"/>
                  <a:ext cx="135360" cy="125280"/>
                </a:xfrm>
                <a:custGeom>
                  <a:avLst/>
                  <a:gdLst/>
                  <a:ahLst/>
                  <a:rect l="l" t="t" r="r" b="b"/>
                  <a:pathLst>
                    <a:path w="424" h="394">
                      <a:moveTo>
                        <a:pt x="66" y="394"/>
                      </a:moveTo>
                      <a:lnTo>
                        <a:pt x="0" y="277"/>
                      </a:lnTo>
                      <a:lnTo>
                        <a:pt x="384" y="0"/>
                      </a:lnTo>
                      <a:lnTo>
                        <a:pt x="424" y="50"/>
                      </a:lnTo>
                      <a:lnTo>
                        <a:pt x="409" y="134"/>
                      </a:lnTo>
                      <a:lnTo>
                        <a:pt x="66" y="394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rot="12077400">
                  <a:off x="369360" y="55738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209" h="238">
                      <a:moveTo>
                        <a:pt x="0" y="227"/>
                      </a:moveTo>
                      <a:lnTo>
                        <a:pt x="25" y="153"/>
                      </a:lnTo>
                      <a:lnTo>
                        <a:pt x="87" y="52"/>
                      </a:lnTo>
                      <a:lnTo>
                        <a:pt x="161" y="0"/>
                      </a:lnTo>
                      <a:lnTo>
                        <a:pt x="209" y="0"/>
                      </a:lnTo>
                      <a:lnTo>
                        <a:pt x="139" y="77"/>
                      </a:lnTo>
                      <a:lnTo>
                        <a:pt x="87" y="143"/>
                      </a:lnTo>
                      <a:lnTo>
                        <a:pt x="66" y="238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rot="12077400">
                  <a:off x="273240" y="5378400"/>
                  <a:ext cx="91800" cy="66600"/>
                </a:xfrm>
                <a:custGeom>
                  <a:avLst/>
                  <a:gdLst/>
                  <a:ahLst/>
                  <a:rect l="l" t="t" r="r" b="b"/>
                  <a:pathLst>
                    <a:path w="289" h="212">
                      <a:moveTo>
                        <a:pt x="25" y="212"/>
                      </a:moveTo>
                      <a:lnTo>
                        <a:pt x="0" y="182"/>
                      </a:lnTo>
                      <a:lnTo>
                        <a:pt x="132" y="153"/>
                      </a:lnTo>
                      <a:lnTo>
                        <a:pt x="219" y="82"/>
                      </a:lnTo>
                      <a:lnTo>
                        <a:pt x="274" y="0"/>
                      </a:lnTo>
                      <a:lnTo>
                        <a:pt x="289" y="33"/>
                      </a:lnTo>
                      <a:lnTo>
                        <a:pt x="248" y="103"/>
                      </a:lnTo>
                      <a:lnTo>
                        <a:pt x="150" y="190"/>
                      </a:lnTo>
                      <a:lnTo>
                        <a:pt x="25" y="2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rot="12077400">
                  <a:off x="1834200" y="5229000"/>
                  <a:ext cx="43200" cy="252000"/>
                </a:xfrm>
                <a:custGeom>
                  <a:avLst/>
                  <a:gdLst/>
                  <a:ahLst/>
                  <a:rect l="l" t="t" r="r" b="b"/>
                  <a:pathLst>
                    <a:path w="132" h="786">
                      <a:moveTo>
                        <a:pt x="132" y="704"/>
                      </a:moveTo>
                      <a:lnTo>
                        <a:pt x="72" y="786"/>
                      </a:lnTo>
                      <a:lnTo>
                        <a:pt x="12" y="541"/>
                      </a:lnTo>
                      <a:lnTo>
                        <a:pt x="0" y="348"/>
                      </a:lnTo>
                      <a:lnTo>
                        <a:pt x="30" y="144"/>
                      </a:lnTo>
                      <a:lnTo>
                        <a:pt x="92" y="0"/>
                      </a:lnTo>
                      <a:lnTo>
                        <a:pt x="92" y="103"/>
                      </a:lnTo>
                      <a:lnTo>
                        <a:pt x="72" y="297"/>
                      </a:lnTo>
                      <a:lnTo>
                        <a:pt x="72" y="429"/>
                      </a:lnTo>
                      <a:lnTo>
                        <a:pt x="92" y="571"/>
                      </a:lnTo>
                      <a:lnTo>
                        <a:pt x="132" y="70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rot="12077400">
                  <a:off x="600840" y="5235840"/>
                  <a:ext cx="260640" cy="334800"/>
                </a:xfrm>
                <a:custGeom>
                  <a:avLst/>
                  <a:gdLst/>
                  <a:ahLst/>
                  <a:rect l="l" t="t" r="r" b="b"/>
                  <a:pathLst>
                    <a:path w="810" h="1043">
                      <a:moveTo>
                        <a:pt x="0" y="0"/>
                      </a:moveTo>
                      <a:lnTo>
                        <a:pt x="143" y="397"/>
                      </a:lnTo>
                      <a:lnTo>
                        <a:pt x="197" y="593"/>
                      </a:lnTo>
                      <a:lnTo>
                        <a:pt x="486" y="830"/>
                      </a:lnTo>
                      <a:lnTo>
                        <a:pt x="810" y="1043"/>
                      </a:lnTo>
                      <a:lnTo>
                        <a:pt x="486" y="667"/>
                      </a:lnTo>
                      <a:lnTo>
                        <a:pt x="341" y="558"/>
                      </a:lnTo>
                      <a:lnTo>
                        <a:pt x="250" y="269"/>
                      </a:lnTo>
                      <a:lnTo>
                        <a:pt x="180" y="1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4" name=""/>
              <p:cNvSpPr/>
              <p:nvPr/>
            </p:nvSpPr>
            <p:spPr>
              <a:xfrm rot="14953800">
                <a:off x="-3514320" y="2752560"/>
                <a:ext cx="5791320" cy="152640"/>
              </a:xfrm>
              <a:custGeom>
                <a:avLst/>
                <a:gdLst>
                  <a:gd name="textAreaLeft" fmla="*/ 1158120 w 5791320"/>
                  <a:gd name="textAreaRight" fmla="*/ 4633200 w 5791320"/>
                  <a:gd name="textAreaTop" fmla="*/ 31320 h 152640"/>
                  <a:gd name="textAreaBottom" fmla="*/ 12132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229"/>
                    </a:moveTo>
                    <a:cubicBezTo>
                      <a:pt x="1440" y="-5667"/>
                      <a:pt x="7200" y="10125"/>
                      <a:pt x="8640" y="2229"/>
                    </a:cubicBezTo>
                    <a:cubicBezTo>
                      <a:pt x="10080" y="-5667"/>
                      <a:pt x="15840" y="10125"/>
                      <a:pt x="17280" y="2229"/>
                    </a:cubicBezTo>
                    <a:lnTo>
                      <a:pt x="21600" y="19371"/>
                    </a:lnTo>
                    <a:cubicBezTo>
                      <a:pt x="20160" y="27267"/>
                      <a:pt x="14400" y="11475"/>
                      <a:pt x="12960" y="19371"/>
                    </a:cubicBezTo>
                    <a:cubicBezTo>
                      <a:pt x="11520" y="27267"/>
                      <a:pt x="5760" y="11475"/>
                      <a:pt x="4320" y="19371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5" name=""/>
              <p:cNvGrpSpPr/>
              <p:nvPr/>
            </p:nvGrpSpPr>
            <p:grpSpPr>
              <a:xfrm>
                <a:off x="-7020000" y="-776160"/>
                <a:ext cx="6006960" cy="1569960"/>
                <a:chOff x="-7020000" y="-776160"/>
                <a:chExt cx="6006960" cy="156996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-7020000" y="9720"/>
                  <a:ext cx="5486040" cy="304920"/>
                </a:xfrm>
                <a:custGeom>
                  <a:avLst/>
                  <a:gdLst>
                    <a:gd name="textAreaLeft" fmla="*/ 648000 w 5486040"/>
                    <a:gd name="textAreaRight" fmla="*/ 4838040 w 5486040"/>
                    <a:gd name="textAreaTop" fmla="*/ 36000 h 304920"/>
                    <a:gd name="textAreaBottom" fmla="*/ 26892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156" y="21600"/>
                      </a:lnTo>
                      <a:lnTo>
                        <a:pt x="1444" y="2160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7" name=""/>
                <p:cNvGrpSpPr/>
                <p:nvPr/>
              </p:nvGrpSpPr>
              <p:grpSpPr>
                <a:xfrm>
                  <a:off x="-1762200" y="-776160"/>
                  <a:ext cx="749160" cy="1569960"/>
                  <a:chOff x="-1762200" y="-776160"/>
                  <a:chExt cx="749160" cy="156996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-1216080" y="528120"/>
                    <a:ext cx="882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457">
                        <a:moveTo>
                          <a:pt x="235" y="0"/>
                        </a:moveTo>
                        <a:lnTo>
                          <a:pt x="0" y="9"/>
                        </a:lnTo>
                        <a:lnTo>
                          <a:pt x="64" y="457"/>
                        </a:lnTo>
                        <a:lnTo>
                          <a:pt x="314" y="432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-1762200" y="-776160"/>
                    <a:ext cx="74916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0" h="5614">
                        <a:moveTo>
                          <a:pt x="136" y="1867"/>
                        </a:moveTo>
                        <a:lnTo>
                          <a:pt x="128" y="1865"/>
                        </a:lnTo>
                        <a:lnTo>
                          <a:pt x="114" y="1865"/>
                        </a:lnTo>
                        <a:lnTo>
                          <a:pt x="103" y="1865"/>
                        </a:lnTo>
                        <a:lnTo>
                          <a:pt x="93" y="1865"/>
                        </a:lnTo>
                        <a:lnTo>
                          <a:pt x="81" y="1865"/>
                        </a:lnTo>
                        <a:lnTo>
                          <a:pt x="70" y="1869"/>
                        </a:lnTo>
                        <a:lnTo>
                          <a:pt x="56" y="1871"/>
                        </a:lnTo>
                        <a:lnTo>
                          <a:pt x="45" y="1875"/>
                        </a:lnTo>
                        <a:lnTo>
                          <a:pt x="33" y="1881"/>
                        </a:lnTo>
                        <a:lnTo>
                          <a:pt x="25" y="1889"/>
                        </a:lnTo>
                        <a:lnTo>
                          <a:pt x="16" y="1897"/>
                        </a:lnTo>
                        <a:lnTo>
                          <a:pt x="10" y="1908"/>
                        </a:lnTo>
                        <a:lnTo>
                          <a:pt x="4" y="1920"/>
                        </a:lnTo>
                        <a:lnTo>
                          <a:pt x="4" y="1937"/>
                        </a:lnTo>
                        <a:lnTo>
                          <a:pt x="2" y="1957"/>
                        </a:lnTo>
                        <a:lnTo>
                          <a:pt x="0" y="1978"/>
                        </a:lnTo>
                        <a:lnTo>
                          <a:pt x="0" y="1988"/>
                        </a:lnTo>
                        <a:lnTo>
                          <a:pt x="0" y="1999"/>
                        </a:lnTo>
                        <a:lnTo>
                          <a:pt x="0" y="2011"/>
                        </a:lnTo>
                        <a:lnTo>
                          <a:pt x="0" y="2023"/>
                        </a:lnTo>
                        <a:lnTo>
                          <a:pt x="0" y="2042"/>
                        </a:lnTo>
                        <a:lnTo>
                          <a:pt x="4" y="2063"/>
                        </a:lnTo>
                        <a:lnTo>
                          <a:pt x="8" y="2083"/>
                        </a:lnTo>
                        <a:lnTo>
                          <a:pt x="14" y="2104"/>
                        </a:lnTo>
                        <a:lnTo>
                          <a:pt x="19" y="2121"/>
                        </a:lnTo>
                        <a:lnTo>
                          <a:pt x="27" y="2139"/>
                        </a:lnTo>
                        <a:lnTo>
                          <a:pt x="37" y="2152"/>
                        </a:lnTo>
                        <a:lnTo>
                          <a:pt x="50" y="2168"/>
                        </a:lnTo>
                        <a:lnTo>
                          <a:pt x="64" y="2180"/>
                        </a:lnTo>
                        <a:lnTo>
                          <a:pt x="81" y="2191"/>
                        </a:lnTo>
                        <a:lnTo>
                          <a:pt x="91" y="2195"/>
                        </a:lnTo>
                        <a:lnTo>
                          <a:pt x="101" y="2201"/>
                        </a:lnTo>
                        <a:lnTo>
                          <a:pt x="112" y="2205"/>
                        </a:lnTo>
                        <a:lnTo>
                          <a:pt x="124" y="2209"/>
                        </a:lnTo>
                        <a:lnTo>
                          <a:pt x="142" y="2211"/>
                        </a:lnTo>
                        <a:lnTo>
                          <a:pt x="159" y="2215"/>
                        </a:lnTo>
                        <a:lnTo>
                          <a:pt x="176" y="2216"/>
                        </a:lnTo>
                        <a:lnTo>
                          <a:pt x="196" y="2218"/>
                        </a:lnTo>
                        <a:lnTo>
                          <a:pt x="215" y="2218"/>
                        </a:lnTo>
                        <a:lnTo>
                          <a:pt x="235" y="2220"/>
                        </a:lnTo>
                        <a:lnTo>
                          <a:pt x="254" y="2220"/>
                        </a:lnTo>
                        <a:lnTo>
                          <a:pt x="275" y="2222"/>
                        </a:lnTo>
                        <a:lnTo>
                          <a:pt x="295" y="2220"/>
                        </a:lnTo>
                        <a:lnTo>
                          <a:pt x="314" y="2220"/>
                        </a:lnTo>
                        <a:lnTo>
                          <a:pt x="334" y="2220"/>
                        </a:lnTo>
                        <a:lnTo>
                          <a:pt x="355" y="2220"/>
                        </a:lnTo>
                        <a:lnTo>
                          <a:pt x="372" y="2220"/>
                        </a:lnTo>
                        <a:lnTo>
                          <a:pt x="394" y="2220"/>
                        </a:lnTo>
                        <a:lnTo>
                          <a:pt x="411" y="2220"/>
                        </a:lnTo>
                        <a:lnTo>
                          <a:pt x="432" y="2220"/>
                        </a:lnTo>
                        <a:lnTo>
                          <a:pt x="450" y="2220"/>
                        </a:lnTo>
                        <a:lnTo>
                          <a:pt x="467" y="2220"/>
                        </a:lnTo>
                        <a:lnTo>
                          <a:pt x="485" y="2220"/>
                        </a:lnTo>
                        <a:lnTo>
                          <a:pt x="502" y="2220"/>
                        </a:lnTo>
                        <a:lnTo>
                          <a:pt x="518" y="2220"/>
                        </a:lnTo>
                        <a:lnTo>
                          <a:pt x="533" y="2222"/>
                        </a:lnTo>
                        <a:lnTo>
                          <a:pt x="549" y="2224"/>
                        </a:lnTo>
                        <a:lnTo>
                          <a:pt x="564" y="2228"/>
                        </a:lnTo>
                        <a:lnTo>
                          <a:pt x="576" y="2230"/>
                        </a:lnTo>
                        <a:lnTo>
                          <a:pt x="590" y="2234"/>
                        </a:lnTo>
                        <a:lnTo>
                          <a:pt x="601" y="2240"/>
                        </a:lnTo>
                        <a:lnTo>
                          <a:pt x="613" y="2246"/>
                        </a:lnTo>
                        <a:lnTo>
                          <a:pt x="623" y="2251"/>
                        </a:lnTo>
                        <a:lnTo>
                          <a:pt x="632" y="2259"/>
                        </a:lnTo>
                        <a:lnTo>
                          <a:pt x="640" y="2267"/>
                        </a:lnTo>
                        <a:lnTo>
                          <a:pt x="650" y="2279"/>
                        </a:lnTo>
                        <a:lnTo>
                          <a:pt x="654" y="2294"/>
                        </a:lnTo>
                        <a:lnTo>
                          <a:pt x="648" y="2306"/>
                        </a:lnTo>
                        <a:lnTo>
                          <a:pt x="640" y="2310"/>
                        </a:lnTo>
                        <a:lnTo>
                          <a:pt x="630" y="2313"/>
                        </a:lnTo>
                        <a:lnTo>
                          <a:pt x="619" y="2315"/>
                        </a:lnTo>
                        <a:lnTo>
                          <a:pt x="607" y="2319"/>
                        </a:lnTo>
                        <a:lnTo>
                          <a:pt x="590" y="2319"/>
                        </a:lnTo>
                        <a:lnTo>
                          <a:pt x="572" y="2321"/>
                        </a:lnTo>
                        <a:lnTo>
                          <a:pt x="553" y="2321"/>
                        </a:lnTo>
                        <a:lnTo>
                          <a:pt x="533" y="2323"/>
                        </a:lnTo>
                        <a:lnTo>
                          <a:pt x="522" y="2323"/>
                        </a:lnTo>
                        <a:lnTo>
                          <a:pt x="510" y="2323"/>
                        </a:lnTo>
                        <a:lnTo>
                          <a:pt x="498" y="2323"/>
                        </a:lnTo>
                        <a:lnTo>
                          <a:pt x="489" y="2323"/>
                        </a:lnTo>
                        <a:lnTo>
                          <a:pt x="477" y="2323"/>
                        </a:lnTo>
                        <a:lnTo>
                          <a:pt x="465" y="2323"/>
                        </a:lnTo>
                        <a:lnTo>
                          <a:pt x="454" y="2323"/>
                        </a:lnTo>
                        <a:lnTo>
                          <a:pt x="444" y="2323"/>
                        </a:lnTo>
                        <a:lnTo>
                          <a:pt x="431" y="2321"/>
                        </a:lnTo>
                        <a:lnTo>
                          <a:pt x="417" y="2321"/>
                        </a:lnTo>
                        <a:lnTo>
                          <a:pt x="405" y="2321"/>
                        </a:lnTo>
                        <a:lnTo>
                          <a:pt x="394" y="2321"/>
                        </a:lnTo>
                        <a:lnTo>
                          <a:pt x="380" y="2321"/>
                        </a:lnTo>
                        <a:lnTo>
                          <a:pt x="367" y="2321"/>
                        </a:lnTo>
                        <a:lnTo>
                          <a:pt x="355" y="2321"/>
                        </a:lnTo>
                        <a:lnTo>
                          <a:pt x="343" y="2323"/>
                        </a:lnTo>
                        <a:lnTo>
                          <a:pt x="330" y="2323"/>
                        </a:lnTo>
                        <a:lnTo>
                          <a:pt x="318" y="2323"/>
                        </a:lnTo>
                        <a:lnTo>
                          <a:pt x="304" y="2323"/>
                        </a:lnTo>
                        <a:lnTo>
                          <a:pt x="293" y="2325"/>
                        </a:lnTo>
                        <a:lnTo>
                          <a:pt x="281" y="2325"/>
                        </a:lnTo>
                        <a:lnTo>
                          <a:pt x="270" y="2327"/>
                        </a:lnTo>
                        <a:lnTo>
                          <a:pt x="258" y="2329"/>
                        </a:lnTo>
                        <a:lnTo>
                          <a:pt x="246" y="2333"/>
                        </a:lnTo>
                        <a:lnTo>
                          <a:pt x="235" y="2333"/>
                        </a:lnTo>
                        <a:lnTo>
                          <a:pt x="223" y="2337"/>
                        </a:lnTo>
                        <a:lnTo>
                          <a:pt x="211" y="2339"/>
                        </a:lnTo>
                        <a:lnTo>
                          <a:pt x="202" y="2343"/>
                        </a:lnTo>
                        <a:lnTo>
                          <a:pt x="182" y="2348"/>
                        </a:lnTo>
                        <a:lnTo>
                          <a:pt x="165" y="2356"/>
                        </a:lnTo>
                        <a:lnTo>
                          <a:pt x="147" y="2364"/>
                        </a:lnTo>
                        <a:lnTo>
                          <a:pt x="132" y="2376"/>
                        </a:lnTo>
                        <a:lnTo>
                          <a:pt x="118" y="2387"/>
                        </a:lnTo>
                        <a:lnTo>
                          <a:pt x="109" y="2403"/>
                        </a:lnTo>
                        <a:lnTo>
                          <a:pt x="97" y="2414"/>
                        </a:lnTo>
                        <a:lnTo>
                          <a:pt x="87" y="2430"/>
                        </a:lnTo>
                        <a:lnTo>
                          <a:pt x="80" y="2441"/>
                        </a:lnTo>
                        <a:lnTo>
                          <a:pt x="74" y="2457"/>
                        </a:lnTo>
                        <a:lnTo>
                          <a:pt x="68" y="2469"/>
                        </a:lnTo>
                        <a:lnTo>
                          <a:pt x="62" y="2482"/>
                        </a:lnTo>
                        <a:lnTo>
                          <a:pt x="58" y="2496"/>
                        </a:lnTo>
                        <a:lnTo>
                          <a:pt x="56" y="2509"/>
                        </a:lnTo>
                        <a:lnTo>
                          <a:pt x="52" y="2521"/>
                        </a:lnTo>
                        <a:lnTo>
                          <a:pt x="50" y="2533"/>
                        </a:lnTo>
                        <a:lnTo>
                          <a:pt x="50" y="2544"/>
                        </a:lnTo>
                        <a:lnTo>
                          <a:pt x="50" y="2556"/>
                        </a:lnTo>
                        <a:lnTo>
                          <a:pt x="50" y="2566"/>
                        </a:lnTo>
                        <a:lnTo>
                          <a:pt x="50" y="2577"/>
                        </a:lnTo>
                        <a:lnTo>
                          <a:pt x="52" y="2589"/>
                        </a:lnTo>
                        <a:lnTo>
                          <a:pt x="56" y="2600"/>
                        </a:lnTo>
                        <a:lnTo>
                          <a:pt x="62" y="2616"/>
                        </a:lnTo>
                        <a:lnTo>
                          <a:pt x="72" y="2633"/>
                        </a:lnTo>
                        <a:lnTo>
                          <a:pt x="81" y="2645"/>
                        </a:lnTo>
                        <a:lnTo>
                          <a:pt x="93" y="2659"/>
                        </a:lnTo>
                        <a:lnTo>
                          <a:pt x="105" y="2666"/>
                        </a:lnTo>
                        <a:lnTo>
                          <a:pt x="120" y="2674"/>
                        </a:lnTo>
                        <a:lnTo>
                          <a:pt x="134" y="2676"/>
                        </a:lnTo>
                        <a:lnTo>
                          <a:pt x="151" y="2678"/>
                        </a:lnTo>
                        <a:lnTo>
                          <a:pt x="163" y="2672"/>
                        </a:lnTo>
                        <a:lnTo>
                          <a:pt x="173" y="2666"/>
                        </a:lnTo>
                        <a:lnTo>
                          <a:pt x="176" y="2657"/>
                        </a:lnTo>
                        <a:lnTo>
                          <a:pt x="182" y="2649"/>
                        </a:lnTo>
                        <a:lnTo>
                          <a:pt x="184" y="2635"/>
                        </a:lnTo>
                        <a:lnTo>
                          <a:pt x="186" y="2622"/>
                        </a:lnTo>
                        <a:lnTo>
                          <a:pt x="186" y="2608"/>
                        </a:lnTo>
                        <a:lnTo>
                          <a:pt x="190" y="2597"/>
                        </a:lnTo>
                        <a:lnTo>
                          <a:pt x="190" y="2581"/>
                        </a:lnTo>
                        <a:lnTo>
                          <a:pt x="196" y="2567"/>
                        </a:lnTo>
                        <a:lnTo>
                          <a:pt x="202" y="2556"/>
                        </a:lnTo>
                        <a:lnTo>
                          <a:pt x="213" y="2544"/>
                        </a:lnTo>
                        <a:lnTo>
                          <a:pt x="219" y="2538"/>
                        </a:lnTo>
                        <a:lnTo>
                          <a:pt x="227" y="2533"/>
                        </a:lnTo>
                        <a:lnTo>
                          <a:pt x="235" y="2529"/>
                        </a:lnTo>
                        <a:lnTo>
                          <a:pt x="246" y="2527"/>
                        </a:lnTo>
                        <a:lnTo>
                          <a:pt x="258" y="2523"/>
                        </a:lnTo>
                        <a:lnTo>
                          <a:pt x="271" y="2521"/>
                        </a:lnTo>
                        <a:lnTo>
                          <a:pt x="287" y="2521"/>
                        </a:lnTo>
                        <a:lnTo>
                          <a:pt x="304" y="2521"/>
                        </a:lnTo>
                        <a:lnTo>
                          <a:pt x="314" y="2523"/>
                        </a:lnTo>
                        <a:lnTo>
                          <a:pt x="326" y="2535"/>
                        </a:lnTo>
                        <a:lnTo>
                          <a:pt x="330" y="2540"/>
                        </a:lnTo>
                        <a:lnTo>
                          <a:pt x="334" y="2552"/>
                        </a:lnTo>
                        <a:lnTo>
                          <a:pt x="337" y="2562"/>
                        </a:lnTo>
                        <a:lnTo>
                          <a:pt x="341" y="2575"/>
                        </a:lnTo>
                        <a:lnTo>
                          <a:pt x="343" y="2587"/>
                        </a:lnTo>
                        <a:lnTo>
                          <a:pt x="347" y="2604"/>
                        </a:lnTo>
                        <a:lnTo>
                          <a:pt x="349" y="2622"/>
                        </a:lnTo>
                        <a:lnTo>
                          <a:pt x="353" y="2643"/>
                        </a:lnTo>
                        <a:lnTo>
                          <a:pt x="353" y="2651"/>
                        </a:lnTo>
                        <a:lnTo>
                          <a:pt x="355" y="2661"/>
                        </a:lnTo>
                        <a:lnTo>
                          <a:pt x="355" y="2672"/>
                        </a:lnTo>
                        <a:lnTo>
                          <a:pt x="357" y="2684"/>
                        </a:lnTo>
                        <a:lnTo>
                          <a:pt x="357" y="2695"/>
                        </a:lnTo>
                        <a:lnTo>
                          <a:pt x="359" y="2707"/>
                        </a:lnTo>
                        <a:lnTo>
                          <a:pt x="361" y="2721"/>
                        </a:lnTo>
                        <a:lnTo>
                          <a:pt x="363" y="2734"/>
                        </a:lnTo>
                        <a:lnTo>
                          <a:pt x="363" y="2746"/>
                        </a:lnTo>
                        <a:lnTo>
                          <a:pt x="363" y="2758"/>
                        </a:lnTo>
                        <a:lnTo>
                          <a:pt x="363" y="2771"/>
                        </a:lnTo>
                        <a:lnTo>
                          <a:pt x="365" y="2787"/>
                        </a:lnTo>
                        <a:lnTo>
                          <a:pt x="365" y="2800"/>
                        </a:lnTo>
                        <a:lnTo>
                          <a:pt x="365" y="2816"/>
                        </a:lnTo>
                        <a:lnTo>
                          <a:pt x="365" y="2829"/>
                        </a:lnTo>
                        <a:lnTo>
                          <a:pt x="367" y="2847"/>
                        </a:lnTo>
                        <a:lnTo>
                          <a:pt x="367" y="2860"/>
                        </a:lnTo>
                        <a:lnTo>
                          <a:pt x="367" y="2876"/>
                        </a:lnTo>
                        <a:lnTo>
                          <a:pt x="367" y="2893"/>
                        </a:lnTo>
                        <a:lnTo>
                          <a:pt x="368" y="2911"/>
                        </a:lnTo>
                        <a:lnTo>
                          <a:pt x="368" y="2926"/>
                        </a:lnTo>
                        <a:lnTo>
                          <a:pt x="370" y="2944"/>
                        </a:lnTo>
                        <a:lnTo>
                          <a:pt x="370" y="2961"/>
                        </a:lnTo>
                        <a:lnTo>
                          <a:pt x="372" y="2981"/>
                        </a:lnTo>
                        <a:lnTo>
                          <a:pt x="372" y="2998"/>
                        </a:lnTo>
                        <a:lnTo>
                          <a:pt x="372" y="3015"/>
                        </a:lnTo>
                        <a:lnTo>
                          <a:pt x="372" y="3035"/>
                        </a:lnTo>
                        <a:lnTo>
                          <a:pt x="374" y="3054"/>
                        </a:lnTo>
                        <a:lnTo>
                          <a:pt x="374" y="3072"/>
                        </a:lnTo>
                        <a:lnTo>
                          <a:pt x="376" y="3093"/>
                        </a:lnTo>
                        <a:lnTo>
                          <a:pt x="376" y="3112"/>
                        </a:lnTo>
                        <a:lnTo>
                          <a:pt x="378" y="3134"/>
                        </a:lnTo>
                        <a:lnTo>
                          <a:pt x="378" y="3153"/>
                        </a:lnTo>
                        <a:lnTo>
                          <a:pt x="378" y="3174"/>
                        </a:lnTo>
                        <a:lnTo>
                          <a:pt x="378" y="3194"/>
                        </a:lnTo>
                        <a:lnTo>
                          <a:pt x="380" y="3215"/>
                        </a:lnTo>
                        <a:lnTo>
                          <a:pt x="380" y="3237"/>
                        </a:lnTo>
                        <a:lnTo>
                          <a:pt x="382" y="3258"/>
                        </a:lnTo>
                        <a:lnTo>
                          <a:pt x="384" y="3281"/>
                        </a:lnTo>
                        <a:lnTo>
                          <a:pt x="386" y="3304"/>
                        </a:lnTo>
                        <a:lnTo>
                          <a:pt x="386" y="3324"/>
                        </a:lnTo>
                        <a:lnTo>
                          <a:pt x="386" y="3345"/>
                        </a:lnTo>
                        <a:lnTo>
                          <a:pt x="388" y="3365"/>
                        </a:lnTo>
                        <a:lnTo>
                          <a:pt x="390" y="3386"/>
                        </a:lnTo>
                        <a:lnTo>
                          <a:pt x="392" y="3403"/>
                        </a:lnTo>
                        <a:lnTo>
                          <a:pt x="396" y="3423"/>
                        </a:lnTo>
                        <a:lnTo>
                          <a:pt x="398" y="3440"/>
                        </a:lnTo>
                        <a:lnTo>
                          <a:pt x="401" y="3460"/>
                        </a:lnTo>
                        <a:lnTo>
                          <a:pt x="403" y="3475"/>
                        </a:lnTo>
                        <a:lnTo>
                          <a:pt x="407" y="3491"/>
                        </a:lnTo>
                        <a:lnTo>
                          <a:pt x="409" y="3506"/>
                        </a:lnTo>
                        <a:lnTo>
                          <a:pt x="413" y="3522"/>
                        </a:lnTo>
                        <a:lnTo>
                          <a:pt x="417" y="3535"/>
                        </a:lnTo>
                        <a:lnTo>
                          <a:pt x="421" y="3549"/>
                        </a:lnTo>
                        <a:lnTo>
                          <a:pt x="425" y="3562"/>
                        </a:lnTo>
                        <a:lnTo>
                          <a:pt x="431" y="3576"/>
                        </a:lnTo>
                        <a:lnTo>
                          <a:pt x="434" y="3586"/>
                        </a:lnTo>
                        <a:lnTo>
                          <a:pt x="438" y="3597"/>
                        </a:lnTo>
                        <a:lnTo>
                          <a:pt x="442" y="3609"/>
                        </a:lnTo>
                        <a:lnTo>
                          <a:pt x="448" y="3621"/>
                        </a:lnTo>
                        <a:lnTo>
                          <a:pt x="458" y="3638"/>
                        </a:lnTo>
                        <a:lnTo>
                          <a:pt x="469" y="3657"/>
                        </a:lnTo>
                        <a:lnTo>
                          <a:pt x="479" y="3673"/>
                        </a:lnTo>
                        <a:lnTo>
                          <a:pt x="491" y="3688"/>
                        </a:lnTo>
                        <a:lnTo>
                          <a:pt x="504" y="3700"/>
                        </a:lnTo>
                        <a:lnTo>
                          <a:pt x="518" y="3714"/>
                        </a:lnTo>
                        <a:lnTo>
                          <a:pt x="529" y="3721"/>
                        </a:lnTo>
                        <a:lnTo>
                          <a:pt x="543" y="3731"/>
                        </a:lnTo>
                        <a:lnTo>
                          <a:pt x="557" y="3737"/>
                        </a:lnTo>
                        <a:lnTo>
                          <a:pt x="570" y="3743"/>
                        </a:lnTo>
                        <a:lnTo>
                          <a:pt x="584" y="3747"/>
                        </a:lnTo>
                        <a:lnTo>
                          <a:pt x="599" y="3750"/>
                        </a:lnTo>
                        <a:lnTo>
                          <a:pt x="613" y="3754"/>
                        </a:lnTo>
                        <a:lnTo>
                          <a:pt x="628" y="3758"/>
                        </a:lnTo>
                        <a:lnTo>
                          <a:pt x="640" y="3758"/>
                        </a:lnTo>
                        <a:lnTo>
                          <a:pt x="655" y="3758"/>
                        </a:lnTo>
                        <a:lnTo>
                          <a:pt x="667" y="3758"/>
                        </a:lnTo>
                        <a:lnTo>
                          <a:pt x="683" y="3760"/>
                        </a:lnTo>
                        <a:lnTo>
                          <a:pt x="696" y="3758"/>
                        </a:lnTo>
                        <a:lnTo>
                          <a:pt x="710" y="3758"/>
                        </a:lnTo>
                        <a:lnTo>
                          <a:pt x="723" y="3756"/>
                        </a:lnTo>
                        <a:lnTo>
                          <a:pt x="739" y="3756"/>
                        </a:lnTo>
                        <a:lnTo>
                          <a:pt x="749" y="3754"/>
                        </a:lnTo>
                        <a:lnTo>
                          <a:pt x="760" y="3752"/>
                        </a:lnTo>
                        <a:lnTo>
                          <a:pt x="770" y="3750"/>
                        </a:lnTo>
                        <a:lnTo>
                          <a:pt x="782" y="3750"/>
                        </a:lnTo>
                        <a:lnTo>
                          <a:pt x="791" y="3750"/>
                        </a:lnTo>
                        <a:lnTo>
                          <a:pt x="803" y="3750"/>
                        </a:lnTo>
                        <a:lnTo>
                          <a:pt x="813" y="3750"/>
                        </a:lnTo>
                        <a:lnTo>
                          <a:pt x="824" y="3750"/>
                        </a:lnTo>
                        <a:lnTo>
                          <a:pt x="844" y="3750"/>
                        </a:lnTo>
                        <a:lnTo>
                          <a:pt x="863" y="3750"/>
                        </a:lnTo>
                        <a:lnTo>
                          <a:pt x="880" y="3752"/>
                        </a:lnTo>
                        <a:lnTo>
                          <a:pt x="898" y="3756"/>
                        </a:lnTo>
                        <a:lnTo>
                          <a:pt x="911" y="3758"/>
                        </a:lnTo>
                        <a:lnTo>
                          <a:pt x="925" y="3762"/>
                        </a:lnTo>
                        <a:lnTo>
                          <a:pt x="937" y="3768"/>
                        </a:lnTo>
                        <a:lnTo>
                          <a:pt x="948" y="3776"/>
                        </a:lnTo>
                        <a:lnTo>
                          <a:pt x="956" y="3781"/>
                        </a:lnTo>
                        <a:lnTo>
                          <a:pt x="962" y="3793"/>
                        </a:lnTo>
                        <a:lnTo>
                          <a:pt x="964" y="3803"/>
                        </a:lnTo>
                        <a:lnTo>
                          <a:pt x="966" y="3816"/>
                        </a:lnTo>
                        <a:lnTo>
                          <a:pt x="962" y="3830"/>
                        </a:lnTo>
                        <a:lnTo>
                          <a:pt x="962" y="3849"/>
                        </a:lnTo>
                        <a:lnTo>
                          <a:pt x="962" y="3861"/>
                        </a:lnTo>
                        <a:lnTo>
                          <a:pt x="962" y="3873"/>
                        </a:lnTo>
                        <a:lnTo>
                          <a:pt x="962" y="3884"/>
                        </a:lnTo>
                        <a:lnTo>
                          <a:pt x="964" y="3900"/>
                        </a:lnTo>
                        <a:lnTo>
                          <a:pt x="964" y="3913"/>
                        </a:lnTo>
                        <a:lnTo>
                          <a:pt x="964" y="3929"/>
                        </a:lnTo>
                        <a:lnTo>
                          <a:pt x="964" y="3944"/>
                        </a:lnTo>
                        <a:lnTo>
                          <a:pt x="966" y="3962"/>
                        </a:lnTo>
                        <a:lnTo>
                          <a:pt x="966" y="3979"/>
                        </a:lnTo>
                        <a:lnTo>
                          <a:pt x="968" y="3997"/>
                        </a:lnTo>
                        <a:lnTo>
                          <a:pt x="970" y="4016"/>
                        </a:lnTo>
                        <a:lnTo>
                          <a:pt x="974" y="4037"/>
                        </a:lnTo>
                        <a:lnTo>
                          <a:pt x="974" y="4055"/>
                        </a:lnTo>
                        <a:lnTo>
                          <a:pt x="975" y="4076"/>
                        </a:lnTo>
                        <a:lnTo>
                          <a:pt x="977" y="4096"/>
                        </a:lnTo>
                        <a:lnTo>
                          <a:pt x="979" y="4119"/>
                        </a:lnTo>
                        <a:lnTo>
                          <a:pt x="981" y="4140"/>
                        </a:lnTo>
                        <a:lnTo>
                          <a:pt x="985" y="4162"/>
                        </a:lnTo>
                        <a:lnTo>
                          <a:pt x="987" y="4185"/>
                        </a:lnTo>
                        <a:lnTo>
                          <a:pt x="991" y="4208"/>
                        </a:lnTo>
                        <a:lnTo>
                          <a:pt x="993" y="4231"/>
                        </a:lnTo>
                        <a:lnTo>
                          <a:pt x="997" y="4255"/>
                        </a:lnTo>
                        <a:lnTo>
                          <a:pt x="999" y="4278"/>
                        </a:lnTo>
                        <a:lnTo>
                          <a:pt x="1003" y="4301"/>
                        </a:lnTo>
                        <a:lnTo>
                          <a:pt x="1005" y="4324"/>
                        </a:lnTo>
                        <a:lnTo>
                          <a:pt x="1010" y="4350"/>
                        </a:lnTo>
                        <a:lnTo>
                          <a:pt x="1012" y="4373"/>
                        </a:lnTo>
                        <a:lnTo>
                          <a:pt x="1018" y="4398"/>
                        </a:lnTo>
                        <a:lnTo>
                          <a:pt x="1020" y="4421"/>
                        </a:lnTo>
                        <a:lnTo>
                          <a:pt x="1024" y="4445"/>
                        </a:lnTo>
                        <a:lnTo>
                          <a:pt x="1026" y="4468"/>
                        </a:lnTo>
                        <a:lnTo>
                          <a:pt x="1030" y="4491"/>
                        </a:lnTo>
                        <a:lnTo>
                          <a:pt x="1032" y="4514"/>
                        </a:lnTo>
                        <a:lnTo>
                          <a:pt x="1038" y="4538"/>
                        </a:lnTo>
                        <a:lnTo>
                          <a:pt x="1039" y="4561"/>
                        </a:lnTo>
                        <a:lnTo>
                          <a:pt x="1045" y="4584"/>
                        </a:lnTo>
                        <a:lnTo>
                          <a:pt x="1047" y="4606"/>
                        </a:lnTo>
                        <a:lnTo>
                          <a:pt x="1053" y="4629"/>
                        </a:lnTo>
                        <a:lnTo>
                          <a:pt x="1055" y="4650"/>
                        </a:lnTo>
                        <a:lnTo>
                          <a:pt x="1061" y="4672"/>
                        </a:lnTo>
                        <a:lnTo>
                          <a:pt x="1065" y="4691"/>
                        </a:lnTo>
                        <a:lnTo>
                          <a:pt x="1069" y="4712"/>
                        </a:lnTo>
                        <a:lnTo>
                          <a:pt x="1072" y="4734"/>
                        </a:lnTo>
                        <a:lnTo>
                          <a:pt x="1078" y="4755"/>
                        </a:lnTo>
                        <a:lnTo>
                          <a:pt x="1080" y="4772"/>
                        </a:lnTo>
                        <a:lnTo>
                          <a:pt x="1084" y="4792"/>
                        </a:lnTo>
                        <a:lnTo>
                          <a:pt x="1088" y="4809"/>
                        </a:lnTo>
                        <a:lnTo>
                          <a:pt x="1094" y="4827"/>
                        </a:lnTo>
                        <a:lnTo>
                          <a:pt x="1096" y="4842"/>
                        </a:lnTo>
                        <a:lnTo>
                          <a:pt x="1100" y="4858"/>
                        </a:lnTo>
                        <a:lnTo>
                          <a:pt x="1103" y="4873"/>
                        </a:lnTo>
                        <a:lnTo>
                          <a:pt x="1109" y="4889"/>
                        </a:lnTo>
                        <a:lnTo>
                          <a:pt x="1111" y="4900"/>
                        </a:lnTo>
                        <a:lnTo>
                          <a:pt x="1115" y="4912"/>
                        </a:lnTo>
                        <a:lnTo>
                          <a:pt x="1119" y="4924"/>
                        </a:lnTo>
                        <a:lnTo>
                          <a:pt x="1123" y="4935"/>
                        </a:lnTo>
                        <a:lnTo>
                          <a:pt x="1131" y="4953"/>
                        </a:lnTo>
                        <a:lnTo>
                          <a:pt x="1138" y="4968"/>
                        </a:lnTo>
                        <a:lnTo>
                          <a:pt x="1144" y="4978"/>
                        </a:lnTo>
                        <a:lnTo>
                          <a:pt x="1156" y="4993"/>
                        </a:lnTo>
                        <a:lnTo>
                          <a:pt x="1167" y="5009"/>
                        </a:lnTo>
                        <a:lnTo>
                          <a:pt x="1185" y="5028"/>
                        </a:lnTo>
                        <a:lnTo>
                          <a:pt x="1193" y="5036"/>
                        </a:lnTo>
                        <a:lnTo>
                          <a:pt x="1202" y="5046"/>
                        </a:lnTo>
                        <a:lnTo>
                          <a:pt x="1212" y="5057"/>
                        </a:lnTo>
                        <a:lnTo>
                          <a:pt x="1224" y="5069"/>
                        </a:lnTo>
                        <a:lnTo>
                          <a:pt x="1233" y="5079"/>
                        </a:lnTo>
                        <a:lnTo>
                          <a:pt x="1245" y="5090"/>
                        </a:lnTo>
                        <a:lnTo>
                          <a:pt x="1257" y="5102"/>
                        </a:lnTo>
                        <a:lnTo>
                          <a:pt x="1270" y="5116"/>
                        </a:lnTo>
                        <a:lnTo>
                          <a:pt x="1282" y="5127"/>
                        </a:lnTo>
                        <a:lnTo>
                          <a:pt x="1294" y="5139"/>
                        </a:lnTo>
                        <a:lnTo>
                          <a:pt x="1307" y="5153"/>
                        </a:lnTo>
                        <a:lnTo>
                          <a:pt x="1321" y="5166"/>
                        </a:lnTo>
                        <a:lnTo>
                          <a:pt x="1334" y="5178"/>
                        </a:lnTo>
                        <a:lnTo>
                          <a:pt x="1350" y="5191"/>
                        </a:lnTo>
                        <a:lnTo>
                          <a:pt x="1363" y="5205"/>
                        </a:lnTo>
                        <a:lnTo>
                          <a:pt x="1379" y="5220"/>
                        </a:lnTo>
                        <a:lnTo>
                          <a:pt x="1392" y="5232"/>
                        </a:lnTo>
                        <a:lnTo>
                          <a:pt x="1408" y="5246"/>
                        </a:lnTo>
                        <a:lnTo>
                          <a:pt x="1422" y="5259"/>
                        </a:lnTo>
                        <a:lnTo>
                          <a:pt x="1437" y="5275"/>
                        </a:lnTo>
                        <a:lnTo>
                          <a:pt x="1453" y="5286"/>
                        </a:lnTo>
                        <a:lnTo>
                          <a:pt x="1468" y="5302"/>
                        </a:lnTo>
                        <a:lnTo>
                          <a:pt x="1484" y="5315"/>
                        </a:lnTo>
                        <a:lnTo>
                          <a:pt x="1501" y="5331"/>
                        </a:lnTo>
                        <a:lnTo>
                          <a:pt x="1515" y="5343"/>
                        </a:lnTo>
                        <a:lnTo>
                          <a:pt x="1530" y="5356"/>
                        </a:lnTo>
                        <a:lnTo>
                          <a:pt x="1546" y="5370"/>
                        </a:lnTo>
                        <a:lnTo>
                          <a:pt x="1561" y="5383"/>
                        </a:lnTo>
                        <a:lnTo>
                          <a:pt x="1575" y="5395"/>
                        </a:lnTo>
                        <a:lnTo>
                          <a:pt x="1590" y="5408"/>
                        </a:lnTo>
                        <a:lnTo>
                          <a:pt x="1606" y="5422"/>
                        </a:lnTo>
                        <a:lnTo>
                          <a:pt x="1621" y="5436"/>
                        </a:lnTo>
                        <a:lnTo>
                          <a:pt x="1635" y="5447"/>
                        </a:lnTo>
                        <a:lnTo>
                          <a:pt x="1648" y="5459"/>
                        </a:lnTo>
                        <a:lnTo>
                          <a:pt x="1662" y="5471"/>
                        </a:lnTo>
                        <a:lnTo>
                          <a:pt x="1678" y="5482"/>
                        </a:lnTo>
                        <a:lnTo>
                          <a:pt x="1691" y="5492"/>
                        </a:lnTo>
                        <a:lnTo>
                          <a:pt x="1705" y="5504"/>
                        </a:lnTo>
                        <a:lnTo>
                          <a:pt x="1718" y="5513"/>
                        </a:lnTo>
                        <a:lnTo>
                          <a:pt x="1732" y="5525"/>
                        </a:lnTo>
                        <a:lnTo>
                          <a:pt x="1742" y="5533"/>
                        </a:lnTo>
                        <a:lnTo>
                          <a:pt x="1753" y="5540"/>
                        </a:lnTo>
                        <a:lnTo>
                          <a:pt x="1765" y="5548"/>
                        </a:lnTo>
                        <a:lnTo>
                          <a:pt x="1776" y="5558"/>
                        </a:lnTo>
                        <a:lnTo>
                          <a:pt x="1786" y="5566"/>
                        </a:lnTo>
                        <a:lnTo>
                          <a:pt x="1796" y="5573"/>
                        </a:lnTo>
                        <a:lnTo>
                          <a:pt x="1806" y="5579"/>
                        </a:lnTo>
                        <a:lnTo>
                          <a:pt x="1815" y="5587"/>
                        </a:lnTo>
                        <a:lnTo>
                          <a:pt x="1831" y="5597"/>
                        </a:lnTo>
                        <a:lnTo>
                          <a:pt x="1844" y="5604"/>
                        </a:lnTo>
                        <a:lnTo>
                          <a:pt x="1856" y="5610"/>
                        </a:lnTo>
                        <a:lnTo>
                          <a:pt x="1866" y="5614"/>
                        </a:lnTo>
                        <a:lnTo>
                          <a:pt x="1879" y="5614"/>
                        </a:lnTo>
                        <a:lnTo>
                          <a:pt x="1897" y="5614"/>
                        </a:lnTo>
                        <a:lnTo>
                          <a:pt x="1906" y="5614"/>
                        </a:lnTo>
                        <a:lnTo>
                          <a:pt x="1918" y="5614"/>
                        </a:lnTo>
                        <a:lnTo>
                          <a:pt x="1930" y="5614"/>
                        </a:lnTo>
                        <a:lnTo>
                          <a:pt x="1941" y="5614"/>
                        </a:lnTo>
                        <a:lnTo>
                          <a:pt x="1959" y="5612"/>
                        </a:lnTo>
                        <a:lnTo>
                          <a:pt x="1980" y="5610"/>
                        </a:lnTo>
                        <a:lnTo>
                          <a:pt x="1990" y="5608"/>
                        </a:lnTo>
                        <a:lnTo>
                          <a:pt x="1999" y="5608"/>
                        </a:lnTo>
                        <a:lnTo>
                          <a:pt x="2011" y="5606"/>
                        </a:lnTo>
                        <a:lnTo>
                          <a:pt x="2023" y="5606"/>
                        </a:lnTo>
                        <a:lnTo>
                          <a:pt x="2042" y="5602"/>
                        </a:lnTo>
                        <a:lnTo>
                          <a:pt x="2063" y="5599"/>
                        </a:lnTo>
                        <a:lnTo>
                          <a:pt x="2083" y="5595"/>
                        </a:lnTo>
                        <a:lnTo>
                          <a:pt x="2104" y="5591"/>
                        </a:lnTo>
                        <a:lnTo>
                          <a:pt x="2120" y="5583"/>
                        </a:lnTo>
                        <a:lnTo>
                          <a:pt x="2135" y="5577"/>
                        </a:lnTo>
                        <a:lnTo>
                          <a:pt x="2149" y="5568"/>
                        </a:lnTo>
                        <a:lnTo>
                          <a:pt x="2162" y="5560"/>
                        </a:lnTo>
                        <a:lnTo>
                          <a:pt x="2170" y="5548"/>
                        </a:lnTo>
                        <a:lnTo>
                          <a:pt x="2176" y="5538"/>
                        </a:lnTo>
                        <a:lnTo>
                          <a:pt x="2178" y="5527"/>
                        </a:lnTo>
                        <a:lnTo>
                          <a:pt x="2178" y="5515"/>
                        </a:lnTo>
                        <a:lnTo>
                          <a:pt x="2174" y="5504"/>
                        </a:lnTo>
                        <a:lnTo>
                          <a:pt x="2170" y="5492"/>
                        </a:lnTo>
                        <a:lnTo>
                          <a:pt x="2166" y="5480"/>
                        </a:lnTo>
                        <a:lnTo>
                          <a:pt x="2162" y="5469"/>
                        </a:lnTo>
                        <a:lnTo>
                          <a:pt x="2157" y="5453"/>
                        </a:lnTo>
                        <a:lnTo>
                          <a:pt x="2153" y="5438"/>
                        </a:lnTo>
                        <a:lnTo>
                          <a:pt x="2147" y="5422"/>
                        </a:lnTo>
                        <a:lnTo>
                          <a:pt x="2143" y="5407"/>
                        </a:lnTo>
                        <a:lnTo>
                          <a:pt x="2135" y="5387"/>
                        </a:lnTo>
                        <a:lnTo>
                          <a:pt x="2129" y="5370"/>
                        </a:lnTo>
                        <a:lnTo>
                          <a:pt x="2124" y="5352"/>
                        </a:lnTo>
                        <a:lnTo>
                          <a:pt x="2118" y="5335"/>
                        </a:lnTo>
                        <a:lnTo>
                          <a:pt x="2110" y="5313"/>
                        </a:lnTo>
                        <a:lnTo>
                          <a:pt x="2104" y="5296"/>
                        </a:lnTo>
                        <a:lnTo>
                          <a:pt x="2098" y="5275"/>
                        </a:lnTo>
                        <a:lnTo>
                          <a:pt x="2093" y="5257"/>
                        </a:lnTo>
                        <a:lnTo>
                          <a:pt x="2085" y="5236"/>
                        </a:lnTo>
                        <a:lnTo>
                          <a:pt x="2079" y="5216"/>
                        </a:lnTo>
                        <a:lnTo>
                          <a:pt x="2071" y="5195"/>
                        </a:lnTo>
                        <a:lnTo>
                          <a:pt x="2065" y="5178"/>
                        </a:lnTo>
                        <a:lnTo>
                          <a:pt x="2060" y="5158"/>
                        </a:lnTo>
                        <a:lnTo>
                          <a:pt x="2054" y="5139"/>
                        </a:lnTo>
                        <a:lnTo>
                          <a:pt x="2048" y="5121"/>
                        </a:lnTo>
                        <a:lnTo>
                          <a:pt x="2044" y="5104"/>
                        </a:lnTo>
                        <a:lnTo>
                          <a:pt x="2038" y="5087"/>
                        </a:lnTo>
                        <a:lnTo>
                          <a:pt x="2032" y="5069"/>
                        </a:lnTo>
                        <a:lnTo>
                          <a:pt x="2029" y="5052"/>
                        </a:lnTo>
                        <a:lnTo>
                          <a:pt x="2027" y="5038"/>
                        </a:lnTo>
                        <a:lnTo>
                          <a:pt x="2023" y="5023"/>
                        </a:lnTo>
                        <a:lnTo>
                          <a:pt x="2021" y="5011"/>
                        </a:lnTo>
                        <a:lnTo>
                          <a:pt x="2019" y="4999"/>
                        </a:lnTo>
                        <a:lnTo>
                          <a:pt x="2019" y="4990"/>
                        </a:lnTo>
                        <a:lnTo>
                          <a:pt x="2015" y="4976"/>
                        </a:lnTo>
                        <a:lnTo>
                          <a:pt x="2015" y="4962"/>
                        </a:lnTo>
                        <a:lnTo>
                          <a:pt x="2011" y="4947"/>
                        </a:lnTo>
                        <a:lnTo>
                          <a:pt x="2011" y="4931"/>
                        </a:lnTo>
                        <a:lnTo>
                          <a:pt x="2009" y="4912"/>
                        </a:lnTo>
                        <a:lnTo>
                          <a:pt x="2007" y="4895"/>
                        </a:lnTo>
                        <a:lnTo>
                          <a:pt x="2005" y="4875"/>
                        </a:lnTo>
                        <a:lnTo>
                          <a:pt x="2005" y="4856"/>
                        </a:lnTo>
                        <a:lnTo>
                          <a:pt x="2003" y="4844"/>
                        </a:lnTo>
                        <a:lnTo>
                          <a:pt x="2001" y="4833"/>
                        </a:lnTo>
                        <a:lnTo>
                          <a:pt x="1999" y="4821"/>
                        </a:lnTo>
                        <a:lnTo>
                          <a:pt x="1999" y="4809"/>
                        </a:lnTo>
                        <a:lnTo>
                          <a:pt x="1998" y="4798"/>
                        </a:lnTo>
                        <a:lnTo>
                          <a:pt x="1998" y="4786"/>
                        </a:lnTo>
                        <a:lnTo>
                          <a:pt x="1998" y="4774"/>
                        </a:lnTo>
                        <a:lnTo>
                          <a:pt x="1998" y="4765"/>
                        </a:lnTo>
                        <a:lnTo>
                          <a:pt x="1996" y="4753"/>
                        </a:lnTo>
                        <a:lnTo>
                          <a:pt x="1996" y="4741"/>
                        </a:lnTo>
                        <a:lnTo>
                          <a:pt x="1996" y="4730"/>
                        </a:lnTo>
                        <a:lnTo>
                          <a:pt x="1996" y="4718"/>
                        </a:lnTo>
                        <a:lnTo>
                          <a:pt x="1996" y="4706"/>
                        </a:lnTo>
                        <a:lnTo>
                          <a:pt x="1996" y="4695"/>
                        </a:lnTo>
                        <a:lnTo>
                          <a:pt x="1996" y="4683"/>
                        </a:lnTo>
                        <a:lnTo>
                          <a:pt x="1996" y="4672"/>
                        </a:lnTo>
                        <a:lnTo>
                          <a:pt x="1994" y="4658"/>
                        </a:lnTo>
                        <a:lnTo>
                          <a:pt x="1994" y="4646"/>
                        </a:lnTo>
                        <a:lnTo>
                          <a:pt x="1994" y="4635"/>
                        </a:lnTo>
                        <a:lnTo>
                          <a:pt x="1994" y="4623"/>
                        </a:lnTo>
                        <a:lnTo>
                          <a:pt x="1994" y="4611"/>
                        </a:lnTo>
                        <a:lnTo>
                          <a:pt x="1994" y="4600"/>
                        </a:lnTo>
                        <a:lnTo>
                          <a:pt x="1994" y="4588"/>
                        </a:lnTo>
                        <a:lnTo>
                          <a:pt x="1996" y="4578"/>
                        </a:lnTo>
                        <a:lnTo>
                          <a:pt x="1996" y="4567"/>
                        </a:lnTo>
                        <a:lnTo>
                          <a:pt x="1996" y="4555"/>
                        </a:lnTo>
                        <a:lnTo>
                          <a:pt x="1996" y="4546"/>
                        </a:lnTo>
                        <a:lnTo>
                          <a:pt x="1996" y="4536"/>
                        </a:lnTo>
                        <a:lnTo>
                          <a:pt x="1998" y="4518"/>
                        </a:lnTo>
                        <a:lnTo>
                          <a:pt x="2001" y="4501"/>
                        </a:lnTo>
                        <a:lnTo>
                          <a:pt x="2003" y="4482"/>
                        </a:lnTo>
                        <a:lnTo>
                          <a:pt x="2007" y="4466"/>
                        </a:lnTo>
                        <a:lnTo>
                          <a:pt x="2009" y="4452"/>
                        </a:lnTo>
                        <a:lnTo>
                          <a:pt x="2015" y="4441"/>
                        </a:lnTo>
                        <a:lnTo>
                          <a:pt x="2021" y="4429"/>
                        </a:lnTo>
                        <a:lnTo>
                          <a:pt x="2027" y="4421"/>
                        </a:lnTo>
                        <a:lnTo>
                          <a:pt x="2032" y="4414"/>
                        </a:lnTo>
                        <a:lnTo>
                          <a:pt x="2042" y="4412"/>
                        </a:lnTo>
                        <a:lnTo>
                          <a:pt x="2048" y="4406"/>
                        </a:lnTo>
                        <a:lnTo>
                          <a:pt x="2060" y="4402"/>
                        </a:lnTo>
                        <a:lnTo>
                          <a:pt x="2069" y="4398"/>
                        </a:lnTo>
                        <a:lnTo>
                          <a:pt x="2085" y="4394"/>
                        </a:lnTo>
                        <a:lnTo>
                          <a:pt x="2098" y="4390"/>
                        </a:lnTo>
                        <a:lnTo>
                          <a:pt x="2116" y="4387"/>
                        </a:lnTo>
                        <a:lnTo>
                          <a:pt x="2133" y="4383"/>
                        </a:lnTo>
                        <a:lnTo>
                          <a:pt x="2153" y="4379"/>
                        </a:lnTo>
                        <a:lnTo>
                          <a:pt x="2170" y="4373"/>
                        </a:lnTo>
                        <a:lnTo>
                          <a:pt x="2191" y="4369"/>
                        </a:lnTo>
                        <a:lnTo>
                          <a:pt x="2201" y="4365"/>
                        </a:lnTo>
                        <a:lnTo>
                          <a:pt x="2213" y="4363"/>
                        </a:lnTo>
                        <a:lnTo>
                          <a:pt x="2224" y="4359"/>
                        </a:lnTo>
                        <a:lnTo>
                          <a:pt x="2236" y="4359"/>
                        </a:lnTo>
                        <a:lnTo>
                          <a:pt x="2246" y="4355"/>
                        </a:lnTo>
                        <a:lnTo>
                          <a:pt x="2257" y="4354"/>
                        </a:lnTo>
                        <a:lnTo>
                          <a:pt x="2269" y="4350"/>
                        </a:lnTo>
                        <a:lnTo>
                          <a:pt x="2281" y="4350"/>
                        </a:lnTo>
                        <a:lnTo>
                          <a:pt x="2292" y="4346"/>
                        </a:lnTo>
                        <a:lnTo>
                          <a:pt x="2304" y="4344"/>
                        </a:lnTo>
                        <a:lnTo>
                          <a:pt x="2316" y="4340"/>
                        </a:lnTo>
                        <a:lnTo>
                          <a:pt x="2327" y="4340"/>
                        </a:lnTo>
                        <a:lnTo>
                          <a:pt x="2337" y="4336"/>
                        </a:lnTo>
                        <a:lnTo>
                          <a:pt x="2349" y="4334"/>
                        </a:lnTo>
                        <a:lnTo>
                          <a:pt x="2358" y="4330"/>
                        </a:lnTo>
                        <a:lnTo>
                          <a:pt x="2370" y="4328"/>
                        </a:lnTo>
                        <a:lnTo>
                          <a:pt x="2380" y="4324"/>
                        </a:lnTo>
                        <a:lnTo>
                          <a:pt x="2391" y="4323"/>
                        </a:lnTo>
                        <a:lnTo>
                          <a:pt x="2403" y="4319"/>
                        </a:lnTo>
                        <a:lnTo>
                          <a:pt x="2415" y="4317"/>
                        </a:lnTo>
                        <a:lnTo>
                          <a:pt x="2434" y="4311"/>
                        </a:lnTo>
                        <a:lnTo>
                          <a:pt x="2455" y="4305"/>
                        </a:lnTo>
                        <a:lnTo>
                          <a:pt x="2475" y="4299"/>
                        </a:lnTo>
                        <a:lnTo>
                          <a:pt x="2496" y="4295"/>
                        </a:lnTo>
                        <a:lnTo>
                          <a:pt x="2513" y="4290"/>
                        </a:lnTo>
                        <a:lnTo>
                          <a:pt x="2531" y="4284"/>
                        </a:lnTo>
                        <a:lnTo>
                          <a:pt x="2544" y="4278"/>
                        </a:lnTo>
                        <a:lnTo>
                          <a:pt x="2560" y="4272"/>
                        </a:lnTo>
                        <a:lnTo>
                          <a:pt x="2572" y="4266"/>
                        </a:lnTo>
                        <a:lnTo>
                          <a:pt x="2583" y="4260"/>
                        </a:lnTo>
                        <a:lnTo>
                          <a:pt x="2591" y="4255"/>
                        </a:lnTo>
                        <a:lnTo>
                          <a:pt x="2601" y="4251"/>
                        </a:lnTo>
                        <a:lnTo>
                          <a:pt x="2610" y="4239"/>
                        </a:lnTo>
                        <a:lnTo>
                          <a:pt x="2622" y="4227"/>
                        </a:lnTo>
                        <a:lnTo>
                          <a:pt x="2630" y="4216"/>
                        </a:lnTo>
                        <a:lnTo>
                          <a:pt x="2639" y="4208"/>
                        </a:lnTo>
                        <a:lnTo>
                          <a:pt x="2651" y="4191"/>
                        </a:lnTo>
                        <a:lnTo>
                          <a:pt x="2659" y="4177"/>
                        </a:lnTo>
                        <a:lnTo>
                          <a:pt x="2657" y="4165"/>
                        </a:lnTo>
                        <a:lnTo>
                          <a:pt x="2645" y="4158"/>
                        </a:lnTo>
                        <a:lnTo>
                          <a:pt x="2634" y="4154"/>
                        </a:lnTo>
                        <a:lnTo>
                          <a:pt x="2622" y="4152"/>
                        </a:lnTo>
                        <a:lnTo>
                          <a:pt x="2607" y="4152"/>
                        </a:lnTo>
                        <a:lnTo>
                          <a:pt x="2589" y="4152"/>
                        </a:lnTo>
                        <a:lnTo>
                          <a:pt x="2577" y="4150"/>
                        </a:lnTo>
                        <a:lnTo>
                          <a:pt x="2566" y="4148"/>
                        </a:lnTo>
                        <a:lnTo>
                          <a:pt x="2554" y="4146"/>
                        </a:lnTo>
                        <a:lnTo>
                          <a:pt x="2544" y="4146"/>
                        </a:lnTo>
                        <a:lnTo>
                          <a:pt x="2523" y="4142"/>
                        </a:lnTo>
                        <a:lnTo>
                          <a:pt x="2504" y="4140"/>
                        </a:lnTo>
                        <a:lnTo>
                          <a:pt x="2492" y="4136"/>
                        </a:lnTo>
                        <a:lnTo>
                          <a:pt x="2480" y="4134"/>
                        </a:lnTo>
                        <a:lnTo>
                          <a:pt x="2471" y="4132"/>
                        </a:lnTo>
                        <a:lnTo>
                          <a:pt x="2461" y="4131"/>
                        </a:lnTo>
                        <a:lnTo>
                          <a:pt x="2444" y="4127"/>
                        </a:lnTo>
                        <a:lnTo>
                          <a:pt x="2426" y="4123"/>
                        </a:lnTo>
                        <a:lnTo>
                          <a:pt x="2409" y="4117"/>
                        </a:lnTo>
                        <a:lnTo>
                          <a:pt x="2393" y="4111"/>
                        </a:lnTo>
                        <a:lnTo>
                          <a:pt x="2380" y="4107"/>
                        </a:lnTo>
                        <a:lnTo>
                          <a:pt x="2370" y="4103"/>
                        </a:lnTo>
                        <a:lnTo>
                          <a:pt x="2352" y="4098"/>
                        </a:lnTo>
                        <a:lnTo>
                          <a:pt x="2349" y="4098"/>
                        </a:lnTo>
                        <a:lnTo>
                          <a:pt x="2347" y="4094"/>
                        </a:lnTo>
                        <a:lnTo>
                          <a:pt x="2347" y="4086"/>
                        </a:lnTo>
                        <a:lnTo>
                          <a:pt x="2347" y="4072"/>
                        </a:lnTo>
                        <a:lnTo>
                          <a:pt x="2347" y="4057"/>
                        </a:lnTo>
                        <a:lnTo>
                          <a:pt x="2345" y="4045"/>
                        </a:lnTo>
                        <a:lnTo>
                          <a:pt x="2345" y="4035"/>
                        </a:lnTo>
                        <a:lnTo>
                          <a:pt x="2345" y="4024"/>
                        </a:lnTo>
                        <a:lnTo>
                          <a:pt x="2345" y="4012"/>
                        </a:lnTo>
                        <a:lnTo>
                          <a:pt x="2343" y="3999"/>
                        </a:lnTo>
                        <a:lnTo>
                          <a:pt x="2343" y="3987"/>
                        </a:lnTo>
                        <a:lnTo>
                          <a:pt x="2341" y="3975"/>
                        </a:lnTo>
                        <a:lnTo>
                          <a:pt x="2341" y="3964"/>
                        </a:lnTo>
                        <a:lnTo>
                          <a:pt x="2337" y="3950"/>
                        </a:lnTo>
                        <a:lnTo>
                          <a:pt x="2337" y="3937"/>
                        </a:lnTo>
                        <a:lnTo>
                          <a:pt x="2333" y="3923"/>
                        </a:lnTo>
                        <a:lnTo>
                          <a:pt x="2333" y="3911"/>
                        </a:lnTo>
                        <a:lnTo>
                          <a:pt x="2329" y="3898"/>
                        </a:lnTo>
                        <a:lnTo>
                          <a:pt x="2327" y="3886"/>
                        </a:lnTo>
                        <a:lnTo>
                          <a:pt x="2325" y="3875"/>
                        </a:lnTo>
                        <a:lnTo>
                          <a:pt x="2323" y="3863"/>
                        </a:lnTo>
                        <a:lnTo>
                          <a:pt x="2319" y="3851"/>
                        </a:lnTo>
                        <a:lnTo>
                          <a:pt x="2316" y="3840"/>
                        </a:lnTo>
                        <a:lnTo>
                          <a:pt x="2312" y="3828"/>
                        </a:lnTo>
                        <a:lnTo>
                          <a:pt x="2308" y="3820"/>
                        </a:lnTo>
                        <a:lnTo>
                          <a:pt x="2298" y="3805"/>
                        </a:lnTo>
                        <a:lnTo>
                          <a:pt x="2290" y="3795"/>
                        </a:lnTo>
                        <a:lnTo>
                          <a:pt x="2277" y="3783"/>
                        </a:lnTo>
                        <a:lnTo>
                          <a:pt x="2265" y="3774"/>
                        </a:lnTo>
                        <a:lnTo>
                          <a:pt x="2252" y="3764"/>
                        </a:lnTo>
                        <a:lnTo>
                          <a:pt x="2240" y="3754"/>
                        </a:lnTo>
                        <a:lnTo>
                          <a:pt x="2226" y="3743"/>
                        </a:lnTo>
                        <a:lnTo>
                          <a:pt x="2213" y="3731"/>
                        </a:lnTo>
                        <a:lnTo>
                          <a:pt x="2201" y="3721"/>
                        </a:lnTo>
                        <a:lnTo>
                          <a:pt x="2190" y="3714"/>
                        </a:lnTo>
                        <a:lnTo>
                          <a:pt x="2178" y="3702"/>
                        </a:lnTo>
                        <a:lnTo>
                          <a:pt x="2166" y="3694"/>
                        </a:lnTo>
                        <a:lnTo>
                          <a:pt x="2157" y="3688"/>
                        </a:lnTo>
                        <a:lnTo>
                          <a:pt x="2151" y="3683"/>
                        </a:lnTo>
                        <a:lnTo>
                          <a:pt x="2139" y="3673"/>
                        </a:lnTo>
                        <a:lnTo>
                          <a:pt x="2135" y="3671"/>
                        </a:lnTo>
                        <a:lnTo>
                          <a:pt x="2050" y="3260"/>
                        </a:lnTo>
                        <a:lnTo>
                          <a:pt x="2050" y="3256"/>
                        </a:lnTo>
                        <a:lnTo>
                          <a:pt x="2058" y="3250"/>
                        </a:lnTo>
                        <a:lnTo>
                          <a:pt x="2065" y="3238"/>
                        </a:lnTo>
                        <a:lnTo>
                          <a:pt x="2079" y="3227"/>
                        </a:lnTo>
                        <a:lnTo>
                          <a:pt x="2093" y="3209"/>
                        </a:lnTo>
                        <a:lnTo>
                          <a:pt x="2110" y="3190"/>
                        </a:lnTo>
                        <a:lnTo>
                          <a:pt x="2118" y="3178"/>
                        </a:lnTo>
                        <a:lnTo>
                          <a:pt x="2127" y="3167"/>
                        </a:lnTo>
                        <a:lnTo>
                          <a:pt x="2137" y="3153"/>
                        </a:lnTo>
                        <a:lnTo>
                          <a:pt x="2149" y="3142"/>
                        </a:lnTo>
                        <a:lnTo>
                          <a:pt x="2157" y="3126"/>
                        </a:lnTo>
                        <a:lnTo>
                          <a:pt x="2166" y="3110"/>
                        </a:lnTo>
                        <a:lnTo>
                          <a:pt x="2176" y="3095"/>
                        </a:lnTo>
                        <a:lnTo>
                          <a:pt x="2186" y="3079"/>
                        </a:lnTo>
                        <a:lnTo>
                          <a:pt x="2195" y="3062"/>
                        </a:lnTo>
                        <a:lnTo>
                          <a:pt x="2205" y="3045"/>
                        </a:lnTo>
                        <a:lnTo>
                          <a:pt x="2215" y="3027"/>
                        </a:lnTo>
                        <a:lnTo>
                          <a:pt x="2224" y="3010"/>
                        </a:lnTo>
                        <a:lnTo>
                          <a:pt x="2230" y="2988"/>
                        </a:lnTo>
                        <a:lnTo>
                          <a:pt x="2238" y="2969"/>
                        </a:lnTo>
                        <a:lnTo>
                          <a:pt x="2246" y="2950"/>
                        </a:lnTo>
                        <a:lnTo>
                          <a:pt x="2254" y="2930"/>
                        </a:lnTo>
                        <a:lnTo>
                          <a:pt x="2255" y="2918"/>
                        </a:lnTo>
                        <a:lnTo>
                          <a:pt x="2257" y="2909"/>
                        </a:lnTo>
                        <a:lnTo>
                          <a:pt x="2259" y="2897"/>
                        </a:lnTo>
                        <a:lnTo>
                          <a:pt x="2263" y="2887"/>
                        </a:lnTo>
                        <a:lnTo>
                          <a:pt x="2265" y="2876"/>
                        </a:lnTo>
                        <a:lnTo>
                          <a:pt x="2267" y="2866"/>
                        </a:lnTo>
                        <a:lnTo>
                          <a:pt x="2269" y="2855"/>
                        </a:lnTo>
                        <a:lnTo>
                          <a:pt x="2273" y="2845"/>
                        </a:lnTo>
                        <a:lnTo>
                          <a:pt x="2273" y="2831"/>
                        </a:lnTo>
                        <a:lnTo>
                          <a:pt x="2273" y="2820"/>
                        </a:lnTo>
                        <a:lnTo>
                          <a:pt x="2275" y="2806"/>
                        </a:lnTo>
                        <a:lnTo>
                          <a:pt x="2279" y="2794"/>
                        </a:lnTo>
                        <a:lnTo>
                          <a:pt x="2279" y="2781"/>
                        </a:lnTo>
                        <a:lnTo>
                          <a:pt x="2283" y="2767"/>
                        </a:lnTo>
                        <a:lnTo>
                          <a:pt x="2285" y="2754"/>
                        </a:lnTo>
                        <a:lnTo>
                          <a:pt x="2290" y="2740"/>
                        </a:lnTo>
                        <a:lnTo>
                          <a:pt x="2292" y="2725"/>
                        </a:lnTo>
                        <a:lnTo>
                          <a:pt x="2296" y="2711"/>
                        </a:lnTo>
                        <a:lnTo>
                          <a:pt x="2300" y="2695"/>
                        </a:lnTo>
                        <a:lnTo>
                          <a:pt x="2306" y="2682"/>
                        </a:lnTo>
                        <a:lnTo>
                          <a:pt x="2310" y="2666"/>
                        </a:lnTo>
                        <a:lnTo>
                          <a:pt x="2314" y="2651"/>
                        </a:lnTo>
                        <a:lnTo>
                          <a:pt x="2319" y="2635"/>
                        </a:lnTo>
                        <a:lnTo>
                          <a:pt x="2325" y="2622"/>
                        </a:lnTo>
                        <a:lnTo>
                          <a:pt x="2329" y="2604"/>
                        </a:lnTo>
                        <a:lnTo>
                          <a:pt x="2335" y="2589"/>
                        </a:lnTo>
                        <a:lnTo>
                          <a:pt x="2341" y="2571"/>
                        </a:lnTo>
                        <a:lnTo>
                          <a:pt x="2347" y="2556"/>
                        </a:lnTo>
                        <a:lnTo>
                          <a:pt x="2352" y="2538"/>
                        </a:lnTo>
                        <a:lnTo>
                          <a:pt x="2358" y="2523"/>
                        </a:lnTo>
                        <a:lnTo>
                          <a:pt x="2364" y="2505"/>
                        </a:lnTo>
                        <a:lnTo>
                          <a:pt x="2370" y="2490"/>
                        </a:lnTo>
                        <a:lnTo>
                          <a:pt x="2376" y="2472"/>
                        </a:lnTo>
                        <a:lnTo>
                          <a:pt x="2382" y="2455"/>
                        </a:lnTo>
                        <a:lnTo>
                          <a:pt x="2389" y="2438"/>
                        </a:lnTo>
                        <a:lnTo>
                          <a:pt x="2397" y="2422"/>
                        </a:lnTo>
                        <a:lnTo>
                          <a:pt x="2403" y="2405"/>
                        </a:lnTo>
                        <a:lnTo>
                          <a:pt x="2411" y="2389"/>
                        </a:lnTo>
                        <a:lnTo>
                          <a:pt x="2418" y="2374"/>
                        </a:lnTo>
                        <a:lnTo>
                          <a:pt x="2426" y="2358"/>
                        </a:lnTo>
                        <a:lnTo>
                          <a:pt x="2432" y="2341"/>
                        </a:lnTo>
                        <a:lnTo>
                          <a:pt x="2438" y="2323"/>
                        </a:lnTo>
                        <a:lnTo>
                          <a:pt x="2446" y="2306"/>
                        </a:lnTo>
                        <a:lnTo>
                          <a:pt x="2453" y="2290"/>
                        </a:lnTo>
                        <a:lnTo>
                          <a:pt x="2459" y="2273"/>
                        </a:lnTo>
                        <a:lnTo>
                          <a:pt x="2467" y="2257"/>
                        </a:lnTo>
                        <a:lnTo>
                          <a:pt x="2475" y="2242"/>
                        </a:lnTo>
                        <a:lnTo>
                          <a:pt x="2482" y="2228"/>
                        </a:lnTo>
                        <a:lnTo>
                          <a:pt x="2488" y="2211"/>
                        </a:lnTo>
                        <a:lnTo>
                          <a:pt x="2496" y="2195"/>
                        </a:lnTo>
                        <a:lnTo>
                          <a:pt x="2504" y="2180"/>
                        </a:lnTo>
                        <a:lnTo>
                          <a:pt x="2511" y="2166"/>
                        </a:lnTo>
                        <a:lnTo>
                          <a:pt x="2517" y="2151"/>
                        </a:lnTo>
                        <a:lnTo>
                          <a:pt x="2527" y="2137"/>
                        </a:lnTo>
                        <a:lnTo>
                          <a:pt x="2533" y="2123"/>
                        </a:lnTo>
                        <a:lnTo>
                          <a:pt x="2543" y="2112"/>
                        </a:lnTo>
                        <a:lnTo>
                          <a:pt x="2548" y="2098"/>
                        </a:lnTo>
                        <a:lnTo>
                          <a:pt x="2556" y="2085"/>
                        </a:lnTo>
                        <a:lnTo>
                          <a:pt x="2564" y="2073"/>
                        </a:lnTo>
                        <a:lnTo>
                          <a:pt x="2572" y="2061"/>
                        </a:lnTo>
                        <a:lnTo>
                          <a:pt x="2577" y="2048"/>
                        </a:lnTo>
                        <a:lnTo>
                          <a:pt x="2585" y="2036"/>
                        </a:lnTo>
                        <a:lnTo>
                          <a:pt x="2593" y="2026"/>
                        </a:lnTo>
                        <a:lnTo>
                          <a:pt x="2601" y="2017"/>
                        </a:lnTo>
                        <a:lnTo>
                          <a:pt x="2612" y="1995"/>
                        </a:lnTo>
                        <a:lnTo>
                          <a:pt x="2626" y="1978"/>
                        </a:lnTo>
                        <a:lnTo>
                          <a:pt x="2639" y="1961"/>
                        </a:lnTo>
                        <a:lnTo>
                          <a:pt x="2653" y="1949"/>
                        </a:lnTo>
                        <a:lnTo>
                          <a:pt x="2657" y="1939"/>
                        </a:lnTo>
                        <a:lnTo>
                          <a:pt x="2663" y="1929"/>
                        </a:lnTo>
                        <a:lnTo>
                          <a:pt x="2667" y="1918"/>
                        </a:lnTo>
                        <a:lnTo>
                          <a:pt x="2671" y="1906"/>
                        </a:lnTo>
                        <a:lnTo>
                          <a:pt x="2672" y="1891"/>
                        </a:lnTo>
                        <a:lnTo>
                          <a:pt x="2674" y="1875"/>
                        </a:lnTo>
                        <a:lnTo>
                          <a:pt x="2676" y="1858"/>
                        </a:lnTo>
                        <a:lnTo>
                          <a:pt x="2680" y="1840"/>
                        </a:lnTo>
                        <a:lnTo>
                          <a:pt x="2680" y="1817"/>
                        </a:lnTo>
                        <a:lnTo>
                          <a:pt x="2680" y="1796"/>
                        </a:lnTo>
                        <a:lnTo>
                          <a:pt x="2680" y="1772"/>
                        </a:lnTo>
                        <a:lnTo>
                          <a:pt x="2680" y="1749"/>
                        </a:lnTo>
                        <a:lnTo>
                          <a:pt x="2678" y="1722"/>
                        </a:lnTo>
                        <a:lnTo>
                          <a:pt x="2676" y="1695"/>
                        </a:lnTo>
                        <a:lnTo>
                          <a:pt x="2674" y="1668"/>
                        </a:lnTo>
                        <a:lnTo>
                          <a:pt x="2674" y="1641"/>
                        </a:lnTo>
                        <a:lnTo>
                          <a:pt x="2671" y="1610"/>
                        </a:lnTo>
                        <a:lnTo>
                          <a:pt x="2667" y="1578"/>
                        </a:lnTo>
                        <a:lnTo>
                          <a:pt x="2663" y="1546"/>
                        </a:lnTo>
                        <a:lnTo>
                          <a:pt x="2661" y="1514"/>
                        </a:lnTo>
                        <a:lnTo>
                          <a:pt x="2657" y="1482"/>
                        </a:lnTo>
                        <a:lnTo>
                          <a:pt x="2653" y="1449"/>
                        </a:lnTo>
                        <a:lnTo>
                          <a:pt x="2649" y="1414"/>
                        </a:lnTo>
                        <a:lnTo>
                          <a:pt x="2645" y="1381"/>
                        </a:lnTo>
                        <a:lnTo>
                          <a:pt x="2639" y="1344"/>
                        </a:lnTo>
                        <a:lnTo>
                          <a:pt x="2634" y="1309"/>
                        </a:lnTo>
                        <a:lnTo>
                          <a:pt x="2628" y="1272"/>
                        </a:lnTo>
                        <a:lnTo>
                          <a:pt x="2622" y="1237"/>
                        </a:lnTo>
                        <a:lnTo>
                          <a:pt x="2616" y="1200"/>
                        </a:lnTo>
                        <a:lnTo>
                          <a:pt x="2610" y="1163"/>
                        </a:lnTo>
                        <a:lnTo>
                          <a:pt x="2605" y="1127"/>
                        </a:lnTo>
                        <a:lnTo>
                          <a:pt x="2599" y="1092"/>
                        </a:lnTo>
                        <a:lnTo>
                          <a:pt x="2591" y="1053"/>
                        </a:lnTo>
                        <a:lnTo>
                          <a:pt x="2583" y="1016"/>
                        </a:lnTo>
                        <a:lnTo>
                          <a:pt x="2575" y="979"/>
                        </a:lnTo>
                        <a:lnTo>
                          <a:pt x="2570" y="944"/>
                        </a:lnTo>
                        <a:lnTo>
                          <a:pt x="2562" y="908"/>
                        </a:lnTo>
                        <a:lnTo>
                          <a:pt x="2554" y="873"/>
                        </a:lnTo>
                        <a:lnTo>
                          <a:pt x="2546" y="838"/>
                        </a:lnTo>
                        <a:lnTo>
                          <a:pt x="2541" y="803"/>
                        </a:lnTo>
                        <a:lnTo>
                          <a:pt x="2531" y="768"/>
                        </a:lnTo>
                        <a:lnTo>
                          <a:pt x="2525" y="733"/>
                        </a:lnTo>
                        <a:lnTo>
                          <a:pt x="2515" y="698"/>
                        </a:lnTo>
                        <a:lnTo>
                          <a:pt x="2510" y="667"/>
                        </a:lnTo>
                        <a:lnTo>
                          <a:pt x="2502" y="634"/>
                        </a:lnTo>
                        <a:lnTo>
                          <a:pt x="2494" y="603"/>
                        </a:lnTo>
                        <a:lnTo>
                          <a:pt x="2486" y="574"/>
                        </a:lnTo>
                        <a:lnTo>
                          <a:pt x="2480" y="547"/>
                        </a:lnTo>
                        <a:lnTo>
                          <a:pt x="2473" y="518"/>
                        </a:lnTo>
                        <a:lnTo>
                          <a:pt x="2465" y="489"/>
                        </a:lnTo>
                        <a:lnTo>
                          <a:pt x="2457" y="461"/>
                        </a:lnTo>
                        <a:lnTo>
                          <a:pt x="2451" y="438"/>
                        </a:lnTo>
                        <a:lnTo>
                          <a:pt x="2444" y="413"/>
                        </a:lnTo>
                        <a:lnTo>
                          <a:pt x="2436" y="392"/>
                        </a:lnTo>
                        <a:lnTo>
                          <a:pt x="2430" y="368"/>
                        </a:lnTo>
                        <a:lnTo>
                          <a:pt x="2424" y="351"/>
                        </a:lnTo>
                        <a:lnTo>
                          <a:pt x="2416" y="332"/>
                        </a:lnTo>
                        <a:lnTo>
                          <a:pt x="2411" y="316"/>
                        </a:lnTo>
                        <a:lnTo>
                          <a:pt x="2405" y="299"/>
                        </a:lnTo>
                        <a:lnTo>
                          <a:pt x="2399" y="287"/>
                        </a:lnTo>
                        <a:lnTo>
                          <a:pt x="2393" y="273"/>
                        </a:lnTo>
                        <a:lnTo>
                          <a:pt x="2389" y="264"/>
                        </a:lnTo>
                        <a:lnTo>
                          <a:pt x="2385" y="256"/>
                        </a:lnTo>
                        <a:lnTo>
                          <a:pt x="2382" y="252"/>
                        </a:lnTo>
                        <a:lnTo>
                          <a:pt x="2368" y="235"/>
                        </a:lnTo>
                        <a:lnTo>
                          <a:pt x="2356" y="221"/>
                        </a:lnTo>
                        <a:lnTo>
                          <a:pt x="2345" y="209"/>
                        </a:lnTo>
                        <a:lnTo>
                          <a:pt x="2333" y="198"/>
                        </a:lnTo>
                        <a:lnTo>
                          <a:pt x="2321" y="186"/>
                        </a:lnTo>
                        <a:lnTo>
                          <a:pt x="2310" y="178"/>
                        </a:lnTo>
                        <a:lnTo>
                          <a:pt x="2298" y="169"/>
                        </a:lnTo>
                        <a:lnTo>
                          <a:pt x="2287" y="163"/>
                        </a:lnTo>
                        <a:lnTo>
                          <a:pt x="2275" y="153"/>
                        </a:lnTo>
                        <a:lnTo>
                          <a:pt x="2263" y="147"/>
                        </a:lnTo>
                        <a:lnTo>
                          <a:pt x="2252" y="142"/>
                        </a:lnTo>
                        <a:lnTo>
                          <a:pt x="2240" y="136"/>
                        </a:lnTo>
                        <a:lnTo>
                          <a:pt x="2219" y="128"/>
                        </a:lnTo>
                        <a:lnTo>
                          <a:pt x="2201" y="122"/>
                        </a:lnTo>
                        <a:lnTo>
                          <a:pt x="2182" y="116"/>
                        </a:lnTo>
                        <a:lnTo>
                          <a:pt x="2166" y="112"/>
                        </a:lnTo>
                        <a:lnTo>
                          <a:pt x="2151" y="110"/>
                        </a:lnTo>
                        <a:lnTo>
                          <a:pt x="2139" y="110"/>
                        </a:lnTo>
                        <a:lnTo>
                          <a:pt x="2127" y="110"/>
                        </a:lnTo>
                        <a:lnTo>
                          <a:pt x="2122" y="110"/>
                        </a:lnTo>
                        <a:lnTo>
                          <a:pt x="2116" y="110"/>
                        </a:lnTo>
                        <a:lnTo>
                          <a:pt x="2116" y="112"/>
                        </a:lnTo>
                        <a:lnTo>
                          <a:pt x="2112" y="105"/>
                        </a:lnTo>
                        <a:lnTo>
                          <a:pt x="2104" y="91"/>
                        </a:lnTo>
                        <a:lnTo>
                          <a:pt x="2095" y="79"/>
                        </a:lnTo>
                        <a:lnTo>
                          <a:pt x="2085" y="70"/>
                        </a:lnTo>
                        <a:lnTo>
                          <a:pt x="2071" y="60"/>
                        </a:lnTo>
                        <a:lnTo>
                          <a:pt x="2056" y="50"/>
                        </a:lnTo>
                        <a:lnTo>
                          <a:pt x="2044" y="45"/>
                        </a:lnTo>
                        <a:lnTo>
                          <a:pt x="2032" y="39"/>
                        </a:lnTo>
                        <a:lnTo>
                          <a:pt x="2019" y="33"/>
                        </a:lnTo>
                        <a:lnTo>
                          <a:pt x="2007" y="27"/>
                        </a:lnTo>
                        <a:lnTo>
                          <a:pt x="1992" y="21"/>
                        </a:lnTo>
                        <a:lnTo>
                          <a:pt x="1978" y="17"/>
                        </a:lnTo>
                        <a:lnTo>
                          <a:pt x="1961" y="14"/>
                        </a:lnTo>
                        <a:lnTo>
                          <a:pt x="1943" y="12"/>
                        </a:lnTo>
                        <a:lnTo>
                          <a:pt x="1922" y="6"/>
                        </a:lnTo>
                        <a:lnTo>
                          <a:pt x="1903" y="4"/>
                        </a:lnTo>
                        <a:lnTo>
                          <a:pt x="1891" y="2"/>
                        </a:lnTo>
                        <a:lnTo>
                          <a:pt x="1879" y="0"/>
                        </a:lnTo>
                        <a:lnTo>
                          <a:pt x="1868" y="0"/>
                        </a:lnTo>
                        <a:lnTo>
                          <a:pt x="1856" y="0"/>
                        </a:lnTo>
                        <a:lnTo>
                          <a:pt x="1842" y="0"/>
                        </a:lnTo>
                        <a:lnTo>
                          <a:pt x="1829" y="0"/>
                        </a:lnTo>
                        <a:lnTo>
                          <a:pt x="1815" y="0"/>
                        </a:lnTo>
                        <a:lnTo>
                          <a:pt x="1804" y="0"/>
                        </a:lnTo>
                        <a:lnTo>
                          <a:pt x="1788" y="0"/>
                        </a:lnTo>
                        <a:lnTo>
                          <a:pt x="1775" y="0"/>
                        </a:lnTo>
                        <a:lnTo>
                          <a:pt x="1759" y="0"/>
                        </a:lnTo>
                        <a:lnTo>
                          <a:pt x="1745" y="2"/>
                        </a:lnTo>
                        <a:lnTo>
                          <a:pt x="1722" y="2"/>
                        </a:lnTo>
                        <a:lnTo>
                          <a:pt x="1701" y="2"/>
                        </a:lnTo>
                        <a:lnTo>
                          <a:pt x="1678" y="4"/>
                        </a:lnTo>
                        <a:lnTo>
                          <a:pt x="1656" y="6"/>
                        </a:lnTo>
                        <a:lnTo>
                          <a:pt x="1631" y="6"/>
                        </a:lnTo>
                        <a:lnTo>
                          <a:pt x="1608" y="8"/>
                        </a:lnTo>
                        <a:lnTo>
                          <a:pt x="1584" y="10"/>
                        </a:lnTo>
                        <a:lnTo>
                          <a:pt x="1561" y="14"/>
                        </a:lnTo>
                        <a:lnTo>
                          <a:pt x="1534" y="15"/>
                        </a:lnTo>
                        <a:lnTo>
                          <a:pt x="1511" y="19"/>
                        </a:lnTo>
                        <a:lnTo>
                          <a:pt x="1484" y="21"/>
                        </a:lnTo>
                        <a:lnTo>
                          <a:pt x="1460" y="25"/>
                        </a:lnTo>
                        <a:lnTo>
                          <a:pt x="1433" y="29"/>
                        </a:lnTo>
                        <a:lnTo>
                          <a:pt x="1408" y="33"/>
                        </a:lnTo>
                        <a:lnTo>
                          <a:pt x="1381" y="37"/>
                        </a:lnTo>
                        <a:lnTo>
                          <a:pt x="1356" y="43"/>
                        </a:lnTo>
                        <a:lnTo>
                          <a:pt x="1327" y="46"/>
                        </a:lnTo>
                        <a:lnTo>
                          <a:pt x="1299" y="50"/>
                        </a:lnTo>
                        <a:lnTo>
                          <a:pt x="1272" y="54"/>
                        </a:lnTo>
                        <a:lnTo>
                          <a:pt x="1245" y="60"/>
                        </a:lnTo>
                        <a:lnTo>
                          <a:pt x="1218" y="66"/>
                        </a:lnTo>
                        <a:lnTo>
                          <a:pt x="1191" y="72"/>
                        </a:lnTo>
                        <a:lnTo>
                          <a:pt x="1164" y="78"/>
                        </a:lnTo>
                        <a:lnTo>
                          <a:pt x="1136" y="85"/>
                        </a:lnTo>
                        <a:lnTo>
                          <a:pt x="1107" y="91"/>
                        </a:lnTo>
                        <a:lnTo>
                          <a:pt x="1080" y="97"/>
                        </a:lnTo>
                        <a:lnTo>
                          <a:pt x="1053" y="105"/>
                        </a:lnTo>
                        <a:lnTo>
                          <a:pt x="1026" y="112"/>
                        </a:lnTo>
                        <a:lnTo>
                          <a:pt x="997" y="120"/>
                        </a:lnTo>
                        <a:lnTo>
                          <a:pt x="970" y="130"/>
                        </a:lnTo>
                        <a:lnTo>
                          <a:pt x="943" y="138"/>
                        </a:lnTo>
                        <a:lnTo>
                          <a:pt x="917" y="147"/>
                        </a:lnTo>
                        <a:lnTo>
                          <a:pt x="888" y="155"/>
                        </a:lnTo>
                        <a:lnTo>
                          <a:pt x="861" y="165"/>
                        </a:lnTo>
                        <a:lnTo>
                          <a:pt x="834" y="173"/>
                        </a:lnTo>
                        <a:lnTo>
                          <a:pt x="807" y="184"/>
                        </a:lnTo>
                        <a:lnTo>
                          <a:pt x="778" y="192"/>
                        </a:lnTo>
                        <a:lnTo>
                          <a:pt x="752" y="204"/>
                        </a:lnTo>
                        <a:lnTo>
                          <a:pt x="725" y="215"/>
                        </a:lnTo>
                        <a:lnTo>
                          <a:pt x="702" y="227"/>
                        </a:lnTo>
                        <a:lnTo>
                          <a:pt x="675" y="237"/>
                        </a:lnTo>
                        <a:lnTo>
                          <a:pt x="650" y="248"/>
                        </a:lnTo>
                        <a:lnTo>
                          <a:pt x="623" y="260"/>
                        </a:lnTo>
                        <a:lnTo>
                          <a:pt x="599" y="273"/>
                        </a:lnTo>
                        <a:lnTo>
                          <a:pt x="574" y="285"/>
                        </a:lnTo>
                        <a:lnTo>
                          <a:pt x="551" y="299"/>
                        </a:lnTo>
                        <a:lnTo>
                          <a:pt x="527" y="312"/>
                        </a:lnTo>
                        <a:lnTo>
                          <a:pt x="504" y="328"/>
                        </a:lnTo>
                        <a:lnTo>
                          <a:pt x="479" y="339"/>
                        </a:lnTo>
                        <a:lnTo>
                          <a:pt x="456" y="355"/>
                        </a:lnTo>
                        <a:lnTo>
                          <a:pt x="432" y="368"/>
                        </a:lnTo>
                        <a:lnTo>
                          <a:pt x="411" y="386"/>
                        </a:lnTo>
                        <a:lnTo>
                          <a:pt x="388" y="399"/>
                        </a:lnTo>
                        <a:lnTo>
                          <a:pt x="368" y="417"/>
                        </a:lnTo>
                        <a:lnTo>
                          <a:pt x="347" y="434"/>
                        </a:lnTo>
                        <a:lnTo>
                          <a:pt x="330" y="452"/>
                        </a:lnTo>
                        <a:lnTo>
                          <a:pt x="310" y="467"/>
                        </a:lnTo>
                        <a:lnTo>
                          <a:pt x="291" y="485"/>
                        </a:lnTo>
                        <a:lnTo>
                          <a:pt x="273" y="502"/>
                        </a:lnTo>
                        <a:lnTo>
                          <a:pt x="256" y="522"/>
                        </a:lnTo>
                        <a:lnTo>
                          <a:pt x="239" y="539"/>
                        </a:lnTo>
                        <a:lnTo>
                          <a:pt x="223" y="558"/>
                        </a:lnTo>
                        <a:lnTo>
                          <a:pt x="208" y="578"/>
                        </a:lnTo>
                        <a:lnTo>
                          <a:pt x="196" y="599"/>
                        </a:lnTo>
                        <a:lnTo>
                          <a:pt x="184" y="611"/>
                        </a:lnTo>
                        <a:lnTo>
                          <a:pt x="176" y="626"/>
                        </a:lnTo>
                        <a:lnTo>
                          <a:pt x="167" y="642"/>
                        </a:lnTo>
                        <a:lnTo>
                          <a:pt x="159" y="659"/>
                        </a:lnTo>
                        <a:lnTo>
                          <a:pt x="151" y="677"/>
                        </a:lnTo>
                        <a:lnTo>
                          <a:pt x="144" y="694"/>
                        </a:lnTo>
                        <a:lnTo>
                          <a:pt x="138" y="714"/>
                        </a:lnTo>
                        <a:lnTo>
                          <a:pt x="132" y="735"/>
                        </a:lnTo>
                        <a:lnTo>
                          <a:pt x="126" y="754"/>
                        </a:lnTo>
                        <a:lnTo>
                          <a:pt x="120" y="776"/>
                        </a:lnTo>
                        <a:lnTo>
                          <a:pt x="114" y="797"/>
                        </a:lnTo>
                        <a:lnTo>
                          <a:pt x="112" y="820"/>
                        </a:lnTo>
                        <a:lnTo>
                          <a:pt x="107" y="844"/>
                        </a:lnTo>
                        <a:lnTo>
                          <a:pt x="105" y="867"/>
                        </a:lnTo>
                        <a:lnTo>
                          <a:pt x="101" y="892"/>
                        </a:lnTo>
                        <a:lnTo>
                          <a:pt x="99" y="917"/>
                        </a:lnTo>
                        <a:lnTo>
                          <a:pt x="95" y="940"/>
                        </a:lnTo>
                        <a:lnTo>
                          <a:pt x="93" y="966"/>
                        </a:lnTo>
                        <a:lnTo>
                          <a:pt x="89" y="991"/>
                        </a:lnTo>
                        <a:lnTo>
                          <a:pt x="87" y="1018"/>
                        </a:lnTo>
                        <a:lnTo>
                          <a:pt x="85" y="1043"/>
                        </a:lnTo>
                        <a:lnTo>
                          <a:pt x="83" y="1070"/>
                        </a:lnTo>
                        <a:lnTo>
                          <a:pt x="83" y="1098"/>
                        </a:lnTo>
                        <a:lnTo>
                          <a:pt x="83" y="1125"/>
                        </a:lnTo>
                        <a:lnTo>
                          <a:pt x="83" y="1150"/>
                        </a:lnTo>
                        <a:lnTo>
                          <a:pt x="83" y="1177"/>
                        </a:lnTo>
                        <a:lnTo>
                          <a:pt x="83" y="1204"/>
                        </a:lnTo>
                        <a:lnTo>
                          <a:pt x="83" y="1231"/>
                        </a:lnTo>
                        <a:lnTo>
                          <a:pt x="83" y="1259"/>
                        </a:lnTo>
                        <a:lnTo>
                          <a:pt x="83" y="1286"/>
                        </a:lnTo>
                        <a:lnTo>
                          <a:pt x="85" y="1313"/>
                        </a:lnTo>
                        <a:lnTo>
                          <a:pt x="87" y="1340"/>
                        </a:lnTo>
                        <a:lnTo>
                          <a:pt x="87" y="1365"/>
                        </a:lnTo>
                        <a:lnTo>
                          <a:pt x="87" y="1390"/>
                        </a:lnTo>
                        <a:lnTo>
                          <a:pt x="89" y="1416"/>
                        </a:lnTo>
                        <a:lnTo>
                          <a:pt x="91" y="1443"/>
                        </a:lnTo>
                        <a:lnTo>
                          <a:pt x="91" y="1466"/>
                        </a:lnTo>
                        <a:lnTo>
                          <a:pt x="93" y="1491"/>
                        </a:lnTo>
                        <a:lnTo>
                          <a:pt x="95" y="1514"/>
                        </a:lnTo>
                        <a:lnTo>
                          <a:pt x="99" y="1540"/>
                        </a:lnTo>
                        <a:lnTo>
                          <a:pt x="99" y="1561"/>
                        </a:lnTo>
                        <a:lnTo>
                          <a:pt x="101" y="1584"/>
                        </a:lnTo>
                        <a:lnTo>
                          <a:pt x="103" y="1606"/>
                        </a:lnTo>
                        <a:lnTo>
                          <a:pt x="105" y="1629"/>
                        </a:lnTo>
                        <a:lnTo>
                          <a:pt x="107" y="1648"/>
                        </a:lnTo>
                        <a:lnTo>
                          <a:pt x="109" y="1668"/>
                        </a:lnTo>
                        <a:lnTo>
                          <a:pt x="111" y="1687"/>
                        </a:lnTo>
                        <a:lnTo>
                          <a:pt x="114" y="1708"/>
                        </a:lnTo>
                        <a:lnTo>
                          <a:pt x="114" y="1724"/>
                        </a:lnTo>
                        <a:lnTo>
                          <a:pt x="116" y="1741"/>
                        </a:lnTo>
                        <a:lnTo>
                          <a:pt x="118" y="1757"/>
                        </a:lnTo>
                        <a:lnTo>
                          <a:pt x="120" y="1772"/>
                        </a:lnTo>
                        <a:lnTo>
                          <a:pt x="122" y="1786"/>
                        </a:lnTo>
                        <a:lnTo>
                          <a:pt x="124" y="1800"/>
                        </a:lnTo>
                        <a:lnTo>
                          <a:pt x="126" y="1811"/>
                        </a:lnTo>
                        <a:lnTo>
                          <a:pt x="128" y="1823"/>
                        </a:lnTo>
                        <a:lnTo>
                          <a:pt x="130" y="1840"/>
                        </a:lnTo>
                        <a:lnTo>
                          <a:pt x="132" y="1856"/>
                        </a:lnTo>
                        <a:lnTo>
                          <a:pt x="134" y="1864"/>
                        </a:lnTo>
                        <a:lnTo>
                          <a:pt x="136" y="18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-1565640" y="-174960"/>
                    <a:ext cx="4287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4" h="3333">
                        <a:moveTo>
                          <a:pt x="0" y="9"/>
                        </a:moveTo>
                        <a:lnTo>
                          <a:pt x="2" y="9"/>
                        </a:lnTo>
                        <a:lnTo>
                          <a:pt x="12" y="15"/>
                        </a:lnTo>
                        <a:lnTo>
                          <a:pt x="17" y="17"/>
                        </a:lnTo>
                        <a:lnTo>
                          <a:pt x="25" y="25"/>
                        </a:lnTo>
                        <a:lnTo>
                          <a:pt x="35" y="31"/>
                        </a:lnTo>
                        <a:lnTo>
                          <a:pt x="47" y="42"/>
                        </a:lnTo>
                        <a:lnTo>
                          <a:pt x="56" y="52"/>
                        </a:lnTo>
                        <a:lnTo>
                          <a:pt x="70" y="66"/>
                        </a:lnTo>
                        <a:lnTo>
                          <a:pt x="81" y="81"/>
                        </a:lnTo>
                        <a:lnTo>
                          <a:pt x="99" y="100"/>
                        </a:lnTo>
                        <a:lnTo>
                          <a:pt x="105" y="110"/>
                        </a:lnTo>
                        <a:lnTo>
                          <a:pt x="113" y="122"/>
                        </a:lnTo>
                        <a:lnTo>
                          <a:pt x="120" y="133"/>
                        </a:lnTo>
                        <a:lnTo>
                          <a:pt x="130" y="147"/>
                        </a:lnTo>
                        <a:lnTo>
                          <a:pt x="138" y="159"/>
                        </a:lnTo>
                        <a:lnTo>
                          <a:pt x="147" y="174"/>
                        </a:lnTo>
                        <a:lnTo>
                          <a:pt x="155" y="188"/>
                        </a:lnTo>
                        <a:lnTo>
                          <a:pt x="167" y="205"/>
                        </a:lnTo>
                        <a:lnTo>
                          <a:pt x="175" y="221"/>
                        </a:lnTo>
                        <a:lnTo>
                          <a:pt x="184" y="238"/>
                        </a:lnTo>
                        <a:lnTo>
                          <a:pt x="192" y="256"/>
                        </a:lnTo>
                        <a:lnTo>
                          <a:pt x="202" y="275"/>
                        </a:lnTo>
                        <a:lnTo>
                          <a:pt x="209" y="294"/>
                        </a:lnTo>
                        <a:lnTo>
                          <a:pt x="221" y="316"/>
                        </a:lnTo>
                        <a:lnTo>
                          <a:pt x="229" y="339"/>
                        </a:lnTo>
                        <a:lnTo>
                          <a:pt x="241" y="362"/>
                        </a:lnTo>
                        <a:lnTo>
                          <a:pt x="250" y="386"/>
                        </a:lnTo>
                        <a:lnTo>
                          <a:pt x="260" y="411"/>
                        </a:lnTo>
                        <a:lnTo>
                          <a:pt x="270" y="438"/>
                        </a:lnTo>
                        <a:lnTo>
                          <a:pt x="281" y="467"/>
                        </a:lnTo>
                        <a:lnTo>
                          <a:pt x="291" y="494"/>
                        </a:lnTo>
                        <a:lnTo>
                          <a:pt x="301" y="525"/>
                        </a:lnTo>
                        <a:lnTo>
                          <a:pt x="310" y="554"/>
                        </a:lnTo>
                        <a:lnTo>
                          <a:pt x="322" y="589"/>
                        </a:lnTo>
                        <a:lnTo>
                          <a:pt x="332" y="620"/>
                        </a:lnTo>
                        <a:lnTo>
                          <a:pt x="341" y="655"/>
                        </a:lnTo>
                        <a:lnTo>
                          <a:pt x="351" y="690"/>
                        </a:lnTo>
                        <a:lnTo>
                          <a:pt x="363" y="729"/>
                        </a:lnTo>
                        <a:lnTo>
                          <a:pt x="372" y="766"/>
                        </a:lnTo>
                        <a:lnTo>
                          <a:pt x="382" y="806"/>
                        </a:lnTo>
                        <a:lnTo>
                          <a:pt x="392" y="847"/>
                        </a:lnTo>
                        <a:lnTo>
                          <a:pt x="403" y="892"/>
                        </a:lnTo>
                        <a:lnTo>
                          <a:pt x="413" y="934"/>
                        </a:lnTo>
                        <a:lnTo>
                          <a:pt x="423" y="981"/>
                        </a:lnTo>
                        <a:lnTo>
                          <a:pt x="433" y="1027"/>
                        </a:lnTo>
                        <a:lnTo>
                          <a:pt x="442" y="1078"/>
                        </a:lnTo>
                        <a:lnTo>
                          <a:pt x="452" y="1126"/>
                        </a:lnTo>
                        <a:lnTo>
                          <a:pt x="462" y="1179"/>
                        </a:lnTo>
                        <a:lnTo>
                          <a:pt x="471" y="1231"/>
                        </a:lnTo>
                        <a:lnTo>
                          <a:pt x="483" y="1287"/>
                        </a:lnTo>
                        <a:lnTo>
                          <a:pt x="355" y="1446"/>
                        </a:lnTo>
                        <a:lnTo>
                          <a:pt x="520" y="2715"/>
                        </a:lnTo>
                        <a:lnTo>
                          <a:pt x="1222" y="3333"/>
                        </a:lnTo>
                        <a:lnTo>
                          <a:pt x="1352" y="3320"/>
                        </a:lnTo>
                        <a:lnTo>
                          <a:pt x="1127" y="2852"/>
                        </a:lnTo>
                        <a:lnTo>
                          <a:pt x="1125" y="2850"/>
                        </a:lnTo>
                        <a:lnTo>
                          <a:pt x="1123" y="2846"/>
                        </a:lnTo>
                        <a:lnTo>
                          <a:pt x="1119" y="2839"/>
                        </a:lnTo>
                        <a:lnTo>
                          <a:pt x="1117" y="2829"/>
                        </a:lnTo>
                        <a:lnTo>
                          <a:pt x="1111" y="2815"/>
                        </a:lnTo>
                        <a:lnTo>
                          <a:pt x="1107" y="2802"/>
                        </a:lnTo>
                        <a:lnTo>
                          <a:pt x="1104" y="2784"/>
                        </a:lnTo>
                        <a:lnTo>
                          <a:pt x="1104" y="2769"/>
                        </a:lnTo>
                        <a:lnTo>
                          <a:pt x="1102" y="2757"/>
                        </a:lnTo>
                        <a:lnTo>
                          <a:pt x="1100" y="2746"/>
                        </a:lnTo>
                        <a:lnTo>
                          <a:pt x="1100" y="2734"/>
                        </a:lnTo>
                        <a:lnTo>
                          <a:pt x="1100" y="2724"/>
                        </a:lnTo>
                        <a:lnTo>
                          <a:pt x="1100" y="2711"/>
                        </a:lnTo>
                        <a:lnTo>
                          <a:pt x="1102" y="2699"/>
                        </a:lnTo>
                        <a:lnTo>
                          <a:pt x="1104" y="2687"/>
                        </a:lnTo>
                        <a:lnTo>
                          <a:pt x="1107" y="2676"/>
                        </a:lnTo>
                        <a:lnTo>
                          <a:pt x="1109" y="2660"/>
                        </a:lnTo>
                        <a:lnTo>
                          <a:pt x="1113" y="2647"/>
                        </a:lnTo>
                        <a:lnTo>
                          <a:pt x="1117" y="2633"/>
                        </a:lnTo>
                        <a:lnTo>
                          <a:pt x="1123" y="2620"/>
                        </a:lnTo>
                        <a:lnTo>
                          <a:pt x="1129" y="2604"/>
                        </a:lnTo>
                        <a:lnTo>
                          <a:pt x="1135" y="2589"/>
                        </a:lnTo>
                        <a:lnTo>
                          <a:pt x="1142" y="2573"/>
                        </a:lnTo>
                        <a:lnTo>
                          <a:pt x="1154" y="2559"/>
                        </a:lnTo>
                        <a:lnTo>
                          <a:pt x="1179" y="2125"/>
                        </a:lnTo>
                        <a:lnTo>
                          <a:pt x="1534" y="2057"/>
                        </a:lnTo>
                        <a:lnTo>
                          <a:pt x="1532" y="2053"/>
                        </a:lnTo>
                        <a:lnTo>
                          <a:pt x="1532" y="2044"/>
                        </a:lnTo>
                        <a:lnTo>
                          <a:pt x="1530" y="2028"/>
                        </a:lnTo>
                        <a:lnTo>
                          <a:pt x="1528" y="2011"/>
                        </a:lnTo>
                        <a:lnTo>
                          <a:pt x="1524" y="1999"/>
                        </a:lnTo>
                        <a:lnTo>
                          <a:pt x="1522" y="1987"/>
                        </a:lnTo>
                        <a:lnTo>
                          <a:pt x="1519" y="1974"/>
                        </a:lnTo>
                        <a:lnTo>
                          <a:pt x="1517" y="1962"/>
                        </a:lnTo>
                        <a:lnTo>
                          <a:pt x="1513" y="1949"/>
                        </a:lnTo>
                        <a:lnTo>
                          <a:pt x="1509" y="1935"/>
                        </a:lnTo>
                        <a:lnTo>
                          <a:pt x="1505" y="1921"/>
                        </a:lnTo>
                        <a:lnTo>
                          <a:pt x="1501" y="1908"/>
                        </a:lnTo>
                        <a:lnTo>
                          <a:pt x="1493" y="1892"/>
                        </a:lnTo>
                        <a:lnTo>
                          <a:pt x="1488" y="1879"/>
                        </a:lnTo>
                        <a:lnTo>
                          <a:pt x="1480" y="1863"/>
                        </a:lnTo>
                        <a:lnTo>
                          <a:pt x="1474" y="1850"/>
                        </a:lnTo>
                        <a:lnTo>
                          <a:pt x="1464" y="1834"/>
                        </a:lnTo>
                        <a:lnTo>
                          <a:pt x="1457" y="1821"/>
                        </a:lnTo>
                        <a:lnTo>
                          <a:pt x="1447" y="1809"/>
                        </a:lnTo>
                        <a:lnTo>
                          <a:pt x="1439" y="1797"/>
                        </a:lnTo>
                        <a:lnTo>
                          <a:pt x="1425" y="1786"/>
                        </a:lnTo>
                        <a:lnTo>
                          <a:pt x="1414" y="1774"/>
                        </a:lnTo>
                        <a:lnTo>
                          <a:pt x="1400" y="1762"/>
                        </a:lnTo>
                        <a:lnTo>
                          <a:pt x="1389" y="1757"/>
                        </a:lnTo>
                        <a:lnTo>
                          <a:pt x="1373" y="1747"/>
                        </a:lnTo>
                        <a:lnTo>
                          <a:pt x="1358" y="1741"/>
                        </a:lnTo>
                        <a:lnTo>
                          <a:pt x="1342" y="1735"/>
                        </a:lnTo>
                        <a:lnTo>
                          <a:pt x="1327" y="1733"/>
                        </a:lnTo>
                        <a:lnTo>
                          <a:pt x="1199" y="1082"/>
                        </a:lnTo>
                        <a:lnTo>
                          <a:pt x="1197" y="1078"/>
                        </a:lnTo>
                        <a:lnTo>
                          <a:pt x="1197" y="1072"/>
                        </a:lnTo>
                        <a:lnTo>
                          <a:pt x="1195" y="1062"/>
                        </a:lnTo>
                        <a:lnTo>
                          <a:pt x="1193" y="1051"/>
                        </a:lnTo>
                        <a:lnTo>
                          <a:pt x="1189" y="1035"/>
                        </a:lnTo>
                        <a:lnTo>
                          <a:pt x="1187" y="1020"/>
                        </a:lnTo>
                        <a:lnTo>
                          <a:pt x="1185" y="1000"/>
                        </a:lnTo>
                        <a:lnTo>
                          <a:pt x="1183" y="983"/>
                        </a:lnTo>
                        <a:lnTo>
                          <a:pt x="1179" y="961"/>
                        </a:lnTo>
                        <a:lnTo>
                          <a:pt x="1177" y="944"/>
                        </a:lnTo>
                        <a:lnTo>
                          <a:pt x="1173" y="923"/>
                        </a:lnTo>
                        <a:lnTo>
                          <a:pt x="1171" y="905"/>
                        </a:lnTo>
                        <a:lnTo>
                          <a:pt x="1168" y="888"/>
                        </a:lnTo>
                        <a:lnTo>
                          <a:pt x="1166" y="872"/>
                        </a:lnTo>
                        <a:lnTo>
                          <a:pt x="1164" y="861"/>
                        </a:lnTo>
                        <a:lnTo>
                          <a:pt x="1164" y="853"/>
                        </a:lnTo>
                        <a:lnTo>
                          <a:pt x="1164" y="835"/>
                        </a:lnTo>
                        <a:lnTo>
                          <a:pt x="1169" y="820"/>
                        </a:lnTo>
                        <a:lnTo>
                          <a:pt x="1177" y="806"/>
                        </a:lnTo>
                        <a:lnTo>
                          <a:pt x="1189" y="801"/>
                        </a:lnTo>
                        <a:lnTo>
                          <a:pt x="1197" y="797"/>
                        </a:lnTo>
                        <a:lnTo>
                          <a:pt x="1204" y="804"/>
                        </a:lnTo>
                        <a:lnTo>
                          <a:pt x="1204" y="810"/>
                        </a:lnTo>
                        <a:lnTo>
                          <a:pt x="1206" y="824"/>
                        </a:lnTo>
                        <a:lnTo>
                          <a:pt x="1206" y="837"/>
                        </a:lnTo>
                        <a:lnTo>
                          <a:pt x="1204" y="857"/>
                        </a:lnTo>
                        <a:lnTo>
                          <a:pt x="1204" y="855"/>
                        </a:lnTo>
                        <a:lnTo>
                          <a:pt x="1208" y="849"/>
                        </a:lnTo>
                        <a:lnTo>
                          <a:pt x="1212" y="837"/>
                        </a:lnTo>
                        <a:lnTo>
                          <a:pt x="1218" y="824"/>
                        </a:lnTo>
                        <a:lnTo>
                          <a:pt x="1224" y="804"/>
                        </a:lnTo>
                        <a:lnTo>
                          <a:pt x="1233" y="785"/>
                        </a:lnTo>
                        <a:lnTo>
                          <a:pt x="1237" y="771"/>
                        </a:lnTo>
                        <a:lnTo>
                          <a:pt x="1241" y="760"/>
                        </a:lnTo>
                        <a:lnTo>
                          <a:pt x="1245" y="748"/>
                        </a:lnTo>
                        <a:lnTo>
                          <a:pt x="1251" y="737"/>
                        </a:lnTo>
                        <a:lnTo>
                          <a:pt x="1255" y="721"/>
                        </a:lnTo>
                        <a:lnTo>
                          <a:pt x="1259" y="706"/>
                        </a:lnTo>
                        <a:lnTo>
                          <a:pt x="1263" y="690"/>
                        </a:lnTo>
                        <a:lnTo>
                          <a:pt x="1266" y="676"/>
                        </a:lnTo>
                        <a:lnTo>
                          <a:pt x="1270" y="661"/>
                        </a:lnTo>
                        <a:lnTo>
                          <a:pt x="1274" y="645"/>
                        </a:lnTo>
                        <a:lnTo>
                          <a:pt x="1278" y="630"/>
                        </a:lnTo>
                        <a:lnTo>
                          <a:pt x="1282" y="616"/>
                        </a:lnTo>
                        <a:lnTo>
                          <a:pt x="1284" y="599"/>
                        </a:lnTo>
                        <a:lnTo>
                          <a:pt x="1286" y="583"/>
                        </a:lnTo>
                        <a:lnTo>
                          <a:pt x="1288" y="568"/>
                        </a:lnTo>
                        <a:lnTo>
                          <a:pt x="1292" y="552"/>
                        </a:lnTo>
                        <a:lnTo>
                          <a:pt x="1292" y="537"/>
                        </a:lnTo>
                        <a:lnTo>
                          <a:pt x="1294" y="523"/>
                        </a:lnTo>
                        <a:lnTo>
                          <a:pt x="1294" y="508"/>
                        </a:lnTo>
                        <a:lnTo>
                          <a:pt x="1296" y="494"/>
                        </a:lnTo>
                        <a:lnTo>
                          <a:pt x="1294" y="479"/>
                        </a:lnTo>
                        <a:lnTo>
                          <a:pt x="1294" y="465"/>
                        </a:lnTo>
                        <a:lnTo>
                          <a:pt x="1294" y="451"/>
                        </a:lnTo>
                        <a:lnTo>
                          <a:pt x="1294" y="440"/>
                        </a:lnTo>
                        <a:lnTo>
                          <a:pt x="1294" y="426"/>
                        </a:lnTo>
                        <a:lnTo>
                          <a:pt x="1294" y="413"/>
                        </a:lnTo>
                        <a:lnTo>
                          <a:pt x="1296" y="401"/>
                        </a:lnTo>
                        <a:lnTo>
                          <a:pt x="1297" y="389"/>
                        </a:lnTo>
                        <a:lnTo>
                          <a:pt x="1297" y="376"/>
                        </a:lnTo>
                        <a:lnTo>
                          <a:pt x="1299" y="364"/>
                        </a:lnTo>
                        <a:lnTo>
                          <a:pt x="1301" y="351"/>
                        </a:lnTo>
                        <a:lnTo>
                          <a:pt x="1303" y="339"/>
                        </a:lnTo>
                        <a:lnTo>
                          <a:pt x="1305" y="327"/>
                        </a:lnTo>
                        <a:lnTo>
                          <a:pt x="1309" y="316"/>
                        </a:lnTo>
                        <a:lnTo>
                          <a:pt x="1311" y="304"/>
                        </a:lnTo>
                        <a:lnTo>
                          <a:pt x="1315" y="294"/>
                        </a:lnTo>
                        <a:lnTo>
                          <a:pt x="1317" y="283"/>
                        </a:lnTo>
                        <a:lnTo>
                          <a:pt x="1321" y="271"/>
                        </a:lnTo>
                        <a:lnTo>
                          <a:pt x="1323" y="259"/>
                        </a:lnTo>
                        <a:lnTo>
                          <a:pt x="1327" y="250"/>
                        </a:lnTo>
                        <a:lnTo>
                          <a:pt x="1332" y="228"/>
                        </a:lnTo>
                        <a:lnTo>
                          <a:pt x="1340" y="209"/>
                        </a:lnTo>
                        <a:lnTo>
                          <a:pt x="1348" y="190"/>
                        </a:lnTo>
                        <a:lnTo>
                          <a:pt x="1356" y="172"/>
                        </a:lnTo>
                        <a:lnTo>
                          <a:pt x="1363" y="155"/>
                        </a:lnTo>
                        <a:lnTo>
                          <a:pt x="1373" y="139"/>
                        </a:lnTo>
                        <a:lnTo>
                          <a:pt x="1379" y="122"/>
                        </a:lnTo>
                        <a:lnTo>
                          <a:pt x="1387" y="106"/>
                        </a:lnTo>
                        <a:lnTo>
                          <a:pt x="1394" y="91"/>
                        </a:lnTo>
                        <a:lnTo>
                          <a:pt x="1402" y="79"/>
                        </a:lnTo>
                        <a:lnTo>
                          <a:pt x="1408" y="66"/>
                        </a:lnTo>
                        <a:lnTo>
                          <a:pt x="1416" y="54"/>
                        </a:lnTo>
                        <a:lnTo>
                          <a:pt x="1422" y="42"/>
                        </a:lnTo>
                        <a:lnTo>
                          <a:pt x="1429" y="35"/>
                        </a:lnTo>
                        <a:lnTo>
                          <a:pt x="1439" y="17"/>
                        </a:lnTo>
                        <a:lnTo>
                          <a:pt x="1449" y="7"/>
                        </a:lnTo>
                        <a:lnTo>
                          <a:pt x="1455" y="0"/>
                        </a:lnTo>
                        <a:lnTo>
                          <a:pt x="1458" y="0"/>
                        </a:lnTo>
                        <a:lnTo>
                          <a:pt x="1455" y="0"/>
                        </a:lnTo>
                        <a:lnTo>
                          <a:pt x="1445" y="0"/>
                        </a:lnTo>
                        <a:lnTo>
                          <a:pt x="1437" y="0"/>
                        </a:lnTo>
                        <a:lnTo>
                          <a:pt x="1429" y="0"/>
                        </a:lnTo>
                        <a:lnTo>
                          <a:pt x="1420" y="0"/>
                        </a:lnTo>
                        <a:lnTo>
                          <a:pt x="1410" y="0"/>
                        </a:lnTo>
                        <a:lnTo>
                          <a:pt x="1396" y="0"/>
                        </a:lnTo>
                        <a:lnTo>
                          <a:pt x="1385" y="0"/>
                        </a:lnTo>
                        <a:lnTo>
                          <a:pt x="1369" y="0"/>
                        </a:lnTo>
                        <a:lnTo>
                          <a:pt x="1356" y="2"/>
                        </a:lnTo>
                        <a:lnTo>
                          <a:pt x="1338" y="2"/>
                        </a:lnTo>
                        <a:lnTo>
                          <a:pt x="1321" y="3"/>
                        </a:lnTo>
                        <a:lnTo>
                          <a:pt x="1301" y="5"/>
                        </a:lnTo>
                        <a:lnTo>
                          <a:pt x="1284" y="7"/>
                        </a:lnTo>
                        <a:lnTo>
                          <a:pt x="1261" y="7"/>
                        </a:lnTo>
                        <a:lnTo>
                          <a:pt x="1239" y="7"/>
                        </a:lnTo>
                        <a:lnTo>
                          <a:pt x="1216" y="7"/>
                        </a:lnTo>
                        <a:lnTo>
                          <a:pt x="1195" y="9"/>
                        </a:lnTo>
                        <a:lnTo>
                          <a:pt x="1169" y="9"/>
                        </a:lnTo>
                        <a:lnTo>
                          <a:pt x="1146" y="11"/>
                        </a:lnTo>
                        <a:lnTo>
                          <a:pt x="1121" y="11"/>
                        </a:lnTo>
                        <a:lnTo>
                          <a:pt x="1096" y="13"/>
                        </a:lnTo>
                        <a:lnTo>
                          <a:pt x="1069" y="13"/>
                        </a:lnTo>
                        <a:lnTo>
                          <a:pt x="1041" y="13"/>
                        </a:lnTo>
                        <a:lnTo>
                          <a:pt x="1012" y="15"/>
                        </a:lnTo>
                        <a:lnTo>
                          <a:pt x="985" y="17"/>
                        </a:lnTo>
                        <a:lnTo>
                          <a:pt x="956" y="17"/>
                        </a:lnTo>
                        <a:lnTo>
                          <a:pt x="927" y="17"/>
                        </a:lnTo>
                        <a:lnTo>
                          <a:pt x="898" y="19"/>
                        </a:lnTo>
                        <a:lnTo>
                          <a:pt x="871" y="21"/>
                        </a:lnTo>
                        <a:lnTo>
                          <a:pt x="840" y="21"/>
                        </a:lnTo>
                        <a:lnTo>
                          <a:pt x="809" y="21"/>
                        </a:lnTo>
                        <a:lnTo>
                          <a:pt x="778" y="21"/>
                        </a:lnTo>
                        <a:lnTo>
                          <a:pt x="749" y="23"/>
                        </a:lnTo>
                        <a:lnTo>
                          <a:pt x="718" y="23"/>
                        </a:lnTo>
                        <a:lnTo>
                          <a:pt x="687" y="23"/>
                        </a:lnTo>
                        <a:lnTo>
                          <a:pt x="656" y="23"/>
                        </a:lnTo>
                        <a:lnTo>
                          <a:pt x="626" y="25"/>
                        </a:lnTo>
                        <a:lnTo>
                          <a:pt x="595" y="25"/>
                        </a:lnTo>
                        <a:lnTo>
                          <a:pt x="564" y="25"/>
                        </a:lnTo>
                        <a:lnTo>
                          <a:pt x="533" y="25"/>
                        </a:lnTo>
                        <a:lnTo>
                          <a:pt x="504" y="25"/>
                        </a:lnTo>
                        <a:lnTo>
                          <a:pt x="473" y="25"/>
                        </a:lnTo>
                        <a:lnTo>
                          <a:pt x="444" y="25"/>
                        </a:lnTo>
                        <a:lnTo>
                          <a:pt x="415" y="25"/>
                        </a:lnTo>
                        <a:lnTo>
                          <a:pt x="388" y="27"/>
                        </a:lnTo>
                        <a:lnTo>
                          <a:pt x="359" y="25"/>
                        </a:lnTo>
                        <a:lnTo>
                          <a:pt x="330" y="25"/>
                        </a:lnTo>
                        <a:lnTo>
                          <a:pt x="301" y="23"/>
                        </a:lnTo>
                        <a:lnTo>
                          <a:pt x="273" y="23"/>
                        </a:lnTo>
                        <a:lnTo>
                          <a:pt x="246" y="21"/>
                        </a:lnTo>
                        <a:lnTo>
                          <a:pt x="221" y="21"/>
                        </a:lnTo>
                        <a:lnTo>
                          <a:pt x="194" y="21"/>
                        </a:lnTo>
                        <a:lnTo>
                          <a:pt x="171" y="21"/>
                        </a:lnTo>
                        <a:lnTo>
                          <a:pt x="145" y="19"/>
                        </a:lnTo>
                        <a:lnTo>
                          <a:pt x="122" y="17"/>
                        </a:lnTo>
                        <a:lnTo>
                          <a:pt x="99" y="15"/>
                        </a:lnTo>
                        <a:lnTo>
                          <a:pt x="78" y="15"/>
                        </a:lnTo>
                        <a:lnTo>
                          <a:pt x="54" y="13"/>
                        </a:lnTo>
                        <a:lnTo>
                          <a:pt x="35" y="11"/>
                        </a:lnTo>
                        <a:lnTo>
                          <a:pt x="17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d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-1721520" y="-271080"/>
                    <a:ext cx="57636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3" h="287">
                        <a:moveTo>
                          <a:pt x="155" y="142"/>
                        </a:moveTo>
                        <a:lnTo>
                          <a:pt x="147" y="142"/>
                        </a:lnTo>
                        <a:lnTo>
                          <a:pt x="133" y="142"/>
                        </a:lnTo>
                        <a:lnTo>
                          <a:pt x="122" y="142"/>
                        </a:lnTo>
                        <a:lnTo>
                          <a:pt x="112" y="142"/>
                        </a:lnTo>
                        <a:lnTo>
                          <a:pt x="100" y="144"/>
                        </a:lnTo>
                        <a:lnTo>
                          <a:pt x="89" y="148"/>
                        </a:lnTo>
                        <a:lnTo>
                          <a:pt x="73" y="150"/>
                        </a:lnTo>
                        <a:lnTo>
                          <a:pt x="62" y="154"/>
                        </a:lnTo>
                        <a:lnTo>
                          <a:pt x="48" y="159"/>
                        </a:lnTo>
                        <a:lnTo>
                          <a:pt x="38" y="165"/>
                        </a:lnTo>
                        <a:lnTo>
                          <a:pt x="27" y="171"/>
                        </a:lnTo>
                        <a:lnTo>
                          <a:pt x="17" y="179"/>
                        </a:lnTo>
                        <a:lnTo>
                          <a:pt x="11" y="188"/>
                        </a:lnTo>
                        <a:lnTo>
                          <a:pt x="7" y="200"/>
                        </a:lnTo>
                        <a:lnTo>
                          <a:pt x="0" y="220"/>
                        </a:lnTo>
                        <a:lnTo>
                          <a:pt x="0" y="237"/>
                        </a:lnTo>
                        <a:lnTo>
                          <a:pt x="0" y="243"/>
                        </a:lnTo>
                        <a:lnTo>
                          <a:pt x="7" y="251"/>
                        </a:lnTo>
                        <a:lnTo>
                          <a:pt x="13" y="256"/>
                        </a:lnTo>
                        <a:lnTo>
                          <a:pt x="27" y="264"/>
                        </a:lnTo>
                        <a:lnTo>
                          <a:pt x="38" y="268"/>
                        </a:lnTo>
                        <a:lnTo>
                          <a:pt x="56" y="272"/>
                        </a:lnTo>
                        <a:lnTo>
                          <a:pt x="65" y="272"/>
                        </a:lnTo>
                        <a:lnTo>
                          <a:pt x="77" y="276"/>
                        </a:lnTo>
                        <a:lnTo>
                          <a:pt x="89" y="276"/>
                        </a:lnTo>
                        <a:lnTo>
                          <a:pt x="104" y="280"/>
                        </a:lnTo>
                        <a:lnTo>
                          <a:pt x="116" y="280"/>
                        </a:lnTo>
                        <a:lnTo>
                          <a:pt x="133" y="282"/>
                        </a:lnTo>
                        <a:lnTo>
                          <a:pt x="149" y="282"/>
                        </a:lnTo>
                        <a:lnTo>
                          <a:pt x="168" y="284"/>
                        </a:lnTo>
                        <a:lnTo>
                          <a:pt x="186" y="284"/>
                        </a:lnTo>
                        <a:lnTo>
                          <a:pt x="207" y="285"/>
                        </a:lnTo>
                        <a:lnTo>
                          <a:pt x="217" y="285"/>
                        </a:lnTo>
                        <a:lnTo>
                          <a:pt x="228" y="285"/>
                        </a:lnTo>
                        <a:lnTo>
                          <a:pt x="240" y="285"/>
                        </a:lnTo>
                        <a:lnTo>
                          <a:pt x="254" y="287"/>
                        </a:lnTo>
                        <a:lnTo>
                          <a:pt x="265" y="285"/>
                        </a:lnTo>
                        <a:lnTo>
                          <a:pt x="279" y="285"/>
                        </a:lnTo>
                        <a:lnTo>
                          <a:pt x="292" y="285"/>
                        </a:lnTo>
                        <a:lnTo>
                          <a:pt x="310" y="285"/>
                        </a:lnTo>
                        <a:lnTo>
                          <a:pt x="325" y="285"/>
                        </a:lnTo>
                        <a:lnTo>
                          <a:pt x="345" y="285"/>
                        </a:lnTo>
                        <a:lnTo>
                          <a:pt x="362" y="285"/>
                        </a:lnTo>
                        <a:lnTo>
                          <a:pt x="385" y="285"/>
                        </a:lnTo>
                        <a:lnTo>
                          <a:pt x="405" y="285"/>
                        </a:lnTo>
                        <a:lnTo>
                          <a:pt x="428" y="285"/>
                        </a:lnTo>
                        <a:lnTo>
                          <a:pt x="451" y="285"/>
                        </a:lnTo>
                        <a:lnTo>
                          <a:pt x="477" y="285"/>
                        </a:lnTo>
                        <a:lnTo>
                          <a:pt x="500" y="285"/>
                        </a:lnTo>
                        <a:lnTo>
                          <a:pt x="527" y="285"/>
                        </a:lnTo>
                        <a:lnTo>
                          <a:pt x="554" y="285"/>
                        </a:lnTo>
                        <a:lnTo>
                          <a:pt x="583" y="285"/>
                        </a:lnTo>
                        <a:lnTo>
                          <a:pt x="610" y="284"/>
                        </a:lnTo>
                        <a:lnTo>
                          <a:pt x="639" y="284"/>
                        </a:lnTo>
                        <a:lnTo>
                          <a:pt x="669" y="282"/>
                        </a:lnTo>
                        <a:lnTo>
                          <a:pt x="698" y="282"/>
                        </a:lnTo>
                        <a:lnTo>
                          <a:pt x="727" y="280"/>
                        </a:lnTo>
                        <a:lnTo>
                          <a:pt x="760" y="280"/>
                        </a:lnTo>
                        <a:lnTo>
                          <a:pt x="791" y="280"/>
                        </a:lnTo>
                        <a:lnTo>
                          <a:pt x="824" y="280"/>
                        </a:lnTo>
                        <a:lnTo>
                          <a:pt x="855" y="278"/>
                        </a:lnTo>
                        <a:lnTo>
                          <a:pt x="888" y="278"/>
                        </a:lnTo>
                        <a:lnTo>
                          <a:pt x="921" y="276"/>
                        </a:lnTo>
                        <a:lnTo>
                          <a:pt x="956" y="276"/>
                        </a:lnTo>
                        <a:lnTo>
                          <a:pt x="989" y="274"/>
                        </a:lnTo>
                        <a:lnTo>
                          <a:pt x="1023" y="274"/>
                        </a:lnTo>
                        <a:lnTo>
                          <a:pt x="1058" y="274"/>
                        </a:lnTo>
                        <a:lnTo>
                          <a:pt x="1093" y="274"/>
                        </a:lnTo>
                        <a:lnTo>
                          <a:pt x="1126" y="270"/>
                        </a:lnTo>
                        <a:lnTo>
                          <a:pt x="1161" y="270"/>
                        </a:lnTo>
                        <a:lnTo>
                          <a:pt x="1196" y="266"/>
                        </a:lnTo>
                        <a:lnTo>
                          <a:pt x="1231" y="266"/>
                        </a:lnTo>
                        <a:lnTo>
                          <a:pt x="1264" y="262"/>
                        </a:lnTo>
                        <a:lnTo>
                          <a:pt x="1299" y="262"/>
                        </a:lnTo>
                        <a:lnTo>
                          <a:pt x="1334" y="258"/>
                        </a:lnTo>
                        <a:lnTo>
                          <a:pt x="1369" y="258"/>
                        </a:lnTo>
                        <a:lnTo>
                          <a:pt x="1402" y="254"/>
                        </a:lnTo>
                        <a:lnTo>
                          <a:pt x="1437" y="252"/>
                        </a:lnTo>
                        <a:lnTo>
                          <a:pt x="1470" y="249"/>
                        </a:lnTo>
                        <a:lnTo>
                          <a:pt x="1504" y="247"/>
                        </a:lnTo>
                        <a:lnTo>
                          <a:pt x="1537" y="243"/>
                        </a:lnTo>
                        <a:lnTo>
                          <a:pt x="1570" y="241"/>
                        </a:lnTo>
                        <a:lnTo>
                          <a:pt x="1603" y="237"/>
                        </a:lnTo>
                        <a:lnTo>
                          <a:pt x="1636" y="235"/>
                        </a:lnTo>
                        <a:lnTo>
                          <a:pt x="1667" y="229"/>
                        </a:lnTo>
                        <a:lnTo>
                          <a:pt x="1698" y="227"/>
                        </a:lnTo>
                        <a:lnTo>
                          <a:pt x="1727" y="221"/>
                        </a:lnTo>
                        <a:lnTo>
                          <a:pt x="1759" y="220"/>
                        </a:lnTo>
                        <a:lnTo>
                          <a:pt x="1788" y="214"/>
                        </a:lnTo>
                        <a:lnTo>
                          <a:pt x="1817" y="212"/>
                        </a:lnTo>
                        <a:lnTo>
                          <a:pt x="1844" y="206"/>
                        </a:lnTo>
                        <a:lnTo>
                          <a:pt x="1873" y="204"/>
                        </a:lnTo>
                        <a:lnTo>
                          <a:pt x="1898" y="198"/>
                        </a:lnTo>
                        <a:lnTo>
                          <a:pt x="1923" y="194"/>
                        </a:lnTo>
                        <a:lnTo>
                          <a:pt x="1949" y="188"/>
                        </a:lnTo>
                        <a:lnTo>
                          <a:pt x="1974" y="185"/>
                        </a:lnTo>
                        <a:lnTo>
                          <a:pt x="1995" y="179"/>
                        </a:lnTo>
                        <a:lnTo>
                          <a:pt x="2018" y="173"/>
                        </a:lnTo>
                        <a:lnTo>
                          <a:pt x="2040" y="167"/>
                        </a:lnTo>
                        <a:lnTo>
                          <a:pt x="2063" y="163"/>
                        </a:lnTo>
                        <a:lnTo>
                          <a:pt x="2016" y="0"/>
                        </a:lnTo>
                        <a:lnTo>
                          <a:pt x="2011" y="0"/>
                        </a:lnTo>
                        <a:lnTo>
                          <a:pt x="2001" y="0"/>
                        </a:lnTo>
                        <a:lnTo>
                          <a:pt x="1991" y="0"/>
                        </a:lnTo>
                        <a:lnTo>
                          <a:pt x="1983" y="0"/>
                        </a:lnTo>
                        <a:lnTo>
                          <a:pt x="1972" y="2"/>
                        </a:lnTo>
                        <a:lnTo>
                          <a:pt x="1960" y="4"/>
                        </a:lnTo>
                        <a:lnTo>
                          <a:pt x="1945" y="4"/>
                        </a:lnTo>
                        <a:lnTo>
                          <a:pt x="1929" y="4"/>
                        </a:lnTo>
                        <a:lnTo>
                          <a:pt x="1912" y="6"/>
                        </a:lnTo>
                        <a:lnTo>
                          <a:pt x="1894" y="8"/>
                        </a:lnTo>
                        <a:lnTo>
                          <a:pt x="1873" y="10"/>
                        </a:lnTo>
                        <a:lnTo>
                          <a:pt x="1854" y="12"/>
                        </a:lnTo>
                        <a:lnTo>
                          <a:pt x="1832" y="14"/>
                        </a:lnTo>
                        <a:lnTo>
                          <a:pt x="1811" y="18"/>
                        </a:lnTo>
                        <a:lnTo>
                          <a:pt x="1784" y="18"/>
                        </a:lnTo>
                        <a:lnTo>
                          <a:pt x="1759" y="22"/>
                        </a:lnTo>
                        <a:lnTo>
                          <a:pt x="1731" y="22"/>
                        </a:lnTo>
                        <a:lnTo>
                          <a:pt x="1706" y="26"/>
                        </a:lnTo>
                        <a:lnTo>
                          <a:pt x="1677" y="28"/>
                        </a:lnTo>
                        <a:lnTo>
                          <a:pt x="1648" y="31"/>
                        </a:lnTo>
                        <a:lnTo>
                          <a:pt x="1617" y="33"/>
                        </a:lnTo>
                        <a:lnTo>
                          <a:pt x="1588" y="37"/>
                        </a:lnTo>
                        <a:lnTo>
                          <a:pt x="1555" y="39"/>
                        </a:lnTo>
                        <a:lnTo>
                          <a:pt x="1522" y="43"/>
                        </a:lnTo>
                        <a:lnTo>
                          <a:pt x="1487" y="45"/>
                        </a:lnTo>
                        <a:lnTo>
                          <a:pt x="1454" y="49"/>
                        </a:lnTo>
                        <a:lnTo>
                          <a:pt x="1419" y="51"/>
                        </a:lnTo>
                        <a:lnTo>
                          <a:pt x="1384" y="55"/>
                        </a:lnTo>
                        <a:lnTo>
                          <a:pt x="1349" y="57"/>
                        </a:lnTo>
                        <a:lnTo>
                          <a:pt x="1314" y="62"/>
                        </a:lnTo>
                        <a:lnTo>
                          <a:pt x="1276" y="64"/>
                        </a:lnTo>
                        <a:lnTo>
                          <a:pt x="1239" y="68"/>
                        </a:lnTo>
                        <a:lnTo>
                          <a:pt x="1202" y="70"/>
                        </a:lnTo>
                        <a:lnTo>
                          <a:pt x="1165" y="74"/>
                        </a:lnTo>
                        <a:lnTo>
                          <a:pt x="1126" y="76"/>
                        </a:lnTo>
                        <a:lnTo>
                          <a:pt x="1087" y="80"/>
                        </a:lnTo>
                        <a:lnTo>
                          <a:pt x="1049" y="82"/>
                        </a:lnTo>
                        <a:lnTo>
                          <a:pt x="1012" y="86"/>
                        </a:lnTo>
                        <a:lnTo>
                          <a:pt x="971" y="88"/>
                        </a:lnTo>
                        <a:lnTo>
                          <a:pt x="932" y="92"/>
                        </a:lnTo>
                        <a:lnTo>
                          <a:pt x="894" y="93"/>
                        </a:lnTo>
                        <a:lnTo>
                          <a:pt x="857" y="97"/>
                        </a:lnTo>
                        <a:lnTo>
                          <a:pt x="816" y="99"/>
                        </a:lnTo>
                        <a:lnTo>
                          <a:pt x="779" y="103"/>
                        </a:lnTo>
                        <a:lnTo>
                          <a:pt x="740" y="105"/>
                        </a:lnTo>
                        <a:lnTo>
                          <a:pt x="703" y="109"/>
                        </a:lnTo>
                        <a:lnTo>
                          <a:pt x="663" y="109"/>
                        </a:lnTo>
                        <a:lnTo>
                          <a:pt x="626" y="113"/>
                        </a:lnTo>
                        <a:lnTo>
                          <a:pt x="587" y="115"/>
                        </a:lnTo>
                        <a:lnTo>
                          <a:pt x="552" y="119"/>
                        </a:lnTo>
                        <a:lnTo>
                          <a:pt x="513" y="119"/>
                        </a:lnTo>
                        <a:lnTo>
                          <a:pt x="479" y="123"/>
                        </a:lnTo>
                        <a:lnTo>
                          <a:pt x="444" y="124"/>
                        </a:lnTo>
                        <a:lnTo>
                          <a:pt x="409" y="128"/>
                        </a:lnTo>
                        <a:lnTo>
                          <a:pt x="374" y="128"/>
                        </a:lnTo>
                        <a:lnTo>
                          <a:pt x="339" y="130"/>
                        </a:lnTo>
                        <a:lnTo>
                          <a:pt x="306" y="132"/>
                        </a:lnTo>
                        <a:lnTo>
                          <a:pt x="275" y="134"/>
                        </a:lnTo>
                        <a:lnTo>
                          <a:pt x="242" y="136"/>
                        </a:lnTo>
                        <a:lnTo>
                          <a:pt x="211" y="138"/>
                        </a:lnTo>
                        <a:lnTo>
                          <a:pt x="182" y="140"/>
                        </a:lnTo>
                        <a:lnTo>
                          <a:pt x="155" y="142"/>
                        </a:lnTo>
                        <a:close/>
                      </a:path>
                    </a:pathLst>
                  </a:custGeom>
                  <a:solidFill>
                    <a:srgbClr val="d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-1686960" y="-750960"/>
                    <a:ext cx="504360" cy="47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3" h="1714">
                        <a:moveTo>
                          <a:pt x="1803" y="157"/>
                        </a:moveTo>
                        <a:lnTo>
                          <a:pt x="1801" y="153"/>
                        </a:lnTo>
                        <a:lnTo>
                          <a:pt x="1799" y="148"/>
                        </a:lnTo>
                        <a:lnTo>
                          <a:pt x="1794" y="138"/>
                        </a:lnTo>
                        <a:lnTo>
                          <a:pt x="1790" y="128"/>
                        </a:lnTo>
                        <a:lnTo>
                          <a:pt x="1782" y="115"/>
                        </a:lnTo>
                        <a:lnTo>
                          <a:pt x="1772" y="101"/>
                        </a:lnTo>
                        <a:lnTo>
                          <a:pt x="1761" y="85"/>
                        </a:lnTo>
                        <a:lnTo>
                          <a:pt x="1749" y="72"/>
                        </a:lnTo>
                        <a:lnTo>
                          <a:pt x="1730" y="54"/>
                        </a:lnTo>
                        <a:lnTo>
                          <a:pt x="1712" y="41"/>
                        </a:lnTo>
                        <a:lnTo>
                          <a:pt x="1699" y="33"/>
                        </a:lnTo>
                        <a:lnTo>
                          <a:pt x="1687" y="27"/>
                        </a:lnTo>
                        <a:lnTo>
                          <a:pt x="1675" y="21"/>
                        </a:lnTo>
                        <a:lnTo>
                          <a:pt x="1664" y="18"/>
                        </a:lnTo>
                        <a:lnTo>
                          <a:pt x="1648" y="12"/>
                        </a:lnTo>
                        <a:lnTo>
                          <a:pt x="1633" y="8"/>
                        </a:lnTo>
                        <a:lnTo>
                          <a:pt x="1617" y="4"/>
                        </a:lnTo>
                        <a:lnTo>
                          <a:pt x="1602" y="2"/>
                        </a:lnTo>
                        <a:lnTo>
                          <a:pt x="1582" y="0"/>
                        </a:lnTo>
                        <a:lnTo>
                          <a:pt x="1565" y="0"/>
                        </a:lnTo>
                        <a:lnTo>
                          <a:pt x="1545" y="0"/>
                        </a:lnTo>
                        <a:lnTo>
                          <a:pt x="1528" y="4"/>
                        </a:lnTo>
                        <a:lnTo>
                          <a:pt x="1514" y="4"/>
                        </a:lnTo>
                        <a:lnTo>
                          <a:pt x="1503" y="4"/>
                        </a:lnTo>
                        <a:lnTo>
                          <a:pt x="1489" y="6"/>
                        </a:lnTo>
                        <a:lnTo>
                          <a:pt x="1477" y="8"/>
                        </a:lnTo>
                        <a:lnTo>
                          <a:pt x="1462" y="8"/>
                        </a:lnTo>
                        <a:lnTo>
                          <a:pt x="1448" y="12"/>
                        </a:lnTo>
                        <a:lnTo>
                          <a:pt x="1433" y="14"/>
                        </a:lnTo>
                        <a:lnTo>
                          <a:pt x="1417" y="18"/>
                        </a:lnTo>
                        <a:lnTo>
                          <a:pt x="1398" y="18"/>
                        </a:lnTo>
                        <a:lnTo>
                          <a:pt x="1380" y="21"/>
                        </a:lnTo>
                        <a:lnTo>
                          <a:pt x="1361" y="23"/>
                        </a:lnTo>
                        <a:lnTo>
                          <a:pt x="1344" y="27"/>
                        </a:lnTo>
                        <a:lnTo>
                          <a:pt x="1322" y="31"/>
                        </a:lnTo>
                        <a:lnTo>
                          <a:pt x="1303" y="35"/>
                        </a:lnTo>
                        <a:lnTo>
                          <a:pt x="1283" y="39"/>
                        </a:lnTo>
                        <a:lnTo>
                          <a:pt x="1264" y="45"/>
                        </a:lnTo>
                        <a:lnTo>
                          <a:pt x="1241" y="49"/>
                        </a:lnTo>
                        <a:lnTo>
                          <a:pt x="1218" y="53"/>
                        </a:lnTo>
                        <a:lnTo>
                          <a:pt x="1194" y="56"/>
                        </a:lnTo>
                        <a:lnTo>
                          <a:pt x="1173" y="62"/>
                        </a:lnTo>
                        <a:lnTo>
                          <a:pt x="1148" y="68"/>
                        </a:lnTo>
                        <a:lnTo>
                          <a:pt x="1124" y="74"/>
                        </a:lnTo>
                        <a:lnTo>
                          <a:pt x="1101" y="80"/>
                        </a:lnTo>
                        <a:lnTo>
                          <a:pt x="1078" y="87"/>
                        </a:lnTo>
                        <a:lnTo>
                          <a:pt x="1051" y="93"/>
                        </a:lnTo>
                        <a:lnTo>
                          <a:pt x="1027" y="99"/>
                        </a:lnTo>
                        <a:lnTo>
                          <a:pt x="1000" y="107"/>
                        </a:lnTo>
                        <a:lnTo>
                          <a:pt x="977" y="115"/>
                        </a:lnTo>
                        <a:lnTo>
                          <a:pt x="950" y="120"/>
                        </a:lnTo>
                        <a:lnTo>
                          <a:pt x="925" y="130"/>
                        </a:lnTo>
                        <a:lnTo>
                          <a:pt x="899" y="138"/>
                        </a:lnTo>
                        <a:lnTo>
                          <a:pt x="874" y="149"/>
                        </a:lnTo>
                        <a:lnTo>
                          <a:pt x="845" y="157"/>
                        </a:lnTo>
                        <a:lnTo>
                          <a:pt x="820" y="167"/>
                        </a:lnTo>
                        <a:lnTo>
                          <a:pt x="791" y="175"/>
                        </a:lnTo>
                        <a:lnTo>
                          <a:pt x="766" y="186"/>
                        </a:lnTo>
                        <a:lnTo>
                          <a:pt x="739" y="196"/>
                        </a:lnTo>
                        <a:lnTo>
                          <a:pt x="713" y="208"/>
                        </a:lnTo>
                        <a:lnTo>
                          <a:pt x="686" y="219"/>
                        </a:lnTo>
                        <a:lnTo>
                          <a:pt x="661" y="231"/>
                        </a:lnTo>
                        <a:lnTo>
                          <a:pt x="632" y="243"/>
                        </a:lnTo>
                        <a:lnTo>
                          <a:pt x="607" y="254"/>
                        </a:lnTo>
                        <a:lnTo>
                          <a:pt x="579" y="266"/>
                        </a:lnTo>
                        <a:lnTo>
                          <a:pt x="554" y="279"/>
                        </a:lnTo>
                        <a:lnTo>
                          <a:pt x="529" y="291"/>
                        </a:lnTo>
                        <a:lnTo>
                          <a:pt x="504" y="307"/>
                        </a:lnTo>
                        <a:lnTo>
                          <a:pt x="479" y="320"/>
                        </a:lnTo>
                        <a:lnTo>
                          <a:pt x="455" y="338"/>
                        </a:lnTo>
                        <a:lnTo>
                          <a:pt x="428" y="351"/>
                        </a:lnTo>
                        <a:lnTo>
                          <a:pt x="403" y="367"/>
                        </a:lnTo>
                        <a:lnTo>
                          <a:pt x="380" y="382"/>
                        </a:lnTo>
                        <a:lnTo>
                          <a:pt x="356" y="400"/>
                        </a:lnTo>
                        <a:lnTo>
                          <a:pt x="331" y="415"/>
                        </a:lnTo>
                        <a:lnTo>
                          <a:pt x="308" y="433"/>
                        </a:lnTo>
                        <a:lnTo>
                          <a:pt x="287" y="450"/>
                        </a:lnTo>
                        <a:lnTo>
                          <a:pt x="265" y="469"/>
                        </a:lnTo>
                        <a:lnTo>
                          <a:pt x="242" y="487"/>
                        </a:lnTo>
                        <a:lnTo>
                          <a:pt x="221" y="504"/>
                        </a:lnTo>
                        <a:lnTo>
                          <a:pt x="199" y="524"/>
                        </a:lnTo>
                        <a:lnTo>
                          <a:pt x="182" y="545"/>
                        </a:lnTo>
                        <a:lnTo>
                          <a:pt x="163" y="564"/>
                        </a:lnTo>
                        <a:lnTo>
                          <a:pt x="143" y="586"/>
                        </a:lnTo>
                        <a:lnTo>
                          <a:pt x="126" y="609"/>
                        </a:lnTo>
                        <a:lnTo>
                          <a:pt x="110" y="632"/>
                        </a:lnTo>
                        <a:lnTo>
                          <a:pt x="106" y="632"/>
                        </a:lnTo>
                        <a:lnTo>
                          <a:pt x="102" y="636"/>
                        </a:lnTo>
                        <a:lnTo>
                          <a:pt x="95" y="642"/>
                        </a:lnTo>
                        <a:lnTo>
                          <a:pt x="89" y="654"/>
                        </a:lnTo>
                        <a:lnTo>
                          <a:pt x="77" y="665"/>
                        </a:lnTo>
                        <a:lnTo>
                          <a:pt x="67" y="683"/>
                        </a:lnTo>
                        <a:lnTo>
                          <a:pt x="62" y="692"/>
                        </a:lnTo>
                        <a:lnTo>
                          <a:pt x="58" y="704"/>
                        </a:lnTo>
                        <a:lnTo>
                          <a:pt x="52" y="716"/>
                        </a:lnTo>
                        <a:lnTo>
                          <a:pt x="48" y="729"/>
                        </a:lnTo>
                        <a:lnTo>
                          <a:pt x="42" y="741"/>
                        </a:lnTo>
                        <a:lnTo>
                          <a:pt x="36" y="755"/>
                        </a:lnTo>
                        <a:lnTo>
                          <a:pt x="31" y="770"/>
                        </a:lnTo>
                        <a:lnTo>
                          <a:pt x="25" y="787"/>
                        </a:lnTo>
                        <a:lnTo>
                          <a:pt x="19" y="803"/>
                        </a:lnTo>
                        <a:lnTo>
                          <a:pt x="15" y="822"/>
                        </a:lnTo>
                        <a:lnTo>
                          <a:pt x="13" y="832"/>
                        </a:lnTo>
                        <a:lnTo>
                          <a:pt x="11" y="842"/>
                        </a:lnTo>
                        <a:lnTo>
                          <a:pt x="9" y="853"/>
                        </a:lnTo>
                        <a:lnTo>
                          <a:pt x="9" y="865"/>
                        </a:lnTo>
                        <a:lnTo>
                          <a:pt x="7" y="875"/>
                        </a:lnTo>
                        <a:lnTo>
                          <a:pt x="5" y="886"/>
                        </a:lnTo>
                        <a:lnTo>
                          <a:pt x="3" y="898"/>
                        </a:lnTo>
                        <a:lnTo>
                          <a:pt x="3" y="910"/>
                        </a:lnTo>
                        <a:lnTo>
                          <a:pt x="2" y="921"/>
                        </a:lnTo>
                        <a:lnTo>
                          <a:pt x="0" y="933"/>
                        </a:lnTo>
                        <a:lnTo>
                          <a:pt x="0" y="946"/>
                        </a:lnTo>
                        <a:lnTo>
                          <a:pt x="0" y="960"/>
                        </a:lnTo>
                        <a:lnTo>
                          <a:pt x="0" y="972"/>
                        </a:lnTo>
                        <a:lnTo>
                          <a:pt x="0" y="985"/>
                        </a:lnTo>
                        <a:lnTo>
                          <a:pt x="0" y="999"/>
                        </a:lnTo>
                        <a:lnTo>
                          <a:pt x="0" y="1014"/>
                        </a:lnTo>
                        <a:lnTo>
                          <a:pt x="0" y="1028"/>
                        </a:lnTo>
                        <a:lnTo>
                          <a:pt x="0" y="1043"/>
                        </a:lnTo>
                        <a:lnTo>
                          <a:pt x="2" y="1059"/>
                        </a:lnTo>
                        <a:lnTo>
                          <a:pt x="3" y="1076"/>
                        </a:lnTo>
                        <a:lnTo>
                          <a:pt x="3" y="1090"/>
                        </a:lnTo>
                        <a:lnTo>
                          <a:pt x="3" y="1106"/>
                        </a:lnTo>
                        <a:lnTo>
                          <a:pt x="3" y="1121"/>
                        </a:lnTo>
                        <a:lnTo>
                          <a:pt x="5" y="1137"/>
                        </a:lnTo>
                        <a:lnTo>
                          <a:pt x="5" y="1150"/>
                        </a:lnTo>
                        <a:lnTo>
                          <a:pt x="7" y="1168"/>
                        </a:lnTo>
                        <a:lnTo>
                          <a:pt x="9" y="1181"/>
                        </a:lnTo>
                        <a:lnTo>
                          <a:pt x="11" y="1199"/>
                        </a:lnTo>
                        <a:lnTo>
                          <a:pt x="11" y="1212"/>
                        </a:lnTo>
                        <a:lnTo>
                          <a:pt x="11" y="1228"/>
                        </a:lnTo>
                        <a:lnTo>
                          <a:pt x="13" y="1241"/>
                        </a:lnTo>
                        <a:lnTo>
                          <a:pt x="15" y="1257"/>
                        </a:lnTo>
                        <a:lnTo>
                          <a:pt x="15" y="1270"/>
                        </a:lnTo>
                        <a:lnTo>
                          <a:pt x="17" y="1286"/>
                        </a:lnTo>
                        <a:lnTo>
                          <a:pt x="19" y="1299"/>
                        </a:lnTo>
                        <a:lnTo>
                          <a:pt x="21" y="1315"/>
                        </a:lnTo>
                        <a:lnTo>
                          <a:pt x="21" y="1327"/>
                        </a:lnTo>
                        <a:lnTo>
                          <a:pt x="23" y="1342"/>
                        </a:lnTo>
                        <a:lnTo>
                          <a:pt x="25" y="1354"/>
                        </a:lnTo>
                        <a:lnTo>
                          <a:pt x="27" y="1369"/>
                        </a:lnTo>
                        <a:lnTo>
                          <a:pt x="27" y="1381"/>
                        </a:lnTo>
                        <a:lnTo>
                          <a:pt x="29" y="1396"/>
                        </a:lnTo>
                        <a:lnTo>
                          <a:pt x="31" y="1408"/>
                        </a:lnTo>
                        <a:lnTo>
                          <a:pt x="33" y="1424"/>
                        </a:lnTo>
                        <a:lnTo>
                          <a:pt x="33" y="1435"/>
                        </a:lnTo>
                        <a:lnTo>
                          <a:pt x="35" y="1447"/>
                        </a:lnTo>
                        <a:lnTo>
                          <a:pt x="36" y="1458"/>
                        </a:lnTo>
                        <a:lnTo>
                          <a:pt x="38" y="1472"/>
                        </a:lnTo>
                        <a:lnTo>
                          <a:pt x="38" y="1484"/>
                        </a:lnTo>
                        <a:lnTo>
                          <a:pt x="40" y="1495"/>
                        </a:lnTo>
                        <a:lnTo>
                          <a:pt x="42" y="1507"/>
                        </a:lnTo>
                        <a:lnTo>
                          <a:pt x="44" y="1521"/>
                        </a:lnTo>
                        <a:lnTo>
                          <a:pt x="46" y="1540"/>
                        </a:lnTo>
                        <a:lnTo>
                          <a:pt x="48" y="1561"/>
                        </a:lnTo>
                        <a:lnTo>
                          <a:pt x="50" y="1579"/>
                        </a:lnTo>
                        <a:lnTo>
                          <a:pt x="54" y="1598"/>
                        </a:lnTo>
                        <a:lnTo>
                          <a:pt x="56" y="1614"/>
                        </a:lnTo>
                        <a:lnTo>
                          <a:pt x="58" y="1631"/>
                        </a:lnTo>
                        <a:lnTo>
                          <a:pt x="60" y="1645"/>
                        </a:lnTo>
                        <a:lnTo>
                          <a:pt x="64" y="1660"/>
                        </a:lnTo>
                        <a:lnTo>
                          <a:pt x="64" y="1670"/>
                        </a:lnTo>
                        <a:lnTo>
                          <a:pt x="66" y="1681"/>
                        </a:lnTo>
                        <a:lnTo>
                          <a:pt x="66" y="1691"/>
                        </a:lnTo>
                        <a:lnTo>
                          <a:pt x="67" y="1699"/>
                        </a:lnTo>
                        <a:lnTo>
                          <a:pt x="69" y="1709"/>
                        </a:lnTo>
                        <a:lnTo>
                          <a:pt x="71" y="1714"/>
                        </a:lnTo>
                        <a:lnTo>
                          <a:pt x="73" y="1714"/>
                        </a:lnTo>
                        <a:lnTo>
                          <a:pt x="85" y="1714"/>
                        </a:lnTo>
                        <a:lnTo>
                          <a:pt x="91" y="1714"/>
                        </a:lnTo>
                        <a:lnTo>
                          <a:pt x="100" y="1714"/>
                        </a:lnTo>
                        <a:lnTo>
                          <a:pt x="110" y="1714"/>
                        </a:lnTo>
                        <a:lnTo>
                          <a:pt x="124" y="1714"/>
                        </a:lnTo>
                        <a:lnTo>
                          <a:pt x="135" y="1714"/>
                        </a:lnTo>
                        <a:lnTo>
                          <a:pt x="151" y="1714"/>
                        </a:lnTo>
                        <a:lnTo>
                          <a:pt x="168" y="1714"/>
                        </a:lnTo>
                        <a:lnTo>
                          <a:pt x="186" y="1714"/>
                        </a:lnTo>
                        <a:lnTo>
                          <a:pt x="203" y="1714"/>
                        </a:lnTo>
                        <a:lnTo>
                          <a:pt x="225" y="1714"/>
                        </a:lnTo>
                        <a:lnTo>
                          <a:pt x="248" y="1714"/>
                        </a:lnTo>
                        <a:lnTo>
                          <a:pt x="271" y="1714"/>
                        </a:lnTo>
                        <a:lnTo>
                          <a:pt x="294" y="1712"/>
                        </a:lnTo>
                        <a:lnTo>
                          <a:pt x="318" y="1712"/>
                        </a:lnTo>
                        <a:lnTo>
                          <a:pt x="343" y="1712"/>
                        </a:lnTo>
                        <a:lnTo>
                          <a:pt x="372" y="1712"/>
                        </a:lnTo>
                        <a:lnTo>
                          <a:pt x="397" y="1711"/>
                        </a:lnTo>
                        <a:lnTo>
                          <a:pt x="426" y="1711"/>
                        </a:lnTo>
                        <a:lnTo>
                          <a:pt x="455" y="1711"/>
                        </a:lnTo>
                        <a:lnTo>
                          <a:pt x="486" y="1711"/>
                        </a:lnTo>
                        <a:lnTo>
                          <a:pt x="515" y="1709"/>
                        </a:lnTo>
                        <a:lnTo>
                          <a:pt x="548" y="1709"/>
                        </a:lnTo>
                        <a:lnTo>
                          <a:pt x="579" y="1709"/>
                        </a:lnTo>
                        <a:lnTo>
                          <a:pt x="612" y="1709"/>
                        </a:lnTo>
                        <a:lnTo>
                          <a:pt x="645" y="1709"/>
                        </a:lnTo>
                        <a:lnTo>
                          <a:pt x="680" y="1709"/>
                        </a:lnTo>
                        <a:lnTo>
                          <a:pt x="715" y="1709"/>
                        </a:lnTo>
                        <a:lnTo>
                          <a:pt x="750" y="1709"/>
                        </a:lnTo>
                        <a:lnTo>
                          <a:pt x="783" y="1707"/>
                        </a:lnTo>
                        <a:lnTo>
                          <a:pt x="818" y="1705"/>
                        </a:lnTo>
                        <a:lnTo>
                          <a:pt x="853" y="1703"/>
                        </a:lnTo>
                        <a:lnTo>
                          <a:pt x="890" y="1703"/>
                        </a:lnTo>
                        <a:lnTo>
                          <a:pt x="925" y="1701"/>
                        </a:lnTo>
                        <a:lnTo>
                          <a:pt x="960" y="1701"/>
                        </a:lnTo>
                        <a:lnTo>
                          <a:pt x="996" y="1699"/>
                        </a:lnTo>
                        <a:lnTo>
                          <a:pt x="1033" y="1699"/>
                        </a:lnTo>
                        <a:lnTo>
                          <a:pt x="1068" y="1697"/>
                        </a:lnTo>
                        <a:lnTo>
                          <a:pt x="1103" y="1695"/>
                        </a:lnTo>
                        <a:lnTo>
                          <a:pt x="1138" y="1693"/>
                        </a:lnTo>
                        <a:lnTo>
                          <a:pt x="1175" y="1693"/>
                        </a:lnTo>
                        <a:lnTo>
                          <a:pt x="1210" y="1691"/>
                        </a:lnTo>
                        <a:lnTo>
                          <a:pt x="1245" y="1689"/>
                        </a:lnTo>
                        <a:lnTo>
                          <a:pt x="1280" y="1687"/>
                        </a:lnTo>
                        <a:lnTo>
                          <a:pt x="1315" y="1687"/>
                        </a:lnTo>
                        <a:lnTo>
                          <a:pt x="1346" y="1683"/>
                        </a:lnTo>
                        <a:lnTo>
                          <a:pt x="1379" y="1681"/>
                        </a:lnTo>
                        <a:lnTo>
                          <a:pt x="1411" y="1680"/>
                        </a:lnTo>
                        <a:lnTo>
                          <a:pt x="1444" y="1678"/>
                        </a:lnTo>
                        <a:lnTo>
                          <a:pt x="1475" y="1674"/>
                        </a:lnTo>
                        <a:lnTo>
                          <a:pt x="1507" y="1672"/>
                        </a:lnTo>
                        <a:lnTo>
                          <a:pt x="1538" y="1670"/>
                        </a:lnTo>
                        <a:lnTo>
                          <a:pt x="1569" y="1668"/>
                        </a:lnTo>
                        <a:lnTo>
                          <a:pt x="1596" y="1664"/>
                        </a:lnTo>
                        <a:lnTo>
                          <a:pt x="1625" y="1662"/>
                        </a:lnTo>
                        <a:lnTo>
                          <a:pt x="1650" y="1658"/>
                        </a:lnTo>
                        <a:lnTo>
                          <a:pt x="1677" y="1656"/>
                        </a:lnTo>
                        <a:lnTo>
                          <a:pt x="1702" y="1652"/>
                        </a:lnTo>
                        <a:lnTo>
                          <a:pt x="1728" y="1650"/>
                        </a:lnTo>
                        <a:lnTo>
                          <a:pt x="1751" y="1647"/>
                        </a:lnTo>
                        <a:lnTo>
                          <a:pt x="1774" y="1645"/>
                        </a:lnTo>
                        <a:lnTo>
                          <a:pt x="1803" y="157"/>
                        </a:lnTo>
                        <a:close/>
                      </a:path>
                    </a:pathLst>
                  </a:custGeom>
                  <a:solidFill>
                    <a:srgbClr val="d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-1355400" y="-724680"/>
                    <a:ext cx="2246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264">
                        <a:moveTo>
                          <a:pt x="802" y="250"/>
                        </a:moveTo>
                        <a:lnTo>
                          <a:pt x="800" y="247"/>
                        </a:lnTo>
                        <a:lnTo>
                          <a:pt x="799" y="239"/>
                        </a:lnTo>
                        <a:lnTo>
                          <a:pt x="793" y="227"/>
                        </a:lnTo>
                        <a:lnTo>
                          <a:pt x="789" y="212"/>
                        </a:lnTo>
                        <a:lnTo>
                          <a:pt x="781" y="192"/>
                        </a:lnTo>
                        <a:lnTo>
                          <a:pt x="773" y="173"/>
                        </a:lnTo>
                        <a:lnTo>
                          <a:pt x="768" y="161"/>
                        </a:lnTo>
                        <a:lnTo>
                          <a:pt x="762" y="151"/>
                        </a:lnTo>
                        <a:lnTo>
                          <a:pt x="756" y="140"/>
                        </a:lnTo>
                        <a:lnTo>
                          <a:pt x="752" y="130"/>
                        </a:lnTo>
                        <a:lnTo>
                          <a:pt x="744" y="119"/>
                        </a:lnTo>
                        <a:lnTo>
                          <a:pt x="736" y="107"/>
                        </a:lnTo>
                        <a:lnTo>
                          <a:pt x="729" y="95"/>
                        </a:lnTo>
                        <a:lnTo>
                          <a:pt x="721" y="84"/>
                        </a:lnTo>
                        <a:lnTo>
                          <a:pt x="702" y="62"/>
                        </a:lnTo>
                        <a:lnTo>
                          <a:pt x="682" y="45"/>
                        </a:lnTo>
                        <a:lnTo>
                          <a:pt x="669" y="35"/>
                        </a:lnTo>
                        <a:lnTo>
                          <a:pt x="657" y="27"/>
                        </a:lnTo>
                        <a:lnTo>
                          <a:pt x="645" y="22"/>
                        </a:lnTo>
                        <a:lnTo>
                          <a:pt x="634" y="16"/>
                        </a:lnTo>
                        <a:lnTo>
                          <a:pt x="618" y="10"/>
                        </a:lnTo>
                        <a:lnTo>
                          <a:pt x="605" y="6"/>
                        </a:lnTo>
                        <a:lnTo>
                          <a:pt x="591" y="4"/>
                        </a:lnTo>
                        <a:lnTo>
                          <a:pt x="577" y="4"/>
                        </a:lnTo>
                        <a:lnTo>
                          <a:pt x="560" y="2"/>
                        </a:lnTo>
                        <a:lnTo>
                          <a:pt x="543" y="0"/>
                        </a:lnTo>
                        <a:lnTo>
                          <a:pt x="525" y="0"/>
                        </a:lnTo>
                        <a:lnTo>
                          <a:pt x="508" y="0"/>
                        </a:lnTo>
                        <a:lnTo>
                          <a:pt x="486" y="0"/>
                        </a:lnTo>
                        <a:lnTo>
                          <a:pt x="467" y="0"/>
                        </a:lnTo>
                        <a:lnTo>
                          <a:pt x="446" y="0"/>
                        </a:lnTo>
                        <a:lnTo>
                          <a:pt x="426" y="0"/>
                        </a:lnTo>
                        <a:lnTo>
                          <a:pt x="415" y="0"/>
                        </a:lnTo>
                        <a:lnTo>
                          <a:pt x="403" y="0"/>
                        </a:lnTo>
                        <a:lnTo>
                          <a:pt x="391" y="0"/>
                        </a:lnTo>
                        <a:lnTo>
                          <a:pt x="382" y="0"/>
                        </a:lnTo>
                        <a:lnTo>
                          <a:pt x="370" y="0"/>
                        </a:lnTo>
                        <a:lnTo>
                          <a:pt x="358" y="2"/>
                        </a:lnTo>
                        <a:lnTo>
                          <a:pt x="347" y="2"/>
                        </a:lnTo>
                        <a:lnTo>
                          <a:pt x="337" y="4"/>
                        </a:lnTo>
                        <a:lnTo>
                          <a:pt x="325" y="4"/>
                        </a:lnTo>
                        <a:lnTo>
                          <a:pt x="314" y="4"/>
                        </a:lnTo>
                        <a:lnTo>
                          <a:pt x="302" y="4"/>
                        </a:lnTo>
                        <a:lnTo>
                          <a:pt x="292" y="6"/>
                        </a:lnTo>
                        <a:lnTo>
                          <a:pt x="281" y="6"/>
                        </a:lnTo>
                        <a:lnTo>
                          <a:pt x="271" y="8"/>
                        </a:lnTo>
                        <a:lnTo>
                          <a:pt x="259" y="10"/>
                        </a:lnTo>
                        <a:lnTo>
                          <a:pt x="250" y="12"/>
                        </a:lnTo>
                        <a:lnTo>
                          <a:pt x="238" y="12"/>
                        </a:lnTo>
                        <a:lnTo>
                          <a:pt x="226" y="12"/>
                        </a:lnTo>
                        <a:lnTo>
                          <a:pt x="215" y="12"/>
                        </a:lnTo>
                        <a:lnTo>
                          <a:pt x="205" y="14"/>
                        </a:lnTo>
                        <a:lnTo>
                          <a:pt x="184" y="16"/>
                        </a:lnTo>
                        <a:lnTo>
                          <a:pt x="164" y="20"/>
                        </a:lnTo>
                        <a:lnTo>
                          <a:pt x="145" y="22"/>
                        </a:lnTo>
                        <a:lnTo>
                          <a:pt x="126" y="25"/>
                        </a:lnTo>
                        <a:lnTo>
                          <a:pt x="108" y="27"/>
                        </a:lnTo>
                        <a:lnTo>
                          <a:pt x="93" y="33"/>
                        </a:lnTo>
                        <a:lnTo>
                          <a:pt x="75" y="37"/>
                        </a:lnTo>
                        <a:lnTo>
                          <a:pt x="62" y="41"/>
                        </a:lnTo>
                        <a:lnTo>
                          <a:pt x="48" y="45"/>
                        </a:lnTo>
                        <a:lnTo>
                          <a:pt x="38" y="51"/>
                        </a:lnTo>
                        <a:lnTo>
                          <a:pt x="27" y="56"/>
                        </a:lnTo>
                        <a:lnTo>
                          <a:pt x="19" y="62"/>
                        </a:lnTo>
                        <a:lnTo>
                          <a:pt x="11" y="68"/>
                        </a:lnTo>
                        <a:lnTo>
                          <a:pt x="7" y="74"/>
                        </a:lnTo>
                        <a:lnTo>
                          <a:pt x="0" y="82"/>
                        </a:lnTo>
                        <a:lnTo>
                          <a:pt x="1" y="91"/>
                        </a:lnTo>
                        <a:lnTo>
                          <a:pt x="7" y="99"/>
                        </a:lnTo>
                        <a:lnTo>
                          <a:pt x="23" y="107"/>
                        </a:lnTo>
                        <a:lnTo>
                          <a:pt x="29" y="109"/>
                        </a:lnTo>
                        <a:lnTo>
                          <a:pt x="38" y="111"/>
                        </a:lnTo>
                        <a:lnTo>
                          <a:pt x="50" y="113"/>
                        </a:lnTo>
                        <a:lnTo>
                          <a:pt x="62" y="117"/>
                        </a:lnTo>
                        <a:lnTo>
                          <a:pt x="73" y="117"/>
                        </a:lnTo>
                        <a:lnTo>
                          <a:pt x="87" y="120"/>
                        </a:lnTo>
                        <a:lnTo>
                          <a:pt x="100" y="120"/>
                        </a:lnTo>
                        <a:lnTo>
                          <a:pt x="116" y="124"/>
                        </a:lnTo>
                        <a:lnTo>
                          <a:pt x="128" y="124"/>
                        </a:lnTo>
                        <a:lnTo>
                          <a:pt x="143" y="126"/>
                        </a:lnTo>
                        <a:lnTo>
                          <a:pt x="157" y="126"/>
                        </a:lnTo>
                        <a:lnTo>
                          <a:pt x="174" y="128"/>
                        </a:lnTo>
                        <a:lnTo>
                          <a:pt x="188" y="128"/>
                        </a:lnTo>
                        <a:lnTo>
                          <a:pt x="203" y="130"/>
                        </a:lnTo>
                        <a:lnTo>
                          <a:pt x="219" y="130"/>
                        </a:lnTo>
                        <a:lnTo>
                          <a:pt x="234" y="132"/>
                        </a:lnTo>
                        <a:lnTo>
                          <a:pt x="248" y="132"/>
                        </a:lnTo>
                        <a:lnTo>
                          <a:pt x="261" y="132"/>
                        </a:lnTo>
                        <a:lnTo>
                          <a:pt x="275" y="132"/>
                        </a:lnTo>
                        <a:lnTo>
                          <a:pt x="290" y="134"/>
                        </a:lnTo>
                        <a:lnTo>
                          <a:pt x="302" y="134"/>
                        </a:lnTo>
                        <a:lnTo>
                          <a:pt x="314" y="134"/>
                        </a:lnTo>
                        <a:lnTo>
                          <a:pt x="325" y="134"/>
                        </a:lnTo>
                        <a:lnTo>
                          <a:pt x="337" y="136"/>
                        </a:lnTo>
                        <a:lnTo>
                          <a:pt x="345" y="136"/>
                        </a:lnTo>
                        <a:lnTo>
                          <a:pt x="354" y="136"/>
                        </a:lnTo>
                        <a:lnTo>
                          <a:pt x="366" y="138"/>
                        </a:lnTo>
                        <a:lnTo>
                          <a:pt x="380" y="144"/>
                        </a:lnTo>
                        <a:lnTo>
                          <a:pt x="391" y="146"/>
                        </a:lnTo>
                        <a:lnTo>
                          <a:pt x="405" y="151"/>
                        </a:lnTo>
                        <a:lnTo>
                          <a:pt x="418" y="157"/>
                        </a:lnTo>
                        <a:lnTo>
                          <a:pt x="436" y="163"/>
                        </a:lnTo>
                        <a:lnTo>
                          <a:pt x="451" y="169"/>
                        </a:lnTo>
                        <a:lnTo>
                          <a:pt x="467" y="175"/>
                        </a:lnTo>
                        <a:lnTo>
                          <a:pt x="484" y="183"/>
                        </a:lnTo>
                        <a:lnTo>
                          <a:pt x="502" y="190"/>
                        </a:lnTo>
                        <a:lnTo>
                          <a:pt x="519" y="196"/>
                        </a:lnTo>
                        <a:lnTo>
                          <a:pt x="537" y="204"/>
                        </a:lnTo>
                        <a:lnTo>
                          <a:pt x="554" y="212"/>
                        </a:lnTo>
                        <a:lnTo>
                          <a:pt x="572" y="219"/>
                        </a:lnTo>
                        <a:lnTo>
                          <a:pt x="587" y="225"/>
                        </a:lnTo>
                        <a:lnTo>
                          <a:pt x="605" y="231"/>
                        </a:lnTo>
                        <a:lnTo>
                          <a:pt x="622" y="237"/>
                        </a:lnTo>
                        <a:lnTo>
                          <a:pt x="640" y="243"/>
                        </a:lnTo>
                        <a:lnTo>
                          <a:pt x="655" y="247"/>
                        </a:lnTo>
                        <a:lnTo>
                          <a:pt x="671" y="252"/>
                        </a:lnTo>
                        <a:lnTo>
                          <a:pt x="686" y="256"/>
                        </a:lnTo>
                        <a:lnTo>
                          <a:pt x="704" y="260"/>
                        </a:lnTo>
                        <a:lnTo>
                          <a:pt x="717" y="260"/>
                        </a:lnTo>
                        <a:lnTo>
                          <a:pt x="731" y="262"/>
                        </a:lnTo>
                        <a:lnTo>
                          <a:pt x="744" y="262"/>
                        </a:lnTo>
                        <a:lnTo>
                          <a:pt x="758" y="264"/>
                        </a:lnTo>
                        <a:lnTo>
                          <a:pt x="769" y="260"/>
                        </a:lnTo>
                        <a:lnTo>
                          <a:pt x="781" y="258"/>
                        </a:lnTo>
                        <a:lnTo>
                          <a:pt x="791" y="254"/>
                        </a:lnTo>
                        <a:lnTo>
                          <a:pt x="802" y="250"/>
                        </a:lnTo>
                        <a:close/>
                      </a:path>
                    </a:pathLst>
                  </a:custGeom>
                  <a:solidFill>
                    <a:srgbClr val="ad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-1246320" y="-688680"/>
                    <a:ext cx="19332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685">
                        <a:moveTo>
                          <a:pt x="313" y="12"/>
                        </a:moveTo>
                        <a:lnTo>
                          <a:pt x="307" y="10"/>
                        </a:lnTo>
                        <a:lnTo>
                          <a:pt x="297" y="8"/>
                        </a:lnTo>
                        <a:lnTo>
                          <a:pt x="287" y="6"/>
                        </a:lnTo>
                        <a:lnTo>
                          <a:pt x="280" y="6"/>
                        </a:lnTo>
                        <a:lnTo>
                          <a:pt x="268" y="4"/>
                        </a:lnTo>
                        <a:lnTo>
                          <a:pt x="258" y="4"/>
                        </a:lnTo>
                        <a:lnTo>
                          <a:pt x="245" y="2"/>
                        </a:lnTo>
                        <a:lnTo>
                          <a:pt x="231" y="2"/>
                        </a:lnTo>
                        <a:lnTo>
                          <a:pt x="218" y="0"/>
                        </a:lnTo>
                        <a:lnTo>
                          <a:pt x="204" y="0"/>
                        </a:lnTo>
                        <a:lnTo>
                          <a:pt x="188" y="0"/>
                        </a:lnTo>
                        <a:lnTo>
                          <a:pt x="173" y="0"/>
                        </a:lnTo>
                        <a:lnTo>
                          <a:pt x="157" y="2"/>
                        </a:lnTo>
                        <a:lnTo>
                          <a:pt x="144" y="4"/>
                        </a:lnTo>
                        <a:lnTo>
                          <a:pt x="126" y="4"/>
                        </a:lnTo>
                        <a:lnTo>
                          <a:pt x="113" y="6"/>
                        </a:lnTo>
                        <a:lnTo>
                          <a:pt x="97" y="8"/>
                        </a:lnTo>
                        <a:lnTo>
                          <a:pt x="84" y="14"/>
                        </a:lnTo>
                        <a:lnTo>
                          <a:pt x="68" y="18"/>
                        </a:lnTo>
                        <a:lnTo>
                          <a:pt x="57" y="23"/>
                        </a:lnTo>
                        <a:lnTo>
                          <a:pt x="45" y="29"/>
                        </a:lnTo>
                        <a:lnTo>
                          <a:pt x="35" y="39"/>
                        </a:lnTo>
                        <a:lnTo>
                          <a:pt x="24" y="45"/>
                        </a:lnTo>
                        <a:lnTo>
                          <a:pt x="18" y="56"/>
                        </a:lnTo>
                        <a:lnTo>
                          <a:pt x="10" y="66"/>
                        </a:lnTo>
                        <a:lnTo>
                          <a:pt x="6" y="80"/>
                        </a:lnTo>
                        <a:lnTo>
                          <a:pt x="0" y="91"/>
                        </a:lnTo>
                        <a:lnTo>
                          <a:pt x="0" y="107"/>
                        </a:lnTo>
                        <a:lnTo>
                          <a:pt x="0" y="122"/>
                        </a:lnTo>
                        <a:lnTo>
                          <a:pt x="4" y="142"/>
                        </a:lnTo>
                        <a:lnTo>
                          <a:pt x="4" y="150"/>
                        </a:lnTo>
                        <a:lnTo>
                          <a:pt x="6" y="161"/>
                        </a:lnTo>
                        <a:lnTo>
                          <a:pt x="8" y="171"/>
                        </a:lnTo>
                        <a:lnTo>
                          <a:pt x="10" y="186"/>
                        </a:lnTo>
                        <a:lnTo>
                          <a:pt x="12" y="198"/>
                        </a:lnTo>
                        <a:lnTo>
                          <a:pt x="16" y="215"/>
                        </a:lnTo>
                        <a:lnTo>
                          <a:pt x="18" y="231"/>
                        </a:lnTo>
                        <a:lnTo>
                          <a:pt x="24" y="250"/>
                        </a:lnTo>
                        <a:lnTo>
                          <a:pt x="26" y="268"/>
                        </a:lnTo>
                        <a:lnTo>
                          <a:pt x="29" y="287"/>
                        </a:lnTo>
                        <a:lnTo>
                          <a:pt x="33" y="307"/>
                        </a:lnTo>
                        <a:lnTo>
                          <a:pt x="39" y="330"/>
                        </a:lnTo>
                        <a:lnTo>
                          <a:pt x="43" y="351"/>
                        </a:lnTo>
                        <a:lnTo>
                          <a:pt x="47" y="374"/>
                        </a:lnTo>
                        <a:lnTo>
                          <a:pt x="53" y="398"/>
                        </a:lnTo>
                        <a:lnTo>
                          <a:pt x="59" y="423"/>
                        </a:lnTo>
                        <a:lnTo>
                          <a:pt x="62" y="446"/>
                        </a:lnTo>
                        <a:lnTo>
                          <a:pt x="68" y="471"/>
                        </a:lnTo>
                        <a:lnTo>
                          <a:pt x="72" y="497"/>
                        </a:lnTo>
                        <a:lnTo>
                          <a:pt x="78" y="526"/>
                        </a:lnTo>
                        <a:lnTo>
                          <a:pt x="84" y="551"/>
                        </a:lnTo>
                        <a:lnTo>
                          <a:pt x="90" y="578"/>
                        </a:lnTo>
                        <a:lnTo>
                          <a:pt x="95" y="607"/>
                        </a:lnTo>
                        <a:lnTo>
                          <a:pt x="101" y="636"/>
                        </a:lnTo>
                        <a:lnTo>
                          <a:pt x="107" y="665"/>
                        </a:lnTo>
                        <a:lnTo>
                          <a:pt x="113" y="694"/>
                        </a:lnTo>
                        <a:lnTo>
                          <a:pt x="119" y="724"/>
                        </a:lnTo>
                        <a:lnTo>
                          <a:pt x="124" y="753"/>
                        </a:lnTo>
                        <a:lnTo>
                          <a:pt x="130" y="782"/>
                        </a:lnTo>
                        <a:lnTo>
                          <a:pt x="136" y="813"/>
                        </a:lnTo>
                        <a:lnTo>
                          <a:pt x="142" y="842"/>
                        </a:lnTo>
                        <a:lnTo>
                          <a:pt x="148" y="873"/>
                        </a:lnTo>
                        <a:lnTo>
                          <a:pt x="152" y="902"/>
                        </a:lnTo>
                        <a:lnTo>
                          <a:pt x="157" y="931"/>
                        </a:lnTo>
                        <a:lnTo>
                          <a:pt x="161" y="960"/>
                        </a:lnTo>
                        <a:lnTo>
                          <a:pt x="167" y="989"/>
                        </a:lnTo>
                        <a:lnTo>
                          <a:pt x="171" y="1016"/>
                        </a:lnTo>
                        <a:lnTo>
                          <a:pt x="177" y="1045"/>
                        </a:lnTo>
                        <a:lnTo>
                          <a:pt x="183" y="1075"/>
                        </a:lnTo>
                        <a:lnTo>
                          <a:pt x="188" y="1104"/>
                        </a:lnTo>
                        <a:lnTo>
                          <a:pt x="192" y="1131"/>
                        </a:lnTo>
                        <a:lnTo>
                          <a:pt x="196" y="1158"/>
                        </a:lnTo>
                        <a:lnTo>
                          <a:pt x="200" y="1185"/>
                        </a:lnTo>
                        <a:lnTo>
                          <a:pt x="204" y="1212"/>
                        </a:lnTo>
                        <a:lnTo>
                          <a:pt x="208" y="1237"/>
                        </a:lnTo>
                        <a:lnTo>
                          <a:pt x="212" y="1265"/>
                        </a:lnTo>
                        <a:lnTo>
                          <a:pt x="216" y="1290"/>
                        </a:lnTo>
                        <a:lnTo>
                          <a:pt x="221" y="1317"/>
                        </a:lnTo>
                        <a:lnTo>
                          <a:pt x="223" y="1338"/>
                        </a:lnTo>
                        <a:lnTo>
                          <a:pt x="227" y="1362"/>
                        </a:lnTo>
                        <a:lnTo>
                          <a:pt x="229" y="1383"/>
                        </a:lnTo>
                        <a:lnTo>
                          <a:pt x="233" y="1406"/>
                        </a:lnTo>
                        <a:lnTo>
                          <a:pt x="233" y="1426"/>
                        </a:lnTo>
                        <a:lnTo>
                          <a:pt x="237" y="1445"/>
                        </a:lnTo>
                        <a:lnTo>
                          <a:pt x="237" y="1464"/>
                        </a:lnTo>
                        <a:lnTo>
                          <a:pt x="241" y="1484"/>
                        </a:lnTo>
                        <a:lnTo>
                          <a:pt x="241" y="1499"/>
                        </a:lnTo>
                        <a:lnTo>
                          <a:pt x="243" y="1515"/>
                        </a:lnTo>
                        <a:lnTo>
                          <a:pt x="243" y="1528"/>
                        </a:lnTo>
                        <a:lnTo>
                          <a:pt x="245" y="1544"/>
                        </a:lnTo>
                        <a:lnTo>
                          <a:pt x="243" y="1555"/>
                        </a:lnTo>
                        <a:lnTo>
                          <a:pt x="243" y="1569"/>
                        </a:lnTo>
                        <a:lnTo>
                          <a:pt x="243" y="1579"/>
                        </a:lnTo>
                        <a:lnTo>
                          <a:pt x="243" y="1588"/>
                        </a:lnTo>
                        <a:lnTo>
                          <a:pt x="239" y="1600"/>
                        </a:lnTo>
                        <a:lnTo>
                          <a:pt x="239" y="1612"/>
                        </a:lnTo>
                        <a:lnTo>
                          <a:pt x="239" y="1621"/>
                        </a:lnTo>
                        <a:lnTo>
                          <a:pt x="241" y="1631"/>
                        </a:lnTo>
                        <a:lnTo>
                          <a:pt x="247" y="1647"/>
                        </a:lnTo>
                        <a:lnTo>
                          <a:pt x="260" y="1660"/>
                        </a:lnTo>
                        <a:lnTo>
                          <a:pt x="272" y="1670"/>
                        </a:lnTo>
                        <a:lnTo>
                          <a:pt x="289" y="1678"/>
                        </a:lnTo>
                        <a:lnTo>
                          <a:pt x="299" y="1680"/>
                        </a:lnTo>
                        <a:lnTo>
                          <a:pt x="309" y="1682"/>
                        </a:lnTo>
                        <a:lnTo>
                          <a:pt x="320" y="1683"/>
                        </a:lnTo>
                        <a:lnTo>
                          <a:pt x="332" y="1685"/>
                        </a:lnTo>
                        <a:lnTo>
                          <a:pt x="342" y="1683"/>
                        </a:lnTo>
                        <a:lnTo>
                          <a:pt x="353" y="1683"/>
                        </a:lnTo>
                        <a:lnTo>
                          <a:pt x="365" y="1683"/>
                        </a:lnTo>
                        <a:lnTo>
                          <a:pt x="377" y="1683"/>
                        </a:lnTo>
                        <a:lnTo>
                          <a:pt x="388" y="1682"/>
                        </a:lnTo>
                        <a:lnTo>
                          <a:pt x="400" y="1682"/>
                        </a:lnTo>
                        <a:lnTo>
                          <a:pt x="411" y="1682"/>
                        </a:lnTo>
                        <a:lnTo>
                          <a:pt x="423" y="1682"/>
                        </a:lnTo>
                        <a:lnTo>
                          <a:pt x="433" y="1680"/>
                        </a:lnTo>
                        <a:lnTo>
                          <a:pt x="444" y="1678"/>
                        </a:lnTo>
                        <a:lnTo>
                          <a:pt x="454" y="1676"/>
                        </a:lnTo>
                        <a:lnTo>
                          <a:pt x="466" y="1676"/>
                        </a:lnTo>
                        <a:lnTo>
                          <a:pt x="475" y="1674"/>
                        </a:lnTo>
                        <a:lnTo>
                          <a:pt x="485" y="1672"/>
                        </a:lnTo>
                        <a:lnTo>
                          <a:pt x="495" y="1672"/>
                        </a:lnTo>
                        <a:lnTo>
                          <a:pt x="505" y="1672"/>
                        </a:lnTo>
                        <a:lnTo>
                          <a:pt x="518" y="1668"/>
                        </a:lnTo>
                        <a:lnTo>
                          <a:pt x="536" y="1664"/>
                        </a:lnTo>
                        <a:lnTo>
                          <a:pt x="555" y="1660"/>
                        </a:lnTo>
                        <a:lnTo>
                          <a:pt x="574" y="1656"/>
                        </a:lnTo>
                        <a:lnTo>
                          <a:pt x="592" y="1649"/>
                        </a:lnTo>
                        <a:lnTo>
                          <a:pt x="611" y="1641"/>
                        </a:lnTo>
                        <a:lnTo>
                          <a:pt x="629" y="1629"/>
                        </a:lnTo>
                        <a:lnTo>
                          <a:pt x="646" y="1618"/>
                        </a:lnTo>
                        <a:lnTo>
                          <a:pt x="652" y="1608"/>
                        </a:lnTo>
                        <a:lnTo>
                          <a:pt x="658" y="1600"/>
                        </a:lnTo>
                        <a:lnTo>
                          <a:pt x="664" y="1590"/>
                        </a:lnTo>
                        <a:lnTo>
                          <a:pt x="671" y="1581"/>
                        </a:lnTo>
                        <a:lnTo>
                          <a:pt x="675" y="1569"/>
                        </a:lnTo>
                        <a:lnTo>
                          <a:pt x="681" y="1557"/>
                        </a:lnTo>
                        <a:lnTo>
                          <a:pt x="685" y="1544"/>
                        </a:lnTo>
                        <a:lnTo>
                          <a:pt x="689" y="1532"/>
                        </a:lnTo>
                        <a:lnTo>
                          <a:pt x="691" y="1517"/>
                        </a:lnTo>
                        <a:lnTo>
                          <a:pt x="693" y="1501"/>
                        </a:lnTo>
                        <a:lnTo>
                          <a:pt x="693" y="1484"/>
                        </a:lnTo>
                        <a:lnTo>
                          <a:pt x="693" y="1468"/>
                        </a:lnTo>
                        <a:lnTo>
                          <a:pt x="691" y="1447"/>
                        </a:lnTo>
                        <a:lnTo>
                          <a:pt x="689" y="1427"/>
                        </a:lnTo>
                        <a:lnTo>
                          <a:pt x="685" y="1406"/>
                        </a:lnTo>
                        <a:lnTo>
                          <a:pt x="683" y="1387"/>
                        </a:lnTo>
                        <a:lnTo>
                          <a:pt x="679" y="1373"/>
                        </a:lnTo>
                        <a:lnTo>
                          <a:pt x="677" y="1362"/>
                        </a:lnTo>
                        <a:lnTo>
                          <a:pt x="673" y="1348"/>
                        </a:lnTo>
                        <a:lnTo>
                          <a:pt x="671" y="1334"/>
                        </a:lnTo>
                        <a:lnTo>
                          <a:pt x="667" y="1319"/>
                        </a:lnTo>
                        <a:lnTo>
                          <a:pt x="666" y="1305"/>
                        </a:lnTo>
                        <a:lnTo>
                          <a:pt x="662" y="1290"/>
                        </a:lnTo>
                        <a:lnTo>
                          <a:pt x="660" y="1276"/>
                        </a:lnTo>
                        <a:lnTo>
                          <a:pt x="656" y="1259"/>
                        </a:lnTo>
                        <a:lnTo>
                          <a:pt x="654" y="1243"/>
                        </a:lnTo>
                        <a:lnTo>
                          <a:pt x="650" y="1228"/>
                        </a:lnTo>
                        <a:lnTo>
                          <a:pt x="648" y="1212"/>
                        </a:lnTo>
                        <a:lnTo>
                          <a:pt x="644" y="1195"/>
                        </a:lnTo>
                        <a:lnTo>
                          <a:pt x="642" y="1177"/>
                        </a:lnTo>
                        <a:lnTo>
                          <a:pt x="638" y="1160"/>
                        </a:lnTo>
                        <a:lnTo>
                          <a:pt x="636" y="1142"/>
                        </a:lnTo>
                        <a:lnTo>
                          <a:pt x="633" y="1123"/>
                        </a:lnTo>
                        <a:lnTo>
                          <a:pt x="629" y="1104"/>
                        </a:lnTo>
                        <a:lnTo>
                          <a:pt x="625" y="1084"/>
                        </a:lnTo>
                        <a:lnTo>
                          <a:pt x="623" y="1067"/>
                        </a:lnTo>
                        <a:lnTo>
                          <a:pt x="619" y="1045"/>
                        </a:lnTo>
                        <a:lnTo>
                          <a:pt x="615" y="1026"/>
                        </a:lnTo>
                        <a:lnTo>
                          <a:pt x="611" y="1007"/>
                        </a:lnTo>
                        <a:lnTo>
                          <a:pt x="609" y="987"/>
                        </a:lnTo>
                        <a:lnTo>
                          <a:pt x="605" y="966"/>
                        </a:lnTo>
                        <a:lnTo>
                          <a:pt x="602" y="945"/>
                        </a:lnTo>
                        <a:lnTo>
                          <a:pt x="598" y="923"/>
                        </a:lnTo>
                        <a:lnTo>
                          <a:pt x="596" y="904"/>
                        </a:lnTo>
                        <a:lnTo>
                          <a:pt x="592" y="883"/>
                        </a:lnTo>
                        <a:lnTo>
                          <a:pt x="588" y="861"/>
                        </a:lnTo>
                        <a:lnTo>
                          <a:pt x="584" y="840"/>
                        </a:lnTo>
                        <a:lnTo>
                          <a:pt x="582" y="821"/>
                        </a:lnTo>
                        <a:lnTo>
                          <a:pt x="576" y="797"/>
                        </a:lnTo>
                        <a:lnTo>
                          <a:pt x="572" y="776"/>
                        </a:lnTo>
                        <a:lnTo>
                          <a:pt x="569" y="755"/>
                        </a:lnTo>
                        <a:lnTo>
                          <a:pt x="565" y="733"/>
                        </a:lnTo>
                        <a:lnTo>
                          <a:pt x="559" y="710"/>
                        </a:lnTo>
                        <a:lnTo>
                          <a:pt x="555" y="689"/>
                        </a:lnTo>
                        <a:lnTo>
                          <a:pt x="551" y="667"/>
                        </a:lnTo>
                        <a:lnTo>
                          <a:pt x="547" y="646"/>
                        </a:lnTo>
                        <a:lnTo>
                          <a:pt x="541" y="623"/>
                        </a:lnTo>
                        <a:lnTo>
                          <a:pt x="538" y="601"/>
                        </a:lnTo>
                        <a:lnTo>
                          <a:pt x="532" y="580"/>
                        </a:lnTo>
                        <a:lnTo>
                          <a:pt x="528" y="559"/>
                        </a:lnTo>
                        <a:lnTo>
                          <a:pt x="522" y="537"/>
                        </a:lnTo>
                        <a:lnTo>
                          <a:pt x="518" y="516"/>
                        </a:lnTo>
                        <a:lnTo>
                          <a:pt x="514" y="495"/>
                        </a:lnTo>
                        <a:lnTo>
                          <a:pt x="510" y="475"/>
                        </a:lnTo>
                        <a:lnTo>
                          <a:pt x="505" y="452"/>
                        </a:lnTo>
                        <a:lnTo>
                          <a:pt x="499" y="433"/>
                        </a:lnTo>
                        <a:lnTo>
                          <a:pt x="493" y="411"/>
                        </a:lnTo>
                        <a:lnTo>
                          <a:pt x="489" y="392"/>
                        </a:lnTo>
                        <a:lnTo>
                          <a:pt x="483" y="371"/>
                        </a:lnTo>
                        <a:lnTo>
                          <a:pt x="479" y="351"/>
                        </a:lnTo>
                        <a:lnTo>
                          <a:pt x="474" y="330"/>
                        </a:lnTo>
                        <a:lnTo>
                          <a:pt x="470" y="312"/>
                        </a:lnTo>
                        <a:lnTo>
                          <a:pt x="464" y="291"/>
                        </a:lnTo>
                        <a:lnTo>
                          <a:pt x="458" y="272"/>
                        </a:lnTo>
                        <a:lnTo>
                          <a:pt x="452" y="254"/>
                        </a:lnTo>
                        <a:lnTo>
                          <a:pt x="448" y="237"/>
                        </a:lnTo>
                        <a:lnTo>
                          <a:pt x="443" y="217"/>
                        </a:lnTo>
                        <a:lnTo>
                          <a:pt x="437" y="200"/>
                        </a:lnTo>
                        <a:lnTo>
                          <a:pt x="431" y="183"/>
                        </a:lnTo>
                        <a:lnTo>
                          <a:pt x="427" y="167"/>
                        </a:lnTo>
                        <a:lnTo>
                          <a:pt x="421" y="155"/>
                        </a:lnTo>
                        <a:lnTo>
                          <a:pt x="417" y="144"/>
                        </a:lnTo>
                        <a:lnTo>
                          <a:pt x="411" y="132"/>
                        </a:lnTo>
                        <a:lnTo>
                          <a:pt x="408" y="124"/>
                        </a:lnTo>
                        <a:lnTo>
                          <a:pt x="398" y="105"/>
                        </a:lnTo>
                        <a:lnTo>
                          <a:pt x="390" y="91"/>
                        </a:lnTo>
                        <a:lnTo>
                          <a:pt x="379" y="74"/>
                        </a:lnTo>
                        <a:lnTo>
                          <a:pt x="371" y="62"/>
                        </a:lnTo>
                        <a:lnTo>
                          <a:pt x="361" y="51"/>
                        </a:lnTo>
                        <a:lnTo>
                          <a:pt x="353" y="43"/>
                        </a:lnTo>
                        <a:lnTo>
                          <a:pt x="336" y="27"/>
                        </a:lnTo>
                        <a:lnTo>
                          <a:pt x="324" y="18"/>
                        </a:lnTo>
                        <a:lnTo>
                          <a:pt x="315" y="12"/>
                        </a:lnTo>
                        <a:lnTo>
                          <a:pt x="313" y="12"/>
                        </a:lnTo>
                        <a:close/>
                      </a:path>
                    </a:pathLst>
                  </a:custGeom>
                  <a:solidFill>
                    <a:srgbClr val="ad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-1689120" y="-750960"/>
                    <a:ext cx="530640" cy="52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9" h="1893">
                        <a:moveTo>
                          <a:pt x="4" y="869"/>
                        </a:moveTo>
                        <a:lnTo>
                          <a:pt x="6" y="865"/>
                        </a:lnTo>
                        <a:lnTo>
                          <a:pt x="13" y="861"/>
                        </a:lnTo>
                        <a:lnTo>
                          <a:pt x="19" y="855"/>
                        </a:lnTo>
                        <a:lnTo>
                          <a:pt x="27" y="851"/>
                        </a:lnTo>
                        <a:lnTo>
                          <a:pt x="35" y="846"/>
                        </a:lnTo>
                        <a:lnTo>
                          <a:pt x="46" y="842"/>
                        </a:lnTo>
                        <a:lnTo>
                          <a:pt x="56" y="834"/>
                        </a:lnTo>
                        <a:lnTo>
                          <a:pt x="68" y="826"/>
                        </a:lnTo>
                        <a:lnTo>
                          <a:pt x="79" y="819"/>
                        </a:lnTo>
                        <a:lnTo>
                          <a:pt x="97" y="811"/>
                        </a:lnTo>
                        <a:lnTo>
                          <a:pt x="110" y="801"/>
                        </a:lnTo>
                        <a:lnTo>
                          <a:pt x="128" y="791"/>
                        </a:lnTo>
                        <a:lnTo>
                          <a:pt x="145" y="782"/>
                        </a:lnTo>
                        <a:lnTo>
                          <a:pt x="165" y="772"/>
                        </a:lnTo>
                        <a:lnTo>
                          <a:pt x="182" y="760"/>
                        </a:lnTo>
                        <a:lnTo>
                          <a:pt x="202" y="749"/>
                        </a:lnTo>
                        <a:lnTo>
                          <a:pt x="221" y="737"/>
                        </a:lnTo>
                        <a:lnTo>
                          <a:pt x="244" y="725"/>
                        </a:lnTo>
                        <a:lnTo>
                          <a:pt x="266" y="712"/>
                        </a:lnTo>
                        <a:lnTo>
                          <a:pt x="289" y="700"/>
                        </a:lnTo>
                        <a:lnTo>
                          <a:pt x="314" y="687"/>
                        </a:lnTo>
                        <a:lnTo>
                          <a:pt x="339" y="675"/>
                        </a:lnTo>
                        <a:lnTo>
                          <a:pt x="363" y="659"/>
                        </a:lnTo>
                        <a:lnTo>
                          <a:pt x="390" y="646"/>
                        </a:lnTo>
                        <a:lnTo>
                          <a:pt x="415" y="632"/>
                        </a:lnTo>
                        <a:lnTo>
                          <a:pt x="442" y="619"/>
                        </a:lnTo>
                        <a:lnTo>
                          <a:pt x="469" y="603"/>
                        </a:lnTo>
                        <a:lnTo>
                          <a:pt x="498" y="592"/>
                        </a:lnTo>
                        <a:lnTo>
                          <a:pt x="527" y="576"/>
                        </a:lnTo>
                        <a:lnTo>
                          <a:pt x="556" y="564"/>
                        </a:lnTo>
                        <a:lnTo>
                          <a:pt x="584" y="549"/>
                        </a:lnTo>
                        <a:lnTo>
                          <a:pt x="613" y="535"/>
                        </a:lnTo>
                        <a:lnTo>
                          <a:pt x="642" y="520"/>
                        </a:lnTo>
                        <a:lnTo>
                          <a:pt x="673" y="506"/>
                        </a:lnTo>
                        <a:lnTo>
                          <a:pt x="702" y="493"/>
                        </a:lnTo>
                        <a:lnTo>
                          <a:pt x="733" y="479"/>
                        </a:lnTo>
                        <a:lnTo>
                          <a:pt x="764" y="466"/>
                        </a:lnTo>
                        <a:lnTo>
                          <a:pt x="795" y="454"/>
                        </a:lnTo>
                        <a:lnTo>
                          <a:pt x="824" y="440"/>
                        </a:lnTo>
                        <a:lnTo>
                          <a:pt x="855" y="427"/>
                        </a:lnTo>
                        <a:lnTo>
                          <a:pt x="886" y="415"/>
                        </a:lnTo>
                        <a:lnTo>
                          <a:pt x="917" y="404"/>
                        </a:lnTo>
                        <a:lnTo>
                          <a:pt x="946" y="390"/>
                        </a:lnTo>
                        <a:lnTo>
                          <a:pt x="979" y="378"/>
                        </a:lnTo>
                        <a:lnTo>
                          <a:pt x="1008" y="369"/>
                        </a:lnTo>
                        <a:lnTo>
                          <a:pt x="1041" y="359"/>
                        </a:lnTo>
                        <a:lnTo>
                          <a:pt x="1070" y="347"/>
                        </a:lnTo>
                        <a:lnTo>
                          <a:pt x="1099" y="338"/>
                        </a:lnTo>
                        <a:lnTo>
                          <a:pt x="1129" y="328"/>
                        </a:lnTo>
                        <a:lnTo>
                          <a:pt x="1160" y="320"/>
                        </a:lnTo>
                        <a:lnTo>
                          <a:pt x="1189" y="312"/>
                        </a:lnTo>
                        <a:lnTo>
                          <a:pt x="1218" y="305"/>
                        </a:lnTo>
                        <a:lnTo>
                          <a:pt x="1247" y="299"/>
                        </a:lnTo>
                        <a:lnTo>
                          <a:pt x="1276" y="293"/>
                        </a:lnTo>
                        <a:lnTo>
                          <a:pt x="1301" y="287"/>
                        </a:lnTo>
                        <a:lnTo>
                          <a:pt x="1328" y="281"/>
                        </a:lnTo>
                        <a:lnTo>
                          <a:pt x="1355" y="277"/>
                        </a:lnTo>
                        <a:lnTo>
                          <a:pt x="1383" y="277"/>
                        </a:lnTo>
                        <a:lnTo>
                          <a:pt x="1408" y="274"/>
                        </a:lnTo>
                        <a:lnTo>
                          <a:pt x="1433" y="274"/>
                        </a:lnTo>
                        <a:lnTo>
                          <a:pt x="1456" y="274"/>
                        </a:lnTo>
                        <a:lnTo>
                          <a:pt x="1482" y="276"/>
                        </a:lnTo>
                        <a:lnTo>
                          <a:pt x="1482" y="277"/>
                        </a:lnTo>
                        <a:lnTo>
                          <a:pt x="1483" y="285"/>
                        </a:lnTo>
                        <a:lnTo>
                          <a:pt x="1487" y="297"/>
                        </a:lnTo>
                        <a:lnTo>
                          <a:pt x="1493" y="314"/>
                        </a:lnTo>
                        <a:lnTo>
                          <a:pt x="1495" y="322"/>
                        </a:lnTo>
                        <a:lnTo>
                          <a:pt x="1499" y="334"/>
                        </a:lnTo>
                        <a:lnTo>
                          <a:pt x="1501" y="345"/>
                        </a:lnTo>
                        <a:lnTo>
                          <a:pt x="1507" y="359"/>
                        </a:lnTo>
                        <a:lnTo>
                          <a:pt x="1511" y="372"/>
                        </a:lnTo>
                        <a:lnTo>
                          <a:pt x="1516" y="388"/>
                        </a:lnTo>
                        <a:lnTo>
                          <a:pt x="1522" y="405"/>
                        </a:lnTo>
                        <a:lnTo>
                          <a:pt x="1528" y="423"/>
                        </a:lnTo>
                        <a:lnTo>
                          <a:pt x="1532" y="440"/>
                        </a:lnTo>
                        <a:lnTo>
                          <a:pt x="1538" y="458"/>
                        </a:lnTo>
                        <a:lnTo>
                          <a:pt x="1544" y="477"/>
                        </a:lnTo>
                        <a:lnTo>
                          <a:pt x="1549" y="499"/>
                        </a:lnTo>
                        <a:lnTo>
                          <a:pt x="1555" y="518"/>
                        </a:lnTo>
                        <a:lnTo>
                          <a:pt x="1561" y="541"/>
                        </a:lnTo>
                        <a:lnTo>
                          <a:pt x="1567" y="564"/>
                        </a:lnTo>
                        <a:lnTo>
                          <a:pt x="1575" y="588"/>
                        </a:lnTo>
                        <a:lnTo>
                          <a:pt x="1580" y="611"/>
                        </a:lnTo>
                        <a:lnTo>
                          <a:pt x="1586" y="636"/>
                        </a:lnTo>
                        <a:lnTo>
                          <a:pt x="1594" y="661"/>
                        </a:lnTo>
                        <a:lnTo>
                          <a:pt x="1602" y="689"/>
                        </a:lnTo>
                        <a:lnTo>
                          <a:pt x="1608" y="714"/>
                        </a:lnTo>
                        <a:lnTo>
                          <a:pt x="1615" y="743"/>
                        </a:lnTo>
                        <a:lnTo>
                          <a:pt x="1623" y="772"/>
                        </a:lnTo>
                        <a:lnTo>
                          <a:pt x="1631" y="801"/>
                        </a:lnTo>
                        <a:lnTo>
                          <a:pt x="1637" y="828"/>
                        </a:lnTo>
                        <a:lnTo>
                          <a:pt x="1643" y="857"/>
                        </a:lnTo>
                        <a:lnTo>
                          <a:pt x="1648" y="888"/>
                        </a:lnTo>
                        <a:lnTo>
                          <a:pt x="1656" y="919"/>
                        </a:lnTo>
                        <a:lnTo>
                          <a:pt x="1662" y="948"/>
                        </a:lnTo>
                        <a:lnTo>
                          <a:pt x="1670" y="981"/>
                        </a:lnTo>
                        <a:lnTo>
                          <a:pt x="1675" y="1012"/>
                        </a:lnTo>
                        <a:lnTo>
                          <a:pt x="1683" y="1045"/>
                        </a:lnTo>
                        <a:lnTo>
                          <a:pt x="1689" y="1076"/>
                        </a:lnTo>
                        <a:lnTo>
                          <a:pt x="1695" y="1109"/>
                        </a:lnTo>
                        <a:lnTo>
                          <a:pt x="1701" y="1140"/>
                        </a:lnTo>
                        <a:lnTo>
                          <a:pt x="1708" y="1175"/>
                        </a:lnTo>
                        <a:lnTo>
                          <a:pt x="1714" y="1208"/>
                        </a:lnTo>
                        <a:lnTo>
                          <a:pt x="1720" y="1241"/>
                        </a:lnTo>
                        <a:lnTo>
                          <a:pt x="1726" y="1276"/>
                        </a:lnTo>
                        <a:lnTo>
                          <a:pt x="1732" y="1311"/>
                        </a:lnTo>
                        <a:lnTo>
                          <a:pt x="1736" y="1344"/>
                        </a:lnTo>
                        <a:lnTo>
                          <a:pt x="1739" y="1379"/>
                        </a:lnTo>
                        <a:lnTo>
                          <a:pt x="1743" y="1412"/>
                        </a:lnTo>
                        <a:lnTo>
                          <a:pt x="1749" y="1447"/>
                        </a:lnTo>
                        <a:lnTo>
                          <a:pt x="1753" y="1480"/>
                        </a:lnTo>
                        <a:lnTo>
                          <a:pt x="1757" y="1515"/>
                        </a:lnTo>
                        <a:lnTo>
                          <a:pt x="1761" y="1550"/>
                        </a:lnTo>
                        <a:lnTo>
                          <a:pt x="1765" y="1585"/>
                        </a:lnTo>
                        <a:lnTo>
                          <a:pt x="1767" y="1617"/>
                        </a:lnTo>
                        <a:lnTo>
                          <a:pt x="1769" y="1652"/>
                        </a:lnTo>
                        <a:lnTo>
                          <a:pt x="1771" y="1685"/>
                        </a:lnTo>
                        <a:lnTo>
                          <a:pt x="1772" y="1720"/>
                        </a:lnTo>
                        <a:lnTo>
                          <a:pt x="1772" y="1753"/>
                        </a:lnTo>
                        <a:lnTo>
                          <a:pt x="1774" y="1788"/>
                        </a:lnTo>
                        <a:lnTo>
                          <a:pt x="1774" y="1821"/>
                        </a:lnTo>
                        <a:lnTo>
                          <a:pt x="1776" y="1856"/>
                        </a:lnTo>
                        <a:lnTo>
                          <a:pt x="1780" y="1860"/>
                        </a:lnTo>
                        <a:lnTo>
                          <a:pt x="1790" y="1870"/>
                        </a:lnTo>
                        <a:lnTo>
                          <a:pt x="1805" y="1879"/>
                        </a:lnTo>
                        <a:lnTo>
                          <a:pt x="1823" y="1891"/>
                        </a:lnTo>
                        <a:lnTo>
                          <a:pt x="1838" y="1893"/>
                        </a:lnTo>
                        <a:lnTo>
                          <a:pt x="1856" y="1887"/>
                        </a:lnTo>
                        <a:lnTo>
                          <a:pt x="1860" y="1879"/>
                        </a:lnTo>
                        <a:lnTo>
                          <a:pt x="1866" y="1868"/>
                        </a:lnTo>
                        <a:lnTo>
                          <a:pt x="1867" y="1860"/>
                        </a:lnTo>
                        <a:lnTo>
                          <a:pt x="1869" y="1852"/>
                        </a:lnTo>
                        <a:lnTo>
                          <a:pt x="1869" y="1842"/>
                        </a:lnTo>
                        <a:lnTo>
                          <a:pt x="1871" y="1833"/>
                        </a:lnTo>
                        <a:lnTo>
                          <a:pt x="1869" y="1815"/>
                        </a:lnTo>
                        <a:lnTo>
                          <a:pt x="1869" y="1798"/>
                        </a:lnTo>
                        <a:lnTo>
                          <a:pt x="1867" y="1786"/>
                        </a:lnTo>
                        <a:lnTo>
                          <a:pt x="1867" y="1776"/>
                        </a:lnTo>
                        <a:lnTo>
                          <a:pt x="1867" y="1765"/>
                        </a:lnTo>
                        <a:lnTo>
                          <a:pt x="1867" y="1753"/>
                        </a:lnTo>
                        <a:lnTo>
                          <a:pt x="1866" y="1738"/>
                        </a:lnTo>
                        <a:lnTo>
                          <a:pt x="1864" y="1724"/>
                        </a:lnTo>
                        <a:lnTo>
                          <a:pt x="1862" y="1709"/>
                        </a:lnTo>
                        <a:lnTo>
                          <a:pt x="1862" y="1695"/>
                        </a:lnTo>
                        <a:lnTo>
                          <a:pt x="1860" y="1678"/>
                        </a:lnTo>
                        <a:lnTo>
                          <a:pt x="1860" y="1660"/>
                        </a:lnTo>
                        <a:lnTo>
                          <a:pt x="1858" y="1643"/>
                        </a:lnTo>
                        <a:lnTo>
                          <a:pt x="1858" y="1625"/>
                        </a:lnTo>
                        <a:lnTo>
                          <a:pt x="1854" y="1604"/>
                        </a:lnTo>
                        <a:lnTo>
                          <a:pt x="1854" y="1585"/>
                        </a:lnTo>
                        <a:lnTo>
                          <a:pt x="1850" y="1563"/>
                        </a:lnTo>
                        <a:lnTo>
                          <a:pt x="1850" y="1544"/>
                        </a:lnTo>
                        <a:lnTo>
                          <a:pt x="1846" y="1521"/>
                        </a:lnTo>
                        <a:lnTo>
                          <a:pt x="1846" y="1499"/>
                        </a:lnTo>
                        <a:lnTo>
                          <a:pt x="1842" y="1476"/>
                        </a:lnTo>
                        <a:lnTo>
                          <a:pt x="1842" y="1455"/>
                        </a:lnTo>
                        <a:lnTo>
                          <a:pt x="1838" y="1429"/>
                        </a:lnTo>
                        <a:lnTo>
                          <a:pt x="1836" y="1406"/>
                        </a:lnTo>
                        <a:lnTo>
                          <a:pt x="1835" y="1383"/>
                        </a:lnTo>
                        <a:lnTo>
                          <a:pt x="1833" y="1360"/>
                        </a:lnTo>
                        <a:lnTo>
                          <a:pt x="1829" y="1334"/>
                        </a:lnTo>
                        <a:lnTo>
                          <a:pt x="1827" y="1309"/>
                        </a:lnTo>
                        <a:lnTo>
                          <a:pt x="1825" y="1284"/>
                        </a:lnTo>
                        <a:lnTo>
                          <a:pt x="1823" y="1261"/>
                        </a:lnTo>
                        <a:lnTo>
                          <a:pt x="1817" y="1234"/>
                        </a:lnTo>
                        <a:lnTo>
                          <a:pt x="1815" y="1206"/>
                        </a:lnTo>
                        <a:lnTo>
                          <a:pt x="1809" y="1179"/>
                        </a:lnTo>
                        <a:lnTo>
                          <a:pt x="1807" y="1154"/>
                        </a:lnTo>
                        <a:lnTo>
                          <a:pt x="1803" y="1127"/>
                        </a:lnTo>
                        <a:lnTo>
                          <a:pt x="1800" y="1100"/>
                        </a:lnTo>
                        <a:lnTo>
                          <a:pt x="1796" y="1073"/>
                        </a:lnTo>
                        <a:lnTo>
                          <a:pt x="1794" y="1047"/>
                        </a:lnTo>
                        <a:lnTo>
                          <a:pt x="1788" y="1018"/>
                        </a:lnTo>
                        <a:lnTo>
                          <a:pt x="1784" y="991"/>
                        </a:lnTo>
                        <a:lnTo>
                          <a:pt x="1780" y="964"/>
                        </a:lnTo>
                        <a:lnTo>
                          <a:pt x="1776" y="939"/>
                        </a:lnTo>
                        <a:lnTo>
                          <a:pt x="1771" y="910"/>
                        </a:lnTo>
                        <a:lnTo>
                          <a:pt x="1767" y="884"/>
                        </a:lnTo>
                        <a:lnTo>
                          <a:pt x="1763" y="857"/>
                        </a:lnTo>
                        <a:lnTo>
                          <a:pt x="1759" y="832"/>
                        </a:lnTo>
                        <a:lnTo>
                          <a:pt x="1753" y="803"/>
                        </a:lnTo>
                        <a:lnTo>
                          <a:pt x="1747" y="778"/>
                        </a:lnTo>
                        <a:lnTo>
                          <a:pt x="1741" y="751"/>
                        </a:lnTo>
                        <a:lnTo>
                          <a:pt x="1738" y="725"/>
                        </a:lnTo>
                        <a:lnTo>
                          <a:pt x="1732" y="698"/>
                        </a:lnTo>
                        <a:lnTo>
                          <a:pt x="1726" y="673"/>
                        </a:lnTo>
                        <a:lnTo>
                          <a:pt x="1720" y="648"/>
                        </a:lnTo>
                        <a:lnTo>
                          <a:pt x="1716" y="625"/>
                        </a:lnTo>
                        <a:lnTo>
                          <a:pt x="1708" y="599"/>
                        </a:lnTo>
                        <a:lnTo>
                          <a:pt x="1703" y="574"/>
                        </a:lnTo>
                        <a:lnTo>
                          <a:pt x="1697" y="551"/>
                        </a:lnTo>
                        <a:lnTo>
                          <a:pt x="1691" y="528"/>
                        </a:lnTo>
                        <a:lnTo>
                          <a:pt x="1685" y="504"/>
                        </a:lnTo>
                        <a:lnTo>
                          <a:pt x="1679" y="481"/>
                        </a:lnTo>
                        <a:lnTo>
                          <a:pt x="1674" y="458"/>
                        </a:lnTo>
                        <a:lnTo>
                          <a:pt x="1668" y="438"/>
                        </a:lnTo>
                        <a:lnTo>
                          <a:pt x="1664" y="433"/>
                        </a:lnTo>
                        <a:lnTo>
                          <a:pt x="1662" y="417"/>
                        </a:lnTo>
                        <a:lnTo>
                          <a:pt x="1658" y="405"/>
                        </a:lnTo>
                        <a:lnTo>
                          <a:pt x="1656" y="396"/>
                        </a:lnTo>
                        <a:lnTo>
                          <a:pt x="1656" y="384"/>
                        </a:lnTo>
                        <a:lnTo>
                          <a:pt x="1656" y="372"/>
                        </a:lnTo>
                        <a:lnTo>
                          <a:pt x="1656" y="359"/>
                        </a:lnTo>
                        <a:lnTo>
                          <a:pt x="1658" y="345"/>
                        </a:lnTo>
                        <a:lnTo>
                          <a:pt x="1662" y="334"/>
                        </a:lnTo>
                        <a:lnTo>
                          <a:pt x="1670" y="324"/>
                        </a:lnTo>
                        <a:lnTo>
                          <a:pt x="1677" y="312"/>
                        </a:lnTo>
                        <a:lnTo>
                          <a:pt x="1689" y="303"/>
                        </a:lnTo>
                        <a:lnTo>
                          <a:pt x="1703" y="297"/>
                        </a:lnTo>
                        <a:lnTo>
                          <a:pt x="1722" y="293"/>
                        </a:lnTo>
                        <a:lnTo>
                          <a:pt x="1734" y="289"/>
                        </a:lnTo>
                        <a:lnTo>
                          <a:pt x="1745" y="287"/>
                        </a:lnTo>
                        <a:lnTo>
                          <a:pt x="1757" y="283"/>
                        </a:lnTo>
                        <a:lnTo>
                          <a:pt x="1771" y="281"/>
                        </a:lnTo>
                        <a:lnTo>
                          <a:pt x="1780" y="277"/>
                        </a:lnTo>
                        <a:lnTo>
                          <a:pt x="1792" y="276"/>
                        </a:lnTo>
                        <a:lnTo>
                          <a:pt x="1803" y="272"/>
                        </a:lnTo>
                        <a:lnTo>
                          <a:pt x="1815" y="270"/>
                        </a:lnTo>
                        <a:lnTo>
                          <a:pt x="1833" y="264"/>
                        </a:lnTo>
                        <a:lnTo>
                          <a:pt x="1852" y="260"/>
                        </a:lnTo>
                        <a:lnTo>
                          <a:pt x="1867" y="254"/>
                        </a:lnTo>
                        <a:lnTo>
                          <a:pt x="1881" y="250"/>
                        </a:lnTo>
                        <a:lnTo>
                          <a:pt x="1895" y="239"/>
                        </a:lnTo>
                        <a:lnTo>
                          <a:pt x="1899" y="229"/>
                        </a:lnTo>
                        <a:lnTo>
                          <a:pt x="1893" y="223"/>
                        </a:lnTo>
                        <a:lnTo>
                          <a:pt x="1883" y="219"/>
                        </a:lnTo>
                        <a:lnTo>
                          <a:pt x="1869" y="213"/>
                        </a:lnTo>
                        <a:lnTo>
                          <a:pt x="1852" y="210"/>
                        </a:lnTo>
                        <a:lnTo>
                          <a:pt x="1840" y="206"/>
                        </a:lnTo>
                        <a:lnTo>
                          <a:pt x="1829" y="202"/>
                        </a:lnTo>
                        <a:lnTo>
                          <a:pt x="1819" y="198"/>
                        </a:lnTo>
                        <a:lnTo>
                          <a:pt x="1811" y="196"/>
                        </a:lnTo>
                        <a:lnTo>
                          <a:pt x="1794" y="190"/>
                        </a:lnTo>
                        <a:lnTo>
                          <a:pt x="1778" y="184"/>
                        </a:lnTo>
                        <a:lnTo>
                          <a:pt x="1761" y="179"/>
                        </a:lnTo>
                        <a:lnTo>
                          <a:pt x="1745" y="173"/>
                        </a:lnTo>
                        <a:lnTo>
                          <a:pt x="1726" y="169"/>
                        </a:lnTo>
                        <a:lnTo>
                          <a:pt x="1708" y="167"/>
                        </a:lnTo>
                        <a:lnTo>
                          <a:pt x="1695" y="165"/>
                        </a:lnTo>
                        <a:lnTo>
                          <a:pt x="1683" y="163"/>
                        </a:lnTo>
                        <a:lnTo>
                          <a:pt x="1670" y="161"/>
                        </a:lnTo>
                        <a:lnTo>
                          <a:pt x="1658" y="161"/>
                        </a:lnTo>
                        <a:lnTo>
                          <a:pt x="1643" y="161"/>
                        </a:lnTo>
                        <a:lnTo>
                          <a:pt x="1627" y="161"/>
                        </a:lnTo>
                        <a:lnTo>
                          <a:pt x="1610" y="161"/>
                        </a:lnTo>
                        <a:lnTo>
                          <a:pt x="1594" y="163"/>
                        </a:lnTo>
                        <a:lnTo>
                          <a:pt x="1573" y="163"/>
                        </a:lnTo>
                        <a:lnTo>
                          <a:pt x="1553" y="165"/>
                        </a:lnTo>
                        <a:lnTo>
                          <a:pt x="1542" y="165"/>
                        </a:lnTo>
                        <a:lnTo>
                          <a:pt x="1530" y="167"/>
                        </a:lnTo>
                        <a:lnTo>
                          <a:pt x="1518" y="169"/>
                        </a:lnTo>
                        <a:lnTo>
                          <a:pt x="1509" y="171"/>
                        </a:lnTo>
                        <a:lnTo>
                          <a:pt x="1495" y="171"/>
                        </a:lnTo>
                        <a:lnTo>
                          <a:pt x="1483" y="173"/>
                        </a:lnTo>
                        <a:lnTo>
                          <a:pt x="1470" y="175"/>
                        </a:lnTo>
                        <a:lnTo>
                          <a:pt x="1458" y="177"/>
                        </a:lnTo>
                        <a:lnTo>
                          <a:pt x="1443" y="177"/>
                        </a:lnTo>
                        <a:lnTo>
                          <a:pt x="1429" y="180"/>
                        </a:lnTo>
                        <a:lnTo>
                          <a:pt x="1416" y="182"/>
                        </a:lnTo>
                        <a:lnTo>
                          <a:pt x="1402" y="186"/>
                        </a:lnTo>
                        <a:lnTo>
                          <a:pt x="1385" y="186"/>
                        </a:lnTo>
                        <a:lnTo>
                          <a:pt x="1367" y="190"/>
                        </a:lnTo>
                        <a:lnTo>
                          <a:pt x="1350" y="192"/>
                        </a:lnTo>
                        <a:lnTo>
                          <a:pt x="1334" y="198"/>
                        </a:lnTo>
                        <a:lnTo>
                          <a:pt x="1315" y="200"/>
                        </a:lnTo>
                        <a:lnTo>
                          <a:pt x="1297" y="204"/>
                        </a:lnTo>
                        <a:lnTo>
                          <a:pt x="1280" y="210"/>
                        </a:lnTo>
                        <a:lnTo>
                          <a:pt x="1262" y="215"/>
                        </a:lnTo>
                        <a:lnTo>
                          <a:pt x="1241" y="221"/>
                        </a:lnTo>
                        <a:lnTo>
                          <a:pt x="1222" y="227"/>
                        </a:lnTo>
                        <a:lnTo>
                          <a:pt x="1202" y="233"/>
                        </a:lnTo>
                        <a:lnTo>
                          <a:pt x="1183" y="239"/>
                        </a:lnTo>
                        <a:lnTo>
                          <a:pt x="1162" y="244"/>
                        </a:lnTo>
                        <a:lnTo>
                          <a:pt x="1142" y="252"/>
                        </a:lnTo>
                        <a:lnTo>
                          <a:pt x="1121" y="260"/>
                        </a:lnTo>
                        <a:lnTo>
                          <a:pt x="1101" y="268"/>
                        </a:lnTo>
                        <a:lnTo>
                          <a:pt x="1078" y="274"/>
                        </a:lnTo>
                        <a:lnTo>
                          <a:pt x="1059" y="281"/>
                        </a:lnTo>
                        <a:lnTo>
                          <a:pt x="1035" y="289"/>
                        </a:lnTo>
                        <a:lnTo>
                          <a:pt x="1016" y="297"/>
                        </a:lnTo>
                        <a:lnTo>
                          <a:pt x="993" y="305"/>
                        </a:lnTo>
                        <a:lnTo>
                          <a:pt x="973" y="312"/>
                        </a:lnTo>
                        <a:lnTo>
                          <a:pt x="950" y="320"/>
                        </a:lnTo>
                        <a:lnTo>
                          <a:pt x="931" y="330"/>
                        </a:lnTo>
                        <a:lnTo>
                          <a:pt x="907" y="338"/>
                        </a:lnTo>
                        <a:lnTo>
                          <a:pt x="886" y="347"/>
                        </a:lnTo>
                        <a:lnTo>
                          <a:pt x="865" y="355"/>
                        </a:lnTo>
                        <a:lnTo>
                          <a:pt x="845" y="365"/>
                        </a:lnTo>
                        <a:lnTo>
                          <a:pt x="822" y="372"/>
                        </a:lnTo>
                        <a:lnTo>
                          <a:pt x="803" y="382"/>
                        </a:lnTo>
                        <a:lnTo>
                          <a:pt x="781" y="390"/>
                        </a:lnTo>
                        <a:lnTo>
                          <a:pt x="762" y="400"/>
                        </a:lnTo>
                        <a:lnTo>
                          <a:pt x="739" y="405"/>
                        </a:lnTo>
                        <a:lnTo>
                          <a:pt x="719" y="415"/>
                        </a:lnTo>
                        <a:lnTo>
                          <a:pt x="698" y="421"/>
                        </a:lnTo>
                        <a:lnTo>
                          <a:pt x="679" y="431"/>
                        </a:lnTo>
                        <a:lnTo>
                          <a:pt x="657" y="438"/>
                        </a:lnTo>
                        <a:lnTo>
                          <a:pt x="638" y="446"/>
                        </a:lnTo>
                        <a:lnTo>
                          <a:pt x="619" y="454"/>
                        </a:lnTo>
                        <a:lnTo>
                          <a:pt x="601" y="464"/>
                        </a:lnTo>
                        <a:lnTo>
                          <a:pt x="582" y="469"/>
                        </a:lnTo>
                        <a:lnTo>
                          <a:pt x="562" y="479"/>
                        </a:lnTo>
                        <a:lnTo>
                          <a:pt x="545" y="485"/>
                        </a:lnTo>
                        <a:lnTo>
                          <a:pt x="529" y="495"/>
                        </a:lnTo>
                        <a:lnTo>
                          <a:pt x="512" y="500"/>
                        </a:lnTo>
                        <a:lnTo>
                          <a:pt x="494" y="508"/>
                        </a:lnTo>
                        <a:lnTo>
                          <a:pt x="479" y="516"/>
                        </a:lnTo>
                        <a:lnTo>
                          <a:pt x="465" y="524"/>
                        </a:lnTo>
                        <a:lnTo>
                          <a:pt x="448" y="528"/>
                        </a:lnTo>
                        <a:lnTo>
                          <a:pt x="434" y="533"/>
                        </a:lnTo>
                        <a:lnTo>
                          <a:pt x="419" y="539"/>
                        </a:lnTo>
                        <a:lnTo>
                          <a:pt x="407" y="545"/>
                        </a:lnTo>
                        <a:lnTo>
                          <a:pt x="395" y="549"/>
                        </a:lnTo>
                        <a:lnTo>
                          <a:pt x="384" y="555"/>
                        </a:lnTo>
                        <a:lnTo>
                          <a:pt x="372" y="559"/>
                        </a:lnTo>
                        <a:lnTo>
                          <a:pt x="363" y="564"/>
                        </a:lnTo>
                        <a:lnTo>
                          <a:pt x="343" y="570"/>
                        </a:lnTo>
                        <a:lnTo>
                          <a:pt x="330" y="576"/>
                        </a:lnTo>
                        <a:lnTo>
                          <a:pt x="316" y="580"/>
                        </a:lnTo>
                        <a:lnTo>
                          <a:pt x="308" y="584"/>
                        </a:lnTo>
                        <a:lnTo>
                          <a:pt x="295" y="580"/>
                        </a:lnTo>
                        <a:lnTo>
                          <a:pt x="293" y="574"/>
                        </a:lnTo>
                        <a:lnTo>
                          <a:pt x="297" y="561"/>
                        </a:lnTo>
                        <a:lnTo>
                          <a:pt x="308" y="545"/>
                        </a:lnTo>
                        <a:lnTo>
                          <a:pt x="314" y="533"/>
                        </a:lnTo>
                        <a:lnTo>
                          <a:pt x="324" y="524"/>
                        </a:lnTo>
                        <a:lnTo>
                          <a:pt x="333" y="512"/>
                        </a:lnTo>
                        <a:lnTo>
                          <a:pt x="347" y="502"/>
                        </a:lnTo>
                        <a:lnTo>
                          <a:pt x="359" y="489"/>
                        </a:lnTo>
                        <a:lnTo>
                          <a:pt x="374" y="475"/>
                        </a:lnTo>
                        <a:lnTo>
                          <a:pt x="392" y="462"/>
                        </a:lnTo>
                        <a:lnTo>
                          <a:pt x="409" y="448"/>
                        </a:lnTo>
                        <a:lnTo>
                          <a:pt x="427" y="433"/>
                        </a:lnTo>
                        <a:lnTo>
                          <a:pt x="444" y="417"/>
                        </a:lnTo>
                        <a:lnTo>
                          <a:pt x="463" y="402"/>
                        </a:lnTo>
                        <a:lnTo>
                          <a:pt x="485" y="388"/>
                        </a:lnTo>
                        <a:lnTo>
                          <a:pt x="494" y="378"/>
                        </a:lnTo>
                        <a:lnTo>
                          <a:pt x="506" y="372"/>
                        </a:lnTo>
                        <a:lnTo>
                          <a:pt x="516" y="363"/>
                        </a:lnTo>
                        <a:lnTo>
                          <a:pt x="527" y="357"/>
                        </a:lnTo>
                        <a:lnTo>
                          <a:pt x="539" y="349"/>
                        </a:lnTo>
                        <a:lnTo>
                          <a:pt x="551" y="341"/>
                        </a:lnTo>
                        <a:lnTo>
                          <a:pt x="562" y="334"/>
                        </a:lnTo>
                        <a:lnTo>
                          <a:pt x="576" y="328"/>
                        </a:lnTo>
                        <a:lnTo>
                          <a:pt x="587" y="320"/>
                        </a:lnTo>
                        <a:lnTo>
                          <a:pt x="599" y="312"/>
                        </a:lnTo>
                        <a:lnTo>
                          <a:pt x="611" y="305"/>
                        </a:lnTo>
                        <a:lnTo>
                          <a:pt x="622" y="299"/>
                        </a:lnTo>
                        <a:lnTo>
                          <a:pt x="634" y="291"/>
                        </a:lnTo>
                        <a:lnTo>
                          <a:pt x="648" y="283"/>
                        </a:lnTo>
                        <a:lnTo>
                          <a:pt x="659" y="277"/>
                        </a:lnTo>
                        <a:lnTo>
                          <a:pt x="673" y="272"/>
                        </a:lnTo>
                        <a:lnTo>
                          <a:pt x="684" y="264"/>
                        </a:lnTo>
                        <a:lnTo>
                          <a:pt x="696" y="258"/>
                        </a:lnTo>
                        <a:lnTo>
                          <a:pt x="710" y="252"/>
                        </a:lnTo>
                        <a:lnTo>
                          <a:pt x="723" y="246"/>
                        </a:lnTo>
                        <a:lnTo>
                          <a:pt x="735" y="241"/>
                        </a:lnTo>
                        <a:lnTo>
                          <a:pt x="748" y="235"/>
                        </a:lnTo>
                        <a:lnTo>
                          <a:pt x="762" y="229"/>
                        </a:lnTo>
                        <a:lnTo>
                          <a:pt x="776" y="225"/>
                        </a:lnTo>
                        <a:lnTo>
                          <a:pt x="787" y="219"/>
                        </a:lnTo>
                        <a:lnTo>
                          <a:pt x="799" y="213"/>
                        </a:lnTo>
                        <a:lnTo>
                          <a:pt x="811" y="208"/>
                        </a:lnTo>
                        <a:lnTo>
                          <a:pt x="824" y="202"/>
                        </a:lnTo>
                        <a:lnTo>
                          <a:pt x="836" y="196"/>
                        </a:lnTo>
                        <a:lnTo>
                          <a:pt x="847" y="192"/>
                        </a:lnTo>
                        <a:lnTo>
                          <a:pt x="859" y="188"/>
                        </a:lnTo>
                        <a:lnTo>
                          <a:pt x="873" y="184"/>
                        </a:lnTo>
                        <a:lnTo>
                          <a:pt x="884" y="179"/>
                        </a:lnTo>
                        <a:lnTo>
                          <a:pt x="896" y="175"/>
                        </a:lnTo>
                        <a:lnTo>
                          <a:pt x="907" y="171"/>
                        </a:lnTo>
                        <a:lnTo>
                          <a:pt x="921" y="167"/>
                        </a:lnTo>
                        <a:lnTo>
                          <a:pt x="933" y="163"/>
                        </a:lnTo>
                        <a:lnTo>
                          <a:pt x="946" y="161"/>
                        </a:lnTo>
                        <a:lnTo>
                          <a:pt x="958" y="157"/>
                        </a:lnTo>
                        <a:lnTo>
                          <a:pt x="971" y="155"/>
                        </a:lnTo>
                        <a:lnTo>
                          <a:pt x="981" y="149"/>
                        </a:lnTo>
                        <a:lnTo>
                          <a:pt x="993" y="148"/>
                        </a:lnTo>
                        <a:lnTo>
                          <a:pt x="1004" y="142"/>
                        </a:lnTo>
                        <a:lnTo>
                          <a:pt x="1016" y="140"/>
                        </a:lnTo>
                        <a:lnTo>
                          <a:pt x="1028" y="136"/>
                        </a:lnTo>
                        <a:lnTo>
                          <a:pt x="1039" y="134"/>
                        </a:lnTo>
                        <a:lnTo>
                          <a:pt x="1051" y="130"/>
                        </a:lnTo>
                        <a:lnTo>
                          <a:pt x="1063" y="130"/>
                        </a:lnTo>
                        <a:lnTo>
                          <a:pt x="1074" y="126"/>
                        </a:lnTo>
                        <a:lnTo>
                          <a:pt x="1086" y="124"/>
                        </a:lnTo>
                        <a:lnTo>
                          <a:pt x="1098" y="120"/>
                        </a:lnTo>
                        <a:lnTo>
                          <a:pt x="1109" y="118"/>
                        </a:lnTo>
                        <a:lnTo>
                          <a:pt x="1121" y="115"/>
                        </a:lnTo>
                        <a:lnTo>
                          <a:pt x="1132" y="115"/>
                        </a:lnTo>
                        <a:lnTo>
                          <a:pt x="1144" y="111"/>
                        </a:lnTo>
                        <a:lnTo>
                          <a:pt x="1156" y="111"/>
                        </a:lnTo>
                        <a:lnTo>
                          <a:pt x="1175" y="105"/>
                        </a:lnTo>
                        <a:lnTo>
                          <a:pt x="1196" y="101"/>
                        </a:lnTo>
                        <a:lnTo>
                          <a:pt x="1206" y="97"/>
                        </a:lnTo>
                        <a:lnTo>
                          <a:pt x="1218" y="97"/>
                        </a:lnTo>
                        <a:lnTo>
                          <a:pt x="1227" y="93"/>
                        </a:lnTo>
                        <a:lnTo>
                          <a:pt x="1239" y="93"/>
                        </a:lnTo>
                        <a:lnTo>
                          <a:pt x="1259" y="89"/>
                        </a:lnTo>
                        <a:lnTo>
                          <a:pt x="1278" y="87"/>
                        </a:lnTo>
                        <a:lnTo>
                          <a:pt x="1297" y="84"/>
                        </a:lnTo>
                        <a:lnTo>
                          <a:pt x="1319" y="84"/>
                        </a:lnTo>
                        <a:lnTo>
                          <a:pt x="1336" y="80"/>
                        </a:lnTo>
                        <a:lnTo>
                          <a:pt x="1355" y="78"/>
                        </a:lnTo>
                        <a:lnTo>
                          <a:pt x="1373" y="74"/>
                        </a:lnTo>
                        <a:lnTo>
                          <a:pt x="1392" y="74"/>
                        </a:lnTo>
                        <a:lnTo>
                          <a:pt x="1408" y="72"/>
                        </a:lnTo>
                        <a:lnTo>
                          <a:pt x="1425" y="70"/>
                        </a:lnTo>
                        <a:lnTo>
                          <a:pt x="1443" y="68"/>
                        </a:lnTo>
                        <a:lnTo>
                          <a:pt x="1460" y="68"/>
                        </a:lnTo>
                        <a:lnTo>
                          <a:pt x="1474" y="64"/>
                        </a:lnTo>
                        <a:lnTo>
                          <a:pt x="1487" y="62"/>
                        </a:lnTo>
                        <a:lnTo>
                          <a:pt x="1501" y="60"/>
                        </a:lnTo>
                        <a:lnTo>
                          <a:pt x="1516" y="58"/>
                        </a:lnTo>
                        <a:lnTo>
                          <a:pt x="1530" y="54"/>
                        </a:lnTo>
                        <a:lnTo>
                          <a:pt x="1544" y="53"/>
                        </a:lnTo>
                        <a:lnTo>
                          <a:pt x="1555" y="51"/>
                        </a:lnTo>
                        <a:lnTo>
                          <a:pt x="1569" y="49"/>
                        </a:lnTo>
                        <a:lnTo>
                          <a:pt x="1579" y="45"/>
                        </a:lnTo>
                        <a:lnTo>
                          <a:pt x="1590" y="43"/>
                        </a:lnTo>
                        <a:lnTo>
                          <a:pt x="1600" y="39"/>
                        </a:lnTo>
                        <a:lnTo>
                          <a:pt x="1610" y="37"/>
                        </a:lnTo>
                        <a:lnTo>
                          <a:pt x="1625" y="31"/>
                        </a:lnTo>
                        <a:lnTo>
                          <a:pt x="1639" y="25"/>
                        </a:lnTo>
                        <a:lnTo>
                          <a:pt x="1650" y="14"/>
                        </a:lnTo>
                        <a:lnTo>
                          <a:pt x="1644" y="6"/>
                        </a:lnTo>
                        <a:lnTo>
                          <a:pt x="1633" y="2"/>
                        </a:lnTo>
                        <a:lnTo>
                          <a:pt x="1615" y="0"/>
                        </a:lnTo>
                        <a:lnTo>
                          <a:pt x="1604" y="0"/>
                        </a:lnTo>
                        <a:lnTo>
                          <a:pt x="1592" y="0"/>
                        </a:lnTo>
                        <a:lnTo>
                          <a:pt x="1579" y="0"/>
                        </a:lnTo>
                        <a:lnTo>
                          <a:pt x="1565" y="2"/>
                        </a:lnTo>
                        <a:lnTo>
                          <a:pt x="1553" y="2"/>
                        </a:lnTo>
                        <a:lnTo>
                          <a:pt x="1544" y="2"/>
                        </a:lnTo>
                        <a:lnTo>
                          <a:pt x="1532" y="2"/>
                        </a:lnTo>
                        <a:lnTo>
                          <a:pt x="1520" y="2"/>
                        </a:lnTo>
                        <a:lnTo>
                          <a:pt x="1507" y="2"/>
                        </a:lnTo>
                        <a:lnTo>
                          <a:pt x="1495" y="4"/>
                        </a:lnTo>
                        <a:lnTo>
                          <a:pt x="1482" y="6"/>
                        </a:lnTo>
                        <a:lnTo>
                          <a:pt x="1468" y="8"/>
                        </a:lnTo>
                        <a:lnTo>
                          <a:pt x="1452" y="8"/>
                        </a:lnTo>
                        <a:lnTo>
                          <a:pt x="1437" y="10"/>
                        </a:lnTo>
                        <a:lnTo>
                          <a:pt x="1421" y="12"/>
                        </a:lnTo>
                        <a:lnTo>
                          <a:pt x="1406" y="14"/>
                        </a:lnTo>
                        <a:lnTo>
                          <a:pt x="1388" y="14"/>
                        </a:lnTo>
                        <a:lnTo>
                          <a:pt x="1371" y="18"/>
                        </a:lnTo>
                        <a:lnTo>
                          <a:pt x="1354" y="20"/>
                        </a:lnTo>
                        <a:lnTo>
                          <a:pt x="1338" y="23"/>
                        </a:lnTo>
                        <a:lnTo>
                          <a:pt x="1319" y="23"/>
                        </a:lnTo>
                        <a:lnTo>
                          <a:pt x="1299" y="27"/>
                        </a:lnTo>
                        <a:lnTo>
                          <a:pt x="1280" y="29"/>
                        </a:lnTo>
                        <a:lnTo>
                          <a:pt x="1260" y="33"/>
                        </a:lnTo>
                        <a:lnTo>
                          <a:pt x="1239" y="35"/>
                        </a:lnTo>
                        <a:lnTo>
                          <a:pt x="1220" y="41"/>
                        </a:lnTo>
                        <a:lnTo>
                          <a:pt x="1200" y="43"/>
                        </a:lnTo>
                        <a:lnTo>
                          <a:pt x="1181" y="49"/>
                        </a:lnTo>
                        <a:lnTo>
                          <a:pt x="1158" y="53"/>
                        </a:lnTo>
                        <a:lnTo>
                          <a:pt x="1136" y="56"/>
                        </a:lnTo>
                        <a:lnTo>
                          <a:pt x="1115" y="60"/>
                        </a:lnTo>
                        <a:lnTo>
                          <a:pt x="1094" y="66"/>
                        </a:lnTo>
                        <a:lnTo>
                          <a:pt x="1070" y="70"/>
                        </a:lnTo>
                        <a:lnTo>
                          <a:pt x="1049" y="76"/>
                        </a:lnTo>
                        <a:lnTo>
                          <a:pt x="1028" y="82"/>
                        </a:lnTo>
                        <a:lnTo>
                          <a:pt x="1006" y="87"/>
                        </a:lnTo>
                        <a:lnTo>
                          <a:pt x="983" y="91"/>
                        </a:lnTo>
                        <a:lnTo>
                          <a:pt x="960" y="97"/>
                        </a:lnTo>
                        <a:lnTo>
                          <a:pt x="937" y="103"/>
                        </a:lnTo>
                        <a:lnTo>
                          <a:pt x="913" y="109"/>
                        </a:lnTo>
                        <a:lnTo>
                          <a:pt x="890" y="115"/>
                        </a:lnTo>
                        <a:lnTo>
                          <a:pt x="867" y="122"/>
                        </a:lnTo>
                        <a:lnTo>
                          <a:pt x="843" y="128"/>
                        </a:lnTo>
                        <a:lnTo>
                          <a:pt x="822" y="136"/>
                        </a:lnTo>
                        <a:lnTo>
                          <a:pt x="799" y="142"/>
                        </a:lnTo>
                        <a:lnTo>
                          <a:pt x="776" y="149"/>
                        </a:lnTo>
                        <a:lnTo>
                          <a:pt x="752" y="157"/>
                        </a:lnTo>
                        <a:lnTo>
                          <a:pt x="729" y="167"/>
                        </a:lnTo>
                        <a:lnTo>
                          <a:pt x="706" y="175"/>
                        </a:lnTo>
                        <a:lnTo>
                          <a:pt x="684" y="184"/>
                        </a:lnTo>
                        <a:lnTo>
                          <a:pt x="661" y="192"/>
                        </a:lnTo>
                        <a:lnTo>
                          <a:pt x="640" y="204"/>
                        </a:lnTo>
                        <a:lnTo>
                          <a:pt x="617" y="212"/>
                        </a:lnTo>
                        <a:lnTo>
                          <a:pt x="593" y="221"/>
                        </a:lnTo>
                        <a:lnTo>
                          <a:pt x="572" y="229"/>
                        </a:lnTo>
                        <a:lnTo>
                          <a:pt x="551" y="241"/>
                        </a:lnTo>
                        <a:lnTo>
                          <a:pt x="527" y="250"/>
                        </a:lnTo>
                        <a:lnTo>
                          <a:pt x="508" y="262"/>
                        </a:lnTo>
                        <a:lnTo>
                          <a:pt x="487" y="274"/>
                        </a:lnTo>
                        <a:lnTo>
                          <a:pt x="467" y="285"/>
                        </a:lnTo>
                        <a:lnTo>
                          <a:pt x="446" y="295"/>
                        </a:lnTo>
                        <a:lnTo>
                          <a:pt x="427" y="307"/>
                        </a:lnTo>
                        <a:lnTo>
                          <a:pt x="405" y="318"/>
                        </a:lnTo>
                        <a:lnTo>
                          <a:pt x="388" y="332"/>
                        </a:lnTo>
                        <a:lnTo>
                          <a:pt x="368" y="343"/>
                        </a:lnTo>
                        <a:lnTo>
                          <a:pt x="351" y="357"/>
                        </a:lnTo>
                        <a:lnTo>
                          <a:pt x="333" y="371"/>
                        </a:lnTo>
                        <a:lnTo>
                          <a:pt x="316" y="386"/>
                        </a:lnTo>
                        <a:lnTo>
                          <a:pt x="297" y="398"/>
                        </a:lnTo>
                        <a:lnTo>
                          <a:pt x="279" y="411"/>
                        </a:lnTo>
                        <a:lnTo>
                          <a:pt x="264" y="423"/>
                        </a:lnTo>
                        <a:lnTo>
                          <a:pt x="248" y="436"/>
                        </a:lnTo>
                        <a:lnTo>
                          <a:pt x="233" y="448"/>
                        </a:lnTo>
                        <a:lnTo>
                          <a:pt x="219" y="462"/>
                        </a:lnTo>
                        <a:lnTo>
                          <a:pt x="205" y="475"/>
                        </a:lnTo>
                        <a:lnTo>
                          <a:pt x="194" y="489"/>
                        </a:lnTo>
                        <a:lnTo>
                          <a:pt x="180" y="500"/>
                        </a:lnTo>
                        <a:lnTo>
                          <a:pt x="169" y="512"/>
                        </a:lnTo>
                        <a:lnTo>
                          <a:pt x="157" y="524"/>
                        </a:lnTo>
                        <a:lnTo>
                          <a:pt x="145" y="535"/>
                        </a:lnTo>
                        <a:lnTo>
                          <a:pt x="134" y="547"/>
                        </a:lnTo>
                        <a:lnTo>
                          <a:pt x="126" y="559"/>
                        </a:lnTo>
                        <a:lnTo>
                          <a:pt x="116" y="570"/>
                        </a:lnTo>
                        <a:lnTo>
                          <a:pt x="108" y="584"/>
                        </a:lnTo>
                        <a:lnTo>
                          <a:pt x="91" y="603"/>
                        </a:lnTo>
                        <a:lnTo>
                          <a:pt x="75" y="625"/>
                        </a:lnTo>
                        <a:lnTo>
                          <a:pt x="62" y="644"/>
                        </a:lnTo>
                        <a:lnTo>
                          <a:pt x="52" y="665"/>
                        </a:lnTo>
                        <a:lnTo>
                          <a:pt x="41" y="683"/>
                        </a:lnTo>
                        <a:lnTo>
                          <a:pt x="33" y="702"/>
                        </a:lnTo>
                        <a:lnTo>
                          <a:pt x="25" y="720"/>
                        </a:lnTo>
                        <a:lnTo>
                          <a:pt x="19" y="737"/>
                        </a:lnTo>
                        <a:lnTo>
                          <a:pt x="13" y="751"/>
                        </a:lnTo>
                        <a:lnTo>
                          <a:pt x="8" y="764"/>
                        </a:lnTo>
                        <a:lnTo>
                          <a:pt x="4" y="778"/>
                        </a:lnTo>
                        <a:lnTo>
                          <a:pt x="4" y="791"/>
                        </a:lnTo>
                        <a:lnTo>
                          <a:pt x="0" y="801"/>
                        </a:lnTo>
                        <a:lnTo>
                          <a:pt x="0" y="813"/>
                        </a:lnTo>
                        <a:lnTo>
                          <a:pt x="0" y="822"/>
                        </a:lnTo>
                        <a:lnTo>
                          <a:pt x="0" y="834"/>
                        </a:lnTo>
                        <a:lnTo>
                          <a:pt x="0" y="848"/>
                        </a:lnTo>
                        <a:lnTo>
                          <a:pt x="2" y="859"/>
                        </a:lnTo>
                        <a:lnTo>
                          <a:pt x="2" y="865"/>
                        </a:lnTo>
                        <a:lnTo>
                          <a:pt x="4" y="869"/>
                        </a:lnTo>
                        <a:close/>
                      </a:path>
                    </a:pathLst>
                  </a:custGeom>
                  <a:solidFill>
                    <a:srgbClr val="f1a4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-1667880" y="-478080"/>
                    <a:ext cx="44064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7" h="374">
                        <a:moveTo>
                          <a:pt x="0" y="304"/>
                        </a:moveTo>
                        <a:lnTo>
                          <a:pt x="1550" y="0"/>
                        </a:lnTo>
                        <a:lnTo>
                          <a:pt x="1577" y="108"/>
                        </a:lnTo>
                        <a:lnTo>
                          <a:pt x="6" y="374"/>
                        </a:lnTo>
                        <a:lnTo>
                          <a:pt x="0" y="30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-1660680" y="-427680"/>
                    <a:ext cx="4327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47" h="302">
                        <a:moveTo>
                          <a:pt x="0" y="248"/>
                        </a:moveTo>
                        <a:lnTo>
                          <a:pt x="1528" y="0"/>
                        </a:lnTo>
                        <a:lnTo>
                          <a:pt x="1547" y="54"/>
                        </a:lnTo>
                        <a:lnTo>
                          <a:pt x="5" y="302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-1179720" y="-443520"/>
                    <a:ext cx="993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77">
                        <a:moveTo>
                          <a:pt x="0" y="23"/>
                        </a:moveTo>
                        <a:lnTo>
                          <a:pt x="349" y="0"/>
                        </a:lnTo>
                        <a:lnTo>
                          <a:pt x="355" y="54"/>
                        </a:lnTo>
                        <a:lnTo>
                          <a:pt x="21" y="77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-1188000" y="-486360"/>
                    <a:ext cx="1011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107">
                        <a:moveTo>
                          <a:pt x="0" y="12"/>
                        </a:moveTo>
                        <a:lnTo>
                          <a:pt x="363" y="0"/>
                        </a:lnTo>
                        <a:lnTo>
                          <a:pt x="357" y="72"/>
                        </a:lnTo>
                        <a:lnTo>
                          <a:pt x="25" y="107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-1491840" y="-178200"/>
                    <a:ext cx="34776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5" h="584">
                        <a:moveTo>
                          <a:pt x="0" y="19"/>
                        </a:moveTo>
                        <a:lnTo>
                          <a:pt x="4" y="23"/>
                        </a:lnTo>
                        <a:lnTo>
                          <a:pt x="17" y="41"/>
                        </a:lnTo>
                        <a:lnTo>
                          <a:pt x="27" y="50"/>
                        </a:lnTo>
                        <a:lnTo>
                          <a:pt x="39" y="64"/>
                        </a:lnTo>
                        <a:lnTo>
                          <a:pt x="54" y="79"/>
                        </a:lnTo>
                        <a:lnTo>
                          <a:pt x="72" y="99"/>
                        </a:lnTo>
                        <a:lnTo>
                          <a:pt x="79" y="107"/>
                        </a:lnTo>
                        <a:lnTo>
                          <a:pt x="89" y="116"/>
                        </a:lnTo>
                        <a:lnTo>
                          <a:pt x="99" y="126"/>
                        </a:lnTo>
                        <a:lnTo>
                          <a:pt x="110" y="138"/>
                        </a:lnTo>
                        <a:lnTo>
                          <a:pt x="120" y="149"/>
                        </a:lnTo>
                        <a:lnTo>
                          <a:pt x="132" y="161"/>
                        </a:lnTo>
                        <a:lnTo>
                          <a:pt x="145" y="173"/>
                        </a:lnTo>
                        <a:lnTo>
                          <a:pt x="159" y="184"/>
                        </a:lnTo>
                        <a:lnTo>
                          <a:pt x="170" y="196"/>
                        </a:lnTo>
                        <a:lnTo>
                          <a:pt x="184" y="207"/>
                        </a:lnTo>
                        <a:lnTo>
                          <a:pt x="198" y="219"/>
                        </a:lnTo>
                        <a:lnTo>
                          <a:pt x="215" y="231"/>
                        </a:lnTo>
                        <a:lnTo>
                          <a:pt x="229" y="242"/>
                        </a:lnTo>
                        <a:lnTo>
                          <a:pt x="244" y="256"/>
                        </a:lnTo>
                        <a:lnTo>
                          <a:pt x="262" y="270"/>
                        </a:lnTo>
                        <a:lnTo>
                          <a:pt x="279" y="283"/>
                        </a:lnTo>
                        <a:lnTo>
                          <a:pt x="295" y="295"/>
                        </a:lnTo>
                        <a:lnTo>
                          <a:pt x="312" y="306"/>
                        </a:lnTo>
                        <a:lnTo>
                          <a:pt x="329" y="318"/>
                        </a:lnTo>
                        <a:lnTo>
                          <a:pt x="349" y="332"/>
                        </a:lnTo>
                        <a:lnTo>
                          <a:pt x="366" y="343"/>
                        </a:lnTo>
                        <a:lnTo>
                          <a:pt x="386" y="357"/>
                        </a:lnTo>
                        <a:lnTo>
                          <a:pt x="405" y="368"/>
                        </a:lnTo>
                        <a:lnTo>
                          <a:pt x="426" y="382"/>
                        </a:lnTo>
                        <a:lnTo>
                          <a:pt x="446" y="394"/>
                        </a:lnTo>
                        <a:lnTo>
                          <a:pt x="467" y="405"/>
                        </a:lnTo>
                        <a:lnTo>
                          <a:pt x="487" y="417"/>
                        </a:lnTo>
                        <a:lnTo>
                          <a:pt x="510" y="429"/>
                        </a:lnTo>
                        <a:lnTo>
                          <a:pt x="531" y="440"/>
                        </a:lnTo>
                        <a:lnTo>
                          <a:pt x="554" y="452"/>
                        </a:lnTo>
                        <a:lnTo>
                          <a:pt x="578" y="463"/>
                        </a:lnTo>
                        <a:lnTo>
                          <a:pt x="603" y="475"/>
                        </a:lnTo>
                        <a:lnTo>
                          <a:pt x="626" y="483"/>
                        </a:lnTo>
                        <a:lnTo>
                          <a:pt x="649" y="493"/>
                        </a:lnTo>
                        <a:lnTo>
                          <a:pt x="673" y="502"/>
                        </a:lnTo>
                        <a:lnTo>
                          <a:pt x="698" y="512"/>
                        </a:lnTo>
                        <a:lnTo>
                          <a:pt x="721" y="520"/>
                        </a:lnTo>
                        <a:lnTo>
                          <a:pt x="748" y="527"/>
                        </a:lnTo>
                        <a:lnTo>
                          <a:pt x="774" y="535"/>
                        </a:lnTo>
                        <a:lnTo>
                          <a:pt x="803" y="545"/>
                        </a:lnTo>
                        <a:lnTo>
                          <a:pt x="828" y="551"/>
                        </a:lnTo>
                        <a:lnTo>
                          <a:pt x="855" y="557"/>
                        </a:lnTo>
                        <a:lnTo>
                          <a:pt x="882" y="562"/>
                        </a:lnTo>
                        <a:lnTo>
                          <a:pt x="911" y="568"/>
                        </a:lnTo>
                        <a:lnTo>
                          <a:pt x="938" y="572"/>
                        </a:lnTo>
                        <a:lnTo>
                          <a:pt x="968" y="576"/>
                        </a:lnTo>
                        <a:lnTo>
                          <a:pt x="997" y="580"/>
                        </a:lnTo>
                        <a:lnTo>
                          <a:pt x="1026" y="584"/>
                        </a:lnTo>
                        <a:lnTo>
                          <a:pt x="1026" y="578"/>
                        </a:lnTo>
                        <a:lnTo>
                          <a:pt x="1026" y="562"/>
                        </a:lnTo>
                        <a:lnTo>
                          <a:pt x="1026" y="549"/>
                        </a:lnTo>
                        <a:lnTo>
                          <a:pt x="1026" y="537"/>
                        </a:lnTo>
                        <a:lnTo>
                          <a:pt x="1028" y="522"/>
                        </a:lnTo>
                        <a:lnTo>
                          <a:pt x="1030" y="506"/>
                        </a:lnTo>
                        <a:lnTo>
                          <a:pt x="1030" y="487"/>
                        </a:lnTo>
                        <a:lnTo>
                          <a:pt x="1033" y="467"/>
                        </a:lnTo>
                        <a:lnTo>
                          <a:pt x="1033" y="456"/>
                        </a:lnTo>
                        <a:lnTo>
                          <a:pt x="1035" y="446"/>
                        </a:lnTo>
                        <a:lnTo>
                          <a:pt x="1037" y="434"/>
                        </a:lnTo>
                        <a:lnTo>
                          <a:pt x="1039" y="425"/>
                        </a:lnTo>
                        <a:lnTo>
                          <a:pt x="1039" y="411"/>
                        </a:lnTo>
                        <a:lnTo>
                          <a:pt x="1043" y="399"/>
                        </a:lnTo>
                        <a:lnTo>
                          <a:pt x="1043" y="388"/>
                        </a:lnTo>
                        <a:lnTo>
                          <a:pt x="1047" y="376"/>
                        </a:lnTo>
                        <a:lnTo>
                          <a:pt x="1049" y="365"/>
                        </a:lnTo>
                        <a:lnTo>
                          <a:pt x="1053" y="353"/>
                        </a:lnTo>
                        <a:lnTo>
                          <a:pt x="1055" y="341"/>
                        </a:lnTo>
                        <a:lnTo>
                          <a:pt x="1059" y="330"/>
                        </a:lnTo>
                        <a:lnTo>
                          <a:pt x="1061" y="316"/>
                        </a:lnTo>
                        <a:lnTo>
                          <a:pt x="1065" y="303"/>
                        </a:lnTo>
                        <a:lnTo>
                          <a:pt x="1066" y="291"/>
                        </a:lnTo>
                        <a:lnTo>
                          <a:pt x="1070" y="279"/>
                        </a:lnTo>
                        <a:lnTo>
                          <a:pt x="1072" y="266"/>
                        </a:lnTo>
                        <a:lnTo>
                          <a:pt x="1076" y="252"/>
                        </a:lnTo>
                        <a:lnTo>
                          <a:pt x="1080" y="240"/>
                        </a:lnTo>
                        <a:lnTo>
                          <a:pt x="1086" y="229"/>
                        </a:lnTo>
                        <a:lnTo>
                          <a:pt x="1090" y="215"/>
                        </a:lnTo>
                        <a:lnTo>
                          <a:pt x="1094" y="204"/>
                        </a:lnTo>
                        <a:lnTo>
                          <a:pt x="1097" y="190"/>
                        </a:lnTo>
                        <a:lnTo>
                          <a:pt x="1103" y="178"/>
                        </a:lnTo>
                        <a:lnTo>
                          <a:pt x="1107" y="167"/>
                        </a:lnTo>
                        <a:lnTo>
                          <a:pt x="1113" y="155"/>
                        </a:lnTo>
                        <a:lnTo>
                          <a:pt x="1119" y="143"/>
                        </a:lnTo>
                        <a:lnTo>
                          <a:pt x="1125" y="134"/>
                        </a:lnTo>
                        <a:lnTo>
                          <a:pt x="1130" y="122"/>
                        </a:lnTo>
                        <a:lnTo>
                          <a:pt x="1136" y="111"/>
                        </a:lnTo>
                        <a:lnTo>
                          <a:pt x="1142" y="101"/>
                        </a:lnTo>
                        <a:lnTo>
                          <a:pt x="1148" y="91"/>
                        </a:lnTo>
                        <a:lnTo>
                          <a:pt x="1161" y="72"/>
                        </a:lnTo>
                        <a:lnTo>
                          <a:pt x="1177" y="54"/>
                        </a:lnTo>
                        <a:lnTo>
                          <a:pt x="1191" y="37"/>
                        </a:lnTo>
                        <a:lnTo>
                          <a:pt x="1208" y="21"/>
                        </a:lnTo>
                        <a:lnTo>
                          <a:pt x="1225" y="10"/>
                        </a:lnTo>
                        <a:lnTo>
                          <a:pt x="1245" y="0"/>
                        </a:lnTo>
                        <a:lnTo>
                          <a:pt x="1241" y="0"/>
                        </a:lnTo>
                        <a:lnTo>
                          <a:pt x="1235" y="0"/>
                        </a:lnTo>
                        <a:lnTo>
                          <a:pt x="1222" y="2"/>
                        </a:lnTo>
                        <a:lnTo>
                          <a:pt x="1208" y="4"/>
                        </a:lnTo>
                        <a:lnTo>
                          <a:pt x="1198" y="4"/>
                        </a:lnTo>
                        <a:lnTo>
                          <a:pt x="1189" y="6"/>
                        </a:lnTo>
                        <a:lnTo>
                          <a:pt x="1177" y="8"/>
                        </a:lnTo>
                        <a:lnTo>
                          <a:pt x="1167" y="10"/>
                        </a:lnTo>
                        <a:lnTo>
                          <a:pt x="1154" y="10"/>
                        </a:lnTo>
                        <a:lnTo>
                          <a:pt x="1140" y="12"/>
                        </a:lnTo>
                        <a:lnTo>
                          <a:pt x="1127" y="14"/>
                        </a:lnTo>
                        <a:lnTo>
                          <a:pt x="1113" y="17"/>
                        </a:lnTo>
                        <a:lnTo>
                          <a:pt x="1096" y="17"/>
                        </a:lnTo>
                        <a:lnTo>
                          <a:pt x="1078" y="19"/>
                        </a:lnTo>
                        <a:lnTo>
                          <a:pt x="1061" y="21"/>
                        </a:lnTo>
                        <a:lnTo>
                          <a:pt x="1043" y="23"/>
                        </a:lnTo>
                        <a:lnTo>
                          <a:pt x="1024" y="25"/>
                        </a:lnTo>
                        <a:lnTo>
                          <a:pt x="1006" y="27"/>
                        </a:lnTo>
                        <a:lnTo>
                          <a:pt x="987" y="29"/>
                        </a:lnTo>
                        <a:lnTo>
                          <a:pt x="968" y="33"/>
                        </a:lnTo>
                        <a:lnTo>
                          <a:pt x="946" y="33"/>
                        </a:lnTo>
                        <a:lnTo>
                          <a:pt x="925" y="35"/>
                        </a:lnTo>
                        <a:lnTo>
                          <a:pt x="902" y="37"/>
                        </a:lnTo>
                        <a:lnTo>
                          <a:pt x="880" y="39"/>
                        </a:lnTo>
                        <a:lnTo>
                          <a:pt x="857" y="41"/>
                        </a:lnTo>
                        <a:lnTo>
                          <a:pt x="834" y="43"/>
                        </a:lnTo>
                        <a:lnTo>
                          <a:pt x="810" y="45"/>
                        </a:lnTo>
                        <a:lnTo>
                          <a:pt x="789" y="48"/>
                        </a:lnTo>
                        <a:lnTo>
                          <a:pt x="764" y="48"/>
                        </a:lnTo>
                        <a:lnTo>
                          <a:pt x="739" y="50"/>
                        </a:lnTo>
                        <a:lnTo>
                          <a:pt x="713" y="50"/>
                        </a:lnTo>
                        <a:lnTo>
                          <a:pt x="690" y="52"/>
                        </a:lnTo>
                        <a:lnTo>
                          <a:pt x="663" y="52"/>
                        </a:lnTo>
                        <a:lnTo>
                          <a:pt x="638" y="54"/>
                        </a:lnTo>
                        <a:lnTo>
                          <a:pt x="613" y="56"/>
                        </a:lnTo>
                        <a:lnTo>
                          <a:pt x="587" y="58"/>
                        </a:lnTo>
                        <a:lnTo>
                          <a:pt x="560" y="58"/>
                        </a:lnTo>
                        <a:lnTo>
                          <a:pt x="535" y="58"/>
                        </a:lnTo>
                        <a:lnTo>
                          <a:pt x="508" y="58"/>
                        </a:lnTo>
                        <a:lnTo>
                          <a:pt x="485" y="60"/>
                        </a:lnTo>
                        <a:lnTo>
                          <a:pt x="457" y="60"/>
                        </a:lnTo>
                        <a:lnTo>
                          <a:pt x="432" y="60"/>
                        </a:lnTo>
                        <a:lnTo>
                          <a:pt x="405" y="60"/>
                        </a:lnTo>
                        <a:lnTo>
                          <a:pt x="382" y="60"/>
                        </a:lnTo>
                        <a:lnTo>
                          <a:pt x="355" y="58"/>
                        </a:lnTo>
                        <a:lnTo>
                          <a:pt x="329" y="56"/>
                        </a:lnTo>
                        <a:lnTo>
                          <a:pt x="302" y="54"/>
                        </a:lnTo>
                        <a:lnTo>
                          <a:pt x="277" y="54"/>
                        </a:lnTo>
                        <a:lnTo>
                          <a:pt x="252" y="52"/>
                        </a:lnTo>
                        <a:lnTo>
                          <a:pt x="227" y="50"/>
                        </a:lnTo>
                        <a:lnTo>
                          <a:pt x="203" y="48"/>
                        </a:lnTo>
                        <a:lnTo>
                          <a:pt x="180" y="47"/>
                        </a:lnTo>
                        <a:lnTo>
                          <a:pt x="155" y="43"/>
                        </a:lnTo>
                        <a:lnTo>
                          <a:pt x="132" y="41"/>
                        </a:lnTo>
                        <a:lnTo>
                          <a:pt x="108" y="37"/>
                        </a:lnTo>
                        <a:lnTo>
                          <a:pt x="85" y="35"/>
                        </a:lnTo>
                        <a:lnTo>
                          <a:pt x="62" y="29"/>
                        </a:lnTo>
                        <a:lnTo>
                          <a:pt x="41" y="27"/>
                        </a:lnTo>
                        <a:lnTo>
                          <a:pt x="19" y="21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6e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-1351440" y="11880"/>
                    <a:ext cx="14148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6" h="628">
                        <a:moveTo>
                          <a:pt x="341" y="17"/>
                        </a:moveTo>
                        <a:lnTo>
                          <a:pt x="339" y="21"/>
                        </a:lnTo>
                        <a:lnTo>
                          <a:pt x="336" y="33"/>
                        </a:lnTo>
                        <a:lnTo>
                          <a:pt x="332" y="40"/>
                        </a:lnTo>
                        <a:lnTo>
                          <a:pt x="330" y="52"/>
                        </a:lnTo>
                        <a:lnTo>
                          <a:pt x="328" y="64"/>
                        </a:lnTo>
                        <a:lnTo>
                          <a:pt x="326" y="81"/>
                        </a:lnTo>
                        <a:lnTo>
                          <a:pt x="320" y="95"/>
                        </a:lnTo>
                        <a:lnTo>
                          <a:pt x="314" y="114"/>
                        </a:lnTo>
                        <a:lnTo>
                          <a:pt x="308" y="131"/>
                        </a:lnTo>
                        <a:lnTo>
                          <a:pt x="303" y="153"/>
                        </a:lnTo>
                        <a:lnTo>
                          <a:pt x="295" y="172"/>
                        </a:lnTo>
                        <a:lnTo>
                          <a:pt x="287" y="194"/>
                        </a:lnTo>
                        <a:lnTo>
                          <a:pt x="283" y="205"/>
                        </a:lnTo>
                        <a:lnTo>
                          <a:pt x="279" y="217"/>
                        </a:lnTo>
                        <a:lnTo>
                          <a:pt x="275" y="228"/>
                        </a:lnTo>
                        <a:lnTo>
                          <a:pt x="272" y="242"/>
                        </a:lnTo>
                        <a:lnTo>
                          <a:pt x="266" y="254"/>
                        </a:lnTo>
                        <a:lnTo>
                          <a:pt x="260" y="265"/>
                        </a:lnTo>
                        <a:lnTo>
                          <a:pt x="254" y="277"/>
                        </a:lnTo>
                        <a:lnTo>
                          <a:pt x="248" y="289"/>
                        </a:lnTo>
                        <a:lnTo>
                          <a:pt x="243" y="300"/>
                        </a:lnTo>
                        <a:lnTo>
                          <a:pt x="237" y="314"/>
                        </a:lnTo>
                        <a:lnTo>
                          <a:pt x="231" y="325"/>
                        </a:lnTo>
                        <a:lnTo>
                          <a:pt x="225" y="339"/>
                        </a:lnTo>
                        <a:lnTo>
                          <a:pt x="217" y="351"/>
                        </a:lnTo>
                        <a:lnTo>
                          <a:pt x="210" y="362"/>
                        </a:lnTo>
                        <a:lnTo>
                          <a:pt x="202" y="376"/>
                        </a:lnTo>
                        <a:lnTo>
                          <a:pt x="196" y="389"/>
                        </a:lnTo>
                        <a:lnTo>
                          <a:pt x="188" y="401"/>
                        </a:lnTo>
                        <a:lnTo>
                          <a:pt x="180" y="415"/>
                        </a:lnTo>
                        <a:lnTo>
                          <a:pt x="173" y="428"/>
                        </a:lnTo>
                        <a:lnTo>
                          <a:pt x="167" y="442"/>
                        </a:lnTo>
                        <a:lnTo>
                          <a:pt x="157" y="453"/>
                        </a:lnTo>
                        <a:lnTo>
                          <a:pt x="147" y="465"/>
                        </a:lnTo>
                        <a:lnTo>
                          <a:pt x="138" y="477"/>
                        </a:lnTo>
                        <a:lnTo>
                          <a:pt x="130" y="490"/>
                        </a:lnTo>
                        <a:lnTo>
                          <a:pt x="118" y="502"/>
                        </a:lnTo>
                        <a:lnTo>
                          <a:pt x="111" y="513"/>
                        </a:lnTo>
                        <a:lnTo>
                          <a:pt x="99" y="525"/>
                        </a:lnTo>
                        <a:lnTo>
                          <a:pt x="91" y="539"/>
                        </a:lnTo>
                        <a:lnTo>
                          <a:pt x="80" y="548"/>
                        </a:lnTo>
                        <a:lnTo>
                          <a:pt x="68" y="560"/>
                        </a:lnTo>
                        <a:lnTo>
                          <a:pt x="56" y="572"/>
                        </a:lnTo>
                        <a:lnTo>
                          <a:pt x="47" y="583"/>
                        </a:lnTo>
                        <a:lnTo>
                          <a:pt x="35" y="593"/>
                        </a:lnTo>
                        <a:lnTo>
                          <a:pt x="23" y="605"/>
                        </a:lnTo>
                        <a:lnTo>
                          <a:pt x="12" y="616"/>
                        </a:lnTo>
                        <a:lnTo>
                          <a:pt x="0" y="628"/>
                        </a:lnTo>
                        <a:lnTo>
                          <a:pt x="4" y="624"/>
                        </a:lnTo>
                        <a:lnTo>
                          <a:pt x="19" y="614"/>
                        </a:lnTo>
                        <a:lnTo>
                          <a:pt x="29" y="607"/>
                        </a:lnTo>
                        <a:lnTo>
                          <a:pt x="43" y="599"/>
                        </a:lnTo>
                        <a:lnTo>
                          <a:pt x="56" y="589"/>
                        </a:lnTo>
                        <a:lnTo>
                          <a:pt x="74" y="579"/>
                        </a:lnTo>
                        <a:lnTo>
                          <a:pt x="89" y="566"/>
                        </a:lnTo>
                        <a:lnTo>
                          <a:pt x="109" y="554"/>
                        </a:lnTo>
                        <a:lnTo>
                          <a:pt x="128" y="539"/>
                        </a:lnTo>
                        <a:lnTo>
                          <a:pt x="149" y="523"/>
                        </a:lnTo>
                        <a:lnTo>
                          <a:pt x="159" y="513"/>
                        </a:lnTo>
                        <a:lnTo>
                          <a:pt x="171" y="506"/>
                        </a:lnTo>
                        <a:lnTo>
                          <a:pt x="182" y="496"/>
                        </a:lnTo>
                        <a:lnTo>
                          <a:pt x="194" y="488"/>
                        </a:lnTo>
                        <a:lnTo>
                          <a:pt x="206" y="479"/>
                        </a:lnTo>
                        <a:lnTo>
                          <a:pt x="217" y="469"/>
                        </a:lnTo>
                        <a:lnTo>
                          <a:pt x="229" y="459"/>
                        </a:lnTo>
                        <a:lnTo>
                          <a:pt x="241" y="451"/>
                        </a:lnTo>
                        <a:lnTo>
                          <a:pt x="250" y="440"/>
                        </a:lnTo>
                        <a:lnTo>
                          <a:pt x="262" y="428"/>
                        </a:lnTo>
                        <a:lnTo>
                          <a:pt x="274" y="417"/>
                        </a:lnTo>
                        <a:lnTo>
                          <a:pt x="285" y="405"/>
                        </a:lnTo>
                        <a:lnTo>
                          <a:pt x="297" y="393"/>
                        </a:lnTo>
                        <a:lnTo>
                          <a:pt x="308" y="382"/>
                        </a:lnTo>
                        <a:lnTo>
                          <a:pt x="320" y="370"/>
                        </a:lnTo>
                        <a:lnTo>
                          <a:pt x="332" y="358"/>
                        </a:lnTo>
                        <a:lnTo>
                          <a:pt x="341" y="345"/>
                        </a:lnTo>
                        <a:lnTo>
                          <a:pt x="351" y="331"/>
                        </a:lnTo>
                        <a:lnTo>
                          <a:pt x="361" y="318"/>
                        </a:lnTo>
                        <a:lnTo>
                          <a:pt x="372" y="306"/>
                        </a:lnTo>
                        <a:lnTo>
                          <a:pt x="382" y="292"/>
                        </a:lnTo>
                        <a:lnTo>
                          <a:pt x="392" y="279"/>
                        </a:lnTo>
                        <a:lnTo>
                          <a:pt x="402" y="265"/>
                        </a:lnTo>
                        <a:lnTo>
                          <a:pt x="413" y="252"/>
                        </a:lnTo>
                        <a:lnTo>
                          <a:pt x="421" y="236"/>
                        </a:lnTo>
                        <a:lnTo>
                          <a:pt x="429" y="221"/>
                        </a:lnTo>
                        <a:lnTo>
                          <a:pt x="436" y="205"/>
                        </a:lnTo>
                        <a:lnTo>
                          <a:pt x="446" y="192"/>
                        </a:lnTo>
                        <a:lnTo>
                          <a:pt x="452" y="176"/>
                        </a:lnTo>
                        <a:lnTo>
                          <a:pt x="460" y="161"/>
                        </a:lnTo>
                        <a:lnTo>
                          <a:pt x="466" y="145"/>
                        </a:lnTo>
                        <a:lnTo>
                          <a:pt x="473" y="131"/>
                        </a:lnTo>
                        <a:lnTo>
                          <a:pt x="477" y="114"/>
                        </a:lnTo>
                        <a:lnTo>
                          <a:pt x="483" y="98"/>
                        </a:lnTo>
                        <a:lnTo>
                          <a:pt x="489" y="81"/>
                        </a:lnTo>
                        <a:lnTo>
                          <a:pt x="495" y="66"/>
                        </a:lnTo>
                        <a:lnTo>
                          <a:pt x="497" y="48"/>
                        </a:lnTo>
                        <a:lnTo>
                          <a:pt x="500" y="33"/>
                        </a:lnTo>
                        <a:lnTo>
                          <a:pt x="502" y="15"/>
                        </a:lnTo>
                        <a:lnTo>
                          <a:pt x="506" y="0"/>
                        </a:lnTo>
                        <a:lnTo>
                          <a:pt x="502" y="0"/>
                        </a:lnTo>
                        <a:lnTo>
                          <a:pt x="493" y="3"/>
                        </a:lnTo>
                        <a:lnTo>
                          <a:pt x="477" y="7"/>
                        </a:lnTo>
                        <a:lnTo>
                          <a:pt x="460" y="13"/>
                        </a:lnTo>
                        <a:lnTo>
                          <a:pt x="446" y="15"/>
                        </a:lnTo>
                        <a:lnTo>
                          <a:pt x="435" y="17"/>
                        </a:lnTo>
                        <a:lnTo>
                          <a:pt x="421" y="19"/>
                        </a:lnTo>
                        <a:lnTo>
                          <a:pt x="407" y="21"/>
                        </a:lnTo>
                        <a:lnTo>
                          <a:pt x="390" y="19"/>
                        </a:lnTo>
                        <a:lnTo>
                          <a:pt x="374" y="19"/>
                        </a:lnTo>
                        <a:lnTo>
                          <a:pt x="357" y="17"/>
                        </a:lnTo>
                        <a:lnTo>
                          <a:pt x="341" y="17"/>
                        </a:lnTo>
                        <a:close/>
                      </a:path>
                    </a:pathLst>
                  </a:custGeom>
                  <a:solidFill>
                    <a:srgbClr val="6e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-1428480" y="363960"/>
                    <a:ext cx="2750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3" h="225">
                        <a:moveTo>
                          <a:pt x="958" y="0"/>
                        </a:moveTo>
                        <a:lnTo>
                          <a:pt x="954" y="0"/>
                        </a:lnTo>
                        <a:lnTo>
                          <a:pt x="948" y="0"/>
                        </a:lnTo>
                        <a:lnTo>
                          <a:pt x="934" y="0"/>
                        </a:lnTo>
                        <a:lnTo>
                          <a:pt x="921" y="2"/>
                        </a:lnTo>
                        <a:lnTo>
                          <a:pt x="911" y="2"/>
                        </a:lnTo>
                        <a:lnTo>
                          <a:pt x="902" y="2"/>
                        </a:lnTo>
                        <a:lnTo>
                          <a:pt x="890" y="4"/>
                        </a:lnTo>
                        <a:lnTo>
                          <a:pt x="880" y="6"/>
                        </a:lnTo>
                        <a:lnTo>
                          <a:pt x="867" y="6"/>
                        </a:lnTo>
                        <a:lnTo>
                          <a:pt x="855" y="8"/>
                        </a:lnTo>
                        <a:lnTo>
                          <a:pt x="841" y="10"/>
                        </a:lnTo>
                        <a:lnTo>
                          <a:pt x="828" y="12"/>
                        </a:lnTo>
                        <a:lnTo>
                          <a:pt x="810" y="12"/>
                        </a:lnTo>
                        <a:lnTo>
                          <a:pt x="795" y="14"/>
                        </a:lnTo>
                        <a:lnTo>
                          <a:pt x="777" y="16"/>
                        </a:lnTo>
                        <a:lnTo>
                          <a:pt x="762" y="18"/>
                        </a:lnTo>
                        <a:lnTo>
                          <a:pt x="744" y="18"/>
                        </a:lnTo>
                        <a:lnTo>
                          <a:pt x="727" y="20"/>
                        </a:lnTo>
                        <a:lnTo>
                          <a:pt x="710" y="22"/>
                        </a:lnTo>
                        <a:lnTo>
                          <a:pt x="692" y="25"/>
                        </a:lnTo>
                        <a:lnTo>
                          <a:pt x="671" y="25"/>
                        </a:lnTo>
                        <a:lnTo>
                          <a:pt x="651" y="29"/>
                        </a:lnTo>
                        <a:lnTo>
                          <a:pt x="632" y="29"/>
                        </a:lnTo>
                        <a:lnTo>
                          <a:pt x="613" y="33"/>
                        </a:lnTo>
                        <a:lnTo>
                          <a:pt x="591" y="35"/>
                        </a:lnTo>
                        <a:lnTo>
                          <a:pt x="572" y="37"/>
                        </a:lnTo>
                        <a:lnTo>
                          <a:pt x="552" y="39"/>
                        </a:lnTo>
                        <a:lnTo>
                          <a:pt x="533" y="43"/>
                        </a:lnTo>
                        <a:lnTo>
                          <a:pt x="510" y="43"/>
                        </a:lnTo>
                        <a:lnTo>
                          <a:pt x="490" y="45"/>
                        </a:lnTo>
                        <a:lnTo>
                          <a:pt x="467" y="47"/>
                        </a:lnTo>
                        <a:lnTo>
                          <a:pt x="448" y="49"/>
                        </a:lnTo>
                        <a:lnTo>
                          <a:pt x="426" y="51"/>
                        </a:lnTo>
                        <a:lnTo>
                          <a:pt x="407" y="53"/>
                        </a:lnTo>
                        <a:lnTo>
                          <a:pt x="386" y="55"/>
                        </a:lnTo>
                        <a:lnTo>
                          <a:pt x="366" y="58"/>
                        </a:lnTo>
                        <a:lnTo>
                          <a:pt x="343" y="58"/>
                        </a:lnTo>
                        <a:lnTo>
                          <a:pt x="324" y="60"/>
                        </a:lnTo>
                        <a:lnTo>
                          <a:pt x="302" y="62"/>
                        </a:lnTo>
                        <a:lnTo>
                          <a:pt x="285" y="64"/>
                        </a:lnTo>
                        <a:lnTo>
                          <a:pt x="263" y="66"/>
                        </a:lnTo>
                        <a:lnTo>
                          <a:pt x="246" y="68"/>
                        </a:lnTo>
                        <a:lnTo>
                          <a:pt x="229" y="70"/>
                        </a:lnTo>
                        <a:lnTo>
                          <a:pt x="211" y="74"/>
                        </a:lnTo>
                        <a:lnTo>
                          <a:pt x="192" y="74"/>
                        </a:lnTo>
                        <a:lnTo>
                          <a:pt x="174" y="76"/>
                        </a:lnTo>
                        <a:lnTo>
                          <a:pt x="157" y="76"/>
                        </a:lnTo>
                        <a:lnTo>
                          <a:pt x="141" y="78"/>
                        </a:lnTo>
                        <a:lnTo>
                          <a:pt x="124" y="78"/>
                        </a:lnTo>
                        <a:lnTo>
                          <a:pt x="108" y="80"/>
                        </a:lnTo>
                        <a:lnTo>
                          <a:pt x="93" y="82"/>
                        </a:lnTo>
                        <a:lnTo>
                          <a:pt x="81" y="84"/>
                        </a:lnTo>
                        <a:lnTo>
                          <a:pt x="68" y="84"/>
                        </a:lnTo>
                        <a:lnTo>
                          <a:pt x="54" y="86"/>
                        </a:lnTo>
                        <a:lnTo>
                          <a:pt x="42" y="86"/>
                        </a:lnTo>
                        <a:lnTo>
                          <a:pt x="33" y="87"/>
                        </a:lnTo>
                        <a:lnTo>
                          <a:pt x="13" y="89"/>
                        </a:lnTo>
                        <a:lnTo>
                          <a:pt x="0" y="93"/>
                        </a:lnTo>
                        <a:lnTo>
                          <a:pt x="2" y="95"/>
                        </a:lnTo>
                        <a:lnTo>
                          <a:pt x="9" y="103"/>
                        </a:lnTo>
                        <a:lnTo>
                          <a:pt x="19" y="113"/>
                        </a:lnTo>
                        <a:lnTo>
                          <a:pt x="31" y="130"/>
                        </a:lnTo>
                        <a:lnTo>
                          <a:pt x="33" y="138"/>
                        </a:lnTo>
                        <a:lnTo>
                          <a:pt x="37" y="148"/>
                        </a:lnTo>
                        <a:lnTo>
                          <a:pt x="37" y="159"/>
                        </a:lnTo>
                        <a:lnTo>
                          <a:pt x="38" y="171"/>
                        </a:lnTo>
                        <a:lnTo>
                          <a:pt x="35" y="183"/>
                        </a:lnTo>
                        <a:lnTo>
                          <a:pt x="31" y="196"/>
                        </a:lnTo>
                        <a:lnTo>
                          <a:pt x="23" y="210"/>
                        </a:lnTo>
                        <a:lnTo>
                          <a:pt x="15" y="225"/>
                        </a:lnTo>
                        <a:lnTo>
                          <a:pt x="983" y="109"/>
                        </a:lnTo>
                        <a:lnTo>
                          <a:pt x="958" y="0"/>
                        </a:lnTo>
                        <a:close/>
                      </a:path>
                    </a:pathLst>
                  </a:custGeom>
                  <a:solidFill>
                    <a:srgbClr val="6e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-1393560" y="602640"/>
                    <a:ext cx="1486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148">
                        <a:moveTo>
                          <a:pt x="0" y="26"/>
                        </a:moveTo>
                        <a:lnTo>
                          <a:pt x="492" y="0"/>
                        </a:lnTo>
                        <a:lnTo>
                          <a:pt x="531" y="113"/>
                        </a:lnTo>
                        <a:lnTo>
                          <a:pt x="151" y="148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6e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-1236960" y="425880"/>
                    <a:ext cx="203400" cy="3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0" h="1183">
                        <a:moveTo>
                          <a:pt x="192" y="470"/>
                        </a:moveTo>
                        <a:lnTo>
                          <a:pt x="192" y="464"/>
                        </a:lnTo>
                        <a:lnTo>
                          <a:pt x="194" y="448"/>
                        </a:lnTo>
                        <a:lnTo>
                          <a:pt x="194" y="437"/>
                        </a:lnTo>
                        <a:lnTo>
                          <a:pt x="198" y="427"/>
                        </a:lnTo>
                        <a:lnTo>
                          <a:pt x="204" y="415"/>
                        </a:lnTo>
                        <a:lnTo>
                          <a:pt x="210" y="406"/>
                        </a:lnTo>
                        <a:lnTo>
                          <a:pt x="214" y="390"/>
                        </a:lnTo>
                        <a:lnTo>
                          <a:pt x="221" y="378"/>
                        </a:lnTo>
                        <a:lnTo>
                          <a:pt x="229" y="365"/>
                        </a:lnTo>
                        <a:lnTo>
                          <a:pt x="241" y="353"/>
                        </a:lnTo>
                        <a:lnTo>
                          <a:pt x="250" y="340"/>
                        </a:lnTo>
                        <a:lnTo>
                          <a:pt x="264" y="330"/>
                        </a:lnTo>
                        <a:lnTo>
                          <a:pt x="280" y="318"/>
                        </a:lnTo>
                        <a:lnTo>
                          <a:pt x="297" y="312"/>
                        </a:lnTo>
                        <a:lnTo>
                          <a:pt x="295" y="309"/>
                        </a:lnTo>
                        <a:lnTo>
                          <a:pt x="293" y="299"/>
                        </a:lnTo>
                        <a:lnTo>
                          <a:pt x="291" y="281"/>
                        </a:lnTo>
                        <a:lnTo>
                          <a:pt x="289" y="264"/>
                        </a:lnTo>
                        <a:lnTo>
                          <a:pt x="285" y="250"/>
                        </a:lnTo>
                        <a:lnTo>
                          <a:pt x="283" y="239"/>
                        </a:lnTo>
                        <a:lnTo>
                          <a:pt x="282" y="225"/>
                        </a:lnTo>
                        <a:lnTo>
                          <a:pt x="282" y="214"/>
                        </a:lnTo>
                        <a:lnTo>
                          <a:pt x="280" y="198"/>
                        </a:lnTo>
                        <a:lnTo>
                          <a:pt x="278" y="184"/>
                        </a:lnTo>
                        <a:lnTo>
                          <a:pt x="276" y="171"/>
                        </a:lnTo>
                        <a:lnTo>
                          <a:pt x="276" y="157"/>
                        </a:lnTo>
                        <a:lnTo>
                          <a:pt x="274" y="142"/>
                        </a:lnTo>
                        <a:lnTo>
                          <a:pt x="272" y="128"/>
                        </a:lnTo>
                        <a:lnTo>
                          <a:pt x="270" y="113"/>
                        </a:lnTo>
                        <a:lnTo>
                          <a:pt x="270" y="99"/>
                        </a:lnTo>
                        <a:lnTo>
                          <a:pt x="270" y="86"/>
                        </a:lnTo>
                        <a:lnTo>
                          <a:pt x="270" y="72"/>
                        </a:lnTo>
                        <a:lnTo>
                          <a:pt x="270" y="60"/>
                        </a:lnTo>
                        <a:lnTo>
                          <a:pt x="270" y="51"/>
                        </a:lnTo>
                        <a:lnTo>
                          <a:pt x="270" y="39"/>
                        </a:lnTo>
                        <a:lnTo>
                          <a:pt x="270" y="29"/>
                        </a:lnTo>
                        <a:lnTo>
                          <a:pt x="272" y="20"/>
                        </a:lnTo>
                        <a:lnTo>
                          <a:pt x="274" y="14"/>
                        </a:lnTo>
                        <a:lnTo>
                          <a:pt x="278" y="4"/>
                        </a:lnTo>
                        <a:lnTo>
                          <a:pt x="285" y="2"/>
                        </a:lnTo>
                        <a:lnTo>
                          <a:pt x="293" y="0"/>
                        </a:lnTo>
                        <a:lnTo>
                          <a:pt x="309" y="2"/>
                        </a:lnTo>
                        <a:lnTo>
                          <a:pt x="316" y="2"/>
                        </a:lnTo>
                        <a:lnTo>
                          <a:pt x="328" y="4"/>
                        </a:lnTo>
                        <a:lnTo>
                          <a:pt x="340" y="6"/>
                        </a:lnTo>
                        <a:lnTo>
                          <a:pt x="353" y="10"/>
                        </a:lnTo>
                        <a:lnTo>
                          <a:pt x="365" y="10"/>
                        </a:lnTo>
                        <a:lnTo>
                          <a:pt x="380" y="14"/>
                        </a:lnTo>
                        <a:lnTo>
                          <a:pt x="394" y="18"/>
                        </a:lnTo>
                        <a:lnTo>
                          <a:pt x="410" y="24"/>
                        </a:lnTo>
                        <a:lnTo>
                          <a:pt x="425" y="29"/>
                        </a:lnTo>
                        <a:lnTo>
                          <a:pt x="441" y="35"/>
                        </a:lnTo>
                        <a:lnTo>
                          <a:pt x="456" y="43"/>
                        </a:lnTo>
                        <a:lnTo>
                          <a:pt x="474" y="53"/>
                        </a:lnTo>
                        <a:lnTo>
                          <a:pt x="487" y="60"/>
                        </a:lnTo>
                        <a:lnTo>
                          <a:pt x="503" y="70"/>
                        </a:lnTo>
                        <a:lnTo>
                          <a:pt x="518" y="82"/>
                        </a:lnTo>
                        <a:lnTo>
                          <a:pt x="534" y="93"/>
                        </a:lnTo>
                        <a:lnTo>
                          <a:pt x="547" y="105"/>
                        </a:lnTo>
                        <a:lnTo>
                          <a:pt x="563" y="120"/>
                        </a:lnTo>
                        <a:lnTo>
                          <a:pt x="576" y="136"/>
                        </a:lnTo>
                        <a:lnTo>
                          <a:pt x="590" y="153"/>
                        </a:lnTo>
                        <a:lnTo>
                          <a:pt x="602" y="169"/>
                        </a:lnTo>
                        <a:lnTo>
                          <a:pt x="613" y="188"/>
                        </a:lnTo>
                        <a:lnTo>
                          <a:pt x="617" y="196"/>
                        </a:lnTo>
                        <a:lnTo>
                          <a:pt x="623" y="206"/>
                        </a:lnTo>
                        <a:lnTo>
                          <a:pt x="627" y="217"/>
                        </a:lnTo>
                        <a:lnTo>
                          <a:pt x="633" y="229"/>
                        </a:lnTo>
                        <a:lnTo>
                          <a:pt x="634" y="241"/>
                        </a:lnTo>
                        <a:lnTo>
                          <a:pt x="638" y="252"/>
                        </a:lnTo>
                        <a:lnTo>
                          <a:pt x="642" y="264"/>
                        </a:lnTo>
                        <a:lnTo>
                          <a:pt x="646" y="276"/>
                        </a:lnTo>
                        <a:lnTo>
                          <a:pt x="648" y="287"/>
                        </a:lnTo>
                        <a:lnTo>
                          <a:pt x="650" y="301"/>
                        </a:lnTo>
                        <a:lnTo>
                          <a:pt x="652" y="314"/>
                        </a:lnTo>
                        <a:lnTo>
                          <a:pt x="656" y="330"/>
                        </a:lnTo>
                        <a:lnTo>
                          <a:pt x="567" y="423"/>
                        </a:lnTo>
                        <a:lnTo>
                          <a:pt x="570" y="427"/>
                        </a:lnTo>
                        <a:lnTo>
                          <a:pt x="574" y="433"/>
                        </a:lnTo>
                        <a:lnTo>
                          <a:pt x="580" y="444"/>
                        </a:lnTo>
                        <a:lnTo>
                          <a:pt x="586" y="454"/>
                        </a:lnTo>
                        <a:lnTo>
                          <a:pt x="596" y="470"/>
                        </a:lnTo>
                        <a:lnTo>
                          <a:pt x="600" y="477"/>
                        </a:lnTo>
                        <a:lnTo>
                          <a:pt x="603" y="487"/>
                        </a:lnTo>
                        <a:lnTo>
                          <a:pt x="607" y="497"/>
                        </a:lnTo>
                        <a:lnTo>
                          <a:pt x="613" y="508"/>
                        </a:lnTo>
                        <a:lnTo>
                          <a:pt x="615" y="518"/>
                        </a:lnTo>
                        <a:lnTo>
                          <a:pt x="619" y="528"/>
                        </a:lnTo>
                        <a:lnTo>
                          <a:pt x="623" y="539"/>
                        </a:lnTo>
                        <a:lnTo>
                          <a:pt x="627" y="553"/>
                        </a:lnTo>
                        <a:lnTo>
                          <a:pt x="629" y="565"/>
                        </a:lnTo>
                        <a:lnTo>
                          <a:pt x="633" y="578"/>
                        </a:lnTo>
                        <a:lnTo>
                          <a:pt x="634" y="592"/>
                        </a:lnTo>
                        <a:lnTo>
                          <a:pt x="638" y="607"/>
                        </a:lnTo>
                        <a:lnTo>
                          <a:pt x="638" y="621"/>
                        </a:lnTo>
                        <a:lnTo>
                          <a:pt x="638" y="636"/>
                        </a:lnTo>
                        <a:lnTo>
                          <a:pt x="638" y="652"/>
                        </a:lnTo>
                        <a:lnTo>
                          <a:pt x="640" y="669"/>
                        </a:lnTo>
                        <a:lnTo>
                          <a:pt x="638" y="685"/>
                        </a:lnTo>
                        <a:lnTo>
                          <a:pt x="638" y="702"/>
                        </a:lnTo>
                        <a:lnTo>
                          <a:pt x="636" y="722"/>
                        </a:lnTo>
                        <a:lnTo>
                          <a:pt x="634" y="741"/>
                        </a:lnTo>
                        <a:lnTo>
                          <a:pt x="631" y="755"/>
                        </a:lnTo>
                        <a:lnTo>
                          <a:pt x="629" y="768"/>
                        </a:lnTo>
                        <a:lnTo>
                          <a:pt x="625" y="778"/>
                        </a:lnTo>
                        <a:lnTo>
                          <a:pt x="625" y="790"/>
                        </a:lnTo>
                        <a:lnTo>
                          <a:pt x="623" y="807"/>
                        </a:lnTo>
                        <a:lnTo>
                          <a:pt x="625" y="821"/>
                        </a:lnTo>
                        <a:lnTo>
                          <a:pt x="625" y="828"/>
                        </a:lnTo>
                        <a:lnTo>
                          <a:pt x="631" y="836"/>
                        </a:lnTo>
                        <a:lnTo>
                          <a:pt x="634" y="838"/>
                        </a:lnTo>
                        <a:lnTo>
                          <a:pt x="642" y="840"/>
                        </a:lnTo>
                        <a:lnTo>
                          <a:pt x="654" y="836"/>
                        </a:lnTo>
                        <a:lnTo>
                          <a:pt x="671" y="834"/>
                        </a:lnTo>
                        <a:lnTo>
                          <a:pt x="689" y="836"/>
                        </a:lnTo>
                        <a:lnTo>
                          <a:pt x="710" y="848"/>
                        </a:lnTo>
                        <a:lnTo>
                          <a:pt x="716" y="857"/>
                        </a:lnTo>
                        <a:lnTo>
                          <a:pt x="724" y="873"/>
                        </a:lnTo>
                        <a:lnTo>
                          <a:pt x="726" y="881"/>
                        </a:lnTo>
                        <a:lnTo>
                          <a:pt x="728" y="890"/>
                        </a:lnTo>
                        <a:lnTo>
                          <a:pt x="728" y="902"/>
                        </a:lnTo>
                        <a:lnTo>
                          <a:pt x="730" y="916"/>
                        </a:lnTo>
                        <a:lnTo>
                          <a:pt x="728" y="927"/>
                        </a:lnTo>
                        <a:lnTo>
                          <a:pt x="728" y="939"/>
                        </a:lnTo>
                        <a:lnTo>
                          <a:pt x="726" y="952"/>
                        </a:lnTo>
                        <a:lnTo>
                          <a:pt x="724" y="966"/>
                        </a:lnTo>
                        <a:lnTo>
                          <a:pt x="720" y="980"/>
                        </a:lnTo>
                        <a:lnTo>
                          <a:pt x="716" y="995"/>
                        </a:lnTo>
                        <a:lnTo>
                          <a:pt x="712" y="1009"/>
                        </a:lnTo>
                        <a:lnTo>
                          <a:pt x="708" y="1024"/>
                        </a:lnTo>
                        <a:lnTo>
                          <a:pt x="700" y="1036"/>
                        </a:lnTo>
                        <a:lnTo>
                          <a:pt x="695" y="1051"/>
                        </a:lnTo>
                        <a:lnTo>
                          <a:pt x="687" y="1063"/>
                        </a:lnTo>
                        <a:lnTo>
                          <a:pt x="681" y="1078"/>
                        </a:lnTo>
                        <a:lnTo>
                          <a:pt x="671" y="1090"/>
                        </a:lnTo>
                        <a:lnTo>
                          <a:pt x="662" y="1102"/>
                        </a:lnTo>
                        <a:lnTo>
                          <a:pt x="652" y="1113"/>
                        </a:lnTo>
                        <a:lnTo>
                          <a:pt x="642" y="1127"/>
                        </a:lnTo>
                        <a:lnTo>
                          <a:pt x="629" y="1137"/>
                        </a:lnTo>
                        <a:lnTo>
                          <a:pt x="617" y="1146"/>
                        </a:lnTo>
                        <a:lnTo>
                          <a:pt x="603" y="1154"/>
                        </a:lnTo>
                        <a:lnTo>
                          <a:pt x="590" y="1164"/>
                        </a:lnTo>
                        <a:lnTo>
                          <a:pt x="574" y="1170"/>
                        </a:lnTo>
                        <a:lnTo>
                          <a:pt x="559" y="1175"/>
                        </a:lnTo>
                        <a:lnTo>
                          <a:pt x="541" y="1179"/>
                        </a:lnTo>
                        <a:lnTo>
                          <a:pt x="526" y="1183"/>
                        </a:lnTo>
                        <a:lnTo>
                          <a:pt x="508" y="1183"/>
                        </a:lnTo>
                        <a:lnTo>
                          <a:pt x="497" y="1183"/>
                        </a:lnTo>
                        <a:lnTo>
                          <a:pt x="485" y="1183"/>
                        </a:lnTo>
                        <a:lnTo>
                          <a:pt x="475" y="1183"/>
                        </a:lnTo>
                        <a:lnTo>
                          <a:pt x="458" y="1179"/>
                        </a:lnTo>
                        <a:lnTo>
                          <a:pt x="448" y="1175"/>
                        </a:lnTo>
                        <a:lnTo>
                          <a:pt x="441" y="1166"/>
                        </a:lnTo>
                        <a:lnTo>
                          <a:pt x="435" y="1156"/>
                        </a:lnTo>
                        <a:lnTo>
                          <a:pt x="433" y="1144"/>
                        </a:lnTo>
                        <a:lnTo>
                          <a:pt x="435" y="1131"/>
                        </a:lnTo>
                        <a:lnTo>
                          <a:pt x="435" y="1111"/>
                        </a:lnTo>
                        <a:lnTo>
                          <a:pt x="437" y="1094"/>
                        </a:lnTo>
                        <a:lnTo>
                          <a:pt x="437" y="1082"/>
                        </a:lnTo>
                        <a:lnTo>
                          <a:pt x="437" y="1071"/>
                        </a:lnTo>
                        <a:lnTo>
                          <a:pt x="437" y="1059"/>
                        </a:lnTo>
                        <a:lnTo>
                          <a:pt x="439" y="1049"/>
                        </a:lnTo>
                        <a:lnTo>
                          <a:pt x="437" y="1036"/>
                        </a:lnTo>
                        <a:lnTo>
                          <a:pt x="437" y="1022"/>
                        </a:lnTo>
                        <a:lnTo>
                          <a:pt x="437" y="1007"/>
                        </a:lnTo>
                        <a:lnTo>
                          <a:pt x="437" y="993"/>
                        </a:lnTo>
                        <a:lnTo>
                          <a:pt x="435" y="978"/>
                        </a:lnTo>
                        <a:lnTo>
                          <a:pt x="433" y="962"/>
                        </a:lnTo>
                        <a:lnTo>
                          <a:pt x="431" y="947"/>
                        </a:lnTo>
                        <a:lnTo>
                          <a:pt x="429" y="931"/>
                        </a:lnTo>
                        <a:lnTo>
                          <a:pt x="425" y="929"/>
                        </a:lnTo>
                        <a:lnTo>
                          <a:pt x="415" y="929"/>
                        </a:lnTo>
                        <a:lnTo>
                          <a:pt x="400" y="927"/>
                        </a:lnTo>
                        <a:lnTo>
                          <a:pt x="382" y="923"/>
                        </a:lnTo>
                        <a:lnTo>
                          <a:pt x="371" y="917"/>
                        </a:lnTo>
                        <a:lnTo>
                          <a:pt x="359" y="912"/>
                        </a:lnTo>
                        <a:lnTo>
                          <a:pt x="347" y="904"/>
                        </a:lnTo>
                        <a:lnTo>
                          <a:pt x="336" y="898"/>
                        </a:lnTo>
                        <a:lnTo>
                          <a:pt x="324" y="886"/>
                        </a:lnTo>
                        <a:lnTo>
                          <a:pt x="313" y="875"/>
                        </a:lnTo>
                        <a:lnTo>
                          <a:pt x="301" y="861"/>
                        </a:lnTo>
                        <a:lnTo>
                          <a:pt x="289" y="848"/>
                        </a:lnTo>
                        <a:lnTo>
                          <a:pt x="287" y="844"/>
                        </a:lnTo>
                        <a:lnTo>
                          <a:pt x="283" y="840"/>
                        </a:lnTo>
                        <a:lnTo>
                          <a:pt x="276" y="836"/>
                        </a:lnTo>
                        <a:lnTo>
                          <a:pt x="270" y="838"/>
                        </a:lnTo>
                        <a:lnTo>
                          <a:pt x="264" y="842"/>
                        </a:lnTo>
                        <a:lnTo>
                          <a:pt x="260" y="850"/>
                        </a:lnTo>
                        <a:lnTo>
                          <a:pt x="256" y="859"/>
                        </a:lnTo>
                        <a:lnTo>
                          <a:pt x="254" y="877"/>
                        </a:lnTo>
                        <a:lnTo>
                          <a:pt x="250" y="885"/>
                        </a:lnTo>
                        <a:lnTo>
                          <a:pt x="249" y="896"/>
                        </a:lnTo>
                        <a:lnTo>
                          <a:pt x="247" y="906"/>
                        </a:lnTo>
                        <a:lnTo>
                          <a:pt x="245" y="921"/>
                        </a:lnTo>
                        <a:lnTo>
                          <a:pt x="243" y="933"/>
                        </a:lnTo>
                        <a:lnTo>
                          <a:pt x="241" y="950"/>
                        </a:lnTo>
                        <a:lnTo>
                          <a:pt x="239" y="968"/>
                        </a:lnTo>
                        <a:lnTo>
                          <a:pt x="239" y="989"/>
                        </a:lnTo>
                        <a:lnTo>
                          <a:pt x="233" y="995"/>
                        </a:lnTo>
                        <a:lnTo>
                          <a:pt x="225" y="997"/>
                        </a:lnTo>
                        <a:lnTo>
                          <a:pt x="210" y="995"/>
                        </a:lnTo>
                        <a:lnTo>
                          <a:pt x="194" y="989"/>
                        </a:lnTo>
                        <a:lnTo>
                          <a:pt x="183" y="983"/>
                        </a:lnTo>
                        <a:lnTo>
                          <a:pt x="173" y="978"/>
                        </a:lnTo>
                        <a:lnTo>
                          <a:pt x="161" y="968"/>
                        </a:lnTo>
                        <a:lnTo>
                          <a:pt x="152" y="960"/>
                        </a:lnTo>
                        <a:lnTo>
                          <a:pt x="140" y="949"/>
                        </a:lnTo>
                        <a:lnTo>
                          <a:pt x="128" y="939"/>
                        </a:lnTo>
                        <a:lnTo>
                          <a:pt x="117" y="925"/>
                        </a:lnTo>
                        <a:lnTo>
                          <a:pt x="107" y="914"/>
                        </a:lnTo>
                        <a:lnTo>
                          <a:pt x="95" y="896"/>
                        </a:lnTo>
                        <a:lnTo>
                          <a:pt x="84" y="879"/>
                        </a:lnTo>
                        <a:lnTo>
                          <a:pt x="72" y="859"/>
                        </a:lnTo>
                        <a:lnTo>
                          <a:pt x="62" y="842"/>
                        </a:lnTo>
                        <a:lnTo>
                          <a:pt x="57" y="830"/>
                        </a:lnTo>
                        <a:lnTo>
                          <a:pt x="51" y="819"/>
                        </a:lnTo>
                        <a:lnTo>
                          <a:pt x="47" y="807"/>
                        </a:lnTo>
                        <a:lnTo>
                          <a:pt x="43" y="797"/>
                        </a:lnTo>
                        <a:lnTo>
                          <a:pt x="37" y="786"/>
                        </a:lnTo>
                        <a:lnTo>
                          <a:pt x="33" y="774"/>
                        </a:lnTo>
                        <a:lnTo>
                          <a:pt x="29" y="762"/>
                        </a:lnTo>
                        <a:lnTo>
                          <a:pt x="27" y="751"/>
                        </a:lnTo>
                        <a:lnTo>
                          <a:pt x="22" y="735"/>
                        </a:lnTo>
                        <a:lnTo>
                          <a:pt x="18" y="722"/>
                        </a:lnTo>
                        <a:lnTo>
                          <a:pt x="14" y="708"/>
                        </a:lnTo>
                        <a:lnTo>
                          <a:pt x="12" y="694"/>
                        </a:lnTo>
                        <a:lnTo>
                          <a:pt x="8" y="679"/>
                        </a:lnTo>
                        <a:lnTo>
                          <a:pt x="6" y="663"/>
                        </a:lnTo>
                        <a:lnTo>
                          <a:pt x="4" y="648"/>
                        </a:lnTo>
                        <a:lnTo>
                          <a:pt x="4" y="634"/>
                        </a:lnTo>
                        <a:lnTo>
                          <a:pt x="2" y="617"/>
                        </a:lnTo>
                        <a:lnTo>
                          <a:pt x="0" y="599"/>
                        </a:lnTo>
                        <a:lnTo>
                          <a:pt x="0" y="582"/>
                        </a:lnTo>
                        <a:lnTo>
                          <a:pt x="0" y="566"/>
                        </a:lnTo>
                        <a:lnTo>
                          <a:pt x="0" y="547"/>
                        </a:lnTo>
                        <a:lnTo>
                          <a:pt x="0" y="530"/>
                        </a:lnTo>
                        <a:lnTo>
                          <a:pt x="2" y="512"/>
                        </a:lnTo>
                        <a:lnTo>
                          <a:pt x="6" y="495"/>
                        </a:lnTo>
                        <a:lnTo>
                          <a:pt x="6" y="483"/>
                        </a:lnTo>
                        <a:lnTo>
                          <a:pt x="6" y="471"/>
                        </a:lnTo>
                        <a:lnTo>
                          <a:pt x="8" y="462"/>
                        </a:lnTo>
                        <a:lnTo>
                          <a:pt x="10" y="454"/>
                        </a:lnTo>
                        <a:lnTo>
                          <a:pt x="12" y="437"/>
                        </a:lnTo>
                        <a:lnTo>
                          <a:pt x="18" y="425"/>
                        </a:lnTo>
                        <a:lnTo>
                          <a:pt x="22" y="411"/>
                        </a:lnTo>
                        <a:lnTo>
                          <a:pt x="27" y="402"/>
                        </a:lnTo>
                        <a:lnTo>
                          <a:pt x="35" y="394"/>
                        </a:lnTo>
                        <a:lnTo>
                          <a:pt x="43" y="390"/>
                        </a:lnTo>
                        <a:lnTo>
                          <a:pt x="55" y="382"/>
                        </a:lnTo>
                        <a:lnTo>
                          <a:pt x="72" y="382"/>
                        </a:lnTo>
                        <a:lnTo>
                          <a:pt x="88" y="384"/>
                        </a:lnTo>
                        <a:lnTo>
                          <a:pt x="105" y="394"/>
                        </a:lnTo>
                        <a:lnTo>
                          <a:pt x="121" y="402"/>
                        </a:lnTo>
                        <a:lnTo>
                          <a:pt x="136" y="413"/>
                        </a:lnTo>
                        <a:lnTo>
                          <a:pt x="150" y="427"/>
                        </a:lnTo>
                        <a:lnTo>
                          <a:pt x="165" y="440"/>
                        </a:lnTo>
                        <a:lnTo>
                          <a:pt x="175" y="450"/>
                        </a:lnTo>
                        <a:lnTo>
                          <a:pt x="185" y="460"/>
                        </a:lnTo>
                        <a:lnTo>
                          <a:pt x="188" y="466"/>
                        </a:lnTo>
                        <a:lnTo>
                          <a:pt x="192" y="4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-1119960" y="562320"/>
                    <a:ext cx="32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287">
                        <a:moveTo>
                          <a:pt x="117" y="138"/>
                        </a:moveTo>
                        <a:lnTo>
                          <a:pt x="117" y="151"/>
                        </a:lnTo>
                        <a:lnTo>
                          <a:pt x="117" y="165"/>
                        </a:lnTo>
                        <a:lnTo>
                          <a:pt x="117" y="178"/>
                        </a:lnTo>
                        <a:lnTo>
                          <a:pt x="117" y="192"/>
                        </a:lnTo>
                        <a:lnTo>
                          <a:pt x="115" y="204"/>
                        </a:lnTo>
                        <a:lnTo>
                          <a:pt x="113" y="217"/>
                        </a:lnTo>
                        <a:lnTo>
                          <a:pt x="111" y="229"/>
                        </a:lnTo>
                        <a:lnTo>
                          <a:pt x="111" y="240"/>
                        </a:lnTo>
                        <a:lnTo>
                          <a:pt x="103" y="258"/>
                        </a:lnTo>
                        <a:lnTo>
                          <a:pt x="95" y="271"/>
                        </a:lnTo>
                        <a:lnTo>
                          <a:pt x="86" y="281"/>
                        </a:lnTo>
                        <a:lnTo>
                          <a:pt x="76" y="287"/>
                        </a:lnTo>
                        <a:lnTo>
                          <a:pt x="62" y="283"/>
                        </a:lnTo>
                        <a:lnTo>
                          <a:pt x="51" y="277"/>
                        </a:lnTo>
                        <a:lnTo>
                          <a:pt x="39" y="264"/>
                        </a:lnTo>
                        <a:lnTo>
                          <a:pt x="31" y="248"/>
                        </a:lnTo>
                        <a:lnTo>
                          <a:pt x="25" y="237"/>
                        </a:lnTo>
                        <a:lnTo>
                          <a:pt x="20" y="225"/>
                        </a:lnTo>
                        <a:lnTo>
                          <a:pt x="16" y="213"/>
                        </a:lnTo>
                        <a:lnTo>
                          <a:pt x="14" y="204"/>
                        </a:lnTo>
                        <a:lnTo>
                          <a:pt x="8" y="190"/>
                        </a:lnTo>
                        <a:lnTo>
                          <a:pt x="6" y="176"/>
                        </a:lnTo>
                        <a:lnTo>
                          <a:pt x="4" y="163"/>
                        </a:lnTo>
                        <a:lnTo>
                          <a:pt x="4" y="149"/>
                        </a:lnTo>
                        <a:lnTo>
                          <a:pt x="0" y="132"/>
                        </a:lnTo>
                        <a:lnTo>
                          <a:pt x="0" y="118"/>
                        </a:lnTo>
                        <a:lnTo>
                          <a:pt x="0" y="103"/>
                        </a:lnTo>
                        <a:lnTo>
                          <a:pt x="0" y="91"/>
                        </a:lnTo>
                        <a:lnTo>
                          <a:pt x="0" y="77"/>
                        </a:lnTo>
                        <a:lnTo>
                          <a:pt x="2" y="66"/>
                        </a:lnTo>
                        <a:lnTo>
                          <a:pt x="4" y="54"/>
                        </a:lnTo>
                        <a:lnTo>
                          <a:pt x="8" y="45"/>
                        </a:lnTo>
                        <a:lnTo>
                          <a:pt x="14" y="25"/>
                        </a:lnTo>
                        <a:lnTo>
                          <a:pt x="23" y="12"/>
                        </a:lnTo>
                        <a:lnTo>
                          <a:pt x="33" y="2"/>
                        </a:lnTo>
                        <a:lnTo>
                          <a:pt x="45" y="0"/>
                        </a:lnTo>
                        <a:lnTo>
                          <a:pt x="55" y="0"/>
                        </a:lnTo>
                        <a:lnTo>
                          <a:pt x="66" y="8"/>
                        </a:lnTo>
                        <a:lnTo>
                          <a:pt x="76" y="19"/>
                        </a:lnTo>
                        <a:lnTo>
                          <a:pt x="87" y="37"/>
                        </a:lnTo>
                        <a:lnTo>
                          <a:pt x="91" y="45"/>
                        </a:lnTo>
                        <a:lnTo>
                          <a:pt x="95" y="56"/>
                        </a:lnTo>
                        <a:lnTo>
                          <a:pt x="99" y="68"/>
                        </a:lnTo>
                        <a:lnTo>
                          <a:pt x="105" y="81"/>
                        </a:lnTo>
                        <a:lnTo>
                          <a:pt x="107" y="93"/>
                        </a:lnTo>
                        <a:lnTo>
                          <a:pt x="111" y="107"/>
                        </a:lnTo>
                        <a:lnTo>
                          <a:pt x="113" y="120"/>
                        </a:lnTo>
                        <a:lnTo>
                          <a:pt x="117" y="138"/>
                        </a:lnTo>
                        <a:close/>
                      </a:path>
                    </a:pathLst>
                  </a:custGeom>
                  <a:solidFill>
                    <a:srgbClr val="ad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-1618200" y="-33840"/>
                    <a:ext cx="1436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96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21"/>
                        </a:lnTo>
                        <a:lnTo>
                          <a:pt x="2" y="39"/>
                        </a:lnTo>
                        <a:lnTo>
                          <a:pt x="2" y="46"/>
                        </a:lnTo>
                        <a:lnTo>
                          <a:pt x="2" y="56"/>
                        </a:lnTo>
                        <a:lnTo>
                          <a:pt x="4" y="68"/>
                        </a:lnTo>
                        <a:lnTo>
                          <a:pt x="6" y="81"/>
                        </a:lnTo>
                        <a:lnTo>
                          <a:pt x="6" y="93"/>
                        </a:lnTo>
                        <a:lnTo>
                          <a:pt x="8" y="108"/>
                        </a:lnTo>
                        <a:lnTo>
                          <a:pt x="10" y="124"/>
                        </a:lnTo>
                        <a:lnTo>
                          <a:pt x="12" y="141"/>
                        </a:lnTo>
                        <a:lnTo>
                          <a:pt x="12" y="157"/>
                        </a:lnTo>
                        <a:lnTo>
                          <a:pt x="13" y="172"/>
                        </a:lnTo>
                        <a:lnTo>
                          <a:pt x="15" y="190"/>
                        </a:lnTo>
                        <a:lnTo>
                          <a:pt x="17" y="209"/>
                        </a:lnTo>
                        <a:lnTo>
                          <a:pt x="17" y="227"/>
                        </a:lnTo>
                        <a:lnTo>
                          <a:pt x="19" y="246"/>
                        </a:lnTo>
                        <a:lnTo>
                          <a:pt x="21" y="265"/>
                        </a:lnTo>
                        <a:lnTo>
                          <a:pt x="25" y="287"/>
                        </a:lnTo>
                        <a:lnTo>
                          <a:pt x="25" y="306"/>
                        </a:lnTo>
                        <a:lnTo>
                          <a:pt x="29" y="328"/>
                        </a:lnTo>
                        <a:lnTo>
                          <a:pt x="29" y="347"/>
                        </a:lnTo>
                        <a:lnTo>
                          <a:pt x="33" y="370"/>
                        </a:lnTo>
                        <a:lnTo>
                          <a:pt x="35" y="392"/>
                        </a:lnTo>
                        <a:lnTo>
                          <a:pt x="37" y="413"/>
                        </a:lnTo>
                        <a:lnTo>
                          <a:pt x="39" y="434"/>
                        </a:lnTo>
                        <a:lnTo>
                          <a:pt x="43" y="457"/>
                        </a:lnTo>
                        <a:lnTo>
                          <a:pt x="43" y="477"/>
                        </a:lnTo>
                        <a:lnTo>
                          <a:pt x="46" y="498"/>
                        </a:lnTo>
                        <a:lnTo>
                          <a:pt x="46" y="520"/>
                        </a:lnTo>
                        <a:lnTo>
                          <a:pt x="50" y="543"/>
                        </a:lnTo>
                        <a:lnTo>
                          <a:pt x="50" y="562"/>
                        </a:lnTo>
                        <a:lnTo>
                          <a:pt x="54" y="584"/>
                        </a:lnTo>
                        <a:lnTo>
                          <a:pt x="54" y="605"/>
                        </a:lnTo>
                        <a:lnTo>
                          <a:pt x="58" y="628"/>
                        </a:lnTo>
                        <a:lnTo>
                          <a:pt x="58" y="648"/>
                        </a:lnTo>
                        <a:lnTo>
                          <a:pt x="62" y="667"/>
                        </a:lnTo>
                        <a:lnTo>
                          <a:pt x="62" y="686"/>
                        </a:lnTo>
                        <a:lnTo>
                          <a:pt x="66" y="708"/>
                        </a:lnTo>
                        <a:lnTo>
                          <a:pt x="68" y="725"/>
                        </a:lnTo>
                        <a:lnTo>
                          <a:pt x="70" y="744"/>
                        </a:lnTo>
                        <a:lnTo>
                          <a:pt x="72" y="762"/>
                        </a:lnTo>
                        <a:lnTo>
                          <a:pt x="76" y="781"/>
                        </a:lnTo>
                        <a:lnTo>
                          <a:pt x="76" y="797"/>
                        </a:lnTo>
                        <a:lnTo>
                          <a:pt x="77" y="814"/>
                        </a:lnTo>
                        <a:lnTo>
                          <a:pt x="79" y="830"/>
                        </a:lnTo>
                        <a:lnTo>
                          <a:pt x="83" y="845"/>
                        </a:lnTo>
                        <a:lnTo>
                          <a:pt x="83" y="859"/>
                        </a:lnTo>
                        <a:lnTo>
                          <a:pt x="85" y="872"/>
                        </a:lnTo>
                        <a:lnTo>
                          <a:pt x="87" y="884"/>
                        </a:lnTo>
                        <a:lnTo>
                          <a:pt x="91" y="898"/>
                        </a:lnTo>
                        <a:lnTo>
                          <a:pt x="91" y="907"/>
                        </a:lnTo>
                        <a:lnTo>
                          <a:pt x="93" y="917"/>
                        </a:lnTo>
                        <a:lnTo>
                          <a:pt x="95" y="925"/>
                        </a:lnTo>
                        <a:lnTo>
                          <a:pt x="97" y="935"/>
                        </a:lnTo>
                        <a:lnTo>
                          <a:pt x="99" y="946"/>
                        </a:lnTo>
                        <a:lnTo>
                          <a:pt x="103" y="956"/>
                        </a:lnTo>
                        <a:lnTo>
                          <a:pt x="109" y="962"/>
                        </a:lnTo>
                        <a:lnTo>
                          <a:pt x="124" y="966"/>
                        </a:lnTo>
                        <a:lnTo>
                          <a:pt x="134" y="966"/>
                        </a:lnTo>
                        <a:lnTo>
                          <a:pt x="145" y="966"/>
                        </a:lnTo>
                        <a:lnTo>
                          <a:pt x="159" y="964"/>
                        </a:lnTo>
                        <a:lnTo>
                          <a:pt x="174" y="964"/>
                        </a:lnTo>
                        <a:lnTo>
                          <a:pt x="188" y="960"/>
                        </a:lnTo>
                        <a:lnTo>
                          <a:pt x="204" y="958"/>
                        </a:lnTo>
                        <a:lnTo>
                          <a:pt x="221" y="954"/>
                        </a:lnTo>
                        <a:lnTo>
                          <a:pt x="238" y="950"/>
                        </a:lnTo>
                        <a:lnTo>
                          <a:pt x="256" y="944"/>
                        </a:lnTo>
                        <a:lnTo>
                          <a:pt x="275" y="940"/>
                        </a:lnTo>
                        <a:lnTo>
                          <a:pt x="295" y="936"/>
                        </a:lnTo>
                        <a:lnTo>
                          <a:pt x="314" y="933"/>
                        </a:lnTo>
                        <a:lnTo>
                          <a:pt x="332" y="927"/>
                        </a:lnTo>
                        <a:lnTo>
                          <a:pt x="349" y="921"/>
                        </a:lnTo>
                        <a:lnTo>
                          <a:pt x="366" y="915"/>
                        </a:lnTo>
                        <a:lnTo>
                          <a:pt x="386" y="911"/>
                        </a:lnTo>
                        <a:lnTo>
                          <a:pt x="401" y="905"/>
                        </a:lnTo>
                        <a:lnTo>
                          <a:pt x="419" y="900"/>
                        </a:lnTo>
                        <a:lnTo>
                          <a:pt x="434" y="894"/>
                        </a:lnTo>
                        <a:lnTo>
                          <a:pt x="452" y="890"/>
                        </a:lnTo>
                        <a:lnTo>
                          <a:pt x="463" y="884"/>
                        </a:lnTo>
                        <a:lnTo>
                          <a:pt x="475" y="880"/>
                        </a:lnTo>
                        <a:lnTo>
                          <a:pt x="485" y="876"/>
                        </a:lnTo>
                        <a:lnTo>
                          <a:pt x="496" y="874"/>
                        </a:lnTo>
                        <a:lnTo>
                          <a:pt x="508" y="871"/>
                        </a:lnTo>
                        <a:lnTo>
                          <a:pt x="514" y="871"/>
                        </a:lnTo>
                        <a:lnTo>
                          <a:pt x="512" y="867"/>
                        </a:lnTo>
                        <a:lnTo>
                          <a:pt x="512" y="863"/>
                        </a:lnTo>
                        <a:lnTo>
                          <a:pt x="508" y="853"/>
                        </a:lnTo>
                        <a:lnTo>
                          <a:pt x="506" y="843"/>
                        </a:lnTo>
                        <a:lnTo>
                          <a:pt x="502" y="828"/>
                        </a:lnTo>
                        <a:lnTo>
                          <a:pt x="498" y="810"/>
                        </a:lnTo>
                        <a:lnTo>
                          <a:pt x="494" y="801"/>
                        </a:lnTo>
                        <a:lnTo>
                          <a:pt x="493" y="791"/>
                        </a:lnTo>
                        <a:lnTo>
                          <a:pt x="491" y="779"/>
                        </a:lnTo>
                        <a:lnTo>
                          <a:pt x="489" y="770"/>
                        </a:lnTo>
                        <a:lnTo>
                          <a:pt x="485" y="756"/>
                        </a:lnTo>
                        <a:lnTo>
                          <a:pt x="481" y="744"/>
                        </a:lnTo>
                        <a:lnTo>
                          <a:pt x="477" y="731"/>
                        </a:lnTo>
                        <a:lnTo>
                          <a:pt x="473" y="717"/>
                        </a:lnTo>
                        <a:lnTo>
                          <a:pt x="467" y="702"/>
                        </a:lnTo>
                        <a:lnTo>
                          <a:pt x="463" y="688"/>
                        </a:lnTo>
                        <a:lnTo>
                          <a:pt x="460" y="675"/>
                        </a:lnTo>
                        <a:lnTo>
                          <a:pt x="456" y="661"/>
                        </a:lnTo>
                        <a:lnTo>
                          <a:pt x="450" y="644"/>
                        </a:lnTo>
                        <a:lnTo>
                          <a:pt x="444" y="628"/>
                        </a:lnTo>
                        <a:lnTo>
                          <a:pt x="438" y="613"/>
                        </a:lnTo>
                        <a:lnTo>
                          <a:pt x="432" y="597"/>
                        </a:lnTo>
                        <a:lnTo>
                          <a:pt x="425" y="580"/>
                        </a:lnTo>
                        <a:lnTo>
                          <a:pt x="419" y="562"/>
                        </a:lnTo>
                        <a:lnTo>
                          <a:pt x="413" y="545"/>
                        </a:lnTo>
                        <a:lnTo>
                          <a:pt x="407" y="529"/>
                        </a:lnTo>
                        <a:lnTo>
                          <a:pt x="397" y="510"/>
                        </a:lnTo>
                        <a:lnTo>
                          <a:pt x="390" y="492"/>
                        </a:lnTo>
                        <a:lnTo>
                          <a:pt x="382" y="475"/>
                        </a:lnTo>
                        <a:lnTo>
                          <a:pt x="374" y="457"/>
                        </a:lnTo>
                        <a:lnTo>
                          <a:pt x="365" y="438"/>
                        </a:lnTo>
                        <a:lnTo>
                          <a:pt x="355" y="421"/>
                        </a:lnTo>
                        <a:lnTo>
                          <a:pt x="345" y="401"/>
                        </a:lnTo>
                        <a:lnTo>
                          <a:pt x="337" y="384"/>
                        </a:lnTo>
                        <a:lnTo>
                          <a:pt x="326" y="364"/>
                        </a:lnTo>
                        <a:lnTo>
                          <a:pt x="316" y="347"/>
                        </a:lnTo>
                        <a:lnTo>
                          <a:pt x="306" y="328"/>
                        </a:lnTo>
                        <a:lnTo>
                          <a:pt x="297" y="310"/>
                        </a:lnTo>
                        <a:lnTo>
                          <a:pt x="285" y="293"/>
                        </a:lnTo>
                        <a:lnTo>
                          <a:pt x="273" y="275"/>
                        </a:lnTo>
                        <a:lnTo>
                          <a:pt x="262" y="258"/>
                        </a:lnTo>
                        <a:lnTo>
                          <a:pt x="250" y="240"/>
                        </a:lnTo>
                        <a:lnTo>
                          <a:pt x="235" y="223"/>
                        </a:lnTo>
                        <a:lnTo>
                          <a:pt x="223" y="205"/>
                        </a:lnTo>
                        <a:lnTo>
                          <a:pt x="207" y="188"/>
                        </a:lnTo>
                        <a:lnTo>
                          <a:pt x="196" y="170"/>
                        </a:lnTo>
                        <a:lnTo>
                          <a:pt x="180" y="153"/>
                        </a:lnTo>
                        <a:lnTo>
                          <a:pt x="165" y="138"/>
                        </a:lnTo>
                        <a:lnTo>
                          <a:pt x="149" y="122"/>
                        </a:lnTo>
                        <a:lnTo>
                          <a:pt x="136" y="108"/>
                        </a:lnTo>
                        <a:lnTo>
                          <a:pt x="118" y="91"/>
                        </a:lnTo>
                        <a:lnTo>
                          <a:pt x="103" y="77"/>
                        </a:lnTo>
                        <a:lnTo>
                          <a:pt x="85" y="62"/>
                        </a:lnTo>
                        <a:lnTo>
                          <a:pt x="70" y="50"/>
                        </a:lnTo>
                        <a:lnTo>
                          <a:pt x="52" y="35"/>
                        </a:lnTo>
                        <a:lnTo>
                          <a:pt x="35" y="23"/>
                        </a:lnTo>
                        <a:lnTo>
                          <a:pt x="17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d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-1676880" y="-256680"/>
                    <a:ext cx="3834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2" h="110">
                        <a:moveTo>
                          <a:pt x="61" y="54"/>
                        </a:moveTo>
                        <a:lnTo>
                          <a:pt x="53" y="54"/>
                        </a:lnTo>
                        <a:lnTo>
                          <a:pt x="41" y="60"/>
                        </a:lnTo>
                        <a:lnTo>
                          <a:pt x="24" y="66"/>
                        </a:lnTo>
                        <a:lnTo>
                          <a:pt x="10" y="75"/>
                        </a:lnTo>
                        <a:lnTo>
                          <a:pt x="0" y="85"/>
                        </a:lnTo>
                        <a:lnTo>
                          <a:pt x="4" y="95"/>
                        </a:lnTo>
                        <a:lnTo>
                          <a:pt x="10" y="99"/>
                        </a:lnTo>
                        <a:lnTo>
                          <a:pt x="24" y="103"/>
                        </a:lnTo>
                        <a:lnTo>
                          <a:pt x="30" y="103"/>
                        </a:lnTo>
                        <a:lnTo>
                          <a:pt x="41" y="106"/>
                        </a:lnTo>
                        <a:lnTo>
                          <a:pt x="51" y="106"/>
                        </a:lnTo>
                        <a:lnTo>
                          <a:pt x="66" y="110"/>
                        </a:lnTo>
                        <a:lnTo>
                          <a:pt x="72" y="108"/>
                        </a:lnTo>
                        <a:lnTo>
                          <a:pt x="80" y="108"/>
                        </a:lnTo>
                        <a:lnTo>
                          <a:pt x="90" y="108"/>
                        </a:lnTo>
                        <a:lnTo>
                          <a:pt x="101" y="108"/>
                        </a:lnTo>
                        <a:lnTo>
                          <a:pt x="111" y="108"/>
                        </a:lnTo>
                        <a:lnTo>
                          <a:pt x="125" y="108"/>
                        </a:lnTo>
                        <a:lnTo>
                          <a:pt x="136" y="108"/>
                        </a:lnTo>
                        <a:lnTo>
                          <a:pt x="154" y="108"/>
                        </a:lnTo>
                        <a:lnTo>
                          <a:pt x="167" y="106"/>
                        </a:lnTo>
                        <a:lnTo>
                          <a:pt x="183" y="106"/>
                        </a:lnTo>
                        <a:lnTo>
                          <a:pt x="200" y="104"/>
                        </a:lnTo>
                        <a:lnTo>
                          <a:pt x="220" y="104"/>
                        </a:lnTo>
                        <a:lnTo>
                          <a:pt x="237" y="103"/>
                        </a:lnTo>
                        <a:lnTo>
                          <a:pt x="256" y="103"/>
                        </a:lnTo>
                        <a:lnTo>
                          <a:pt x="276" y="103"/>
                        </a:lnTo>
                        <a:lnTo>
                          <a:pt x="299" y="103"/>
                        </a:lnTo>
                        <a:lnTo>
                          <a:pt x="319" y="99"/>
                        </a:lnTo>
                        <a:lnTo>
                          <a:pt x="342" y="99"/>
                        </a:lnTo>
                        <a:lnTo>
                          <a:pt x="365" y="95"/>
                        </a:lnTo>
                        <a:lnTo>
                          <a:pt x="388" y="95"/>
                        </a:lnTo>
                        <a:lnTo>
                          <a:pt x="412" y="91"/>
                        </a:lnTo>
                        <a:lnTo>
                          <a:pt x="435" y="91"/>
                        </a:lnTo>
                        <a:lnTo>
                          <a:pt x="460" y="87"/>
                        </a:lnTo>
                        <a:lnTo>
                          <a:pt x="485" y="87"/>
                        </a:lnTo>
                        <a:lnTo>
                          <a:pt x="509" y="83"/>
                        </a:lnTo>
                        <a:lnTo>
                          <a:pt x="536" y="83"/>
                        </a:lnTo>
                        <a:lnTo>
                          <a:pt x="561" y="79"/>
                        </a:lnTo>
                        <a:lnTo>
                          <a:pt x="588" y="79"/>
                        </a:lnTo>
                        <a:lnTo>
                          <a:pt x="613" y="75"/>
                        </a:lnTo>
                        <a:lnTo>
                          <a:pt x="640" y="75"/>
                        </a:lnTo>
                        <a:lnTo>
                          <a:pt x="666" y="71"/>
                        </a:lnTo>
                        <a:lnTo>
                          <a:pt x="695" y="71"/>
                        </a:lnTo>
                        <a:lnTo>
                          <a:pt x="720" y="68"/>
                        </a:lnTo>
                        <a:lnTo>
                          <a:pt x="747" y="66"/>
                        </a:lnTo>
                        <a:lnTo>
                          <a:pt x="772" y="62"/>
                        </a:lnTo>
                        <a:lnTo>
                          <a:pt x="799" y="62"/>
                        </a:lnTo>
                        <a:lnTo>
                          <a:pt x="825" y="58"/>
                        </a:lnTo>
                        <a:lnTo>
                          <a:pt x="852" y="56"/>
                        </a:lnTo>
                        <a:lnTo>
                          <a:pt x="877" y="52"/>
                        </a:lnTo>
                        <a:lnTo>
                          <a:pt x="904" y="52"/>
                        </a:lnTo>
                        <a:lnTo>
                          <a:pt x="929" y="48"/>
                        </a:lnTo>
                        <a:lnTo>
                          <a:pt x="955" y="46"/>
                        </a:lnTo>
                        <a:lnTo>
                          <a:pt x="980" y="42"/>
                        </a:lnTo>
                        <a:lnTo>
                          <a:pt x="1005" y="42"/>
                        </a:lnTo>
                        <a:lnTo>
                          <a:pt x="1028" y="39"/>
                        </a:lnTo>
                        <a:lnTo>
                          <a:pt x="1052" y="37"/>
                        </a:lnTo>
                        <a:lnTo>
                          <a:pt x="1075" y="33"/>
                        </a:lnTo>
                        <a:lnTo>
                          <a:pt x="1100" y="33"/>
                        </a:lnTo>
                        <a:lnTo>
                          <a:pt x="1121" y="29"/>
                        </a:lnTo>
                        <a:lnTo>
                          <a:pt x="1143" y="27"/>
                        </a:lnTo>
                        <a:lnTo>
                          <a:pt x="1164" y="23"/>
                        </a:lnTo>
                        <a:lnTo>
                          <a:pt x="1185" y="21"/>
                        </a:lnTo>
                        <a:lnTo>
                          <a:pt x="1205" y="17"/>
                        </a:lnTo>
                        <a:lnTo>
                          <a:pt x="1224" y="17"/>
                        </a:lnTo>
                        <a:lnTo>
                          <a:pt x="1242" y="13"/>
                        </a:lnTo>
                        <a:lnTo>
                          <a:pt x="1261" y="13"/>
                        </a:lnTo>
                        <a:lnTo>
                          <a:pt x="1277" y="9"/>
                        </a:lnTo>
                        <a:lnTo>
                          <a:pt x="1292" y="7"/>
                        </a:lnTo>
                        <a:lnTo>
                          <a:pt x="1308" y="6"/>
                        </a:lnTo>
                        <a:lnTo>
                          <a:pt x="1323" y="6"/>
                        </a:lnTo>
                        <a:lnTo>
                          <a:pt x="1335" y="4"/>
                        </a:lnTo>
                        <a:lnTo>
                          <a:pt x="1348" y="2"/>
                        </a:lnTo>
                        <a:lnTo>
                          <a:pt x="1360" y="0"/>
                        </a:lnTo>
                        <a:lnTo>
                          <a:pt x="1372" y="0"/>
                        </a:lnTo>
                        <a:lnTo>
                          <a:pt x="61" y="54"/>
                        </a:lnTo>
                        <a:close/>
                      </a:path>
                    </a:pathLst>
                  </a:custGeom>
                  <a:solidFill>
                    <a:srgbClr val="f1a4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-1171440" y="517680"/>
                    <a:ext cx="5004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537">
                        <a:moveTo>
                          <a:pt x="178" y="0"/>
                        </a:moveTo>
                        <a:lnTo>
                          <a:pt x="175" y="0"/>
                        </a:lnTo>
                        <a:lnTo>
                          <a:pt x="171" y="0"/>
                        </a:lnTo>
                        <a:lnTo>
                          <a:pt x="163" y="0"/>
                        </a:lnTo>
                        <a:lnTo>
                          <a:pt x="153" y="4"/>
                        </a:lnTo>
                        <a:lnTo>
                          <a:pt x="140" y="4"/>
                        </a:lnTo>
                        <a:lnTo>
                          <a:pt x="128" y="10"/>
                        </a:lnTo>
                        <a:lnTo>
                          <a:pt x="114" y="15"/>
                        </a:lnTo>
                        <a:lnTo>
                          <a:pt x="101" y="25"/>
                        </a:lnTo>
                        <a:lnTo>
                          <a:pt x="83" y="33"/>
                        </a:lnTo>
                        <a:lnTo>
                          <a:pt x="68" y="47"/>
                        </a:lnTo>
                        <a:lnTo>
                          <a:pt x="52" y="60"/>
                        </a:lnTo>
                        <a:lnTo>
                          <a:pt x="41" y="79"/>
                        </a:lnTo>
                        <a:lnTo>
                          <a:pt x="35" y="87"/>
                        </a:lnTo>
                        <a:lnTo>
                          <a:pt x="29" y="99"/>
                        </a:lnTo>
                        <a:lnTo>
                          <a:pt x="23" y="111"/>
                        </a:lnTo>
                        <a:lnTo>
                          <a:pt x="19" y="122"/>
                        </a:lnTo>
                        <a:lnTo>
                          <a:pt x="14" y="134"/>
                        </a:lnTo>
                        <a:lnTo>
                          <a:pt x="10" y="149"/>
                        </a:lnTo>
                        <a:lnTo>
                          <a:pt x="6" y="165"/>
                        </a:lnTo>
                        <a:lnTo>
                          <a:pt x="6" y="182"/>
                        </a:lnTo>
                        <a:lnTo>
                          <a:pt x="2" y="198"/>
                        </a:lnTo>
                        <a:lnTo>
                          <a:pt x="0" y="213"/>
                        </a:lnTo>
                        <a:lnTo>
                          <a:pt x="0" y="229"/>
                        </a:lnTo>
                        <a:lnTo>
                          <a:pt x="0" y="244"/>
                        </a:lnTo>
                        <a:lnTo>
                          <a:pt x="0" y="260"/>
                        </a:lnTo>
                        <a:lnTo>
                          <a:pt x="2" y="275"/>
                        </a:lnTo>
                        <a:lnTo>
                          <a:pt x="4" y="291"/>
                        </a:lnTo>
                        <a:lnTo>
                          <a:pt x="8" y="308"/>
                        </a:lnTo>
                        <a:lnTo>
                          <a:pt x="8" y="322"/>
                        </a:lnTo>
                        <a:lnTo>
                          <a:pt x="12" y="335"/>
                        </a:lnTo>
                        <a:lnTo>
                          <a:pt x="15" y="349"/>
                        </a:lnTo>
                        <a:lnTo>
                          <a:pt x="21" y="365"/>
                        </a:lnTo>
                        <a:lnTo>
                          <a:pt x="25" y="378"/>
                        </a:lnTo>
                        <a:lnTo>
                          <a:pt x="31" y="392"/>
                        </a:lnTo>
                        <a:lnTo>
                          <a:pt x="37" y="405"/>
                        </a:lnTo>
                        <a:lnTo>
                          <a:pt x="43" y="419"/>
                        </a:lnTo>
                        <a:lnTo>
                          <a:pt x="48" y="429"/>
                        </a:lnTo>
                        <a:lnTo>
                          <a:pt x="54" y="440"/>
                        </a:lnTo>
                        <a:lnTo>
                          <a:pt x="60" y="450"/>
                        </a:lnTo>
                        <a:lnTo>
                          <a:pt x="68" y="462"/>
                        </a:lnTo>
                        <a:lnTo>
                          <a:pt x="81" y="479"/>
                        </a:lnTo>
                        <a:lnTo>
                          <a:pt x="99" y="498"/>
                        </a:lnTo>
                        <a:lnTo>
                          <a:pt x="114" y="512"/>
                        </a:lnTo>
                        <a:lnTo>
                          <a:pt x="132" y="524"/>
                        </a:lnTo>
                        <a:lnTo>
                          <a:pt x="151" y="531"/>
                        </a:lnTo>
                        <a:lnTo>
                          <a:pt x="171" y="537"/>
                        </a:lnTo>
                        <a:lnTo>
                          <a:pt x="167" y="531"/>
                        </a:lnTo>
                        <a:lnTo>
                          <a:pt x="159" y="522"/>
                        </a:lnTo>
                        <a:lnTo>
                          <a:pt x="153" y="514"/>
                        </a:lnTo>
                        <a:lnTo>
                          <a:pt x="147" y="504"/>
                        </a:lnTo>
                        <a:lnTo>
                          <a:pt x="142" y="491"/>
                        </a:lnTo>
                        <a:lnTo>
                          <a:pt x="136" y="479"/>
                        </a:lnTo>
                        <a:lnTo>
                          <a:pt x="128" y="462"/>
                        </a:lnTo>
                        <a:lnTo>
                          <a:pt x="120" y="444"/>
                        </a:lnTo>
                        <a:lnTo>
                          <a:pt x="116" y="432"/>
                        </a:lnTo>
                        <a:lnTo>
                          <a:pt x="114" y="423"/>
                        </a:lnTo>
                        <a:lnTo>
                          <a:pt x="111" y="411"/>
                        </a:lnTo>
                        <a:lnTo>
                          <a:pt x="109" y="401"/>
                        </a:lnTo>
                        <a:lnTo>
                          <a:pt x="105" y="388"/>
                        </a:lnTo>
                        <a:lnTo>
                          <a:pt x="103" y="376"/>
                        </a:lnTo>
                        <a:lnTo>
                          <a:pt x="99" y="363"/>
                        </a:lnTo>
                        <a:lnTo>
                          <a:pt x="99" y="349"/>
                        </a:lnTo>
                        <a:lnTo>
                          <a:pt x="97" y="334"/>
                        </a:lnTo>
                        <a:lnTo>
                          <a:pt x="95" y="318"/>
                        </a:lnTo>
                        <a:lnTo>
                          <a:pt x="95" y="302"/>
                        </a:lnTo>
                        <a:lnTo>
                          <a:pt x="95" y="287"/>
                        </a:lnTo>
                        <a:lnTo>
                          <a:pt x="93" y="271"/>
                        </a:lnTo>
                        <a:lnTo>
                          <a:pt x="93" y="256"/>
                        </a:lnTo>
                        <a:lnTo>
                          <a:pt x="93" y="240"/>
                        </a:lnTo>
                        <a:lnTo>
                          <a:pt x="97" y="227"/>
                        </a:lnTo>
                        <a:lnTo>
                          <a:pt x="97" y="211"/>
                        </a:lnTo>
                        <a:lnTo>
                          <a:pt x="101" y="198"/>
                        </a:lnTo>
                        <a:lnTo>
                          <a:pt x="105" y="184"/>
                        </a:lnTo>
                        <a:lnTo>
                          <a:pt x="111" y="173"/>
                        </a:lnTo>
                        <a:lnTo>
                          <a:pt x="116" y="159"/>
                        </a:lnTo>
                        <a:lnTo>
                          <a:pt x="122" y="145"/>
                        </a:lnTo>
                        <a:lnTo>
                          <a:pt x="128" y="134"/>
                        </a:lnTo>
                        <a:lnTo>
                          <a:pt x="138" y="122"/>
                        </a:lnTo>
                        <a:lnTo>
                          <a:pt x="145" y="111"/>
                        </a:lnTo>
                        <a:lnTo>
                          <a:pt x="155" y="99"/>
                        </a:lnTo>
                        <a:lnTo>
                          <a:pt x="167" y="89"/>
                        </a:lnTo>
                        <a:lnTo>
                          <a:pt x="180" y="81"/>
                        </a:lnTo>
                        <a:lnTo>
                          <a:pt x="178" y="78"/>
                        </a:lnTo>
                        <a:lnTo>
                          <a:pt x="178" y="70"/>
                        </a:lnTo>
                        <a:lnTo>
                          <a:pt x="178" y="58"/>
                        </a:lnTo>
                        <a:lnTo>
                          <a:pt x="178" y="47"/>
                        </a:lnTo>
                        <a:lnTo>
                          <a:pt x="178" y="31"/>
                        </a:lnTo>
                        <a:lnTo>
                          <a:pt x="178" y="17"/>
                        </a:lnTo>
                        <a:lnTo>
                          <a:pt x="178" y="6"/>
                        </a:lnTo>
                        <a:lnTo>
                          <a:pt x="1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-1146240" y="436320"/>
                    <a:ext cx="738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56">
                        <a:moveTo>
                          <a:pt x="20" y="244"/>
                        </a:moveTo>
                        <a:lnTo>
                          <a:pt x="18" y="241"/>
                        </a:lnTo>
                        <a:lnTo>
                          <a:pt x="18" y="235"/>
                        </a:lnTo>
                        <a:lnTo>
                          <a:pt x="16" y="223"/>
                        </a:lnTo>
                        <a:lnTo>
                          <a:pt x="14" y="210"/>
                        </a:lnTo>
                        <a:lnTo>
                          <a:pt x="10" y="190"/>
                        </a:lnTo>
                        <a:lnTo>
                          <a:pt x="10" y="173"/>
                        </a:lnTo>
                        <a:lnTo>
                          <a:pt x="6" y="151"/>
                        </a:lnTo>
                        <a:lnTo>
                          <a:pt x="6" y="132"/>
                        </a:lnTo>
                        <a:lnTo>
                          <a:pt x="4" y="120"/>
                        </a:lnTo>
                        <a:lnTo>
                          <a:pt x="4" y="109"/>
                        </a:lnTo>
                        <a:lnTo>
                          <a:pt x="2" y="97"/>
                        </a:lnTo>
                        <a:lnTo>
                          <a:pt x="2" y="87"/>
                        </a:lnTo>
                        <a:lnTo>
                          <a:pt x="0" y="68"/>
                        </a:lnTo>
                        <a:lnTo>
                          <a:pt x="0" y="51"/>
                        </a:lnTo>
                        <a:lnTo>
                          <a:pt x="0" y="33"/>
                        </a:lnTo>
                        <a:lnTo>
                          <a:pt x="0" y="19"/>
                        </a:lnTo>
                        <a:lnTo>
                          <a:pt x="2" y="10"/>
                        </a:lnTo>
                        <a:lnTo>
                          <a:pt x="6" y="6"/>
                        </a:lnTo>
                        <a:lnTo>
                          <a:pt x="8" y="0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45" y="6"/>
                        </a:lnTo>
                        <a:lnTo>
                          <a:pt x="60" y="10"/>
                        </a:lnTo>
                        <a:lnTo>
                          <a:pt x="80" y="19"/>
                        </a:lnTo>
                        <a:lnTo>
                          <a:pt x="89" y="23"/>
                        </a:lnTo>
                        <a:lnTo>
                          <a:pt x="99" y="29"/>
                        </a:lnTo>
                        <a:lnTo>
                          <a:pt x="111" y="35"/>
                        </a:lnTo>
                        <a:lnTo>
                          <a:pt x="122" y="43"/>
                        </a:lnTo>
                        <a:lnTo>
                          <a:pt x="132" y="49"/>
                        </a:lnTo>
                        <a:lnTo>
                          <a:pt x="144" y="54"/>
                        </a:lnTo>
                        <a:lnTo>
                          <a:pt x="153" y="62"/>
                        </a:lnTo>
                        <a:lnTo>
                          <a:pt x="165" y="72"/>
                        </a:lnTo>
                        <a:lnTo>
                          <a:pt x="184" y="89"/>
                        </a:lnTo>
                        <a:lnTo>
                          <a:pt x="206" y="111"/>
                        </a:lnTo>
                        <a:lnTo>
                          <a:pt x="214" y="120"/>
                        </a:lnTo>
                        <a:lnTo>
                          <a:pt x="223" y="132"/>
                        </a:lnTo>
                        <a:lnTo>
                          <a:pt x="231" y="144"/>
                        </a:lnTo>
                        <a:lnTo>
                          <a:pt x="241" y="157"/>
                        </a:lnTo>
                        <a:lnTo>
                          <a:pt x="246" y="169"/>
                        </a:lnTo>
                        <a:lnTo>
                          <a:pt x="254" y="184"/>
                        </a:lnTo>
                        <a:lnTo>
                          <a:pt x="260" y="198"/>
                        </a:lnTo>
                        <a:lnTo>
                          <a:pt x="266" y="215"/>
                        </a:lnTo>
                        <a:lnTo>
                          <a:pt x="262" y="211"/>
                        </a:lnTo>
                        <a:lnTo>
                          <a:pt x="258" y="208"/>
                        </a:lnTo>
                        <a:lnTo>
                          <a:pt x="250" y="198"/>
                        </a:lnTo>
                        <a:lnTo>
                          <a:pt x="241" y="188"/>
                        </a:lnTo>
                        <a:lnTo>
                          <a:pt x="227" y="175"/>
                        </a:lnTo>
                        <a:lnTo>
                          <a:pt x="214" y="161"/>
                        </a:lnTo>
                        <a:lnTo>
                          <a:pt x="198" y="146"/>
                        </a:lnTo>
                        <a:lnTo>
                          <a:pt x="182" y="132"/>
                        </a:lnTo>
                        <a:lnTo>
                          <a:pt x="165" y="116"/>
                        </a:lnTo>
                        <a:lnTo>
                          <a:pt x="150" y="103"/>
                        </a:lnTo>
                        <a:lnTo>
                          <a:pt x="132" y="89"/>
                        </a:lnTo>
                        <a:lnTo>
                          <a:pt x="117" y="78"/>
                        </a:lnTo>
                        <a:lnTo>
                          <a:pt x="101" y="66"/>
                        </a:lnTo>
                        <a:lnTo>
                          <a:pt x="89" y="62"/>
                        </a:lnTo>
                        <a:lnTo>
                          <a:pt x="78" y="58"/>
                        </a:lnTo>
                        <a:lnTo>
                          <a:pt x="70" y="60"/>
                        </a:lnTo>
                        <a:lnTo>
                          <a:pt x="60" y="62"/>
                        </a:lnTo>
                        <a:lnTo>
                          <a:pt x="56" y="68"/>
                        </a:lnTo>
                        <a:lnTo>
                          <a:pt x="53" y="78"/>
                        </a:lnTo>
                        <a:lnTo>
                          <a:pt x="53" y="89"/>
                        </a:lnTo>
                        <a:lnTo>
                          <a:pt x="51" y="101"/>
                        </a:lnTo>
                        <a:lnTo>
                          <a:pt x="53" y="114"/>
                        </a:lnTo>
                        <a:lnTo>
                          <a:pt x="54" y="128"/>
                        </a:lnTo>
                        <a:lnTo>
                          <a:pt x="58" y="146"/>
                        </a:lnTo>
                        <a:lnTo>
                          <a:pt x="60" y="159"/>
                        </a:lnTo>
                        <a:lnTo>
                          <a:pt x="62" y="175"/>
                        </a:lnTo>
                        <a:lnTo>
                          <a:pt x="64" y="188"/>
                        </a:lnTo>
                        <a:lnTo>
                          <a:pt x="68" y="204"/>
                        </a:lnTo>
                        <a:lnTo>
                          <a:pt x="68" y="215"/>
                        </a:lnTo>
                        <a:lnTo>
                          <a:pt x="70" y="227"/>
                        </a:lnTo>
                        <a:lnTo>
                          <a:pt x="68" y="237"/>
                        </a:lnTo>
                        <a:lnTo>
                          <a:pt x="68" y="244"/>
                        </a:lnTo>
                        <a:lnTo>
                          <a:pt x="58" y="252"/>
                        </a:lnTo>
                        <a:lnTo>
                          <a:pt x="53" y="256"/>
                        </a:lnTo>
                        <a:lnTo>
                          <a:pt x="43" y="256"/>
                        </a:lnTo>
                        <a:lnTo>
                          <a:pt x="37" y="256"/>
                        </a:lnTo>
                        <a:lnTo>
                          <a:pt x="23" y="248"/>
                        </a:lnTo>
                        <a:lnTo>
                          <a:pt x="20" y="2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-1226160" y="547920"/>
                    <a:ext cx="446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488">
                        <a:moveTo>
                          <a:pt x="151" y="87"/>
                        </a:moveTo>
                        <a:lnTo>
                          <a:pt x="146" y="79"/>
                        </a:lnTo>
                        <a:lnTo>
                          <a:pt x="134" y="66"/>
                        </a:lnTo>
                        <a:lnTo>
                          <a:pt x="124" y="56"/>
                        </a:lnTo>
                        <a:lnTo>
                          <a:pt x="116" y="46"/>
                        </a:lnTo>
                        <a:lnTo>
                          <a:pt x="107" y="36"/>
                        </a:lnTo>
                        <a:lnTo>
                          <a:pt x="97" y="29"/>
                        </a:lnTo>
                        <a:lnTo>
                          <a:pt x="85" y="17"/>
                        </a:lnTo>
                        <a:lnTo>
                          <a:pt x="74" y="11"/>
                        </a:lnTo>
                        <a:lnTo>
                          <a:pt x="62" y="3"/>
                        </a:lnTo>
                        <a:lnTo>
                          <a:pt x="54" y="2"/>
                        </a:lnTo>
                        <a:lnTo>
                          <a:pt x="43" y="0"/>
                        </a:lnTo>
                        <a:lnTo>
                          <a:pt x="37" y="2"/>
                        </a:lnTo>
                        <a:lnTo>
                          <a:pt x="29" y="7"/>
                        </a:lnTo>
                        <a:lnTo>
                          <a:pt x="25" y="19"/>
                        </a:lnTo>
                        <a:lnTo>
                          <a:pt x="19" y="31"/>
                        </a:lnTo>
                        <a:lnTo>
                          <a:pt x="14" y="50"/>
                        </a:lnTo>
                        <a:lnTo>
                          <a:pt x="10" y="60"/>
                        </a:lnTo>
                        <a:lnTo>
                          <a:pt x="8" y="71"/>
                        </a:lnTo>
                        <a:lnTo>
                          <a:pt x="6" y="83"/>
                        </a:lnTo>
                        <a:lnTo>
                          <a:pt x="6" y="97"/>
                        </a:lnTo>
                        <a:lnTo>
                          <a:pt x="2" y="108"/>
                        </a:lnTo>
                        <a:lnTo>
                          <a:pt x="0" y="124"/>
                        </a:lnTo>
                        <a:lnTo>
                          <a:pt x="0" y="137"/>
                        </a:lnTo>
                        <a:lnTo>
                          <a:pt x="0" y="153"/>
                        </a:lnTo>
                        <a:lnTo>
                          <a:pt x="0" y="168"/>
                        </a:lnTo>
                        <a:lnTo>
                          <a:pt x="0" y="186"/>
                        </a:lnTo>
                        <a:lnTo>
                          <a:pt x="2" y="203"/>
                        </a:lnTo>
                        <a:lnTo>
                          <a:pt x="6" y="221"/>
                        </a:lnTo>
                        <a:lnTo>
                          <a:pt x="6" y="236"/>
                        </a:lnTo>
                        <a:lnTo>
                          <a:pt x="10" y="254"/>
                        </a:lnTo>
                        <a:lnTo>
                          <a:pt x="12" y="271"/>
                        </a:lnTo>
                        <a:lnTo>
                          <a:pt x="18" y="289"/>
                        </a:lnTo>
                        <a:lnTo>
                          <a:pt x="21" y="306"/>
                        </a:lnTo>
                        <a:lnTo>
                          <a:pt x="27" y="323"/>
                        </a:lnTo>
                        <a:lnTo>
                          <a:pt x="33" y="341"/>
                        </a:lnTo>
                        <a:lnTo>
                          <a:pt x="43" y="360"/>
                        </a:lnTo>
                        <a:lnTo>
                          <a:pt x="51" y="376"/>
                        </a:lnTo>
                        <a:lnTo>
                          <a:pt x="60" y="393"/>
                        </a:lnTo>
                        <a:lnTo>
                          <a:pt x="72" y="409"/>
                        </a:lnTo>
                        <a:lnTo>
                          <a:pt x="83" y="426"/>
                        </a:lnTo>
                        <a:lnTo>
                          <a:pt x="95" y="442"/>
                        </a:lnTo>
                        <a:lnTo>
                          <a:pt x="111" y="457"/>
                        </a:lnTo>
                        <a:lnTo>
                          <a:pt x="126" y="473"/>
                        </a:lnTo>
                        <a:lnTo>
                          <a:pt x="144" y="488"/>
                        </a:lnTo>
                        <a:lnTo>
                          <a:pt x="140" y="484"/>
                        </a:lnTo>
                        <a:lnTo>
                          <a:pt x="136" y="479"/>
                        </a:lnTo>
                        <a:lnTo>
                          <a:pt x="128" y="469"/>
                        </a:lnTo>
                        <a:lnTo>
                          <a:pt x="122" y="459"/>
                        </a:lnTo>
                        <a:lnTo>
                          <a:pt x="113" y="442"/>
                        </a:lnTo>
                        <a:lnTo>
                          <a:pt x="103" y="424"/>
                        </a:lnTo>
                        <a:lnTo>
                          <a:pt x="97" y="413"/>
                        </a:lnTo>
                        <a:lnTo>
                          <a:pt x="93" y="403"/>
                        </a:lnTo>
                        <a:lnTo>
                          <a:pt x="87" y="391"/>
                        </a:lnTo>
                        <a:lnTo>
                          <a:pt x="83" y="382"/>
                        </a:lnTo>
                        <a:lnTo>
                          <a:pt x="78" y="368"/>
                        </a:lnTo>
                        <a:lnTo>
                          <a:pt x="72" y="354"/>
                        </a:lnTo>
                        <a:lnTo>
                          <a:pt x="66" y="341"/>
                        </a:lnTo>
                        <a:lnTo>
                          <a:pt x="62" y="327"/>
                        </a:lnTo>
                        <a:lnTo>
                          <a:pt x="56" y="312"/>
                        </a:lnTo>
                        <a:lnTo>
                          <a:pt x="54" y="296"/>
                        </a:lnTo>
                        <a:lnTo>
                          <a:pt x="51" y="281"/>
                        </a:lnTo>
                        <a:lnTo>
                          <a:pt x="49" y="265"/>
                        </a:lnTo>
                        <a:lnTo>
                          <a:pt x="45" y="248"/>
                        </a:lnTo>
                        <a:lnTo>
                          <a:pt x="43" y="230"/>
                        </a:lnTo>
                        <a:lnTo>
                          <a:pt x="43" y="213"/>
                        </a:lnTo>
                        <a:lnTo>
                          <a:pt x="45" y="197"/>
                        </a:lnTo>
                        <a:lnTo>
                          <a:pt x="45" y="178"/>
                        </a:lnTo>
                        <a:lnTo>
                          <a:pt x="45" y="161"/>
                        </a:lnTo>
                        <a:lnTo>
                          <a:pt x="47" y="143"/>
                        </a:lnTo>
                        <a:lnTo>
                          <a:pt x="52" y="126"/>
                        </a:lnTo>
                        <a:lnTo>
                          <a:pt x="52" y="114"/>
                        </a:lnTo>
                        <a:lnTo>
                          <a:pt x="56" y="104"/>
                        </a:lnTo>
                        <a:lnTo>
                          <a:pt x="56" y="97"/>
                        </a:lnTo>
                        <a:lnTo>
                          <a:pt x="60" y="91"/>
                        </a:lnTo>
                        <a:lnTo>
                          <a:pt x="64" y="83"/>
                        </a:lnTo>
                        <a:lnTo>
                          <a:pt x="70" y="81"/>
                        </a:lnTo>
                        <a:lnTo>
                          <a:pt x="82" y="85"/>
                        </a:lnTo>
                        <a:lnTo>
                          <a:pt x="93" y="100"/>
                        </a:lnTo>
                        <a:lnTo>
                          <a:pt x="99" y="108"/>
                        </a:lnTo>
                        <a:lnTo>
                          <a:pt x="105" y="120"/>
                        </a:lnTo>
                        <a:lnTo>
                          <a:pt x="111" y="131"/>
                        </a:lnTo>
                        <a:lnTo>
                          <a:pt x="116" y="143"/>
                        </a:lnTo>
                        <a:lnTo>
                          <a:pt x="122" y="153"/>
                        </a:lnTo>
                        <a:lnTo>
                          <a:pt x="130" y="162"/>
                        </a:lnTo>
                        <a:lnTo>
                          <a:pt x="136" y="168"/>
                        </a:lnTo>
                        <a:lnTo>
                          <a:pt x="144" y="174"/>
                        </a:lnTo>
                        <a:lnTo>
                          <a:pt x="151" y="170"/>
                        </a:lnTo>
                        <a:lnTo>
                          <a:pt x="157" y="162"/>
                        </a:lnTo>
                        <a:lnTo>
                          <a:pt x="157" y="147"/>
                        </a:lnTo>
                        <a:lnTo>
                          <a:pt x="159" y="133"/>
                        </a:lnTo>
                        <a:lnTo>
                          <a:pt x="155" y="116"/>
                        </a:lnTo>
                        <a:lnTo>
                          <a:pt x="153" y="100"/>
                        </a:lnTo>
                        <a:lnTo>
                          <a:pt x="151" y="91"/>
                        </a:lnTo>
                        <a:lnTo>
                          <a:pt x="151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-1103760" y="683640"/>
                    <a:ext cx="579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25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6" y="18"/>
                        </a:lnTo>
                        <a:lnTo>
                          <a:pt x="6" y="26"/>
                        </a:lnTo>
                        <a:lnTo>
                          <a:pt x="10" y="37"/>
                        </a:lnTo>
                        <a:lnTo>
                          <a:pt x="14" y="51"/>
                        </a:lnTo>
                        <a:lnTo>
                          <a:pt x="18" y="64"/>
                        </a:lnTo>
                        <a:lnTo>
                          <a:pt x="18" y="76"/>
                        </a:lnTo>
                        <a:lnTo>
                          <a:pt x="20" y="92"/>
                        </a:lnTo>
                        <a:lnTo>
                          <a:pt x="22" y="105"/>
                        </a:lnTo>
                        <a:lnTo>
                          <a:pt x="24" y="121"/>
                        </a:lnTo>
                        <a:lnTo>
                          <a:pt x="22" y="134"/>
                        </a:lnTo>
                        <a:lnTo>
                          <a:pt x="22" y="148"/>
                        </a:lnTo>
                        <a:lnTo>
                          <a:pt x="20" y="159"/>
                        </a:lnTo>
                        <a:lnTo>
                          <a:pt x="18" y="171"/>
                        </a:lnTo>
                        <a:lnTo>
                          <a:pt x="10" y="187"/>
                        </a:lnTo>
                        <a:lnTo>
                          <a:pt x="6" y="200"/>
                        </a:lnTo>
                        <a:lnTo>
                          <a:pt x="4" y="212"/>
                        </a:lnTo>
                        <a:lnTo>
                          <a:pt x="6" y="220"/>
                        </a:lnTo>
                        <a:lnTo>
                          <a:pt x="10" y="223"/>
                        </a:lnTo>
                        <a:lnTo>
                          <a:pt x="20" y="225"/>
                        </a:lnTo>
                        <a:lnTo>
                          <a:pt x="31" y="223"/>
                        </a:lnTo>
                        <a:lnTo>
                          <a:pt x="49" y="221"/>
                        </a:lnTo>
                        <a:lnTo>
                          <a:pt x="55" y="216"/>
                        </a:lnTo>
                        <a:lnTo>
                          <a:pt x="66" y="212"/>
                        </a:lnTo>
                        <a:lnTo>
                          <a:pt x="78" y="206"/>
                        </a:lnTo>
                        <a:lnTo>
                          <a:pt x="90" y="200"/>
                        </a:lnTo>
                        <a:lnTo>
                          <a:pt x="101" y="192"/>
                        </a:lnTo>
                        <a:lnTo>
                          <a:pt x="113" y="185"/>
                        </a:lnTo>
                        <a:lnTo>
                          <a:pt x="126" y="175"/>
                        </a:lnTo>
                        <a:lnTo>
                          <a:pt x="140" y="167"/>
                        </a:lnTo>
                        <a:lnTo>
                          <a:pt x="152" y="156"/>
                        </a:lnTo>
                        <a:lnTo>
                          <a:pt x="163" y="144"/>
                        </a:lnTo>
                        <a:lnTo>
                          <a:pt x="173" y="132"/>
                        </a:lnTo>
                        <a:lnTo>
                          <a:pt x="185" y="123"/>
                        </a:lnTo>
                        <a:lnTo>
                          <a:pt x="190" y="109"/>
                        </a:lnTo>
                        <a:lnTo>
                          <a:pt x="198" y="97"/>
                        </a:lnTo>
                        <a:lnTo>
                          <a:pt x="204" y="84"/>
                        </a:lnTo>
                        <a:lnTo>
                          <a:pt x="208" y="72"/>
                        </a:lnTo>
                        <a:lnTo>
                          <a:pt x="202" y="76"/>
                        </a:lnTo>
                        <a:lnTo>
                          <a:pt x="189" y="88"/>
                        </a:lnTo>
                        <a:lnTo>
                          <a:pt x="179" y="93"/>
                        </a:lnTo>
                        <a:lnTo>
                          <a:pt x="169" y="103"/>
                        </a:lnTo>
                        <a:lnTo>
                          <a:pt x="157" y="113"/>
                        </a:lnTo>
                        <a:lnTo>
                          <a:pt x="148" y="124"/>
                        </a:lnTo>
                        <a:lnTo>
                          <a:pt x="136" y="132"/>
                        </a:lnTo>
                        <a:lnTo>
                          <a:pt x="125" y="142"/>
                        </a:lnTo>
                        <a:lnTo>
                          <a:pt x="113" y="150"/>
                        </a:lnTo>
                        <a:lnTo>
                          <a:pt x="103" y="159"/>
                        </a:lnTo>
                        <a:lnTo>
                          <a:pt x="84" y="169"/>
                        </a:lnTo>
                        <a:lnTo>
                          <a:pt x="72" y="173"/>
                        </a:lnTo>
                        <a:lnTo>
                          <a:pt x="62" y="163"/>
                        </a:lnTo>
                        <a:lnTo>
                          <a:pt x="61" y="148"/>
                        </a:lnTo>
                        <a:lnTo>
                          <a:pt x="59" y="136"/>
                        </a:lnTo>
                        <a:lnTo>
                          <a:pt x="59" y="126"/>
                        </a:lnTo>
                        <a:lnTo>
                          <a:pt x="57" y="113"/>
                        </a:lnTo>
                        <a:lnTo>
                          <a:pt x="57" y="101"/>
                        </a:lnTo>
                        <a:lnTo>
                          <a:pt x="53" y="86"/>
                        </a:lnTo>
                        <a:lnTo>
                          <a:pt x="51" y="74"/>
                        </a:lnTo>
                        <a:lnTo>
                          <a:pt x="45" y="59"/>
                        </a:lnTo>
                        <a:lnTo>
                          <a:pt x="41" y="47"/>
                        </a:lnTo>
                        <a:lnTo>
                          <a:pt x="33" y="33"/>
                        </a:lnTo>
                        <a:lnTo>
                          <a:pt x="24" y="20"/>
                        </a:lnTo>
                        <a:lnTo>
                          <a:pt x="12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-1414080" y="549000"/>
                    <a:ext cx="16596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156">
                        <a:moveTo>
                          <a:pt x="596" y="0"/>
                        </a:moveTo>
                        <a:lnTo>
                          <a:pt x="594" y="2"/>
                        </a:lnTo>
                        <a:lnTo>
                          <a:pt x="590" y="12"/>
                        </a:lnTo>
                        <a:lnTo>
                          <a:pt x="584" y="26"/>
                        </a:lnTo>
                        <a:lnTo>
                          <a:pt x="580" y="45"/>
                        </a:lnTo>
                        <a:lnTo>
                          <a:pt x="576" y="55"/>
                        </a:lnTo>
                        <a:lnTo>
                          <a:pt x="574" y="66"/>
                        </a:lnTo>
                        <a:lnTo>
                          <a:pt x="570" y="78"/>
                        </a:lnTo>
                        <a:lnTo>
                          <a:pt x="568" y="90"/>
                        </a:lnTo>
                        <a:lnTo>
                          <a:pt x="566" y="101"/>
                        </a:lnTo>
                        <a:lnTo>
                          <a:pt x="564" y="113"/>
                        </a:lnTo>
                        <a:lnTo>
                          <a:pt x="564" y="125"/>
                        </a:lnTo>
                        <a:lnTo>
                          <a:pt x="564" y="138"/>
                        </a:lnTo>
                        <a:lnTo>
                          <a:pt x="557" y="138"/>
                        </a:lnTo>
                        <a:lnTo>
                          <a:pt x="541" y="138"/>
                        </a:lnTo>
                        <a:lnTo>
                          <a:pt x="528" y="138"/>
                        </a:lnTo>
                        <a:lnTo>
                          <a:pt x="514" y="138"/>
                        </a:lnTo>
                        <a:lnTo>
                          <a:pt x="497" y="138"/>
                        </a:lnTo>
                        <a:lnTo>
                          <a:pt x="481" y="140"/>
                        </a:lnTo>
                        <a:lnTo>
                          <a:pt x="460" y="140"/>
                        </a:lnTo>
                        <a:lnTo>
                          <a:pt x="440" y="142"/>
                        </a:lnTo>
                        <a:lnTo>
                          <a:pt x="429" y="142"/>
                        </a:lnTo>
                        <a:lnTo>
                          <a:pt x="417" y="142"/>
                        </a:lnTo>
                        <a:lnTo>
                          <a:pt x="405" y="142"/>
                        </a:lnTo>
                        <a:lnTo>
                          <a:pt x="394" y="144"/>
                        </a:lnTo>
                        <a:lnTo>
                          <a:pt x="380" y="144"/>
                        </a:lnTo>
                        <a:lnTo>
                          <a:pt x="369" y="144"/>
                        </a:lnTo>
                        <a:lnTo>
                          <a:pt x="357" y="144"/>
                        </a:lnTo>
                        <a:lnTo>
                          <a:pt x="345" y="146"/>
                        </a:lnTo>
                        <a:lnTo>
                          <a:pt x="332" y="146"/>
                        </a:lnTo>
                        <a:lnTo>
                          <a:pt x="320" y="148"/>
                        </a:lnTo>
                        <a:lnTo>
                          <a:pt x="308" y="148"/>
                        </a:lnTo>
                        <a:lnTo>
                          <a:pt x="297" y="150"/>
                        </a:lnTo>
                        <a:lnTo>
                          <a:pt x="283" y="150"/>
                        </a:lnTo>
                        <a:lnTo>
                          <a:pt x="270" y="150"/>
                        </a:lnTo>
                        <a:lnTo>
                          <a:pt x="256" y="150"/>
                        </a:lnTo>
                        <a:lnTo>
                          <a:pt x="244" y="150"/>
                        </a:lnTo>
                        <a:lnTo>
                          <a:pt x="231" y="150"/>
                        </a:lnTo>
                        <a:lnTo>
                          <a:pt x="219" y="150"/>
                        </a:lnTo>
                        <a:lnTo>
                          <a:pt x="208" y="150"/>
                        </a:lnTo>
                        <a:lnTo>
                          <a:pt x="196" y="152"/>
                        </a:lnTo>
                        <a:lnTo>
                          <a:pt x="184" y="152"/>
                        </a:lnTo>
                        <a:lnTo>
                          <a:pt x="173" y="152"/>
                        </a:lnTo>
                        <a:lnTo>
                          <a:pt x="161" y="152"/>
                        </a:lnTo>
                        <a:lnTo>
                          <a:pt x="149" y="154"/>
                        </a:lnTo>
                        <a:lnTo>
                          <a:pt x="138" y="154"/>
                        </a:lnTo>
                        <a:lnTo>
                          <a:pt x="126" y="154"/>
                        </a:lnTo>
                        <a:lnTo>
                          <a:pt x="116" y="154"/>
                        </a:lnTo>
                        <a:lnTo>
                          <a:pt x="109" y="156"/>
                        </a:lnTo>
                        <a:lnTo>
                          <a:pt x="87" y="156"/>
                        </a:lnTo>
                        <a:lnTo>
                          <a:pt x="72" y="156"/>
                        </a:lnTo>
                        <a:lnTo>
                          <a:pt x="54" y="156"/>
                        </a:lnTo>
                        <a:lnTo>
                          <a:pt x="43" y="156"/>
                        </a:lnTo>
                        <a:lnTo>
                          <a:pt x="31" y="156"/>
                        </a:lnTo>
                        <a:lnTo>
                          <a:pt x="21" y="156"/>
                        </a:lnTo>
                        <a:lnTo>
                          <a:pt x="16" y="156"/>
                        </a:lnTo>
                        <a:lnTo>
                          <a:pt x="14" y="156"/>
                        </a:lnTo>
                        <a:lnTo>
                          <a:pt x="4" y="148"/>
                        </a:lnTo>
                        <a:lnTo>
                          <a:pt x="0" y="140"/>
                        </a:lnTo>
                        <a:lnTo>
                          <a:pt x="0" y="126"/>
                        </a:lnTo>
                        <a:lnTo>
                          <a:pt x="6" y="115"/>
                        </a:lnTo>
                        <a:lnTo>
                          <a:pt x="8" y="107"/>
                        </a:lnTo>
                        <a:lnTo>
                          <a:pt x="16" y="99"/>
                        </a:lnTo>
                        <a:lnTo>
                          <a:pt x="23" y="94"/>
                        </a:lnTo>
                        <a:lnTo>
                          <a:pt x="35" y="88"/>
                        </a:lnTo>
                        <a:lnTo>
                          <a:pt x="45" y="82"/>
                        </a:lnTo>
                        <a:lnTo>
                          <a:pt x="60" y="76"/>
                        </a:lnTo>
                        <a:lnTo>
                          <a:pt x="68" y="72"/>
                        </a:lnTo>
                        <a:lnTo>
                          <a:pt x="78" y="70"/>
                        </a:lnTo>
                        <a:lnTo>
                          <a:pt x="87" y="68"/>
                        </a:lnTo>
                        <a:lnTo>
                          <a:pt x="99" y="68"/>
                        </a:lnTo>
                        <a:lnTo>
                          <a:pt x="109" y="64"/>
                        </a:lnTo>
                        <a:lnTo>
                          <a:pt x="122" y="63"/>
                        </a:lnTo>
                        <a:lnTo>
                          <a:pt x="134" y="59"/>
                        </a:lnTo>
                        <a:lnTo>
                          <a:pt x="151" y="57"/>
                        </a:lnTo>
                        <a:lnTo>
                          <a:pt x="167" y="53"/>
                        </a:lnTo>
                        <a:lnTo>
                          <a:pt x="184" y="51"/>
                        </a:lnTo>
                        <a:lnTo>
                          <a:pt x="202" y="49"/>
                        </a:lnTo>
                        <a:lnTo>
                          <a:pt x="223" y="47"/>
                        </a:lnTo>
                        <a:lnTo>
                          <a:pt x="241" y="43"/>
                        </a:lnTo>
                        <a:lnTo>
                          <a:pt x="262" y="41"/>
                        </a:lnTo>
                        <a:lnTo>
                          <a:pt x="272" y="39"/>
                        </a:lnTo>
                        <a:lnTo>
                          <a:pt x="281" y="37"/>
                        </a:lnTo>
                        <a:lnTo>
                          <a:pt x="293" y="35"/>
                        </a:lnTo>
                        <a:lnTo>
                          <a:pt x="305" y="35"/>
                        </a:lnTo>
                        <a:lnTo>
                          <a:pt x="324" y="31"/>
                        </a:lnTo>
                        <a:lnTo>
                          <a:pt x="345" y="30"/>
                        </a:lnTo>
                        <a:lnTo>
                          <a:pt x="355" y="28"/>
                        </a:lnTo>
                        <a:lnTo>
                          <a:pt x="367" y="26"/>
                        </a:lnTo>
                        <a:lnTo>
                          <a:pt x="376" y="26"/>
                        </a:lnTo>
                        <a:lnTo>
                          <a:pt x="388" y="26"/>
                        </a:lnTo>
                        <a:lnTo>
                          <a:pt x="407" y="22"/>
                        </a:lnTo>
                        <a:lnTo>
                          <a:pt x="427" y="20"/>
                        </a:lnTo>
                        <a:lnTo>
                          <a:pt x="446" y="16"/>
                        </a:lnTo>
                        <a:lnTo>
                          <a:pt x="466" y="14"/>
                        </a:lnTo>
                        <a:lnTo>
                          <a:pt x="483" y="10"/>
                        </a:lnTo>
                        <a:lnTo>
                          <a:pt x="500" y="8"/>
                        </a:lnTo>
                        <a:lnTo>
                          <a:pt x="516" y="6"/>
                        </a:lnTo>
                        <a:lnTo>
                          <a:pt x="532" y="6"/>
                        </a:lnTo>
                        <a:lnTo>
                          <a:pt x="543" y="4"/>
                        </a:lnTo>
                        <a:lnTo>
                          <a:pt x="557" y="2"/>
                        </a:lnTo>
                        <a:lnTo>
                          <a:pt x="566" y="0"/>
                        </a:lnTo>
                        <a:lnTo>
                          <a:pt x="578" y="0"/>
                        </a:lnTo>
                        <a:lnTo>
                          <a:pt x="590" y="0"/>
                        </a:lnTo>
                        <a:lnTo>
                          <a:pt x="596" y="0"/>
                        </a:lnTo>
                        <a:close/>
                      </a:path>
                    </a:pathLst>
                  </a:custGeom>
                  <a:solidFill>
                    <a:srgbClr val="ea70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-1432440" y="334080"/>
                    <a:ext cx="267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129">
                        <a:moveTo>
                          <a:pt x="958" y="54"/>
                        </a:moveTo>
                        <a:lnTo>
                          <a:pt x="954" y="46"/>
                        </a:lnTo>
                        <a:lnTo>
                          <a:pt x="945" y="31"/>
                        </a:lnTo>
                        <a:lnTo>
                          <a:pt x="931" y="13"/>
                        </a:lnTo>
                        <a:lnTo>
                          <a:pt x="918" y="1"/>
                        </a:lnTo>
                        <a:lnTo>
                          <a:pt x="912" y="0"/>
                        </a:lnTo>
                        <a:lnTo>
                          <a:pt x="902" y="0"/>
                        </a:lnTo>
                        <a:lnTo>
                          <a:pt x="888" y="0"/>
                        </a:lnTo>
                        <a:lnTo>
                          <a:pt x="871" y="0"/>
                        </a:lnTo>
                        <a:lnTo>
                          <a:pt x="859" y="0"/>
                        </a:lnTo>
                        <a:lnTo>
                          <a:pt x="848" y="0"/>
                        </a:lnTo>
                        <a:lnTo>
                          <a:pt x="836" y="1"/>
                        </a:lnTo>
                        <a:lnTo>
                          <a:pt x="824" y="3"/>
                        </a:lnTo>
                        <a:lnTo>
                          <a:pt x="809" y="3"/>
                        </a:lnTo>
                        <a:lnTo>
                          <a:pt x="795" y="5"/>
                        </a:lnTo>
                        <a:lnTo>
                          <a:pt x="780" y="7"/>
                        </a:lnTo>
                        <a:lnTo>
                          <a:pt x="766" y="9"/>
                        </a:lnTo>
                        <a:lnTo>
                          <a:pt x="749" y="9"/>
                        </a:lnTo>
                        <a:lnTo>
                          <a:pt x="731" y="11"/>
                        </a:lnTo>
                        <a:lnTo>
                          <a:pt x="714" y="13"/>
                        </a:lnTo>
                        <a:lnTo>
                          <a:pt x="696" y="15"/>
                        </a:lnTo>
                        <a:lnTo>
                          <a:pt x="677" y="15"/>
                        </a:lnTo>
                        <a:lnTo>
                          <a:pt x="658" y="17"/>
                        </a:lnTo>
                        <a:lnTo>
                          <a:pt x="638" y="19"/>
                        </a:lnTo>
                        <a:lnTo>
                          <a:pt x="621" y="21"/>
                        </a:lnTo>
                        <a:lnTo>
                          <a:pt x="599" y="21"/>
                        </a:lnTo>
                        <a:lnTo>
                          <a:pt x="580" y="25"/>
                        </a:lnTo>
                        <a:lnTo>
                          <a:pt x="559" y="25"/>
                        </a:lnTo>
                        <a:lnTo>
                          <a:pt x="539" y="29"/>
                        </a:lnTo>
                        <a:lnTo>
                          <a:pt x="518" y="31"/>
                        </a:lnTo>
                        <a:lnTo>
                          <a:pt x="499" y="32"/>
                        </a:lnTo>
                        <a:lnTo>
                          <a:pt x="477" y="34"/>
                        </a:lnTo>
                        <a:lnTo>
                          <a:pt x="458" y="38"/>
                        </a:lnTo>
                        <a:lnTo>
                          <a:pt x="435" y="38"/>
                        </a:lnTo>
                        <a:lnTo>
                          <a:pt x="415" y="42"/>
                        </a:lnTo>
                        <a:lnTo>
                          <a:pt x="392" y="42"/>
                        </a:lnTo>
                        <a:lnTo>
                          <a:pt x="373" y="46"/>
                        </a:lnTo>
                        <a:lnTo>
                          <a:pt x="351" y="46"/>
                        </a:lnTo>
                        <a:lnTo>
                          <a:pt x="332" y="50"/>
                        </a:lnTo>
                        <a:lnTo>
                          <a:pt x="310" y="50"/>
                        </a:lnTo>
                        <a:lnTo>
                          <a:pt x="293" y="54"/>
                        </a:lnTo>
                        <a:lnTo>
                          <a:pt x="272" y="54"/>
                        </a:lnTo>
                        <a:lnTo>
                          <a:pt x="252" y="58"/>
                        </a:lnTo>
                        <a:lnTo>
                          <a:pt x="235" y="58"/>
                        </a:lnTo>
                        <a:lnTo>
                          <a:pt x="217" y="62"/>
                        </a:lnTo>
                        <a:lnTo>
                          <a:pt x="198" y="62"/>
                        </a:lnTo>
                        <a:lnTo>
                          <a:pt x="181" y="65"/>
                        </a:lnTo>
                        <a:lnTo>
                          <a:pt x="165" y="65"/>
                        </a:lnTo>
                        <a:lnTo>
                          <a:pt x="150" y="69"/>
                        </a:lnTo>
                        <a:lnTo>
                          <a:pt x="132" y="69"/>
                        </a:lnTo>
                        <a:lnTo>
                          <a:pt x="117" y="71"/>
                        </a:lnTo>
                        <a:lnTo>
                          <a:pt x="101" y="71"/>
                        </a:lnTo>
                        <a:lnTo>
                          <a:pt x="89" y="73"/>
                        </a:lnTo>
                        <a:lnTo>
                          <a:pt x="76" y="73"/>
                        </a:lnTo>
                        <a:lnTo>
                          <a:pt x="64" y="75"/>
                        </a:lnTo>
                        <a:lnTo>
                          <a:pt x="53" y="77"/>
                        </a:lnTo>
                        <a:lnTo>
                          <a:pt x="45" y="79"/>
                        </a:lnTo>
                        <a:lnTo>
                          <a:pt x="27" y="81"/>
                        </a:lnTo>
                        <a:lnTo>
                          <a:pt x="16" y="83"/>
                        </a:lnTo>
                        <a:lnTo>
                          <a:pt x="6" y="83"/>
                        </a:lnTo>
                        <a:lnTo>
                          <a:pt x="4" y="85"/>
                        </a:lnTo>
                        <a:lnTo>
                          <a:pt x="0" y="89"/>
                        </a:lnTo>
                        <a:lnTo>
                          <a:pt x="14" y="102"/>
                        </a:lnTo>
                        <a:lnTo>
                          <a:pt x="22" y="108"/>
                        </a:lnTo>
                        <a:lnTo>
                          <a:pt x="31" y="116"/>
                        </a:lnTo>
                        <a:lnTo>
                          <a:pt x="41" y="122"/>
                        </a:lnTo>
                        <a:lnTo>
                          <a:pt x="51" y="129"/>
                        </a:lnTo>
                        <a:lnTo>
                          <a:pt x="53" y="127"/>
                        </a:lnTo>
                        <a:lnTo>
                          <a:pt x="62" y="127"/>
                        </a:lnTo>
                        <a:lnTo>
                          <a:pt x="74" y="127"/>
                        </a:lnTo>
                        <a:lnTo>
                          <a:pt x="93" y="127"/>
                        </a:lnTo>
                        <a:lnTo>
                          <a:pt x="103" y="126"/>
                        </a:lnTo>
                        <a:lnTo>
                          <a:pt x="115" y="126"/>
                        </a:lnTo>
                        <a:lnTo>
                          <a:pt x="126" y="124"/>
                        </a:lnTo>
                        <a:lnTo>
                          <a:pt x="140" y="124"/>
                        </a:lnTo>
                        <a:lnTo>
                          <a:pt x="151" y="122"/>
                        </a:lnTo>
                        <a:lnTo>
                          <a:pt x="167" y="122"/>
                        </a:lnTo>
                        <a:lnTo>
                          <a:pt x="182" y="120"/>
                        </a:lnTo>
                        <a:lnTo>
                          <a:pt x="200" y="120"/>
                        </a:lnTo>
                        <a:lnTo>
                          <a:pt x="215" y="118"/>
                        </a:lnTo>
                        <a:lnTo>
                          <a:pt x="231" y="116"/>
                        </a:lnTo>
                        <a:lnTo>
                          <a:pt x="248" y="114"/>
                        </a:lnTo>
                        <a:lnTo>
                          <a:pt x="268" y="114"/>
                        </a:lnTo>
                        <a:lnTo>
                          <a:pt x="285" y="112"/>
                        </a:lnTo>
                        <a:lnTo>
                          <a:pt x="303" y="110"/>
                        </a:lnTo>
                        <a:lnTo>
                          <a:pt x="322" y="108"/>
                        </a:lnTo>
                        <a:lnTo>
                          <a:pt x="343" y="108"/>
                        </a:lnTo>
                        <a:lnTo>
                          <a:pt x="363" y="104"/>
                        </a:lnTo>
                        <a:lnTo>
                          <a:pt x="384" y="104"/>
                        </a:lnTo>
                        <a:lnTo>
                          <a:pt x="404" y="100"/>
                        </a:lnTo>
                        <a:lnTo>
                          <a:pt x="425" y="100"/>
                        </a:lnTo>
                        <a:lnTo>
                          <a:pt x="444" y="98"/>
                        </a:lnTo>
                        <a:lnTo>
                          <a:pt x="468" y="96"/>
                        </a:lnTo>
                        <a:lnTo>
                          <a:pt x="487" y="95"/>
                        </a:lnTo>
                        <a:lnTo>
                          <a:pt x="510" y="95"/>
                        </a:lnTo>
                        <a:lnTo>
                          <a:pt x="530" y="91"/>
                        </a:lnTo>
                        <a:lnTo>
                          <a:pt x="551" y="89"/>
                        </a:lnTo>
                        <a:lnTo>
                          <a:pt x="570" y="87"/>
                        </a:lnTo>
                        <a:lnTo>
                          <a:pt x="592" y="85"/>
                        </a:lnTo>
                        <a:lnTo>
                          <a:pt x="611" y="81"/>
                        </a:lnTo>
                        <a:lnTo>
                          <a:pt x="632" y="81"/>
                        </a:lnTo>
                        <a:lnTo>
                          <a:pt x="652" y="77"/>
                        </a:lnTo>
                        <a:lnTo>
                          <a:pt x="673" y="77"/>
                        </a:lnTo>
                        <a:lnTo>
                          <a:pt x="691" y="75"/>
                        </a:lnTo>
                        <a:lnTo>
                          <a:pt x="710" y="73"/>
                        </a:lnTo>
                        <a:lnTo>
                          <a:pt x="729" y="71"/>
                        </a:lnTo>
                        <a:lnTo>
                          <a:pt x="749" y="71"/>
                        </a:lnTo>
                        <a:lnTo>
                          <a:pt x="766" y="69"/>
                        </a:lnTo>
                        <a:lnTo>
                          <a:pt x="784" y="67"/>
                        </a:lnTo>
                        <a:lnTo>
                          <a:pt x="801" y="65"/>
                        </a:lnTo>
                        <a:lnTo>
                          <a:pt x="819" y="65"/>
                        </a:lnTo>
                        <a:lnTo>
                          <a:pt x="832" y="63"/>
                        </a:lnTo>
                        <a:lnTo>
                          <a:pt x="846" y="62"/>
                        </a:lnTo>
                        <a:lnTo>
                          <a:pt x="859" y="60"/>
                        </a:lnTo>
                        <a:lnTo>
                          <a:pt x="875" y="60"/>
                        </a:lnTo>
                        <a:lnTo>
                          <a:pt x="885" y="58"/>
                        </a:lnTo>
                        <a:lnTo>
                          <a:pt x="896" y="56"/>
                        </a:lnTo>
                        <a:lnTo>
                          <a:pt x="908" y="56"/>
                        </a:lnTo>
                        <a:lnTo>
                          <a:pt x="919" y="56"/>
                        </a:lnTo>
                        <a:lnTo>
                          <a:pt x="935" y="54"/>
                        </a:lnTo>
                        <a:lnTo>
                          <a:pt x="947" y="54"/>
                        </a:lnTo>
                        <a:lnTo>
                          <a:pt x="954" y="54"/>
                        </a:lnTo>
                        <a:lnTo>
                          <a:pt x="958" y="54"/>
                        </a:lnTo>
                        <a:close/>
                      </a:path>
                    </a:pathLst>
                  </a:custGeom>
                  <a:solidFill>
                    <a:srgbClr val="e347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-1650600" y="-90000"/>
                    <a:ext cx="680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1156">
                        <a:moveTo>
                          <a:pt x="0" y="6"/>
                        </a:moveTo>
                        <a:lnTo>
                          <a:pt x="0" y="8"/>
                        </a:lnTo>
                        <a:lnTo>
                          <a:pt x="1" y="16"/>
                        </a:lnTo>
                        <a:lnTo>
                          <a:pt x="5" y="29"/>
                        </a:lnTo>
                        <a:lnTo>
                          <a:pt x="11" y="49"/>
                        </a:lnTo>
                        <a:lnTo>
                          <a:pt x="13" y="58"/>
                        </a:lnTo>
                        <a:lnTo>
                          <a:pt x="17" y="70"/>
                        </a:lnTo>
                        <a:lnTo>
                          <a:pt x="19" y="83"/>
                        </a:lnTo>
                        <a:lnTo>
                          <a:pt x="23" y="99"/>
                        </a:lnTo>
                        <a:lnTo>
                          <a:pt x="25" y="114"/>
                        </a:lnTo>
                        <a:lnTo>
                          <a:pt x="31" y="130"/>
                        </a:lnTo>
                        <a:lnTo>
                          <a:pt x="33" y="147"/>
                        </a:lnTo>
                        <a:lnTo>
                          <a:pt x="38" y="167"/>
                        </a:lnTo>
                        <a:lnTo>
                          <a:pt x="40" y="184"/>
                        </a:lnTo>
                        <a:lnTo>
                          <a:pt x="44" y="204"/>
                        </a:lnTo>
                        <a:lnTo>
                          <a:pt x="48" y="223"/>
                        </a:lnTo>
                        <a:lnTo>
                          <a:pt x="54" y="244"/>
                        </a:lnTo>
                        <a:lnTo>
                          <a:pt x="56" y="264"/>
                        </a:lnTo>
                        <a:lnTo>
                          <a:pt x="60" y="285"/>
                        </a:lnTo>
                        <a:lnTo>
                          <a:pt x="62" y="297"/>
                        </a:lnTo>
                        <a:lnTo>
                          <a:pt x="64" y="308"/>
                        </a:lnTo>
                        <a:lnTo>
                          <a:pt x="65" y="320"/>
                        </a:lnTo>
                        <a:lnTo>
                          <a:pt x="69" y="332"/>
                        </a:lnTo>
                        <a:lnTo>
                          <a:pt x="69" y="341"/>
                        </a:lnTo>
                        <a:lnTo>
                          <a:pt x="71" y="353"/>
                        </a:lnTo>
                        <a:lnTo>
                          <a:pt x="71" y="365"/>
                        </a:lnTo>
                        <a:lnTo>
                          <a:pt x="73" y="376"/>
                        </a:lnTo>
                        <a:lnTo>
                          <a:pt x="73" y="388"/>
                        </a:lnTo>
                        <a:lnTo>
                          <a:pt x="75" y="400"/>
                        </a:lnTo>
                        <a:lnTo>
                          <a:pt x="77" y="411"/>
                        </a:lnTo>
                        <a:lnTo>
                          <a:pt x="79" y="423"/>
                        </a:lnTo>
                        <a:lnTo>
                          <a:pt x="79" y="434"/>
                        </a:lnTo>
                        <a:lnTo>
                          <a:pt x="81" y="446"/>
                        </a:lnTo>
                        <a:lnTo>
                          <a:pt x="81" y="458"/>
                        </a:lnTo>
                        <a:lnTo>
                          <a:pt x="83" y="471"/>
                        </a:lnTo>
                        <a:lnTo>
                          <a:pt x="83" y="483"/>
                        </a:lnTo>
                        <a:lnTo>
                          <a:pt x="85" y="495"/>
                        </a:lnTo>
                        <a:lnTo>
                          <a:pt x="87" y="506"/>
                        </a:lnTo>
                        <a:lnTo>
                          <a:pt x="89" y="520"/>
                        </a:lnTo>
                        <a:lnTo>
                          <a:pt x="89" y="531"/>
                        </a:lnTo>
                        <a:lnTo>
                          <a:pt x="89" y="543"/>
                        </a:lnTo>
                        <a:lnTo>
                          <a:pt x="89" y="555"/>
                        </a:lnTo>
                        <a:lnTo>
                          <a:pt x="89" y="566"/>
                        </a:lnTo>
                        <a:lnTo>
                          <a:pt x="89" y="578"/>
                        </a:lnTo>
                        <a:lnTo>
                          <a:pt x="89" y="592"/>
                        </a:lnTo>
                        <a:lnTo>
                          <a:pt x="89" y="603"/>
                        </a:lnTo>
                        <a:lnTo>
                          <a:pt x="91" y="617"/>
                        </a:lnTo>
                        <a:lnTo>
                          <a:pt x="91" y="628"/>
                        </a:lnTo>
                        <a:lnTo>
                          <a:pt x="91" y="642"/>
                        </a:lnTo>
                        <a:lnTo>
                          <a:pt x="91" y="656"/>
                        </a:lnTo>
                        <a:lnTo>
                          <a:pt x="93" y="669"/>
                        </a:lnTo>
                        <a:lnTo>
                          <a:pt x="93" y="681"/>
                        </a:lnTo>
                        <a:lnTo>
                          <a:pt x="95" y="694"/>
                        </a:lnTo>
                        <a:lnTo>
                          <a:pt x="97" y="708"/>
                        </a:lnTo>
                        <a:lnTo>
                          <a:pt x="98" y="721"/>
                        </a:lnTo>
                        <a:lnTo>
                          <a:pt x="98" y="733"/>
                        </a:lnTo>
                        <a:lnTo>
                          <a:pt x="98" y="747"/>
                        </a:lnTo>
                        <a:lnTo>
                          <a:pt x="100" y="760"/>
                        </a:lnTo>
                        <a:lnTo>
                          <a:pt x="102" y="774"/>
                        </a:lnTo>
                        <a:lnTo>
                          <a:pt x="102" y="785"/>
                        </a:lnTo>
                        <a:lnTo>
                          <a:pt x="104" y="799"/>
                        </a:lnTo>
                        <a:lnTo>
                          <a:pt x="106" y="813"/>
                        </a:lnTo>
                        <a:lnTo>
                          <a:pt x="108" y="826"/>
                        </a:lnTo>
                        <a:lnTo>
                          <a:pt x="108" y="838"/>
                        </a:lnTo>
                        <a:lnTo>
                          <a:pt x="110" y="851"/>
                        </a:lnTo>
                        <a:lnTo>
                          <a:pt x="112" y="863"/>
                        </a:lnTo>
                        <a:lnTo>
                          <a:pt x="114" y="877"/>
                        </a:lnTo>
                        <a:lnTo>
                          <a:pt x="114" y="888"/>
                        </a:lnTo>
                        <a:lnTo>
                          <a:pt x="116" y="900"/>
                        </a:lnTo>
                        <a:lnTo>
                          <a:pt x="118" y="912"/>
                        </a:lnTo>
                        <a:lnTo>
                          <a:pt x="122" y="925"/>
                        </a:lnTo>
                        <a:lnTo>
                          <a:pt x="122" y="935"/>
                        </a:lnTo>
                        <a:lnTo>
                          <a:pt x="124" y="946"/>
                        </a:lnTo>
                        <a:lnTo>
                          <a:pt x="126" y="958"/>
                        </a:lnTo>
                        <a:lnTo>
                          <a:pt x="128" y="970"/>
                        </a:lnTo>
                        <a:lnTo>
                          <a:pt x="129" y="979"/>
                        </a:lnTo>
                        <a:lnTo>
                          <a:pt x="131" y="991"/>
                        </a:lnTo>
                        <a:lnTo>
                          <a:pt x="133" y="1001"/>
                        </a:lnTo>
                        <a:lnTo>
                          <a:pt x="137" y="1012"/>
                        </a:lnTo>
                        <a:lnTo>
                          <a:pt x="141" y="1030"/>
                        </a:lnTo>
                        <a:lnTo>
                          <a:pt x="147" y="1049"/>
                        </a:lnTo>
                        <a:lnTo>
                          <a:pt x="153" y="1067"/>
                        </a:lnTo>
                        <a:lnTo>
                          <a:pt x="159" y="1084"/>
                        </a:lnTo>
                        <a:lnTo>
                          <a:pt x="164" y="1098"/>
                        </a:lnTo>
                        <a:lnTo>
                          <a:pt x="170" y="1111"/>
                        </a:lnTo>
                        <a:lnTo>
                          <a:pt x="178" y="1121"/>
                        </a:lnTo>
                        <a:lnTo>
                          <a:pt x="186" y="1133"/>
                        </a:lnTo>
                        <a:lnTo>
                          <a:pt x="201" y="1148"/>
                        </a:lnTo>
                        <a:lnTo>
                          <a:pt x="219" y="1156"/>
                        </a:lnTo>
                        <a:lnTo>
                          <a:pt x="225" y="1154"/>
                        </a:lnTo>
                        <a:lnTo>
                          <a:pt x="230" y="1146"/>
                        </a:lnTo>
                        <a:lnTo>
                          <a:pt x="234" y="1135"/>
                        </a:lnTo>
                        <a:lnTo>
                          <a:pt x="240" y="1121"/>
                        </a:lnTo>
                        <a:lnTo>
                          <a:pt x="240" y="1109"/>
                        </a:lnTo>
                        <a:lnTo>
                          <a:pt x="242" y="1098"/>
                        </a:lnTo>
                        <a:lnTo>
                          <a:pt x="242" y="1086"/>
                        </a:lnTo>
                        <a:lnTo>
                          <a:pt x="244" y="1074"/>
                        </a:lnTo>
                        <a:lnTo>
                          <a:pt x="244" y="1061"/>
                        </a:lnTo>
                        <a:lnTo>
                          <a:pt x="244" y="1047"/>
                        </a:lnTo>
                        <a:lnTo>
                          <a:pt x="244" y="1032"/>
                        </a:lnTo>
                        <a:lnTo>
                          <a:pt x="244" y="1018"/>
                        </a:lnTo>
                        <a:lnTo>
                          <a:pt x="242" y="1001"/>
                        </a:lnTo>
                        <a:lnTo>
                          <a:pt x="240" y="983"/>
                        </a:lnTo>
                        <a:lnTo>
                          <a:pt x="238" y="966"/>
                        </a:lnTo>
                        <a:lnTo>
                          <a:pt x="238" y="948"/>
                        </a:lnTo>
                        <a:lnTo>
                          <a:pt x="234" y="927"/>
                        </a:lnTo>
                        <a:lnTo>
                          <a:pt x="234" y="908"/>
                        </a:lnTo>
                        <a:lnTo>
                          <a:pt x="230" y="888"/>
                        </a:lnTo>
                        <a:lnTo>
                          <a:pt x="230" y="869"/>
                        </a:lnTo>
                        <a:lnTo>
                          <a:pt x="226" y="848"/>
                        </a:lnTo>
                        <a:lnTo>
                          <a:pt x="225" y="826"/>
                        </a:lnTo>
                        <a:lnTo>
                          <a:pt x="221" y="805"/>
                        </a:lnTo>
                        <a:lnTo>
                          <a:pt x="219" y="784"/>
                        </a:lnTo>
                        <a:lnTo>
                          <a:pt x="215" y="760"/>
                        </a:lnTo>
                        <a:lnTo>
                          <a:pt x="213" y="739"/>
                        </a:lnTo>
                        <a:lnTo>
                          <a:pt x="211" y="716"/>
                        </a:lnTo>
                        <a:lnTo>
                          <a:pt x="209" y="694"/>
                        </a:lnTo>
                        <a:lnTo>
                          <a:pt x="203" y="671"/>
                        </a:lnTo>
                        <a:lnTo>
                          <a:pt x="199" y="648"/>
                        </a:lnTo>
                        <a:lnTo>
                          <a:pt x="195" y="625"/>
                        </a:lnTo>
                        <a:lnTo>
                          <a:pt x="193" y="601"/>
                        </a:lnTo>
                        <a:lnTo>
                          <a:pt x="188" y="578"/>
                        </a:lnTo>
                        <a:lnTo>
                          <a:pt x="184" y="555"/>
                        </a:lnTo>
                        <a:lnTo>
                          <a:pt x="180" y="531"/>
                        </a:lnTo>
                        <a:lnTo>
                          <a:pt x="178" y="510"/>
                        </a:lnTo>
                        <a:lnTo>
                          <a:pt x="172" y="487"/>
                        </a:lnTo>
                        <a:lnTo>
                          <a:pt x="168" y="464"/>
                        </a:lnTo>
                        <a:lnTo>
                          <a:pt x="164" y="442"/>
                        </a:lnTo>
                        <a:lnTo>
                          <a:pt x="162" y="421"/>
                        </a:lnTo>
                        <a:lnTo>
                          <a:pt x="157" y="398"/>
                        </a:lnTo>
                        <a:lnTo>
                          <a:pt x="153" y="378"/>
                        </a:lnTo>
                        <a:lnTo>
                          <a:pt x="149" y="357"/>
                        </a:lnTo>
                        <a:lnTo>
                          <a:pt x="147" y="339"/>
                        </a:lnTo>
                        <a:lnTo>
                          <a:pt x="141" y="318"/>
                        </a:lnTo>
                        <a:lnTo>
                          <a:pt x="137" y="299"/>
                        </a:lnTo>
                        <a:lnTo>
                          <a:pt x="133" y="281"/>
                        </a:lnTo>
                        <a:lnTo>
                          <a:pt x="129" y="264"/>
                        </a:lnTo>
                        <a:lnTo>
                          <a:pt x="126" y="246"/>
                        </a:lnTo>
                        <a:lnTo>
                          <a:pt x="122" y="229"/>
                        </a:lnTo>
                        <a:lnTo>
                          <a:pt x="118" y="213"/>
                        </a:lnTo>
                        <a:lnTo>
                          <a:pt x="116" y="200"/>
                        </a:lnTo>
                        <a:lnTo>
                          <a:pt x="112" y="184"/>
                        </a:lnTo>
                        <a:lnTo>
                          <a:pt x="110" y="171"/>
                        </a:lnTo>
                        <a:lnTo>
                          <a:pt x="106" y="159"/>
                        </a:lnTo>
                        <a:lnTo>
                          <a:pt x="104" y="147"/>
                        </a:lnTo>
                        <a:lnTo>
                          <a:pt x="100" y="136"/>
                        </a:lnTo>
                        <a:lnTo>
                          <a:pt x="98" y="126"/>
                        </a:lnTo>
                        <a:lnTo>
                          <a:pt x="95" y="118"/>
                        </a:lnTo>
                        <a:lnTo>
                          <a:pt x="95" y="113"/>
                        </a:lnTo>
                        <a:lnTo>
                          <a:pt x="89" y="97"/>
                        </a:lnTo>
                        <a:lnTo>
                          <a:pt x="83" y="85"/>
                        </a:lnTo>
                        <a:lnTo>
                          <a:pt x="79" y="74"/>
                        </a:lnTo>
                        <a:lnTo>
                          <a:pt x="75" y="64"/>
                        </a:lnTo>
                        <a:lnTo>
                          <a:pt x="65" y="47"/>
                        </a:lnTo>
                        <a:lnTo>
                          <a:pt x="58" y="33"/>
                        </a:lnTo>
                        <a:lnTo>
                          <a:pt x="48" y="19"/>
                        </a:lnTo>
                        <a:lnTo>
                          <a:pt x="40" y="12"/>
                        </a:lnTo>
                        <a:lnTo>
                          <a:pt x="34" y="6"/>
                        </a:lnTo>
                        <a:lnTo>
                          <a:pt x="29" y="4"/>
                        </a:lnTo>
                        <a:lnTo>
                          <a:pt x="15" y="0"/>
                        </a:lnTo>
                        <a:lnTo>
                          <a:pt x="7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d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2485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ahoma"/>
              </a:rPr>
              <a:t>Congratulations!</a:t>
            </a:r>
            <a:endParaRPr b="1" i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2819160" y="2057040"/>
            <a:ext cx="464796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ou’ve recovered the sunken million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wim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la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nball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93880" y="474840"/>
            <a:ext cx="7358040" cy="589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1" name=""/>
          <p:cNvSpPr txBox="1"/>
          <p:nvPr/>
        </p:nvSpPr>
        <p:spPr>
          <a:xfrm rot="20202600">
            <a:off x="3560760" y="3903480"/>
            <a:ext cx="37386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evel One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6858000"/>
            <a:ext cx="213372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Level On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924680" y="609480"/>
            <a:ext cx="990720" cy="6199200"/>
            <a:chOff x="7924680" y="609480"/>
            <a:chExt cx="990720" cy="6199200"/>
          </a:xfrm>
        </p:grpSpPr>
        <p:sp>
          <p:nvSpPr>
            <p:cNvPr id="404" name="">
              <a:hlinkClick r:id="" action="ppaction://hlinkshowjump?jump=nextslide"/>
            </p:cNvPr>
            <p:cNvSpPr/>
            <p:nvPr/>
          </p:nvSpPr>
          <p:spPr>
            <a:xfrm>
              <a:off x="845820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>
              <a:hlinkClick r:id="" action="ppaction://hlinkshowjump?jump=previousslide"/>
            </p:cNvPr>
            <p:cNvSpPr/>
            <p:nvPr/>
          </p:nvSpPr>
          <p:spPr>
            <a:xfrm>
              <a:off x="792468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458200" y="5562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77320" y="487692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58200" y="434340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58200" y="3124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53280" y="2438280"/>
              <a:ext cx="484200" cy="484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05920" y="1600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58200" y="609480"/>
              <a:ext cx="365040" cy="3654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nball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>
            <a:hlinkClick r:id="rId1"/>
          </p:cNvPr>
          <p:cNvSpPr/>
          <p:nvPr/>
        </p:nvSpPr>
        <p:spPr>
          <a:xfrm>
            <a:off x="3581280" y="2819520"/>
            <a:ext cx="274320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All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Lever, wedg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ined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nextslide"/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Wheel and axle, screw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ley, wedg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f the following are all simple machi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2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2209680" y="5792760"/>
            <a:ext cx="1408320" cy="1065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ra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6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2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8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4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4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axe is an example of what 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ch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ined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nextslide"/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W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Sc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Pu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4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2590920" y="-93960"/>
            <a:ext cx="3912840" cy="6669000"/>
            <a:chOff x="2590920" y="-93960"/>
            <a:chExt cx="3912840" cy="6669000"/>
          </a:xfrm>
        </p:grpSpPr>
        <p:sp>
          <p:nvSpPr>
            <p:cNvPr id="427" name=""/>
            <p:cNvSpPr/>
            <p:nvPr/>
          </p:nvSpPr>
          <p:spPr>
            <a:xfrm rot="17556000">
              <a:off x="4460760" y="1114200"/>
              <a:ext cx="2784600" cy="250560"/>
            </a:xfrm>
            <a:custGeom>
              <a:avLst/>
              <a:gdLst>
                <a:gd name="textAreaLeft" fmla="*/ 0 w 2784600"/>
                <a:gd name="textAreaRight" fmla="*/ 2784960 w 2784600"/>
                <a:gd name="textAreaTop" fmla="*/ 32400 h 250560"/>
                <a:gd name="textAreaBottom" fmla="*/ 21816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590920" y="2274840"/>
              <a:ext cx="2863080" cy="4300200"/>
              <a:chOff x="2590920" y="2274840"/>
              <a:chExt cx="2863080" cy="4300200"/>
            </a:xfrm>
          </p:grpSpPr>
          <p:sp>
            <p:nvSpPr>
              <p:cNvPr id="429" name=""/>
              <p:cNvSpPr/>
              <p:nvPr/>
            </p:nvSpPr>
            <p:spPr>
              <a:xfrm>
                <a:off x="4882320" y="2274840"/>
                <a:ext cx="571680" cy="885600"/>
              </a:xfrm>
              <a:custGeom>
                <a:avLst/>
                <a:gdLst/>
                <a:ahLst/>
                <a:rect l="l" t="t" r="r" b="b"/>
                <a:pathLst>
                  <a:path w="938" h="1452">
                    <a:moveTo>
                      <a:pt x="715" y="0"/>
                    </a:moveTo>
                    <a:lnTo>
                      <a:pt x="713" y="2"/>
                    </a:lnTo>
                    <a:lnTo>
                      <a:pt x="713" y="12"/>
                    </a:lnTo>
                    <a:lnTo>
                      <a:pt x="711" y="17"/>
                    </a:lnTo>
                    <a:lnTo>
                      <a:pt x="711" y="27"/>
                    </a:lnTo>
                    <a:lnTo>
                      <a:pt x="711" y="37"/>
                    </a:lnTo>
                    <a:lnTo>
                      <a:pt x="711" y="48"/>
                    </a:lnTo>
                    <a:lnTo>
                      <a:pt x="709" y="60"/>
                    </a:lnTo>
                    <a:lnTo>
                      <a:pt x="708" y="74"/>
                    </a:lnTo>
                    <a:lnTo>
                      <a:pt x="706" y="89"/>
                    </a:lnTo>
                    <a:lnTo>
                      <a:pt x="704" y="107"/>
                    </a:lnTo>
                    <a:lnTo>
                      <a:pt x="702" y="124"/>
                    </a:lnTo>
                    <a:lnTo>
                      <a:pt x="700" y="142"/>
                    </a:lnTo>
                    <a:lnTo>
                      <a:pt x="698" y="161"/>
                    </a:lnTo>
                    <a:lnTo>
                      <a:pt x="696" y="184"/>
                    </a:lnTo>
                    <a:lnTo>
                      <a:pt x="692" y="204"/>
                    </a:lnTo>
                    <a:lnTo>
                      <a:pt x="688" y="227"/>
                    </a:lnTo>
                    <a:lnTo>
                      <a:pt x="684" y="250"/>
                    </a:lnTo>
                    <a:lnTo>
                      <a:pt x="680" y="275"/>
                    </a:lnTo>
                    <a:lnTo>
                      <a:pt x="675" y="299"/>
                    </a:lnTo>
                    <a:lnTo>
                      <a:pt x="671" y="324"/>
                    </a:lnTo>
                    <a:lnTo>
                      <a:pt x="667" y="349"/>
                    </a:lnTo>
                    <a:lnTo>
                      <a:pt x="663" y="378"/>
                    </a:lnTo>
                    <a:lnTo>
                      <a:pt x="655" y="403"/>
                    </a:lnTo>
                    <a:lnTo>
                      <a:pt x="649" y="432"/>
                    </a:lnTo>
                    <a:lnTo>
                      <a:pt x="644" y="461"/>
                    </a:lnTo>
                    <a:lnTo>
                      <a:pt x="638" y="491"/>
                    </a:lnTo>
                    <a:lnTo>
                      <a:pt x="630" y="520"/>
                    </a:lnTo>
                    <a:lnTo>
                      <a:pt x="624" y="549"/>
                    </a:lnTo>
                    <a:lnTo>
                      <a:pt x="616" y="578"/>
                    </a:lnTo>
                    <a:lnTo>
                      <a:pt x="609" y="609"/>
                    </a:lnTo>
                    <a:lnTo>
                      <a:pt x="599" y="638"/>
                    </a:lnTo>
                    <a:lnTo>
                      <a:pt x="589" y="667"/>
                    </a:lnTo>
                    <a:lnTo>
                      <a:pt x="578" y="696"/>
                    </a:lnTo>
                    <a:lnTo>
                      <a:pt x="568" y="727"/>
                    </a:lnTo>
                    <a:lnTo>
                      <a:pt x="556" y="756"/>
                    </a:lnTo>
                    <a:lnTo>
                      <a:pt x="545" y="787"/>
                    </a:lnTo>
                    <a:lnTo>
                      <a:pt x="533" y="816"/>
                    </a:lnTo>
                    <a:lnTo>
                      <a:pt x="521" y="847"/>
                    </a:lnTo>
                    <a:lnTo>
                      <a:pt x="506" y="875"/>
                    </a:lnTo>
                    <a:lnTo>
                      <a:pt x="492" y="904"/>
                    </a:lnTo>
                    <a:lnTo>
                      <a:pt x="477" y="933"/>
                    </a:lnTo>
                    <a:lnTo>
                      <a:pt x="463" y="962"/>
                    </a:lnTo>
                    <a:lnTo>
                      <a:pt x="448" y="989"/>
                    </a:lnTo>
                    <a:lnTo>
                      <a:pt x="432" y="1016"/>
                    </a:lnTo>
                    <a:lnTo>
                      <a:pt x="415" y="1043"/>
                    </a:lnTo>
                    <a:lnTo>
                      <a:pt x="399" y="1070"/>
                    </a:lnTo>
                    <a:lnTo>
                      <a:pt x="380" y="1094"/>
                    </a:lnTo>
                    <a:lnTo>
                      <a:pt x="360" y="1119"/>
                    </a:lnTo>
                    <a:lnTo>
                      <a:pt x="341" y="1142"/>
                    </a:lnTo>
                    <a:lnTo>
                      <a:pt x="322" y="1165"/>
                    </a:lnTo>
                    <a:lnTo>
                      <a:pt x="298" y="1187"/>
                    </a:lnTo>
                    <a:lnTo>
                      <a:pt x="277" y="1210"/>
                    </a:lnTo>
                    <a:lnTo>
                      <a:pt x="254" y="1229"/>
                    </a:lnTo>
                    <a:lnTo>
                      <a:pt x="233" y="1251"/>
                    </a:lnTo>
                    <a:lnTo>
                      <a:pt x="207" y="1268"/>
                    </a:lnTo>
                    <a:lnTo>
                      <a:pt x="182" y="1286"/>
                    </a:lnTo>
                    <a:lnTo>
                      <a:pt x="157" y="1301"/>
                    </a:lnTo>
                    <a:lnTo>
                      <a:pt x="132" y="1319"/>
                    </a:lnTo>
                    <a:lnTo>
                      <a:pt x="103" y="1332"/>
                    </a:lnTo>
                    <a:lnTo>
                      <a:pt x="75" y="1346"/>
                    </a:lnTo>
                    <a:lnTo>
                      <a:pt x="46" y="1357"/>
                    </a:lnTo>
                    <a:lnTo>
                      <a:pt x="19" y="1369"/>
                    </a:lnTo>
                    <a:lnTo>
                      <a:pt x="0" y="1452"/>
                    </a:lnTo>
                    <a:lnTo>
                      <a:pt x="2" y="1450"/>
                    </a:lnTo>
                    <a:lnTo>
                      <a:pt x="10" y="1450"/>
                    </a:lnTo>
                    <a:lnTo>
                      <a:pt x="23" y="1450"/>
                    </a:lnTo>
                    <a:lnTo>
                      <a:pt x="43" y="1450"/>
                    </a:lnTo>
                    <a:lnTo>
                      <a:pt x="52" y="1448"/>
                    </a:lnTo>
                    <a:lnTo>
                      <a:pt x="64" y="1447"/>
                    </a:lnTo>
                    <a:lnTo>
                      <a:pt x="77" y="1445"/>
                    </a:lnTo>
                    <a:lnTo>
                      <a:pt x="93" y="1443"/>
                    </a:lnTo>
                    <a:lnTo>
                      <a:pt x="108" y="1439"/>
                    </a:lnTo>
                    <a:lnTo>
                      <a:pt x="126" y="1435"/>
                    </a:lnTo>
                    <a:lnTo>
                      <a:pt x="143" y="1431"/>
                    </a:lnTo>
                    <a:lnTo>
                      <a:pt x="163" y="1427"/>
                    </a:lnTo>
                    <a:lnTo>
                      <a:pt x="180" y="1419"/>
                    </a:lnTo>
                    <a:lnTo>
                      <a:pt x="200" y="1414"/>
                    </a:lnTo>
                    <a:lnTo>
                      <a:pt x="219" y="1404"/>
                    </a:lnTo>
                    <a:lnTo>
                      <a:pt x="240" y="1396"/>
                    </a:lnTo>
                    <a:lnTo>
                      <a:pt x="260" y="1384"/>
                    </a:lnTo>
                    <a:lnTo>
                      <a:pt x="281" y="1375"/>
                    </a:lnTo>
                    <a:lnTo>
                      <a:pt x="293" y="1367"/>
                    </a:lnTo>
                    <a:lnTo>
                      <a:pt x="304" y="1361"/>
                    </a:lnTo>
                    <a:lnTo>
                      <a:pt x="316" y="1355"/>
                    </a:lnTo>
                    <a:lnTo>
                      <a:pt x="328" y="1350"/>
                    </a:lnTo>
                    <a:lnTo>
                      <a:pt x="339" y="1340"/>
                    </a:lnTo>
                    <a:lnTo>
                      <a:pt x="351" y="1332"/>
                    </a:lnTo>
                    <a:lnTo>
                      <a:pt x="362" y="1324"/>
                    </a:lnTo>
                    <a:lnTo>
                      <a:pt x="374" y="1317"/>
                    </a:lnTo>
                    <a:lnTo>
                      <a:pt x="386" y="1307"/>
                    </a:lnTo>
                    <a:lnTo>
                      <a:pt x="397" y="1297"/>
                    </a:lnTo>
                    <a:lnTo>
                      <a:pt x="409" y="1288"/>
                    </a:lnTo>
                    <a:lnTo>
                      <a:pt x="421" y="1278"/>
                    </a:lnTo>
                    <a:lnTo>
                      <a:pt x="432" y="1266"/>
                    </a:lnTo>
                    <a:lnTo>
                      <a:pt x="444" y="1255"/>
                    </a:lnTo>
                    <a:lnTo>
                      <a:pt x="455" y="1243"/>
                    </a:lnTo>
                    <a:lnTo>
                      <a:pt x="469" y="1233"/>
                    </a:lnTo>
                    <a:lnTo>
                      <a:pt x="481" y="1220"/>
                    </a:lnTo>
                    <a:lnTo>
                      <a:pt x="494" y="1208"/>
                    </a:lnTo>
                    <a:lnTo>
                      <a:pt x="506" y="1196"/>
                    </a:lnTo>
                    <a:lnTo>
                      <a:pt x="519" y="1185"/>
                    </a:lnTo>
                    <a:lnTo>
                      <a:pt x="533" y="1165"/>
                    </a:lnTo>
                    <a:lnTo>
                      <a:pt x="549" y="1148"/>
                    </a:lnTo>
                    <a:lnTo>
                      <a:pt x="562" y="1127"/>
                    </a:lnTo>
                    <a:lnTo>
                      <a:pt x="580" y="1107"/>
                    </a:lnTo>
                    <a:lnTo>
                      <a:pt x="585" y="1096"/>
                    </a:lnTo>
                    <a:lnTo>
                      <a:pt x="593" y="1086"/>
                    </a:lnTo>
                    <a:lnTo>
                      <a:pt x="601" y="1074"/>
                    </a:lnTo>
                    <a:lnTo>
                      <a:pt x="609" y="1065"/>
                    </a:lnTo>
                    <a:lnTo>
                      <a:pt x="614" y="1053"/>
                    </a:lnTo>
                    <a:lnTo>
                      <a:pt x="622" y="1041"/>
                    </a:lnTo>
                    <a:lnTo>
                      <a:pt x="630" y="1030"/>
                    </a:lnTo>
                    <a:lnTo>
                      <a:pt x="640" y="1020"/>
                    </a:lnTo>
                    <a:lnTo>
                      <a:pt x="645" y="1006"/>
                    </a:lnTo>
                    <a:lnTo>
                      <a:pt x="653" y="995"/>
                    </a:lnTo>
                    <a:lnTo>
                      <a:pt x="659" y="981"/>
                    </a:lnTo>
                    <a:lnTo>
                      <a:pt x="667" y="970"/>
                    </a:lnTo>
                    <a:lnTo>
                      <a:pt x="673" y="956"/>
                    </a:lnTo>
                    <a:lnTo>
                      <a:pt x="680" y="944"/>
                    </a:lnTo>
                    <a:lnTo>
                      <a:pt x="688" y="931"/>
                    </a:lnTo>
                    <a:lnTo>
                      <a:pt x="696" y="919"/>
                    </a:lnTo>
                    <a:lnTo>
                      <a:pt x="702" y="904"/>
                    </a:lnTo>
                    <a:lnTo>
                      <a:pt x="709" y="890"/>
                    </a:lnTo>
                    <a:lnTo>
                      <a:pt x="717" y="876"/>
                    </a:lnTo>
                    <a:lnTo>
                      <a:pt x="725" y="863"/>
                    </a:lnTo>
                    <a:lnTo>
                      <a:pt x="731" y="847"/>
                    </a:lnTo>
                    <a:lnTo>
                      <a:pt x="739" y="834"/>
                    </a:lnTo>
                    <a:lnTo>
                      <a:pt x="746" y="818"/>
                    </a:lnTo>
                    <a:lnTo>
                      <a:pt x="754" y="805"/>
                    </a:lnTo>
                    <a:lnTo>
                      <a:pt x="760" y="787"/>
                    </a:lnTo>
                    <a:lnTo>
                      <a:pt x="766" y="772"/>
                    </a:lnTo>
                    <a:lnTo>
                      <a:pt x="772" y="754"/>
                    </a:lnTo>
                    <a:lnTo>
                      <a:pt x="779" y="739"/>
                    </a:lnTo>
                    <a:lnTo>
                      <a:pt x="785" y="721"/>
                    </a:lnTo>
                    <a:lnTo>
                      <a:pt x="791" y="704"/>
                    </a:lnTo>
                    <a:lnTo>
                      <a:pt x="797" y="686"/>
                    </a:lnTo>
                    <a:lnTo>
                      <a:pt x="804" y="671"/>
                    </a:lnTo>
                    <a:lnTo>
                      <a:pt x="810" y="652"/>
                    </a:lnTo>
                    <a:lnTo>
                      <a:pt x="816" y="634"/>
                    </a:lnTo>
                    <a:lnTo>
                      <a:pt x="822" y="617"/>
                    </a:lnTo>
                    <a:lnTo>
                      <a:pt x="830" y="599"/>
                    </a:lnTo>
                    <a:lnTo>
                      <a:pt x="835" y="580"/>
                    </a:lnTo>
                    <a:lnTo>
                      <a:pt x="841" y="560"/>
                    </a:lnTo>
                    <a:lnTo>
                      <a:pt x="847" y="541"/>
                    </a:lnTo>
                    <a:lnTo>
                      <a:pt x="855" y="524"/>
                    </a:lnTo>
                    <a:lnTo>
                      <a:pt x="859" y="502"/>
                    </a:lnTo>
                    <a:lnTo>
                      <a:pt x="865" y="483"/>
                    </a:lnTo>
                    <a:lnTo>
                      <a:pt x="870" y="461"/>
                    </a:lnTo>
                    <a:lnTo>
                      <a:pt x="876" y="442"/>
                    </a:lnTo>
                    <a:lnTo>
                      <a:pt x="880" y="419"/>
                    </a:lnTo>
                    <a:lnTo>
                      <a:pt x="886" y="399"/>
                    </a:lnTo>
                    <a:lnTo>
                      <a:pt x="892" y="376"/>
                    </a:lnTo>
                    <a:lnTo>
                      <a:pt x="898" y="357"/>
                    </a:lnTo>
                    <a:lnTo>
                      <a:pt x="901" y="334"/>
                    </a:lnTo>
                    <a:lnTo>
                      <a:pt x="907" y="312"/>
                    </a:lnTo>
                    <a:lnTo>
                      <a:pt x="911" y="289"/>
                    </a:lnTo>
                    <a:lnTo>
                      <a:pt x="917" y="268"/>
                    </a:lnTo>
                    <a:lnTo>
                      <a:pt x="921" y="244"/>
                    </a:lnTo>
                    <a:lnTo>
                      <a:pt x="927" y="221"/>
                    </a:lnTo>
                    <a:lnTo>
                      <a:pt x="932" y="198"/>
                    </a:lnTo>
                    <a:lnTo>
                      <a:pt x="938" y="175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590920" y="2307600"/>
                <a:ext cx="2860920" cy="4267440"/>
              </a:xfrm>
              <a:custGeom>
                <a:avLst/>
                <a:gdLst/>
                <a:ahLst/>
                <a:rect l="l" t="t" r="r" b="b"/>
                <a:pathLst>
                  <a:path w="4692" h="6996">
                    <a:moveTo>
                      <a:pt x="103" y="4225"/>
                    </a:moveTo>
                    <a:lnTo>
                      <a:pt x="115" y="4218"/>
                    </a:lnTo>
                    <a:lnTo>
                      <a:pt x="130" y="4214"/>
                    </a:lnTo>
                    <a:lnTo>
                      <a:pt x="144" y="4210"/>
                    </a:lnTo>
                    <a:lnTo>
                      <a:pt x="159" y="4210"/>
                    </a:lnTo>
                    <a:lnTo>
                      <a:pt x="175" y="4208"/>
                    </a:lnTo>
                    <a:lnTo>
                      <a:pt x="190" y="4208"/>
                    </a:lnTo>
                    <a:lnTo>
                      <a:pt x="206" y="4210"/>
                    </a:lnTo>
                    <a:lnTo>
                      <a:pt x="223" y="4212"/>
                    </a:lnTo>
                    <a:lnTo>
                      <a:pt x="237" y="4210"/>
                    </a:lnTo>
                    <a:lnTo>
                      <a:pt x="253" y="4210"/>
                    </a:lnTo>
                    <a:lnTo>
                      <a:pt x="268" y="4208"/>
                    </a:lnTo>
                    <a:lnTo>
                      <a:pt x="284" y="4208"/>
                    </a:lnTo>
                    <a:lnTo>
                      <a:pt x="297" y="4202"/>
                    </a:lnTo>
                    <a:lnTo>
                      <a:pt x="311" y="4198"/>
                    </a:lnTo>
                    <a:lnTo>
                      <a:pt x="322" y="4193"/>
                    </a:lnTo>
                    <a:lnTo>
                      <a:pt x="336" y="4185"/>
                    </a:lnTo>
                    <a:lnTo>
                      <a:pt x="328" y="4167"/>
                    </a:lnTo>
                    <a:lnTo>
                      <a:pt x="324" y="4152"/>
                    </a:lnTo>
                    <a:lnTo>
                      <a:pt x="320" y="4136"/>
                    </a:lnTo>
                    <a:lnTo>
                      <a:pt x="320" y="4123"/>
                    </a:lnTo>
                    <a:lnTo>
                      <a:pt x="320" y="4105"/>
                    </a:lnTo>
                    <a:lnTo>
                      <a:pt x="322" y="4092"/>
                    </a:lnTo>
                    <a:lnTo>
                      <a:pt x="326" y="4076"/>
                    </a:lnTo>
                    <a:lnTo>
                      <a:pt x="332" y="4065"/>
                    </a:lnTo>
                    <a:lnTo>
                      <a:pt x="336" y="4049"/>
                    </a:lnTo>
                    <a:lnTo>
                      <a:pt x="344" y="4035"/>
                    </a:lnTo>
                    <a:lnTo>
                      <a:pt x="351" y="4024"/>
                    </a:lnTo>
                    <a:lnTo>
                      <a:pt x="361" y="4014"/>
                    </a:lnTo>
                    <a:lnTo>
                      <a:pt x="371" y="4002"/>
                    </a:lnTo>
                    <a:lnTo>
                      <a:pt x="382" y="3993"/>
                    </a:lnTo>
                    <a:lnTo>
                      <a:pt x="396" y="3985"/>
                    </a:lnTo>
                    <a:lnTo>
                      <a:pt x="410" y="3979"/>
                    </a:lnTo>
                    <a:lnTo>
                      <a:pt x="421" y="3973"/>
                    </a:lnTo>
                    <a:lnTo>
                      <a:pt x="435" y="3970"/>
                    </a:lnTo>
                    <a:lnTo>
                      <a:pt x="448" y="3966"/>
                    </a:lnTo>
                    <a:lnTo>
                      <a:pt x="462" y="3966"/>
                    </a:lnTo>
                    <a:lnTo>
                      <a:pt x="474" y="3966"/>
                    </a:lnTo>
                    <a:lnTo>
                      <a:pt x="487" y="3966"/>
                    </a:lnTo>
                    <a:lnTo>
                      <a:pt x="501" y="3968"/>
                    </a:lnTo>
                    <a:lnTo>
                      <a:pt x="514" y="3971"/>
                    </a:lnTo>
                    <a:lnTo>
                      <a:pt x="526" y="3973"/>
                    </a:lnTo>
                    <a:lnTo>
                      <a:pt x="539" y="3977"/>
                    </a:lnTo>
                    <a:lnTo>
                      <a:pt x="551" y="3981"/>
                    </a:lnTo>
                    <a:lnTo>
                      <a:pt x="565" y="3987"/>
                    </a:lnTo>
                    <a:lnTo>
                      <a:pt x="576" y="3993"/>
                    </a:lnTo>
                    <a:lnTo>
                      <a:pt x="588" y="3999"/>
                    </a:lnTo>
                    <a:lnTo>
                      <a:pt x="600" y="4004"/>
                    </a:lnTo>
                    <a:lnTo>
                      <a:pt x="611" y="4012"/>
                    </a:lnTo>
                    <a:lnTo>
                      <a:pt x="627" y="4032"/>
                    </a:lnTo>
                    <a:lnTo>
                      <a:pt x="642" y="4053"/>
                    </a:lnTo>
                    <a:lnTo>
                      <a:pt x="648" y="4063"/>
                    </a:lnTo>
                    <a:lnTo>
                      <a:pt x="656" y="4074"/>
                    </a:lnTo>
                    <a:lnTo>
                      <a:pt x="662" y="4086"/>
                    </a:lnTo>
                    <a:lnTo>
                      <a:pt x="669" y="4097"/>
                    </a:lnTo>
                    <a:lnTo>
                      <a:pt x="673" y="4109"/>
                    </a:lnTo>
                    <a:lnTo>
                      <a:pt x="677" y="4121"/>
                    </a:lnTo>
                    <a:lnTo>
                      <a:pt x="681" y="4132"/>
                    </a:lnTo>
                    <a:lnTo>
                      <a:pt x="687" y="4144"/>
                    </a:lnTo>
                    <a:lnTo>
                      <a:pt x="689" y="4156"/>
                    </a:lnTo>
                    <a:lnTo>
                      <a:pt x="693" y="4169"/>
                    </a:lnTo>
                    <a:lnTo>
                      <a:pt x="695" y="4183"/>
                    </a:lnTo>
                    <a:lnTo>
                      <a:pt x="698" y="4198"/>
                    </a:lnTo>
                    <a:lnTo>
                      <a:pt x="714" y="4208"/>
                    </a:lnTo>
                    <a:lnTo>
                      <a:pt x="729" y="4218"/>
                    </a:lnTo>
                    <a:lnTo>
                      <a:pt x="747" y="4225"/>
                    </a:lnTo>
                    <a:lnTo>
                      <a:pt x="764" y="4235"/>
                    </a:lnTo>
                    <a:lnTo>
                      <a:pt x="782" y="4243"/>
                    </a:lnTo>
                    <a:lnTo>
                      <a:pt x="801" y="4251"/>
                    </a:lnTo>
                    <a:lnTo>
                      <a:pt x="819" y="4258"/>
                    </a:lnTo>
                    <a:lnTo>
                      <a:pt x="838" y="4266"/>
                    </a:lnTo>
                    <a:lnTo>
                      <a:pt x="855" y="4272"/>
                    </a:lnTo>
                    <a:lnTo>
                      <a:pt x="873" y="4280"/>
                    </a:lnTo>
                    <a:lnTo>
                      <a:pt x="890" y="4288"/>
                    </a:lnTo>
                    <a:lnTo>
                      <a:pt x="908" y="4297"/>
                    </a:lnTo>
                    <a:lnTo>
                      <a:pt x="923" y="4307"/>
                    </a:lnTo>
                    <a:lnTo>
                      <a:pt x="941" y="4319"/>
                    </a:lnTo>
                    <a:lnTo>
                      <a:pt x="956" y="4330"/>
                    </a:lnTo>
                    <a:lnTo>
                      <a:pt x="972" y="4346"/>
                    </a:lnTo>
                    <a:lnTo>
                      <a:pt x="983" y="4336"/>
                    </a:lnTo>
                    <a:lnTo>
                      <a:pt x="995" y="4326"/>
                    </a:lnTo>
                    <a:lnTo>
                      <a:pt x="1007" y="4317"/>
                    </a:lnTo>
                    <a:lnTo>
                      <a:pt x="1018" y="4307"/>
                    </a:lnTo>
                    <a:lnTo>
                      <a:pt x="1028" y="4295"/>
                    </a:lnTo>
                    <a:lnTo>
                      <a:pt x="1040" y="4286"/>
                    </a:lnTo>
                    <a:lnTo>
                      <a:pt x="1049" y="4274"/>
                    </a:lnTo>
                    <a:lnTo>
                      <a:pt x="1061" y="4264"/>
                    </a:lnTo>
                    <a:lnTo>
                      <a:pt x="1069" y="4251"/>
                    </a:lnTo>
                    <a:lnTo>
                      <a:pt x="1078" y="4239"/>
                    </a:lnTo>
                    <a:lnTo>
                      <a:pt x="1088" y="4225"/>
                    </a:lnTo>
                    <a:lnTo>
                      <a:pt x="1098" y="4214"/>
                    </a:lnTo>
                    <a:lnTo>
                      <a:pt x="1106" y="4200"/>
                    </a:lnTo>
                    <a:lnTo>
                      <a:pt x="1117" y="4189"/>
                    </a:lnTo>
                    <a:lnTo>
                      <a:pt x="1125" y="4177"/>
                    </a:lnTo>
                    <a:lnTo>
                      <a:pt x="1137" y="4165"/>
                    </a:lnTo>
                    <a:lnTo>
                      <a:pt x="1144" y="4152"/>
                    </a:lnTo>
                    <a:lnTo>
                      <a:pt x="1154" y="4138"/>
                    </a:lnTo>
                    <a:lnTo>
                      <a:pt x="1164" y="4127"/>
                    </a:lnTo>
                    <a:lnTo>
                      <a:pt x="1173" y="4115"/>
                    </a:lnTo>
                    <a:lnTo>
                      <a:pt x="1183" y="4103"/>
                    </a:lnTo>
                    <a:lnTo>
                      <a:pt x="1193" y="4092"/>
                    </a:lnTo>
                    <a:lnTo>
                      <a:pt x="1204" y="4082"/>
                    </a:lnTo>
                    <a:lnTo>
                      <a:pt x="1216" y="4072"/>
                    </a:lnTo>
                    <a:lnTo>
                      <a:pt x="1226" y="4061"/>
                    </a:lnTo>
                    <a:lnTo>
                      <a:pt x="1237" y="4053"/>
                    </a:lnTo>
                    <a:lnTo>
                      <a:pt x="1249" y="4043"/>
                    </a:lnTo>
                    <a:lnTo>
                      <a:pt x="1263" y="4037"/>
                    </a:lnTo>
                    <a:lnTo>
                      <a:pt x="1274" y="4030"/>
                    </a:lnTo>
                    <a:lnTo>
                      <a:pt x="1290" y="4024"/>
                    </a:lnTo>
                    <a:lnTo>
                      <a:pt x="1303" y="4018"/>
                    </a:lnTo>
                    <a:lnTo>
                      <a:pt x="1321" y="4016"/>
                    </a:lnTo>
                    <a:lnTo>
                      <a:pt x="1336" y="3873"/>
                    </a:lnTo>
                    <a:lnTo>
                      <a:pt x="1325" y="3859"/>
                    </a:lnTo>
                    <a:lnTo>
                      <a:pt x="1313" y="3847"/>
                    </a:lnTo>
                    <a:lnTo>
                      <a:pt x="1301" y="3836"/>
                    </a:lnTo>
                    <a:lnTo>
                      <a:pt x="1292" y="3826"/>
                    </a:lnTo>
                    <a:lnTo>
                      <a:pt x="1280" y="3816"/>
                    </a:lnTo>
                    <a:lnTo>
                      <a:pt x="1268" y="3809"/>
                    </a:lnTo>
                    <a:lnTo>
                      <a:pt x="1257" y="3801"/>
                    </a:lnTo>
                    <a:lnTo>
                      <a:pt x="1245" y="3795"/>
                    </a:lnTo>
                    <a:lnTo>
                      <a:pt x="1232" y="3787"/>
                    </a:lnTo>
                    <a:lnTo>
                      <a:pt x="1220" y="3781"/>
                    </a:lnTo>
                    <a:lnTo>
                      <a:pt x="1206" y="3776"/>
                    </a:lnTo>
                    <a:lnTo>
                      <a:pt x="1195" y="3772"/>
                    </a:lnTo>
                    <a:lnTo>
                      <a:pt x="1181" y="3766"/>
                    </a:lnTo>
                    <a:lnTo>
                      <a:pt x="1170" y="3764"/>
                    </a:lnTo>
                    <a:lnTo>
                      <a:pt x="1156" y="3760"/>
                    </a:lnTo>
                    <a:lnTo>
                      <a:pt x="1144" y="3760"/>
                    </a:lnTo>
                    <a:lnTo>
                      <a:pt x="1129" y="3756"/>
                    </a:lnTo>
                    <a:lnTo>
                      <a:pt x="1115" y="3754"/>
                    </a:lnTo>
                    <a:lnTo>
                      <a:pt x="1102" y="3752"/>
                    </a:lnTo>
                    <a:lnTo>
                      <a:pt x="1088" y="3752"/>
                    </a:lnTo>
                    <a:lnTo>
                      <a:pt x="1073" y="3750"/>
                    </a:lnTo>
                    <a:lnTo>
                      <a:pt x="1061" y="3750"/>
                    </a:lnTo>
                    <a:lnTo>
                      <a:pt x="1045" y="3750"/>
                    </a:lnTo>
                    <a:lnTo>
                      <a:pt x="1034" y="3750"/>
                    </a:lnTo>
                    <a:lnTo>
                      <a:pt x="1018" y="3750"/>
                    </a:lnTo>
                    <a:lnTo>
                      <a:pt x="1005" y="3750"/>
                    </a:lnTo>
                    <a:lnTo>
                      <a:pt x="989" y="3750"/>
                    </a:lnTo>
                    <a:lnTo>
                      <a:pt x="978" y="3750"/>
                    </a:lnTo>
                    <a:lnTo>
                      <a:pt x="962" y="3750"/>
                    </a:lnTo>
                    <a:lnTo>
                      <a:pt x="949" y="3752"/>
                    </a:lnTo>
                    <a:lnTo>
                      <a:pt x="933" y="3752"/>
                    </a:lnTo>
                    <a:lnTo>
                      <a:pt x="921" y="3754"/>
                    </a:lnTo>
                    <a:lnTo>
                      <a:pt x="906" y="3752"/>
                    </a:lnTo>
                    <a:lnTo>
                      <a:pt x="892" y="3752"/>
                    </a:lnTo>
                    <a:lnTo>
                      <a:pt x="877" y="3752"/>
                    </a:lnTo>
                    <a:lnTo>
                      <a:pt x="863" y="3752"/>
                    </a:lnTo>
                    <a:lnTo>
                      <a:pt x="848" y="3752"/>
                    </a:lnTo>
                    <a:lnTo>
                      <a:pt x="836" y="3752"/>
                    </a:lnTo>
                    <a:lnTo>
                      <a:pt x="821" y="3752"/>
                    </a:lnTo>
                    <a:lnTo>
                      <a:pt x="809" y="3752"/>
                    </a:lnTo>
                    <a:lnTo>
                      <a:pt x="793" y="3750"/>
                    </a:lnTo>
                    <a:lnTo>
                      <a:pt x="780" y="3748"/>
                    </a:lnTo>
                    <a:lnTo>
                      <a:pt x="766" y="3747"/>
                    </a:lnTo>
                    <a:lnTo>
                      <a:pt x="753" y="3747"/>
                    </a:lnTo>
                    <a:lnTo>
                      <a:pt x="739" y="3743"/>
                    </a:lnTo>
                    <a:lnTo>
                      <a:pt x="726" y="3741"/>
                    </a:lnTo>
                    <a:lnTo>
                      <a:pt x="714" y="3737"/>
                    </a:lnTo>
                    <a:lnTo>
                      <a:pt x="702" y="3735"/>
                    </a:lnTo>
                    <a:lnTo>
                      <a:pt x="689" y="3729"/>
                    </a:lnTo>
                    <a:lnTo>
                      <a:pt x="675" y="3725"/>
                    </a:lnTo>
                    <a:lnTo>
                      <a:pt x="664" y="3719"/>
                    </a:lnTo>
                    <a:lnTo>
                      <a:pt x="652" y="3716"/>
                    </a:lnTo>
                    <a:lnTo>
                      <a:pt x="640" y="3708"/>
                    </a:lnTo>
                    <a:lnTo>
                      <a:pt x="629" y="3702"/>
                    </a:lnTo>
                    <a:lnTo>
                      <a:pt x="617" y="3694"/>
                    </a:lnTo>
                    <a:lnTo>
                      <a:pt x="605" y="3686"/>
                    </a:lnTo>
                    <a:lnTo>
                      <a:pt x="594" y="3677"/>
                    </a:lnTo>
                    <a:lnTo>
                      <a:pt x="582" y="3667"/>
                    </a:lnTo>
                    <a:lnTo>
                      <a:pt x="572" y="3655"/>
                    </a:lnTo>
                    <a:lnTo>
                      <a:pt x="563" y="3644"/>
                    </a:lnTo>
                    <a:lnTo>
                      <a:pt x="553" y="3630"/>
                    </a:lnTo>
                    <a:lnTo>
                      <a:pt x="545" y="3619"/>
                    </a:lnTo>
                    <a:lnTo>
                      <a:pt x="536" y="3605"/>
                    </a:lnTo>
                    <a:lnTo>
                      <a:pt x="528" y="3591"/>
                    </a:lnTo>
                    <a:lnTo>
                      <a:pt x="516" y="3576"/>
                    </a:lnTo>
                    <a:lnTo>
                      <a:pt x="508" y="3560"/>
                    </a:lnTo>
                    <a:lnTo>
                      <a:pt x="497" y="3545"/>
                    </a:lnTo>
                    <a:lnTo>
                      <a:pt x="489" y="3531"/>
                    </a:lnTo>
                    <a:lnTo>
                      <a:pt x="479" y="3516"/>
                    </a:lnTo>
                    <a:lnTo>
                      <a:pt x="472" y="3502"/>
                    </a:lnTo>
                    <a:lnTo>
                      <a:pt x="462" y="3487"/>
                    </a:lnTo>
                    <a:lnTo>
                      <a:pt x="454" y="3473"/>
                    </a:lnTo>
                    <a:lnTo>
                      <a:pt x="443" y="3456"/>
                    </a:lnTo>
                    <a:lnTo>
                      <a:pt x="435" y="3442"/>
                    </a:lnTo>
                    <a:lnTo>
                      <a:pt x="425" y="3427"/>
                    </a:lnTo>
                    <a:lnTo>
                      <a:pt x="417" y="3413"/>
                    </a:lnTo>
                    <a:lnTo>
                      <a:pt x="408" y="3396"/>
                    </a:lnTo>
                    <a:lnTo>
                      <a:pt x="400" y="3382"/>
                    </a:lnTo>
                    <a:lnTo>
                      <a:pt x="392" y="3366"/>
                    </a:lnTo>
                    <a:lnTo>
                      <a:pt x="386" y="3353"/>
                    </a:lnTo>
                    <a:lnTo>
                      <a:pt x="377" y="3335"/>
                    </a:lnTo>
                    <a:lnTo>
                      <a:pt x="369" y="3320"/>
                    </a:lnTo>
                    <a:lnTo>
                      <a:pt x="363" y="3304"/>
                    </a:lnTo>
                    <a:lnTo>
                      <a:pt x="357" y="3289"/>
                    </a:lnTo>
                    <a:lnTo>
                      <a:pt x="349" y="3271"/>
                    </a:lnTo>
                    <a:lnTo>
                      <a:pt x="344" y="3256"/>
                    </a:lnTo>
                    <a:lnTo>
                      <a:pt x="338" y="3240"/>
                    </a:lnTo>
                    <a:lnTo>
                      <a:pt x="334" y="3225"/>
                    </a:lnTo>
                    <a:lnTo>
                      <a:pt x="328" y="3207"/>
                    </a:lnTo>
                    <a:lnTo>
                      <a:pt x="322" y="3192"/>
                    </a:lnTo>
                    <a:lnTo>
                      <a:pt x="318" y="3175"/>
                    </a:lnTo>
                    <a:lnTo>
                      <a:pt x="317" y="3159"/>
                    </a:lnTo>
                    <a:lnTo>
                      <a:pt x="311" y="3142"/>
                    </a:lnTo>
                    <a:lnTo>
                      <a:pt x="309" y="3126"/>
                    </a:lnTo>
                    <a:lnTo>
                      <a:pt x="307" y="3109"/>
                    </a:lnTo>
                    <a:lnTo>
                      <a:pt x="307" y="3093"/>
                    </a:lnTo>
                    <a:lnTo>
                      <a:pt x="305" y="3079"/>
                    </a:lnTo>
                    <a:lnTo>
                      <a:pt x="303" y="3066"/>
                    </a:lnTo>
                    <a:lnTo>
                      <a:pt x="303" y="3052"/>
                    </a:lnTo>
                    <a:lnTo>
                      <a:pt x="303" y="3041"/>
                    </a:lnTo>
                    <a:lnTo>
                      <a:pt x="303" y="3027"/>
                    </a:lnTo>
                    <a:lnTo>
                      <a:pt x="303" y="3014"/>
                    </a:lnTo>
                    <a:lnTo>
                      <a:pt x="305" y="3000"/>
                    </a:lnTo>
                    <a:lnTo>
                      <a:pt x="307" y="2988"/>
                    </a:lnTo>
                    <a:lnTo>
                      <a:pt x="307" y="2975"/>
                    </a:lnTo>
                    <a:lnTo>
                      <a:pt x="309" y="2961"/>
                    </a:lnTo>
                    <a:lnTo>
                      <a:pt x="311" y="2948"/>
                    </a:lnTo>
                    <a:lnTo>
                      <a:pt x="315" y="2934"/>
                    </a:lnTo>
                    <a:lnTo>
                      <a:pt x="317" y="2920"/>
                    </a:lnTo>
                    <a:lnTo>
                      <a:pt x="320" y="2907"/>
                    </a:lnTo>
                    <a:lnTo>
                      <a:pt x="324" y="2893"/>
                    </a:lnTo>
                    <a:lnTo>
                      <a:pt x="330" y="2882"/>
                    </a:lnTo>
                    <a:lnTo>
                      <a:pt x="330" y="2864"/>
                    </a:lnTo>
                    <a:lnTo>
                      <a:pt x="330" y="2849"/>
                    </a:lnTo>
                    <a:lnTo>
                      <a:pt x="332" y="2833"/>
                    </a:lnTo>
                    <a:lnTo>
                      <a:pt x="336" y="2820"/>
                    </a:lnTo>
                    <a:lnTo>
                      <a:pt x="338" y="2804"/>
                    </a:lnTo>
                    <a:lnTo>
                      <a:pt x="342" y="2791"/>
                    </a:lnTo>
                    <a:lnTo>
                      <a:pt x="348" y="2777"/>
                    </a:lnTo>
                    <a:lnTo>
                      <a:pt x="353" y="2765"/>
                    </a:lnTo>
                    <a:lnTo>
                      <a:pt x="357" y="2752"/>
                    </a:lnTo>
                    <a:lnTo>
                      <a:pt x="363" y="2740"/>
                    </a:lnTo>
                    <a:lnTo>
                      <a:pt x="369" y="2729"/>
                    </a:lnTo>
                    <a:lnTo>
                      <a:pt x="377" y="2717"/>
                    </a:lnTo>
                    <a:lnTo>
                      <a:pt x="382" y="2705"/>
                    </a:lnTo>
                    <a:lnTo>
                      <a:pt x="392" y="2694"/>
                    </a:lnTo>
                    <a:lnTo>
                      <a:pt x="400" y="2684"/>
                    </a:lnTo>
                    <a:lnTo>
                      <a:pt x="410" y="2674"/>
                    </a:lnTo>
                    <a:lnTo>
                      <a:pt x="427" y="2653"/>
                    </a:lnTo>
                    <a:lnTo>
                      <a:pt x="444" y="2634"/>
                    </a:lnTo>
                    <a:lnTo>
                      <a:pt x="454" y="2624"/>
                    </a:lnTo>
                    <a:lnTo>
                      <a:pt x="464" y="2616"/>
                    </a:lnTo>
                    <a:lnTo>
                      <a:pt x="475" y="2606"/>
                    </a:lnTo>
                    <a:lnTo>
                      <a:pt x="487" y="2599"/>
                    </a:lnTo>
                    <a:lnTo>
                      <a:pt x="497" y="2589"/>
                    </a:lnTo>
                    <a:lnTo>
                      <a:pt x="508" y="2581"/>
                    </a:lnTo>
                    <a:lnTo>
                      <a:pt x="520" y="2571"/>
                    </a:lnTo>
                    <a:lnTo>
                      <a:pt x="532" y="2564"/>
                    </a:lnTo>
                    <a:lnTo>
                      <a:pt x="543" y="2554"/>
                    </a:lnTo>
                    <a:lnTo>
                      <a:pt x="555" y="2548"/>
                    </a:lnTo>
                    <a:lnTo>
                      <a:pt x="567" y="2539"/>
                    </a:lnTo>
                    <a:lnTo>
                      <a:pt x="578" y="2533"/>
                    </a:lnTo>
                    <a:lnTo>
                      <a:pt x="588" y="2523"/>
                    </a:lnTo>
                    <a:lnTo>
                      <a:pt x="600" y="2515"/>
                    </a:lnTo>
                    <a:lnTo>
                      <a:pt x="611" y="2506"/>
                    </a:lnTo>
                    <a:lnTo>
                      <a:pt x="623" y="2498"/>
                    </a:lnTo>
                    <a:lnTo>
                      <a:pt x="633" y="2488"/>
                    </a:lnTo>
                    <a:lnTo>
                      <a:pt x="644" y="2482"/>
                    </a:lnTo>
                    <a:lnTo>
                      <a:pt x="656" y="2473"/>
                    </a:lnTo>
                    <a:lnTo>
                      <a:pt x="667" y="2467"/>
                    </a:lnTo>
                    <a:lnTo>
                      <a:pt x="677" y="2457"/>
                    </a:lnTo>
                    <a:lnTo>
                      <a:pt x="689" y="2449"/>
                    </a:lnTo>
                    <a:lnTo>
                      <a:pt x="698" y="2440"/>
                    </a:lnTo>
                    <a:lnTo>
                      <a:pt x="710" y="2432"/>
                    </a:lnTo>
                    <a:lnTo>
                      <a:pt x="720" y="2422"/>
                    </a:lnTo>
                    <a:lnTo>
                      <a:pt x="731" y="2414"/>
                    </a:lnTo>
                    <a:lnTo>
                      <a:pt x="741" y="2405"/>
                    </a:lnTo>
                    <a:lnTo>
                      <a:pt x="753" y="2397"/>
                    </a:lnTo>
                    <a:lnTo>
                      <a:pt x="770" y="2378"/>
                    </a:lnTo>
                    <a:lnTo>
                      <a:pt x="788" y="2358"/>
                    </a:lnTo>
                    <a:lnTo>
                      <a:pt x="793" y="2347"/>
                    </a:lnTo>
                    <a:lnTo>
                      <a:pt x="801" y="2337"/>
                    </a:lnTo>
                    <a:lnTo>
                      <a:pt x="809" y="2325"/>
                    </a:lnTo>
                    <a:lnTo>
                      <a:pt x="817" y="2316"/>
                    </a:lnTo>
                    <a:lnTo>
                      <a:pt x="823" y="2304"/>
                    </a:lnTo>
                    <a:lnTo>
                      <a:pt x="828" y="2292"/>
                    </a:lnTo>
                    <a:lnTo>
                      <a:pt x="834" y="2281"/>
                    </a:lnTo>
                    <a:lnTo>
                      <a:pt x="840" y="2269"/>
                    </a:lnTo>
                    <a:lnTo>
                      <a:pt x="844" y="2255"/>
                    </a:lnTo>
                    <a:lnTo>
                      <a:pt x="850" y="2244"/>
                    </a:lnTo>
                    <a:lnTo>
                      <a:pt x="854" y="2230"/>
                    </a:lnTo>
                    <a:lnTo>
                      <a:pt x="857" y="2219"/>
                    </a:lnTo>
                    <a:lnTo>
                      <a:pt x="867" y="2197"/>
                    </a:lnTo>
                    <a:lnTo>
                      <a:pt x="879" y="2178"/>
                    </a:lnTo>
                    <a:lnTo>
                      <a:pt x="890" y="2160"/>
                    </a:lnTo>
                    <a:lnTo>
                      <a:pt x="904" y="2143"/>
                    </a:lnTo>
                    <a:lnTo>
                      <a:pt x="916" y="2125"/>
                    </a:lnTo>
                    <a:lnTo>
                      <a:pt x="931" y="2108"/>
                    </a:lnTo>
                    <a:lnTo>
                      <a:pt x="945" y="2093"/>
                    </a:lnTo>
                    <a:lnTo>
                      <a:pt x="960" y="2079"/>
                    </a:lnTo>
                    <a:lnTo>
                      <a:pt x="974" y="2061"/>
                    </a:lnTo>
                    <a:lnTo>
                      <a:pt x="989" y="2048"/>
                    </a:lnTo>
                    <a:lnTo>
                      <a:pt x="1007" y="2034"/>
                    </a:lnTo>
                    <a:lnTo>
                      <a:pt x="1024" y="2023"/>
                    </a:lnTo>
                    <a:lnTo>
                      <a:pt x="1040" y="2009"/>
                    </a:lnTo>
                    <a:lnTo>
                      <a:pt x="1057" y="1998"/>
                    </a:lnTo>
                    <a:lnTo>
                      <a:pt x="1075" y="1986"/>
                    </a:lnTo>
                    <a:lnTo>
                      <a:pt x="1094" y="1976"/>
                    </a:lnTo>
                    <a:lnTo>
                      <a:pt x="1111" y="1965"/>
                    </a:lnTo>
                    <a:lnTo>
                      <a:pt x="1129" y="1955"/>
                    </a:lnTo>
                    <a:lnTo>
                      <a:pt x="1146" y="1945"/>
                    </a:lnTo>
                    <a:lnTo>
                      <a:pt x="1166" y="1937"/>
                    </a:lnTo>
                    <a:lnTo>
                      <a:pt x="1183" y="1928"/>
                    </a:lnTo>
                    <a:lnTo>
                      <a:pt x="1204" y="1920"/>
                    </a:lnTo>
                    <a:lnTo>
                      <a:pt x="1224" y="1914"/>
                    </a:lnTo>
                    <a:lnTo>
                      <a:pt x="1245" y="1908"/>
                    </a:lnTo>
                    <a:lnTo>
                      <a:pt x="1263" y="1901"/>
                    </a:lnTo>
                    <a:lnTo>
                      <a:pt x="1284" y="1895"/>
                    </a:lnTo>
                    <a:lnTo>
                      <a:pt x="1303" y="1891"/>
                    </a:lnTo>
                    <a:lnTo>
                      <a:pt x="1325" y="1887"/>
                    </a:lnTo>
                    <a:lnTo>
                      <a:pt x="1344" y="1881"/>
                    </a:lnTo>
                    <a:lnTo>
                      <a:pt x="1365" y="1879"/>
                    </a:lnTo>
                    <a:lnTo>
                      <a:pt x="1375" y="1877"/>
                    </a:lnTo>
                    <a:lnTo>
                      <a:pt x="1385" y="1875"/>
                    </a:lnTo>
                    <a:lnTo>
                      <a:pt x="1396" y="1875"/>
                    </a:lnTo>
                    <a:lnTo>
                      <a:pt x="1408" y="1875"/>
                    </a:lnTo>
                    <a:lnTo>
                      <a:pt x="1418" y="1862"/>
                    </a:lnTo>
                    <a:lnTo>
                      <a:pt x="1427" y="1848"/>
                    </a:lnTo>
                    <a:lnTo>
                      <a:pt x="1435" y="1833"/>
                    </a:lnTo>
                    <a:lnTo>
                      <a:pt x="1443" y="1819"/>
                    </a:lnTo>
                    <a:lnTo>
                      <a:pt x="1449" y="1804"/>
                    </a:lnTo>
                    <a:lnTo>
                      <a:pt x="1457" y="1788"/>
                    </a:lnTo>
                    <a:lnTo>
                      <a:pt x="1462" y="1773"/>
                    </a:lnTo>
                    <a:lnTo>
                      <a:pt x="1470" y="1761"/>
                    </a:lnTo>
                    <a:lnTo>
                      <a:pt x="1476" y="1747"/>
                    </a:lnTo>
                    <a:lnTo>
                      <a:pt x="1484" y="1736"/>
                    </a:lnTo>
                    <a:lnTo>
                      <a:pt x="1493" y="1724"/>
                    </a:lnTo>
                    <a:lnTo>
                      <a:pt x="1505" y="1716"/>
                    </a:lnTo>
                    <a:lnTo>
                      <a:pt x="1517" y="1707"/>
                    </a:lnTo>
                    <a:lnTo>
                      <a:pt x="1532" y="1703"/>
                    </a:lnTo>
                    <a:lnTo>
                      <a:pt x="1540" y="1701"/>
                    </a:lnTo>
                    <a:lnTo>
                      <a:pt x="1550" y="1699"/>
                    </a:lnTo>
                    <a:lnTo>
                      <a:pt x="1559" y="1699"/>
                    </a:lnTo>
                    <a:lnTo>
                      <a:pt x="1571" y="1701"/>
                    </a:lnTo>
                    <a:lnTo>
                      <a:pt x="1579" y="1680"/>
                    </a:lnTo>
                    <a:lnTo>
                      <a:pt x="1590" y="1662"/>
                    </a:lnTo>
                    <a:lnTo>
                      <a:pt x="1602" y="1645"/>
                    </a:lnTo>
                    <a:lnTo>
                      <a:pt x="1614" y="1627"/>
                    </a:lnTo>
                    <a:lnTo>
                      <a:pt x="1625" y="1610"/>
                    </a:lnTo>
                    <a:lnTo>
                      <a:pt x="1639" y="1592"/>
                    </a:lnTo>
                    <a:lnTo>
                      <a:pt x="1652" y="1577"/>
                    </a:lnTo>
                    <a:lnTo>
                      <a:pt x="1668" y="1561"/>
                    </a:lnTo>
                    <a:lnTo>
                      <a:pt x="1681" y="1544"/>
                    </a:lnTo>
                    <a:lnTo>
                      <a:pt x="1697" y="1530"/>
                    </a:lnTo>
                    <a:lnTo>
                      <a:pt x="1710" y="1515"/>
                    </a:lnTo>
                    <a:lnTo>
                      <a:pt x="1728" y="1503"/>
                    </a:lnTo>
                    <a:lnTo>
                      <a:pt x="1743" y="1488"/>
                    </a:lnTo>
                    <a:lnTo>
                      <a:pt x="1759" y="1474"/>
                    </a:lnTo>
                    <a:lnTo>
                      <a:pt x="1776" y="1462"/>
                    </a:lnTo>
                    <a:lnTo>
                      <a:pt x="1794" y="1451"/>
                    </a:lnTo>
                    <a:lnTo>
                      <a:pt x="1809" y="1437"/>
                    </a:lnTo>
                    <a:lnTo>
                      <a:pt x="1827" y="1425"/>
                    </a:lnTo>
                    <a:lnTo>
                      <a:pt x="1844" y="1414"/>
                    </a:lnTo>
                    <a:lnTo>
                      <a:pt x="1862" y="1402"/>
                    </a:lnTo>
                    <a:lnTo>
                      <a:pt x="1879" y="1391"/>
                    </a:lnTo>
                    <a:lnTo>
                      <a:pt x="1899" y="1379"/>
                    </a:lnTo>
                    <a:lnTo>
                      <a:pt x="1916" y="1369"/>
                    </a:lnTo>
                    <a:lnTo>
                      <a:pt x="1935" y="1360"/>
                    </a:lnTo>
                    <a:lnTo>
                      <a:pt x="1953" y="1348"/>
                    </a:lnTo>
                    <a:lnTo>
                      <a:pt x="1970" y="1338"/>
                    </a:lnTo>
                    <a:lnTo>
                      <a:pt x="1988" y="1329"/>
                    </a:lnTo>
                    <a:lnTo>
                      <a:pt x="2007" y="1321"/>
                    </a:lnTo>
                    <a:lnTo>
                      <a:pt x="2025" y="1311"/>
                    </a:lnTo>
                    <a:lnTo>
                      <a:pt x="2044" y="1303"/>
                    </a:lnTo>
                    <a:lnTo>
                      <a:pt x="2061" y="1294"/>
                    </a:lnTo>
                    <a:lnTo>
                      <a:pt x="2081" y="1286"/>
                    </a:lnTo>
                    <a:lnTo>
                      <a:pt x="2100" y="1278"/>
                    </a:lnTo>
                    <a:lnTo>
                      <a:pt x="2122" y="1272"/>
                    </a:lnTo>
                    <a:lnTo>
                      <a:pt x="2131" y="1268"/>
                    </a:lnTo>
                    <a:lnTo>
                      <a:pt x="2143" y="1266"/>
                    </a:lnTo>
                    <a:lnTo>
                      <a:pt x="2154" y="1265"/>
                    </a:lnTo>
                    <a:lnTo>
                      <a:pt x="2166" y="1265"/>
                    </a:lnTo>
                    <a:lnTo>
                      <a:pt x="2176" y="1263"/>
                    </a:lnTo>
                    <a:lnTo>
                      <a:pt x="2187" y="1261"/>
                    </a:lnTo>
                    <a:lnTo>
                      <a:pt x="2199" y="1259"/>
                    </a:lnTo>
                    <a:lnTo>
                      <a:pt x="2211" y="1259"/>
                    </a:lnTo>
                    <a:lnTo>
                      <a:pt x="2222" y="1259"/>
                    </a:lnTo>
                    <a:lnTo>
                      <a:pt x="2234" y="1259"/>
                    </a:lnTo>
                    <a:lnTo>
                      <a:pt x="2246" y="1259"/>
                    </a:lnTo>
                    <a:lnTo>
                      <a:pt x="2257" y="1259"/>
                    </a:lnTo>
                    <a:lnTo>
                      <a:pt x="2269" y="1257"/>
                    </a:lnTo>
                    <a:lnTo>
                      <a:pt x="2284" y="1257"/>
                    </a:lnTo>
                    <a:lnTo>
                      <a:pt x="2298" y="1257"/>
                    </a:lnTo>
                    <a:lnTo>
                      <a:pt x="2313" y="1257"/>
                    </a:lnTo>
                    <a:lnTo>
                      <a:pt x="2325" y="1257"/>
                    </a:lnTo>
                    <a:lnTo>
                      <a:pt x="2341" y="1259"/>
                    </a:lnTo>
                    <a:lnTo>
                      <a:pt x="2354" y="1259"/>
                    </a:lnTo>
                    <a:lnTo>
                      <a:pt x="2370" y="1261"/>
                    </a:lnTo>
                    <a:lnTo>
                      <a:pt x="2383" y="1261"/>
                    </a:lnTo>
                    <a:lnTo>
                      <a:pt x="2399" y="1263"/>
                    </a:lnTo>
                    <a:lnTo>
                      <a:pt x="2412" y="1265"/>
                    </a:lnTo>
                    <a:lnTo>
                      <a:pt x="2428" y="1266"/>
                    </a:lnTo>
                    <a:lnTo>
                      <a:pt x="2441" y="1266"/>
                    </a:lnTo>
                    <a:lnTo>
                      <a:pt x="2457" y="1268"/>
                    </a:lnTo>
                    <a:lnTo>
                      <a:pt x="2471" y="1270"/>
                    </a:lnTo>
                    <a:lnTo>
                      <a:pt x="2486" y="1272"/>
                    </a:lnTo>
                    <a:lnTo>
                      <a:pt x="2498" y="1272"/>
                    </a:lnTo>
                    <a:lnTo>
                      <a:pt x="2513" y="1274"/>
                    </a:lnTo>
                    <a:lnTo>
                      <a:pt x="2527" y="1276"/>
                    </a:lnTo>
                    <a:lnTo>
                      <a:pt x="2542" y="1278"/>
                    </a:lnTo>
                    <a:lnTo>
                      <a:pt x="2556" y="1278"/>
                    </a:lnTo>
                    <a:lnTo>
                      <a:pt x="2571" y="1280"/>
                    </a:lnTo>
                    <a:lnTo>
                      <a:pt x="2585" y="1282"/>
                    </a:lnTo>
                    <a:lnTo>
                      <a:pt x="2600" y="1284"/>
                    </a:lnTo>
                    <a:lnTo>
                      <a:pt x="2614" y="1284"/>
                    </a:lnTo>
                    <a:lnTo>
                      <a:pt x="2629" y="1286"/>
                    </a:lnTo>
                    <a:lnTo>
                      <a:pt x="2643" y="1286"/>
                    </a:lnTo>
                    <a:lnTo>
                      <a:pt x="2659" y="1288"/>
                    </a:lnTo>
                    <a:lnTo>
                      <a:pt x="2672" y="1288"/>
                    </a:lnTo>
                    <a:lnTo>
                      <a:pt x="2688" y="1290"/>
                    </a:lnTo>
                    <a:lnTo>
                      <a:pt x="2701" y="1290"/>
                    </a:lnTo>
                    <a:lnTo>
                      <a:pt x="2717" y="1292"/>
                    </a:lnTo>
                    <a:lnTo>
                      <a:pt x="2734" y="1288"/>
                    </a:lnTo>
                    <a:lnTo>
                      <a:pt x="2756" y="1286"/>
                    </a:lnTo>
                    <a:lnTo>
                      <a:pt x="2773" y="1282"/>
                    </a:lnTo>
                    <a:lnTo>
                      <a:pt x="2794" y="1282"/>
                    </a:lnTo>
                    <a:lnTo>
                      <a:pt x="2814" y="1280"/>
                    </a:lnTo>
                    <a:lnTo>
                      <a:pt x="2835" y="1278"/>
                    </a:lnTo>
                    <a:lnTo>
                      <a:pt x="2854" y="1278"/>
                    </a:lnTo>
                    <a:lnTo>
                      <a:pt x="2876" y="1278"/>
                    </a:lnTo>
                    <a:lnTo>
                      <a:pt x="2895" y="1276"/>
                    </a:lnTo>
                    <a:lnTo>
                      <a:pt x="2916" y="1276"/>
                    </a:lnTo>
                    <a:lnTo>
                      <a:pt x="2936" y="1276"/>
                    </a:lnTo>
                    <a:lnTo>
                      <a:pt x="2957" y="1276"/>
                    </a:lnTo>
                    <a:lnTo>
                      <a:pt x="2977" y="1276"/>
                    </a:lnTo>
                    <a:lnTo>
                      <a:pt x="2998" y="1276"/>
                    </a:lnTo>
                    <a:lnTo>
                      <a:pt x="3017" y="1276"/>
                    </a:lnTo>
                    <a:lnTo>
                      <a:pt x="3041" y="1278"/>
                    </a:lnTo>
                    <a:lnTo>
                      <a:pt x="3060" y="1278"/>
                    </a:lnTo>
                    <a:lnTo>
                      <a:pt x="3081" y="1278"/>
                    </a:lnTo>
                    <a:lnTo>
                      <a:pt x="3101" y="1278"/>
                    </a:lnTo>
                    <a:lnTo>
                      <a:pt x="3122" y="1278"/>
                    </a:lnTo>
                    <a:lnTo>
                      <a:pt x="3141" y="1278"/>
                    </a:lnTo>
                    <a:lnTo>
                      <a:pt x="3163" y="1278"/>
                    </a:lnTo>
                    <a:lnTo>
                      <a:pt x="3182" y="1278"/>
                    </a:lnTo>
                    <a:lnTo>
                      <a:pt x="3205" y="1278"/>
                    </a:lnTo>
                    <a:lnTo>
                      <a:pt x="3225" y="1276"/>
                    </a:lnTo>
                    <a:lnTo>
                      <a:pt x="3246" y="1276"/>
                    </a:lnTo>
                    <a:lnTo>
                      <a:pt x="3265" y="1276"/>
                    </a:lnTo>
                    <a:lnTo>
                      <a:pt x="3287" y="1276"/>
                    </a:lnTo>
                    <a:lnTo>
                      <a:pt x="3306" y="1276"/>
                    </a:lnTo>
                    <a:lnTo>
                      <a:pt x="3327" y="1276"/>
                    </a:lnTo>
                    <a:lnTo>
                      <a:pt x="3349" y="1276"/>
                    </a:lnTo>
                    <a:lnTo>
                      <a:pt x="3370" y="1276"/>
                    </a:lnTo>
                    <a:lnTo>
                      <a:pt x="3388" y="1274"/>
                    </a:lnTo>
                    <a:lnTo>
                      <a:pt x="3409" y="1272"/>
                    </a:lnTo>
                    <a:lnTo>
                      <a:pt x="3426" y="1270"/>
                    </a:lnTo>
                    <a:lnTo>
                      <a:pt x="3448" y="1268"/>
                    </a:lnTo>
                    <a:lnTo>
                      <a:pt x="3467" y="1266"/>
                    </a:lnTo>
                    <a:lnTo>
                      <a:pt x="3486" y="1265"/>
                    </a:lnTo>
                    <a:lnTo>
                      <a:pt x="3506" y="1263"/>
                    </a:lnTo>
                    <a:lnTo>
                      <a:pt x="3527" y="1261"/>
                    </a:lnTo>
                    <a:lnTo>
                      <a:pt x="3545" y="1257"/>
                    </a:lnTo>
                    <a:lnTo>
                      <a:pt x="3564" y="1253"/>
                    </a:lnTo>
                    <a:lnTo>
                      <a:pt x="3583" y="1249"/>
                    </a:lnTo>
                    <a:lnTo>
                      <a:pt x="3603" y="1245"/>
                    </a:lnTo>
                    <a:lnTo>
                      <a:pt x="3620" y="1239"/>
                    </a:lnTo>
                    <a:lnTo>
                      <a:pt x="3640" y="1235"/>
                    </a:lnTo>
                    <a:lnTo>
                      <a:pt x="3659" y="1232"/>
                    </a:lnTo>
                    <a:lnTo>
                      <a:pt x="3678" y="1228"/>
                    </a:lnTo>
                    <a:lnTo>
                      <a:pt x="3696" y="1220"/>
                    </a:lnTo>
                    <a:lnTo>
                      <a:pt x="3713" y="1214"/>
                    </a:lnTo>
                    <a:lnTo>
                      <a:pt x="3731" y="1206"/>
                    </a:lnTo>
                    <a:lnTo>
                      <a:pt x="3750" y="1201"/>
                    </a:lnTo>
                    <a:lnTo>
                      <a:pt x="3768" y="1193"/>
                    </a:lnTo>
                    <a:lnTo>
                      <a:pt x="3785" y="1185"/>
                    </a:lnTo>
                    <a:lnTo>
                      <a:pt x="3802" y="1177"/>
                    </a:lnTo>
                    <a:lnTo>
                      <a:pt x="3820" y="1170"/>
                    </a:lnTo>
                    <a:lnTo>
                      <a:pt x="3835" y="1160"/>
                    </a:lnTo>
                    <a:lnTo>
                      <a:pt x="3851" y="1150"/>
                    </a:lnTo>
                    <a:lnTo>
                      <a:pt x="3866" y="1139"/>
                    </a:lnTo>
                    <a:lnTo>
                      <a:pt x="3884" y="1129"/>
                    </a:lnTo>
                    <a:lnTo>
                      <a:pt x="3899" y="1117"/>
                    </a:lnTo>
                    <a:lnTo>
                      <a:pt x="3915" y="1106"/>
                    </a:lnTo>
                    <a:lnTo>
                      <a:pt x="3930" y="1094"/>
                    </a:lnTo>
                    <a:lnTo>
                      <a:pt x="3948" y="1082"/>
                    </a:lnTo>
                    <a:lnTo>
                      <a:pt x="3958" y="1067"/>
                    </a:lnTo>
                    <a:lnTo>
                      <a:pt x="3969" y="1053"/>
                    </a:lnTo>
                    <a:lnTo>
                      <a:pt x="3981" y="1038"/>
                    </a:lnTo>
                    <a:lnTo>
                      <a:pt x="3992" y="1024"/>
                    </a:lnTo>
                    <a:lnTo>
                      <a:pt x="4002" y="1009"/>
                    </a:lnTo>
                    <a:lnTo>
                      <a:pt x="4014" y="995"/>
                    </a:lnTo>
                    <a:lnTo>
                      <a:pt x="4025" y="981"/>
                    </a:lnTo>
                    <a:lnTo>
                      <a:pt x="4037" y="968"/>
                    </a:lnTo>
                    <a:lnTo>
                      <a:pt x="4047" y="952"/>
                    </a:lnTo>
                    <a:lnTo>
                      <a:pt x="4058" y="939"/>
                    </a:lnTo>
                    <a:lnTo>
                      <a:pt x="4070" y="923"/>
                    </a:lnTo>
                    <a:lnTo>
                      <a:pt x="4082" y="910"/>
                    </a:lnTo>
                    <a:lnTo>
                      <a:pt x="4091" y="894"/>
                    </a:lnTo>
                    <a:lnTo>
                      <a:pt x="4103" y="881"/>
                    </a:lnTo>
                    <a:lnTo>
                      <a:pt x="4115" y="865"/>
                    </a:lnTo>
                    <a:lnTo>
                      <a:pt x="4126" y="852"/>
                    </a:lnTo>
                    <a:lnTo>
                      <a:pt x="4136" y="836"/>
                    </a:lnTo>
                    <a:lnTo>
                      <a:pt x="4146" y="821"/>
                    </a:lnTo>
                    <a:lnTo>
                      <a:pt x="4155" y="805"/>
                    </a:lnTo>
                    <a:lnTo>
                      <a:pt x="4165" y="791"/>
                    </a:lnTo>
                    <a:lnTo>
                      <a:pt x="4175" y="776"/>
                    </a:lnTo>
                    <a:lnTo>
                      <a:pt x="4184" y="760"/>
                    </a:lnTo>
                    <a:lnTo>
                      <a:pt x="4194" y="745"/>
                    </a:lnTo>
                    <a:lnTo>
                      <a:pt x="4206" y="731"/>
                    </a:lnTo>
                    <a:lnTo>
                      <a:pt x="4213" y="714"/>
                    </a:lnTo>
                    <a:lnTo>
                      <a:pt x="4223" y="700"/>
                    </a:lnTo>
                    <a:lnTo>
                      <a:pt x="4231" y="683"/>
                    </a:lnTo>
                    <a:lnTo>
                      <a:pt x="4241" y="669"/>
                    </a:lnTo>
                    <a:lnTo>
                      <a:pt x="4248" y="654"/>
                    </a:lnTo>
                    <a:lnTo>
                      <a:pt x="4258" y="638"/>
                    </a:lnTo>
                    <a:lnTo>
                      <a:pt x="4266" y="623"/>
                    </a:lnTo>
                    <a:lnTo>
                      <a:pt x="4276" y="609"/>
                    </a:lnTo>
                    <a:lnTo>
                      <a:pt x="4281" y="592"/>
                    </a:lnTo>
                    <a:lnTo>
                      <a:pt x="4289" y="576"/>
                    </a:lnTo>
                    <a:lnTo>
                      <a:pt x="4295" y="559"/>
                    </a:lnTo>
                    <a:lnTo>
                      <a:pt x="4303" y="543"/>
                    </a:lnTo>
                    <a:lnTo>
                      <a:pt x="4308" y="526"/>
                    </a:lnTo>
                    <a:lnTo>
                      <a:pt x="4314" y="510"/>
                    </a:lnTo>
                    <a:lnTo>
                      <a:pt x="4320" y="495"/>
                    </a:lnTo>
                    <a:lnTo>
                      <a:pt x="4326" y="479"/>
                    </a:lnTo>
                    <a:lnTo>
                      <a:pt x="4330" y="462"/>
                    </a:lnTo>
                    <a:lnTo>
                      <a:pt x="4336" y="444"/>
                    </a:lnTo>
                    <a:lnTo>
                      <a:pt x="4340" y="427"/>
                    </a:lnTo>
                    <a:lnTo>
                      <a:pt x="4345" y="411"/>
                    </a:lnTo>
                    <a:lnTo>
                      <a:pt x="4347" y="394"/>
                    </a:lnTo>
                    <a:lnTo>
                      <a:pt x="4351" y="376"/>
                    </a:lnTo>
                    <a:lnTo>
                      <a:pt x="4355" y="359"/>
                    </a:lnTo>
                    <a:lnTo>
                      <a:pt x="4359" y="344"/>
                    </a:lnTo>
                    <a:lnTo>
                      <a:pt x="4359" y="324"/>
                    </a:lnTo>
                    <a:lnTo>
                      <a:pt x="4361" y="307"/>
                    </a:lnTo>
                    <a:lnTo>
                      <a:pt x="4363" y="289"/>
                    </a:lnTo>
                    <a:lnTo>
                      <a:pt x="4365" y="272"/>
                    </a:lnTo>
                    <a:lnTo>
                      <a:pt x="4365" y="254"/>
                    </a:lnTo>
                    <a:lnTo>
                      <a:pt x="4365" y="237"/>
                    </a:lnTo>
                    <a:lnTo>
                      <a:pt x="4365" y="219"/>
                    </a:lnTo>
                    <a:lnTo>
                      <a:pt x="4367" y="202"/>
                    </a:lnTo>
                    <a:lnTo>
                      <a:pt x="4365" y="183"/>
                    </a:lnTo>
                    <a:lnTo>
                      <a:pt x="4363" y="165"/>
                    </a:lnTo>
                    <a:lnTo>
                      <a:pt x="4361" y="148"/>
                    </a:lnTo>
                    <a:lnTo>
                      <a:pt x="4359" y="130"/>
                    </a:lnTo>
                    <a:lnTo>
                      <a:pt x="4355" y="111"/>
                    </a:lnTo>
                    <a:lnTo>
                      <a:pt x="4353" y="93"/>
                    </a:lnTo>
                    <a:lnTo>
                      <a:pt x="4349" y="74"/>
                    </a:lnTo>
                    <a:lnTo>
                      <a:pt x="4347" y="57"/>
                    </a:lnTo>
                    <a:lnTo>
                      <a:pt x="4357" y="45"/>
                    </a:lnTo>
                    <a:lnTo>
                      <a:pt x="4367" y="41"/>
                    </a:lnTo>
                    <a:lnTo>
                      <a:pt x="4378" y="41"/>
                    </a:lnTo>
                    <a:lnTo>
                      <a:pt x="4390" y="49"/>
                    </a:lnTo>
                    <a:lnTo>
                      <a:pt x="4400" y="55"/>
                    </a:lnTo>
                    <a:lnTo>
                      <a:pt x="4411" y="62"/>
                    </a:lnTo>
                    <a:lnTo>
                      <a:pt x="4423" y="66"/>
                    </a:lnTo>
                    <a:lnTo>
                      <a:pt x="4435" y="72"/>
                    </a:lnTo>
                    <a:lnTo>
                      <a:pt x="4448" y="0"/>
                    </a:lnTo>
                    <a:lnTo>
                      <a:pt x="4466" y="18"/>
                    </a:lnTo>
                    <a:lnTo>
                      <a:pt x="4481" y="37"/>
                    </a:lnTo>
                    <a:lnTo>
                      <a:pt x="4487" y="47"/>
                    </a:lnTo>
                    <a:lnTo>
                      <a:pt x="4493" y="58"/>
                    </a:lnTo>
                    <a:lnTo>
                      <a:pt x="4497" y="70"/>
                    </a:lnTo>
                    <a:lnTo>
                      <a:pt x="4500" y="82"/>
                    </a:lnTo>
                    <a:lnTo>
                      <a:pt x="4500" y="93"/>
                    </a:lnTo>
                    <a:lnTo>
                      <a:pt x="4502" y="105"/>
                    </a:lnTo>
                    <a:lnTo>
                      <a:pt x="4502" y="117"/>
                    </a:lnTo>
                    <a:lnTo>
                      <a:pt x="4502" y="130"/>
                    </a:lnTo>
                    <a:lnTo>
                      <a:pt x="4500" y="142"/>
                    </a:lnTo>
                    <a:lnTo>
                      <a:pt x="4500" y="155"/>
                    </a:lnTo>
                    <a:lnTo>
                      <a:pt x="4500" y="169"/>
                    </a:lnTo>
                    <a:lnTo>
                      <a:pt x="4500" y="183"/>
                    </a:lnTo>
                    <a:lnTo>
                      <a:pt x="4497" y="194"/>
                    </a:lnTo>
                    <a:lnTo>
                      <a:pt x="4495" y="208"/>
                    </a:lnTo>
                    <a:lnTo>
                      <a:pt x="4491" y="221"/>
                    </a:lnTo>
                    <a:lnTo>
                      <a:pt x="4491" y="235"/>
                    </a:lnTo>
                    <a:lnTo>
                      <a:pt x="4487" y="248"/>
                    </a:lnTo>
                    <a:lnTo>
                      <a:pt x="4485" y="264"/>
                    </a:lnTo>
                    <a:lnTo>
                      <a:pt x="4483" y="278"/>
                    </a:lnTo>
                    <a:lnTo>
                      <a:pt x="4483" y="293"/>
                    </a:lnTo>
                    <a:lnTo>
                      <a:pt x="4481" y="305"/>
                    </a:lnTo>
                    <a:lnTo>
                      <a:pt x="4481" y="320"/>
                    </a:lnTo>
                    <a:lnTo>
                      <a:pt x="4481" y="334"/>
                    </a:lnTo>
                    <a:lnTo>
                      <a:pt x="4481" y="349"/>
                    </a:lnTo>
                    <a:lnTo>
                      <a:pt x="4481" y="361"/>
                    </a:lnTo>
                    <a:lnTo>
                      <a:pt x="4483" y="376"/>
                    </a:lnTo>
                    <a:lnTo>
                      <a:pt x="4485" y="390"/>
                    </a:lnTo>
                    <a:lnTo>
                      <a:pt x="4491" y="406"/>
                    </a:lnTo>
                    <a:lnTo>
                      <a:pt x="4487" y="423"/>
                    </a:lnTo>
                    <a:lnTo>
                      <a:pt x="4485" y="442"/>
                    </a:lnTo>
                    <a:lnTo>
                      <a:pt x="4481" y="462"/>
                    </a:lnTo>
                    <a:lnTo>
                      <a:pt x="4479" y="481"/>
                    </a:lnTo>
                    <a:lnTo>
                      <a:pt x="4473" y="499"/>
                    </a:lnTo>
                    <a:lnTo>
                      <a:pt x="4469" y="520"/>
                    </a:lnTo>
                    <a:lnTo>
                      <a:pt x="4466" y="537"/>
                    </a:lnTo>
                    <a:lnTo>
                      <a:pt x="4462" y="559"/>
                    </a:lnTo>
                    <a:lnTo>
                      <a:pt x="4456" y="576"/>
                    </a:lnTo>
                    <a:lnTo>
                      <a:pt x="4450" y="596"/>
                    </a:lnTo>
                    <a:lnTo>
                      <a:pt x="4444" y="615"/>
                    </a:lnTo>
                    <a:lnTo>
                      <a:pt x="4440" y="634"/>
                    </a:lnTo>
                    <a:lnTo>
                      <a:pt x="4433" y="654"/>
                    </a:lnTo>
                    <a:lnTo>
                      <a:pt x="4427" y="673"/>
                    </a:lnTo>
                    <a:lnTo>
                      <a:pt x="4419" y="693"/>
                    </a:lnTo>
                    <a:lnTo>
                      <a:pt x="4413" y="712"/>
                    </a:lnTo>
                    <a:lnTo>
                      <a:pt x="4403" y="729"/>
                    </a:lnTo>
                    <a:lnTo>
                      <a:pt x="4396" y="747"/>
                    </a:lnTo>
                    <a:lnTo>
                      <a:pt x="4388" y="764"/>
                    </a:lnTo>
                    <a:lnTo>
                      <a:pt x="4380" y="784"/>
                    </a:lnTo>
                    <a:lnTo>
                      <a:pt x="4371" y="801"/>
                    </a:lnTo>
                    <a:lnTo>
                      <a:pt x="4361" y="821"/>
                    </a:lnTo>
                    <a:lnTo>
                      <a:pt x="4351" y="838"/>
                    </a:lnTo>
                    <a:lnTo>
                      <a:pt x="4343" y="857"/>
                    </a:lnTo>
                    <a:lnTo>
                      <a:pt x="4332" y="873"/>
                    </a:lnTo>
                    <a:lnTo>
                      <a:pt x="4322" y="890"/>
                    </a:lnTo>
                    <a:lnTo>
                      <a:pt x="4312" y="908"/>
                    </a:lnTo>
                    <a:lnTo>
                      <a:pt x="4303" y="925"/>
                    </a:lnTo>
                    <a:lnTo>
                      <a:pt x="4291" y="943"/>
                    </a:lnTo>
                    <a:lnTo>
                      <a:pt x="4279" y="960"/>
                    </a:lnTo>
                    <a:lnTo>
                      <a:pt x="4268" y="978"/>
                    </a:lnTo>
                    <a:lnTo>
                      <a:pt x="4258" y="995"/>
                    </a:lnTo>
                    <a:lnTo>
                      <a:pt x="4245" y="1011"/>
                    </a:lnTo>
                    <a:lnTo>
                      <a:pt x="4231" y="1026"/>
                    </a:lnTo>
                    <a:lnTo>
                      <a:pt x="4217" y="1042"/>
                    </a:lnTo>
                    <a:lnTo>
                      <a:pt x="4206" y="1057"/>
                    </a:lnTo>
                    <a:lnTo>
                      <a:pt x="4192" y="1073"/>
                    </a:lnTo>
                    <a:lnTo>
                      <a:pt x="4179" y="1088"/>
                    </a:lnTo>
                    <a:lnTo>
                      <a:pt x="4165" y="1104"/>
                    </a:lnTo>
                    <a:lnTo>
                      <a:pt x="4153" y="1119"/>
                    </a:lnTo>
                    <a:lnTo>
                      <a:pt x="4138" y="1133"/>
                    </a:lnTo>
                    <a:lnTo>
                      <a:pt x="4122" y="1148"/>
                    </a:lnTo>
                    <a:lnTo>
                      <a:pt x="4107" y="1162"/>
                    </a:lnTo>
                    <a:lnTo>
                      <a:pt x="4093" y="1177"/>
                    </a:lnTo>
                    <a:lnTo>
                      <a:pt x="4078" y="1189"/>
                    </a:lnTo>
                    <a:lnTo>
                      <a:pt x="4062" y="1204"/>
                    </a:lnTo>
                    <a:lnTo>
                      <a:pt x="4047" y="1216"/>
                    </a:lnTo>
                    <a:lnTo>
                      <a:pt x="4033" y="1232"/>
                    </a:lnTo>
                    <a:lnTo>
                      <a:pt x="4016" y="1243"/>
                    </a:lnTo>
                    <a:lnTo>
                      <a:pt x="4000" y="1255"/>
                    </a:lnTo>
                    <a:lnTo>
                      <a:pt x="3983" y="1266"/>
                    </a:lnTo>
                    <a:lnTo>
                      <a:pt x="3967" y="1278"/>
                    </a:lnTo>
                    <a:lnTo>
                      <a:pt x="3950" y="1290"/>
                    </a:lnTo>
                    <a:lnTo>
                      <a:pt x="3934" y="1301"/>
                    </a:lnTo>
                    <a:lnTo>
                      <a:pt x="3917" y="1313"/>
                    </a:lnTo>
                    <a:lnTo>
                      <a:pt x="3901" y="1325"/>
                    </a:lnTo>
                    <a:lnTo>
                      <a:pt x="3882" y="1332"/>
                    </a:lnTo>
                    <a:lnTo>
                      <a:pt x="3865" y="1344"/>
                    </a:lnTo>
                    <a:lnTo>
                      <a:pt x="3847" y="1352"/>
                    </a:lnTo>
                    <a:lnTo>
                      <a:pt x="3830" y="1363"/>
                    </a:lnTo>
                    <a:lnTo>
                      <a:pt x="3810" y="1371"/>
                    </a:lnTo>
                    <a:lnTo>
                      <a:pt x="3793" y="1381"/>
                    </a:lnTo>
                    <a:lnTo>
                      <a:pt x="3775" y="1389"/>
                    </a:lnTo>
                    <a:lnTo>
                      <a:pt x="3758" y="1398"/>
                    </a:lnTo>
                    <a:lnTo>
                      <a:pt x="3773" y="1394"/>
                    </a:lnTo>
                    <a:lnTo>
                      <a:pt x="3791" y="1391"/>
                    </a:lnTo>
                    <a:lnTo>
                      <a:pt x="3808" y="1387"/>
                    </a:lnTo>
                    <a:lnTo>
                      <a:pt x="3826" y="1383"/>
                    </a:lnTo>
                    <a:lnTo>
                      <a:pt x="3843" y="1377"/>
                    </a:lnTo>
                    <a:lnTo>
                      <a:pt x="3861" y="1371"/>
                    </a:lnTo>
                    <a:lnTo>
                      <a:pt x="3878" y="1365"/>
                    </a:lnTo>
                    <a:lnTo>
                      <a:pt x="3896" y="1362"/>
                    </a:lnTo>
                    <a:lnTo>
                      <a:pt x="3911" y="1354"/>
                    </a:lnTo>
                    <a:lnTo>
                      <a:pt x="3928" y="1348"/>
                    </a:lnTo>
                    <a:lnTo>
                      <a:pt x="3944" y="1340"/>
                    </a:lnTo>
                    <a:lnTo>
                      <a:pt x="3961" y="1332"/>
                    </a:lnTo>
                    <a:lnTo>
                      <a:pt x="3977" y="1323"/>
                    </a:lnTo>
                    <a:lnTo>
                      <a:pt x="3994" y="1315"/>
                    </a:lnTo>
                    <a:lnTo>
                      <a:pt x="4010" y="1305"/>
                    </a:lnTo>
                    <a:lnTo>
                      <a:pt x="4027" y="1298"/>
                    </a:lnTo>
                    <a:lnTo>
                      <a:pt x="4041" y="1286"/>
                    </a:lnTo>
                    <a:lnTo>
                      <a:pt x="4056" y="1274"/>
                    </a:lnTo>
                    <a:lnTo>
                      <a:pt x="4072" y="1263"/>
                    </a:lnTo>
                    <a:lnTo>
                      <a:pt x="4087" y="1253"/>
                    </a:lnTo>
                    <a:lnTo>
                      <a:pt x="4101" y="1239"/>
                    </a:lnTo>
                    <a:lnTo>
                      <a:pt x="4117" y="1228"/>
                    </a:lnTo>
                    <a:lnTo>
                      <a:pt x="4130" y="1214"/>
                    </a:lnTo>
                    <a:lnTo>
                      <a:pt x="4146" y="1203"/>
                    </a:lnTo>
                    <a:lnTo>
                      <a:pt x="4159" y="1189"/>
                    </a:lnTo>
                    <a:lnTo>
                      <a:pt x="4173" y="1175"/>
                    </a:lnTo>
                    <a:lnTo>
                      <a:pt x="4186" y="1162"/>
                    </a:lnTo>
                    <a:lnTo>
                      <a:pt x="4202" y="1148"/>
                    </a:lnTo>
                    <a:lnTo>
                      <a:pt x="4213" y="1133"/>
                    </a:lnTo>
                    <a:lnTo>
                      <a:pt x="4229" y="1119"/>
                    </a:lnTo>
                    <a:lnTo>
                      <a:pt x="4241" y="1106"/>
                    </a:lnTo>
                    <a:lnTo>
                      <a:pt x="4256" y="1092"/>
                    </a:lnTo>
                    <a:lnTo>
                      <a:pt x="4268" y="1075"/>
                    </a:lnTo>
                    <a:lnTo>
                      <a:pt x="4279" y="1059"/>
                    </a:lnTo>
                    <a:lnTo>
                      <a:pt x="4291" y="1043"/>
                    </a:lnTo>
                    <a:lnTo>
                      <a:pt x="4305" y="1028"/>
                    </a:lnTo>
                    <a:lnTo>
                      <a:pt x="4316" y="1012"/>
                    </a:lnTo>
                    <a:lnTo>
                      <a:pt x="4328" y="997"/>
                    </a:lnTo>
                    <a:lnTo>
                      <a:pt x="4340" y="981"/>
                    </a:lnTo>
                    <a:lnTo>
                      <a:pt x="4351" y="966"/>
                    </a:lnTo>
                    <a:lnTo>
                      <a:pt x="4361" y="948"/>
                    </a:lnTo>
                    <a:lnTo>
                      <a:pt x="4372" y="931"/>
                    </a:lnTo>
                    <a:lnTo>
                      <a:pt x="4382" y="914"/>
                    </a:lnTo>
                    <a:lnTo>
                      <a:pt x="4394" y="898"/>
                    </a:lnTo>
                    <a:lnTo>
                      <a:pt x="4403" y="881"/>
                    </a:lnTo>
                    <a:lnTo>
                      <a:pt x="4415" y="865"/>
                    </a:lnTo>
                    <a:lnTo>
                      <a:pt x="4425" y="848"/>
                    </a:lnTo>
                    <a:lnTo>
                      <a:pt x="4436" y="832"/>
                    </a:lnTo>
                    <a:lnTo>
                      <a:pt x="4444" y="815"/>
                    </a:lnTo>
                    <a:lnTo>
                      <a:pt x="4454" y="797"/>
                    </a:lnTo>
                    <a:lnTo>
                      <a:pt x="4462" y="780"/>
                    </a:lnTo>
                    <a:lnTo>
                      <a:pt x="4471" y="762"/>
                    </a:lnTo>
                    <a:lnTo>
                      <a:pt x="4479" y="745"/>
                    </a:lnTo>
                    <a:lnTo>
                      <a:pt x="4487" y="727"/>
                    </a:lnTo>
                    <a:lnTo>
                      <a:pt x="4495" y="710"/>
                    </a:lnTo>
                    <a:lnTo>
                      <a:pt x="4504" y="694"/>
                    </a:lnTo>
                    <a:lnTo>
                      <a:pt x="4510" y="677"/>
                    </a:lnTo>
                    <a:lnTo>
                      <a:pt x="4518" y="660"/>
                    </a:lnTo>
                    <a:lnTo>
                      <a:pt x="4526" y="644"/>
                    </a:lnTo>
                    <a:lnTo>
                      <a:pt x="4533" y="629"/>
                    </a:lnTo>
                    <a:lnTo>
                      <a:pt x="4539" y="611"/>
                    </a:lnTo>
                    <a:lnTo>
                      <a:pt x="4547" y="596"/>
                    </a:lnTo>
                    <a:lnTo>
                      <a:pt x="4553" y="580"/>
                    </a:lnTo>
                    <a:lnTo>
                      <a:pt x="4561" y="565"/>
                    </a:lnTo>
                    <a:lnTo>
                      <a:pt x="4562" y="543"/>
                    </a:lnTo>
                    <a:lnTo>
                      <a:pt x="4566" y="524"/>
                    </a:lnTo>
                    <a:lnTo>
                      <a:pt x="4568" y="503"/>
                    </a:lnTo>
                    <a:lnTo>
                      <a:pt x="4572" y="485"/>
                    </a:lnTo>
                    <a:lnTo>
                      <a:pt x="4572" y="466"/>
                    </a:lnTo>
                    <a:lnTo>
                      <a:pt x="4574" y="448"/>
                    </a:lnTo>
                    <a:lnTo>
                      <a:pt x="4574" y="429"/>
                    </a:lnTo>
                    <a:lnTo>
                      <a:pt x="4576" y="411"/>
                    </a:lnTo>
                    <a:lnTo>
                      <a:pt x="4576" y="392"/>
                    </a:lnTo>
                    <a:lnTo>
                      <a:pt x="4576" y="375"/>
                    </a:lnTo>
                    <a:lnTo>
                      <a:pt x="4576" y="355"/>
                    </a:lnTo>
                    <a:lnTo>
                      <a:pt x="4578" y="338"/>
                    </a:lnTo>
                    <a:lnTo>
                      <a:pt x="4578" y="318"/>
                    </a:lnTo>
                    <a:lnTo>
                      <a:pt x="4582" y="299"/>
                    </a:lnTo>
                    <a:lnTo>
                      <a:pt x="4584" y="280"/>
                    </a:lnTo>
                    <a:lnTo>
                      <a:pt x="4590" y="260"/>
                    </a:lnTo>
                    <a:lnTo>
                      <a:pt x="4603" y="248"/>
                    </a:lnTo>
                    <a:lnTo>
                      <a:pt x="4615" y="239"/>
                    </a:lnTo>
                    <a:lnTo>
                      <a:pt x="4623" y="225"/>
                    </a:lnTo>
                    <a:lnTo>
                      <a:pt x="4630" y="212"/>
                    </a:lnTo>
                    <a:lnTo>
                      <a:pt x="4634" y="194"/>
                    </a:lnTo>
                    <a:lnTo>
                      <a:pt x="4636" y="179"/>
                    </a:lnTo>
                    <a:lnTo>
                      <a:pt x="4636" y="161"/>
                    </a:lnTo>
                    <a:lnTo>
                      <a:pt x="4636" y="146"/>
                    </a:lnTo>
                    <a:lnTo>
                      <a:pt x="4640" y="155"/>
                    </a:lnTo>
                    <a:lnTo>
                      <a:pt x="4644" y="167"/>
                    </a:lnTo>
                    <a:lnTo>
                      <a:pt x="4648" y="177"/>
                    </a:lnTo>
                    <a:lnTo>
                      <a:pt x="4652" y="188"/>
                    </a:lnTo>
                    <a:lnTo>
                      <a:pt x="4656" y="198"/>
                    </a:lnTo>
                    <a:lnTo>
                      <a:pt x="4659" y="210"/>
                    </a:lnTo>
                    <a:lnTo>
                      <a:pt x="4663" y="221"/>
                    </a:lnTo>
                    <a:lnTo>
                      <a:pt x="4667" y="233"/>
                    </a:lnTo>
                    <a:lnTo>
                      <a:pt x="4669" y="243"/>
                    </a:lnTo>
                    <a:lnTo>
                      <a:pt x="4671" y="254"/>
                    </a:lnTo>
                    <a:lnTo>
                      <a:pt x="4673" y="264"/>
                    </a:lnTo>
                    <a:lnTo>
                      <a:pt x="4677" y="276"/>
                    </a:lnTo>
                    <a:lnTo>
                      <a:pt x="4679" y="285"/>
                    </a:lnTo>
                    <a:lnTo>
                      <a:pt x="4681" y="297"/>
                    </a:lnTo>
                    <a:lnTo>
                      <a:pt x="4683" y="309"/>
                    </a:lnTo>
                    <a:lnTo>
                      <a:pt x="4687" y="320"/>
                    </a:lnTo>
                    <a:lnTo>
                      <a:pt x="4687" y="330"/>
                    </a:lnTo>
                    <a:lnTo>
                      <a:pt x="4688" y="342"/>
                    </a:lnTo>
                    <a:lnTo>
                      <a:pt x="4688" y="351"/>
                    </a:lnTo>
                    <a:lnTo>
                      <a:pt x="4690" y="363"/>
                    </a:lnTo>
                    <a:lnTo>
                      <a:pt x="4690" y="373"/>
                    </a:lnTo>
                    <a:lnTo>
                      <a:pt x="4690" y="384"/>
                    </a:lnTo>
                    <a:lnTo>
                      <a:pt x="4690" y="394"/>
                    </a:lnTo>
                    <a:lnTo>
                      <a:pt x="4692" y="406"/>
                    </a:lnTo>
                    <a:lnTo>
                      <a:pt x="4692" y="415"/>
                    </a:lnTo>
                    <a:lnTo>
                      <a:pt x="4692" y="427"/>
                    </a:lnTo>
                    <a:lnTo>
                      <a:pt x="4692" y="437"/>
                    </a:lnTo>
                    <a:lnTo>
                      <a:pt x="4692" y="448"/>
                    </a:lnTo>
                    <a:lnTo>
                      <a:pt x="4690" y="458"/>
                    </a:lnTo>
                    <a:lnTo>
                      <a:pt x="4690" y="470"/>
                    </a:lnTo>
                    <a:lnTo>
                      <a:pt x="4690" y="481"/>
                    </a:lnTo>
                    <a:lnTo>
                      <a:pt x="4690" y="493"/>
                    </a:lnTo>
                    <a:lnTo>
                      <a:pt x="4687" y="506"/>
                    </a:lnTo>
                    <a:lnTo>
                      <a:pt x="4685" y="520"/>
                    </a:lnTo>
                    <a:lnTo>
                      <a:pt x="4683" y="534"/>
                    </a:lnTo>
                    <a:lnTo>
                      <a:pt x="4681" y="549"/>
                    </a:lnTo>
                    <a:lnTo>
                      <a:pt x="4677" y="563"/>
                    </a:lnTo>
                    <a:lnTo>
                      <a:pt x="4675" y="578"/>
                    </a:lnTo>
                    <a:lnTo>
                      <a:pt x="4671" y="592"/>
                    </a:lnTo>
                    <a:lnTo>
                      <a:pt x="4669" y="607"/>
                    </a:lnTo>
                    <a:lnTo>
                      <a:pt x="4663" y="619"/>
                    </a:lnTo>
                    <a:lnTo>
                      <a:pt x="4659" y="634"/>
                    </a:lnTo>
                    <a:lnTo>
                      <a:pt x="4656" y="648"/>
                    </a:lnTo>
                    <a:lnTo>
                      <a:pt x="4652" y="663"/>
                    </a:lnTo>
                    <a:lnTo>
                      <a:pt x="4646" y="675"/>
                    </a:lnTo>
                    <a:lnTo>
                      <a:pt x="4642" y="691"/>
                    </a:lnTo>
                    <a:lnTo>
                      <a:pt x="4636" y="704"/>
                    </a:lnTo>
                    <a:lnTo>
                      <a:pt x="4632" y="720"/>
                    </a:lnTo>
                    <a:lnTo>
                      <a:pt x="4625" y="731"/>
                    </a:lnTo>
                    <a:lnTo>
                      <a:pt x="4619" y="747"/>
                    </a:lnTo>
                    <a:lnTo>
                      <a:pt x="4613" y="758"/>
                    </a:lnTo>
                    <a:lnTo>
                      <a:pt x="4607" y="774"/>
                    </a:lnTo>
                    <a:lnTo>
                      <a:pt x="4599" y="786"/>
                    </a:lnTo>
                    <a:lnTo>
                      <a:pt x="4593" y="801"/>
                    </a:lnTo>
                    <a:lnTo>
                      <a:pt x="4588" y="813"/>
                    </a:lnTo>
                    <a:lnTo>
                      <a:pt x="4582" y="828"/>
                    </a:lnTo>
                    <a:lnTo>
                      <a:pt x="4572" y="840"/>
                    </a:lnTo>
                    <a:lnTo>
                      <a:pt x="4566" y="855"/>
                    </a:lnTo>
                    <a:lnTo>
                      <a:pt x="4557" y="867"/>
                    </a:lnTo>
                    <a:lnTo>
                      <a:pt x="4551" y="883"/>
                    </a:lnTo>
                    <a:lnTo>
                      <a:pt x="4541" y="894"/>
                    </a:lnTo>
                    <a:lnTo>
                      <a:pt x="4535" y="910"/>
                    </a:lnTo>
                    <a:lnTo>
                      <a:pt x="4526" y="921"/>
                    </a:lnTo>
                    <a:lnTo>
                      <a:pt x="4520" y="937"/>
                    </a:lnTo>
                    <a:lnTo>
                      <a:pt x="4510" y="948"/>
                    </a:lnTo>
                    <a:lnTo>
                      <a:pt x="4500" y="962"/>
                    </a:lnTo>
                    <a:lnTo>
                      <a:pt x="4491" y="974"/>
                    </a:lnTo>
                    <a:lnTo>
                      <a:pt x="4483" y="987"/>
                    </a:lnTo>
                    <a:lnTo>
                      <a:pt x="4473" y="999"/>
                    </a:lnTo>
                    <a:lnTo>
                      <a:pt x="4466" y="1012"/>
                    </a:lnTo>
                    <a:lnTo>
                      <a:pt x="4456" y="1026"/>
                    </a:lnTo>
                    <a:lnTo>
                      <a:pt x="4448" y="1040"/>
                    </a:lnTo>
                    <a:lnTo>
                      <a:pt x="4436" y="1051"/>
                    </a:lnTo>
                    <a:lnTo>
                      <a:pt x="4429" y="1063"/>
                    </a:lnTo>
                    <a:lnTo>
                      <a:pt x="4417" y="1075"/>
                    </a:lnTo>
                    <a:lnTo>
                      <a:pt x="4409" y="1088"/>
                    </a:lnTo>
                    <a:lnTo>
                      <a:pt x="4398" y="1100"/>
                    </a:lnTo>
                    <a:lnTo>
                      <a:pt x="4390" y="1113"/>
                    </a:lnTo>
                    <a:lnTo>
                      <a:pt x="4378" y="1125"/>
                    </a:lnTo>
                    <a:lnTo>
                      <a:pt x="4371" y="1139"/>
                    </a:lnTo>
                    <a:lnTo>
                      <a:pt x="4359" y="1150"/>
                    </a:lnTo>
                    <a:lnTo>
                      <a:pt x="4349" y="1162"/>
                    </a:lnTo>
                    <a:lnTo>
                      <a:pt x="4340" y="1173"/>
                    </a:lnTo>
                    <a:lnTo>
                      <a:pt x="4330" y="1187"/>
                    </a:lnTo>
                    <a:lnTo>
                      <a:pt x="4318" y="1199"/>
                    </a:lnTo>
                    <a:lnTo>
                      <a:pt x="4308" y="1210"/>
                    </a:lnTo>
                    <a:lnTo>
                      <a:pt x="4299" y="1222"/>
                    </a:lnTo>
                    <a:lnTo>
                      <a:pt x="4289" y="1235"/>
                    </a:lnTo>
                    <a:lnTo>
                      <a:pt x="4277" y="1247"/>
                    </a:lnTo>
                    <a:lnTo>
                      <a:pt x="4268" y="1259"/>
                    </a:lnTo>
                    <a:lnTo>
                      <a:pt x="4258" y="1270"/>
                    </a:lnTo>
                    <a:lnTo>
                      <a:pt x="4248" y="1282"/>
                    </a:lnTo>
                    <a:lnTo>
                      <a:pt x="4239" y="1294"/>
                    </a:lnTo>
                    <a:lnTo>
                      <a:pt x="4229" y="1305"/>
                    </a:lnTo>
                    <a:lnTo>
                      <a:pt x="4219" y="1317"/>
                    </a:lnTo>
                    <a:lnTo>
                      <a:pt x="4210" y="1329"/>
                    </a:lnTo>
                    <a:lnTo>
                      <a:pt x="4186" y="1344"/>
                    </a:lnTo>
                    <a:lnTo>
                      <a:pt x="4163" y="1360"/>
                    </a:lnTo>
                    <a:lnTo>
                      <a:pt x="4140" y="1375"/>
                    </a:lnTo>
                    <a:lnTo>
                      <a:pt x="4118" y="1391"/>
                    </a:lnTo>
                    <a:lnTo>
                      <a:pt x="4095" y="1404"/>
                    </a:lnTo>
                    <a:lnTo>
                      <a:pt x="4072" y="1420"/>
                    </a:lnTo>
                    <a:lnTo>
                      <a:pt x="4049" y="1433"/>
                    </a:lnTo>
                    <a:lnTo>
                      <a:pt x="4025" y="1449"/>
                    </a:lnTo>
                    <a:lnTo>
                      <a:pt x="4000" y="1460"/>
                    </a:lnTo>
                    <a:lnTo>
                      <a:pt x="3975" y="1472"/>
                    </a:lnTo>
                    <a:lnTo>
                      <a:pt x="3950" y="1484"/>
                    </a:lnTo>
                    <a:lnTo>
                      <a:pt x="3927" y="1495"/>
                    </a:lnTo>
                    <a:lnTo>
                      <a:pt x="3899" y="1505"/>
                    </a:lnTo>
                    <a:lnTo>
                      <a:pt x="3876" y="1517"/>
                    </a:lnTo>
                    <a:lnTo>
                      <a:pt x="3849" y="1526"/>
                    </a:lnTo>
                    <a:lnTo>
                      <a:pt x="3826" y="1538"/>
                    </a:lnTo>
                    <a:lnTo>
                      <a:pt x="3799" y="1546"/>
                    </a:lnTo>
                    <a:lnTo>
                      <a:pt x="3771" y="1553"/>
                    </a:lnTo>
                    <a:lnTo>
                      <a:pt x="3744" y="1561"/>
                    </a:lnTo>
                    <a:lnTo>
                      <a:pt x="3719" y="1571"/>
                    </a:lnTo>
                    <a:lnTo>
                      <a:pt x="3692" y="1577"/>
                    </a:lnTo>
                    <a:lnTo>
                      <a:pt x="3665" y="1584"/>
                    </a:lnTo>
                    <a:lnTo>
                      <a:pt x="3638" y="1590"/>
                    </a:lnTo>
                    <a:lnTo>
                      <a:pt x="3612" y="1598"/>
                    </a:lnTo>
                    <a:lnTo>
                      <a:pt x="3583" y="1602"/>
                    </a:lnTo>
                    <a:lnTo>
                      <a:pt x="3556" y="1608"/>
                    </a:lnTo>
                    <a:lnTo>
                      <a:pt x="3529" y="1614"/>
                    </a:lnTo>
                    <a:lnTo>
                      <a:pt x="3502" y="1619"/>
                    </a:lnTo>
                    <a:lnTo>
                      <a:pt x="3475" y="1623"/>
                    </a:lnTo>
                    <a:lnTo>
                      <a:pt x="3448" y="1627"/>
                    </a:lnTo>
                    <a:lnTo>
                      <a:pt x="3421" y="1631"/>
                    </a:lnTo>
                    <a:lnTo>
                      <a:pt x="3393" y="1637"/>
                    </a:lnTo>
                    <a:lnTo>
                      <a:pt x="3364" y="1639"/>
                    </a:lnTo>
                    <a:lnTo>
                      <a:pt x="3335" y="1641"/>
                    </a:lnTo>
                    <a:lnTo>
                      <a:pt x="3306" y="1643"/>
                    </a:lnTo>
                    <a:lnTo>
                      <a:pt x="3279" y="1647"/>
                    </a:lnTo>
                    <a:lnTo>
                      <a:pt x="3250" y="1647"/>
                    </a:lnTo>
                    <a:lnTo>
                      <a:pt x="3221" y="1648"/>
                    </a:lnTo>
                    <a:lnTo>
                      <a:pt x="3192" y="1650"/>
                    </a:lnTo>
                    <a:lnTo>
                      <a:pt x="3165" y="1652"/>
                    </a:lnTo>
                    <a:lnTo>
                      <a:pt x="3136" y="1652"/>
                    </a:lnTo>
                    <a:lnTo>
                      <a:pt x="3106" y="1652"/>
                    </a:lnTo>
                    <a:lnTo>
                      <a:pt x="3077" y="1652"/>
                    </a:lnTo>
                    <a:lnTo>
                      <a:pt x="3050" y="1652"/>
                    </a:lnTo>
                    <a:lnTo>
                      <a:pt x="3021" y="1650"/>
                    </a:lnTo>
                    <a:lnTo>
                      <a:pt x="2992" y="1650"/>
                    </a:lnTo>
                    <a:lnTo>
                      <a:pt x="2963" y="1650"/>
                    </a:lnTo>
                    <a:lnTo>
                      <a:pt x="2936" y="1650"/>
                    </a:lnTo>
                    <a:lnTo>
                      <a:pt x="2907" y="1647"/>
                    </a:lnTo>
                    <a:lnTo>
                      <a:pt x="2878" y="1647"/>
                    </a:lnTo>
                    <a:lnTo>
                      <a:pt x="2849" y="1643"/>
                    </a:lnTo>
                    <a:lnTo>
                      <a:pt x="2819" y="1643"/>
                    </a:lnTo>
                    <a:lnTo>
                      <a:pt x="2790" y="1639"/>
                    </a:lnTo>
                    <a:lnTo>
                      <a:pt x="2761" y="1637"/>
                    </a:lnTo>
                    <a:lnTo>
                      <a:pt x="2732" y="1635"/>
                    </a:lnTo>
                    <a:lnTo>
                      <a:pt x="2705" y="1633"/>
                    </a:lnTo>
                    <a:lnTo>
                      <a:pt x="2676" y="1629"/>
                    </a:lnTo>
                    <a:lnTo>
                      <a:pt x="2647" y="1625"/>
                    </a:lnTo>
                    <a:lnTo>
                      <a:pt x="2620" y="1621"/>
                    </a:lnTo>
                    <a:lnTo>
                      <a:pt x="2593" y="1619"/>
                    </a:lnTo>
                    <a:lnTo>
                      <a:pt x="2564" y="1616"/>
                    </a:lnTo>
                    <a:lnTo>
                      <a:pt x="2536" y="1612"/>
                    </a:lnTo>
                    <a:lnTo>
                      <a:pt x="2509" y="1608"/>
                    </a:lnTo>
                    <a:lnTo>
                      <a:pt x="2482" y="1606"/>
                    </a:lnTo>
                    <a:lnTo>
                      <a:pt x="2463" y="1604"/>
                    </a:lnTo>
                    <a:lnTo>
                      <a:pt x="2443" y="1602"/>
                    </a:lnTo>
                    <a:lnTo>
                      <a:pt x="2426" y="1602"/>
                    </a:lnTo>
                    <a:lnTo>
                      <a:pt x="2408" y="1602"/>
                    </a:lnTo>
                    <a:lnTo>
                      <a:pt x="2389" y="1602"/>
                    </a:lnTo>
                    <a:lnTo>
                      <a:pt x="2370" y="1604"/>
                    </a:lnTo>
                    <a:lnTo>
                      <a:pt x="2352" y="1606"/>
                    </a:lnTo>
                    <a:lnTo>
                      <a:pt x="2335" y="1610"/>
                    </a:lnTo>
                    <a:lnTo>
                      <a:pt x="2315" y="1612"/>
                    </a:lnTo>
                    <a:lnTo>
                      <a:pt x="2298" y="1616"/>
                    </a:lnTo>
                    <a:lnTo>
                      <a:pt x="2281" y="1617"/>
                    </a:lnTo>
                    <a:lnTo>
                      <a:pt x="2263" y="1623"/>
                    </a:lnTo>
                    <a:lnTo>
                      <a:pt x="2246" y="1629"/>
                    </a:lnTo>
                    <a:lnTo>
                      <a:pt x="2228" y="1635"/>
                    </a:lnTo>
                    <a:lnTo>
                      <a:pt x="2211" y="1641"/>
                    </a:lnTo>
                    <a:lnTo>
                      <a:pt x="2193" y="1648"/>
                    </a:lnTo>
                    <a:lnTo>
                      <a:pt x="2176" y="1654"/>
                    </a:lnTo>
                    <a:lnTo>
                      <a:pt x="2158" y="1660"/>
                    </a:lnTo>
                    <a:lnTo>
                      <a:pt x="2141" y="1668"/>
                    </a:lnTo>
                    <a:lnTo>
                      <a:pt x="2123" y="1678"/>
                    </a:lnTo>
                    <a:lnTo>
                      <a:pt x="2106" y="1685"/>
                    </a:lnTo>
                    <a:lnTo>
                      <a:pt x="2091" y="1695"/>
                    </a:lnTo>
                    <a:lnTo>
                      <a:pt x="2075" y="1705"/>
                    </a:lnTo>
                    <a:lnTo>
                      <a:pt x="2061" y="1716"/>
                    </a:lnTo>
                    <a:lnTo>
                      <a:pt x="2044" y="1726"/>
                    </a:lnTo>
                    <a:lnTo>
                      <a:pt x="2030" y="1738"/>
                    </a:lnTo>
                    <a:lnTo>
                      <a:pt x="2015" y="1749"/>
                    </a:lnTo>
                    <a:lnTo>
                      <a:pt x="2001" y="1763"/>
                    </a:lnTo>
                    <a:lnTo>
                      <a:pt x="1986" y="1775"/>
                    </a:lnTo>
                    <a:lnTo>
                      <a:pt x="1972" y="1788"/>
                    </a:lnTo>
                    <a:lnTo>
                      <a:pt x="1959" y="1802"/>
                    </a:lnTo>
                    <a:lnTo>
                      <a:pt x="1947" y="1819"/>
                    </a:lnTo>
                    <a:lnTo>
                      <a:pt x="1947" y="1833"/>
                    </a:lnTo>
                    <a:lnTo>
                      <a:pt x="1949" y="1848"/>
                    </a:lnTo>
                    <a:lnTo>
                      <a:pt x="1951" y="1862"/>
                    </a:lnTo>
                    <a:lnTo>
                      <a:pt x="1957" y="1875"/>
                    </a:lnTo>
                    <a:lnTo>
                      <a:pt x="1961" y="1885"/>
                    </a:lnTo>
                    <a:lnTo>
                      <a:pt x="1966" y="1895"/>
                    </a:lnTo>
                    <a:lnTo>
                      <a:pt x="1974" y="1904"/>
                    </a:lnTo>
                    <a:lnTo>
                      <a:pt x="1984" y="1914"/>
                    </a:lnTo>
                    <a:lnTo>
                      <a:pt x="2001" y="1928"/>
                    </a:lnTo>
                    <a:lnTo>
                      <a:pt x="2023" y="1941"/>
                    </a:lnTo>
                    <a:lnTo>
                      <a:pt x="2034" y="1947"/>
                    </a:lnTo>
                    <a:lnTo>
                      <a:pt x="2046" y="1953"/>
                    </a:lnTo>
                    <a:lnTo>
                      <a:pt x="2059" y="1959"/>
                    </a:lnTo>
                    <a:lnTo>
                      <a:pt x="2073" y="1965"/>
                    </a:lnTo>
                    <a:lnTo>
                      <a:pt x="2085" y="1968"/>
                    </a:lnTo>
                    <a:lnTo>
                      <a:pt x="2096" y="1972"/>
                    </a:lnTo>
                    <a:lnTo>
                      <a:pt x="2110" y="1976"/>
                    </a:lnTo>
                    <a:lnTo>
                      <a:pt x="2123" y="1982"/>
                    </a:lnTo>
                    <a:lnTo>
                      <a:pt x="2135" y="1986"/>
                    </a:lnTo>
                    <a:lnTo>
                      <a:pt x="2149" y="1992"/>
                    </a:lnTo>
                    <a:lnTo>
                      <a:pt x="2162" y="1998"/>
                    </a:lnTo>
                    <a:lnTo>
                      <a:pt x="2176" y="2005"/>
                    </a:lnTo>
                    <a:lnTo>
                      <a:pt x="2187" y="2011"/>
                    </a:lnTo>
                    <a:lnTo>
                      <a:pt x="2199" y="2017"/>
                    </a:lnTo>
                    <a:lnTo>
                      <a:pt x="2211" y="2025"/>
                    </a:lnTo>
                    <a:lnTo>
                      <a:pt x="2222" y="2036"/>
                    </a:lnTo>
                    <a:lnTo>
                      <a:pt x="2232" y="2044"/>
                    </a:lnTo>
                    <a:lnTo>
                      <a:pt x="2242" y="2056"/>
                    </a:lnTo>
                    <a:lnTo>
                      <a:pt x="2251" y="2067"/>
                    </a:lnTo>
                    <a:lnTo>
                      <a:pt x="2261" y="2083"/>
                    </a:lnTo>
                    <a:lnTo>
                      <a:pt x="2271" y="2094"/>
                    </a:lnTo>
                    <a:lnTo>
                      <a:pt x="2281" y="2108"/>
                    </a:lnTo>
                    <a:lnTo>
                      <a:pt x="2290" y="2122"/>
                    </a:lnTo>
                    <a:lnTo>
                      <a:pt x="2302" y="2135"/>
                    </a:lnTo>
                    <a:lnTo>
                      <a:pt x="2312" y="2149"/>
                    </a:lnTo>
                    <a:lnTo>
                      <a:pt x="2321" y="2162"/>
                    </a:lnTo>
                    <a:lnTo>
                      <a:pt x="2331" y="2176"/>
                    </a:lnTo>
                    <a:lnTo>
                      <a:pt x="2343" y="2191"/>
                    </a:lnTo>
                    <a:lnTo>
                      <a:pt x="2350" y="2203"/>
                    </a:lnTo>
                    <a:lnTo>
                      <a:pt x="2362" y="2219"/>
                    </a:lnTo>
                    <a:lnTo>
                      <a:pt x="2370" y="2232"/>
                    </a:lnTo>
                    <a:lnTo>
                      <a:pt x="2381" y="2248"/>
                    </a:lnTo>
                    <a:lnTo>
                      <a:pt x="2389" y="2261"/>
                    </a:lnTo>
                    <a:lnTo>
                      <a:pt x="2399" y="2277"/>
                    </a:lnTo>
                    <a:lnTo>
                      <a:pt x="2408" y="2290"/>
                    </a:lnTo>
                    <a:lnTo>
                      <a:pt x="2418" y="2306"/>
                    </a:lnTo>
                    <a:lnTo>
                      <a:pt x="2426" y="2319"/>
                    </a:lnTo>
                    <a:lnTo>
                      <a:pt x="2434" y="2335"/>
                    </a:lnTo>
                    <a:lnTo>
                      <a:pt x="2441" y="2348"/>
                    </a:lnTo>
                    <a:lnTo>
                      <a:pt x="2451" y="2364"/>
                    </a:lnTo>
                    <a:lnTo>
                      <a:pt x="2457" y="2378"/>
                    </a:lnTo>
                    <a:lnTo>
                      <a:pt x="2465" y="2393"/>
                    </a:lnTo>
                    <a:lnTo>
                      <a:pt x="2472" y="2407"/>
                    </a:lnTo>
                    <a:lnTo>
                      <a:pt x="2480" y="2424"/>
                    </a:lnTo>
                    <a:lnTo>
                      <a:pt x="2486" y="2438"/>
                    </a:lnTo>
                    <a:lnTo>
                      <a:pt x="2494" y="2453"/>
                    </a:lnTo>
                    <a:lnTo>
                      <a:pt x="2500" y="2469"/>
                    </a:lnTo>
                    <a:lnTo>
                      <a:pt x="2507" y="2486"/>
                    </a:lnTo>
                    <a:lnTo>
                      <a:pt x="2513" y="2502"/>
                    </a:lnTo>
                    <a:lnTo>
                      <a:pt x="2519" y="2517"/>
                    </a:lnTo>
                    <a:lnTo>
                      <a:pt x="2525" y="2533"/>
                    </a:lnTo>
                    <a:lnTo>
                      <a:pt x="2533" y="2550"/>
                    </a:lnTo>
                    <a:lnTo>
                      <a:pt x="2536" y="2566"/>
                    </a:lnTo>
                    <a:lnTo>
                      <a:pt x="2540" y="2581"/>
                    </a:lnTo>
                    <a:lnTo>
                      <a:pt x="2544" y="2597"/>
                    </a:lnTo>
                    <a:lnTo>
                      <a:pt x="2550" y="2614"/>
                    </a:lnTo>
                    <a:lnTo>
                      <a:pt x="2554" y="2630"/>
                    </a:lnTo>
                    <a:lnTo>
                      <a:pt x="2558" y="2645"/>
                    </a:lnTo>
                    <a:lnTo>
                      <a:pt x="2562" y="2661"/>
                    </a:lnTo>
                    <a:lnTo>
                      <a:pt x="2567" y="2678"/>
                    </a:lnTo>
                    <a:lnTo>
                      <a:pt x="2569" y="2694"/>
                    </a:lnTo>
                    <a:lnTo>
                      <a:pt x="2573" y="2711"/>
                    </a:lnTo>
                    <a:lnTo>
                      <a:pt x="2575" y="2727"/>
                    </a:lnTo>
                    <a:lnTo>
                      <a:pt x="2579" y="2744"/>
                    </a:lnTo>
                    <a:lnTo>
                      <a:pt x="2579" y="2761"/>
                    </a:lnTo>
                    <a:lnTo>
                      <a:pt x="2583" y="2779"/>
                    </a:lnTo>
                    <a:lnTo>
                      <a:pt x="2583" y="2796"/>
                    </a:lnTo>
                    <a:lnTo>
                      <a:pt x="2587" y="2814"/>
                    </a:lnTo>
                    <a:lnTo>
                      <a:pt x="2587" y="2831"/>
                    </a:lnTo>
                    <a:lnTo>
                      <a:pt x="2587" y="2849"/>
                    </a:lnTo>
                    <a:lnTo>
                      <a:pt x="2587" y="2866"/>
                    </a:lnTo>
                    <a:lnTo>
                      <a:pt x="2589" y="2884"/>
                    </a:lnTo>
                    <a:lnTo>
                      <a:pt x="2589" y="2901"/>
                    </a:lnTo>
                    <a:lnTo>
                      <a:pt x="2589" y="2919"/>
                    </a:lnTo>
                    <a:lnTo>
                      <a:pt x="2589" y="2936"/>
                    </a:lnTo>
                    <a:lnTo>
                      <a:pt x="2589" y="2953"/>
                    </a:lnTo>
                    <a:lnTo>
                      <a:pt x="2587" y="2971"/>
                    </a:lnTo>
                    <a:lnTo>
                      <a:pt x="2585" y="2988"/>
                    </a:lnTo>
                    <a:lnTo>
                      <a:pt x="2583" y="3006"/>
                    </a:lnTo>
                    <a:lnTo>
                      <a:pt x="2583" y="3025"/>
                    </a:lnTo>
                    <a:lnTo>
                      <a:pt x="2579" y="3043"/>
                    </a:lnTo>
                    <a:lnTo>
                      <a:pt x="2577" y="3062"/>
                    </a:lnTo>
                    <a:lnTo>
                      <a:pt x="2575" y="3081"/>
                    </a:lnTo>
                    <a:lnTo>
                      <a:pt x="2573" y="3101"/>
                    </a:lnTo>
                    <a:lnTo>
                      <a:pt x="2567" y="3111"/>
                    </a:lnTo>
                    <a:lnTo>
                      <a:pt x="2564" y="3122"/>
                    </a:lnTo>
                    <a:lnTo>
                      <a:pt x="2560" y="3134"/>
                    </a:lnTo>
                    <a:lnTo>
                      <a:pt x="2558" y="3145"/>
                    </a:lnTo>
                    <a:lnTo>
                      <a:pt x="2552" y="3155"/>
                    </a:lnTo>
                    <a:lnTo>
                      <a:pt x="2548" y="3167"/>
                    </a:lnTo>
                    <a:lnTo>
                      <a:pt x="2544" y="3178"/>
                    </a:lnTo>
                    <a:lnTo>
                      <a:pt x="2542" y="3190"/>
                    </a:lnTo>
                    <a:lnTo>
                      <a:pt x="2536" y="3200"/>
                    </a:lnTo>
                    <a:lnTo>
                      <a:pt x="2533" y="3211"/>
                    </a:lnTo>
                    <a:lnTo>
                      <a:pt x="2529" y="3223"/>
                    </a:lnTo>
                    <a:lnTo>
                      <a:pt x="2525" y="3235"/>
                    </a:lnTo>
                    <a:lnTo>
                      <a:pt x="2519" y="3246"/>
                    </a:lnTo>
                    <a:lnTo>
                      <a:pt x="2517" y="3258"/>
                    </a:lnTo>
                    <a:lnTo>
                      <a:pt x="2511" y="3270"/>
                    </a:lnTo>
                    <a:lnTo>
                      <a:pt x="2509" y="3281"/>
                    </a:lnTo>
                    <a:lnTo>
                      <a:pt x="2503" y="3291"/>
                    </a:lnTo>
                    <a:lnTo>
                      <a:pt x="2498" y="3302"/>
                    </a:lnTo>
                    <a:lnTo>
                      <a:pt x="2494" y="3314"/>
                    </a:lnTo>
                    <a:lnTo>
                      <a:pt x="2490" y="3326"/>
                    </a:lnTo>
                    <a:lnTo>
                      <a:pt x="2484" y="3335"/>
                    </a:lnTo>
                    <a:lnTo>
                      <a:pt x="2478" y="3347"/>
                    </a:lnTo>
                    <a:lnTo>
                      <a:pt x="2474" y="3359"/>
                    </a:lnTo>
                    <a:lnTo>
                      <a:pt x="2471" y="3370"/>
                    </a:lnTo>
                    <a:lnTo>
                      <a:pt x="2465" y="3380"/>
                    </a:lnTo>
                    <a:lnTo>
                      <a:pt x="2459" y="3392"/>
                    </a:lnTo>
                    <a:lnTo>
                      <a:pt x="2453" y="3403"/>
                    </a:lnTo>
                    <a:lnTo>
                      <a:pt x="2449" y="3415"/>
                    </a:lnTo>
                    <a:lnTo>
                      <a:pt x="2443" y="3425"/>
                    </a:lnTo>
                    <a:lnTo>
                      <a:pt x="2438" y="3436"/>
                    </a:lnTo>
                    <a:lnTo>
                      <a:pt x="2432" y="3448"/>
                    </a:lnTo>
                    <a:lnTo>
                      <a:pt x="2428" y="3460"/>
                    </a:lnTo>
                    <a:lnTo>
                      <a:pt x="2414" y="3479"/>
                    </a:lnTo>
                    <a:lnTo>
                      <a:pt x="2401" y="3500"/>
                    </a:lnTo>
                    <a:lnTo>
                      <a:pt x="2393" y="3510"/>
                    </a:lnTo>
                    <a:lnTo>
                      <a:pt x="2387" y="3522"/>
                    </a:lnTo>
                    <a:lnTo>
                      <a:pt x="2379" y="3531"/>
                    </a:lnTo>
                    <a:lnTo>
                      <a:pt x="2374" y="3543"/>
                    </a:lnTo>
                    <a:lnTo>
                      <a:pt x="2358" y="3562"/>
                    </a:lnTo>
                    <a:lnTo>
                      <a:pt x="2344" y="3582"/>
                    </a:lnTo>
                    <a:lnTo>
                      <a:pt x="2329" y="3601"/>
                    </a:lnTo>
                    <a:lnTo>
                      <a:pt x="2315" y="3622"/>
                    </a:lnTo>
                    <a:lnTo>
                      <a:pt x="2298" y="3640"/>
                    </a:lnTo>
                    <a:lnTo>
                      <a:pt x="2281" y="3659"/>
                    </a:lnTo>
                    <a:lnTo>
                      <a:pt x="2263" y="3677"/>
                    </a:lnTo>
                    <a:lnTo>
                      <a:pt x="2246" y="3696"/>
                    </a:lnTo>
                    <a:lnTo>
                      <a:pt x="2224" y="3712"/>
                    </a:lnTo>
                    <a:lnTo>
                      <a:pt x="2205" y="3729"/>
                    </a:lnTo>
                    <a:lnTo>
                      <a:pt x="2184" y="3747"/>
                    </a:lnTo>
                    <a:lnTo>
                      <a:pt x="2164" y="3764"/>
                    </a:lnTo>
                    <a:lnTo>
                      <a:pt x="2164" y="3805"/>
                    </a:lnTo>
                    <a:lnTo>
                      <a:pt x="2178" y="3809"/>
                    </a:lnTo>
                    <a:lnTo>
                      <a:pt x="2193" y="3812"/>
                    </a:lnTo>
                    <a:lnTo>
                      <a:pt x="2207" y="3816"/>
                    </a:lnTo>
                    <a:lnTo>
                      <a:pt x="2222" y="3822"/>
                    </a:lnTo>
                    <a:lnTo>
                      <a:pt x="2236" y="3828"/>
                    </a:lnTo>
                    <a:lnTo>
                      <a:pt x="2251" y="3834"/>
                    </a:lnTo>
                    <a:lnTo>
                      <a:pt x="2265" y="3840"/>
                    </a:lnTo>
                    <a:lnTo>
                      <a:pt x="2281" y="3845"/>
                    </a:lnTo>
                    <a:lnTo>
                      <a:pt x="2294" y="3851"/>
                    </a:lnTo>
                    <a:lnTo>
                      <a:pt x="2308" y="3857"/>
                    </a:lnTo>
                    <a:lnTo>
                      <a:pt x="2321" y="3863"/>
                    </a:lnTo>
                    <a:lnTo>
                      <a:pt x="2337" y="3871"/>
                    </a:lnTo>
                    <a:lnTo>
                      <a:pt x="2350" y="3876"/>
                    </a:lnTo>
                    <a:lnTo>
                      <a:pt x="2364" y="3884"/>
                    </a:lnTo>
                    <a:lnTo>
                      <a:pt x="2377" y="3892"/>
                    </a:lnTo>
                    <a:lnTo>
                      <a:pt x="2393" y="3902"/>
                    </a:lnTo>
                    <a:lnTo>
                      <a:pt x="2405" y="3907"/>
                    </a:lnTo>
                    <a:lnTo>
                      <a:pt x="2418" y="3917"/>
                    </a:lnTo>
                    <a:lnTo>
                      <a:pt x="2430" y="3925"/>
                    </a:lnTo>
                    <a:lnTo>
                      <a:pt x="2443" y="3935"/>
                    </a:lnTo>
                    <a:lnTo>
                      <a:pt x="2455" y="3942"/>
                    </a:lnTo>
                    <a:lnTo>
                      <a:pt x="2469" y="3952"/>
                    </a:lnTo>
                    <a:lnTo>
                      <a:pt x="2480" y="3960"/>
                    </a:lnTo>
                    <a:lnTo>
                      <a:pt x="2494" y="3971"/>
                    </a:lnTo>
                    <a:lnTo>
                      <a:pt x="2505" y="3979"/>
                    </a:lnTo>
                    <a:lnTo>
                      <a:pt x="2517" y="3989"/>
                    </a:lnTo>
                    <a:lnTo>
                      <a:pt x="2529" y="3999"/>
                    </a:lnTo>
                    <a:lnTo>
                      <a:pt x="2540" y="4010"/>
                    </a:lnTo>
                    <a:lnTo>
                      <a:pt x="2552" y="4020"/>
                    </a:lnTo>
                    <a:lnTo>
                      <a:pt x="2564" y="4030"/>
                    </a:lnTo>
                    <a:lnTo>
                      <a:pt x="2575" y="4041"/>
                    </a:lnTo>
                    <a:lnTo>
                      <a:pt x="2589" y="4053"/>
                    </a:lnTo>
                    <a:lnTo>
                      <a:pt x="2598" y="4063"/>
                    </a:lnTo>
                    <a:lnTo>
                      <a:pt x="2608" y="4072"/>
                    </a:lnTo>
                    <a:lnTo>
                      <a:pt x="2618" y="4084"/>
                    </a:lnTo>
                    <a:lnTo>
                      <a:pt x="2629" y="4096"/>
                    </a:lnTo>
                    <a:lnTo>
                      <a:pt x="2639" y="4107"/>
                    </a:lnTo>
                    <a:lnTo>
                      <a:pt x="2651" y="4119"/>
                    </a:lnTo>
                    <a:lnTo>
                      <a:pt x="2661" y="4130"/>
                    </a:lnTo>
                    <a:lnTo>
                      <a:pt x="2672" y="4142"/>
                    </a:lnTo>
                    <a:lnTo>
                      <a:pt x="2680" y="4154"/>
                    </a:lnTo>
                    <a:lnTo>
                      <a:pt x="2692" y="4165"/>
                    </a:lnTo>
                    <a:lnTo>
                      <a:pt x="2699" y="4177"/>
                    </a:lnTo>
                    <a:lnTo>
                      <a:pt x="2711" y="4191"/>
                    </a:lnTo>
                    <a:lnTo>
                      <a:pt x="2719" y="4202"/>
                    </a:lnTo>
                    <a:lnTo>
                      <a:pt x="2730" y="4216"/>
                    </a:lnTo>
                    <a:lnTo>
                      <a:pt x="2738" y="4229"/>
                    </a:lnTo>
                    <a:lnTo>
                      <a:pt x="2750" y="4243"/>
                    </a:lnTo>
                    <a:lnTo>
                      <a:pt x="2757" y="4255"/>
                    </a:lnTo>
                    <a:lnTo>
                      <a:pt x="2765" y="4266"/>
                    </a:lnTo>
                    <a:lnTo>
                      <a:pt x="2773" y="4280"/>
                    </a:lnTo>
                    <a:lnTo>
                      <a:pt x="2783" y="4293"/>
                    </a:lnTo>
                    <a:lnTo>
                      <a:pt x="2790" y="4305"/>
                    </a:lnTo>
                    <a:lnTo>
                      <a:pt x="2800" y="4319"/>
                    </a:lnTo>
                    <a:lnTo>
                      <a:pt x="2808" y="4332"/>
                    </a:lnTo>
                    <a:lnTo>
                      <a:pt x="2818" y="4348"/>
                    </a:lnTo>
                    <a:lnTo>
                      <a:pt x="2825" y="4359"/>
                    </a:lnTo>
                    <a:lnTo>
                      <a:pt x="2833" y="4375"/>
                    </a:lnTo>
                    <a:lnTo>
                      <a:pt x="2841" y="4388"/>
                    </a:lnTo>
                    <a:lnTo>
                      <a:pt x="2851" y="4404"/>
                    </a:lnTo>
                    <a:lnTo>
                      <a:pt x="2856" y="4417"/>
                    </a:lnTo>
                    <a:lnTo>
                      <a:pt x="2866" y="4433"/>
                    </a:lnTo>
                    <a:lnTo>
                      <a:pt x="2872" y="4447"/>
                    </a:lnTo>
                    <a:lnTo>
                      <a:pt x="2882" y="4462"/>
                    </a:lnTo>
                    <a:lnTo>
                      <a:pt x="2899" y="4479"/>
                    </a:lnTo>
                    <a:lnTo>
                      <a:pt x="2916" y="4497"/>
                    </a:lnTo>
                    <a:lnTo>
                      <a:pt x="2932" y="4514"/>
                    </a:lnTo>
                    <a:lnTo>
                      <a:pt x="2947" y="4536"/>
                    </a:lnTo>
                    <a:lnTo>
                      <a:pt x="2961" y="4553"/>
                    </a:lnTo>
                    <a:lnTo>
                      <a:pt x="2975" y="4574"/>
                    </a:lnTo>
                    <a:lnTo>
                      <a:pt x="2986" y="4594"/>
                    </a:lnTo>
                    <a:lnTo>
                      <a:pt x="3000" y="4615"/>
                    </a:lnTo>
                    <a:lnTo>
                      <a:pt x="3009" y="4635"/>
                    </a:lnTo>
                    <a:lnTo>
                      <a:pt x="3021" y="4656"/>
                    </a:lnTo>
                    <a:lnTo>
                      <a:pt x="3025" y="4666"/>
                    </a:lnTo>
                    <a:lnTo>
                      <a:pt x="3031" y="4675"/>
                    </a:lnTo>
                    <a:lnTo>
                      <a:pt x="3037" y="4687"/>
                    </a:lnTo>
                    <a:lnTo>
                      <a:pt x="3042" y="4699"/>
                    </a:lnTo>
                    <a:lnTo>
                      <a:pt x="3052" y="4718"/>
                    </a:lnTo>
                    <a:lnTo>
                      <a:pt x="3062" y="4739"/>
                    </a:lnTo>
                    <a:lnTo>
                      <a:pt x="3066" y="4749"/>
                    </a:lnTo>
                    <a:lnTo>
                      <a:pt x="3072" y="4761"/>
                    </a:lnTo>
                    <a:lnTo>
                      <a:pt x="3077" y="4772"/>
                    </a:lnTo>
                    <a:lnTo>
                      <a:pt x="3083" y="4784"/>
                    </a:lnTo>
                    <a:lnTo>
                      <a:pt x="3091" y="4803"/>
                    </a:lnTo>
                    <a:lnTo>
                      <a:pt x="3101" y="4825"/>
                    </a:lnTo>
                    <a:lnTo>
                      <a:pt x="3104" y="4834"/>
                    </a:lnTo>
                    <a:lnTo>
                      <a:pt x="3110" y="4846"/>
                    </a:lnTo>
                    <a:lnTo>
                      <a:pt x="3116" y="4856"/>
                    </a:lnTo>
                    <a:lnTo>
                      <a:pt x="3122" y="4867"/>
                    </a:lnTo>
                    <a:lnTo>
                      <a:pt x="3132" y="4887"/>
                    </a:lnTo>
                    <a:lnTo>
                      <a:pt x="3143" y="4908"/>
                    </a:lnTo>
                    <a:lnTo>
                      <a:pt x="3149" y="4918"/>
                    </a:lnTo>
                    <a:lnTo>
                      <a:pt x="3155" y="4929"/>
                    </a:lnTo>
                    <a:lnTo>
                      <a:pt x="3161" y="4939"/>
                    </a:lnTo>
                    <a:lnTo>
                      <a:pt x="3168" y="4951"/>
                    </a:lnTo>
                    <a:lnTo>
                      <a:pt x="3180" y="4970"/>
                    </a:lnTo>
                    <a:lnTo>
                      <a:pt x="3194" y="4989"/>
                    </a:lnTo>
                    <a:lnTo>
                      <a:pt x="3207" y="5009"/>
                    </a:lnTo>
                    <a:lnTo>
                      <a:pt x="3223" y="5028"/>
                    </a:lnTo>
                    <a:lnTo>
                      <a:pt x="3238" y="5046"/>
                    </a:lnTo>
                    <a:lnTo>
                      <a:pt x="3256" y="5065"/>
                    </a:lnTo>
                    <a:lnTo>
                      <a:pt x="3275" y="5083"/>
                    </a:lnTo>
                    <a:lnTo>
                      <a:pt x="3296" y="5102"/>
                    </a:lnTo>
                    <a:lnTo>
                      <a:pt x="3298" y="5115"/>
                    </a:lnTo>
                    <a:lnTo>
                      <a:pt x="3300" y="5131"/>
                    </a:lnTo>
                    <a:lnTo>
                      <a:pt x="3300" y="5145"/>
                    </a:lnTo>
                    <a:lnTo>
                      <a:pt x="3302" y="5160"/>
                    </a:lnTo>
                    <a:lnTo>
                      <a:pt x="3300" y="5174"/>
                    </a:lnTo>
                    <a:lnTo>
                      <a:pt x="3300" y="5189"/>
                    </a:lnTo>
                    <a:lnTo>
                      <a:pt x="3298" y="5203"/>
                    </a:lnTo>
                    <a:lnTo>
                      <a:pt x="3296" y="5218"/>
                    </a:lnTo>
                    <a:lnTo>
                      <a:pt x="3291" y="5230"/>
                    </a:lnTo>
                    <a:lnTo>
                      <a:pt x="3287" y="5243"/>
                    </a:lnTo>
                    <a:lnTo>
                      <a:pt x="3281" y="5257"/>
                    </a:lnTo>
                    <a:lnTo>
                      <a:pt x="3277" y="5271"/>
                    </a:lnTo>
                    <a:lnTo>
                      <a:pt x="3269" y="5284"/>
                    </a:lnTo>
                    <a:lnTo>
                      <a:pt x="3263" y="5298"/>
                    </a:lnTo>
                    <a:lnTo>
                      <a:pt x="3258" y="5311"/>
                    </a:lnTo>
                    <a:lnTo>
                      <a:pt x="3252" y="5325"/>
                    </a:lnTo>
                    <a:lnTo>
                      <a:pt x="3242" y="5337"/>
                    </a:lnTo>
                    <a:lnTo>
                      <a:pt x="3234" y="5350"/>
                    </a:lnTo>
                    <a:lnTo>
                      <a:pt x="3225" y="5362"/>
                    </a:lnTo>
                    <a:lnTo>
                      <a:pt x="3217" y="5375"/>
                    </a:lnTo>
                    <a:lnTo>
                      <a:pt x="3207" y="5387"/>
                    </a:lnTo>
                    <a:lnTo>
                      <a:pt x="3198" y="5399"/>
                    </a:lnTo>
                    <a:lnTo>
                      <a:pt x="3188" y="5410"/>
                    </a:lnTo>
                    <a:lnTo>
                      <a:pt x="3180" y="5424"/>
                    </a:lnTo>
                    <a:lnTo>
                      <a:pt x="3168" y="5435"/>
                    </a:lnTo>
                    <a:lnTo>
                      <a:pt x="3159" y="5447"/>
                    </a:lnTo>
                    <a:lnTo>
                      <a:pt x="3149" y="5459"/>
                    </a:lnTo>
                    <a:lnTo>
                      <a:pt x="3141" y="5472"/>
                    </a:lnTo>
                    <a:lnTo>
                      <a:pt x="3130" y="5484"/>
                    </a:lnTo>
                    <a:lnTo>
                      <a:pt x="3122" y="5496"/>
                    </a:lnTo>
                    <a:lnTo>
                      <a:pt x="3112" y="5507"/>
                    </a:lnTo>
                    <a:lnTo>
                      <a:pt x="3104" y="5521"/>
                    </a:lnTo>
                    <a:lnTo>
                      <a:pt x="3087" y="5527"/>
                    </a:lnTo>
                    <a:lnTo>
                      <a:pt x="3073" y="5532"/>
                    </a:lnTo>
                    <a:lnTo>
                      <a:pt x="3060" y="5534"/>
                    </a:lnTo>
                    <a:lnTo>
                      <a:pt x="3048" y="5536"/>
                    </a:lnTo>
                    <a:lnTo>
                      <a:pt x="3035" y="5534"/>
                    </a:lnTo>
                    <a:lnTo>
                      <a:pt x="3021" y="5534"/>
                    </a:lnTo>
                    <a:lnTo>
                      <a:pt x="3006" y="5532"/>
                    </a:lnTo>
                    <a:lnTo>
                      <a:pt x="2988" y="5534"/>
                    </a:lnTo>
                    <a:lnTo>
                      <a:pt x="2977" y="5529"/>
                    </a:lnTo>
                    <a:lnTo>
                      <a:pt x="2965" y="5525"/>
                    </a:lnTo>
                    <a:lnTo>
                      <a:pt x="2953" y="5519"/>
                    </a:lnTo>
                    <a:lnTo>
                      <a:pt x="2944" y="5513"/>
                    </a:lnTo>
                    <a:lnTo>
                      <a:pt x="2922" y="5497"/>
                    </a:lnTo>
                    <a:lnTo>
                      <a:pt x="2905" y="5482"/>
                    </a:lnTo>
                    <a:lnTo>
                      <a:pt x="2887" y="5461"/>
                    </a:lnTo>
                    <a:lnTo>
                      <a:pt x="2872" y="5443"/>
                    </a:lnTo>
                    <a:lnTo>
                      <a:pt x="2856" y="5422"/>
                    </a:lnTo>
                    <a:lnTo>
                      <a:pt x="2845" y="5404"/>
                    </a:lnTo>
                    <a:lnTo>
                      <a:pt x="2833" y="5420"/>
                    </a:lnTo>
                    <a:lnTo>
                      <a:pt x="2821" y="5432"/>
                    </a:lnTo>
                    <a:lnTo>
                      <a:pt x="2810" y="5437"/>
                    </a:lnTo>
                    <a:lnTo>
                      <a:pt x="2800" y="5443"/>
                    </a:lnTo>
                    <a:lnTo>
                      <a:pt x="2787" y="5441"/>
                    </a:lnTo>
                    <a:lnTo>
                      <a:pt x="2775" y="5439"/>
                    </a:lnTo>
                    <a:lnTo>
                      <a:pt x="2761" y="5435"/>
                    </a:lnTo>
                    <a:lnTo>
                      <a:pt x="2750" y="5432"/>
                    </a:lnTo>
                    <a:lnTo>
                      <a:pt x="2736" y="5424"/>
                    </a:lnTo>
                    <a:lnTo>
                      <a:pt x="2723" y="5418"/>
                    </a:lnTo>
                    <a:lnTo>
                      <a:pt x="2709" y="5414"/>
                    </a:lnTo>
                    <a:lnTo>
                      <a:pt x="2697" y="5412"/>
                    </a:lnTo>
                    <a:lnTo>
                      <a:pt x="2682" y="5410"/>
                    </a:lnTo>
                    <a:lnTo>
                      <a:pt x="2670" y="5414"/>
                    </a:lnTo>
                    <a:lnTo>
                      <a:pt x="2655" y="5420"/>
                    </a:lnTo>
                    <a:lnTo>
                      <a:pt x="2643" y="5432"/>
                    </a:lnTo>
                    <a:lnTo>
                      <a:pt x="2651" y="5445"/>
                    </a:lnTo>
                    <a:lnTo>
                      <a:pt x="2661" y="5461"/>
                    </a:lnTo>
                    <a:lnTo>
                      <a:pt x="2672" y="5476"/>
                    </a:lnTo>
                    <a:lnTo>
                      <a:pt x="2684" y="5492"/>
                    </a:lnTo>
                    <a:lnTo>
                      <a:pt x="2695" y="5505"/>
                    </a:lnTo>
                    <a:lnTo>
                      <a:pt x="2707" y="5521"/>
                    </a:lnTo>
                    <a:lnTo>
                      <a:pt x="2721" y="5536"/>
                    </a:lnTo>
                    <a:lnTo>
                      <a:pt x="2734" y="5552"/>
                    </a:lnTo>
                    <a:lnTo>
                      <a:pt x="2746" y="5563"/>
                    </a:lnTo>
                    <a:lnTo>
                      <a:pt x="2759" y="5579"/>
                    </a:lnTo>
                    <a:lnTo>
                      <a:pt x="2773" y="5592"/>
                    </a:lnTo>
                    <a:lnTo>
                      <a:pt x="2788" y="5608"/>
                    </a:lnTo>
                    <a:lnTo>
                      <a:pt x="2800" y="5622"/>
                    </a:lnTo>
                    <a:lnTo>
                      <a:pt x="2816" y="5637"/>
                    </a:lnTo>
                    <a:lnTo>
                      <a:pt x="2829" y="5651"/>
                    </a:lnTo>
                    <a:lnTo>
                      <a:pt x="2845" y="5666"/>
                    </a:lnTo>
                    <a:lnTo>
                      <a:pt x="2856" y="5680"/>
                    </a:lnTo>
                    <a:lnTo>
                      <a:pt x="2868" y="5695"/>
                    </a:lnTo>
                    <a:lnTo>
                      <a:pt x="2880" y="5709"/>
                    </a:lnTo>
                    <a:lnTo>
                      <a:pt x="2893" y="5724"/>
                    </a:lnTo>
                    <a:lnTo>
                      <a:pt x="2905" y="5740"/>
                    </a:lnTo>
                    <a:lnTo>
                      <a:pt x="2916" y="5755"/>
                    </a:lnTo>
                    <a:lnTo>
                      <a:pt x="2926" y="5773"/>
                    </a:lnTo>
                    <a:lnTo>
                      <a:pt x="2938" y="5790"/>
                    </a:lnTo>
                    <a:lnTo>
                      <a:pt x="2946" y="5806"/>
                    </a:lnTo>
                    <a:lnTo>
                      <a:pt x="2953" y="5823"/>
                    </a:lnTo>
                    <a:lnTo>
                      <a:pt x="2961" y="5841"/>
                    </a:lnTo>
                    <a:lnTo>
                      <a:pt x="2969" y="5860"/>
                    </a:lnTo>
                    <a:lnTo>
                      <a:pt x="2973" y="5878"/>
                    </a:lnTo>
                    <a:lnTo>
                      <a:pt x="2978" y="5899"/>
                    </a:lnTo>
                    <a:lnTo>
                      <a:pt x="2978" y="5909"/>
                    </a:lnTo>
                    <a:lnTo>
                      <a:pt x="2982" y="5918"/>
                    </a:lnTo>
                    <a:lnTo>
                      <a:pt x="2982" y="5930"/>
                    </a:lnTo>
                    <a:lnTo>
                      <a:pt x="2986" y="5942"/>
                    </a:lnTo>
                    <a:lnTo>
                      <a:pt x="2986" y="5953"/>
                    </a:lnTo>
                    <a:lnTo>
                      <a:pt x="2990" y="5969"/>
                    </a:lnTo>
                    <a:lnTo>
                      <a:pt x="2994" y="5982"/>
                    </a:lnTo>
                    <a:lnTo>
                      <a:pt x="3000" y="5998"/>
                    </a:lnTo>
                    <a:lnTo>
                      <a:pt x="3004" y="6011"/>
                    </a:lnTo>
                    <a:lnTo>
                      <a:pt x="3009" y="6027"/>
                    </a:lnTo>
                    <a:lnTo>
                      <a:pt x="3015" y="6040"/>
                    </a:lnTo>
                    <a:lnTo>
                      <a:pt x="3023" y="6058"/>
                    </a:lnTo>
                    <a:lnTo>
                      <a:pt x="3029" y="6071"/>
                    </a:lnTo>
                    <a:lnTo>
                      <a:pt x="3035" y="6087"/>
                    </a:lnTo>
                    <a:lnTo>
                      <a:pt x="3041" y="6102"/>
                    </a:lnTo>
                    <a:lnTo>
                      <a:pt x="3048" y="6118"/>
                    </a:lnTo>
                    <a:lnTo>
                      <a:pt x="3054" y="6133"/>
                    </a:lnTo>
                    <a:lnTo>
                      <a:pt x="3062" y="6149"/>
                    </a:lnTo>
                    <a:lnTo>
                      <a:pt x="3070" y="6165"/>
                    </a:lnTo>
                    <a:lnTo>
                      <a:pt x="3077" y="6182"/>
                    </a:lnTo>
                    <a:lnTo>
                      <a:pt x="3083" y="6196"/>
                    </a:lnTo>
                    <a:lnTo>
                      <a:pt x="3091" y="6211"/>
                    </a:lnTo>
                    <a:lnTo>
                      <a:pt x="3097" y="6227"/>
                    </a:lnTo>
                    <a:lnTo>
                      <a:pt x="3104" y="6244"/>
                    </a:lnTo>
                    <a:lnTo>
                      <a:pt x="3108" y="6258"/>
                    </a:lnTo>
                    <a:lnTo>
                      <a:pt x="3114" y="6273"/>
                    </a:lnTo>
                    <a:lnTo>
                      <a:pt x="3120" y="6289"/>
                    </a:lnTo>
                    <a:lnTo>
                      <a:pt x="3126" y="6306"/>
                    </a:lnTo>
                    <a:lnTo>
                      <a:pt x="3130" y="6320"/>
                    </a:lnTo>
                    <a:lnTo>
                      <a:pt x="3134" y="6335"/>
                    </a:lnTo>
                    <a:lnTo>
                      <a:pt x="3137" y="6351"/>
                    </a:lnTo>
                    <a:lnTo>
                      <a:pt x="3141" y="6368"/>
                    </a:lnTo>
                    <a:lnTo>
                      <a:pt x="3141" y="6382"/>
                    </a:lnTo>
                    <a:lnTo>
                      <a:pt x="3143" y="6397"/>
                    </a:lnTo>
                    <a:lnTo>
                      <a:pt x="3143" y="6413"/>
                    </a:lnTo>
                    <a:lnTo>
                      <a:pt x="3145" y="6430"/>
                    </a:lnTo>
                    <a:lnTo>
                      <a:pt x="3143" y="6440"/>
                    </a:lnTo>
                    <a:lnTo>
                      <a:pt x="3141" y="6451"/>
                    </a:lnTo>
                    <a:lnTo>
                      <a:pt x="3139" y="6463"/>
                    </a:lnTo>
                    <a:lnTo>
                      <a:pt x="3137" y="6475"/>
                    </a:lnTo>
                    <a:lnTo>
                      <a:pt x="3134" y="6484"/>
                    </a:lnTo>
                    <a:lnTo>
                      <a:pt x="3130" y="6496"/>
                    </a:lnTo>
                    <a:lnTo>
                      <a:pt x="3124" y="6508"/>
                    </a:lnTo>
                    <a:lnTo>
                      <a:pt x="3120" y="6519"/>
                    </a:lnTo>
                    <a:lnTo>
                      <a:pt x="3112" y="6529"/>
                    </a:lnTo>
                    <a:lnTo>
                      <a:pt x="3106" y="6541"/>
                    </a:lnTo>
                    <a:lnTo>
                      <a:pt x="3099" y="6550"/>
                    </a:lnTo>
                    <a:lnTo>
                      <a:pt x="3093" y="6562"/>
                    </a:lnTo>
                    <a:lnTo>
                      <a:pt x="3083" y="6572"/>
                    </a:lnTo>
                    <a:lnTo>
                      <a:pt x="3073" y="6583"/>
                    </a:lnTo>
                    <a:lnTo>
                      <a:pt x="3064" y="6595"/>
                    </a:lnTo>
                    <a:lnTo>
                      <a:pt x="3054" y="6607"/>
                    </a:lnTo>
                    <a:lnTo>
                      <a:pt x="3042" y="6612"/>
                    </a:lnTo>
                    <a:lnTo>
                      <a:pt x="3031" y="6620"/>
                    </a:lnTo>
                    <a:lnTo>
                      <a:pt x="3019" y="6628"/>
                    </a:lnTo>
                    <a:lnTo>
                      <a:pt x="3008" y="6636"/>
                    </a:lnTo>
                    <a:lnTo>
                      <a:pt x="2996" y="6643"/>
                    </a:lnTo>
                    <a:lnTo>
                      <a:pt x="2984" y="6651"/>
                    </a:lnTo>
                    <a:lnTo>
                      <a:pt x="2973" y="6659"/>
                    </a:lnTo>
                    <a:lnTo>
                      <a:pt x="2963" y="6669"/>
                    </a:lnTo>
                    <a:lnTo>
                      <a:pt x="2951" y="6674"/>
                    </a:lnTo>
                    <a:lnTo>
                      <a:pt x="2940" y="6684"/>
                    </a:lnTo>
                    <a:lnTo>
                      <a:pt x="2928" y="6690"/>
                    </a:lnTo>
                    <a:lnTo>
                      <a:pt x="2918" y="6700"/>
                    </a:lnTo>
                    <a:lnTo>
                      <a:pt x="2907" y="6707"/>
                    </a:lnTo>
                    <a:lnTo>
                      <a:pt x="2895" y="6717"/>
                    </a:lnTo>
                    <a:lnTo>
                      <a:pt x="2883" y="6725"/>
                    </a:lnTo>
                    <a:lnTo>
                      <a:pt x="2874" y="6735"/>
                    </a:lnTo>
                    <a:lnTo>
                      <a:pt x="2862" y="6740"/>
                    </a:lnTo>
                    <a:lnTo>
                      <a:pt x="2851" y="6750"/>
                    </a:lnTo>
                    <a:lnTo>
                      <a:pt x="2839" y="6756"/>
                    </a:lnTo>
                    <a:lnTo>
                      <a:pt x="2827" y="6766"/>
                    </a:lnTo>
                    <a:lnTo>
                      <a:pt x="2816" y="6771"/>
                    </a:lnTo>
                    <a:lnTo>
                      <a:pt x="2804" y="6781"/>
                    </a:lnTo>
                    <a:lnTo>
                      <a:pt x="2792" y="6787"/>
                    </a:lnTo>
                    <a:lnTo>
                      <a:pt x="2781" y="6797"/>
                    </a:lnTo>
                    <a:lnTo>
                      <a:pt x="2769" y="6802"/>
                    </a:lnTo>
                    <a:lnTo>
                      <a:pt x="2757" y="6812"/>
                    </a:lnTo>
                    <a:lnTo>
                      <a:pt x="2746" y="6818"/>
                    </a:lnTo>
                    <a:lnTo>
                      <a:pt x="2734" y="6828"/>
                    </a:lnTo>
                    <a:lnTo>
                      <a:pt x="2723" y="6833"/>
                    </a:lnTo>
                    <a:lnTo>
                      <a:pt x="2711" y="6843"/>
                    </a:lnTo>
                    <a:lnTo>
                      <a:pt x="2699" y="6849"/>
                    </a:lnTo>
                    <a:lnTo>
                      <a:pt x="2690" y="6859"/>
                    </a:lnTo>
                    <a:lnTo>
                      <a:pt x="2676" y="6865"/>
                    </a:lnTo>
                    <a:lnTo>
                      <a:pt x="2664" y="6870"/>
                    </a:lnTo>
                    <a:lnTo>
                      <a:pt x="2653" y="6876"/>
                    </a:lnTo>
                    <a:lnTo>
                      <a:pt x="2641" y="6884"/>
                    </a:lnTo>
                    <a:lnTo>
                      <a:pt x="2628" y="6890"/>
                    </a:lnTo>
                    <a:lnTo>
                      <a:pt x="2616" y="6896"/>
                    </a:lnTo>
                    <a:lnTo>
                      <a:pt x="2604" y="6901"/>
                    </a:lnTo>
                    <a:lnTo>
                      <a:pt x="2593" y="6909"/>
                    </a:lnTo>
                    <a:lnTo>
                      <a:pt x="2579" y="6915"/>
                    </a:lnTo>
                    <a:lnTo>
                      <a:pt x="2567" y="6921"/>
                    </a:lnTo>
                    <a:lnTo>
                      <a:pt x="2554" y="6927"/>
                    </a:lnTo>
                    <a:lnTo>
                      <a:pt x="2542" y="6932"/>
                    </a:lnTo>
                    <a:lnTo>
                      <a:pt x="2529" y="6936"/>
                    </a:lnTo>
                    <a:lnTo>
                      <a:pt x="2517" y="6942"/>
                    </a:lnTo>
                    <a:lnTo>
                      <a:pt x="2505" y="6948"/>
                    </a:lnTo>
                    <a:lnTo>
                      <a:pt x="2494" y="6954"/>
                    </a:lnTo>
                    <a:lnTo>
                      <a:pt x="2480" y="6956"/>
                    </a:lnTo>
                    <a:lnTo>
                      <a:pt x="2467" y="6961"/>
                    </a:lnTo>
                    <a:lnTo>
                      <a:pt x="2453" y="6963"/>
                    </a:lnTo>
                    <a:lnTo>
                      <a:pt x="2441" y="6969"/>
                    </a:lnTo>
                    <a:lnTo>
                      <a:pt x="2428" y="6971"/>
                    </a:lnTo>
                    <a:lnTo>
                      <a:pt x="2416" y="6975"/>
                    </a:lnTo>
                    <a:lnTo>
                      <a:pt x="2403" y="6977"/>
                    </a:lnTo>
                    <a:lnTo>
                      <a:pt x="2391" y="6981"/>
                    </a:lnTo>
                    <a:lnTo>
                      <a:pt x="2377" y="6983"/>
                    </a:lnTo>
                    <a:lnTo>
                      <a:pt x="2364" y="6985"/>
                    </a:lnTo>
                    <a:lnTo>
                      <a:pt x="2350" y="6987"/>
                    </a:lnTo>
                    <a:lnTo>
                      <a:pt x="2339" y="6991"/>
                    </a:lnTo>
                    <a:lnTo>
                      <a:pt x="2325" y="6991"/>
                    </a:lnTo>
                    <a:lnTo>
                      <a:pt x="2312" y="6992"/>
                    </a:lnTo>
                    <a:lnTo>
                      <a:pt x="2298" y="6994"/>
                    </a:lnTo>
                    <a:lnTo>
                      <a:pt x="2286" y="6996"/>
                    </a:lnTo>
                    <a:lnTo>
                      <a:pt x="2269" y="6994"/>
                    </a:lnTo>
                    <a:lnTo>
                      <a:pt x="2253" y="6994"/>
                    </a:lnTo>
                    <a:lnTo>
                      <a:pt x="2236" y="6994"/>
                    </a:lnTo>
                    <a:lnTo>
                      <a:pt x="2220" y="6994"/>
                    </a:lnTo>
                    <a:lnTo>
                      <a:pt x="2203" y="6992"/>
                    </a:lnTo>
                    <a:lnTo>
                      <a:pt x="2187" y="6991"/>
                    </a:lnTo>
                    <a:lnTo>
                      <a:pt x="2172" y="6989"/>
                    </a:lnTo>
                    <a:lnTo>
                      <a:pt x="2156" y="6987"/>
                    </a:lnTo>
                    <a:lnTo>
                      <a:pt x="2139" y="6983"/>
                    </a:lnTo>
                    <a:lnTo>
                      <a:pt x="2123" y="6979"/>
                    </a:lnTo>
                    <a:lnTo>
                      <a:pt x="2106" y="6973"/>
                    </a:lnTo>
                    <a:lnTo>
                      <a:pt x="2091" y="6969"/>
                    </a:lnTo>
                    <a:lnTo>
                      <a:pt x="2073" y="6963"/>
                    </a:lnTo>
                    <a:lnTo>
                      <a:pt x="2056" y="6958"/>
                    </a:lnTo>
                    <a:lnTo>
                      <a:pt x="2038" y="6952"/>
                    </a:lnTo>
                    <a:lnTo>
                      <a:pt x="2023" y="6948"/>
                    </a:lnTo>
                    <a:lnTo>
                      <a:pt x="2005" y="6940"/>
                    </a:lnTo>
                    <a:lnTo>
                      <a:pt x="1992" y="6932"/>
                    </a:lnTo>
                    <a:lnTo>
                      <a:pt x="1978" y="6923"/>
                    </a:lnTo>
                    <a:lnTo>
                      <a:pt x="1970" y="6915"/>
                    </a:lnTo>
                    <a:lnTo>
                      <a:pt x="1959" y="6905"/>
                    </a:lnTo>
                    <a:lnTo>
                      <a:pt x="1953" y="6896"/>
                    </a:lnTo>
                    <a:lnTo>
                      <a:pt x="1947" y="6884"/>
                    </a:lnTo>
                    <a:lnTo>
                      <a:pt x="1943" y="6874"/>
                    </a:lnTo>
                    <a:lnTo>
                      <a:pt x="1937" y="6861"/>
                    </a:lnTo>
                    <a:lnTo>
                      <a:pt x="1935" y="6849"/>
                    </a:lnTo>
                    <a:lnTo>
                      <a:pt x="1932" y="6837"/>
                    </a:lnTo>
                    <a:lnTo>
                      <a:pt x="1932" y="6826"/>
                    </a:lnTo>
                    <a:lnTo>
                      <a:pt x="1932" y="6812"/>
                    </a:lnTo>
                    <a:lnTo>
                      <a:pt x="1932" y="6799"/>
                    </a:lnTo>
                    <a:lnTo>
                      <a:pt x="1932" y="6785"/>
                    </a:lnTo>
                    <a:lnTo>
                      <a:pt x="1933" y="6773"/>
                    </a:lnTo>
                    <a:lnTo>
                      <a:pt x="1933" y="6758"/>
                    </a:lnTo>
                    <a:lnTo>
                      <a:pt x="1933" y="6744"/>
                    </a:lnTo>
                    <a:lnTo>
                      <a:pt x="1933" y="6731"/>
                    </a:lnTo>
                    <a:lnTo>
                      <a:pt x="1935" y="6717"/>
                    </a:lnTo>
                    <a:lnTo>
                      <a:pt x="1933" y="6704"/>
                    </a:lnTo>
                    <a:lnTo>
                      <a:pt x="1933" y="6690"/>
                    </a:lnTo>
                    <a:lnTo>
                      <a:pt x="1933" y="6676"/>
                    </a:lnTo>
                    <a:lnTo>
                      <a:pt x="1933" y="6665"/>
                    </a:lnTo>
                    <a:lnTo>
                      <a:pt x="1930" y="6651"/>
                    </a:lnTo>
                    <a:lnTo>
                      <a:pt x="1926" y="6638"/>
                    </a:lnTo>
                    <a:lnTo>
                      <a:pt x="1920" y="6626"/>
                    </a:lnTo>
                    <a:lnTo>
                      <a:pt x="1916" y="6614"/>
                    </a:lnTo>
                    <a:lnTo>
                      <a:pt x="1908" y="6601"/>
                    </a:lnTo>
                    <a:lnTo>
                      <a:pt x="1901" y="6589"/>
                    </a:lnTo>
                    <a:lnTo>
                      <a:pt x="1891" y="6579"/>
                    </a:lnTo>
                    <a:lnTo>
                      <a:pt x="1881" y="6570"/>
                    </a:lnTo>
                    <a:lnTo>
                      <a:pt x="1881" y="6556"/>
                    </a:lnTo>
                    <a:lnTo>
                      <a:pt x="1883" y="6545"/>
                    </a:lnTo>
                    <a:lnTo>
                      <a:pt x="1885" y="6531"/>
                    </a:lnTo>
                    <a:lnTo>
                      <a:pt x="1887" y="6519"/>
                    </a:lnTo>
                    <a:lnTo>
                      <a:pt x="1889" y="6506"/>
                    </a:lnTo>
                    <a:lnTo>
                      <a:pt x="1893" y="6494"/>
                    </a:lnTo>
                    <a:lnTo>
                      <a:pt x="1895" y="6483"/>
                    </a:lnTo>
                    <a:lnTo>
                      <a:pt x="1899" y="6471"/>
                    </a:lnTo>
                    <a:lnTo>
                      <a:pt x="1901" y="6457"/>
                    </a:lnTo>
                    <a:lnTo>
                      <a:pt x="1904" y="6446"/>
                    </a:lnTo>
                    <a:lnTo>
                      <a:pt x="1908" y="6432"/>
                    </a:lnTo>
                    <a:lnTo>
                      <a:pt x="1914" y="6420"/>
                    </a:lnTo>
                    <a:lnTo>
                      <a:pt x="1918" y="6409"/>
                    </a:lnTo>
                    <a:lnTo>
                      <a:pt x="1924" y="6397"/>
                    </a:lnTo>
                    <a:lnTo>
                      <a:pt x="1930" y="6386"/>
                    </a:lnTo>
                    <a:lnTo>
                      <a:pt x="1935" y="6376"/>
                    </a:lnTo>
                    <a:lnTo>
                      <a:pt x="1939" y="6364"/>
                    </a:lnTo>
                    <a:lnTo>
                      <a:pt x="1945" y="6353"/>
                    </a:lnTo>
                    <a:lnTo>
                      <a:pt x="1951" y="6341"/>
                    </a:lnTo>
                    <a:lnTo>
                      <a:pt x="1959" y="6331"/>
                    </a:lnTo>
                    <a:lnTo>
                      <a:pt x="1974" y="6312"/>
                    </a:lnTo>
                    <a:lnTo>
                      <a:pt x="1992" y="6296"/>
                    </a:lnTo>
                    <a:lnTo>
                      <a:pt x="1999" y="6287"/>
                    </a:lnTo>
                    <a:lnTo>
                      <a:pt x="2009" y="6279"/>
                    </a:lnTo>
                    <a:lnTo>
                      <a:pt x="2021" y="6273"/>
                    </a:lnTo>
                    <a:lnTo>
                      <a:pt x="2032" y="6267"/>
                    </a:lnTo>
                    <a:lnTo>
                      <a:pt x="2044" y="6261"/>
                    </a:lnTo>
                    <a:lnTo>
                      <a:pt x="2056" y="6258"/>
                    </a:lnTo>
                    <a:lnTo>
                      <a:pt x="2069" y="6254"/>
                    </a:lnTo>
                    <a:lnTo>
                      <a:pt x="2085" y="6252"/>
                    </a:lnTo>
                    <a:lnTo>
                      <a:pt x="2098" y="6244"/>
                    </a:lnTo>
                    <a:lnTo>
                      <a:pt x="2116" y="6238"/>
                    </a:lnTo>
                    <a:lnTo>
                      <a:pt x="2133" y="6236"/>
                    </a:lnTo>
                    <a:lnTo>
                      <a:pt x="2151" y="6236"/>
                    </a:lnTo>
                    <a:lnTo>
                      <a:pt x="2166" y="6236"/>
                    </a:lnTo>
                    <a:lnTo>
                      <a:pt x="2184" y="6236"/>
                    </a:lnTo>
                    <a:lnTo>
                      <a:pt x="2201" y="6238"/>
                    </a:lnTo>
                    <a:lnTo>
                      <a:pt x="2218" y="6240"/>
                    </a:lnTo>
                    <a:lnTo>
                      <a:pt x="2232" y="6238"/>
                    </a:lnTo>
                    <a:lnTo>
                      <a:pt x="2248" y="6238"/>
                    </a:lnTo>
                    <a:lnTo>
                      <a:pt x="2259" y="6234"/>
                    </a:lnTo>
                    <a:lnTo>
                      <a:pt x="2273" y="6230"/>
                    </a:lnTo>
                    <a:lnTo>
                      <a:pt x="2282" y="6223"/>
                    </a:lnTo>
                    <a:lnTo>
                      <a:pt x="2290" y="6211"/>
                    </a:lnTo>
                    <a:lnTo>
                      <a:pt x="2296" y="6197"/>
                    </a:lnTo>
                    <a:lnTo>
                      <a:pt x="2302" y="6180"/>
                    </a:lnTo>
                    <a:lnTo>
                      <a:pt x="2284" y="6161"/>
                    </a:lnTo>
                    <a:lnTo>
                      <a:pt x="2269" y="6143"/>
                    </a:lnTo>
                    <a:lnTo>
                      <a:pt x="2249" y="6126"/>
                    </a:lnTo>
                    <a:lnTo>
                      <a:pt x="2232" y="6108"/>
                    </a:lnTo>
                    <a:lnTo>
                      <a:pt x="2213" y="6089"/>
                    </a:lnTo>
                    <a:lnTo>
                      <a:pt x="2195" y="6070"/>
                    </a:lnTo>
                    <a:lnTo>
                      <a:pt x="2178" y="6050"/>
                    </a:lnTo>
                    <a:lnTo>
                      <a:pt x="2164" y="6031"/>
                    </a:lnTo>
                    <a:lnTo>
                      <a:pt x="2154" y="6019"/>
                    </a:lnTo>
                    <a:lnTo>
                      <a:pt x="2147" y="6009"/>
                    </a:lnTo>
                    <a:lnTo>
                      <a:pt x="2141" y="5998"/>
                    </a:lnTo>
                    <a:lnTo>
                      <a:pt x="2135" y="5988"/>
                    </a:lnTo>
                    <a:lnTo>
                      <a:pt x="2129" y="5976"/>
                    </a:lnTo>
                    <a:lnTo>
                      <a:pt x="2125" y="5967"/>
                    </a:lnTo>
                    <a:lnTo>
                      <a:pt x="2122" y="5955"/>
                    </a:lnTo>
                    <a:lnTo>
                      <a:pt x="2120" y="5945"/>
                    </a:lnTo>
                    <a:lnTo>
                      <a:pt x="2116" y="5932"/>
                    </a:lnTo>
                    <a:lnTo>
                      <a:pt x="2116" y="5920"/>
                    </a:lnTo>
                    <a:lnTo>
                      <a:pt x="2116" y="5909"/>
                    </a:lnTo>
                    <a:lnTo>
                      <a:pt x="2118" y="5897"/>
                    </a:lnTo>
                    <a:lnTo>
                      <a:pt x="2118" y="5883"/>
                    </a:lnTo>
                    <a:lnTo>
                      <a:pt x="2122" y="5872"/>
                    </a:lnTo>
                    <a:lnTo>
                      <a:pt x="2125" y="5860"/>
                    </a:lnTo>
                    <a:lnTo>
                      <a:pt x="2133" y="5848"/>
                    </a:lnTo>
                    <a:lnTo>
                      <a:pt x="2120" y="5843"/>
                    </a:lnTo>
                    <a:lnTo>
                      <a:pt x="2108" y="5839"/>
                    </a:lnTo>
                    <a:lnTo>
                      <a:pt x="2096" y="5833"/>
                    </a:lnTo>
                    <a:lnTo>
                      <a:pt x="2087" y="5827"/>
                    </a:lnTo>
                    <a:lnTo>
                      <a:pt x="2065" y="5814"/>
                    </a:lnTo>
                    <a:lnTo>
                      <a:pt x="2048" y="5798"/>
                    </a:lnTo>
                    <a:lnTo>
                      <a:pt x="2028" y="5779"/>
                    </a:lnTo>
                    <a:lnTo>
                      <a:pt x="2011" y="5759"/>
                    </a:lnTo>
                    <a:lnTo>
                      <a:pt x="1996" y="5738"/>
                    </a:lnTo>
                    <a:lnTo>
                      <a:pt x="1982" y="5719"/>
                    </a:lnTo>
                    <a:lnTo>
                      <a:pt x="1974" y="5707"/>
                    </a:lnTo>
                    <a:lnTo>
                      <a:pt x="1966" y="5695"/>
                    </a:lnTo>
                    <a:lnTo>
                      <a:pt x="1959" y="5684"/>
                    </a:lnTo>
                    <a:lnTo>
                      <a:pt x="1953" y="5672"/>
                    </a:lnTo>
                    <a:lnTo>
                      <a:pt x="1945" y="5660"/>
                    </a:lnTo>
                    <a:lnTo>
                      <a:pt x="1937" y="5649"/>
                    </a:lnTo>
                    <a:lnTo>
                      <a:pt x="1932" y="5637"/>
                    </a:lnTo>
                    <a:lnTo>
                      <a:pt x="1926" y="5625"/>
                    </a:lnTo>
                    <a:lnTo>
                      <a:pt x="1918" y="5612"/>
                    </a:lnTo>
                    <a:lnTo>
                      <a:pt x="1912" y="5600"/>
                    </a:lnTo>
                    <a:lnTo>
                      <a:pt x="1906" y="5589"/>
                    </a:lnTo>
                    <a:lnTo>
                      <a:pt x="1901" y="5577"/>
                    </a:lnTo>
                    <a:lnTo>
                      <a:pt x="1895" y="5565"/>
                    </a:lnTo>
                    <a:lnTo>
                      <a:pt x="1889" y="5554"/>
                    </a:lnTo>
                    <a:lnTo>
                      <a:pt x="1883" y="5542"/>
                    </a:lnTo>
                    <a:lnTo>
                      <a:pt x="1877" y="5532"/>
                    </a:lnTo>
                    <a:lnTo>
                      <a:pt x="1869" y="5521"/>
                    </a:lnTo>
                    <a:lnTo>
                      <a:pt x="1864" y="5509"/>
                    </a:lnTo>
                    <a:lnTo>
                      <a:pt x="1856" y="5499"/>
                    </a:lnTo>
                    <a:lnTo>
                      <a:pt x="1850" y="5490"/>
                    </a:lnTo>
                    <a:lnTo>
                      <a:pt x="1837" y="5472"/>
                    </a:lnTo>
                    <a:lnTo>
                      <a:pt x="1823" y="5457"/>
                    </a:lnTo>
                    <a:lnTo>
                      <a:pt x="1807" y="5441"/>
                    </a:lnTo>
                    <a:lnTo>
                      <a:pt x="1792" y="5432"/>
                    </a:lnTo>
                    <a:lnTo>
                      <a:pt x="1776" y="5422"/>
                    </a:lnTo>
                    <a:lnTo>
                      <a:pt x="1761" y="5418"/>
                    </a:lnTo>
                    <a:lnTo>
                      <a:pt x="1742" y="5414"/>
                    </a:lnTo>
                    <a:lnTo>
                      <a:pt x="1724" y="5414"/>
                    </a:lnTo>
                    <a:lnTo>
                      <a:pt x="1703" y="5418"/>
                    </a:lnTo>
                    <a:lnTo>
                      <a:pt x="1683" y="5428"/>
                    </a:lnTo>
                    <a:lnTo>
                      <a:pt x="1672" y="5433"/>
                    </a:lnTo>
                    <a:lnTo>
                      <a:pt x="1660" y="5439"/>
                    </a:lnTo>
                    <a:lnTo>
                      <a:pt x="1648" y="5447"/>
                    </a:lnTo>
                    <a:lnTo>
                      <a:pt x="1637" y="5459"/>
                    </a:lnTo>
                    <a:lnTo>
                      <a:pt x="1623" y="5468"/>
                    </a:lnTo>
                    <a:lnTo>
                      <a:pt x="1610" y="5480"/>
                    </a:lnTo>
                    <a:lnTo>
                      <a:pt x="1596" y="5492"/>
                    </a:lnTo>
                    <a:lnTo>
                      <a:pt x="1584" y="5509"/>
                    </a:lnTo>
                    <a:lnTo>
                      <a:pt x="1555" y="5554"/>
                    </a:lnTo>
                    <a:lnTo>
                      <a:pt x="1557" y="5567"/>
                    </a:lnTo>
                    <a:lnTo>
                      <a:pt x="1561" y="5583"/>
                    </a:lnTo>
                    <a:lnTo>
                      <a:pt x="1563" y="5596"/>
                    </a:lnTo>
                    <a:lnTo>
                      <a:pt x="1567" y="5612"/>
                    </a:lnTo>
                    <a:lnTo>
                      <a:pt x="1569" y="5625"/>
                    </a:lnTo>
                    <a:lnTo>
                      <a:pt x="1573" y="5641"/>
                    </a:lnTo>
                    <a:lnTo>
                      <a:pt x="1575" y="5655"/>
                    </a:lnTo>
                    <a:lnTo>
                      <a:pt x="1579" y="5672"/>
                    </a:lnTo>
                    <a:lnTo>
                      <a:pt x="1581" y="5686"/>
                    </a:lnTo>
                    <a:lnTo>
                      <a:pt x="1583" y="5701"/>
                    </a:lnTo>
                    <a:lnTo>
                      <a:pt x="1584" y="5717"/>
                    </a:lnTo>
                    <a:lnTo>
                      <a:pt x="1586" y="5734"/>
                    </a:lnTo>
                    <a:lnTo>
                      <a:pt x="1586" y="5750"/>
                    </a:lnTo>
                    <a:lnTo>
                      <a:pt x="1588" y="5765"/>
                    </a:lnTo>
                    <a:lnTo>
                      <a:pt x="1590" y="5781"/>
                    </a:lnTo>
                    <a:lnTo>
                      <a:pt x="1592" y="5798"/>
                    </a:lnTo>
                    <a:lnTo>
                      <a:pt x="1592" y="5812"/>
                    </a:lnTo>
                    <a:lnTo>
                      <a:pt x="1592" y="5827"/>
                    </a:lnTo>
                    <a:lnTo>
                      <a:pt x="1592" y="5843"/>
                    </a:lnTo>
                    <a:lnTo>
                      <a:pt x="1594" y="5860"/>
                    </a:lnTo>
                    <a:lnTo>
                      <a:pt x="1594" y="5876"/>
                    </a:lnTo>
                    <a:lnTo>
                      <a:pt x="1594" y="5891"/>
                    </a:lnTo>
                    <a:lnTo>
                      <a:pt x="1594" y="5907"/>
                    </a:lnTo>
                    <a:lnTo>
                      <a:pt x="1596" y="5924"/>
                    </a:lnTo>
                    <a:lnTo>
                      <a:pt x="1596" y="5940"/>
                    </a:lnTo>
                    <a:lnTo>
                      <a:pt x="1596" y="5955"/>
                    </a:lnTo>
                    <a:lnTo>
                      <a:pt x="1596" y="5971"/>
                    </a:lnTo>
                    <a:lnTo>
                      <a:pt x="1598" y="5988"/>
                    </a:lnTo>
                    <a:lnTo>
                      <a:pt x="1598" y="6004"/>
                    </a:lnTo>
                    <a:lnTo>
                      <a:pt x="1598" y="6021"/>
                    </a:lnTo>
                    <a:lnTo>
                      <a:pt x="1598" y="6037"/>
                    </a:lnTo>
                    <a:lnTo>
                      <a:pt x="1600" y="6054"/>
                    </a:lnTo>
                    <a:lnTo>
                      <a:pt x="1600" y="6068"/>
                    </a:lnTo>
                    <a:lnTo>
                      <a:pt x="1600" y="6085"/>
                    </a:lnTo>
                    <a:lnTo>
                      <a:pt x="1600" y="6099"/>
                    </a:lnTo>
                    <a:lnTo>
                      <a:pt x="1600" y="6116"/>
                    </a:lnTo>
                    <a:lnTo>
                      <a:pt x="1600" y="6132"/>
                    </a:lnTo>
                    <a:lnTo>
                      <a:pt x="1600" y="6147"/>
                    </a:lnTo>
                    <a:lnTo>
                      <a:pt x="1600" y="6163"/>
                    </a:lnTo>
                    <a:lnTo>
                      <a:pt x="1602" y="6180"/>
                    </a:lnTo>
                    <a:lnTo>
                      <a:pt x="1602" y="6194"/>
                    </a:lnTo>
                    <a:lnTo>
                      <a:pt x="1602" y="6209"/>
                    </a:lnTo>
                    <a:lnTo>
                      <a:pt x="1602" y="6225"/>
                    </a:lnTo>
                    <a:lnTo>
                      <a:pt x="1604" y="6242"/>
                    </a:lnTo>
                    <a:lnTo>
                      <a:pt x="1604" y="6256"/>
                    </a:lnTo>
                    <a:lnTo>
                      <a:pt x="1606" y="6271"/>
                    </a:lnTo>
                    <a:lnTo>
                      <a:pt x="1608" y="6287"/>
                    </a:lnTo>
                    <a:lnTo>
                      <a:pt x="1612" y="6304"/>
                    </a:lnTo>
                    <a:lnTo>
                      <a:pt x="1612" y="6318"/>
                    </a:lnTo>
                    <a:lnTo>
                      <a:pt x="1614" y="6333"/>
                    </a:lnTo>
                    <a:lnTo>
                      <a:pt x="1615" y="6349"/>
                    </a:lnTo>
                    <a:lnTo>
                      <a:pt x="1617" y="6364"/>
                    </a:lnTo>
                    <a:lnTo>
                      <a:pt x="1619" y="6378"/>
                    </a:lnTo>
                    <a:lnTo>
                      <a:pt x="1623" y="6393"/>
                    </a:lnTo>
                    <a:lnTo>
                      <a:pt x="1625" y="6409"/>
                    </a:lnTo>
                    <a:lnTo>
                      <a:pt x="1629" y="6424"/>
                    </a:lnTo>
                    <a:lnTo>
                      <a:pt x="1631" y="6438"/>
                    </a:lnTo>
                    <a:lnTo>
                      <a:pt x="1635" y="6451"/>
                    </a:lnTo>
                    <a:lnTo>
                      <a:pt x="1637" y="6465"/>
                    </a:lnTo>
                    <a:lnTo>
                      <a:pt x="1643" y="6481"/>
                    </a:lnTo>
                    <a:lnTo>
                      <a:pt x="1647" y="6494"/>
                    </a:lnTo>
                    <a:lnTo>
                      <a:pt x="1652" y="6510"/>
                    </a:lnTo>
                    <a:lnTo>
                      <a:pt x="1658" y="6523"/>
                    </a:lnTo>
                    <a:lnTo>
                      <a:pt x="1664" y="6539"/>
                    </a:lnTo>
                    <a:lnTo>
                      <a:pt x="1662" y="6552"/>
                    </a:lnTo>
                    <a:lnTo>
                      <a:pt x="1662" y="6568"/>
                    </a:lnTo>
                    <a:lnTo>
                      <a:pt x="1660" y="6581"/>
                    </a:lnTo>
                    <a:lnTo>
                      <a:pt x="1658" y="6597"/>
                    </a:lnTo>
                    <a:lnTo>
                      <a:pt x="1654" y="6609"/>
                    </a:lnTo>
                    <a:lnTo>
                      <a:pt x="1652" y="6622"/>
                    </a:lnTo>
                    <a:lnTo>
                      <a:pt x="1648" y="6634"/>
                    </a:lnTo>
                    <a:lnTo>
                      <a:pt x="1647" y="6647"/>
                    </a:lnTo>
                    <a:lnTo>
                      <a:pt x="1641" y="6657"/>
                    </a:lnTo>
                    <a:lnTo>
                      <a:pt x="1637" y="6669"/>
                    </a:lnTo>
                    <a:lnTo>
                      <a:pt x="1631" y="6678"/>
                    </a:lnTo>
                    <a:lnTo>
                      <a:pt x="1627" y="6690"/>
                    </a:lnTo>
                    <a:lnTo>
                      <a:pt x="1614" y="6709"/>
                    </a:lnTo>
                    <a:lnTo>
                      <a:pt x="1602" y="6729"/>
                    </a:lnTo>
                    <a:lnTo>
                      <a:pt x="1584" y="6742"/>
                    </a:lnTo>
                    <a:lnTo>
                      <a:pt x="1567" y="6758"/>
                    </a:lnTo>
                    <a:lnTo>
                      <a:pt x="1548" y="6769"/>
                    </a:lnTo>
                    <a:lnTo>
                      <a:pt x="1530" y="6783"/>
                    </a:lnTo>
                    <a:lnTo>
                      <a:pt x="1509" y="6793"/>
                    </a:lnTo>
                    <a:lnTo>
                      <a:pt x="1489" y="6802"/>
                    </a:lnTo>
                    <a:lnTo>
                      <a:pt x="1478" y="6806"/>
                    </a:lnTo>
                    <a:lnTo>
                      <a:pt x="1468" y="6810"/>
                    </a:lnTo>
                    <a:lnTo>
                      <a:pt x="1457" y="6814"/>
                    </a:lnTo>
                    <a:lnTo>
                      <a:pt x="1447" y="6820"/>
                    </a:lnTo>
                    <a:lnTo>
                      <a:pt x="1433" y="6822"/>
                    </a:lnTo>
                    <a:lnTo>
                      <a:pt x="1422" y="6824"/>
                    </a:lnTo>
                    <a:lnTo>
                      <a:pt x="1410" y="6826"/>
                    </a:lnTo>
                    <a:lnTo>
                      <a:pt x="1398" y="6830"/>
                    </a:lnTo>
                    <a:lnTo>
                      <a:pt x="1385" y="6832"/>
                    </a:lnTo>
                    <a:lnTo>
                      <a:pt x="1373" y="6835"/>
                    </a:lnTo>
                    <a:lnTo>
                      <a:pt x="1360" y="6837"/>
                    </a:lnTo>
                    <a:lnTo>
                      <a:pt x="1348" y="6841"/>
                    </a:lnTo>
                    <a:lnTo>
                      <a:pt x="1334" y="6843"/>
                    </a:lnTo>
                    <a:lnTo>
                      <a:pt x="1323" y="6845"/>
                    </a:lnTo>
                    <a:lnTo>
                      <a:pt x="1309" y="6847"/>
                    </a:lnTo>
                    <a:lnTo>
                      <a:pt x="1298" y="6851"/>
                    </a:lnTo>
                    <a:lnTo>
                      <a:pt x="1284" y="6853"/>
                    </a:lnTo>
                    <a:lnTo>
                      <a:pt x="1272" y="6855"/>
                    </a:lnTo>
                    <a:lnTo>
                      <a:pt x="1261" y="6857"/>
                    </a:lnTo>
                    <a:lnTo>
                      <a:pt x="1249" y="6861"/>
                    </a:lnTo>
                    <a:lnTo>
                      <a:pt x="1235" y="6861"/>
                    </a:lnTo>
                    <a:lnTo>
                      <a:pt x="1224" y="6865"/>
                    </a:lnTo>
                    <a:lnTo>
                      <a:pt x="1210" y="6866"/>
                    </a:lnTo>
                    <a:lnTo>
                      <a:pt x="1199" y="6870"/>
                    </a:lnTo>
                    <a:lnTo>
                      <a:pt x="1187" y="6872"/>
                    </a:lnTo>
                    <a:lnTo>
                      <a:pt x="1175" y="6876"/>
                    </a:lnTo>
                    <a:lnTo>
                      <a:pt x="1164" y="6878"/>
                    </a:lnTo>
                    <a:lnTo>
                      <a:pt x="1152" y="6882"/>
                    </a:lnTo>
                    <a:lnTo>
                      <a:pt x="1140" y="6884"/>
                    </a:lnTo>
                    <a:lnTo>
                      <a:pt x="1129" y="6888"/>
                    </a:lnTo>
                    <a:lnTo>
                      <a:pt x="1117" y="6890"/>
                    </a:lnTo>
                    <a:lnTo>
                      <a:pt x="1106" y="6894"/>
                    </a:lnTo>
                    <a:lnTo>
                      <a:pt x="1084" y="6901"/>
                    </a:lnTo>
                    <a:lnTo>
                      <a:pt x="1067" y="6911"/>
                    </a:lnTo>
                    <a:lnTo>
                      <a:pt x="1051" y="6907"/>
                    </a:lnTo>
                    <a:lnTo>
                      <a:pt x="1038" y="6905"/>
                    </a:lnTo>
                    <a:lnTo>
                      <a:pt x="1024" y="6901"/>
                    </a:lnTo>
                    <a:lnTo>
                      <a:pt x="1013" y="6901"/>
                    </a:lnTo>
                    <a:lnTo>
                      <a:pt x="999" y="6899"/>
                    </a:lnTo>
                    <a:lnTo>
                      <a:pt x="985" y="6897"/>
                    </a:lnTo>
                    <a:lnTo>
                      <a:pt x="972" y="6896"/>
                    </a:lnTo>
                    <a:lnTo>
                      <a:pt x="960" y="6896"/>
                    </a:lnTo>
                    <a:lnTo>
                      <a:pt x="947" y="6894"/>
                    </a:lnTo>
                    <a:lnTo>
                      <a:pt x="935" y="6894"/>
                    </a:lnTo>
                    <a:lnTo>
                      <a:pt x="921" y="6892"/>
                    </a:lnTo>
                    <a:lnTo>
                      <a:pt x="910" y="6892"/>
                    </a:lnTo>
                    <a:lnTo>
                      <a:pt x="898" y="6890"/>
                    </a:lnTo>
                    <a:lnTo>
                      <a:pt x="887" y="6890"/>
                    </a:lnTo>
                    <a:lnTo>
                      <a:pt x="875" y="6890"/>
                    </a:lnTo>
                    <a:lnTo>
                      <a:pt x="863" y="6890"/>
                    </a:lnTo>
                    <a:lnTo>
                      <a:pt x="850" y="6888"/>
                    </a:lnTo>
                    <a:lnTo>
                      <a:pt x="838" y="6886"/>
                    </a:lnTo>
                    <a:lnTo>
                      <a:pt x="826" y="6884"/>
                    </a:lnTo>
                    <a:lnTo>
                      <a:pt x="815" y="6884"/>
                    </a:lnTo>
                    <a:lnTo>
                      <a:pt x="801" y="6882"/>
                    </a:lnTo>
                    <a:lnTo>
                      <a:pt x="790" y="6882"/>
                    </a:lnTo>
                    <a:lnTo>
                      <a:pt x="778" y="6880"/>
                    </a:lnTo>
                    <a:lnTo>
                      <a:pt x="766" y="6880"/>
                    </a:lnTo>
                    <a:lnTo>
                      <a:pt x="753" y="6878"/>
                    </a:lnTo>
                    <a:lnTo>
                      <a:pt x="739" y="6876"/>
                    </a:lnTo>
                    <a:lnTo>
                      <a:pt x="726" y="6874"/>
                    </a:lnTo>
                    <a:lnTo>
                      <a:pt x="714" y="6872"/>
                    </a:lnTo>
                    <a:lnTo>
                      <a:pt x="700" y="6870"/>
                    </a:lnTo>
                    <a:lnTo>
                      <a:pt x="689" y="6868"/>
                    </a:lnTo>
                    <a:lnTo>
                      <a:pt x="675" y="6866"/>
                    </a:lnTo>
                    <a:lnTo>
                      <a:pt x="664" y="6865"/>
                    </a:lnTo>
                    <a:lnTo>
                      <a:pt x="656" y="6851"/>
                    </a:lnTo>
                    <a:lnTo>
                      <a:pt x="648" y="6839"/>
                    </a:lnTo>
                    <a:lnTo>
                      <a:pt x="642" y="6828"/>
                    </a:lnTo>
                    <a:lnTo>
                      <a:pt x="636" y="6816"/>
                    </a:lnTo>
                    <a:lnTo>
                      <a:pt x="631" y="6802"/>
                    </a:lnTo>
                    <a:lnTo>
                      <a:pt x="625" y="6791"/>
                    </a:lnTo>
                    <a:lnTo>
                      <a:pt x="619" y="6779"/>
                    </a:lnTo>
                    <a:lnTo>
                      <a:pt x="615" y="6768"/>
                    </a:lnTo>
                    <a:lnTo>
                      <a:pt x="609" y="6754"/>
                    </a:lnTo>
                    <a:lnTo>
                      <a:pt x="605" y="6740"/>
                    </a:lnTo>
                    <a:lnTo>
                      <a:pt x="602" y="6727"/>
                    </a:lnTo>
                    <a:lnTo>
                      <a:pt x="598" y="6715"/>
                    </a:lnTo>
                    <a:lnTo>
                      <a:pt x="594" y="6702"/>
                    </a:lnTo>
                    <a:lnTo>
                      <a:pt x="592" y="6690"/>
                    </a:lnTo>
                    <a:lnTo>
                      <a:pt x="588" y="6676"/>
                    </a:lnTo>
                    <a:lnTo>
                      <a:pt x="586" y="6665"/>
                    </a:lnTo>
                    <a:lnTo>
                      <a:pt x="580" y="6651"/>
                    </a:lnTo>
                    <a:lnTo>
                      <a:pt x="578" y="6638"/>
                    </a:lnTo>
                    <a:lnTo>
                      <a:pt x="574" y="6624"/>
                    </a:lnTo>
                    <a:lnTo>
                      <a:pt x="572" y="6612"/>
                    </a:lnTo>
                    <a:lnTo>
                      <a:pt x="569" y="6599"/>
                    </a:lnTo>
                    <a:lnTo>
                      <a:pt x="567" y="6585"/>
                    </a:lnTo>
                    <a:lnTo>
                      <a:pt x="563" y="6572"/>
                    </a:lnTo>
                    <a:lnTo>
                      <a:pt x="561" y="6560"/>
                    </a:lnTo>
                    <a:lnTo>
                      <a:pt x="557" y="6547"/>
                    </a:lnTo>
                    <a:lnTo>
                      <a:pt x="553" y="6533"/>
                    </a:lnTo>
                    <a:lnTo>
                      <a:pt x="549" y="6519"/>
                    </a:lnTo>
                    <a:lnTo>
                      <a:pt x="547" y="6508"/>
                    </a:lnTo>
                    <a:lnTo>
                      <a:pt x="543" y="6494"/>
                    </a:lnTo>
                    <a:lnTo>
                      <a:pt x="541" y="6481"/>
                    </a:lnTo>
                    <a:lnTo>
                      <a:pt x="538" y="6469"/>
                    </a:lnTo>
                    <a:lnTo>
                      <a:pt x="536" y="6457"/>
                    </a:lnTo>
                    <a:lnTo>
                      <a:pt x="536" y="6436"/>
                    </a:lnTo>
                    <a:lnTo>
                      <a:pt x="538" y="6419"/>
                    </a:lnTo>
                    <a:lnTo>
                      <a:pt x="539" y="6397"/>
                    </a:lnTo>
                    <a:lnTo>
                      <a:pt x="543" y="6380"/>
                    </a:lnTo>
                    <a:lnTo>
                      <a:pt x="547" y="6360"/>
                    </a:lnTo>
                    <a:lnTo>
                      <a:pt x="553" y="6343"/>
                    </a:lnTo>
                    <a:lnTo>
                      <a:pt x="559" y="6325"/>
                    </a:lnTo>
                    <a:lnTo>
                      <a:pt x="569" y="6310"/>
                    </a:lnTo>
                    <a:lnTo>
                      <a:pt x="576" y="6292"/>
                    </a:lnTo>
                    <a:lnTo>
                      <a:pt x="588" y="6277"/>
                    </a:lnTo>
                    <a:lnTo>
                      <a:pt x="598" y="6261"/>
                    </a:lnTo>
                    <a:lnTo>
                      <a:pt x="613" y="6250"/>
                    </a:lnTo>
                    <a:lnTo>
                      <a:pt x="627" y="6238"/>
                    </a:lnTo>
                    <a:lnTo>
                      <a:pt x="644" y="6229"/>
                    </a:lnTo>
                    <a:lnTo>
                      <a:pt x="662" y="6219"/>
                    </a:lnTo>
                    <a:lnTo>
                      <a:pt x="683" y="6215"/>
                    </a:lnTo>
                    <a:lnTo>
                      <a:pt x="697" y="6213"/>
                    </a:lnTo>
                    <a:lnTo>
                      <a:pt x="712" y="6211"/>
                    </a:lnTo>
                    <a:lnTo>
                      <a:pt x="729" y="6211"/>
                    </a:lnTo>
                    <a:lnTo>
                      <a:pt x="747" y="6211"/>
                    </a:lnTo>
                    <a:lnTo>
                      <a:pt x="764" y="6211"/>
                    </a:lnTo>
                    <a:lnTo>
                      <a:pt x="784" y="6211"/>
                    </a:lnTo>
                    <a:lnTo>
                      <a:pt x="803" y="6211"/>
                    </a:lnTo>
                    <a:lnTo>
                      <a:pt x="823" y="6213"/>
                    </a:lnTo>
                    <a:lnTo>
                      <a:pt x="840" y="6211"/>
                    </a:lnTo>
                    <a:lnTo>
                      <a:pt x="861" y="6211"/>
                    </a:lnTo>
                    <a:lnTo>
                      <a:pt x="879" y="6211"/>
                    </a:lnTo>
                    <a:lnTo>
                      <a:pt x="900" y="6211"/>
                    </a:lnTo>
                    <a:lnTo>
                      <a:pt x="918" y="6209"/>
                    </a:lnTo>
                    <a:lnTo>
                      <a:pt x="935" y="6207"/>
                    </a:lnTo>
                    <a:lnTo>
                      <a:pt x="952" y="6203"/>
                    </a:lnTo>
                    <a:lnTo>
                      <a:pt x="972" y="6201"/>
                    </a:lnTo>
                    <a:lnTo>
                      <a:pt x="968" y="6188"/>
                    </a:lnTo>
                    <a:lnTo>
                      <a:pt x="966" y="6174"/>
                    </a:lnTo>
                    <a:lnTo>
                      <a:pt x="962" y="6161"/>
                    </a:lnTo>
                    <a:lnTo>
                      <a:pt x="960" y="6149"/>
                    </a:lnTo>
                    <a:lnTo>
                      <a:pt x="956" y="6135"/>
                    </a:lnTo>
                    <a:lnTo>
                      <a:pt x="954" y="6122"/>
                    </a:lnTo>
                    <a:lnTo>
                      <a:pt x="950" y="6108"/>
                    </a:lnTo>
                    <a:lnTo>
                      <a:pt x="950" y="6097"/>
                    </a:lnTo>
                    <a:lnTo>
                      <a:pt x="947" y="6081"/>
                    </a:lnTo>
                    <a:lnTo>
                      <a:pt x="945" y="6070"/>
                    </a:lnTo>
                    <a:lnTo>
                      <a:pt x="941" y="6054"/>
                    </a:lnTo>
                    <a:lnTo>
                      <a:pt x="939" y="6042"/>
                    </a:lnTo>
                    <a:lnTo>
                      <a:pt x="935" y="6027"/>
                    </a:lnTo>
                    <a:lnTo>
                      <a:pt x="933" y="6013"/>
                    </a:lnTo>
                    <a:lnTo>
                      <a:pt x="929" y="6000"/>
                    </a:lnTo>
                    <a:lnTo>
                      <a:pt x="929" y="5986"/>
                    </a:lnTo>
                    <a:lnTo>
                      <a:pt x="925" y="5971"/>
                    </a:lnTo>
                    <a:lnTo>
                      <a:pt x="923" y="5957"/>
                    </a:lnTo>
                    <a:lnTo>
                      <a:pt x="919" y="5942"/>
                    </a:lnTo>
                    <a:lnTo>
                      <a:pt x="918" y="5928"/>
                    </a:lnTo>
                    <a:lnTo>
                      <a:pt x="914" y="5912"/>
                    </a:lnTo>
                    <a:lnTo>
                      <a:pt x="914" y="5899"/>
                    </a:lnTo>
                    <a:lnTo>
                      <a:pt x="910" y="5883"/>
                    </a:lnTo>
                    <a:lnTo>
                      <a:pt x="910" y="5870"/>
                    </a:lnTo>
                    <a:lnTo>
                      <a:pt x="908" y="5854"/>
                    </a:lnTo>
                    <a:lnTo>
                      <a:pt x="906" y="5839"/>
                    </a:lnTo>
                    <a:lnTo>
                      <a:pt x="904" y="5823"/>
                    </a:lnTo>
                    <a:lnTo>
                      <a:pt x="904" y="5810"/>
                    </a:lnTo>
                    <a:lnTo>
                      <a:pt x="904" y="5794"/>
                    </a:lnTo>
                    <a:lnTo>
                      <a:pt x="904" y="5781"/>
                    </a:lnTo>
                    <a:lnTo>
                      <a:pt x="904" y="5765"/>
                    </a:lnTo>
                    <a:lnTo>
                      <a:pt x="904" y="5751"/>
                    </a:lnTo>
                    <a:lnTo>
                      <a:pt x="921" y="5734"/>
                    </a:lnTo>
                    <a:lnTo>
                      <a:pt x="935" y="5719"/>
                    </a:lnTo>
                    <a:lnTo>
                      <a:pt x="943" y="5699"/>
                    </a:lnTo>
                    <a:lnTo>
                      <a:pt x="950" y="5682"/>
                    </a:lnTo>
                    <a:lnTo>
                      <a:pt x="950" y="5660"/>
                    </a:lnTo>
                    <a:lnTo>
                      <a:pt x="950" y="5641"/>
                    </a:lnTo>
                    <a:lnTo>
                      <a:pt x="949" y="5629"/>
                    </a:lnTo>
                    <a:lnTo>
                      <a:pt x="947" y="5620"/>
                    </a:lnTo>
                    <a:lnTo>
                      <a:pt x="945" y="5608"/>
                    </a:lnTo>
                    <a:lnTo>
                      <a:pt x="945" y="5598"/>
                    </a:lnTo>
                    <a:lnTo>
                      <a:pt x="941" y="5585"/>
                    </a:lnTo>
                    <a:lnTo>
                      <a:pt x="939" y="5573"/>
                    </a:lnTo>
                    <a:lnTo>
                      <a:pt x="935" y="5561"/>
                    </a:lnTo>
                    <a:lnTo>
                      <a:pt x="933" y="5550"/>
                    </a:lnTo>
                    <a:lnTo>
                      <a:pt x="929" y="5536"/>
                    </a:lnTo>
                    <a:lnTo>
                      <a:pt x="927" y="5525"/>
                    </a:lnTo>
                    <a:lnTo>
                      <a:pt x="925" y="5513"/>
                    </a:lnTo>
                    <a:lnTo>
                      <a:pt x="925" y="5501"/>
                    </a:lnTo>
                    <a:lnTo>
                      <a:pt x="923" y="5488"/>
                    </a:lnTo>
                    <a:lnTo>
                      <a:pt x="921" y="5476"/>
                    </a:lnTo>
                    <a:lnTo>
                      <a:pt x="921" y="5463"/>
                    </a:lnTo>
                    <a:lnTo>
                      <a:pt x="923" y="5451"/>
                    </a:lnTo>
                    <a:lnTo>
                      <a:pt x="923" y="5439"/>
                    </a:lnTo>
                    <a:lnTo>
                      <a:pt x="925" y="5428"/>
                    </a:lnTo>
                    <a:lnTo>
                      <a:pt x="927" y="5416"/>
                    </a:lnTo>
                    <a:lnTo>
                      <a:pt x="933" y="5404"/>
                    </a:lnTo>
                    <a:lnTo>
                      <a:pt x="933" y="5393"/>
                    </a:lnTo>
                    <a:lnTo>
                      <a:pt x="935" y="5381"/>
                    </a:lnTo>
                    <a:lnTo>
                      <a:pt x="937" y="5370"/>
                    </a:lnTo>
                    <a:lnTo>
                      <a:pt x="941" y="5358"/>
                    </a:lnTo>
                    <a:lnTo>
                      <a:pt x="947" y="5337"/>
                    </a:lnTo>
                    <a:lnTo>
                      <a:pt x="956" y="5317"/>
                    </a:lnTo>
                    <a:lnTo>
                      <a:pt x="966" y="5296"/>
                    </a:lnTo>
                    <a:lnTo>
                      <a:pt x="978" y="5276"/>
                    </a:lnTo>
                    <a:lnTo>
                      <a:pt x="989" y="5257"/>
                    </a:lnTo>
                    <a:lnTo>
                      <a:pt x="1005" y="5240"/>
                    </a:lnTo>
                    <a:lnTo>
                      <a:pt x="1016" y="5220"/>
                    </a:lnTo>
                    <a:lnTo>
                      <a:pt x="1032" y="5203"/>
                    </a:lnTo>
                    <a:lnTo>
                      <a:pt x="1049" y="5185"/>
                    </a:lnTo>
                    <a:lnTo>
                      <a:pt x="1067" y="5168"/>
                    </a:lnTo>
                    <a:lnTo>
                      <a:pt x="1084" y="5150"/>
                    </a:lnTo>
                    <a:lnTo>
                      <a:pt x="1102" y="5133"/>
                    </a:lnTo>
                    <a:lnTo>
                      <a:pt x="1119" y="5115"/>
                    </a:lnTo>
                    <a:lnTo>
                      <a:pt x="1139" y="5100"/>
                    </a:lnTo>
                    <a:lnTo>
                      <a:pt x="1156" y="5081"/>
                    </a:lnTo>
                    <a:lnTo>
                      <a:pt x="1173" y="5063"/>
                    </a:lnTo>
                    <a:lnTo>
                      <a:pt x="1191" y="5046"/>
                    </a:lnTo>
                    <a:lnTo>
                      <a:pt x="1210" y="5028"/>
                    </a:lnTo>
                    <a:lnTo>
                      <a:pt x="1226" y="5009"/>
                    </a:lnTo>
                    <a:lnTo>
                      <a:pt x="1243" y="4991"/>
                    </a:lnTo>
                    <a:lnTo>
                      <a:pt x="1261" y="4974"/>
                    </a:lnTo>
                    <a:lnTo>
                      <a:pt x="1278" y="4956"/>
                    </a:lnTo>
                    <a:lnTo>
                      <a:pt x="1292" y="4937"/>
                    </a:lnTo>
                    <a:lnTo>
                      <a:pt x="1305" y="4918"/>
                    </a:lnTo>
                    <a:lnTo>
                      <a:pt x="1319" y="4898"/>
                    </a:lnTo>
                    <a:lnTo>
                      <a:pt x="1332" y="4879"/>
                    </a:lnTo>
                    <a:lnTo>
                      <a:pt x="1342" y="4858"/>
                    </a:lnTo>
                    <a:lnTo>
                      <a:pt x="1354" y="4838"/>
                    </a:lnTo>
                    <a:lnTo>
                      <a:pt x="1362" y="4817"/>
                    </a:lnTo>
                    <a:lnTo>
                      <a:pt x="1371" y="4797"/>
                    </a:lnTo>
                    <a:lnTo>
                      <a:pt x="1369" y="4782"/>
                    </a:lnTo>
                    <a:lnTo>
                      <a:pt x="1369" y="4768"/>
                    </a:lnTo>
                    <a:lnTo>
                      <a:pt x="1371" y="4753"/>
                    </a:lnTo>
                    <a:lnTo>
                      <a:pt x="1373" y="4741"/>
                    </a:lnTo>
                    <a:lnTo>
                      <a:pt x="1371" y="4726"/>
                    </a:lnTo>
                    <a:lnTo>
                      <a:pt x="1367" y="4714"/>
                    </a:lnTo>
                    <a:lnTo>
                      <a:pt x="1358" y="4704"/>
                    </a:lnTo>
                    <a:lnTo>
                      <a:pt x="1346" y="4699"/>
                    </a:lnTo>
                    <a:lnTo>
                      <a:pt x="1329" y="4716"/>
                    </a:lnTo>
                    <a:lnTo>
                      <a:pt x="1311" y="4735"/>
                    </a:lnTo>
                    <a:lnTo>
                      <a:pt x="1294" y="4753"/>
                    </a:lnTo>
                    <a:lnTo>
                      <a:pt x="1276" y="4774"/>
                    </a:lnTo>
                    <a:lnTo>
                      <a:pt x="1257" y="4794"/>
                    </a:lnTo>
                    <a:lnTo>
                      <a:pt x="1237" y="4813"/>
                    </a:lnTo>
                    <a:lnTo>
                      <a:pt x="1218" y="4830"/>
                    </a:lnTo>
                    <a:lnTo>
                      <a:pt x="1199" y="4848"/>
                    </a:lnTo>
                    <a:lnTo>
                      <a:pt x="1187" y="4854"/>
                    </a:lnTo>
                    <a:lnTo>
                      <a:pt x="1175" y="4861"/>
                    </a:lnTo>
                    <a:lnTo>
                      <a:pt x="1164" y="4867"/>
                    </a:lnTo>
                    <a:lnTo>
                      <a:pt x="1154" y="4875"/>
                    </a:lnTo>
                    <a:lnTo>
                      <a:pt x="1142" y="4879"/>
                    </a:lnTo>
                    <a:lnTo>
                      <a:pt x="1131" y="4885"/>
                    </a:lnTo>
                    <a:lnTo>
                      <a:pt x="1119" y="4889"/>
                    </a:lnTo>
                    <a:lnTo>
                      <a:pt x="1109" y="4893"/>
                    </a:lnTo>
                    <a:lnTo>
                      <a:pt x="1096" y="4893"/>
                    </a:lnTo>
                    <a:lnTo>
                      <a:pt x="1084" y="4894"/>
                    </a:lnTo>
                    <a:lnTo>
                      <a:pt x="1071" y="4894"/>
                    </a:lnTo>
                    <a:lnTo>
                      <a:pt x="1059" y="4896"/>
                    </a:lnTo>
                    <a:lnTo>
                      <a:pt x="1045" y="4893"/>
                    </a:lnTo>
                    <a:lnTo>
                      <a:pt x="1034" y="4891"/>
                    </a:lnTo>
                    <a:lnTo>
                      <a:pt x="1020" y="4887"/>
                    </a:lnTo>
                    <a:lnTo>
                      <a:pt x="1009" y="4883"/>
                    </a:lnTo>
                    <a:lnTo>
                      <a:pt x="993" y="4881"/>
                    </a:lnTo>
                    <a:lnTo>
                      <a:pt x="980" y="4879"/>
                    </a:lnTo>
                    <a:lnTo>
                      <a:pt x="966" y="4875"/>
                    </a:lnTo>
                    <a:lnTo>
                      <a:pt x="954" y="4871"/>
                    </a:lnTo>
                    <a:lnTo>
                      <a:pt x="941" y="4865"/>
                    </a:lnTo>
                    <a:lnTo>
                      <a:pt x="929" y="4860"/>
                    </a:lnTo>
                    <a:lnTo>
                      <a:pt x="918" y="4852"/>
                    </a:lnTo>
                    <a:lnTo>
                      <a:pt x="906" y="4844"/>
                    </a:lnTo>
                    <a:lnTo>
                      <a:pt x="894" y="4834"/>
                    </a:lnTo>
                    <a:lnTo>
                      <a:pt x="883" y="4825"/>
                    </a:lnTo>
                    <a:lnTo>
                      <a:pt x="871" y="4815"/>
                    </a:lnTo>
                    <a:lnTo>
                      <a:pt x="859" y="4805"/>
                    </a:lnTo>
                    <a:lnTo>
                      <a:pt x="848" y="4794"/>
                    </a:lnTo>
                    <a:lnTo>
                      <a:pt x="838" y="4786"/>
                    </a:lnTo>
                    <a:lnTo>
                      <a:pt x="826" y="4776"/>
                    </a:lnTo>
                    <a:lnTo>
                      <a:pt x="817" y="4768"/>
                    </a:lnTo>
                    <a:lnTo>
                      <a:pt x="805" y="4757"/>
                    </a:lnTo>
                    <a:lnTo>
                      <a:pt x="793" y="4749"/>
                    </a:lnTo>
                    <a:lnTo>
                      <a:pt x="782" y="4741"/>
                    </a:lnTo>
                    <a:lnTo>
                      <a:pt x="770" y="4735"/>
                    </a:lnTo>
                    <a:lnTo>
                      <a:pt x="759" y="4730"/>
                    </a:lnTo>
                    <a:lnTo>
                      <a:pt x="747" y="4724"/>
                    </a:lnTo>
                    <a:lnTo>
                      <a:pt x="735" y="4720"/>
                    </a:lnTo>
                    <a:lnTo>
                      <a:pt x="726" y="4720"/>
                    </a:lnTo>
                    <a:lnTo>
                      <a:pt x="712" y="4718"/>
                    </a:lnTo>
                    <a:lnTo>
                      <a:pt x="700" y="4720"/>
                    </a:lnTo>
                    <a:lnTo>
                      <a:pt x="687" y="4720"/>
                    </a:lnTo>
                    <a:lnTo>
                      <a:pt x="675" y="4726"/>
                    </a:lnTo>
                    <a:lnTo>
                      <a:pt x="662" y="4732"/>
                    </a:lnTo>
                    <a:lnTo>
                      <a:pt x="648" y="4741"/>
                    </a:lnTo>
                    <a:lnTo>
                      <a:pt x="634" y="4751"/>
                    </a:lnTo>
                    <a:lnTo>
                      <a:pt x="621" y="4766"/>
                    </a:lnTo>
                    <a:lnTo>
                      <a:pt x="609" y="4766"/>
                    </a:lnTo>
                    <a:lnTo>
                      <a:pt x="598" y="4768"/>
                    </a:lnTo>
                    <a:lnTo>
                      <a:pt x="586" y="4770"/>
                    </a:lnTo>
                    <a:lnTo>
                      <a:pt x="576" y="4772"/>
                    </a:lnTo>
                    <a:lnTo>
                      <a:pt x="565" y="4774"/>
                    </a:lnTo>
                    <a:lnTo>
                      <a:pt x="555" y="4778"/>
                    </a:lnTo>
                    <a:lnTo>
                      <a:pt x="543" y="4780"/>
                    </a:lnTo>
                    <a:lnTo>
                      <a:pt x="534" y="4784"/>
                    </a:lnTo>
                    <a:lnTo>
                      <a:pt x="522" y="4784"/>
                    </a:lnTo>
                    <a:lnTo>
                      <a:pt x="510" y="4788"/>
                    </a:lnTo>
                    <a:lnTo>
                      <a:pt x="499" y="4790"/>
                    </a:lnTo>
                    <a:lnTo>
                      <a:pt x="489" y="4794"/>
                    </a:lnTo>
                    <a:lnTo>
                      <a:pt x="468" y="4799"/>
                    </a:lnTo>
                    <a:lnTo>
                      <a:pt x="448" y="4805"/>
                    </a:lnTo>
                    <a:lnTo>
                      <a:pt x="437" y="4805"/>
                    </a:lnTo>
                    <a:lnTo>
                      <a:pt x="425" y="4809"/>
                    </a:lnTo>
                    <a:lnTo>
                      <a:pt x="413" y="4809"/>
                    </a:lnTo>
                    <a:lnTo>
                      <a:pt x="404" y="4813"/>
                    </a:lnTo>
                    <a:lnTo>
                      <a:pt x="392" y="4815"/>
                    </a:lnTo>
                    <a:lnTo>
                      <a:pt x="382" y="4817"/>
                    </a:lnTo>
                    <a:lnTo>
                      <a:pt x="371" y="4819"/>
                    </a:lnTo>
                    <a:lnTo>
                      <a:pt x="361" y="4823"/>
                    </a:lnTo>
                    <a:lnTo>
                      <a:pt x="349" y="4823"/>
                    </a:lnTo>
                    <a:lnTo>
                      <a:pt x="338" y="4825"/>
                    </a:lnTo>
                    <a:lnTo>
                      <a:pt x="326" y="4827"/>
                    </a:lnTo>
                    <a:lnTo>
                      <a:pt x="317" y="4829"/>
                    </a:lnTo>
                    <a:lnTo>
                      <a:pt x="305" y="4830"/>
                    </a:lnTo>
                    <a:lnTo>
                      <a:pt x="295" y="4832"/>
                    </a:lnTo>
                    <a:lnTo>
                      <a:pt x="284" y="4834"/>
                    </a:lnTo>
                    <a:lnTo>
                      <a:pt x="274" y="4836"/>
                    </a:lnTo>
                    <a:lnTo>
                      <a:pt x="262" y="4825"/>
                    </a:lnTo>
                    <a:lnTo>
                      <a:pt x="253" y="4819"/>
                    </a:lnTo>
                    <a:lnTo>
                      <a:pt x="241" y="4813"/>
                    </a:lnTo>
                    <a:lnTo>
                      <a:pt x="231" y="4809"/>
                    </a:lnTo>
                    <a:lnTo>
                      <a:pt x="220" y="4803"/>
                    </a:lnTo>
                    <a:lnTo>
                      <a:pt x="208" y="4801"/>
                    </a:lnTo>
                    <a:lnTo>
                      <a:pt x="196" y="4797"/>
                    </a:lnTo>
                    <a:lnTo>
                      <a:pt x="187" y="4796"/>
                    </a:lnTo>
                    <a:lnTo>
                      <a:pt x="175" y="4792"/>
                    </a:lnTo>
                    <a:lnTo>
                      <a:pt x="163" y="4790"/>
                    </a:lnTo>
                    <a:lnTo>
                      <a:pt x="152" y="4786"/>
                    </a:lnTo>
                    <a:lnTo>
                      <a:pt x="140" y="4784"/>
                    </a:lnTo>
                    <a:lnTo>
                      <a:pt x="128" y="4778"/>
                    </a:lnTo>
                    <a:lnTo>
                      <a:pt x="117" y="4774"/>
                    </a:lnTo>
                    <a:lnTo>
                      <a:pt x="107" y="4766"/>
                    </a:lnTo>
                    <a:lnTo>
                      <a:pt x="99" y="4761"/>
                    </a:lnTo>
                    <a:lnTo>
                      <a:pt x="86" y="4749"/>
                    </a:lnTo>
                    <a:lnTo>
                      <a:pt x="74" y="4737"/>
                    </a:lnTo>
                    <a:lnTo>
                      <a:pt x="64" y="4726"/>
                    </a:lnTo>
                    <a:lnTo>
                      <a:pt x="57" y="4716"/>
                    </a:lnTo>
                    <a:lnTo>
                      <a:pt x="49" y="4704"/>
                    </a:lnTo>
                    <a:lnTo>
                      <a:pt x="43" y="4693"/>
                    </a:lnTo>
                    <a:lnTo>
                      <a:pt x="37" y="4681"/>
                    </a:lnTo>
                    <a:lnTo>
                      <a:pt x="35" y="4671"/>
                    </a:lnTo>
                    <a:lnTo>
                      <a:pt x="30" y="4658"/>
                    </a:lnTo>
                    <a:lnTo>
                      <a:pt x="28" y="4646"/>
                    </a:lnTo>
                    <a:lnTo>
                      <a:pt x="26" y="4633"/>
                    </a:lnTo>
                    <a:lnTo>
                      <a:pt x="26" y="4621"/>
                    </a:lnTo>
                    <a:lnTo>
                      <a:pt x="24" y="4607"/>
                    </a:lnTo>
                    <a:lnTo>
                      <a:pt x="24" y="4596"/>
                    </a:lnTo>
                    <a:lnTo>
                      <a:pt x="24" y="4584"/>
                    </a:lnTo>
                    <a:lnTo>
                      <a:pt x="26" y="4573"/>
                    </a:lnTo>
                    <a:lnTo>
                      <a:pt x="26" y="4559"/>
                    </a:lnTo>
                    <a:lnTo>
                      <a:pt x="26" y="4545"/>
                    </a:lnTo>
                    <a:lnTo>
                      <a:pt x="26" y="4532"/>
                    </a:lnTo>
                    <a:lnTo>
                      <a:pt x="26" y="4520"/>
                    </a:lnTo>
                    <a:lnTo>
                      <a:pt x="26" y="4507"/>
                    </a:lnTo>
                    <a:lnTo>
                      <a:pt x="26" y="4493"/>
                    </a:lnTo>
                    <a:lnTo>
                      <a:pt x="26" y="4479"/>
                    </a:lnTo>
                    <a:lnTo>
                      <a:pt x="28" y="4468"/>
                    </a:lnTo>
                    <a:lnTo>
                      <a:pt x="26" y="4454"/>
                    </a:lnTo>
                    <a:lnTo>
                      <a:pt x="24" y="4441"/>
                    </a:lnTo>
                    <a:lnTo>
                      <a:pt x="22" y="4429"/>
                    </a:lnTo>
                    <a:lnTo>
                      <a:pt x="20" y="4417"/>
                    </a:lnTo>
                    <a:lnTo>
                      <a:pt x="16" y="4404"/>
                    </a:lnTo>
                    <a:lnTo>
                      <a:pt x="12" y="4392"/>
                    </a:lnTo>
                    <a:lnTo>
                      <a:pt x="6" y="4381"/>
                    </a:lnTo>
                    <a:lnTo>
                      <a:pt x="0" y="4369"/>
                    </a:lnTo>
                    <a:lnTo>
                      <a:pt x="0" y="4357"/>
                    </a:lnTo>
                    <a:lnTo>
                      <a:pt x="2" y="4346"/>
                    </a:lnTo>
                    <a:lnTo>
                      <a:pt x="4" y="4334"/>
                    </a:lnTo>
                    <a:lnTo>
                      <a:pt x="10" y="4322"/>
                    </a:lnTo>
                    <a:lnTo>
                      <a:pt x="20" y="4301"/>
                    </a:lnTo>
                    <a:lnTo>
                      <a:pt x="33" y="4282"/>
                    </a:lnTo>
                    <a:lnTo>
                      <a:pt x="47" y="4262"/>
                    </a:lnTo>
                    <a:lnTo>
                      <a:pt x="64" y="4247"/>
                    </a:lnTo>
                    <a:lnTo>
                      <a:pt x="82" y="4235"/>
                    </a:lnTo>
                    <a:lnTo>
                      <a:pt x="103" y="4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37400" y="3556800"/>
                <a:ext cx="605880" cy="1033200"/>
              </a:xfrm>
              <a:custGeom>
                <a:avLst/>
                <a:gdLst/>
                <a:ahLst/>
                <a:rect l="l" t="t" r="r" b="b"/>
                <a:pathLst>
                  <a:path w="995" h="1695">
                    <a:moveTo>
                      <a:pt x="991" y="809"/>
                    </a:moveTo>
                    <a:lnTo>
                      <a:pt x="989" y="783"/>
                    </a:lnTo>
                    <a:lnTo>
                      <a:pt x="989" y="760"/>
                    </a:lnTo>
                    <a:lnTo>
                      <a:pt x="989" y="737"/>
                    </a:lnTo>
                    <a:lnTo>
                      <a:pt x="989" y="715"/>
                    </a:lnTo>
                    <a:lnTo>
                      <a:pt x="985" y="692"/>
                    </a:lnTo>
                    <a:lnTo>
                      <a:pt x="983" y="673"/>
                    </a:lnTo>
                    <a:lnTo>
                      <a:pt x="981" y="651"/>
                    </a:lnTo>
                    <a:lnTo>
                      <a:pt x="979" y="632"/>
                    </a:lnTo>
                    <a:lnTo>
                      <a:pt x="975" y="611"/>
                    </a:lnTo>
                    <a:lnTo>
                      <a:pt x="972" y="591"/>
                    </a:lnTo>
                    <a:lnTo>
                      <a:pt x="966" y="572"/>
                    </a:lnTo>
                    <a:lnTo>
                      <a:pt x="962" y="554"/>
                    </a:lnTo>
                    <a:lnTo>
                      <a:pt x="956" y="535"/>
                    </a:lnTo>
                    <a:lnTo>
                      <a:pt x="950" y="518"/>
                    </a:lnTo>
                    <a:lnTo>
                      <a:pt x="944" y="500"/>
                    </a:lnTo>
                    <a:lnTo>
                      <a:pt x="941" y="483"/>
                    </a:lnTo>
                    <a:lnTo>
                      <a:pt x="933" y="465"/>
                    </a:lnTo>
                    <a:lnTo>
                      <a:pt x="925" y="448"/>
                    </a:lnTo>
                    <a:lnTo>
                      <a:pt x="917" y="430"/>
                    </a:lnTo>
                    <a:lnTo>
                      <a:pt x="911" y="415"/>
                    </a:lnTo>
                    <a:lnTo>
                      <a:pt x="902" y="397"/>
                    </a:lnTo>
                    <a:lnTo>
                      <a:pt x="894" y="384"/>
                    </a:lnTo>
                    <a:lnTo>
                      <a:pt x="884" y="368"/>
                    </a:lnTo>
                    <a:lnTo>
                      <a:pt x="877" y="355"/>
                    </a:lnTo>
                    <a:lnTo>
                      <a:pt x="867" y="339"/>
                    </a:lnTo>
                    <a:lnTo>
                      <a:pt x="857" y="326"/>
                    </a:lnTo>
                    <a:lnTo>
                      <a:pt x="847" y="310"/>
                    </a:lnTo>
                    <a:lnTo>
                      <a:pt x="838" y="299"/>
                    </a:lnTo>
                    <a:lnTo>
                      <a:pt x="826" y="285"/>
                    </a:lnTo>
                    <a:lnTo>
                      <a:pt x="816" y="273"/>
                    </a:lnTo>
                    <a:lnTo>
                      <a:pt x="807" y="262"/>
                    </a:lnTo>
                    <a:lnTo>
                      <a:pt x="797" y="250"/>
                    </a:lnTo>
                    <a:lnTo>
                      <a:pt x="785" y="236"/>
                    </a:lnTo>
                    <a:lnTo>
                      <a:pt x="774" y="225"/>
                    </a:lnTo>
                    <a:lnTo>
                      <a:pt x="762" y="213"/>
                    </a:lnTo>
                    <a:lnTo>
                      <a:pt x="751" y="204"/>
                    </a:lnTo>
                    <a:lnTo>
                      <a:pt x="739" y="192"/>
                    </a:lnTo>
                    <a:lnTo>
                      <a:pt x="727" y="180"/>
                    </a:lnTo>
                    <a:lnTo>
                      <a:pt x="716" y="171"/>
                    </a:lnTo>
                    <a:lnTo>
                      <a:pt x="704" y="163"/>
                    </a:lnTo>
                    <a:lnTo>
                      <a:pt x="690" y="151"/>
                    </a:lnTo>
                    <a:lnTo>
                      <a:pt x="679" y="141"/>
                    </a:lnTo>
                    <a:lnTo>
                      <a:pt x="665" y="132"/>
                    </a:lnTo>
                    <a:lnTo>
                      <a:pt x="654" y="124"/>
                    </a:lnTo>
                    <a:lnTo>
                      <a:pt x="640" y="114"/>
                    </a:lnTo>
                    <a:lnTo>
                      <a:pt x="628" y="107"/>
                    </a:lnTo>
                    <a:lnTo>
                      <a:pt x="617" y="99"/>
                    </a:lnTo>
                    <a:lnTo>
                      <a:pt x="605" y="93"/>
                    </a:lnTo>
                    <a:lnTo>
                      <a:pt x="592" y="83"/>
                    </a:lnTo>
                    <a:lnTo>
                      <a:pt x="578" y="76"/>
                    </a:lnTo>
                    <a:lnTo>
                      <a:pt x="564" y="68"/>
                    </a:lnTo>
                    <a:lnTo>
                      <a:pt x="553" y="62"/>
                    </a:lnTo>
                    <a:lnTo>
                      <a:pt x="539" y="56"/>
                    </a:lnTo>
                    <a:lnTo>
                      <a:pt x="528" y="50"/>
                    </a:lnTo>
                    <a:lnTo>
                      <a:pt x="514" y="45"/>
                    </a:lnTo>
                    <a:lnTo>
                      <a:pt x="502" y="39"/>
                    </a:lnTo>
                    <a:lnTo>
                      <a:pt x="489" y="33"/>
                    </a:lnTo>
                    <a:lnTo>
                      <a:pt x="477" y="27"/>
                    </a:lnTo>
                    <a:lnTo>
                      <a:pt x="466" y="21"/>
                    </a:lnTo>
                    <a:lnTo>
                      <a:pt x="454" y="15"/>
                    </a:lnTo>
                    <a:lnTo>
                      <a:pt x="442" y="10"/>
                    </a:lnTo>
                    <a:lnTo>
                      <a:pt x="431" y="6"/>
                    </a:lnTo>
                    <a:lnTo>
                      <a:pt x="419" y="2"/>
                    </a:lnTo>
                    <a:lnTo>
                      <a:pt x="407" y="0"/>
                    </a:lnTo>
                    <a:lnTo>
                      <a:pt x="390" y="6"/>
                    </a:lnTo>
                    <a:lnTo>
                      <a:pt x="372" y="13"/>
                    </a:lnTo>
                    <a:lnTo>
                      <a:pt x="355" y="21"/>
                    </a:lnTo>
                    <a:lnTo>
                      <a:pt x="339" y="31"/>
                    </a:lnTo>
                    <a:lnTo>
                      <a:pt x="322" y="39"/>
                    </a:lnTo>
                    <a:lnTo>
                      <a:pt x="305" y="48"/>
                    </a:lnTo>
                    <a:lnTo>
                      <a:pt x="287" y="58"/>
                    </a:lnTo>
                    <a:lnTo>
                      <a:pt x="270" y="70"/>
                    </a:lnTo>
                    <a:lnTo>
                      <a:pt x="252" y="79"/>
                    </a:lnTo>
                    <a:lnTo>
                      <a:pt x="235" y="89"/>
                    </a:lnTo>
                    <a:lnTo>
                      <a:pt x="217" y="101"/>
                    </a:lnTo>
                    <a:lnTo>
                      <a:pt x="202" y="112"/>
                    </a:lnTo>
                    <a:lnTo>
                      <a:pt x="184" y="124"/>
                    </a:lnTo>
                    <a:lnTo>
                      <a:pt x="169" y="136"/>
                    </a:lnTo>
                    <a:lnTo>
                      <a:pt x="153" y="149"/>
                    </a:lnTo>
                    <a:lnTo>
                      <a:pt x="140" y="163"/>
                    </a:lnTo>
                    <a:lnTo>
                      <a:pt x="122" y="174"/>
                    </a:lnTo>
                    <a:lnTo>
                      <a:pt x="109" y="188"/>
                    </a:lnTo>
                    <a:lnTo>
                      <a:pt x="95" y="202"/>
                    </a:lnTo>
                    <a:lnTo>
                      <a:pt x="84" y="217"/>
                    </a:lnTo>
                    <a:lnTo>
                      <a:pt x="70" y="229"/>
                    </a:lnTo>
                    <a:lnTo>
                      <a:pt x="58" y="244"/>
                    </a:lnTo>
                    <a:lnTo>
                      <a:pt x="47" y="260"/>
                    </a:lnTo>
                    <a:lnTo>
                      <a:pt x="39" y="277"/>
                    </a:lnTo>
                    <a:lnTo>
                      <a:pt x="27" y="293"/>
                    </a:lnTo>
                    <a:lnTo>
                      <a:pt x="22" y="308"/>
                    </a:lnTo>
                    <a:lnTo>
                      <a:pt x="14" y="326"/>
                    </a:lnTo>
                    <a:lnTo>
                      <a:pt x="10" y="343"/>
                    </a:lnTo>
                    <a:lnTo>
                      <a:pt x="4" y="359"/>
                    </a:lnTo>
                    <a:lnTo>
                      <a:pt x="2" y="376"/>
                    </a:lnTo>
                    <a:lnTo>
                      <a:pt x="0" y="395"/>
                    </a:lnTo>
                    <a:lnTo>
                      <a:pt x="2" y="415"/>
                    </a:lnTo>
                    <a:lnTo>
                      <a:pt x="219" y="432"/>
                    </a:lnTo>
                    <a:lnTo>
                      <a:pt x="235" y="438"/>
                    </a:lnTo>
                    <a:lnTo>
                      <a:pt x="252" y="448"/>
                    </a:lnTo>
                    <a:lnTo>
                      <a:pt x="268" y="458"/>
                    </a:lnTo>
                    <a:lnTo>
                      <a:pt x="283" y="469"/>
                    </a:lnTo>
                    <a:lnTo>
                      <a:pt x="297" y="479"/>
                    </a:lnTo>
                    <a:lnTo>
                      <a:pt x="312" y="491"/>
                    </a:lnTo>
                    <a:lnTo>
                      <a:pt x="328" y="502"/>
                    </a:lnTo>
                    <a:lnTo>
                      <a:pt x="343" y="516"/>
                    </a:lnTo>
                    <a:lnTo>
                      <a:pt x="355" y="527"/>
                    </a:lnTo>
                    <a:lnTo>
                      <a:pt x="369" y="541"/>
                    </a:lnTo>
                    <a:lnTo>
                      <a:pt x="380" y="554"/>
                    </a:lnTo>
                    <a:lnTo>
                      <a:pt x="394" y="570"/>
                    </a:lnTo>
                    <a:lnTo>
                      <a:pt x="403" y="584"/>
                    </a:lnTo>
                    <a:lnTo>
                      <a:pt x="415" y="599"/>
                    </a:lnTo>
                    <a:lnTo>
                      <a:pt x="427" y="615"/>
                    </a:lnTo>
                    <a:lnTo>
                      <a:pt x="438" y="632"/>
                    </a:lnTo>
                    <a:lnTo>
                      <a:pt x="446" y="646"/>
                    </a:lnTo>
                    <a:lnTo>
                      <a:pt x="456" y="661"/>
                    </a:lnTo>
                    <a:lnTo>
                      <a:pt x="466" y="677"/>
                    </a:lnTo>
                    <a:lnTo>
                      <a:pt x="475" y="694"/>
                    </a:lnTo>
                    <a:lnTo>
                      <a:pt x="483" y="710"/>
                    </a:lnTo>
                    <a:lnTo>
                      <a:pt x="491" y="727"/>
                    </a:lnTo>
                    <a:lnTo>
                      <a:pt x="498" y="745"/>
                    </a:lnTo>
                    <a:lnTo>
                      <a:pt x="508" y="762"/>
                    </a:lnTo>
                    <a:lnTo>
                      <a:pt x="514" y="777"/>
                    </a:lnTo>
                    <a:lnTo>
                      <a:pt x="522" y="795"/>
                    </a:lnTo>
                    <a:lnTo>
                      <a:pt x="529" y="812"/>
                    </a:lnTo>
                    <a:lnTo>
                      <a:pt x="537" y="830"/>
                    </a:lnTo>
                    <a:lnTo>
                      <a:pt x="543" y="845"/>
                    </a:lnTo>
                    <a:lnTo>
                      <a:pt x="549" y="863"/>
                    </a:lnTo>
                    <a:lnTo>
                      <a:pt x="555" y="880"/>
                    </a:lnTo>
                    <a:lnTo>
                      <a:pt x="562" y="898"/>
                    </a:lnTo>
                    <a:lnTo>
                      <a:pt x="562" y="907"/>
                    </a:lnTo>
                    <a:lnTo>
                      <a:pt x="562" y="919"/>
                    </a:lnTo>
                    <a:lnTo>
                      <a:pt x="562" y="931"/>
                    </a:lnTo>
                    <a:lnTo>
                      <a:pt x="562" y="942"/>
                    </a:lnTo>
                    <a:lnTo>
                      <a:pt x="562" y="954"/>
                    </a:lnTo>
                    <a:lnTo>
                      <a:pt x="562" y="966"/>
                    </a:lnTo>
                    <a:lnTo>
                      <a:pt x="562" y="977"/>
                    </a:lnTo>
                    <a:lnTo>
                      <a:pt x="562" y="989"/>
                    </a:lnTo>
                    <a:lnTo>
                      <a:pt x="562" y="1000"/>
                    </a:lnTo>
                    <a:lnTo>
                      <a:pt x="562" y="1012"/>
                    </a:lnTo>
                    <a:lnTo>
                      <a:pt x="562" y="1024"/>
                    </a:lnTo>
                    <a:lnTo>
                      <a:pt x="562" y="1037"/>
                    </a:lnTo>
                    <a:lnTo>
                      <a:pt x="562" y="1049"/>
                    </a:lnTo>
                    <a:lnTo>
                      <a:pt x="562" y="1061"/>
                    </a:lnTo>
                    <a:lnTo>
                      <a:pt x="562" y="1072"/>
                    </a:lnTo>
                    <a:lnTo>
                      <a:pt x="562" y="1086"/>
                    </a:lnTo>
                    <a:lnTo>
                      <a:pt x="561" y="1097"/>
                    </a:lnTo>
                    <a:lnTo>
                      <a:pt x="561" y="1109"/>
                    </a:lnTo>
                    <a:lnTo>
                      <a:pt x="561" y="1121"/>
                    </a:lnTo>
                    <a:lnTo>
                      <a:pt x="561" y="1132"/>
                    </a:lnTo>
                    <a:lnTo>
                      <a:pt x="559" y="1144"/>
                    </a:lnTo>
                    <a:lnTo>
                      <a:pt x="559" y="1156"/>
                    </a:lnTo>
                    <a:lnTo>
                      <a:pt x="559" y="1167"/>
                    </a:lnTo>
                    <a:lnTo>
                      <a:pt x="559" y="1181"/>
                    </a:lnTo>
                    <a:lnTo>
                      <a:pt x="557" y="1192"/>
                    </a:lnTo>
                    <a:lnTo>
                      <a:pt x="555" y="1204"/>
                    </a:lnTo>
                    <a:lnTo>
                      <a:pt x="553" y="1216"/>
                    </a:lnTo>
                    <a:lnTo>
                      <a:pt x="553" y="1229"/>
                    </a:lnTo>
                    <a:lnTo>
                      <a:pt x="551" y="1241"/>
                    </a:lnTo>
                    <a:lnTo>
                      <a:pt x="549" y="1253"/>
                    </a:lnTo>
                    <a:lnTo>
                      <a:pt x="547" y="1264"/>
                    </a:lnTo>
                    <a:lnTo>
                      <a:pt x="547" y="1278"/>
                    </a:lnTo>
                    <a:lnTo>
                      <a:pt x="543" y="1287"/>
                    </a:lnTo>
                    <a:lnTo>
                      <a:pt x="541" y="1299"/>
                    </a:lnTo>
                    <a:lnTo>
                      <a:pt x="537" y="1311"/>
                    </a:lnTo>
                    <a:lnTo>
                      <a:pt x="535" y="1322"/>
                    </a:lnTo>
                    <a:lnTo>
                      <a:pt x="531" y="1334"/>
                    </a:lnTo>
                    <a:lnTo>
                      <a:pt x="529" y="1346"/>
                    </a:lnTo>
                    <a:lnTo>
                      <a:pt x="526" y="1357"/>
                    </a:lnTo>
                    <a:lnTo>
                      <a:pt x="524" y="1369"/>
                    </a:lnTo>
                    <a:lnTo>
                      <a:pt x="518" y="1379"/>
                    </a:lnTo>
                    <a:lnTo>
                      <a:pt x="516" y="1390"/>
                    </a:lnTo>
                    <a:lnTo>
                      <a:pt x="510" y="1400"/>
                    </a:lnTo>
                    <a:lnTo>
                      <a:pt x="508" y="1412"/>
                    </a:lnTo>
                    <a:lnTo>
                      <a:pt x="502" y="1421"/>
                    </a:lnTo>
                    <a:lnTo>
                      <a:pt x="498" y="1433"/>
                    </a:lnTo>
                    <a:lnTo>
                      <a:pt x="495" y="1445"/>
                    </a:lnTo>
                    <a:lnTo>
                      <a:pt x="491" y="1456"/>
                    </a:lnTo>
                    <a:lnTo>
                      <a:pt x="477" y="1476"/>
                    </a:lnTo>
                    <a:lnTo>
                      <a:pt x="466" y="1495"/>
                    </a:lnTo>
                    <a:lnTo>
                      <a:pt x="452" y="1514"/>
                    </a:lnTo>
                    <a:lnTo>
                      <a:pt x="438" y="1534"/>
                    </a:lnTo>
                    <a:lnTo>
                      <a:pt x="421" y="1551"/>
                    </a:lnTo>
                    <a:lnTo>
                      <a:pt x="405" y="1569"/>
                    </a:lnTo>
                    <a:lnTo>
                      <a:pt x="388" y="1586"/>
                    </a:lnTo>
                    <a:lnTo>
                      <a:pt x="371" y="1605"/>
                    </a:lnTo>
                    <a:lnTo>
                      <a:pt x="384" y="1611"/>
                    </a:lnTo>
                    <a:lnTo>
                      <a:pt x="398" y="1617"/>
                    </a:lnTo>
                    <a:lnTo>
                      <a:pt x="411" y="1623"/>
                    </a:lnTo>
                    <a:lnTo>
                      <a:pt x="427" y="1631"/>
                    </a:lnTo>
                    <a:lnTo>
                      <a:pt x="440" y="1635"/>
                    </a:lnTo>
                    <a:lnTo>
                      <a:pt x="454" y="1640"/>
                    </a:lnTo>
                    <a:lnTo>
                      <a:pt x="467" y="1646"/>
                    </a:lnTo>
                    <a:lnTo>
                      <a:pt x="483" y="1652"/>
                    </a:lnTo>
                    <a:lnTo>
                      <a:pt x="497" y="1656"/>
                    </a:lnTo>
                    <a:lnTo>
                      <a:pt x="510" y="1660"/>
                    </a:lnTo>
                    <a:lnTo>
                      <a:pt x="524" y="1664"/>
                    </a:lnTo>
                    <a:lnTo>
                      <a:pt x="539" y="1669"/>
                    </a:lnTo>
                    <a:lnTo>
                      <a:pt x="553" y="1671"/>
                    </a:lnTo>
                    <a:lnTo>
                      <a:pt x="568" y="1675"/>
                    </a:lnTo>
                    <a:lnTo>
                      <a:pt x="582" y="1679"/>
                    </a:lnTo>
                    <a:lnTo>
                      <a:pt x="597" y="1683"/>
                    </a:lnTo>
                    <a:lnTo>
                      <a:pt x="609" y="1683"/>
                    </a:lnTo>
                    <a:lnTo>
                      <a:pt x="624" y="1685"/>
                    </a:lnTo>
                    <a:lnTo>
                      <a:pt x="636" y="1687"/>
                    </a:lnTo>
                    <a:lnTo>
                      <a:pt x="652" y="1689"/>
                    </a:lnTo>
                    <a:lnTo>
                      <a:pt x="665" y="1689"/>
                    </a:lnTo>
                    <a:lnTo>
                      <a:pt x="679" y="1691"/>
                    </a:lnTo>
                    <a:lnTo>
                      <a:pt x="692" y="1693"/>
                    </a:lnTo>
                    <a:lnTo>
                      <a:pt x="708" y="1695"/>
                    </a:lnTo>
                    <a:lnTo>
                      <a:pt x="721" y="1695"/>
                    </a:lnTo>
                    <a:lnTo>
                      <a:pt x="737" y="1695"/>
                    </a:lnTo>
                    <a:lnTo>
                      <a:pt x="751" y="1695"/>
                    </a:lnTo>
                    <a:lnTo>
                      <a:pt x="766" y="1695"/>
                    </a:lnTo>
                    <a:lnTo>
                      <a:pt x="780" y="1695"/>
                    </a:lnTo>
                    <a:lnTo>
                      <a:pt x="795" y="1695"/>
                    </a:lnTo>
                    <a:lnTo>
                      <a:pt x="809" y="1695"/>
                    </a:lnTo>
                    <a:lnTo>
                      <a:pt x="826" y="1695"/>
                    </a:lnTo>
                    <a:lnTo>
                      <a:pt x="834" y="1681"/>
                    </a:lnTo>
                    <a:lnTo>
                      <a:pt x="844" y="1668"/>
                    </a:lnTo>
                    <a:lnTo>
                      <a:pt x="851" y="1654"/>
                    </a:lnTo>
                    <a:lnTo>
                      <a:pt x="861" y="1640"/>
                    </a:lnTo>
                    <a:lnTo>
                      <a:pt x="869" y="1625"/>
                    </a:lnTo>
                    <a:lnTo>
                      <a:pt x="877" y="1609"/>
                    </a:lnTo>
                    <a:lnTo>
                      <a:pt x="884" y="1594"/>
                    </a:lnTo>
                    <a:lnTo>
                      <a:pt x="892" y="1580"/>
                    </a:lnTo>
                    <a:lnTo>
                      <a:pt x="898" y="1563"/>
                    </a:lnTo>
                    <a:lnTo>
                      <a:pt x="904" y="1547"/>
                    </a:lnTo>
                    <a:lnTo>
                      <a:pt x="909" y="1530"/>
                    </a:lnTo>
                    <a:lnTo>
                      <a:pt x="917" y="1514"/>
                    </a:lnTo>
                    <a:lnTo>
                      <a:pt x="923" y="1497"/>
                    </a:lnTo>
                    <a:lnTo>
                      <a:pt x="929" y="1479"/>
                    </a:lnTo>
                    <a:lnTo>
                      <a:pt x="935" y="1462"/>
                    </a:lnTo>
                    <a:lnTo>
                      <a:pt x="941" y="1446"/>
                    </a:lnTo>
                    <a:lnTo>
                      <a:pt x="942" y="1427"/>
                    </a:lnTo>
                    <a:lnTo>
                      <a:pt x="948" y="1410"/>
                    </a:lnTo>
                    <a:lnTo>
                      <a:pt x="950" y="1390"/>
                    </a:lnTo>
                    <a:lnTo>
                      <a:pt x="956" y="1373"/>
                    </a:lnTo>
                    <a:lnTo>
                      <a:pt x="958" y="1353"/>
                    </a:lnTo>
                    <a:lnTo>
                      <a:pt x="962" y="1336"/>
                    </a:lnTo>
                    <a:lnTo>
                      <a:pt x="966" y="1317"/>
                    </a:lnTo>
                    <a:lnTo>
                      <a:pt x="970" y="1299"/>
                    </a:lnTo>
                    <a:lnTo>
                      <a:pt x="972" y="1280"/>
                    </a:lnTo>
                    <a:lnTo>
                      <a:pt x="973" y="1260"/>
                    </a:lnTo>
                    <a:lnTo>
                      <a:pt x="975" y="1243"/>
                    </a:lnTo>
                    <a:lnTo>
                      <a:pt x="979" y="1225"/>
                    </a:lnTo>
                    <a:lnTo>
                      <a:pt x="979" y="1206"/>
                    </a:lnTo>
                    <a:lnTo>
                      <a:pt x="983" y="1189"/>
                    </a:lnTo>
                    <a:lnTo>
                      <a:pt x="983" y="1171"/>
                    </a:lnTo>
                    <a:lnTo>
                      <a:pt x="987" y="1154"/>
                    </a:lnTo>
                    <a:lnTo>
                      <a:pt x="987" y="1134"/>
                    </a:lnTo>
                    <a:lnTo>
                      <a:pt x="989" y="1117"/>
                    </a:lnTo>
                    <a:lnTo>
                      <a:pt x="989" y="1099"/>
                    </a:lnTo>
                    <a:lnTo>
                      <a:pt x="991" y="1084"/>
                    </a:lnTo>
                    <a:lnTo>
                      <a:pt x="991" y="1066"/>
                    </a:lnTo>
                    <a:lnTo>
                      <a:pt x="991" y="1049"/>
                    </a:lnTo>
                    <a:lnTo>
                      <a:pt x="991" y="1033"/>
                    </a:lnTo>
                    <a:lnTo>
                      <a:pt x="993" y="1020"/>
                    </a:lnTo>
                    <a:lnTo>
                      <a:pt x="993" y="1002"/>
                    </a:lnTo>
                    <a:lnTo>
                      <a:pt x="993" y="987"/>
                    </a:lnTo>
                    <a:lnTo>
                      <a:pt x="993" y="971"/>
                    </a:lnTo>
                    <a:lnTo>
                      <a:pt x="993" y="960"/>
                    </a:lnTo>
                    <a:lnTo>
                      <a:pt x="993" y="944"/>
                    </a:lnTo>
                    <a:lnTo>
                      <a:pt x="993" y="933"/>
                    </a:lnTo>
                    <a:lnTo>
                      <a:pt x="993" y="921"/>
                    </a:lnTo>
                    <a:lnTo>
                      <a:pt x="995" y="909"/>
                    </a:lnTo>
                    <a:lnTo>
                      <a:pt x="993" y="898"/>
                    </a:lnTo>
                    <a:lnTo>
                      <a:pt x="993" y="886"/>
                    </a:lnTo>
                    <a:lnTo>
                      <a:pt x="993" y="874"/>
                    </a:lnTo>
                    <a:lnTo>
                      <a:pt x="993" y="867"/>
                    </a:lnTo>
                    <a:lnTo>
                      <a:pt x="991" y="849"/>
                    </a:lnTo>
                    <a:lnTo>
                      <a:pt x="991" y="836"/>
                    </a:lnTo>
                    <a:lnTo>
                      <a:pt x="991" y="822"/>
                    </a:lnTo>
                    <a:lnTo>
                      <a:pt x="991" y="814"/>
                    </a:lnTo>
                    <a:lnTo>
                      <a:pt x="991" y="809"/>
                    </a:lnTo>
                    <a:close/>
                  </a:path>
                </a:pathLst>
              </a:custGeom>
              <a:solidFill>
                <a:srgbClr val="5e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385800" y="3522600"/>
                <a:ext cx="695160" cy="1067400"/>
              </a:xfrm>
              <a:custGeom>
                <a:avLst/>
                <a:gdLst/>
                <a:ahLst/>
                <a:rect l="l" t="t" r="r" b="b"/>
                <a:pathLst>
                  <a:path w="1140" h="1751">
                    <a:moveTo>
                      <a:pt x="1140" y="961"/>
                    </a:moveTo>
                    <a:lnTo>
                      <a:pt x="1135" y="971"/>
                    </a:lnTo>
                    <a:lnTo>
                      <a:pt x="1129" y="981"/>
                    </a:lnTo>
                    <a:lnTo>
                      <a:pt x="1123" y="992"/>
                    </a:lnTo>
                    <a:lnTo>
                      <a:pt x="1117" y="1004"/>
                    </a:lnTo>
                    <a:lnTo>
                      <a:pt x="1111" y="1014"/>
                    </a:lnTo>
                    <a:lnTo>
                      <a:pt x="1105" y="1025"/>
                    </a:lnTo>
                    <a:lnTo>
                      <a:pt x="1100" y="1037"/>
                    </a:lnTo>
                    <a:lnTo>
                      <a:pt x="1096" y="1049"/>
                    </a:lnTo>
                    <a:lnTo>
                      <a:pt x="1082" y="1064"/>
                    </a:lnTo>
                    <a:lnTo>
                      <a:pt x="1071" y="1080"/>
                    </a:lnTo>
                    <a:lnTo>
                      <a:pt x="1057" y="1095"/>
                    </a:lnTo>
                    <a:lnTo>
                      <a:pt x="1043" y="1111"/>
                    </a:lnTo>
                    <a:lnTo>
                      <a:pt x="1028" y="1124"/>
                    </a:lnTo>
                    <a:lnTo>
                      <a:pt x="1012" y="1140"/>
                    </a:lnTo>
                    <a:lnTo>
                      <a:pt x="997" y="1153"/>
                    </a:lnTo>
                    <a:lnTo>
                      <a:pt x="981" y="1167"/>
                    </a:lnTo>
                    <a:lnTo>
                      <a:pt x="962" y="1177"/>
                    </a:lnTo>
                    <a:lnTo>
                      <a:pt x="945" y="1184"/>
                    </a:lnTo>
                    <a:lnTo>
                      <a:pt x="925" y="1190"/>
                    </a:lnTo>
                    <a:lnTo>
                      <a:pt x="908" y="1198"/>
                    </a:lnTo>
                    <a:lnTo>
                      <a:pt x="896" y="1198"/>
                    </a:lnTo>
                    <a:lnTo>
                      <a:pt x="886" y="1198"/>
                    </a:lnTo>
                    <a:lnTo>
                      <a:pt x="875" y="1198"/>
                    </a:lnTo>
                    <a:lnTo>
                      <a:pt x="865" y="1200"/>
                    </a:lnTo>
                    <a:lnTo>
                      <a:pt x="853" y="1198"/>
                    </a:lnTo>
                    <a:lnTo>
                      <a:pt x="842" y="1196"/>
                    </a:lnTo>
                    <a:lnTo>
                      <a:pt x="830" y="1194"/>
                    </a:lnTo>
                    <a:lnTo>
                      <a:pt x="820" y="1192"/>
                    </a:lnTo>
                    <a:lnTo>
                      <a:pt x="803" y="1184"/>
                    </a:lnTo>
                    <a:lnTo>
                      <a:pt x="789" y="1177"/>
                    </a:lnTo>
                    <a:lnTo>
                      <a:pt x="774" y="1169"/>
                    </a:lnTo>
                    <a:lnTo>
                      <a:pt x="762" y="1161"/>
                    </a:lnTo>
                    <a:lnTo>
                      <a:pt x="751" y="1151"/>
                    </a:lnTo>
                    <a:lnTo>
                      <a:pt x="739" y="1142"/>
                    </a:lnTo>
                    <a:lnTo>
                      <a:pt x="727" y="1132"/>
                    </a:lnTo>
                    <a:lnTo>
                      <a:pt x="720" y="1124"/>
                    </a:lnTo>
                    <a:lnTo>
                      <a:pt x="708" y="1113"/>
                    </a:lnTo>
                    <a:lnTo>
                      <a:pt x="700" y="1101"/>
                    </a:lnTo>
                    <a:lnTo>
                      <a:pt x="693" y="1089"/>
                    </a:lnTo>
                    <a:lnTo>
                      <a:pt x="687" y="1078"/>
                    </a:lnTo>
                    <a:lnTo>
                      <a:pt x="679" y="1064"/>
                    </a:lnTo>
                    <a:lnTo>
                      <a:pt x="673" y="1053"/>
                    </a:lnTo>
                    <a:lnTo>
                      <a:pt x="669" y="1039"/>
                    </a:lnTo>
                    <a:lnTo>
                      <a:pt x="665" y="1027"/>
                    </a:lnTo>
                    <a:lnTo>
                      <a:pt x="660" y="1012"/>
                    </a:lnTo>
                    <a:lnTo>
                      <a:pt x="656" y="998"/>
                    </a:lnTo>
                    <a:lnTo>
                      <a:pt x="652" y="983"/>
                    </a:lnTo>
                    <a:lnTo>
                      <a:pt x="650" y="969"/>
                    </a:lnTo>
                    <a:lnTo>
                      <a:pt x="646" y="954"/>
                    </a:lnTo>
                    <a:lnTo>
                      <a:pt x="644" y="940"/>
                    </a:lnTo>
                    <a:lnTo>
                      <a:pt x="642" y="927"/>
                    </a:lnTo>
                    <a:lnTo>
                      <a:pt x="642" y="913"/>
                    </a:lnTo>
                    <a:lnTo>
                      <a:pt x="640" y="897"/>
                    </a:lnTo>
                    <a:lnTo>
                      <a:pt x="638" y="884"/>
                    </a:lnTo>
                    <a:lnTo>
                      <a:pt x="636" y="868"/>
                    </a:lnTo>
                    <a:lnTo>
                      <a:pt x="636" y="855"/>
                    </a:lnTo>
                    <a:lnTo>
                      <a:pt x="636" y="839"/>
                    </a:lnTo>
                    <a:lnTo>
                      <a:pt x="636" y="826"/>
                    </a:lnTo>
                    <a:lnTo>
                      <a:pt x="636" y="810"/>
                    </a:lnTo>
                    <a:lnTo>
                      <a:pt x="636" y="799"/>
                    </a:lnTo>
                    <a:lnTo>
                      <a:pt x="636" y="783"/>
                    </a:lnTo>
                    <a:lnTo>
                      <a:pt x="636" y="769"/>
                    </a:lnTo>
                    <a:lnTo>
                      <a:pt x="638" y="756"/>
                    </a:lnTo>
                    <a:lnTo>
                      <a:pt x="640" y="742"/>
                    </a:lnTo>
                    <a:lnTo>
                      <a:pt x="642" y="727"/>
                    </a:lnTo>
                    <a:lnTo>
                      <a:pt x="646" y="715"/>
                    </a:lnTo>
                    <a:lnTo>
                      <a:pt x="648" y="700"/>
                    </a:lnTo>
                    <a:lnTo>
                      <a:pt x="652" y="688"/>
                    </a:lnTo>
                    <a:lnTo>
                      <a:pt x="654" y="674"/>
                    </a:lnTo>
                    <a:lnTo>
                      <a:pt x="658" y="661"/>
                    </a:lnTo>
                    <a:lnTo>
                      <a:pt x="663" y="647"/>
                    </a:lnTo>
                    <a:lnTo>
                      <a:pt x="669" y="636"/>
                    </a:lnTo>
                    <a:lnTo>
                      <a:pt x="673" y="624"/>
                    </a:lnTo>
                    <a:lnTo>
                      <a:pt x="679" y="612"/>
                    </a:lnTo>
                    <a:lnTo>
                      <a:pt x="685" y="601"/>
                    </a:lnTo>
                    <a:lnTo>
                      <a:pt x="693" y="589"/>
                    </a:lnTo>
                    <a:lnTo>
                      <a:pt x="698" y="576"/>
                    </a:lnTo>
                    <a:lnTo>
                      <a:pt x="704" y="564"/>
                    </a:lnTo>
                    <a:lnTo>
                      <a:pt x="710" y="552"/>
                    </a:lnTo>
                    <a:lnTo>
                      <a:pt x="720" y="543"/>
                    </a:lnTo>
                    <a:lnTo>
                      <a:pt x="725" y="531"/>
                    </a:lnTo>
                    <a:lnTo>
                      <a:pt x="735" y="519"/>
                    </a:lnTo>
                    <a:lnTo>
                      <a:pt x="743" y="510"/>
                    </a:lnTo>
                    <a:lnTo>
                      <a:pt x="753" y="502"/>
                    </a:lnTo>
                    <a:lnTo>
                      <a:pt x="760" y="490"/>
                    </a:lnTo>
                    <a:lnTo>
                      <a:pt x="770" y="481"/>
                    </a:lnTo>
                    <a:lnTo>
                      <a:pt x="782" y="471"/>
                    </a:lnTo>
                    <a:lnTo>
                      <a:pt x="793" y="465"/>
                    </a:lnTo>
                    <a:lnTo>
                      <a:pt x="803" y="455"/>
                    </a:lnTo>
                    <a:lnTo>
                      <a:pt x="815" y="450"/>
                    </a:lnTo>
                    <a:lnTo>
                      <a:pt x="826" y="444"/>
                    </a:lnTo>
                    <a:lnTo>
                      <a:pt x="840" y="438"/>
                    </a:lnTo>
                    <a:lnTo>
                      <a:pt x="848" y="432"/>
                    </a:lnTo>
                    <a:lnTo>
                      <a:pt x="859" y="430"/>
                    </a:lnTo>
                    <a:lnTo>
                      <a:pt x="869" y="426"/>
                    </a:lnTo>
                    <a:lnTo>
                      <a:pt x="881" y="424"/>
                    </a:lnTo>
                    <a:lnTo>
                      <a:pt x="892" y="422"/>
                    </a:lnTo>
                    <a:lnTo>
                      <a:pt x="904" y="422"/>
                    </a:lnTo>
                    <a:lnTo>
                      <a:pt x="915" y="422"/>
                    </a:lnTo>
                    <a:lnTo>
                      <a:pt x="929" y="424"/>
                    </a:lnTo>
                    <a:lnTo>
                      <a:pt x="941" y="424"/>
                    </a:lnTo>
                    <a:lnTo>
                      <a:pt x="952" y="426"/>
                    </a:lnTo>
                    <a:lnTo>
                      <a:pt x="964" y="428"/>
                    </a:lnTo>
                    <a:lnTo>
                      <a:pt x="976" y="432"/>
                    </a:lnTo>
                    <a:lnTo>
                      <a:pt x="985" y="436"/>
                    </a:lnTo>
                    <a:lnTo>
                      <a:pt x="997" y="440"/>
                    </a:lnTo>
                    <a:lnTo>
                      <a:pt x="1007" y="446"/>
                    </a:lnTo>
                    <a:lnTo>
                      <a:pt x="1016" y="453"/>
                    </a:lnTo>
                    <a:lnTo>
                      <a:pt x="985" y="382"/>
                    </a:lnTo>
                    <a:lnTo>
                      <a:pt x="972" y="368"/>
                    </a:lnTo>
                    <a:lnTo>
                      <a:pt x="960" y="355"/>
                    </a:lnTo>
                    <a:lnTo>
                      <a:pt x="948" y="341"/>
                    </a:lnTo>
                    <a:lnTo>
                      <a:pt x="937" y="329"/>
                    </a:lnTo>
                    <a:lnTo>
                      <a:pt x="925" y="318"/>
                    </a:lnTo>
                    <a:lnTo>
                      <a:pt x="914" y="306"/>
                    </a:lnTo>
                    <a:lnTo>
                      <a:pt x="902" y="294"/>
                    </a:lnTo>
                    <a:lnTo>
                      <a:pt x="890" y="283"/>
                    </a:lnTo>
                    <a:lnTo>
                      <a:pt x="877" y="271"/>
                    </a:lnTo>
                    <a:lnTo>
                      <a:pt x="863" y="260"/>
                    </a:lnTo>
                    <a:lnTo>
                      <a:pt x="850" y="248"/>
                    </a:lnTo>
                    <a:lnTo>
                      <a:pt x="838" y="238"/>
                    </a:lnTo>
                    <a:lnTo>
                      <a:pt x="824" y="227"/>
                    </a:lnTo>
                    <a:lnTo>
                      <a:pt x="813" y="217"/>
                    </a:lnTo>
                    <a:lnTo>
                      <a:pt x="799" y="207"/>
                    </a:lnTo>
                    <a:lnTo>
                      <a:pt x="788" y="197"/>
                    </a:lnTo>
                    <a:lnTo>
                      <a:pt x="772" y="186"/>
                    </a:lnTo>
                    <a:lnTo>
                      <a:pt x="758" y="176"/>
                    </a:lnTo>
                    <a:lnTo>
                      <a:pt x="745" y="166"/>
                    </a:lnTo>
                    <a:lnTo>
                      <a:pt x="731" y="157"/>
                    </a:lnTo>
                    <a:lnTo>
                      <a:pt x="716" y="147"/>
                    </a:lnTo>
                    <a:lnTo>
                      <a:pt x="704" y="139"/>
                    </a:lnTo>
                    <a:lnTo>
                      <a:pt x="689" y="130"/>
                    </a:lnTo>
                    <a:lnTo>
                      <a:pt x="677" y="122"/>
                    </a:lnTo>
                    <a:lnTo>
                      <a:pt x="661" y="112"/>
                    </a:lnTo>
                    <a:lnTo>
                      <a:pt x="648" y="104"/>
                    </a:lnTo>
                    <a:lnTo>
                      <a:pt x="632" y="95"/>
                    </a:lnTo>
                    <a:lnTo>
                      <a:pt x="619" y="89"/>
                    </a:lnTo>
                    <a:lnTo>
                      <a:pt x="603" y="81"/>
                    </a:lnTo>
                    <a:lnTo>
                      <a:pt x="590" y="75"/>
                    </a:lnTo>
                    <a:lnTo>
                      <a:pt x="574" y="69"/>
                    </a:lnTo>
                    <a:lnTo>
                      <a:pt x="561" y="64"/>
                    </a:lnTo>
                    <a:lnTo>
                      <a:pt x="543" y="56"/>
                    </a:lnTo>
                    <a:lnTo>
                      <a:pt x="530" y="50"/>
                    </a:lnTo>
                    <a:lnTo>
                      <a:pt x="512" y="44"/>
                    </a:lnTo>
                    <a:lnTo>
                      <a:pt x="499" y="38"/>
                    </a:lnTo>
                    <a:lnTo>
                      <a:pt x="481" y="33"/>
                    </a:lnTo>
                    <a:lnTo>
                      <a:pt x="468" y="27"/>
                    </a:lnTo>
                    <a:lnTo>
                      <a:pt x="450" y="23"/>
                    </a:lnTo>
                    <a:lnTo>
                      <a:pt x="437" y="21"/>
                    </a:lnTo>
                    <a:lnTo>
                      <a:pt x="419" y="15"/>
                    </a:lnTo>
                    <a:lnTo>
                      <a:pt x="404" y="13"/>
                    </a:lnTo>
                    <a:lnTo>
                      <a:pt x="388" y="9"/>
                    </a:lnTo>
                    <a:lnTo>
                      <a:pt x="373" y="7"/>
                    </a:lnTo>
                    <a:lnTo>
                      <a:pt x="355" y="4"/>
                    </a:lnTo>
                    <a:lnTo>
                      <a:pt x="340" y="2"/>
                    </a:lnTo>
                    <a:lnTo>
                      <a:pt x="324" y="2"/>
                    </a:lnTo>
                    <a:lnTo>
                      <a:pt x="309" y="2"/>
                    </a:lnTo>
                    <a:lnTo>
                      <a:pt x="291" y="0"/>
                    </a:lnTo>
                    <a:lnTo>
                      <a:pt x="274" y="0"/>
                    </a:lnTo>
                    <a:lnTo>
                      <a:pt x="256" y="0"/>
                    </a:lnTo>
                    <a:lnTo>
                      <a:pt x="241" y="2"/>
                    </a:lnTo>
                    <a:lnTo>
                      <a:pt x="223" y="2"/>
                    </a:lnTo>
                    <a:lnTo>
                      <a:pt x="206" y="2"/>
                    </a:lnTo>
                    <a:lnTo>
                      <a:pt x="188" y="4"/>
                    </a:lnTo>
                    <a:lnTo>
                      <a:pt x="173" y="7"/>
                    </a:lnTo>
                    <a:lnTo>
                      <a:pt x="155" y="7"/>
                    </a:lnTo>
                    <a:lnTo>
                      <a:pt x="138" y="11"/>
                    </a:lnTo>
                    <a:lnTo>
                      <a:pt x="121" y="13"/>
                    </a:lnTo>
                    <a:lnTo>
                      <a:pt x="103" y="19"/>
                    </a:lnTo>
                    <a:lnTo>
                      <a:pt x="86" y="23"/>
                    </a:lnTo>
                    <a:lnTo>
                      <a:pt x="68" y="29"/>
                    </a:lnTo>
                    <a:lnTo>
                      <a:pt x="51" y="35"/>
                    </a:lnTo>
                    <a:lnTo>
                      <a:pt x="33" y="40"/>
                    </a:lnTo>
                    <a:lnTo>
                      <a:pt x="16" y="46"/>
                    </a:lnTo>
                    <a:lnTo>
                      <a:pt x="0" y="56"/>
                    </a:lnTo>
                    <a:lnTo>
                      <a:pt x="12" y="58"/>
                    </a:lnTo>
                    <a:lnTo>
                      <a:pt x="24" y="62"/>
                    </a:lnTo>
                    <a:lnTo>
                      <a:pt x="35" y="66"/>
                    </a:lnTo>
                    <a:lnTo>
                      <a:pt x="47" y="71"/>
                    </a:lnTo>
                    <a:lnTo>
                      <a:pt x="59" y="77"/>
                    </a:lnTo>
                    <a:lnTo>
                      <a:pt x="70" y="83"/>
                    </a:lnTo>
                    <a:lnTo>
                      <a:pt x="82" y="89"/>
                    </a:lnTo>
                    <a:lnTo>
                      <a:pt x="95" y="95"/>
                    </a:lnTo>
                    <a:lnTo>
                      <a:pt x="107" y="101"/>
                    </a:lnTo>
                    <a:lnTo>
                      <a:pt x="121" y="106"/>
                    </a:lnTo>
                    <a:lnTo>
                      <a:pt x="132" y="112"/>
                    </a:lnTo>
                    <a:lnTo>
                      <a:pt x="146" y="118"/>
                    </a:lnTo>
                    <a:lnTo>
                      <a:pt x="157" y="124"/>
                    </a:lnTo>
                    <a:lnTo>
                      <a:pt x="171" y="132"/>
                    </a:lnTo>
                    <a:lnTo>
                      <a:pt x="185" y="139"/>
                    </a:lnTo>
                    <a:lnTo>
                      <a:pt x="198" y="149"/>
                    </a:lnTo>
                    <a:lnTo>
                      <a:pt x="210" y="155"/>
                    </a:lnTo>
                    <a:lnTo>
                      <a:pt x="221" y="163"/>
                    </a:lnTo>
                    <a:lnTo>
                      <a:pt x="233" y="170"/>
                    </a:lnTo>
                    <a:lnTo>
                      <a:pt x="247" y="180"/>
                    </a:lnTo>
                    <a:lnTo>
                      <a:pt x="258" y="188"/>
                    </a:lnTo>
                    <a:lnTo>
                      <a:pt x="272" y="197"/>
                    </a:lnTo>
                    <a:lnTo>
                      <a:pt x="283" y="207"/>
                    </a:lnTo>
                    <a:lnTo>
                      <a:pt x="297" y="219"/>
                    </a:lnTo>
                    <a:lnTo>
                      <a:pt x="309" y="227"/>
                    </a:lnTo>
                    <a:lnTo>
                      <a:pt x="320" y="236"/>
                    </a:lnTo>
                    <a:lnTo>
                      <a:pt x="332" y="248"/>
                    </a:lnTo>
                    <a:lnTo>
                      <a:pt x="344" y="260"/>
                    </a:lnTo>
                    <a:lnTo>
                      <a:pt x="355" y="269"/>
                    </a:lnTo>
                    <a:lnTo>
                      <a:pt x="367" y="281"/>
                    </a:lnTo>
                    <a:lnTo>
                      <a:pt x="378" y="292"/>
                    </a:lnTo>
                    <a:lnTo>
                      <a:pt x="390" y="306"/>
                    </a:lnTo>
                    <a:lnTo>
                      <a:pt x="400" y="318"/>
                    </a:lnTo>
                    <a:lnTo>
                      <a:pt x="409" y="329"/>
                    </a:lnTo>
                    <a:lnTo>
                      <a:pt x="419" y="341"/>
                    </a:lnTo>
                    <a:lnTo>
                      <a:pt x="431" y="355"/>
                    </a:lnTo>
                    <a:lnTo>
                      <a:pt x="440" y="366"/>
                    </a:lnTo>
                    <a:lnTo>
                      <a:pt x="450" y="382"/>
                    </a:lnTo>
                    <a:lnTo>
                      <a:pt x="460" y="395"/>
                    </a:lnTo>
                    <a:lnTo>
                      <a:pt x="470" y="411"/>
                    </a:lnTo>
                    <a:lnTo>
                      <a:pt x="477" y="424"/>
                    </a:lnTo>
                    <a:lnTo>
                      <a:pt x="487" y="440"/>
                    </a:lnTo>
                    <a:lnTo>
                      <a:pt x="495" y="453"/>
                    </a:lnTo>
                    <a:lnTo>
                      <a:pt x="504" y="471"/>
                    </a:lnTo>
                    <a:lnTo>
                      <a:pt x="510" y="486"/>
                    </a:lnTo>
                    <a:lnTo>
                      <a:pt x="518" y="504"/>
                    </a:lnTo>
                    <a:lnTo>
                      <a:pt x="526" y="521"/>
                    </a:lnTo>
                    <a:lnTo>
                      <a:pt x="534" y="539"/>
                    </a:lnTo>
                    <a:lnTo>
                      <a:pt x="537" y="556"/>
                    </a:lnTo>
                    <a:lnTo>
                      <a:pt x="543" y="574"/>
                    </a:lnTo>
                    <a:lnTo>
                      <a:pt x="549" y="591"/>
                    </a:lnTo>
                    <a:lnTo>
                      <a:pt x="555" y="610"/>
                    </a:lnTo>
                    <a:lnTo>
                      <a:pt x="559" y="628"/>
                    </a:lnTo>
                    <a:lnTo>
                      <a:pt x="565" y="647"/>
                    </a:lnTo>
                    <a:lnTo>
                      <a:pt x="568" y="667"/>
                    </a:lnTo>
                    <a:lnTo>
                      <a:pt x="572" y="688"/>
                    </a:lnTo>
                    <a:lnTo>
                      <a:pt x="574" y="707"/>
                    </a:lnTo>
                    <a:lnTo>
                      <a:pt x="576" y="729"/>
                    </a:lnTo>
                    <a:lnTo>
                      <a:pt x="578" y="748"/>
                    </a:lnTo>
                    <a:lnTo>
                      <a:pt x="582" y="771"/>
                    </a:lnTo>
                    <a:lnTo>
                      <a:pt x="582" y="793"/>
                    </a:lnTo>
                    <a:lnTo>
                      <a:pt x="582" y="816"/>
                    </a:lnTo>
                    <a:lnTo>
                      <a:pt x="582" y="839"/>
                    </a:lnTo>
                    <a:lnTo>
                      <a:pt x="584" y="865"/>
                    </a:lnTo>
                    <a:lnTo>
                      <a:pt x="584" y="870"/>
                    </a:lnTo>
                    <a:lnTo>
                      <a:pt x="584" y="878"/>
                    </a:lnTo>
                    <a:lnTo>
                      <a:pt x="584" y="892"/>
                    </a:lnTo>
                    <a:lnTo>
                      <a:pt x="584" y="905"/>
                    </a:lnTo>
                    <a:lnTo>
                      <a:pt x="586" y="923"/>
                    </a:lnTo>
                    <a:lnTo>
                      <a:pt x="586" y="930"/>
                    </a:lnTo>
                    <a:lnTo>
                      <a:pt x="586" y="942"/>
                    </a:lnTo>
                    <a:lnTo>
                      <a:pt x="586" y="954"/>
                    </a:lnTo>
                    <a:lnTo>
                      <a:pt x="588" y="965"/>
                    </a:lnTo>
                    <a:lnTo>
                      <a:pt x="586" y="977"/>
                    </a:lnTo>
                    <a:lnTo>
                      <a:pt x="586" y="989"/>
                    </a:lnTo>
                    <a:lnTo>
                      <a:pt x="586" y="1000"/>
                    </a:lnTo>
                    <a:lnTo>
                      <a:pt x="586" y="1016"/>
                    </a:lnTo>
                    <a:lnTo>
                      <a:pt x="586" y="1027"/>
                    </a:lnTo>
                    <a:lnTo>
                      <a:pt x="586" y="1043"/>
                    </a:lnTo>
                    <a:lnTo>
                      <a:pt x="586" y="1058"/>
                    </a:lnTo>
                    <a:lnTo>
                      <a:pt x="586" y="1076"/>
                    </a:lnTo>
                    <a:lnTo>
                      <a:pt x="584" y="1089"/>
                    </a:lnTo>
                    <a:lnTo>
                      <a:pt x="584" y="1105"/>
                    </a:lnTo>
                    <a:lnTo>
                      <a:pt x="584" y="1122"/>
                    </a:lnTo>
                    <a:lnTo>
                      <a:pt x="584" y="1140"/>
                    </a:lnTo>
                    <a:lnTo>
                      <a:pt x="582" y="1155"/>
                    </a:lnTo>
                    <a:lnTo>
                      <a:pt x="582" y="1173"/>
                    </a:lnTo>
                    <a:lnTo>
                      <a:pt x="580" y="1190"/>
                    </a:lnTo>
                    <a:lnTo>
                      <a:pt x="580" y="1210"/>
                    </a:lnTo>
                    <a:lnTo>
                      <a:pt x="576" y="1227"/>
                    </a:lnTo>
                    <a:lnTo>
                      <a:pt x="576" y="1245"/>
                    </a:lnTo>
                    <a:lnTo>
                      <a:pt x="572" y="1262"/>
                    </a:lnTo>
                    <a:lnTo>
                      <a:pt x="572" y="1281"/>
                    </a:lnTo>
                    <a:lnTo>
                      <a:pt x="568" y="1299"/>
                    </a:lnTo>
                    <a:lnTo>
                      <a:pt x="566" y="1316"/>
                    </a:lnTo>
                    <a:lnTo>
                      <a:pt x="565" y="1336"/>
                    </a:lnTo>
                    <a:lnTo>
                      <a:pt x="563" y="1355"/>
                    </a:lnTo>
                    <a:lnTo>
                      <a:pt x="559" y="1373"/>
                    </a:lnTo>
                    <a:lnTo>
                      <a:pt x="555" y="1392"/>
                    </a:lnTo>
                    <a:lnTo>
                      <a:pt x="551" y="1409"/>
                    </a:lnTo>
                    <a:lnTo>
                      <a:pt x="549" y="1429"/>
                    </a:lnTo>
                    <a:lnTo>
                      <a:pt x="543" y="1446"/>
                    </a:lnTo>
                    <a:lnTo>
                      <a:pt x="541" y="1466"/>
                    </a:lnTo>
                    <a:lnTo>
                      <a:pt x="535" y="1483"/>
                    </a:lnTo>
                    <a:lnTo>
                      <a:pt x="534" y="1502"/>
                    </a:lnTo>
                    <a:lnTo>
                      <a:pt x="528" y="1518"/>
                    </a:lnTo>
                    <a:lnTo>
                      <a:pt x="522" y="1535"/>
                    </a:lnTo>
                    <a:lnTo>
                      <a:pt x="516" y="1553"/>
                    </a:lnTo>
                    <a:lnTo>
                      <a:pt x="510" y="1570"/>
                    </a:lnTo>
                    <a:lnTo>
                      <a:pt x="502" y="1586"/>
                    </a:lnTo>
                    <a:lnTo>
                      <a:pt x="497" y="1603"/>
                    </a:lnTo>
                    <a:lnTo>
                      <a:pt x="491" y="1619"/>
                    </a:lnTo>
                    <a:lnTo>
                      <a:pt x="485" y="1636"/>
                    </a:lnTo>
                    <a:lnTo>
                      <a:pt x="477" y="1650"/>
                    </a:lnTo>
                    <a:lnTo>
                      <a:pt x="470" y="1665"/>
                    </a:lnTo>
                    <a:lnTo>
                      <a:pt x="462" y="1681"/>
                    </a:lnTo>
                    <a:lnTo>
                      <a:pt x="454" y="1696"/>
                    </a:lnTo>
                    <a:lnTo>
                      <a:pt x="444" y="1710"/>
                    </a:lnTo>
                    <a:lnTo>
                      <a:pt x="437" y="1724"/>
                    </a:lnTo>
                    <a:lnTo>
                      <a:pt x="427" y="1737"/>
                    </a:lnTo>
                    <a:lnTo>
                      <a:pt x="419" y="1751"/>
                    </a:lnTo>
                    <a:lnTo>
                      <a:pt x="439" y="1747"/>
                    </a:lnTo>
                    <a:lnTo>
                      <a:pt x="460" y="1745"/>
                    </a:lnTo>
                    <a:lnTo>
                      <a:pt x="471" y="1743"/>
                    </a:lnTo>
                    <a:lnTo>
                      <a:pt x="483" y="1741"/>
                    </a:lnTo>
                    <a:lnTo>
                      <a:pt x="495" y="1739"/>
                    </a:lnTo>
                    <a:lnTo>
                      <a:pt x="506" y="1739"/>
                    </a:lnTo>
                    <a:lnTo>
                      <a:pt x="516" y="1735"/>
                    </a:lnTo>
                    <a:lnTo>
                      <a:pt x="528" y="1735"/>
                    </a:lnTo>
                    <a:lnTo>
                      <a:pt x="539" y="1731"/>
                    </a:lnTo>
                    <a:lnTo>
                      <a:pt x="551" y="1731"/>
                    </a:lnTo>
                    <a:lnTo>
                      <a:pt x="563" y="1727"/>
                    </a:lnTo>
                    <a:lnTo>
                      <a:pt x="574" y="1727"/>
                    </a:lnTo>
                    <a:lnTo>
                      <a:pt x="586" y="1724"/>
                    </a:lnTo>
                    <a:lnTo>
                      <a:pt x="599" y="1724"/>
                    </a:lnTo>
                    <a:lnTo>
                      <a:pt x="613" y="1718"/>
                    </a:lnTo>
                    <a:lnTo>
                      <a:pt x="630" y="1714"/>
                    </a:lnTo>
                    <a:lnTo>
                      <a:pt x="644" y="1708"/>
                    </a:lnTo>
                    <a:lnTo>
                      <a:pt x="661" y="1704"/>
                    </a:lnTo>
                    <a:lnTo>
                      <a:pt x="675" y="1696"/>
                    </a:lnTo>
                    <a:lnTo>
                      <a:pt x="691" y="1691"/>
                    </a:lnTo>
                    <a:lnTo>
                      <a:pt x="704" y="1685"/>
                    </a:lnTo>
                    <a:lnTo>
                      <a:pt x="720" y="1679"/>
                    </a:lnTo>
                    <a:lnTo>
                      <a:pt x="731" y="1671"/>
                    </a:lnTo>
                    <a:lnTo>
                      <a:pt x="745" y="1663"/>
                    </a:lnTo>
                    <a:lnTo>
                      <a:pt x="758" y="1656"/>
                    </a:lnTo>
                    <a:lnTo>
                      <a:pt x="772" y="1648"/>
                    </a:lnTo>
                    <a:lnTo>
                      <a:pt x="784" y="1638"/>
                    </a:lnTo>
                    <a:lnTo>
                      <a:pt x="797" y="1630"/>
                    </a:lnTo>
                    <a:lnTo>
                      <a:pt x="811" y="1621"/>
                    </a:lnTo>
                    <a:lnTo>
                      <a:pt x="824" y="1613"/>
                    </a:lnTo>
                    <a:lnTo>
                      <a:pt x="834" y="1601"/>
                    </a:lnTo>
                    <a:lnTo>
                      <a:pt x="846" y="1592"/>
                    </a:lnTo>
                    <a:lnTo>
                      <a:pt x="855" y="1582"/>
                    </a:lnTo>
                    <a:lnTo>
                      <a:pt x="867" y="1572"/>
                    </a:lnTo>
                    <a:lnTo>
                      <a:pt x="877" y="1561"/>
                    </a:lnTo>
                    <a:lnTo>
                      <a:pt x="886" y="1549"/>
                    </a:lnTo>
                    <a:lnTo>
                      <a:pt x="896" y="1537"/>
                    </a:lnTo>
                    <a:lnTo>
                      <a:pt x="908" y="1528"/>
                    </a:lnTo>
                    <a:lnTo>
                      <a:pt x="915" y="1514"/>
                    </a:lnTo>
                    <a:lnTo>
                      <a:pt x="925" y="1502"/>
                    </a:lnTo>
                    <a:lnTo>
                      <a:pt x="935" y="1491"/>
                    </a:lnTo>
                    <a:lnTo>
                      <a:pt x="945" y="1479"/>
                    </a:lnTo>
                    <a:lnTo>
                      <a:pt x="952" y="1466"/>
                    </a:lnTo>
                    <a:lnTo>
                      <a:pt x="962" y="1454"/>
                    </a:lnTo>
                    <a:lnTo>
                      <a:pt x="970" y="1440"/>
                    </a:lnTo>
                    <a:lnTo>
                      <a:pt x="979" y="1429"/>
                    </a:lnTo>
                    <a:lnTo>
                      <a:pt x="985" y="1413"/>
                    </a:lnTo>
                    <a:lnTo>
                      <a:pt x="993" y="1400"/>
                    </a:lnTo>
                    <a:lnTo>
                      <a:pt x="1001" y="1386"/>
                    </a:lnTo>
                    <a:lnTo>
                      <a:pt x="1009" y="1373"/>
                    </a:lnTo>
                    <a:lnTo>
                      <a:pt x="1014" y="1357"/>
                    </a:lnTo>
                    <a:lnTo>
                      <a:pt x="1022" y="1343"/>
                    </a:lnTo>
                    <a:lnTo>
                      <a:pt x="1028" y="1330"/>
                    </a:lnTo>
                    <a:lnTo>
                      <a:pt x="1036" y="1316"/>
                    </a:lnTo>
                    <a:lnTo>
                      <a:pt x="1041" y="1301"/>
                    </a:lnTo>
                    <a:lnTo>
                      <a:pt x="1047" y="1285"/>
                    </a:lnTo>
                    <a:lnTo>
                      <a:pt x="1053" y="1270"/>
                    </a:lnTo>
                    <a:lnTo>
                      <a:pt x="1059" y="1256"/>
                    </a:lnTo>
                    <a:lnTo>
                      <a:pt x="1063" y="1241"/>
                    </a:lnTo>
                    <a:lnTo>
                      <a:pt x="1069" y="1227"/>
                    </a:lnTo>
                    <a:lnTo>
                      <a:pt x="1074" y="1212"/>
                    </a:lnTo>
                    <a:lnTo>
                      <a:pt x="1080" y="1198"/>
                    </a:lnTo>
                    <a:lnTo>
                      <a:pt x="1084" y="1181"/>
                    </a:lnTo>
                    <a:lnTo>
                      <a:pt x="1088" y="1167"/>
                    </a:lnTo>
                    <a:lnTo>
                      <a:pt x="1092" y="1150"/>
                    </a:lnTo>
                    <a:lnTo>
                      <a:pt x="1096" y="1136"/>
                    </a:lnTo>
                    <a:lnTo>
                      <a:pt x="1100" y="1120"/>
                    </a:lnTo>
                    <a:lnTo>
                      <a:pt x="1104" y="1107"/>
                    </a:lnTo>
                    <a:lnTo>
                      <a:pt x="1107" y="1091"/>
                    </a:lnTo>
                    <a:lnTo>
                      <a:pt x="1113" y="1078"/>
                    </a:lnTo>
                    <a:lnTo>
                      <a:pt x="1115" y="1060"/>
                    </a:lnTo>
                    <a:lnTo>
                      <a:pt x="1119" y="1047"/>
                    </a:lnTo>
                    <a:lnTo>
                      <a:pt x="1123" y="1031"/>
                    </a:lnTo>
                    <a:lnTo>
                      <a:pt x="1127" y="1018"/>
                    </a:lnTo>
                    <a:lnTo>
                      <a:pt x="1129" y="1002"/>
                    </a:lnTo>
                    <a:lnTo>
                      <a:pt x="1133" y="989"/>
                    </a:lnTo>
                    <a:lnTo>
                      <a:pt x="1136" y="973"/>
                    </a:lnTo>
                    <a:lnTo>
                      <a:pt x="1140" y="961"/>
                    </a:lnTo>
                    <a:close/>
                  </a:path>
                </a:pathLst>
              </a:custGeom>
              <a:solidFill>
                <a:srgbClr val="1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34920" y="4609800"/>
                <a:ext cx="197280" cy="125280"/>
              </a:xfrm>
              <a:custGeom>
                <a:avLst/>
                <a:gdLst/>
                <a:ahLst/>
                <a:rect l="l" t="t" r="r" b="b"/>
                <a:pathLst>
                  <a:path w="324" h="205">
                    <a:moveTo>
                      <a:pt x="161" y="190"/>
                    </a:moveTo>
                    <a:lnTo>
                      <a:pt x="175" y="182"/>
                    </a:lnTo>
                    <a:lnTo>
                      <a:pt x="192" y="176"/>
                    </a:lnTo>
                    <a:lnTo>
                      <a:pt x="208" y="170"/>
                    </a:lnTo>
                    <a:lnTo>
                      <a:pt x="225" y="164"/>
                    </a:lnTo>
                    <a:lnTo>
                      <a:pt x="241" y="155"/>
                    </a:lnTo>
                    <a:lnTo>
                      <a:pt x="258" y="147"/>
                    </a:lnTo>
                    <a:lnTo>
                      <a:pt x="274" y="137"/>
                    </a:lnTo>
                    <a:lnTo>
                      <a:pt x="291" y="130"/>
                    </a:lnTo>
                    <a:lnTo>
                      <a:pt x="301" y="118"/>
                    </a:lnTo>
                    <a:lnTo>
                      <a:pt x="313" y="106"/>
                    </a:lnTo>
                    <a:lnTo>
                      <a:pt x="318" y="91"/>
                    </a:lnTo>
                    <a:lnTo>
                      <a:pt x="324" y="77"/>
                    </a:lnTo>
                    <a:lnTo>
                      <a:pt x="324" y="58"/>
                    </a:lnTo>
                    <a:lnTo>
                      <a:pt x="324" y="40"/>
                    </a:lnTo>
                    <a:lnTo>
                      <a:pt x="320" y="31"/>
                    </a:lnTo>
                    <a:lnTo>
                      <a:pt x="316" y="21"/>
                    </a:lnTo>
                    <a:lnTo>
                      <a:pt x="311" y="9"/>
                    </a:lnTo>
                    <a:lnTo>
                      <a:pt x="307" y="0"/>
                    </a:lnTo>
                    <a:lnTo>
                      <a:pt x="287" y="4"/>
                    </a:lnTo>
                    <a:lnTo>
                      <a:pt x="268" y="9"/>
                    </a:lnTo>
                    <a:lnTo>
                      <a:pt x="249" y="13"/>
                    </a:lnTo>
                    <a:lnTo>
                      <a:pt x="229" y="19"/>
                    </a:lnTo>
                    <a:lnTo>
                      <a:pt x="210" y="23"/>
                    </a:lnTo>
                    <a:lnTo>
                      <a:pt x="190" y="29"/>
                    </a:lnTo>
                    <a:lnTo>
                      <a:pt x="171" y="33"/>
                    </a:lnTo>
                    <a:lnTo>
                      <a:pt x="154" y="38"/>
                    </a:lnTo>
                    <a:lnTo>
                      <a:pt x="134" y="40"/>
                    </a:lnTo>
                    <a:lnTo>
                      <a:pt x="115" y="46"/>
                    </a:lnTo>
                    <a:lnTo>
                      <a:pt x="95" y="48"/>
                    </a:lnTo>
                    <a:lnTo>
                      <a:pt x="76" y="54"/>
                    </a:lnTo>
                    <a:lnTo>
                      <a:pt x="57" y="56"/>
                    </a:lnTo>
                    <a:lnTo>
                      <a:pt x="37" y="60"/>
                    </a:lnTo>
                    <a:lnTo>
                      <a:pt x="18" y="62"/>
                    </a:lnTo>
                    <a:lnTo>
                      <a:pt x="0" y="66"/>
                    </a:lnTo>
                    <a:lnTo>
                      <a:pt x="0" y="199"/>
                    </a:lnTo>
                    <a:lnTo>
                      <a:pt x="18" y="201"/>
                    </a:lnTo>
                    <a:lnTo>
                      <a:pt x="39" y="203"/>
                    </a:lnTo>
                    <a:lnTo>
                      <a:pt x="57" y="203"/>
                    </a:lnTo>
                    <a:lnTo>
                      <a:pt x="78" y="205"/>
                    </a:lnTo>
                    <a:lnTo>
                      <a:pt x="97" y="201"/>
                    </a:lnTo>
                    <a:lnTo>
                      <a:pt x="119" y="199"/>
                    </a:lnTo>
                    <a:lnTo>
                      <a:pt x="128" y="196"/>
                    </a:lnTo>
                    <a:lnTo>
                      <a:pt x="138" y="194"/>
                    </a:lnTo>
                    <a:lnTo>
                      <a:pt x="150" y="192"/>
                    </a:lnTo>
                    <a:lnTo>
                      <a:pt x="161" y="190"/>
                    </a:lnTo>
                    <a:close/>
                  </a:path>
                </a:pathLst>
              </a:custGeom>
              <a:solidFill>
                <a:srgbClr val="58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494520" y="4650120"/>
                <a:ext cx="140040" cy="81720"/>
              </a:xfrm>
              <a:custGeom>
                <a:avLst/>
                <a:gdLst/>
                <a:ahLst/>
                <a:rect l="l" t="t" r="r" b="b"/>
                <a:pathLst>
                  <a:path w="230" h="133">
                    <a:moveTo>
                      <a:pt x="0" y="3"/>
                    </a:moveTo>
                    <a:lnTo>
                      <a:pt x="0" y="75"/>
                    </a:lnTo>
                    <a:lnTo>
                      <a:pt x="13" y="75"/>
                    </a:lnTo>
                    <a:lnTo>
                      <a:pt x="27" y="79"/>
                    </a:lnTo>
                    <a:lnTo>
                      <a:pt x="40" y="81"/>
                    </a:lnTo>
                    <a:lnTo>
                      <a:pt x="56" y="85"/>
                    </a:lnTo>
                    <a:lnTo>
                      <a:pt x="70" y="87"/>
                    </a:lnTo>
                    <a:lnTo>
                      <a:pt x="85" y="91"/>
                    </a:lnTo>
                    <a:lnTo>
                      <a:pt x="99" y="95"/>
                    </a:lnTo>
                    <a:lnTo>
                      <a:pt x="114" y="100"/>
                    </a:lnTo>
                    <a:lnTo>
                      <a:pt x="128" y="104"/>
                    </a:lnTo>
                    <a:lnTo>
                      <a:pt x="143" y="108"/>
                    </a:lnTo>
                    <a:lnTo>
                      <a:pt x="157" y="112"/>
                    </a:lnTo>
                    <a:lnTo>
                      <a:pt x="172" y="118"/>
                    </a:lnTo>
                    <a:lnTo>
                      <a:pt x="186" y="122"/>
                    </a:lnTo>
                    <a:lnTo>
                      <a:pt x="201" y="126"/>
                    </a:lnTo>
                    <a:lnTo>
                      <a:pt x="215" y="130"/>
                    </a:lnTo>
                    <a:lnTo>
                      <a:pt x="230" y="133"/>
                    </a:lnTo>
                    <a:lnTo>
                      <a:pt x="230" y="0"/>
                    </a:lnTo>
                    <a:lnTo>
                      <a:pt x="215" y="0"/>
                    </a:lnTo>
                    <a:lnTo>
                      <a:pt x="201" y="2"/>
                    </a:lnTo>
                    <a:lnTo>
                      <a:pt x="186" y="2"/>
                    </a:lnTo>
                    <a:lnTo>
                      <a:pt x="174" y="3"/>
                    </a:lnTo>
                    <a:lnTo>
                      <a:pt x="159" y="3"/>
                    </a:lnTo>
                    <a:lnTo>
                      <a:pt x="145" y="5"/>
                    </a:lnTo>
                    <a:lnTo>
                      <a:pt x="130" y="5"/>
                    </a:lnTo>
                    <a:lnTo>
                      <a:pt x="118" y="7"/>
                    </a:lnTo>
                    <a:lnTo>
                      <a:pt x="102" y="5"/>
                    </a:lnTo>
                    <a:lnTo>
                      <a:pt x="87" y="5"/>
                    </a:lnTo>
                    <a:lnTo>
                      <a:pt x="71" y="5"/>
                    </a:lnTo>
                    <a:lnTo>
                      <a:pt x="58" y="5"/>
                    </a:lnTo>
                    <a:lnTo>
                      <a:pt x="42" y="3"/>
                    </a:lnTo>
                    <a:lnTo>
                      <a:pt x="29" y="3"/>
                    </a:lnTo>
                    <a:lnTo>
                      <a:pt x="1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8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649320" y="4764960"/>
                <a:ext cx="591120" cy="1060920"/>
              </a:xfrm>
              <a:custGeom>
                <a:avLst/>
                <a:gdLst/>
                <a:ahLst/>
                <a:rect l="l" t="t" r="r" b="b"/>
                <a:pathLst>
                  <a:path w="969" h="1741">
                    <a:moveTo>
                      <a:pt x="523" y="415"/>
                    </a:moveTo>
                    <a:lnTo>
                      <a:pt x="537" y="415"/>
                    </a:lnTo>
                    <a:lnTo>
                      <a:pt x="552" y="419"/>
                    </a:lnTo>
                    <a:lnTo>
                      <a:pt x="564" y="422"/>
                    </a:lnTo>
                    <a:lnTo>
                      <a:pt x="577" y="428"/>
                    </a:lnTo>
                    <a:lnTo>
                      <a:pt x="589" y="432"/>
                    </a:lnTo>
                    <a:lnTo>
                      <a:pt x="601" y="438"/>
                    </a:lnTo>
                    <a:lnTo>
                      <a:pt x="610" y="446"/>
                    </a:lnTo>
                    <a:lnTo>
                      <a:pt x="622" y="455"/>
                    </a:lnTo>
                    <a:lnTo>
                      <a:pt x="638" y="471"/>
                    </a:lnTo>
                    <a:lnTo>
                      <a:pt x="655" y="492"/>
                    </a:lnTo>
                    <a:lnTo>
                      <a:pt x="661" y="502"/>
                    </a:lnTo>
                    <a:lnTo>
                      <a:pt x="669" y="514"/>
                    </a:lnTo>
                    <a:lnTo>
                      <a:pt x="676" y="525"/>
                    </a:lnTo>
                    <a:lnTo>
                      <a:pt x="684" y="537"/>
                    </a:lnTo>
                    <a:lnTo>
                      <a:pt x="690" y="548"/>
                    </a:lnTo>
                    <a:lnTo>
                      <a:pt x="696" y="560"/>
                    </a:lnTo>
                    <a:lnTo>
                      <a:pt x="702" y="572"/>
                    </a:lnTo>
                    <a:lnTo>
                      <a:pt x="709" y="583"/>
                    </a:lnTo>
                    <a:lnTo>
                      <a:pt x="715" y="595"/>
                    </a:lnTo>
                    <a:lnTo>
                      <a:pt x="721" y="607"/>
                    </a:lnTo>
                    <a:lnTo>
                      <a:pt x="729" y="618"/>
                    </a:lnTo>
                    <a:lnTo>
                      <a:pt x="738" y="630"/>
                    </a:lnTo>
                    <a:lnTo>
                      <a:pt x="744" y="640"/>
                    </a:lnTo>
                    <a:lnTo>
                      <a:pt x="754" y="651"/>
                    </a:lnTo>
                    <a:lnTo>
                      <a:pt x="764" y="661"/>
                    </a:lnTo>
                    <a:lnTo>
                      <a:pt x="775" y="673"/>
                    </a:lnTo>
                    <a:lnTo>
                      <a:pt x="785" y="680"/>
                    </a:lnTo>
                    <a:lnTo>
                      <a:pt x="797" y="690"/>
                    </a:lnTo>
                    <a:lnTo>
                      <a:pt x="808" y="698"/>
                    </a:lnTo>
                    <a:lnTo>
                      <a:pt x="824" y="707"/>
                    </a:lnTo>
                    <a:lnTo>
                      <a:pt x="839" y="696"/>
                    </a:lnTo>
                    <a:lnTo>
                      <a:pt x="857" y="688"/>
                    </a:lnTo>
                    <a:lnTo>
                      <a:pt x="876" y="676"/>
                    </a:lnTo>
                    <a:lnTo>
                      <a:pt x="895" y="669"/>
                    </a:lnTo>
                    <a:lnTo>
                      <a:pt x="913" y="659"/>
                    </a:lnTo>
                    <a:lnTo>
                      <a:pt x="932" y="649"/>
                    </a:lnTo>
                    <a:lnTo>
                      <a:pt x="950" y="640"/>
                    </a:lnTo>
                    <a:lnTo>
                      <a:pt x="969" y="630"/>
                    </a:lnTo>
                    <a:lnTo>
                      <a:pt x="946" y="595"/>
                    </a:lnTo>
                    <a:lnTo>
                      <a:pt x="942" y="591"/>
                    </a:lnTo>
                    <a:lnTo>
                      <a:pt x="938" y="585"/>
                    </a:lnTo>
                    <a:lnTo>
                      <a:pt x="928" y="574"/>
                    </a:lnTo>
                    <a:lnTo>
                      <a:pt x="919" y="560"/>
                    </a:lnTo>
                    <a:lnTo>
                      <a:pt x="903" y="541"/>
                    </a:lnTo>
                    <a:lnTo>
                      <a:pt x="888" y="521"/>
                    </a:lnTo>
                    <a:lnTo>
                      <a:pt x="878" y="508"/>
                    </a:lnTo>
                    <a:lnTo>
                      <a:pt x="868" y="496"/>
                    </a:lnTo>
                    <a:lnTo>
                      <a:pt x="859" y="484"/>
                    </a:lnTo>
                    <a:lnTo>
                      <a:pt x="849" y="473"/>
                    </a:lnTo>
                    <a:lnTo>
                      <a:pt x="835" y="457"/>
                    </a:lnTo>
                    <a:lnTo>
                      <a:pt x="824" y="444"/>
                    </a:lnTo>
                    <a:lnTo>
                      <a:pt x="812" y="428"/>
                    </a:lnTo>
                    <a:lnTo>
                      <a:pt x="800" y="415"/>
                    </a:lnTo>
                    <a:lnTo>
                      <a:pt x="787" y="399"/>
                    </a:lnTo>
                    <a:lnTo>
                      <a:pt x="773" y="384"/>
                    </a:lnTo>
                    <a:lnTo>
                      <a:pt x="760" y="368"/>
                    </a:lnTo>
                    <a:lnTo>
                      <a:pt x="746" y="353"/>
                    </a:lnTo>
                    <a:lnTo>
                      <a:pt x="731" y="335"/>
                    </a:lnTo>
                    <a:lnTo>
                      <a:pt x="715" y="320"/>
                    </a:lnTo>
                    <a:lnTo>
                      <a:pt x="700" y="302"/>
                    </a:lnTo>
                    <a:lnTo>
                      <a:pt x="686" y="287"/>
                    </a:lnTo>
                    <a:lnTo>
                      <a:pt x="669" y="269"/>
                    </a:lnTo>
                    <a:lnTo>
                      <a:pt x="655" y="254"/>
                    </a:lnTo>
                    <a:lnTo>
                      <a:pt x="638" y="238"/>
                    </a:lnTo>
                    <a:lnTo>
                      <a:pt x="624" y="223"/>
                    </a:lnTo>
                    <a:lnTo>
                      <a:pt x="612" y="211"/>
                    </a:lnTo>
                    <a:lnTo>
                      <a:pt x="601" y="203"/>
                    </a:lnTo>
                    <a:lnTo>
                      <a:pt x="589" y="192"/>
                    </a:lnTo>
                    <a:lnTo>
                      <a:pt x="579" y="184"/>
                    </a:lnTo>
                    <a:lnTo>
                      <a:pt x="566" y="174"/>
                    </a:lnTo>
                    <a:lnTo>
                      <a:pt x="554" y="166"/>
                    </a:lnTo>
                    <a:lnTo>
                      <a:pt x="541" y="157"/>
                    </a:lnTo>
                    <a:lnTo>
                      <a:pt x="529" y="151"/>
                    </a:lnTo>
                    <a:lnTo>
                      <a:pt x="513" y="141"/>
                    </a:lnTo>
                    <a:lnTo>
                      <a:pt x="500" y="133"/>
                    </a:lnTo>
                    <a:lnTo>
                      <a:pt x="486" y="126"/>
                    </a:lnTo>
                    <a:lnTo>
                      <a:pt x="473" y="118"/>
                    </a:lnTo>
                    <a:lnTo>
                      <a:pt x="457" y="110"/>
                    </a:lnTo>
                    <a:lnTo>
                      <a:pt x="444" y="102"/>
                    </a:lnTo>
                    <a:lnTo>
                      <a:pt x="428" y="97"/>
                    </a:lnTo>
                    <a:lnTo>
                      <a:pt x="415" y="91"/>
                    </a:lnTo>
                    <a:lnTo>
                      <a:pt x="397" y="83"/>
                    </a:lnTo>
                    <a:lnTo>
                      <a:pt x="382" y="75"/>
                    </a:lnTo>
                    <a:lnTo>
                      <a:pt x="366" y="68"/>
                    </a:lnTo>
                    <a:lnTo>
                      <a:pt x="351" y="62"/>
                    </a:lnTo>
                    <a:lnTo>
                      <a:pt x="335" y="56"/>
                    </a:lnTo>
                    <a:lnTo>
                      <a:pt x="320" y="50"/>
                    </a:lnTo>
                    <a:lnTo>
                      <a:pt x="304" y="44"/>
                    </a:lnTo>
                    <a:lnTo>
                      <a:pt x="289" y="38"/>
                    </a:lnTo>
                    <a:lnTo>
                      <a:pt x="271" y="33"/>
                    </a:lnTo>
                    <a:lnTo>
                      <a:pt x="256" y="27"/>
                    </a:lnTo>
                    <a:lnTo>
                      <a:pt x="240" y="21"/>
                    </a:lnTo>
                    <a:lnTo>
                      <a:pt x="225" y="17"/>
                    </a:lnTo>
                    <a:lnTo>
                      <a:pt x="209" y="11"/>
                    </a:lnTo>
                    <a:lnTo>
                      <a:pt x="196" y="7"/>
                    </a:lnTo>
                    <a:lnTo>
                      <a:pt x="180" y="4"/>
                    </a:lnTo>
                    <a:lnTo>
                      <a:pt x="168" y="0"/>
                    </a:lnTo>
                    <a:lnTo>
                      <a:pt x="149" y="2"/>
                    </a:lnTo>
                    <a:lnTo>
                      <a:pt x="130" y="6"/>
                    </a:lnTo>
                    <a:lnTo>
                      <a:pt x="110" y="7"/>
                    </a:lnTo>
                    <a:lnTo>
                      <a:pt x="93" y="13"/>
                    </a:lnTo>
                    <a:lnTo>
                      <a:pt x="73" y="17"/>
                    </a:lnTo>
                    <a:lnTo>
                      <a:pt x="54" y="21"/>
                    </a:lnTo>
                    <a:lnTo>
                      <a:pt x="37" y="27"/>
                    </a:lnTo>
                    <a:lnTo>
                      <a:pt x="19" y="35"/>
                    </a:lnTo>
                    <a:lnTo>
                      <a:pt x="25" y="48"/>
                    </a:lnTo>
                    <a:lnTo>
                      <a:pt x="31" y="66"/>
                    </a:lnTo>
                    <a:lnTo>
                      <a:pt x="37" y="85"/>
                    </a:lnTo>
                    <a:lnTo>
                      <a:pt x="42" y="104"/>
                    </a:lnTo>
                    <a:lnTo>
                      <a:pt x="44" y="122"/>
                    </a:lnTo>
                    <a:lnTo>
                      <a:pt x="48" y="143"/>
                    </a:lnTo>
                    <a:lnTo>
                      <a:pt x="48" y="153"/>
                    </a:lnTo>
                    <a:lnTo>
                      <a:pt x="48" y="165"/>
                    </a:lnTo>
                    <a:lnTo>
                      <a:pt x="48" y="174"/>
                    </a:lnTo>
                    <a:lnTo>
                      <a:pt x="50" y="186"/>
                    </a:lnTo>
                    <a:lnTo>
                      <a:pt x="48" y="205"/>
                    </a:lnTo>
                    <a:lnTo>
                      <a:pt x="46" y="227"/>
                    </a:lnTo>
                    <a:lnTo>
                      <a:pt x="42" y="246"/>
                    </a:lnTo>
                    <a:lnTo>
                      <a:pt x="40" y="267"/>
                    </a:lnTo>
                    <a:lnTo>
                      <a:pt x="35" y="285"/>
                    </a:lnTo>
                    <a:lnTo>
                      <a:pt x="29" y="304"/>
                    </a:lnTo>
                    <a:lnTo>
                      <a:pt x="21" y="322"/>
                    </a:lnTo>
                    <a:lnTo>
                      <a:pt x="15" y="339"/>
                    </a:lnTo>
                    <a:lnTo>
                      <a:pt x="9" y="353"/>
                    </a:lnTo>
                    <a:lnTo>
                      <a:pt x="6" y="368"/>
                    </a:lnTo>
                    <a:lnTo>
                      <a:pt x="2" y="384"/>
                    </a:lnTo>
                    <a:lnTo>
                      <a:pt x="2" y="401"/>
                    </a:lnTo>
                    <a:lnTo>
                      <a:pt x="0" y="417"/>
                    </a:lnTo>
                    <a:lnTo>
                      <a:pt x="0" y="434"/>
                    </a:lnTo>
                    <a:lnTo>
                      <a:pt x="0" y="450"/>
                    </a:lnTo>
                    <a:lnTo>
                      <a:pt x="2" y="467"/>
                    </a:lnTo>
                    <a:lnTo>
                      <a:pt x="2" y="483"/>
                    </a:lnTo>
                    <a:lnTo>
                      <a:pt x="6" y="498"/>
                    </a:lnTo>
                    <a:lnTo>
                      <a:pt x="9" y="514"/>
                    </a:lnTo>
                    <a:lnTo>
                      <a:pt x="15" y="529"/>
                    </a:lnTo>
                    <a:lnTo>
                      <a:pt x="21" y="543"/>
                    </a:lnTo>
                    <a:lnTo>
                      <a:pt x="27" y="558"/>
                    </a:lnTo>
                    <a:lnTo>
                      <a:pt x="35" y="572"/>
                    </a:lnTo>
                    <a:lnTo>
                      <a:pt x="44" y="587"/>
                    </a:lnTo>
                    <a:lnTo>
                      <a:pt x="42" y="607"/>
                    </a:lnTo>
                    <a:lnTo>
                      <a:pt x="42" y="628"/>
                    </a:lnTo>
                    <a:lnTo>
                      <a:pt x="42" y="638"/>
                    </a:lnTo>
                    <a:lnTo>
                      <a:pt x="42" y="647"/>
                    </a:lnTo>
                    <a:lnTo>
                      <a:pt x="42" y="659"/>
                    </a:lnTo>
                    <a:lnTo>
                      <a:pt x="42" y="671"/>
                    </a:lnTo>
                    <a:lnTo>
                      <a:pt x="40" y="690"/>
                    </a:lnTo>
                    <a:lnTo>
                      <a:pt x="40" y="711"/>
                    </a:lnTo>
                    <a:lnTo>
                      <a:pt x="40" y="721"/>
                    </a:lnTo>
                    <a:lnTo>
                      <a:pt x="40" y="733"/>
                    </a:lnTo>
                    <a:lnTo>
                      <a:pt x="40" y="744"/>
                    </a:lnTo>
                    <a:lnTo>
                      <a:pt x="40" y="756"/>
                    </a:lnTo>
                    <a:lnTo>
                      <a:pt x="38" y="766"/>
                    </a:lnTo>
                    <a:lnTo>
                      <a:pt x="38" y="777"/>
                    </a:lnTo>
                    <a:lnTo>
                      <a:pt x="38" y="787"/>
                    </a:lnTo>
                    <a:lnTo>
                      <a:pt x="38" y="799"/>
                    </a:lnTo>
                    <a:lnTo>
                      <a:pt x="38" y="808"/>
                    </a:lnTo>
                    <a:lnTo>
                      <a:pt x="38" y="820"/>
                    </a:lnTo>
                    <a:lnTo>
                      <a:pt x="38" y="832"/>
                    </a:lnTo>
                    <a:lnTo>
                      <a:pt x="38" y="843"/>
                    </a:lnTo>
                    <a:lnTo>
                      <a:pt x="38" y="853"/>
                    </a:lnTo>
                    <a:lnTo>
                      <a:pt x="38" y="865"/>
                    </a:lnTo>
                    <a:lnTo>
                      <a:pt x="38" y="876"/>
                    </a:lnTo>
                    <a:lnTo>
                      <a:pt x="38" y="888"/>
                    </a:lnTo>
                    <a:lnTo>
                      <a:pt x="38" y="897"/>
                    </a:lnTo>
                    <a:lnTo>
                      <a:pt x="38" y="909"/>
                    </a:lnTo>
                    <a:lnTo>
                      <a:pt x="38" y="921"/>
                    </a:lnTo>
                    <a:lnTo>
                      <a:pt x="38" y="932"/>
                    </a:lnTo>
                    <a:lnTo>
                      <a:pt x="37" y="942"/>
                    </a:lnTo>
                    <a:lnTo>
                      <a:pt x="37" y="952"/>
                    </a:lnTo>
                    <a:lnTo>
                      <a:pt x="37" y="963"/>
                    </a:lnTo>
                    <a:lnTo>
                      <a:pt x="37" y="975"/>
                    </a:lnTo>
                    <a:lnTo>
                      <a:pt x="37" y="985"/>
                    </a:lnTo>
                    <a:lnTo>
                      <a:pt x="37" y="994"/>
                    </a:lnTo>
                    <a:lnTo>
                      <a:pt x="37" y="1006"/>
                    </a:lnTo>
                    <a:lnTo>
                      <a:pt x="37" y="1018"/>
                    </a:lnTo>
                    <a:lnTo>
                      <a:pt x="37" y="1027"/>
                    </a:lnTo>
                    <a:lnTo>
                      <a:pt x="37" y="1037"/>
                    </a:lnTo>
                    <a:lnTo>
                      <a:pt x="37" y="1049"/>
                    </a:lnTo>
                    <a:lnTo>
                      <a:pt x="38" y="1060"/>
                    </a:lnTo>
                    <a:lnTo>
                      <a:pt x="38" y="1070"/>
                    </a:lnTo>
                    <a:lnTo>
                      <a:pt x="40" y="1080"/>
                    </a:lnTo>
                    <a:lnTo>
                      <a:pt x="40" y="1091"/>
                    </a:lnTo>
                    <a:lnTo>
                      <a:pt x="42" y="1103"/>
                    </a:lnTo>
                    <a:lnTo>
                      <a:pt x="42" y="1122"/>
                    </a:lnTo>
                    <a:lnTo>
                      <a:pt x="44" y="1144"/>
                    </a:lnTo>
                    <a:lnTo>
                      <a:pt x="46" y="1163"/>
                    </a:lnTo>
                    <a:lnTo>
                      <a:pt x="50" y="1184"/>
                    </a:lnTo>
                    <a:lnTo>
                      <a:pt x="52" y="1204"/>
                    </a:lnTo>
                    <a:lnTo>
                      <a:pt x="56" y="1225"/>
                    </a:lnTo>
                    <a:lnTo>
                      <a:pt x="60" y="1245"/>
                    </a:lnTo>
                    <a:lnTo>
                      <a:pt x="66" y="1266"/>
                    </a:lnTo>
                    <a:lnTo>
                      <a:pt x="83" y="1274"/>
                    </a:lnTo>
                    <a:lnTo>
                      <a:pt x="101" y="1285"/>
                    </a:lnTo>
                    <a:lnTo>
                      <a:pt x="118" y="1297"/>
                    </a:lnTo>
                    <a:lnTo>
                      <a:pt x="135" y="1310"/>
                    </a:lnTo>
                    <a:lnTo>
                      <a:pt x="149" y="1322"/>
                    </a:lnTo>
                    <a:lnTo>
                      <a:pt x="165" y="1338"/>
                    </a:lnTo>
                    <a:lnTo>
                      <a:pt x="178" y="1353"/>
                    </a:lnTo>
                    <a:lnTo>
                      <a:pt x="194" y="1371"/>
                    </a:lnTo>
                    <a:lnTo>
                      <a:pt x="205" y="1384"/>
                    </a:lnTo>
                    <a:lnTo>
                      <a:pt x="217" y="1402"/>
                    </a:lnTo>
                    <a:lnTo>
                      <a:pt x="228" y="1417"/>
                    </a:lnTo>
                    <a:lnTo>
                      <a:pt x="242" y="1435"/>
                    </a:lnTo>
                    <a:lnTo>
                      <a:pt x="254" y="1452"/>
                    </a:lnTo>
                    <a:lnTo>
                      <a:pt x="265" y="1469"/>
                    </a:lnTo>
                    <a:lnTo>
                      <a:pt x="277" y="1487"/>
                    </a:lnTo>
                    <a:lnTo>
                      <a:pt x="289" y="1506"/>
                    </a:lnTo>
                    <a:lnTo>
                      <a:pt x="298" y="1522"/>
                    </a:lnTo>
                    <a:lnTo>
                      <a:pt x="310" y="1539"/>
                    </a:lnTo>
                    <a:lnTo>
                      <a:pt x="322" y="1557"/>
                    </a:lnTo>
                    <a:lnTo>
                      <a:pt x="333" y="1574"/>
                    </a:lnTo>
                    <a:lnTo>
                      <a:pt x="345" y="1590"/>
                    </a:lnTo>
                    <a:lnTo>
                      <a:pt x="356" y="1605"/>
                    </a:lnTo>
                    <a:lnTo>
                      <a:pt x="368" y="1621"/>
                    </a:lnTo>
                    <a:lnTo>
                      <a:pt x="384" y="1638"/>
                    </a:lnTo>
                    <a:lnTo>
                      <a:pt x="397" y="1652"/>
                    </a:lnTo>
                    <a:lnTo>
                      <a:pt x="413" y="1665"/>
                    </a:lnTo>
                    <a:lnTo>
                      <a:pt x="428" y="1677"/>
                    </a:lnTo>
                    <a:lnTo>
                      <a:pt x="446" y="1691"/>
                    </a:lnTo>
                    <a:lnTo>
                      <a:pt x="463" y="1702"/>
                    </a:lnTo>
                    <a:lnTo>
                      <a:pt x="482" y="1714"/>
                    </a:lnTo>
                    <a:lnTo>
                      <a:pt x="492" y="1718"/>
                    </a:lnTo>
                    <a:lnTo>
                      <a:pt x="504" y="1723"/>
                    </a:lnTo>
                    <a:lnTo>
                      <a:pt x="515" y="1727"/>
                    </a:lnTo>
                    <a:lnTo>
                      <a:pt x="527" y="1733"/>
                    </a:lnTo>
                    <a:lnTo>
                      <a:pt x="546" y="1737"/>
                    </a:lnTo>
                    <a:lnTo>
                      <a:pt x="568" y="1741"/>
                    </a:lnTo>
                    <a:lnTo>
                      <a:pt x="587" y="1741"/>
                    </a:lnTo>
                    <a:lnTo>
                      <a:pt x="608" y="1741"/>
                    </a:lnTo>
                    <a:lnTo>
                      <a:pt x="626" y="1735"/>
                    </a:lnTo>
                    <a:lnTo>
                      <a:pt x="645" y="1731"/>
                    </a:lnTo>
                    <a:lnTo>
                      <a:pt x="665" y="1723"/>
                    </a:lnTo>
                    <a:lnTo>
                      <a:pt x="684" y="1716"/>
                    </a:lnTo>
                    <a:lnTo>
                      <a:pt x="674" y="1704"/>
                    </a:lnTo>
                    <a:lnTo>
                      <a:pt x="667" y="1692"/>
                    </a:lnTo>
                    <a:lnTo>
                      <a:pt x="657" y="1681"/>
                    </a:lnTo>
                    <a:lnTo>
                      <a:pt x="651" y="1671"/>
                    </a:lnTo>
                    <a:lnTo>
                      <a:pt x="641" y="1660"/>
                    </a:lnTo>
                    <a:lnTo>
                      <a:pt x="634" y="1650"/>
                    </a:lnTo>
                    <a:lnTo>
                      <a:pt x="624" y="1638"/>
                    </a:lnTo>
                    <a:lnTo>
                      <a:pt x="618" y="1628"/>
                    </a:lnTo>
                    <a:lnTo>
                      <a:pt x="608" y="1617"/>
                    </a:lnTo>
                    <a:lnTo>
                      <a:pt x="601" y="1605"/>
                    </a:lnTo>
                    <a:lnTo>
                      <a:pt x="593" y="1596"/>
                    </a:lnTo>
                    <a:lnTo>
                      <a:pt x="585" y="1586"/>
                    </a:lnTo>
                    <a:lnTo>
                      <a:pt x="570" y="1566"/>
                    </a:lnTo>
                    <a:lnTo>
                      <a:pt x="558" y="1549"/>
                    </a:lnTo>
                    <a:lnTo>
                      <a:pt x="545" y="1530"/>
                    </a:lnTo>
                    <a:lnTo>
                      <a:pt x="533" y="1514"/>
                    </a:lnTo>
                    <a:lnTo>
                      <a:pt x="521" y="1501"/>
                    </a:lnTo>
                    <a:lnTo>
                      <a:pt x="513" y="1489"/>
                    </a:lnTo>
                    <a:lnTo>
                      <a:pt x="502" y="1471"/>
                    </a:lnTo>
                    <a:lnTo>
                      <a:pt x="498" y="1468"/>
                    </a:lnTo>
                    <a:lnTo>
                      <a:pt x="494" y="1462"/>
                    </a:lnTo>
                    <a:lnTo>
                      <a:pt x="490" y="1450"/>
                    </a:lnTo>
                    <a:lnTo>
                      <a:pt x="486" y="1438"/>
                    </a:lnTo>
                    <a:lnTo>
                      <a:pt x="482" y="1429"/>
                    </a:lnTo>
                    <a:lnTo>
                      <a:pt x="477" y="1417"/>
                    </a:lnTo>
                    <a:lnTo>
                      <a:pt x="473" y="1405"/>
                    </a:lnTo>
                    <a:lnTo>
                      <a:pt x="465" y="1390"/>
                    </a:lnTo>
                    <a:lnTo>
                      <a:pt x="459" y="1374"/>
                    </a:lnTo>
                    <a:lnTo>
                      <a:pt x="453" y="1357"/>
                    </a:lnTo>
                    <a:lnTo>
                      <a:pt x="448" y="1340"/>
                    </a:lnTo>
                    <a:lnTo>
                      <a:pt x="440" y="1320"/>
                    </a:lnTo>
                    <a:lnTo>
                      <a:pt x="434" y="1303"/>
                    </a:lnTo>
                    <a:lnTo>
                      <a:pt x="426" y="1283"/>
                    </a:lnTo>
                    <a:lnTo>
                      <a:pt x="420" y="1264"/>
                    </a:lnTo>
                    <a:lnTo>
                      <a:pt x="415" y="1252"/>
                    </a:lnTo>
                    <a:lnTo>
                      <a:pt x="411" y="1243"/>
                    </a:lnTo>
                    <a:lnTo>
                      <a:pt x="407" y="1231"/>
                    </a:lnTo>
                    <a:lnTo>
                      <a:pt x="403" y="1221"/>
                    </a:lnTo>
                    <a:lnTo>
                      <a:pt x="395" y="1200"/>
                    </a:lnTo>
                    <a:lnTo>
                      <a:pt x="387" y="1181"/>
                    </a:lnTo>
                    <a:lnTo>
                      <a:pt x="382" y="1169"/>
                    </a:lnTo>
                    <a:lnTo>
                      <a:pt x="380" y="1157"/>
                    </a:lnTo>
                    <a:lnTo>
                      <a:pt x="374" y="1148"/>
                    </a:lnTo>
                    <a:lnTo>
                      <a:pt x="372" y="1138"/>
                    </a:lnTo>
                    <a:lnTo>
                      <a:pt x="366" y="1117"/>
                    </a:lnTo>
                    <a:lnTo>
                      <a:pt x="360" y="1099"/>
                    </a:lnTo>
                    <a:lnTo>
                      <a:pt x="355" y="1078"/>
                    </a:lnTo>
                    <a:lnTo>
                      <a:pt x="349" y="1058"/>
                    </a:lnTo>
                    <a:lnTo>
                      <a:pt x="343" y="1041"/>
                    </a:lnTo>
                    <a:lnTo>
                      <a:pt x="339" y="1025"/>
                    </a:lnTo>
                    <a:lnTo>
                      <a:pt x="333" y="1008"/>
                    </a:lnTo>
                    <a:lnTo>
                      <a:pt x="329" y="994"/>
                    </a:lnTo>
                    <a:lnTo>
                      <a:pt x="325" y="981"/>
                    </a:lnTo>
                    <a:lnTo>
                      <a:pt x="325" y="969"/>
                    </a:lnTo>
                    <a:lnTo>
                      <a:pt x="322" y="958"/>
                    </a:lnTo>
                    <a:lnTo>
                      <a:pt x="320" y="946"/>
                    </a:lnTo>
                    <a:lnTo>
                      <a:pt x="320" y="934"/>
                    </a:lnTo>
                    <a:lnTo>
                      <a:pt x="320" y="923"/>
                    </a:lnTo>
                    <a:lnTo>
                      <a:pt x="320" y="911"/>
                    </a:lnTo>
                    <a:lnTo>
                      <a:pt x="320" y="899"/>
                    </a:lnTo>
                    <a:lnTo>
                      <a:pt x="322" y="890"/>
                    </a:lnTo>
                    <a:lnTo>
                      <a:pt x="325" y="880"/>
                    </a:lnTo>
                    <a:lnTo>
                      <a:pt x="325" y="868"/>
                    </a:lnTo>
                    <a:lnTo>
                      <a:pt x="329" y="857"/>
                    </a:lnTo>
                    <a:lnTo>
                      <a:pt x="331" y="847"/>
                    </a:lnTo>
                    <a:lnTo>
                      <a:pt x="335" y="837"/>
                    </a:lnTo>
                    <a:lnTo>
                      <a:pt x="343" y="818"/>
                    </a:lnTo>
                    <a:lnTo>
                      <a:pt x="353" y="801"/>
                    </a:lnTo>
                    <a:lnTo>
                      <a:pt x="358" y="781"/>
                    </a:lnTo>
                    <a:lnTo>
                      <a:pt x="368" y="764"/>
                    </a:lnTo>
                    <a:lnTo>
                      <a:pt x="374" y="746"/>
                    </a:lnTo>
                    <a:lnTo>
                      <a:pt x="384" y="729"/>
                    </a:lnTo>
                    <a:lnTo>
                      <a:pt x="387" y="711"/>
                    </a:lnTo>
                    <a:lnTo>
                      <a:pt x="393" y="698"/>
                    </a:lnTo>
                    <a:lnTo>
                      <a:pt x="397" y="682"/>
                    </a:lnTo>
                    <a:lnTo>
                      <a:pt x="399" y="671"/>
                    </a:lnTo>
                    <a:lnTo>
                      <a:pt x="397" y="655"/>
                    </a:lnTo>
                    <a:lnTo>
                      <a:pt x="393" y="640"/>
                    </a:lnTo>
                    <a:lnTo>
                      <a:pt x="386" y="622"/>
                    </a:lnTo>
                    <a:lnTo>
                      <a:pt x="380" y="605"/>
                    </a:lnTo>
                    <a:lnTo>
                      <a:pt x="370" y="583"/>
                    </a:lnTo>
                    <a:lnTo>
                      <a:pt x="362" y="564"/>
                    </a:lnTo>
                    <a:lnTo>
                      <a:pt x="356" y="552"/>
                    </a:lnTo>
                    <a:lnTo>
                      <a:pt x="353" y="543"/>
                    </a:lnTo>
                    <a:lnTo>
                      <a:pt x="349" y="531"/>
                    </a:lnTo>
                    <a:lnTo>
                      <a:pt x="345" y="521"/>
                    </a:lnTo>
                    <a:lnTo>
                      <a:pt x="339" y="510"/>
                    </a:lnTo>
                    <a:lnTo>
                      <a:pt x="335" y="498"/>
                    </a:lnTo>
                    <a:lnTo>
                      <a:pt x="331" y="486"/>
                    </a:lnTo>
                    <a:lnTo>
                      <a:pt x="329" y="477"/>
                    </a:lnTo>
                    <a:lnTo>
                      <a:pt x="325" y="465"/>
                    </a:lnTo>
                    <a:lnTo>
                      <a:pt x="323" y="453"/>
                    </a:lnTo>
                    <a:lnTo>
                      <a:pt x="322" y="442"/>
                    </a:lnTo>
                    <a:lnTo>
                      <a:pt x="322" y="432"/>
                    </a:lnTo>
                    <a:lnTo>
                      <a:pt x="320" y="420"/>
                    </a:lnTo>
                    <a:lnTo>
                      <a:pt x="320" y="409"/>
                    </a:lnTo>
                    <a:lnTo>
                      <a:pt x="320" y="399"/>
                    </a:lnTo>
                    <a:lnTo>
                      <a:pt x="323" y="389"/>
                    </a:lnTo>
                    <a:lnTo>
                      <a:pt x="329" y="370"/>
                    </a:lnTo>
                    <a:lnTo>
                      <a:pt x="341" y="353"/>
                    </a:lnTo>
                    <a:lnTo>
                      <a:pt x="341" y="345"/>
                    </a:lnTo>
                    <a:lnTo>
                      <a:pt x="345" y="339"/>
                    </a:lnTo>
                    <a:lnTo>
                      <a:pt x="351" y="331"/>
                    </a:lnTo>
                    <a:lnTo>
                      <a:pt x="362" y="325"/>
                    </a:lnTo>
                    <a:lnTo>
                      <a:pt x="374" y="314"/>
                    </a:lnTo>
                    <a:lnTo>
                      <a:pt x="389" y="310"/>
                    </a:lnTo>
                    <a:lnTo>
                      <a:pt x="401" y="308"/>
                    </a:lnTo>
                    <a:lnTo>
                      <a:pt x="417" y="314"/>
                    </a:lnTo>
                    <a:lnTo>
                      <a:pt x="430" y="318"/>
                    </a:lnTo>
                    <a:lnTo>
                      <a:pt x="444" y="329"/>
                    </a:lnTo>
                    <a:lnTo>
                      <a:pt x="457" y="341"/>
                    </a:lnTo>
                    <a:lnTo>
                      <a:pt x="473" y="358"/>
                    </a:lnTo>
                    <a:lnTo>
                      <a:pt x="486" y="364"/>
                    </a:lnTo>
                    <a:lnTo>
                      <a:pt x="502" y="378"/>
                    </a:lnTo>
                    <a:lnTo>
                      <a:pt x="506" y="384"/>
                    </a:lnTo>
                    <a:lnTo>
                      <a:pt x="512" y="393"/>
                    </a:lnTo>
                    <a:lnTo>
                      <a:pt x="517" y="403"/>
                    </a:lnTo>
                    <a:lnTo>
                      <a:pt x="523" y="415"/>
                    </a:lnTo>
                    <a:close/>
                  </a:path>
                </a:pathLst>
              </a:custGeom>
              <a:solidFill>
                <a:srgbClr val="d4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70000" y="4952880"/>
                <a:ext cx="66600" cy="30240"/>
              </a:xfrm>
              <a:custGeom>
                <a:avLst/>
                <a:gdLst/>
                <a:ahLst/>
                <a:rect l="l" t="t" r="r" b="b"/>
                <a:pathLst>
                  <a:path w="111" h="50">
                    <a:moveTo>
                      <a:pt x="0" y="17"/>
                    </a:moveTo>
                    <a:lnTo>
                      <a:pt x="12" y="21"/>
                    </a:lnTo>
                    <a:lnTo>
                      <a:pt x="27" y="25"/>
                    </a:lnTo>
                    <a:lnTo>
                      <a:pt x="41" y="29"/>
                    </a:lnTo>
                    <a:lnTo>
                      <a:pt x="56" y="33"/>
                    </a:lnTo>
                    <a:lnTo>
                      <a:pt x="70" y="35"/>
                    </a:lnTo>
                    <a:lnTo>
                      <a:pt x="84" y="39"/>
                    </a:lnTo>
                    <a:lnTo>
                      <a:pt x="97" y="45"/>
                    </a:lnTo>
                    <a:lnTo>
                      <a:pt x="111" y="50"/>
                    </a:lnTo>
                    <a:lnTo>
                      <a:pt x="95" y="33"/>
                    </a:lnTo>
                    <a:lnTo>
                      <a:pt x="82" y="21"/>
                    </a:lnTo>
                    <a:lnTo>
                      <a:pt x="68" y="10"/>
                    </a:lnTo>
                    <a:lnTo>
                      <a:pt x="55" y="6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2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4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51920" y="4717440"/>
                <a:ext cx="532800" cy="431640"/>
              </a:xfrm>
              <a:custGeom>
                <a:avLst/>
                <a:gdLst/>
                <a:ahLst/>
                <a:rect l="l" t="t" r="r" b="b"/>
                <a:pathLst>
                  <a:path w="875" h="708">
                    <a:moveTo>
                      <a:pt x="778" y="673"/>
                    </a:moveTo>
                    <a:lnTo>
                      <a:pt x="801" y="708"/>
                    </a:lnTo>
                    <a:lnTo>
                      <a:pt x="815" y="694"/>
                    </a:lnTo>
                    <a:lnTo>
                      <a:pt x="830" y="683"/>
                    </a:lnTo>
                    <a:lnTo>
                      <a:pt x="842" y="669"/>
                    </a:lnTo>
                    <a:lnTo>
                      <a:pt x="853" y="657"/>
                    </a:lnTo>
                    <a:lnTo>
                      <a:pt x="861" y="640"/>
                    </a:lnTo>
                    <a:lnTo>
                      <a:pt x="869" y="623"/>
                    </a:lnTo>
                    <a:lnTo>
                      <a:pt x="873" y="603"/>
                    </a:lnTo>
                    <a:lnTo>
                      <a:pt x="875" y="584"/>
                    </a:lnTo>
                    <a:lnTo>
                      <a:pt x="559" y="235"/>
                    </a:lnTo>
                    <a:lnTo>
                      <a:pt x="545" y="219"/>
                    </a:lnTo>
                    <a:lnTo>
                      <a:pt x="534" y="206"/>
                    </a:lnTo>
                    <a:lnTo>
                      <a:pt x="522" y="190"/>
                    </a:lnTo>
                    <a:lnTo>
                      <a:pt x="510" y="175"/>
                    </a:lnTo>
                    <a:lnTo>
                      <a:pt x="497" y="157"/>
                    </a:lnTo>
                    <a:lnTo>
                      <a:pt x="485" y="142"/>
                    </a:lnTo>
                    <a:lnTo>
                      <a:pt x="473" y="126"/>
                    </a:lnTo>
                    <a:lnTo>
                      <a:pt x="462" y="111"/>
                    </a:lnTo>
                    <a:lnTo>
                      <a:pt x="446" y="93"/>
                    </a:lnTo>
                    <a:lnTo>
                      <a:pt x="433" y="80"/>
                    </a:lnTo>
                    <a:lnTo>
                      <a:pt x="417" y="66"/>
                    </a:lnTo>
                    <a:lnTo>
                      <a:pt x="404" y="56"/>
                    </a:lnTo>
                    <a:lnTo>
                      <a:pt x="386" y="45"/>
                    </a:lnTo>
                    <a:lnTo>
                      <a:pt x="369" y="39"/>
                    </a:lnTo>
                    <a:lnTo>
                      <a:pt x="349" y="33"/>
                    </a:lnTo>
                    <a:lnTo>
                      <a:pt x="330" y="31"/>
                    </a:lnTo>
                    <a:lnTo>
                      <a:pt x="311" y="16"/>
                    </a:lnTo>
                    <a:lnTo>
                      <a:pt x="291" y="14"/>
                    </a:lnTo>
                    <a:lnTo>
                      <a:pt x="272" y="16"/>
                    </a:lnTo>
                    <a:lnTo>
                      <a:pt x="254" y="23"/>
                    </a:lnTo>
                    <a:lnTo>
                      <a:pt x="235" y="27"/>
                    </a:lnTo>
                    <a:lnTo>
                      <a:pt x="218" y="27"/>
                    </a:lnTo>
                    <a:lnTo>
                      <a:pt x="208" y="23"/>
                    </a:lnTo>
                    <a:lnTo>
                      <a:pt x="200" y="20"/>
                    </a:lnTo>
                    <a:lnTo>
                      <a:pt x="192" y="10"/>
                    </a:lnTo>
                    <a:lnTo>
                      <a:pt x="187" y="0"/>
                    </a:lnTo>
                    <a:lnTo>
                      <a:pt x="175" y="8"/>
                    </a:lnTo>
                    <a:lnTo>
                      <a:pt x="163" y="16"/>
                    </a:lnTo>
                    <a:lnTo>
                      <a:pt x="152" y="21"/>
                    </a:lnTo>
                    <a:lnTo>
                      <a:pt x="142" y="29"/>
                    </a:lnTo>
                    <a:lnTo>
                      <a:pt x="130" y="33"/>
                    </a:lnTo>
                    <a:lnTo>
                      <a:pt x="119" y="39"/>
                    </a:lnTo>
                    <a:lnTo>
                      <a:pt x="107" y="45"/>
                    </a:lnTo>
                    <a:lnTo>
                      <a:pt x="97" y="51"/>
                    </a:lnTo>
                    <a:lnTo>
                      <a:pt x="84" y="52"/>
                    </a:lnTo>
                    <a:lnTo>
                      <a:pt x="72" y="56"/>
                    </a:lnTo>
                    <a:lnTo>
                      <a:pt x="60" y="60"/>
                    </a:lnTo>
                    <a:lnTo>
                      <a:pt x="49" y="64"/>
                    </a:lnTo>
                    <a:lnTo>
                      <a:pt x="35" y="66"/>
                    </a:lnTo>
                    <a:lnTo>
                      <a:pt x="24" y="70"/>
                    </a:lnTo>
                    <a:lnTo>
                      <a:pt x="12" y="74"/>
                    </a:lnTo>
                    <a:lnTo>
                      <a:pt x="0" y="78"/>
                    </a:lnTo>
                    <a:lnTo>
                      <a:pt x="12" y="82"/>
                    </a:lnTo>
                    <a:lnTo>
                      <a:pt x="28" y="85"/>
                    </a:lnTo>
                    <a:lnTo>
                      <a:pt x="41" y="89"/>
                    </a:lnTo>
                    <a:lnTo>
                      <a:pt x="57" y="95"/>
                    </a:lnTo>
                    <a:lnTo>
                      <a:pt x="72" y="99"/>
                    </a:lnTo>
                    <a:lnTo>
                      <a:pt x="88" y="105"/>
                    </a:lnTo>
                    <a:lnTo>
                      <a:pt x="103" y="111"/>
                    </a:lnTo>
                    <a:lnTo>
                      <a:pt x="121" y="116"/>
                    </a:lnTo>
                    <a:lnTo>
                      <a:pt x="136" y="122"/>
                    </a:lnTo>
                    <a:lnTo>
                      <a:pt x="152" y="128"/>
                    </a:lnTo>
                    <a:lnTo>
                      <a:pt x="167" y="134"/>
                    </a:lnTo>
                    <a:lnTo>
                      <a:pt x="183" y="140"/>
                    </a:lnTo>
                    <a:lnTo>
                      <a:pt x="198" y="146"/>
                    </a:lnTo>
                    <a:lnTo>
                      <a:pt x="214" y="153"/>
                    </a:lnTo>
                    <a:lnTo>
                      <a:pt x="229" y="161"/>
                    </a:lnTo>
                    <a:lnTo>
                      <a:pt x="247" y="169"/>
                    </a:lnTo>
                    <a:lnTo>
                      <a:pt x="260" y="175"/>
                    </a:lnTo>
                    <a:lnTo>
                      <a:pt x="276" y="180"/>
                    </a:lnTo>
                    <a:lnTo>
                      <a:pt x="289" y="188"/>
                    </a:lnTo>
                    <a:lnTo>
                      <a:pt x="305" y="196"/>
                    </a:lnTo>
                    <a:lnTo>
                      <a:pt x="318" y="204"/>
                    </a:lnTo>
                    <a:lnTo>
                      <a:pt x="332" y="211"/>
                    </a:lnTo>
                    <a:lnTo>
                      <a:pt x="345" y="219"/>
                    </a:lnTo>
                    <a:lnTo>
                      <a:pt x="361" y="229"/>
                    </a:lnTo>
                    <a:lnTo>
                      <a:pt x="373" y="235"/>
                    </a:lnTo>
                    <a:lnTo>
                      <a:pt x="386" y="244"/>
                    </a:lnTo>
                    <a:lnTo>
                      <a:pt x="398" y="252"/>
                    </a:lnTo>
                    <a:lnTo>
                      <a:pt x="411" y="262"/>
                    </a:lnTo>
                    <a:lnTo>
                      <a:pt x="421" y="270"/>
                    </a:lnTo>
                    <a:lnTo>
                      <a:pt x="433" y="281"/>
                    </a:lnTo>
                    <a:lnTo>
                      <a:pt x="444" y="289"/>
                    </a:lnTo>
                    <a:lnTo>
                      <a:pt x="456" y="301"/>
                    </a:lnTo>
                    <a:lnTo>
                      <a:pt x="470" y="316"/>
                    </a:lnTo>
                    <a:lnTo>
                      <a:pt x="487" y="332"/>
                    </a:lnTo>
                    <a:lnTo>
                      <a:pt x="501" y="347"/>
                    </a:lnTo>
                    <a:lnTo>
                      <a:pt x="518" y="365"/>
                    </a:lnTo>
                    <a:lnTo>
                      <a:pt x="532" y="380"/>
                    </a:lnTo>
                    <a:lnTo>
                      <a:pt x="547" y="398"/>
                    </a:lnTo>
                    <a:lnTo>
                      <a:pt x="563" y="413"/>
                    </a:lnTo>
                    <a:lnTo>
                      <a:pt x="578" y="431"/>
                    </a:lnTo>
                    <a:lnTo>
                      <a:pt x="592" y="446"/>
                    </a:lnTo>
                    <a:lnTo>
                      <a:pt x="605" y="462"/>
                    </a:lnTo>
                    <a:lnTo>
                      <a:pt x="619" y="477"/>
                    </a:lnTo>
                    <a:lnTo>
                      <a:pt x="632" y="493"/>
                    </a:lnTo>
                    <a:lnTo>
                      <a:pt x="644" y="506"/>
                    </a:lnTo>
                    <a:lnTo>
                      <a:pt x="656" y="522"/>
                    </a:lnTo>
                    <a:lnTo>
                      <a:pt x="667" y="535"/>
                    </a:lnTo>
                    <a:lnTo>
                      <a:pt x="681" y="551"/>
                    </a:lnTo>
                    <a:lnTo>
                      <a:pt x="691" y="562"/>
                    </a:lnTo>
                    <a:lnTo>
                      <a:pt x="700" y="574"/>
                    </a:lnTo>
                    <a:lnTo>
                      <a:pt x="710" y="586"/>
                    </a:lnTo>
                    <a:lnTo>
                      <a:pt x="720" y="599"/>
                    </a:lnTo>
                    <a:lnTo>
                      <a:pt x="735" y="619"/>
                    </a:lnTo>
                    <a:lnTo>
                      <a:pt x="751" y="638"/>
                    </a:lnTo>
                    <a:lnTo>
                      <a:pt x="760" y="652"/>
                    </a:lnTo>
                    <a:lnTo>
                      <a:pt x="770" y="663"/>
                    </a:lnTo>
                    <a:lnTo>
                      <a:pt x="774" y="669"/>
                    </a:lnTo>
                    <a:lnTo>
                      <a:pt x="778" y="673"/>
                    </a:lnTo>
                    <a:close/>
                  </a:path>
                </a:pathLst>
              </a:custGeom>
              <a:solidFill>
                <a:srgbClr val="94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44440" y="4979520"/>
                <a:ext cx="313560" cy="831600"/>
              </a:xfrm>
              <a:custGeom>
                <a:avLst/>
                <a:gdLst/>
                <a:ahLst/>
                <a:rect l="l" t="t" r="r" b="b"/>
                <a:pathLst>
                  <a:path w="513" h="1363">
                    <a:moveTo>
                      <a:pt x="79" y="318"/>
                    </a:moveTo>
                    <a:lnTo>
                      <a:pt x="77" y="329"/>
                    </a:lnTo>
                    <a:lnTo>
                      <a:pt x="73" y="345"/>
                    </a:lnTo>
                    <a:lnTo>
                      <a:pt x="67" y="358"/>
                    </a:lnTo>
                    <a:lnTo>
                      <a:pt x="64" y="376"/>
                    </a:lnTo>
                    <a:lnTo>
                      <a:pt x="54" y="393"/>
                    </a:lnTo>
                    <a:lnTo>
                      <a:pt x="48" y="411"/>
                    </a:lnTo>
                    <a:lnTo>
                      <a:pt x="38" y="428"/>
                    </a:lnTo>
                    <a:lnTo>
                      <a:pt x="33" y="448"/>
                    </a:lnTo>
                    <a:lnTo>
                      <a:pt x="23" y="465"/>
                    </a:lnTo>
                    <a:lnTo>
                      <a:pt x="15" y="484"/>
                    </a:lnTo>
                    <a:lnTo>
                      <a:pt x="11" y="494"/>
                    </a:lnTo>
                    <a:lnTo>
                      <a:pt x="9" y="504"/>
                    </a:lnTo>
                    <a:lnTo>
                      <a:pt x="5" y="515"/>
                    </a:lnTo>
                    <a:lnTo>
                      <a:pt x="5" y="527"/>
                    </a:lnTo>
                    <a:lnTo>
                      <a:pt x="2" y="537"/>
                    </a:lnTo>
                    <a:lnTo>
                      <a:pt x="0" y="546"/>
                    </a:lnTo>
                    <a:lnTo>
                      <a:pt x="0" y="558"/>
                    </a:lnTo>
                    <a:lnTo>
                      <a:pt x="0" y="570"/>
                    </a:lnTo>
                    <a:lnTo>
                      <a:pt x="0" y="581"/>
                    </a:lnTo>
                    <a:lnTo>
                      <a:pt x="0" y="593"/>
                    </a:lnTo>
                    <a:lnTo>
                      <a:pt x="2" y="605"/>
                    </a:lnTo>
                    <a:lnTo>
                      <a:pt x="5" y="616"/>
                    </a:lnTo>
                    <a:lnTo>
                      <a:pt x="5" y="628"/>
                    </a:lnTo>
                    <a:lnTo>
                      <a:pt x="9" y="641"/>
                    </a:lnTo>
                    <a:lnTo>
                      <a:pt x="13" y="655"/>
                    </a:lnTo>
                    <a:lnTo>
                      <a:pt x="19" y="672"/>
                    </a:lnTo>
                    <a:lnTo>
                      <a:pt x="23" y="688"/>
                    </a:lnTo>
                    <a:lnTo>
                      <a:pt x="29" y="705"/>
                    </a:lnTo>
                    <a:lnTo>
                      <a:pt x="35" y="725"/>
                    </a:lnTo>
                    <a:lnTo>
                      <a:pt x="40" y="746"/>
                    </a:lnTo>
                    <a:lnTo>
                      <a:pt x="46" y="764"/>
                    </a:lnTo>
                    <a:lnTo>
                      <a:pt x="52" y="785"/>
                    </a:lnTo>
                    <a:lnTo>
                      <a:pt x="54" y="795"/>
                    </a:lnTo>
                    <a:lnTo>
                      <a:pt x="60" y="804"/>
                    </a:lnTo>
                    <a:lnTo>
                      <a:pt x="62" y="816"/>
                    </a:lnTo>
                    <a:lnTo>
                      <a:pt x="67" y="828"/>
                    </a:lnTo>
                    <a:lnTo>
                      <a:pt x="75" y="847"/>
                    </a:lnTo>
                    <a:lnTo>
                      <a:pt x="83" y="868"/>
                    </a:lnTo>
                    <a:lnTo>
                      <a:pt x="87" y="878"/>
                    </a:lnTo>
                    <a:lnTo>
                      <a:pt x="91" y="890"/>
                    </a:lnTo>
                    <a:lnTo>
                      <a:pt x="95" y="899"/>
                    </a:lnTo>
                    <a:lnTo>
                      <a:pt x="100" y="911"/>
                    </a:lnTo>
                    <a:lnTo>
                      <a:pt x="106" y="930"/>
                    </a:lnTo>
                    <a:lnTo>
                      <a:pt x="114" y="950"/>
                    </a:lnTo>
                    <a:lnTo>
                      <a:pt x="120" y="967"/>
                    </a:lnTo>
                    <a:lnTo>
                      <a:pt x="128" y="987"/>
                    </a:lnTo>
                    <a:lnTo>
                      <a:pt x="133" y="1004"/>
                    </a:lnTo>
                    <a:lnTo>
                      <a:pt x="139" y="1021"/>
                    </a:lnTo>
                    <a:lnTo>
                      <a:pt x="145" y="1037"/>
                    </a:lnTo>
                    <a:lnTo>
                      <a:pt x="153" y="1052"/>
                    </a:lnTo>
                    <a:lnTo>
                      <a:pt x="157" y="1064"/>
                    </a:lnTo>
                    <a:lnTo>
                      <a:pt x="162" y="1076"/>
                    </a:lnTo>
                    <a:lnTo>
                      <a:pt x="166" y="1085"/>
                    </a:lnTo>
                    <a:lnTo>
                      <a:pt x="170" y="1097"/>
                    </a:lnTo>
                    <a:lnTo>
                      <a:pt x="174" y="1109"/>
                    </a:lnTo>
                    <a:lnTo>
                      <a:pt x="178" y="1115"/>
                    </a:lnTo>
                    <a:lnTo>
                      <a:pt x="182" y="1118"/>
                    </a:lnTo>
                    <a:lnTo>
                      <a:pt x="193" y="1136"/>
                    </a:lnTo>
                    <a:lnTo>
                      <a:pt x="201" y="1148"/>
                    </a:lnTo>
                    <a:lnTo>
                      <a:pt x="213" y="1161"/>
                    </a:lnTo>
                    <a:lnTo>
                      <a:pt x="225" y="1177"/>
                    </a:lnTo>
                    <a:lnTo>
                      <a:pt x="238" y="1196"/>
                    </a:lnTo>
                    <a:lnTo>
                      <a:pt x="250" y="1213"/>
                    </a:lnTo>
                    <a:lnTo>
                      <a:pt x="265" y="1233"/>
                    </a:lnTo>
                    <a:lnTo>
                      <a:pt x="273" y="1243"/>
                    </a:lnTo>
                    <a:lnTo>
                      <a:pt x="281" y="1252"/>
                    </a:lnTo>
                    <a:lnTo>
                      <a:pt x="288" y="1264"/>
                    </a:lnTo>
                    <a:lnTo>
                      <a:pt x="298" y="1275"/>
                    </a:lnTo>
                    <a:lnTo>
                      <a:pt x="304" y="1285"/>
                    </a:lnTo>
                    <a:lnTo>
                      <a:pt x="314" y="1297"/>
                    </a:lnTo>
                    <a:lnTo>
                      <a:pt x="321" y="1307"/>
                    </a:lnTo>
                    <a:lnTo>
                      <a:pt x="331" y="1318"/>
                    </a:lnTo>
                    <a:lnTo>
                      <a:pt x="337" y="1328"/>
                    </a:lnTo>
                    <a:lnTo>
                      <a:pt x="347" y="1339"/>
                    </a:lnTo>
                    <a:lnTo>
                      <a:pt x="354" y="1351"/>
                    </a:lnTo>
                    <a:lnTo>
                      <a:pt x="364" y="1363"/>
                    </a:lnTo>
                    <a:lnTo>
                      <a:pt x="383" y="1349"/>
                    </a:lnTo>
                    <a:lnTo>
                      <a:pt x="403" y="1336"/>
                    </a:lnTo>
                    <a:lnTo>
                      <a:pt x="422" y="1322"/>
                    </a:lnTo>
                    <a:lnTo>
                      <a:pt x="442" y="1308"/>
                    </a:lnTo>
                    <a:lnTo>
                      <a:pt x="459" y="1293"/>
                    </a:lnTo>
                    <a:lnTo>
                      <a:pt x="477" y="1279"/>
                    </a:lnTo>
                    <a:lnTo>
                      <a:pt x="494" y="1264"/>
                    </a:lnTo>
                    <a:lnTo>
                      <a:pt x="513" y="1252"/>
                    </a:lnTo>
                    <a:lnTo>
                      <a:pt x="442" y="1122"/>
                    </a:lnTo>
                    <a:lnTo>
                      <a:pt x="428" y="1113"/>
                    </a:lnTo>
                    <a:lnTo>
                      <a:pt x="415" y="1103"/>
                    </a:lnTo>
                    <a:lnTo>
                      <a:pt x="403" y="1093"/>
                    </a:lnTo>
                    <a:lnTo>
                      <a:pt x="391" y="1085"/>
                    </a:lnTo>
                    <a:lnTo>
                      <a:pt x="380" y="1074"/>
                    </a:lnTo>
                    <a:lnTo>
                      <a:pt x="368" y="1066"/>
                    </a:lnTo>
                    <a:lnTo>
                      <a:pt x="358" y="1054"/>
                    </a:lnTo>
                    <a:lnTo>
                      <a:pt x="349" y="1047"/>
                    </a:lnTo>
                    <a:lnTo>
                      <a:pt x="337" y="1035"/>
                    </a:lnTo>
                    <a:lnTo>
                      <a:pt x="327" y="1023"/>
                    </a:lnTo>
                    <a:lnTo>
                      <a:pt x="318" y="1012"/>
                    </a:lnTo>
                    <a:lnTo>
                      <a:pt x="310" y="1002"/>
                    </a:lnTo>
                    <a:lnTo>
                      <a:pt x="300" y="990"/>
                    </a:lnTo>
                    <a:lnTo>
                      <a:pt x="292" y="979"/>
                    </a:lnTo>
                    <a:lnTo>
                      <a:pt x="285" y="967"/>
                    </a:lnTo>
                    <a:lnTo>
                      <a:pt x="279" y="957"/>
                    </a:lnTo>
                    <a:lnTo>
                      <a:pt x="271" y="944"/>
                    </a:lnTo>
                    <a:lnTo>
                      <a:pt x="263" y="932"/>
                    </a:lnTo>
                    <a:lnTo>
                      <a:pt x="256" y="921"/>
                    </a:lnTo>
                    <a:lnTo>
                      <a:pt x="250" y="909"/>
                    </a:lnTo>
                    <a:lnTo>
                      <a:pt x="244" y="895"/>
                    </a:lnTo>
                    <a:lnTo>
                      <a:pt x="238" y="884"/>
                    </a:lnTo>
                    <a:lnTo>
                      <a:pt x="232" y="870"/>
                    </a:lnTo>
                    <a:lnTo>
                      <a:pt x="228" y="859"/>
                    </a:lnTo>
                    <a:lnTo>
                      <a:pt x="223" y="845"/>
                    </a:lnTo>
                    <a:lnTo>
                      <a:pt x="217" y="831"/>
                    </a:lnTo>
                    <a:lnTo>
                      <a:pt x="213" y="818"/>
                    </a:lnTo>
                    <a:lnTo>
                      <a:pt x="209" y="806"/>
                    </a:lnTo>
                    <a:lnTo>
                      <a:pt x="205" y="793"/>
                    </a:lnTo>
                    <a:lnTo>
                      <a:pt x="203" y="779"/>
                    </a:lnTo>
                    <a:lnTo>
                      <a:pt x="199" y="766"/>
                    </a:lnTo>
                    <a:lnTo>
                      <a:pt x="197" y="754"/>
                    </a:lnTo>
                    <a:lnTo>
                      <a:pt x="192" y="738"/>
                    </a:lnTo>
                    <a:lnTo>
                      <a:pt x="190" y="725"/>
                    </a:lnTo>
                    <a:lnTo>
                      <a:pt x="186" y="709"/>
                    </a:lnTo>
                    <a:lnTo>
                      <a:pt x="184" y="698"/>
                    </a:lnTo>
                    <a:lnTo>
                      <a:pt x="182" y="682"/>
                    </a:lnTo>
                    <a:lnTo>
                      <a:pt x="180" y="669"/>
                    </a:lnTo>
                    <a:lnTo>
                      <a:pt x="178" y="653"/>
                    </a:lnTo>
                    <a:lnTo>
                      <a:pt x="178" y="641"/>
                    </a:lnTo>
                    <a:lnTo>
                      <a:pt x="176" y="626"/>
                    </a:lnTo>
                    <a:lnTo>
                      <a:pt x="174" y="612"/>
                    </a:lnTo>
                    <a:lnTo>
                      <a:pt x="172" y="599"/>
                    </a:lnTo>
                    <a:lnTo>
                      <a:pt x="172" y="585"/>
                    </a:lnTo>
                    <a:lnTo>
                      <a:pt x="172" y="572"/>
                    </a:lnTo>
                    <a:lnTo>
                      <a:pt x="172" y="558"/>
                    </a:lnTo>
                    <a:lnTo>
                      <a:pt x="172" y="544"/>
                    </a:lnTo>
                    <a:lnTo>
                      <a:pt x="172" y="533"/>
                    </a:lnTo>
                    <a:lnTo>
                      <a:pt x="172" y="517"/>
                    </a:lnTo>
                    <a:lnTo>
                      <a:pt x="172" y="504"/>
                    </a:lnTo>
                    <a:lnTo>
                      <a:pt x="172" y="490"/>
                    </a:lnTo>
                    <a:lnTo>
                      <a:pt x="172" y="477"/>
                    </a:lnTo>
                    <a:lnTo>
                      <a:pt x="172" y="463"/>
                    </a:lnTo>
                    <a:lnTo>
                      <a:pt x="172" y="449"/>
                    </a:lnTo>
                    <a:lnTo>
                      <a:pt x="174" y="436"/>
                    </a:lnTo>
                    <a:lnTo>
                      <a:pt x="176" y="424"/>
                    </a:lnTo>
                    <a:lnTo>
                      <a:pt x="176" y="411"/>
                    </a:lnTo>
                    <a:lnTo>
                      <a:pt x="176" y="397"/>
                    </a:lnTo>
                    <a:lnTo>
                      <a:pt x="178" y="384"/>
                    </a:lnTo>
                    <a:lnTo>
                      <a:pt x="180" y="372"/>
                    </a:lnTo>
                    <a:lnTo>
                      <a:pt x="180" y="358"/>
                    </a:lnTo>
                    <a:lnTo>
                      <a:pt x="182" y="347"/>
                    </a:lnTo>
                    <a:lnTo>
                      <a:pt x="184" y="335"/>
                    </a:lnTo>
                    <a:lnTo>
                      <a:pt x="186" y="323"/>
                    </a:lnTo>
                    <a:lnTo>
                      <a:pt x="180" y="308"/>
                    </a:lnTo>
                    <a:lnTo>
                      <a:pt x="176" y="294"/>
                    </a:lnTo>
                    <a:lnTo>
                      <a:pt x="170" y="281"/>
                    </a:lnTo>
                    <a:lnTo>
                      <a:pt x="166" y="269"/>
                    </a:lnTo>
                    <a:lnTo>
                      <a:pt x="161" y="256"/>
                    </a:lnTo>
                    <a:lnTo>
                      <a:pt x="157" y="244"/>
                    </a:lnTo>
                    <a:lnTo>
                      <a:pt x="151" y="230"/>
                    </a:lnTo>
                    <a:lnTo>
                      <a:pt x="147" y="219"/>
                    </a:lnTo>
                    <a:lnTo>
                      <a:pt x="141" y="205"/>
                    </a:lnTo>
                    <a:lnTo>
                      <a:pt x="135" y="192"/>
                    </a:lnTo>
                    <a:lnTo>
                      <a:pt x="131" y="178"/>
                    </a:lnTo>
                    <a:lnTo>
                      <a:pt x="130" y="164"/>
                    </a:lnTo>
                    <a:lnTo>
                      <a:pt x="128" y="149"/>
                    </a:lnTo>
                    <a:lnTo>
                      <a:pt x="126" y="135"/>
                    </a:lnTo>
                    <a:lnTo>
                      <a:pt x="126" y="120"/>
                    </a:lnTo>
                    <a:lnTo>
                      <a:pt x="130" y="106"/>
                    </a:lnTo>
                    <a:lnTo>
                      <a:pt x="124" y="91"/>
                    </a:lnTo>
                    <a:lnTo>
                      <a:pt x="118" y="79"/>
                    </a:lnTo>
                    <a:lnTo>
                      <a:pt x="106" y="67"/>
                    </a:lnTo>
                    <a:lnTo>
                      <a:pt x="97" y="62"/>
                    </a:lnTo>
                    <a:lnTo>
                      <a:pt x="83" y="56"/>
                    </a:lnTo>
                    <a:lnTo>
                      <a:pt x="69" y="50"/>
                    </a:lnTo>
                    <a:lnTo>
                      <a:pt x="54" y="46"/>
                    </a:lnTo>
                    <a:lnTo>
                      <a:pt x="42" y="46"/>
                    </a:lnTo>
                    <a:lnTo>
                      <a:pt x="35" y="33"/>
                    </a:lnTo>
                    <a:lnTo>
                      <a:pt x="29" y="21"/>
                    </a:lnTo>
                    <a:lnTo>
                      <a:pt x="23" y="9"/>
                    </a:lnTo>
                    <a:lnTo>
                      <a:pt x="21" y="0"/>
                    </a:lnTo>
                    <a:lnTo>
                      <a:pt x="9" y="17"/>
                    </a:lnTo>
                    <a:lnTo>
                      <a:pt x="3" y="36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2" y="79"/>
                    </a:lnTo>
                    <a:lnTo>
                      <a:pt x="2" y="89"/>
                    </a:lnTo>
                    <a:lnTo>
                      <a:pt x="3" y="100"/>
                    </a:lnTo>
                    <a:lnTo>
                      <a:pt x="5" y="112"/>
                    </a:lnTo>
                    <a:lnTo>
                      <a:pt x="9" y="124"/>
                    </a:lnTo>
                    <a:lnTo>
                      <a:pt x="11" y="133"/>
                    </a:lnTo>
                    <a:lnTo>
                      <a:pt x="15" y="145"/>
                    </a:lnTo>
                    <a:lnTo>
                      <a:pt x="19" y="157"/>
                    </a:lnTo>
                    <a:lnTo>
                      <a:pt x="25" y="168"/>
                    </a:lnTo>
                    <a:lnTo>
                      <a:pt x="29" y="178"/>
                    </a:lnTo>
                    <a:lnTo>
                      <a:pt x="33" y="190"/>
                    </a:lnTo>
                    <a:lnTo>
                      <a:pt x="36" y="199"/>
                    </a:lnTo>
                    <a:lnTo>
                      <a:pt x="42" y="211"/>
                    </a:lnTo>
                    <a:lnTo>
                      <a:pt x="50" y="230"/>
                    </a:lnTo>
                    <a:lnTo>
                      <a:pt x="60" y="252"/>
                    </a:lnTo>
                    <a:lnTo>
                      <a:pt x="66" y="269"/>
                    </a:lnTo>
                    <a:lnTo>
                      <a:pt x="73" y="287"/>
                    </a:lnTo>
                    <a:lnTo>
                      <a:pt x="77" y="302"/>
                    </a:lnTo>
                    <a:lnTo>
                      <a:pt x="79" y="318"/>
                    </a:lnTo>
                    <a:close/>
                  </a:path>
                </a:pathLst>
              </a:custGeom>
              <a:solidFill>
                <a:srgbClr val="94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963960" y="5761440"/>
                <a:ext cx="420840" cy="615960"/>
              </a:xfrm>
              <a:custGeom>
                <a:avLst/>
                <a:gdLst/>
                <a:ahLst/>
                <a:rect l="l" t="t" r="r" b="b"/>
                <a:pathLst>
                  <a:path w="691" h="1011">
                    <a:moveTo>
                      <a:pt x="431" y="654"/>
                    </a:moveTo>
                    <a:lnTo>
                      <a:pt x="413" y="667"/>
                    </a:lnTo>
                    <a:lnTo>
                      <a:pt x="396" y="683"/>
                    </a:lnTo>
                    <a:lnTo>
                      <a:pt x="380" y="696"/>
                    </a:lnTo>
                    <a:lnTo>
                      <a:pt x="365" y="712"/>
                    </a:lnTo>
                    <a:lnTo>
                      <a:pt x="347" y="724"/>
                    </a:lnTo>
                    <a:lnTo>
                      <a:pt x="332" y="735"/>
                    </a:lnTo>
                    <a:lnTo>
                      <a:pt x="316" y="747"/>
                    </a:lnTo>
                    <a:lnTo>
                      <a:pt x="303" y="760"/>
                    </a:lnTo>
                    <a:lnTo>
                      <a:pt x="285" y="770"/>
                    </a:lnTo>
                    <a:lnTo>
                      <a:pt x="272" y="780"/>
                    </a:lnTo>
                    <a:lnTo>
                      <a:pt x="256" y="789"/>
                    </a:lnTo>
                    <a:lnTo>
                      <a:pt x="243" y="799"/>
                    </a:lnTo>
                    <a:lnTo>
                      <a:pt x="229" y="807"/>
                    </a:lnTo>
                    <a:lnTo>
                      <a:pt x="216" y="815"/>
                    </a:lnTo>
                    <a:lnTo>
                      <a:pt x="204" y="822"/>
                    </a:lnTo>
                    <a:lnTo>
                      <a:pt x="192" y="830"/>
                    </a:lnTo>
                    <a:lnTo>
                      <a:pt x="179" y="834"/>
                    </a:lnTo>
                    <a:lnTo>
                      <a:pt x="167" y="840"/>
                    </a:lnTo>
                    <a:lnTo>
                      <a:pt x="156" y="844"/>
                    </a:lnTo>
                    <a:lnTo>
                      <a:pt x="146" y="850"/>
                    </a:lnTo>
                    <a:lnTo>
                      <a:pt x="128" y="857"/>
                    </a:lnTo>
                    <a:lnTo>
                      <a:pt x="113" y="865"/>
                    </a:lnTo>
                    <a:lnTo>
                      <a:pt x="99" y="869"/>
                    </a:lnTo>
                    <a:lnTo>
                      <a:pt x="90" y="873"/>
                    </a:lnTo>
                    <a:lnTo>
                      <a:pt x="84" y="875"/>
                    </a:lnTo>
                    <a:lnTo>
                      <a:pt x="84" y="877"/>
                    </a:lnTo>
                    <a:lnTo>
                      <a:pt x="80" y="877"/>
                    </a:lnTo>
                    <a:lnTo>
                      <a:pt x="70" y="883"/>
                    </a:lnTo>
                    <a:lnTo>
                      <a:pt x="59" y="892"/>
                    </a:lnTo>
                    <a:lnTo>
                      <a:pt x="45" y="908"/>
                    </a:lnTo>
                    <a:lnTo>
                      <a:pt x="35" y="914"/>
                    </a:lnTo>
                    <a:lnTo>
                      <a:pt x="28" y="925"/>
                    </a:lnTo>
                    <a:lnTo>
                      <a:pt x="22" y="935"/>
                    </a:lnTo>
                    <a:lnTo>
                      <a:pt x="16" y="948"/>
                    </a:lnTo>
                    <a:lnTo>
                      <a:pt x="10" y="960"/>
                    </a:lnTo>
                    <a:lnTo>
                      <a:pt x="4" y="976"/>
                    </a:lnTo>
                    <a:lnTo>
                      <a:pt x="0" y="991"/>
                    </a:lnTo>
                    <a:lnTo>
                      <a:pt x="0" y="1009"/>
                    </a:lnTo>
                    <a:lnTo>
                      <a:pt x="14" y="1009"/>
                    </a:lnTo>
                    <a:lnTo>
                      <a:pt x="31" y="1011"/>
                    </a:lnTo>
                    <a:lnTo>
                      <a:pt x="45" y="1009"/>
                    </a:lnTo>
                    <a:lnTo>
                      <a:pt x="62" y="1009"/>
                    </a:lnTo>
                    <a:lnTo>
                      <a:pt x="78" y="1005"/>
                    </a:lnTo>
                    <a:lnTo>
                      <a:pt x="93" y="1003"/>
                    </a:lnTo>
                    <a:lnTo>
                      <a:pt x="109" y="1001"/>
                    </a:lnTo>
                    <a:lnTo>
                      <a:pt x="126" y="999"/>
                    </a:lnTo>
                    <a:lnTo>
                      <a:pt x="140" y="993"/>
                    </a:lnTo>
                    <a:lnTo>
                      <a:pt x="157" y="989"/>
                    </a:lnTo>
                    <a:lnTo>
                      <a:pt x="171" y="983"/>
                    </a:lnTo>
                    <a:lnTo>
                      <a:pt x="188" y="981"/>
                    </a:lnTo>
                    <a:lnTo>
                      <a:pt x="204" y="976"/>
                    </a:lnTo>
                    <a:lnTo>
                      <a:pt x="220" y="974"/>
                    </a:lnTo>
                    <a:lnTo>
                      <a:pt x="235" y="970"/>
                    </a:lnTo>
                    <a:lnTo>
                      <a:pt x="252" y="970"/>
                    </a:lnTo>
                    <a:lnTo>
                      <a:pt x="264" y="956"/>
                    </a:lnTo>
                    <a:lnTo>
                      <a:pt x="280" y="945"/>
                    </a:lnTo>
                    <a:lnTo>
                      <a:pt x="293" y="933"/>
                    </a:lnTo>
                    <a:lnTo>
                      <a:pt x="311" y="923"/>
                    </a:lnTo>
                    <a:lnTo>
                      <a:pt x="326" y="912"/>
                    </a:lnTo>
                    <a:lnTo>
                      <a:pt x="342" y="900"/>
                    </a:lnTo>
                    <a:lnTo>
                      <a:pt x="359" y="890"/>
                    </a:lnTo>
                    <a:lnTo>
                      <a:pt x="377" y="881"/>
                    </a:lnTo>
                    <a:lnTo>
                      <a:pt x="392" y="869"/>
                    </a:lnTo>
                    <a:lnTo>
                      <a:pt x="410" y="859"/>
                    </a:lnTo>
                    <a:lnTo>
                      <a:pt x="427" y="848"/>
                    </a:lnTo>
                    <a:lnTo>
                      <a:pt x="444" y="838"/>
                    </a:lnTo>
                    <a:lnTo>
                      <a:pt x="462" y="826"/>
                    </a:lnTo>
                    <a:lnTo>
                      <a:pt x="479" y="817"/>
                    </a:lnTo>
                    <a:lnTo>
                      <a:pt x="497" y="807"/>
                    </a:lnTo>
                    <a:lnTo>
                      <a:pt x="514" y="797"/>
                    </a:lnTo>
                    <a:lnTo>
                      <a:pt x="528" y="784"/>
                    </a:lnTo>
                    <a:lnTo>
                      <a:pt x="543" y="772"/>
                    </a:lnTo>
                    <a:lnTo>
                      <a:pt x="559" y="760"/>
                    </a:lnTo>
                    <a:lnTo>
                      <a:pt x="574" y="749"/>
                    </a:lnTo>
                    <a:lnTo>
                      <a:pt x="588" y="735"/>
                    </a:lnTo>
                    <a:lnTo>
                      <a:pt x="601" y="722"/>
                    </a:lnTo>
                    <a:lnTo>
                      <a:pt x="613" y="708"/>
                    </a:lnTo>
                    <a:lnTo>
                      <a:pt x="627" y="694"/>
                    </a:lnTo>
                    <a:lnTo>
                      <a:pt x="636" y="677"/>
                    </a:lnTo>
                    <a:lnTo>
                      <a:pt x="648" y="662"/>
                    </a:lnTo>
                    <a:lnTo>
                      <a:pt x="656" y="644"/>
                    </a:lnTo>
                    <a:lnTo>
                      <a:pt x="665" y="629"/>
                    </a:lnTo>
                    <a:lnTo>
                      <a:pt x="671" y="609"/>
                    </a:lnTo>
                    <a:lnTo>
                      <a:pt x="679" y="592"/>
                    </a:lnTo>
                    <a:lnTo>
                      <a:pt x="685" y="572"/>
                    </a:lnTo>
                    <a:lnTo>
                      <a:pt x="691" y="553"/>
                    </a:lnTo>
                    <a:lnTo>
                      <a:pt x="681" y="534"/>
                    </a:lnTo>
                    <a:lnTo>
                      <a:pt x="673" y="514"/>
                    </a:lnTo>
                    <a:lnTo>
                      <a:pt x="665" y="495"/>
                    </a:lnTo>
                    <a:lnTo>
                      <a:pt x="660" y="477"/>
                    </a:lnTo>
                    <a:lnTo>
                      <a:pt x="652" y="456"/>
                    </a:lnTo>
                    <a:lnTo>
                      <a:pt x="646" y="439"/>
                    </a:lnTo>
                    <a:lnTo>
                      <a:pt x="640" y="417"/>
                    </a:lnTo>
                    <a:lnTo>
                      <a:pt x="634" y="400"/>
                    </a:lnTo>
                    <a:lnTo>
                      <a:pt x="627" y="378"/>
                    </a:lnTo>
                    <a:lnTo>
                      <a:pt x="621" y="359"/>
                    </a:lnTo>
                    <a:lnTo>
                      <a:pt x="613" y="340"/>
                    </a:lnTo>
                    <a:lnTo>
                      <a:pt x="607" y="320"/>
                    </a:lnTo>
                    <a:lnTo>
                      <a:pt x="600" y="301"/>
                    </a:lnTo>
                    <a:lnTo>
                      <a:pt x="594" y="281"/>
                    </a:lnTo>
                    <a:lnTo>
                      <a:pt x="586" y="264"/>
                    </a:lnTo>
                    <a:lnTo>
                      <a:pt x="580" y="247"/>
                    </a:lnTo>
                    <a:lnTo>
                      <a:pt x="570" y="227"/>
                    </a:lnTo>
                    <a:lnTo>
                      <a:pt x="561" y="208"/>
                    </a:lnTo>
                    <a:lnTo>
                      <a:pt x="551" y="190"/>
                    </a:lnTo>
                    <a:lnTo>
                      <a:pt x="543" y="173"/>
                    </a:lnTo>
                    <a:lnTo>
                      <a:pt x="532" y="153"/>
                    </a:lnTo>
                    <a:lnTo>
                      <a:pt x="522" y="136"/>
                    </a:lnTo>
                    <a:lnTo>
                      <a:pt x="510" y="121"/>
                    </a:lnTo>
                    <a:lnTo>
                      <a:pt x="501" y="105"/>
                    </a:lnTo>
                    <a:lnTo>
                      <a:pt x="487" y="88"/>
                    </a:lnTo>
                    <a:lnTo>
                      <a:pt x="473" y="74"/>
                    </a:lnTo>
                    <a:lnTo>
                      <a:pt x="458" y="58"/>
                    </a:lnTo>
                    <a:lnTo>
                      <a:pt x="444" y="47"/>
                    </a:lnTo>
                    <a:lnTo>
                      <a:pt x="427" y="33"/>
                    </a:lnTo>
                    <a:lnTo>
                      <a:pt x="410" y="22"/>
                    </a:lnTo>
                    <a:lnTo>
                      <a:pt x="392" y="10"/>
                    </a:lnTo>
                    <a:lnTo>
                      <a:pt x="375" y="0"/>
                    </a:lnTo>
                    <a:lnTo>
                      <a:pt x="365" y="12"/>
                    </a:lnTo>
                    <a:lnTo>
                      <a:pt x="355" y="24"/>
                    </a:lnTo>
                    <a:lnTo>
                      <a:pt x="346" y="33"/>
                    </a:lnTo>
                    <a:lnTo>
                      <a:pt x="338" y="45"/>
                    </a:lnTo>
                    <a:lnTo>
                      <a:pt x="316" y="62"/>
                    </a:lnTo>
                    <a:lnTo>
                      <a:pt x="297" y="82"/>
                    </a:lnTo>
                    <a:lnTo>
                      <a:pt x="285" y="88"/>
                    </a:lnTo>
                    <a:lnTo>
                      <a:pt x="274" y="93"/>
                    </a:lnTo>
                    <a:lnTo>
                      <a:pt x="262" y="99"/>
                    </a:lnTo>
                    <a:lnTo>
                      <a:pt x="251" y="107"/>
                    </a:lnTo>
                    <a:lnTo>
                      <a:pt x="239" y="113"/>
                    </a:lnTo>
                    <a:lnTo>
                      <a:pt x="227" y="119"/>
                    </a:lnTo>
                    <a:lnTo>
                      <a:pt x="216" y="124"/>
                    </a:lnTo>
                    <a:lnTo>
                      <a:pt x="204" y="130"/>
                    </a:lnTo>
                    <a:lnTo>
                      <a:pt x="212" y="140"/>
                    </a:lnTo>
                    <a:lnTo>
                      <a:pt x="220" y="152"/>
                    </a:lnTo>
                    <a:lnTo>
                      <a:pt x="227" y="161"/>
                    </a:lnTo>
                    <a:lnTo>
                      <a:pt x="235" y="173"/>
                    </a:lnTo>
                    <a:lnTo>
                      <a:pt x="247" y="190"/>
                    </a:lnTo>
                    <a:lnTo>
                      <a:pt x="258" y="206"/>
                    </a:lnTo>
                    <a:lnTo>
                      <a:pt x="268" y="219"/>
                    </a:lnTo>
                    <a:lnTo>
                      <a:pt x="285" y="237"/>
                    </a:lnTo>
                    <a:lnTo>
                      <a:pt x="293" y="247"/>
                    </a:lnTo>
                    <a:lnTo>
                      <a:pt x="305" y="258"/>
                    </a:lnTo>
                    <a:lnTo>
                      <a:pt x="316" y="270"/>
                    </a:lnTo>
                    <a:lnTo>
                      <a:pt x="328" y="281"/>
                    </a:lnTo>
                    <a:lnTo>
                      <a:pt x="340" y="293"/>
                    </a:lnTo>
                    <a:lnTo>
                      <a:pt x="351" y="305"/>
                    </a:lnTo>
                    <a:lnTo>
                      <a:pt x="365" y="318"/>
                    </a:lnTo>
                    <a:lnTo>
                      <a:pt x="378" y="332"/>
                    </a:lnTo>
                    <a:lnTo>
                      <a:pt x="390" y="345"/>
                    </a:lnTo>
                    <a:lnTo>
                      <a:pt x="402" y="361"/>
                    </a:lnTo>
                    <a:lnTo>
                      <a:pt x="413" y="375"/>
                    </a:lnTo>
                    <a:lnTo>
                      <a:pt x="427" y="392"/>
                    </a:lnTo>
                    <a:lnTo>
                      <a:pt x="437" y="406"/>
                    </a:lnTo>
                    <a:lnTo>
                      <a:pt x="446" y="421"/>
                    </a:lnTo>
                    <a:lnTo>
                      <a:pt x="454" y="435"/>
                    </a:lnTo>
                    <a:lnTo>
                      <a:pt x="464" y="452"/>
                    </a:lnTo>
                    <a:lnTo>
                      <a:pt x="470" y="468"/>
                    </a:lnTo>
                    <a:lnTo>
                      <a:pt x="475" y="485"/>
                    </a:lnTo>
                    <a:lnTo>
                      <a:pt x="479" y="503"/>
                    </a:lnTo>
                    <a:lnTo>
                      <a:pt x="483" y="520"/>
                    </a:lnTo>
                    <a:lnTo>
                      <a:pt x="481" y="535"/>
                    </a:lnTo>
                    <a:lnTo>
                      <a:pt x="481" y="553"/>
                    </a:lnTo>
                    <a:lnTo>
                      <a:pt x="477" y="568"/>
                    </a:lnTo>
                    <a:lnTo>
                      <a:pt x="473" y="586"/>
                    </a:lnTo>
                    <a:lnTo>
                      <a:pt x="466" y="601"/>
                    </a:lnTo>
                    <a:lnTo>
                      <a:pt x="456" y="619"/>
                    </a:lnTo>
                    <a:lnTo>
                      <a:pt x="444" y="636"/>
                    </a:lnTo>
                    <a:lnTo>
                      <a:pt x="431" y="654"/>
                    </a:lnTo>
                    <a:close/>
                  </a:path>
                </a:pathLst>
              </a:cu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22480" y="5840640"/>
                <a:ext cx="435240" cy="545040"/>
              </a:xfrm>
              <a:custGeom>
                <a:avLst/>
                <a:gdLst/>
                <a:ahLst/>
                <a:rect l="l" t="t" r="r" b="b"/>
                <a:pathLst>
                  <a:path w="713" h="894">
                    <a:moveTo>
                      <a:pt x="283" y="99"/>
                    </a:moveTo>
                    <a:lnTo>
                      <a:pt x="277" y="105"/>
                    </a:lnTo>
                    <a:lnTo>
                      <a:pt x="271" y="111"/>
                    </a:lnTo>
                    <a:lnTo>
                      <a:pt x="263" y="113"/>
                    </a:lnTo>
                    <a:lnTo>
                      <a:pt x="256" y="115"/>
                    </a:lnTo>
                    <a:lnTo>
                      <a:pt x="252" y="128"/>
                    </a:lnTo>
                    <a:lnTo>
                      <a:pt x="252" y="144"/>
                    </a:lnTo>
                    <a:lnTo>
                      <a:pt x="252" y="157"/>
                    </a:lnTo>
                    <a:lnTo>
                      <a:pt x="256" y="171"/>
                    </a:lnTo>
                    <a:lnTo>
                      <a:pt x="260" y="182"/>
                    </a:lnTo>
                    <a:lnTo>
                      <a:pt x="265" y="194"/>
                    </a:lnTo>
                    <a:lnTo>
                      <a:pt x="273" y="204"/>
                    </a:lnTo>
                    <a:lnTo>
                      <a:pt x="283" y="215"/>
                    </a:lnTo>
                    <a:lnTo>
                      <a:pt x="289" y="223"/>
                    </a:lnTo>
                    <a:lnTo>
                      <a:pt x="298" y="233"/>
                    </a:lnTo>
                    <a:lnTo>
                      <a:pt x="310" y="241"/>
                    </a:lnTo>
                    <a:lnTo>
                      <a:pt x="322" y="250"/>
                    </a:lnTo>
                    <a:lnTo>
                      <a:pt x="331" y="258"/>
                    </a:lnTo>
                    <a:lnTo>
                      <a:pt x="343" y="266"/>
                    </a:lnTo>
                    <a:lnTo>
                      <a:pt x="355" y="274"/>
                    </a:lnTo>
                    <a:lnTo>
                      <a:pt x="368" y="283"/>
                    </a:lnTo>
                    <a:lnTo>
                      <a:pt x="387" y="297"/>
                    </a:lnTo>
                    <a:lnTo>
                      <a:pt x="409" y="314"/>
                    </a:lnTo>
                    <a:lnTo>
                      <a:pt x="424" y="330"/>
                    </a:lnTo>
                    <a:lnTo>
                      <a:pt x="438" y="351"/>
                    </a:lnTo>
                    <a:lnTo>
                      <a:pt x="440" y="361"/>
                    </a:lnTo>
                    <a:lnTo>
                      <a:pt x="444" y="373"/>
                    </a:lnTo>
                    <a:lnTo>
                      <a:pt x="444" y="384"/>
                    </a:lnTo>
                    <a:lnTo>
                      <a:pt x="446" y="398"/>
                    </a:lnTo>
                    <a:lnTo>
                      <a:pt x="442" y="409"/>
                    </a:lnTo>
                    <a:lnTo>
                      <a:pt x="438" y="427"/>
                    </a:lnTo>
                    <a:lnTo>
                      <a:pt x="432" y="442"/>
                    </a:lnTo>
                    <a:lnTo>
                      <a:pt x="426" y="462"/>
                    </a:lnTo>
                    <a:lnTo>
                      <a:pt x="436" y="466"/>
                    </a:lnTo>
                    <a:lnTo>
                      <a:pt x="450" y="471"/>
                    </a:lnTo>
                    <a:lnTo>
                      <a:pt x="463" y="477"/>
                    </a:lnTo>
                    <a:lnTo>
                      <a:pt x="477" y="487"/>
                    </a:lnTo>
                    <a:lnTo>
                      <a:pt x="486" y="495"/>
                    </a:lnTo>
                    <a:lnTo>
                      <a:pt x="494" y="506"/>
                    </a:lnTo>
                    <a:lnTo>
                      <a:pt x="498" y="518"/>
                    </a:lnTo>
                    <a:lnTo>
                      <a:pt x="498" y="535"/>
                    </a:lnTo>
                    <a:lnTo>
                      <a:pt x="486" y="537"/>
                    </a:lnTo>
                    <a:lnTo>
                      <a:pt x="475" y="541"/>
                    </a:lnTo>
                    <a:lnTo>
                      <a:pt x="463" y="545"/>
                    </a:lnTo>
                    <a:lnTo>
                      <a:pt x="453" y="549"/>
                    </a:lnTo>
                    <a:lnTo>
                      <a:pt x="442" y="553"/>
                    </a:lnTo>
                    <a:lnTo>
                      <a:pt x="430" y="557"/>
                    </a:lnTo>
                    <a:lnTo>
                      <a:pt x="418" y="561"/>
                    </a:lnTo>
                    <a:lnTo>
                      <a:pt x="409" y="566"/>
                    </a:lnTo>
                    <a:lnTo>
                      <a:pt x="395" y="568"/>
                    </a:lnTo>
                    <a:lnTo>
                      <a:pt x="384" y="572"/>
                    </a:lnTo>
                    <a:lnTo>
                      <a:pt x="370" y="576"/>
                    </a:lnTo>
                    <a:lnTo>
                      <a:pt x="358" y="580"/>
                    </a:lnTo>
                    <a:lnTo>
                      <a:pt x="345" y="582"/>
                    </a:lnTo>
                    <a:lnTo>
                      <a:pt x="333" y="586"/>
                    </a:lnTo>
                    <a:lnTo>
                      <a:pt x="320" y="590"/>
                    </a:lnTo>
                    <a:lnTo>
                      <a:pt x="308" y="594"/>
                    </a:lnTo>
                    <a:lnTo>
                      <a:pt x="292" y="596"/>
                    </a:lnTo>
                    <a:lnTo>
                      <a:pt x="281" y="597"/>
                    </a:lnTo>
                    <a:lnTo>
                      <a:pt x="265" y="599"/>
                    </a:lnTo>
                    <a:lnTo>
                      <a:pt x="254" y="601"/>
                    </a:lnTo>
                    <a:lnTo>
                      <a:pt x="238" y="601"/>
                    </a:lnTo>
                    <a:lnTo>
                      <a:pt x="227" y="603"/>
                    </a:lnTo>
                    <a:lnTo>
                      <a:pt x="211" y="603"/>
                    </a:lnTo>
                    <a:lnTo>
                      <a:pt x="199" y="605"/>
                    </a:lnTo>
                    <a:lnTo>
                      <a:pt x="184" y="603"/>
                    </a:lnTo>
                    <a:lnTo>
                      <a:pt x="172" y="603"/>
                    </a:lnTo>
                    <a:lnTo>
                      <a:pt x="157" y="601"/>
                    </a:lnTo>
                    <a:lnTo>
                      <a:pt x="145" y="601"/>
                    </a:lnTo>
                    <a:lnTo>
                      <a:pt x="132" y="597"/>
                    </a:lnTo>
                    <a:lnTo>
                      <a:pt x="118" y="596"/>
                    </a:lnTo>
                    <a:lnTo>
                      <a:pt x="104" y="592"/>
                    </a:lnTo>
                    <a:lnTo>
                      <a:pt x="93" y="590"/>
                    </a:lnTo>
                    <a:lnTo>
                      <a:pt x="73" y="603"/>
                    </a:lnTo>
                    <a:lnTo>
                      <a:pt x="56" y="619"/>
                    </a:lnTo>
                    <a:lnTo>
                      <a:pt x="42" y="636"/>
                    </a:lnTo>
                    <a:lnTo>
                      <a:pt x="31" y="654"/>
                    </a:lnTo>
                    <a:lnTo>
                      <a:pt x="19" y="671"/>
                    </a:lnTo>
                    <a:lnTo>
                      <a:pt x="11" y="689"/>
                    </a:lnTo>
                    <a:lnTo>
                      <a:pt x="6" y="708"/>
                    </a:lnTo>
                    <a:lnTo>
                      <a:pt x="4" y="727"/>
                    </a:lnTo>
                    <a:lnTo>
                      <a:pt x="0" y="745"/>
                    </a:lnTo>
                    <a:lnTo>
                      <a:pt x="2" y="764"/>
                    </a:lnTo>
                    <a:lnTo>
                      <a:pt x="4" y="784"/>
                    </a:lnTo>
                    <a:lnTo>
                      <a:pt x="9" y="803"/>
                    </a:lnTo>
                    <a:lnTo>
                      <a:pt x="15" y="820"/>
                    </a:lnTo>
                    <a:lnTo>
                      <a:pt x="23" y="840"/>
                    </a:lnTo>
                    <a:lnTo>
                      <a:pt x="35" y="859"/>
                    </a:lnTo>
                    <a:lnTo>
                      <a:pt x="48" y="879"/>
                    </a:lnTo>
                    <a:lnTo>
                      <a:pt x="66" y="877"/>
                    </a:lnTo>
                    <a:lnTo>
                      <a:pt x="85" y="882"/>
                    </a:lnTo>
                    <a:lnTo>
                      <a:pt x="102" y="886"/>
                    </a:lnTo>
                    <a:lnTo>
                      <a:pt x="124" y="892"/>
                    </a:lnTo>
                    <a:lnTo>
                      <a:pt x="141" y="894"/>
                    </a:lnTo>
                    <a:lnTo>
                      <a:pt x="161" y="892"/>
                    </a:lnTo>
                    <a:lnTo>
                      <a:pt x="176" y="882"/>
                    </a:lnTo>
                    <a:lnTo>
                      <a:pt x="194" y="867"/>
                    </a:lnTo>
                    <a:lnTo>
                      <a:pt x="211" y="873"/>
                    </a:lnTo>
                    <a:lnTo>
                      <a:pt x="230" y="879"/>
                    </a:lnTo>
                    <a:lnTo>
                      <a:pt x="230" y="861"/>
                    </a:lnTo>
                    <a:lnTo>
                      <a:pt x="234" y="846"/>
                    </a:lnTo>
                    <a:lnTo>
                      <a:pt x="240" y="830"/>
                    </a:lnTo>
                    <a:lnTo>
                      <a:pt x="246" y="818"/>
                    </a:lnTo>
                    <a:lnTo>
                      <a:pt x="252" y="805"/>
                    </a:lnTo>
                    <a:lnTo>
                      <a:pt x="258" y="795"/>
                    </a:lnTo>
                    <a:lnTo>
                      <a:pt x="265" y="784"/>
                    </a:lnTo>
                    <a:lnTo>
                      <a:pt x="275" y="778"/>
                    </a:lnTo>
                    <a:lnTo>
                      <a:pt x="289" y="762"/>
                    </a:lnTo>
                    <a:lnTo>
                      <a:pt x="300" y="753"/>
                    </a:lnTo>
                    <a:lnTo>
                      <a:pt x="310" y="747"/>
                    </a:lnTo>
                    <a:lnTo>
                      <a:pt x="314" y="747"/>
                    </a:lnTo>
                    <a:lnTo>
                      <a:pt x="314" y="745"/>
                    </a:lnTo>
                    <a:lnTo>
                      <a:pt x="320" y="743"/>
                    </a:lnTo>
                    <a:lnTo>
                      <a:pt x="329" y="739"/>
                    </a:lnTo>
                    <a:lnTo>
                      <a:pt x="343" y="735"/>
                    </a:lnTo>
                    <a:lnTo>
                      <a:pt x="358" y="727"/>
                    </a:lnTo>
                    <a:lnTo>
                      <a:pt x="376" y="720"/>
                    </a:lnTo>
                    <a:lnTo>
                      <a:pt x="386" y="714"/>
                    </a:lnTo>
                    <a:lnTo>
                      <a:pt x="397" y="710"/>
                    </a:lnTo>
                    <a:lnTo>
                      <a:pt x="409" y="704"/>
                    </a:lnTo>
                    <a:lnTo>
                      <a:pt x="422" y="700"/>
                    </a:lnTo>
                    <a:lnTo>
                      <a:pt x="434" y="692"/>
                    </a:lnTo>
                    <a:lnTo>
                      <a:pt x="446" y="685"/>
                    </a:lnTo>
                    <a:lnTo>
                      <a:pt x="459" y="677"/>
                    </a:lnTo>
                    <a:lnTo>
                      <a:pt x="473" y="669"/>
                    </a:lnTo>
                    <a:lnTo>
                      <a:pt x="486" y="659"/>
                    </a:lnTo>
                    <a:lnTo>
                      <a:pt x="502" y="650"/>
                    </a:lnTo>
                    <a:lnTo>
                      <a:pt x="515" y="640"/>
                    </a:lnTo>
                    <a:lnTo>
                      <a:pt x="533" y="630"/>
                    </a:lnTo>
                    <a:lnTo>
                      <a:pt x="546" y="617"/>
                    </a:lnTo>
                    <a:lnTo>
                      <a:pt x="562" y="605"/>
                    </a:lnTo>
                    <a:lnTo>
                      <a:pt x="577" y="594"/>
                    </a:lnTo>
                    <a:lnTo>
                      <a:pt x="595" y="582"/>
                    </a:lnTo>
                    <a:lnTo>
                      <a:pt x="610" y="566"/>
                    </a:lnTo>
                    <a:lnTo>
                      <a:pt x="626" y="553"/>
                    </a:lnTo>
                    <a:lnTo>
                      <a:pt x="643" y="537"/>
                    </a:lnTo>
                    <a:lnTo>
                      <a:pt x="661" y="524"/>
                    </a:lnTo>
                    <a:lnTo>
                      <a:pt x="674" y="506"/>
                    </a:lnTo>
                    <a:lnTo>
                      <a:pt x="686" y="489"/>
                    </a:lnTo>
                    <a:lnTo>
                      <a:pt x="696" y="471"/>
                    </a:lnTo>
                    <a:lnTo>
                      <a:pt x="703" y="456"/>
                    </a:lnTo>
                    <a:lnTo>
                      <a:pt x="707" y="438"/>
                    </a:lnTo>
                    <a:lnTo>
                      <a:pt x="711" y="423"/>
                    </a:lnTo>
                    <a:lnTo>
                      <a:pt x="711" y="405"/>
                    </a:lnTo>
                    <a:lnTo>
                      <a:pt x="713" y="390"/>
                    </a:lnTo>
                    <a:lnTo>
                      <a:pt x="709" y="373"/>
                    </a:lnTo>
                    <a:lnTo>
                      <a:pt x="705" y="355"/>
                    </a:lnTo>
                    <a:lnTo>
                      <a:pt x="700" y="338"/>
                    </a:lnTo>
                    <a:lnTo>
                      <a:pt x="694" y="322"/>
                    </a:lnTo>
                    <a:lnTo>
                      <a:pt x="684" y="305"/>
                    </a:lnTo>
                    <a:lnTo>
                      <a:pt x="676" y="291"/>
                    </a:lnTo>
                    <a:lnTo>
                      <a:pt x="667" y="276"/>
                    </a:lnTo>
                    <a:lnTo>
                      <a:pt x="657" y="262"/>
                    </a:lnTo>
                    <a:lnTo>
                      <a:pt x="643" y="245"/>
                    </a:lnTo>
                    <a:lnTo>
                      <a:pt x="632" y="231"/>
                    </a:lnTo>
                    <a:lnTo>
                      <a:pt x="620" y="215"/>
                    </a:lnTo>
                    <a:lnTo>
                      <a:pt x="608" y="202"/>
                    </a:lnTo>
                    <a:lnTo>
                      <a:pt x="595" y="188"/>
                    </a:lnTo>
                    <a:lnTo>
                      <a:pt x="581" y="175"/>
                    </a:lnTo>
                    <a:lnTo>
                      <a:pt x="570" y="163"/>
                    </a:lnTo>
                    <a:lnTo>
                      <a:pt x="558" y="151"/>
                    </a:lnTo>
                    <a:lnTo>
                      <a:pt x="546" y="140"/>
                    </a:lnTo>
                    <a:lnTo>
                      <a:pt x="535" y="128"/>
                    </a:lnTo>
                    <a:lnTo>
                      <a:pt x="523" y="117"/>
                    </a:lnTo>
                    <a:lnTo>
                      <a:pt x="515" y="107"/>
                    </a:lnTo>
                    <a:lnTo>
                      <a:pt x="498" y="89"/>
                    </a:lnTo>
                    <a:lnTo>
                      <a:pt x="488" y="76"/>
                    </a:lnTo>
                    <a:lnTo>
                      <a:pt x="477" y="60"/>
                    </a:lnTo>
                    <a:lnTo>
                      <a:pt x="465" y="43"/>
                    </a:lnTo>
                    <a:lnTo>
                      <a:pt x="457" y="31"/>
                    </a:lnTo>
                    <a:lnTo>
                      <a:pt x="450" y="22"/>
                    </a:lnTo>
                    <a:lnTo>
                      <a:pt x="442" y="10"/>
                    </a:lnTo>
                    <a:lnTo>
                      <a:pt x="434" y="0"/>
                    </a:lnTo>
                    <a:lnTo>
                      <a:pt x="415" y="6"/>
                    </a:lnTo>
                    <a:lnTo>
                      <a:pt x="395" y="14"/>
                    </a:lnTo>
                    <a:lnTo>
                      <a:pt x="376" y="20"/>
                    </a:lnTo>
                    <a:lnTo>
                      <a:pt x="358" y="27"/>
                    </a:lnTo>
                    <a:lnTo>
                      <a:pt x="339" y="33"/>
                    </a:lnTo>
                    <a:lnTo>
                      <a:pt x="320" y="41"/>
                    </a:lnTo>
                    <a:lnTo>
                      <a:pt x="302" y="49"/>
                    </a:lnTo>
                    <a:lnTo>
                      <a:pt x="285" y="56"/>
                    </a:lnTo>
                    <a:lnTo>
                      <a:pt x="283" y="99"/>
                    </a:lnTo>
                    <a:close/>
                  </a:path>
                </a:pathLst>
              </a:custGeom>
              <a:solidFill>
                <a:srgbClr val="9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70080" y="6177600"/>
                <a:ext cx="430200" cy="314640"/>
              </a:xfrm>
              <a:custGeom>
                <a:avLst/>
                <a:gdLst/>
                <a:ahLst/>
                <a:rect l="l" t="t" r="r" b="b"/>
                <a:pathLst>
                  <a:path w="708" h="516">
                    <a:moveTo>
                      <a:pt x="47" y="516"/>
                    </a:moveTo>
                    <a:lnTo>
                      <a:pt x="64" y="516"/>
                    </a:lnTo>
                    <a:lnTo>
                      <a:pt x="83" y="516"/>
                    </a:lnTo>
                    <a:lnTo>
                      <a:pt x="101" y="516"/>
                    </a:lnTo>
                    <a:lnTo>
                      <a:pt x="120" y="516"/>
                    </a:lnTo>
                    <a:lnTo>
                      <a:pt x="138" y="512"/>
                    </a:lnTo>
                    <a:lnTo>
                      <a:pt x="157" y="510"/>
                    </a:lnTo>
                    <a:lnTo>
                      <a:pt x="177" y="506"/>
                    </a:lnTo>
                    <a:lnTo>
                      <a:pt x="196" y="504"/>
                    </a:lnTo>
                    <a:lnTo>
                      <a:pt x="211" y="490"/>
                    </a:lnTo>
                    <a:lnTo>
                      <a:pt x="229" y="477"/>
                    </a:lnTo>
                    <a:lnTo>
                      <a:pt x="248" y="465"/>
                    </a:lnTo>
                    <a:lnTo>
                      <a:pt x="270" y="454"/>
                    </a:lnTo>
                    <a:lnTo>
                      <a:pt x="289" y="440"/>
                    </a:lnTo>
                    <a:lnTo>
                      <a:pt x="310" y="428"/>
                    </a:lnTo>
                    <a:lnTo>
                      <a:pt x="320" y="423"/>
                    </a:lnTo>
                    <a:lnTo>
                      <a:pt x="332" y="417"/>
                    </a:lnTo>
                    <a:lnTo>
                      <a:pt x="343" y="411"/>
                    </a:lnTo>
                    <a:lnTo>
                      <a:pt x="355" y="405"/>
                    </a:lnTo>
                    <a:lnTo>
                      <a:pt x="374" y="392"/>
                    </a:lnTo>
                    <a:lnTo>
                      <a:pt x="396" y="380"/>
                    </a:lnTo>
                    <a:lnTo>
                      <a:pt x="405" y="374"/>
                    </a:lnTo>
                    <a:lnTo>
                      <a:pt x="417" y="368"/>
                    </a:lnTo>
                    <a:lnTo>
                      <a:pt x="429" y="362"/>
                    </a:lnTo>
                    <a:lnTo>
                      <a:pt x="440" y="357"/>
                    </a:lnTo>
                    <a:lnTo>
                      <a:pt x="450" y="349"/>
                    </a:lnTo>
                    <a:lnTo>
                      <a:pt x="462" y="343"/>
                    </a:lnTo>
                    <a:lnTo>
                      <a:pt x="471" y="337"/>
                    </a:lnTo>
                    <a:lnTo>
                      <a:pt x="483" y="331"/>
                    </a:lnTo>
                    <a:lnTo>
                      <a:pt x="493" y="324"/>
                    </a:lnTo>
                    <a:lnTo>
                      <a:pt x="504" y="318"/>
                    </a:lnTo>
                    <a:lnTo>
                      <a:pt x="514" y="312"/>
                    </a:lnTo>
                    <a:lnTo>
                      <a:pt x="526" y="306"/>
                    </a:lnTo>
                    <a:lnTo>
                      <a:pt x="545" y="291"/>
                    </a:lnTo>
                    <a:lnTo>
                      <a:pt x="564" y="275"/>
                    </a:lnTo>
                    <a:lnTo>
                      <a:pt x="582" y="260"/>
                    </a:lnTo>
                    <a:lnTo>
                      <a:pt x="599" y="246"/>
                    </a:lnTo>
                    <a:lnTo>
                      <a:pt x="615" y="229"/>
                    </a:lnTo>
                    <a:lnTo>
                      <a:pt x="630" y="211"/>
                    </a:lnTo>
                    <a:lnTo>
                      <a:pt x="644" y="194"/>
                    </a:lnTo>
                    <a:lnTo>
                      <a:pt x="659" y="178"/>
                    </a:lnTo>
                    <a:lnTo>
                      <a:pt x="669" y="157"/>
                    </a:lnTo>
                    <a:lnTo>
                      <a:pt x="681" y="138"/>
                    </a:lnTo>
                    <a:lnTo>
                      <a:pt x="685" y="126"/>
                    </a:lnTo>
                    <a:lnTo>
                      <a:pt x="688" y="116"/>
                    </a:lnTo>
                    <a:lnTo>
                      <a:pt x="692" y="105"/>
                    </a:lnTo>
                    <a:lnTo>
                      <a:pt x="696" y="95"/>
                    </a:lnTo>
                    <a:lnTo>
                      <a:pt x="698" y="83"/>
                    </a:lnTo>
                    <a:lnTo>
                      <a:pt x="700" y="72"/>
                    </a:lnTo>
                    <a:lnTo>
                      <a:pt x="702" y="60"/>
                    </a:lnTo>
                    <a:lnTo>
                      <a:pt x="706" y="48"/>
                    </a:lnTo>
                    <a:lnTo>
                      <a:pt x="706" y="35"/>
                    </a:lnTo>
                    <a:lnTo>
                      <a:pt x="706" y="23"/>
                    </a:lnTo>
                    <a:lnTo>
                      <a:pt x="706" y="11"/>
                    </a:lnTo>
                    <a:lnTo>
                      <a:pt x="708" y="0"/>
                    </a:lnTo>
                    <a:lnTo>
                      <a:pt x="688" y="19"/>
                    </a:lnTo>
                    <a:lnTo>
                      <a:pt x="671" y="41"/>
                    </a:lnTo>
                    <a:lnTo>
                      <a:pt x="652" y="60"/>
                    </a:lnTo>
                    <a:lnTo>
                      <a:pt x="634" y="81"/>
                    </a:lnTo>
                    <a:lnTo>
                      <a:pt x="615" y="99"/>
                    </a:lnTo>
                    <a:lnTo>
                      <a:pt x="595" y="118"/>
                    </a:lnTo>
                    <a:lnTo>
                      <a:pt x="576" y="136"/>
                    </a:lnTo>
                    <a:lnTo>
                      <a:pt x="557" y="155"/>
                    </a:lnTo>
                    <a:lnTo>
                      <a:pt x="545" y="163"/>
                    </a:lnTo>
                    <a:lnTo>
                      <a:pt x="535" y="170"/>
                    </a:lnTo>
                    <a:lnTo>
                      <a:pt x="524" y="178"/>
                    </a:lnTo>
                    <a:lnTo>
                      <a:pt x="514" y="188"/>
                    </a:lnTo>
                    <a:lnTo>
                      <a:pt x="493" y="203"/>
                    </a:lnTo>
                    <a:lnTo>
                      <a:pt x="473" y="219"/>
                    </a:lnTo>
                    <a:lnTo>
                      <a:pt x="462" y="225"/>
                    </a:lnTo>
                    <a:lnTo>
                      <a:pt x="450" y="233"/>
                    </a:lnTo>
                    <a:lnTo>
                      <a:pt x="438" y="240"/>
                    </a:lnTo>
                    <a:lnTo>
                      <a:pt x="429" y="248"/>
                    </a:lnTo>
                    <a:lnTo>
                      <a:pt x="417" y="254"/>
                    </a:lnTo>
                    <a:lnTo>
                      <a:pt x="407" y="262"/>
                    </a:lnTo>
                    <a:lnTo>
                      <a:pt x="396" y="269"/>
                    </a:lnTo>
                    <a:lnTo>
                      <a:pt x="386" y="277"/>
                    </a:lnTo>
                    <a:lnTo>
                      <a:pt x="374" y="281"/>
                    </a:lnTo>
                    <a:lnTo>
                      <a:pt x="363" y="287"/>
                    </a:lnTo>
                    <a:lnTo>
                      <a:pt x="351" y="293"/>
                    </a:lnTo>
                    <a:lnTo>
                      <a:pt x="339" y="298"/>
                    </a:lnTo>
                    <a:lnTo>
                      <a:pt x="328" y="304"/>
                    </a:lnTo>
                    <a:lnTo>
                      <a:pt x="316" y="310"/>
                    </a:lnTo>
                    <a:lnTo>
                      <a:pt x="305" y="316"/>
                    </a:lnTo>
                    <a:lnTo>
                      <a:pt x="293" y="322"/>
                    </a:lnTo>
                    <a:lnTo>
                      <a:pt x="279" y="326"/>
                    </a:lnTo>
                    <a:lnTo>
                      <a:pt x="268" y="331"/>
                    </a:lnTo>
                    <a:lnTo>
                      <a:pt x="256" y="335"/>
                    </a:lnTo>
                    <a:lnTo>
                      <a:pt x="244" y="341"/>
                    </a:lnTo>
                    <a:lnTo>
                      <a:pt x="233" y="345"/>
                    </a:lnTo>
                    <a:lnTo>
                      <a:pt x="221" y="351"/>
                    </a:lnTo>
                    <a:lnTo>
                      <a:pt x="210" y="355"/>
                    </a:lnTo>
                    <a:lnTo>
                      <a:pt x="198" y="361"/>
                    </a:lnTo>
                    <a:lnTo>
                      <a:pt x="184" y="362"/>
                    </a:lnTo>
                    <a:lnTo>
                      <a:pt x="173" y="366"/>
                    </a:lnTo>
                    <a:lnTo>
                      <a:pt x="159" y="370"/>
                    </a:lnTo>
                    <a:lnTo>
                      <a:pt x="147" y="374"/>
                    </a:lnTo>
                    <a:lnTo>
                      <a:pt x="134" y="376"/>
                    </a:lnTo>
                    <a:lnTo>
                      <a:pt x="122" y="380"/>
                    </a:lnTo>
                    <a:lnTo>
                      <a:pt x="111" y="384"/>
                    </a:lnTo>
                    <a:lnTo>
                      <a:pt x="99" y="388"/>
                    </a:lnTo>
                    <a:lnTo>
                      <a:pt x="85" y="390"/>
                    </a:lnTo>
                    <a:lnTo>
                      <a:pt x="74" y="392"/>
                    </a:lnTo>
                    <a:lnTo>
                      <a:pt x="60" y="393"/>
                    </a:lnTo>
                    <a:lnTo>
                      <a:pt x="49" y="397"/>
                    </a:lnTo>
                    <a:lnTo>
                      <a:pt x="35" y="399"/>
                    </a:lnTo>
                    <a:lnTo>
                      <a:pt x="23" y="401"/>
                    </a:lnTo>
                    <a:lnTo>
                      <a:pt x="12" y="403"/>
                    </a:lnTo>
                    <a:lnTo>
                      <a:pt x="0" y="407"/>
                    </a:lnTo>
                    <a:lnTo>
                      <a:pt x="2" y="419"/>
                    </a:lnTo>
                    <a:lnTo>
                      <a:pt x="8" y="434"/>
                    </a:lnTo>
                    <a:lnTo>
                      <a:pt x="14" y="450"/>
                    </a:lnTo>
                    <a:lnTo>
                      <a:pt x="23" y="467"/>
                    </a:lnTo>
                    <a:lnTo>
                      <a:pt x="29" y="479"/>
                    </a:lnTo>
                    <a:lnTo>
                      <a:pt x="35" y="490"/>
                    </a:lnTo>
                    <a:lnTo>
                      <a:pt x="41" y="502"/>
                    </a:lnTo>
                    <a:lnTo>
                      <a:pt x="47" y="516"/>
                    </a:lnTo>
                    <a:close/>
                  </a:path>
                </a:pathLst>
              </a:custGeom>
              <a:solidFill>
                <a:srgbClr val="8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59200" y="6426360"/>
                <a:ext cx="138960" cy="65520"/>
              </a:xfrm>
              <a:custGeom>
                <a:avLst/>
                <a:gdLst/>
                <a:ahLst/>
                <a:rect l="l" t="t" r="r" b="b"/>
                <a:pathLst>
                  <a:path w="227" h="109">
                    <a:moveTo>
                      <a:pt x="0" y="6"/>
                    </a:moveTo>
                    <a:lnTo>
                      <a:pt x="0" y="64"/>
                    </a:lnTo>
                    <a:lnTo>
                      <a:pt x="11" y="66"/>
                    </a:lnTo>
                    <a:lnTo>
                      <a:pt x="25" y="70"/>
                    </a:lnTo>
                    <a:lnTo>
                      <a:pt x="39" y="74"/>
                    </a:lnTo>
                    <a:lnTo>
                      <a:pt x="52" y="78"/>
                    </a:lnTo>
                    <a:lnTo>
                      <a:pt x="66" y="80"/>
                    </a:lnTo>
                    <a:lnTo>
                      <a:pt x="81" y="83"/>
                    </a:lnTo>
                    <a:lnTo>
                      <a:pt x="95" y="87"/>
                    </a:lnTo>
                    <a:lnTo>
                      <a:pt x="110" y="91"/>
                    </a:lnTo>
                    <a:lnTo>
                      <a:pt x="124" y="93"/>
                    </a:lnTo>
                    <a:lnTo>
                      <a:pt x="139" y="97"/>
                    </a:lnTo>
                    <a:lnTo>
                      <a:pt x="153" y="99"/>
                    </a:lnTo>
                    <a:lnTo>
                      <a:pt x="168" y="103"/>
                    </a:lnTo>
                    <a:lnTo>
                      <a:pt x="182" y="103"/>
                    </a:lnTo>
                    <a:lnTo>
                      <a:pt x="198" y="105"/>
                    </a:lnTo>
                    <a:lnTo>
                      <a:pt x="211" y="107"/>
                    </a:lnTo>
                    <a:lnTo>
                      <a:pt x="227" y="109"/>
                    </a:lnTo>
                    <a:lnTo>
                      <a:pt x="221" y="95"/>
                    </a:lnTo>
                    <a:lnTo>
                      <a:pt x="215" y="83"/>
                    </a:lnTo>
                    <a:lnTo>
                      <a:pt x="209" y="72"/>
                    </a:lnTo>
                    <a:lnTo>
                      <a:pt x="203" y="60"/>
                    </a:lnTo>
                    <a:lnTo>
                      <a:pt x="194" y="43"/>
                    </a:lnTo>
                    <a:lnTo>
                      <a:pt x="188" y="27"/>
                    </a:lnTo>
                    <a:lnTo>
                      <a:pt x="182" y="12"/>
                    </a:lnTo>
                    <a:lnTo>
                      <a:pt x="180" y="0"/>
                    </a:lnTo>
                    <a:lnTo>
                      <a:pt x="168" y="0"/>
                    </a:lnTo>
                    <a:lnTo>
                      <a:pt x="157" y="0"/>
                    </a:lnTo>
                    <a:lnTo>
                      <a:pt x="145" y="0"/>
                    </a:lnTo>
                    <a:lnTo>
                      <a:pt x="134" y="2"/>
                    </a:lnTo>
                    <a:lnTo>
                      <a:pt x="122" y="2"/>
                    </a:lnTo>
                    <a:lnTo>
                      <a:pt x="110" y="4"/>
                    </a:lnTo>
                    <a:lnTo>
                      <a:pt x="99" y="4"/>
                    </a:lnTo>
                    <a:lnTo>
                      <a:pt x="89" y="6"/>
                    </a:lnTo>
                    <a:lnTo>
                      <a:pt x="77" y="6"/>
                    </a:lnTo>
                    <a:lnTo>
                      <a:pt x="66" y="6"/>
                    </a:lnTo>
                    <a:lnTo>
                      <a:pt x="54" y="6"/>
                    </a:lnTo>
                    <a:lnTo>
                      <a:pt x="44" y="6"/>
                    </a:lnTo>
                    <a:lnTo>
                      <a:pt x="33" y="6"/>
                    </a:lnTo>
                    <a:lnTo>
                      <a:pt x="21" y="6"/>
                    </a:lnTo>
                    <a:lnTo>
                      <a:pt x="1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61480" y="4807440"/>
                <a:ext cx="466920" cy="360720"/>
              </a:xfrm>
              <a:custGeom>
                <a:avLst/>
                <a:gdLst/>
                <a:ahLst/>
                <a:rect l="l" t="t" r="r" b="b"/>
                <a:pathLst>
                  <a:path w="766" h="594">
                    <a:moveTo>
                      <a:pt x="391" y="173"/>
                    </a:moveTo>
                    <a:lnTo>
                      <a:pt x="382" y="163"/>
                    </a:lnTo>
                    <a:lnTo>
                      <a:pt x="376" y="154"/>
                    </a:lnTo>
                    <a:lnTo>
                      <a:pt x="372" y="142"/>
                    </a:lnTo>
                    <a:lnTo>
                      <a:pt x="368" y="132"/>
                    </a:lnTo>
                    <a:lnTo>
                      <a:pt x="364" y="121"/>
                    </a:lnTo>
                    <a:lnTo>
                      <a:pt x="362" y="109"/>
                    </a:lnTo>
                    <a:lnTo>
                      <a:pt x="362" y="97"/>
                    </a:lnTo>
                    <a:lnTo>
                      <a:pt x="362" y="86"/>
                    </a:lnTo>
                    <a:lnTo>
                      <a:pt x="362" y="72"/>
                    </a:lnTo>
                    <a:lnTo>
                      <a:pt x="362" y="61"/>
                    </a:lnTo>
                    <a:lnTo>
                      <a:pt x="362" y="49"/>
                    </a:lnTo>
                    <a:lnTo>
                      <a:pt x="362" y="37"/>
                    </a:lnTo>
                    <a:lnTo>
                      <a:pt x="362" y="16"/>
                    </a:lnTo>
                    <a:lnTo>
                      <a:pt x="364" y="0"/>
                    </a:lnTo>
                    <a:lnTo>
                      <a:pt x="378" y="12"/>
                    </a:lnTo>
                    <a:lnTo>
                      <a:pt x="390" y="28"/>
                    </a:lnTo>
                    <a:lnTo>
                      <a:pt x="399" y="43"/>
                    </a:lnTo>
                    <a:lnTo>
                      <a:pt x="411" y="61"/>
                    </a:lnTo>
                    <a:lnTo>
                      <a:pt x="417" y="78"/>
                    </a:lnTo>
                    <a:lnTo>
                      <a:pt x="424" y="97"/>
                    </a:lnTo>
                    <a:lnTo>
                      <a:pt x="432" y="115"/>
                    </a:lnTo>
                    <a:lnTo>
                      <a:pt x="440" y="136"/>
                    </a:lnTo>
                    <a:lnTo>
                      <a:pt x="446" y="154"/>
                    </a:lnTo>
                    <a:lnTo>
                      <a:pt x="455" y="173"/>
                    </a:lnTo>
                    <a:lnTo>
                      <a:pt x="463" y="191"/>
                    </a:lnTo>
                    <a:lnTo>
                      <a:pt x="477" y="210"/>
                    </a:lnTo>
                    <a:lnTo>
                      <a:pt x="488" y="223"/>
                    </a:lnTo>
                    <a:lnTo>
                      <a:pt x="508" y="239"/>
                    </a:lnTo>
                    <a:lnTo>
                      <a:pt x="516" y="245"/>
                    </a:lnTo>
                    <a:lnTo>
                      <a:pt x="525" y="251"/>
                    </a:lnTo>
                    <a:lnTo>
                      <a:pt x="537" y="256"/>
                    </a:lnTo>
                    <a:lnTo>
                      <a:pt x="550" y="262"/>
                    </a:lnTo>
                    <a:lnTo>
                      <a:pt x="558" y="260"/>
                    </a:lnTo>
                    <a:lnTo>
                      <a:pt x="562" y="260"/>
                    </a:lnTo>
                    <a:lnTo>
                      <a:pt x="558" y="260"/>
                    </a:lnTo>
                    <a:lnTo>
                      <a:pt x="554" y="262"/>
                    </a:lnTo>
                    <a:lnTo>
                      <a:pt x="541" y="266"/>
                    </a:lnTo>
                    <a:lnTo>
                      <a:pt x="535" y="278"/>
                    </a:lnTo>
                    <a:lnTo>
                      <a:pt x="547" y="276"/>
                    </a:lnTo>
                    <a:lnTo>
                      <a:pt x="560" y="276"/>
                    </a:lnTo>
                    <a:lnTo>
                      <a:pt x="574" y="276"/>
                    </a:lnTo>
                    <a:lnTo>
                      <a:pt x="591" y="276"/>
                    </a:lnTo>
                    <a:lnTo>
                      <a:pt x="607" y="276"/>
                    </a:lnTo>
                    <a:lnTo>
                      <a:pt x="624" y="276"/>
                    </a:lnTo>
                    <a:lnTo>
                      <a:pt x="640" y="276"/>
                    </a:lnTo>
                    <a:lnTo>
                      <a:pt x="657" y="282"/>
                    </a:lnTo>
                    <a:lnTo>
                      <a:pt x="671" y="284"/>
                    </a:lnTo>
                    <a:lnTo>
                      <a:pt x="686" y="289"/>
                    </a:lnTo>
                    <a:lnTo>
                      <a:pt x="700" y="295"/>
                    </a:lnTo>
                    <a:lnTo>
                      <a:pt x="713" y="305"/>
                    </a:lnTo>
                    <a:lnTo>
                      <a:pt x="723" y="315"/>
                    </a:lnTo>
                    <a:lnTo>
                      <a:pt x="735" y="328"/>
                    </a:lnTo>
                    <a:lnTo>
                      <a:pt x="742" y="346"/>
                    </a:lnTo>
                    <a:lnTo>
                      <a:pt x="750" y="365"/>
                    </a:lnTo>
                    <a:lnTo>
                      <a:pt x="756" y="381"/>
                    </a:lnTo>
                    <a:lnTo>
                      <a:pt x="762" y="400"/>
                    </a:lnTo>
                    <a:lnTo>
                      <a:pt x="762" y="408"/>
                    </a:lnTo>
                    <a:lnTo>
                      <a:pt x="764" y="417"/>
                    </a:lnTo>
                    <a:lnTo>
                      <a:pt x="764" y="429"/>
                    </a:lnTo>
                    <a:lnTo>
                      <a:pt x="766" y="441"/>
                    </a:lnTo>
                    <a:lnTo>
                      <a:pt x="764" y="450"/>
                    </a:lnTo>
                    <a:lnTo>
                      <a:pt x="764" y="460"/>
                    </a:lnTo>
                    <a:lnTo>
                      <a:pt x="764" y="472"/>
                    </a:lnTo>
                    <a:lnTo>
                      <a:pt x="764" y="483"/>
                    </a:lnTo>
                    <a:lnTo>
                      <a:pt x="764" y="493"/>
                    </a:lnTo>
                    <a:lnTo>
                      <a:pt x="764" y="505"/>
                    </a:lnTo>
                    <a:lnTo>
                      <a:pt x="764" y="514"/>
                    </a:lnTo>
                    <a:lnTo>
                      <a:pt x="766" y="526"/>
                    </a:lnTo>
                    <a:lnTo>
                      <a:pt x="752" y="524"/>
                    </a:lnTo>
                    <a:lnTo>
                      <a:pt x="740" y="522"/>
                    </a:lnTo>
                    <a:lnTo>
                      <a:pt x="727" y="518"/>
                    </a:lnTo>
                    <a:lnTo>
                      <a:pt x="713" y="516"/>
                    </a:lnTo>
                    <a:lnTo>
                      <a:pt x="698" y="510"/>
                    </a:lnTo>
                    <a:lnTo>
                      <a:pt x="684" y="507"/>
                    </a:lnTo>
                    <a:lnTo>
                      <a:pt x="669" y="503"/>
                    </a:lnTo>
                    <a:lnTo>
                      <a:pt x="655" y="501"/>
                    </a:lnTo>
                    <a:lnTo>
                      <a:pt x="640" y="495"/>
                    </a:lnTo>
                    <a:lnTo>
                      <a:pt x="624" y="493"/>
                    </a:lnTo>
                    <a:lnTo>
                      <a:pt x="609" y="491"/>
                    </a:lnTo>
                    <a:lnTo>
                      <a:pt x="593" y="491"/>
                    </a:lnTo>
                    <a:lnTo>
                      <a:pt x="578" y="491"/>
                    </a:lnTo>
                    <a:lnTo>
                      <a:pt x="562" y="495"/>
                    </a:lnTo>
                    <a:lnTo>
                      <a:pt x="547" y="499"/>
                    </a:lnTo>
                    <a:lnTo>
                      <a:pt x="533" y="509"/>
                    </a:lnTo>
                    <a:lnTo>
                      <a:pt x="521" y="509"/>
                    </a:lnTo>
                    <a:lnTo>
                      <a:pt x="510" y="509"/>
                    </a:lnTo>
                    <a:lnTo>
                      <a:pt x="500" y="509"/>
                    </a:lnTo>
                    <a:lnTo>
                      <a:pt x="490" y="509"/>
                    </a:lnTo>
                    <a:lnTo>
                      <a:pt x="469" y="510"/>
                    </a:lnTo>
                    <a:lnTo>
                      <a:pt x="452" y="516"/>
                    </a:lnTo>
                    <a:lnTo>
                      <a:pt x="430" y="518"/>
                    </a:lnTo>
                    <a:lnTo>
                      <a:pt x="411" y="524"/>
                    </a:lnTo>
                    <a:lnTo>
                      <a:pt x="393" y="530"/>
                    </a:lnTo>
                    <a:lnTo>
                      <a:pt x="376" y="538"/>
                    </a:lnTo>
                    <a:lnTo>
                      <a:pt x="357" y="543"/>
                    </a:lnTo>
                    <a:lnTo>
                      <a:pt x="337" y="549"/>
                    </a:lnTo>
                    <a:lnTo>
                      <a:pt x="320" y="557"/>
                    </a:lnTo>
                    <a:lnTo>
                      <a:pt x="302" y="565"/>
                    </a:lnTo>
                    <a:lnTo>
                      <a:pt x="283" y="571"/>
                    </a:lnTo>
                    <a:lnTo>
                      <a:pt x="265" y="578"/>
                    </a:lnTo>
                    <a:lnTo>
                      <a:pt x="248" y="586"/>
                    </a:lnTo>
                    <a:lnTo>
                      <a:pt x="231" y="594"/>
                    </a:lnTo>
                    <a:lnTo>
                      <a:pt x="213" y="576"/>
                    </a:lnTo>
                    <a:lnTo>
                      <a:pt x="201" y="563"/>
                    </a:lnTo>
                    <a:lnTo>
                      <a:pt x="196" y="549"/>
                    </a:lnTo>
                    <a:lnTo>
                      <a:pt x="196" y="538"/>
                    </a:lnTo>
                    <a:lnTo>
                      <a:pt x="196" y="526"/>
                    </a:lnTo>
                    <a:lnTo>
                      <a:pt x="203" y="518"/>
                    </a:lnTo>
                    <a:lnTo>
                      <a:pt x="211" y="509"/>
                    </a:lnTo>
                    <a:lnTo>
                      <a:pt x="223" y="501"/>
                    </a:lnTo>
                    <a:lnTo>
                      <a:pt x="234" y="491"/>
                    </a:lnTo>
                    <a:lnTo>
                      <a:pt x="246" y="481"/>
                    </a:lnTo>
                    <a:lnTo>
                      <a:pt x="258" y="472"/>
                    </a:lnTo>
                    <a:lnTo>
                      <a:pt x="271" y="464"/>
                    </a:lnTo>
                    <a:lnTo>
                      <a:pt x="281" y="452"/>
                    </a:lnTo>
                    <a:lnTo>
                      <a:pt x="293" y="443"/>
                    </a:lnTo>
                    <a:lnTo>
                      <a:pt x="298" y="431"/>
                    </a:lnTo>
                    <a:lnTo>
                      <a:pt x="304" y="419"/>
                    </a:lnTo>
                    <a:lnTo>
                      <a:pt x="293" y="412"/>
                    </a:lnTo>
                    <a:lnTo>
                      <a:pt x="281" y="406"/>
                    </a:lnTo>
                    <a:lnTo>
                      <a:pt x="271" y="404"/>
                    </a:lnTo>
                    <a:lnTo>
                      <a:pt x="262" y="404"/>
                    </a:lnTo>
                    <a:lnTo>
                      <a:pt x="242" y="406"/>
                    </a:lnTo>
                    <a:lnTo>
                      <a:pt x="225" y="415"/>
                    </a:lnTo>
                    <a:lnTo>
                      <a:pt x="205" y="425"/>
                    </a:lnTo>
                    <a:lnTo>
                      <a:pt x="188" y="443"/>
                    </a:lnTo>
                    <a:lnTo>
                      <a:pt x="172" y="458"/>
                    </a:lnTo>
                    <a:lnTo>
                      <a:pt x="157" y="477"/>
                    </a:lnTo>
                    <a:lnTo>
                      <a:pt x="139" y="493"/>
                    </a:lnTo>
                    <a:lnTo>
                      <a:pt x="124" y="507"/>
                    </a:lnTo>
                    <a:lnTo>
                      <a:pt x="108" y="518"/>
                    </a:lnTo>
                    <a:lnTo>
                      <a:pt x="93" y="526"/>
                    </a:lnTo>
                    <a:lnTo>
                      <a:pt x="75" y="526"/>
                    </a:lnTo>
                    <a:lnTo>
                      <a:pt x="60" y="522"/>
                    </a:lnTo>
                    <a:lnTo>
                      <a:pt x="50" y="514"/>
                    </a:lnTo>
                    <a:lnTo>
                      <a:pt x="42" y="509"/>
                    </a:lnTo>
                    <a:lnTo>
                      <a:pt x="35" y="499"/>
                    </a:lnTo>
                    <a:lnTo>
                      <a:pt x="27" y="489"/>
                    </a:lnTo>
                    <a:lnTo>
                      <a:pt x="31" y="474"/>
                    </a:lnTo>
                    <a:lnTo>
                      <a:pt x="37" y="458"/>
                    </a:lnTo>
                    <a:lnTo>
                      <a:pt x="41" y="441"/>
                    </a:lnTo>
                    <a:lnTo>
                      <a:pt x="46" y="427"/>
                    </a:lnTo>
                    <a:lnTo>
                      <a:pt x="52" y="412"/>
                    </a:lnTo>
                    <a:lnTo>
                      <a:pt x="60" y="398"/>
                    </a:lnTo>
                    <a:lnTo>
                      <a:pt x="72" y="386"/>
                    </a:lnTo>
                    <a:lnTo>
                      <a:pt x="87" y="377"/>
                    </a:lnTo>
                    <a:lnTo>
                      <a:pt x="97" y="371"/>
                    </a:lnTo>
                    <a:lnTo>
                      <a:pt x="108" y="369"/>
                    </a:lnTo>
                    <a:lnTo>
                      <a:pt x="120" y="369"/>
                    </a:lnTo>
                    <a:lnTo>
                      <a:pt x="132" y="371"/>
                    </a:lnTo>
                    <a:lnTo>
                      <a:pt x="141" y="373"/>
                    </a:lnTo>
                    <a:lnTo>
                      <a:pt x="153" y="377"/>
                    </a:lnTo>
                    <a:lnTo>
                      <a:pt x="165" y="381"/>
                    </a:lnTo>
                    <a:lnTo>
                      <a:pt x="176" y="384"/>
                    </a:lnTo>
                    <a:lnTo>
                      <a:pt x="196" y="388"/>
                    </a:lnTo>
                    <a:lnTo>
                      <a:pt x="217" y="388"/>
                    </a:lnTo>
                    <a:lnTo>
                      <a:pt x="227" y="384"/>
                    </a:lnTo>
                    <a:lnTo>
                      <a:pt x="238" y="381"/>
                    </a:lnTo>
                    <a:lnTo>
                      <a:pt x="248" y="373"/>
                    </a:lnTo>
                    <a:lnTo>
                      <a:pt x="260" y="363"/>
                    </a:lnTo>
                    <a:lnTo>
                      <a:pt x="252" y="350"/>
                    </a:lnTo>
                    <a:lnTo>
                      <a:pt x="246" y="340"/>
                    </a:lnTo>
                    <a:lnTo>
                      <a:pt x="238" y="330"/>
                    </a:lnTo>
                    <a:lnTo>
                      <a:pt x="232" y="324"/>
                    </a:lnTo>
                    <a:lnTo>
                      <a:pt x="217" y="313"/>
                    </a:lnTo>
                    <a:lnTo>
                      <a:pt x="201" y="307"/>
                    </a:lnTo>
                    <a:lnTo>
                      <a:pt x="182" y="301"/>
                    </a:lnTo>
                    <a:lnTo>
                      <a:pt x="165" y="301"/>
                    </a:lnTo>
                    <a:lnTo>
                      <a:pt x="145" y="301"/>
                    </a:lnTo>
                    <a:lnTo>
                      <a:pt x="128" y="303"/>
                    </a:lnTo>
                    <a:lnTo>
                      <a:pt x="106" y="303"/>
                    </a:lnTo>
                    <a:lnTo>
                      <a:pt x="89" y="305"/>
                    </a:lnTo>
                    <a:lnTo>
                      <a:pt x="70" y="305"/>
                    </a:lnTo>
                    <a:lnTo>
                      <a:pt x="54" y="305"/>
                    </a:lnTo>
                    <a:lnTo>
                      <a:pt x="37" y="301"/>
                    </a:lnTo>
                    <a:lnTo>
                      <a:pt x="21" y="295"/>
                    </a:lnTo>
                    <a:lnTo>
                      <a:pt x="10" y="284"/>
                    </a:lnTo>
                    <a:lnTo>
                      <a:pt x="0" y="272"/>
                    </a:lnTo>
                    <a:lnTo>
                      <a:pt x="10" y="264"/>
                    </a:lnTo>
                    <a:lnTo>
                      <a:pt x="19" y="258"/>
                    </a:lnTo>
                    <a:lnTo>
                      <a:pt x="31" y="255"/>
                    </a:lnTo>
                    <a:lnTo>
                      <a:pt x="42" y="251"/>
                    </a:lnTo>
                    <a:lnTo>
                      <a:pt x="54" y="245"/>
                    </a:lnTo>
                    <a:lnTo>
                      <a:pt x="66" y="243"/>
                    </a:lnTo>
                    <a:lnTo>
                      <a:pt x="77" y="241"/>
                    </a:lnTo>
                    <a:lnTo>
                      <a:pt x="91" y="241"/>
                    </a:lnTo>
                    <a:lnTo>
                      <a:pt x="103" y="239"/>
                    </a:lnTo>
                    <a:lnTo>
                      <a:pt x="116" y="237"/>
                    </a:lnTo>
                    <a:lnTo>
                      <a:pt x="130" y="237"/>
                    </a:lnTo>
                    <a:lnTo>
                      <a:pt x="143" y="237"/>
                    </a:lnTo>
                    <a:lnTo>
                      <a:pt x="155" y="235"/>
                    </a:lnTo>
                    <a:lnTo>
                      <a:pt x="168" y="235"/>
                    </a:lnTo>
                    <a:lnTo>
                      <a:pt x="182" y="235"/>
                    </a:lnTo>
                    <a:lnTo>
                      <a:pt x="198" y="235"/>
                    </a:lnTo>
                    <a:lnTo>
                      <a:pt x="209" y="233"/>
                    </a:lnTo>
                    <a:lnTo>
                      <a:pt x="223" y="233"/>
                    </a:lnTo>
                    <a:lnTo>
                      <a:pt x="234" y="231"/>
                    </a:lnTo>
                    <a:lnTo>
                      <a:pt x="248" y="231"/>
                    </a:lnTo>
                    <a:lnTo>
                      <a:pt x="260" y="227"/>
                    </a:lnTo>
                    <a:lnTo>
                      <a:pt x="273" y="225"/>
                    </a:lnTo>
                    <a:lnTo>
                      <a:pt x="287" y="223"/>
                    </a:lnTo>
                    <a:lnTo>
                      <a:pt x="300" y="222"/>
                    </a:lnTo>
                    <a:lnTo>
                      <a:pt x="312" y="218"/>
                    </a:lnTo>
                    <a:lnTo>
                      <a:pt x="324" y="214"/>
                    </a:lnTo>
                    <a:lnTo>
                      <a:pt x="335" y="208"/>
                    </a:lnTo>
                    <a:lnTo>
                      <a:pt x="347" y="202"/>
                    </a:lnTo>
                    <a:lnTo>
                      <a:pt x="357" y="194"/>
                    </a:lnTo>
                    <a:lnTo>
                      <a:pt x="368" y="189"/>
                    </a:lnTo>
                    <a:lnTo>
                      <a:pt x="380" y="181"/>
                    </a:lnTo>
                    <a:lnTo>
                      <a:pt x="391" y="173"/>
                    </a:lnTo>
                    <a:close/>
                  </a:path>
                </a:pathLst>
              </a:custGeom>
              <a:solidFill>
                <a:srgbClr val="a4a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03040" y="3914280"/>
                <a:ext cx="283680" cy="586440"/>
              </a:xfrm>
              <a:custGeom>
                <a:avLst/>
                <a:gdLst/>
                <a:ahLst/>
                <a:rect l="l" t="t" r="r" b="b"/>
                <a:pathLst>
                  <a:path w="466" h="961">
                    <a:moveTo>
                      <a:pt x="4" y="422"/>
                    </a:moveTo>
                    <a:lnTo>
                      <a:pt x="4" y="405"/>
                    </a:lnTo>
                    <a:lnTo>
                      <a:pt x="4" y="389"/>
                    </a:lnTo>
                    <a:lnTo>
                      <a:pt x="6" y="374"/>
                    </a:lnTo>
                    <a:lnTo>
                      <a:pt x="10" y="358"/>
                    </a:lnTo>
                    <a:lnTo>
                      <a:pt x="12" y="341"/>
                    </a:lnTo>
                    <a:lnTo>
                      <a:pt x="16" y="325"/>
                    </a:lnTo>
                    <a:lnTo>
                      <a:pt x="20" y="310"/>
                    </a:lnTo>
                    <a:lnTo>
                      <a:pt x="26" y="294"/>
                    </a:lnTo>
                    <a:lnTo>
                      <a:pt x="29" y="277"/>
                    </a:lnTo>
                    <a:lnTo>
                      <a:pt x="33" y="263"/>
                    </a:lnTo>
                    <a:lnTo>
                      <a:pt x="39" y="248"/>
                    </a:lnTo>
                    <a:lnTo>
                      <a:pt x="45" y="234"/>
                    </a:lnTo>
                    <a:lnTo>
                      <a:pt x="51" y="219"/>
                    </a:lnTo>
                    <a:lnTo>
                      <a:pt x="57" y="205"/>
                    </a:lnTo>
                    <a:lnTo>
                      <a:pt x="64" y="191"/>
                    </a:lnTo>
                    <a:lnTo>
                      <a:pt x="72" y="180"/>
                    </a:lnTo>
                    <a:lnTo>
                      <a:pt x="78" y="164"/>
                    </a:lnTo>
                    <a:lnTo>
                      <a:pt x="86" y="151"/>
                    </a:lnTo>
                    <a:lnTo>
                      <a:pt x="93" y="137"/>
                    </a:lnTo>
                    <a:lnTo>
                      <a:pt x="105" y="126"/>
                    </a:lnTo>
                    <a:lnTo>
                      <a:pt x="113" y="112"/>
                    </a:lnTo>
                    <a:lnTo>
                      <a:pt x="122" y="100"/>
                    </a:lnTo>
                    <a:lnTo>
                      <a:pt x="132" y="89"/>
                    </a:lnTo>
                    <a:lnTo>
                      <a:pt x="144" y="79"/>
                    </a:lnTo>
                    <a:lnTo>
                      <a:pt x="153" y="67"/>
                    </a:lnTo>
                    <a:lnTo>
                      <a:pt x="165" y="56"/>
                    </a:lnTo>
                    <a:lnTo>
                      <a:pt x="177" y="44"/>
                    </a:lnTo>
                    <a:lnTo>
                      <a:pt x="188" y="36"/>
                    </a:lnTo>
                    <a:lnTo>
                      <a:pt x="200" y="25"/>
                    </a:lnTo>
                    <a:lnTo>
                      <a:pt x="212" y="17"/>
                    </a:lnTo>
                    <a:lnTo>
                      <a:pt x="225" y="9"/>
                    </a:lnTo>
                    <a:lnTo>
                      <a:pt x="241" y="3"/>
                    </a:lnTo>
                    <a:lnTo>
                      <a:pt x="256" y="0"/>
                    </a:lnTo>
                    <a:lnTo>
                      <a:pt x="274" y="1"/>
                    </a:lnTo>
                    <a:lnTo>
                      <a:pt x="287" y="5"/>
                    </a:lnTo>
                    <a:lnTo>
                      <a:pt x="301" y="13"/>
                    </a:lnTo>
                    <a:lnTo>
                      <a:pt x="312" y="21"/>
                    </a:lnTo>
                    <a:lnTo>
                      <a:pt x="326" y="31"/>
                    </a:lnTo>
                    <a:lnTo>
                      <a:pt x="340" y="38"/>
                    </a:lnTo>
                    <a:lnTo>
                      <a:pt x="357" y="46"/>
                    </a:lnTo>
                    <a:lnTo>
                      <a:pt x="345" y="50"/>
                    </a:lnTo>
                    <a:lnTo>
                      <a:pt x="334" y="54"/>
                    </a:lnTo>
                    <a:lnTo>
                      <a:pt x="324" y="60"/>
                    </a:lnTo>
                    <a:lnTo>
                      <a:pt x="314" y="65"/>
                    </a:lnTo>
                    <a:lnTo>
                      <a:pt x="297" y="77"/>
                    </a:lnTo>
                    <a:lnTo>
                      <a:pt x="283" y="95"/>
                    </a:lnTo>
                    <a:lnTo>
                      <a:pt x="268" y="110"/>
                    </a:lnTo>
                    <a:lnTo>
                      <a:pt x="258" y="127"/>
                    </a:lnTo>
                    <a:lnTo>
                      <a:pt x="247" y="145"/>
                    </a:lnTo>
                    <a:lnTo>
                      <a:pt x="241" y="166"/>
                    </a:lnTo>
                    <a:lnTo>
                      <a:pt x="231" y="184"/>
                    </a:lnTo>
                    <a:lnTo>
                      <a:pt x="223" y="205"/>
                    </a:lnTo>
                    <a:lnTo>
                      <a:pt x="219" y="215"/>
                    </a:lnTo>
                    <a:lnTo>
                      <a:pt x="217" y="226"/>
                    </a:lnTo>
                    <a:lnTo>
                      <a:pt x="214" y="238"/>
                    </a:lnTo>
                    <a:lnTo>
                      <a:pt x="214" y="250"/>
                    </a:lnTo>
                    <a:lnTo>
                      <a:pt x="210" y="259"/>
                    </a:lnTo>
                    <a:lnTo>
                      <a:pt x="208" y="271"/>
                    </a:lnTo>
                    <a:lnTo>
                      <a:pt x="204" y="281"/>
                    </a:lnTo>
                    <a:lnTo>
                      <a:pt x="204" y="292"/>
                    </a:lnTo>
                    <a:lnTo>
                      <a:pt x="200" y="302"/>
                    </a:lnTo>
                    <a:lnTo>
                      <a:pt x="198" y="314"/>
                    </a:lnTo>
                    <a:lnTo>
                      <a:pt x="196" y="323"/>
                    </a:lnTo>
                    <a:lnTo>
                      <a:pt x="196" y="335"/>
                    </a:lnTo>
                    <a:lnTo>
                      <a:pt x="196" y="354"/>
                    </a:lnTo>
                    <a:lnTo>
                      <a:pt x="196" y="376"/>
                    </a:lnTo>
                    <a:lnTo>
                      <a:pt x="196" y="385"/>
                    </a:lnTo>
                    <a:lnTo>
                      <a:pt x="196" y="397"/>
                    </a:lnTo>
                    <a:lnTo>
                      <a:pt x="196" y="407"/>
                    </a:lnTo>
                    <a:lnTo>
                      <a:pt x="198" y="418"/>
                    </a:lnTo>
                    <a:lnTo>
                      <a:pt x="198" y="428"/>
                    </a:lnTo>
                    <a:lnTo>
                      <a:pt x="198" y="440"/>
                    </a:lnTo>
                    <a:lnTo>
                      <a:pt x="200" y="449"/>
                    </a:lnTo>
                    <a:lnTo>
                      <a:pt x="202" y="461"/>
                    </a:lnTo>
                    <a:lnTo>
                      <a:pt x="202" y="471"/>
                    </a:lnTo>
                    <a:lnTo>
                      <a:pt x="204" y="482"/>
                    </a:lnTo>
                    <a:lnTo>
                      <a:pt x="206" y="492"/>
                    </a:lnTo>
                    <a:lnTo>
                      <a:pt x="210" y="504"/>
                    </a:lnTo>
                    <a:lnTo>
                      <a:pt x="212" y="523"/>
                    </a:lnTo>
                    <a:lnTo>
                      <a:pt x="216" y="544"/>
                    </a:lnTo>
                    <a:lnTo>
                      <a:pt x="221" y="564"/>
                    </a:lnTo>
                    <a:lnTo>
                      <a:pt x="227" y="585"/>
                    </a:lnTo>
                    <a:lnTo>
                      <a:pt x="231" y="604"/>
                    </a:lnTo>
                    <a:lnTo>
                      <a:pt x="237" y="626"/>
                    </a:lnTo>
                    <a:lnTo>
                      <a:pt x="245" y="645"/>
                    </a:lnTo>
                    <a:lnTo>
                      <a:pt x="252" y="667"/>
                    </a:lnTo>
                    <a:lnTo>
                      <a:pt x="258" y="684"/>
                    </a:lnTo>
                    <a:lnTo>
                      <a:pt x="268" y="703"/>
                    </a:lnTo>
                    <a:lnTo>
                      <a:pt x="276" y="721"/>
                    </a:lnTo>
                    <a:lnTo>
                      <a:pt x="287" y="740"/>
                    </a:lnTo>
                    <a:lnTo>
                      <a:pt x="297" y="758"/>
                    </a:lnTo>
                    <a:lnTo>
                      <a:pt x="309" y="775"/>
                    </a:lnTo>
                    <a:lnTo>
                      <a:pt x="320" y="793"/>
                    </a:lnTo>
                    <a:lnTo>
                      <a:pt x="334" y="810"/>
                    </a:lnTo>
                    <a:lnTo>
                      <a:pt x="345" y="826"/>
                    </a:lnTo>
                    <a:lnTo>
                      <a:pt x="361" y="841"/>
                    </a:lnTo>
                    <a:lnTo>
                      <a:pt x="375" y="857"/>
                    </a:lnTo>
                    <a:lnTo>
                      <a:pt x="392" y="872"/>
                    </a:lnTo>
                    <a:lnTo>
                      <a:pt x="407" y="886"/>
                    </a:lnTo>
                    <a:lnTo>
                      <a:pt x="425" y="901"/>
                    </a:lnTo>
                    <a:lnTo>
                      <a:pt x="444" y="915"/>
                    </a:lnTo>
                    <a:lnTo>
                      <a:pt x="466" y="930"/>
                    </a:lnTo>
                    <a:lnTo>
                      <a:pt x="450" y="936"/>
                    </a:lnTo>
                    <a:lnTo>
                      <a:pt x="437" y="944"/>
                    </a:lnTo>
                    <a:lnTo>
                      <a:pt x="423" y="948"/>
                    </a:lnTo>
                    <a:lnTo>
                      <a:pt x="411" y="954"/>
                    </a:lnTo>
                    <a:lnTo>
                      <a:pt x="398" y="955"/>
                    </a:lnTo>
                    <a:lnTo>
                      <a:pt x="386" y="959"/>
                    </a:lnTo>
                    <a:lnTo>
                      <a:pt x="375" y="959"/>
                    </a:lnTo>
                    <a:lnTo>
                      <a:pt x="363" y="961"/>
                    </a:lnTo>
                    <a:lnTo>
                      <a:pt x="349" y="957"/>
                    </a:lnTo>
                    <a:lnTo>
                      <a:pt x="338" y="955"/>
                    </a:lnTo>
                    <a:lnTo>
                      <a:pt x="326" y="954"/>
                    </a:lnTo>
                    <a:lnTo>
                      <a:pt x="314" y="952"/>
                    </a:lnTo>
                    <a:lnTo>
                      <a:pt x="303" y="946"/>
                    </a:lnTo>
                    <a:lnTo>
                      <a:pt x="291" y="942"/>
                    </a:lnTo>
                    <a:lnTo>
                      <a:pt x="280" y="936"/>
                    </a:lnTo>
                    <a:lnTo>
                      <a:pt x="270" y="932"/>
                    </a:lnTo>
                    <a:lnTo>
                      <a:pt x="258" y="924"/>
                    </a:lnTo>
                    <a:lnTo>
                      <a:pt x="247" y="917"/>
                    </a:lnTo>
                    <a:lnTo>
                      <a:pt x="235" y="909"/>
                    </a:lnTo>
                    <a:lnTo>
                      <a:pt x="225" y="903"/>
                    </a:lnTo>
                    <a:lnTo>
                      <a:pt x="204" y="888"/>
                    </a:lnTo>
                    <a:lnTo>
                      <a:pt x="185" y="872"/>
                    </a:lnTo>
                    <a:lnTo>
                      <a:pt x="163" y="855"/>
                    </a:lnTo>
                    <a:lnTo>
                      <a:pt x="144" y="839"/>
                    </a:lnTo>
                    <a:lnTo>
                      <a:pt x="122" y="826"/>
                    </a:lnTo>
                    <a:lnTo>
                      <a:pt x="105" y="814"/>
                    </a:lnTo>
                    <a:lnTo>
                      <a:pt x="95" y="802"/>
                    </a:lnTo>
                    <a:lnTo>
                      <a:pt x="88" y="791"/>
                    </a:lnTo>
                    <a:lnTo>
                      <a:pt x="82" y="779"/>
                    </a:lnTo>
                    <a:lnTo>
                      <a:pt x="76" y="769"/>
                    </a:lnTo>
                    <a:lnTo>
                      <a:pt x="68" y="758"/>
                    </a:lnTo>
                    <a:lnTo>
                      <a:pt x="62" y="746"/>
                    </a:lnTo>
                    <a:lnTo>
                      <a:pt x="57" y="734"/>
                    </a:lnTo>
                    <a:lnTo>
                      <a:pt x="53" y="725"/>
                    </a:lnTo>
                    <a:lnTo>
                      <a:pt x="47" y="711"/>
                    </a:lnTo>
                    <a:lnTo>
                      <a:pt x="41" y="700"/>
                    </a:lnTo>
                    <a:lnTo>
                      <a:pt x="37" y="688"/>
                    </a:lnTo>
                    <a:lnTo>
                      <a:pt x="33" y="676"/>
                    </a:lnTo>
                    <a:lnTo>
                      <a:pt x="27" y="665"/>
                    </a:lnTo>
                    <a:lnTo>
                      <a:pt x="26" y="653"/>
                    </a:lnTo>
                    <a:lnTo>
                      <a:pt x="22" y="641"/>
                    </a:lnTo>
                    <a:lnTo>
                      <a:pt x="20" y="630"/>
                    </a:lnTo>
                    <a:lnTo>
                      <a:pt x="14" y="616"/>
                    </a:lnTo>
                    <a:lnTo>
                      <a:pt x="12" y="603"/>
                    </a:lnTo>
                    <a:lnTo>
                      <a:pt x="8" y="589"/>
                    </a:lnTo>
                    <a:lnTo>
                      <a:pt x="8" y="577"/>
                    </a:lnTo>
                    <a:lnTo>
                      <a:pt x="4" y="564"/>
                    </a:lnTo>
                    <a:lnTo>
                      <a:pt x="2" y="550"/>
                    </a:lnTo>
                    <a:lnTo>
                      <a:pt x="2" y="537"/>
                    </a:lnTo>
                    <a:lnTo>
                      <a:pt x="2" y="525"/>
                    </a:lnTo>
                    <a:lnTo>
                      <a:pt x="0" y="511"/>
                    </a:lnTo>
                    <a:lnTo>
                      <a:pt x="0" y="498"/>
                    </a:lnTo>
                    <a:lnTo>
                      <a:pt x="0" y="484"/>
                    </a:lnTo>
                    <a:lnTo>
                      <a:pt x="0" y="473"/>
                    </a:lnTo>
                    <a:lnTo>
                      <a:pt x="0" y="459"/>
                    </a:lnTo>
                    <a:lnTo>
                      <a:pt x="0" y="447"/>
                    </a:lnTo>
                    <a:lnTo>
                      <a:pt x="2" y="434"/>
                    </a:lnTo>
                    <a:lnTo>
                      <a:pt x="4" y="422"/>
                    </a:lnTo>
                    <a:close/>
                  </a:path>
                </a:pathLst>
              </a:custGeom>
              <a:solidFill>
                <a:srgbClr val="5e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40560" y="6304320"/>
                <a:ext cx="466920" cy="128880"/>
              </a:xfrm>
              <a:custGeom>
                <a:avLst/>
                <a:gdLst/>
                <a:ahLst/>
                <a:rect l="l" t="t" r="r" b="b"/>
                <a:pathLst>
                  <a:path w="766" h="212">
                    <a:moveTo>
                      <a:pt x="0" y="124"/>
                    </a:moveTo>
                    <a:lnTo>
                      <a:pt x="12" y="124"/>
                    </a:lnTo>
                    <a:lnTo>
                      <a:pt x="23" y="124"/>
                    </a:lnTo>
                    <a:lnTo>
                      <a:pt x="35" y="124"/>
                    </a:lnTo>
                    <a:lnTo>
                      <a:pt x="49" y="124"/>
                    </a:lnTo>
                    <a:lnTo>
                      <a:pt x="60" y="124"/>
                    </a:lnTo>
                    <a:lnTo>
                      <a:pt x="74" y="124"/>
                    </a:lnTo>
                    <a:lnTo>
                      <a:pt x="86" y="124"/>
                    </a:lnTo>
                    <a:lnTo>
                      <a:pt x="99" y="126"/>
                    </a:lnTo>
                    <a:lnTo>
                      <a:pt x="111" y="124"/>
                    </a:lnTo>
                    <a:lnTo>
                      <a:pt x="122" y="124"/>
                    </a:lnTo>
                    <a:lnTo>
                      <a:pt x="134" y="122"/>
                    </a:lnTo>
                    <a:lnTo>
                      <a:pt x="146" y="122"/>
                    </a:lnTo>
                    <a:lnTo>
                      <a:pt x="157" y="121"/>
                    </a:lnTo>
                    <a:lnTo>
                      <a:pt x="169" y="121"/>
                    </a:lnTo>
                    <a:lnTo>
                      <a:pt x="181" y="119"/>
                    </a:lnTo>
                    <a:lnTo>
                      <a:pt x="194" y="119"/>
                    </a:lnTo>
                    <a:lnTo>
                      <a:pt x="204" y="117"/>
                    </a:lnTo>
                    <a:lnTo>
                      <a:pt x="215" y="115"/>
                    </a:lnTo>
                    <a:lnTo>
                      <a:pt x="227" y="113"/>
                    </a:lnTo>
                    <a:lnTo>
                      <a:pt x="239" y="111"/>
                    </a:lnTo>
                    <a:lnTo>
                      <a:pt x="250" y="109"/>
                    </a:lnTo>
                    <a:lnTo>
                      <a:pt x="262" y="107"/>
                    </a:lnTo>
                    <a:lnTo>
                      <a:pt x="274" y="105"/>
                    </a:lnTo>
                    <a:lnTo>
                      <a:pt x="285" y="105"/>
                    </a:lnTo>
                    <a:lnTo>
                      <a:pt x="297" y="101"/>
                    </a:lnTo>
                    <a:lnTo>
                      <a:pt x="308" y="99"/>
                    </a:lnTo>
                    <a:lnTo>
                      <a:pt x="320" y="95"/>
                    </a:lnTo>
                    <a:lnTo>
                      <a:pt x="332" y="95"/>
                    </a:lnTo>
                    <a:lnTo>
                      <a:pt x="343" y="91"/>
                    </a:lnTo>
                    <a:lnTo>
                      <a:pt x="355" y="90"/>
                    </a:lnTo>
                    <a:lnTo>
                      <a:pt x="367" y="86"/>
                    </a:lnTo>
                    <a:lnTo>
                      <a:pt x="378" y="86"/>
                    </a:lnTo>
                    <a:lnTo>
                      <a:pt x="388" y="82"/>
                    </a:lnTo>
                    <a:lnTo>
                      <a:pt x="400" y="80"/>
                    </a:lnTo>
                    <a:lnTo>
                      <a:pt x="409" y="76"/>
                    </a:lnTo>
                    <a:lnTo>
                      <a:pt x="421" y="74"/>
                    </a:lnTo>
                    <a:lnTo>
                      <a:pt x="433" y="70"/>
                    </a:lnTo>
                    <a:lnTo>
                      <a:pt x="444" y="68"/>
                    </a:lnTo>
                    <a:lnTo>
                      <a:pt x="456" y="64"/>
                    </a:lnTo>
                    <a:lnTo>
                      <a:pt x="467" y="62"/>
                    </a:lnTo>
                    <a:lnTo>
                      <a:pt x="477" y="58"/>
                    </a:lnTo>
                    <a:lnTo>
                      <a:pt x="489" y="57"/>
                    </a:lnTo>
                    <a:lnTo>
                      <a:pt x="498" y="53"/>
                    </a:lnTo>
                    <a:lnTo>
                      <a:pt x="510" y="51"/>
                    </a:lnTo>
                    <a:lnTo>
                      <a:pt x="522" y="47"/>
                    </a:lnTo>
                    <a:lnTo>
                      <a:pt x="533" y="45"/>
                    </a:lnTo>
                    <a:lnTo>
                      <a:pt x="545" y="41"/>
                    </a:lnTo>
                    <a:lnTo>
                      <a:pt x="557" y="39"/>
                    </a:lnTo>
                    <a:lnTo>
                      <a:pt x="566" y="35"/>
                    </a:lnTo>
                    <a:lnTo>
                      <a:pt x="578" y="33"/>
                    </a:lnTo>
                    <a:lnTo>
                      <a:pt x="590" y="29"/>
                    </a:lnTo>
                    <a:lnTo>
                      <a:pt x="601" y="27"/>
                    </a:lnTo>
                    <a:lnTo>
                      <a:pt x="611" y="24"/>
                    </a:lnTo>
                    <a:lnTo>
                      <a:pt x="623" y="22"/>
                    </a:lnTo>
                    <a:lnTo>
                      <a:pt x="634" y="18"/>
                    </a:lnTo>
                    <a:lnTo>
                      <a:pt x="646" y="16"/>
                    </a:lnTo>
                    <a:lnTo>
                      <a:pt x="657" y="12"/>
                    </a:lnTo>
                    <a:lnTo>
                      <a:pt x="669" y="10"/>
                    </a:lnTo>
                    <a:lnTo>
                      <a:pt x="681" y="8"/>
                    </a:lnTo>
                    <a:lnTo>
                      <a:pt x="692" y="6"/>
                    </a:lnTo>
                    <a:lnTo>
                      <a:pt x="704" y="4"/>
                    </a:lnTo>
                    <a:lnTo>
                      <a:pt x="716" y="2"/>
                    </a:lnTo>
                    <a:lnTo>
                      <a:pt x="727" y="0"/>
                    </a:lnTo>
                    <a:lnTo>
                      <a:pt x="739" y="0"/>
                    </a:lnTo>
                    <a:lnTo>
                      <a:pt x="766" y="57"/>
                    </a:lnTo>
                    <a:lnTo>
                      <a:pt x="754" y="62"/>
                    </a:lnTo>
                    <a:lnTo>
                      <a:pt x="743" y="68"/>
                    </a:lnTo>
                    <a:lnTo>
                      <a:pt x="731" y="74"/>
                    </a:lnTo>
                    <a:lnTo>
                      <a:pt x="721" y="82"/>
                    </a:lnTo>
                    <a:lnTo>
                      <a:pt x="710" y="88"/>
                    </a:lnTo>
                    <a:lnTo>
                      <a:pt x="698" y="93"/>
                    </a:lnTo>
                    <a:lnTo>
                      <a:pt x="687" y="99"/>
                    </a:lnTo>
                    <a:lnTo>
                      <a:pt x="677" y="107"/>
                    </a:lnTo>
                    <a:lnTo>
                      <a:pt x="665" y="111"/>
                    </a:lnTo>
                    <a:lnTo>
                      <a:pt x="654" y="117"/>
                    </a:lnTo>
                    <a:lnTo>
                      <a:pt x="642" y="122"/>
                    </a:lnTo>
                    <a:lnTo>
                      <a:pt x="632" y="128"/>
                    </a:lnTo>
                    <a:lnTo>
                      <a:pt x="621" y="132"/>
                    </a:lnTo>
                    <a:lnTo>
                      <a:pt x="609" y="138"/>
                    </a:lnTo>
                    <a:lnTo>
                      <a:pt x="597" y="142"/>
                    </a:lnTo>
                    <a:lnTo>
                      <a:pt x="588" y="148"/>
                    </a:lnTo>
                    <a:lnTo>
                      <a:pt x="576" y="152"/>
                    </a:lnTo>
                    <a:lnTo>
                      <a:pt x="564" y="155"/>
                    </a:lnTo>
                    <a:lnTo>
                      <a:pt x="553" y="159"/>
                    </a:lnTo>
                    <a:lnTo>
                      <a:pt x="541" y="163"/>
                    </a:lnTo>
                    <a:lnTo>
                      <a:pt x="530" y="167"/>
                    </a:lnTo>
                    <a:lnTo>
                      <a:pt x="518" y="171"/>
                    </a:lnTo>
                    <a:lnTo>
                      <a:pt x="506" y="175"/>
                    </a:lnTo>
                    <a:lnTo>
                      <a:pt x="495" y="179"/>
                    </a:lnTo>
                    <a:lnTo>
                      <a:pt x="481" y="181"/>
                    </a:lnTo>
                    <a:lnTo>
                      <a:pt x="469" y="185"/>
                    </a:lnTo>
                    <a:lnTo>
                      <a:pt x="458" y="186"/>
                    </a:lnTo>
                    <a:lnTo>
                      <a:pt x="446" y="190"/>
                    </a:lnTo>
                    <a:lnTo>
                      <a:pt x="435" y="192"/>
                    </a:lnTo>
                    <a:lnTo>
                      <a:pt x="423" y="196"/>
                    </a:lnTo>
                    <a:lnTo>
                      <a:pt x="411" y="198"/>
                    </a:lnTo>
                    <a:lnTo>
                      <a:pt x="400" y="202"/>
                    </a:lnTo>
                    <a:lnTo>
                      <a:pt x="386" y="202"/>
                    </a:lnTo>
                    <a:lnTo>
                      <a:pt x="374" y="204"/>
                    </a:lnTo>
                    <a:lnTo>
                      <a:pt x="361" y="204"/>
                    </a:lnTo>
                    <a:lnTo>
                      <a:pt x="349" y="206"/>
                    </a:lnTo>
                    <a:lnTo>
                      <a:pt x="336" y="206"/>
                    </a:lnTo>
                    <a:lnTo>
                      <a:pt x="324" y="208"/>
                    </a:lnTo>
                    <a:lnTo>
                      <a:pt x="312" y="210"/>
                    </a:lnTo>
                    <a:lnTo>
                      <a:pt x="301" y="212"/>
                    </a:lnTo>
                    <a:lnTo>
                      <a:pt x="287" y="210"/>
                    </a:lnTo>
                    <a:lnTo>
                      <a:pt x="276" y="210"/>
                    </a:lnTo>
                    <a:lnTo>
                      <a:pt x="262" y="210"/>
                    </a:lnTo>
                    <a:lnTo>
                      <a:pt x="250" y="210"/>
                    </a:lnTo>
                    <a:lnTo>
                      <a:pt x="237" y="210"/>
                    </a:lnTo>
                    <a:lnTo>
                      <a:pt x="225" y="210"/>
                    </a:lnTo>
                    <a:lnTo>
                      <a:pt x="213" y="210"/>
                    </a:lnTo>
                    <a:lnTo>
                      <a:pt x="202" y="210"/>
                    </a:lnTo>
                    <a:lnTo>
                      <a:pt x="188" y="208"/>
                    </a:lnTo>
                    <a:lnTo>
                      <a:pt x="175" y="206"/>
                    </a:lnTo>
                    <a:lnTo>
                      <a:pt x="163" y="204"/>
                    </a:lnTo>
                    <a:lnTo>
                      <a:pt x="151" y="204"/>
                    </a:lnTo>
                    <a:lnTo>
                      <a:pt x="138" y="200"/>
                    </a:lnTo>
                    <a:lnTo>
                      <a:pt x="124" y="200"/>
                    </a:lnTo>
                    <a:lnTo>
                      <a:pt x="113" y="196"/>
                    </a:lnTo>
                    <a:lnTo>
                      <a:pt x="101" y="196"/>
                    </a:lnTo>
                    <a:lnTo>
                      <a:pt x="87" y="192"/>
                    </a:lnTo>
                    <a:lnTo>
                      <a:pt x="74" y="188"/>
                    </a:lnTo>
                    <a:lnTo>
                      <a:pt x="62" y="185"/>
                    </a:lnTo>
                    <a:lnTo>
                      <a:pt x="51" y="183"/>
                    </a:lnTo>
                    <a:lnTo>
                      <a:pt x="37" y="179"/>
                    </a:lnTo>
                    <a:lnTo>
                      <a:pt x="23" y="175"/>
                    </a:lnTo>
                    <a:lnTo>
                      <a:pt x="12" y="171"/>
                    </a:lnTo>
                    <a:lnTo>
                      <a:pt x="0" y="16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8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72600" y="3977640"/>
                <a:ext cx="195120" cy="451440"/>
              </a:xfrm>
              <a:custGeom>
                <a:avLst/>
                <a:gdLst/>
                <a:ahLst/>
                <a:rect l="l" t="t" r="r" b="b"/>
                <a:pathLst>
                  <a:path w="319" h="739">
                    <a:moveTo>
                      <a:pt x="48" y="58"/>
                    </a:moveTo>
                    <a:lnTo>
                      <a:pt x="65" y="58"/>
                    </a:lnTo>
                    <a:lnTo>
                      <a:pt x="83" y="51"/>
                    </a:lnTo>
                    <a:lnTo>
                      <a:pt x="97" y="37"/>
                    </a:lnTo>
                    <a:lnTo>
                      <a:pt x="110" y="23"/>
                    </a:lnTo>
                    <a:lnTo>
                      <a:pt x="122" y="10"/>
                    </a:lnTo>
                    <a:lnTo>
                      <a:pt x="137" y="2"/>
                    </a:lnTo>
                    <a:lnTo>
                      <a:pt x="145" y="0"/>
                    </a:lnTo>
                    <a:lnTo>
                      <a:pt x="155" y="2"/>
                    </a:lnTo>
                    <a:lnTo>
                      <a:pt x="166" y="6"/>
                    </a:lnTo>
                    <a:lnTo>
                      <a:pt x="178" y="16"/>
                    </a:lnTo>
                    <a:lnTo>
                      <a:pt x="192" y="33"/>
                    </a:lnTo>
                    <a:lnTo>
                      <a:pt x="205" y="51"/>
                    </a:lnTo>
                    <a:lnTo>
                      <a:pt x="217" y="70"/>
                    </a:lnTo>
                    <a:lnTo>
                      <a:pt x="230" y="89"/>
                    </a:lnTo>
                    <a:lnTo>
                      <a:pt x="240" y="109"/>
                    </a:lnTo>
                    <a:lnTo>
                      <a:pt x="252" y="130"/>
                    </a:lnTo>
                    <a:lnTo>
                      <a:pt x="255" y="140"/>
                    </a:lnTo>
                    <a:lnTo>
                      <a:pt x="261" y="151"/>
                    </a:lnTo>
                    <a:lnTo>
                      <a:pt x="265" y="163"/>
                    </a:lnTo>
                    <a:lnTo>
                      <a:pt x="271" y="175"/>
                    </a:lnTo>
                    <a:lnTo>
                      <a:pt x="273" y="184"/>
                    </a:lnTo>
                    <a:lnTo>
                      <a:pt x="277" y="196"/>
                    </a:lnTo>
                    <a:lnTo>
                      <a:pt x="281" y="208"/>
                    </a:lnTo>
                    <a:lnTo>
                      <a:pt x="285" y="219"/>
                    </a:lnTo>
                    <a:lnTo>
                      <a:pt x="287" y="231"/>
                    </a:lnTo>
                    <a:lnTo>
                      <a:pt x="290" y="243"/>
                    </a:lnTo>
                    <a:lnTo>
                      <a:pt x="294" y="254"/>
                    </a:lnTo>
                    <a:lnTo>
                      <a:pt x="298" y="266"/>
                    </a:lnTo>
                    <a:lnTo>
                      <a:pt x="300" y="278"/>
                    </a:lnTo>
                    <a:lnTo>
                      <a:pt x="302" y="289"/>
                    </a:lnTo>
                    <a:lnTo>
                      <a:pt x="304" y="301"/>
                    </a:lnTo>
                    <a:lnTo>
                      <a:pt x="308" y="312"/>
                    </a:lnTo>
                    <a:lnTo>
                      <a:pt x="308" y="324"/>
                    </a:lnTo>
                    <a:lnTo>
                      <a:pt x="312" y="338"/>
                    </a:lnTo>
                    <a:lnTo>
                      <a:pt x="312" y="349"/>
                    </a:lnTo>
                    <a:lnTo>
                      <a:pt x="316" y="363"/>
                    </a:lnTo>
                    <a:lnTo>
                      <a:pt x="316" y="374"/>
                    </a:lnTo>
                    <a:lnTo>
                      <a:pt x="316" y="386"/>
                    </a:lnTo>
                    <a:lnTo>
                      <a:pt x="316" y="398"/>
                    </a:lnTo>
                    <a:lnTo>
                      <a:pt x="318" y="409"/>
                    </a:lnTo>
                    <a:lnTo>
                      <a:pt x="318" y="421"/>
                    </a:lnTo>
                    <a:lnTo>
                      <a:pt x="318" y="433"/>
                    </a:lnTo>
                    <a:lnTo>
                      <a:pt x="318" y="444"/>
                    </a:lnTo>
                    <a:lnTo>
                      <a:pt x="319" y="458"/>
                    </a:lnTo>
                    <a:lnTo>
                      <a:pt x="318" y="469"/>
                    </a:lnTo>
                    <a:lnTo>
                      <a:pt x="318" y="481"/>
                    </a:lnTo>
                    <a:lnTo>
                      <a:pt x="318" y="493"/>
                    </a:lnTo>
                    <a:lnTo>
                      <a:pt x="318" y="506"/>
                    </a:lnTo>
                    <a:lnTo>
                      <a:pt x="316" y="518"/>
                    </a:lnTo>
                    <a:lnTo>
                      <a:pt x="316" y="530"/>
                    </a:lnTo>
                    <a:lnTo>
                      <a:pt x="314" y="541"/>
                    </a:lnTo>
                    <a:lnTo>
                      <a:pt x="314" y="555"/>
                    </a:lnTo>
                    <a:lnTo>
                      <a:pt x="312" y="566"/>
                    </a:lnTo>
                    <a:lnTo>
                      <a:pt x="310" y="578"/>
                    </a:lnTo>
                    <a:lnTo>
                      <a:pt x="308" y="590"/>
                    </a:lnTo>
                    <a:lnTo>
                      <a:pt x="306" y="601"/>
                    </a:lnTo>
                    <a:lnTo>
                      <a:pt x="304" y="613"/>
                    </a:lnTo>
                    <a:lnTo>
                      <a:pt x="302" y="625"/>
                    </a:lnTo>
                    <a:lnTo>
                      <a:pt x="300" y="636"/>
                    </a:lnTo>
                    <a:lnTo>
                      <a:pt x="298" y="648"/>
                    </a:lnTo>
                    <a:lnTo>
                      <a:pt x="294" y="658"/>
                    </a:lnTo>
                    <a:lnTo>
                      <a:pt x="292" y="669"/>
                    </a:lnTo>
                    <a:lnTo>
                      <a:pt x="288" y="681"/>
                    </a:lnTo>
                    <a:lnTo>
                      <a:pt x="287" y="692"/>
                    </a:lnTo>
                    <a:lnTo>
                      <a:pt x="283" y="704"/>
                    </a:lnTo>
                    <a:lnTo>
                      <a:pt x="281" y="716"/>
                    </a:lnTo>
                    <a:lnTo>
                      <a:pt x="277" y="727"/>
                    </a:lnTo>
                    <a:lnTo>
                      <a:pt x="275" y="739"/>
                    </a:lnTo>
                    <a:lnTo>
                      <a:pt x="257" y="735"/>
                    </a:lnTo>
                    <a:lnTo>
                      <a:pt x="242" y="731"/>
                    </a:lnTo>
                    <a:lnTo>
                      <a:pt x="226" y="725"/>
                    </a:lnTo>
                    <a:lnTo>
                      <a:pt x="213" y="720"/>
                    </a:lnTo>
                    <a:lnTo>
                      <a:pt x="199" y="712"/>
                    </a:lnTo>
                    <a:lnTo>
                      <a:pt x="186" y="704"/>
                    </a:lnTo>
                    <a:lnTo>
                      <a:pt x="174" y="694"/>
                    </a:lnTo>
                    <a:lnTo>
                      <a:pt x="164" y="687"/>
                    </a:lnTo>
                    <a:lnTo>
                      <a:pt x="153" y="675"/>
                    </a:lnTo>
                    <a:lnTo>
                      <a:pt x="141" y="663"/>
                    </a:lnTo>
                    <a:lnTo>
                      <a:pt x="129" y="652"/>
                    </a:lnTo>
                    <a:lnTo>
                      <a:pt x="122" y="640"/>
                    </a:lnTo>
                    <a:lnTo>
                      <a:pt x="110" y="627"/>
                    </a:lnTo>
                    <a:lnTo>
                      <a:pt x="102" y="613"/>
                    </a:lnTo>
                    <a:lnTo>
                      <a:pt x="95" y="599"/>
                    </a:lnTo>
                    <a:lnTo>
                      <a:pt x="89" y="586"/>
                    </a:lnTo>
                    <a:lnTo>
                      <a:pt x="81" y="570"/>
                    </a:lnTo>
                    <a:lnTo>
                      <a:pt x="73" y="555"/>
                    </a:lnTo>
                    <a:lnTo>
                      <a:pt x="65" y="539"/>
                    </a:lnTo>
                    <a:lnTo>
                      <a:pt x="60" y="524"/>
                    </a:lnTo>
                    <a:lnTo>
                      <a:pt x="54" y="506"/>
                    </a:lnTo>
                    <a:lnTo>
                      <a:pt x="48" y="491"/>
                    </a:lnTo>
                    <a:lnTo>
                      <a:pt x="42" y="475"/>
                    </a:lnTo>
                    <a:lnTo>
                      <a:pt x="38" y="460"/>
                    </a:lnTo>
                    <a:lnTo>
                      <a:pt x="33" y="442"/>
                    </a:lnTo>
                    <a:lnTo>
                      <a:pt x="27" y="425"/>
                    </a:lnTo>
                    <a:lnTo>
                      <a:pt x="23" y="409"/>
                    </a:lnTo>
                    <a:lnTo>
                      <a:pt x="19" y="394"/>
                    </a:lnTo>
                    <a:lnTo>
                      <a:pt x="13" y="376"/>
                    </a:lnTo>
                    <a:lnTo>
                      <a:pt x="9" y="363"/>
                    </a:lnTo>
                    <a:lnTo>
                      <a:pt x="5" y="347"/>
                    </a:lnTo>
                    <a:lnTo>
                      <a:pt x="3" y="334"/>
                    </a:lnTo>
                    <a:lnTo>
                      <a:pt x="2" y="312"/>
                    </a:lnTo>
                    <a:lnTo>
                      <a:pt x="0" y="293"/>
                    </a:lnTo>
                    <a:lnTo>
                      <a:pt x="0" y="274"/>
                    </a:lnTo>
                    <a:lnTo>
                      <a:pt x="2" y="256"/>
                    </a:lnTo>
                    <a:lnTo>
                      <a:pt x="2" y="239"/>
                    </a:lnTo>
                    <a:lnTo>
                      <a:pt x="2" y="221"/>
                    </a:lnTo>
                    <a:lnTo>
                      <a:pt x="3" y="204"/>
                    </a:lnTo>
                    <a:lnTo>
                      <a:pt x="7" y="186"/>
                    </a:lnTo>
                    <a:lnTo>
                      <a:pt x="9" y="169"/>
                    </a:lnTo>
                    <a:lnTo>
                      <a:pt x="13" y="151"/>
                    </a:lnTo>
                    <a:lnTo>
                      <a:pt x="17" y="136"/>
                    </a:lnTo>
                    <a:lnTo>
                      <a:pt x="23" y="120"/>
                    </a:lnTo>
                    <a:lnTo>
                      <a:pt x="27" y="103"/>
                    </a:lnTo>
                    <a:lnTo>
                      <a:pt x="33" y="87"/>
                    </a:lnTo>
                    <a:lnTo>
                      <a:pt x="40" y="72"/>
                    </a:lnTo>
                    <a:lnTo>
                      <a:pt x="48" y="58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77640" y="3852000"/>
                <a:ext cx="355680" cy="664560"/>
              </a:xfrm>
              <a:custGeom>
                <a:avLst/>
                <a:gdLst/>
                <a:ahLst/>
                <a:rect l="l" t="t" r="r" b="b"/>
                <a:pathLst>
                  <a:path w="586" h="1089">
                    <a:moveTo>
                      <a:pt x="375" y="77"/>
                    </a:moveTo>
                    <a:lnTo>
                      <a:pt x="394" y="95"/>
                    </a:lnTo>
                    <a:lnTo>
                      <a:pt x="413" y="114"/>
                    </a:lnTo>
                    <a:lnTo>
                      <a:pt x="421" y="124"/>
                    </a:lnTo>
                    <a:lnTo>
                      <a:pt x="431" y="133"/>
                    </a:lnTo>
                    <a:lnTo>
                      <a:pt x="438" y="145"/>
                    </a:lnTo>
                    <a:lnTo>
                      <a:pt x="448" y="157"/>
                    </a:lnTo>
                    <a:lnTo>
                      <a:pt x="454" y="166"/>
                    </a:lnTo>
                    <a:lnTo>
                      <a:pt x="462" y="176"/>
                    </a:lnTo>
                    <a:lnTo>
                      <a:pt x="470" y="188"/>
                    </a:lnTo>
                    <a:lnTo>
                      <a:pt x="477" y="199"/>
                    </a:lnTo>
                    <a:lnTo>
                      <a:pt x="483" y="211"/>
                    </a:lnTo>
                    <a:lnTo>
                      <a:pt x="491" y="223"/>
                    </a:lnTo>
                    <a:lnTo>
                      <a:pt x="499" y="234"/>
                    </a:lnTo>
                    <a:lnTo>
                      <a:pt x="506" y="248"/>
                    </a:lnTo>
                    <a:lnTo>
                      <a:pt x="512" y="260"/>
                    </a:lnTo>
                    <a:lnTo>
                      <a:pt x="518" y="271"/>
                    </a:lnTo>
                    <a:lnTo>
                      <a:pt x="524" y="283"/>
                    </a:lnTo>
                    <a:lnTo>
                      <a:pt x="530" y="296"/>
                    </a:lnTo>
                    <a:lnTo>
                      <a:pt x="533" y="308"/>
                    </a:lnTo>
                    <a:lnTo>
                      <a:pt x="539" y="322"/>
                    </a:lnTo>
                    <a:lnTo>
                      <a:pt x="543" y="335"/>
                    </a:lnTo>
                    <a:lnTo>
                      <a:pt x="549" y="349"/>
                    </a:lnTo>
                    <a:lnTo>
                      <a:pt x="551" y="360"/>
                    </a:lnTo>
                    <a:lnTo>
                      <a:pt x="555" y="374"/>
                    </a:lnTo>
                    <a:lnTo>
                      <a:pt x="559" y="387"/>
                    </a:lnTo>
                    <a:lnTo>
                      <a:pt x="563" y="401"/>
                    </a:lnTo>
                    <a:lnTo>
                      <a:pt x="565" y="413"/>
                    </a:lnTo>
                    <a:lnTo>
                      <a:pt x="568" y="426"/>
                    </a:lnTo>
                    <a:lnTo>
                      <a:pt x="572" y="440"/>
                    </a:lnTo>
                    <a:lnTo>
                      <a:pt x="576" y="455"/>
                    </a:lnTo>
                    <a:lnTo>
                      <a:pt x="576" y="467"/>
                    </a:lnTo>
                    <a:lnTo>
                      <a:pt x="578" y="481"/>
                    </a:lnTo>
                    <a:lnTo>
                      <a:pt x="580" y="494"/>
                    </a:lnTo>
                    <a:lnTo>
                      <a:pt x="582" y="508"/>
                    </a:lnTo>
                    <a:lnTo>
                      <a:pt x="582" y="521"/>
                    </a:lnTo>
                    <a:lnTo>
                      <a:pt x="584" y="535"/>
                    </a:lnTo>
                    <a:lnTo>
                      <a:pt x="584" y="548"/>
                    </a:lnTo>
                    <a:lnTo>
                      <a:pt x="586" y="564"/>
                    </a:lnTo>
                    <a:lnTo>
                      <a:pt x="586" y="576"/>
                    </a:lnTo>
                    <a:lnTo>
                      <a:pt x="586" y="591"/>
                    </a:lnTo>
                    <a:lnTo>
                      <a:pt x="586" y="603"/>
                    </a:lnTo>
                    <a:lnTo>
                      <a:pt x="586" y="618"/>
                    </a:lnTo>
                    <a:lnTo>
                      <a:pt x="584" y="632"/>
                    </a:lnTo>
                    <a:lnTo>
                      <a:pt x="584" y="645"/>
                    </a:lnTo>
                    <a:lnTo>
                      <a:pt x="584" y="659"/>
                    </a:lnTo>
                    <a:lnTo>
                      <a:pt x="584" y="674"/>
                    </a:lnTo>
                    <a:lnTo>
                      <a:pt x="582" y="686"/>
                    </a:lnTo>
                    <a:lnTo>
                      <a:pt x="580" y="700"/>
                    </a:lnTo>
                    <a:lnTo>
                      <a:pt x="578" y="713"/>
                    </a:lnTo>
                    <a:lnTo>
                      <a:pt x="576" y="729"/>
                    </a:lnTo>
                    <a:lnTo>
                      <a:pt x="574" y="740"/>
                    </a:lnTo>
                    <a:lnTo>
                      <a:pt x="572" y="754"/>
                    </a:lnTo>
                    <a:lnTo>
                      <a:pt x="570" y="768"/>
                    </a:lnTo>
                    <a:lnTo>
                      <a:pt x="568" y="783"/>
                    </a:lnTo>
                    <a:lnTo>
                      <a:pt x="565" y="795"/>
                    </a:lnTo>
                    <a:lnTo>
                      <a:pt x="563" y="808"/>
                    </a:lnTo>
                    <a:lnTo>
                      <a:pt x="559" y="822"/>
                    </a:lnTo>
                    <a:lnTo>
                      <a:pt x="557" y="835"/>
                    </a:lnTo>
                    <a:lnTo>
                      <a:pt x="553" y="847"/>
                    </a:lnTo>
                    <a:lnTo>
                      <a:pt x="549" y="863"/>
                    </a:lnTo>
                    <a:lnTo>
                      <a:pt x="545" y="874"/>
                    </a:lnTo>
                    <a:lnTo>
                      <a:pt x="543" y="890"/>
                    </a:lnTo>
                    <a:lnTo>
                      <a:pt x="532" y="901"/>
                    </a:lnTo>
                    <a:lnTo>
                      <a:pt x="524" y="917"/>
                    </a:lnTo>
                    <a:lnTo>
                      <a:pt x="512" y="930"/>
                    </a:lnTo>
                    <a:lnTo>
                      <a:pt x="504" y="946"/>
                    </a:lnTo>
                    <a:lnTo>
                      <a:pt x="495" y="960"/>
                    </a:lnTo>
                    <a:lnTo>
                      <a:pt x="485" y="975"/>
                    </a:lnTo>
                    <a:lnTo>
                      <a:pt x="473" y="991"/>
                    </a:lnTo>
                    <a:lnTo>
                      <a:pt x="464" y="1006"/>
                    </a:lnTo>
                    <a:lnTo>
                      <a:pt x="450" y="1020"/>
                    </a:lnTo>
                    <a:lnTo>
                      <a:pt x="438" y="1033"/>
                    </a:lnTo>
                    <a:lnTo>
                      <a:pt x="427" y="1045"/>
                    </a:lnTo>
                    <a:lnTo>
                      <a:pt x="415" y="1056"/>
                    </a:lnTo>
                    <a:lnTo>
                      <a:pt x="400" y="1064"/>
                    </a:lnTo>
                    <a:lnTo>
                      <a:pt x="384" y="1074"/>
                    </a:lnTo>
                    <a:lnTo>
                      <a:pt x="369" y="1082"/>
                    </a:lnTo>
                    <a:lnTo>
                      <a:pt x="355" y="1089"/>
                    </a:lnTo>
                    <a:lnTo>
                      <a:pt x="343" y="1082"/>
                    </a:lnTo>
                    <a:lnTo>
                      <a:pt x="332" y="1080"/>
                    </a:lnTo>
                    <a:lnTo>
                      <a:pt x="320" y="1076"/>
                    </a:lnTo>
                    <a:lnTo>
                      <a:pt x="311" y="1076"/>
                    </a:lnTo>
                    <a:lnTo>
                      <a:pt x="299" y="1076"/>
                    </a:lnTo>
                    <a:lnTo>
                      <a:pt x="289" y="1076"/>
                    </a:lnTo>
                    <a:lnTo>
                      <a:pt x="278" y="1076"/>
                    </a:lnTo>
                    <a:lnTo>
                      <a:pt x="268" y="1078"/>
                    </a:lnTo>
                    <a:lnTo>
                      <a:pt x="276" y="1066"/>
                    </a:lnTo>
                    <a:lnTo>
                      <a:pt x="283" y="1056"/>
                    </a:lnTo>
                    <a:lnTo>
                      <a:pt x="291" y="1045"/>
                    </a:lnTo>
                    <a:lnTo>
                      <a:pt x="299" y="1035"/>
                    </a:lnTo>
                    <a:lnTo>
                      <a:pt x="312" y="1014"/>
                    </a:lnTo>
                    <a:lnTo>
                      <a:pt x="326" y="994"/>
                    </a:lnTo>
                    <a:lnTo>
                      <a:pt x="332" y="983"/>
                    </a:lnTo>
                    <a:lnTo>
                      <a:pt x="338" y="971"/>
                    </a:lnTo>
                    <a:lnTo>
                      <a:pt x="343" y="960"/>
                    </a:lnTo>
                    <a:lnTo>
                      <a:pt x="349" y="948"/>
                    </a:lnTo>
                    <a:lnTo>
                      <a:pt x="353" y="936"/>
                    </a:lnTo>
                    <a:lnTo>
                      <a:pt x="357" y="925"/>
                    </a:lnTo>
                    <a:lnTo>
                      <a:pt x="361" y="913"/>
                    </a:lnTo>
                    <a:lnTo>
                      <a:pt x="367" y="903"/>
                    </a:lnTo>
                    <a:lnTo>
                      <a:pt x="369" y="890"/>
                    </a:lnTo>
                    <a:lnTo>
                      <a:pt x="373" y="878"/>
                    </a:lnTo>
                    <a:lnTo>
                      <a:pt x="375" y="866"/>
                    </a:lnTo>
                    <a:lnTo>
                      <a:pt x="378" y="855"/>
                    </a:lnTo>
                    <a:lnTo>
                      <a:pt x="380" y="841"/>
                    </a:lnTo>
                    <a:lnTo>
                      <a:pt x="382" y="830"/>
                    </a:lnTo>
                    <a:lnTo>
                      <a:pt x="384" y="818"/>
                    </a:lnTo>
                    <a:lnTo>
                      <a:pt x="388" y="806"/>
                    </a:lnTo>
                    <a:lnTo>
                      <a:pt x="388" y="793"/>
                    </a:lnTo>
                    <a:lnTo>
                      <a:pt x="390" y="779"/>
                    </a:lnTo>
                    <a:lnTo>
                      <a:pt x="390" y="768"/>
                    </a:lnTo>
                    <a:lnTo>
                      <a:pt x="392" y="756"/>
                    </a:lnTo>
                    <a:lnTo>
                      <a:pt x="392" y="742"/>
                    </a:lnTo>
                    <a:lnTo>
                      <a:pt x="394" y="729"/>
                    </a:lnTo>
                    <a:lnTo>
                      <a:pt x="394" y="717"/>
                    </a:lnTo>
                    <a:lnTo>
                      <a:pt x="396" y="705"/>
                    </a:lnTo>
                    <a:lnTo>
                      <a:pt x="394" y="692"/>
                    </a:lnTo>
                    <a:lnTo>
                      <a:pt x="394" y="678"/>
                    </a:lnTo>
                    <a:lnTo>
                      <a:pt x="392" y="665"/>
                    </a:lnTo>
                    <a:lnTo>
                      <a:pt x="392" y="653"/>
                    </a:lnTo>
                    <a:lnTo>
                      <a:pt x="390" y="640"/>
                    </a:lnTo>
                    <a:lnTo>
                      <a:pt x="390" y="626"/>
                    </a:lnTo>
                    <a:lnTo>
                      <a:pt x="388" y="614"/>
                    </a:lnTo>
                    <a:lnTo>
                      <a:pt x="388" y="603"/>
                    </a:lnTo>
                    <a:lnTo>
                      <a:pt x="386" y="589"/>
                    </a:lnTo>
                    <a:lnTo>
                      <a:pt x="384" y="576"/>
                    </a:lnTo>
                    <a:lnTo>
                      <a:pt x="382" y="562"/>
                    </a:lnTo>
                    <a:lnTo>
                      <a:pt x="380" y="550"/>
                    </a:lnTo>
                    <a:lnTo>
                      <a:pt x="378" y="537"/>
                    </a:lnTo>
                    <a:lnTo>
                      <a:pt x="376" y="523"/>
                    </a:lnTo>
                    <a:lnTo>
                      <a:pt x="375" y="512"/>
                    </a:lnTo>
                    <a:lnTo>
                      <a:pt x="375" y="500"/>
                    </a:lnTo>
                    <a:lnTo>
                      <a:pt x="371" y="486"/>
                    </a:lnTo>
                    <a:lnTo>
                      <a:pt x="369" y="473"/>
                    </a:lnTo>
                    <a:lnTo>
                      <a:pt x="365" y="459"/>
                    </a:lnTo>
                    <a:lnTo>
                      <a:pt x="363" y="448"/>
                    </a:lnTo>
                    <a:lnTo>
                      <a:pt x="359" y="436"/>
                    </a:lnTo>
                    <a:lnTo>
                      <a:pt x="357" y="424"/>
                    </a:lnTo>
                    <a:lnTo>
                      <a:pt x="355" y="413"/>
                    </a:lnTo>
                    <a:lnTo>
                      <a:pt x="353" y="401"/>
                    </a:lnTo>
                    <a:lnTo>
                      <a:pt x="349" y="387"/>
                    </a:lnTo>
                    <a:lnTo>
                      <a:pt x="347" y="376"/>
                    </a:lnTo>
                    <a:lnTo>
                      <a:pt x="343" y="364"/>
                    </a:lnTo>
                    <a:lnTo>
                      <a:pt x="342" y="353"/>
                    </a:lnTo>
                    <a:lnTo>
                      <a:pt x="338" y="341"/>
                    </a:lnTo>
                    <a:lnTo>
                      <a:pt x="336" y="329"/>
                    </a:lnTo>
                    <a:lnTo>
                      <a:pt x="332" y="318"/>
                    </a:lnTo>
                    <a:lnTo>
                      <a:pt x="330" y="308"/>
                    </a:lnTo>
                    <a:lnTo>
                      <a:pt x="320" y="296"/>
                    </a:lnTo>
                    <a:lnTo>
                      <a:pt x="314" y="285"/>
                    </a:lnTo>
                    <a:lnTo>
                      <a:pt x="305" y="273"/>
                    </a:lnTo>
                    <a:lnTo>
                      <a:pt x="299" y="261"/>
                    </a:lnTo>
                    <a:lnTo>
                      <a:pt x="289" y="250"/>
                    </a:lnTo>
                    <a:lnTo>
                      <a:pt x="281" y="240"/>
                    </a:lnTo>
                    <a:lnTo>
                      <a:pt x="274" y="228"/>
                    </a:lnTo>
                    <a:lnTo>
                      <a:pt x="266" y="219"/>
                    </a:lnTo>
                    <a:lnTo>
                      <a:pt x="256" y="207"/>
                    </a:lnTo>
                    <a:lnTo>
                      <a:pt x="247" y="196"/>
                    </a:lnTo>
                    <a:lnTo>
                      <a:pt x="237" y="186"/>
                    </a:lnTo>
                    <a:lnTo>
                      <a:pt x="227" y="176"/>
                    </a:lnTo>
                    <a:lnTo>
                      <a:pt x="208" y="155"/>
                    </a:lnTo>
                    <a:lnTo>
                      <a:pt x="188" y="137"/>
                    </a:lnTo>
                    <a:lnTo>
                      <a:pt x="177" y="126"/>
                    </a:lnTo>
                    <a:lnTo>
                      <a:pt x="165" y="118"/>
                    </a:lnTo>
                    <a:lnTo>
                      <a:pt x="153" y="108"/>
                    </a:lnTo>
                    <a:lnTo>
                      <a:pt x="144" y="101"/>
                    </a:lnTo>
                    <a:lnTo>
                      <a:pt x="132" y="91"/>
                    </a:lnTo>
                    <a:lnTo>
                      <a:pt x="121" y="83"/>
                    </a:lnTo>
                    <a:lnTo>
                      <a:pt x="109" y="75"/>
                    </a:lnTo>
                    <a:lnTo>
                      <a:pt x="97" y="69"/>
                    </a:lnTo>
                    <a:lnTo>
                      <a:pt x="84" y="62"/>
                    </a:lnTo>
                    <a:lnTo>
                      <a:pt x="72" y="56"/>
                    </a:lnTo>
                    <a:lnTo>
                      <a:pt x="60" y="50"/>
                    </a:lnTo>
                    <a:lnTo>
                      <a:pt x="49" y="46"/>
                    </a:lnTo>
                    <a:lnTo>
                      <a:pt x="35" y="40"/>
                    </a:lnTo>
                    <a:lnTo>
                      <a:pt x="24" y="37"/>
                    </a:lnTo>
                    <a:lnTo>
                      <a:pt x="12" y="33"/>
                    </a:lnTo>
                    <a:lnTo>
                      <a:pt x="0" y="31"/>
                    </a:lnTo>
                    <a:lnTo>
                      <a:pt x="8" y="25"/>
                    </a:lnTo>
                    <a:lnTo>
                      <a:pt x="18" y="19"/>
                    </a:lnTo>
                    <a:lnTo>
                      <a:pt x="29" y="15"/>
                    </a:lnTo>
                    <a:lnTo>
                      <a:pt x="41" y="13"/>
                    </a:lnTo>
                    <a:lnTo>
                      <a:pt x="51" y="9"/>
                    </a:lnTo>
                    <a:lnTo>
                      <a:pt x="62" y="7"/>
                    </a:lnTo>
                    <a:lnTo>
                      <a:pt x="74" y="4"/>
                    </a:lnTo>
                    <a:lnTo>
                      <a:pt x="88" y="4"/>
                    </a:lnTo>
                    <a:lnTo>
                      <a:pt x="99" y="2"/>
                    </a:lnTo>
                    <a:lnTo>
                      <a:pt x="111" y="0"/>
                    </a:lnTo>
                    <a:lnTo>
                      <a:pt x="122" y="0"/>
                    </a:lnTo>
                    <a:lnTo>
                      <a:pt x="136" y="0"/>
                    </a:lnTo>
                    <a:lnTo>
                      <a:pt x="148" y="0"/>
                    </a:lnTo>
                    <a:lnTo>
                      <a:pt x="161" y="0"/>
                    </a:lnTo>
                    <a:lnTo>
                      <a:pt x="175" y="2"/>
                    </a:lnTo>
                    <a:lnTo>
                      <a:pt x="188" y="4"/>
                    </a:lnTo>
                    <a:lnTo>
                      <a:pt x="200" y="4"/>
                    </a:lnTo>
                    <a:lnTo>
                      <a:pt x="214" y="6"/>
                    </a:lnTo>
                    <a:lnTo>
                      <a:pt x="225" y="7"/>
                    </a:lnTo>
                    <a:lnTo>
                      <a:pt x="239" y="11"/>
                    </a:lnTo>
                    <a:lnTo>
                      <a:pt x="250" y="13"/>
                    </a:lnTo>
                    <a:lnTo>
                      <a:pt x="264" y="17"/>
                    </a:lnTo>
                    <a:lnTo>
                      <a:pt x="276" y="23"/>
                    </a:lnTo>
                    <a:lnTo>
                      <a:pt x="289" y="29"/>
                    </a:lnTo>
                    <a:lnTo>
                      <a:pt x="299" y="33"/>
                    </a:lnTo>
                    <a:lnTo>
                      <a:pt x="311" y="37"/>
                    </a:lnTo>
                    <a:lnTo>
                      <a:pt x="322" y="42"/>
                    </a:lnTo>
                    <a:lnTo>
                      <a:pt x="334" y="48"/>
                    </a:lnTo>
                    <a:lnTo>
                      <a:pt x="353" y="60"/>
                    </a:lnTo>
                    <a:lnTo>
                      <a:pt x="375" y="77"/>
                    </a:lnTo>
                    <a:close/>
                  </a:path>
                </a:pathLst>
              </a:custGeom>
              <a:solidFill>
                <a:srgbClr val="18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65080" y="3429000"/>
                <a:ext cx="123120" cy="59400"/>
              </a:xfrm>
              <a:custGeom>
                <a:avLst/>
                <a:gdLst/>
                <a:ahLst/>
                <a:rect l="l" t="t" r="r" b="b"/>
                <a:pathLst>
                  <a:path w="202" h="96">
                    <a:moveTo>
                      <a:pt x="173" y="9"/>
                    </a:moveTo>
                    <a:lnTo>
                      <a:pt x="202" y="96"/>
                    </a:lnTo>
                    <a:lnTo>
                      <a:pt x="190" y="96"/>
                    </a:lnTo>
                    <a:lnTo>
                      <a:pt x="178" y="96"/>
                    </a:lnTo>
                    <a:lnTo>
                      <a:pt x="167" y="95"/>
                    </a:lnTo>
                    <a:lnTo>
                      <a:pt x="155" y="95"/>
                    </a:lnTo>
                    <a:lnTo>
                      <a:pt x="142" y="93"/>
                    </a:lnTo>
                    <a:lnTo>
                      <a:pt x="128" y="91"/>
                    </a:lnTo>
                    <a:lnTo>
                      <a:pt x="114" y="89"/>
                    </a:lnTo>
                    <a:lnTo>
                      <a:pt x="103" y="87"/>
                    </a:lnTo>
                    <a:lnTo>
                      <a:pt x="89" y="83"/>
                    </a:lnTo>
                    <a:lnTo>
                      <a:pt x="76" y="81"/>
                    </a:lnTo>
                    <a:lnTo>
                      <a:pt x="62" y="77"/>
                    </a:lnTo>
                    <a:lnTo>
                      <a:pt x="50" y="75"/>
                    </a:lnTo>
                    <a:lnTo>
                      <a:pt x="37" y="71"/>
                    </a:lnTo>
                    <a:lnTo>
                      <a:pt x="23" y="69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2" y="34"/>
                    </a:lnTo>
                    <a:lnTo>
                      <a:pt x="17" y="21"/>
                    </a:lnTo>
                    <a:lnTo>
                      <a:pt x="29" y="15"/>
                    </a:lnTo>
                    <a:lnTo>
                      <a:pt x="37" y="7"/>
                    </a:lnTo>
                    <a:lnTo>
                      <a:pt x="49" y="3"/>
                    </a:lnTo>
                    <a:lnTo>
                      <a:pt x="60" y="1"/>
                    </a:lnTo>
                    <a:lnTo>
                      <a:pt x="72" y="1"/>
                    </a:lnTo>
                    <a:lnTo>
                      <a:pt x="83" y="0"/>
                    </a:lnTo>
                    <a:lnTo>
                      <a:pt x="95" y="0"/>
                    </a:lnTo>
                    <a:lnTo>
                      <a:pt x="109" y="1"/>
                    </a:lnTo>
                    <a:lnTo>
                      <a:pt x="122" y="3"/>
                    </a:lnTo>
                    <a:lnTo>
                      <a:pt x="134" y="3"/>
                    </a:lnTo>
                    <a:lnTo>
                      <a:pt x="145" y="5"/>
                    </a:lnTo>
                    <a:lnTo>
                      <a:pt x="159" y="7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16360" y="3834000"/>
                <a:ext cx="228960" cy="362160"/>
              </a:xfrm>
              <a:custGeom>
                <a:avLst/>
                <a:gdLst/>
                <a:ahLst/>
                <a:rect l="l" t="t" r="r" b="b"/>
                <a:pathLst>
                  <a:path w="376" h="593">
                    <a:moveTo>
                      <a:pt x="134" y="0"/>
                    </a:moveTo>
                    <a:lnTo>
                      <a:pt x="145" y="9"/>
                    </a:lnTo>
                    <a:lnTo>
                      <a:pt x="161" y="17"/>
                    </a:lnTo>
                    <a:lnTo>
                      <a:pt x="175" y="21"/>
                    </a:lnTo>
                    <a:lnTo>
                      <a:pt x="190" y="27"/>
                    </a:lnTo>
                    <a:lnTo>
                      <a:pt x="204" y="27"/>
                    </a:lnTo>
                    <a:lnTo>
                      <a:pt x="219" y="27"/>
                    </a:lnTo>
                    <a:lnTo>
                      <a:pt x="233" y="27"/>
                    </a:lnTo>
                    <a:lnTo>
                      <a:pt x="248" y="29"/>
                    </a:lnTo>
                    <a:lnTo>
                      <a:pt x="260" y="29"/>
                    </a:lnTo>
                    <a:lnTo>
                      <a:pt x="273" y="31"/>
                    </a:lnTo>
                    <a:lnTo>
                      <a:pt x="285" y="35"/>
                    </a:lnTo>
                    <a:lnTo>
                      <a:pt x="299" y="42"/>
                    </a:lnTo>
                    <a:lnTo>
                      <a:pt x="308" y="50"/>
                    </a:lnTo>
                    <a:lnTo>
                      <a:pt x="318" y="64"/>
                    </a:lnTo>
                    <a:lnTo>
                      <a:pt x="322" y="71"/>
                    </a:lnTo>
                    <a:lnTo>
                      <a:pt x="326" y="81"/>
                    </a:lnTo>
                    <a:lnTo>
                      <a:pt x="330" y="91"/>
                    </a:lnTo>
                    <a:lnTo>
                      <a:pt x="335" y="104"/>
                    </a:lnTo>
                    <a:lnTo>
                      <a:pt x="335" y="114"/>
                    </a:lnTo>
                    <a:lnTo>
                      <a:pt x="337" y="124"/>
                    </a:lnTo>
                    <a:lnTo>
                      <a:pt x="339" y="135"/>
                    </a:lnTo>
                    <a:lnTo>
                      <a:pt x="343" y="147"/>
                    </a:lnTo>
                    <a:lnTo>
                      <a:pt x="345" y="159"/>
                    </a:lnTo>
                    <a:lnTo>
                      <a:pt x="349" y="170"/>
                    </a:lnTo>
                    <a:lnTo>
                      <a:pt x="351" y="182"/>
                    </a:lnTo>
                    <a:lnTo>
                      <a:pt x="355" y="194"/>
                    </a:lnTo>
                    <a:lnTo>
                      <a:pt x="357" y="205"/>
                    </a:lnTo>
                    <a:lnTo>
                      <a:pt x="359" y="217"/>
                    </a:lnTo>
                    <a:lnTo>
                      <a:pt x="361" y="228"/>
                    </a:lnTo>
                    <a:lnTo>
                      <a:pt x="365" y="240"/>
                    </a:lnTo>
                    <a:lnTo>
                      <a:pt x="367" y="252"/>
                    </a:lnTo>
                    <a:lnTo>
                      <a:pt x="368" y="263"/>
                    </a:lnTo>
                    <a:lnTo>
                      <a:pt x="370" y="275"/>
                    </a:lnTo>
                    <a:lnTo>
                      <a:pt x="374" y="289"/>
                    </a:lnTo>
                    <a:lnTo>
                      <a:pt x="374" y="300"/>
                    </a:lnTo>
                    <a:lnTo>
                      <a:pt x="374" y="312"/>
                    </a:lnTo>
                    <a:lnTo>
                      <a:pt x="374" y="323"/>
                    </a:lnTo>
                    <a:lnTo>
                      <a:pt x="376" y="335"/>
                    </a:lnTo>
                    <a:lnTo>
                      <a:pt x="374" y="347"/>
                    </a:lnTo>
                    <a:lnTo>
                      <a:pt x="374" y="358"/>
                    </a:lnTo>
                    <a:lnTo>
                      <a:pt x="372" y="370"/>
                    </a:lnTo>
                    <a:lnTo>
                      <a:pt x="372" y="382"/>
                    </a:lnTo>
                    <a:lnTo>
                      <a:pt x="368" y="391"/>
                    </a:lnTo>
                    <a:lnTo>
                      <a:pt x="365" y="403"/>
                    </a:lnTo>
                    <a:lnTo>
                      <a:pt x="361" y="413"/>
                    </a:lnTo>
                    <a:lnTo>
                      <a:pt x="359" y="424"/>
                    </a:lnTo>
                    <a:lnTo>
                      <a:pt x="351" y="434"/>
                    </a:lnTo>
                    <a:lnTo>
                      <a:pt x="345" y="446"/>
                    </a:lnTo>
                    <a:lnTo>
                      <a:pt x="339" y="455"/>
                    </a:lnTo>
                    <a:lnTo>
                      <a:pt x="334" y="467"/>
                    </a:lnTo>
                    <a:lnTo>
                      <a:pt x="332" y="467"/>
                    </a:lnTo>
                    <a:lnTo>
                      <a:pt x="320" y="451"/>
                    </a:lnTo>
                    <a:lnTo>
                      <a:pt x="308" y="440"/>
                    </a:lnTo>
                    <a:lnTo>
                      <a:pt x="299" y="434"/>
                    </a:lnTo>
                    <a:lnTo>
                      <a:pt x="287" y="430"/>
                    </a:lnTo>
                    <a:lnTo>
                      <a:pt x="275" y="436"/>
                    </a:lnTo>
                    <a:lnTo>
                      <a:pt x="266" y="444"/>
                    </a:lnTo>
                    <a:lnTo>
                      <a:pt x="256" y="453"/>
                    </a:lnTo>
                    <a:lnTo>
                      <a:pt x="244" y="461"/>
                    </a:lnTo>
                    <a:lnTo>
                      <a:pt x="235" y="473"/>
                    </a:lnTo>
                    <a:lnTo>
                      <a:pt x="223" y="481"/>
                    </a:lnTo>
                    <a:lnTo>
                      <a:pt x="217" y="492"/>
                    </a:lnTo>
                    <a:lnTo>
                      <a:pt x="213" y="506"/>
                    </a:lnTo>
                    <a:lnTo>
                      <a:pt x="217" y="523"/>
                    </a:lnTo>
                    <a:lnTo>
                      <a:pt x="231" y="539"/>
                    </a:lnTo>
                    <a:lnTo>
                      <a:pt x="248" y="546"/>
                    </a:lnTo>
                    <a:lnTo>
                      <a:pt x="268" y="546"/>
                    </a:lnTo>
                    <a:lnTo>
                      <a:pt x="289" y="539"/>
                    </a:lnTo>
                    <a:lnTo>
                      <a:pt x="318" y="508"/>
                    </a:lnTo>
                    <a:lnTo>
                      <a:pt x="306" y="519"/>
                    </a:lnTo>
                    <a:lnTo>
                      <a:pt x="297" y="531"/>
                    </a:lnTo>
                    <a:lnTo>
                      <a:pt x="285" y="543"/>
                    </a:lnTo>
                    <a:lnTo>
                      <a:pt x="273" y="554"/>
                    </a:lnTo>
                    <a:lnTo>
                      <a:pt x="260" y="562"/>
                    </a:lnTo>
                    <a:lnTo>
                      <a:pt x="248" y="572"/>
                    </a:lnTo>
                    <a:lnTo>
                      <a:pt x="235" y="577"/>
                    </a:lnTo>
                    <a:lnTo>
                      <a:pt x="223" y="585"/>
                    </a:lnTo>
                    <a:lnTo>
                      <a:pt x="208" y="587"/>
                    </a:lnTo>
                    <a:lnTo>
                      <a:pt x="192" y="591"/>
                    </a:lnTo>
                    <a:lnTo>
                      <a:pt x="177" y="591"/>
                    </a:lnTo>
                    <a:lnTo>
                      <a:pt x="163" y="593"/>
                    </a:lnTo>
                    <a:lnTo>
                      <a:pt x="145" y="591"/>
                    </a:lnTo>
                    <a:lnTo>
                      <a:pt x="130" y="589"/>
                    </a:lnTo>
                    <a:lnTo>
                      <a:pt x="114" y="583"/>
                    </a:lnTo>
                    <a:lnTo>
                      <a:pt x="99" y="579"/>
                    </a:lnTo>
                    <a:lnTo>
                      <a:pt x="89" y="568"/>
                    </a:lnTo>
                    <a:lnTo>
                      <a:pt x="82" y="556"/>
                    </a:lnTo>
                    <a:lnTo>
                      <a:pt x="72" y="545"/>
                    </a:lnTo>
                    <a:lnTo>
                      <a:pt x="66" y="533"/>
                    </a:lnTo>
                    <a:lnTo>
                      <a:pt x="58" y="521"/>
                    </a:lnTo>
                    <a:lnTo>
                      <a:pt x="52" y="510"/>
                    </a:lnTo>
                    <a:lnTo>
                      <a:pt x="47" y="498"/>
                    </a:lnTo>
                    <a:lnTo>
                      <a:pt x="41" y="486"/>
                    </a:lnTo>
                    <a:lnTo>
                      <a:pt x="35" y="473"/>
                    </a:lnTo>
                    <a:lnTo>
                      <a:pt x="29" y="459"/>
                    </a:lnTo>
                    <a:lnTo>
                      <a:pt x="25" y="446"/>
                    </a:lnTo>
                    <a:lnTo>
                      <a:pt x="21" y="434"/>
                    </a:lnTo>
                    <a:lnTo>
                      <a:pt x="16" y="420"/>
                    </a:lnTo>
                    <a:lnTo>
                      <a:pt x="14" y="407"/>
                    </a:lnTo>
                    <a:lnTo>
                      <a:pt x="10" y="393"/>
                    </a:lnTo>
                    <a:lnTo>
                      <a:pt x="10" y="382"/>
                    </a:lnTo>
                    <a:lnTo>
                      <a:pt x="6" y="366"/>
                    </a:lnTo>
                    <a:lnTo>
                      <a:pt x="4" y="353"/>
                    </a:lnTo>
                    <a:lnTo>
                      <a:pt x="2" y="337"/>
                    </a:lnTo>
                    <a:lnTo>
                      <a:pt x="2" y="325"/>
                    </a:lnTo>
                    <a:lnTo>
                      <a:pt x="0" y="310"/>
                    </a:lnTo>
                    <a:lnTo>
                      <a:pt x="0" y="296"/>
                    </a:lnTo>
                    <a:lnTo>
                      <a:pt x="0" y="281"/>
                    </a:lnTo>
                    <a:lnTo>
                      <a:pt x="0" y="269"/>
                    </a:lnTo>
                    <a:lnTo>
                      <a:pt x="0" y="254"/>
                    </a:lnTo>
                    <a:lnTo>
                      <a:pt x="0" y="240"/>
                    </a:lnTo>
                    <a:lnTo>
                      <a:pt x="2" y="227"/>
                    </a:lnTo>
                    <a:lnTo>
                      <a:pt x="6" y="213"/>
                    </a:lnTo>
                    <a:lnTo>
                      <a:pt x="6" y="197"/>
                    </a:lnTo>
                    <a:lnTo>
                      <a:pt x="10" y="186"/>
                    </a:lnTo>
                    <a:lnTo>
                      <a:pt x="12" y="170"/>
                    </a:lnTo>
                    <a:lnTo>
                      <a:pt x="18" y="159"/>
                    </a:lnTo>
                    <a:lnTo>
                      <a:pt x="21" y="147"/>
                    </a:lnTo>
                    <a:lnTo>
                      <a:pt x="27" y="135"/>
                    </a:lnTo>
                    <a:lnTo>
                      <a:pt x="31" y="124"/>
                    </a:lnTo>
                    <a:lnTo>
                      <a:pt x="37" y="114"/>
                    </a:lnTo>
                    <a:lnTo>
                      <a:pt x="41" y="102"/>
                    </a:lnTo>
                    <a:lnTo>
                      <a:pt x="47" y="91"/>
                    </a:lnTo>
                    <a:lnTo>
                      <a:pt x="52" y="79"/>
                    </a:lnTo>
                    <a:lnTo>
                      <a:pt x="60" y="68"/>
                    </a:lnTo>
                    <a:lnTo>
                      <a:pt x="66" y="56"/>
                    </a:lnTo>
                    <a:lnTo>
                      <a:pt x="72" y="44"/>
                    </a:lnTo>
                    <a:lnTo>
                      <a:pt x="78" y="33"/>
                    </a:lnTo>
                    <a:lnTo>
                      <a:pt x="87" y="25"/>
                    </a:lnTo>
                    <a:lnTo>
                      <a:pt x="97" y="15"/>
                    </a:lnTo>
                    <a:lnTo>
                      <a:pt x="107" y="9"/>
                    </a:lnTo>
                    <a:lnTo>
                      <a:pt x="118" y="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98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59200" y="4089960"/>
                <a:ext cx="54720" cy="61920"/>
              </a:xfrm>
              <a:custGeom>
                <a:avLst/>
                <a:gdLst/>
                <a:ahLst/>
                <a:rect l="l" t="t" r="r" b="b"/>
                <a:pathLst>
                  <a:path w="89" h="101">
                    <a:moveTo>
                      <a:pt x="89" y="0"/>
                    </a:moveTo>
                    <a:lnTo>
                      <a:pt x="87" y="14"/>
                    </a:lnTo>
                    <a:lnTo>
                      <a:pt x="87" y="30"/>
                    </a:lnTo>
                    <a:lnTo>
                      <a:pt x="83" y="43"/>
                    </a:lnTo>
                    <a:lnTo>
                      <a:pt x="79" y="57"/>
                    </a:lnTo>
                    <a:lnTo>
                      <a:pt x="72" y="66"/>
                    </a:lnTo>
                    <a:lnTo>
                      <a:pt x="64" y="78"/>
                    </a:lnTo>
                    <a:lnTo>
                      <a:pt x="52" y="90"/>
                    </a:lnTo>
                    <a:lnTo>
                      <a:pt x="42" y="101"/>
                    </a:lnTo>
                    <a:lnTo>
                      <a:pt x="2" y="57"/>
                    </a:lnTo>
                    <a:lnTo>
                      <a:pt x="0" y="43"/>
                    </a:lnTo>
                    <a:lnTo>
                      <a:pt x="2" y="35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7" y="16"/>
                    </a:lnTo>
                    <a:lnTo>
                      <a:pt x="31" y="16"/>
                    </a:lnTo>
                    <a:lnTo>
                      <a:pt x="44" y="14"/>
                    </a:lnTo>
                    <a:lnTo>
                      <a:pt x="60" y="12"/>
                    </a:lnTo>
                    <a:lnTo>
                      <a:pt x="75" y="8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60280" y="3903480"/>
                <a:ext cx="35280" cy="71640"/>
              </a:xfrm>
              <a:custGeom>
                <a:avLst/>
                <a:gdLst/>
                <a:ahLst/>
                <a:rect l="l" t="t" r="r" b="b"/>
                <a:pathLst>
                  <a:path w="58" h="118">
                    <a:moveTo>
                      <a:pt x="17" y="0"/>
                    </a:moveTo>
                    <a:lnTo>
                      <a:pt x="44" y="0"/>
                    </a:lnTo>
                    <a:lnTo>
                      <a:pt x="52" y="16"/>
                    </a:lnTo>
                    <a:lnTo>
                      <a:pt x="58" y="33"/>
                    </a:lnTo>
                    <a:lnTo>
                      <a:pt x="56" y="50"/>
                    </a:lnTo>
                    <a:lnTo>
                      <a:pt x="54" y="70"/>
                    </a:lnTo>
                    <a:lnTo>
                      <a:pt x="44" y="85"/>
                    </a:lnTo>
                    <a:lnTo>
                      <a:pt x="33" y="99"/>
                    </a:lnTo>
                    <a:lnTo>
                      <a:pt x="17" y="111"/>
                    </a:lnTo>
                    <a:lnTo>
                      <a:pt x="2" y="118"/>
                    </a:lnTo>
                    <a:lnTo>
                      <a:pt x="0" y="103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0" y="39"/>
                    </a:lnTo>
                    <a:lnTo>
                      <a:pt x="2" y="25"/>
                    </a:lnTo>
                    <a:lnTo>
                      <a:pt x="8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867480" y="3999960"/>
                <a:ext cx="37800" cy="52200"/>
              </a:xfrm>
              <a:custGeom>
                <a:avLst/>
                <a:gdLst/>
                <a:ahLst/>
                <a:rect l="l" t="t" r="r" b="b"/>
                <a:pathLst>
                  <a:path w="62" h="87">
                    <a:moveTo>
                      <a:pt x="47" y="4"/>
                    </a:moveTo>
                    <a:lnTo>
                      <a:pt x="57" y="14"/>
                    </a:lnTo>
                    <a:lnTo>
                      <a:pt x="60" y="29"/>
                    </a:lnTo>
                    <a:lnTo>
                      <a:pt x="60" y="45"/>
                    </a:lnTo>
                    <a:lnTo>
                      <a:pt x="62" y="60"/>
                    </a:lnTo>
                    <a:lnTo>
                      <a:pt x="47" y="72"/>
                    </a:lnTo>
                    <a:lnTo>
                      <a:pt x="33" y="85"/>
                    </a:lnTo>
                    <a:lnTo>
                      <a:pt x="24" y="87"/>
                    </a:lnTo>
                    <a:lnTo>
                      <a:pt x="18" y="87"/>
                    </a:lnTo>
                    <a:lnTo>
                      <a:pt x="10" y="84"/>
                    </a:lnTo>
                    <a:lnTo>
                      <a:pt x="4" y="76"/>
                    </a:lnTo>
                    <a:lnTo>
                      <a:pt x="0" y="60"/>
                    </a:lnTo>
                    <a:lnTo>
                      <a:pt x="0" y="49"/>
                    </a:lnTo>
                    <a:lnTo>
                      <a:pt x="2" y="35"/>
                    </a:lnTo>
                    <a:lnTo>
                      <a:pt x="8" y="23"/>
                    </a:lnTo>
                    <a:lnTo>
                      <a:pt x="14" y="12"/>
                    </a:lnTo>
                    <a:lnTo>
                      <a:pt x="22" y="4"/>
                    </a:lnTo>
                    <a:lnTo>
                      <a:pt x="33" y="0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30840" y="3896280"/>
                <a:ext cx="46440" cy="61920"/>
              </a:xfrm>
              <a:custGeom>
                <a:avLst/>
                <a:gdLst/>
                <a:ahLst/>
                <a:rect l="l" t="t" r="r" b="b"/>
                <a:pathLst>
                  <a:path w="78" h="101">
                    <a:moveTo>
                      <a:pt x="33" y="2"/>
                    </a:moveTo>
                    <a:lnTo>
                      <a:pt x="45" y="0"/>
                    </a:lnTo>
                    <a:lnTo>
                      <a:pt x="56" y="0"/>
                    </a:lnTo>
                    <a:lnTo>
                      <a:pt x="68" y="4"/>
                    </a:lnTo>
                    <a:lnTo>
                      <a:pt x="76" y="14"/>
                    </a:lnTo>
                    <a:lnTo>
                      <a:pt x="78" y="28"/>
                    </a:lnTo>
                    <a:lnTo>
                      <a:pt x="76" y="43"/>
                    </a:lnTo>
                    <a:lnTo>
                      <a:pt x="70" y="57"/>
                    </a:lnTo>
                    <a:lnTo>
                      <a:pt x="64" y="70"/>
                    </a:lnTo>
                    <a:lnTo>
                      <a:pt x="52" y="80"/>
                    </a:lnTo>
                    <a:lnTo>
                      <a:pt x="41" y="88"/>
                    </a:lnTo>
                    <a:lnTo>
                      <a:pt x="27" y="94"/>
                    </a:lnTo>
                    <a:lnTo>
                      <a:pt x="18" y="101"/>
                    </a:lnTo>
                    <a:lnTo>
                      <a:pt x="4" y="90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2" y="43"/>
                    </a:lnTo>
                    <a:lnTo>
                      <a:pt x="12" y="33"/>
                    </a:lnTo>
                    <a:lnTo>
                      <a:pt x="23" y="26"/>
                    </a:lnTo>
                    <a:lnTo>
                      <a:pt x="31" y="14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38400" y="3992400"/>
                <a:ext cx="47520" cy="61920"/>
              </a:xfrm>
              <a:custGeom>
                <a:avLst/>
                <a:gdLst/>
                <a:ahLst/>
                <a:rect l="l" t="t" r="r" b="b"/>
                <a:pathLst>
                  <a:path w="77" h="103">
                    <a:moveTo>
                      <a:pt x="33" y="2"/>
                    </a:moveTo>
                    <a:lnTo>
                      <a:pt x="42" y="0"/>
                    </a:lnTo>
                    <a:lnTo>
                      <a:pt x="56" y="2"/>
                    </a:lnTo>
                    <a:lnTo>
                      <a:pt x="66" y="4"/>
                    </a:lnTo>
                    <a:lnTo>
                      <a:pt x="75" y="16"/>
                    </a:lnTo>
                    <a:lnTo>
                      <a:pt x="77" y="32"/>
                    </a:lnTo>
                    <a:lnTo>
                      <a:pt x="75" y="47"/>
                    </a:lnTo>
                    <a:lnTo>
                      <a:pt x="70" y="59"/>
                    </a:lnTo>
                    <a:lnTo>
                      <a:pt x="62" y="72"/>
                    </a:lnTo>
                    <a:lnTo>
                      <a:pt x="50" y="80"/>
                    </a:lnTo>
                    <a:lnTo>
                      <a:pt x="38" y="90"/>
                    </a:lnTo>
                    <a:lnTo>
                      <a:pt x="27" y="96"/>
                    </a:lnTo>
                    <a:lnTo>
                      <a:pt x="17" y="103"/>
                    </a:lnTo>
                    <a:lnTo>
                      <a:pt x="6" y="90"/>
                    </a:lnTo>
                    <a:lnTo>
                      <a:pt x="2" y="76"/>
                    </a:lnTo>
                    <a:lnTo>
                      <a:pt x="0" y="63"/>
                    </a:lnTo>
                    <a:lnTo>
                      <a:pt x="6" y="51"/>
                    </a:lnTo>
                    <a:lnTo>
                      <a:pt x="9" y="37"/>
                    </a:lnTo>
                    <a:lnTo>
                      <a:pt x="17" y="24"/>
                    </a:lnTo>
                    <a:lnTo>
                      <a:pt x="25" y="1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70240" y="5161320"/>
                <a:ext cx="340920" cy="442440"/>
              </a:xfrm>
              <a:custGeom>
                <a:avLst/>
                <a:gdLst/>
                <a:ahLst/>
                <a:rect l="l" t="t" r="r" b="b"/>
                <a:pathLst>
                  <a:path w="558" h="727">
                    <a:moveTo>
                      <a:pt x="275" y="2"/>
                    </a:moveTo>
                    <a:lnTo>
                      <a:pt x="281" y="14"/>
                    </a:lnTo>
                    <a:lnTo>
                      <a:pt x="287" y="27"/>
                    </a:lnTo>
                    <a:lnTo>
                      <a:pt x="292" y="41"/>
                    </a:lnTo>
                    <a:lnTo>
                      <a:pt x="298" y="55"/>
                    </a:lnTo>
                    <a:lnTo>
                      <a:pt x="304" y="66"/>
                    </a:lnTo>
                    <a:lnTo>
                      <a:pt x="310" y="80"/>
                    </a:lnTo>
                    <a:lnTo>
                      <a:pt x="316" y="93"/>
                    </a:lnTo>
                    <a:lnTo>
                      <a:pt x="322" y="107"/>
                    </a:lnTo>
                    <a:lnTo>
                      <a:pt x="327" y="119"/>
                    </a:lnTo>
                    <a:lnTo>
                      <a:pt x="333" y="132"/>
                    </a:lnTo>
                    <a:lnTo>
                      <a:pt x="339" y="146"/>
                    </a:lnTo>
                    <a:lnTo>
                      <a:pt x="347" y="159"/>
                    </a:lnTo>
                    <a:lnTo>
                      <a:pt x="353" y="171"/>
                    </a:lnTo>
                    <a:lnTo>
                      <a:pt x="360" y="184"/>
                    </a:lnTo>
                    <a:lnTo>
                      <a:pt x="368" y="198"/>
                    </a:lnTo>
                    <a:lnTo>
                      <a:pt x="376" y="212"/>
                    </a:lnTo>
                    <a:lnTo>
                      <a:pt x="382" y="223"/>
                    </a:lnTo>
                    <a:lnTo>
                      <a:pt x="389" y="237"/>
                    </a:lnTo>
                    <a:lnTo>
                      <a:pt x="397" y="248"/>
                    </a:lnTo>
                    <a:lnTo>
                      <a:pt x="405" y="262"/>
                    </a:lnTo>
                    <a:lnTo>
                      <a:pt x="411" y="274"/>
                    </a:lnTo>
                    <a:lnTo>
                      <a:pt x="420" y="285"/>
                    </a:lnTo>
                    <a:lnTo>
                      <a:pt x="428" y="297"/>
                    </a:lnTo>
                    <a:lnTo>
                      <a:pt x="438" y="311"/>
                    </a:lnTo>
                    <a:lnTo>
                      <a:pt x="446" y="320"/>
                    </a:lnTo>
                    <a:lnTo>
                      <a:pt x="455" y="332"/>
                    </a:lnTo>
                    <a:lnTo>
                      <a:pt x="463" y="343"/>
                    </a:lnTo>
                    <a:lnTo>
                      <a:pt x="473" y="355"/>
                    </a:lnTo>
                    <a:lnTo>
                      <a:pt x="482" y="365"/>
                    </a:lnTo>
                    <a:lnTo>
                      <a:pt x="492" y="376"/>
                    </a:lnTo>
                    <a:lnTo>
                      <a:pt x="504" y="386"/>
                    </a:lnTo>
                    <a:lnTo>
                      <a:pt x="515" y="398"/>
                    </a:lnTo>
                    <a:lnTo>
                      <a:pt x="519" y="407"/>
                    </a:lnTo>
                    <a:lnTo>
                      <a:pt x="525" y="417"/>
                    </a:lnTo>
                    <a:lnTo>
                      <a:pt x="531" y="429"/>
                    </a:lnTo>
                    <a:lnTo>
                      <a:pt x="537" y="442"/>
                    </a:lnTo>
                    <a:lnTo>
                      <a:pt x="541" y="454"/>
                    </a:lnTo>
                    <a:lnTo>
                      <a:pt x="546" y="466"/>
                    </a:lnTo>
                    <a:lnTo>
                      <a:pt x="550" y="479"/>
                    </a:lnTo>
                    <a:lnTo>
                      <a:pt x="554" y="493"/>
                    </a:lnTo>
                    <a:lnTo>
                      <a:pt x="554" y="504"/>
                    </a:lnTo>
                    <a:lnTo>
                      <a:pt x="556" y="518"/>
                    </a:lnTo>
                    <a:lnTo>
                      <a:pt x="556" y="532"/>
                    </a:lnTo>
                    <a:lnTo>
                      <a:pt x="558" y="545"/>
                    </a:lnTo>
                    <a:lnTo>
                      <a:pt x="554" y="557"/>
                    </a:lnTo>
                    <a:lnTo>
                      <a:pt x="552" y="572"/>
                    </a:lnTo>
                    <a:lnTo>
                      <a:pt x="548" y="584"/>
                    </a:lnTo>
                    <a:lnTo>
                      <a:pt x="545" y="599"/>
                    </a:lnTo>
                    <a:lnTo>
                      <a:pt x="543" y="584"/>
                    </a:lnTo>
                    <a:lnTo>
                      <a:pt x="543" y="570"/>
                    </a:lnTo>
                    <a:lnTo>
                      <a:pt x="541" y="559"/>
                    </a:lnTo>
                    <a:lnTo>
                      <a:pt x="539" y="547"/>
                    </a:lnTo>
                    <a:lnTo>
                      <a:pt x="535" y="534"/>
                    </a:lnTo>
                    <a:lnTo>
                      <a:pt x="531" y="522"/>
                    </a:lnTo>
                    <a:lnTo>
                      <a:pt x="525" y="510"/>
                    </a:lnTo>
                    <a:lnTo>
                      <a:pt x="521" y="501"/>
                    </a:lnTo>
                    <a:lnTo>
                      <a:pt x="513" y="489"/>
                    </a:lnTo>
                    <a:lnTo>
                      <a:pt x="508" y="477"/>
                    </a:lnTo>
                    <a:lnTo>
                      <a:pt x="500" y="468"/>
                    </a:lnTo>
                    <a:lnTo>
                      <a:pt x="494" y="458"/>
                    </a:lnTo>
                    <a:lnTo>
                      <a:pt x="477" y="440"/>
                    </a:lnTo>
                    <a:lnTo>
                      <a:pt x="459" y="423"/>
                    </a:lnTo>
                    <a:lnTo>
                      <a:pt x="446" y="421"/>
                    </a:lnTo>
                    <a:lnTo>
                      <a:pt x="434" y="423"/>
                    </a:lnTo>
                    <a:lnTo>
                      <a:pt x="422" y="427"/>
                    </a:lnTo>
                    <a:lnTo>
                      <a:pt x="417" y="438"/>
                    </a:lnTo>
                    <a:lnTo>
                      <a:pt x="420" y="450"/>
                    </a:lnTo>
                    <a:lnTo>
                      <a:pt x="426" y="466"/>
                    </a:lnTo>
                    <a:lnTo>
                      <a:pt x="432" y="479"/>
                    </a:lnTo>
                    <a:lnTo>
                      <a:pt x="438" y="495"/>
                    </a:lnTo>
                    <a:lnTo>
                      <a:pt x="444" y="508"/>
                    </a:lnTo>
                    <a:lnTo>
                      <a:pt x="450" y="526"/>
                    </a:lnTo>
                    <a:lnTo>
                      <a:pt x="455" y="539"/>
                    </a:lnTo>
                    <a:lnTo>
                      <a:pt x="463" y="557"/>
                    </a:lnTo>
                    <a:lnTo>
                      <a:pt x="465" y="572"/>
                    </a:lnTo>
                    <a:lnTo>
                      <a:pt x="469" y="588"/>
                    </a:lnTo>
                    <a:lnTo>
                      <a:pt x="469" y="603"/>
                    </a:lnTo>
                    <a:lnTo>
                      <a:pt x="471" y="621"/>
                    </a:lnTo>
                    <a:lnTo>
                      <a:pt x="469" y="636"/>
                    </a:lnTo>
                    <a:lnTo>
                      <a:pt x="467" y="652"/>
                    </a:lnTo>
                    <a:lnTo>
                      <a:pt x="461" y="669"/>
                    </a:lnTo>
                    <a:lnTo>
                      <a:pt x="457" y="687"/>
                    </a:lnTo>
                    <a:lnTo>
                      <a:pt x="446" y="683"/>
                    </a:lnTo>
                    <a:lnTo>
                      <a:pt x="440" y="687"/>
                    </a:lnTo>
                    <a:lnTo>
                      <a:pt x="434" y="693"/>
                    </a:lnTo>
                    <a:lnTo>
                      <a:pt x="430" y="698"/>
                    </a:lnTo>
                    <a:lnTo>
                      <a:pt x="428" y="727"/>
                    </a:lnTo>
                    <a:lnTo>
                      <a:pt x="399" y="727"/>
                    </a:lnTo>
                    <a:lnTo>
                      <a:pt x="395" y="710"/>
                    </a:lnTo>
                    <a:lnTo>
                      <a:pt x="393" y="693"/>
                    </a:lnTo>
                    <a:lnTo>
                      <a:pt x="389" y="675"/>
                    </a:lnTo>
                    <a:lnTo>
                      <a:pt x="387" y="660"/>
                    </a:lnTo>
                    <a:lnTo>
                      <a:pt x="384" y="642"/>
                    </a:lnTo>
                    <a:lnTo>
                      <a:pt x="380" y="625"/>
                    </a:lnTo>
                    <a:lnTo>
                      <a:pt x="376" y="609"/>
                    </a:lnTo>
                    <a:lnTo>
                      <a:pt x="372" y="594"/>
                    </a:lnTo>
                    <a:lnTo>
                      <a:pt x="364" y="576"/>
                    </a:lnTo>
                    <a:lnTo>
                      <a:pt x="358" y="563"/>
                    </a:lnTo>
                    <a:lnTo>
                      <a:pt x="351" y="547"/>
                    </a:lnTo>
                    <a:lnTo>
                      <a:pt x="343" y="534"/>
                    </a:lnTo>
                    <a:lnTo>
                      <a:pt x="333" y="518"/>
                    </a:lnTo>
                    <a:lnTo>
                      <a:pt x="323" y="504"/>
                    </a:lnTo>
                    <a:lnTo>
                      <a:pt x="310" y="491"/>
                    </a:lnTo>
                    <a:lnTo>
                      <a:pt x="298" y="479"/>
                    </a:lnTo>
                    <a:lnTo>
                      <a:pt x="287" y="471"/>
                    </a:lnTo>
                    <a:lnTo>
                      <a:pt x="277" y="466"/>
                    </a:lnTo>
                    <a:lnTo>
                      <a:pt x="263" y="464"/>
                    </a:lnTo>
                    <a:lnTo>
                      <a:pt x="252" y="464"/>
                    </a:lnTo>
                    <a:lnTo>
                      <a:pt x="236" y="464"/>
                    </a:lnTo>
                    <a:lnTo>
                      <a:pt x="225" y="466"/>
                    </a:lnTo>
                    <a:lnTo>
                      <a:pt x="211" y="466"/>
                    </a:lnTo>
                    <a:lnTo>
                      <a:pt x="199" y="468"/>
                    </a:lnTo>
                    <a:lnTo>
                      <a:pt x="182" y="481"/>
                    </a:lnTo>
                    <a:lnTo>
                      <a:pt x="172" y="499"/>
                    </a:lnTo>
                    <a:lnTo>
                      <a:pt x="166" y="516"/>
                    </a:lnTo>
                    <a:lnTo>
                      <a:pt x="166" y="537"/>
                    </a:lnTo>
                    <a:lnTo>
                      <a:pt x="166" y="547"/>
                    </a:lnTo>
                    <a:lnTo>
                      <a:pt x="166" y="559"/>
                    </a:lnTo>
                    <a:lnTo>
                      <a:pt x="168" y="568"/>
                    </a:lnTo>
                    <a:lnTo>
                      <a:pt x="170" y="580"/>
                    </a:lnTo>
                    <a:lnTo>
                      <a:pt x="168" y="590"/>
                    </a:lnTo>
                    <a:lnTo>
                      <a:pt x="168" y="601"/>
                    </a:lnTo>
                    <a:lnTo>
                      <a:pt x="168" y="613"/>
                    </a:lnTo>
                    <a:lnTo>
                      <a:pt x="168" y="625"/>
                    </a:lnTo>
                    <a:lnTo>
                      <a:pt x="126" y="623"/>
                    </a:lnTo>
                    <a:lnTo>
                      <a:pt x="126" y="605"/>
                    </a:lnTo>
                    <a:lnTo>
                      <a:pt x="130" y="588"/>
                    </a:lnTo>
                    <a:lnTo>
                      <a:pt x="130" y="570"/>
                    </a:lnTo>
                    <a:lnTo>
                      <a:pt x="133" y="553"/>
                    </a:lnTo>
                    <a:lnTo>
                      <a:pt x="133" y="535"/>
                    </a:lnTo>
                    <a:lnTo>
                      <a:pt x="137" y="518"/>
                    </a:lnTo>
                    <a:lnTo>
                      <a:pt x="137" y="502"/>
                    </a:lnTo>
                    <a:lnTo>
                      <a:pt x="141" y="487"/>
                    </a:lnTo>
                    <a:lnTo>
                      <a:pt x="141" y="470"/>
                    </a:lnTo>
                    <a:lnTo>
                      <a:pt x="141" y="452"/>
                    </a:lnTo>
                    <a:lnTo>
                      <a:pt x="141" y="437"/>
                    </a:lnTo>
                    <a:lnTo>
                      <a:pt x="141" y="421"/>
                    </a:lnTo>
                    <a:lnTo>
                      <a:pt x="139" y="404"/>
                    </a:lnTo>
                    <a:lnTo>
                      <a:pt x="139" y="388"/>
                    </a:lnTo>
                    <a:lnTo>
                      <a:pt x="137" y="373"/>
                    </a:lnTo>
                    <a:lnTo>
                      <a:pt x="137" y="359"/>
                    </a:lnTo>
                    <a:lnTo>
                      <a:pt x="133" y="342"/>
                    </a:lnTo>
                    <a:lnTo>
                      <a:pt x="130" y="326"/>
                    </a:lnTo>
                    <a:lnTo>
                      <a:pt x="126" y="311"/>
                    </a:lnTo>
                    <a:lnTo>
                      <a:pt x="122" y="297"/>
                    </a:lnTo>
                    <a:lnTo>
                      <a:pt x="116" y="281"/>
                    </a:lnTo>
                    <a:lnTo>
                      <a:pt x="110" y="268"/>
                    </a:lnTo>
                    <a:lnTo>
                      <a:pt x="102" y="252"/>
                    </a:lnTo>
                    <a:lnTo>
                      <a:pt x="97" y="239"/>
                    </a:lnTo>
                    <a:lnTo>
                      <a:pt x="87" y="223"/>
                    </a:lnTo>
                    <a:lnTo>
                      <a:pt x="77" y="210"/>
                    </a:lnTo>
                    <a:lnTo>
                      <a:pt x="66" y="194"/>
                    </a:lnTo>
                    <a:lnTo>
                      <a:pt x="54" y="183"/>
                    </a:lnTo>
                    <a:lnTo>
                      <a:pt x="40" y="169"/>
                    </a:lnTo>
                    <a:lnTo>
                      <a:pt x="29" y="155"/>
                    </a:lnTo>
                    <a:lnTo>
                      <a:pt x="13" y="142"/>
                    </a:lnTo>
                    <a:lnTo>
                      <a:pt x="0" y="130"/>
                    </a:lnTo>
                    <a:lnTo>
                      <a:pt x="15" y="122"/>
                    </a:lnTo>
                    <a:lnTo>
                      <a:pt x="33" y="115"/>
                    </a:lnTo>
                    <a:lnTo>
                      <a:pt x="50" y="105"/>
                    </a:lnTo>
                    <a:lnTo>
                      <a:pt x="68" y="95"/>
                    </a:lnTo>
                    <a:lnTo>
                      <a:pt x="83" y="84"/>
                    </a:lnTo>
                    <a:lnTo>
                      <a:pt x="101" y="72"/>
                    </a:lnTo>
                    <a:lnTo>
                      <a:pt x="118" y="60"/>
                    </a:lnTo>
                    <a:lnTo>
                      <a:pt x="135" y="49"/>
                    </a:lnTo>
                    <a:lnTo>
                      <a:pt x="151" y="37"/>
                    </a:lnTo>
                    <a:lnTo>
                      <a:pt x="168" y="25"/>
                    </a:lnTo>
                    <a:lnTo>
                      <a:pt x="184" y="16"/>
                    </a:lnTo>
                    <a:lnTo>
                      <a:pt x="201" y="10"/>
                    </a:lnTo>
                    <a:lnTo>
                      <a:pt x="219" y="4"/>
                    </a:lnTo>
                    <a:lnTo>
                      <a:pt x="236" y="0"/>
                    </a:lnTo>
                    <a:lnTo>
                      <a:pt x="256" y="0"/>
                    </a:lnTo>
                    <a:lnTo>
                      <a:pt x="275" y="2"/>
                    </a:lnTo>
                    <a:close/>
                  </a:path>
                </a:pathLst>
              </a:custGeom>
              <a:solidFill>
                <a:srgbClr val="a4a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44320" y="4393800"/>
                <a:ext cx="225360" cy="226800"/>
              </a:xfrm>
              <a:custGeom>
                <a:avLst/>
                <a:gdLst/>
                <a:ahLst/>
                <a:rect l="l" t="t" r="r" b="b"/>
                <a:pathLst>
                  <a:path w="370" h="370">
                    <a:moveTo>
                      <a:pt x="370" y="186"/>
                    </a:moveTo>
                    <a:lnTo>
                      <a:pt x="368" y="167"/>
                    </a:lnTo>
                    <a:lnTo>
                      <a:pt x="365" y="147"/>
                    </a:lnTo>
                    <a:lnTo>
                      <a:pt x="359" y="130"/>
                    </a:lnTo>
                    <a:lnTo>
                      <a:pt x="355" y="114"/>
                    </a:lnTo>
                    <a:lnTo>
                      <a:pt x="345" y="97"/>
                    </a:lnTo>
                    <a:lnTo>
                      <a:pt x="337" y="81"/>
                    </a:lnTo>
                    <a:lnTo>
                      <a:pt x="326" y="66"/>
                    </a:lnTo>
                    <a:lnTo>
                      <a:pt x="316" y="54"/>
                    </a:lnTo>
                    <a:lnTo>
                      <a:pt x="301" y="40"/>
                    </a:lnTo>
                    <a:lnTo>
                      <a:pt x="287" y="31"/>
                    </a:lnTo>
                    <a:lnTo>
                      <a:pt x="271" y="19"/>
                    </a:lnTo>
                    <a:lnTo>
                      <a:pt x="256" y="13"/>
                    </a:lnTo>
                    <a:lnTo>
                      <a:pt x="239" y="6"/>
                    </a:lnTo>
                    <a:lnTo>
                      <a:pt x="221" y="2"/>
                    </a:lnTo>
                    <a:lnTo>
                      <a:pt x="204" y="0"/>
                    </a:lnTo>
                    <a:lnTo>
                      <a:pt x="186" y="0"/>
                    </a:lnTo>
                    <a:lnTo>
                      <a:pt x="167" y="0"/>
                    </a:lnTo>
                    <a:lnTo>
                      <a:pt x="147" y="2"/>
                    </a:lnTo>
                    <a:lnTo>
                      <a:pt x="130" y="6"/>
                    </a:lnTo>
                    <a:lnTo>
                      <a:pt x="114" y="13"/>
                    </a:lnTo>
                    <a:lnTo>
                      <a:pt x="97" y="19"/>
                    </a:lnTo>
                    <a:lnTo>
                      <a:pt x="81" y="29"/>
                    </a:lnTo>
                    <a:lnTo>
                      <a:pt x="66" y="39"/>
                    </a:lnTo>
                    <a:lnTo>
                      <a:pt x="54" y="52"/>
                    </a:lnTo>
                    <a:lnTo>
                      <a:pt x="41" y="64"/>
                    </a:lnTo>
                    <a:lnTo>
                      <a:pt x="31" y="77"/>
                    </a:lnTo>
                    <a:lnTo>
                      <a:pt x="19" y="93"/>
                    </a:lnTo>
                    <a:lnTo>
                      <a:pt x="14" y="110"/>
                    </a:lnTo>
                    <a:lnTo>
                      <a:pt x="6" y="126"/>
                    </a:lnTo>
                    <a:lnTo>
                      <a:pt x="2" y="143"/>
                    </a:lnTo>
                    <a:lnTo>
                      <a:pt x="0" y="163"/>
                    </a:lnTo>
                    <a:lnTo>
                      <a:pt x="0" y="184"/>
                    </a:lnTo>
                    <a:lnTo>
                      <a:pt x="0" y="201"/>
                    </a:lnTo>
                    <a:lnTo>
                      <a:pt x="2" y="219"/>
                    </a:lnTo>
                    <a:lnTo>
                      <a:pt x="6" y="236"/>
                    </a:lnTo>
                    <a:lnTo>
                      <a:pt x="14" y="254"/>
                    </a:lnTo>
                    <a:lnTo>
                      <a:pt x="19" y="269"/>
                    </a:lnTo>
                    <a:lnTo>
                      <a:pt x="29" y="285"/>
                    </a:lnTo>
                    <a:lnTo>
                      <a:pt x="39" y="298"/>
                    </a:lnTo>
                    <a:lnTo>
                      <a:pt x="52" y="314"/>
                    </a:lnTo>
                    <a:lnTo>
                      <a:pt x="64" y="324"/>
                    </a:lnTo>
                    <a:lnTo>
                      <a:pt x="78" y="335"/>
                    </a:lnTo>
                    <a:lnTo>
                      <a:pt x="93" y="343"/>
                    </a:lnTo>
                    <a:lnTo>
                      <a:pt x="111" y="353"/>
                    </a:lnTo>
                    <a:lnTo>
                      <a:pt x="126" y="358"/>
                    </a:lnTo>
                    <a:lnTo>
                      <a:pt x="144" y="364"/>
                    </a:lnTo>
                    <a:lnTo>
                      <a:pt x="163" y="366"/>
                    </a:lnTo>
                    <a:lnTo>
                      <a:pt x="184" y="370"/>
                    </a:lnTo>
                    <a:lnTo>
                      <a:pt x="202" y="368"/>
                    </a:lnTo>
                    <a:lnTo>
                      <a:pt x="219" y="364"/>
                    </a:lnTo>
                    <a:lnTo>
                      <a:pt x="237" y="358"/>
                    </a:lnTo>
                    <a:lnTo>
                      <a:pt x="254" y="355"/>
                    </a:lnTo>
                    <a:lnTo>
                      <a:pt x="270" y="345"/>
                    </a:lnTo>
                    <a:lnTo>
                      <a:pt x="285" y="337"/>
                    </a:lnTo>
                    <a:lnTo>
                      <a:pt x="299" y="326"/>
                    </a:lnTo>
                    <a:lnTo>
                      <a:pt x="314" y="316"/>
                    </a:lnTo>
                    <a:lnTo>
                      <a:pt x="324" y="300"/>
                    </a:lnTo>
                    <a:lnTo>
                      <a:pt x="335" y="287"/>
                    </a:lnTo>
                    <a:lnTo>
                      <a:pt x="343" y="271"/>
                    </a:lnTo>
                    <a:lnTo>
                      <a:pt x="353" y="256"/>
                    </a:lnTo>
                    <a:lnTo>
                      <a:pt x="359" y="238"/>
                    </a:lnTo>
                    <a:lnTo>
                      <a:pt x="365" y="221"/>
                    </a:lnTo>
                    <a:lnTo>
                      <a:pt x="366" y="203"/>
                    </a:lnTo>
                    <a:lnTo>
                      <a:pt x="370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92280" y="4182840"/>
                <a:ext cx="143640" cy="143640"/>
              </a:xfrm>
              <a:custGeom>
                <a:avLst/>
                <a:gdLst/>
                <a:ahLst/>
                <a:rect l="l" t="t" r="r" b="b"/>
                <a:pathLst>
                  <a:path w="237" h="236">
                    <a:moveTo>
                      <a:pt x="237" y="120"/>
                    </a:moveTo>
                    <a:lnTo>
                      <a:pt x="235" y="106"/>
                    </a:lnTo>
                    <a:lnTo>
                      <a:pt x="233" y="95"/>
                    </a:lnTo>
                    <a:lnTo>
                      <a:pt x="229" y="83"/>
                    </a:lnTo>
                    <a:lnTo>
                      <a:pt x="227" y="71"/>
                    </a:lnTo>
                    <a:lnTo>
                      <a:pt x="216" y="50"/>
                    </a:lnTo>
                    <a:lnTo>
                      <a:pt x="202" y="35"/>
                    </a:lnTo>
                    <a:lnTo>
                      <a:pt x="192" y="25"/>
                    </a:lnTo>
                    <a:lnTo>
                      <a:pt x="183" y="19"/>
                    </a:lnTo>
                    <a:lnTo>
                      <a:pt x="173" y="13"/>
                    </a:lnTo>
                    <a:lnTo>
                      <a:pt x="163" y="7"/>
                    </a:lnTo>
                    <a:lnTo>
                      <a:pt x="152" y="2"/>
                    </a:lnTo>
                    <a:lnTo>
                      <a:pt x="142" y="0"/>
                    </a:lnTo>
                    <a:lnTo>
                      <a:pt x="130" y="0"/>
                    </a:lnTo>
                    <a:lnTo>
                      <a:pt x="121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4" y="2"/>
                    </a:lnTo>
                    <a:lnTo>
                      <a:pt x="72" y="7"/>
                    </a:lnTo>
                    <a:lnTo>
                      <a:pt x="51" y="17"/>
                    </a:lnTo>
                    <a:lnTo>
                      <a:pt x="35" y="33"/>
                    </a:lnTo>
                    <a:lnTo>
                      <a:pt x="20" y="48"/>
                    </a:lnTo>
                    <a:lnTo>
                      <a:pt x="8" y="69"/>
                    </a:lnTo>
                    <a:lnTo>
                      <a:pt x="2" y="81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8" y="163"/>
                    </a:lnTo>
                    <a:lnTo>
                      <a:pt x="12" y="172"/>
                    </a:lnTo>
                    <a:lnTo>
                      <a:pt x="18" y="182"/>
                    </a:lnTo>
                    <a:lnTo>
                      <a:pt x="24" y="192"/>
                    </a:lnTo>
                    <a:lnTo>
                      <a:pt x="33" y="201"/>
                    </a:lnTo>
                    <a:lnTo>
                      <a:pt x="49" y="215"/>
                    </a:lnTo>
                    <a:lnTo>
                      <a:pt x="70" y="227"/>
                    </a:lnTo>
                    <a:lnTo>
                      <a:pt x="82" y="228"/>
                    </a:lnTo>
                    <a:lnTo>
                      <a:pt x="93" y="232"/>
                    </a:lnTo>
                    <a:lnTo>
                      <a:pt x="105" y="234"/>
                    </a:lnTo>
                    <a:lnTo>
                      <a:pt x="119" y="236"/>
                    </a:lnTo>
                    <a:lnTo>
                      <a:pt x="128" y="234"/>
                    </a:lnTo>
                    <a:lnTo>
                      <a:pt x="140" y="232"/>
                    </a:lnTo>
                    <a:lnTo>
                      <a:pt x="152" y="228"/>
                    </a:lnTo>
                    <a:lnTo>
                      <a:pt x="163" y="227"/>
                    </a:lnTo>
                    <a:lnTo>
                      <a:pt x="173" y="221"/>
                    </a:lnTo>
                    <a:lnTo>
                      <a:pt x="183" y="215"/>
                    </a:lnTo>
                    <a:lnTo>
                      <a:pt x="192" y="207"/>
                    </a:lnTo>
                    <a:lnTo>
                      <a:pt x="202" y="201"/>
                    </a:lnTo>
                    <a:lnTo>
                      <a:pt x="208" y="192"/>
                    </a:lnTo>
                    <a:lnTo>
                      <a:pt x="216" y="182"/>
                    </a:lnTo>
                    <a:lnTo>
                      <a:pt x="221" y="172"/>
                    </a:lnTo>
                    <a:lnTo>
                      <a:pt x="227" y="163"/>
                    </a:lnTo>
                    <a:lnTo>
                      <a:pt x="229" y="151"/>
                    </a:lnTo>
                    <a:lnTo>
                      <a:pt x="233" y="141"/>
                    </a:lnTo>
                    <a:lnTo>
                      <a:pt x="235" y="130"/>
                    </a:lnTo>
                    <a:lnTo>
                      <a:pt x="237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533480" y="4204800"/>
                <a:ext cx="325440" cy="325440"/>
              </a:xfrm>
              <a:custGeom>
                <a:avLst/>
                <a:gdLst/>
                <a:ahLst/>
                <a:rect l="l" t="t" r="r" b="b"/>
                <a:pathLst>
                  <a:path w="533" h="533">
                    <a:moveTo>
                      <a:pt x="533" y="269"/>
                    </a:moveTo>
                    <a:lnTo>
                      <a:pt x="531" y="254"/>
                    </a:lnTo>
                    <a:lnTo>
                      <a:pt x="531" y="240"/>
                    </a:lnTo>
                    <a:lnTo>
                      <a:pt x="529" y="226"/>
                    </a:lnTo>
                    <a:lnTo>
                      <a:pt x="527" y="213"/>
                    </a:lnTo>
                    <a:lnTo>
                      <a:pt x="523" y="199"/>
                    </a:lnTo>
                    <a:lnTo>
                      <a:pt x="520" y="188"/>
                    </a:lnTo>
                    <a:lnTo>
                      <a:pt x="516" y="176"/>
                    </a:lnTo>
                    <a:lnTo>
                      <a:pt x="512" y="164"/>
                    </a:lnTo>
                    <a:lnTo>
                      <a:pt x="504" y="151"/>
                    </a:lnTo>
                    <a:lnTo>
                      <a:pt x="498" y="139"/>
                    </a:lnTo>
                    <a:lnTo>
                      <a:pt x="492" y="127"/>
                    </a:lnTo>
                    <a:lnTo>
                      <a:pt x="487" y="118"/>
                    </a:lnTo>
                    <a:lnTo>
                      <a:pt x="479" y="106"/>
                    </a:lnTo>
                    <a:lnTo>
                      <a:pt x="471" y="96"/>
                    </a:lnTo>
                    <a:lnTo>
                      <a:pt x="463" y="87"/>
                    </a:lnTo>
                    <a:lnTo>
                      <a:pt x="456" y="79"/>
                    </a:lnTo>
                    <a:lnTo>
                      <a:pt x="436" y="60"/>
                    </a:lnTo>
                    <a:lnTo>
                      <a:pt x="417" y="44"/>
                    </a:lnTo>
                    <a:lnTo>
                      <a:pt x="405" y="36"/>
                    </a:lnTo>
                    <a:lnTo>
                      <a:pt x="393" y="31"/>
                    </a:lnTo>
                    <a:lnTo>
                      <a:pt x="382" y="25"/>
                    </a:lnTo>
                    <a:lnTo>
                      <a:pt x="372" y="21"/>
                    </a:lnTo>
                    <a:lnTo>
                      <a:pt x="359" y="15"/>
                    </a:lnTo>
                    <a:lnTo>
                      <a:pt x="347" y="9"/>
                    </a:lnTo>
                    <a:lnTo>
                      <a:pt x="333" y="5"/>
                    </a:lnTo>
                    <a:lnTo>
                      <a:pt x="322" y="3"/>
                    </a:lnTo>
                    <a:lnTo>
                      <a:pt x="308" y="1"/>
                    </a:lnTo>
                    <a:lnTo>
                      <a:pt x="295" y="0"/>
                    </a:lnTo>
                    <a:lnTo>
                      <a:pt x="281" y="0"/>
                    </a:lnTo>
                    <a:lnTo>
                      <a:pt x="269" y="0"/>
                    </a:lnTo>
                    <a:lnTo>
                      <a:pt x="254" y="0"/>
                    </a:lnTo>
                    <a:lnTo>
                      <a:pt x="240" y="0"/>
                    </a:lnTo>
                    <a:lnTo>
                      <a:pt x="227" y="0"/>
                    </a:lnTo>
                    <a:lnTo>
                      <a:pt x="213" y="3"/>
                    </a:lnTo>
                    <a:lnTo>
                      <a:pt x="200" y="5"/>
                    </a:lnTo>
                    <a:lnTo>
                      <a:pt x="188" y="9"/>
                    </a:lnTo>
                    <a:lnTo>
                      <a:pt x="176" y="13"/>
                    </a:lnTo>
                    <a:lnTo>
                      <a:pt x="165" y="19"/>
                    </a:lnTo>
                    <a:lnTo>
                      <a:pt x="151" y="23"/>
                    </a:lnTo>
                    <a:lnTo>
                      <a:pt x="140" y="29"/>
                    </a:lnTo>
                    <a:lnTo>
                      <a:pt x="128" y="34"/>
                    </a:lnTo>
                    <a:lnTo>
                      <a:pt x="118" y="42"/>
                    </a:lnTo>
                    <a:lnTo>
                      <a:pt x="107" y="48"/>
                    </a:lnTo>
                    <a:lnTo>
                      <a:pt x="97" y="58"/>
                    </a:lnTo>
                    <a:lnTo>
                      <a:pt x="87" y="65"/>
                    </a:lnTo>
                    <a:lnTo>
                      <a:pt x="79" y="77"/>
                    </a:lnTo>
                    <a:lnTo>
                      <a:pt x="60" y="95"/>
                    </a:lnTo>
                    <a:lnTo>
                      <a:pt x="45" y="114"/>
                    </a:lnTo>
                    <a:lnTo>
                      <a:pt x="37" y="124"/>
                    </a:lnTo>
                    <a:lnTo>
                      <a:pt x="31" y="135"/>
                    </a:lnTo>
                    <a:lnTo>
                      <a:pt x="25" y="147"/>
                    </a:lnTo>
                    <a:lnTo>
                      <a:pt x="21" y="160"/>
                    </a:lnTo>
                    <a:lnTo>
                      <a:pt x="15" y="172"/>
                    </a:lnTo>
                    <a:lnTo>
                      <a:pt x="10" y="184"/>
                    </a:lnTo>
                    <a:lnTo>
                      <a:pt x="6" y="195"/>
                    </a:lnTo>
                    <a:lnTo>
                      <a:pt x="4" y="209"/>
                    </a:lnTo>
                    <a:lnTo>
                      <a:pt x="2" y="223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5"/>
                    </a:lnTo>
                    <a:lnTo>
                      <a:pt x="0" y="277"/>
                    </a:lnTo>
                    <a:lnTo>
                      <a:pt x="0" y="290"/>
                    </a:lnTo>
                    <a:lnTo>
                      <a:pt x="0" y="304"/>
                    </a:lnTo>
                    <a:lnTo>
                      <a:pt x="4" y="318"/>
                    </a:lnTo>
                    <a:lnTo>
                      <a:pt x="6" y="329"/>
                    </a:lnTo>
                    <a:lnTo>
                      <a:pt x="10" y="343"/>
                    </a:lnTo>
                    <a:lnTo>
                      <a:pt x="13" y="354"/>
                    </a:lnTo>
                    <a:lnTo>
                      <a:pt x="19" y="368"/>
                    </a:lnTo>
                    <a:lnTo>
                      <a:pt x="23" y="378"/>
                    </a:lnTo>
                    <a:lnTo>
                      <a:pt x="29" y="389"/>
                    </a:lnTo>
                    <a:lnTo>
                      <a:pt x="35" y="401"/>
                    </a:lnTo>
                    <a:lnTo>
                      <a:pt x="43" y="413"/>
                    </a:lnTo>
                    <a:lnTo>
                      <a:pt x="58" y="432"/>
                    </a:lnTo>
                    <a:lnTo>
                      <a:pt x="77" y="453"/>
                    </a:lnTo>
                    <a:lnTo>
                      <a:pt x="95" y="469"/>
                    </a:lnTo>
                    <a:lnTo>
                      <a:pt x="114" y="484"/>
                    </a:lnTo>
                    <a:lnTo>
                      <a:pt x="124" y="490"/>
                    </a:lnTo>
                    <a:lnTo>
                      <a:pt x="136" y="496"/>
                    </a:lnTo>
                    <a:lnTo>
                      <a:pt x="147" y="502"/>
                    </a:lnTo>
                    <a:lnTo>
                      <a:pt x="161" y="509"/>
                    </a:lnTo>
                    <a:lnTo>
                      <a:pt x="172" y="513"/>
                    </a:lnTo>
                    <a:lnTo>
                      <a:pt x="184" y="517"/>
                    </a:lnTo>
                    <a:lnTo>
                      <a:pt x="196" y="521"/>
                    </a:lnTo>
                    <a:lnTo>
                      <a:pt x="209" y="525"/>
                    </a:lnTo>
                    <a:lnTo>
                      <a:pt x="223" y="527"/>
                    </a:lnTo>
                    <a:lnTo>
                      <a:pt x="236" y="529"/>
                    </a:lnTo>
                    <a:lnTo>
                      <a:pt x="250" y="531"/>
                    </a:lnTo>
                    <a:lnTo>
                      <a:pt x="266" y="533"/>
                    </a:lnTo>
                    <a:lnTo>
                      <a:pt x="277" y="531"/>
                    </a:lnTo>
                    <a:lnTo>
                      <a:pt x="291" y="531"/>
                    </a:lnTo>
                    <a:lnTo>
                      <a:pt x="304" y="529"/>
                    </a:lnTo>
                    <a:lnTo>
                      <a:pt x="318" y="527"/>
                    </a:lnTo>
                    <a:lnTo>
                      <a:pt x="330" y="523"/>
                    </a:lnTo>
                    <a:lnTo>
                      <a:pt x="343" y="519"/>
                    </a:lnTo>
                    <a:lnTo>
                      <a:pt x="355" y="515"/>
                    </a:lnTo>
                    <a:lnTo>
                      <a:pt x="368" y="511"/>
                    </a:lnTo>
                    <a:lnTo>
                      <a:pt x="378" y="504"/>
                    </a:lnTo>
                    <a:lnTo>
                      <a:pt x="390" y="498"/>
                    </a:lnTo>
                    <a:lnTo>
                      <a:pt x="401" y="492"/>
                    </a:lnTo>
                    <a:lnTo>
                      <a:pt x="413" y="486"/>
                    </a:lnTo>
                    <a:lnTo>
                      <a:pt x="432" y="471"/>
                    </a:lnTo>
                    <a:lnTo>
                      <a:pt x="454" y="455"/>
                    </a:lnTo>
                    <a:lnTo>
                      <a:pt x="469" y="436"/>
                    </a:lnTo>
                    <a:lnTo>
                      <a:pt x="485" y="416"/>
                    </a:lnTo>
                    <a:lnTo>
                      <a:pt x="490" y="405"/>
                    </a:lnTo>
                    <a:lnTo>
                      <a:pt x="496" y="393"/>
                    </a:lnTo>
                    <a:lnTo>
                      <a:pt x="502" y="382"/>
                    </a:lnTo>
                    <a:lnTo>
                      <a:pt x="510" y="372"/>
                    </a:lnTo>
                    <a:lnTo>
                      <a:pt x="514" y="358"/>
                    </a:lnTo>
                    <a:lnTo>
                      <a:pt x="518" y="347"/>
                    </a:lnTo>
                    <a:lnTo>
                      <a:pt x="521" y="333"/>
                    </a:lnTo>
                    <a:lnTo>
                      <a:pt x="525" y="321"/>
                    </a:lnTo>
                    <a:lnTo>
                      <a:pt x="527" y="308"/>
                    </a:lnTo>
                    <a:lnTo>
                      <a:pt x="529" y="294"/>
                    </a:lnTo>
                    <a:lnTo>
                      <a:pt x="531" y="281"/>
                    </a:lnTo>
                    <a:lnTo>
                      <a:pt x="533" y="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81000" y="3148200"/>
                <a:ext cx="1045080" cy="188640"/>
              </a:xfrm>
              <a:custGeom>
                <a:avLst/>
                <a:gdLst/>
                <a:ahLst/>
                <a:rect l="l" t="t" r="r" b="b"/>
                <a:pathLst>
                  <a:path w="1714" h="310">
                    <a:moveTo>
                      <a:pt x="0" y="262"/>
                    </a:moveTo>
                    <a:lnTo>
                      <a:pt x="0" y="258"/>
                    </a:lnTo>
                    <a:lnTo>
                      <a:pt x="4" y="250"/>
                    </a:lnTo>
                    <a:lnTo>
                      <a:pt x="10" y="239"/>
                    </a:lnTo>
                    <a:lnTo>
                      <a:pt x="23" y="225"/>
                    </a:lnTo>
                    <a:lnTo>
                      <a:pt x="37" y="206"/>
                    </a:lnTo>
                    <a:lnTo>
                      <a:pt x="54" y="186"/>
                    </a:lnTo>
                    <a:lnTo>
                      <a:pt x="64" y="175"/>
                    </a:lnTo>
                    <a:lnTo>
                      <a:pt x="76" y="165"/>
                    </a:lnTo>
                    <a:lnTo>
                      <a:pt x="89" y="153"/>
                    </a:lnTo>
                    <a:lnTo>
                      <a:pt x="105" y="144"/>
                    </a:lnTo>
                    <a:lnTo>
                      <a:pt x="116" y="132"/>
                    </a:lnTo>
                    <a:lnTo>
                      <a:pt x="134" y="120"/>
                    </a:lnTo>
                    <a:lnTo>
                      <a:pt x="149" y="109"/>
                    </a:lnTo>
                    <a:lnTo>
                      <a:pt x="169" y="97"/>
                    </a:lnTo>
                    <a:lnTo>
                      <a:pt x="186" y="85"/>
                    </a:lnTo>
                    <a:lnTo>
                      <a:pt x="206" y="74"/>
                    </a:lnTo>
                    <a:lnTo>
                      <a:pt x="215" y="68"/>
                    </a:lnTo>
                    <a:lnTo>
                      <a:pt x="227" y="64"/>
                    </a:lnTo>
                    <a:lnTo>
                      <a:pt x="239" y="60"/>
                    </a:lnTo>
                    <a:lnTo>
                      <a:pt x="250" y="56"/>
                    </a:lnTo>
                    <a:lnTo>
                      <a:pt x="262" y="50"/>
                    </a:lnTo>
                    <a:lnTo>
                      <a:pt x="273" y="45"/>
                    </a:lnTo>
                    <a:lnTo>
                      <a:pt x="285" y="41"/>
                    </a:lnTo>
                    <a:lnTo>
                      <a:pt x="299" y="37"/>
                    </a:lnTo>
                    <a:lnTo>
                      <a:pt x="310" y="31"/>
                    </a:lnTo>
                    <a:lnTo>
                      <a:pt x="324" y="29"/>
                    </a:lnTo>
                    <a:lnTo>
                      <a:pt x="337" y="25"/>
                    </a:lnTo>
                    <a:lnTo>
                      <a:pt x="353" y="23"/>
                    </a:lnTo>
                    <a:lnTo>
                      <a:pt x="366" y="17"/>
                    </a:lnTo>
                    <a:lnTo>
                      <a:pt x="382" y="16"/>
                    </a:lnTo>
                    <a:lnTo>
                      <a:pt x="396" y="12"/>
                    </a:lnTo>
                    <a:lnTo>
                      <a:pt x="413" y="12"/>
                    </a:lnTo>
                    <a:lnTo>
                      <a:pt x="427" y="8"/>
                    </a:lnTo>
                    <a:lnTo>
                      <a:pt x="444" y="6"/>
                    </a:lnTo>
                    <a:lnTo>
                      <a:pt x="461" y="6"/>
                    </a:lnTo>
                    <a:lnTo>
                      <a:pt x="479" y="6"/>
                    </a:lnTo>
                    <a:lnTo>
                      <a:pt x="496" y="2"/>
                    </a:lnTo>
                    <a:lnTo>
                      <a:pt x="516" y="0"/>
                    </a:lnTo>
                    <a:lnTo>
                      <a:pt x="535" y="0"/>
                    </a:lnTo>
                    <a:lnTo>
                      <a:pt x="556" y="0"/>
                    </a:lnTo>
                    <a:lnTo>
                      <a:pt x="566" y="0"/>
                    </a:lnTo>
                    <a:lnTo>
                      <a:pt x="578" y="0"/>
                    </a:lnTo>
                    <a:lnTo>
                      <a:pt x="588" y="0"/>
                    </a:lnTo>
                    <a:lnTo>
                      <a:pt x="599" y="0"/>
                    </a:lnTo>
                    <a:lnTo>
                      <a:pt x="611" y="0"/>
                    </a:lnTo>
                    <a:lnTo>
                      <a:pt x="622" y="2"/>
                    </a:lnTo>
                    <a:lnTo>
                      <a:pt x="634" y="2"/>
                    </a:lnTo>
                    <a:lnTo>
                      <a:pt x="646" y="4"/>
                    </a:lnTo>
                    <a:lnTo>
                      <a:pt x="655" y="4"/>
                    </a:lnTo>
                    <a:lnTo>
                      <a:pt x="667" y="4"/>
                    </a:lnTo>
                    <a:lnTo>
                      <a:pt x="679" y="6"/>
                    </a:lnTo>
                    <a:lnTo>
                      <a:pt x="690" y="8"/>
                    </a:lnTo>
                    <a:lnTo>
                      <a:pt x="702" y="8"/>
                    </a:lnTo>
                    <a:lnTo>
                      <a:pt x="715" y="10"/>
                    </a:lnTo>
                    <a:lnTo>
                      <a:pt x="727" y="12"/>
                    </a:lnTo>
                    <a:lnTo>
                      <a:pt x="741" y="16"/>
                    </a:lnTo>
                    <a:lnTo>
                      <a:pt x="752" y="16"/>
                    </a:lnTo>
                    <a:lnTo>
                      <a:pt x="764" y="19"/>
                    </a:lnTo>
                    <a:lnTo>
                      <a:pt x="778" y="19"/>
                    </a:lnTo>
                    <a:lnTo>
                      <a:pt x="791" y="23"/>
                    </a:lnTo>
                    <a:lnTo>
                      <a:pt x="803" y="25"/>
                    </a:lnTo>
                    <a:lnTo>
                      <a:pt x="816" y="29"/>
                    </a:lnTo>
                    <a:lnTo>
                      <a:pt x="830" y="31"/>
                    </a:lnTo>
                    <a:lnTo>
                      <a:pt x="845" y="37"/>
                    </a:lnTo>
                    <a:lnTo>
                      <a:pt x="851" y="37"/>
                    </a:lnTo>
                    <a:lnTo>
                      <a:pt x="861" y="37"/>
                    </a:lnTo>
                    <a:lnTo>
                      <a:pt x="876" y="37"/>
                    </a:lnTo>
                    <a:lnTo>
                      <a:pt x="892" y="37"/>
                    </a:lnTo>
                    <a:lnTo>
                      <a:pt x="911" y="39"/>
                    </a:lnTo>
                    <a:lnTo>
                      <a:pt x="921" y="39"/>
                    </a:lnTo>
                    <a:lnTo>
                      <a:pt x="933" y="41"/>
                    </a:lnTo>
                    <a:lnTo>
                      <a:pt x="946" y="41"/>
                    </a:lnTo>
                    <a:lnTo>
                      <a:pt x="960" y="43"/>
                    </a:lnTo>
                    <a:lnTo>
                      <a:pt x="971" y="43"/>
                    </a:lnTo>
                    <a:lnTo>
                      <a:pt x="985" y="43"/>
                    </a:lnTo>
                    <a:lnTo>
                      <a:pt x="999" y="43"/>
                    </a:lnTo>
                    <a:lnTo>
                      <a:pt x="1016" y="45"/>
                    </a:lnTo>
                    <a:lnTo>
                      <a:pt x="1030" y="45"/>
                    </a:lnTo>
                    <a:lnTo>
                      <a:pt x="1045" y="45"/>
                    </a:lnTo>
                    <a:lnTo>
                      <a:pt x="1061" y="45"/>
                    </a:lnTo>
                    <a:lnTo>
                      <a:pt x="1078" y="47"/>
                    </a:lnTo>
                    <a:lnTo>
                      <a:pt x="1094" y="47"/>
                    </a:lnTo>
                    <a:lnTo>
                      <a:pt x="1111" y="47"/>
                    </a:lnTo>
                    <a:lnTo>
                      <a:pt x="1128" y="47"/>
                    </a:lnTo>
                    <a:lnTo>
                      <a:pt x="1146" y="48"/>
                    </a:lnTo>
                    <a:lnTo>
                      <a:pt x="1163" y="48"/>
                    </a:lnTo>
                    <a:lnTo>
                      <a:pt x="1183" y="50"/>
                    </a:lnTo>
                    <a:lnTo>
                      <a:pt x="1202" y="50"/>
                    </a:lnTo>
                    <a:lnTo>
                      <a:pt x="1221" y="52"/>
                    </a:lnTo>
                    <a:lnTo>
                      <a:pt x="1239" y="50"/>
                    </a:lnTo>
                    <a:lnTo>
                      <a:pt x="1256" y="50"/>
                    </a:lnTo>
                    <a:lnTo>
                      <a:pt x="1274" y="50"/>
                    </a:lnTo>
                    <a:lnTo>
                      <a:pt x="1293" y="50"/>
                    </a:lnTo>
                    <a:lnTo>
                      <a:pt x="1311" y="50"/>
                    </a:lnTo>
                    <a:lnTo>
                      <a:pt x="1330" y="50"/>
                    </a:lnTo>
                    <a:lnTo>
                      <a:pt x="1348" y="50"/>
                    </a:lnTo>
                    <a:lnTo>
                      <a:pt x="1367" y="50"/>
                    </a:lnTo>
                    <a:lnTo>
                      <a:pt x="1384" y="48"/>
                    </a:lnTo>
                    <a:lnTo>
                      <a:pt x="1402" y="48"/>
                    </a:lnTo>
                    <a:lnTo>
                      <a:pt x="1419" y="48"/>
                    </a:lnTo>
                    <a:lnTo>
                      <a:pt x="1437" y="48"/>
                    </a:lnTo>
                    <a:lnTo>
                      <a:pt x="1452" y="47"/>
                    </a:lnTo>
                    <a:lnTo>
                      <a:pt x="1470" y="47"/>
                    </a:lnTo>
                    <a:lnTo>
                      <a:pt x="1487" y="47"/>
                    </a:lnTo>
                    <a:lnTo>
                      <a:pt x="1505" y="47"/>
                    </a:lnTo>
                    <a:lnTo>
                      <a:pt x="1518" y="45"/>
                    </a:lnTo>
                    <a:lnTo>
                      <a:pt x="1534" y="43"/>
                    </a:lnTo>
                    <a:lnTo>
                      <a:pt x="1549" y="41"/>
                    </a:lnTo>
                    <a:lnTo>
                      <a:pt x="1565" y="39"/>
                    </a:lnTo>
                    <a:lnTo>
                      <a:pt x="1578" y="37"/>
                    </a:lnTo>
                    <a:lnTo>
                      <a:pt x="1592" y="35"/>
                    </a:lnTo>
                    <a:lnTo>
                      <a:pt x="1603" y="33"/>
                    </a:lnTo>
                    <a:lnTo>
                      <a:pt x="1617" y="33"/>
                    </a:lnTo>
                    <a:lnTo>
                      <a:pt x="1627" y="29"/>
                    </a:lnTo>
                    <a:lnTo>
                      <a:pt x="1638" y="27"/>
                    </a:lnTo>
                    <a:lnTo>
                      <a:pt x="1648" y="23"/>
                    </a:lnTo>
                    <a:lnTo>
                      <a:pt x="1660" y="21"/>
                    </a:lnTo>
                    <a:lnTo>
                      <a:pt x="1675" y="16"/>
                    </a:lnTo>
                    <a:lnTo>
                      <a:pt x="1691" y="12"/>
                    </a:lnTo>
                    <a:lnTo>
                      <a:pt x="1693" y="16"/>
                    </a:lnTo>
                    <a:lnTo>
                      <a:pt x="1698" y="27"/>
                    </a:lnTo>
                    <a:lnTo>
                      <a:pt x="1706" y="43"/>
                    </a:lnTo>
                    <a:lnTo>
                      <a:pt x="1714" y="64"/>
                    </a:lnTo>
                    <a:lnTo>
                      <a:pt x="1714" y="74"/>
                    </a:lnTo>
                    <a:lnTo>
                      <a:pt x="1714" y="83"/>
                    </a:lnTo>
                    <a:lnTo>
                      <a:pt x="1712" y="93"/>
                    </a:lnTo>
                    <a:lnTo>
                      <a:pt x="1710" y="105"/>
                    </a:lnTo>
                    <a:lnTo>
                      <a:pt x="1702" y="112"/>
                    </a:lnTo>
                    <a:lnTo>
                      <a:pt x="1693" y="122"/>
                    </a:lnTo>
                    <a:lnTo>
                      <a:pt x="1679" y="128"/>
                    </a:lnTo>
                    <a:lnTo>
                      <a:pt x="1665" y="136"/>
                    </a:lnTo>
                    <a:lnTo>
                      <a:pt x="1662" y="136"/>
                    </a:lnTo>
                    <a:lnTo>
                      <a:pt x="1658" y="136"/>
                    </a:lnTo>
                    <a:lnTo>
                      <a:pt x="1650" y="136"/>
                    </a:lnTo>
                    <a:lnTo>
                      <a:pt x="1640" y="138"/>
                    </a:lnTo>
                    <a:lnTo>
                      <a:pt x="1627" y="138"/>
                    </a:lnTo>
                    <a:lnTo>
                      <a:pt x="1613" y="140"/>
                    </a:lnTo>
                    <a:lnTo>
                      <a:pt x="1594" y="142"/>
                    </a:lnTo>
                    <a:lnTo>
                      <a:pt x="1576" y="145"/>
                    </a:lnTo>
                    <a:lnTo>
                      <a:pt x="1565" y="145"/>
                    </a:lnTo>
                    <a:lnTo>
                      <a:pt x="1553" y="145"/>
                    </a:lnTo>
                    <a:lnTo>
                      <a:pt x="1541" y="147"/>
                    </a:lnTo>
                    <a:lnTo>
                      <a:pt x="1530" y="149"/>
                    </a:lnTo>
                    <a:lnTo>
                      <a:pt x="1516" y="149"/>
                    </a:lnTo>
                    <a:lnTo>
                      <a:pt x="1505" y="151"/>
                    </a:lnTo>
                    <a:lnTo>
                      <a:pt x="1491" y="153"/>
                    </a:lnTo>
                    <a:lnTo>
                      <a:pt x="1479" y="155"/>
                    </a:lnTo>
                    <a:lnTo>
                      <a:pt x="1464" y="155"/>
                    </a:lnTo>
                    <a:lnTo>
                      <a:pt x="1450" y="157"/>
                    </a:lnTo>
                    <a:lnTo>
                      <a:pt x="1435" y="159"/>
                    </a:lnTo>
                    <a:lnTo>
                      <a:pt x="1421" y="161"/>
                    </a:lnTo>
                    <a:lnTo>
                      <a:pt x="1406" y="161"/>
                    </a:lnTo>
                    <a:lnTo>
                      <a:pt x="1390" y="163"/>
                    </a:lnTo>
                    <a:lnTo>
                      <a:pt x="1375" y="165"/>
                    </a:lnTo>
                    <a:lnTo>
                      <a:pt x="1361" y="167"/>
                    </a:lnTo>
                    <a:lnTo>
                      <a:pt x="1344" y="167"/>
                    </a:lnTo>
                    <a:lnTo>
                      <a:pt x="1326" y="167"/>
                    </a:lnTo>
                    <a:lnTo>
                      <a:pt x="1309" y="167"/>
                    </a:lnTo>
                    <a:lnTo>
                      <a:pt x="1291" y="169"/>
                    </a:lnTo>
                    <a:lnTo>
                      <a:pt x="1274" y="169"/>
                    </a:lnTo>
                    <a:lnTo>
                      <a:pt x="1256" y="171"/>
                    </a:lnTo>
                    <a:lnTo>
                      <a:pt x="1239" y="171"/>
                    </a:lnTo>
                    <a:lnTo>
                      <a:pt x="1221" y="173"/>
                    </a:lnTo>
                    <a:lnTo>
                      <a:pt x="1202" y="173"/>
                    </a:lnTo>
                    <a:lnTo>
                      <a:pt x="1185" y="173"/>
                    </a:lnTo>
                    <a:lnTo>
                      <a:pt x="1167" y="173"/>
                    </a:lnTo>
                    <a:lnTo>
                      <a:pt x="1150" y="175"/>
                    </a:lnTo>
                    <a:lnTo>
                      <a:pt x="1130" y="175"/>
                    </a:lnTo>
                    <a:lnTo>
                      <a:pt x="1113" y="175"/>
                    </a:lnTo>
                    <a:lnTo>
                      <a:pt x="1095" y="175"/>
                    </a:lnTo>
                    <a:lnTo>
                      <a:pt x="1078" y="176"/>
                    </a:lnTo>
                    <a:lnTo>
                      <a:pt x="1059" y="175"/>
                    </a:lnTo>
                    <a:lnTo>
                      <a:pt x="1039" y="175"/>
                    </a:lnTo>
                    <a:lnTo>
                      <a:pt x="1020" y="175"/>
                    </a:lnTo>
                    <a:lnTo>
                      <a:pt x="1002" y="175"/>
                    </a:lnTo>
                    <a:lnTo>
                      <a:pt x="983" y="173"/>
                    </a:lnTo>
                    <a:lnTo>
                      <a:pt x="966" y="173"/>
                    </a:lnTo>
                    <a:lnTo>
                      <a:pt x="948" y="173"/>
                    </a:lnTo>
                    <a:lnTo>
                      <a:pt x="931" y="173"/>
                    </a:lnTo>
                    <a:lnTo>
                      <a:pt x="913" y="171"/>
                    </a:lnTo>
                    <a:lnTo>
                      <a:pt x="896" y="169"/>
                    </a:lnTo>
                    <a:lnTo>
                      <a:pt x="878" y="167"/>
                    </a:lnTo>
                    <a:lnTo>
                      <a:pt x="861" y="167"/>
                    </a:lnTo>
                    <a:lnTo>
                      <a:pt x="843" y="165"/>
                    </a:lnTo>
                    <a:lnTo>
                      <a:pt x="826" y="163"/>
                    </a:lnTo>
                    <a:lnTo>
                      <a:pt x="810" y="161"/>
                    </a:lnTo>
                    <a:lnTo>
                      <a:pt x="795" y="161"/>
                    </a:lnTo>
                    <a:lnTo>
                      <a:pt x="789" y="159"/>
                    </a:lnTo>
                    <a:lnTo>
                      <a:pt x="774" y="157"/>
                    </a:lnTo>
                    <a:lnTo>
                      <a:pt x="762" y="155"/>
                    </a:lnTo>
                    <a:lnTo>
                      <a:pt x="750" y="153"/>
                    </a:lnTo>
                    <a:lnTo>
                      <a:pt x="735" y="151"/>
                    </a:lnTo>
                    <a:lnTo>
                      <a:pt x="721" y="151"/>
                    </a:lnTo>
                    <a:lnTo>
                      <a:pt x="702" y="149"/>
                    </a:lnTo>
                    <a:lnTo>
                      <a:pt x="683" y="147"/>
                    </a:lnTo>
                    <a:lnTo>
                      <a:pt x="671" y="147"/>
                    </a:lnTo>
                    <a:lnTo>
                      <a:pt x="661" y="147"/>
                    </a:lnTo>
                    <a:lnTo>
                      <a:pt x="650" y="147"/>
                    </a:lnTo>
                    <a:lnTo>
                      <a:pt x="640" y="147"/>
                    </a:lnTo>
                    <a:lnTo>
                      <a:pt x="628" y="147"/>
                    </a:lnTo>
                    <a:lnTo>
                      <a:pt x="617" y="147"/>
                    </a:lnTo>
                    <a:lnTo>
                      <a:pt x="605" y="147"/>
                    </a:lnTo>
                    <a:lnTo>
                      <a:pt x="593" y="147"/>
                    </a:lnTo>
                    <a:lnTo>
                      <a:pt x="580" y="147"/>
                    </a:lnTo>
                    <a:lnTo>
                      <a:pt x="568" y="147"/>
                    </a:lnTo>
                    <a:lnTo>
                      <a:pt x="556" y="149"/>
                    </a:lnTo>
                    <a:lnTo>
                      <a:pt x="545" y="151"/>
                    </a:lnTo>
                    <a:lnTo>
                      <a:pt x="531" y="151"/>
                    </a:lnTo>
                    <a:lnTo>
                      <a:pt x="518" y="151"/>
                    </a:lnTo>
                    <a:lnTo>
                      <a:pt x="504" y="153"/>
                    </a:lnTo>
                    <a:lnTo>
                      <a:pt x="491" y="155"/>
                    </a:lnTo>
                    <a:lnTo>
                      <a:pt x="477" y="155"/>
                    </a:lnTo>
                    <a:lnTo>
                      <a:pt x="463" y="157"/>
                    </a:lnTo>
                    <a:lnTo>
                      <a:pt x="450" y="159"/>
                    </a:lnTo>
                    <a:lnTo>
                      <a:pt x="438" y="163"/>
                    </a:lnTo>
                    <a:lnTo>
                      <a:pt x="423" y="163"/>
                    </a:lnTo>
                    <a:lnTo>
                      <a:pt x="409" y="167"/>
                    </a:lnTo>
                    <a:lnTo>
                      <a:pt x="396" y="169"/>
                    </a:lnTo>
                    <a:lnTo>
                      <a:pt x="384" y="175"/>
                    </a:lnTo>
                    <a:lnTo>
                      <a:pt x="370" y="176"/>
                    </a:lnTo>
                    <a:lnTo>
                      <a:pt x="357" y="180"/>
                    </a:lnTo>
                    <a:lnTo>
                      <a:pt x="343" y="186"/>
                    </a:lnTo>
                    <a:lnTo>
                      <a:pt x="332" y="192"/>
                    </a:lnTo>
                    <a:lnTo>
                      <a:pt x="318" y="196"/>
                    </a:lnTo>
                    <a:lnTo>
                      <a:pt x="304" y="200"/>
                    </a:lnTo>
                    <a:lnTo>
                      <a:pt x="291" y="206"/>
                    </a:lnTo>
                    <a:lnTo>
                      <a:pt x="279" y="211"/>
                    </a:lnTo>
                    <a:lnTo>
                      <a:pt x="268" y="217"/>
                    </a:lnTo>
                    <a:lnTo>
                      <a:pt x="256" y="223"/>
                    </a:lnTo>
                    <a:lnTo>
                      <a:pt x="244" y="231"/>
                    </a:lnTo>
                    <a:lnTo>
                      <a:pt x="233" y="239"/>
                    </a:lnTo>
                    <a:lnTo>
                      <a:pt x="221" y="244"/>
                    </a:lnTo>
                    <a:lnTo>
                      <a:pt x="209" y="252"/>
                    </a:lnTo>
                    <a:lnTo>
                      <a:pt x="198" y="260"/>
                    </a:lnTo>
                    <a:lnTo>
                      <a:pt x="188" y="270"/>
                    </a:lnTo>
                    <a:lnTo>
                      <a:pt x="176" y="277"/>
                    </a:lnTo>
                    <a:lnTo>
                      <a:pt x="167" y="287"/>
                    </a:lnTo>
                    <a:lnTo>
                      <a:pt x="157" y="299"/>
                    </a:lnTo>
                    <a:lnTo>
                      <a:pt x="149" y="310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97000" y="5835960"/>
                <a:ext cx="486360" cy="496440"/>
              </a:xfrm>
              <a:custGeom>
                <a:avLst/>
                <a:gdLst/>
                <a:ahLst/>
                <a:rect l="l" t="t" r="r" b="b"/>
                <a:pathLst>
                  <a:path w="799" h="815">
                    <a:moveTo>
                      <a:pt x="625" y="456"/>
                    </a:moveTo>
                    <a:lnTo>
                      <a:pt x="621" y="472"/>
                    </a:lnTo>
                    <a:lnTo>
                      <a:pt x="619" y="489"/>
                    </a:lnTo>
                    <a:lnTo>
                      <a:pt x="615" y="505"/>
                    </a:lnTo>
                    <a:lnTo>
                      <a:pt x="613" y="520"/>
                    </a:lnTo>
                    <a:lnTo>
                      <a:pt x="609" y="532"/>
                    </a:lnTo>
                    <a:lnTo>
                      <a:pt x="607" y="543"/>
                    </a:lnTo>
                    <a:lnTo>
                      <a:pt x="605" y="555"/>
                    </a:lnTo>
                    <a:lnTo>
                      <a:pt x="603" y="567"/>
                    </a:lnTo>
                    <a:lnTo>
                      <a:pt x="596" y="584"/>
                    </a:lnTo>
                    <a:lnTo>
                      <a:pt x="590" y="600"/>
                    </a:lnTo>
                    <a:lnTo>
                      <a:pt x="582" y="611"/>
                    </a:lnTo>
                    <a:lnTo>
                      <a:pt x="574" y="623"/>
                    </a:lnTo>
                    <a:lnTo>
                      <a:pt x="563" y="629"/>
                    </a:lnTo>
                    <a:lnTo>
                      <a:pt x="551" y="636"/>
                    </a:lnTo>
                    <a:lnTo>
                      <a:pt x="538" y="644"/>
                    </a:lnTo>
                    <a:lnTo>
                      <a:pt x="526" y="652"/>
                    </a:lnTo>
                    <a:lnTo>
                      <a:pt x="508" y="658"/>
                    </a:lnTo>
                    <a:lnTo>
                      <a:pt x="491" y="664"/>
                    </a:lnTo>
                    <a:lnTo>
                      <a:pt x="481" y="666"/>
                    </a:lnTo>
                    <a:lnTo>
                      <a:pt x="472" y="669"/>
                    </a:lnTo>
                    <a:lnTo>
                      <a:pt x="460" y="675"/>
                    </a:lnTo>
                    <a:lnTo>
                      <a:pt x="450" y="681"/>
                    </a:lnTo>
                    <a:lnTo>
                      <a:pt x="439" y="683"/>
                    </a:lnTo>
                    <a:lnTo>
                      <a:pt x="429" y="685"/>
                    </a:lnTo>
                    <a:lnTo>
                      <a:pt x="417" y="687"/>
                    </a:lnTo>
                    <a:lnTo>
                      <a:pt x="406" y="689"/>
                    </a:lnTo>
                    <a:lnTo>
                      <a:pt x="392" y="687"/>
                    </a:lnTo>
                    <a:lnTo>
                      <a:pt x="380" y="687"/>
                    </a:lnTo>
                    <a:lnTo>
                      <a:pt x="369" y="687"/>
                    </a:lnTo>
                    <a:lnTo>
                      <a:pt x="357" y="687"/>
                    </a:lnTo>
                    <a:lnTo>
                      <a:pt x="342" y="683"/>
                    </a:lnTo>
                    <a:lnTo>
                      <a:pt x="328" y="681"/>
                    </a:lnTo>
                    <a:lnTo>
                      <a:pt x="315" y="679"/>
                    </a:lnTo>
                    <a:lnTo>
                      <a:pt x="301" y="677"/>
                    </a:lnTo>
                    <a:lnTo>
                      <a:pt x="285" y="673"/>
                    </a:lnTo>
                    <a:lnTo>
                      <a:pt x="272" y="671"/>
                    </a:lnTo>
                    <a:lnTo>
                      <a:pt x="256" y="667"/>
                    </a:lnTo>
                    <a:lnTo>
                      <a:pt x="243" y="666"/>
                    </a:lnTo>
                    <a:lnTo>
                      <a:pt x="225" y="662"/>
                    </a:lnTo>
                    <a:lnTo>
                      <a:pt x="212" y="658"/>
                    </a:lnTo>
                    <a:lnTo>
                      <a:pt x="194" y="654"/>
                    </a:lnTo>
                    <a:lnTo>
                      <a:pt x="181" y="652"/>
                    </a:lnTo>
                    <a:lnTo>
                      <a:pt x="165" y="648"/>
                    </a:lnTo>
                    <a:lnTo>
                      <a:pt x="150" y="646"/>
                    </a:lnTo>
                    <a:lnTo>
                      <a:pt x="134" y="644"/>
                    </a:lnTo>
                    <a:lnTo>
                      <a:pt x="121" y="644"/>
                    </a:lnTo>
                    <a:lnTo>
                      <a:pt x="105" y="642"/>
                    </a:lnTo>
                    <a:lnTo>
                      <a:pt x="92" y="640"/>
                    </a:lnTo>
                    <a:lnTo>
                      <a:pt x="76" y="640"/>
                    </a:lnTo>
                    <a:lnTo>
                      <a:pt x="63" y="642"/>
                    </a:lnTo>
                    <a:lnTo>
                      <a:pt x="47" y="642"/>
                    </a:lnTo>
                    <a:lnTo>
                      <a:pt x="33" y="644"/>
                    </a:lnTo>
                    <a:lnTo>
                      <a:pt x="22" y="646"/>
                    </a:lnTo>
                    <a:lnTo>
                      <a:pt x="10" y="652"/>
                    </a:lnTo>
                    <a:lnTo>
                      <a:pt x="4" y="669"/>
                    </a:lnTo>
                    <a:lnTo>
                      <a:pt x="0" y="691"/>
                    </a:lnTo>
                    <a:lnTo>
                      <a:pt x="0" y="710"/>
                    </a:lnTo>
                    <a:lnTo>
                      <a:pt x="2" y="731"/>
                    </a:lnTo>
                    <a:lnTo>
                      <a:pt x="4" y="749"/>
                    </a:lnTo>
                    <a:lnTo>
                      <a:pt x="10" y="768"/>
                    </a:lnTo>
                    <a:lnTo>
                      <a:pt x="18" y="786"/>
                    </a:lnTo>
                    <a:lnTo>
                      <a:pt x="30" y="805"/>
                    </a:lnTo>
                    <a:lnTo>
                      <a:pt x="41" y="805"/>
                    </a:lnTo>
                    <a:lnTo>
                      <a:pt x="53" y="807"/>
                    </a:lnTo>
                    <a:lnTo>
                      <a:pt x="64" y="809"/>
                    </a:lnTo>
                    <a:lnTo>
                      <a:pt x="78" y="811"/>
                    </a:lnTo>
                    <a:lnTo>
                      <a:pt x="90" y="811"/>
                    </a:lnTo>
                    <a:lnTo>
                      <a:pt x="103" y="813"/>
                    </a:lnTo>
                    <a:lnTo>
                      <a:pt x="115" y="813"/>
                    </a:lnTo>
                    <a:lnTo>
                      <a:pt x="128" y="815"/>
                    </a:lnTo>
                    <a:lnTo>
                      <a:pt x="140" y="813"/>
                    </a:lnTo>
                    <a:lnTo>
                      <a:pt x="154" y="813"/>
                    </a:lnTo>
                    <a:lnTo>
                      <a:pt x="165" y="813"/>
                    </a:lnTo>
                    <a:lnTo>
                      <a:pt x="179" y="813"/>
                    </a:lnTo>
                    <a:lnTo>
                      <a:pt x="190" y="813"/>
                    </a:lnTo>
                    <a:lnTo>
                      <a:pt x="204" y="813"/>
                    </a:lnTo>
                    <a:lnTo>
                      <a:pt x="216" y="813"/>
                    </a:lnTo>
                    <a:lnTo>
                      <a:pt x="229" y="813"/>
                    </a:lnTo>
                    <a:lnTo>
                      <a:pt x="241" y="811"/>
                    </a:lnTo>
                    <a:lnTo>
                      <a:pt x="253" y="809"/>
                    </a:lnTo>
                    <a:lnTo>
                      <a:pt x="264" y="807"/>
                    </a:lnTo>
                    <a:lnTo>
                      <a:pt x="276" y="805"/>
                    </a:lnTo>
                    <a:lnTo>
                      <a:pt x="287" y="803"/>
                    </a:lnTo>
                    <a:lnTo>
                      <a:pt x="299" y="801"/>
                    </a:lnTo>
                    <a:lnTo>
                      <a:pt x="311" y="799"/>
                    </a:lnTo>
                    <a:lnTo>
                      <a:pt x="324" y="799"/>
                    </a:lnTo>
                    <a:lnTo>
                      <a:pt x="336" y="795"/>
                    </a:lnTo>
                    <a:lnTo>
                      <a:pt x="348" y="794"/>
                    </a:lnTo>
                    <a:lnTo>
                      <a:pt x="359" y="792"/>
                    </a:lnTo>
                    <a:lnTo>
                      <a:pt x="371" y="790"/>
                    </a:lnTo>
                    <a:lnTo>
                      <a:pt x="382" y="786"/>
                    </a:lnTo>
                    <a:lnTo>
                      <a:pt x="394" y="786"/>
                    </a:lnTo>
                    <a:lnTo>
                      <a:pt x="406" y="782"/>
                    </a:lnTo>
                    <a:lnTo>
                      <a:pt x="419" y="782"/>
                    </a:lnTo>
                    <a:lnTo>
                      <a:pt x="431" y="778"/>
                    </a:lnTo>
                    <a:lnTo>
                      <a:pt x="443" y="774"/>
                    </a:lnTo>
                    <a:lnTo>
                      <a:pt x="454" y="770"/>
                    </a:lnTo>
                    <a:lnTo>
                      <a:pt x="466" y="768"/>
                    </a:lnTo>
                    <a:lnTo>
                      <a:pt x="477" y="764"/>
                    </a:lnTo>
                    <a:lnTo>
                      <a:pt x="489" y="763"/>
                    </a:lnTo>
                    <a:lnTo>
                      <a:pt x="501" y="759"/>
                    </a:lnTo>
                    <a:lnTo>
                      <a:pt x="512" y="757"/>
                    </a:lnTo>
                    <a:lnTo>
                      <a:pt x="524" y="753"/>
                    </a:lnTo>
                    <a:lnTo>
                      <a:pt x="536" y="751"/>
                    </a:lnTo>
                    <a:lnTo>
                      <a:pt x="547" y="747"/>
                    </a:lnTo>
                    <a:lnTo>
                      <a:pt x="559" y="745"/>
                    </a:lnTo>
                    <a:lnTo>
                      <a:pt x="570" y="741"/>
                    </a:lnTo>
                    <a:lnTo>
                      <a:pt x="582" y="739"/>
                    </a:lnTo>
                    <a:lnTo>
                      <a:pt x="594" y="735"/>
                    </a:lnTo>
                    <a:lnTo>
                      <a:pt x="607" y="733"/>
                    </a:lnTo>
                    <a:lnTo>
                      <a:pt x="619" y="730"/>
                    </a:lnTo>
                    <a:lnTo>
                      <a:pt x="631" y="728"/>
                    </a:lnTo>
                    <a:lnTo>
                      <a:pt x="642" y="724"/>
                    </a:lnTo>
                    <a:lnTo>
                      <a:pt x="654" y="722"/>
                    </a:lnTo>
                    <a:lnTo>
                      <a:pt x="665" y="718"/>
                    </a:lnTo>
                    <a:lnTo>
                      <a:pt x="677" y="716"/>
                    </a:lnTo>
                    <a:lnTo>
                      <a:pt x="689" y="712"/>
                    </a:lnTo>
                    <a:lnTo>
                      <a:pt x="700" y="710"/>
                    </a:lnTo>
                    <a:lnTo>
                      <a:pt x="712" y="706"/>
                    </a:lnTo>
                    <a:lnTo>
                      <a:pt x="724" y="704"/>
                    </a:lnTo>
                    <a:lnTo>
                      <a:pt x="735" y="702"/>
                    </a:lnTo>
                    <a:lnTo>
                      <a:pt x="749" y="700"/>
                    </a:lnTo>
                    <a:lnTo>
                      <a:pt x="760" y="699"/>
                    </a:lnTo>
                    <a:lnTo>
                      <a:pt x="772" y="697"/>
                    </a:lnTo>
                    <a:lnTo>
                      <a:pt x="784" y="695"/>
                    </a:lnTo>
                    <a:lnTo>
                      <a:pt x="797" y="695"/>
                    </a:lnTo>
                    <a:lnTo>
                      <a:pt x="795" y="683"/>
                    </a:lnTo>
                    <a:lnTo>
                      <a:pt x="795" y="671"/>
                    </a:lnTo>
                    <a:lnTo>
                      <a:pt x="793" y="660"/>
                    </a:lnTo>
                    <a:lnTo>
                      <a:pt x="793" y="650"/>
                    </a:lnTo>
                    <a:lnTo>
                      <a:pt x="793" y="638"/>
                    </a:lnTo>
                    <a:lnTo>
                      <a:pt x="793" y="629"/>
                    </a:lnTo>
                    <a:lnTo>
                      <a:pt x="793" y="617"/>
                    </a:lnTo>
                    <a:lnTo>
                      <a:pt x="793" y="607"/>
                    </a:lnTo>
                    <a:lnTo>
                      <a:pt x="793" y="596"/>
                    </a:lnTo>
                    <a:lnTo>
                      <a:pt x="793" y="584"/>
                    </a:lnTo>
                    <a:lnTo>
                      <a:pt x="793" y="572"/>
                    </a:lnTo>
                    <a:lnTo>
                      <a:pt x="793" y="563"/>
                    </a:lnTo>
                    <a:lnTo>
                      <a:pt x="793" y="551"/>
                    </a:lnTo>
                    <a:lnTo>
                      <a:pt x="793" y="541"/>
                    </a:lnTo>
                    <a:lnTo>
                      <a:pt x="793" y="530"/>
                    </a:lnTo>
                    <a:lnTo>
                      <a:pt x="795" y="520"/>
                    </a:lnTo>
                    <a:lnTo>
                      <a:pt x="795" y="508"/>
                    </a:lnTo>
                    <a:lnTo>
                      <a:pt x="795" y="497"/>
                    </a:lnTo>
                    <a:lnTo>
                      <a:pt x="795" y="485"/>
                    </a:lnTo>
                    <a:lnTo>
                      <a:pt x="795" y="476"/>
                    </a:lnTo>
                    <a:lnTo>
                      <a:pt x="795" y="464"/>
                    </a:lnTo>
                    <a:lnTo>
                      <a:pt x="795" y="454"/>
                    </a:lnTo>
                    <a:lnTo>
                      <a:pt x="795" y="443"/>
                    </a:lnTo>
                    <a:lnTo>
                      <a:pt x="797" y="433"/>
                    </a:lnTo>
                    <a:lnTo>
                      <a:pt x="797" y="421"/>
                    </a:lnTo>
                    <a:lnTo>
                      <a:pt x="797" y="410"/>
                    </a:lnTo>
                    <a:lnTo>
                      <a:pt x="797" y="398"/>
                    </a:lnTo>
                    <a:lnTo>
                      <a:pt x="797" y="388"/>
                    </a:lnTo>
                    <a:lnTo>
                      <a:pt x="797" y="377"/>
                    </a:lnTo>
                    <a:lnTo>
                      <a:pt x="797" y="367"/>
                    </a:lnTo>
                    <a:lnTo>
                      <a:pt x="797" y="355"/>
                    </a:lnTo>
                    <a:lnTo>
                      <a:pt x="799" y="346"/>
                    </a:lnTo>
                    <a:lnTo>
                      <a:pt x="797" y="334"/>
                    </a:lnTo>
                    <a:lnTo>
                      <a:pt x="797" y="322"/>
                    </a:lnTo>
                    <a:lnTo>
                      <a:pt x="797" y="311"/>
                    </a:lnTo>
                    <a:lnTo>
                      <a:pt x="797" y="301"/>
                    </a:lnTo>
                    <a:lnTo>
                      <a:pt x="797" y="289"/>
                    </a:lnTo>
                    <a:lnTo>
                      <a:pt x="797" y="280"/>
                    </a:lnTo>
                    <a:lnTo>
                      <a:pt x="797" y="268"/>
                    </a:lnTo>
                    <a:lnTo>
                      <a:pt x="797" y="258"/>
                    </a:lnTo>
                    <a:lnTo>
                      <a:pt x="795" y="247"/>
                    </a:lnTo>
                    <a:lnTo>
                      <a:pt x="795" y="235"/>
                    </a:lnTo>
                    <a:lnTo>
                      <a:pt x="795" y="223"/>
                    </a:lnTo>
                    <a:lnTo>
                      <a:pt x="795" y="214"/>
                    </a:lnTo>
                    <a:lnTo>
                      <a:pt x="795" y="192"/>
                    </a:lnTo>
                    <a:lnTo>
                      <a:pt x="795" y="173"/>
                    </a:lnTo>
                    <a:lnTo>
                      <a:pt x="793" y="161"/>
                    </a:lnTo>
                    <a:lnTo>
                      <a:pt x="792" y="150"/>
                    </a:lnTo>
                    <a:lnTo>
                      <a:pt x="790" y="138"/>
                    </a:lnTo>
                    <a:lnTo>
                      <a:pt x="790" y="128"/>
                    </a:lnTo>
                    <a:lnTo>
                      <a:pt x="788" y="117"/>
                    </a:lnTo>
                    <a:lnTo>
                      <a:pt x="788" y="107"/>
                    </a:lnTo>
                    <a:lnTo>
                      <a:pt x="786" y="95"/>
                    </a:lnTo>
                    <a:lnTo>
                      <a:pt x="786" y="86"/>
                    </a:lnTo>
                    <a:lnTo>
                      <a:pt x="784" y="74"/>
                    </a:lnTo>
                    <a:lnTo>
                      <a:pt x="782" y="63"/>
                    </a:lnTo>
                    <a:lnTo>
                      <a:pt x="780" y="51"/>
                    </a:lnTo>
                    <a:lnTo>
                      <a:pt x="778" y="41"/>
                    </a:lnTo>
                    <a:lnTo>
                      <a:pt x="774" y="20"/>
                    </a:lnTo>
                    <a:lnTo>
                      <a:pt x="772" y="0"/>
                    </a:lnTo>
                    <a:lnTo>
                      <a:pt x="755" y="4"/>
                    </a:lnTo>
                    <a:lnTo>
                      <a:pt x="737" y="8"/>
                    </a:lnTo>
                    <a:lnTo>
                      <a:pt x="718" y="10"/>
                    </a:lnTo>
                    <a:lnTo>
                      <a:pt x="700" y="12"/>
                    </a:lnTo>
                    <a:lnTo>
                      <a:pt x="681" y="12"/>
                    </a:lnTo>
                    <a:lnTo>
                      <a:pt x="662" y="12"/>
                    </a:lnTo>
                    <a:lnTo>
                      <a:pt x="642" y="12"/>
                    </a:lnTo>
                    <a:lnTo>
                      <a:pt x="625" y="12"/>
                    </a:lnTo>
                    <a:lnTo>
                      <a:pt x="625" y="24"/>
                    </a:lnTo>
                    <a:lnTo>
                      <a:pt x="625" y="35"/>
                    </a:lnTo>
                    <a:lnTo>
                      <a:pt x="625" y="47"/>
                    </a:lnTo>
                    <a:lnTo>
                      <a:pt x="625" y="61"/>
                    </a:lnTo>
                    <a:lnTo>
                      <a:pt x="625" y="72"/>
                    </a:lnTo>
                    <a:lnTo>
                      <a:pt x="625" y="84"/>
                    </a:lnTo>
                    <a:lnTo>
                      <a:pt x="625" y="95"/>
                    </a:lnTo>
                    <a:lnTo>
                      <a:pt x="625" y="109"/>
                    </a:lnTo>
                    <a:lnTo>
                      <a:pt x="625" y="125"/>
                    </a:lnTo>
                    <a:lnTo>
                      <a:pt x="625" y="142"/>
                    </a:lnTo>
                    <a:lnTo>
                      <a:pt x="625" y="158"/>
                    </a:lnTo>
                    <a:lnTo>
                      <a:pt x="627" y="175"/>
                    </a:lnTo>
                    <a:lnTo>
                      <a:pt x="627" y="190"/>
                    </a:lnTo>
                    <a:lnTo>
                      <a:pt x="629" y="208"/>
                    </a:lnTo>
                    <a:lnTo>
                      <a:pt x="631" y="225"/>
                    </a:lnTo>
                    <a:lnTo>
                      <a:pt x="633" y="245"/>
                    </a:lnTo>
                    <a:lnTo>
                      <a:pt x="633" y="262"/>
                    </a:lnTo>
                    <a:lnTo>
                      <a:pt x="633" y="284"/>
                    </a:lnTo>
                    <a:lnTo>
                      <a:pt x="633" y="295"/>
                    </a:lnTo>
                    <a:lnTo>
                      <a:pt x="633" y="307"/>
                    </a:lnTo>
                    <a:lnTo>
                      <a:pt x="633" y="318"/>
                    </a:lnTo>
                    <a:lnTo>
                      <a:pt x="634" y="332"/>
                    </a:lnTo>
                    <a:lnTo>
                      <a:pt x="633" y="344"/>
                    </a:lnTo>
                    <a:lnTo>
                      <a:pt x="633" y="357"/>
                    </a:lnTo>
                    <a:lnTo>
                      <a:pt x="631" y="371"/>
                    </a:lnTo>
                    <a:lnTo>
                      <a:pt x="631" y="386"/>
                    </a:lnTo>
                    <a:lnTo>
                      <a:pt x="629" y="402"/>
                    </a:lnTo>
                    <a:lnTo>
                      <a:pt x="627" y="419"/>
                    </a:lnTo>
                    <a:lnTo>
                      <a:pt x="625" y="437"/>
                    </a:lnTo>
                    <a:lnTo>
                      <a:pt x="625" y="456"/>
                    </a:lnTo>
                    <a:close/>
                  </a:path>
                </a:pathLst>
              </a:cu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03120" y="5841720"/>
                <a:ext cx="380160" cy="413280"/>
              </a:xfrm>
              <a:custGeom>
                <a:avLst/>
                <a:gdLst/>
                <a:ahLst/>
                <a:rect l="l" t="t" r="r" b="b"/>
                <a:pathLst>
                  <a:path w="624" h="679">
                    <a:moveTo>
                      <a:pt x="502" y="16"/>
                    </a:moveTo>
                    <a:lnTo>
                      <a:pt x="491" y="16"/>
                    </a:lnTo>
                    <a:lnTo>
                      <a:pt x="479" y="18"/>
                    </a:lnTo>
                    <a:lnTo>
                      <a:pt x="469" y="20"/>
                    </a:lnTo>
                    <a:lnTo>
                      <a:pt x="462" y="21"/>
                    </a:lnTo>
                    <a:lnTo>
                      <a:pt x="446" y="27"/>
                    </a:lnTo>
                    <a:lnTo>
                      <a:pt x="434" y="35"/>
                    </a:lnTo>
                    <a:lnTo>
                      <a:pt x="423" y="43"/>
                    </a:lnTo>
                    <a:lnTo>
                      <a:pt x="415" y="53"/>
                    </a:lnTo>
                    <a:lnTo>
                      <a:pt x="407" y="62"/>
                    </a:lnTo>
                    <a:lnTo>
                      <a:pt x="403" y="74"/>
                    </a:lnTo>
                    <a:lnTo>
                      <a:pt x="398" y="84"/>
                    </a:lnTo>
                    <a:lnTo>
                      <a:pt x="398" y="95"/>
                    </a:lnTo>
                    <a:lnTo>
                      <a:pt x="398" y="107"/>
                    </a:lnTo>
                    <a:lnTo>
                      <a:pt x="400" y="120"/>
                    </a:lnTo>
                    <a:lnTo>
                      <a:pt x="400" y="132"/>
                    </a:lnTo>
                    <a:lnTo>
                      <a:pt x="403" y="148"/>
                    </a:lnTo>
                    <a:lnTo>
                      <a:pt x="407" y="161"/>
                    </a:lnTo>
                    <a:lnTo>
                      <a:pt x="413" y="179"/>
                    </a:lnTo>
                    <a:lnTo>
                      <a:pt x="417" y="192"/>
                    </a:lnTo>
                    <a:lnTo>
                      <a:pt x="423" y="208"/>
                    </a:lnTo>
                    <a:lnTo>
                      <a:pt x="429" y="223"/>
                    </a:lnTo>
                    <a:lnTo>
                      <a:pt x="434" y="241"/>
                    </a:lnTo>
                    <a:lnTo>
                      <a:pt x="438" y="256"/>
                    </a:lnTo>
                    <a:lnTo>
                      <a:pt x="444" y="274"/>
                    </a:lnTo>
                    <a:lnTo>
                      <a:pt x="450" y="289"/>
                    </a:lnTo>
                    <a:lnTo>
                      <a:pt x="456" y="307"/>
                    </a:lnTo>
                    <a:lnTo>
                      <a:pt x="458" y="322"/>
                    </a:lnTo>
                    <a:lnTo>
                      <a:pt x="462" y="339"/>
                    </a:lnTo>
                    <a:lnTo>
                      <a:pt x="464" y="355"/>
                    </a:lnTo>
                    <a:lnTo>
                      <a:pt x="465" y="372"/>
                    </a:lnTo>
                    <a:lnTo>
                      <a:pt x="464" y="388"/>
                    </a:lnTo>
                    <a:lnTo>
                      <a:pt x="464" y="403"/>
                    </a:lnTo>
                    <a:lnTo>
                      <a:pt x="460" y="419"/>
                    </a:lnTo>
                    <a:lnTo>
                      <a:pt x="458" y="435"/>
                    </a:lnTo>
                    <a:lnTo>
                      <a:pt x="448" y="444"/>
                    </a:lnTo>
                    <a:lnTo>
                      <a:pt x="438" y="456"/>
                    </a:lnTo>
                    <a:lnTo>
                      <a:pt x="429" y="466"/>
                    </a:lnTo>
                    <a:lnTo>
                      <a:pt x="419" y="475"/>
                    </a:lnTo>
                    <a:lnTo>
                      <a:pt x="407" y="483"/>
                    </a:lnTo>
                    <a:lnTo>
                      <a:pt x="398" y="491"/>
                    </a:lnTo>
                    <a:lnTo>
                      <a:pt x="386" y="497"/>
                    </a:lnTo>
                    <a:lnTo>
                      <a:pt x="376" y="504"/>
                    </a:lnTo>
                    <a:lnTo>
                      <a:pt x="363" y="508"/>
                    </a:lnTo>
                    <a:lnTo>
                      <a:pt x="351" y="514"/>
                    </a:lnTo>
                    <a:lnTo>
                      <a:pt x="339" y="520"/>
                    </a:lnTo>
                    <a:lnTo>
                      <a:pt x="328" y="526"/>
                    </a:lnTo>
                    <a:lnTo>
                      <a:pt x="314" y="530"/>
                    </a:lnTo>
                    <a:lnTo>
                      <a:pt x="303" y="533"/>
                    </a:lnTo>
                    <a:lnTo>
                      <a:pt x="289" y="537"/>
                    </a:lnTo>
                    <a:lnTo>
                      <a:pt x="277" y="541"/>
                    </a:lnTo>
                    <a:lnTo>
                      <a:pt x="262" y="541"/>
                    </a:lnTo>
                    <a:lnTo>
                      <a:pt x="248" y="543"/>
                    </a:lnTo>
                    <a:lnTo>
                      <a:pt x="235" y="545"/>
                    </a:lnTo>
                    <a:lnTo>
                      <a:pt x="221" y="547"/>
                    </a:lnTo>
                    <a:lnTo>
                      <a:pt x="206" y="547"/>
                    </a:lnTo>
                    <a:lnTo>
                      <a:pt x="192" y="549"/>
                    </a:lnTo>
                    <a:lnTo>
                      <a:pt x="179" y="549"/>
                    </a:lnTo>
                    <a:lnTo>
                      <a:pt x="165" y="551"/>
                    </a:lnTo>
                    <a:lnTo>
                      <a:pt x="149" y="551"/>
                    </a:lnTo>
                    <a:lnTo>
                      <a:pt x="136" y="551"/>
                    </a:lnTo>
                    <a:lnTo>
                      <a:pt x="120" y="551"/>
                    </a:lnTo>
                    <a:lnTo>
                      <a:pt x="107" y="551"/>
                    </a:lnTo>
                    <a:lnTo>
                      <a:pt x="91" y="551"/>
                    </a:lnTo>
                    <a:lnTo>
                      <a:pt x="78" y="551"/>
                    </a:lnTo>
                    <a:lnTo>
                      <a:pt x="62" y="551"/>
                    </a:lnTo>
                    <a:lnTo>
                      <a:pt x="49" y="551"/>
                    </a:lnTo>
                    <a:lnTo>
                      <a:pt x="39" y="559"/>
                    </a:lnTo>
                    <a:lnTo>
                      <a:pt x="31" y="570"/>
                    </a:lnTo>
                    <a:lnTo>
                      <a:pt x="25" y="582"/>
                    </a:lnTo>
                    <a:lnTo>
                      <a:pt x="20" y="594"/>
                    </a:lnTo>
                    <a:lnTo>
                      <a:pt x="14" y="605"/>
                    </a:lnTo>
                    <a:lnTo>
                      <a:pt x="8" y="617"/>
                    </a:lnTo>
                    <a:lnTo>
                      <a:pt x="2" y="628"/>
                    </a:lnTo>
                    <a:lnTo>
                      <a:pt x="0" y="642"/>
                    </a:lnTo>
                    <a:lnTo>
                      <a:pt x="12" y="636"/>
                    </a:lnTo>
                    <a:lnTo>
                      <a:pt x="23" y="634"/>
                    </a:lnTo>
                    <a:lnTo>
                      <a:pt x="37" y="632"/>
                    </a:lnTo>
                    <a:lnTo>
                      <a:pt x="53" y="632"/>
                    </a:lnTo>
                    <a:lnTo>
                      <a:pt x="66" y="630"/>
                    </a:lnTo>
                    <a:lnTo>
                      <a:pt x="82" y="630"/>
                    </a:lnTo>
                    <a:lnTo>
                      <a:pt x="95" y="632"/>
                    </a:lnTo>
                    <a:lnTo>
                      <a:pt x="111" y="634"/>
                    </a:lnTo>
                    <a:lnTo>
                      <a:pt x="124" y="634"/>
                    </a:lnTo>
                    <a:lnTo>
                      <a:pt x="140" y="636"/>
                    </a:lnTo>
                    <a:lnTo>
                      <a:pt x="155" y="638"/>
                    </a:lnTo>
                    <a:lnTo>
                      <a:pt x="171" y="642"/>
                    </a:lnTo>
                    <a:lnTo>
                      <a:pt x="184" y="644"/>
                    </a:lnTo>
                    <a:lnTo>
                      <a:pt x="202" y="648"/>
                    </a:lnTo>
                    <a:lnTo>
                      <a:pt x="215" y="652"/>
                    </a:lnTo>
                    <a:lnTo>
                      <a:pt x="233" y="656"/>
                    </a:lnTo>
                    <a:lnTo>
                      <a:pt x="246" y="657"/>
                    </a:lnTo>
                    <a:lnTo>
                      <a:pt x="262" y="661"/>
                    </a:lnTo>
                    <a:lnTo>
                      <a:pt x="275" y="663"/>
                    </a:lnTo>
                    <a:lnTo>
                      <a:pt x="291" y="667"/>
                    </a:lnTo>
                    <a:lnTo>
                      <a:pt x="305" y="669"/>
                    </a:lnTo>
                    <a:lnTo>
                      <a:pt x="318" y="671"/>
                    </a:lnTo>
                    <a:lnTo>
                      <a:pt x="332" y="673"/>
                    </a:lnTo>
                    <a:lnTo>
                      <a:pt x="347" y="677"/>
                    </a:lnTo>
                    <a:lnTo>
                      <a:pt x="359" y="677"/>
                    </a:lnTo>
                    <a:lnTo>
                      <a:pt x="370" y="677"/>
                    </a:lnTo>
                    <a:lnTo>
                      <a:pt x="382" y="677"/>
                    </a:lnTo>
                    <a:lnTo>
                      <a:pt x="396" y="679"/>
                    </a:lnTo>
                    <a:lnTo>
                      <a:pt x="407" y="677"/>
                    </a:lnTo>
                    <a:lnTo>
                      <a:pt x="419" y="675"/>
                    </a:lnTo>
                    <a:lnTo>
                      <a:pt x="429" y="673"/>
                    </a:lnTo>
                    <a:lnTo>
                      <a:pt x="440" y="671"/>
                    </a:lnTo>
                    <a:lnTo>
                      <a:pt x="450" y="665"/>
                    </a:lnTo>
                    <a:lnTo>
                      <a:pt x="462" y="659"/>
                    </a:lnTo>
                    <a:lnTo>
                      <a:pt x="471" y="656"/>
                    </a:lnTo>
                    <a:lnTo>
                      <a:pt x="481" y="654"/>
                    </a:lnTo>
                    <a:lnTo>
                      <a:pt x="498" y="648"/>
                    </a:lnTo>
                    <a:lnTo>
                      <a:pt x="516" y="642"/>
                    </a:lnTo>
                    <a:lnTo>
                      <a:pt x="528" y="634"/>
                    </a:lnTo>
                    <a:lnTo>
                      <a:pt x="541" y="626"/>
                    </a:lnTo>
                    <a:lnTo>
                      <a:pt x="553" y="619"/>
                    </a:lnTo>
                    <a:lnTo>
                      <a:pt x="564" y="613"/>
                    </a:lnTo>
                    <a:lnTo>
                      <a:pt x="572" y="601"/>
                    </a:lnTo>
                    <a:lnTo>
                      <a:pt x="580" y="590"/>
                    </a:lnTo>
                    <a:lnTo>
                      <a:pt x="586" y="574"/>
                    </a:lnTo>
                    <a:lnTo>
                      <a:pt x="593" y="557"/>
                    </a:lnTo>
                    <a:lnTo>
                      <a:pt x="595" y="545"/>
                    </a:lnTo>
                    <a:lnTo>
                      <a:pt x="597" y="533"/>
                    </a:lnTo>
                    <a:lnTo>
                      <a:pt x="599" y="522"/>
                    </a:lnTo>
                    <a:lnTo>
                      <a:pt x="603" y="510"/>
                    </a:lnTo>
                    <a:lnTo>
                      <a:pt x="605" y="495"/>
                    </a:lnTo>
                    <a:lnTo>
                      <a:pt x="609" y="479"/>
                    </a:lnTo>
                    <a:lnTo>
                      <a:pt x="611" y="462"/>
                    </a:lnTo>
                    <a:lnTo>
                      <a:pt x="615" y="446"/>
                    </a:lnTo>
                    <a:lnTo>
                      <a:pt x="615" y="427"/>
                    </a:lnTo>
                    <a:lnTo>
                      <a:pt x="617" y="409"/>
                    </a:lnTo>
                    <a:lnTo>
                      <a:pt x="619" y="392"/>
                    </a:lnTo>
                    <a:lnTo>
                      <a:pt x="621" y="376"/>
                    </a:lnTo>
                    <a:lnTo>
                      <a:pt x="621" y="361"/>
                    </a:lnTo>
                    <a:lnTo>
                      <a:pt x="623" y="347"/>
                    </a:lnTo>
                    <a:lnTo>
                      <a:pt x="623" y="334"/>
                    </a:lnTo>
                    <a:lnTo>
                      <a:pt x="624" y="322"/>
                    </a:lnTo>
                    <a:lnTo>
                      <a:pt x="623" y="308"/>
                    </a:lnTo>
                    <a:lnTo>
                      <a:pt x="623" y="297"/>
                    </a:lnTo>
                    <a:lnTo>
                      <a:pt x="623" y="285"/>
                    </a:lnTo>
                    <a:lnTo>
                      <a:pt x="623" y="274"/>
                    </a:lnTo>
                    <a:lnTo>
                      <a:pt x="623" y="252"/>
                    </a:lnTo>
                    <a:lnTo>
                      <a:pt x="623" y="235"/>
                    </a:lnTo>
                    <a:lnTo>
                      <a:pt x="621" y="215"/>
                    </a:lnTo>
                    <a:lnTo>
                      <a:pt x="619" y="198"/>
                    </a:lnTo>
                    <a:lnTo>
                      <a:pt x="617" y="180"/>
                    </a:lnTo>
                    <a:lnTo>
                      <a:pt x="617" y="165"/>
                    </a:lnTo>
                    <a:lnTo>
                      <a:pt x="615" y="148"/>
                    </a:lnTo>
                    <a:lnTo>
                      <a:pt x="615" y="132"/>
                    </a:lnTo>
                    <a:lnTo>
                      <a:pt x="615" y="115"/>
                    </a:lnTo>
                    <a:lnTo>
                      <a:pt x="615" y="99"/>
                    </a:lnTo>
                    <a:lnTo>
                      <a:pt x="615" y="85"/>
                    </a:lnTo>
                    <a:lnTo>
                      <a:pt x="615" y="74"/>
                    </a:lnTo>
                    <a:lnTo>
                      <a:pt x="615" y="62"/>
                    </a:lnTo>
                    <a:lnTo>
                      <a:pt x="615" y="51"/>
                    </a:lnTo>
                    <a:lnTo>
                      <a:pt x="615" y="37"/>
                    </a:lnTo>
                    <a:lnTo>
                      <a:pt x="615" y="25"/>
                    </a:lnTo>
                    <a:lnTo>
                      <a:pt x="615" y="14"/>
                    </a:lnTo>
                    <a:lnTo>
                      <a:pt x="615" y="2"/>
                    </a:lnTo>
                    <a:lnTo>
                      <a:pt x="597" y="0"/>
                    </a:lnTo>
                    <a:lnTo>
                      <a:pt x="580" y="0"/>
                    </a:lnTo>
                    <a:lnTo>
                      <a:pt x="562" y="0"/>
                    </a:lnTo>
                    <a:lnTo>
                      <a:pt x="549" y="2"/>
                    </a:lnTo>
                    <a:lnTo>
                      <a:pt x="533" y="2"/>
                    </a:lnTo>
                    <a:lnTo>
                      <a:pt x="522" y="6"/>
                    </a:lnTo>
                    <a:lnTo>
                      <a:pt x="510" y="10"/>
                    </a:lnTo>
                    <a:lnTo>
                      <a:pt x="502" y="16"/>
                    </a:lnTo>
                    <a:close/>
                  </a:path>
                </a:pathLst>
              </a:custGeom>
              <a:solidFill>
                <a:srgbClr val="9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61520" y="4774680"/>
                <a:ext cx="493920" cy="1023480"/>
              </a:xfrm>
              <a:custGeom>
                <a:avLst/>
                <a:gdLst/>
                <a:ahLst/>
                <a:rect l="l" t="t" r="r" b="b"/>
                <a:pathLst>
                  <a:path w="808" h="1679">
                    <a:moveTo>
                      <a:pt x="808" y="1224"/>
                    </a:moveTo>
                    <a:lnTo>
                      <a:pt x="801" y="1202"/>
                    </a:lnTo>
                    <a:lnTo>
                      <a:pt x="795" y="1183"/>
                    </a:lnTo>
                    <a:lnTo>
                      <a:pt x="789" y="1162"/>
                    </a:lnTo>
                    <a:lnTo>
                      <a:pt x="783" y="1144"/>
                    </a:lnTo>
                    <a:lnTo>
                      <a:pt x="777" y="1125"/>
                    </a:lnTo>
                    <a:lnTo>
                      <a:pt x="775" y="1105"/>
                    </a:lnTo>
                    <a:lnTo>
                      <a:pt x="772" y="1086"/>
                    </a:lnTo>
                    <a:lnTo>
                      <a:pt x="772" y="1069"/>
                    </a:lnTo>
                    <a:lnTo>
                      <a:pt x="768" y="1049"/>
                    </a:lnTo>
                    <a:lnTo>
                      <a:pt x="766" y="1032"/>
                    </a:lnTo>
                    <a:lnTo>
                      <a:pt x="764" y="1012"/>
                    </a:lnTo>
                    <a:lnTo>
                      <a:pt x="764" y="995"/>
                    </a:lnTo>
                    <a:lnTo>
                      <a:pt x="762" y="976"/>
                    </a:lnTo>
                    <a:lnTo>
                      <a:pt x="762" y="958"/>
                    </a:lnTo>
                    <a:lnTo>
                      <a:pt x="762" y="941"/>
                    </a:lnTo>
                    <a:lnTo>
                      <a:pt x="764" y="923"/>
                    </a:lnTo>
                    <a:lnTo>
                      <a:pt x="764" y="904"/>
                    </a:lnTo>
                    <a:lnTo>
                      <a:pt x="764" y="884"/>
                    </a:lnTo>
                    <a:lnTo>
                      <a:pt x="764" y="865"/>
                    </a:lnTo>
                    <a:lnTo>
                      <a:pt x="766" y="848"/>
                    </a:lnTo>
                    <a:lnTo>
                      <a:pt x="766" y="828"/>
                    </a:lnTo>
                    <a:lnTo>
                      <a:pt x="768" y="811"/>
                    </a:lnTo>
                    <a:lnTo>
                      <a:pt x="770" y="791"/>
                    </a:lnTo>
                    <a:lnTo>
                      <a:pt x="772" y="774"/>
                    </a:lnTo>
                    <a:lnTo>
                      <a:pt x="772" y="753"/>
                    </a:lnTo>
                    <a:lnTo>
                      <a:pt x="773" y="733"/>
                    </a:lnTo>
                    <a:lnTo>
                      <a:pt x="775" y="714"/>
                    </a:lnTo>
                    <a:lnTo>
                      <a:pt x="777" y="694"/>
                    </a:lnTo>
                    <a:lnTo>
                      <a:pt x="777" y="673"/>
                    </a:lnTo>
                    <a:lnTo>
                      <a:pt x="781" y="654"/>
                    </a:lnTo>
                    <a:lnTo>
                      <a:pt x="781" y="632"/>
                    </a:lnTo>
                    <a:lnTo>
                      <a:pt x="785" y="613"/>
                    </a:lnTo>
                    <a:lnTo>
                      <a:pt x="768" y="594"/>
                    </a:lnTo>
                    <a:lnTo>
                      <a:pt x="756" y="576"/>
                    </a:lnTo>
                    <a:lnTo>
                      <a:pt x="744" y="557"/>
                    </a:lnTo>
                    <a:lnTo>
                      <a:pt x="739" y="539"/>
                    </a:lnTo>
                    <a:lnTo>
                      <a:pt x="731" y="520"/>
                    </a:lnTo>
                    <a:lnTo>
                      <a:pt x="727" y="502"/>
                    </a:lnTo>
                    <a:lnTo>
                      <a:pt x="725" y="483"/>
                    </a:lnTo>
                    <a:lnTo>
                      <a:pt x="725" y="466"/>
                    </a:lnTo>
                    <a:lnTo>
                      <a:pt x="723" y="446"/>
                    </a:lnTo>
                    <a:lnTo>
                      <a:pt x="723" y="427"/>
                    </a:lnTo>
                    <a:lnTo>
                      <a:pt x="725" y="407"/>
                    </a:lnTo>
                    <a:lnTo>
                      <a:pt x="729" y="390"/>
                    </a:lnTo>
                    <a:lnTo>
                      <a:pt x="731" y="371"/>
                    </a:lnTo>
                    <a:lnTo>
                      <a:pt x="735" y="353"/>
                    </a:lnTo>
                    <a:lnTo>
                      <a:pt x="741" y="334"/>
                    </a:lnTo>
                    <a:lnTo>
                      <a:pt x="746" y="316"/>
                    </a:lnTo>
                    <a:lnTo>
                      <a:pt x="750" y="297"/>
                    </a:lnTo>
                    <a:lnTo>
                      <a:pt x="754" y="277"/>
                    </a:lnTo>
                    <a:lnTo>
                      <a:pt x="758" y="258"/>
                    </a:lnTo>
                    <a:lnTo>
                      <a:pt x="764" y="241"/>
                    </a:lnTo>
                    <a:lnTo>
                      <a:pt x="768" y="221"/>
                    </a:lnTo>
                    <a:lnTo>
                      <a:pt x="772" y="202"/>
                    </a:lnTo>
                    <a:lnTo>
                      <a:pt x="773" y="182"/>
                    </a:lnTo>
                    <a:lnTo>
                      <a:pt x="777" y="165"/>
                    </a:lnTo>
                    <a:lnTo>
                      <a:pt x="777" y="146"/>
                    </a:lnTo>
                    <a:lnTo>
                      <a:pt x="777" y="126"/>
                    </a:lnTo>
                    <a:lnTo>
                      <a:pt x="773" y="107"/>
                    </a:lnTo>
                    <a:lnTo>
                      <a:pt x="772" y="89"/>
                    </a:lnTo>
                    <a:lnTo>
                      <a:pt x="766" y="72"/>
                    </a:lnTo>
                    <a:lnTo>
                      <a:pt x="760" y="54"/>
                    </a:lnTo>
                    <a:lnTo>
                      <a:pt x="752" y="37"/>
                    </a:lnTo>
                    <a:lnTo>
                      <a:pt x="744" y="20"/>
                    </a:lnTo>
                    <a:lnTo>
                      <a:pt x="731" y="14"/>
                    </a:lnTo>
                    <a:lnTo>
                      <a:pt x="717" y="10"/>
                    </a:lnTo>
                    <a:lnTo>
                      <a:pt x="704" y="6"/>
                    </a:lnTo>
                    <a:lnTo>
                      <a:pt x="690" y="6"/>
                    </a:lnTo>
                    <a:lnTo>
                      <a:pt x="675" y="2"/>
                    </a:lnTo>
                    <a:lnTo>
                      <a:pt x="659" y="0"/>
                    </a:lnTo>
                    <a:lnTo>
                      <a:pt x="644" y="0"/>
                    </a:lnTo>
                    <a:lnTo>
                      <a:pt x="630" y="0"/>
                    </a:lnTo>
                    <a:lnTo>
                      <a:pt x="613" y="0"/>
                    </a:lnTo>
                    <a:lnTo>
                      <a:pt x="599" y="0"/>
                    </a:lnTo>
                    <a:lnTo>
                      <a:pt x="583" y="0"/>
                    </a:lnTo>
                    <a:lnTo>
                      <a:pt x="572" y="4"/>
                    </a:lnTo>
                    <a:lnTo>
                      <a:pt x="558" y="4"/>
                    </a:lnTo>
                    <a:lnTo>
                      <a:pt x="547" y="8"/>
                    </a:lnTo>
                    <a:lnTo>
                      <a:pt x="535" y="12"/>
                    </a:lnTo>
                    <a:lnTo>
                      <a:pt x="527" y="18"/>
                    </a:lnTo>
                    <a:lnTo>
                      <a:pt x="527" y="27"/>
                    </a:lnTo>
                    <a:lnTo>
                      <a:pt x="527" y="37"/>
                    </a:lnTo>
                    <a:lnTo>
                      <a:pt x="523" y="47"/>
                    </a:lnTo>
                    <a:lnTo>
                      <a:pt x="521" y="56"/>
                    </a:lnTo>
                    <a:lnTo>
                      <a:pt x="508" y="70"/>
                    </a:lnTo>
                    <a:lnTo>
                      <a:pt x="500" y="89"/>
                    </a:lnTo>
                    <a:lnTo>
                      <a:pt x="479" y="89"/>
                    </a:lnTo>
                    <a:lnTo>
                      <a:pt x="459" y="95"/>
                    </a:lnTo>
                    <a:lnTo>
                      <a:pt x="442" y="99"/>
                    </a:lnTo>
                    <a:lnTo>
                      <a:pt x="425" y="107"/>
                    </a:lnTo>
                    <a:lnTo>
                      <a:pt x="407" y="113"/>
                    </a:lnTo>
                    <a:lnTo>
                      <a:pt x="390" y="122"/>
                    </a:lnTo>
                    <a:lnTo>
                      <a:pt x="374" y="132"/>
                    </a:lnTo>
                    <a:lnTo>
                      <a:pt x="361" y="144"/>
                    </a:lnTo>
                    <a:lnTo>
                      <a:pt x="343" y="153"/>
                    </a:lnTo>
                    <a:lnTo>
                      <a:pt x="330" y="165"/>
                    </a:lnTo>
                    <a:lnTo>
                      <a:pt x="314" y="179"/>
                    </a:lnTo>
                    <a:lnTo>
                      <a:pt x="302" y="192"/>
                    </a:lnTo>
                    <a:lnTo>
                      <a:pt x="289" y="206"/>
                    </a:lnTo>
                    <a:lnTo>
                      <a:pt x="275" y="221"/>
                    </a:lnTo>
                    <a:lnTo>
                      <a:pt x="264" y="237"/>
                    </a:lnTo>
                    <a:lnTo>
                      <a:pt x="252" y="254"/>
                    </a:lnTo>
                    <a:lnTo>
                      <a:pt x="238" y="268"/>
                    </a:lnTo>
                    <a:lnTo>
                      <a:pt x="227" y="283"/>
                    </a:lnTo>
                    <a:lnTo>
                      <a:pt x="213" y="299"/>
                    </a:lnTo>
                    <a:lnTo>
                      <a:pt x="202" y="316"/>
                    </a:lnTo>
                    <a:lnTo>
                      <a:pt x="188" y="332"/>
                    </a:lnTo>
                    <a:lnTo>
                      <a:pt x="176" y="349"/>
                    </a:lnTo>
                    <a:lnTo>
                      <a:pt x="165" y="365"/>
                    </a:lnTo>
                    <a:lnTo>
                      <a:pt x="153" y="382"/>
                    </a:lnTo>
                    <a:lnTo>
                      <a:pt x="140" y="396"/>
                    </a:lnTo>
                    <a:lnTo>
                      <a:pt x="128" y="411"/>
                    </a:lnTo>
                    <a:lnTo>
                      <a:pt x="114" y="425"/>
                    </a:lnTo>
                    <a:lnTo>
                      <a:pt x="103" y="440"/>
                    </a:lnTo>
                    <a:lnTo>
                      <a:pt x="89" y="454"/>
                    </a:lnTo>
                    <a:lnTo>
                      <a:pt x="76" y="468"/>
                    </a:lnTo>
                    <a:lnTo>
                      <a:pt x="62" y="479"/>
                    </a:lnTo>
                    <a:lnTo>
                      <a:pt x="48" y="493"/>
                    </a:lnTo>
                    <a:lnTo>
                      <a:pt x="33" y="477"/>
                    </a:lnTo>
                    <a:lnTo>
                      <a:pt x="31" y="493"/>
                    </a:lnTo>
                    <a:lnTo>
                      <a:pt x="31" y="510"/>
                    </a:lnTo>
                    <a:lnTo>
                      <a:pt x="27" y="528"/>
                    </a:lnTo>
                    <a:lnTo>
                      <a:pt x="23" y="547"/>
                    </a:lnTo>
                    <a:lnTo>
                      <a:pt x="17" y="564"/>
                    </a:lnTo>
                    <a:lnTo>
                      <a:pt x="12" y="584"/>
                    </a:lnTo>
                    <a:lnTo>
                      <a:pt x="6" y="603"/>
                    </a:lnTo>
                    <a:lnTo>
                      <a:pt x="4" y="623"/>
                    </a:lnTo>
                    <a:lnTo>
                      <a:pt x="0" y="638"/>
                    </a:lnTo>
                    <a:lnTo>
                      <a:pt x="2" y="656"/>
                    </a:lnTo>
                    <a:lnTo>
                      <a:pt x="4" y="669"/>
                    </a:lnTo>
                    <a:lnTo>
                      <a:pt x="12" y="683"/>
                    </a:lnTo>
                    <a:lnTo>
                      <a:pt x="21" y="692"/>
                    </a:lnTo>
                    <a:lnTo>
                      <a:pt x="39" y="700"/>
                    </a:lnTo>
                    <a:lnTo>
                      <a:pt x="48" y="702"/>
                    </a:lnTo>
                    <a:lnTo>
                      <a:pt x="60" y="706"/>
                    </a:lnTo>
                    <a:lnTo>
                      <a:pt x="72" y="708"/>
                    </a:lnTo>
                    <a:lnTo>
                      <a:pt x="89" y="710"/>
                    </a:lnTo>
                    <a:lnTo>
                      <a:pt x="101" y="712"/>
                    </a:lnTo>
                    <a:lnTo>
                      <a:pt x="112" y="714"/>
                    </a:lnTo>
                    <a:lnTo>
                      <a:pt x="124" y="712"/>
                    </a:lnTo>
                    <a:lnTo>
                      <a:pt x="138" y="712"/>
                    </a:lnTo>
                    <a:lnTo>
                      <a:pt x="149" y="708"/>
                    </a:lnTo>
                    <a:lnTo>
                      <a:pt x="161" y="704"/>
                    </a:lnTo>
                    <a:lnTo>
                      <a:pt x="172" y="698"/>
                    </a:lnTo>
                    <a:lnTo>
                      <a:pt x="186" y="692"/>
                    </a:lnTo>
                    <a:lnTo>
                      <a:pt x="196" y="683"/>
                    </a:lnTo>
                    <a:lnTo>
                      <a:pt x="207" y="675"/>
                    </a:lnTo>
                    <a:lnTo>
                      <a:pt x="217" y="665"/>
                    </a:lnTo>
                    <a:lnTo>
                      <a:pt x="229" y="658"/>
                    </a:lnTo>
                    <a:lnTo>
                      <a:pt x="246" y="640"/>
                    </a:lnTo>
                    <a:lnTo>
                      <a:pt x="264" y="625"/>
                    </a:lnTo>
                    <a:lnTo>
                      <a:pt x="277" y="607"/>
                    </a:lnTo>
                    <a:lnTo>
                      <a:pt x="293" y="590"/>
                    </a:lnTo>
                    <a:lnTo>
                      <a:pt x="308" y="572"/>
                    </a:lnTo>
                    <a:lnTo>
                      <a:pt x="324" y="555"/>
                    </a:lnTo>
                    <a:lnTo>
                      <a:pt x="337" y="535"/>
                    </a:lnTo>
                    <a:lnTo>
                      <a:pt x="351" y="518"/>
                    </a:lnTo>
                    <a:lnTo>
                      <a:pt x="364" y="500"/>
                    </a:lnTo>
                    <a:lnTo>
                      <a:pt x="378" y="483"/>
                    </a:lnTo>
                    <a:lnTo>
                      <a:pt x="388" y="462"/>
                    </a:lnTo>
                    <a:lnTo>
                      <a:pt x="399" y="444"/>
                    </a:lnTo>
                    <a:lnTo>
                      <a:pt x="409" y="423"/>
                    </a:lnTo>
                    <a:lnTo>
                      <a:pt x="421" y="405"/>
                    </a:lnTo>
                    <a:lnTo>
                      <a:pt x="425" y="394"/>
                    </a:lnTo>
                    <a:lnTo>
                      <a:pt x="428" y="384"/>
                    </a:lnTo>
                    <a:lnTo>
                      <a:pt x="432" y="372"/>
                    </a:lnTo>
                    <a:lnTo>
                      <a:pt x="438" y="363"/>
                    </a:lnTo>
                    <a:lnTo>
                      <a:pt x="446" y="341"/>
                    </a:lnTo>
                    <a:lnTo>
                      <a:pt x="454" y="322"/>
                    </a:lnTo>
                    <a:lnTo>
                      <a:pt x="469" y="320"/>
                    </a:lnTo>
                    <a:lnTo>
                      <a:pt x="483" y="322"/>
                    </a:lnTo>
                    <a:lnTo>
                      <a:pt x="494" y="326"/>
                    </a:lnTo>
                    <a:lnTo>
                      <a:pt x="502" y="336"/>
                    </a:lnTo>
                    <a:lnTo>
                      <a:pt x="506" y="341"/>
                    </a:lnTo>
                    <a:lnTo>
                      <a:pt x="510" y="353"/>
                    </a:lnTo>
                    <a:lnTo>
                      <a:pt x="510" y="365"/>
                    </a:lnTo>
                    <a:lnTo>
                      <a:pt x="512" y="378"/>
                    </a:lnTo>
                    <a:lnTo>
                      <a:pt x="510" y="390"/>
                    </a:lnTo>
                    <a:lnTo>
                      <a:pt x="510" y="404"/>
                    </a:lnTo>
                    <a:lnTo>
                      <a:pt x="510" y="415"/>
                    </a:lnTo>
                    <a:lnTo>
                      <a:pt x="510" y="429"/>
                    </a:lnTo>
                    <a:lnTo>
                      <a:pt x="510" y="438"/>
                    </a:lnTo>
                    <a:lnTo>
                      <a:pt x="512" y="450"/>
                    </a:lnTo>
                    <a:lnTo>
                      <a:pt x="518" y="458"/>
                    </a:lnTo>
                    <a:lnTo>
                      <a:pt x="525" y="466"/>
                    </a:lnTo>
                    <a:lnTo>
                      <a:pt x="529" y="477"/>
                    </a:lnTo>
                    <a:lnTo>
                      <a:pt x="535" y="491"/>
                    </a:lnTo>
                    <a:lnTo>
                      <a:pt x="541" y="504"/>
                    </a:lnTo>
                    <a:lnTo>
                      <a:pt x="547" y="518"/>
                    </a:lnTo>
                    <a:lnTo>
                      <a:pt x="549" y="530"/>
                    </a:lnTo>
                    <a:lnTo>
                      <a:pt x="552" y="543"/>
                    </a:lnTo>
                    <a:lnTo>
                      <a:pt x="556" y="557"/>
                    </a:lnTo>
                    <a:lnTo>
                      <a:pt x="560" y="570"/>
                    </a:lnTo>
                    <a:lnTo>
                      <a:pt x="562" y="582"/>
                    </a:lnTo>
                    <a:lnTo>
                      <a:pt x="564" y="595"/>
                    </a:lnTo>
                    <a:lnTo>
                      <a:pt x="566" y="609"/>
                    </a:lnTo>
                    <a:lnTo>
                      <a:pt x="568" y="623"/>
                    </a:lnTo>
                    <a:lnTo>
                      <a:pt x="568" y="636"/>
                    </a:lnTo>
                    <a:lnTo>
                      <a:pt x="568" y="650"/>
                    </a:lnTo>
                    <a:lnTo>
                      <a:pt x="568" y="663"/>
                    </a:lnTo>
                    <a:lnTo>
                      <a:pt x="570" y="679"/>
                    </a:lnTo>
                    <a:lnTo>
                      <a:pt x="568" y="691"/>
                    </a:lnTo>
                    <a:lnTo>
                      <a:pt x="566" y="704"/>
                    </a:lnTo>
                    <a:lnTo>
                      <a:pt x="564" y="718"/>
                    </a:lnTo>
                    <a:lnTo>
                      <a:pt x="564" y="731"/>
                    </a:lnTo>
                    <a:lnTo>
                      <a:pt x="562" y="745"/>
                    </a:lnTo>
                    <a:lnTo>
                      <a:pt x="562" y="758"/>
                    </a:lnTo>
                    <a:lnTo>
                      <a:pt x="560" y="772"/>
                    </a:lnTo>
                    <a:lnTo>
                      <a:pt x="560" y="787"/>
                    </a:lnTo>
                    <a:lnTo>
                      <a:pt x="558" y="801"/>
                    </a:lnTo>
                    <a:lnTo>
                      <a:pt x="556" y="815"/>
                    </a:lnTo>
                    <a:lnTo>
                      <a:pt x="556" y="828"/>
                    </a:lnTo>
                    <a:lnTo>
                      <a:pt x="556" y="844"/>
                    </a:lnTo>
                    <a:lnTo>
                      <a:pt x="554" y="857"/>
                    </a:lnTo>
                    <a:lnTo>
                      <a:pt x="552" y="873"/>
                    </a:lnTo>
                    <a:lnTo>
                      <a:pt x="552" y="886"/>
                    </a:lnTo>
                    <a:lnTo>
                      <a:pt x="552" y="902"/>
                    </a:lnTo>
                    <a:lnTo>
                      <a:pt x="539" y="908"/>
                    </a:lnTo>
                    <a:lnTo>
                      <a:pt x="525" y="917"/>
                    </a:lnTo>
                    <a:lnTo>
                      <a:pt x="512" y="925"/>
                    </a:lnTo>
                    <a:lnTo>
                      <a:pt x="500" y="937"/>
                    </a:lnTo>
                    <a:lnTo>
                      <a:pt x="488" y="946"/>
                    </a:lnTo>
                    <a:lnTo>
                      <a:pt x="477" y="956"/>
                    </a:lnTo>
                    <a:lnTo>
                      <a:pt x="465" y="968"/>
                    </a:lnTo>
                    <a:lnTo>
                      <a:pt x="454" y="979"/>
                    </a:lnTo>
                    <a:lnTo>
                      <a:pt x="442" y="989"/>
                    </a:lnTo>
                    <a:lnTo>
                      <a:pt x="430" y="1001"/>
                    </a:lnTo>
                    <a:lnTo>
                      <a:pt x="419" y="1012"/>
                    </a:lnTo>
                    <a:lnTo>
                      <a:pt x="407" y="1024"/>
                    </a:lnTo>
                    <a:lnTo>
                      <a:pt x="395" y="1036"/>
                    </a:lnTo>
                    <a:lnTo>
                      <a:pt x="386" y="1049"/>
                    </a:lnTo>
                    <a:lnTo>
                      <a:pt x="374" y="1061"/>
                    </a:lnTo>
                    <a:lnTo>
                      <a:pt x="364" y="1074"/>
                    </a:lnTo>
                    <a:lnTo>
                      <a:pt x="353" y="1086"/>
                    </a:lnTo>
                    <a:lnTo>
                      <a:pt x="341" y="1098"/>
                    </a:lnTo>
                    <a:lnTo>
                      <a:pt x="330" y="1109"/>
                    </a:lnTo>
                    <a:lnTo>
                      <a:pt x="320" y="1123"/>
                    </a:lnTo>
                    <a:lnTo>
                      <a:pt x="308" y="1135"/>
                    </a:lnTo>
                    <a:lnTo>
                      <a:pt x="298" y="1146"/>
                    </a:lnTo>
                    <a:lnTo>
                      <a:pt x="287" y="1158"/>
                    </a:lnTo>
                    <a:lnTo>
                      <a:pt x="277" y="1171"/>
                    </a:lnTo>
                    <a:lnTo>
                      <a:pt x="266" y="1183"/>
                    </a:lnTo>
                    <a:lnTo>
                      <a:pt x="254" y="1195"/>
                    </a:lnTo>
                    <a:lnTo>
                      <a:pt x="242" y="1206"/>
                    </a:lnTo>
                    <a:lnTo>
                      <a:pt x="231" y="1218"/>
                    </a:lnTo>
                    <a:lnTo>
                      <a:pt x="219" y="1228"/>
                    </a:lnTo>
                    <a:lnTo>
                      <a:pt x="207" y="1239"/>
                    </a:lnTo>
                    <a:lnTo>
                      <a:pt x="196" y="1249"/>
                    </a:lnTo>
                    <a:lnTo>
                      <a:pt x="186" y="1261"/>
                    </a:lnTo>
                    <a:lnTo>
                      <a:pt x="178" y="1272"/>
                    </a:lnTo>
                    <a:lnTo>
                      <a:pt x="172" y="1284"/>
                    </a:lnTo>
                    <a:lnTo>
                      <a:pt x="169" y="1295"/>
                    </a:lnTo>
                    <a:lnTo>
                      <a:pt x="165" y="1307"/>
                    </a:lnTo>
                    <a:lnTo>
                      <a:pt x="161" y="1319"/>
                    </a:lnTo>
                    <a:lnTo>
                      <a:pt x="159" y="1332"/>
                    </a:lnTo>
                    <a:lnTo>
                      <a:pt x="157" y="1344"/>
                    </a:lnTo>
                    <a:lnTo>
                      <a:pt x="157" y="1358"/>
                    </a:lnTo>
                    <a:lnTo>
                      <a:pt x="155" y="1369"/>
                    </a:lnTo>
                    <a:lnTo>
                      <a:pt x="155" y="1383"/>
                    </a:lnTo>
                    <a:lnTo>
                      <a:pt x="155" y="1396"/>
                    </a:lnTo>
                    <a:lnTo>
                      <a:pt x="157" y="1410"/>
                    </a:lnTo>
                    <a:lnTo>
                      <a:pt x="157" y="1422"/>
                    </a:lnTo>
                    <a:lnTo>
                      <a:pt x="161" y="1435"/>
                    </a:lnTo>
                    <a:lnTo>
                      <a:pt x="163" y="1449"/>
                    </a:lnTo>
                    <a:lnTo>
                      <a:pt x="167" y="1462"/>
                    </a:lnTo>
                    <a:lnTo>
                      <a:pt x="167" y="1474"/>
                    </a:lnTo>
                    <a:lnTo>
                      <a:pt x="171" y="1486"/>
                    </a:lnTo>
                    <a:lnTo>
                      <a:pt x="172" y="1497"/>
                    </a:lnTo>
                    <a:lnTo>
                      <a:pt x="176" y="1511"/>
                    </a:lnTo>
                    <a:lnTo>
                      <a:pt x="178" y="1522"/>
                    </a:lnTo>
                    <a:lnTo>
                      <a:pt x="184" y="1536"/>
                    </a:lnTo>
                    <a:lnTo>
                      <a:pt x="186" y="1548"/>
                    </a:lnTo>
                    <a:lnTo>
                      <a:pt x="192" y="1561"/>
                    </a:lnTo>
                    <a:lnTo>
                      <a:pt x="194" y="1571"/>
                    </a:lnTo>
                    <a:lnTo>
                      <a:pt x="196" y="1582"/>
                    </a:lnTo>
                    <a:lnTo>
                      <a:pt x="198" y="1594"/>
                    </a:lnTo>
                    <a:lnTo>
                      <a:pt x="202" y="1606"/>
                    </a:lnTo>
                    <a:lnTo>
                      <a:pt x="203" y="1617"/>
                    </a:lnTo>
                    <a:lnTo>
                      <a:pt x="205" y="1629"/>
                    </a:lnTo>
                    <a:lnTo>
                      <a:pt x="207" y="1641"/>
                    </a:lnTo>
                    <a:lnTo>
                      <a:pt x="211" y="1652"/>
                    </a:lnTo>
                    <a:lnTo>
                      <a:pt x="229" y="1652"/>
                    </a:lnTo>
                    <a:lnTo>
                      <a:pt x="246" y="1654"/>
                    </a:lnTo>
                    <a:lnTo>
                      <a:pt x="264" y="1656"/>
                    </a:lnTo>
                    <a:lnTo>
                      <a:pt x="281" y="1662"/>
                    </a:lnTo>
                    <a:lnTo>
                      <a:pt x="298" y="1666"/>
                    </a:lnTo>
                    <a:lnTo>
                      <a:pt x="316" y="1670"/>
                    </a:lnTo>
                    <a:lnTo>
                      <a:pt x="333" y="1674"/>
                    </a:lnTo>
                    <a:lnTo>
                      <a:pt x="353" y="1679"/>
                    </a:lnTo>
                    <a:lnTo>
                      <a:pt x="353" y="1660"/>
                    </a:lnTo>
                    <a:lnTo>
                      <a:pt x="353" y="1643"/>
                    </a:lnTo>
                    <a:lnTo>
                      <a:pt x="353" y="1625"/>
                    </a:lnTo>
                    <a:lnTo>
                      <a:pt x="353" y="1610"/>
                    </a:lnTo>
                    <a:lnTo>
                      <a:pt x="353" y="1592"/>
                    </a:lnTo>
                    <a:lnTo>
                      <a:pt x="353" y="1579"/>
                    </a:lnTo>
                    <a:lnTo>
                      <a:pt x="353" y="1563"/>
                    </a:lnTo>
                    <a:lnTo>
                      <a:pt x="353" y="1551"/>
                    </a:lnTo>
                    <a:lnTo>
                      <a:pt x="353" y="1536"/>
                    </a:lnTo>
                    <a:lnTo>
                      <a:pt x="353" y="1520"/>
                    </a:lnTo>
                    <a:lnTo>
                      <a:pt x="353" y="1505"/>
                    </a:lnTo>
                    <a:lnTo>
                      <a:pt x="353" y="1489"/>
                    </a:lnTo>
                    <a:lnTo>
                      <a:pt x="353" y="1472"/>
                    </a:lnTo>
                    <a:lnTo>
                      <a:pt x="353" y="1456"/>
                    </a:lnTo>
                    <a:lnTo>
                      <a:pt x="353" y="1441"/>
                    </a:lnTo>
                    <a:lnTo>
                      <a:pt x="355" y="1425"/>
                    </a:lnTo>
                    <a:lnTo>
                      <a:pt x="355" y="1408"/>
                    </a:lnTo>
                    <a:lnTo>
                      <a:pt x="357" y="1392"/>
                    </a:lnTo>
                    <a:lnTo>
                      <a:pt x="359" y="1377"/>
                    </a:lnTo>
                    <a:lnTo>
                      <a:pt x="362" y="1361"/>
                    </a:lnTo>
                    <a:lnTo>
                      <a:pt x="364" y="1344"/>
                    </a:lnTo>
                    <a:lnTo>
                      <a:pt x="368" y="1330"/>
                    </a:lnTo>
                    <a:lnTo>
                      <a:pt x="372" y="1315"/>
                    </a:lnTo>
                    <a:lnTo>
                      <a:pt x="378" y="1303"/>
                    </a:lnTo>
                    <a:lnTo>
                      <a:pt x="382" y="1290"/>
                    </a:lnTo>
                    <a:lnTo>
                      <a:pt x="393" y="1278"/>
                    </a:lnTo>
                    <a:lnTo>
                      <a:pt x="405" y="1266"/>
                    </a:lnTo>
                    <a:lnTo>
                      <a:pt x="423" y="1259"/>
                    </a:lnTo>
                    <a:lnTo>
                      <a:pt x="440" y="1249"/>
                    </a:lnTo>
                    <a:lnTo>
                      <a:pt x="461" y="1243"/>
                    </a:lnTo>
                    <a:lnTo>
                      <a:pt x="473" y="1237"/>
                    </a:lnTo>
                    <a:lnTo>
                      <a:pt x="485" y="1235"/>
                    </a:lnTo>
                    <a:lnTo>
                      <a:pt x="496" y="1233"/>
                    </a:lnTo>
                    <a:lnTo>
                      <a:pt x="510" y="1233"/>
                    </a:lnTo>
                    <a:lnTo>
                      <a:pt x="521" y="1230"/>
                    </a:lnTo>
                    <a:lnTo>
                      <a:pt x="533" y="1228"/>
                    </a:lnTo>
                    <a:lnTo>
                      <a:pt x="547" y="1228"/>
                    </a:lnTo>
                    <a:lnTo>
                      <a:pt x="560" y="1228"/>
                    </a:lnTo>
                    <a:lnTo>
                      <a:pt x="572" y="1226"/>
                    </a:lnTo>
                    <a:lnTo>
                      <a:pt x="583" y="1226"/>
                    </a:lnTo>
                    <a:lnTo>
                      <a:pt x="597" y="1226"/>
                    </a:lnTo>
                    <a:lnTo>
                      <a:pt x="611" y="1228"/>
                    </a:lnTo>
                    <a:lnTo>
                      <a:pt x="622" y="1228"/>
                    </a:lnTo>
                    <a:lnTo>
                      <a:pt x="636" y="1228"/>
                    </a:lnTo>
                    <a:lnTo>
                      <a:pt x="647" y="1230"/>
                    </a:lnTo>
                    <a:lnTo>
                      <a:pt x="661" y="1233"/>
                    </a:lnTo>
                    <a:lnTo>
                      <a:pt x="671" y="1233"/>
                    </a:lnTo>
                    <a:lnTo>
                      <a:pt x="682" y="1237"/>
                    </a:lnTo>
                    <a:lnTo>
                      <a:pt x="694" y="1239"/>
                    </a:lnTo>
                    <a:lnTo>
                      <a:pt x="706" y="1245"/>
                    </a:lnTo>
                    <a:lnTo>
                      <a:pt x="717" y="1237"/>
                    </a:lnTo>
                    <a:lnTo>
                      <a:pt x="729" y="1231"/>
                    </a:lnTo>
                    <a:lnTo>
                      <a:pt x="741" y="1228"/>
                    </a:lnTo>
                    <a:lnTo>
                      <a:pt x="754" y="1226"/>
                    </a:lnTo>
                    <a:lnTo>
                      <a:pt x="766" y="1222"/>
                    </a:lnTo>
                    <a:lnTo>
                      <a:pt x="779" y="1222"/>
                    </a:lnTo>
                    <a:lnTo>
                      <a:pt x="793" y="1222"/>
                    </a:lnTo>
                    <a:lnTo>
                      <a:pt x="808" y="1224"/>
                    </a:lnTo>
                    <a:close/>
                  </a:path>
                </a:pathLst>
              </a:custGeom>
              <a:solidFill>
                <a:srgbClr val="d4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377160" y="5521320"/>
                <a:ext cx="214560" cy="279000"/>
              </a:xfrm>
              <a:custGeom>
                <a:avLst/>
                <a:gdLst/>
                <a:ahLst/>
                <a:rect l="l" t="t" r="r" b="b"/>
                <a:pathLst>
                  <a:path w="353" h="457">
                    <a:moveTo>
                      <a:pt x="25" y="77"/>
                    </a:moveTo>
                    <a:lnTo>
                      <a:pt x="19" y="89"/>
                    </a:lnTo>
                    <a:lnTo>
                      <a:pt x="15" y="104"/>
                    </a:lnTo>
                    <a:lnTo>
                      <a:pt x="11" y="118"/>
                    </a:lnTo>
                    <a:lnTo>
                      <a:pt x="9" y="135"/>
                    </a:lnTo>
                    <a:lnTo>
                      <a:pt x="6" y="151"/>
                    </a:lnTo>
                    <a:lnTo>
                      <a:pt x="4" y="166"/>
                    </a:lnTo>
                    <a:lnTo>
                      <a:pt x="2" y="182"/>
                    </a:lnTo>
                    <a:lnTo>
                      <a:pt x="2" y="199"/>
                    </a:lnTo>
                    <a:lnTo>
                      <a:pt x="0" y="215"/>
                    </a:lnTo>
                    <a:lnTo>
                      <a:pt x="0" y="230"/>
                    </a:lnTo>
                    <a:lnTo>
                      <a:pt x="0" y="246"/>
                    </a:lnTo>
                    <a:lnTo>
                      <a:pt x="0" y="263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0" y="310"/>
                    </a:lnTo>
                    <a:lnTo>
                      <a:pt x="0" y="325"/>
                    </a:lnTo>
                    <a:lnTo>
                      <a:pt x="0" y="337"/>
                    </a:lnTo>
                    <a:lnTo>
                      <a:pt x="0" y="353"/>
                    </a:lnTo>
                    <a:lnTo>
                      <a:pt x="0" y="366"/>
                    </a:lnTo>
                    <a:lnTo>
                      <a:pt x="0" y="384"/>
                    </a:lnTo>
                    <a:lnTo>
                      <a:pt x="0" y="399"/>
                    </a:lnTo>
                    <a:lnTo>
                      <a:pt x="0" y="417"/>
                    </a:lnTo>
                    <a:lnTo>
                      <a:pt x="0" y="434"/>
                    </a:lnTo>
                    <a:lnTo>
                      <a:pt x="0" y="453"/>
                    </a:lnTo>
                    <a:lnTo>
                      <a:pt x="13" y="453"/>
                    </a:lnTo>
                    <a:lnTo>
                      <a:pt x="29" y="455"/>
                    </a:lnTo>
                    <a:lnTo>
                      <a:pt x="42" y="455"/>
                    </a:lnTo>
                    <a:lnTo>
                      <a:pt x="60" y="457"/>
                    </a:lnTo>
                    <a:lnTo>
                      <a:pt x="73" y="453"/>
                    </a:lnTo>
                    <a:lnTo>
                      <a:pt x="89" y="451"/>
                    </a:lnTo>
                    <a:lnTo>
                      <a:pt x="103" y="448"/>
                    </a:lnTo>
                    <a:lnTo>
                      <a:pt x="120" y="444"/>
                    </a:lnTo>
                    <a:lnTo>
                      <a:pt x="137" y="197"/>
                    </a:lnTo>
                    <a:lnTo>
                      <a:pt x="149" y="186"/>
                    </a:lnTo>
                    <a:lnTo>
                      <a:pt x="163" y="174"/>
                    </a:lnTo>
                    <a:lnTo>
                      <a:pt x="176" y="163"/>
                    </a:lnTo>
                    <a:lnTo>
                      <a:pt x="190" y="153"/>
                    </a:lnTo>
                    <a:lnTo>
                      <a:pt x="201" y="139"/>
                    </a:lnTo>
                    <a:lnTo>
                      <a:pt x="215" y="128"/>
                    </a:lnTo>
                    <a:lnTo>
                      <a:pt x="229" y="116"/>
                    </a:lnTo>
                    <a:lnTo>
                      <a:pt x="242" y="104"/>
                    </a:lnTo>
                    <a:lnTo>
                      <a:pt x="254" y="91"/>
                    </a:lnTo>
                    <a:lnTo>
                      <a:pt x="267" y="79"/>
                    </a:lnTo>
                    <a:lnTo>
                      <a:pt x="281" y="68"/>
                    </a:lnTo>
                    <a:lnTo>
                      <a:pt x="294" y="56"/>
                    </a:lnTo>
                    <a:lnTo>
                      <a:pt x="306" y="44"/>
                    </a:lnTo>
                    <a:lnTo>
                      <a:pt x="322" y="35"/>
                    </a:lnTo>
                    <a:lnTo>
                      <a:pt x="335" y="25"/>
                    </a:lnTo>
                    <a:lnTo>
                      <a:pt x="353" y="19"/>
                    </a:lnTo>
                    <a:lnTo>
                      <a:pt x="341" y="13"/>
                    </a:lnTo>
                    <a:lnTo>
                      <a:pt x="329" y="11"/>
                    </a:lnTo>
                    <a:lnTo>
                      <a:pt x="318" y="7"/>
                    </a:lnTo>
                    <a:lnTo>
                      <a:pt x="308" y="7"/>
                    </a:lnTo>
                    <a:lnTo>
                      <a:pt x="294" y="4"/>
                    </a:lnTo>
                    <a:lnTo>
                      <a:pt x="283" y="2"/>
                    </a:lnTo>
                    <a:lnTo>
                      <a:pt x="269" y="2"/>
                    </a:lnTo>
                    <a:lnTo>
                      <a:pt x="258" y="2"/>
                    </a:lnTo>
                    <a:lnTo>
                      <a:pt x="244" y="0"/>
                    </a:lnTo>
                    <a:lnTo>
                      <a:pt x="230" y="0"/>
                    </a:lnTo>
                    <a:lnTo>
                      <a:pt x="219" y="0"/>
                    </a:lnTo>
                    <a:lnTo>
                      <a:pt x="207" y="2"/>
                    </a:lnTo>
                    <a:lnTo>
                      <a:pt x="194" y="2"/>
                    </a:lnTo>
                    <a:lnTo>
                      <a:pt x="180" y="2"/>
                    </a:lnTo>
                    <a:lnTo>
                      <a:pt x="168" y="4"/>
                    </a:lnTo>
                    <a:lnTo>
                      <a:pt x="157" y="7"/>
                    </a:lnTo>
                    <a:lnTo>
                      <a:pt x="143" y="7"/>
                    </a:lnTo>
                    <a:lnTo>
                      <a:pt x="132" y="9"/>
                    </a:lnTo>
                    <a:lnTo>
                      <a:pt x="120" y="11"/>
                    </a:lnTo>
                    <a:lnTo>
                      <a:pt x="108" y="17"/>
                    </a:lnTo>
                    <a:lnTo>
                      <a:pt x="87" y="23"/>
                    </a:lnTo>
                    <a:lnTo>
                      <a:pt x="70" y="33"/>
                    </a:lnTo>
                    <a:lnTo>
                      <a:pt x="52" y="40"/>
                    </a:lnTo>
                    <a:lnTo>
                      <a:pt x="40" y="52"/>
                    </a:lnTo>
                    <a:lnTo>
                      <a:pt x="29" y="64"/>
                    </a:lnTo>
                    <a:lnTo>
                      <a:pt x="25" y="77"/>
                    </a:lnTo>
                    <a:close/>
                  </a:path>
                </a:pathLst>
              </a:custGeom>
              <a:solidFill>
                <a:srgbClr val="94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6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door is an example of what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h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Pu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Wheel and ax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" action="ppaction://hlinkshowjump?jump=nextslide"/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L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Sc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6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2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8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4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8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flagpole is an example of w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mple mach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nextslide"/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Pul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Inclined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Sc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1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ich uses less force rolling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liding fri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1"/>
          </p:cNvPr>
          <p:cNvSpPr/>
          <p:nvPr/>
        </p:nvSpPr>
        <p:spPr>
          <a:xfrm>
            <a:off x="373392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Sl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ame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u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nextslide"/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4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893880" y="474840"/>
            <a:ext cx="7358040" cy="58989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 rot="20202600">
            <a:off x="3809880" y="3809520"/>
            <a:ext cx="37386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evel Two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6858000"/>
            <a:ext cx="213372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Level Tw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924680" y="609480"/>
            <a:ext cx="990720" cy="6199200"/>
            <a:chOff x="7924680" y="609480"/>
            <a:chExt cx="990720" cy="6199200"/>
          </a:xfrm>
        </p:grpSpPr>
        <p:sp>
          <p:nvSpPr>
            <p:cNvPr id="486" name="">
              <a:hlinkClick r:id="" action="ppaction://hlinkshowjump?jump=nextslide"/>
            </p:cNvPr>
            <p:cNvSpPr/>
            <p:nvPr/>
          </p:nvSpPr>
          <p:spPr>
            <a:xfrm>
              <a:off x="845820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>
              <a:hlinkClick r:id="" action="ppaction://hlinkshowjump?jump=previousslide"/>
            </p:cNvPr>
            <p:cNvSpPr/>
            <p:nvPr/>
          </p:nvSpPr>
          <p:spPr>
            <a:xfrm>
              <a:off x="792468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8200" y="5562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77320" y="487692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434340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3124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2438280"/>
              <a:ext cx="484200" cy="484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05920" y="1600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8200" y="609480"/>
              <a:ext cx="365040" cy="3654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nball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2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ramps at football stadi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 what simple mach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Pu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W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nextslide"/>
            <a:hlinkClick r:id="rId3"/>
          </p:cNvPr>
          <p:cNvSpPr/>
          <p:nvPr/>
        </p:nvSpPr>
        <p:spPr>
          <a:xfrm>
            <a:off x="3657600" y="464832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Inclined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Sc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4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9:07:09Z</dcterms:created>
  <dc:creator>Jefferson County Tech Center</dc:creator>
  <dc:description>Copyright © 2002 Glenna R. Shaw and FTC Publishing
All Rights Reserved</dc:description>
  <dc:language>en-US</dc:language>
  <cp:lastModifiedBy>admin</cp:lastModifiedBy>
  <dcterms:modified xsi:type="dcterms:W3CDTF">2004-11-09T16:14:56Z</dcterms:modified>
  <cp:revision>4</cp:revision>
  <dc:subject>PowerPak for PowerPoint 1.0</dc:subject>
  <dc:title>Sunken Millions Simple Mach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Glenna R. Shaw</vt:lpwstr>
  </property>
  <property fmtid="{D5CDD505-2E9C-101B-9397-08002B2CF9AE}" pid="3" name="Publisher">
    <vt:lpwstr>FTC Publishing</vt:lpwstr>
  </property>
</Properties>
</file>